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9FCCB-2927-4066-8981-913068C3F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FCDE8-726F-4ADF-9AF6-259CF8489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C6CE6-8FDA-4F1E-9553-56E917562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D8DA7-FD62-4998-8B09-72365FF00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D8C37-C62E-42ED-B529-95AF4410B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B3F05-58B2-49DD-BE7D-AEC769F58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3849F-0F33-4180-A420-C12DF6838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1A065-DACE-4DC0-8EFC-070E4F210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BD696-0BB6-4803-B02B-E5F680CE8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DA46B-C88C-49A3-B87A-5758CC999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D976C-BAE4-4D81-9643-E0C41CF1D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B393E-5E19-4685-B88A-6DFF651F7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4C940-C6FF-40D9-BAA4-0E76F3099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AE44B-32B7-4336-983B-34454F78E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82475-6335-448B-8954-649E3E9EF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83CE4-6C49-4E80-984B-7A87F5D96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7D8BB-2D23-4E4A-90D2-62A7DE4C3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0ECCE7-0AB2-49AD-B450-96B23D97B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13354A-D2BC-43ED-AF5A-6D99FF730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D012D2-BF22-46A8-823F-ECC492568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664E33-EF11-4932-8598-4D7FA67AC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419D8C-CC28-4507-913B-C78F80C53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2D277-D2B7-4485-AC19-C04C7FFF7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303762-5538-4EC9-88B9-53607448F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729051-66A4-4184-84EA-59317A08D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E2E142-7D16-4012-A2E5-71B2179A5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D65138-0420-42DB-8571-16A18C280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DF4EA3-526B-43D6-AB31-969065D74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D70F78-E661-4776-BF99-F5ACEE158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FBD1F3-A067-4276-A3DD-AF2313585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67A59-3CA1-4741-8168-47CFE6D30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54622-5CB9-46D3-8277-69901786E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C6C3D-2F8C-45C3-B5A6-7B07B9D50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DC5E2-6899-48A0-9C21-9D1044379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E96A4-3E54-4BDE-BA0A-A2EC7CDFB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BFA60-9057-4172-99DF-30C62C0FA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550B8D1-97C6-4979-86F2-8943B8DA6E5D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A6231BB-4591-4979-8EC5-56ECC7DDEE0A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body"/>
          </p:nvPr>
        </p:nvSpPr>
        <p:spPr>
          <a:xfrm>
            <a:off x="464832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dt" idx="7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9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4F0F929-72EB-4B96-BA9C-5BA3E4E9FC3E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55640" y="2133000"/>
            <a:ext cx="7772040" cy="233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2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7030a0"/>
                </a:solidFill>
                <a:latin typeface="Times New Roman"/>
              </a:rPr>
              <a:t>Тема:</a:t>
            </a:r>
            <a:r>
              <a:rPr b="1" lang="ru-RU" sz="4400" spc="-1" strike="noStrike">
                <a:solidFill>
                  <a:srgbClr val="7030a0"/>
                </a:solidFill>
                <a:latin typeface="Times New Roman"/>
              </a:rPr>
              <a:t> Основные направления деятельности и задачи санитарно-эпидемиологической службы в области ГТ 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115640" y="5229360"/>
            <a:ext cx="716040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Times New Roman"/>
              </a:rPr>
              <a:t>Кафедра: «Общественное здравоохранение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Times New Roman"/>
              </a:rPr>
              <a:t>Преп: Гайназарова Р.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Прямоугольник 1"/>
          <p:cNvSpPr/>
          <p:nvPr/>
        </p:nvSpPr>
        <p:spPr>
          <a:xfrm>
            <a:off x="755640" y="1628640"/>
            <a:ext cx="7848360" cy="43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2.</a:t>
            </a:r>
            <a:r>
              <a:rPr b="0" lang="ru-RU" sz="2800" spc="-1" strike="noStrike">
                <a:solidFill>
                  <a:srgbClr val="7030a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Участие в соответствии с законодательством КР в лицензировании отдельных видов деятельности, отнесенных к компетенции служб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3. Устанавливание причин и выявление условий возникновения и распространения профессиональных  заболеваний (отравлений) и массовых неинфекционных заболеваний (отравлений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Прямоугольник 1"/>
          <p:cNvSpPr/>
          <p:nvPr/>
        </p:nvSpPr>
        <p:spPr>
          <a:xfrm>
            <a:off x="899640" y="980640"/>
            <a:ext cx="748836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4. Подготовка предложений о введении и об отмене ограничительных мероприятий (карантина) в порядке,    установленном законодательством КР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</a:rPr>
              <a:t>5. Участие в установленном порядке в ведении социально- гигиенического мониторинг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6. Осуществление в установленном порядке проверки </a:t>
            </a:r>
            <a:r>
              <a:rPr b="0" lang="ru-RU" sz="2800" spc="-1" strike="noStrike">
                <a:solidFill>
                  <a:srgbClr val="7030a0"/>
                </a:solidFill>
                <a:latin typeface="Times New Roman"/>
              </a:rPr>
              <a:t>деятельности юридических лиц, индивидуальных предпринимателей и граждан </a:t>
            </a: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по выполнению требований  санитарного законодательства в части надзора за</a:t>
            </a:r>
            <a:br>
              <a:rPr sz="2800"/>
            </a:b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состоянием условий труд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Прямоугольник 1"/>
          <p:cNvSpPr/>
          <p:nvPr/>
        </p:nvSpPr>
        <p:spPr>
          <a:xfrm>
            <a:off x="755640" y="764640"/>
            <a:ext cx="792036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7. Обеспечение в пределах своей компетенции защиту сведений, составляющих государственную тайну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8. Рассмотрение </a:t>
            </a:r>
            <a:r>
              <a:rPr b="0" lang="ru-RU" sz="2800" spc="-1" strike="noStrike">
                <a:solidFill>
                  <a:srgbClr val="7030a0"/>
                </a:solidFill>
                <a:latin typeface="Times New Roman"/>
              </a:rPr>
              <a:t>обращений граждан, юридических лиц, индивидуальных предпринимателей, запросов органов государственной власти, органов местного самоуправления, обеспечение своевременного и полного их рассмотрения, подготовка по ним ответов</a:t>
            </a: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 в установленный законодательством КР срок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Прямоугольник 1"/>
          <p:cNvSpPr/>
          <p:nvPr/>
        </p:nvSpPr>
        <p:spPr>
          <a:xfrm>
            <a:off x="800280" y="908640"/>
            <a:ext cx="7866720" cy="43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9. Участие в осуществлении профессиональной подготовки, повышения квалификации и стажировке специалистов в области гигиены труд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10. Участие в осуществлении в соответствии с законодательством КР </a:t>
            </a:r>
            <a:r>
              <a:rPr b="0" lang="ru-RU" sz="2800" spc="-1" strike="noStrike">
                <a:solidFill>
                  <a:srgbClr val="7030a0"/>
                </a:solidFill>
                <a:latin typeface="Times New Roman"/>
              </a:rPr>
              <a:t>работ по   комплектованию, хранению, учету и использованию архивных  документов</a:t>
            </a: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, 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образовавшихся в процессе деятельности отдел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Прямоугольник 1"/>
          <p:cNvSpPr/>
          <p:nvPr/>
        </p:nvSpPr>
        <p:spPr>
          <a:xfrm>
            <a:off x="747000" y="1196640"/>
            <a:ext cx="7992360" cy="35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15.Осуществление иных функций в установленной сфере деятельности,  если  такие  функции предусмотрены </a:t>
            </a:r>
            <a:r>
              <a:rPr b="0" lang="ru-RU" sz="2800" spc="-1" strike="noStrike" u="sng">
                <a:solidFill>
                  <a:srgbClr val="7030a0"/>
                </a:solidFill>
                <a:uFillTx/>
                <a:latin typeface="Times New Roman"/>
              </a:rPr>
              <a:t>законами, актами Президента или Правительства КР</a:t>
            </a:r>
            <a:r>
              <a:rPr b="0" lang="ru-RU" sz="2800" spc="-1" strike="noStrike">
                <a:solidFill>
                  <a:srgbClr val="7030a0"/>
                </a:solidFill>
                <a:latin typeface="Times New Roman"/>
              </a:rPr>
              <a:t>, </a:t>
            </a:r>
            <a:r>
              <a:rPr b="0" lang="ru-RU" sz="2800" spc="-1" strike="noStrike" u="sng">
                <a:solidFill>
                  <a:srgbClr val="7030a0"/>
                </a:solidFill>
                <a:uFillTx/>
                <a:latin typeface="Times New Roman"/>
              </a:rPr>
              <a:t>актами МЗ  и социального развития, актами санитарно-эпидемиологической эпидемиологической  службы</a:t>
            </a: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   по  надзору  в сфере защиты прав потребителей и благополучия челове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Прямоугольник 1"/>
          <p:cNvSpPr/>
          <p:nvPr/>
        </p:nvSpPr>
        <p:spPr>
          <a:xfrm>
            <a:off x="899640" y="692640"/>
            <a:ext cx="7648560" cy="542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Санитарный врач по гигиене тру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является -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ru-RU" sz="2800" spc="-1" strike="noStrike">
                <a:solidFill>
                  <a:srgbClr val="7030a0"/>
                </a:solidFill>
                <a:latin typeface="Times New Roman"/>
              </a:rPr>
              <a:t>квалифицированным сотрудником санитарно-эпидемиологической службы, который хорошо освещен в вопросах </a:t>
            </a:r>
            <a:r>
              <a:rPr b="0" lang="ru-RU" sz="2800" spc="-1" strike="noStrike" u="sng">
                <a:solidFill>
                  <a:srgbClr val="7030a0"/>
                </a:solidFill>
                <a:uFillTx/>
                <a:latin typeface="Times New Roman"/>
              </a:rPr>
              <a:t>санитарного контроля над выполнением определенных правил на промышленных, строительных предприятиях и в сельскохозяйственных организациях</a:t>
            </a:r>
            <a:r>
              <a:rPr b="0" lang="ru-RU" sz="2800" spc="-1" strike="noStrike">
                <a:solidFill>
                  <a:srgbClr val="7030a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Прямоугольник 1"/>
          <p:cNvSpPr/>
          <p:nvPr/>
        </p:nvSpPr>
        <p:spPr>
          <a:xfrm>
            <a:off x="971640" y="1058400"/>
            <a:ext cx="7848360" cy="307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К данным требованием, подлежащих выполнению, следует отнест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70c0"/>
              </a:buClr>
              <a:buFont typeface="Arial"/>
              <a:buChar char="•"/>
            </a:pPr>
            <a:r>
              <a:rPr b="1" lang="ru-RU" sz="2800" spc="-1" strike="noStrike">
                <a:solidFill>
                  <a:srgbClr val="0070c0"/>
                </a:solidFill>
                <a:latin typeface="Times New Roman"/>
              </a:rPr>
              <a:t>гигиенические нормы и правила</a:t>
            </a: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, направленные на </a:t>
            </a:r>
            <a:r>
              <a:rPr b="0" lang="ru-RU" sz="2800" spc="-1" strike="noStrike">
                <a:solidFill>
                  <a:srgbClr val="7030a0"/>
                </a:solidFill>
                <a:latin typeface="Times New Roman"/>
              </a:rPr>
              <a:t>предупреждение развития профессиональной патологии и уменьшение заболеваемости сотрудников предприят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Прямоугольник 1"/>
          <p:cNvSpPr/>
          <p:nvPr/>
        </p:nvSpPr>
        <p:spPr>
          <a:xfrm>
            <a:off x="1259640" y="1845000"/>
            <a:ext cx="7108560" cy="222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0070c0"/>
                </a:solidFill>
                <a:latin typeface="Times New Roman"/>
              </a:rPr>
              <a:t>Эффективность работы санитарного врача</a:t>
            </a: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 во многом зависит от правильного и необходимого именно в данной ситуации выбора подхода, метода и приемов по реализации план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Прямоугольник 1"/>
          <p:cNvSpPr/>
          <p:nvPr/>
        </p:nvSpPr>
        <p:spPr>
          <a:xfrm>
            <a:off x="611640" y="404640"/>
            <a:ext cx="8064360" cy="60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Деятельность санитарного врача по гигиене труда:</a:t>
            </a:r>
            <a:br>
              <a:rPr sz="2800"/>
            </a:b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— </a:t>
            </a:r>
            <a:r>
              <a:rPr b="1" lang="ru-RU" sz="2800" spc="-1" strike="noStrike">
                <a:solidFill>
                  <a:srgbClr val="0070c0"/>
                </a:solidFill>
                <a:latin typeface="Times New Roman"/>
              </a:rPr>
              <a:t>организаторский</a:t>
            </a: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 — </a:t>
            </a:r>
            <a:r>
              <a:rPr b="0" lang="ru-RU" sz="2800" spc="-1" strike="noStrike">
                <a:solidFill>
                  <a:srgbClr val="7030a0"/>
                </a:solidFill>
                <a:latin typeface="Times New Roman"/>
              </a:rPr>
              <a:t>организует и координирует деятельность всех ведомственных учреждений и граждан;</a:t>
            </a:r>
            <a:br>
              <a:rPr sz="2800"/>
            </a:b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— </a:t>
            </a:r>
            <a:r>
              <a:rPr b="1" lang="ru-RU" sz="2800" spc="-1" strike="noStrike">
                <a:solidFill>
                  <a:srgbClr val="0070c0"/>
                </a:solidFill>
                <a:latin typeface="Times New Roman"/>
              </a:rPr>
              <a:t>нормативный</a:t>
            </a: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 — </a:t>
            </a:r>
            <a:r>
              <a:rPr b="0" lang="ru-RU" sz="2800" spc="-1" strike="noStrike">
                <a:solidFill>
                  <a:srgbClr val="7030a0"/>
                </a:solidFill>
                <a:latin typeface="Times New Roman"/>
              </a:rPr>
              <a:t>разрабатывает и утверждает (согласовывает) санитарные правила, гигиенические нормативы, санитарно-защитные зоны и уровни воздействия, проводит экспертизу и участвует в лицензионных комиссиях;</a:t>
            </a:r>
            <a:br>
              <a:rPr sz="2800"/>
            </a:br>
            <a:r>
              <a:rPr b="1" lang="ru-RU" sz="2800" spc="-1" strike="noStrike">
                <a:solidFill>
                  <a:srgbClr val="0070c0"/>
                </a:solidFill>
                <a:latin typeface="Times New Roman"/>
              </a:rPr>
              <a:t>— методический</a:t>
            </a: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 — </a:t>
            </a:r>
            <a:r>
              <a:rPr b="0" lang="ru-RU" sz="2800" spc="-1" strike="noStrike">
                <a:solidFill>
                  <a:srgbClr val="7030a0"/>
                </a:solidFill>
                <a:latin typeface="Times New Roman"/>
              </a:rPr>
              <a:t>разрабатывает и утверждает (согласовывает) инструктивно-методическую документацию, новые методы профилактики и гигиенической диагностик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Прямоугольник 1"/>
          <p:cNvSpPr/>
          <p:nvPr/>
        </p:nvSpPr>
        <p:spPr>
          <a:xfrm>
            <a:off x="801360" y="476640"/>
            <a:ext cx="7776360" cy="60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— </a:t>
            </a:r>
            <a:r>
              <a:rPr b="1" lang="ru-RU" sz="2800" spc="-1" strike="noStrike">
                <a:solidFill>
                  <a:srgbClr val="0070c0"/>
                </a:solidFill>
                <a:latin typeface="Times New Roman"/>
              </a:rPr>
              <a:t>консультативный</a:t>
            </a: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 — консультируют ведомственные службы по вопросам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030a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7030a0"/>
                </a:solidFill>
                <a:latin typeface="Times New Roman"/>
              </a:rPr>
              <a:t>выбора и отвода земельных участков при строительстве ПП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030a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7030a0"/>
                </a:solidFill>
                <a:latin typeface="Times New Roman"/>
              </a:rPr>
              <a:t>охраны окружающей среды от вредных и опасных выбросов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030a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7030a0"/>
                </a:solidFill>
                <a:latin typeface="Times New Roman"/>
              </a:rPr>
              <a:t>водоснабжения, канализации ПП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030a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7030a0"/>
                </a:solidFill>
                <a:latin typeface="Times New Roman"/>
              </a:rPr>
              <a:t>организации рационального питания работающих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030a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7030a0"/>
                </a:solidFill>
                <a:latin typeface="Times New Roman"/>
              </a:rPr>
              <a:t>представляет информацию юридическим лицам о санитарно-эпидемической ситуации, показателях здоровья работающих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030a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7030a0"/>
                </a:solidFill>
                <a:latin typeface="Times New Roman"/>
              </a:rPr>
              <a:t>профилактики инфекционных заболева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Прямоугольник 1"/>
          <p:cNvSpPr/>
          <p:nvPr/>
        </p:nvSpPr>
        <p:spPr>
          <a:xfrm>
            <a:off x="827640" y="908640"/>
            <a:ext cx="7560360" cy="43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План лекци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7030a0"/>
                </a:solidFill>
                <a:latin typeface="Times New Roman"/>
              </a:rPr>
              <a:t>1. Основные направления деятельности и задачи санитарно-эпидемиологической службы в области Г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7030a0"/>
                </a:solidFill>
                <a:latin typeface="Times New Roman"/>
              </a:rPr>
              <a:t>2.Деятельность санитарного врача по гигиене труд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7030a0"/>
                </a:solidFill>
                <a:latin typeface="Times New Roman"/>
              </a:rPr>
              <a:t>3. Основные направления предупредительного  и текущего Государственного  надзо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Прямоугольник 1"/>
          <p:cNvSpPr/>
          <p:nvPr/>
        </p:nvSpPr>
        <p:spPr>
          <a:xfrm>
            <a:off x="685080" y="1700640"/>
            <a:ext cx="7992360" cy="35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— </a:t>
            </a:r>
            <a:r>
              <a:rPr b="1" lang="ru-RU" sz="2800" spc="-1" strike="noStrike">
                <a:solidFill>
                  <a:srgbClr val="0070c0"/>
                </a:solidFill>
                <a:latin typeface="Times New Roman"/>
              </a:rPr>
              <a:t>контрольный</a:t>
            </a: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 — </a:t>
            </a:r>
            <a:r>
              <a:rPr b="0" lang="ru-RU" sz="2800" spc="-1" strike="noStrike">
                <a:solidFill>
                  <a:srgbClr val="7030a0"/>
                </a:solidFill>
                <a:latin typeface="Times New Roman"/>
              </a:rPr>
              <a:t>осуществляет государственный предупредительный и текущий санэпиднадзор;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— </a:t>
            </a:r>
            <a:r>
              <a:rPr b="1" lang="ru-RU" sz="2800" spc="-1" strike="noStrike">
                <a:solidFill>
                  <a:srgbClr val="0070c0"/>
                </a:solidFill>
                <a:latin typeface="Times New Roman"/>
              </a:rPr>
              <a:t>научно-практический</a:t>
            </a: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 — </a:t>
            </a:r>
            <a:r>
              <a:rPr b="0" lang="ru-RU" sz="2800" spc="-1" strike="noStrike">
                <a:solidFill>
                  <a:srgbClr val="7030a0"/>
                </a:solidFill>
                <a:latin typeface="Times New Roman"/>
              </a:rPr>
              <a:t>проводят углубленное изучение влияния условий труда на здоровье работающих промышленных и сельскохозяйственных предприят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рямоугольник 1"/>
          <p:cNvSpPr/>
          <p:nvPr/>
        </p:nvSpPr>
        <p:spPr>
          <a:xfrm>
            <a:off x="899640" y="620640"/>
            <a:ext cx="7704360" cy="56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800" spc="-1" strike="noStrike">
                <a:solidFill>
                  <a:srgbClr val="0070c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Когда следует обращаться к санитарному врачу по гигиене труд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Обращение к санитарному врачу должно проводиться пр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030a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7030a0"/>
                </a:solidFill>
                <a:latin typeface="Times New Roman"/>
              </a:rPr>
              <a:t>условии повышения уровня заболеваемости на предприятии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030a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7030a0"/>
                </a:solidFill>
                <a:latin typeface="Times New Roman"/>
              </a:rPr>
              <a:t>увеличение случаев травм на производстве или большой нагрузки, а также пр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030a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7030a0"/>
                </a:solidFill>
                <a:latin typeface="Times New Roman"/>
              </a:rPr>
              <a:t>необходимости получения заключения по санитарно-эпидемиологическим условиям определенного производственного или сельскохозяйственного объек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Прямоугольник 1"/>
          <p:cNvSpPr/>
          <p:nvPr/>
        </p:nvSpPr>
        <p:spPr>
          <a:xfrm>
            <a:off x="539640" y="620640"/>
            <a:ext cx="81367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Помощь санитарного врача </a:t>
            </a: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может понадобиться дл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70c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подтверждения нетрудоспособности вследствие </a:t>
            </a:r>
            <a:r>
              <a:rPr b="1" i="1" lang="ru-RU" sz="2800" spc="-1" strike="noStrike">
                <a:solidFill>
                  <a:srgbClr val="0070c0"/>
                </a:solidFill>
                <a:latin typeface="Times New Roman"/>
              </a:rPr>
              <a:t>неблагоприятных условий труда</a:t>
            </a: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Это связано с тем, что </a:t>
            </a:r>
            <a:r>
              <a:rPr b="0" lang="ru-RU" sz="2800" spc="-1" strike="noStrike">
                <a:solidFill>
                  <a:srgbClr val="7030a0"/>
                </a:solidFill>
                <a:latin typeface="Times New Roman"/>
              </a:rPr>
              <a:t>санитарный врач следит за обеспечением максимально подходящих условий труда со стороны окружающей внешней среды, режима труда и нагрузок,</a:t>
            </a: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 необходимых для предупреждения развития </a:t>
            </a:r>
            <a:r>
              <a:rPr b="1" i="1" lang="ru-RU" sz="2800" spc="-1" strike="noStrike">
                <a:solidFill>
                  <a:srgbClr val="0070c0"/>
                </a:solidFill>
                <a:latin typeface="Times New Roman"/>
              </a:rPr>
              <a:t>патологии по причине профессиональной вредности</a:t>
            </a: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1"/>
          <p:cNvSpPr/>
          <p:nvPr/>
        </p:nvSpPr>
        <p:spPr>
          <a:xfrm>
            <a:off x="539640" y="502920"/>
            <a:ext cx="8136720" cy="51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Какие методы диагностики использует санитарный врач по гигиене труд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Для </a:t>
            </a:r>
            <a:r>
              <a:rPr b="1" i="1" lang="ru-RU" sz="2800" spc="-1" strike="noStrike">
                <a:solidFill>
                  <a:srgbClr val="0070c0"/>
                </a:solidFill>
                <a:latin typeface="Times New Roman"/>
              </a:rPr>
              <a:t>оценки состояния здоровья работников промышленных и сельскохозяйственных предприятий </a:t>
            </a: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санитарный врач используется </a:t>
            </a:r>
            <a:r>
              <a:rPr b="0" lang="ru-RU" sz="2800" spc="-1" strike="noStrike">
                <a:solidFill>
                  <a:srgbClr val="7030a0"/>
                </a:solidFill>
                <a:latin typeface="Times New Roman"/>
              </a:rPr>
              <a:t>лабораторные и инструментальные методы обнаружения заболевания в хронической или острой стади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С помощью этой оценки он может определить, какая система организма испытывает максимальное негативное влияние вредного факто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Прямоугольник 1"/>
          <p:cNvSpPr/>
          <p:nvPr/>
        </p:nvSpPr>
        <p:spPr>
          <a:xfrm>
            <a:off x="827640" y="1124640"/>
            <a:ext cx="7776360" cy="43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Оценивать санитарно-гигиеническое состояние определенного объекта производства </a:t>
            </a: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необходимо с помощью </a:t>
            </a:r>
            <a:r>
              <a:rPr b="1" i="1" lang="ru-RU" sz="2800" spc="-1" strike="noStrike">
                <a:solidFill>
                  <a:srgbClr val="0070c0"/>
                </a:solidFill>
                <a:latin typeface="Times New Roman"/>
              </a:rPr>
              <a:t>специальных современных методов.</a:t>
            </a: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В процессе данного исследования проводиться </a:t>
            </a:r>
            <a:r>
              <a:rPr b="0" lang="ru-RU" sz="2800" spc="-1" strike="noStrike">
                <a:solidFill>
                  <a:srgbClr val="7030a0"/>
                </a:solidFill>
                <a:latin typeface="Times New Roman"/>
              </a:rPr>
              <a:t>оценка физических, химических, биологических и психофизиологических производственных факторов и</a:t>
            </a: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7030a0"/>
                </a:solidFill>
                <a:latin typeface="Times New Roman"/>
              </a:rPr>
              <a:t>выявить их уровень, концентрацию и влияние на организм челове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Прямоугольник 1"/>
          <p:cNvSpPr/>
          <p:nvPr/>
        </p:nvSpPr>
        <p:spPr>
          <a:xfrm>
            <a:off x="767880" y="1700640"/>
            <a:ext cx="7697160" cy="26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Основные направления предупредительного  и текущего Государственного  надзо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70c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Предупредительный санитарный надзор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70c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Текущий санитарный надзо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1"/>
          <p:cNvSpPr/>
          <p:nvPr/>
        </p:nvSpPr>
        <p:spPr>
          <a:xfrm>
            <a:off x="827640" y="1052640"/>
            <a:ext cx="7560360" cy="39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0000"/>
              </a:buClr>
              <a:buFont typeface="Arial"/>
              <a:buChar char="•"/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Предупредительный санитарный надзо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является важнейшим разделом деятельности врача по гигиене труда, он представляет собой высшую и наиболее эффективную форму профилактической работ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"/>
          <p:cNvSpPr/>
          <p:nvPr/>
        </p:nvSpPr>
        <p:spPr>
          <a:xfrm>
            <a:off x="898560" y="476640"/>
            <a:ext cx="7416360" cy="56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0000"/>
              </a:buClr>
              <a:buFont typeface="Arial"/>
              <a:buChar char="•"/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Текущий санитарный надзор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осуществляется в отношении эксплуатируемых объектов и проводится периодически в соответствии со спецификой каждого из ни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7030a0"/>
                </a:solidFill>
                <a:latin typeface="Times New Roman"/>
              </a:rPr>
              <a:t>К проведению текущего санитарного надзора широко привлекаются </a:t>
            </a:r>
            <a:r>
              <a:rPr b="0" lang="ru-RU" sz="2800" spc="-1" strike="noStrike" u="sng">
                <a:solidFill>
                  <a:srgbClr val="7030a0"/>
                </a:solidFill>
                <a:uFillTx/>
                <a:latin typeface="Times New Roman"/>
              </a:rPr>
              <a:t>врачи и средний медицинский персонал</a:t>
            </a:r>
            <a:r>
              <a:rPr b="0" lang="ru-RU" sz="2800" spc="-1" strike="noStrike">
                <a:solidFill>
                  <a:srgbClr val="7030a0"/>
                </a:solidFill>
                <a:latin typeface="Times New Roman"/>
              </a:rPr>
              <a:t> лечебно-профилактических организац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Прямоугольник 1"/>
          <p:cNvSpPr/>
          <p:nvPr/>
        </p:nvSpPr>
        <p:spPr>
          <a:xfrm>
            <a:off x="611640" y="260640"/>
            <a:ext cx="7920360" cy="60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Текущий санитарный надзор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целью текущего санитарного надзора являетс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030a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7030a0"/>
                </a:solidFill>
                <a:latin typeface="Times New Roman"/>
              </a:rPr>
              <a:t>регулярный систематический контроль за санитарным содержанием промышленных предприятий и сельскохозяйственных объектов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7030a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030a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7030a0"/>
                </a:solidFill>
                <a:latin typeface="Times New Roman"/>
              </a:rPr>
              <a:t>контроль за санитарно-гигиеническими условиями труда, постоянным соблюдением на указанных предприятиях и объектах действующего санитарного законодательства по санитарной охране труда, санитарно-гигиенических норм и прави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Прямоугольник 1"/>
          <p:cNvSpPr/>
          <p:nvPr/>
        </p:nvSpPr>
        <p:spPr>
          <a:xfrm>
            <a:off x="683640" y="332640"/>
            <a:ext cx="7704360" cy="60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800" spc="-1" strike="noStrike">
                <a:solidFill>
                  <a:srgbClr val="0070c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0070c0"/>
                </a:solidFill>
                <a:latin typeface="Times New Roman"/>
              </a:rPr>
              <a:t>В </a:t>
            </a:r>
            <a:r>
              <a:rPr b="1" i="1" lang="ru-RU" sz="2800" spc="-1" strike="noStrike">
                <a:solidFill>
                  <a:srgbClr val="0070c0"/>
                </a:solidFill>
                <a:latin typeface="Times New Roman"/>
              </a:rPr>
              <a:t>области гигиены труда </a:t>
            </a:r>
            <a:r>
              <a:rPr b="1" lang="ru-RU" sz="2800" spc="-1" strike="noStrike">
                <a:solidFill>
                  <a:srgbClr val="0070c0"/>
                </a:solidFill>
                <a:latin typeface="Times New Roman"/>
              </a:rPr>
              <a:t>осуществляют санэпиднадзор</a:t>
            </a: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: -при разработке схе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030a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7030a0"/>
                </a:solidFill>
                <a:latin typeface="Times New Roman"/>
              </a:rPr>
              <a:t>градостроительного планирования разви­тия территори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030a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7030a0"/>
                </a:solidFill>
                <a:latin typeface="Times New Roman"/>
              </a:rPr>
              <a:t>генеральных планов городских и сельских поселе­ний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030a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7030a0"/>
                </a:solidFill>
                <a:latin typeface="Times New Roman"/>
              </a:rPr>
              <a:t>проектов планировки общественных центров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030a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7030a0"/>
                </a:solidFill>
                <a:latin typeface="Times New Roman"/>
              </a:rPr>
              <a:t>жилых районов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030a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7030a0"/>
                </a:solidFill>
                <a:latin typeface="Times New Roman"/>
              </a:rPr>
              <a:t>магистралей городов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030a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7030a0"/>
                </a:solidFill>
                <a:latin typeface="Times New Roman"/>
              </a:rPr>
              <a:t>при размещении объектов гражданского, про­мышленного и сельскохозяйственного назначений и установления их санитарно-защитных зон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оугольник 1"/>
          <p:cNvSpPr/>
          <p:nvPr/>
        </p:nvSpPr>
        <p:spPr>
          <a:xfrm>
            <a:off x="787680" y="1196640"/>
            <a:ext cx="7632360" cy="35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Государственная санитарно-эпидемиологическая служба Кыргызской Республики </a:t>
            </a: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является единой централизованной системой органов и учреждений здравоохранения, обеспечивающих </a:t>
            </a:r>
            <a:r>
              <a:rPr b="0" lang="ru-RU" sz="2800" spc="-1" strike="noStrike">
                <a:solidFill>
                  <a:srgbClr val="7030a0"/>
                </a:solidFill>
                <a:latin typeface="Times New Roman"/>
              </a:rPr>
              <a:t>санитарно-эпидемиологическое благополучие и осуществляющих санитарно-эпидемиологический надзор в К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Прямоугольник 1"/>
          <p:cNvSpPr/>
          <p:nvPr/>
        </p:nvSpPr>
        <p:spPr>
          <a:xfrm>
            <a:off x="899640" y="908640"/>
            <a:ext cx="7488360" cy="43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457200" indent="-457200">
              <a:lnSpc>
                <a:spcPct val="100000"/>
              </a:lnSpc>
              <a:buClr>
                <a:srgbClr val="7030a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7030a0"/>
                </a:solidFill>
                <a:latin typeface="Times New Roman"/>
              </a:rPr>
              <a:t>при выборе земельных участков под строительство, </a:t>
            </a:r>
            <a:br>
              <a:rPr sz="2800"/>
            </a:br>
            <a:r>
              <a:rPr b="0" lang="ru-RU" sz="2800" spc="-1" strike="noStrike">
                <a:solidFill>
                  <a:srgbClr val="7030a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030a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7030a0"/>
                </a:solidFill>
                <a:latin typeface="Times New Roman"/>
              </a:rPr>
              <a:t>при проектировании, строительстве и кон­сервации и ликвидации промышленных, транспортных объектов, зданий и сооружений культурно-бытового назначения, жилых домов, объектов инженерной инфраструктуры и благоустройства и иных объекто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Прямоугольник 1"/>
          <p:cNvSpPr/>
          <p:nvPr/>
        </p:nvSpPr>
        <p:spPr>
          <a:xfrm>
            <a:off x="539640" y="332640"/>
            <a:ext cx="7991280" cy="60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457200" indent="-457200">
              <a:lnSpc>
                <a:spcPct val="100000"/>
              </a:lnSpc>
              <a:buClr>
                <a:srgbClr val="7030a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7030a0"/>
                </a:solidFill>
                <a:latin typeface="Times New Roman"/>
              </a:rPr>
              <a:t>за производством, транспортировкой, хранением, применением (использованием) и утилизацией продукции производственно-технического назначения в случаях, </a:t>
            </a:r>
            <a:r>
              <a:rPr b="0" lang="ru-RU" sz="2800" spc="-1" strike="noStrike" u="sng">
                <a:solidFill>
                  <a:srgbClr val="002060"/>
                </a:solidFill>
                <a:uFillTx/>
                <a:latin typeface="Times New Roman"/>
              </a:rPr>
              <a:t>когда требуется непосредственное участие человека, и товаров для личных и бытовых нужд граждан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030a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7030a0"/>
                </a:solidFill>
                <a:latin typeface="Times New Roman"/>
              </a:rPr>
              <a:t>за производством, применением (использованием) и реализа­цией населению новых видов продукции (впервые разрабатываемых или внедряемых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030a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7030a0"/>
                </a:solidFill>
                <a:latin typeface="Times New Roman"/>
              </a:rPr>
              <a:t>за новыми технологическими процессами произ­водства продукци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Прямоугольник 1"/>
          <p:cNvSpPr/>
          <p:nvPr/>
        </p:nvSpPr>
        <p:spPr>
          <a:xfrm>
            <a:off x="467640" y="620640"/>
            <a:ext cx="8280720" cy="56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457200" indent="-457200">
              <a:lnSpc>
                <a:spcPct val="100000"/>
              </a:lnSpc>
              <a:buClr>
                <a:srgbClr val="7030a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7030a0"/>
                </a:solidFill>
                <a:latin typeface="Times New Roman"/>
              </a:rPr>
              <a:t>за реализацией продукции, ввозимой в страну, а также ее примене­нием в промышленности, сельском хозяйств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206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</a:rPr>
              <a:t>за производством, транспортировкой, хранением, применением (использованием), реализацией и утилизацией продуктов произ­водственно-технического назначения, потенциально опасных хими­ческих, биологических веществ и отдельных видов продукции после их государственной регистраци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030a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7030a0"/>
                </a:solidFill>
                <a:latin typeface="Times New Roman"/>
              </a:rPr>
              <a:t>за эксплуатацией производственных, общественных помещений, зданий, сооружений, оборудования и транспорт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Прямоугольник 1"/>
          <p:cNvSpPr/>
          <p:nvPr/>
        </p:nvSpPr>
        <p:spPr>
          <a:xfrm>
            <a:off x="683640" y="692640"/>
            <a:ext cx="8064360" cy="56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457200" indent="-457200">
              <a:lnSpc>
                <a:spcPct val="100000"/>
              </a:lnSpc>
              <a:buClr>
                <a:srgbClr val="7030a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7030a0"/>
                </a:solidFill>
                <a:latin typeface="Times New Roman"/>
              </a:rPr>
              <a:t>за деятельностью и работой отдельных цехов, участков, сооружений, оборудования, транспорта, выполнением отдельных видом работ и оказанием услуг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206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</a:rPr>
              <a:t>за условиями труда, рабочими местами и трудовыми процессами, технологическим оборудованием, организацией рабочих мест, коллективными и индивидуальными средствами защиты работни­ков, режимом труда и отдыха и бытовым обслуживанием работником в целях предупреждения профессиональных заболеваний, инфекци-онных заболеваний и отравлений, связанных с условиями труд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Прямоугольник 1"/>
          <p:cNvSpPr/>
          <p:nvPr/>
        </p:nvSpPr>
        <p:spPr>
          <a:xfrm>
            <a:off x="971640" y="1412640"/>
            <a:ext cx="7488360" cy="35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457200" indent="-457200">
              <a:lnSpc>
                <a:spcPct val="100000"/>
              </a:lnSpc>
              <a:buClr>
                <a:srgbClr val="7030a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7030a0"/>
                </a:solidFill>
                <a:latin typeface="Times New Roman"/>
              </a:rPr>
              <a:t>за условиями работы 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030a0"/>
              </a:buClr>
              <a:buFont typeface="Arial"/>
              <a:buChar char="-"/>
            </a:pPr>
            <a:r>
              <a:rPr b="0" lang="ru-RU" sz="2800" spc="-1" strike="noStrike">
                <a:solidFill>
                  <a:srgbClr val="7030a0"/>
                </a:solidFill>
                <a:latin typeface="Times New Roman"/>
              </a:rPr>
              <a:t>биологическими веществами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030a0"/>
              </a:buClr>
              <a:buFont typeface="Arial"/>
              <a:buChar char="-"/>
            </a:pPr>
            <a:r>
              <a:rPr b="0" lang="ru-RU" sz="2800" spc="-1" strike="noStrike">
                <a:solidFill>
                  <a:srgbClr val="7030a0"/>
                </a:solidFill>
                <a:latin typeface="Times New Roman"/>
              </a:rPr>
              <a:t>биологическими и микробиологическими организмами и их токсинами,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7030a0"/>
                </a:solidFill>
                <a:latin typeface="Times New Roman"/>
              </a:rPr>
              <a:t>     </a:t>
            </a:r>
            <a:r>
              <a:rPr b="0" lang="ru-RU" sz="2800" spc="-1" strike="noStrike">
                <a:solidFill>
                  <a:srgbClr val="7030a0"/>
                </a:solidFill>
                <a:latin typeface="Times New Roman"/>
              </a:rPr>
              <a:t>в том числе 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</a:rPr>
              <a:t>условиями работы в генной инженерии и с возбудителями инфекционных заболеваний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Прямоугольник 1"/>
          <p:cNvSpPr/>
          <p:nvPr/>
        </p:nvSpPr>
        <p:spPr>
          <a:xfrm>
            <a:off x="611640" y="404640"/>
            <a:ext cx="8208720" cy="60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206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</a:rPr>
              <a:t>за условиями работы с машинами, механизмами, устройствами аппаратами, которые являются источниками физических факторов воздействия на человека </a:t>
            </a:r>
            <a:r>
              <a:rPr b="0" lang="ru-RU" sz="2800" spc="-1" strike="noStrike">
                <a:solidFill>
                  <a:srgbClr val="7030a0"/>
                </a:solidFill>
                <a:latin typeface="Times New Roman"/>
              </a:rPr>
              <a:t>(шума, вибрации, ультразвуковых мочи инфракрасных, ионизирующих, неионизирующих и иных излучений, температурного воздействия)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206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</a:rPr>
              <a:t>за использованием машин, механизм, установок, устройств и аппаратов, а также производством, применением (использованием), транспортировкой хранением и захоронением радиоактивных веществ, материалов и отходов, являющихся источниками физических факторов воздействия на челове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Прямоугольник 1"/>
          <p:cNvSpPr/>
          <p:nvPr/>
        </p:nvSpPr>
        <p:spPr>
          <a:xfrm>
            <a:off x="747000" y="764640"/>
            <a:ext cx="7992360" cy="47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При осуществлении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санитарно-эпидемиологического надзора </a:t>
            </a: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важную роль играет </a:t>
            </a:r>
            <a:r>
              <a:rPr b="1" i="1" lang="ru-RU" sz="2800" spc="-1" strike="noStrike">
                <a:solidFill>
                  <a:srgbClr val="0070c0"/>
                </a:solidFill>
                <a:latin typeface="Times New Roman"/>
              </a:rPr>
              <a:t>планирование деятельности службы</a:t>
            </a: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Это обус­ловлено рядом </a:t>
            </a:r>
            <a:r>
              <a:rPr b="1" lang="ru-RU" sz="2800" spc="-1" strike="noStrike">
                <a:solidFill>
                  <a:srgbClr val="0070c0"/>
                </a:solidFill>
                <a:latin typeface="Times New Roman"/>
              </a:rPr>
              <a:t>законодательных актов,</a:t>
            </a: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 устанавливающих </a:t>
            </a:r>
            <a:r>
              <a:rPr b="0" lang="ru-RU" sz="2800" spc="-1" strike="noStrike">
                <a:solidFill>
                  <a:srgbClr val="7030a0"/>
                </a:solidFill>
                <a:latin typeface="Times New Roman"/>
              </a:rPr>
              <a:t>кратность проведения плановых мероприятий по контролю (надзору) </a:t>
            </a: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не более 1 раза в 2 год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- а для предпринимателей малого бизнеса — </a:t>
            </a:r>
            <a:r>
              <a:rPr b="0" lang="ru-RU" sz="2800" spc="-1" strike="noStrike">
                <a:solidFill>
                  <a:srgbClr val="7030a0"/>
                </a:solidFill>
                <a:latin typeface="Times New Roman"/>
              </a:rPr>
              <a:t>их отсутс­твие в первые три года работ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Прямоугольник 1"/>
          <p:cNvSpPr/>
          <p:nvPr/>
        </p:nvSpPr>
        <p:spPr>
          <a:xfrm>
            <a:off x="755640" y="1027080"/>
            <a:ext cx="792036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i="1" lang="ru-RU" sz="2800" spc="-1" strike="noStrike">
                <a:solidFill>
                  <a:srgbClr val="0070c0"/>
                </a:solidFill>
                <a:latin typeface="Times New Roman"/>
              </a:rPr>
              <a:t>	</a:t>
            </a: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Плановые мероприятия</a:t>
            </a:r>
            <a:r>
              <a:rPr b="0" i="1" lang="ru-RU" sz="2800" spc="-1" strike="noStrike">
                <a:solidFill>
                  <a:srgbClr val="0070c0"/>
                </a:solidFill>
                <a:latin typeface="Times New Roman"/>
              </a:rPr>
              <a:t> </a:t>
            </a: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по контролю составляются </a:t>
            </a:r>
            <a:r>
              <a:rPr b="0" lang="ru-RU" sz="2800" spc="-1" strike="noStrike" u="sng">
                <a:solidFill>
                  <a:srgbClr val="0070c0"/>
                </a:solidFill>
                <a:uFillTx/>
                <a:latin typeface="Times New Roman"/>
              </a:rPr>
              <a:t>на текущий календарный год и утверждаются руководителем территориального управления.</a:t>
            </a: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Срок проведения одного мероприятия по контролю — не более 1 месяца (в особых случаях до 2-х месяцев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Прямоугольник 1"/>
          <p:cNvSpPr/>
          <p:nvPr/>
        </p:nvSpPr>
        <p:spPr>
          <a:xfrm>
            <a:off x="827640" y="692640"/>
            <a:ext cx="770436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Внеплановые мероприятия</a:t>
            </a:r>
            <a:r>
              <a:rPr b="0" i="1" lang="ru-RU" sz="2800" spc="-1" strike="noStrike">
                <a:solidFill>
                  <a:srgbClr val="0070c0"/>
                </a:solidFill>
                <a:latin typeface="Times New Roman"/>
              </a:rPr>
              <a:t> </a:t>
            </a: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по контролю (надзору) проводятся в случая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70c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аварий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70c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изменений технологических процессов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70c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при возник­новении угрозы здоровью и жизни граждан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70c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загрязнения окружающей среды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70c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при обращении граждан, юридических лиц и индивидуальных предпринимателей с жалобами, связанными с нарушением санитарных правил и нор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Прямоугольник 1"/>
          <p:cNvSpPr/>
          <p:nvPr/>
        </p:nvSpPr>
        <p:spPr>
          <a:xfrm>
            <a:off x="899640" y="1412640"/>
            <a:ext cx="7632360" cy="35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Для текущего санитарного надзора используют метод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030a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7030a0"/>
                </a:solidFill>
                <a:latin typeface="Times New Roman"/>
              </a:rPr>
              <a:t>рейдовых обследований объектов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030a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7030a0"/>
                </a:solidFill>
                <a:latin typeface="Times New Roman"/>
              </a:rPr>
              <a:t>санитарно-гигиенического описания как по отдельным видам объектов, так и в целом по району, город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Прямоугольник 1"/>
          <p:cNvSpPr/>
          <p:nvPr/>
        </p:nvSpPr>
        <p:spPr>
          <a:xfrm>
            <a:off x="827640" y="1412640"/>
            <a:ext cx="763236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Органы и учреждения Службы руководствуются в своей деятельност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030a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7030a0"/>
                </a:solidFill>
                <a:latin typeface="Times New Roman"/>
              </a:rPr>
              <a:t>Конституцией КР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030a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7030a0"/>
                </a:solidFill>
                <a:latin typeface="Times New Roman"/>
              </a:rPr>
              <a:t>законами КР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030a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7030a0"/>
                </a:solidFill>
                <a:latin typeface="Times New Roman"/>
              </a:rPr>
              <a:t>указами и распоряжениями Президента КР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030a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7030a0"/>
                </a:solidFill>
                <a:latin typeface="Times New Roman"/>
              </a:rPr>
              <a:t>постановлениями, распоряжениями Правительства КР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030a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7030a0"/>
                </a:solidFill>
                <a:latin typeface="Times New Roman"/>
              </a:rPr>
              <a:t>приказами, постановлениями, распоряжениями МЗ К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Объектами санитарно-эпидемиологического надзора </a:t>
            </a: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являются: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79640" y="1484640"/>
            <a:ext cx="4038120" cy="49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7030a0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7030a0"/>
                </a:solidFill>
                <a:latin typeface="Times New Roman"/>
              </a:rPr>
              <a:t>производственные помещения и технологические процессы;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7030a0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7030a0"/>
                </a:solidFill>
                <a:latin typeface="Times New Roman"/>
              </a:rPr>
              <a:t>средства индивидуальной защиты; 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7030a0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7030a0"/>
                </a:solidFill>
                <a:latin typeface="Times New Roman"/>
              </a:rPr>
              <a:t>санитарно-бытовые помещения; | 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7030a0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7030a0"/>
                </a:solidFill>
                <a:latin typeface="Times New Roman"/>
              </a:rPr>
              <a:t>водоснабжение и канализация;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7030a0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7030a0"/>
                </a:solidFill>
                <a:latin typeface="Times New Roman"/>
              </a:rPr>
              <a:t>отопление и вентиляция; -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7030a0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7030a0"/>
                </a:solidFill>
                <a:latin typeface="Times New Roman"/>
              </a:rPr>
              <a:t>производственное освещение;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7030a0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7030a0"/>
                </a:solidFill>
                <a:latin typeface="Times New Roman"/>
              </a:rPr>
              <a:t>поставляемое сырье; 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7030a0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7030a0"/>
                </a:solidFill>
                <a:latin typeface="Times New Roman"/>
              </a:rPr>
              <a:t>продукция;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7030a0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7030a0"/>
                </a:solidFill>
                <a:latin typeface="Times New Roman"/>
              </a:rPr>
              <a:t>условия хранения продукции и сырья; 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860000" y="1556640"/>
            <a:ext cx="4038120" cy="453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23000"/>
          </a:bodyPr>
          <a:p>
            <a:pPr marL="315360" indent="-315360">
              <a:lnSpc>
                <a:spcPct val="100000"/>
              </a:lnSpc>
              <a:spcBef>
                <a:spcPts val="1599"/>
              </a:spcBef>
              <a:buClr>
                <a:srgbClr val="7030a0"/>
              </a:buClr>
              <a:buFont typeface="Arial"/>
              <a:buChar char="•"/>
            </a:pPr>
            <a:r>
              <a:rPr b="0" lang="ru-RU" sz="8000" spc="-1" strike="noStrike">
                <a:solidFill>
                  <a:srgbClr val="7030a0"/>
                </a:solidFill>
                <a:latin typeface="Times New Roman"/>
              </a:rPr>
              <a:t>транспорт;</a:t>
            </a:r>
            <a:endParaRPr b="0" lang="ru-RU" sz="8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1599"/>
              </a:spcBef>
              <a:buClr>
                <a:srgbClr val="7030a0"/>
              </a:buClr>
              <a:buFont typeface="Arial"/>
              <a:buChar char="•"/>
            </a:pPr>
            <a:r>
              <a:rPr b="0" lang="ru-RU" sz="8000" spc="-1" strike="noStrike">
                <a:solidFill>
                  <a:srgbClr val="7030a0"/>
                </a:solidFill>
                <a:latin typeface="Times New Roman"/>
              </a:rPr>
              <a:t>порядок реализации неиспользованной продукции, отходов производства и их утилизация;</a:t>
            </a:r>
            <a:endParaRPr b="0" lang="ru-RU" sz="8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1599"/>
              </a:spcBef>
              <a:buClr>
                <a:srgbClr val="7030a0"/>
              </a:buClr>
              <a:buFont typeface="Arial"/>
              <a:buChar char="•"/>
            </a:pPr>
            <a:r>
              <a:rPr b="0" lang="ru-RU" sz="8000" spc="-1" strike="noStrike">
                <a:solidFill>
                  <a:srgbClr val="7030a0"/>
                </a:solidFill>
                <a:latin typeface="Times New Roman"/>
              </a:rPr>
              <a:t>воздух и почва промышленных площадок, санитарно-защитных</a:t>
            </a:r>
            <a:endParaRPr b="0" lang="ru-RU" sz="8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1599"/>
              </a:spcBef>
              <a:buClr>
                <a:srgbClr val="7030a0"/>
              </a:buClr>
              <a:buFont typeface="Arial"/>
              <a:buChar char="•"/>
            </a:pPr>
            <a:r>
              <a:rPr b="0" lang="ru-RU" sz="8000" spc="-1" strike="noStrike">
                <a:solidFill>
                  <a:srgbClr val="7030a0"/>
                </a:solidFill>
                <a:latin typeface="Times New Roman"/>
              </a:rPr>
              <a:t>зон (СЗЗ);</a:t>
            </a:r>
            <a:endParaRPr b="0" lang="ru-RU" sz="8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1599"/>
              </a:spcBef>
              <a:buClr>
                <a:srgbClr val="7030a0"/>
              </a:buClr>
              <a:buFont typeface="Arial"/>
              <a:buChar char="•"/>
            </a:pPr>
            <a:r>
              <a:rPr b="0" lang="ru-RU" sz="8000" spc="-1" strike="noStrike">
                <a:solidFill>
                  <a:srgbClr val="7030a0"/>
                </a:solidFill>
                <a:latin typeface="Times New Roman"/>
              </a:rPr>
              <a:t>режим труда и отдыха; </a:t>
            </a:r>
            <a:endParaRPr b="0" lang="ru-RU" sz="8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1599"/>
              </a:spcBef>
              <a:buClr>
                <a:srgbClr val="7030a0"/>
              </a:buClr>
              <a:buFont typeface="Arial"/>
              <a:buChar char="•"/>
            </a:pPr>
            <a:r>
              <a:rPr b="0" lang="ru-RU" sz="8000" spc="-1" strike="noStrike">
                <a:solidFill>
                  <a:srgbClr val="7030a0"/>
                </a:solidFill>
                <a:latin typeface="Times New Roman"/>
              </a:rPr>
              <a:t> </a:t>
            </a:r>
            <a:r>
              <a:rPr b="0" lang="ru-RU" sz="8000" spc="-1" strike="noStrike">
                <a:solidFill>
                  <a:srgbClr val="7030a0"/>
                </a:solidFill>
                <a:latin typeface="Times New Roman"/>
              </a:rPr>
              <a:t>организация питания;</a:t>
            </a:r>
            <a:endParaRPr b="0" lang="ru-RU" sz="8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1599"/>
              </a:spcBef>
              <a:buClr>
                <a:srgbClr val="7030a0"/>
              </a:buClr>
              <a:buFont typeface="Arial"/>
              <a:buChar char="•"/>
            </a:pPr>
            <a:r>
              <a:rPr b="0" lang="ru-RU" sz="8000" spc="-1" strike="noStrike">
                <a:solidFill>
                  <a:srgbClr val="7030a0"/>
                </a:solidFill>
                <a:latin typeface="Times New Roman"/>
              </a:rPr>
              <a:t>организация медицинских осмотров;</a:t>
            </a:r>
            <a:endParaRPr b="0" lang="ru-RU" sz="8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1599"/>
              </a:spcBef>
              <a:buClr>
                <a:srgbClr val="7030a0"/>
              </a:buClr>
              <a:buFont typeface="Arial"/>
              <a:buChar char="•"/>
            </a:pPr>
            <a:r>
              <a:rPr b="0" lang="ru-RU" sz="8000" spc="-1" strike="noStrike">
                <a:solidFill>
                  <a:srgbClr val="7030a0"/>
                </a:solidFill>
                <a:latin typeface="Times New Roman"/>
              </a:rPr>
              <a:t>аттестация должностных лиц и работников.</a:t>
            </a:r>
            <a:endParaRPr b="0" lang="ru-RU" sz="8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Прямоугольник 1"/>
          <p:cNvSpPr/>
          <p:nvPr/>
        </p:nvSpPr>
        <p:spPr>
          <a:xfrm>
            <a:off x="611640" y="260640"/>
            <a:ext cx="83527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Указанный контроль </a:t>
            </a:r>
            <a:r>
              <a:rPr b="0" i="1" lang="ru-RU" sz="2800" spc="-1" strike="noStrike">
                <a:solidFill>
                  <a:srgbClr val="0070c0"/>
                </a:solidFill>
                <a:latin typeface="Times New Roman"/>
              </a:rPr>
              <a:t>включает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70c0"/>
              </a:buClr>
              <a:buFont typeface="Wingdings" charset="2"/>
              <a:buChar char=""/>
            </a:pP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проведение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лабораторных исследований и испытаний (измере­ний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030a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7030a0"/>
                </a:solidFill>
                <a:latin typeface="Times New Roman"/>
              </a:rPr>
              <a:t>продукции и сырья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030a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7030a0"/>
                </a:solidFill>
                <a:latin typeface="Times New Roman"/>
              </a:rPr>
              <a:t>условий их хранения и транспортировки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030a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7030a0"/>
                </a:solidFill>
                <a:latin typeface="Times New Roman"/>
              </a:rPr>
              <a:t>реализации и утилизации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030a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7030a0"/>
                </a:solidFill>
                <a:latin typeface="Times New Roman"/>
              </a:rPr>
              <a:t>процессов производств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030a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7030a0"/>
                </a:solidFill>
                <a:latin typeface="Times New Roman"/>
              </a:rPr>
              <a:t>вредных факто­ров в помещениях, на территории предприятия, на границе СЗЗ и в зоне влияния предприятия в населенных пунктах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Прямоугольник 1"/>
          <p:cNvSpPr/>
          <p:nvPr/>
        </p:nvSpPr>
        <p:spPr>
          <a:xfrm>
            <a:off x="1115640" y="1268640"/>
            <a:ext cx="7272360" cy="35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70c0"/>
              </a:buClr>
              <a:buFont typeface="Wingdings" charset="2"/>
              <a:buChar char=""/>
            </a:pP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согласован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030a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7030a0"/>
                </a:solidFill>
                <a:latin typeface="Times New Roman"/>
              </a:rPr>
              <a:t>списков работников, подлежащих медицинскому осмотру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030a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7030a0"/>
                </a:solidFill>
                <a:latin typeface="Times New Roman"/>
              </a:rPr>
              <a:t>перечня специалистов, участвующих в осмотрах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030a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7030a0"/>
                </a:solidFill>
                <a:latin typeface="Times New Roman"/>
              </a:rPr>
              <a:t>перечня лабораторных исследовани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Прямоугольник 1"/>
          <p:cNvSpPr/>
          <p:nvPr/>
        </p:nvSpPr>
        <p:spPr>
          <a:xfrm>
            <a:off x="787680" y="980640"/>
            <a:ext cx="770436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70c0"/>
              </a:buClr>
              <a:buFont typeface="Wingdings" charset="2"/>
              <a:buChar char=""/>
            </a:pP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контроль за наличие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030a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7030a0"/>
                </a:solidFill>
                <a:latin typeface="Times New Roman"/>
              </a:rPr>
              <a:t>лицензий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030a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7030a0"/>
                </a:solidFill>
                <a:latin typeface="Times New Roman"/>
              </a:rPr>
              <a:t>сертификатов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030a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7030a0"/>
                </a:solidFill>
                <a:latin typeface="Times New Roman"/>
              </a:rPr>
              <a:t>санитарно-эпидемиологических заключений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030a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7030a0"/>
                </a:solidFill>
                <a:latin typeface="Times New Roman"/>
              </a:rPr>
              <a:t>личных медицинских книжек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030a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7030a0"/>
                </a:solidFill>
                <a:latin typeface="Times New Roman"/>
              </a:rPr>
              <a:t>санитарных паспортов на транспорт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030a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7030a0"/>
                </a:solidFill>
                <a:latin typeface="Times New Roman"/>
              </a:rPr>
              <a:t>разработку и реализацию мер, направленных на устранение выявленных наруше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Прямоугольник 1"/>
          <p:cNvSpPr/>
          <p:nvPr/>
        </p:nvSpPr>
        <p:spPr>
          <a:xfrm>
            <a:off x="827640" y="2493000"/>
            <a:ext cx="741636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5400" spc="-1" strike="noStrike">
                <a:solidFill>
                  <a:srgbClr val="0070c0"/>
                </a:solidFill>
                <a:latin typeface="Times New Roman"/>
              </a:rPr>
              <a:t>Спасибо за внимание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Прямоугольник 1"/>
          <p:cNvSpPr/>
          <p:nvPr/>
        </p:nvSpPr>
        <p:spPr>
          <a:xfrm>
            <a:off x="758880" y="1340640"/>
            <a:ext cx="7848360" cy="398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3200" spc="-1" strike="noStrike">
                <a:solidFill>
                  <a:srgbClr val="0070c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В целях обеспечения санитарно-эпидемиологического благополучия в КР основными задачами службы определены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030a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7030a0"/>
                </a:solidFill>
                <a:latin typeface="Times New Roman"/>
              </a:rPr>
              <a:t>профилактика инфекционных и массовых неинфекционных заболеваний населения КР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030a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7030a0"/>
                </a:solidFill>
                <a:latin typeface="Times New Roman"/>
              </a:rPr>
              <a:t>предупреждение вредного воздействия на человека факторов среды обитания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030a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7030a0"/>
                </a:solidFill>
                <a:latin typeface="Times New Roman"/>
              </a:rPr>
              <a:t>гигиеническое воспитание и образование насел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Прямоугольник 1"/>
          <p:cNvSpPr/>
          <p:nvPr/>
        </p:nvSpPr>
        <p:spPr>
          <a:xfrm>
            <a:off x="826560" y="908640"/>
            <a:ext cx="7704360" cy="43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Санитарно-гигиенический надзор за условиями тру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800" spc="-1" strike="noStrike">
                <a:solidFill>
                  <a:srgbClr val="0070c0"/>
                </a:solidFill>
                <a:latin typeface="Times New Roman"/>
              </a:rPr>
              <a:t>Основные задачи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1. Организация и осуществление надзора и контроля за исполнением обязательных требований законодательства КР в области обеспечения санитарно-эпидемиологического благополучия населе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Прямоугольник 1"/>
          <p:cNvSpPr/>
          <p:nvPr/>
        </p:nvSpPr>
        <p:spPr>
          <a:xfrm>
            <a:off x="539640" y="1052640"/>
            <a:ext cx="8352720" cy="505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2.   Предупреждение вредного воздействия на человека вредных и (или) опасных производственных факторо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</a:rPr>
              <a:t>3. Профилактика профессиональных заболеваний (отравлений) и массовых неинфекционных заболеваний (отравлений) насел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3.   Устанавливание причин и выявление условий возникновения и распространения профессиональных  заболеваний (отравлений) и массовых неинфекционных заболеваний (отравлений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Прямоугольник 1"/>
          <p:cNvSpPr/>
          <p:nvPr/>
        </p:nvSpPr>
        <p:spPr>
          <a:xfrm>
            <a:off x="971640" y="836640"/>
            <a:ext cx="748836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Основные функци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1. Надзор и контроль за соблюдением законодательства КР в области обеспечения санитарно-эпидемиологического благополучия населения в части надзор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030a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7030a0"/>
                </a:solidFill>
                <a:latin typeface="Times New Roman"/>
              </a:rPr>
              <a:t>за условиями труд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030a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7030a0"/>
                </a:solidFill>
                <a:latin typeface="Times New Roman"/>
              </a:rPr>
              <a:t>рабочими местами 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030a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7030a0"/>
                </a:solidFill>
                <a:latin typeface="Times New Roman"/>
              </a:rPr>
              <a:t>трудовыми процессами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030a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7030a0"/>
                </a:solidFill>
                <a:latin typeface="Times New Roman"/>
              </a:rPr>
              <a:t>технологическим оборудованием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030a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7030a0"/>
                </a:solidFill>
                <a:latin typeface="Times New Roman"/>
              </a:rPr>
              <a:t>организацией рабочих мест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030a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7030a0"/>
                </a:solidFill>
                <a:latin typeface="Times New Roman"/>
              </a:rPr>
              <a:t>коллективными и индивидуальными средствами защиты работников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1"/>
          <p:cNvSpPr/>
          <p:nvPr/>
        </p:nvSpPr>
        <p:spPr>
          <a:xfrm>
            <a:off x="1067400" y="1412640"/>
            <a:ext cx="7488360" cy="307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457200" indent="-457200">
              <a:lnSpc>
                <a:spcPct val="100000"/>
              </a:lnSpc>
              <a:buClr>
                <a:srgbClr val="7030a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7030a0"/>
                </a:solidFill>
                <a:latin typeface="Times New Roman"/>
              </a:rPr>
              <a:t>режимом труда и отдых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7030a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7030a0"/>
                </a:solidFill>
                <a:latin typeface="Times New Roman"/>
              </a:rPr>
              <a:t>бытовым обслуживанием работников (далее - условия труда) </a:t>
            </a: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на объектах всех форм собственности и ведомственной принадлежности, подведомственных Управлению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  <Words>740</Words>
  <Paragraphs>195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9-12T10:04:15Z</dcterms:created>
  <dc:creator>TechLine</dc:creator>
  <dc:description/>
  <dc:language>en-US</dc:language>
  <cp:lastModifiedBy>TechLine</cp:lastModifiedBy>
  <dcterms:modified xsi:type="dcterms:W3CDTF">2022-09-13T05:30:54Z</dcterms:modified>
  <cp:revision>23</cp:revision>
  <dc:subject/>
  <dc:title>Тема: Основные направления деятельности и задачи санитарно-эпидемиологической службы в области ГТ.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44</vt:r8>
  </property>
</Properties>
</file>