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E79-5FD3-4E4A-B0DC-B259A5B3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61B-8738-465C-860B-4B56ABBD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F4F-14D1-496E-A148-CD7288ED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DBF-4F04-4218-B5C2-814C3720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3229-6871-4D00-9FE8-0B9D2157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925-4783-4775-AEFE-9FD45F9B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FA0A-A80D-42C2-9050-66825FD1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110B-95CE-4520-AEE2-0FA1302B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56E3-6810-45CC-97B1-D33FBF23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4D79-6285-437A-BDF9-AC80BE53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87EC-CCC1-40D2-AA39-CBBEB222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B7F-3155-4833-AE21-DB769A2C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1E20-B8DB-4C44-B617-EE30EB88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E381-B26E-472C-97FE-03A6CB94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864E-E451-45D4-A294-CB0FD5D5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7277-463F-41B1-B6D6-883451BA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FF2A-E11E-47D2-B4E3-C9C4227C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F683-6015-404E-9891-C708C91C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1DA25-A323-4D14-A1F4-57C3F2C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E20F0-EF9C-4BD8-B89A-7D32B31F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E98F3-D09A-41ED-96CC-E1DDC5B3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711E-B81F-4B78-B2AD-E23C7320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547-4283-46BB-98D3-C9124C70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0222C-B443-4E34-9FDC-F6EF75E5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EDBD-780D-495B-9E2E-4E5E62CB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7B0F-43AB-494A-895C-E73A042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A9F1-55F2-4872-8A07-3DEBAFCE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3AB0A-D00B-4D16-9BB4-C3E64472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1C54-1EFE-45F6-A67C-06DE1FFC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27BD-8D70-48D2-83E2-8EB96B5B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4C3-C8FA-44DC-A197-F12087CB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C82-004B-45AA-A6D1-E384AECB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67F-302D-4D66-B4F8-AFD45A3A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331-4951-4A64-969B-C36B0B75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781-ECEB-484C-8EA1-6D7964A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FCD-87D6-4C08-BC85-2CA61270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F1441-A691-44BC-970A-826316C2CD7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4B7BA5-9C3A-4E8E-8323-4749CB56B5D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811B53-9044-4659-9F1E-F398BF9F9F7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2133000"/>
            <a:ext cx="7772040" cy="233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Тема: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 Основные направления деятельности и задачи санитарно-эпидемиологической службы в области ГТ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15640" y="5229360"/>
            <a:ext cx="7160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Кафедра: «Общественное здравоохран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Преп: Гайназарова Р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755640" y="1628640"/>
            <a:ext cx="7848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частие в соответствии с законодательством КР в лицензировании отдельных видов деятельности, отнесенных к компетенции служ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3. Устанавливание причин и выявление условий возникновения и распространения профессиональных  заболеваний (отравлений) и массовых неинфекционных заболеваний (отравл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899640" y="980640"/>
            <a:ext cx="748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4. Подготовка предложений о введении и об отмене ограничительных мероприятий (карантина) в порядке,    установленном законодательством К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5. Участие в установленном порядке в ведении социально- гигиенического мониторин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6. Осуществление в установленном порядке проверки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деятельности юридических лиц, индивидуальных предпринимателей и граждан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 выполнению требований  санитарного законодательства в части надзора за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остоянием условий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755640" y="764640"/>
            <a:ext cx="7920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7. Обеспечение в пределах своей компетенции защиту сведений, составляющих государственную тай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8. Рассмотрение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бращений граждан, юридических лиц, индивидуальных предпринимателей, запросов органов государственной власти, органов местного самоуправления, обеспечение своевременного и полного их рассмотрения, подготовка по ним ответов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в установленный законодательством КР с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800280" y="908640"/>
            <a:ext cx="7866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9. Участие в осуществлении профессиональной подготовки, повышения квалификации и стажировке специалистов в области гигие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0. Участие в осуществлении в соответствии с законодательством КР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бот по   комплектованию, хранению, учету и использованию архивных  документов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бразовавшихся в процессе деятельности отд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747000" y="1196640"/>
            <a:ext cx="799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5.Осуществление иных функций в установленной сфере деятельности,  если  такие  функции предусмотрены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законами, актами Президента или Правительства КР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актами МЗ  и социального развития, актами санитарно-эпидемиологической эпидемиологической  службы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   по  надзору  в сфере защиты прав потребителей и благополуч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899640" y="692640"/>
            <a:ext cx="764856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нитарный врач по гигиен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ется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валифицированным сотрудником санитарно-эпидемиологической службы, который хорошо освещен в вопросах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санитарного контроля над выполнением определенных правил на промышленных, строительных предприятиях и в сельскохозяйственных организациях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971640" y="1058400"/>
            <a:ext cx="78483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К данным требованием, подлежащих выполнению, следует отн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гигиенические нормы и правил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 направленные на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едупреждение развития профессиональной патологии и уменьшение заболеваемости сотрудников пред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259640" y="1845000"/>
            <a:ext cx="71085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Эффективность работы санитарного врач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во многом зависит от правильного и необходимого именно в данной ситуации выбора подхода, метода и приемов по реализации пл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611640" y="404640"/>
            <a:ext cx="8064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ь санитарного врача по гигиене труда: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организаторски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рганизует и координирует деятельность всех ведомственных учреждений и граждан;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нормативны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зрабатывает и утверждает (согласовывает) санитарные правила, гигиенические нормативы, санитарно-защитные зоны и уровни воздействия, проводит экспертизу и участвует в лицензионных комиссиях;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— методически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зрабатывает и утверждает (согласовывает) инструктивно-методическую документацию, новые методы профилактики и гигиенической диагнос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801360" y="476640"/>
            <a:ext cx="7776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нсультативны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консультируют ведомственные службы по вопрос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ыбора и отвода земельных участков при строительстве ПП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храны окружающей среды от вредных и опасных выброс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одоснабжения, канализации П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рганизации рационального питания работающ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едставляет информацию юридическим лицам о санитарно-эпидемической ситуации, показателях здоровья работающ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филактики инфекционны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827640" y="908640"/>
            <a:ext cx="7560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н ле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1. Основные направления деятельности и задачи санитарно-эпидемиологической службы в области Г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2.Деятельность санитарного врача по гигиене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3. Основные направления предупредительного  и текущего Государственного 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5080" y="1700640"/>
            <a:ext cx="799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нтрольны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существляет государственный предупредительный и текущий санэпиднадзор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научно-практически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водят углубленное изучение влияния условий труда на здоровье работающих промышленных и сельскохозяйственных пред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899640" y="620640"/>
            <a:ext cx="770436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гда следует обращаться к санитарному врачу по гигиене тр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бращение к санитарному врачу должно проводитьс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словии повышения уровня заболеваемости на предприят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величение случаев травм на производстве или большой нагрузки, а также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необходимости получения заключения по санитарно-эпидемиологическим условиям определенного производственного или сельскохозяйственного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539640" y="620640"/>
            <a:ext cx="8136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мощь санитарного врач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может понадобитьс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дтверждения нетрудоспособности вследствие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неблагоприятных условий труд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связано с тем, что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ый врач следит за обеспечением максимально подходящих условий труда со стороны окружающей внешней среды, режима труда и нагрузок,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необходимых для предупреждения развити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патологии по причине профессиональной вредност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539640" y="502920"/>
            <a:ext cx="813672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кие методы диагностики использует санитарный врач по гигиене тр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Дл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оценки состояния здоровья работников промышленных и сельскохозяйственных предприятий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анитарный врач используется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лабораторные и инструментальные методы обнаружения заболевания в хронической или острой ста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 помощью этой оценки он может определить, какая система организма испытывает максимальное негативное влияние вредного фа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827640" y="1124640"/>
            <a:ext cx="7776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ценивать санитарно-гигиеническое состояние определенного объекта производств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обходимо с помощью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специальных современных методов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 процессе данного исследования проводиться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ценка физических, химических, биологических и психофизиологических производственных факторов 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выявить их уровень, концентрацию и влияние на организм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767880" y="1700640"/>
            <a:ext cx="76971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ые направления предупредительного  и текущего Государственного  надз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едупредительный санитарный надз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Текущий санитарный над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827640" y="1052640"/>
            <a:ext cx="756036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упредительный санитарный над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ется важнейшим разделом деятельности врача по гигиене труда, он представляет собой высшую и наиболее эффективную форму профилактическ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898560" y="476640"/>
            <a:ext cx="741636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кущий санитарный надз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существляется в отношении эксплуатируемых объектов и проводится периодически в соответствии со спецификой каждого из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 проведению текущего санитарного надзора широко привлекаются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врачи и средний медицинский персонал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лечебно-профилактических организ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611640" y="260640"/>
            <a:ext cx="7920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кущий санитарный надзор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целью текущего санитарного надзора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гулярный систематический контроль за санитарным содержанием промышленных предприятий и сельскохозяйственных объек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онтроль за санитарно-гигиеническими условиями труда, постоянным соблюдением на указанных предприятиях и объектах действующего санитарного законодательства по санитарной охране труда, санитарно-гигиенических норм и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683640" y="332640"/>
            <a:ext cx="7704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 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области гигиены труда 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осуществляют санэпиднадзор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: -при разработке сх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градостроительного планирования разви­тия террито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генеральных планов городских и сельских поселе­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ектов планировки общественных центр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жилых район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магистралей город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размещении объектов гражданского, про­мышленного и сельскохозяйственного назначений и установления их санитарно-защитных зо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787680" y="1196640"/>
            <a:ext cx="763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осударственная санитарно-эпидемиологическая служба Кыргызской Республики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ется единой централизованной системой органов и учреждений здравоохранения, обеспечивающих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о-эпидемиологическое благополучие и осуществляющих санитарно-эпидемиологический надзор в К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899640" y="908640"/>
            <a:ext cx="7488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выборе земельных участков под строительство, 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проектировании, строительстве и кон­сервации и ликвидации промышленных, транспортных объектов, зданий и сооружений культурно-бытового назначения, жилых домов, объектов инженерной инфраструктуры и благоустройства и иных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539640" y="332640"/>
            <a:ext cx="799128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производством, транспортировкой, хранением, применением (использованием) и утилизацией продукции производственно-технического назначения в случаях,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когда требуется непосредственное участие человека, и товаров для личных и бытовых нужд граждан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производством, применением (использованием) и реализа­цией населению новых видов продукции (впервые разрабатываемых или внедряем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новыми технологическими процессами произ­водства проду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467640" y="620640"/>
            <a:ext cx="82807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реализацией продукции, ввозимой в страну, а также ее примене­нием в промышленности, сельском хозяй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производством, транспортировкой, хранением, применением (использованием), реализацией и утилизацией продуктов произ­водственно-технического назначения, потенциально опасных хими­ческих, биологических веществ и отдельных видов продукции после их государственной регист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эксплуатацией производственных, общественных помещений, зданий, сооружений, оборудования и транспо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683640" y="692640"/>
            <a:ext cx="806436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деятельностью и работой отдельных цехов, участков, сооружений, оборудования, транспорта, выполнением отдельных видом работ и оказанием усл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условиями труда, рабочими местами и трудовыми процессами, технологическим оборудованием, организацией рабочих мест, коллективными и индивидуальными средствами защиты работни­ков, режимом труда и отдыха и бытовым обслуживанием работником в целях предупреждения профессиональных заболеваний, инфекци-онных заболеваний и отравлений, связанных с условиями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971640" y="1412640"/>
            <a:ext cx="7488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условиями работы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-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биологическими веществ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-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биологическими и микробиологическими организмами и их токсинами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 том числ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словиями работы в генной инженерии и с возбудителями инфекционных заболев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611640" y="404640"/>
            <a:ext cx="82087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условиями работы с машинами, механизмами, устройствами аппаратами, которые являются источниками физических факторов воздействия на человека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(шума, вибрации, ультразвуковых мочи инфракрасных, ионизирующих, неионизирующих и иных излучений, температурного воздействия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использованием машин, механизм, установок, устройств и аппаратов, а также производством, применением (использованием), транспортировкой хранением и захоронением радиоактивных веществ, материалов и отходов, являющихся источниками физических факторов воздействия н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747000" y="764640"/>
            <a:ext cx="799236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и осуществлени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нитарно-эпидемиологического надзор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ажную роль играет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планирование деятельности службы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обус­ловлено рядом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конодательных актов,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устанавливающих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ратность проведения плановых мероприятий по контролю (надзору)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 более 1 раза в 2 г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- а для предпринимателей малого бизнеса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их отсутс­твие в первые три год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755640" y="1027080"/>
            <a:ext cx="7920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лановые мероприятия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 контролю составляются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Times New Roman"/>
              </a:rPr>
              <a:t>на текущий календарный год и утверждаются руководителем территориального управления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рок проведения одного мероприятия по контролю — не более 1 месяца (в особых случаях до 2-х месяц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27640" y="692640"/>
            <a:ext cx="7704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неплановые мероприятия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 контролю (надзору) проводятся в случа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авар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изменений технологических процесс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и возник­новении угрозы здоровью и жизни гражда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загрязнения окружающей сре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и обращении граждан, юридических лиц и индивидуальных предпринимателей с жалобами, связанными с нарушением санитарных правил и н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899640" y="1412640"/>
            <a:ext cx="763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Для текущего санитарного надзора используют 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йдовых обследований объек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о-гигиенического описания как по отдельным видам объектов, так и в целом по району, го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827640" y="1412640"/>
            <a:ext cx="7632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рганы и учреждения Службы руководствуются в свое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онституцией К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конами К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казами и распоряжениями Президента К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остановлениями, распоряжениями Правительства К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казами, постановлениями, распоряжениями МЗ К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бъектами санитарно-эпидемиологического надзор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ютс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640" y="1484640"/>
            <a:ext cx="403812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роизводственные помещения и технологические процессы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средства индивидуальной защиты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санитарно-бытовые помещения; |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водоснабжение и канализация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отопление и вентиляция; -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роизводственное освещение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оставляемое сырье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родукция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условия хранения продукции и сырья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60000" y="1556640"/>
            <a:ext cx="4038120" cy="45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транспорт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порядок реализации неиспользованной продукции, отходов производства и их утилизация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воздух и почва промышленных площадок, санитарно-защитных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зон (СЗЗ)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режим труда и отдыха; 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организация питания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организация медицинских осмотров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аттестация должностных лиц и работников.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611640" y="260640"/>
            <a:ext cx="8352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казанный контроль 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оведе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лабораторных исследований и испытаний (измере­ни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дукции и сыр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словий их хранения и транспортиров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ализации и утилиз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цессов производ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редных факто­ров в помещениях, на территории предприятия, на границе СЗЗ и в зоне влияния предприятия в населенных пунк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1115640" y="1268640"/>
            <a:ext cx="727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оглас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писков работников, подлежащих медицинскому осмот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еречня специалистов, участвующих в осмотр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еречня лабораторных исследо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787680" y="980640"/>
            <a:ext cx="7704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контроль за налич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лиценз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ертифика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о-эпидемиологических заключ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личных медицинских книж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ых паспортов на транспо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зработку и реализацию мер, направленных на устранение выявленных нару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827640" y="2493000"/>
            <a:ext cx="741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758880" y="1340640"/>
            <a:ext cx="78483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 целях обеспечения санитарно-эпидемиологического благополучия в КР основными задачами службы определе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филактика инфекционных и массовых неинфекционных заболеваний населения К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едупреждение вредного воздействия на человека факторов среды обит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гигиеническое воспитание и образование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826560" y="908640"/>
            <a:ext cx="7704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нитарно-гигиенический надзор за условиями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Основные 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. Организация и осуществление надзора и контроля за исполнением обязательных требований законодательства КР в области обеспечения санитарно-эпидемиологического благополучия нас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539640" y="1052640"/>
            <a:ext cx="83527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2.   Предупреждение вредного воздействия на человека вредных и (или) опасных производственных факто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3. Профилактика профессиональных заболеваний (отравлений) и массовых неинфекционных заболеваний (отравлений)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3.   Устанавливание причин и выявление условий возникновения и распространения профессиональных  заболеваний (отравлений) и массовых неинфекционных заболеваний (отравл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971640" y="836640"/>
            <a:ext cx="748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ые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. Надзор и контроль за соблюдением законодательства КР в области обеспечения санитарно-эпидемиологического благополучия населения в части надз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условиями тру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бочими местам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трудовыми процесс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технологическим оборудован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рганизацией рабочих ме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оллективными и индивидуальными средствами защиты работни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067400" y="1412640"/>
            <a:ext cx="74883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жимом труда и отдых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бытовым обслуживанием работников (далее - условия труда)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а объектах всех форм собственности и ведомственной принадлежности, подведомственных Управл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  <Words>740</Words>
  <Paragraphs>1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2T10:04:15Z</dcterms:created>
  <dc:creator>TechLine</dc:creator>
  <dc:description/>
  <dc:language>en-US</dc:language>
  <cp:lastModifiedBy>TechLine</cp:lastModifiedBy>
  <dcterms:modified xsi:type="dcterms:W3CDTF">2022-09-13T05:30:54Z</dcterms:modified>
  <cp:revision>23</cp:revision>
  <dc:subject/>
  <dc:title>Тема: Основные направления деятельности и задачи санитарно-эпидемиологической службы в области ГТ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4</vt:r8>
  </property>
</Properties>
</file>