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725-EEB5-49DF-AC2B-8F4A4833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75F-B722-4F7E-88A8-97945118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586-4B4B-4E78-A596-7BF5F5B6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7A8-4D55-4B8C-83FD-1D3CE639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B281-72D6-469B-85CF-64A99FC0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665-C1F5-432A-859F-A544C0D8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2DF-39B9-4303-BB84-410B2900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1C66-51AE-4605-823B-6466DC8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A97-6828-4D37-884F-682A72C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75A1-3A57-4020-9BA1-FF88B66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1A5E-E895-4D6C-A8CD-C0500B9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022-5036-4F26-9232-3327809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AB4-4E8D-42AB-AB37-94F0419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E94-D0F9-4CEA-8994-188253C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2D5E-3220-4E5C-B045-D9528FF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D45-67F0-461B-BA9F-199ABC09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A55-1F33-4F5D-8FB0-2D1D9B85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0B32-AFB4-4358-8A4F-31A46AD0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88EE-F04B-4B27-9B13-A9811D77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D623-50F3-4038-923C-D63D9414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327D-1E92-4A17-AC8B-57697FB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44A7-4601-47BC-953B-F403338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317-CFF1-4F69-8B07-7CEA29A6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079A-0E0E-4D16-BEC3-34487FDE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5ABF-3FAF-4DA6-9167-14D32E2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7AA1-72A7-407C-A685-6B92B36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71BD-1B13-4955-8EF0-D24DA82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577C-D105-4C8F-A945-8C023FD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6813-009F-4871-901F-D52FE9B0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8C7D-13CB-4204-A1E1-5B6163BF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17B-D6EB-44A2-B0D0-A04084FC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402-44CE-44E3-B266-3D2B652E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E0F-0D44-4EEE-8E4F-89AF9499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629-A042-48A6-81B0-C99755E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991-1843-4995-A927-45DFD9A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9D2-06C8-41F1-A148-C487B0F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3775B6-4BBA-4942-968D-357ED1A11A1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AC059A-3B60-4EC3-8E0E-90F96987476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DC847E-85E1-45F6-9653-FA53F04844B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2133000"/>
            <a:ext cx="7772040" cy="233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Тема: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Основные направления деятельности и задачи санитарно-эпидемиологической службы в области ГТ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5640" y="5229360"/>
            <a:ext cx="7160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Кафедра: «Общественное здравоохран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реп: Гайназарова Р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755640" y="1628640"/>
            <a:ext cx="7848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частие в соответствии с законодательством КР в лицензировании отдельных видов деятельности, отнесенных к компетенции служ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. Устанавливание причин и выявление условий возникновения и распространения профессиональных  заболеваний (отравлений) и массовых неинфекционных заболеваний (отравл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899640" y="980640"/>
            <a:ext cx="74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4. Подготовка предложений о введении и об отмене ограничительных мероприятий (карантина) в порядке,    установленном законодательством К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5. Участие в установленном порядке в ведении социально- гигиенического мониторин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6. Осуществление в установленном порядке проверки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деятельности юридических лиц, индивидуальных предпринимателей и граждан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выполнению требований  санитарного законодательства в части надзора з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остоянием условий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755640" y="764640"/>
            <a:ext cx="7920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7. Обеспечение в пределах своей компетенции защиту сведений, составляющих государственную тай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8. Рассмотрение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бращений граждан, юридических лиц, индивидуальных предпринимателей, запросов органов государственной власти, органов местного самоуправления, обеспечение своевременного и полного их рассмотрения, подготовка по ним ответов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в установленный законодательством КР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800280" y="908640"/>
            <a:ext cx="7866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9. Участие в осуществлении профессиональной подготовки, повышения квалификации и стажировке специалистов в области гигие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0. Участие в осуществлении в соответствии с законодательством КР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бот по   комплектованию, хранению, учету и использованию архивных  документов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бразовавшихся в процессе деятельности отд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47000" y="1196640"/>
            <a:ext cx="799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5.Осуществление иных функций в установленной сфере деятельности,  если  такие  функции предусмотрены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законами, актами Президента или Правительства КР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актами МЗ  и социального развития, актами санитарно-эпидемиологической эпидемиологической  служб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   по  надзору  в сфере защиты прав потребителей и благополуч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899640" y="692640"/>
            <a:ext cx="764856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нитарный врач по гигие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валифицированным сотрудником санитарно-эпидемиологической службы, который хорошо освещен в вопросах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санитарного контроля над выполнением определенных правил на промышленных, строительных предприятиях и в сельскохозяйственных организациях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971640" y="1058400"/>
            <a:ext cx="7848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 данным требованием, подлежащих выполнению, следует отн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игиенические нормы и правил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 направленные н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упреждение развития профессиональной патологии и уменьшение заболеваемости сотрудников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259640" y="1845000"/>
            <a:ext cx="71085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Эффективность работы санитарного врач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во многом зависит от правильного и необходимого именно в данной ситуации выбора подхода, метода и приемов по реализации пл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611640" y="404640"/>
            <a:ext cx="8064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ь санитарного врача по гигиене труда: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рганизатор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ует и координирует деятельность всех ведомственных учреждений и граждан;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орматив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атывает и утверждает (согласовывает) санитарные правила, гигиенические нормативы, санитарно-защитные зоны и уровни воздействия, проводит экспертизу и участвует в лицензионных комиссиях;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— методиче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атывает и утверждает (согласовывает) инструктивно-методическую документацию, новые методы профилактики и гигиенической диагнос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801360" y="476640"/>
            <a:ext cx="7776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нсультатив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консультируют ведомственные службы по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ыбора и отвода земельных участков при строительстве П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храны окружающей среды от вредных и опасных выбро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одоснабжения, канализации П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ации рационального питания работающ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ставляет информацию юридическим лицам о санитарно-эпидемической ситуации, показателях здоровья работающ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филактики инфекцион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27640" y="908640"/>
            <a:ext cx="7560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н 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1. Основные направления деятельности и задачи санитарно-эпидемиологической службы в области Г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2.Деятельность санитарного врача по гигиене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3. Основные направления предупредительного  и текущего Государственного 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5080" y="1700640"/>
            <a:ext cx="799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нтроль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существляет государственный предупредительный и текущий санэпиднадзор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аучно-практиче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водят углубленное изучение влияния условий труда на здоровье работающих промышленных и сельскохозяйственных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899640" y="620640"/>
            <a:ext cx="77043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гда следует обращаться к санитарному врачу по гигиене тр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бращение к санитарному врачу должно проводитьс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словии повышения уровня заболеваемости на предприят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величение случаев травм на производстве или большой нагрузки, а также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необходимости получения заключения по санитарно-эпидемиологическим условиям определенного производственного или сельскохозяйственного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539640" y="620640"/>
            <a:ext cx="8136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мощь санитарного врач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ожет понадобитьс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дтверждения нетрудоспособности вследствие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неблагоприятных условий труд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связано с тем, что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ый врач следит за обеспечением максимально подходящих условий труда со стороны окружающей внешней среды, режима труда и нагрузок,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необходимых для предупреждения развити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патологии по причине профессиональной вредност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39640" y="502920"/>
            <a:ext cx="813672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ие методы диагностики использует санитарный врач по гигиене тр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л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оценки состояния здоровья работников промышленных и сельскохозяйственных предприят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анитарный врач используется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абораторные и инструментальные методы обнаружения заболевания в хронической или острой ста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 помощью этой оценки он может определить, какая система организма испытывает максимальное негативное влияние вредного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827640" y="1124640"/>
            <a:ext cx="7776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ценивать санитарно-гигиеническое состояние определенного объекта производств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обходимо с помощью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специальных современных методов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 процессе данного исследования проводиться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ценка физических, химических, биологических и психофизиологических производственных факторов 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ыявить их уровень, концентрацию и влияние на организм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767880" y="1700640"/>
            <a:ext cx="76971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направления предупредительного  и текущего Государственного  надз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едупредительный санитарны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Текущий санитарны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827640" y="1052640"/>
            <a:ext cx="756036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упредительный санитарны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важнейшим разделом деятельности врача по гигиене труда, он представляет собой высшую и наиболее эффективную форму профил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898560" y="476640"/>
            <a:ext cx="741636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кущий санитарны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существляется в отношении эксплуатируемых объектов и проводится периодически в соответствии со спецификой каждого из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 проведению текущего санитарного надзора широко привлекаются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врачи и средний медицинский персонал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лечебно-профилактических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611640" y="260640"/>
            <a:ext cx="7920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кущий санитарный надзор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целью текущего санитарного надзора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гулярный систематический контроль за санитарным содержанием промышленных предприятий и сельскохозяйственных объе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нтроль за санитарно-гигиеническими условиями труда, постоянным соблюдением на указанных предприятиях и объектах действующего санитарного законодательства по санитарной охране труда, санитарно-гигиенических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683640" y="332640"/>
            <a:ext cx="7704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 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области гигиены труда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существляют санэпиднадзор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: -при разработке сх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радостроительного планирования разви­тия террито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енеральных планов городских и сельских поселе­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ектов планировки общественных центр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жилых район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магистралей город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размещении объектов гражданского, про­мышленного и сельскохозяйственного назначений и установления их санитарно-защитных з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787680" y="1196640"/>
            <a:ext cx="763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осударственная санитарно-эпидемиологическая служба Кыргызской Республики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единой централизованной системой органов и учреждений здравоохранения, обеспечивающих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эпидемиологическое благополучие и осуществляющих санитарно-эпидемиологический надзор в К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899640" y="908640"/>
            <a:ext cx="7488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выборе земельных участков под строительство, 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проектировании, строительстве и кон­сервации и ликвидации промышленных, транспортных объектов, зданий и сооружений культурно-бытового назначения, жилых домов, объектов инженерной инфраструктуры и благоустройства и ин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539640" y="332640"/>
            <a:ext cx="799128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производством, транспортировкой, хранением, применением (использованием) и утилизацией продукции производственно-технического назначения в случаях,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когда требуется непосредственное участие человека, и товаров для личных и бытовых нужд граждан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производством, применением (использованием) и реализа­цией населению новых видов продукции (впервые разрабатываемых или внедряем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новыми технологическими процессами произ­водства проду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67640" y="620640"/>
            <a:ext cx="82807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реализацией продукции, ввозимой в страну, а также ее примене­нием в промышленности, сельском хозяй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производством, транспортировкой, хранением, применением (использованием), реализацией и утилизацией продуктов произ­водственно-технического назначения, потенциально опасных хими­ческих, биологических веществ и отдельных видов продукции после их государственной регист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эксплуатацией производственных, общественных помещений, зданий, сооружений, оборудования и транспо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683640" y="692640"/>
            <a:ext cx="80643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деятельностью и работой отдельных цехов, участков, сооружений, оборудования, транспорта, выполнением отдельных видом работ и оказанием усл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условиями труда, рабочими местами и трудовыми процессами, технологическим оборудованием, организацией рабочих мест, коллективными и индивидуальными средствами защиты работни­ков, режимом труда и отдыха и бытовым обслуживанием работником в целях предупреждения профессиональных заболеваний, инфекци-онных заболеваний и отравлений, связанных с условиями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971640" y="1412640"/>
            <a:ext cx="7488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условиями работы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-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иологическими веществ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-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иологическими и микробиологическими организмами и их токсинам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 том числ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словиями работы в генной инженерии и с возбудителями инфекционных заболев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611640" y="404640"/>
            <a:ext cx="82087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условиями работы с машинами, механизмами, устройствами аппаратами, которые являются источниками физических факторов воздействия на человек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(шума, вибрации, ультразвуковых мочи инфракрасных, ионизирующих, неионизирующих и иных излучений, температурного воздейств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использованием машин, механизм, установок, устройств и аппаратов, а также производством, применением (использованием), транспортировкой хранением и захоронением радиоактивных веществ, материалов и отходов, являющихся источниками физических факторов воздействия н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747000" y="764640"/>
            <a:ext cx="79923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осуществлени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нитарно-эпидемиологического надзор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ажную роль играет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планирование деятельности служб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обус­ловлено рядом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конодательных актов,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устанавливающих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ратность проведения плановых мероприятий по контролю (надзору)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 более 1 раза в 2 г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- а для предпринимателей малого бизнеса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их отсутс­твие в первые три год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55640" y="1027080"/>
            <a:ext cx="7920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лановые мероприят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контролю составляются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на текущий календарный год и утверждаются руководителем территориального управления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рок проведения одного мероприятия по контролю — не более 1 месяца (в особых случаях до 2-х месяц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27640" y="692640"/>
            <a:ext cx="7704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неплановые мероприят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контролю (надзору) проводятся в случа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авар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зменений технологических процес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возник­новении угрозы здоровью и жизни гражда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загрязнения окруж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обращении граждан, юридических лиц и индивидуальных предпринимателей с жалобами, связанными с нарушением санитарных правил и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899640" y="1412640"/>
            <a:ext cx="763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ля текущего санитарного надзора используют 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йдовых обследований объек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гигиенического описания как по отдельным видам объектов, так и в целом по району, го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827640" y="1412640"/>
            <a:ext cx="7632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рганы и учреждения Службы руководствуются в свое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нституцией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конами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казами и распоряжениями Президента К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остановлениями, распоряжениями Правительства К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казами, постановлениями, распоряжениями МЗ К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ъектами санитарно-эпидемиологического надзор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640" y="1484640"/>
            <a:ext cx="403812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изводственные помещения и технологические процессы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средства индивидуальной защиты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санитарно-бытовые помещения; |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водоснабжение и канализация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отопление и вентиляция; 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изводственное освещение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оставляемое сырье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дукция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условия хранения продукции и сырья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60000" y="1556640"/>
            <a:ext cx="403812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транспорт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порядок реализации неиспользованной продукции, отходов производства и их утилизация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воздух и почва промышленных площадок, санитарно-защитных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зон (СЗЗ)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режим труда и отдыха;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организация питания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организация медицинских осмотров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аттестация должностных лиц и работников.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611640" y="260640"/>
            <a:ext cx="8352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казанный контроль 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овед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абораторных исследований и испытаний (измере­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дукции и сыр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словий их хранения и транспортиро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ализации и утилиз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цессов производ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редных факто­ров в помещениях, на территории предприятия, на границе СЗЗ и в зоне влияния предприятия в населенных пунк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115640" y="1268640"/>
            <a:ext cx="727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оглас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писков работников, подлежащих медицинскому осмот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еречня специалистов, участвующих в осмотр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еречня лабораторных исслед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787680" y="980640"/>
            <a:ext cx="7704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онтроль за налич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иценз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ертифик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эпидемиологических заключ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ичных медицинских книж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ых паспортов на транспо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отку и реализацию мер, направленных на устранение выявленных нару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827640" y="2493000"/>
            <a:ext cx="741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758880" y="1340640"/>
            <a:ext cx="78483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 целях обеспечения санитарно-эпидемиологического благополучия в КР основными задачами службы определе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филактика инфекционных и массовых неинфекционных заболеваний населения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упреждение вредного воздействия на человека факторов среды обит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игиеническое воспитание и образовани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826560" y="908640"/>
            <a:ext cx="7704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нитарно-гигиенический надзор за условиям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сновные 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. Организация и осуществление надзора и контроля за исполнением обязательных требований законодательства КР в области обеспечения санитарно-эпидемиологического благополучия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539640" y="1052640"/>
            <a:ext cx="83527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2.   Предупреждение вредного воздействия на человека вредных и (или) опасных производственных факто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3. Профилактика профессиональных заболеваний (отравлений) и массовых неинфекционных заболеваний (отравлений)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.   Устанавливание причин и выявление условий возникновения и распространения профессиональных  заболеваний (отравлений) и массовых неинфекционных заболеваний (отравл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971640" y="836640"/>
            <a:ext cx="74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. Надзор и контроль за соблюдением законодательства КР в области обеспечения санитарно-эпидемиологического благополучия населения в части надз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условиями тру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бочими местам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рудовыми процесс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ехнологическим оборудова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ацией рабочих ме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ллективными и индивидуальными средствами защиты работни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67400" y="1412640"/>
            <a:ext cx="7488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жимом труда и отды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ытовым обслуживанием работников (далее - условия труда)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 объектах всех форм собственности и ведомственной принадлежности, подведомственных Упр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  <Words>740</Words>
  <Paragraphs>1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2T10:04:15Z</dcterms:created>
  <dc:creator>TechLine</dc:creator>
  <dc:description/>
  <dc:language>en-US</dc:language>
  <cp:lastModifiedBy>TechLine</cp:lastModifiedBy>
  <dcterms:modified xsi:type="dcterms:W3CDTF">2022-09-13T05:30:54Z</dcterms:modified>
  <cp:revision>23</cp:revision>
  <dc:subject/>
  <dc:title>Тема: Основные направления деятельности и задачи санитарно-эпидемиологической службы в области ГТ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4</vt:r8>
  </property>
</Properties>
</file>