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A92-EF59-4157-A5E0-F0758253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00C-9D80-48AD-AB3C-24615738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17C-832B-4E19-9B90-84BFACAE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C3E-E7A4-4620-8F4E-AC319143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F24-2312-4C37-8746-63928930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DE6-436C-4651-9B57-C7119122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901-D2D1-4625-92D8-4550FDB4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50D-43B4-467A-B3CD-2DEEA90D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4BD-EF4D-4142-BC5F-4A860C51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744-50D6-4B2D-B2E0-B1A5F726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C80-DDD6-498F-82AB-79BA35CB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730-A399-4529-9035-30319006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DE3E-F549-4E52-9713-9CC599223DF8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Единая государственная система предупреждения и ликвидации чрезвычайных ситуаций (РСЧ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677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Организационная структура РСЧ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773000"/>
            <a:ext cx="8642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СЧС состоит из территориальных и функциональных подсистем и имеет пять уровн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федеральный, охватывающий всю территорию Р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региональный, территорию нескольких субъектов Р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территориальный, территорию субъектов Р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местный, территорию района (города, населенного пункт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объектовый, территорию объекта производственного или социального назна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Органы управления системы РСЧ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Координирующие орга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Comic Sans MS"/>
              </a:rPr>
              <a:t>на федеральном уровне </a:t>
            </a: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— Межведомственная комиссия по предупреждению и ликвидации ЧС и ведомственные комиссии по ЧС в федеральных органах исполнительной вла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Comic Sans MS"/>
              </a:rPr>
              <a:t>на региональном уровне </a:t>
            </a: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— комиссии не создают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Comic Sans MS"/>
              </a:rPr>
              <a:t>на территориальном уровне </a:t>
            </a: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— комиссии по ЧС органов исполнительной власти субъектов Российской Федер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Comic Sans MS"/>
              </a:rPr>
              <a:t>на местном уровне </a:t>
            </a: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— комиссии по ЧС органов местного самоуправ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Comic Sans MS"/>
              </a:rPr>
              <a:t>на объектовом уровне </a:t>
            </a: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— объектовые комиссии по чрезвычайным ситуац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Органы управления системы РСЧ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omic Sans MS"/>
              </a:rPr>
              <a:t>Постоянно действующие орган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на федеральном уровне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— Министерство РФ по делам гражданской обороны, чрезвычайным ситуациям и ликвидации последствий стихийных бедствий, подразделений федеральных органов исполнительной власти для решения задач в области защиты населения и территорий от ЧС и Г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на межрегиональном уровне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— территориальные органы МЧС, региональные центр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на территориальном уровне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— главные управления по делам ГО и ЧС по субъектам Российской Федерац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на местном уровне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— органы, специально уполномоченные на решение зада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на объектовом уровне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— структурные подразделения организац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http://www.mchs.gov.ru/img/blank.gif"/>
          <p:cNvPicPr/>
          <p:nvPr/>
        </p:nvPicPr>
        <p:blipFill>
          <a:blip r:embed="rId1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http://www.mchs.gov.ru/img/blank.gif"/>
          <p:cNvPicPr/>
          <p:nvPr/>
        </p:nvPicPr>
        <p:blipFill>
          <a:blip r:embed="rId2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ttp://www.mchs.gov.ru/img/blank.gif"/>
          <p:cNvPicPr/>
          <p:nvPr/>
        </p:nvPicPr>
        <p:blipFill>
          <a:blip r:embed="rId3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http://www.mchs.gov.ru/img/blank.gif"/>
          <p:cNvPicPr/>
          <p:nvPr/>
        </p:nvPicPr>
        <p:blipFill>
          <a:blip r:embed="rId4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http://www.mchs.gov.ru/mchs/library/n1.jpg"/>
          <p:cNvPicPr/>
          <p:nvPr/>
        </p:nvPicPr>
        <p:blipFill>
          <a:blip r:embed="rId5"/>
          <a:stretch/>
        </p:blipFill>
        <p:spPr>
          <a:xfrm>
            <a:off x="428760" y="428760"/>
            <a:ext cx="8286480" cy="49165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1"/>
          <p:cNvSpPr/>
          <p:nvPr/>
        </p:nvSpPr>
        <p:spPr>
          <a:xfrm>
            <a:off x="357120" y="535788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казенное учрежде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ациональный центр управления в кризисных ситуациях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органом повседневного управления Единой государственной системы предупреждения и ликвидации чрезвычайных ситуаций (РСЧС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ttp://www.mchs.gov.ru/mchs/library/n11.jpg"/>
          <p:cNvPicPr/>
          <p:nvPr/>
        </p:nvPicPr>
        <p:blipFill>
          <a:blip r:embed="rId1"/>
          <a:stretch/>
        </p:blipFill>
        <p:spPr>
          <a:xfrm>
            <a:off x="1187280" y="981000"/>
            <a:ext cx="6624720" cy="468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www.mchs.gov.ru/mchs/library/n9.jpg"/>
          <p:cNvPicPr/>
          <p:nvPr/>
        </p:nvPicPr>
        <p:blipFill>
          <a:blip r:embed="rId2"/>
          <a:stretch/>
        </p:blipFill>
        <p:spPr>
          <a:xfrm>
            <a:off x="684360" y="981000"/>
            <a:ext cx="7632720" cy="470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www.mchs.gov.ru/mchs/library/n10.jpg"/>
          <p:cNvPicPr/>
          <p:nvPr/>
        </p:nvPicPr>
        <p:blipFill>
          <a:blip r:embed="rId3"/>
          <a:stretch/>
        </p:blipFill>
        <p:spPr>
          <a:xfrm>
            <a:off x="250920" y="692280"/>
            <a:ext cx="85327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675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Режимы функционирования РСЧ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4000" y="1484280"/>
            <a:ext cx="889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В зависимости от обстановки, масштаба прогнозируемой или возникшей ЧС решением соответствующих органов исполнительной власти субъектов РФ и местного самоуправления в пределах конкретной территории устанавливается один из режимов функциониров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режим повседневной деятельности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- при обычной производственно-промышленной, радиационной, химической, биологической (бактериологической), сейсмологической и гидрометеорологической обстановке, при отсутствии эпидем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режим повышенной готовности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- при ухудшении указанной обстановки, получении прогноза о возможности возникновения ЧС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режим ЧС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- при возникновении и во время ликвидации Ч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675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Силы и средства РСЧ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4" descr=""/>
          <p:cNvPicPr/>
          <p:nvPr/>
        </p:nvPicPr>
        <p:blipFill>
          <a:blip r:embed="rId1"/>
          <a:stretch/>
        </p:blipFill>
        <p:spPr>
          <a:xfrm>
            <a:off x="353880" y="1616040"/>
            <a:ext cx="863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675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илы и средства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наблюдения и 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omic Sans MS"/>
              </a:rPr>
              <a:t>включают органы, службы и учреждения, которые осуществляют государственный надзор, инспектирование, мониторинг, контроль, анализ состояния природной среды, хода природных процессов и явлений, потенциально опасных объектов, продуктов питания, веществ, материалов, здоровья людей и т.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882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илы и средства ликвидации ЧС</a:t>
            </a:r>
            <a:r>
              <a:rPr b="1" lang="ru-RU" sz="40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7640" y="1341360"/>
            <a:ext cx="8891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учреждения и формирования Всероссийской службы медицины катастро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формирования службы защиты животных и растений Минсельхозпрода Ро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военизированные противоградовые и противолавинные службы Росгидроме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территориальные аварийно-спасательные формирования Государственной инспекции по маломерным судам Минприроды Ро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военизированные и невоенизированные противопожарные, аварийно-спасательные, восстановительные и аварийно-технические формирования федеральных органов исполнительной вла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640" y="620640"/>
            <a:ext cx="9001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илы и средства ликвидации ЧС</a:t>
            </a:r>
            <a:r>
              <a:rPr b="1" lang="ru-RU" sz="4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1557000"/>
            <a:ext cx="86421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соединения (части) войск ГО и подразделения поисково-спасательной службы МЧС Ро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соединения (части) радиационной, химической и биологической зашиты и инженерных войск Минобороны Ро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аварийно-технические центры, специализированные отряды атомных электростанций Минатома Ро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территориальные и объектовые нештатные аварийно-спасательные и аварийно-восстановительные формир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отряды и специалисты-добровольцы общественных объедин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чебные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20560" indent="-4572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СЧС, ее предназначение и задач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20560" indent="-4572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СЧ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20560" indent="-4572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и средства РСЧ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14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 u="sng">
                <a:solidFill>
                  <a:srgbClr val="0070c0"/>
                </a:solidFill>
                <a:uFillTx/>
                <a:latin typeface="Calibri"/>
              </a:rPr>
              <a:t>Используемые интернет-ресурсы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rspas.ru/mchs/spravochnik/2/ou.ph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ru.wikipedia.org/wiki/%D0%D1%D7%D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mchs.gov.ru/ministry/?SECTION_ID=234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74.mchs.gov.r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mchs.gov.ru/rc/about/index.php?rc_id=ur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usinesspravo.ru/Docum/DocumShow_DocumID_40671.html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764640"/>
            <a:ext cx="8229600" cy="31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ротяжении всей истории человечество подвергается воздействию стихийных бедствий, аварий и катастроф, которые уносят тысячи жизней, причиняют колоссальный экономический ущерб, за короткое время разрушают все, что создавалось годами, десятилетиями и даже ве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539640" y="4000680"/>
            <a:ext cx="3564000" cy="2668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3highres_00000402627576"/>
          <p:cNvPicPr/>
          <p:nvPr/>
        </p:nvPicPr>
        <p:blipFill>
          <a:blip r:embed="rId2"/>
          <a:stretch/>
        </p:blipFill>
        <p:spPr>
          <a:xfrm>
            <a:off x="4427640" y="4005360"/>
            <a:ext cx="4279680" cy="2663640"/>
          </a:xfrm>
          <a:prstGeom prst="rect">
            <a:avLst/>
          </a:prstGeom>
          <a:ln w="0">
            <a:noFill/>
          </a:ln>
        </p:spPr>
      </p:pic>
      <p:sp>
        <p:nvSpPr>
          <p:cNvPr id="46" name="Стрелка вправо 5"/>
          <p:cNvSpPr/>
          <p:nvPr/>
        </p:nvSpPr>
        <p:spPr>
          <a:xfrm>
            <a:off x="8101080" y="32846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68360" y="765000"/>
            <a:ext cx="446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 начала 90-х годов ХХ века устранение последствий крупных аварий и катастроф поручалось, как правило, силам гражданской обороны (ГО), ориентированным на чрезвычайные ситуации (ЧС) и защиту населения в военное время, в частности, от оружия массового пораже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libertatea.ro/typo3temp/pics/reactor_01_89fe1f662a.jpg"/>
          <p:cNvPicPr/>
          <p:nvPr/>
        </p:nvPicPr>
        <p:blipFill>
          <a:blip r:embed="rId1"/>
          <a:stretch/>
        </p:blipFill>
        <p:spPr>
          <a:xfrm>
            <a:off x="5076720" y="1125360"/>
            <a:ext cx="384984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427280" y="576000"/>
            <a:ext cx="46083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вария на Чернобыльской АЭС, землетрясение в Армении, печально известная авария на газопроводе в Башкортостане, взрыв в Арзамасе, увеличение числа железнодорожных и авиационных катастроф, показали, что на фоне мирной обстановки боевыми выглядели потер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libertatea.ro/typo3temp/pics/reactor_01_89fe1f662a.jpg"/>
          <p:cNvPicPr/>
          <p:nvPr/>
        </p:nvPicPr>
        <p:blipFill>
          <a:blip r:embed="rId1"/>
          <a:stretch/>
        </p:blipFill>
        <p:spPr>
          <a:xfrm>
            <a:off x="179280" y="981000"/>
            <a:ext cx="403236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3573000"/>
            <a:ext cx="55432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учетом этого Правительство Российской Федерации своим Постановлением от 27 декабря 1990 г. образует Российский корпус спасателей, в последствии МЧС РФ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mchs.gov.ru/img/blank.gif"/>
          <p:cNvPicPr/>
          <p:nvPr/>
        </p:nvPicPr>
        <p:blipFill>
          <a:blip r:embed="rId1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mchs.gov.ru/img/blank.gif"/>
          <p:cNvPicPr/>
          <p:nvPr/>
        </p:nvPicPr>
        <p:blipFill>
          <a:blip r:embed="rId2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/images/object_57.1132919646.82563.jpg"/>
          <p:cNvPicPr/>
          <p:nvPr/>
        </p:nvPicPr>
        <p:blipFill>
          <a:blip r:embed="rId3"/>
          <a:stretch/>
        </p:blipFill>
        <p:spPr>
          <a:xfrm>
            <a:off x="5796000" y="981000"/>
            <a:ext cx="2782800" cy="518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www.mchs.gov.ru/images/object_30.1132597465.30538.jpg"/>
          <p:cNvPicPr/>
          <p:nvPr/>
        </p:nvPicPr>
        <p:blipFill>
          <a:blip r:embed="rId4"/>
          <a:stretch/>
        </p:blipFill>
        <p:spPr>
          <a:xfrm>
            <a:off x="1835280" y="620640"/>
            <a:ext cx="2104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351080" y="620640"/>
            <a:ext cx="5884920" cy="616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763640" y="665280"/>
            <a:ext cx="5184720" cy="619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1380960" y="620640"/>
            <a:ext cx="5712120" cy="6237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971640" y="692280"/>
            <a:ext cx="6480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сновные задачи РСЧС</a:t>
            </a:r>
            <a:r>
              <a:rPr b="1" lang="ru-RU" sz="44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разработка и реализация правовых и экономических норм по обеспечению защиты населения и территорий от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осуществление целевых и научно-технических программ, направленных на предупреждение ЧС и обеспечение устойчивости функционирования предприятий, учреждений и организаций в таких ситуац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обеспечение готовности к действиям органов управления, сил и средств, предназначенных для предупреждения и ликвидации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сбор, обработка, обмен и выдача информации в области защиты населения и территорий от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сновные задачи РСЧС</a:t>
            </a:r>
            <a:r>
              <a:rPr b="1" lang="ru-RU" sz="4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подготовка населения к действиям при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осуществление государственной экспертизы, надзора и контроля в сфере защиты населения и территорий от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ликвидация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осуществление мер по социальной защите населения, пострадавшего от ЧС, проведение гуманитарных акц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реализация прав и обязанностей граждан в области защиты от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международное сотрудничество в области защиты населения и территорий от Ч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6:38:09Z</dcterms:created>
  <dc:creator>XTreme</dc:creator>
  <dc:description/>
  <dc:language>en-US</dc:language>
  <cp:lastModifiedBy>Дима</cp:lastModifiedBy>
  <dcterms:modified xsi:type="dcterms:W3CDTF">2022-09-02T13:03:47Z</dcterms:modified>
  <cp:revision>69</cp:revision>
  <dc:subject/>
  <dc:title>ГРАЖДАНСКАЯ ОБОРОНА КАК СИСТЕМА МЕР  ПО ЗАЩИТЕ НАСЕЛЕНИЯ В ВОЕННОЕ ВРЕМЯ</dc:title>
</cp:coreProperties>
</file>