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jpeg" ContentType="image/jpeg"/>
  <Override PartName="/ppt/media/image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1.jpeg" ContentType="image/jpeg"/>
  <Override PartName="/ppt/media/image10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AA67-2E64-4C36-AC28-520BF4E5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2E55-BBDE-4A68-B028-9E9138069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14FB-C8E1-412F-AAD3-4B0A6910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04F04-0CE6-473F-B0AB-C10CCF205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8B76E-78C0-4A3B-AB4A-84B6E79D2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E403-A117-4B4B-BCD9-FF7269BD6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EF156-05E2-4A4E-926B-4A72270F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BF7C-9203-4BBF-9A65-D6C14696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DB54-A3A4-419C-A726-E4887FFBA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6169-1759-4230-B09F-BA54DF5F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9453-371B-4C15-A96F-10336B1AB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CAC9-95A1-4636-81E6-984116CCD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8EAEA-A6CF-42DA-AA9A-F8F38DB5F92B}" type="slidenum">
              <a:rPr b="0" lang="ru-RU" sz="12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333000"/>
            <a:ext cx="8642160" cy="30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Comic Sans MS"/>
              </a:rPr>
              <a:t>Единая государственная система предупреждения и ликвидации чрезвычайных ситуаций (РСЧС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677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Организационная структура РСЧ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250920" y="1773000"/>
            <a:ext cx="8642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РСЧС состоит из территориальных и функциональных подсистем и имеет пять уровней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федеральный, охватывающий всю территорию Р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региональный, территорию нескольких субъектов Р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территориальный, территорию субъектов Р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местный, территорию района (города, населенного пункт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бъектовый, территорию объекта производственного или социального назначе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5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Органы управления системы РСЧ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1557000"/>
            <a:ext cx="9144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omic Sans MS"/>
              </a:rPr>
              <a:t>Координирующие орган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федеральн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Межведомственная комиссия по предупреждению и ликвидации ЧС и ведомственные комиссии по ЧС в федеральных органах исполнительной вла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региональн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комиссии не создаютс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территориальн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комиссии по ЧС органов исполнительной власти субъектов Российской Федерац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местн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комиссии по ЧС органов местного самоуправле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70c0"/>
                </a:solidFill>
                <a:uFillTx/>
                <a:latin typeface="Comic Sans MS"/>
              </a:rPr>
              <a:t>на объектовом уровне </a:t>
            </a:r>
            <a:r>
              <a:rPr b="0" lang="ru-RU" sz="2400" spc="-1" strike="noStrike">
                <a:solidFill>
                  <a:srgbClr val="0070c0"/>
                </a:solidFill>
                <a:latin typeface="Comic Sans MS"/>
              </a:rPr>
              <a:t>— объектовые комиссии по чрезвычайным ситуация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nodeType="clickEffect" fill="hold">
                      <p:stCondLst>
                        <p:cond delay="0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6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8" dur="80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Органы управления системы РСЧ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0" y="1483920"/>
            <a:ext cx="91440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70c0"/>
                </a:solidFill>
                <a:latin typeface="Comic Sans MS"/>
              </a:rPr>
              <a:t>Постоянно действующие органы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федеральн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Министерство РФ по делам гражданской обороны, чрезвычайным ситуациям и ликвидации последствий стихийных бедствий, подразделений федеральных органов исполнительной власти для решения задач в области защиты населения и территорий от ЧС и ГО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межрегиональн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территориальные органы МЧС, региональные центры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территориальн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главные управления по делам ГО и ЧС по субъектам Российской Федерации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местн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органы, специально уполномоченные на решение задач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на объектовом уровне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— структурные подразделения организаций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0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8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9" dur="80"/>
                                        <p:tgtEl>
                                          <p:spTgt spid="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http://www.mchs.gov.ru/img/blank.gif"/>
          <p:cNvPicPr/>
          <p:nvPr/>
        </p:nvPicPr>
        <p:blipFill>
          <a:blip r:embed="rId1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http://www.mchs.gov.ru/img/blank.gif"/>
          <p:cNvPicPr/>
          <p:nvPr/>
        </p:nvPicPr>
        <p:blipFill>
          <a:blip r:embed="rId2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http://www.mchs.gov.ru/img/blank.gif"/>
          <p:cNvPicPr/>
          <p:nvPr/>
        </p:nvPicPr>
        <p:blipFill>
          <a:blip r:embed="rId3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http://www.mchs.gov.ru/img/blank.gif"/>
          <p:cNvPicPr/>
          <p:nvPr/>
        </p:nvPicPr>
        <p:blipFill>
          <a:blip r:embed="rId4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7" descr="http://www.mchs.gov.ru/mchs/library/n1.jpg"/>
          <p:cNvPicPr/>
          <p:nvPr/>
        </p:nvPicPr>
        <p:blipFill>
          <a:blip r:embed="rId5"/>
          <a:stretch/>
        </p:blipFill>
        <p:spPr>
          <a:xfrm>
            <a:off x="428760" y="428760"/>
            <a:ext cx="8286480" cy="491652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1"/>
          <p:cNvSpPr/>
          <p:nvPr/>
        </p:nvSpPr>
        <p:spPr>
          <a:xfrm>
            <a:off x="357120" y="5357880"/>
            <a:ext cx="771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ое казенное учреждени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Национальный центр управления в кризисных ситуациях»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вляется органом повседневного управления Единой государственной системы предупреждения и ликвидации чрезвычайных ситуаций (РСЧС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nodeType="clickEffect" fill="hold">
                      <p:stCondLst>
                        <p:cond delay="0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ttp://www.mchs.gov.ru/mchs/library/n11.jpg"/>
          <p:cNvPicPr/>
          <p:nvPr/>
        </p:nvPicPr>
        <p:blipFill>
          <a:blip r:embed="rId1"/>
          <a:stretch/>
        </p:blipFill>
        <p:spPr>
          <a:xfrm>
            <a:off x="1187280" y="981000"/>
            <a:ext cx="6624720" cy="4680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http://www.mchs.gov.ru/mchs/library/n9.jpg"/>
          <p:cNvPicPr/>
          <p:nvPr/>
        </p:nvPicPr>
        <p:blipFill>
          <a:blip r:embed="rId2"/>
          <a:stretch/>
        </p:blipFill>
        <p:spPr>
          <a:xfrm>
            <a:off x="684360" y="981000"/>
            <a:ext cx="7632720" cy="47055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mchs.gov.ru/mchs/library/n10.jpg"/>
          <p:cNvPicPr/>
          <p:nvPr/>
        </p:nvPicPr>
        <p:blipFill>
          <a:blip r:embed="rId3"/>
          <a:stretch/>
        </p:blipFill>
        <p:spPr>
          <a:xfrm>
            <a:off x="250920" y="692280"/>
            <a:ext cx="853272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0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675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Comic Sans MS"/>
              </a:rPr>
              <a:t>Режимы функционирования РСЧ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44000" y="1484280"/>
            <a:ext cx="8891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mic Sans MS"/>
              </a:rPr>
              <a:t>В зависимости от обстановки, масштаба прогнозируемой или возникшей ЧС решением соответствующих органов исполнительной власти субъектов РФ и местного самоуправления в пределах конкретной территории устанавливается один из режимов функциониров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режим повседневной деятельности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- при обычной производственно-промышленной, радиационной, химической, биологической (бактериологической), сейсмологической и гидрометеорологической обстановке, при отсутствии эпидемий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режим повышенной готовности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- при ухудшении указанной обстановки, получении прогноза о возможности возникновения ЧС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50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70c0"/>
                </a:solidFill>
                <a:uFillTx/>
                <a:latin typeface="Comic Sans MS"/>
              </a:rPr>
              <a:t>режим ЧС </a:t>
            </a:r>
            <a:r>
              <a:rPr b="0" lang="ru-RU" sz="2200" spc="-1" strike="noStrike">
                <a:solidFill>
                  <a:srgbClr val="0070c0"/>
                </a:solidFill>
                <a:latin typeface="Comic Sans MS"/>
              </a:rPr>
              <a:t>- при возникновении и во время ликвидации ЧС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nodeType="clickEffect" fill="hold">
                      <p:stCondLst>
                        <p:cond delay="0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620280"/>
            <a:ext cx="86756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 u="sng">
                <a:solidFill>
                  <a:srgbClr val="ff0000"/>
                </a:solidFill>
                <a:uFillTx/>
                <a:latin typeface="Comic Sans MS"/>
              </a:rPr>
              <a:t>Силы и средства РСЧ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Содержимое 4" descr=""/>
          <p:cNvPicPr/>
          <p:nvPr/>
        </p:nvPicPr>
        <p:blipFill>
          <a:blip r:embed="rId1"/>
          <a:stretch/>
        </p:blipFill>
        <p:spPr>
          <a:xfrm>
            <a:off x="353880" y="1616040"/>
            <a:ext cx="863784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nodeType="clickEffect" fill="hold">
                      <p:stCondLst>
                        <p:cond delay="0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5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0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3640" y="620640"/>
            <a:ext cx="86756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илы и средства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наблюдения и 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70c0"/>
                </a:solidFill>
                <a:latin typeface="Comic Sans MS"/>
              </a:rPr>
              <a:t>включают органы, службы и учреждения, которые осуществляют государственный надзор, инспектирование, мониторинг, контроль, анализ состояния природной среды, хода природных процессов и явлений, потенциально опасных объектов, продуктов питания, веществ, материалов, здоровья людей и т. д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nodeType="clickEffect" fill="hold">
                      <p:stCondLst>
                        <p:cond delay="0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7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9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8920" y="620280"/>
            <a:ext cx="8820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илы и средства ликвидации ЧС</a:t>
            </a:r>
            <a:r>
              <a:rPr b="1" lang="ru-RU" sz="40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07640" y="1341360"/>
            <a:ext cx="889164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учреждения и формирования Всероссийской службы медицины катастроф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формирования службы защиты животных и растений Минсельхозпрода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военизированные противоградовые и противолавинные службы Росгидромет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территориальные аварийно-спасательные формирования Государственной инспекции по маломерным судам Минприроды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военизированные и невоенизированные противопожарные, аварийно-спасательные, восстановительные и аварийно-технические формирования федеральных органов исполнительной власт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nodeType="clickEffect" fill="hold">
                      <p:stCondLst>
                        <p:cond delay="0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5" dur="80"/>
                                        <p:tgtEl>
                                          <p:spTgt spid="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10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10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nodeType="clickEffect" fill="hold">
                      <p:stCondLst>
                        <p:cond delay="indefinite"/>
                      </p:stCondLst>
                      <p:childTnLst>
                        <p:par>
                          <p:cTn id="5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1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1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7640" y="620640"/>
            <a:ext cx="9001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Comic Sans MS"/>
              </a:rPr>
              <a:t>Силы и средства ликвидации ЧС</a:t>
            </a:r>
            <a:r>
              <a:rPr b="1" lang="ru-RU" sz="4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920" y="1557000"/>
            <a:ext cx="864216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соединения (части) войск ГО и подразделения поисково-спасательной службы МЧС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соединения (части) радиационной, химической и биологической зашиты и инженерных войск Минобороны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аварийно-технические центры, специализированные отряды атомных электростанций Минатома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территориальные и объектовые нештатные аварийно-спасательные и аварийно-восстановительные формировани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omic Sans MS"/>
              </a:rPr>
              <a:t>отряды и специалисты-добровольцы общественных объединен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nodeType="clickEffect" fill="hold">
                      <p:stCondLst>
                        <p:cond delay="0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9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nodeType="clickEffect" fill="hold">
                      <p:stCondLst>
                        <p:cond delay="indefinite"/>
                      </p:stCondLst>
                      <p:childTnLst>
                        <p:par>
                          <p:cTn id="5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457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Учебные вопросы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СЧС, ее предназначение и задач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 РСЧ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520560" indent="-457200" algn="ctr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ы и средства РСЧС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314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 u="sng">
                <a:solidFill>
                  <a:srgbClr val="0070c0"/>
                </a:solidFill>
                <a:uFillTx/>
                <a:latin typeface="Calibri"/>
              </a:rPr>
              <a:t>Используемые интернет-ресурсы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arspas.ru/mchs/spravochnik/2/ou.ph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ru.wikipedia.org/wiki/%D0%D1%D7%D1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chs.gov.ru/ministry/?SECTION_ID=2340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74.mchs.gov.ru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mchs.gov.ru/rc/about/index.php?rc_id=ura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tp://www.businesspravo.ru/Docum/DocumShow_DocumID_40671.html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468360" y="764640"/>
            <a:ext cx="8229600" cy="319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протяжении всей истории человечество подвергается воздействию стихийных бедствий, аварий и катастроф, которые уносят тысячи жизней, причиняют колоссальный экономический ущерб, за короткое время разрушают все, что создавалось годами, десятилетиями и даже векам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539640" y="4000680"/>
            <a:ext cx="3564000" cy="2668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3highres_00000402627576"/>
          <p:cNvPicPr/>
          <p:nvPr/>
        </p:nvPicPr>
        <p:blipFill>
          <a:blip r:embed="rId2"/>
          <a:stretch/>
        </p:blipFill>
        <p:spPr>
          <a:xfrm>
            <a:off x="4427640" y="4005360"/>
            <a:ext cx="4279680" cy="2663640"/>
          </a:xfrm>
          <a:prstGeom prst="rect">
            <a:avLst/>
          </a:prstGeom>
          <a:ln w="0">
            <a:noFill/>
          </a:ln>
        </p:spPr>
      </p:pic>
      <p:sp>
        <p:nvSpPr>
          <p:cNvPr id="46" name="Стрелка вправо 5"/>
          <p:cNvSpPr/>
          <p:nvPr/>
        </p:nvSpPr>
        <p:spPr>
          <a:xfrm>
            <a:off x="8101080" y="32846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68360" y="765000"/>
            <a:ext cx="44640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До начала 90-х годов ХХ века устранение последствий крупных аварий и катастроф поручалось, как правило, силам гражданской обороны (ГО), ориентированным на чрезвычайные ситуации (ЧС) и защиту населения в военное время, в частности, от оружия массового поражения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http://www.libertatea.ro/typo3temp/pics/reactor_01_89fe1f662a.jpg"/>
          <p:cNvPicPr/>
          <p:nvPr/>
        </p:nvPicPr>
        <p:blipFill>
          <a:blip r:embed="rId1"/>
          <a:stretch/>
        </p:blipFill>
        <p:spPr>
          <a:xfrm>
            <a:off x="5076720" y="1125360"/>
            <a:ext cx="3849840" cy="49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6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427280" y="576000"/>
            <a:ext cx="4608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Авария на Чернобыльской АЭС, землетрясение в Армении, печально известная авария на газопроводе в Башкортостане, взрыв в Арзамасе, увеличение числа железнодорожных и авиационных катастроф, показали, что на фоне мирной обстановки боевыми выглядели потер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http://www.libertatea.ro/typo3temp/pics/reactor_01_89fe1f662a.jpg"/>
          <p:cNvPicPr/>
          <p:nvPr/>
        </p:nvPicPr>
        <p:blipFill>
          <a:blip r:embed="rId1"/>
          <a:stretch/>
        </p:blipFill>
        <p:spPr>
          <a:xfrm>
            <a:off x="179280" y="981000"/>
            <a:ext cx="4032360" cy="520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0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24000" y="3573000"/>
            <a:ext cx="55432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С учетом этого Правительство Российской Федерации своим Постановлением от 27 декабря 1990 г. образует Российский корпус спасателей, в последствии МЧС РФ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http://www.mchs.gov.ru/img/blank.gif"/>
          <p:cNvPicPr/>
          <p:nvPr/>
        </p:nvPicPr>
        <p:blipFill>
          <a:blip r:embed="rId1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http://www.mchs.gov.ru/img/blank.gif"/>
          <p:cNvPicPr/>
          <p:nvPr/>
        </p:nvPicPr>
        <p:blipFill>
          <a:blip r:embed="rId2"/>
          <a:stretch/>
        </p:blipFill>
        <p:spPr>
          <a:xfrm>
            <a:off x="173160" y="-13644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4" name="Рисунок 7" descr="/images/object_57.1132919646.82563.jpg"/>
          <p:cNvPicPr/>
          <p:nvPr/>
        </p:nvPicPr>
        <p:blipFill>
          <a:blip r:embed="rId3"/>
          <a:stretch/>
        </p:blipFill>
        <p:spPr>
          <a:xfrm>
            <a:off x="5796000" y="981000"/>
            <a:ext cx="2782800" cy="51847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http://www.mchs.gov.ru/images/object_30.1132597465.30538.jpg"/>
          <p:cNvPicPr/>
          <p:nvPr/>
        </p:nvPicPr>
        <p:blipFill>
          <a:blip r:embed="rId4"/>
          <a:stretch/>
        </p:blipFill>
        <p:spPr>
          <a:xfrm>
            <a:off x="1835280" y="620640"/>
            <a:ext cx="2104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9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351080" y="620640"/>
            <a:ext cx="5884920" cy="6166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763640" y="665280"/>
            <a:ext cx="5184720" cy="6192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1380960" y="620640"/>
            <a:ext cx="5712120" cy="623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4"/>
          <a:stretch/>
        </p:blipFill>
        <p:spPr>
          <a:xfrm>
            <a:off x="971640" y="692280"/>
            <a:ext cx="6480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0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новные задачи РСЧС</a:t>
            </a:r>
            <a:r>
              <a:rPr b="1" lang="ru-RU" sz="4400" spc="-1" strike="noStrike" baseline="30000">
                <a:solidFill>
                  <a:srgbClr val="ff0000"/>
                </a:solidFill>
                <a:latin typeface="Comic Sans MS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484280"/>
            <a:ext cx="822960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разработка и реализация правовых и экономических норм по обеспечению защиты населения и территорий от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существление целевых и научно-технических программ, направленных на предупреждение ЧС и обеспечение устойчивости функционирования предприятий, учреждений и организаций в таких ситуация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беспечение готовности к действиям органов управления, сил и средств, предназначенных для предупреждения и ликвидации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сбор, обработка, обмен и выдача информации в области защиты населения и территорий от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8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omic Sans MS"/>
              </a:rPr>
              <a:t>Основные задачи РСЧС</a:t>
            </a:r>
            <a:r>
              <a:rPr b="1" lang="ru-RU" sz="44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77300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подготовка населения к действиям при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существление государственной экспертизы, надзора и контроля в сфере защиты населения и территорий от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ликвидация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осуществление мер по социальной защите населения, пострадавшего от ЧС, проведение гуманитарных акц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реализация прав и обязанностей граждан в области защиты от ЧС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70c0"/>
                </a:solidFill>
                <a:latin typeface="Calibri"/>
              </a:rPr>
              <a:t>международное сотрудничество в области защиты населения и территорий от Ч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22,-128,67)"/>
                                          </p:val>
                                        </p:tav>
                                        <p:tav tm="50000">
                                          <p:val>
                                            <p:strVal val="rgb(-67,-81,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4T16:38:09Z</dcterms:created>
  <dc:creator>XTreme</dc:creator>
  <dc:description/>
  <dc:language>en-US</dc:language>
  <cp:lastModifiedBy>Дима</cp:lastModifiedBy>
  <dcterms:modified xsi:type="dcterms:W3CDTF">2022-09-02T13:03:47Z</dcterms:modified>
  <cp:revision>69</cp:revision>
  <dc:subject/>
  <dc:title>ГРАЖДАНСКАЯ ОБОРОНА КАК СИСТЕМА МЕР  ПО ЗАЩИТЕ НАСЕЛЕНИЯ В ВОЕННОЕ ВРЕМЯ</dc:title>
</cp:coreProperties>
</file>