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B159D-3685-4F18-AE88-5FD2ED741D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35FAE-DD30-4CC2-92DD-DC5F274BCB4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B9AB2-F296-4570-AA10-B30C6831C48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2BC-B834-430E-BE72-64A0FDD0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39F-CF29-4AF2-AC32-B1B1357E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68F5B-9F6D-4B89-B8C7-25513FFC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BA12F-E7F7-4E06-BA80-BD3B78F4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87BA9-A971-4C82-8DE8-0E108911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DE00C-96A4-453E-B046-A63A69C0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156BF-8497-462C-B2E2-76C22D82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25578-0042-4A92-B4A7-36878C2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4ED5F-6C3C-493D-A38E-C911A8BD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5C480-BC6E-4703-81FE-759C55C3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DCD3D-FA11-4824-8B2D-0E8AF6E1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36B9C-C159-4257-A8CF-40E297CE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87E-CA06-4DF8-8B96-642FC2EB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B6EFB-55EC-46CE-9B76-E50C8E6F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DC629-2A9C-4E11-8225-FF18EFD2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2E176-44CE-4967-A377-266FBC2D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62E8C-4B0F-4BDD-BE10-DF665C1F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2B7F4-F23C-4A9B-9362-BD901A66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0A45B-E525-49BC-8146-C696DE41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ACDC3-E800-43CB-982E-A611326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3D044-3875-40E2-AFCA-95CB39ED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642DE-739F-4EF3-BBD0-CD90914C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69CA8-853A-482D-A45D-D5766629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473-CDA0-4B5F-B4AB-60E847FA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20CC5-D2F0-4EE3-BE7F-B1EE0B70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3E41D-C5F0-4DB8-8498-0594C786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7F303-856D-487B-9C0D-AC8AA55B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4E4F7-4320-4EEE-904E-671013DF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B65B0-A627-4BE8-A4CC-2948F7CC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C4FD4-1030-4B65-B7B1-1D0094BD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452B2-8F3A-4145-B877-B1DA229E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737A5-3BED-4D71-8750-B86596B2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EE334-2EC3-4C64-91DA-F0E389AB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CBEE0-AA14-4D37-8212-843D9D6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DBD2-39AC-4A6D-8241-69710956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7C534-C906-4FA7-9020-DAB68073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65049-5FAC-4392-99E3-CB6058D9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CA98C-BC09-4B0C-A621-81C9EBEA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A2E78-5822-4F72-B6F3-E3644C0A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DE3C0-61EF-4DCF-8DD8-36BD46CF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5DEC2-7FED-4287-879A-92D0CBAD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9821F-A56A-49A9-BA4F-4809A27F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FF6DF-31FB-443F-8E57-48D35BF7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ACAEE-4739-4278-884D-84D87DD8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61C29-E9EF-4DF1-9D9F-CE877610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D5A6-0D6B-4340-9DCE-500BC497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28D37-BA6E-43BA-ACC7-52A18502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A367C-A7D5-4480-B1AD-24D13428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7BD8E-AA2D-4741-B4D3-A2AC542D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1832F-1DEC-426F-8BBB-313E633E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F697C-FE32-43FB-ADC2-630DA99D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15F4F-7991-4594-885B-82F6C9FB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AA9D1-3EFE-44D0-8479-4CE299D7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D119C-030C-4CE3-8075-DD88EBF8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8FFC9-DA81-41F0-AB9B-7936A52D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04E8C-FB5F-48A5-B16E-AD8E5E22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8486-5C92-4B6D-8A6E-B5C00115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1C5BB-7F0C-4002-AAD7-CE02CFEA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10274-156D-42E4-9E16-4730CA8D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7E846-DA53-4C20-A0BF-15BA4987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4AEED-7CF7-4F13-BB2B-DEEA4B39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62159-6748-49EE-830F-5BC05F85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EFDBA-C56B-433C-AB6F-07FE6780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62BC2-30F0-4D33-9AC6-30EF823B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B881F-2E22-4867-A973-EEDDD558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A4ED1-7A66-4C4D-9DB9-5769B64F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0513B-F19C-4239-A027-B832C74E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4ABC-2F08-4E57-8E86-F1F40700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97BFD-3515-47D6-8853-E03FA492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A2ABC-E21B-45DB-8EA4-F7B90727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569C2-8271-479C-964D-B37607A8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F7750-0909-4E1A-BB86-AB0982DE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5A4A1-341D-4EDE-B868-12C08A7F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9DEB1-F598-4166-847C-B264071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765D3-76CF-48B1-B7CC-4FBEDA2F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51E7D-EB1F-41E8-970B-E224ECE1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3BA1F-CA89-4D52-B4DC-253B43F1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BC263-C1E8-4C44-9858-C4EF3CA0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CECC-0CC8-4CA5-A19C-45F2D54E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C728E-8280-4BF3-A06F-E4956261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D23ED-4667-4BD9-8B68-CFC94318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20E39-C5E1-4399-A2B3-6522B48E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CE97A-445C-4BCA-BF24-1FFBE04F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BC4CC-1CF6-40D1-8DFD-D0B55140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B420F-EF7F-46CF-A11C-D2A04F2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4A57F-A516-4C2B-9C2B-68357EAD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B85F0A-7D51-48A9-9E02-13DAA1A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E90EC-8A49-4D47-ACDA-51C5DF0A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61C0E-E110-4870-BE3E-8A5214DF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CC4A-54AC-41FF-B43D-968E549E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7316C-9C27-41F4-A118-2EF211A5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8B949-017B-4D0B-84A9-372A6E73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CA70D-7E8A-434A-874C-BE67599F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ABAC2-3CA5-478E-99E2-5756F391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F087E-1F3A-4BF6-8ED3-A91BC6F5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F853B-54F9-4DFB-AFB4-2E40581F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7552A-6F65-4B72-A6B5-BAD23CFB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86764-3F80-4375-8873-BB48454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B0299-19F9-4A8B-B58D-99150FD2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0290F-250B-44D1-919C-33869796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DD79-8C86-4969-8227-330CAF7C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155B8-52CF-45AE-B0FF-20DFF69D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E0207-42FD-40DC-84A1-B1866ABC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33A20-2635-4F24-8022-4BCEF984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F1021D-656C-482F-9EC8-6DB23EE7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22061-B26D-40C6-95BC-B29632E4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3732E-629F-43B2-8E97-79979B29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AAC4D-FDBD-4EBF-A3E2-471B8FAE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CF99CC-11B4-4905-BD08-3A435DF1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AAF79-2F46-4900-9DC3-D21AE252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C8489B-E4AA-4509-940E-27DDE0E0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79C-D7BA-4A42-85E7-E0E91A34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C6C3-6D69-417C-9585-8E753A9D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6093E-C6D4-44F2-9151-DCC5891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B0448-A55B-4879-BB39-781061FA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FE6D0-3598-4916-A530-B5863CFB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D2279-4C88-40BB-8228-AB542CA9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50F91-1B88-4887-B238-CC0E84F7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3527-F60A-4F47-89DB-75FC64F8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21A4-B279-417D-9D17-08B585F0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106E-1CCC-49F5-83A5-6DDD4E29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BA75-CA73-4692-B99A-1B4AC877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251B-85BF-434B-8F7C-16E30461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7CE65-11D8-4239-8678-99B26261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1693-3129-4EFA-8FAD-9B93902F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07C1-E9F5-4039-9241-A158EFC7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0AF15-2BE0-4A9C-9E68-3FDD3146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7A7-357D-4550-8A03-924B411E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D912-20CC-4E5E-8472-9C5D5981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D375-4DD7-4452-827A-2363591E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D18D-CC86-4435-B99C-BB3ACA7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ED035-2449-4C2B-99F3-E95CA353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BF0E-620C-4747-A730-C7358C0B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49C6-3415-4950-9228-9310F7A0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7659-314C-4399-9716-8DA825AE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5F95-8311-4F29-88F0-400ABDA5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DD0E-9629-40BE-929A-DDCCE902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25BFD-D78B-4488-9917-E6F94CFA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FC3-ECD5-4996-9D55-578BF122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1F1F2-182E-4937-9799-76B33936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4ED0B-BBE7-4152-AD0B-0ABF2E80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75FFD-1E3D-4689-8D19-8A1520C8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FD50-A4DB-434F-A963-27AE70DB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CCE26-D1E6-4003-AF85-68A994C1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A618-54F2-49A9-AC1B-F0D801BD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91F60-F898-4745-BACF-8B33F92C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2F23-66B5-4AAE-AF5D-728B0E0A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09DA8-2435-4D5A-AB35-73DA2CF8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26F1F-2857-4561-A716-068E7E40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9BF-9B6B-4CEB-9224-F7C08DFF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F493-1563-43D6-B4BC-B50DCBCA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4637-DF61-4F4A-B38F-46F5FB37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6033-4A8F-4CBF-80B2-8C22D983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052B4-4904-45C7-814D-8BB9591E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7BD0-F70B-40A1-ACAD-B40D9ABE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834C9-C2DA-46B2-AF1F-8729AD78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258F-973C-436F-BEBD-488A8A60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58FA8-CDA7-4054-9D97-9FC32E5F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0EA9B-0B19-406D-AC13-7D583901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2F83-658E-4770-921F-C2B6AADF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F42-7A77-4A3F-82D8-5F2694B2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9967D-D859-47EE-BDA7-CE861011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A3A2F-05D1-4E21-8E36-DA063791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48E7E-4B27-4569-BA7D-272EF38A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EFD76-BC6D-4E01-9B1F-BB80AF75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54CE5-18A9-4F54-BCAA-2C988F8E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04784-9FA5-4768-B83B-D0B0E4C8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3C872-D6F6-44E8-B1A8-7D65DB09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8B05D-0A44-4DAB-B75D-DC8C44A9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8867B-9E27-4B5B-BAA5-39BF0075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A3EA-AC7F-416A-833B-482770FE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A1C-3B4D-485A-AC05-C674344C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932FE-990D-40D9-B7D8-7762589D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6A9C1-4041-4CE6-8B3D-6875E8D9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25E31-45A3-4EFF-801B-20FD6D3C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888BF-68FB-4C13-BDE9-7B090970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4BF3A-F44A-4FC4-B997-BD4AEB39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2BF88-B463-4888-A737-6E13EE28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FF36F-08CF-457A-B3A4-588945D6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C1C03-3B94-4115-9E21-15F56E85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7CAAD-E3FC-42E2-AAF8-553341A6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C4712-9421-4F25-B30A-C1DF07A3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15D-90D6-4674-8C2D-56B68E89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90A80-B3E2-4D04-A190-7E7021EB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533D-8162-430F-8EEC-B6057932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25F4F-09C9-4D11-941F-27F8088F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CFC11-9CCB-43B4-BDC9-552DAFE6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0095C-61B8-4EBF-A840-F69187F0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F2033-2024-48DD-B621-43F22FE7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9C41B-E0F3-4028-8675-E97A388A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BABF-9694-46CB-836F-77ED2775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EB6F6-5812-4689-AB1D-5C3AB412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1A9DA-B52B-441A-AD44-ACD4CCB7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E92-138F-49D9-A66F-6E05494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19C6F-9477-479A-869C-D7D13DE2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9EC6D-4653-49EC-8629-8AA50F14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FE51B-0AA6-40AA-9E50-41A29A98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9F0D8-BDE3-4F2F-89A1-7ED958AF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41FB6-AEC2-48CE-8E67-8D294015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A05AA-2C24-4821-856B-A9C51C34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26529-0928-4E1B-B55D-8BCC4622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3B17A-24B0-4307-A156-FF31F15E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A4D7C-453B-44FE-B8CC-50F9DCFF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1E8D8-56A9-4D93-9E34-029BDDDD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A82B0-EDAF-4BC0-AC13-4EA2AABF5BB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BBA31-37EF-4EF8-8E16-A7FE88AC230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C2AD4-233A-4998-9A60-EB9F72635E5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F8E0F-791E-4572-9988-942DA88E83C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2CBEE-1254-42F7-AB92-DD0A8F1DF25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DDACA-8B99-4EFC-BD07-BF5587F5942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B7268-0583-407F-8985-E3066416122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A1DAD-2B8B-4EF7-B068-1E1B5EFCB38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43B5D-C6CE-4EDC-9BD7-03C773500B7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A4494-15C3-49B1-A80F-0FACF6492C1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1CCC4-B360-4D1D-B2E6-084F265A0CE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B0B81-730F-4F36-891D-38F57EAB25A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20086-9BB1-4D89-9D8D-FC611FBFBC8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2967F-CBAE-4319-BBAE-F727B8D4A51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7C81C-1D13-4CF2-853B-50F5E922DC3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740FB-AC92-4FBC-B64F-0D7B7515C25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8A40C-6E9C-4FC9-BB00-2FA53261D01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AE3F1-03E9-45CA-B71C-5D046A36C24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8FFC8-BCB8-4B5D-8C19-A4D3332134F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78DC8-10A7-40BF-B428-1C3EB66E040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D4E95-73D4-4CFC-AFD1-A03CF392327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F1DB6-5E89-4DD1-848A-EF197C042E5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E1E7A-CC0C-4252-AA5D-C4DD3D15FAE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BAB37-7FA3-4FB8-ACF2-6A6E47CE9E4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F2ABB-40C0-4A04-934F-AA34999DC09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C5B89-AEBF-4AB1-8312-B9303AA770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256DD-E482-4BB0-9F92-8E3F43757C9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C70D9-29F4-453A-A8CC-F8EB337AB33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7C22E-CF03-44C1-9BC1-613660751E6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58297-4A28-4727-AB71-F29878A6DF2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2B738-034F-4421-A7E9-52F2B22EA11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7F888-9B95-4EFD-80CA-1FF2294EE03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D9C51-1212-408F-9383-58BC47FCECC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EFEC0-8F6B-456E-A8A4-BEF76D95BFA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00200" y="2015640"/>
            <a:ext cx="8677440" cy="22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1a1f0d"/>
                </a:solidFill>
                <a:latin typeface="Century Gothic"/>
              </a:rPr>
              <a:t>Modal verbs</a:t>
            </a:r>
            <a:br>
              <a:rPr sz="6000"/>
            </a:br>
            <a:r>
              <a:rPr b="1" lang="ru-RU" sz="6000" spc="-1" strike="noStrike">
                <a:solidFill>
                  <a:srgbClr val="1a1f0d"/>
                </a:solidFill>
                <a:latin typeface="Century Gothic"/>
              </a:rPr>
              <a:t>Модальные глаголы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490480" y="623520"/>
            <a:ext cx="793116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2490480" y="2006640"/>
            <a:ext cx="793116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you may/ No, you may no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watch TV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listen to music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sit dow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the cinema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taste this apple pi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play computer game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3" name="Номер слайда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8881E-31E1-4FD0-9173-76C74079D4BE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09560" y="623520"/>
            <a:ext cx="78562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509920" y="1689120"/>
            <a:ext cx="795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Put the sentence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into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negative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d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interrogative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for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 You have to wear a uniform at schoo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on’t 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wear a uniform at schoo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o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wear a uniform at school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ry has to wash dish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have to wake up early on Monday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y have to go to school on Saturda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om has to work at nigh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 have to be polit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We have to play the violin every da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6" name="Номер слайда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3E42F-45F5-47A8-89A3-1BAB70B65390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499840" y="623880"/>
            <a:ext cx="795996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2499840" y="1763280"/>
            <a:ext cx="79599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hoose the right varia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ob______wash the dishes after dinner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can    b) has to   c) m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om is 6 and he _____read very wel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can   b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ust  c) m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____I ask you a question, pleas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ust   b)can   c) m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y sister____go shopping twice a week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may   b) have to  c) has 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____visit you friend at the weekend if you lik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may   b) have to  c) mus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____get up at seven o’clock  on Sunda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can’t   b) mustn’t   c) don’t have 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404040"/>
                </a:solidFill>
                <a:latin typeface="Century Gothic"/>
              </a:rPr>
              <a:t>                                                       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Номер слайда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8A64F-8EE4-4229-A14D-5DE51959CC61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480760" y="560160"/>
            <a:ext cx="795996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пределение модальных глаголов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2481120" y="2006640"/>
            <a:ext cx="832824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Модальные глаголы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Модальные глаголы в английском языке отличаются от остальных глаголов тем, что они не используются самостоятельно и не обозначают конкретного действия или состояния, они отражают его модальность, то есть отношение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к нему говорящего : хочу, могу, должен. Также модальные глаголы выражают значение возможности, необходимости, вероятности, желательности и т.п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A4F17-59AA-405E-8DCA-F88E95AC4D0E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518920" y="550800"/>
            <a:ext cx="787572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писок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сновных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одальных глаголов в английском язык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8" name="Объект 6" descr=""/>
          <p:cNvPicPr/>
          <p:nvPr/>
        </p:nvPicPr>
        <p:blipFill>
          <a:blip r:embed="rId1"/>
          <a:stretch/>
        </p:blipFill>
        <p:spPr>
          <a:xfrm>
            <a:off x="2517840" y="1938240"/>
            <a:ext cx="7211880" cy="4475160"/>
          </a:xfrm>
          <a:prstGeom prst="rect">
            <a:avLst/>
          </a:prstGeom>
          <a:ln w="0">
            <a:noFill/>
          </a:ln>
        </p:spPr>
      </p:pic>
      <p:sp>
        <p:nvSpPr>
          <p:cNvPr id="1189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C0D23-CBBF-4739-9DFD-311E8AC3F11F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2518920" y="1278000"/>
            <a:ext cx="7931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Ca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Have to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ay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ust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32633-044A-4215-B6FE-867B9B27AD0B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472840" y="512640"/>
            <a:ext cx="793908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an</a:t>
            </a:r>
            <a:br>
              <a:rPr sz="3200"/>
            </a:b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2472840" y="1520640"/>
            <a:ext cx="7939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новное значение модального глагола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— способность или возможность что-либо сделать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переводе на русский язык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означает «мочь, уметь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 can swim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н умеет плавать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Схема 5" descr=""/>
          <p:cNvPicPr/>
          <p:nvPr/>
        </p:nvPicPr>
        <p:blipFill>
          <a:blip r:embed="rId1"/>
          <a:stretch/>
        </p:blipFill>
        <p:spPr>
          <a:xfrm>
            <a:off x="2378160" y="3309840"/>
            <a:ext cx="7418160" cy="2981520"/>
          </a:xfrm>
          <a:prstGeom prst="rect">
            <a:avLst/>
          </a:prstGeom>
          <a:ln w="0">
            <a:noFill/>
          </a:ln>
        </p:spPr>
      </p:pic>
      <p:sp>
        <p:nvSpPr>
          <p:cNvPr id="1195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CCCC3-F4DB-4689-A4A3-39FBC449AD2A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500200" y="541080"/>
            <a:ext cx="794088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Have t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090080" y="1152360"/>
            <a:ext cx="104540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Have to –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употребляется, чтобы выразить необходимость, "надо", "нужно", «необходимо» - то есть, когда действие совершается под влиянием обстоятельств, необходимости, порожденной внешними факторам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 /We/They/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Тебе необходимо(ты должен) быть в школе в 8 часов утр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/She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s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8" name="Схема 3" descr=""/>
          <p:cNvPicPr/>
          <p:nvPr/>
        </p:nvPicPr>
        <p:blipFill>
          <a:blip r:embed="rId1"/>
          <a:stretch/>
        </p:blipFill>
        <p:spPr>
          <a:xfrm>
            <a:off x="2401920" y="3833640"/>
            <a:ext cx="7358040" cy="2756160"/>
          </a:xfrm>
          <a:prstGeom prst="rect">
            <a:avLst/>
          </a:prstGeom>
          <a:ln w="0">
            <a:noFill/>
          </a:ln>
        </p:spPr>
      </p:pic>
      <p:sp>
        <p:nvSpPr>
          <p:cNvPr id="1199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FB555-4B92-4548-BC7B-A692911D90F1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499840" y="623880"/>
            <a:ext cx="79693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May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499840" y="1679400"/>
            <a:ext cx="7885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, чтобы спросить разрешения (официальная форма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о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out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ы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 –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Могу я открыть окн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2" name="Схема 3" descr=""/>
          <p:cNvPicPr/>
          <p:nvPr/>
        </p:nvPicPr>
        <p:blipFill>
          <a:blip r:embed="rId1"/>
          <a:stretch/>
        </p:blipFill>
        <p:spPr>
          <a:xfrm>
            <a:off x="2408400" y="3749760"/>
            <a:ext cx="7368840" cy="2541600"/>
          </a:xfrm>
          <a:prstGeom prst="rect">
            <a:avLst/>
          </a:prstGeom>
          <a:ln w="0">
            <a:noFill/>
          </a:ln>
        </p:spPr>
      </p:pic>
      <p:sp>
        <p:nvSpPr>
          <p:cNvPr id="1203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06448-650B-48F7-BE41-F80517E3EC46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490840" y="623880"/>
            <a:ext cx="795024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Mus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2490840" y="1258920"/>
            <a:ext cx="79502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 для выражения необходимости совершения действия,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 также для выражения приказания или совета. Глагол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осит личностный характер и выражает субъективную необходимость, мы сами решаем, что мы должны, а что нет, т.е. это наши собственные представления. На русский язык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водится «должен»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 You must go to bed at 9 o’clock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ы должен ложиться спать в 9 час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6" name="Схема 3" descr=""/>
          <p:cNvPicPr/>
          <p:nvPr/>
        </p:nvPicPr>
        <p:blipFill>
          <a:blip r:embed="rId1"/>
          <a:stretch/>
        </p:blipFill>
        <p:spPr>
          <a:xfrm>
            <a:off x="2401920" y="3760920"/>
            <a:ext cx="7358040" cy="2786040"/>
          </a:xfrm>
          <a:prstGeom prst="rect">
            <a:avLst/>
          </a:prstGeom>
          <a:ln w="0">
            <a:noFill/>
          </a:ln>
        </p:spPr>
      </p:pic>
      <p:sp>
        <p:nvSpPr>
          <p:cNvPr id="1207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3E83B-D630-45AB-91C0-5C73C8835F9A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480760" y="623520"/>
            <a:ext cx="7921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2480760" y="1987200"/>
            <a:ext cx="79218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I can/ No, I can’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wim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jump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ing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limb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u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play tenni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ide a bik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dra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ook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0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4ABE8-A592-4D2F-98A2-C1388423B958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3T19:03:20Z</dcterms:created>
  <dc:creator>пк</dc:creator>
  <dc:description/>
  <dc:language>en-US</dc:language>
  <cp:lastModifiedBy>Директор</cp:lastModifiedBy>
  <dcterms:modified xsi:type="dcterms:W3CDTF">2018-02-15T02:11:41Z</dcterms:modified>
  <cp:revision>173</cp:revision>
  <dc:subject/>
  <dc:title>Презентация PowerPoint</dc:title>
</cp:coreProperties>
</file>