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9B5495-C995-4658-BB26-11F7A9F5278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22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EE308D-EE5C-478B-B2DF-325D0B42DB0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22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92D13D-B5A9-44DF-ABD4-0BA6FA3876D7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5240-3373-4526-B836-4D9EBDCE7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C10E-164A-49A4-892F-7091A9187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A584BB-C3EF-4A83-9A4D-B7C0E5D4E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B7675A-7423-439F-A5B3-AF249B05F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1D5085-12DA-40F8-A268-C47C272FD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89527A-BB9F-4D1D-8E44-13D07E217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995D63-8494-4D80-A246-D7ACB62B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27F15D-E2C3-4685-910C-01AF936DB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DC917E-965F-4348-B6AC-D075703EA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2C5A5D-FFD0-43C3-87A7-FB3050BBB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B430EF-0611-4976-8ABE-166916996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7526AD-84B2-409A-A647-A9E88FD40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C429-E75E-485F-87CF-939EE635A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FFCF3E-BADA-46ED-ADD7-7472F6E2C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45562A-DB0A-4A8E-83A7-4209203D8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52BAF4-E605-48E2-A3C2-DB26A4289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90F35C-8873-4F59-9C40-A9BFF0C26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17CA96-B6BA-4FD1-872E-FC2B78463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0932D9-53F4-4E69-A481-4135D440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74F3C1-929B-4C82-A530-CA03D7222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55478A-BDEE-4E6A-918E-BC171E8DB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69F215-8EEF-454C-98D6-F5202EDDB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186DAA-9CD1-4268-ADC1-0C48A1C3B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7337-FC19-4BC9-B56E-B17060285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D7A41C-DC20-4D79-A9D7-075C9CC04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88A62E-EA60-4D71-92DD-63A0A774C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72BF6B-4411-4995-9272-04E2AD8CC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A237CF-FB8F-4620-BE83-0F733E393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BDD332-7F0F-44A6-BCBB-5769704B5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71A738-B0A3-4A41-9D69-B029C0348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A39C2C-4863-41C1-8D95-393C40552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8CD4C1-6601-4077-881A-6DFE970F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D70E62-ADB0-4DDA-93AA-41865FADA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B1B79A-526B-4687-B136-0574A11F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696A0-67FD-4C80-91D7-330CC6957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3AB65A-4CF8-48CB-8DCC-5366910C9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47E442-08B2-4ED0-ABA7-6657F4B96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6A5BFA-53C7-4BFE-ACAC-E959D96CC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A2E00C-BD5E-484C-A252-AAD073264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C62017-9A4F-4653-AF7E-9603054E6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D50309-0291-4F09-AA24-54A7EA7B5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11AB4D-7DCB-4EDB-9BE5-6BC7EE5A7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C3F61E-BA0B-4081-9FA4-0D201BD01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BB8621-C8EE-4EA7-9AA8-4A3FC67A4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E46D5B-5C77-4345-A121-6B2DE8379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52D40-153A-41D8-974B-89F554224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4342F7-02A0-47C5-896E-EB1FBB05A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2EF22C-1B98-4996-98D3-D0D096FFB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A70FD0-6598-42C6-9622-E9E14FF9B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9D0040-2E8B-4747-B52C-C4D7F93DB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C26981-757E-4AF4-BAAB-D2BFEAC5F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E7C234-561F-4AC6-989E-7930A5001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18EF8A-59D1-47AC-92CA-051557CD4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220765-BAC2-4563-9DEB-B6B079508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5DF7FB-5871-48F4-B945-1AB77D573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E100A1-0D22-46C4-8DC3-B603D6986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7272C-F33A-475E-BCF8-6A361711C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F7BF25-2CF5-4991-8DEF-1D07E51FF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1C82C4-01BB-4E95-B435-38FFAA366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A0BFA6-0B67-42E4-9DB1-1065E9B1E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476C19-A88B-4A31-A891-FFD7EDB7E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9CC9F9-9E2C-40A9-BAD1-815209B01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6E399C-25DB-4A28-8C02-30090B686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F65844-1078-43C9-8304-351700CDD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BBCDFF-184F-4733-B793-A354EA56A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965381-88DC-43D8-A56F-A88DE6FE1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B7ABA2-8410-43B9-8BD8-7633D61BA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D6C52-7B0E-48BE-B356-EF50BA344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5B08DB-FA80-424D-BA69-52184859A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F795F4-F096-4047-88F6-140FCB95D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738676-D718-45B8-85F4-D37CA8830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732B5C-182A-4712-AC20-F7F20F082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2A3875-75F3-460C-A4A9-520279A2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CCFF96-9110-4565-A2A8-E2932A7C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F8AE33-16FA-4E9E-AA81-A79D33135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FF7E52-6895-4EA9-849F-ACCF0E6D5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7D3D23-9952-4DAA-9EFF-DB20AE9A4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C3E16C-44F5-4571-8683-19806B266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95CD1-D9FE-4350-91C0-E05FD7713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04AF36-4234-4EB0-9ADF-D04D7033A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8A6CCF-7659-47D6-BCC4-30AB79E1A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8F604C-32DF-466A-86AE-85694794E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4B51F4-0654-4C6C-965D-5FA646DCD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5B56D0-3BE2-4322-828E-35C420B2F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B18050-32A9-446B-9FBA-B5885C4F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8E880A-3B29-4D03-BFD3-4498E8E36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09C9E5-1178-4BCC-887F-4D1A2C3A9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EBCD00-534B-46A7-A353-1C2DB57AF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402503-4912-49BA-8389-D7F71922B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60BEC-7923-42E5-BCAB-7C19839D6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94F61C-7BE9-4398-AB7F-E3970081B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5CB0A9-6FE8-4DF9-AAF0-8C049D6E3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C0F906-E89F-438C-9A95-D12E9AC86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74975E-DFA2-4E43-8597-4D0176DFB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87A5C1-7357-4048-8355-5275ACA2C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458F40-9EF1-4AC7-8A80-98FA50242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21ACEC-D2AD-4D21-BBAC-6CCC543FE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20F7D5-0232-4A30-98BE-C9F12689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4E3FF1-40D5-4DF0-9B0E-735A114F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852326-0FA3-4B47-900C-9FAA2FFBB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8CB74-4441-4E61-9EF5-57BE6E90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714F66-3495-4C77-A1C8-8D21001D0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ADC184-56EB-49E0-A0DB-E675B9A14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1D1974-E036-4843-9EEF-7F8FF599F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401E8E-6FB6-4636-A6F0-F5EB85784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7E1E93-B68D-4664-9D35-F95256ACB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5D2B7D-936F-476A-BE92-00BDF39D4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F10C87-BB95-4044-812C-DBC41E0FD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2AC391-91FD-4199-A005-90EFFE272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A16FF4-79CF-4921-B40D-F79EEA957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79A5D8-4520-4473-9208-D92CAFEFC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0934-EA4D-4534-AB9D-B3008BAA5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D3245-1990-4FE9-A537-919B225B6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C3DC5C-D073-40B4-AC1A-C43DFBEA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D8DADF-261E-465E-AA5F-A22ECE8F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2B8D0B-4E33-4B50-A752-18CB37DBC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9C45D1-D1B0-42E5-A1BB-1C8387699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F0DDB7-FE50-45FB-B41D-B9FCCAC12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8C95A-6631-479C-A629-444219C7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E5A90-257F-4992-BD92-9E2C5217E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61F98-E67E-4A89-8562-A27121D94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3C093-26B6-406A-B285-119A2DF0F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A5046-6228-4C38-B302-F7536CD9E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F0029-7C22-4501-A58E-F53D97049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1749C-CEB5-43B5-96BD-BA7E066B8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18C9B-D869-4C03-B2A2-AB6B92FE0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46455-78B8-499F-AB63-383B40012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8ECC-B132-47F7-B1ED-3EA470D36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EA8A9-4D6E-4F51-A678-4E514D4BB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7BF71-9F67-46DA-A452-FBF61C6CD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5D20B-B3F7-437B-AB8D-59C16EFE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7E62D-EEAE-4DF9-8873-111D86659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F13E1-B5EF-4AE5-B3BF-AD942FA97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95F3D-F48F-45A1-ACAE-4FF4CEC3C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FD193-CF31-446D-9B27-95B5A3103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056A8-0074-4D8A-9373-6194A7B98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F310B-D3EB-4BFA-847E-E1FEACD36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C4794-0D5F-4150-9F11-7530AD830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F764-A5C6-49F9-8873-116EFC187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2416E-3D42-4B04-B834-20EBF4689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3C345-C69E-4FB1-99B6-2964FF9F4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C7E12-4EEA-429C-A682-533A8EE19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3A760-A38B-4714-870E-B3FD46D87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D7F2A-7474-4857-934F-8FB8A2B9D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CD1A5-5D58-41CF-AFD6-0B663F6B5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85B4B-0ECD-49F7-924F-047F5BA09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46660-E90B-48BC-AF87-096961840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89721-5B02-4CE3-BA60-01E99BCAB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8E1A4C-8B07-4807-BD60-39AECF95F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049F-B9D9-4E50-A293-1E458B798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CEB83-345B-422C-AD32-547E8C921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77369-EF54-45FE-AC51-790538102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B72046-7A76-44E6-BA84-8C38F7B51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E8291-6B46-4A72-8E6B-BDEEFC9E6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67042-0124-4D30-B9A4-3C099DEA6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1EF8C8-AE6D-4BB6-A8B1-32B8B5E9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063BC1-FC4E-42E7-AB68-A1BE88C69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CF87A7-BA7C-435D-9E97-DB2CBCC50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36752E-C299-42C3-9C56-A4858C86B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D3415-151C-4DA0-9B2D-E880A242D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A58F-8948-4B45-AE0F-FD8E00ED1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57887-975C-49BE-AB5C-1AEFB53F8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A9E34C-6B01-4CE6-B30D-8DD946B34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27D6C-05B3-44F8-9B24-E875A6CC7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06176E-C963-420D-A2D6-38D990265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53A055-EFCE-4B95-A47E-8E55743C1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13150E-D9E8-4561-B77F-1BA5E3BF3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FB7EF8-AAB3-4749-8EFE-12017F9A0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A50EF2-5FD8-43FD-92D8-B8CC254F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061CDB-0933-4FEC-A4E3-816A3C33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A70319-1417-4BD1-BA90-4246C8DC6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EDD9-E641-4F85-BB0D-6C07F7D30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BF8091-143D-4890-958C-CA8DF5D6A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086980-186F-4B5E-A077-42B8C26D6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E4FD0A-9C5D-4DD7-9B18-C59484794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5F9FF3-7726-486F-90B2-D6809F78A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63825A-21B4-473D-A225-E5EA29433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FB4CD8-6A71-473C-A20B-F2A8874E0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4C2B95-CBAD-4640-B857-53898528C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44CFAF-CD9F-4A50-901E-CBB997DC2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F9FB25-DA05-4020-A0B3-CF47522E8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E0AD47-8DB9-49A5-B4AD-9FED9AE6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3184-D187-498B-B94B-39AF2279A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E3DCD6-B586-43E5-A2D4-8569227D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86EA84-5BC2-4B84-A0E8-EBC89F0D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E870EC-334E-4DD8-8CEB-05997A245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7AFD3A-DC96-44AB-B0D3-1BC2C170E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58DEE0-72BC-4849-80CD-B6E3A6259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7B47A2-E191-4077-B2D1-57FE7A0F5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DB81D7-34C3-4E83-B2B0-B5B8A1A3F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9A463F-FBE2-402E-BCDE-3D14B02D8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C53AF3-BAC6-4B06-8290-D86D172DC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FC41CD-0BAB-4DC2-9815-191046A17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5BAC-3496-4ED6-8C5B-8CE4F69E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905783-09D9-46CA-83EF-91558ED25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F74964-6AF4-4BCC-A96E-AAA1A43D1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49E23B-C251-45EB-9513-D481CA37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7C1591-86DE-4B86-B43C-76A657A9F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204997-E8CC-4D2F-B0EB-CD7033F11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E4FD75-7AC8-4D4C-970A-300E56E93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EB49D9-6577-48C6-9C86-BBB2B351E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15C98B-8481-449B-A2C6-1C71CB1B7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A1C63A-ACEA-4B54-9F75-4316DBE0C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555AC4-E8B0-4497-B9FF-F81203B54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4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92F124-C256-4C37-B971-A9B71A9F8DE4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BE7E92-0C7F-4133-90DE-794E34969EEA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3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4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9A49D2-E608-411B-9C93-A766AB6A2538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98FA35-29FB-4262-8857-87240B33F490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0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1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A3CD79-0442-4C05-827B-4F251FEB1E47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23E5E2-2DED-46E5-962B-4CC6E66EC391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7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8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6" name="TextBox 3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7" name="TextBox 3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926D3B-48B2-40D7-8996-85782AC4B773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027711-180F-4F1B-9E46-ACB19D3B5FD0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4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5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D11502-4E10-48AE-A79E-1921A01209B1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36C9E5-F7DE-4EA0-A688-569EA8751686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1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2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6" name="TextBox 3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7" name="TextBox 3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10DA89-7E02-4DB4-96A6-0F8C081153E5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9FFB67-67B8-4681-8995-1226BE090ED7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8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9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38EF1B-6876-4980-9F63-BFB6ACE6F18D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143D72-958B-47DB-890B-CDAA5E389D8B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5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6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1C283A-D345-484E-9FE5-9B3C87D3E34C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B9C1A9-89CB-4D44-AB34-2705C029A7AB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2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13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09C61A-9495-4C26-8EC4-F00FA4966C89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00B14C-7DAC-4096-B38B-FD938431A8CD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2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Freeform 6"/>
          <p:cNvSpPr/>
          <p:nvPr/>
        </p:nvSpPr>
        <p:spPr>
          <a:xfrm>
            <a:off x="0" y="4324320"/>
            <a:ext cx="1744560" cy="777960"/>
          </a:xfrm>
          <a:custGeom>
            <a:avLst/>
            <a:gdLst/>
            <a:ahLst/>
            <a:rect l="l" t="t" r="r" b="b"/>
            <a:pathLst>
              <a:path w="372" h="166">
                <a:moveTo>
                  <a:pt x="287" y="166"/>
                </a:moveTo>
                <a:cubicBezTo>
                  <a:pt x="290" y="166"/>
                  <a:pt x="292" y="165"/>
                  <a:pt x="293" y="164"/>
                </a:cubicBezTo>
                <a:cubicBezTo>
                  <a:pt x="293" y="163"/>
                  <a:pt x="294" y="163"/>
                  <a:pt x="294" y="163"/>
                </a:cubicBezTo>
                <a:cubicBezTo>
                  <a:pt x="370" y="87"/>
                  <a:pt x="370" y="87"/>
                  <a:pt x="370" y="87"/>
                </a:cubicBezTo>
                <a:cubicBezTo>
                  <a:pt x="372" y="85"/>
                  <a:pt x="372" y="81"/>
                  <a:pt x="370" y="78"/>
                </a:cubicBezTo>
                <a:cubicBezTo>
                  <a:pt x="294" y="3"/>
                  <a:pt x="294" y="3"/>
                  <a:pt x="294" y="3"/>
                </a:cubicBezTo>
                <a:cubicBezTo>
                  <a:pt x="294" y="2"/>
                  <a:pt x="293" y="2"/>
                  <a:pt x="293" y="2"/>
                </a:cubicBezTo>
                <a:cubicBezTo>
                  <a:pt x="292" y="1"/>
                  <a:pt x="290" y="0"/>
                  <a:pt x="28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66"/>
                  <a:pt x="0" y="166"/>
                  <a:pt x="0" y="166"/>
                </a:cubicBezTo>
                <a:lnTo>
                  <a:pt x="287" y="166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AAD22F-91B7-4466-901C-C19AA2259FFF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531360" y="452916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E6E79E-2CD9-4305-968F-27BAF156A6E0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5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6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062A09-3F89-4E13-BA4D-EAC1A2604274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F46350-E4B7-4A20-AEEF-DB664A6B64D6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19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32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274334-5173-472A-93FD-DF783CCAA17F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BE6AAE-6D40-490D-85C5-8319B4CAD56C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88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01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C10417-29E7-45B5-9047-AD1435C1C7C6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EFA914-7C90-47CD-92FE-00B03867F672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57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70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0224BE-84A7-41D5-A9B4-78373CCA53A8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2066D2-3652-4F41-8468-EE06236AE976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26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39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1DF9F5-DD31-4484-9B5C-3B6898163C26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DB036F-69E8-47E7-A9E0-A72C13754449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95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08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BBFDFB-06B2-4250-B81F-09CDA4B68AE8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E04249-8AB6-4796-8341-365AFE2B5BB0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64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77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6B70A2-3FD7-426C-B41B-C91E87914F74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2B8827-AE23-4438-84A4-D53F633DA8C6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2500200" y="2015640"/>
            <a:ext cx="8677440" cy="221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1a1f0d"/>
                </a:solidFill>
                <a:latin typeface="Century Gothic"/>
              </a:rPr>
              <a:t>Modal verbs</a:t>
            </a:r>
            <a:br>
              <a:rPr sz="6000"/>
            </a:br>
            <a:r>
              <a:rPr b="1" lang="ru-RU" sz="6000" spc="-1" strike="noStrike">
                <a:solidFill>
                  <a:srgbClr val="1a1f0d"/>
                </a:solidFill>
                <a:latin typeface="Century Gothic"/>
              </a:rPr>
              <a:t>Модальные глаголы</a:t>
            </a:r>
            <a:endParaRPr b="0" lang="en-US" sz="60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2490480" y="623520"/>
            <a:ext cx="7931160" cy="6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Exercise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2" name=""/>
          <p:cNvSpPr txBox="1"/>
          <p:nvPr/>
        </p:nvSpPr>
        <p:spPr>
          <a:xfrm>
            <a:off x="2490480" y="2006640"/>
            <a:ext cx="793116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Answer the question (Yes, you may/ No, you may not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May I watch TV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May I listen to music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May I open the window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May I come in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May I sit down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May I go the cinema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May I taste this apple pie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May I play computer games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3" name="Номер слайда 3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10477F-E92D-4BAA-AB89-C672C922C9D7}" type="slidenum">
              <a:rPr b="0" lang="en-US" sz="2000" spc="-1" strike="noStrike">
                <a:solidFill>
                  <a:srgbClr val="feffff"/>
                </a:solidFill>
                <a:latin typeface="Century Gothic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2509560" y="623520"/>
            <a:ext cx="7856280" cy="6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Exercises 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5" name=""/>
          <p:cNvSpPr txBox="1"/>
          <p:nvPr/>
        </p:nvSpPr>
        <p:spPr>
          <a:xfrm>
            <a:off x="2509920" y="1689120"/>
            <a:ext cx="795960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Put the sentences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 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into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 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negative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 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and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 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interrogative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 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forms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E.g. You have to wear a uniform at school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        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You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don’t have to 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wear a uniform at school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       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Do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 you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have to 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wear a uniform at school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Mary has to wash dishes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You have to wake up early on Mondays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ey have to go to school on Saturday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om has to work at night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I have to be polite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We have to play the violin every day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 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6" name="Номер слайда 3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4CF151-B795-4C52-85C1-826BD92096A3}" type="slidenum">
              <a:rPr b="0" lang="en-US" sz="2000" spc="-1" strike="noStrike">
                <a:solidFill>
                  <a:srgbClr val="feffff"/>
                </a:solidFill>
                <a:latin typeface="Century Gothic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2499840" y="623880"/>
            <a:ext cx="7959960" cy="62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entury Gothic"/>
              </a:rPr>
              <a:t>Exercises 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8" name=""/>
          <p:cNvSpPr txBox="1"/>
          <p:nvPr/>
        </p:nvSpPr>
        <p:spPr>
          <a:xfrm>
            <a:off x="2499840" y="1763280"/>
            <a:ext cx="7959960" cy="45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Choose the right varian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Bob______wash the dishes after dinner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a) can    b) has to   c) may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om is 6 and he _____read very well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a) can   b)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must  c) may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____I ask you a question, please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a)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must   b)can   c) may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My sister____go shopping twice a week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a) may   b) have to  c) has to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You ____visit you friend at the weekend if you like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a) may   b) have to  c) mus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You____get up at seven o’clock  on Sunday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a) can’t   b) mustn’t   c) don’t have to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" spc="-1" strike="noStrike">
                <a:solidFill>
                  <a:srgbClr val="404040"/>
                </a:solidFill>
                <a:latin typeface="Century Gothic"/>
              </a:rPr>
              <a:t>                                                       </a:t>
            </a:r>
            <a:endParaRPr b="0" lang="en-US" sz="5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9" name="Номер слайда 3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624556-6EC1-4D7D-9EEF-94C46B749EEC}" type="slidenum">
              <a:rPr b="0" lang="en-US" sz="2000" spc="-1" strike="noStrike">
                <a:solidFill>
                  <a:srgbClr val="feffff"/>
                </a:solidFill>
                <a:latin typeface="Century Gothic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2480760" y="560160"/>
            <a:ext cx="7959960" cy="144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Определение модальных глаголов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5" name=""/>
          <p:cNvSpPr txBox="1"/>
          <p:nvPr/>
        </p:nvSpPr>
        <p:spPr>
          <a:xfrm>
            <a:off x="2481120" y="2006640"/>
            <a:ext cx="832824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Century Gothic"/>
              </a:rPr>
              <a:t>Модальные глаголы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Модальные глаголы в английском языке отличаются от остальных глаголов тем, что они не используются самостоятельно и не обозначают конкретного действия или состояния, они отражают его модальность, то есть отношение</a:t>
            </a: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к нему говорящего : хочу, могу, должен. Также модальные глаголы выражают значение возможности, необходимости, вероятности, желательности и т.п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6" name="Номер слайда 5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3CE0F1-5626-4B5C-BABB-EFECF14731E7}" type="slidenum">
              <a:rPr b="0" lang="en-US" sz="2000" spc="-1" strike="noStrike">
                <a:solidFill>
                  <a:srgbClr val="feffff"/>
                </a:solidFill>
                <a:latin typeface="Century Gothic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2518920" y="550800"/>
            <a:ext cx="7875720" cy="14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Список</a:t>
            </a: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 </a:t>
            </a: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основных</a:t>
            </a: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 </a:t>
            </a: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модальных глаголов в английском языке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188" name="Объект 6" descr=""/>
          <p:cNvPicPr/>
          <p:nvPr/>
        </p:nvPicPr>
        <p:blipFill>
          <a:blip r:embed="rId1"/>
          <a:stretch/>
        </p:blipFill>
        <p:spPr>
          <a:xfrm>
            <a:off x="2517840" y="1938240"/>
            <a:ext cx="7211880" cy="4475160"/>
          </a:xfrm>
          <a:prstGeom prst="rect">
            <a:avLst/>
          </a:prstGeom>
          <a:ln w="0">
            <a:noFill/>
          </a:ln>
        </p:spPr>
      </p:pic>
      <p:sp>
        <p:nvSpPr>
          <p:cNvPr id="1189" name="Номер слайда 5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B37F9E-8F7F-4596-BF53-CA6B6B96E098}" type="slidenum">
              <a:rPr b="0" lang="en-US" sz="2000" spc="-1" strike="noStrike">
                <a:solidFill>
                  <a:srgbClr val="feffff"/>
                </a:solidFill>
                <a:latin typeface="Century Gothic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"/>
          <p:cNvSpPr txBox="1"/>
          <p:nvPr/>
        </p:nvSpPr>
        <p:spPr>
          <a:xfrm>
            <a:off x="2518920" y="1278000"/>
            <a:ext cx="7931160" cy="46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Century Gothic"/>
              </a:rPr>
              <a:t>Can</a:t>
            </a:r>
            <a:endParaRPr b="0" lang="en-US" sz="4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Century Gothic"/>
              </a:rPr>
              <a:t>Have to</a:t>
            </a:r>
            <a:endParaRPr b="0" lang="en-US" sz="4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Century Gothic"/>
              </a:rPr>
              <a:t>May</a:t>
            </a:r>
            <a:endParaRPr b="0" lang="en-US" sz="4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Century Gothic"/>
              </a:rPr>
              <a:t>Must</a:t>
            </a:r>
            <a:endParaRPr b="0" lang="en-US" sz="4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1" name="Номер слайда 5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24E3E2-F3F1-4CB9-8B66-2503D19C72E0}" type="slidenum">
              <a:rPr b="0" lang="en-US" sz="2000" spc="-1" strike="noStrike">
                <a:solidFill>
                  <a:srgbClr val="feffff"/>
                </a:solidFill>
                <a:latin typeface="Century Gothic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2472840" y="512640"/>
            <a:ext cx="7939080" cy="79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entury Gothic"/>
              </a:rPr>
              <a:t>Can</a:t>
            </a:r>
            <a:br>
              <a:rPr sz="3200"/>
            </a:b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3" name=""/>
          <p:cNvSpPr txBox="1"/>
          <p:nvPr/>
        </p:nvSpPr>
        <p:spPr>
          <a:xfrm>
            <a:off x="2472840" y="1520640"/>
            <a:ext cx="793908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Основное значение модального глагола </a:t>
            </a: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can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 — способность или возможность что-либо сделать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В переводе на русский язык </a:t>
            </a: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can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 означает «мочь, уметь»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E.g.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He can swim. –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Он умеет плавать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94" name="Схема 5" descr=""/>
          <p:cNvPicPr/>
          <p:nvPr/>
        </p:nvPicPr>
        <p:blipFill>
          <a:blip r:embed="rId1"/>
          <a:stretch/>
        </p:blipFill>
        <p:spPr>
          <a:xfrm>
            <a:off x="2378160" y="3309840"/>
            <a:ext cx="7418160" cy="2981520"/>
          </a:xfrm>
          <a:prstGeom prst="rect">
            <a:avLst/>
          </a:prstGeom>
          <a:ln w="0">
            <a:noFill/>
          </a:ln>
        </p:spPr>
      </p:pic>
      <p:sp>
        <p:nvSpPr>
          <p:cNvPr id="1195" name="Номер слайда 6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0B13C8-7219-477B-A4F5-0FAE5990AF8E}" type="slidenum">
              <a:rPr b="0" lang="en-US" sz="2000" spc="-1" strike="noStrike">
                <a:solidFill>
                  <a:srgbClr val="feffff"/>
                </a:solidFill>
                <a:latin typeface="Century Gothic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2500200" y="541080"/>
            <a:ext cx="7940880" cy="7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Have to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7" name=""/>
          <p:cNvSpPr txBox="1"/>
          <p:nvPr/>
        </p:nvSpPr>
        <p:spPr>
          <a:xfrm>
            <a:off x="1090080" y="1152360"/>
            <a:ext cx="1045404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entury Gothic"/>
              </a:rPr>
              <a:t>Have to – </a:t>
            </a: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употребляется, чтобы выразить необходимость, "надо", "нужно", «необходимо» - то есть, когда действие совершается под влиянием обстоятельств, необходимости, порожденной внешними факторами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I /We/They/You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have to 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be at school at 8 o’clock.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- Тебе необходимо(ты должен) быть в школе в 8 часов утра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He/She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has to 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be at school at 8 o’clock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98" name="Схема 3" descr=""/>
          <p:cNvPicPr/>
          <p:nvPr/>
        </p:nvPicPr>
        <p:blipFill>
          <a:blip r:embed="rId1"/>
          <a:stretch/>
        </p:blipFill>
        <p:spPr>
          <a:xfrm>
            <a:off x="2401920" y="3833640"/>
            <a:ext cx="7358040" cy="2756160"/>
          </a:xfrm>
          <a:prstGeom prst="rect">
            <a:avLst/>
          </a:prstGeom>
          <a:ln w="0">
            <a:noFill/>
          </a:ln>
        </p:spPr>
      </p:pic>
      <p:sp>
        <p:nvSpPr>
          <p:cNvPr id="1199" name="Номер слайда 6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1175E7-D6DA-48D5-8D08-555140F8EAF9}" type="slidenum">
              <a:rPr b="0" lang="en-US" sz="2000" spc="-1" strike="noStrike">
                <a:solidFill>
                  <a:srgbClr val="feffff"/>
                </a:solidFill>
                <a:latin typeface="Century Gothic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2499840" y="623880"/>
            <a:ext cx="7969320" cy="68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May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1" name=""/>
          <p:cNvSpPr txBox="1"/>
          <p:nvPr/>
        </p:nvSpPr>
        <p:spPr>
          <a:xfrm>
            <a:off x="2499840" y="1679400"/>
            <a:ext cx="7885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May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употребляется, чтобы спросить разрешения (официальная форма)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May I come in? –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Могу я войти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May I go out? –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Могу я выйти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May I open the window? –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Могу я открыть окно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02" name="Схема 3" descr=""/>
          <p:cNvPicPr/>
          <p:nvPr/>
        </p:nvPicPr>
        <p:blipFill>
          <a:blip r:embed="rId1"/>
          <a:stretch/>
        </p:blipFill>
        <p:spPr>
          <a:xfrm>
            <a:off x="2408400" y="3749760"/>
            <a:ext cx="7368840" cy="2541600"/>
          </a:xfrm>
          <a:prstGeom prst="rect">
            <a:avLst/>
          </a:prstGeom>
          <a:ln w="0">
            <a:noFill/>
          </a:ln>
        </p:spPr>
      </p:pic>
      <p:sp>
        <p:nvSpPr>
          <p:cNvPr id="1203" name="Номер слайда 6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8538A6-648A-4A73-916D-D6A61D9408C8}" type="slidenum">
              <a:rPr b="0" lang="en-US" sz="2000" spc="-1" strike="noStrike">
                <a:solidFill>
                  <a:srgbClr val="feffff"/>
                </a:solidFill>
                <a:latin typeface="Century Gothic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2490840" y="623880"/>
            <a:ext cx="7950240" cy="6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entury Gothic"/>
              </a:rPr>
              <a:t>Must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5" name=""/>
          <p:cNvSpPr txBox="1"/>
          <p:nvPr/>
        </p:nvSpPr>
        <p:spPr>
          <a:xfrm>
            <a:off x="2490840" y="1258920"/>
            <a:ext cx="795024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Must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употребляется для выражения необходимости совершения действия,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а также для выражения приказания или совета. Глагол </a:t>
            </a: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must 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носит личностный характер и выражает субъективную необходимость, мы сами решаем, что мы должны, а что нет, т.е. это наши собственные представления. На русский язык </a:t>
            </a: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must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переводится «должен»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E.g. You must go to bed at 9 o’clock. –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Ты должен ложиться спать в 9 часов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06" name="Схема 3" descr=""/>
          <p:cNvPicPr/>
          <p:nvPr/>
        </p:nvPicPr>
        <p:blipFill>
          <a:blip r:embed="rId1"/>
          <a:stretch/>
        </p:blipFill>
        <p:spPr>
          <a:xfrm>
            <a:off x="2401920" y="3760920"/>
            <a:ext cx="7358040" cy="2786040"/>
          </a:xfrm>
          <a:prstGeom prst="rect">
            <a:avLst/>
          </a:prstGeom>
          <a:ln w="0">
            <a:noFill/>
          </a:ln>
        </p:spPr>
      </p:pic>
      <p:sp>
        <p:nvSpPr>
          <p:cNvPr id="1207" name="Номер слайда 6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2922AD-3FE8-4411-A1F1-7699336DF6AC}" type="slidenum">
              <a:rPr b="0" lang="en-US" sz="2000" spc="-1" strike="noStrike">
                <a:solidFill>
                  <a:srgbClr val="feffff"/>
                </a:solidFill>
                <a:latin typeface="Century Gothic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2480760" y="623520"/>
            <a:ext cx="7921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Exercise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9" name=""/>
          <p:cNvSpPr txBox="1"/>
          <p:nvPr/>
        </p:nvSpPr>
        <p:spPr>
          <a:xfrm>
            <a:off x="2480760" y="1987200"/>
            <a:ext cx="7921800" cy="39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Answer the question (Yes, I can/ No, I can’t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an you swim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an you jump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an you sing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an you climb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an you run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an you play tennis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an you ride a bike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an you draw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an you cook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0" name="Номер слайда 5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596DA7-73C5-4F3C-873D-6D151AAD6CF2}" type="slidenum">
              <a:rPr b="0" lang="en-US" sz="2000" spc="-1" strike="noStrike">
                <a:solidFill>
                  <a:srgbClr val="feffff"/>
                </a:solidFill>
                <a:latin typeface="Century Gothic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03T19:03:20Z</dcterms:created>
  <dc:creator>пк</dc:creator>
  <dc:description/>
  <dc:language>en-US</dc:language>
  <cp:lastModifiedBy>Директор</cp:lastModifiedBy>
  <dcterms:modified xsi:type="dcterms:W3CDTF">2018-02-15T02:11:41Z</dcterms:modified>
  <cp:revision>173</cp:revision>
  <dc:subject/>
  <dc:title>Презентация PowerPoint</dc:title>
</cp:coreProperties>
</file>