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AE1C7-E244-4283-9F87-3D66139FF2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5805C-16F5-4E1C-B70A-3B45C4E709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6BDEF-936F-4A68-9B62-998C627FBD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1B9-30A1-4362-8390-650925CC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6EE-09FA-43E8-85D6-9F6D711B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26668-34DC-4395-8A1A-A6C6B32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D8E58-B875-45CD-8CF9-8E8DC286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9E2CC-6FE1-456A-9C2E-2A18AFB1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3AA32-E2ED-45D8-A01F-84EBDDE7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4524-5EAF-4736-8BD9-3A21689F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2A19E-3C2E-4653-B40B-8DA9155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2D125-EEF9-4611-AFE8-8FB24DC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CD792-3C37-4067-97F9-12EEA420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5F88B-49D4-48CA-9DA2-7EBE7B4D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29F73-B1FE-43E6-AF56-8EF954A4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75A-6067-4767-982D-72CF7130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DDF92-35F6-405C-B8E9-DFF67B49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FCB19-DF20-41AF-B0CE-4D6F5DB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A5710-7095-4854-92B5-D16ED64B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C14AA-4ACF-48B3-B33B-60F5BFB2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09908-04A0-4558-8275-DF0673A0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9768A-377D-4D92-9181-94D500A8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136FC-6337-484A-9BF3-C3353AA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49C5E-9BDA-4E57-ACA7-E0FA5F76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55386-E0F7-41B7-B25F-CD84EB5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D4CBB-6BBD-46F8-B8E6-8AD04550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716-96BD-4037-B784-83069B94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C81DD-C850-4A30-B95C-FDD8FB70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C0A37-DECE-4EC6-885D-2BD78CED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04F7E-1FA7-42D1-8D43-D1E77B02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4AE85-0BE0-4291-A597-38C7034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33033-07F9-4B54-BA64-F784AD1C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5D168-A50B-444D-AAC8-D63A456E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44C06-4AF1-4E92-B25C-AFAE1B2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01711-5FC2-4142-803A-B04985B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34724-0418-43F2-9054-5FB40F56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9B4A-F825-4EC5-B19E-BEFE8E48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7B01-1736-433D-897F-60F41DF5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43B13-0AC5-4742-9CBD-A3A5532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4A7FE-C902-4FD2-94E9-2DEBD040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9B2A4-482C-4A13-807E-641D1BBF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406FB-FF2C-487B-B020-CDCC46C7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C011F-3B65-4585-AA2E-EE007834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F4E20-7359-435A-98F1-8A6922A3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11FBB-11B4-4AFF-844F-BCFB9505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B1CDD-56D0-405F-A014-535BC6B4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A9E32-EBAD-490C-B813-A04D49A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0CD6A-BF1E-438F-A07B-1702E1D0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4B0-A60C-4685-8ACE-9EBEB512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0AE52-9157-4C99-BF46-93C9785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2B87D-F5CF-4CBC-AB9E-08554A1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E2967-CCB4-4BE1-8149-CF744247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709B4-DA1F-4B9E-B028-587B3405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0C337-2907-435E-9607-5081267D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84197-1484-4532-85FF-1F722CC7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062C6-B001-4D41-ACA6-CC68069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16BB7-F9D2-49D6-B582-D215AD90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F20B9-7749-49A3-8932-920945EF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FDE11-9EA9-4B9D-8CFD-501B28FD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BF65-EE8D-42D3-AE84-13D4A561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2F11E-C1BE-43D4-A949-C5BDC684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D5AE7-5B59-4B18-A2F7-B4AF727E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43BFA-85FB-405A-9742-92457D83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21639-0D00-416E-8804-DB91A5C4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4C273-7BBB-4F18-9D1F-D3CBE2CA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D654B-67BA-46F8-9E3F-9F072D52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451E9-A9A0-4F34-8283-0B728A37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E957D-48A3-4977-B7C8-825709A0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6F6A7-D32A-42CA-91FE-903F43C2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404F6-C83E-4F3F-9613-DD2F987B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6DE4-76EA-49A1-9D6C-F4649335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BBBDA-1035-4314-AC8C-E5657A60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CF722-BC69-4455-AE94-5025B4FA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B877A-1689-40E9-8596-86C1BED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1C5DB-1115-4089-9E97-4BEAA03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AE091-3630-4431-A5F5-3B0AA25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82164-8603-4B1F-93A4-EC6A25B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91377-A178-4EDF-A9BE-12A3882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39A12-5F12-4670-A4D8-248C0E6E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76068-8F86-4B79-9E64-5F75EFAC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7EF89-981D-43D2-A90A-E5F557A6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272-CDB3-4C32-9514-9DB9E262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3146A-1F24-43ED-BC6E-659A22A3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A7D78-21AD-432D-B916-786361B5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614C0-4625-4F8F-9844-C4DEA56B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AC573-8254-49F4-9958-AF78DF9F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19893-420A-4AFF-BF71-7EA7754E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14A80-7BBC-457B-AA88-870B7D8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25159-B26F-459A-9A30-46D035C7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FD9E0-E7E2-4F55-836C-6B5F2FE9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C5053-B05A-43EB-B75E-C544D02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A202E-D02F-4E79-A35D-1E4BCF62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094B-5F9A-4925-901B-0CE00A46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323F7-6DED-495F-B47D-66F84D0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716CE-1999-4E61-8C0D-4B7889B0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150F1-32A5-4B08-AF46-96B46AED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B033C-EF3D-4C75-A817-CC34915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856B7-48BD-41DB-90CA-38212A6A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EEA1A-1CFE-4A8F-BEFF-6E68A177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40BC1-8951-492E-985D-4B739C1C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6F2BC-6D5C-4935-8639-31C07672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9A271-45DC-429E-B49F-A020E842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54B45-D549-4373-AC6F-63BC03C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4836-F6EB-4260-8E5A-A9FEDBB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DF57D-288D-47FC-8BDE-683C006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7B4DF-E92D-4071-ADB7-E468F3FF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F1BD3-74D9-4C85-A1E5-27C33B53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DED52-95E6-452F-BDEC-ADD2FD84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0BE23-9169-49E7-96D0-E79FD036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01086-84FC-4CF0-AD12-4E6B4B8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F56B80-F184-4A10-B51B-FBBA9524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54957-D8E5-4735-B11D-14C7C28C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ABA14-C006-4A41-9267-10CF2207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1424E-C4B0-4019-B865-446FEAF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C30-2786-4EA4-ADC7-609C4ED9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A5E8-9C55-4652-9B45-5CD1A35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102F6-6A8C-4569-8385-6EFAE098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A7E762-BC3C-4399-A99E-785CA198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CE4BA-C558-4173-AD54-39E25F6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140EF-D2A6-45B6-9CFE-8EB037FB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1FC66-2BBA-40AC-AE1C-7E63EE6D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FB0C-13E9-41B7-8C5D-EDA27CB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5BE6-7FDE-48BA-A554-FDAF659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4030-3185-4A3E-B5E3-4D5B1D05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9FBA-E9A4-429F-ADAD-7162C9E3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EA4E0-B96B-40BE-B4B4-0B13BB4B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F9A2-BDEF-4B3A-B89C-BDC01899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2847-F329-4A6A-BB22-86881414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3932-8504-485B-BE89-FE6B001C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E5FF-0932-479D-98BA-626C239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17A-539F-48FA-A6FF-264F9CB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CBA4-470B-4440-A708-208D3E13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72DA-2DA9-430E-8FCF-24BD8A6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768B-78E0-418E-A8BF-668F5F7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CE09-199A-48A2-AA7D-E0A924B8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5353-0056-4A5F-B719-B3FE937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1122-D1C6-44FF-B10F-95EF6D5F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F35B-A6B2-4A87-B813-D9C9B08E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7B1E-F75E-4F6C-9026-C929882F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F93F-86A3-4457-980D-64DF014A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7E41-93AC-4BE9-AC1C-6D36D3E1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29E-C2C5-48C1-94A6-D36FEB2D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4BB6-FE67-4F45-A14C-A3C6A09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1181-5490-4BDF-8BC7-8DB71B12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4849-61E8-4B8B-AC15-616CF6E8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BF190-E60C-4551-A868-9ED6ABF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F8DA-7539-4DAF-959F-5A4D501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A83B-9701-4F3D-9B15-8C708B29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7AD8-A8F0-4574-8CCF-2F6CDE33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DAA8-47DA-4C22-86FE-4F6CA6F9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8900-A0AA-42C9-BEDD-5EB4D144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BDA5D-E52B-4124-8694-28EFE54A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647-4E71-4918-95F0-B90626E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C7CF-C5AE-45E3-B0EB-EF05018E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C3BB-3366-4439-A8BC-74C77317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9DB6C-F62D-43B8-8914-38B07E1A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9240-A30B-4442-8D46-9375A1F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CB45-784F-442F-9C16-7384E42F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D4DAA-A063-4B7F-8229-5304557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D4987-6146-4A39-AC9B-011798B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EB45-B833-4F69-A41B-7A98AA4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9BB96-11EF-4039-B881-5305BF0A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58B2C-4486-4C6E-9BCB-80824E14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882-0E67-48C6-AD81-C5DEDAD6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6659C-3747-4FF6-B101-1D18C13D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1C99B-D958-4247-8050-D9276C60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567B-530F-46AF-B655-4A187990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1B31-D9E6-49F5-B0C3-D62E0404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2408-B488-46EA-BCB6-B2A90E8C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2DBF-3BE8-4F64-9451-CC913203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B5CB-FAE2-4C80-9FF4-7300E9C0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B00BE-6E73-421C-93FA-711F54B2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20F1A-2E8A-455D-9406-7F779203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130A3-B066-484E-ACAE-B5D78D70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CE8-55A8-46B6-B4E5-B73915B7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397F-EC03-4667-9EB7-52DF0E7C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71665-3742-46C3-BD0D-BC7568B5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1D56-272D-4B3E-9EAF-74EE8B5E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54D69-5340-40E0-BBFA-8FFAEF14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C37E1-7578-4CA2-B549-D158FD01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4F9E-DF74-448B-A4CB-9CE253F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1DB13-42EA-4DBA-BC70-D10D8F30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03064-D936-4128-AFA7-5C9FBD6A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A8DE7-AF27-4F45-94B4-A42F2DF7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5B6D0-1A2D-4FBD-9A57-69EB2A79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ACA-FFE1-48F3-B185-C395A6E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30F7-B911-4F01-B6F5-634CE5A1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941C2-5872-44E4-9199-7C766826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69FC-EB3B-4B83-90C1-50652DB7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79D79-7237-4CB3-8E76-1B0DE9AA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4C58-0262-4DD0-9D33-F3DD3020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BCA10-A763-4974-8D88-26736D76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8763C-5101-4CA8-94CF-8111CF56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5CD39-726A-4726-A2D3-C83DD8BD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3F4CB-DE1D-48B5-BCAF-44884DFD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E6D95-0527-4219-987E-4CBB8158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F80-AD52-46F8-9AC9-BD30292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CE00A-C157-4C69-A4F6-95EF365C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7490A-34AB-4587-8807-1ACE93A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1B740-3899-4F55-957D-D70FB418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8E241-03E8-45F5-A4CB-BB5E6E9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1F6A2-DE96-4686-A265-51C7998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7C7FF-AA2A-45B3-8203-2EE3DFC0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22FE-A32E-4119-9DBA-F2461931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1E068-3FE7-40A7-9253-D93CC4A3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82A2A-7A3F-44A5-9A89-3AE552FA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98F56-1286-47E1-A8E4-2EDA7866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827E8-920B-458E-BEA6-50D5BB3C2C5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02A6A-D6C9-49F0-8593-2F8F437A8EF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01ACB-77AD-4288-82CF-9BEA5512A02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40702-DFC3-404F-BB7D-427E38A2A50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9A1EC-09FE-4007-BEE3-13EEC36FC8D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8CF4A-F768-4A7A-8323-B38EE1910B8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9A3E7-D9CF-4CDA-82EB-66D0488D0BF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AF68F-5FE7-447A-B611-380D00AA15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F4BFC-645F-4449-B9D8-D1233838BA4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7E12D-DCFB-4256-86B9-50485BC21BA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9EA76-DE1A-4170-BE88-1DABDCC5BC3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A2374-35C1-4549-8B03-6406014F654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637EF-777B-4A39-8458-0C3A7EB71A6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6502B-A210-4C44-98A5-248DCB7EC3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B3458-6EFD-459A-A79C-212C2B0E55E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9BF18-0CD9-4E75-96E6-F4C8AEE10A7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A0739-6212-4F24-9798-0921F66E5A7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CD818-7E37-417A-ACD7-036D3E20D3C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47789-6FBE-48A8-93C3-732881A76CC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32E32-FF3B-4EF2-B5E1-7AE5DC0DB46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9688D-C919-4104-9E31-2D9120E9E63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A1331-E58C-45B3-AB72-C5C9BBBBB3F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5AB96-EF8F-4199-98BE-0E2A2080DBC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F129D-257C-4178-A97C-5DA3BF9B3A9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85093-9EEA-4BAC-888F-BE86DA963B5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77828-B737-4689-9DCC-C49A3BC320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55702-58B0-4F65-BA7F-BC5EC503576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B5CE6-D329-415F-8655-4FE73A10140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A0110-8C34-4651-A57F-47142041976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CAC1F-35DB-407B-9C77-53C0E01E686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F6544-A6D0-4E5D-B2DD-43D5DCA9794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3A8ED-D959-4FB9-9FD1-C6046F62149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9389F-87CE-41C7-BBCD-FD55093A4BA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B25D4-6624-4864-8CAB-E2E18978196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00200" y="2015640"/>
            <a:ext cx="8677440" cy="22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1a1f0d"/>
                </a:solidFill>
                <a:latin typeface="Century Gothic"/>
              </a:rPr>
              <a:t>Modal verbs</a:t>
            </a:r>
            <a:br>
              <a:rPr sz="6000"/>
            </a:br>
            <a:r>
              <a:rPr b="1" lang="ru-RU" sz="6000" spc="-1" strike="noStrike">
                <a:solidFill>
                  <a:srgbClr val="1a1f0d"/>
                </a:solidFill>
                <a:latin typeface="Century Gothic"/>
              </a:rPr>
              <a:t>Модальные глаголы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490480" y="623520"/>
            <a:ext cx="793116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2490480" y="2006640"/>
            <a:ext cx="793116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you may/ No, you may no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watch TV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listen to music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sit dow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the cinema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taste this apple pi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play computer game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3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60109-AB80-4992-9CBB-3BF97C5B4005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9560" y="623520"/>
            <a:ext cx="78562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509920" y="1689120"/>
            <a:ext cx="795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Put the sentence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into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negativ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d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interrogativ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for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have to wear a uniform at schoo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on’t 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ar a uniform at schoo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o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ar a uniform at school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ry has to wash dish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have to wake up early on Monday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y have to go to school on Satur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m has to work at nigh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have to be polit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 have to play the violin every 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914EB-FA71-4CB5-B1A4-A32C55AEFD9E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499840" y="623880"/>
            <a:ext cx="795996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2499840" y="1763280"/>
            <a:ext cx="79599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hoose the right varia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ob______wash the dishes after dinne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    b) has to 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m is 6 and he _____read very wel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   b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ust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____I ask you a question, pleas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ust   b)can 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y sister____go shopping twice a wee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may   b) have to  c) has 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____visit you friend at the weekend if you lik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may   b) have to  c) mus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____get up at seven o’clock  on Sun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’t   b) mustn’t   c) don’t have 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04040"/>
                </a:solidFill>
                <a:latin typeface="Century Gothic"/>
              </a:rPr>
              <a:t>                                                       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854F9-338C-441E-94C1-0E3C39F2FD14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480760" y="560160"/>
            <a:ext cx="795996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ределение модальных глаголов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481120" y="2006640"/>
            <a:ext cx="83282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к нему говорящего : хочу, могу, должен. Также модальные глаголы выражают значение возможности, необходимости, вероятности, желательности и т.п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9A02C-166E-4D22-BB1F-FD01A8421BE9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518920" y="550800"/>
            <a:ext cx="787572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писок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сновных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одальных глаголов в английском язык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Объект 6" descr=""/>
          <p:cNvPicPr/>
          <p:nvPr/>
        </p:nvPicPr>
        <p:blipFill>
          <a:blip r:embed="rId1"/>
          <a:stretch/>
        </p:blipFill>
        <p:spPr>
          <a:xfrm>
            <a:off x="2517840" y="1938240"/>
            <a:ext cx="7211880" cy="4475160"/>
          </a:xfrm>
          <a:prstGeom prst="rect">
            <a:avLst/>
          </a:prstGeom>
          <a:ln w="0">
            <a:noFill/>
          </a:ln>
        </p:spPr>
      </p:pic>
      <p:sp>
        <p:nvSpPr>
          <p:cNvPr id="1189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184EC-9E0A-40C6-874B-76D58CD7241C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2518920" y="1278000"/>
            <a:ext cx="7931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Ca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Have to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ay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ust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C71D9-CD5A-41F5-8536-6EC86705CE01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72840" y="512640"/>
            <a:ext cx="793908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an</a:t>
            </a:r>
            <a:br>
              <a:rPr sz="3200"/>
            </a:b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2472840" y="1520640"/>
            <a:ext cx="7939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новное значение модального глагола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— способность или возможность что-либо сделат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еводе на русский язык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означает «мочь, уметь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 can swim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н умеет плават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Схема 5" descr=""/>
          <p:cNvPicPr/>
          <p:nvPr/>
        </p:nvPicPr>
        <p:blipFill>
          <a:blip r:embed="rId1"/>
          <a:stretch/>
        </p:blipFill>
        <p:spPr>
          <a:xfrm>
            <a:off x="2378160" y="3309840"/>
            <a:ext cx="7418160" cy="2981520"/>
          </a:xfrm>
          <a:prstGeom prst="rect">
            <a:avLst/>
          </a:prstGeom>
          <a:ln w="0">
            <a:noFill/>
          </a:ln>
        </p:spPr>
      </p:pic>
      <p:sp>
        <p:nvSpPr>
          <p:cNvPr id="1195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A2139-B4B7-4B07-ACC6-26948F0EA989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00200" y="541080"/>
            <a:ext cx="794088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Have t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090080" y="1152360"/>
            <a:ext cx="104540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Have to –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употребляется, чтобы выразить необходимость, "надо", "нужно", «необходимо» - то есть, когда действие совершается под влиянием обстоятельств, необходимости, порожденной внешними фактора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/We/They/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Тебе необходимо(ты должен) быть в школе в 8 часов утр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/She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s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8" name="Схема 3" descr=""/>
          <p:cNvPicPr/>
          <p:nvPr/>
        </p:nvPicPr>
        <p:blipFill>
          <a:blip r:embed="rId1"/>
          <a:stretch/>
        </p:blipFill>
        <p:spPr>
          <a:xfrm>
            <a:off x="2401920" y="3833640"/>
            <a:ext cx="7358040" cy="2756160"/>
          </a:xfrm>
          <a:prstGeom prst="rect">
            <a:avLst/>
          </a:prstGeom>
          <a:ln w="0">
            <a:noFill/>
          </a:ln>
        </p:spPr>
      </p:pic>
      <p:sp>
        <p:nvSpPr>
          <p:cNvPr id="1199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4F7FC-4C83-44C8-9FAF-02BD53BACACF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499840" y="623880"/>
            <a:ext cx="79693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ay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499840" y="1679400"/>
            <a:ext cx="7885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спросить разрешения (официальная форм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о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out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ы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 –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Могу я открыть окн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2" name="Схема 3" descr=""/>
          <p:cNvPicPr/>
          <p:nvPr/>
        </p:nvPicPr>
        <p:blipFill>
          <a:blip r:embed="rId1"/>
          <a:stretch/>
        </p:blipFill>
        <p:spPr>
          <a:xfrm>
            <a:off x="2408400" y="3749760"/>
            <a:ext cx="7368840" cy="2541600"/>
          </a:xfrm>
          <a:prstGeom prst="rect">
            <a:avLst/>
          </a:prstGeom>
          <a:ln w="0">
            <a:noFill/>
          </a:ln>
        </p:spPr>
      </p:pic>
      <p:sp>
        <p:nvSpPr>
          <p:cNvPr id="1203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5CED9-4493-47BC-8A60-855D2AEFE0EA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490840" y="623880"/>
            <a:ext cx="795024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Mus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490840" y="1258920"/>
            <a:ext cx="79502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 для выражения необходимости совершения действия,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 также для выражения приказания или совета. Глагол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сит личностный характер и выражает субъективную необходимость, мы сами решаем, что мы должны, а что нет, т.е. это наши собственные представления. На русский язык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водится «должен»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must go to bed at 9 o’clock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ы должен ложиться спать в 9 час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Схема 3" descr=""/>
          <p:cNvPicPr/>
          <p:nvPr/>
        </p:nvPicPr>
        <p:blipFill>
          <a:blip r:embed="rId1"/>
          <a:stretch/>
        </p:blipFill>
        <p:spPr>
          <a:xfrm>
            <a:off x="2401920" y="3760920"/>
            <a:ext cx="7358040" cy="2786040"/>
          </a:xfrm>
          <a:prstGeom prst="rect">
            <a:avLst/>
          </a:prstGeom>
          <a:ln w="0">
            <a:noFill/>
          </a:ln>
        </p:spPr>
      </p:pic>
      <p:sp>
        <p:nvSpPr>
          <p:cNvPr id="1207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CA2E1-5DF6-4009-972B-B03279C3431C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480760" y="623520"/>
            <a:ext cx="7921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2480760" y="1987200"/>
            <a:ext cx="79218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I can/ No, I can’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wim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jump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ing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limb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u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play tenni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ide a bik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dra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ook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D1737-14AF-4158-9CE6-4FDD7A421FE0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9:03:20Z</dcterms:created>
  <dc:creator>пк</dc:creator>
  <dc:description/>
  <dc:language>en-US</dc:language>
  <cp:lastModifiedBy>Директор</cp:lastModifiedBy>
  <dcterms:modified xsi:type="dcterms:W3CDTF">2018-02-15T02:11:41Z</dcterms:modified>
  <cp:revision>173</cp:revision>
  <dc:subject/>
  <dc:title>Презентация PowerPoint</dc:title>
</cp:coreProperties>
</file>