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A6D-F554-434F-A2BB-9654833B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34C-0C62-4E72-9AEB-7EB1B79A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F234-8119-4A64-9EE2-0EC79463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CE2-666A-4B68-B8A0-E4E3DD9E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1B4-6F2E-4433-A664-C55D7AA3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5E0-B72F-4B27-865E-E330924F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2AE3-8469-4287-B160-52A86445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904-71B8-4A18-9C66-EE4EC875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AD3C-EBE2-43AD-9665-C7A251E8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417-20AB-4C1C-9655-834EDEAC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77E-FB87-4096-B806-E6665299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D0C-55C1-4B7F-8D4D-00A717E1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1EE6-FD9D-4DBA-865D-529004B297C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242640"/>
            <a:ext cx="9144000" cy="13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00"/>
                </a:solidFill>
                <a:latin typeface="Arial Narrow"/>
              </a:rPr>
              <a:t>FUTURE TENSE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6840"/>
            <a:ext cx="9144000" cy="29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PRESENT CONTINU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(BE) GOING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FUTURE SIMPLE “WILL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FUTURE CONTINU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FUTURE PERF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FUTURE PERFECT CONTINU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magen 1" descr=""/>
          <p:cNvPicPr/>
          <p:nvPr/>
        </p:nvPicPr>
        <p:blipFill>
          <a:blip r:embed="rId1"/>
          <a:stretch/>
        </p:blipFill>
        <p:spPr>
          <a:xfrm>
            <a:off x="4421160" y="1574640"/>
            <a:ext cx="334980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"/>
                <a:ea typeface="Arial"/>
              </a:rPr>
              <a:t>KEY</a:t>
            </a:r>
            <a:r>
              <a:rPr b="0" lang="es-ES_tradnl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519200"/>
            <a:ext cx="1051560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00"/>
                </a:solidFill>
                <a:uFillTx/>
                <a:latin typeface="Calibri"/>
              </a:rPr>
              <a:t>GOING TO vs. W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) is going to crash      b) I’ll pone        c) I will be                          d) She’s going to ha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e) I’ll call                        f) He’s going to vote       g) I will love        h) You’re going to 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) I will lend                   j) I’ll have                          k) She’s going to stu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00"/>
                </a:solidFill>
                <a:uFillTx/>
                <a:latin typeface="Calibri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’m staying             b) it’s going to rain                             c) Ann will have finis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d) Peter will be travelling                                 e) Will you marry me?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F) Students won’t have completed                 g) I’ll be play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h) My mother’s starting                                     i) Are you going to stud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j) I will earn                                                          k) I’ll have been plan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PRESENT CONTINOUS 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Arial Narrow"/>
              </a:rPr>
              <a:t>Subject+ </a:t>
            </a:r>
            <a:r>
              <a:rPr b="0" sz="2400" spc="-1" strike="noStrike" u="sng">
                <a:solidFill>
                  <a:srgbClr val="000000"/>
                </a:solidFill>
                <a:uFillTx/>
                <a:latin typeface="Arial Narrow"/>
              </a:rPr>
              <a:t>am/is/are</a:t>
            </a:r>
            <a:r>
              <a:rPr b="0" sz="2400" spc="-1" strike="noStrike">
                <a:solidFill>
                  <a:srgbClr val="000000"/>
                </a:solidFill>
                <a:latin typeface="Arial Narrow"/>
              </a:rPr>
              <a:t>  +verb-ing  + Complemen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22440" y="187596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06360" y="1727280"/>
          <a:ext cx="10503000" cy="1792080"/>
        </p:xfrm>
        <a:graphic>
          <a:graphicData uri="http://schemas.openxmlformats.org/drawingml/2006/table">
            <a:tbl>
              <a:tblPr/>
              <a:tblGrid>
                <a:gridCol w="3500640"/>
                <a:gridCol w="3502080"/>
                <a:gridCol w="3500280"/>
              </a:tblGrid>
              <a:tr h="392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IR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RO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’m going to the cinema tonigh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’m not going to the cinema tonigh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 I going to the cinema tonigh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’s driving home tomorrow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isn’t driving home tomorrow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she driving home tomorrow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3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y’re playing football at 7 pm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y aren’t playing football at 7 pm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 they playing football at 7 pm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47" name="CuadroTexto 2"/>
          <p:cNvSpPr/>
          <p:nvPr/>
        </p:nvSpPr>
        <p:spPr>
          <a:xfrm>
            <a:off x="1139760" y="3670200"/>
            <a:ext cx="10452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 u="sng">
                <a:solidFill>
                  <a:srgbClr val="000000"/>
                </a:solidFill>
                <a:uFillTx/>
                <a:latin typeface="Calibri"/>
              </a:rPr>
              <a:t>FUTURE MEANING</a:t>
            </a:r>
            <a:r>
              <a:rPr b="0" sz="2000" spc="-1" strike="noStrike">
                <a:solidFill>
                  <a:srgbClr val="000000"/>
                </a:solidFill>
                <a:latin typeface="Calibri"/>
              </a:rPr>
              <a:t>: When you have </a:t>
            </a:r>
            <a:r>
              <a:rPr b="1" sz="2000" spc="-1" strike="noStrike" u="sng">
                <a:solidFill>
                  <a:srgbClr val="000000"/>
                </a:solidFill>
                <a:uFillTx/>
                <a:latin typeface="Calibri"/>
              </a:rPr>
              <a:t>already  decided or arranged </a:t>
            </a:r>
            <a:r>
              <a:rPr b="0" sz="2000" spc="-1" strike="noStrike">
                <a:solidFill>
                  <a:srgbClr val="000000"/>
                </a:solidFill>
                <a:latin typeface="Calibri"/>
              </a:rPr>
              <a:t>to do it ( a fixed plan, a dat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(Cuando ya has decidido hacer algo o es algo ya planeado y está muy próximo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Voy al cine esta noche.  I’M GOING TO THE CINEMA TONIGH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Bell MT"/>
              </a:rPr>
              <a:t>TONIGHT, TOMORROW,  THIS AFTERNOON AT 8 0’CLOCK, THIS WEEKEND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>
                <a:solidFill>
                  <a:srgbClr val="000000"/>
                </a:solidFill>
                <a:latin typeface="Bell MT"/>
              </a:rPr>
              <a:t>Note: </a:t>
            </a:r>
            <a:r>
              <a:rPr b="0" i="1" sz="2000" spc="-1" strike="noStrike">
                <a:solidFill>
                  <a:srgbClr val="000000"/>
                </a:solidFill>
                <a:latin typeface="Bell MT"/>
              </a:rPr>
              <a:t>Present Simple can also have a FUTURE value, especially for schedules. “Train leaves at 7 am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BE GOING TO </a:t>
            </a:r>
            <a:br>
              <a:rPr sz="1200"/>
            </a:br>
            <a:r>
              <a:rPr b="0" sz="2400" spc="-1" strike="noStrike">
                <a:solidFill>
                  <a:srgbClr val="000000"/>
                </a:solidFill>
                <a:latin typeface="Arial Narrow"/>
              </a:rPr>
              <a:t>Subject   + </a:t>
            </a:r>
            <a:r>
              <a:rPr b="0" sz="2400" spc="-1" strike="noStrike" u="sng">
                <a:solidFill>
                  <a:srgbClr val="000000"/>
                </a:solidFill>
                <a:uFillTx/>
                <a:latin typeface="Arial Narrow"/>
              </a:rPr>
              <a:t>am/is/are</a:t>
            </a:r>
            <a:r>
              <a:rPr b="0" sz="2400" spc="-1" strike="noStrike">
                <a:solidFill>
                  <a:srgbClr val="000000"/>
                </a:solidFill>
                <a:latin typeface="Arial Narrow"/>
              </a:rPr>
              <a:t> +  GOING TO+ base form  +   complement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38080" y="1690560"/>
          <a:ext cx="10871280" cy="1625760"/>
        </p:xfrm>
        <a:graphic>
          <a:graphicData uri="http://schemas.openxmlformats.org/drawingml/2006/table">
            <a:tbl>
              <a:tblPr/>
              <a:tblGrid>
                <a:gridCol w="3624480"/>
                <a:gridCol w="3622680"/>
                <a:gridCol w="362412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IR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S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’m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 the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’m not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 ther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 I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 ther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’s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y tenn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isn’t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y  tenn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 she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y tenni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’re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it her </a:t>
                      </a:r>
                      <a:r>
                        <a:rPr b="0" i="1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next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wee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 aren’t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it her </a:t>
                      </a:r>
                      <a:r>
                        <a:rPr b="0" i="1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next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wee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 we </a:t>
                      </a:r>
                      <a:r>
                        <a:rPr b="1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ing to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sit her </a:t>
                      </a:r>
                      <a:r>
                        <a:rPr b="0" i="1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next </a:t>
                      </a: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ek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50" name="CuadroTexto 2"/>
          <p:cNvSpPr/>
          <p:nvPr/>
        </p:nvSpPr>
        <p:spPr>
          <a:xfrm>
            <a:off x="1758960" y="3467160"/>
            <a:ext cx="8674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For future  </a:t>
            </a:r>
            <a:r>
              <a:rPr b="1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S and DECISI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You decide to do something in the futu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Predictions </a:t>
            </a:r>
            <a:r>
              <a:rPr b="1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ITH EVIDENCE</a:t>
            </a: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.  Something is going to hap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2 black clouds. IT’S GOING TO RA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Arial"/>
                <a:ea typeface="Arial"/>
              </a:rPr>
              <a:t>Next week, next year, next month, in one year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FUTURE SIMPLE “WILL”</a:t>
            </a:r>
            <a:br>
              <a:rPr sz="4400"/>
            </a:br>
            <a:r>
              <a:rPr b="0" sz="2400" spc="-1" strike="noStrike">
                <a:solidFill>
                  <a:srgbClr val="000000"/>
                </a:solidFill>
                <a:latin typeface="Arial Narrow"/>
              </a:rPr>
              <a:t>Subject+ will (‘ll) +  base form + Complement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33600" y="1690560"/>
          <a:ext cx="8928000" cy="173988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4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IR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RO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’ll have a cup of coffee, plea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ill not have a cup of coffe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you have a cup of coffe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’ll be my frien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won’t be my frien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she be my frien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 will marry m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 won’t marry m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you marry me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53" name="CuadroTexto 2"/>
          <p:cNvSpPr/>
          <p:nvPr/>
        </p:nvSpPr>
        <p:spPr>
          <a:xfrm>
            <a:off x="1308240" y="3451320"/>
            <a:ext cx="1028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000000"/>
                </a:solidFill>
                <a:uFillTx/>
                <a:latin typeface="Calibri"/>
              </a:rPr>
              <a:t>1) PREDITIONS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 about the future with </a:t>
            </a:r>
            <a:r>
              <a:rPr b="1" sz="1800" spc="-1" strike="noStrike" u="sng">
                <a:solidFill>
                  <a:srgbClr val="000000"/>
                </a:solidFill>
                <a:uFillTx/>
                <a:latin typeface="Calibri"/>
              </a:rPr>
              <a:t>NO EVID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(something you think it will happen: think, believe, expect, hope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I think I will pass the exa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2) You decide to do something </a:t>
            </a:r>
            <a:r>
              <a:rPr b="1" sz="1800" spc="-1" strike="noStrike" u="sng">
                <a:solidFill>
                  <a:srgbClr val="000000"/>
                </a:solidFill>
                <a:uFillTx/>
                <a:latin typeface="Calibri"/>
              </a:rPr>
              <a:t>AT THE TIME OF </a:t>
            </a:r>
            <a:r>
              <a:rPr b="1" sz="1800" spc="-1" strike="noStrike">
                <a:solidFill>
                  <a:srgbClr val="000000"/>
                </a:solidFill>
                <a:latin typeface="Calibri"/>
              </a:rPr>
              <a:t>SPEAKING      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It is raining. I’ll take an umbrel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sz="1800" spc="-1" strike="noStrike" u="sng">
                <a:solidFill>
                  <a:srgbClr val="000000"/>
                </a:solidFill>
                <a:uFillTx/>
                <a:latin typeface="Calibri"/>
              </a:rPr>
              <a:t>) OFFERS, PROMISES  and REQUESTS</a:t>
            </a:r>
            <a:r>
              <a:rPr b="1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I’ll help yo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alibri"/>
              </a:rPr>
              <a:t>4) Facts about the future: Christmas day will fall on Tuesday  this yea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 u="sng">
                <a:solidFill>
                  <a:srgbClr val="000000"/>
                </a:solidFill>
                <a:uFillTx/>
                <a:latin typeface="Calibri"/>
              </a:rPr>
              <a:t>5) I’ll have a cup of tea  (in bars and restaurants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Calibri"/>
              </a:rPr>
              <a:t>IN A YEAR, NEXT.., ONE DAY                 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(1ST CONDITIO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alibri"/>
              </a:rPr>
              <a:t>Note</a:t>
            </a:r>
            <a:r>
              <a:rPr b="0" sz="1800" spc="-1" strike="noStrike">
                <a:solidFill>
                  <a:srgbClr val="000000"/>
                </a:solidFill>
                <a:latin typeface="Calibri"/>
              </a:rPr>
              <a:t>: “Shall” + Infinitive has FUTURE VALUE is used only with 1st person singular and plural ( “I” and “ we”) mostly for suggestions and requests.  “Shall I open the window?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BE GOING TO     vs.    FUTURE SIMPLE “WILL”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218960"/>
            <a:ext cx="10515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) Look, that red car over there ____________(crash)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b) Don’t worry about the car; I___________(pone) a tax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c) I think I ___________(be) rich one day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d) She’s pregnant. She ___________(have) a baby so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e) I ___________(call) you when I arrive ho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f) He___________(vote) Obama for the next presidential elec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g) I___________(love) you forev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h) It’s nine o’clock. You __________(be) late again for scho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ll right, I _____________(lend) you some mone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j) I ___________(have) a glass of wine, pleas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k) She__________(study) Medicine at UCLM next ye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FUTURE CONTINUOUS</a:t>
            </a:r>
            <a:br>
              <a:rPr sz="4400"/>
            </a:b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Subjet+   will (‘ll) + be+   verb-ing+  Complements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9800" y="1917720"/>
          <a:ext cx="11582640" cy="1663560"/>
        </p:xfrm>
        <a:graphic>
          <a:graphicData uri="http://schemas.openxmlformats.org/drawingml/2006/table">
            <a:tbl>
              <a:tblPr/>
              <a:tblGrid>
                <a:gridCol w="3861000"/>
                <a:gridCol w="3860640"/>
                <a:gridCol w="386100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IR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RO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9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ill be flying across India this time next ye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on’t be flying across India this time next ye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I be flying across India this time next yea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 will be waiting for you tomo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 won’t be waiting for you tomo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he be waiting for you tomorrow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5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’ll be driving our new ca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 won’t be driving our new ca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we be driving our new ca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58" name="CuadroTexto 2"/>
          <p:cNvSpPr/>
          <p:nvPr/>
        </p:nvSpPr>
        <p:spPr>
          <a:xfrm>
            <a:off x="2273400" y="4064040"/>
            <a:ext cx="858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AN ACTION WILL BE IN PROGRESS AT A CERTAIN TIME IN THE FUTURE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HIS ACTION HAS BEGUN BEFORE THE CERTAIN TIM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Una acción en progreso en un tiempo específico del futuro. “Yo estaré haciendo…dentro de dos años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N ONE YEAR, IN 2 YEARS TIME, THIS TIME NEXT YEAR, TOMORROW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FUTURE PERFECT</a:t>
            </a:r>
            <a:br>
              <a:rPr sz="4400"/>
            </a:b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Suject+ will (‘ll)+  have+  participle + Complements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38080" y="1825560"/>
          <a:ext cx="10782360" cy="2103480"/>
        </p:xfrm>
        <a:graphic>
          <a:graphicData uri="http://schemas.openxmlformats.org/drawingml/2006/table">
            <a:tbl>
              <a:tblPr/>
              <a:tblGrid>
                <a:gridCol w="3594240"/>
                <a:gridCol w="3594240"/>
                <a:gridCol w="3593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IR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RO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’ll have finished school by this time next yea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u won’t have finished school by this time next yea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you have finished by this time next yea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will have had the baby by tomorrow mor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will not have had the baby by tomorrow morning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she have had the baby by tomorrow morn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y will have taken the test by 8 pm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y won’t have taken the test by 8 pm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they have taken the test by 8 pm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61" name="CuadroTexto 2"/>
          <p:cNvSpPr/>
          <p:nvPr/>
        </p:nvSpPr>
        <p:spPr>
          <a:xfrm>
            <a:off x="2122560" y="3776760"/>
            <a:ext cx="85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OMETHING HAVE ALREADY HAPPENED BEFORE A CERTAIN TIME IN THE FUTURE. THE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alibri"/>
              </a:rPr>
              <a:t>ACTION IS COMPLETED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IN A SPECIFIC TIME IN THE FUTU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Yo habré hecho…para el lunes” La acción se completa en un tiempo del futur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MONDAY,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TOMORROW MORNING, </a:t>
            </a: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 8 PM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FUTURE PERFECT CONTINUOUS</a:t>
            </a:r>
            <a:br>
              <a:rPr sz="4400"/>
            </a:b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Subject+  will (‘ll)+    have+ been  +verb-ing+  Complements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38080" y="1825560"/>
          <a:ext cx="10515600" cy="1482840"/>
        </p:xfrm>
        <a:graphic>
          <a:graphicData uri="http://schemas.openxmlformats.org/drawingml/2006/table">
            <a:tbl>
              <a:tblPr/>
              <a:tblGrid>
                <a:gridCol w="3505320"/>
                <a:gridCol w="3505320"/>
                <a:gridCol w="350496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FFIRM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RO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’ll have been studying Math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 won’t have been studying Math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I have been studying Math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will have been reading boo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e won’t have been reading book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she have been reading book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 will have been running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 won’t have been running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ll we have been running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64" name="CuadroTexto 2"/>
          <p:cNvSpPr/>
          <p:nvPr/>
        </p:nvSpPr>
        <p:spPr>
          <a:xfrm>
            <a:off x="1663560" y="3886200"/>
            <a:ext cx="101473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OMETHING HAVE ALREADY HAPPENED BEFORE A CERTAIN TIME IN THE FUTUR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MPHASIS IN THE DURATION OF THE AC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 WILL HAVE BEEN TEACHING ENGLISH FOR FOUR YEARS BY THE TIME I GET MY FINAL DEGREE.  (Habré estado enseñando inglés durante 4 años para cuando obtenga mi último diplo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OR…, THE LAST COUPLE OF HOURS, ALL DAY LO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10515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0000"/>
                </a:solidFill>
                <a:latin typeface="Arial Narrow"/>
              </a:rPr>
              <a:t>PRACTICE ( all tense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520" y="1584360"/>
            <a:ext cx="1123956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a) I can’t join you tonight because I _________(stay) at home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b) The sky is grey. I think it ______________(rain) a lo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c) Ann __________(finish) her assignments by Saturda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d) Peter ____________(travel) across The USA this time next ye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e)  ____________(you/marry) 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f) By the end of May, the students_________(not complete) the training perio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g) In two years time, I ___________(play) golf in Spai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h) My mother _________(start) a new job tomorro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i)  What ____________(study) at UCLM next yea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j) I hope I _________ (earn) more money one da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alibri"/>
              </a:rPr>
              <a:t>k) I _________________(plan) my holiday to New York for 7 hours by 8 p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5T10:53:19Z</dcterms:created>
  <dc:creator>MAYTE GARRIDO</dc:creator>
  <dc:description/>
  <dc:language>en-US</dc:language>
  <cp:lastModifiedBy>MAYTE GARRIDO</cp:lastModifiedBy>
  <dcterms:modified xsi:type="dcterms:W3CDTF">2013-10-08T21:18:23Z</dcterms:modified>
  <cp:revision>28</cp:revision>
  <dc:subject/>
  <dc:title>FUTURE </dc:title>
</cp:coreProperties>
</file>