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862-CBCA-452A-9F1A-96EFEB7B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5BF-424A-48AF-B824-53092291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FB5-9703-483A-A368-39511024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A368-DD4C-473D-B1EA-1ED1C0AB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704-C204-4F94-977F-EF961206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216-BBB0-46EC-B468-01780A2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25B-E34F-466E-9F16-DB225EA0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826-6E22-42ED-8964-92FC91A9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1ED-CAD2-4030-94D9-2D906E02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F38-7BEC-4A63-BEAC-2CE2D9A7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319-82D5-415B-8641-26750677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EA6-08C7-4A52-94BA-DCEC2A00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ACC1-4351-46BE-8924-3AC56CC4732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242640"/>
            <a:ext cx="9144000" cy="13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Arial Narrow"/>
              </a:rPr>
              <a:t>FUTURE TENS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6840"/>
            <a:ext cx="9144000" cy="29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PRESENT CONTINU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(BE) GOING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SIMPLE “WIL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CONTINU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PERF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PERFECT CONTINU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n 1" descr=""/>
          <p:cNvPicPr/>
          <p:nvPr/>
        </p:nvPicPr>
        <p:blipFill>
          <a:blip r:embed="rId1"/>
          <a:stretch/>
        </p:blipFill>
        <p:spPr>
          <a:xfrm>
            <a:off x="4421160" y="1574640"/>
            <a:ext cx="334980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  <a:ea typeface="Arial"/>
              </a:rPr>
              <a:t>KEY</a:t>
            </a:r>
            <a:r>
              <a:rPr b="0" lang="es-ES_tradnl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519200"/>
            <a:ext cx="105156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Calibri"/>
              </a:rPr>
              <a:t>GOING TO vs. W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) is going to crash      b) I’ll pone        c) I will be                          d) She’s going to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e) I’ll call                        f) He’s going to vote       g) I will love        h) You’re going to 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) I will lend                   j) I’ll have                          k) She’s going to stu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Calibri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’m staying             b) it’s going to rain                             c) Ann will have fin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d) Peter will be travelling                                 e) Will you marry me?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) Students won’t have completed                 g) I’ll be play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) My mother’s starting                                     i) Are you going to stud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j) I will earn                                                          k) I’ll have been plan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PRESENT CONTINOU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Subject+ 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Arial Narrow"/>
              </a:rPr>
              <a:t>am/is/are</a:t>
            </a: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  +verb-ing  + Complemen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2440" y="18759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06360" y="1727280"/>
          <a:ext cx="10503000" cy="1792080"/>
        </p:xfrm>
        <a:graphic>
          <a:graphicData uri="http://schemas.openxmlformats.org/drawingml/2006/table">
            <a:tbl>
              <a:tblPr/>
              <a:tblGrid>
                <a:gridCol w="3500640"/>
                <a:gridCol w="3502080"/>
                <a:gridCol w="3500280"/>
              </a:tblGrid>
              <a:tr h="39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going to the cinema tonigh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not going to the cinema tonigh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 I going to the cinema tonigh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’s driving home tomorrow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isn’t driving home tomorrow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she driving home tomorrow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’re playing football at 7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 aren’t playing football at 7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 they playing football at 7 pm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47" name="CuadroTexto 2"/>
          <p:cNvSpPr/>
          <p:nvPr/>
        </p:nvSpPr>
        <p:spPr>
          <a:xfrm>
            <a:off x="1139760" y="3670200"/>
            <a:ext cx="1045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 u="sng">
                <a:solidFill>
                  <a:srgbClr val="000000"/>
                </a:solidFill>
                <a:uFillTx/>
                <a:latin typeface="Calibri"/>
              </a:rPr>
              <a:t>FUTURE MEANING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: When you have </a:t>
            </a:r>
            <a:r>
              <a:rPr b="1" sz="2000" spc="-1" strike="noStrike" u="sng">
                <a:solidFill>
                  <a:srgbClr val="000000"/>
                </a:solidFill>
                <a:uFillTx/>
                <a:latin typeface="Calibri"/>
              </a:rPr>
              <a:t>already  decided or arranged 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to do it ( a fixed plan, a da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(Cuando ya has decidido hacer algo o es algo ya planeado y está muy próxim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Voy al cine esta noche.  I’M GOING TO THE CINEMA TON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Bell MT"/>
              </a:rPr>
              <a:t>TONIGHT, TOMORROW,  THIS AFTERNOON AT 8 0’CLOCK, THIS WEEKEND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>
                <a:solidFill>
                  <a:srgbClr val="000000"/>
                </a:solidFill>
                <a:latin typeface="Bell MT"/>
              </a:rPr>
              <a:t>Note: </a:t>
            </a:r>
            <a:r>
              <a:rPr b="0" i="1" sz="2000" spc="-1" strike="noStrike">
                <a:solidFill>
                  <a:srgbClr val="000000"/>
                </a:solidFill>
                <a:latin typeface="Bell MT"/>
              </a:rPr>
              <a:t>Present Simple can also have a FUTURE value, especially for schedules. “Train leaves at 7 a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BE GOING TO </a:t>
            </a:r>
            <a:br>
              <a:rPr sz="1200"/>
            </a:b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Subject   + 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Arial Narrow"/>
              </a:rPr>
              <a:t>am/is/are</a:t>
            </a: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 +  GOING TO+ base form  +   complement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1690560"/>
          <a:ext cx="10871280" cy="1625760"/>
        </p:xfrm>
        <a:graphic>
          <a:graphicData uri="http://schemas.openxmlformats.org/drawingml/2006/table">
            <a:tbl>
              <a:tblPr/>
              <a:tblGrid>
                <a:gridCol w="3624480"/>
                <a:gridCol w="3622680"/>
                <a:gridCol w="36241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 the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not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 the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 I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 ther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’s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y tenn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isn’t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y  tenn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she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y tenni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’re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 her </a:t>
                      </a:r>
                      <a:r>
                        <a:rPr b="0" i="1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ext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wee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aren’t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 her </a:t>
                      </a:r>
                      <a:r>
                        <a:rPr b="0" i="1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ext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wee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 we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 her </a:t>
                      </a:r>
                      <a:r>
                        <a:rPr b="0" i="1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ext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50" name="CuadroTexto 2"/>
          <p:cNvSpPr/>
          <p:nvPr/>
        </p:nvSpPr>
        <p:spPr>
          <a:xfrm>
            <a:off x="1758960" y="3467160"/>
            <a:ext cx="8674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For future  </a:t>
            </a:r>
            <a:r>
              <a:rPr b="1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S and DECIS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You decide to do something in the futu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Predictions </a:t>
            </a:r>
            <a:r>
              <a:rPr b="1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TH EVIDENCE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.  Something is going to hap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2 black clouds. IT’S GOING TO R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  <a:ea typeface="Arial"/>
              </a:rPr>
              <a:t>Next week, next year, next month, in one year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SIMPLE “WILL”</a:t>
            </a:r>
            <a:br>
              <a:rPr sz="4400"/>
            </a:b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Subject+ will (‘ll) +  base form + Complement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33600" y="1690560"/>
          <a:ext cx="8928000" cy="173988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ll have a cup of coffee, ple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ill not have a cup of coff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you have a cup of coffe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’ll be my frien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on’t be my frien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she be my frien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 will marry m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 won’t marry m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you marry me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53" name="CuadroTexto 2"/>
          <p:cNvSpPr/>
          <p:nvPr/>
        </p:nvSpPr>
        <p:spPr>
          <a:xfrm>
            <a:off x="1308240" y="3451320"/>
            <a:ext cx="1028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1) PREDITIONS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 about the future with </a:t>
            </a: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NO EVID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(something you think it will happen: think, believe, expect, hope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I think I will pass the exa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2) You decide to do something </a:t>
            </a: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AT THE TIME OF </a:t>
            </a:r>
            <a:r>
              <a:rPr b="1" sz="1800" spc="-1" strike="noStrike">
                <a:solidFill>
                  <a:srgbClr val="000000"/>
                </a:solidFill>
                <a:latin typeface="Calibri"/>
              </a:rPr>
              <a:t>SPEAKING     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It is raining. I’ll take an umbrel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) OFFERS, PROMISES  and REQUESTS</a:t>
            </a:r>
            <a:r>
              <a:rPr b="1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I’ll help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4) Facts about the future: Christmas day will fall on Tuesday  this yea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 u="sng">
                <a:solidFill>
                  <a:srgbClr val="000000"/>
                </a:solidFill>
                <a:uFillTx/>
                <a:latin typeface="Calibri"/>
              </a:rPr>
              <a:t>5) I’ll have a cup of tea  (in bars and restaurant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Calibri"/>
              </a:rPr>
              <a:t>IN A YEAR, NEXT.., ONE DAY                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(1ST CONDI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: “Shall” + Infinitive has FUTURE VALUE is used only with 1st person singular and plural ( “I” and “ we”) mostly for suggestions and requests.  “Shall I open the window?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BE GOING TO     vs.    FUTURE SIMPLE “WILL”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218960"/>
            <a:ext cx="10515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) Look, that red car over there ____________(crash)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b) Don’t worry about the car; I___________(pone) a tax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c) I think I ___________(be) rich one da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d) She’s pregnant. She ___________(have) a baby so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e) I ___________(call) you when I arrive h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) He___________(vote) Obama for the next presidential ele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g) I___________(love) you forev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) It’s nine o’clock. You __________(be) late again for scho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ll right, I _____________(lend) you some mone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j) I ___________(have) a glass of wine, ple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k) She__________(study) Medicine at UCLM next ye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CONTINUOUS</a:t>
            </a:r>
            <a:br>
              <a:rPr sz="4400"/>
            </a:b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Subjet+   will (‘ll) + be+   verb-ing+  Complements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9800" y="1917720"/>
          <a:ext cx="11582640" cy="1663560"/>
        </p:xfrm>
        <a:graphic>
          <a:graphicData uri="http://schemas.openxmlformats.org/drawingml/2006/table">
            <a:tbl>
              <a:tblPr/>
              <a:tblGrid>
                <a:gridCol w="3861000"/>
                <a:gridCol w="3860640"/>
                <a:gridCol w="386100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ill be flying across India this time next ye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on’t be flying across India this time next ye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I be flying across India this time next ye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 will be waiting for you tomo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 won’t be waiting for you tomo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he be waiting for you tomorrow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’ll be driving our new c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won’t be driving our new c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we be driving our new c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58" name="CuadroTexto 2"/>
          <p:cNvSpPr/>
          <p:nvPr/>
        </p:nvSpPr>
        <p:spPr>
          <a:xfrm>
            <a:off x="2273400" y="4064040"/>
            <a:ext cx="858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AN ACTION WILL BE IN PROGRESS AT A CERTAIN TIME IN THE FUTURE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HIS ACTION HAS BEGUN BEFORE THE CERTAIN TIM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Una acción en progreso en un tiempo específico del futuro. “Yo estaré haciendo…dentro de dos año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 ONE YEAR, IN 2 YEARS TIME, THIS TIME NEXT YEAR, TOMORROW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PERFECT</a:t>
            </a:r>
            <a:br>
              <a:rPr sz="4400"/>
            </a:b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Suject+ will (‘ll)+  have+  participle + Complements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8080" y="1825560"/>
          <a:ext cx="10782360" cy="2103480"/>
        </p:xfrm>
        <a:graphic>
          <a:graphicData uri="http://schemas.openxmlformats.org/drawingml/2006/table">
            <a:tbl>
              <a:tblPr/>
              <a:tblGrid>
                <a:gridCol w="3594240"/>
                <a:gridCol w="3594240"/>
                <a:gridCol w="3593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’ll have finished school by this time next ye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 won’t have finished school by this time next ye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you have finished by this time next ye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ill have had the baby by tomorrow mor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ill not have had the baby by tomorrow morn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she have had the baby by tomorrow morn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 will have taken the test by 8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 won’t have taken the test by 8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they have taken the test by 8 pm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1" name="CuadroTexto 2"/>
          <p:cNvSpPr/>
          <p:nvPr/>
        </p:nvSpPr>
        <p:spPr>
          <a:xfrm>
            <a:off x="2122560" y="377676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OMETHING HAVE ALREADY HAPPENED BEFORE A CERTAIN TIME IN THE FUTURE. THE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alibri"/>
              </a:rPr>
              <a:t>ACTION IS COMPLETED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IN A SPECIFIC TIME IN THE FUTU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Yo habré hecho…para el lunes” La acción se completa en un tiempo del futur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MONDAY,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TOMORROW MORNING,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8 PM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PERFECT CONTINUOUS</a:t>
            </a:r>
            <a:br>
              <a:rPr sz="4400"/>
            </a:b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Subject+  will (‘ll)+    have+ been  +verb-ing+  Complements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8080" y="1825560"/>
          <a:ext cx="10515600" cy="148284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  <a:gridCol w="35049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ll have been studying Math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on’t have been studying Math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I have been studying Math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ill have been reading boo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on’t have been reading book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she have been reading book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will have been runn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won’t have been runn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we have been running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4" name="CuadroTexto 2"/>
          <p:cNvSpPr/>
          <p:nvPr/>
        </p:nvSpPr>
        <p:spPr>
          <a:xfrm>
            <a:off x="1663560" y="3886200"/>
            <a:ext cx="101473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OMETHING HAVE ALREADY HAPPENED BEFORE A CERTAIN TIME IN THE FUTU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MPHASIS IN THE DURATION OF THE A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 WILL HAVE BEEN TEACHING ENGLISH FOR FOUR YEARS BY THE TIME I GET MY FINAL DEGREE.  (Habré estado enseñando inglés durante 4 años para cuando obtenga mi último diplo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OR…, THE LAST COUPLE OF HOURS, ALL DAY LO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10515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PRACTICE ( all tense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584360"/>
            <a:ext cx="1123956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) I can’t join you tonight because I _________(stay) at home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b) The sky is grey. I think it ______________(rain) a l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c) Ann __________(finish) her assignments by Satur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d) Peter ____________(travel) across The USA this time next ye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e)  ____________(you/marry) 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) By the end of May, the students_________(not complete) the training peri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g) In two years time, I ___________(play) golf in Sp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) My mother _________(start) a new job tomorro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)  What ____________(study) at UCLM next ye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j) I hope I _________ (earn) more money one 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k) I _________________(plan) my holiday to New York for 7 hours by 8 p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5T10:53:19Z</dcterms:created>
  <dc:creator>MAYTE GARRIDO</dc:creator>
  <dc:description/>
  <dc:language>en-US</dc:language>
  <cp:lastModifiedBy>MAYTE GARRIDO</cp:lastModifiedBy>
  <dcterms:modified xsi:type="dcterms:W3CDTF">2013-10-08T21:18:23Z</dcterms:modified>
  <cp:revision>28</cp:revision>
  <dc:subject/>
  <dc:title>FUTURE </dc:title>
</cp:coreProperties>
</file>