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D52F-07FC-4962-83D1-DF7FE4F2D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938F-FC49-4FA7-BB16-C1EA3D2D1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C9C2-7573-41B7-AF0D-CCD330AD7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57E9-6DEA-4B08-A8D3-761DA61A8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9F57-83F8-40AE-AEE1-585D85A2C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EB62-AA45-4401-9ED3-1A47A7337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6729-4350-4227-8925-9369DDD32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1BC2-30CC-469E-B93A-D66FD9793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DA51-025B-4A15-AED4-BE935572A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9962-B5E9-48CF-A812-690C8443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8DBD-5289-42F3-B03F-86642EF17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37B6-EDF0-489A-84F1-FBED2147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98030-F49E-4FAD-B898-B1BFB333549D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242640"/>
            <a:ext cx="9144000" cy="13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000000"/>
                </a:solidFill>
                <a:latin typeface="Arial Narrow"/>
              </a:rPr>
              <a:t>FUTURE TENSES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6840"/>
            <a:ext cx="9144000" cy="292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PRESENT CONTINUO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(BE) GOING 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FUTURE SIMPLE “WILL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FUTURE CONTINUO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FUTURE PERFEC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FUTURE PERFECT CONTINUO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Imagen 1" descr=""/>
          <p:cNvPicPr/>
          <p:nvPr/>
        </p:nvPicPr>
        <p:blipFill>
          <a:blip r:embed="rId1"/>
          <a:stretch/>
        </p:blipFill>
        <p:spPr>
          <a:xfrm>
            <a:off x="4421160" y="1574640"/>
            <a:ext cx="3349800" cy="17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c00000"/>
                </a:solidFill>
                <a:latin typeface="Arial"/>
                <a:ea typeface="Arial"/>
              </a:rPr>
              <a:t>KEY</a:t>
            </a:r>
            <a:r>
              <a:rPr b="0" lang="es-ES_tradnl" sz="44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838080" y="1519200"/>
            <a:ext cx="10515600" cy="51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 u="sng">
                <a:solidFill>
                  <a:srgbClr val="000000"/>
                </a:solidFill>
                <a:uFillTx/>
                <a:latin typeface="Calibri"/>
              </a:rPr>
              <a:t>GOING TO vs. WI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a) is going to crash      b) I’ll pone        c) I will be                          d) She’s going to hav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e) I’ll call                        f) He’s going to vote       g) I will love        h) You’re going to b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i) I will lend                   j) I’ll have                          k) She’s going to stud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 u="sng">
                <a:solidFill>
                  <a:srgbClr val="000000"/>
                </a:solidFill>
                <a:uFillTx/>
                <a:latin typeface="Calibri"/>
              </a:rPr>
              <a:t>PRACT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I’m staying             b) it’s going to rain                             c) Ann will have finish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d) Peter will be travelling                                 e) Will you marry me?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F) Students won’t have completed                 g) I’ll be play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h) My mother’s starting                                     i) Are you going to study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j) I will earn                                                          k) I’ll have been plann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ES_tradnl" sz="4400" spc="-1" strike="noStrike">
                <a:solidFill>
                  <a:srgbClr val="c00000"/>
                </a:solidFill>
                <a:latin typeface="Arial Narrow"/>
              </a:rPr>
              <a:t>PRESENT CONTINOUS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 Narrow"/>
              </a:rPr>
              <a:t>Subject+ </a:t>
            </a:r>
            <a:r>
              <a:rPr b="0" sz="2400" spc="-1" strike="noStrike" u="sng">
                <a:solidFill>
                  <a:srgbClr val="000000"/>
                </a:solidFill>
                <a:uFillTx/>
                <a:latin typeface="Arial Narrow"/>
              </a:rPr>
              <a:t>am/is/are</a:t>
            </a:r>
            <a:r>
              <a:rPr b="0" sz="2400" spc="-1" strike="noStrike">
                <a:solidFill>
                  <a:srgbClr val="000000"/>
                </a:solidFill>
                <a:latin typeface="Arial Narrow"/>
              </a:rPr>
              <a:t>  +verb-ing  + Complement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22440" y="187596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206360" y="1727280"/>
          <a:ext cx="10503000" cy="1792080"/>
        </p:xfrm>
        <a:graphic>
          <a:graphicData uri="http://schemas.openxmlformats.org/drawingml/2006/table">
            <a:tbl>
              <a:tblPr/>
              <a:tblGrid>
                <a:gridCol w="3500640"/>
                <a:gridCol w="3502080"/>
                <a:gridCol w="3500280"/>
              </a:tblGrid>
              <a:tr h="392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FFIRM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EG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TERROG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531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’m going to the cinema tonight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’m not going to the cinema tonight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m I going to the cinema tonight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he’s driving home tomorrow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he isn’t driving home tomorrow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 she driving home tomorrow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33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ey’re playing football at 7 pm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ey aren’t playing football at 7 pm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e they playing football at 7 pm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  <p:sp>
        <p:nvSpPr>
          <p:cNvPr id="47" name="CuadroTexto 2"/>
          <p:cNvSpPr/>
          <p:nvPr/>
        </p:nvSpPr>
        <p:spPr>
          <a:xfrm>
            <a:off x="1139760" y="3670200"/>
            <a:ext cx="10452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 u="sng">
                <a:solidFill>
                  <a:srgbClr val="000000"/>
                </a:solidFill>
                <a:uFillTx/>
                <a:latin typeface="Calibri"/>
              </a:rPr>
              <a:t>FUTURE MEANING</a:t>
            </a:r>
            <a:r>
              <a:rPr b="0" sz="2000" spc="-1" strike="noStrike">
                <a:solidFill>
                  <a:srgbClr val="000000"/>
                </a:solidFill>
                <a:latin typeface="Calibri"/>
              </a:rPr>
              <a:t>: When you have </a:t>
            </a:r>
            <a:r>
              <a:rPr b="1" sz="2000" spc="-1" strike="noStrike" u="sng">
                <a:solidFill>
                  <a:srgbClr val="000000"/>
                </a:solidFill>
                <a:uFillTx/>
                <a:latin typeface="Calibri"/>
              </a:rPr>
              <a:t>already  decided or arranged </a:t>
            </a:r>
            <a:r>
              <a:rPr b="0" sz="2000" spc="-1" strike="noStrike">
                <a:solidFill>
                  <a:srgbClr val="000000"/>
                </a:solidFill>
                <a:latin typeface="Calibri"/>
              </a:rPr>
              <a:t>to do it ( a fixed plan, a dat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Calibri"/>
              </a:rPr>
              <a:t>(Cuando ya has decidido hacer algo o es algo ya planeado y está muy próximo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Calibri"/>
              </a:rPr>
              <a:t>Voy al cine esta noche.  I’M GOING TO THE CINEMA TONIGH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Bell MT"/>
              </a:rPr>
              <a:t>TONIGHT, TOMORROW,  THIS AFTERNOON AT 8 0’CLOCK, THIS WEEKEND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000" spc="-1" strike="noStrike">
                <a:solidFill>
                  <a:srgbClr val="000000"/>
                </a:solidFill>
                <a:latin typeface="Bell MT"/>
              </a:rPr>
              <a:t>Note: </a:t>
            </a:r>
            <a:r>
              <a:rPr b="0" i="1" sz="2000" spc="-1" strike="noStrike">
                <a:solidFill>
                  <a:srgbClr val="000000"/>
                </a:solidFill>
                <a:latin typeface="Bell MT"/>
              </a:rPr>
              <a:t>Present Simple can also have a FUTURE value, especially for schedules. “Train leaves at 7 am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c00000"/>
                </a:solidFill>
                <a:latin typeface="Arial Narrow"/>
              </a:rPr>
              <a:t>BE GOING TO </a:t>
            </a:r>
            <a:br>
              <a:rPr sz="1200"/>
            </a:br>
            <a:r>
              <a:rPr b="0" sz="2400" spc="-1" strike="noStrike">
                <a:solidFill>
                  <a:srgbClr val="000000"/>
                </a:solidFill>
                <a:latin typeface="Arial Narrow"/>
              </a:rPr>
              <a:t>Subject   + </a:t>
            </a:r>
            <a:r>
              <a:rPr b="0" sz="2400" spc="-1" strike="noStrike" u="sng">
                <a:solidFill>
                  <a:srgbClr val="000000"/>
                </a:solidFill>
                <a:uFillTx/>
                <a:latin typeface="Arial Narrow"/>
              </a:rPr>
              <a:t>am/is/are</a:t>
            </a:r>
            <a:r>
              <a:rPr b="0" sz="2400" spc="-1" strike="noStrike">
                <a:solidFill>
                  <a:srgbClr val="000000"/>
                </a:solidFill>
                <a:latin typeface="Arial Narrow"/>
              </a:rPr>
              <a:t> +  GOING TO+ base form  +   complements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838080" y="1690560"/>
          <a:ext cx="10871280" cy="1625760"/>
        </p:xfrm>
        <a:graphic>
          <a:graphicData uri="http://schemas.openxmlformats.org/drawingml/2006/table">
            <a:tbl>
              <a:tblPr/>
              <a:tblGrid>
                <a:gridCol w="3624480"/>
                <a:gridCol w="3622680"/>
                <a:gridCol w="3624120"/>
              </a:tblGrid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FFIRM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EG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ESTIO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38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’m </a:t>
                      </a:r>
                      <a:r>
                        <a:rPr b="1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oing to </a:t>
                      </a: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o ther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’m not </a:t>
                      </a:r>
                      <a:r>
                        <a:rPr b="1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oing to </a:t>
                      </a: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o ther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m I </a:t>
                      </a:r>
                      <a:r>
                        <a:rPr b="1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oing to </a:t>
                      </a: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o ther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38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he’s </a:t>
                      </a:r>
                      <a:r>
                        <a:rPr b="1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oing to </a:t>
                      </a: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ay tenni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he isn’t </a:t>
                      </a:r>
                      <a:r>
                        <a:rPr b="1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oing to </a:t>
                      </a: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ay  tenni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 she </a:t>
                      </a:r>
                      <a:r>
                        <a:rPr b="1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oing to </a:t>
                      </a: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ay tennis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e’re </a:t>
                      </a:r>
                      <a:r>
                        <a:rPr b="1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oing to </a:t>
                      </a: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sit her </a:t>
                      </a:r>
                      <a:r>
                        <a:rPr b="0" i="1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next</a:t>
                      </a: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week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e aren’t </a:t>
                      </a:r>
                      <a:r>
                        <a:rPr b="1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oing to </a:t>
                      </a: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sit her </a:t>
                      </a:r>
                      <a:r>
                        <a:rPr b="0" i="1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next</a:t>
                      </a: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week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e we </a:t>
                      </a:r>
                      <a:r>
                        <a:rPr b="1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oing to </a:t>
                      </a: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sit her </a:t>
                      </a:r>
                      <a:r>
                        <a:rPr b="0" i="1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next </a:t>
                      </a: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eek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  <p:sp>
        <p:nvSpPr>
          <p:cNvPr id="50" name="CuadroTexto 2"/>
          <p:cNvSpPr/>
          <p:nvPr/>
        </p:nvSpPr>
        <p:spPr>
          <a:xfrm>
            <a:off x="1758960" y="3467160"/>
            <a:ext cx="8674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  <a:ea typeface="Arial"/>
              </a:rPr>
              <a:t>For future  </a:t>
            </a:r>
            <a:r>
              <a:rPr b="1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LANS and DECISION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  <a:ea typeface="Arial"/>
              </a:rPr>
              <a:t>You decide to do something in the futur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  <a:ea typeface="Arial"/>
              </a:rPr>
              <a:t>Predictions </a:t>
            </a:r>
            <a:r>
              <a:rPr b="1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ITH EVIDENCE</a:t>
            </a:r>
            <a:r>
              <a:rPr b="0" sz="2000" spc="-1" strike="noStrike">
                <a:solidFill>
                  <a:srgbClr val="000000"/>
                </a:solidFill>
                <a:latin typeface="Arial"/>
                <a:ea typeface="Arial"/>
              </a:rPr>
              <a:t>.  Something is going to happ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  <a:ea typeface="Arial"/>
              </a:rPr>
              <a:t>There are 2 black clouds. IT’S GOING TO RAI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Arial"/>
                <a:ea typeface="Arial"/>
              </a:rPr>
              <a:t>Next week, next year, next month, in one year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c00000"/>
                </a:solidFill>
                <a:latin typeface="Arial Narrow"/>
              </a:rPr>
              <a:t>FUTURE SIMPLE “WILL”</a:t>
            </a:r>
            <a:br>
              <a:rPr sz="4400"/>
            </a:br>
            <a:r>
              <a:rPr b="0" sz="2400" spc="-1" strike="noStrike">
                <a:solidFill>
                  <a:srgbClr val="000000"/>
                </a:solidFill>
                <a:latin typeface="Arial Narrow"/>
              </a:rPr>
              <a:t>Subject+ will (‘ll) +  base form + Complements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33600" y="1690560"/>
          <a:ext cx="8928000" cy="1739880"/>
        </p:xfrm>
        <a:graphic>
          <a:graphicData uri="http://schemas.openxmlformats.org/drawingml/2006/table">
            <a:tbl>
              <a:tblPr/>
              <a:tblGrid>
                <a:gridCol w="2976480"/>
                <a:gridCol w="2975040"/>
                <a:gridCol w="2976480"/>
              </a:tblGrid>
              <a:tr h="409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FFIRM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EG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TERROG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’ll have a cup of coffee, pleas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will not have a cup of coffe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ll you have a cup of coffe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he’ll be my friend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he won’t be my friend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ll she be my friend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 will marry me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 won’t marry me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ll you marry me?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  <p:sp>
        <p:nvSpPr>
          <p:cNvPr id="53" name="CuadroTexto 2"/>
          <p:cNvSpPr/>
          <p:nvPr/>
        </p:nvSpPr>
        <p:spPr>
          <a:xfrm>
            <a:off x="1308240" y="3451320"/>
            <a:ext cx="10283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 u="sng">
                <a:solidFill>
                  <a:srgbClr val="000000"/>
                </a:solidFill>
                <a:uFillTx/>
                <a:latin typeface="Calibri"/>
              </a:rPr>
              <a:t>1) PREDITIONS</a:t>
            </a:r>
            <a:r>
              <a:rPr b="0" sz="1800" spc="-1" strike="noStrike">
                <a:solidFill>
                  <a:srgbClr val="000000"/>
                </a:solidFill>
                <a:latin typeface="Calibri"/>
              </a:rPr>
              <a:t> about the future with </a:t>
            </a:r>
            <a:r>
              <a:rPr b="1" sz="1800" spc="-1" strike="noStrike" u="sng">
                <a:solidFill>
                  <a:srgbClr val="000000"/>
                </a:solidFill>
                <a:uFillTx/>
                <a:latin typeface="Calibri"/>
              </a:rPr>
              <a:t>NO EVID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alibri"/>
              </a:rPr>
              <a:t>(something you think it will happen: think, believe, expect, hope…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alibri"/>
              </a:rPr>
              <a:t>I think I will pass the exam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alibri"/>
              </a:rPr>
              <a:t>2) You decide to do something </a:t>
            </a:r>
            <a:r>
              <a:rPr b="1" sz="1800" spc="-1" strike="noStrike" u="sng">
                <a:solidFill>
                  <a:srgbClr val="000000"/>
                </a:solidFill>
                <a:uFillTx/>
                <a:latin typeface="Calibri"/>
              </a:rPr>
              <a:t>AT THE TIME OF </a:t>
            </a:r>
            <a:r>
              <a:rPr b="1" sz="1800" spc="-1" strike="noStrike">
                <a:solidFill>
                  <a:srgbClr val="000000"/>
                </a:solidFill>
                <a:latin typeface="Calibri"/>
              </a:rPr>
              <a:t>SPEAKING      </a:t>
            </a:r>
            <a:r>
              <a:rPr b="0" sz="1800" spc="-1" strike="noStrike">
                <a:solidFill>
                  <a:srgbClr val="000000"/>
                </a:solidFill>
                <a:latin typeface="Calibri"/>
              </a:rPr>
              <a:t>It is raining. I’ll take an umbrela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sz="1800" spc="-1" strike="noStrike" u="sng">
                <a:solidFill>
                  <a:srgbClr val="000000"/>
                </a:solidFill>
                <a:uFillTx/>
                <a:latin typeface="Calibri"/>
              </a:rPr>
              <a:t>) OFFERS, PROMISES  and REQUESTS</a:t>
            </a:r>
            <a:r>
              <a:rPr b="1" sz="18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sz="1800" spc="-1" strike="noStrike">
                <a:solidFill>
                  <a:srgbClr val="000000"/>
                </a:solidFill>
                <a:latin typeface="Calibri"/>
              </a:rPr>
              <a:t>I’ll help you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alibri"/>
              </a:rPr>
              <a:t>4) Facts about the future: Christmas day will fall on Tuesday  this yea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800" spc="-1" strike="noStrike" u="sng">
                <a:solidFill>
                  <a:srgbClr val="000000"/>
                </a:solidFill>
                <a:uFillTx/>
                <a:latin typeface="Calibri"/>
              </a:rPr>
              <a:t>5) I’ll have a cup of tea  (in bars and restaurants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Calibri"/>
              </a:rPr>
              <a:t>IN A YEAR, NEXT.., ONE DAY                 </a:t>
            </a:r>
            <a:r>
              <a:rPr b="0" sz="1800" spc="-1" strike="noStrike">
                <a:solidFill>
                  <a:srgbClr val="000000"/>
                </a:solidFill>
                <a:latin typeface="Calibri"/>
              </a:rPr>
              <a:t>(1ST CONDITIONAL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alibri"/>
              </a:rPr>
              <a:t>Note</a:t>
            </a:r>
            <a:r>
              <a:rPr b="0" sz="1800" spc="-1" strike="noStrike">
                <a:solidFill>
                  <a:srgbClr val="000000"/>
                </a:solidFill>
                <a:latin typeface="Calibri"/>
              </a:rPr>
              <a:t>: “Shall” + Infinitive has FUTURE VALUE is used only with 1st person singular and plural ( “I” and “ we”) mostly for suggestions and requests.  “Shall I open the window?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c00000"/>
                </a:solidFill>
                <a:latin typeface="Arial Narrow"/>
              </a:rPr>
              <a:t>BE GOING TO     vs.    FUTURE SIMPLE “WILL”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838080" y="1218960"/>
            <a:ext cx="10515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a) Look, that red car over there ____________(crash)!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b) Don’t worry about the car; I___________(pone) a taxi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c) I think I ___________(be) rich one day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d) She’s pregnant. She ___________(have) a baby soo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e) I ___________(call) you when I arrive hom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f) He___________(vote) Obama for the next presidential electio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g) I___________(love) you foreve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h) It’s nine o’clock. You __________(be) late again for school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All right, I _____________(lend) you some money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j) I ___________(have) a glass of wine, pleas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k) She__________(study) Medicine at UCLM next yea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c00000"/>
                </a:solidFill>
                <a:latin typeface="Arial Narrow"/>
              </a:rPr>
              <a:t>FUTURE CONTINUOUS</a:t>
            </a:r>
            <a:br>
              <a:rPr sz="4400"/>
            </a:b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Subjet+   will (‘ll) + be+   verb-ing+  Complements 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69800" y="1917720"/>
          <a:ext cx="11582640" cy="1663560"/>
        </p:xfrm>
        <a:graphic>
          <a:graphicData uri="http://schemas.openxmlformats.org/drawingml/2006/table">
            <a:tbl>
              <a:tblPr/>
              <a:tblGrid>
                <a:gridCol w="3861000"/>
                <a:gridCol w="3860640"/>
                <a:gridCol w="3861000"/>
              </a:tblGrid>
              <a:tr h="376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FFIRM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EG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TERROG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596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will be flying across India this time next yea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won’t be flying across India this time next yea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ll I be flying across India this time next year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44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e will be waiting for you tomorr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e won’t be waiting for you tomorr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ll he be waiting for you tomorrow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45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e’ll be driving our new car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e won’t be driving our new car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ll we be driving our new car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  <p:sp>
        <p:nvSpPr>
          <p:cNvPr id="58" name="CuadroTexto 2"/>
          <p:cNvSpPr/>
          <p:nvPr/>
        </p:nvSpPr>
        <p:spPr>
          <a:xfrm>
            <a:off x="2273400" y="4064040"/>
            <a:ext cx="8585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Calibri"/>
              </a:rPr>
              <a:t>AN ACTION WILL BE IN PROGRESS AT A CERTAIN TIME IN THE FUTURE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THIS ACTION HAS BEGUN BEFORE THE CERTAIN TIM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Una acción en progreso en un tiempo específico del futuro. “Yo estaré haciendo…dentro de dos años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IN ONE YEAR, IN 2 YEARS TIME, THIS TIME NEXT YEAR, TOMORROW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c00000"/>
                </a:solidFill>
                <a:latin typeface="Arial Narrow"/>
              </a:rPr>
              <a:t>FUTURE PERFECT</a:t>
            </a:r>
            <a:br>
              <a:rPr sz="4400"/>
            </a:b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Suject+ will (‘ll)+  have+  participle + Complements 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838080" y="1825560"/>
          <a:ext cx="10782360" cy="2103480"/>
        </p:xfrm>
        <a:graphic>
          <a:graphicData uri="http://schemas.openxmlformats.org/drawingml/2006/table">
            <a:tbl>
              <a:tblPr/>
              <a:tblGrid>
                <a:gridCol w="3594240"/>
                <a:gridCol w="3594240"/>
                <a:gridCol w="359388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FFIRM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EG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TERROG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’ll have finished school by this time next year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 won’t have finished school by this time next year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ll you have finished by this time next year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he will have had the baby by tomorrow morning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he will not have had the baby by tomorrow morning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ll she have had the baby by tomorrow morning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78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ey will have taken the test by 8 pm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ey won’t have taken the test by 8 pm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ll they have taken the test by 8 pm?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  <p:sp>
        <p:nvSpPr>
          <p:cNvPr id="61" name="CuadroTexto 2"/>
          <p:cNvSpPr/>
          <p:nvPr/>
        </p:nvSpPr>
        <p:spPr>
          <a:xfrm>
            <a:off x="2122560" y="3776760"/>
            <a:ext cx="85341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SOMETHING HAVE ALREADY HAPPENED BEFORE A CERTAIN TIME IN THE FUTURE. THE 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Calibri"/>
              </a:rPr>
              <a:t>ACTION IS COMPLETED 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IN A SPECIFIC TIME IN THE FUTUR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Yo habré hecho…para el lunes” La acción se completa en un tiempo del futuro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BY 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MONDAY, </a:t>
            </a: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BY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 TOMORROW MORNING, </a:t>
            </a: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BY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 8 PM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c00000"/>
                </a:solidFill>
                <a:latin typeface="Arial Narrow"/>
              </a:rPr>
              <a:t>FUTURE PERFECT CONTINUOUS</a:t>
            </a:r>
            <a:br>
              <a:rPr sz="4400"/>
            </a:b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Subject+  will (‘ll)+    have+ been  +verb-ing+  Complements 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838080" y="1825560"/>
          <a:ext cx="10515600" cy="1482840"/>
        </p:xfrm>
        <a:graphic>
          <a:graphicData uri="http://schemas.openxmlformats.org/drawingml/2006/table">
            <a:tbl>
              <a:tblPr/>
              <a:tblGrid>
                <a:gridCol w="3505320"/>
                <a:gridCol w="3505320"/>
                <a:gridCol w="3504960"/>
              </a:tblGrid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FFIRM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EG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TERROG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’ll have been studying Math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won’t have been studying Maths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ll I have been studying Maths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he will have been reading book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he won’t have been reading books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ll she have been reading books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e will have been running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e won’t have been running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ll we have been running?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  <p:sp>
        <p:nvSpPr>
          <p:cNvPr id="64" name="CuadroTexto 2"/>
          <p:cNvSpPr/>
          <p:nvPr/>
        </p:nvSpPr>
        <p:spPr>
          <a:xfrm>
            <a:off x="1663560" y="3886200"/>
            <a:ext cx="1014732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SOMETHING HAVE ALREADY HAPPENED BEFORE A CERTAIN TIME IN THE FUTUR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EMPHASIS IN THE DURATION OF THE ACTION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I WILL HAVE BEEN TEACHING ENGLISH FOR FOUR YEARS BY THE TIME I GET MY FINAL DEGREE.  (Habré estado enseñando inglés durante 4 años para cuando obtenga mi último diplom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FOR…, THE LAST COUPLE OF HOURS, ALL DAY LONG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10515600" cy="104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c00000"/>
                </a:solidFill>
                <a:latin typeface="Arial Narrow"/>
              </a:rPr>
              <a:t>PRACTICE ( all tenses)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80520" y="1584360"/>
            <a:ext cx="11239560" cy="51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a) I can’t join you tonight because I _________(stay) at home)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b) The sky is grey. I think it ______________(rain) a lo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c) Ann __________(finish) her assignments by Saturday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d) Peter ____________(travel) across The USA this time next yea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e)  ____________(you/marry) m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f) By the end of May, the students_________(not complete) the training perio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g) In two years time, I ___________(play) golf in Spai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h) My mother _________(start) a new job tomorrow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i)  What ____________(study) at UCLM next yea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j) I hope I _________ (earn) more money one day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k) I _________________(plan) my holiday to New York for 7 hours by 8 p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5T10:53:19Z</dcterms:created>
  <dc:creator>MAYTE GARRIDO</dc:creator>
  <dc:description/>
  <dc:language>en-US</dc:language>
  <cp:lastModifiedBy>MAYTE GARRIDO</cp:lastModifiedBy>
  <dcterms:modified xsi:type="dcterms:W3CDTF">2013-10-08T21:18:23Z</dcterms:modified>
  <cp:revision>28</cp:revision>
  <dc:subject/>
  <dc:title>FUTURE </dc:title>
</cp:coreProperties>
</file>