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834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100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37800" y="750600"/>
            <a:ext cx="5008680" cy="375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8680" y="4757400"/>
            <a:ext cx="5505480" cy="450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512280"/>
            <a:ext cx="298296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7360" y="9512280"/>
            <a:ext cx="298296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C811CFC-D0D9-4C2C-B73D-A18EA02FAE6B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97360" y="9512280"/>
            <a:ext cx="29829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F455906-C7A9-4EB0-8978-708A0F1BBCCE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8680" y="4757400"/>
            <a:ext cx="550548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97360" y="9512280"/>
            <a:ext cx="29829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41C8421-B3C1-480E-BFD1-CD3BEBE6DDBD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8680" y="4757400"/>
            <a:ext cx="5505480" cy="450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дел механики, в котором изучается равновесие абсолютно твердых тел, называется </a:t>
            </a:r>
            <a:r>
              <a:rPr b="1" lang="ru-RU" sz="1200" spc="-1" strike="noStrike" u="sng">
                <a:solidFill>
                  <a:srgbClr val="333399"/>
                </a:solidFill>
                <a:uFillTx/>
                <a:latin typeface="Arial"/>
              </a:rPr>
              <a:t>стати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тело покоится, то говорят, что оно находится в равновесии. Но тело будет находиться в равновесии даже если оно будет двигаться прямолинейно и равномер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вновесие тела – это состояние покоя или равномерного и прямолинейного движения те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круг нас нет ни одного тела, на которое не действовали бы силы. Под действием этих сил тела деформирую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ыяснении условий равновесия деформированных тел необходимо учитывать величину и характер деформации, что усложняет выдвинутую задачу. Поэтому для выяснения основных законов равновесия удобно ввести понятие абсолютно твердого те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бсолютно твердое тело – тело, у которого деформации, возникающие под действием приложенных к нему сил, пренебрежимо ма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условия равновесия т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8680" y="4757400"/>
            <a:ext cx="5505480" cy="450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применение правила моментов сил к решению классической задачи висящей лам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87A5-927B-40D4-BE80-ACBB2627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B992-1EDD-4CED-AE95-8C76BD4D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EECB-078B-4BCC-BDBA-EF2625CF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C384-574C-4CA4-98DE-D63D7D90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BCCC-F309-487C-B919-A5AF9ED8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6D10-69EC-4F1F-A256-8E5E5F5D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DB96-072C-42A7-BE3B-B5850C68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24B0-CC58-480A-9066-D3C27C5E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B5CD-B792-4CA5-994F-A0527761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BB0C-2921-404A-A4AF-22D76D00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27AB-3C58-4B3E-B101-8D16CD8E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CB48-2ECA-4B99-855B-EDE421C6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41EE-BAC8-4589-A29B-786D1D97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B892-B3DF-4E13-9011-DDC5EBCD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DC4D-A944-49AE-84BF-F3E9EEB6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C39B-A484-46A9-9367-59142837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C2A8-18EC-4B32-B2E8-6182095D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4473-39E9-41FD-B735-E82CCEC6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0093-D535-4478-92B9-B9AE8113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46EE-D6C7-45D3-B6A9-2A5A4E62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69B0-D470-4C0F-9AE3-39F27AF2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C790-1A40-499F-BC03-310203A8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6BC4-832A-4DCB-9931-FE5DF628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EE83-CCAB-43B2-8F02-19E42767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4B2E-43B9-429C-8E9F-27BAF6FEEA65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C3C4-65E1-4139-A8A5-98F8AF28FB6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B77C-D0AC-4D17-B9A5-E3A79573292B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B796-EF1D-4838-8DC1-CF66ABFA673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9F8B-0C71-4748-8F7C-308A8DEDA94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Статика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119320" y="53262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68FF-2112-4352-9BF0-57FB443CF18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атика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дел механики, в котором изучается равновесие абсолютно твердых тел, называетс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тат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овесие тела – это состояние покоя или равномерного и прямолинейного движения т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бсолютно твердое тело – тело, у которого деформации, возникающие под действием приложенных к нему сил, пренебрежимо ма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8048520" y="6272280"/>
            <a:ext cx="406440" cy="500040"/>
          </a:xfrm>
          <a:custGeom>
            <a:avLst/>
            <a:gdLst>
              <a:gd name="textAreaLeft" fmla="*/ 26280 w 406440"/>
              <a:gd name="textAreaRight" fmla="*/ 380160 w 406440"/>
              <a:gd name="textAreaTop" fmla="*/ 26280 h 500040"/>
              <a:gd name="textAreaBottom" fmla="*/ 473760 h 500040"/>
            </a:gdLst>
            <a:ahLst/>
            <a:rect l="textAreaLeft" t="textAreaTop" r="textAreaRight" b="textAreaBottom"/>
            <a:pathLst>
              <a:path w="21600" h="26570">
                <a:moveTo>
                  <a:pt x="0" y="0"/>
                </a:moveTo>
                <a:lnTo>
                  <a:pt x="21600" y="0"/>
                </a:lnTo>
                <a:lnTo>
                  <a:pt x="21600" y="26570"/>
                </a:lnTo>
                <a:lnTo>
                  <a:pt x="0" y="26570"/>
                </a:lnTo>
                <a:close/>
              </a:path>
              <a:path fill="lightenLess" w="21600" h="265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0">
                <a:moveTo>
                  <a:pt x="21600" y="0"/>
                </a:moveTo>
                <a:lnTo>
                  <a:pt x="21600" y="26570"/>
                </a:lnTo>
                <a:lnTo>
                  <a:pt x="20200" y="25170"/>
                </a:lnTo>
                <a:lnTo>
                  <a:pt x="20200" y="1400"/>
                </a:lnTo>
                <a:close/>
              </a:path>
              <a:path fill="darkenLess" w="21600" h="26570">
                <a:moveTo>
                  <a:pt x="21600" y="26570"/>
                </a:moveTo>
                <a:lnTo>
                  <a:pt x="0" y="26570"/>
                </a:lnTo>
                <a:lnTo>
                  <a:pt x="1400" y="25170"/>
                </a:lnTo>
                <a:lnTo>
                  <a:pt x="20200" y="25170"/>
                </a:lnTo>
                <a:close/>
              </a:path>
              <a:path fill="lighten" w="21600" h="26570">
                <a:moveTo>
                  <a:pt x="0" y="265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0"/>
                </a:lnTo>
                <a:close/>
              </a:path>
              <a:path fill="darken" w="21600" h="26570">
                <a:moveTo>
                  <a:pt x="10800" y="6322"/>
                </a:moveTo>
                <a:lnTo>
                  <a:pt x="13376" y="8933"/>
                </a:lnTo>
                <a:lnTo>
                  <a:pt x="13376" y="7192"/>
                </a:lnTo>
                <a:lnTo>
                  <a:pt x="15152" y="7192"/>
                </a:lnTo>
                <a:lnTo>
                  <a:pt x="15152" y="10709"/>
                </a:lnTo>
                <a:lnTo>
                  <a:pt x="17763" y="13285"/>
                </a:lnTo>
                <a:lnTo>
                  <a:pt x="16109" y="13285"/>
                </a:lnTo>
                <a:lnTo>
                  <a:pt x="16109" y="20474"/>
                </a:lnTo>
                <a:lnTo>
                  <a:pt x="5491" y="20474"/>
                </a:lnTo>
                <a:lnTo>
                  <a:pt x="5491" y="13285"/>
                </a:lnTo>
                <a:lnTo>
                  <a:pt x="3837" y="13285"/>
                </a:lnTo>
                <a:close/>
              </a:path>
              <a:path fill="darkenLess" w="21600" h="26570">
                <a:moveTo>
                  <a:pt x="13376" y="8933"/>
                </a:moveTo>
                <a:lnTo>
                  <a:pt x="13376" y="7192"/>
                </a:lnTo>
                <a:lnTo>
                  <a:pt x="15152" y="7192"/>
                </a:lnTo>
                <a:lnTo>
                  <a:pt x="15152" y="10709"/>
                </a:lnTo>
                <a:close/>
              </a:path>
              <a:path fill="darkenLess" w="21600" h="26570">
                <a:moveTo>
                  <a:pt x="9877" y="16784"/>
                </a:moveTo>
                <a:lnTo>
                  <a:pt x="11723" y="16784"/>
                </a:lnTo>
                <a:lnTo>
                  <a:pt x="11723" y="20474"/>
                </a:lnTo>
                <a:lnTo>
                  <a:pt x="16109" y="20474"/>
                </a:lnTo>
                <a:lnTo>
                  <a:pt x="16109" y="13285"/>
                </a:lnTo>
                <a:lnTo>
                  <a:pt x="5491" y="13285"/>
                </a:lnTo>
                <a:lnTo>
                  <a:pt x="5491" y="20474"/>
                </a:lnTo>
                <a:lnTo>
                  <a:pt x="9877" y="2047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ПЛЕЧО СИЛЫ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ечом силы 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ется кратчайшее расстояние от оси вращения до линии действия си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5998-F1B5-4206-A786-960F2B48009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МОМЕНТ СИЛЫ.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едение  силы на ее плечо называется моментом си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ица момента силы 1 Н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AB46-F464-4C61-B904-1F0311706EF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82AC-AE72-493C-8E35-E9B9D6BF55A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словия равновес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ердое тело находится в равновесии, если геометрическая сумма всех сил, приложенных к нему, равна ну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ердое тело находится в равновесии, если алгебраическая сумма моментов всех сил, действующих на него относительно любой оси, равна ну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2944800" y="5986440"/>
            <a:ext cx="3498840" cy="579600"/>
          </a:xfrm>
          <a:prstGeom prst="rect">
            <a:avLst/>
          </a:prstGeom>
          <a:noFill/>
          <a:ln w="28440">
            <a:solidFill>
              <a:srgbClr val="a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М</a:t>
            </a:r>
            <a:r>
              <a:rPr b="0" lang="ru-RU" sz="28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М</a:t>
            </a:r>
            <a:r>
              <a:rPr b="0" lang="ru-RU" sz="28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М</a:t>
            </a:r>
            <a:r>
              <a:rPr b="0" lang="ru-RU" sz="28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…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84"/>
          <p:cNvGrpSpPr/>
          <p:nvPr/>
        </p:nvGrpSpPr>
        <p:grpSpPr>
          <a:xfrm>
            <a:off x="2743200" y="3191040"/>
            <a:ext cx="3324240" cy="671760"/>
            <a:chOff x="2743200" y="3191040"/>
            <a:chExt cx="3324240" cy="671760"/>
          </a:xfrm>
        </p:grpSpPr>
        <p:grpSp>
          <p:nvGrpSpPr>
            <p:cNvPr id="123" name="Group 158"/>
            <p:cNvGrpSpPr/>
            <p:nvPr/>
          </p:nvGrpSpPr>
          <p:grpSpPr>
            <a:xfrm>
              <a:off x="2784600" y="3281400"/>
              <a:ext cx="629640" cy="579600"/>
              <a:chOff x="2784600" y="3281400"/>
              <a:chExt cx="629640" cy="579600"/>
            </a:xfrm>
          </p:grpSpPr>
          <p:sp>
            <p:nvSpPr>
              <p:cNvPr id="124" name="Text Box 159"/>
              <p:cNvSpPr/>
              <p:nvPr/>
            </p:nvSpPr>
            <p:spPr>
              <a:xfrm>
                <a:off x="2784600" y="3281400"/>
                <a:ext cx="6296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Arial"/>
                  </a:rPr>
                  <a:t>F</a:t>
                </a:r>
                <a:r>
                  <a:rPr b="1" lang="en-US" sz="2800" spc="-1" strike="noStrike" baseline="-25000">
                    <a:solidFill>
                      <a:srgbClr val="0000cc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160"/>
              <p:cNvSpPr/>
              <p:nvPr/>
            </p:nvSpPr>
            <p:spPr>
              <a:xfrm>
                <a:off x="2904840" y="3338640"/>
                <a:ext cx="17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161"/>
            <p:cNvGrpSpPr/>
            <p:nvPr/>
          </p:nvGrpSpPr>
          <p:grpSpPr>
            <a:xfrm>
              <a:off x="3448080" y="3283200"/>
              <a:ext cx="630000" cy="579600"/>
              <a:chOff x="3448080" y="3283200"/>
              <a:chExt cx="630000" cy="579600"/>
            </a:xfrm>
          </p:grpSpPr>
          <p:sp>
            <p:nvSpPr>
              <p:cNvPr id="127" name="Text Box 162"/>
              <p:cNvSpPr/>
              <p:nvPr/>
            </p:nvSpPr>
            <p:spPr>
              <a:xfrm>
                <a:off x="3448080" y="3283200"/>
                <a:ext cx="630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Arial"/>
                  </a:rPr>
                  <a:t>F</a:t>
                </a:r>
                <a:r>
                  <a:rPr b="1" lang="en-US" sz="2800" spc="-1" strike="noStrike" baseline="-25000">
                    <a:solidFill>
                      <a:srgbClr val="0000cc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63"/>
              <p:cNvSpPr/>
              <p:nvPr/>
            </p:nvSpPr>
            <p:spPr>
              <a:xfrm>
                <a:off x="3568320" y="3340440"/>
                <a:ext cx="17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164"/>
            <p:cNvGrpSpPr/>
            <p:nvPr/>
          </p:nvGrpSpPr>
          <p:grpSpPr>
            <a:xfrm>
              <a:off x="4024440" y="3276720"/>
              <a:ext cx="629640" cy="579600"/>
              <a:chOff x="4024440" y="3276720"/>
              <a:chExt cx="629640" cy="579600"/>
            </a:xfrm>
          </p:grpSpPr>
          <p:sp>
            <p:nvSpPr>
              <p:cNvPr id="130" name="Text Box 165"/>
              <p:cNvSpPr/>
              <p:nvPr/>
            </p:nvSpPr>
            <p:spPr>
              <a:xfrm>
                <a:off x="4024440" y="3276720"/>
                <a:ext cx="6296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Arial"/>
                  </a:rPr>
                  <a:t>F</a:t>
                </a:r>
                <a:r>
                  <a:rPr b="1" lang="en-US" sz="2800" spc="-1" strike="noStrike" baseline="-25000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166"/>
              <p:cNvSpPr/>
              <p:nvPr/>
            </p:nvSpPr>
            <p:spPr>
              <a:xfrm>
                <a:off x="4144680" y="3333960"/>
                <a:ext cx="17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Text Box 167"/>
            <p:cNvSpPr/>
            <p:nvPr/>
          </p:nvSpPr>
          <p:spPr>
            <a:xfrm>
              <a:off x="4361040" y="3251160"/>
              <a:ext cx="136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+  …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68"/>
            <p:cNvSpPr/>
            <p:nvPr/>
          </p:nvSpPr>
          <p:spPr>
            <a:xfrm>
              <a:off x="3146400" y="326736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69"/>
            <p:cNvSpPr/>
            <p:nvPr/>
          </p:nvSpPr>
          <p:spPr>
            <a:xfrm>
              <a:off x="3814920" y="327024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83"/>
            <p:cNvSpPr/>
            <p:nvPr/>
          </p:nvSpPr>
          <p:spPr>
            <a:xfrm>
              <a:off x="2743200" y="3191040"/>
              <a:ext cx="3324240" cy="66816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Box 151"/>
          <p:cNvSpPr/>
          <p:nvPr/>
        </p:nvSpPr>
        <p:spPr>
          <a:xfrm>
            <a:off x="6908760" y="6365880"/>
            <a:ext cx="390600" cy="368280"/>
          </a:xfrm>
          <a:prstGeom prst="rect">
            <a:avLst/>
          </a:prstGeom>
          <a:noFill/>
          <a:ln w="38160">
            <a:solidFill>
              <a:srgbClr val="8a8a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2"/>
          <p:cNvSpPr/>
          <p:nvPr/>
        </p:nvSpPr>
        <p:spPr>
          <a:xfrm>
            <a:off x="7526160" y="6332400"/>
            <a:ext cx="392400" cy="368280"/>
          </a:xfrm>
          <a:prstGeom prst="rect">
            <a:avLst/>
          </a:prstGeom>
          <a:noFill/>
          <a:ln w="38160">
            <a:solidFill>
              <a:srgbClr val="8a8a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3"/>
          <p:cNvSpPr/>
          <p:nvPr/>
        </p:nvSpPr>
        <p:spPr>
          <a:xfrm>
            <a:off x="8048520" y="6272280"/>
            <a:ext cx="406440" cy="500040"/>
          </a:xfrm>
          <a:custGeom>
            <a:avLst/>
            <a:gdLst>
              <a:gd name="textAreaLeft" fmla="*/ 26280 w 406440"/>
              <a:gd name="textAreaRight" fmla="*/ 380160 w 406440"/>
              <a:gd name="textAreaTop" fmla="*/ 26280 h 500040"/>
              <a:gd name="textAreaBottom" fmla="*/ 473760 h 500040"/>
            </a:gdLst>
            <a:ahLst/>
            <a:rect l="textAreaLeft" t="textAreaTop" r="textAreaRight" b="textAreaBottom"/>
            <a:pathLst>
              <a:path w="21600" h="26570">
                <a:moveTo>
                  <a:pt x="0" y="0"/>
                </a:moveTo>
                <a:lnTo>
                  <a:pt x="21600" y="0"/>
                </a:lnTo>
                <a:lnTo>
                  <a:pt x="21600" y="26570"/>
                </a:lnTo>
                <a:lnTo>
                  <a:pt x="0" y="26570"/>
                </a:lnTo>
                <a:close/>
              </a:path>
              <a:path fill="lightenLess" w="21600" h="265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0">
                <a:moveTo>
                  <a:pt x="21600" y="0"/>
                </a:moveTo>
                <a:lnTo>
                  <a:pt x="21600" y="26570"/>
                </a:lnTo>
                <a:lnTo>
                  <a:pt x="20200" y="25170"/>
                </a:lnTo>
                <a:lnTo>
                  <a:pt x="20200" y="1400"/>
                </a:lnTo>
                <a:close/>
              </a:path>
              <a:path fill="darkenLess" w="21600" h="26570">
                <a:moveTo>
                  <a:pt x="21600" y="26570"/>
                </a:moveTo>
                <a:lnTo>
                  <a:pt x="0" y="26570"/>
                </a:lnTo>
                <a:lnTo>
                  <a:pt x="1400" y="25170"/>
                </a:lnTo>
                <a:lnTo>
                  <a:pt x="20200" y="25170"/>
                </a:lnTo>
                <a:close/>
              </a:path>
              <a:path fill="lighten" w="21600" h="26570">
                <a:moveTo>
                  <a:pt x="0" y="265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0"/>
                </a:lnTo>
                <a:close/>
              </a:path>
              <a:path fill="darken" w="21600" h="26570">
                <a:moveTo>
                  <a:pt x="10800" y="6322"/>
                </a:moveTo>
                <a:lnTo>
                  <a:pt x="13376" y="8933"/>
                </a:lnTo>
                <a:lnTo>
                  <a:pt x="13376" y="7192"/>
                </a:lnTo>
                <a:lnTo>
                  <a:pt x="15152" y="7192"/>
                </a:lnTo>
                <a:lnTo>
                  <a:pt x="15152" y="10709"/>
                </a:lnTo>
                <a:lnTo>
                  <a:pt x="17763" y="13285"/>
                </a:lnTo>
                <a:lnTo>
                  <a:pt x="16109" y="13285"/>
                </a:lnTo>
                <a:lnTo>
                  <a:pt x="16109" y="20474"/>
                </a:lnTo>
                <a:lnTo>
                  <a:pt x="5491" y="20474"/>
                </a:lnTo>
                <a:lnTo>
                  <a:pt x="5491" y="13285"/>
                </a:lnTo>
                <a:lnTo>
                  <a:pt x="3837" y="13285"/>
                </a:lnTo>
                <a:close/>
              </a:path>
              <a:path fill="darkenLess" w="21600" h="26570">
                <a:moveTo>
                  <a:pt x="13376" y="8933"/>
                </a:moveTo>
                <a:lnTo>
                  <a:pt x="13376" y="7192"/>
                </a:lnTo>
                <a:lnTo>
                  <a:pt x="15152" y="7192"/>
                </a:lnTo>
                <a:lnTo>
                  <a:pt x="15152" y="10709"/>
                </a:lnTo>
                <a:close/>
              </a:path>
              <a:path fill="darkenLess" w="21600" h="26570">
                <a:moveTo>
                  <a:pt x="9877" y="16784"/>
                </a:moveTo>
                <a:lnTo>
                  <a:pt x="11723" y="16784"/>
                </a:lnTo>
                <a:lnTo>
                  <a:pt x="11723" y="20474"/>
                </a:lnTo>
                <a:lnTo>
                  <a:pt x="16109" y="20474"/>
                </a:lnTo>
                <a:lnTo>
                  <a:pt x="16109" y="13285"/>
                </a:lnTo>
                <a:lnTo>
                  <a:pt x="5491" y="13285"/>
                </a:lnTo>
                <a:lnTo>
                  <a:pt x="5491" y="20474"/>
                </a:lnTo>
                <a:lnTo>
                  <a:pt x="9877" y="2047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тная запись Майкрософт</cp:lastModifiedBy>
  <dcterms:modified xsi:type="dcterms:W3CDTF">2022-11-13T14:43:07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