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834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100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37800" y="750600"/>
            <a:ext cx="5008680" cy="375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8680" y="4757400"/>
            <a:ext cx="5505480" cy="450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512280"/>
            <a:ext cx="298296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7360" y="9512280"/>
            <a:ext cx="298296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846466A-AD66-436E-A7B6-614DFC9ADAEB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97360" y="9512280"/>
            <a:ext cx="29829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7969B08-7431-4E74-97B0-79E9F22A7DB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8680" y="4757400"/>
            <a:ext cx="550548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97360" y="9512280"/>
            <a:ext cx="29829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A53FC54-2BA7-4A76-955A-04E4EBCB8FE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8680" y="4757400"/>
            <a:ext cx="5505480" cy="450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дел механики, в котором изучается равновесие абсолютно твердых тел, называется </a:t>
            </a:r>
            <a:r>
              <a:rPr b="1" lang="ru-RU" sz="1200" spc="-1" strike="noStrike" u="sng">
                <a:solidFill>
                  <a:srgbClr val="333399"/>
                </a:solidFill>
                <a:uFillTx/>
                <a:latin typeface="Arial"/>
              </a:rPr>
              <a:t>стати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тело покоится, то говорят, что оно находится в равновесии. Но тело будет находиться в равновесии даже если оно будет двигаться прямолинейно и равномер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вновесие тела – это состояние покоя или равномерного и прямолинейного движения те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круг нас нет ни одного тела, на которое не действовали бы силы. Под действием этих сил тела деформирую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ыяснении условий равновесия деформированных тел необходимо учитывать величину и характер деформации, что усложняет выдвинутую задачу. Поэтому для выяснения основных законов равновесия удобно ввести понятие абсолютно твердого те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бсолютно твердое тело – тело, у которого деформации, возникающие под действием приложенных к нему сил, пренебрежимо ма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условия равновесия т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8680" y="4757400"/>
            <a:ext cx="5505480" cy="450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применение правила моментов сил к решению классической задачи висящей лам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9D3E-FFC4-4B36-A738-52618DF6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093D-5D58-49DA-BF7F-F6AED35F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4C92-F396-464D-9927-80DF745E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C905-841C-407A-B8E2-0AD834E1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B8CB-C93F-4A4C-80AA-04D0BFC8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EBAC-7FE5-4078-849C-BD27614D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40D2-F847-44DE-9B16-5A62F068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2EAC-5BF4-4A3E-B9B3-EAB5C8C6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29B7-5EDA-4743-85A6-6BDE1A4A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1589-59E5-4A27-97C6-DBC23A7C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C81A-E4B2-41B0-8AB6-06D3DC10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D3D0-D504-43BE-8661-38924907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39BB-2AF3-4B91-8FD7-9888D3A9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22F6-591C-42D7-902B-F039F052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BE5B-469C-4B12-86D4-2A0CD1CF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3128-B46B-4C44-A5A1-2A160A15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64D9-940C-4B28-ACC6-7A1E3284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52B4-3AD5-496A-B0F0-AFAB59CD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2E60-43F7-43A9-A8D9-247C7A64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D1F2-43B5-4416-8CD4-029DE378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2A9A-8FAB-4EC4-9A5B-9BDD5005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49F3-43AA-412F-8563-A98A98EE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831F-94B9-4248-9B67-4EEFD818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3F27-3516-42CB-8F18-E78A1926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F7EF-BA9A-4760-B97C-D30C9CA30DDE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825E-290C-42E0-8CE0-6C2B7CC0043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11C5-92E0-4F36-A1F6-F08FB3F35EAC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D292-94E4-467C-B339-6207E6B7022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695C-100C-4A1A-A0FD-A88CA17D0BF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Статика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119320" y="53262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7099-4219-4EC9-AAED-5B8D622A3D6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атика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дел механики, в котором изучается равновесие абсолютно твердых тел, называетс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тат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овесие тела – это состояние покоя или равномерного и прямолинейного движения т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бсолютно твердое тело – тело, у которого деформации, возникающие под действием приложенных к нему сил, пренебрежимо ма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8048520" y="6272280"/>
            <a:ext cx="406440" cy="500040"/>
          </a:xfrm>
          <a:custGeom>
            <a:avLst/>
            <a:gdLst>
              <a:gd name="textAreaLeft" fmla="*/ 26280 w 406440"/>
              <a:gd name="textAreaRight" fmla="*/ 380160 w 406440"/>
              <a:gd name="textAreaTop" fmla="*/ 26280 h 500040"/>
              <a:gd name="textAreaBottom" fmla="*/ 473760 h 500040"/>
            </a:gdLst>
            <a:ahLst/>
            <a:rect l="textAreaLeft" t="textAreaTop" r="textAreaRight" b="textAreaBottom"/>
            <a:pathLst>
              <a:path w="21600" h="26570">
                <a:moveTo>
                  <a:pt x="0" y="0"/>
                </a:moveTo>
                <a:lnTo>
                  <a:pt x="21600" y="0"/>
                </a:lnTo>
                <a:lnTo>
                  <a:pt x="21600" y="26570"/>
                </a:lnTo>
                <a:lnTo>
                  <a:pt x="0" y="26570"/>
                </a:lnTo>
                <a:close/>
              </a:path>
              <a:path fill="lightenLess" w="21600" h="265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0">
                <a:moveTo>
                  <a:pt x="21600" y="0"/>
                </a:moveTo>
                <a:lnTo>
                  <a:pt x="21600" y="26570"/>
                </a:lnTo>
                <a:lnTo>
                  <a:pt x="20200" y="25170"/>
                </a:lnTo>
                <a:lnTo>
                  <a:pt x="20200" y="1400"/>
                </a:lnTo>
                <a:close/>
              </a:path>
              <a:path fill="darkenLess" w="21600" h="26570">
                <a:moveTo>
                  <a:pt x="21600" y="26570"/>
                </a:moveTo>
                <a:lnTo>
                  <a:pt x="0" y="26570"/>
                </a:lnTo>
                <a:lnTo>
                  <a:pt x="1400" y="25170"/>
                </a:lnTo>
                <a:lnTo>
                  <a:pt x="20200" y="25170"/>
                </a:lnTo>
                <a:close/>
              </a:path>
              <a:path fill="lighten" w="21600" h="26570">
                <a:moveTo>
                  <a:pt x="0" y="265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0"/>
                </a:lnTo>
                <a:close/>
              </a:path>
              <a:path fill="darken" w="21600" h="26570">
                <a:moveTo>
                  <a:pt x="10800" y="6322"/>
                </a:moveTo>
                <a:lnTo>
                  <a:pt x="13376" y="8933"/>
                </a:lnTo>
                <a:lnTo>
                  <a:pt x="13376" y="7192"/>
                </a:lnTo>
                <a:lnTo>
                  <a:pt x="15152" y="7192"/>
                </a:lnTo>
                <a:lnTo>
                  <a:pt x="15152" y="10709"/>
                </a:lnTo>
                <a:lnTo>
                  <a:pt x="17763" y="13285"/>
                </a:lnTo>
                <a:lnTo>
                  <a:pt x="16109" y="13285"/>
                </a:lnTo>
                <a:lnTo>
                  <a:pt x="16109" y="20474"/>
                </a:lnTo>
                <a:lnTo>
                  <a:pt x="5491" y="20474"/>
                </a:lnTo>
                <a:lnTo>
                  <a:pt x="5491" y="13285"/>
                </a:lnTo>
                <a:lnTo>
                  <a:pt x="3837" y="13285"/>
                </a:lnTo>
                <a:close/>
              </a:path>
              <a:path fill="darkenLess" w="21600" h="26570">
                <a:moveTo>
                  <a:pt x="13376" y="8933"/>
                </a:moveTo>
                <a:lnTo>
                  <a:pt x="13376" y="7192"/>
                </a:lnTo>
                <a:lnTo>
                  <a:pt x="15152" y="7192"/>
                </a:lnTo>
                <a:lnTo>
                  <a:pt x="15152" y="10709"/>
                </a:lnTo>
                <a:close/>
              </a:path>
              <a:path fill="darkenLess" w="21600" h="26570">
                <a:moveTo>
                  <a:pt x="9877" y="16784"/>
                </a:moveTo>
                <a:lnTo>
                  <a:pt x="11723" y="16784"/>
                </a:lnTo>
                <a:lnTo>
                  <a:pt x="11723" y="20474"/>
                </a:lnTo>
                <a:lnTo>
                  <a:pt x="16109" y="20474"/>
                </a:lnTo>
                <a:lnTo>
                  <a:pt x="16109" y="13285"/>
                </a:lnTo>
                <a:lnTo>
                  <a:pt x="5491" y="13285"/>
                </a:lnTo>
                <a:lnTo>
                  <a:pt x="5491" y="20474"/>
                </a:lnTo>
                <a:lnTo>
                  <a:pt x="9877" y="2047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ПЛЕЧО СИЛЫ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ечом силы 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ется кратчайшее расстояние от оси вращения до линии действия си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1C9C-337E-443B-851A-007EB48D803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МОМЕНТ СИЛЫ.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едение  силы на ее плечо называется моментом си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ица момента силы 1 Н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009C-CA15-4366-97B3-538B7E80B12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E428-6730-4649-869E-AABD97A2CC3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словия равновес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ердое тело находится в равновесии, если геометрическая сумма всех сил, приложенных к нему, равна ну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ердое тело находится в равновесии, если алгебраическая сумма моментов всех сил, действующих на него относительно любой оси, равна ну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2944800" y="5986440"/>
            <a:ext cx="3498840" cy="579600"/>
          </a:xfrm>
          <a:prstGeom prst="rect">
            <a:avLst/>
          </a:prstGeom>
          <a:noFill/>
          <a:ln w="28440">
            <a:solidFill>
              <a:srgbClr val="a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М</a:t>
            </a:r>
            <a:r>
              <a:rPr b="0" lang="ru-RU" sz="28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М</a:t>
            </a:r>
            <a:r>
              <a:rPr b="0" lang="ru-RU" sz="28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М</a:t>
            </a:r>
            <a:r>
              <a:rPr b="0" lang="ru-RU" sz="28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…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84"/>
          <p:cNvGrpSpPr/>
          <p:nvPr/>
        </p:nvGrpSpPr>
        <p:grpSpPr>
          <a:xfrm>
            <a:off x="2743200" y="3191040"/>
            <a:ext cx="3324240" cy="671760"/>
            <a:chOff x="2743200" y="3191040"/>
            <a:chExt cx="3324240" cy="671760"/>
          </a:xfrm>
        </p:grpSpPr>
        <p:grpSp>
          <p:nvGrpSpPr>
            <p:cNvPr id="123" name="Group 158"/>
            <p:cNvGrpSpPr/>
            <p:nvPr/>
          </p:nvGrpSpPr>
          <p:grpSpPr>
            <a:xfrm>
              <a:off x="2784600" y="3281400"/>
              <a:ext cx="629640" cy="579600"/>
              <a:chOff x="2784600" y="3281400"/>
              <a:chExt cx="629640" cy="579600"/>
            </a:xfrm>
          </p:grpSpPr>
          <p:sp>
            <p:nvSpPr>
              <p:cNvPr id="124" name="Text Box 159"/>
              <p:cNvSpPr/>
              <p:nvPr/>
            </p:nvSpPr>
            <p:spPr>
              <a:xfrm>
                <a:off x="2784600" y="3281400"/>
                <a:ext cx="6296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Arial"/>
                  </a:rPr>
                  <a:t>F</a:t>
                </a:r>
                <a:r>
                  <a:rPr b="1" lang="en-US" sz="2800" spc="-1" strike="noStrike" baseline="-25000">
                    <a:solidFill>
                      <a:srgbClr val="0000cc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160"/>
              <p:cNvSpPr/>
              <p:nvPr/>
            </p:nvSpPr>
            <p:spPr>
              <a:xfrm>
                <a:off x="2904840" y="3338640"/>
                <a:ext cx="17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161"/>
            <p:cNvGrpSpPr/>
            <p:nvPr/>
          </p:nvGrpSpPr>
          <p:grpSpPr>
            <a:xfrm>
              <a:off x="3448080" y="3283200"/>
              <a:ext cx="630000" cy="579600"/>
              <a:chOff x="3448080" y="3283200"/>
              <a:chExt cx="630000" cy="579600"/>
            </a:xfrm>
          </p:grpSpPr>
          <p:sp>
            <p:nvSpPr>
              <p:cNvPr id="127" name="Text Box 162"/>
              <p:cNvSpPr/>
              <p:nvPr/>
            </p:nvSpPr>
            <p:spPr>
              <a:xfrm>
                <a:off x="3448080" y="3283200"/>
                <a:ext cx="630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Arial"/>
                  </a:rPr>
                  <a:t>F</a:t>
                </a:r>
                <a:r>
                  <a:rPr b="1" lang="en-US" sz="2800" spc="-1" strike="noStrike" baseline="-25000">
                    <a:solidFill>
                      <a:srgbClr val="0000cc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63"/>
              <p:cNvSpPr/>
              <p:nvPr/>
            </p:nvSpPr>
            <p:spPr>
              <a:xfrm>
                <a:off x="3568320" y="3340440"/>
                <a:ext cx="17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164"/>
            <p:cNvGrpSpPr/>
            <p:nvPr/>
          </p:nvGrpSpPr>
          <p:grpSpPr>
            <a:xfrm>
              <a:off x="4024440" y="3276720"/>
              <a:ext cx="629640" cy="579600"/>
              <a:chOff x="4024440" y="3276720"/>
              <a:chExt cx="629640" cy="579600"/>
            </a:xfrm>
          </p:grpSpPr>
          <p:sp>
            <p:nvSpPr>
              <p:cNvPr id="130" name="Text Box 165"/>
              <p:cNvSpPr/>
              <p:nvPr/>
            </p:nvSpPr>
            <p:spPr>
              <a:xfrm>
                <a:off x="4024440" y="3276720"/>
                <a:ext cx="6296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Arial"/>
                  </a:rPr>
                  <a:t>F</a:t>
                </a:r>
                <a:r>
                  <a:rPr b="1" lang="en-US" sz="2800" spc="-1" strike="noStrike" baseline="-25000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166"/>
              <p:cNvSpPr/>
              <p:nvPr/>
            </p:nvSpPr>
            <p:spPr>
              <a:xfrm>
                <a:off x="4144680" y="3333960"/>
                <a:ext cx="17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Text Box 167"/>
            <p:cNvSpPr/>
            <p:nvPr/>
          </p:nvSpPr>
          <p:spPr>
            <a:xfrm>
              <a:off x="4361040" y="3251160"/>
              <a:ext cx="136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+  …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68"/>
            <p:cNvSpPr/>
            <p:nvPr/>
          </p:nvSpPr>
          <p:spPr>
            <a:xfrm>
              <a:off x="3146400" y="326736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69"/>
            <p:cNvSpPr/>
            <p:nvPr/>
          </p:nvSpPr>
          <p:spPr>
            <a:xfrm>
              <a:off x="3814920" y="327024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83"/>
            <p:cNvSpPr/>
            <p:nvPr/>
          </p:nvSpPr>
          <p:spPr>
            <a:xfrm>
              <a:off x="2743200" y="3191040"/>
              <a:ext cx="3324240" cy="66816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Box 151"/>
          <p:cNvSpPr/>
          <p:nvPr/>
        </p:nvSpPr>
        <p:spPr>
          <a:xfrm>
            <a:off x="6908760" y="6365880"/>
            <a:ext cx="390600" cy="368280"/>
          </a:xfrm>
          <a:prstGeom prst="rect">
            <a:avLst/>
          </a:prstGeom>
          <a:noFill/>
          <a:ln w="38160">
            <a:solidFill>
              <a:srgbClr val="8a8a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2"/>
          <p:cNvSpPr/>
          <p:nvPr/>
        </p:nvSpPr>
        <p:spPr>
          <a:xfrm>
            <a:off x="7526160" y="6332400"/>
            <a:ext cx="392400" cy="368280"/>
          </a:xfrm>
          <a:prstGeom prst="rect">
            <a:avLst/>
          </a:prstGeom>
          <a:noFill/>
          <a:ln w="38160">
            <a:solidFill>
              <a:srgbClr val="8a8a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3"/>
          <p:cNvSpPr/>
          <p:nvPr/>
        </p:nvSpPr>
        <p:spPr>
          <a:xfrm>
            <a:off x="8048520" y="6272280"/>
            <a:ext cx="406440" cy="500040"/>
          </a:xfrm>
          <a:custGeom>
            <a:avLst/>
            <a:gdLst>
              <a:gd name="textAreaLeft" fmla="*/ 26280 w 406440"/>
              <a:gd name="textAreaRight" fmla="*/ 380160 w 406440"/>
              <a:gd name="textAreaTop" fmla="*/ 26280 h 500040"/>
              <a:gd name="textAreaBottom" fmla="*/ 473760 h 500040"/>
            </a:gdLst>
            <a:ahLst/>
            <a:rect l="textAreaLeft" t="textAreaTop" r="textAreaRight" b="textAreaBottom"/>
            <a:pathLst>
              <a:path w="21600" h="26570">
                <a:moveTo>
                  <a:pt x="0" y="0"/>
                </a:moveTo>
                <a:lnTo>
                  <a:pt x="21600" y="0"/>
                </a:lnTo>
                <a:lnTo>
                  <a:pt x="21600" y="26570"/>
                </a:lnTo>
                <a:lnTo>
                  <a:pt x="0" y="26570"/>
                </a:lnTo>
                <a:close/>
              </a:path>
              <a:path fill="lightenLess" w="21600" h="265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0">
                <a:moveTo>
                  <a:pt x="21600" y="0"/>
                </a:moveTo>
                <a:lnTo>
                  <a:pt x="21600" y="26570"/>
                </a:lnTo>
                <a:lnTo>
                  <a:pt x="20200" y="25170"/>
                </a:lnTo>
                <a:lnTo>
                  <a:pt x="20200" y="1400"/>
                </a:lnTo>
                <a:close/>
              </a:path>
              <a:path fill="darkenLess" w="21600" h="26570">
                <a:moveTo>
                  <a:pt x="21600" y="26570"/>
                </a:moveTo>
                <a:lnTo>
                  <a:pt x="0" y="26570"/>
                </a:lnTo>
                <a:lnTo>
                  <a:pt x="1400" y="25170"/>
                </a:lnTo>
                <a:lnTo>
                  <a:pt x="20200" y="25170"/>
                </a:lnTo>
                <a:close/>
              </a:path>
              <a:path fill="lighten" w="21600" h="26570">
                <a:moveTo>
                  <a:pt x="0" y="265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0"/>
                </a:lnTo>
                <a:close/>
              </a:path>
              <a:path fill="darken" w="21600" h="26570">
                <a:moveTo>
                  <a:pt x="10800" y="6322"/>
                </a:moveTo>
                <a:lnTo>
                  <a:pt x="13376" y="8933"/>
                </a:lnTo>
                <a:lnTo>
                  <a:pt x="13376" y="7192"/>
                </a:lnTo>
                <a:lnTo>
                  <a:pt x="15152" y="7192"/>
                </a:lnTo>
                <a:lnTo>
                  <a:pt x="15152" y="10709"/>
                </a:lnTo>
                <a:lnTo>
                  <a:pt x="17763" y="13285"/>
                </a:lnTo>
                <a:lnTo>
                  <a:pt x="16109" y="13285"/>
                </a:lnTo>
                <a:lnTo>
                  <a:pt x="16109" y="20474"/>
                </a:lnTo>
                <a:lnTo>
                  <a:pt x="5491" y="20474"/>
                </a:lnTo>
                <a:lnTo>
                  <a:pt x="5491" y="13285"/>
                </a:lnTo>
                <a:lnTo>
                  <a:pt x="3837" y="13285"/>
                </a:lnTo>
                <a:close/>
              </a:path>
              <a:path fill="darkenLess" w="21600" h="26570">
                <a:moveTo>
                  <a:pt x="13376" y="8933"/>
                </a:moveTo>
                <a:lnTo>
                  <a:pt x="13376" y="7192"/>
                </a:lnTo>
                <a:lnTo>
                  <a:pt x="15152" y="7192"/>
                </a:lnTo>
                <a:lnTo>
                  <a:pt x="15152" y="10709"/>
                </a:lnTo>
                <a:close/>
              </a:path>
              <a:path fill="darkenLess" w="21600" h="26570">
                <a:moveTo>
                  <a:pt x="9877" y="16784"/>
                </a:moveTo>
                <a:lnTo>
                  <a:pt x="11723" y="16784"/>
                </a:lnTo>
                <a:lnTo>
                  <a:pt x="11723" y="20474"/>
                </a:lnTo>
                <a:lnTo>
                  <a:pt x="16109" y="20474"/>
                </a:lnTo>
                <a:lnTo>
                  <a:pt x="16109" y="13285"/>
                </a:lnTo>
                <a:lnTo>
                  <a:pt x="5491" y="13285"/>
                </a:lnTo>
                <a:lnTo>
                  <a:pt x="5491" y="20474"/>
                </a:lnTo>
                <a:lnTo>
                  <a:pt x="9877" y="2047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тная запись Майкрософт</cp:lastModifiedBy>
  <dcterms:modified xsi:type="dcterms:W3CDTF">2022-11-13T14:43:07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