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F1DB-D336-432C-987F-FEE61B551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03400" y="424440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B08E-D1D0-49C9-B8D8-D6210A26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764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21CD-FAC5-42BC-8CB8-4F9F6DBE6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12812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15284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0340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12812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715284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AD03-B529-4545-86AD-526672C7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5C3F-B6DF-455E-99F3-00DADC870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6903-EC8D-4FE4-924C-6D99CCC4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4141-0E51-4988-B1D6-B7320722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AFB1-6C78-40CD-8D71-50923608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ECF5-D536-4ED6-A9B9-DD9AC1D7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46200" y="45288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7266-D1BB-4264-BA29-1F798335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DE98-B37D-4290-B7B8-996C77CA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7962-1FE2-43BE-8194-E75D758C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8764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9E7A-94AD-4818-AB77-2E911B36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69A3-703F-4AD8-A296-F445AD6A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03400" y="424440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106E-8D42-4BD2-A541-12198CB6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68764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0241-05EB-4555-88CB-0F3A0E3D3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12812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152840" y="205308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0340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12812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7152840" y="4244400"/>
            <a:ext cx="2880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AF32-2952-4AE0-BAA7-A571EBE7D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3CAA-F48F-4651-91CF-4F66B7CE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D53C-5DEA-4C0E-AFA9-FE648D5D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DA12-831F-49FC-80FF-BE9F0DCD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46200" y="45288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E84E-D9EB-449E-8BCB-C5132337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CC82-E11D-4064-A365-9A188FAB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419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7640" y="424440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221C-FD14-40EA-8C9E-D1696BC9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7640" y="2053080"/>
            <a:ext cx="436572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03400" y="4244400"/>
            <a:ext cx="8946360" cy="20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12E5-30C2-4E2D-AA54-BA7112E5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69760"/>
            <a:ext cx="4036680" cy="4187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240"/>
            <a:ext cx="1522080" cy="2365200"/>
          </a:xfrm>
          <a:prstGeom prst="rect">
            <a:avLst/>
          </a:prstGeom>
          <a:ln w="0">
            <a:noFill/>
          </a:ln>
        </p:spPr>
      </p:pic>
      <p:sp>
        <p:nvSpPr>
          <p:cNvPr id="2" name="Oval 15"/>
          <p:cNvSpPr/>
          <p:nvPr/>
        </p:nvSpPr>
        <p:spPr>
          <a:xfrm>
            <a:off x="8609040" y="1676520"/>
            <a:ext cx="2819160" cy="2819160"/>
          </a:xfrm>
          <a:prstGeom prst="ellipse">
            <a:avLst/>
          </a:prstGeom>
          <a:gradFill rotWithShape="0">
            <a:gsLst>
              <a:gs pos="0">
                <a:srgbClr val="fac96a">
                  <a:alpha val="7058"/>
                </a:srgbClr>
              </a:gs>
              <a:gs pos="100000">
                <a:srgbClr val="fac96a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"/>
          <p:cNvPicPr/>
          <p:nvPr/>
        </p:nvPicPr>
        <p:blipFill>
          <a:blip r:embed="rId5"/>
          <a:srcRect l="0" t="28722" r="0" b="0"/>
          <a:stretch/>
        </p:blipFill>
        <p:spPr>
          <a:xfrm>
            <a:off x="8000280" y="0"/>
            <a:ext cx="1603080" cy="11426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"/>
          <p:cNvPicPr/>
          <p:nvPr/>
        </p:nvPicPr>
        <p:blipFill>
          <a:blip r:embed="rId6"/>
          <a:srcRect l="0" t="0" r="0" b="24203"/>
          <a:stretch/>
        </p:blipFill>
        <p:spPr>
          <a:xfrm>
            <a:off x="8609040" y="6093000"/>
            <a:ext cx="993240" cy="764640"/>
          </a:xfrm>
          <a:prstGeom prst="rect">
            <a:avLst/>
          </a:prstGeom>
          <a:ln w="0">
            <a:noFill/>
          </a:ln>
        </p:spPr>
      </p:pic>
      <p:sp>
        <p:nvSpPr>
          <p:cNvPr id="5" name="Rectangle 13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4880" y="1447920"/>
            <a:ext cx="8825400" cy="33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7200" spc="-1" strike="noStrike">
                <a:solidFill>
                  <a:srgbClr val="ebebeb"/>
                </a:solidFill>
                <a:latin typeface="Century Gothic"/>
              </a:rPr>
              <a:t>Образец заголовка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10155600" y="1790640"/>
            <a:ext cx="99036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x-none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x-none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8951760" y="3225240"/>
            <a:ext cx="3859560" cy="30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10352520" y="295560"/>
            <a:ext cx="83772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x-none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547725B-4BCA-45DE-A827-243C91AA2344}" type="slidenum">
              <a:rPr b="0" lang="x-none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69760"/>
            <a:ext cx="4036680" cy="4187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240"/>
            <a:ext cx="1522080" cy="2365200"/>
          </a:xfrm>
          <a:prstGeom prst="rect">
            <a:avLst/>
          </a:prstGeom>
          <a:ln w="0">
            <a:noFill/>
          </a:ln>
        </p:spPr>
      </p:pic>
      <p:sp>
        <p:nvSpPr>
          <p:cNvPr id="49" name="Oval 15"/>
          <p:cNvSpPr/>
          <p:nvPr/>
        </p:nvSpPr>
        <p:spPr>
          <a:xfrm>
            <a:off x="8609040" y="1676520"/>
            <a:ext cx="2819160" cy="2819160"/>
          </a:xfrm>
          <a:prstGeom prst="ellipse">
            <a:avLst/>
          </a:prstGeom>
          <a:gradFill rotWithShape="0">
            <a:gsLst>
              <a:gs pos="0">
                <a:srgbClr val="fac96a">
                  <a:alpha val="7058"/>
                </a:srgbClr>
              </a:gs>
              <a:gs pos="100000">
                <a:srgbClr val="fac96a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5"/>
          <a:srcRect l="0" t="28722" r="0" b="0"/>
          <a:stretch/>
        </p:blipFill>
        <p:spPr>
          <a:xfrm>
            <a:off x="8000280" y="0"/>
            <a:ext cx="1603080" cy="1142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6"/>
          <a:srcRect l="0" t="0" r="0" b="24203"/>
          <a:stretch/>
        </p:blipFill>
        <p:spPr>
          <a:xfrm>
            <a:off x="8609040" y="6093000"/>
            <a:ext cx="993240" cy="7646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3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Образец заголовка</a:t>
            </a:r>
            <a:endParaRPr b="0" lang="en-US" sz="4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103400" y="205308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торой уровень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Третий уровень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Четвертый уровень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ятый уровень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 rot="5400000">
            <a:off x="10155600" y="1790640"/>
            <a:ext cx="99036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x-none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x-none" sz="1100" spc="-1" strike="noStrike">
                <a:solidFill>
                  <a:srgbClr val="ffffff">
                    <a:alpha val="60000"/>
                  </a:srgbClr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 rot="5400000">
            <a:off x="8951760" y="3225240"/>
            <a:ext cx="3859560" cy="30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10352520" y="295560"/>
            <a:ext cx="83772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x-none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BA803E2-F6ED-4144-8E20-1FBF5C3A0ACA}" type="slidenum">
              <a:rPr b="0" lang="x-none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83000" y="1418400"/>
            <a:ext cx="8825400" cy="33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ebebeb"/>
                </a:solidFill>
                <a:latin typeface="Calibri"/>
                <a:ea typeface="Calibri"/>
              </a:rPr>
              <a:t>Органы принудительного исполнения судебных постановлений и иных исполнительных документов. Система, компетенции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2240" y="24624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Согласно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пункту 5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Указа Президента Республики Беларусь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“</a:t>
            </a:r>
            <a:r>
              <a:rPr b="0" lang="x-none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О некоторых вопросах совершенствования организации исполнения судебных постановлений и иных исполнительных документов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”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2240" y="2229840"/>
            <a:ext cx="11653560" cy="30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Calibri"/>
              </a:rPr>
              <a:t>Финансирование системы органов принудительного исполнения, если иное не установлено законодательными актами, производится за счет средств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Calibri"/>
              </a:rPr>
              <a:t>республиканского бюджета – оплаты труда государственных служащих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Calibri"/>
              </a:rPr>
              <a:t>принудительного сбора и иных источников, не запрещенных законодательством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70800" y="201600"/>
            <a:ext cx="9815040" cy="108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Согласно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пункту 6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Указа Президента Республики Беларусь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“</a:t>
            </a:r>
            <a:r>
              <a:rPr b="0" lang="x-none" sz="20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О некоторых вопросах совершенствования организации исполнения судебных постановлений и иных исполнительных документов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”</a:t>
            </a:r>
            <a:br>
              <a:rPr sz="1800"/>
            </a:b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70800" y="1472760"/>
            <a:ext cx="8946360" cy="419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None/>
              <a:tabLst>
                <a:tab algn="l" pos="0"/>
              </a:tabLst>
            </a:pPr>
            <a:r>
              <a:rPr b="1" lang="x-none" sz="2000" spc="-1" strike="noStrike">
                <a:solidFill>
                  <a:srgbClr val="ffffff"/>
                </a:solidFill>
                <a:latin typeface="Calibri"/>
                <a:ea typeface="Calibri"/>
              </a:rPr>
              <a:t>Задачей органов принудительного исполнения</a:t>
            </a: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Calibri"/>
              </a:rPr>
              <a:t> является соблюдение и охрана интересов государства, прав и законных интересов юридических и физических лиц путем своевременного и полного исполнения судебных постановлений и иных исполнительных документов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f5a408"/>
              </a:buClr>
              <a:buSzPct val="80000"/>
              <a:buFont typeface="Wingdings 3" charset="2"/>
              <a:buChar char=""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Органы принудительного исполнения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Symbol"/>
              <a:buChar char=""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Реализуют государственную политику в сфере организации принудительного исполнения исполнительных документов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Symbol"/>
              <a:buChar char=""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Осуществляют принудительное исполнение исполнительных документов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f5a408"/>
              </a:buClr>
              <a:buSzPct val="80000"/>
              <a:buFont typeface="Symbol"/>
              <a:buChar char=""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Осуществляют основные направления совершенствования своей деятельности по принудительному исполнению исполнительных документов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6200" y="45288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Согласно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пункту 7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Указа Президента Республики Беларусь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“</a:t>
            </a:r>
            <a:r>
              <a:rPr b="0" lang="x-none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О некоторых вопросах совершенствования организации исполнения судебных постановлений и иных исполнительных документов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”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46200" y="1782360"/>
            <a:ext cx="1029204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Calibri"/>
              </a:rPr>
              <a:t>Министерство юстиции совместно с областными (Минским городским) исполнительными комитетами </a:t>
            </a:r>
            <a:r>
              <a:rPr b="1" lang="x-none" sz="2000" spc="-1" strike="noStrike">
                <a:solidFill>
                  <a:srgbClr val="ffffff"/>
                </a:solidFill>
                <a:latin typeface="Calibri"/>
                <a:ea typeface="Calibri"/>
              </a:rPr>
              <a:t>организует принудительное исполнение судебных постановлений, иных исполнительных документов</a:t>
            </a: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Calibri"/>
              </a:rPr>
              <a:t> на соответствующей территории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646200" y="3075120"/>
            <a:ext cx="11053800" cy="30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7000"/>
              </a:lnSpc>
              <a:spcBef>
                <a:spcPts val="1199"/>
              </a:spcBef>
              <a:spcAft>
                <a:spcPts val="799"/>
              </a:spcAf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Согласно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пункту 8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Указа Президента Республики Беларусь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“</a:t>
            </a:r>
            <a:r>
              <a:rPr b="0" lang="x-none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О некоторых вопросах совершенствования организации исполнения судебных постановлений и иных исполнительных документов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Calibri"/>
              </a:rPr>
              <a:t>Министерство юстиции, главные управления юстиции областных (Минского городского) исполнительных комитетов </a:t>
            </a:r>
            <a:r>
              <a:rPr b="1" lang="x-none" sz="2000" spc="-1" strike="noStrike">
                <a:solidFill>
                  <a:srgbClr val="ffffff"/>
                </a:solidFill>
                <a:latin typeface="Calibri"/>
                <a:ea typeface="Calibri"/>
              </a:rPr>
              <a:t>осуществляют организационное, кадровое и материально-техническое обеспечение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и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контроль за их деятельностью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 (с изменением указа 2019 г.) </a:t>
            </a:r>
            <a:r>
              <a:rPr b="1" lang="x-none" sz="2000" spc="-1" strike="noStrike">
                <a:solidFill>
                  <a:srgbClr val="ffffff"/>
                </a:solidFill>
                <a:latin typeface="Calibri"/>
                <a:ea typeface="Calibri"/>
              </a:rPr>
              <a:t>органов принудительного испол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64640" y="1954440"/>
            <a:ext cx="7062120" cy="147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Спасибо за внимание !!!</a:t>
            </a:r>
            <a:endParaRPr b="0" lang="en-US" sz="4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78920" y="86400"/>
            <a:ext cx="10783440" cy="616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Источники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Century Gothic"/>
              <a:buAutoNum type="arabicPeriod"/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Постановление Совета Министров Республики Беларусь” Об</a:t>
            </a:r>
            <a:r>
              <a:rPr b="0" i="1" lang="x-none" sz="2400" spc="-1" strike="noStrike">
                <a:solidFill>
                  <a:srgbClr val="ffffff"/>
                </a:solidFill>
                <a:latin typeface="Calibri"/>
                <a:ea typeface="Calibri"/>
              </a:rPr>
              <a:t> утверждении Положения о Министерстве юстиции Республики Беларусь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”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с изменениями и дополнениями от 23 августа 2022 г. </a:t>
            </a:r>
            <a:r>
              <a:rPr b="0" i="1" lang="x-none" sz="2400" spc="-1" strike="noStrike">
                <a:solidFill>
                  <a:srgbClr val="ffffff"/>
                </a:solidFill>
                <a:latin typeface="Calibri"/>
                <a:ea typeface="Calibri"/>
              </a:rPr>
              <a:t>№ 545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Century Gothic"/>
              <a:buAutoNum type="arabicPeriod"/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Закон Республики Беларусь “Об исполнительном производстве” с изменениями и дополнениями </a:t>
            </a:r>
            <a:r>
              <a:rPr b="0" i="1" lang="x-none" sz="2400" spc="-1" strike="noStrike">
                <a:solidFill>
                  <a:srgbClr val="ffffff"/>
                </a:solidFill>
                <a:latin typeface="Calibri"/>
                <a:ea typeface="Calibri"/>
              </a:rPr>
              <a:t>от 30 июня 2022 г. № 183-З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Century Gothic"/>
              <a:buAutoNum type="arabicPeriod"/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Указ Президента Республики Беларусь </a:t>
            </a:r>
            <a:r>
              <a:rPr b="0" i="1" lang="x-none" sz="2400" spc="-1" strike="noStrike">
                <a:solidFill>
                  <a:srgbClr val="ffffff"/>
                </a:solidFill>
                <a:latin typeface="Calibri"/>
                <a:ea typeface="Calibri"/>
              </a:rPr>
              <a:t>29 ноября 2013 г. № 530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 “</a:t>
            </a:r>
            <a:r>
              <a:rPr b="0" i="1" lang="x-none" sz="2400" spc="-1" strike="noStrike">
                <a:solidFill>
                  <a:srgbClr val="ffffff"/>
                </a:solidFill>
                <a:latin typeface="Calibri"/>
                <a:ea typeface="Calibri"/>
              </a:rPr>
              <a:t>О некоторых вопросах совершенствования организации исполнения судебных постановлений и иных исполнительных документов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Century Gothic"/>
              <a:buAutoNum type="arabicPeriod"/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Указ Президента Республики Беларусь </a:t>
            </a:r>
            <a:r>
              <a:rPr b="0" i="1" lang="x-none" sz="2400" spc="-1" strike="noStrike">
                <a:solidFill>
                  <a:srgbClr val="ffffff"/>
                </a:solidFill>
                <a:latin typeface="Calibri"/>
                <a:ea typeface="Calibri"/>
              </a:rPr>
              <a:t>22 февраля 2019 г. № 77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” Об</a:t>
            </a:r>
            <a:r>
              <a:rPr b="0" i="1" lang="x-none" sz="2400" spc="-1" strike="noStrike">
                <a:solidFill>
                  <a:srgbClr val="ffffff"/>
                </a:solidFill>
                <a:latin typeface="Calibri"/>
                <a:ea typeface="Calibri"/>
              </a:rPr>
              <a:t> изменении указов Президента Республики Беларусь</a:t>
            </a:r>
            <a:r>
              <a:rPr b="0" i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f5a408"/>
              </a:buClr>
              <a:buSzPct val="80000"/>
              <a:buFont typeface="Century Gothic"/>
              <a:buAutoNum type="arabicPeriod"/>
            </a:pPr>
            <a:r>
              <a:rPr b="0" i="1" lang="ru-RU" sz="2400" spc="-1" strike="noStrike">
                <a:solidFill>
                  <a:srgbClr val="ffffff"/>
                </a:solidFill>
                <a:latin typeface="Calibri"/>
                <a:ea typeface="Calibri"/>
              </a:rPr>
              <a:t>Сайт Министерства Юстиции Республики Беларусь </a:t>
            </a:r>
            <a:r>
              <a:rPr b="0" i="1" lang="x-none" sz="2400" spc="-1" strike="noStrike">
                <a:solidFill>
                  <a:srgbClr val="ffffff"/>
                </a:solidFill>
                <a:latin typeface="Calibri"/>
                <a:ea typeface="Calibri"/>
              </a:rPr>
              <a:t>https://minjust.gov.by/directions/enforcement/system-opi</a:t>
            </a:r>
            <a:r>
              <a:rPr b="0" i="1" lang="x-none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240" y="206640"/>
            <a:ext cx="9864360" cy="86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ebebeb"/>
                </a:solidFill>
                <a:latin typeface="Calibri"/>
                <a:ea typeface="Calibri"/>
              </a:rPr>
              <a:t>Согласно </a:t>
            </a:r>
            <a:r>
              <a:rPr b="0" i="1" lang="ru-RU" sz="2400" spc="-1" strike="noStrike" u="sng">
                <a:solidFill>
                  <a:srgbClr val="ebebeb"/>
                </a:solidFill>
                <a:uFillTx/>
                <a:latin typeface="Calibri"/>
                <a:ea typeface="Calibri"/>
              </a:rPr>
              <a:t>статье 6 Закона Республики Беларусь “Об исполнительном производстве”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4240" y="1236960"/>
            <a:ext cx="11270160" cy="53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1" lang="x-none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Исполнение исполнительных документов возлагается на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f5a408"/>
              </a:buClr>
              <a:buSzPct val="120000"/>
              <a:buFont typeface="Arial"/>
              <a:buChar char="•"/>
            </a:pPr>
            <a:r>
              <a:rPr b="0" lang="x-none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главное управление принудительного исполнения </a:t>
            </a:r>
            <a:r>
              <a:rPr b="0" lang="x-none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Министерства юстиции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(</a:t>
            </a:r>
            <a:r>
              <a:rPr b="0" lang="be-BY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ГУПИ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f5a408"/>
              </a:buClr>
              <a:buSzPct val="120000"/>
              <a:buFont typeface="Arial"/>
              <a:buChar char="•"/>
            </a:pPr>
            <a:r>
              <a:rPr b="0" lang="x-none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территориальные органы принудительного исполнения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1" lang="x-none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Территориальными органами принудительного исполнения являются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Symbol"/>
              <a:buChar char=""/>
            </a:pPr>
            <a:r>
              <a:rPr b="0" lang="x-none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управления принудительного исполнения </a:t>
            </a:r>
            <a:r>
              <a:rPr b="0" lang="x-none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главных управлений юстиции областных (Минского городского) исполнительных комитетов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. (УПИ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f5a408"/>
              </a:buClr>
              <a:buSzPct val="80000"/>
              <a:buFont typeface="Symbol"/>
              <a:buChar char=""/>
            </a:pPr>
            <a:r>
              <a:rPr b="0" lang="x-none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йонные (межрайонные), городские, районные в городах </a:t>
            </a:r>
            <a:r>
              <a:rPr b="0" lang="x-none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отделы принудительного исполнения</a:t>
            </a:r>
            <a:r>
              <a:rPr b="0" lang="x-none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управлений принудительного исполнения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. (ОПИ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3200" y="260640"/>
            <a:ext cx="10060920" cy="6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ebebeb"/>
                </a:solidFill>
                <a:latin typeface="Calibri"/>
                <a:ea typeface="Calibri"/>
              </a:rPr>
              <a:t>Согласно </a:t>
            </a:r>
            <a:r>
              <a:rPr b="0" i="1" lang="ru-RU" sz="2400" spc="-1" strike="noStrike" u="sng">
                <a:solidFill>
                  <a:srgbClr val="ebebeb"/>
                </a:solidFill>
                <a:uFillTx/>
                <a:latin typeface="Calibri"/>
                <a:ea typeface="Calibri"/>
              </a:rPr>
              <a:t>статье 6 Закона Республики Беларусь “Об исполнительном производстве”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3200" y="1453320"/>
            <a:ext cx="11496240" cy="479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Непосредственное осуществление функций по исполнению исполнительных документов возлагается на </a:t>
            </a:r>
            <a:r>
              <a:rPr b="1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судебных исполнителей</a:t>
            </a: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главного управления принудительного исполнения Министерства юстиции и судебных исполнителей территориальных органов принудительного исполнения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В случаях, предусмотренных актами законодательства, функции по непосредственному исполнению исполнительных документов могут возлагаться на иных работников соответствующих органов принудительного исполнения, </a:t>
            </a:r>
            <a:r>
              <a:rPr b="1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кроме лиц, осуществляющих обеспечение деятельности и техническое обслуживание этих органов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При исполнении исполнительных документов на иных работников органов принудительного исполнения распространяются положения настоящего Закона и иных актов законодательства об исполнительном производстве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1560" y="246240"/>
            <a:ext cx="1048356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200" spc="-1" strike="noStrike">
                <a:solidFill>
                  <a:srgbClr val="ebebeb"/>
                </a:solidFill>
                <a:latin typeface="Century Gothic"/>
              </a:rPr>
              <a:t>Система органов принудительного исполнения</a:t>
            </a:r>
            <a:endParaRPr b="0" lang="en-US" sz="4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1" name="Объект 4" descr=""/>
          <p:cNvPicPr/>
          <p:nvPr/>
        </p:nvPicPr>
        <p:blipFill>
          <a:blip r:embed="rId1"/>
          <a:stretch/>
        </p:blipFill>
        <p:spPr>
          <a:xfrm>
            <a:off x="233280" y="1806840"/>
            <a:ext cx="5577480" cy="44398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"/>
          <p:cNvPicPr/>
          <p:nvPr/>
        </p:nvPicPr>
        <p:blipFill>
          <a:blip r:embed="rId2"/>
          <a:stretch/>
        </p:blipFill>
        <p:spPr>
          <a:xfrm>
            <a:off x="6095880" y="1819440"/>
            <a:ext cx="58626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7480" y="255960"/>
            <a:ext cx="9772200" cy="66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7000"/>
              </a:lnSpc>
              <a:spcAft>
                <a:spcPts val="799"/>
              </a:spcAft>
              <a:buNone/>
            </a:pPr>
            <a:r>
              <a:rPr b="0" lang="ru-RU" sz="2400" spc="-1" strike="noStrike">
                <a:solidFill>
                  <a:srgbClr val="ebebeb"/>
                </a:solidFill>
                <a:latin typeface="Calibri"/>
                <a:ea typeface="Calibri"/>
              </a:rPr>
              <a:t>Структура Главного управления принудительного исполнения</a:t>
            </a:r>
            <a:br>
              <a:rPr sz="1800"/>
            </a:b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7480" y="1102680"/>
            <a:ext cx="5103000" cy="6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Управление организации и контроля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77480" y="1880280"/>
            <a:ext cx="1110960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7000"/>
              </a:lnSpc>
              <a:buClr>
                <a:srgbClr val="ffffff"/>
              </a:buClr>
              <a:buFont typeface="Symbol"/>
              <a:buChar char="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осуществление контроля за деятельностью территориальных органов принудительного исполнения в части соблюдения судебными исполнителями законодательства об исполнительном производств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ffffff"/>
              </a:buClr>
              <a:buFont typeface="Symbol"/>
              <a:buChar char="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кураторство и оказание практической помощи территориальным органам принудительного исполн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ffffff"/>
              </a:buClr>
              <a:buFont typeface="Symbol"/>
              <a:buChar char="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осуществление рассмотрения обращений граждан, в том числе индивидуальных предпринимателей, юридических лиц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ffffff"/>
              </a:buClr>
              <a:buFont typeface="Symbol"/>
              <a:buChar char="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осуществление сбора, обобщения и анализа отчетной информации о деятельности органов принудительного исполн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ffffff"/>
              </a:buClr>
              <a:buFont typeface="Symbol"/>
              <a:buChar char="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координация и организационно-методическое обеспечение ведения отчетности в органах принудительного исполн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ffffff"/>
              </a:buClr>
              <a:buFont typeface="Symbol"/>
              <a:buChar char="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осуществление иных функций, относящихся к деятельности управления организации и контро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000" y="225720"/>
            <a:ext cx="9403560" cy="61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ebebeb"/>
                </a:solidFill>
                <a:latin typeface="Calibri"/>
                <a:ea typeface="Calibri"/>
              </a:rPr>
              <a:t>Структура Главного управления принудительного исполнения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000" y="1314720"/>
            <a:ext cx="11948760" cy="53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7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Symbol"/>
              <a:buChar char="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зработка проектов нормативных и локальных правовых актов, регулирующих деятельность территориальных органов принудительного исполнения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Symbol"/>
              <a:buChar char="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внедрение и развитие, а также правовое обеспечение информационных технологий в деятельности органов принудительного исполнения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Symbol"/>
              <a:buChar char="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обеспечение популяризации деятельности органов принудительного исполнения, правовое просвещение граждан, в том числе индивидуальных предпринимателей, юридических лиц в сфере законодательства об исполнительном производстве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Symbol"/>
              <a:buChar char="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международное сотрудничество с органами принудительного исполнения иностранных государств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Symbol"/>
              <a:buChar char="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зработка комплекса мер по совершенствованию работы с кадрами, структуры, численности, штатного расписания и организации деятельности территориальных органов принудительного исполнения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Symbol"/>
              <a:buChar char="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общая координация учебно-методической работы с работниками органов принудительного исполнения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ffffff"/>
              </a:buClr>
              <a:buSzPct val="80000"/>
              <a:buFont typeface="Symbol"/>
              <a:buChar char="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осуществление иных функций, относящихся к деятельности управления обеспечения деятельности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243000" y="844560"/>
            <a:ext cx="6095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Управление обеспечения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1760" y="201600"/>
            <a:ext cx="9962640" cy="81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7000"/>
              </a:lnSpc>
              <a:spcBef>
                <a:spcPts val="1199"/>
              </a:spcBef>
              <a:spcAft>
                <a:spcPts val="799"/>
              </a:spcAft>
              <a:buNone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Структура территориальных органов принудительного исполнения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62560" y="2243160"/>
            <a:ext cx="9721800" cy="125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отделы организации и контроля принудительного исполнения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отделы принудительного исполнения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1280" y="23652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be-BY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Согласно </a:t>
            </a:r>
            <a:r>
              <a:rPr b="0" lang="be-BY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пункту 3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Указа Президента Республики Беларусь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“</a:t>
            </a:r>
            <a:r>
              <a:rPr b="0" lang="x-none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О некоторых вопросах совершенствования организации исполнения судебных постановлений и иных исполнительных документов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”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1280" y="2138400"/>
            <a:ext cx="11643840" cy="237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Calibri"/>
              </a:rPr>
              <a:t>Общая численность органов принудительного исполнения утверждается </a:t>
            </a:r>
            <a:r>
              <a:rPr b="1" lang="x-none" sz="2000" spc="-1" strike="noStrike">
                <a:solidFill>
                  <a:srgbClr val="ffffff"/>
                </a:solidFill>
                <a:latin typeface="Calibri"/>
                <a:ea typeface="Calibri"/>
              </a:rPr>
              <a:t>Президентом Республики Беларусь</a:t>
            </a: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Calibri"/>
              </a:rPr>
              <a:t>. Структура и штатное расписание органов принудительного исполнения утверждаются </a:t>
            </a:r>
            <a:r>
              <a:rPr b="1" lang="x-none" sz="2000" spc="-1" strike="noStrike">
                <a:solidFill>
                  <a:srgbClr val="ffffff"/>
                </a:solidFill>
                <a:latin typeface="Calibri"/>
                <a:ea typeface="Calibri"/>
              </a:rPr>
              <a:t>Министром юстиции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5a408"/>
              </a:buClr>
              <a:buSzPct val="80000"/>
              <a:buFont typeface="Wingdings 3" charset="2"/>
              <a:buChar char=""/>
            </a:pPr>
            <a:r>
              <a:rPr b="0" lang="x-none" sz="2000" spc="-1" strike="noStrike">
                <a:solidFill>
                  <a:srgbClr val="ffffff"/>
                </a:solidFill>
                <a:latin typeface="Calibri"/>
                <a:ea typeface="Calibri"/>
              </a:rPr>
              <a:t>Работники главного управления принудительного исполнения Министерства юстиции, территориальных органов принудительного исполнения являются государственными служащими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Ион">
  <a:themeElements>
    <a:clrScheme name="Ион">
      <a:dk1>
        <a:srgbClr val="000000"/>
      </a:dk1>
      <a:lt1>
        <a:srgbClr val="ffffff"/>
      </a:lt1>
      <a:dk2>
        <a:srgbClr val="ee5818"/>
      </a:dk2>
      <a:lt2>
        <a:srgbClr val="ebebeb"/>
      </a:lt2>
      <a:accent1>
        <a:srgbClr val="f5a408"/>
      </a:accent1>
      <a:accent2>
        <a:srgbClr val="fa731a"/>
      </a:accent2>
      <a:accent3>
        <a:srgbClr val="ab9281"/>
      </a:accent3>
      <a:accent4>
        <a:srgbClr val="a18cd0"/>
      </a:accent4>
      <a:accent5>
        <a:srgbClr val="8ebbd2"/>
      </a:accent5>
      <a:accent6>
        <a:srgbClr val="acc995"/>
      </a:accent6>
      <a:hlink>
        <a:srgbClr val="fac96a"/>
      </a:hlink>
      <a:folHlink>
        <a:srgbClr val="fcdb9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Ион">
  <a:themeElements>
    <a:clrScheme name="Ион">
      <a:dk1>
        <a:srgbClr val="000000"/>
      </a:dk1>
      <a:lt1>
        <a:srgbClr val="ffffff"/>
      </a:lt1>
      <a:dk2>
        <a:srgbClr val="ee5818"/>
      </a:dk2>
      <a:lt2>
        <a:srgbClr val="ebebeb"/>
      </a:lt2>
      <a:accent1>
        <a:srgbClr val="f5a408"/>
      </a:accent1>
      <a:accent2>
        <a:srgbClr val="fa731a"/>
      </a:accent2>
      <a:accent3>
        <a:srgbClr val="ab9281"/>
      </a:accent3>
      <a:accent4>
        <a:srgbClr val="a18cd0"/>
      </a:accent4>
      <a:accent5>
        <a:srgbClr val="8ebbd2"/>
      </a:accent5>
      <a:accent6>
        <a:srgbClr val="acc995"/>
      </a:accent6>
      <a:hlink>
        <a:srgbClr val="fac96a"/>
      </a:hlink>
      <a:folHlink>
        <a:srgbClr val="fcdb9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Ion</Template>
  <TotalTime>74</TotalTime>
  <Application>LibreOffice/7.4.7.2$Linux_X86_64 LibreOffice_project/40$Build-2</Application>
  <AppVersion>15.0000</AppVersion>
  <Words>731</Words>
  <Paragraphs>5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1T18:22:29Z</dcterms:created>
  <dc:creator>mc31818</dc:creator>
  <dc:description/>
  <dc:language>en-US</dc:language>
  <cp:lastModifiedBy>ALEX</cp:lastModifiedBy>
  <dcterms:modified xsi:type="dcterms:W3CDTF">2022-11-22T20:50:31Z</dcterms:modified>
  <cp:revision>37</cp:revision>
  <dc:subject/>
  <dc:title>Органы предварительного исполнения судебных постановлений и иных исполнительных документов. Система, компетенции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Произвольный</vt:lpwstr>
  </property>
  <property fmtid="{D5CDD505-2E9C-101B-9397-08002B2CF9AE}" pid="3" name="Slides">
    <vt:r8>13</vt:r8>
  </property>
</Properties>
</file>