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A04-B290-4601-9238-D42E9F01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D32-663C-46D8-98EF-708B7BBE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5216-1871-4E84-A425-815D70C5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583-F15D-4E41-A34D-49BEDD5D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CCA0-EF27-4F40-A302-71F4BBF8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3A99-AA8D-4599-8B7B-23AAD19F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80CA-AF6A-4C26-BCE3-FFA38ED3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C3B2-8C9C-4C05-AC64-07D37E6F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4CFF-08D3-41EC-BC1F-11F6DADB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D803-0078-4527-86D2-49DD1DB3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C353-D95D-4BFE-AAC0-9FA81CF9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3DF-BEF2-4FE8-BBAA-1D7AE3B0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1394-F518-4F5C-8460-4F79F70E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FCA7-5A59-4FE8-BE9C-CFD56592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167D-F628-4361-BBEB-E131AA0C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622E-2F81-47D4-9327-9FC8501D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B753-9C1B-47C4-A7DF-A69FE428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D63-42C1-4D3E-9DE9-B7174823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3F5-8AF2-42BE-9697-23FC6289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5BB-3B6A-434E-9A0D-4A184CD6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900-2D35-4D8F-848A-C9592EB9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CC5-E721-4BEB-8A10-E0BFF100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F71-649C-4382-A30E-34F2DFCA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812-1636-4C34-B3B0-CCEBC0E8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2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5"/>
          <a:srcRect l="0" t="28722" r="0" b="0"/>
          <a:stretch/>
        </p:blipFill>
        <p:spPr>
          <a:xfrm>
            <a:off x="8000280" y="0"/>
            <a:ext cx="1603080" cy="1142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6"/>
          <a:srcRect l="0" t="0" r="0" b="24203"/>
          <a:stretch/>
        </p:blipFill>
        <p:spPr>
          <a:xfrm>
            <a:off x="8609040" y="6093000"/>
            <a:ext cx="993240" cy="7646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4880" y="144792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x-none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7CF39BC-FB54-4FF6-9BB8-8821D8245139}" type="slidenum">
              <a:rPr b="0" lang="x-none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49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5"/>
          <a:srcRect l="0" t="28722" r="0" b="0"/>
          <a:stretch/>
        </p:blipFill>
        <p:spPr>
          <a:xfrm>
            <a:off x="8000280" y="0"/>
            <a:ext cx="1603080" cy="114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rcRect l="0" t="0" r="0" b="24203"/>
          <a:stretch/>
        </p:blipFill>
        <p:spPr>
          <a:xfrm>
            <a:off x="8609040" y="6093000"/>
            <a:ext cx="993240" cy="764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x-none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9BE489-C3FB-4065-832F-D4A368F1430B}" type="slidenum">
              <a:rPr b="0" lang="x-none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3000" y="141840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ebebeb"/>
                </a:solidFill>
                <a:latin typeface="Calibri"/>
                <a:ea typeface="Calibri"/>
              </a:rPr>
              <a:t>Органы принудительного исполнения судебных постановлений и иных исполнительных документов. Система, компетенции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2240" y="24624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5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2240" y="2229840"/>
            <a:ext cx="11653560" cy="30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Финансирование системы органов принудительного исполнения, если иное не установлено законодательными актами, производится за счет средств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республиканского бюджета – оплаты труда государственных служащих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инудительного сбора и иных источников, не запрещенных законодательством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0800" y="201600"/>
            <a:ext cx="981504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6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0800" y="147276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</a:tabLst>
            </a:pP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Задачей органов принудительного исполнения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 является соблюдение и охрана интересов государства, прав и законных интересов юридических и физических лиц путем своевременного и полного исполнения судебных постановлений и иных исполнительных документ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рганы принудительного исполнения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Реализуют государственную политику в сфере организации принудительного исполнения исполнительных докумен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уществляют принудительное исполнение исполнительных докумен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уществляют основные направления совершенствования своей деятельности по принудительному исполнению исполнительных докумен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7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6200" y="1782360"/>
            <a:ext cx="1029204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Министерство юстиции совместно с областными (Минским городским) исполнительными комитетами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рганизует принудительное исполнение судебных постановлений, иных исполнительных документов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 на соответствующей территор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646200" y="3075120"/>
            <a:ext cx="1105380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8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Министерство юстиции, главные управления юстиции областных (Минского городского) исполнительных комитетов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уществляют организационное, кадровое и материально-техническое обеспечение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и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контроль за их деятельностью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(с изменением указа 2019 г.)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рганов принудительного ис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64640" y="1954440"/>
            <a:ext cx="7062120" cy="147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Спасибо за внимание !!!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8920" y="86400"/>
            <a:ext cx="10783440" cy="616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Источники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Постановление Совета Министров Республики Беларусь” Об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 утверждении Положения о Министерстве юстиции Республики Беларусь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 изменениями и дополнениями от 23 августа 2022 г.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№ 54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Закон Республики Беларусь “Об исполнительном производстве” с изменениями и дополнениями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от 30 июня 2022 г. № 183-З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Указ Президента Республики Беларусь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29 ноября 2013 г. № 530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“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Указ Президента Республики Беларусь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22 февраля 2019 г. № 77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 Об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 изменении указов Президента Республики Беларусь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айт Министерства Юстиции Республики Беларусь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https://minjust.gov.by/directions/enforcement/system-opi</a:t>
            </a:r>
            <a:r>
              <a:rPr b="0" i="1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240" y="206640"/>
            <a:ext cx="9864360" cy="8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огласно </a:t>
            </a:r>
            <a:r>
              <a:rPr b="0" i="1" lang="ru-RU" sz="2400" spc="-1" strike="noStrike" u="sng">
                <a:solidFill>
                  <a:srgbClr val="ebebeb"/>
                </a:solidFill>
                <a:uFillTx/>
                <a:latin typeface="Calibri"/>
                <a:ea typeface="Calibri"/>
              </a:rPr>
              <a:t>статье 6 Закона Республики Беларусь “Об исполнительном производстве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240" y="1236960"/>
            <a:ext cx="11270160" cy="53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1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сполнение исполнительных документов возлагается на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120000"/>
              <a:buFont typeface="Arial"/>
              <a:buChar char="•"/>
            </a:pP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главное управление принудительного исполнения </a:t>
            </a: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инистерства юстици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be-BY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УПИ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120000"/>
              <a:buFont typeface="Arial"/>
              <a:buChar char="•"/>
            </a:pP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риториальные органы принудительного исполнен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1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риториальными органами принудительного исполнения являются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Symbol"/>
              <a:buChar char=""/>
            </a:pP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правления принудительного исполнения </a:t>
            </a: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лавных управлений юстиции областных (Минского городского) исполнительных комитетов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 (УПИ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Symbol"/>
              <a:buChar char=""/>
            </a:pP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йонные (межрайонные), городские, районные в городах 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отделы принудительного исполнения</a:t>
            </a: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управлений принудительного исполнения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 (ОПИ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3200" y="260640"/>
            <a:ext cx="10060920" cy="6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огласно </a:t>
            </a:r>
            <a:r>
              <a:rPr b="0" i="1" lang="ru-RU" sz="2400" spc="-1" strike="noStrike" u="sng">
                <a:solidFill>
                  <a:srgbClr val="ebebeb"/>
                </a:solidFill>
                <a:uFillTx/>
                <a:latin typeface="Calibri"/>
                <a:ea typeface="Calibri"/>
              </a:rPr>
              <a:t>статье 6 Закона Республики Беларусь “Об исполнительном производстве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3200" y="1453320"/>
            <a:ext cx="11496240" cy="47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посредственное осуществление функций по исполнению исполнительных документов возлагается на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удебных исполнителей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главного управления принудительного исполнения Министерства юстиции и судебных исполнителей территориальных органов принудительного исполнени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случаях, предусмотренных актами законодательства, функции по непосредственному исполнению исполнительных документов могут возлагаться на иных работников соответствующих органов принудительного исполнения,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кроме лиц, осуществляющих обеспечение деятельности и техническое обслуживание этих органов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 исполнении исполнительных документов на иных работников органов принудительного исполнения распространяются положения настоящего Закона и иных актов законодательства об исполнительном производств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1560" y="246240"/>
            <a:ext cx="104835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Система органов принудительного исполнения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233280" y="1806840"/>
            <a:ext cx="5577480" cy="4439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2"/>
          <a:stretch/>
        </p:blipFill>
        <p:spPr>
          <a:xfrm>
            <a:off x="6095880" y="1819440"/>
            <a:ext cx="58626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7480" y="255960"/>
            <a:ext cx="9772200" cy="6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Aft>
                <a:spcPts val="799"/>
              </a:spcAft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труктура Главного управления принудительного исполнения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7480" y="1102680"/>
            <a:ext cx="510300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правление организации и контрол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77480" y="1880280"/>
            <a:ext cx="111096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контроля за деятельностью территориальных органов принудительного исполнения в части соблюдения судебными исполнителями законодательства об исполнительном производ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кураторство и оказание практической помощи территориальным органам принудительного ис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рассмотрения обращений граждан, в том числе индивидуальных предпринимателей, юридических л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сбора, обобщения и анализа отчетной информации о деятельности органов принудительного ис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ординация и организационно-методическое обеспечение ведения отчетности в органах принудительного ис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иных функций, относящихся к деятельности управления организации и контр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000" y="225720"/>
            <a:ext cx="9403560" cy="6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труктура Главного управления принудительного исполнени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000" y="1314720"/>
            <a:ext cx="11948760" cy="53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работка проектов нормативных и локальных правовых актов, регулирующих деятельность территориальных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недрение и развитие, а также правовое обеспечение информационных технологий в деятельности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еспечение популяризации деятельности органов принудительного исполнения, правовое просвещение граждан, в том числе индивидуальных предпринимателей, юридических лиц в сфере законодательства об исполнительном производств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ждународное сотрудничество с органами принудительного исполнения иностранных государств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работка комплекса мер по совершенствованию работы с кадрами, структуры, численности, штатного расписания и организации деятельности территориальных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щая координация учебно-методической работы с работниками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иных функций, относящихся к деятельности управления обеспечения деятельност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243000" y="844560"/>
            <a:ext cx="6095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правление обеспечения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1760" y="201600"/>
            <a:ext cx="9962640" cy="8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руктура территориальных органов принудительного исполнения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62560" y="2243160"/>
            <a:ext cx="9721800" cy="12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делы организации и контроля принудительного исполнени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делы принудительного исполнени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1280" y="23652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be-BY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гласно </a:t>
            </a:r>
            <a:r>
              <a:rPr b="0" lang="be-BY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ункту 3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1280" y="2138400"/>
            <a:ext cx="11643840" cy="237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бщая численность органов принудительного исполнения утверждается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езидентом Республики Беларусь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. Структура и штатное расписание органов принудительного исполнения утверждаются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Министром юстиц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Работники главного управления принудительного исполнения Министерства юстиции, территориальных органов принудительного исполнения являются государственными служащим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74</TotalTime>
  <Application>LibreOffice/7.4.7.2$Linux_X86_64 LibreOffice_project/40$Build-2</Application>
  <AppVersion>15.0000</AppVersion>
  <Words>731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1T18:22:29Z</dcterms:created>
  <dc:creator>mc31818</dc:creator>
  <dc:description/>
  <dc:language>en-US</dc:language>
  <cp:lastModifiedBy>ALEX</cp:lastModifiedBy>
  <dcterms:modified xsi:type="dcterms:W3CDTF">2022-11-22T20:50:31Z</dcterms:modified>
  <cp:revision>37</cp:revision>
  <dc:subject/>
  <dc:title>Органы предварительного исполнения судебных постановлений и иных исполнительных документов. Система, компетенци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3</vt:r8>
  </property>
</Properties>
</file>