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325-B4EC-4DB7-AC65-295ACF33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408-3B8D-4A9F-9040-AF45158D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FA2-337E-4CE0-827F-B12FF440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D8E-036B-4099-8507-EB181DE5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DFC0-6452-4DF1-B056-98A4AA40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EF5D-97B7-4F57-A7C4-23EA759B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B313-13F9-443D-8F13-C42DFB6D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7551-B3D9-4C14-8D73-BC0BE61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1BB1-17D3-4DF7-A74C-7D99AFF4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0910-1439-47E9-90F7-39CFA3AB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06DB-8C45-4BFF-B544-3DF5BCD0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3B8-F52B-42BB-B94A-634BC89B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6456-D87E-4E6E-872A-C8E91FFE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C8FD-2536-4975-AD3B-A1233B9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01E1-F589-4B49-AB5C-B28E43F5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03BC-4B9E-448D-9611-DCACD164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FFEB-A171-48E6-B554-CE8D153C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16E-299B-42E4-A07D-B0B3C8F9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D6B-97BC-4E54-9D18-A196608C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8A6-DA4D-4F69-9016-0DF16202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D75-9B60-489B-94D7-6564CD30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3BB-1280-4675-9487-0CC4135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4A6-C3E7-4B35-81A2-68ADD7DD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898-74CB-4C2A-8204-B5668F8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2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5"/>
          <a:srcRect l="0" t="28722" r="0" b="0"/>
          <a:stretch/>
        </p:blipFill>
        <p:spPr>
          <a:xfrm>
            <a:off x="8000280" y="0"/>
            <a:ext cx="1603080" cy="1142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6"/>
          <a:srcRect l="0" t="0" r="0" b="24203"/>
          <a:stretch/>
        </p:blipFill>
        <p:spPr>
          <a:xfrm>
            <a:off x="8609040" y="6093000"/>
            <a:ext cx="993240" cy="7646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x-none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45073B-6F24-483E-AA64-57CCD4054BBB}" type="slidenum">
              <a:rPr b="0" lang="x-none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49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5"/>
          <a:srcRect l="0" t="28722" r="0" b="0"/>
          <a:stretch/>
        </p:blipFill>
        <p:spPr>
          <a:xfrm>
            <a:off x="8000280" y="0"/>
            <a:ext cx="1603080" cy="114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rcRect l="0" t="0" r="0" b="24203"/>
          <a:stretch/>
        </p:blipFill>
        <p:spPr>
          <a:xfrm>
            <a:off x="8609040" y="6093000"/>
            <a:ext cx="993240" cy="76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x-none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FD5C4D4-80CA-4B2C-A56D-6D54FC84F23D}" type="slidenum">
              <a:rPr b="0" lang="x-none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3000" y="141840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ebebeb"/>
                </a:solidFill>
                <a:latin typeface="Calibri"/>
                <a:ea typeface="Calibri"/>
              </a:rPr>
              <a:t>Органы принудительного исполнения судебных постановлений и иных исполнительных документов. Система, компетенци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2240" y="24624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5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2240" y="2229840"/>
            <a:ext cx="11653560" cy="30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Финансирование системы органов принудительного исполнения, если иное не установлено законодательными актами, производится за счет средств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спубликанского бюджета – оплаты труда государственных служащих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инудительного сбора и иных источников, не запрещенных законодательство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0800" y="201600"/>
            <a:ext cx="981504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6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0800" y="147276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</a:tabLst>
            </a:pP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Задачей органов принудительного исполнения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 является соблюдение и охрана интересов государства, прав и законных интересов юридических и физических лиц путем своевременного и полного исполнения судебных постановлений и иных исполнительных документ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рганы принудительного исполнения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ализуют государственную политику в сфере организации принудительного исполнения исполнительных докумен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уществляют принудительное исполнение исполнительных докумен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уществляют основные направления совершенствования своей деятельности по принудительному исполнению исполнительных докумен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7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6200" y="1782360"/>
            <a:ext cx="1029204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Министерство юстиции совместно с областными (Минским городским) исполнительными комитетами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рганизует принудительное исполнение судебных постановлений, иных исполнительных документов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 на соответствующей территор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46200" y="3075120"/>
            <a:ext cx="1105380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8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Министерство юстиции, главные управления юстиции областных (Минского городского) исполнительных комитетов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уществляют организационное, кадровое и материально-техническое обеспечение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контроль за их деятельностью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(с изменением указа 2019 г.)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рганов принудительного ис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64640" y="1954440"/>
            <a:ext cx="7062120" cy="147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Спасибо за внимание !!!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8920" y="86400"/>
            <a:ext cx="10783440" cy="61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Источники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становление Совета Министров Республики Беларусь” Об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 утверждении Положения о Министерстве юстиции Республики Беларусь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 изменениями и дополнениями от 23 августа 2022 г.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№ 54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Закон Республики Беларусь “Об исполнительном производстве” с изменениями и дополнениями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от 30 июня 2022 г. № 183-З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Указ Президента Республики Беларусь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29 ноября 2013 г. № 530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“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Указ Президента Республики Беларусь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22 февраля 2019 г. № 77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 Об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 изменении указов Президента Республики Беларусь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айт Министерства Юстиции Республики Беларусь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https://minjust.gov.by/directions/enforcement/system-opi</a:t>
            </a:r>
            <a:r>
              <a:rPr b="0" i="1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240" y="206640"/>
            <a:ext cx="9864360" cy="8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огласно </a:t>
            </a:r>
            <a:r>
              <a:rPr b="0" i="1" lang="ru-RU" sz="2400" spc="-1" strike="noStrike" u="sng">
                <a:solidFill>
                  <a:srgbClr val="ebebeb"/>
                </a:solidFill>
                <a:uFillTx/>
                <a:latin typeface="Calibri"/>
                <a:ea typeface="Calibri"/>
              </a:rPr>
              <a:t>статье 6 Закона Республики Беларусь “Об исполнительном производстве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240" y="1236960"/>
            <a:ext cx="11270160" cy="53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1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сполнение исполнительных документов возлагается н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120000"/>
              <a:buFont typeface="Arial"/>
              <a:buChar char="•"/>
            </a:pP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главное управление принудительного исполнения </a:t>
            </a: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инистерства юстици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be-BY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УПИ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120000"/>
              <a:buFont typeface="Arial"/>
              <a:buChar char="•"/>
            </a:pP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риториальные органы принудительного исполне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1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риториальными органами принудительного исполнения являются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Symbol"/>
              <a:buChar char=""/>
            </a:pP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правления принудительного исполнения </a:t>
            </a: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лавных управлений юстиции областных (Минского городского) исполнительных комитетов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(УПИ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Symbol"/>
              <a:buChar char=""/>
            </a:pP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йонные (межрайонные), городские, районные в городах 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отделы принудительного исполнения</a:t>
            </a: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управлений принудительного исполнения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(ОПИ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3200" y="260640"/>
            <a:ext cx="10060920" cy="6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огласно </a:t>
            </a:r>
            <a:r>
              <a:rPr b="0" i="1" lang="ru-RU" sz="2400" spc="-1" strike="noStrike" u="sng">
                <a:solidFill>
                  <a:srgbClr val="ebebeb"/>
                </a:solidFill>
                <a:uFillTx/>
                <a:latin typeface="Calibri"/>
                <a:ea typeface="Calibri"/>
              </a:rPr>
              <a:t>статье 6 Закона Республики Беларусь “Об исполнительном производстве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3200" y="1453320"/>
            <a:ext cx="11496240" cy="47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посредственное осуществление функций по исполнению исполнительных документов возлагается на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удебных исполнителей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главного управления принудительного исполнения Министерства юстиции и судебных исполнителей территориальных органов принудительного исполнен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случаях, предусмотренных актами законодательства, функции по непосредственному исполнению исполнительных документов могут возлагаться на иных работников соответствующих органов принудительного исполнения,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роме лиц, осуществляющих обеспечение деятельности и техническое обслуживание этих органов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 исполнении исполнительных документов на иных работников органов принудительного исполнения распространяются положения настоящего Закона и иных актов законодательства об исполнительном производств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1560" y="246240"/>
            <a:ext cx="104835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Система органов принудительного исполнения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233280" y="1806840"/>
            <a:ext cx="5577480" cy="4439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2"/>
          <a:stretch/>
        </p:blipFill>
        <p:spPr>
          <a:xfrm>
            <a:off x="6095880" y="1819440"/>
            <a:ext cx="58626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7480" y="255960"/>
            <a:ext cx="9772200" cy="6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Aft>
                <a:spcPts val="799"/>
              </a:spcAft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труктура Главного управления принудительного исполнения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7480" y="1102680"/>
            <a:ext cx="510300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правление организации и контрол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77480" y="1880280"/>
            <a:ext cx="111096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контроля за деятельностью территориальных органов принудительного исполнения в части соблюдения судебными исполнителями законодательства об исполнительном производ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ураторство и оказание практической помощи территориальным органам принудительного ис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рассмотрения обращений граждан, в том числе индивидуальных предпринимателей, юридических л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сбора, обобщения и анализа отчетной информации о деятельности органов принудительного ис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ординация и организационно-методическое обеспечение ведения отчетности в органах принудительного ис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иных функций, относящихся к деятельности управления организации и 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000" y="225720"/>
            <a:ext cx="9403560" cy="6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труктура Главного управления принудительного исполнен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000" y="1314720"/>
            <a:ext cx="11948760" cy="53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работка проектов нормативных и локальных правовых актов, регулирующих деятельность территориальных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недрение и развитие, а также правовое обеспечение информационных технологий в деятельности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еспечение популяризации деятельности органов принудительного исполнения, правовое просвещение граждан, в том числе индивидуальных предпринимателей, юридических лиц в сфере законодательства об исполнительном производств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ждународное сотрудничество с органами принудительного исполнения иностранных государств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работка комплекса мер по совершенствованию работы с кадрами, структуры, численности, штатного расписания и организации деятельности территориальных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щая координация учебно-методической работы с работниками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иных функций, относящихся к деятельности управления обеспечения деятельност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243000" y="844560"/>
            <a:ext cx="6095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правление обеспечения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1760" y="201600"/>
            <a:ext cx="9962640" cy="8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руктура территориальных органов принудительного исполнения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62560" y="2243160"/>
            <a:ext cx="9721800" cy="12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делы организации и контроля принудительного исполнен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делы принудительного исполнен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1280" y="23652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be-BY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гласно </a:t>
            </a:r>
            <a:r>
              <a:rPr b="0" lang="be-BY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ункту 3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1280" y="2138400"/>
            <a:ext cx="11643840" cy="237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бщая численность органов принудительного исполнения утверждается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зидентом Республики Беларусь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. Структура и штатное расписание органов принудительного исполнения утверждаются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Министром юстиц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Работники главного управления принудительного исполнения Министерства юстиции, территориальных органов принудительного исполнения являются государственными служащим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74</TotalTime>
  <Application>LibreOffice/7.4.7.2$Linux_X86_64 LibreOffice_project/40$Build-2</Application>
  <AppVersion>15.0000</AppVersion>
  <Words>731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1T18:22:29Z</dcterms:created>
  <dc:creator>mc31818</dc:creator>
  <dc:description/>
  <dc:language>en-US</dc:language>
  <cp:lastModifiedBy>ALEX</cp:lastModifiedBy>
  <dcterms:modified xsi:type="dcterms:W3CDTF">2022-11-22T20:50:31Z</dcterms:modified>
  <cp:revision>37</cp:revision>
  <dc:subject/>
  <dc:title>Органы предварительного исполнения судебных постановлений и иных исполнительных документов. Система, компетен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3</vt:r8>
  </property>
</Properties>
</file>