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4E97-E27C-4EFC-9DC3-DB3B9A425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01C8-29C8-41A0-BB2C-F447C856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1F96-E79A-4F91-A2AA-838E2A83C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8A6-DF92-4297-8B1F-9AB00DD3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A037-B634-4991-8EFB-77EAB0423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ED5-3881-4115-9E5C-1321BE53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CBFB-805F-4887-A4CA-5BCA5F5B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6FF-432D-440D-AC28-E84543F3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5A5-793A-471B-A8E4-8F21E321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A73C-45AE-4593-B676-E5D9FE729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038-BEAF-4595-B7C8-B1F4A49F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3D2-1E2A-4787-A928-D1ECE950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89D6-C883-4874-83AE-64E9ED1EB0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10.wmf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7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981000"/>
            <a:ext cx="561672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 Black"/>
              </a:rPr>
              <a:t>Основы гигиены (медицины) труда. Определение, цели, задачи, методы. Понятие о профвредностях и опасностях, профболезнях. Профилактика заболеваний, вызываемых факторами физической природы</a:t>
            </a:r>
            <a:r>
              <a:rPr b="1" lang="ru-RU" sz="2800" spc="-1" strike="noStrike">
                <a:solidFill>
                  <a:srgbClr val="3333cc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j0240695"/>
          <p:cNvPicPr/>
          <p:nvPr/>
        </p:nvPicPr>
        <p:blipFill>
          <a:blip r:embed="rId1"/>
          <a:stretch/>
        </p:blipFill>
        <p:spPr>
          <a:xfrm>
            <a:off x="1619280" y="3933720"/>
            <a:ext cx="1825560" cy="146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j0078705"/>
          <p:cNvPicPr/>
          <p:nvPr/>
        </p:nvPicPr>
        <p:blipFill>
          <a:blip r:embed="rId2"/>
          <a:stretch/>
        </p:blipFill>
        <p:spPr>
          <a:xfrm>
            <a:off x="5508720" y="3789360"/>
            <a:ext cx="20858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63640" y="765000"/>
            <a:ext cx="56167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 Black"/>
              </a:rPr>
              <a:t>Классификация труда по показателям напряженности трудового процес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63640" y="1341360"/>
          <a:ext cx="5977080" cy="3724200"/>
        </p:xfrm>
        <a:graphic>
          <a:graphicData uri="http://schemas.openxmlformats.org/drawingml/2006/table">
            <a:tbl>
              <a:tblPr/>
              <a:tblGrid>
                <a:gridCol w="1295640"/>
                <a:gridCol w="1488960"/>
                <a:gridCol w="1247760"/>
                <a:gridCol w="884160"/>
                <a:gridCol w="1060560"/>
              </a:tblGrid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Характери-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стика нагрузк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Классы условий труд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имальны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пряжен-ность труда легкой степен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мы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пряже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сть труда средней степен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дный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пряженный труд)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имание: число производственно важных объектов наблюде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ыше 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ное напряже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инструк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алгоритм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вристич.реше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765000"/>
            <a:ext cx="640872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Допустимые уровни звукового давления и эквивалентные уровни звука на РМ в производственных помещениях и на территории предприят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47640" y="1628640"/>
          <a:ext cx="5977080" cy="3529080"/>
        </p:xfrm>
        <a:graphic>
          <a:graphicData uri="http://schemas.openxmlformats.org/drawingml/2006/table">
            <a:tbl>
              <a:tblPr/>
              <a:tblGrid>
                <a:gridCol w="1440000"/>
                <a:gridCol w="432000"/>
                <a:gridCol w="431640"/>
                <a:gridCol w="433440"/>
                <a:gridCol w="431640"/>
                <a:gridCol w="432000"/>
                <a:gridCol w="431640"/>
                <a:gridCol w="432000"/>
                <a:gridCol w="431640"/>
                <a:gridCol w="433440"/>
                <a:gridCol w="647640"/>
              </a:tblGrid>
              <a:tr h="7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ид трудовой деятельности, рабочее мест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Уровни звукового давления в дБ в октавных полосах со среднегеометрическими частотами, Г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Эквив уровень шума в дБ(А</a:t>
                      </a: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Творческая деятельность, конструирование программироваие,обучение, врачеб. деят-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Управленч. дят-сть, аналитич. работы в лабораториях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765000"/>
            <a:ext cx="640872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Допустимые уровни звукового давления и эквивалентные уровни звука на РМ в производственных помещениях и на территории предприят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47640" y="1484280"/>
          <a:ext cx="5977080" cy="4075200"/>
        </p:xfrm>
        <a:graphic>
          <a:graphicData uri="http://schemas.openxmlformats.org/drawingml/2006/table">
            <a:tbl>
              <a:tblPr/>
              <a:tblGrid>
                <a:gridCol w="1440000"/>
                <a:gridCol w="432000"/>
                <a:gridCol w="431640"/>
                <a:gridCol w="433440"/>
                <a:gridCol w="431640"/>
                <a:gridCol w="432000"/>
                <a:gridCol w="431640"/>
                <a:gridCol w="432000"/>
                <a:gridCol w="431640"/>
                <a:gridCol w="433440"/>
                <a:gridCol w="647640"/>
              </a:tblGrid>
              <a:tr h="7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ид трудовой деятельности, рабочее мест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Уровни звукового давления в дБ в октавных полосах со среднегеометрическими частотами, Г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Эквив уровень шума в дБ(А</a:t>
                      </a: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Работа, требующая пост. слухового контроля, операторская и диспетчерская работа со сязью по телефон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Работа за пультми в кабинах наблюдения и ДУ без связи по телефон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981000"/>
            <a:ext cx="640872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Допустимые уровни звукового давления и эквивалентные уровни звука на РМ в производственных помещениях и на территории предприят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47640" y="1989000"/>
          <a:ext cx="5977080" cy="2521080"/>
        </p:xfrm>
        <a:graphic>
          <a:graphicData uri="http://schemas.openxmlformats.org/drawingml/2006/table">
            <a:tbl>
              <a:tblPr/>
              <a:tblGrid>
                <a:gridCol w="1440000"/>
                <a:gridCol w="432000"/>
                <a:gridCol w="431640"/>
                <a:gridCol w="433440"/>
                <a:gridCol w="431640"/>
                <a:gridCol w="432000"/>
                <a:gridCol w="431640"/>
                <a:gridCol w="432000"/>
                <a:gridCol w="431640"/>
                <a:gridCol w="433440"/>
                <a:gridCol w="647640"/>
              </a:tblGrid>
              <a:tr h="7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ид трудовой деятельности, рабочее мест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Уровни звукового давления в дБ в октавных полосах со среднегеометрическими частотами, Г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Эквив уровень шума в дБ(А</a:t>
                      </a: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Все виды работ за исключением пп 1-4 на постоянных РМ и на территории предприят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63640" y="98064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 Black"/>
              </a:rPr>
              <a:t>Спектральная характеристика </a:t>
            </a:r>
            <a:br>
              <a:rPr sz="2400"/>
            </a:br>
            <a:r>
              <a:rPr b="0" lang="ru-RU" sz="2400" spc="-1" strike="noStrike">
                <a:solidFill>
                  <a:srgbClr val="cc0099"/>
                </a:solidFill>
                <a:latin typeface="Arial Black"/>
              </a:rPr>
              <a:t>УЗ-колеб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059280" y="3213000"/>
            <a:ext cx="3024000" cy="862560"/>
          </a:xfrm>
          <a:prstGeom prst="rect">
            <a:avLst/>
          </a:prstGeom>
          <a:solidFill>
            <a:srgbClr val="00ff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ечастотны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25 -250 кГ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59280" y="2205000"/>
            <a:ext cx="3025440" cy="86256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очастотны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6 – 63 кГ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059280" y="4284720"/>
            <a:ext cx="3024000" cy="86256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очастотны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,0 – 31,5 МГ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63640" y="1196640"/>
            <a:ext cx="56167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Нормируемые параметры УЗ для Р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63640" y="2060640"/>
          <a:ext cx="5616720" cy="3220920"/>
        </p:xfrm>
        <a:graphic>
          <a:graphicData uri="http://schemas.openxmlformats.org/drawingml/2006/table">
            <a:tbl>
              <a:tblPr/>
              <a:tblGrid>
                <a:gridCol w="936720"/>
                <a:gridCol w="934920"/>
                <a:gridCol w="936720"/>
                <a:gridCol w="936720"/>
                <a:gridCol w="934920"/>
                <a:gridCol w="936720"/>
              </a:tblGrid>
              <a:tr h="515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Воздушный  УЗ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-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Б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15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Контактный УЗ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63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 – 250 - 5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– 315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Б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25"/>
                            </p:stCondLst>
                            <p:childTnLst>
                              <p:par>
                                <p:cTn id="3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92360" y="907920"/>
            <a:ext cx="56880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Ограничение неблагоприятного влияния УЗ на работающих и население за сч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92360" y="1628280"/>
            <a:ext cx="5688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щиты рук с помощью нарукавников, рукавиц или перчаток (наружные резиновые и внутренние хлопчатобумажны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ы ручных источников (РИ) УЗ, обеспечивающих минимальное напряжение мышц кисти и верхнего плечевого пояса операто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ерхностного покрытия РИ УЗ материалами, исключающими возможность охлаждения рук работающих ( К теплопроводности не более 0,5 Вт/ м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градус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менения генераторов УЗ с рабочими частотами не ниже 22 кГц, что ослабит неблагоприятное воздействие воздушного У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гламентированных 2-х перерывов: 10 мин за 1-1,5 часа до и 15 мин через 1,5-2 часа после обеденного перерыва при протяжении работы с РИ УЗ более 50% рабочего времени; перерывов для физиопроцедур (тепловых, гидропроцедур, массажа, УФ облучения), а также лечебной гимнастики, витами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менения противошу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пущения к работе с РИ УЗ лиц, моложе 18 л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ведения предварительных при приеме на работу и периодических медосмотров в соответствии с приказом МЗ №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4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4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Black"/>
              </a:rPr>
              <a:t>ПДУ ИЗ на РМ, в жилых и обществ. помещениях и на территории жилой затрой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63640" y="1557360"/>
          <a:ext cx="5616720" cy="3600360"/>
        </p:xfrm>
        <a:graphic>
          <a:graphicData uri="http://schemas.openxmlformats.org/drawingml/2006/table">
            <a:tbl>
              <a:tblPr/>
              <a:tblGrid>
                <a:gridCol w="2497320"/>
                <a:gridCol w="830160"/>
                <a:gridCol w="782640"/>
                <a:gridCol w="730080"/>
                <a:gridCol w="77652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2 Г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4 Г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8 Г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16 Гц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аботы различной степени тяже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аботы различной степени интеллектуально-эмоциональной напряжен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Жилая застрой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Жилые помещ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135" name="Picture 80" descr="j0078820"/>
          <p:cNvPicPr/>
          <p:nvPr/>
        </p:nvPicPr>
        <p:blipFill>
          <a:blip r:embed="rId26"/>
          <a:stretch/>
        </p:blipFill>
        <p:spPr>
          <a:xfrm>
            <a:off x="7164360" y="2924280"/>
            <a:ext cx="147168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150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63640" y="836280"/>
            <a:ext cx="6337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КЛАССЫ ОПАСНОСТИ УСЛОВИЙ ТРУ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Organization Chart 7"/>
          <p:cNvGrpSpPr/>
          <p:nvPr/>
        </p:nvGrpSpPr>
        <p:grpSpPr>
          <a:xfrm>
            <a:off x="1980000" y="1699560"/>
            <a:ext cx="5183640" cy="2737080"/>
            <a:chOff x="1980000" y="1699560"/>
            <a:chExt cx="5183640" cy="2737080"/>
          </a:xfrm>
        </p:grpSpPr>
        <p:cxnSp>
          <p:nvCxnSpPr>
            <p:cNvPr id="46" name="_s1028"/>
            <p:cNvCxnSpPr>
              <a:stCxn id="47" idx="0"/>
              <a:endCxn id="48" idx="2"/>
            </p:cNvCxnSpPr>
            <p:nvPr/>
          </p:nvCxnSpPr>
          <p:spPr>
            <a:xfrm flipV="1" rot="16200000">
              <a:off x="4798440" y="2150280"/>
              <a:ext cx="1241280" cy="1548360"/>
            </a:xfrm>
            <a:prstGeom prst="bentConnector3">
              <a:avLst>
                <a:gd name="adj1" fmla="val 9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29"/>
            <p:cNvCxnSpPr>
              <a:stCxn id="50" idx="0"/>
              <a:endCxn id="48" idx="2"/>
            </p:cNvCxnSpPr>
            <p:nvPr/>
          </p:nvCxnSpPr>
          <p:spPr>
            <a:xfrm flipV="1" rot="16200000">
              <a:off x="5230800" y="1717560"/>
              <a:ext cx="376200" cy="1548360"/>
            </a:xfrm>
            <a:prstGeom prst="bentConnector3">
              <a:avLst>
                <a:gd name="adj1" fmla="val 304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0"/>
            <p:cNvCxnSpPr>
              <a:stCxn id="52" idx="0"/>
              <a:endCxn id="48" idx="2"/>
            </p:cNvCxnSpPr>
            <p:nvPr/>
          </p:nvCxnSpPr>
          <p:spPr>
            <a:xfrm flipH="1" flipV="1" rot="5400000">
              <a:off x="3195720" y="2095200"/>
              <a:ext cx="1241280" cy="1658520"/>
            </a:xfrm>
            <a:prstGeom prst="bentConnector3">
              <a:avLst>
                <a:gd name="adj1" fmla="val 9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1"/>
            <p:cNvCxnSpPr>
              <a:stCxn id="54" idx="0"/>
              <a:endCxn id="48" idx="2"/>
            </p:cNvCxnSpPr>
            <p:nvPr/>
          </p:nvCxnSpPr>
          <p:spPr>
            <a:xfrm flipH="1" flipV="1" rot="5400000">
              <a:off x="3628440" y="1662480"/>
              <a:ext cx="376200" cy="1658520"/>
            </a:xfrm>
            <a:prstGeom prst="bentConnector3">
              <a:avLst>
                <a:gd name="adj1" fmla="val 304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1032"/>
            <p:cNvSpPr/>
            <p:nvPr/>
          </p:nvSpPr>
          <p:spPr>
            <a:xfrm>
              <a:off x="3132000" y="1699560"/>
              <a:ext cx="3024360" cy="576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Arial Black"/>
                </a:rPr>
                <a:t>УСЛОВИЯ ТРУД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1980000" y="2708280"/>
              <a:ext cx="2015640" cy="5760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 Black"/>
                </a:rPr>
                <a:t>1 класс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Black"/>
                </a:rPr>
                <a:t>ОПТИМАЛЬНЫЕ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1034"/>
            <p:cNvSpPr/>
            <p:nvPr/>
          </p:nvSpPr>
          <p:spPr>
            <a:xfrm>
              <a:off x="1980000" y="3573360"/>
              <a:ext cx="2015640" cy="64692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 Black"/>
                </a:rPr>
                <a:t>3 класс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Black"/>
                </a:rPr>
                <a:t>ВРЕДНЫЕ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_s1035"/>
            <p:cNvSpPr/>
            <p:nvPr/>
          </p:nvSpPr>
          <p:spPr>
            <a:xfrm>
              <a:off x="5220000" y="2708280"/>
              <a:ext cx="1943640" cy="5760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 Black"/>
                </a:rPr>
                <a:t>2 класс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Black"/>
                </a:rPr>
                <a:t>ДОПУСТИМЫЕ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_s1036"/>
            <p:cNvSpPr/>
            <p:nvPr/>
          </p:nvSpPr>
          <p:spPr>
            <a:xfrm>
              <a:off x="5220000" y="3573360"/>
              <a:ext cx="1943640" cy="86328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 Black"/>
                </a:rPr>
                <a:t>4 класс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Black"/>
                </a:rPr>
                <a:t>ОПАСНЫЕ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Black"/>
                </a:rPr>
                <a:t>(экстремальные)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Picture 25" descr="HH01762_"/>
          <p:cNvPicPr/>
          <p:nvPr/>
        </p:nvPicPr>
        <p:blipFill>
          <a:blip r:embed="rId1"/>
          <a:stretch/>
        </p:blipFill>
        <p:spPr>
          <a:xfrm>
            <a:off x="4067280" y="3789360"/>
            <a:ext cx="10332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980640"/>
            <a:ext cx="5472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РЕДНЫЕ УСЛОВИЯ ТР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5616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Отклонения, которые исчезают при более длительном прерывании контакта с вредност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Отклонения, которые могут вызвать стойкие функциональные изменения, приводящие к увеличению заболеваемости с временной утратой трудоспособности и легких форм профзаболеваний (при стаже работы более 15 лет и без потери трудоспособност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Легкие и средней тяжести профзаболевания с потерей трудоспособ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Возникают тяжелые формы профзаболеваем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56880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 Black"/>
              </a:rPr>
              <a:t>Классификация вредных и опасных производственных факто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Organization Chart 174"/>
          <p:cNvGrpSpPr/>
          <p:nvPr/>
        </p:nvGrpSpPr>
        <p:grpSpPr>
          <a:xfrm>
            <a:off x="1763640" y="1413000"/>
            <a:ext cx="5760720" cy="3456000"/>
            <a:chOff x="1763640" y="1413000"/>
            <a:chExt cx="5760720" cy="3456000"/>
          </a:xfrm>
        </p:grpSpPr>
        <p:cxnSp>
          <p:nvCxnSpPr>
            <p:cNvPr id="60" name="_s2052"/>
            <p:cNvCxnSpPr>
              <a:stCxn id="61" idx="0"/>
              <a:endCxn id="62" idx="3"/>
            </p:cNvCxnSpPr>
            <p:nvPr/>
          </p:nvCxnSpPr>
          <p:spPr>
            <a:xfrm flipV="1" rot="16200000">
              <a:off x="5436360" y="2023200"/>
              <a:ext cx="504000" cy="1298160"/>
            </a:xfrm>
            <a:prstGeom prst="bentConnector3">
              <a:avLst>
                <a:gd name="adj1" fmla="val 2265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" name="_s2053"/>
            <p:cNvCxnSpPr>
              <a:stCxn id="64" idx="0"/>
              <a:endCxn id="62" idx="2"/>
            </p:cNvCxnSpPr>
            <p:nvPr/>
          </p:nvCxnSpPr>
          <p:spPr>
            <a:xfrm flipH="1" flipV="1" rot="5400000">
              <a:off x="3862440" y="2612160"/>
              <a:ext cx="1369080" cy="985680"/>
            </a:xfrm>
            <a:prstGeom prst="bentConnector3">
              <a:avLst>
                <a:gd name="adj1" fmla="val 833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" name="_s2054"/>
            <p:cNvCxnSpPr>
              <a:stCxn id="66" idx="0"/>
              <a:endCxn id="62" idx="1"/>
            </p:cNvCxnSpPr>
            <p:nvPr/>
          </p:nvCxnSpPr>
          <p:spPr>
            <a:xfrm flipH="1" flipV="1" rot="5400000">
              <a:off x="3780000" y="1377360"/>
              <a:ext cx="216720" cy="2302920"/>
            </a:xfrm>
            <a:prstGeom prst="bentConnector3">
              <a:avLst>
                <a:gd name="adj1" fmla="val 4991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_s2055"/>
            <p:cNvCxnSpPr>
              <a:stCxn id="68" idx="0"/>
              <a:endCxn id="62" idx="0"/>
            </p:cNvCxnSpPr>
            <p:nvPr/>
          </p:nvCxnSpPr>
          <p:spPr>
            <a:xfrm>
              <a:off x="3346920" y="1881000"/>
              <a:ext cx="217080" cy="37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_s2056"/>
            <p:cNvSpPr/>
            <p:nvPr/>
          </p:nvSpPr>
          <p:spPr>
            <a:xfrm>
              <a:off x="3564000" y="1413000"/>
              <a:ext cx="2952720" cy="1008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8100000"/>
            </a:gradFill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производственны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фактор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2057"/>
            <p:cNvSpPr/>
            <p:nvPr/>
          </p:nvSpPr>
          <p:spPr>
            <a:xfrm>
              <a:off x="1763640" y="1413000"/>
              <a:ext cx="1583640" cy="936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8100000"/>
            </a:gra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физические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2058"/>
            <p:cNvSpPr/>
            <p:nvPr/>
          </p:nvSpPr>
          <p:spPr>
            <a:xfrm>
              <a:off x="1763640" y="2637000"/>
              <a:ext cx="1944720" cy="107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8100000"/>
            </a:gra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химические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2059"/>
            <p:cNvSpPr/>
            <p:nvPr/>
          </p:nvSpPr>
          <p:spPr>
            <a:xfrm>
              <a:off x="3132000" y="3789360"/>
              <a:ext cx="1843200" cy="1079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8100000"/>
            </a:gra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иологические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2060"/>
            <p:cNvSpPr/>
            <p:nvPr/>
          </p:nvSpPr>
          <p:spPr>
            <a:xfrm>
              <a:off x="5148000" y="2924280"/>
              <a:ext cx="2376360" cy="944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8100000"/>
            </a:gra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сихо-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физиологические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545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 Black"/>
              </a:rPr>
              <a:t>ГРУППА ФИЗИЧЕСКИХ ФАКТО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вижущиеся машины, механизмы, подвижные элементы оборудования, передвигающиеся заготовки, изделия, материа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запыленность и загазованность воздух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или пониженная температура поверхностей оборуд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ый уровень шума, вибрации, инфразвука и ультразвука на Р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ое или пониженное барометрическое давление в рабочей зоне (РЗ) и его резкое измен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или пониженная влажность, подвижность и ионизация воздух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ый уровень излучения в Р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ый уровень напряжения в электрической цепи и уровень статического электрич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напряженность электрического и магнитного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ый уровень электромагнитных излуч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или недостаток естественного света, недостаточная освещенность РЗ, повышенная яркость, пониженная контрастность, прямая и отраженная блесткость, повышенная пульсация светового пото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ый уровень УФ и ИК-ради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 Black"/>
              </a:rPr>
              <a:t>Группа химических факто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763640" y="1773360"/>
            <a:ext cx="266400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По характеру воздейств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003640" y="1773360"/>
            <a:ext cx="2376720" cy="58068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По пути проникновен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763640" y="2349360"/>
            <a:ext cx="2664000" cy="317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1763640" y="2852640"/>
            <a:ext cx="2664000" cy="317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1763640" y="3284640"/>
            <a:ext cx="2664000" cy="317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1763640" y="3789360"/>
            <a:ext cx="2664000" cy="317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4932360" y="3645000"/>
            <a:ext cx="2664000" cy="3175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4932360" y="3141720"/>
            <a:ext cx="2664000" cy="3175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8"/>
          <p:cNvSpPr/>
          <p:nvPr/>
        </p:nvSpPr>
        <p:spPr>
          <a:xfrm>
            <a:off x="1763640" y="4221000"/>
            <a:ext cx="2664000" cy="317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0"/>
          <p:cNvSpPr/>
          <p:nvPr/>
        </p:nvSpPr>
        <p:spPr>
          <a:xfrm flipV="1">
            <a:off x="4932360" y="2636280"/>
            <a:ext cx="2664000" cy="31716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2027520" y="232236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токсическ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2257200" y="282744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дражающ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2025720" y="3257640"/>
            <a:ext cx="20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нсибилизирующ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2326680" y="376380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нцерогенны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6"/>
          <p:cNvSpPr/>
          <p:nvPr/>
        </p:nvSpPr>
        <p:spPr>
          <a:xfrm>
            <a:off x="2987640" y="4221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7"/>
          <p:cNvSpPr/>
          <p:nvPr/>
        </p:nvSpPr>
        <p:spPr>
          <a:xfrm>
            <a:off x="2420280" y="4194000"/>
            <a:ext cx="12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тагенны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8"/>
          <p:cNvSpPr/>
          <p:nvPr/>
        </p:nvSpPr>
        <p:spPr>
          <a:xfrm>
            <a:off x="1763640" y="4724280"/>
            <a:ext cx="3456000" cy="3373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йств.на репродуктивную ф-цию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5016600" y="2610000"/>
            <a:ext cx="24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рез дыхательные пут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0"/>
          <p:cNvSpPr/>
          <p:nvPr/>
        </p:nvSpPr>
        <p:spPr>
          <a:xfrm>
            <a:off x="5632560" y="311472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рез ЖК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5058000" y="3618000"/>
            <a:ext cx="23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рез кожу и слизисты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2"/>
          <p:cNvSpPr/>
          <p:nvPr/>
        </p:nvSpPr>
        <p:spPr>
          <a:xfrm>
            <a:off x="305928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3"/>
          <p:cNvSpPr/>
          <p:nvPr/>
        </p:nvSpPr>
        <p:spPr>
          <a:xfrm>
            <a:off x="3059280" y="2708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305928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9"/>
          <p:cNvSpPr/>
          <p:nvPr/>
        </p:nvSpPr>
        <p:spPr>
          <a:xfrm>
            <a:off x="305928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0"/>
          <p:cNvSpPr/>
          <p:nvPr/>
        </p:nvSpPr>
        <p:spPr>
          <a:xfrm>
            <a:off x="305928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1"/>
          <p:cNvSpPr/>
          <p:nvPr/>
        </p:nvSpPr>
        <p:spPr>
          <a:xfrm>
            <a:off x="622764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622764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622764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54"/>
          <p:cNvSpPr/>
          <p:nvPr/>
        </p:nvSpPr>
        <p:spPr>
          <a:xfrm>
            <a:off x="305928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6" descr="j0079118"/>
          <p:cNvPicPr/>
          <p:nvPr/>
        </p:nvPicPr>
        <p:blipFill>
          <a:blip r:embed="rId1"/>
          <a:stretch/>
        </p:blipFill>
        <p:spPr>
          <a:xfrm flipH="1">
            <a:off x="5490720" y="4149720"/>
            <a:ext cx="12416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Группа биологических фак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640" y="1700280"/>
            <a:ext cx="5616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здействие этих факторов приводит к травмам и заболеваниям, которые возникают при контакте 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акроорганизма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(травмы и заболеван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икроорганизмам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только заболевания) при работе с живыми и убитыми вакцинами, при выявлении и лечении боль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ещества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получаемыми при переработке продуктов жизнедеятельности (пепсин, инсулин, антибиотики, биологически активные препара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сихо-физиологические фак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6364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Физические перегруз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Вынужденная по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411280" y="2637000"/>
            <a:ext cx="27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627280" y="285264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059280" y="2421000"/>
            <a:ext cx="2736720" cy="476280"/>
          </a:xfrm>
          <a:prstGeom prst="rect">
            <a:avLst/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708360" y="3068640"/>
            <a:ext cx="2736720" cy="47628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708360" y="3068640"/>
            <a:ext cx="2736720" cy="476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3420720" y="242100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ическ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998880" y="306864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намическ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510440" y="3716280"/>
            <a:ext cx="279144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подинамическ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7" descr="j0078739"/>
          <p:cNvPicPr/>
          <p:nvPr/>
        </p:nvPicPr>
        <p:blipFill>
          <a:blip r:embed="rId1"/>
          <a:stretch/>
        </p:blipFill>
        <p:spPr>
          <a:xfrm>
            <a:off x="6588000" y="1413000"/>
            <a:ext cx="1079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350"/>
                            </p:stCondLst>
                            <p:childTnLst>
                              <p:par>
                                <p:cTn id="2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animClr clrSpc="rgb">
                                      <p:cBhvr>
                                        <p:cTn id="234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35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63640" y="981000"/>
            <a:ext cx="56167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Классификация труда по тяжести трудового проце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47640" y="1484280"/>
          <a:ext cx="6048720" cy="3897360"/>
        </p:xfrm>
        <a:graphic>
          <a:graphicData uri="http://schemas.openxmlformats.org/drawingml/2006/table">
            <a:tbl>
              <a:tblPr/>
              <a:tblGrid>
                <a:gridCol w="1800360"/>
                <a:gridCol w="1200240"/>
                <a:gridCol w="1195200"/>
                <a:gridCol w="936720"/>
                <a:gridCol w="916200"/>
              </a:tblGrid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Характеристика нагрузк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Классы условий труд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имал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ы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легкая физ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грузка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редня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грузка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дный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тяжелый труд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. величина поднимаемых грузов или прилагаемых усил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о 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о 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о 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более 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хождение в вынужденной позе в %% от времени смен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вободная поз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о 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тоя до 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о 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тоя до 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выше 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asyNote</cp:lastModifiedBy>
  <dcterms:modified xsi:type="dcterms:W3CDTF">2012-11-29T13:53:01Z</dcterms:modified>
  <cp:revision>14</cp:revision>
  <dc:subject/>
  <dc:title>PowerPoint Presentation</dc:title>
</cp:coreProperties>
</file>