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8.jpeg" ContentType="image/jpeg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B235-16AE-4375-9523-C1DD291A7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648-7DAD-4984-ACD5-E2220B74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E54-DE36-47B0-BB6D-7CA37907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3582-B713-4104-8C65-144C31A43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2332-A7F3-4E04-AE33-1B7914608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0F8-ADEB-42A8-80DE-0FAA67041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5566-5503-4AFB-874B-C263BD198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3557-F4B7-41EE-96EE-059D75C40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A9C9-792F-4E23-B78A-64B285C14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DAD6-5A9E-4123-9B37-8BF79753C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2CB3-8F69-465B-A18B-50C281B6D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5DD1-4CF9-41CA-B7E1-A89154782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582E-65CA-4986-90DE-B0C5BC796A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image" Target="../media/image9.jpeg"/><Relationship Id="rId6" Type="http://schemas.openxmlformats.org/officeDocument/2006/relationships/image" Target="../media/image9.jpeg"/><Relationship Id="rId7" Type="http://schemas.openxmlformats.org/officeDocument/2006/relationships/image" Target="../media/image9.jpeg"/><Relationship Id="rId8" Type="http://schemas.openxmlformats.org/officeDocument/2006/relationships/image" Target="../media/image9.jpeg"/><Relationship Id="rId9" Type="http://schemas.openxmlformats.org/officeDocument/2006/relationships/image" Target="../media/image9.jpeg"/><Relationship Id="rId10" Type="http://schemas.openxmlformats.org/officeDocument/2006/relationships/image" Target="../media/image9.jpeg"/><Relationship Id="rId11" Type="http://schemas.openxmlformats.org/officeDocument/2006/relationships/image" Target="../media/image9.jpeg"/><Relationship Id="rId12" Type="http://schemas.openxmlformats.org/officeDocument/2006/relationships/image" Target="../media/image9.jpeg"/><Relationship Id="rId13" Type="http://schemas.openxmlformats.org/officeDocument/2006/relationships/image" Target="../media/image9.jpeg"/><Relationship Id="rId14" Type="http://schemas.openxmlformats.org/officeDocument/2006/relationships/image" Target="../media/image9.jpeg"/><Relationship Id="rId15" Type="http://schemas.openxmlformats.org/officeDocument/2006/relationships/image" Target="../media/image9.jpeg"/><Relationship Id="rId16" Type="http://schemas.openxmlformats.org/officeDocument/2006/relationships/image" Target="../media/image9.jpeg"/><Relationship Id="rId17" Type="http://schemas.openxmlformats.org/officeDocument/2006/relationships/image" Target="../media/image9.jpeg"/><Relationship Id="rId18" Type="http://schemas.openxmlformats.org/officeDocument/2006/relationships/image" Target="../media/image9.jpeg"/><Relationship Id="rId19" Type="http://schemas.openxmlformats.org/officeDocument/2006/relationships/image" Target="../media/image9.jpeg"/><Relationship Id="rId20" Type="http://schemas.openxmlformats.org/officeDocument/2006/relationships/image" Target="../media/image9.jpeg"/><Relationship Id="rId21" Type="http://schemas.openxmlformats.org/officeDocument/2006/relationships/image" Target="../media/image9.jpeg"/><Relationship Id="rId22" Type="http://schemas.openxmlformats.org/officeDocument/2006/relationships/image" Target="../media/image9.jpeg"/><Relationship Id="rId23" Type="http://schemas.openxmlformats.org/officeDocument/2006/relationships/image" Target="../media/image9.jpeg"/><Relationship Id="rId24" Type="http://schemas.openxmlformats.org/officeDocument/2006/relationships/image" Target="../media/image9.jpeg"/><Relationship Id="rId25" Type="http://schemas.openxmlformats.org/officeDocument/2006/relationships/image" Target="../media/image9.jpeg"/><Relationship Id="rId26" Type="http://schemas.openxmlformats.org/officeDocument/2006/relationships/image" Target="../media/image10.wmf"/><Relationship Id="rId2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8.jpeg"/><Relationship Id="rId13" Type="http://schemas.openxmlformats.org/officeDocument/2006/relationships/image" Target="../media/image7.jpeg"/><Relationship Id="rId14" Type="http://schemas.openxmlformats.org/officeDocument/2006/relationships/image" Target="../media/image8.jpeg"/><Relationship Id="rId15" Type="http://schemas.openxmlformats.org/officeDocument/2006/relationships/image" Target="../media/image8.jpeg"/><Relationship Id="rId16" Type="http://schemas.openxmlformats.org/officeDocument/2006/relationships/image" Target="../media/image8.jpeg"/><Relationship Id="rId17" Type="http://schemas.openxmlformats.org/officeDocument/2006/relationships/image" Target="../media/image8.jpe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367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cc"/>
                </a:solidFill>
                <a:latin typeface="Arial Black"/>
              </a:rPr>
              <a:t>Основы гигиены (медицины) труда. Определение, цели, задачи, методы. Понятие о профвредностях и опасностях, профболезнях. Профилактика заболеваний, вызываемых факторами физической природы</a:t>
            </a:r>
            <a:r>
              <a:rPr b="1" lang="ru-RU" sz="2800" spc="-1" strike="noStrike">
                <a:solidFill>
                  <a:srgbClr val="3333cc"/>
                </a:solidFill>
                <a:latin typeface="Arial Black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5" descr="j0240695"/>
          <p:cNvPicPr/>
          <p:nvPr/>
        </p:nvPicPr>
        <p:blipFill>
          <a:blip r:embed="rId1"/>
          <a:stretch/>
        </p:blipFill>
        <p:spPr>
          <a:xfrm>
            <a:off x="1619280" y="3933720"/>
            <a:ext cx="1825560" cy="1462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j0078705"/>
          <p:cNvPicPr/>
          <p:nvPr/>
        </p:nvPicPr>
        <p:blipFill>
          <a:blip r:embed="rId2"/>
          <a:stretch/>
        </p:blipFill>
        <p:spPr>
          <a:xfrm>
            <a:off x="5508720" y="3789360"/>
            <a:ext cx="2085840" cy="15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763640" y="765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3300"/>
                </a:solidFill>
                <a:latin typeface="Arial Black"/>
              </a:rPr>
              <a:t>Классификация труда по показателям напряженности трудового процесс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1763640" y="1341360"/>
          <a:ext cx="5977080" cy="3724200"/>
        </p:xfrm>
        <a:graphic>
          <a:graphicData uri="http://schemas.openxmlformats.org/drawingml/2006/table">
            <a:tbl>
              <a:tblPr/>
              <a:tblGrid>
                <a:gridCol w="1295640"/>
                <a:gridCol w="1488960"/>
                <a:gridCol w="1247760"/>
                <a:gridCol w="884160"/>
                <a:gridCol w="106056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Характери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-ность труда легко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сть труда средней степени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напряженный труд)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463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5400000"/>
                    </a:gra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нимание: число производственно важных объектов наблюд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1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выше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нтеллект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альное напряжение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5e9eff"/>
                        </a:gs>
                        <a:gs pos="100000">
                          <a:srgbClr val="ffebfa"/>
                        </a:gs>
                      </a:gsLst>
                      <a:lin ang="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инструкци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 алгоритму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эвристич.решени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efd1"/>
                        </a:gs>
                        <a:gs pos="100000">
                          <a:srgbClr val="d1c39f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547640" y="1628640"/>
          <a:ext cx="5977080" cy="3529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 Творческая деятельность, конструирование программироваие,обучение, врачеб. деят-сть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 Управленч. дят-сть, аналитич. работы в лабораториях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32000" y="765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1547640" y="1484280"/>
          <a:ext cx="5977080" cy="407520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55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 Работа, требующая пост. слухового контроля, операторская и диспетчерская работа со сязью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 Работа за пультми в кабинах наблюдения и ДУ без связи по телефону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7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640872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Arial Black"/>
              </a:rPr>
              <a:t>Допустимые уровни звукового давления и эквивалентные уровни звука на РМ в производственных помещениях и на территории предприяти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547640" y="1989000"/>
          <a:ext cx="5977080" cy="2521080"/>
        </p:xfrm>
        <a:graphic>
          <a:graphicData uri="http://schemas.openxmlformats.org/drawingml/2006/table">
            <a:tbl>
              <a:tblPr/>
              <a:tblGrid>
                <a:gridCol w="1440000"/>
                <a:gridCol w="432000"/>
                <a:gridCol w="431640"/>
                <a:gridCol w="433440"/>
                <a:gridCol w="431640"/>
                <a:gridCol w="432000"/>
                <a:gridCol w="431640"/>
                <a:gridCol w="432000"/>
                <a:gridCol w="431640"/>
                <a:gridCol w="433440"/>
                <a:gridCol w="647640"/>
              </a:tblGrid>
              <a:tr h="7333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Вид трудовой деятельности, рабочее место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9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Уровни звукового давления в дБ в октавных полосах со среднегеометрическими частотами, Гц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Эквив уровень шума в дБ(А</a:t>
                      </a: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19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3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00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. Все виды работ за исключением пп 1-4 на постоянных РМ и на территории предприятий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9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4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63640" y="980640"/>
            <a:ext cx="5616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Спектральная характеристика </a:t>
            </a:r>
            <a:br>
              <a:rPr sz="2400"/>
            </a:br>
            <a:r>
              <a:rPr b="0" lang="ru-RU" sz="2400" spc="-1" strike="noStrike">
                <a:solidFill>
                  <a:srgbClr val="cc0099"/>
                </a:solidFill>
                <a:latin typeface="Arial Black"/>
              </a:rPr>
              <a:t>УЗ-колебани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3059280" y="3213000"/>
            <a:ext cx="3024000" cy="862560"/>
          </a:xfrm>
          <a:prstGeom prst="rect">
            <a:avLst/>
          </a:prstGeom>
          <a:solidFill>
            <a:srgbClr val="00ff00"/>
          </a:solidFill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едне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25 -250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3059280" y="2205000"/>
            <a:ext cx="3025440" cy="86256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из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6 – 63 к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3059280" y="4284720"/>
            <a:ext cx="3024000" cy="86256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сокочастотный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1,0 – 31,5 МГц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4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45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45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63640" y="1196640"/>
            <a:ext cx="5616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Arial Black"/>
              </a:rPr>
              <a:t>Нормируемые параметры УЗ для Р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763640" y="2060640"/>
          <a:ext cx="5616720" cy="3220920"/>
        </p:xfrm>
        <a:graphic>
          <a:graphicData uri="http://schemas.openxmlformats.org/drawingml/2006/table">
            <a:tbl>
              <a:tblPr/>
              <a:tblGrid>
                <a:gridCol w="936720"/>
                <a:gridCol w="934920"/>
                <a:gridCol w="936720"/>
                <a:gridCol w="936720"/>
                <a:gridCol w="934920"/>
                <a:gridCol w="936720"/>
              </a:tblGrid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Воздушный 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,5-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</a:tr>
              <a:tr h="51552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 Black"/>
                        </a:rPr>
                        <a:t>Контактный УЗ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8488c4"/>
                        </a:gs>
                        <a:gs pos="100000">
                          <a:srgbClr val="96ab94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-63,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5 – 250 - 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0 – 315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Б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2025"/>
                            </p:stCondLst>
                            <p:childTnLst>
                              <p:par>
                                <p:cTn id="3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692360" y="907920"/>
            <a:ext cx="568800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Times New Roman"/>
              </a:rPr>
              <a:t>Ограничение неблагоприятного влияния УЗ на работающих и население за сче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92360" y="1628280"/>
            <a:ext cx="56880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Защиты рук с помощью нарукавников, рукавиц или перчаток (наружные резиновые и внутренние хлопчатобумажные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ормы ручных источников (РИ) УЗ, обеспечивающих минимальное напряжение мышц кисти и верхнего плечевого пояса операто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оверхностного покрытия РИ УЗ материалами, исключающими возможность охлаждения рук работающих ( К теплопроводности не более 0,5 Вт/ м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градус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генераторов УЗ с рабочими частотами не ниже 22 кГц, что ослабит неблагоприятное воздействие воздушного У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егламентированных 2-х перерывов: 10 мин за 1-1,5 часа до и 15 мин через 1,5-2 часа после обеденного перерыва при протяжении работы с РИ УЗ более 50% рабочего времени; перерывов для физиопроцедур (тепловых, гидропроцедур, массажа, УФ облучения), а также лечебной гимнастики, витами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менения противошум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Недопущения к работе с РИ УЗ лиц, моложе 18 ле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ведения предварительных при приеме на работу и периодических медосмотров в соответствии с приказом МЗ №9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1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4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4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4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1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4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5" dur="100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6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400" fill="hold"/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2" dur="100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3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400" fill="hold"/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100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400" fill="hold"/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8000"/>
                </a:solidFill>
                <a:latin typeface="Arial Black"/>
              </a:rPr>
              <a:t>ПДУ ИЗ на РМ, в жилых и обществ. помещениях и на территории жилой затрой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763640" y="1557360"/>
          <a:ext cx="5616720" cy="3600360"/>
        </p:xfrm>
        <a:graphic>
          <a:graphicData uri="http://schemas.openxmlformats.org/drawingml/2006/table">
            <a:tbl>
              <a:tblPr/>
              <a:tblGrid>
                <a:gridCol w="2497320"/>
                <a:gridCol w="830160"/>
                <a:gridCol w="782640"/>
                <a:gridCol w="730080"/>
                <a:gridCol w="77652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2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4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8 Гц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cc3300"/>
                          </a:solidFill>
                          <a:latin typeface="Arial Black"/>
                        </a:rPr>
                        <a:t>16 Гц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Работы различной степени тяже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</a:tr>
              <a:tr h="1487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Работы различной степени интеллектуально-эмоциональной напряженности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</a:tr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3399"/>
                          </a:solidFill>
                          <a:latin typeface="Times New Roman"/>
                        </a:rPr>
                        <a:t>Жилая застройк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0"/>
                      <a:tile tx="0" ty="0" sx="100000" sy="100000" algn="ctr"/>
                    </a:blipFill>
                  </a:tcPr>
                </a:tc>
              </a:tr>
              <a:tr h="438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Жилые помещения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5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25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  <p:pic>
        <p:nvPicPr>
          <p:cNvPr id="135" name="Picture 80" descr="j0078820"/>
          <p:cNvPicPr/>
          <p:nvPr/>
        </p:nvPicPr>
        <p:blipFill>
          <a:blip r:embed="rId26"/>
          <a:stretch/>
        </p:blipFill>
        <p:spPr>
          <a:xfrm>
            <a:off x="7164360" y="2924280"/>
            <a:ext cx="1471680" cy="23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6" dur="1500" autoRev="1" fill="hold"/>
                                        <p:tgtEl>
                                          <p:spTgt spid="1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63640" y="836280"/>
            <a:ext cx="6337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 Black"/>
              </a:rPr>
              <a:t>КЛАССЫ ОПАСНОСТИ УСЛОВИЙ ТРУД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" name="Organization Chart 7"/>
          <p:cNvGrpSpPr/>
          <p:nvPr/>
        </p:nvGrpSpPr>
        <p:grpSpPr>
          <a:xfrm>
            <a:off x="1980000" y="1699560"/>
            <a:ext cx="5183640" cy="2737080"/>
            <a:chOff x="1980000" y="1699560"/>
            <a:chExt cx="5183640" cy="2737080"/>
          </a:xfrm>
        </p:grpSpPr>
        <p:cxnSp>
          <p:nvCxnSpPr>
            <p:cNvPr id="46" name="_s1028"/>
            <p:cNvCxnSpPr>
              <a:stCxn id="47" idx="0"/>
              <a:endCxn id="48" idx="2"/>
            </p:cNvCxnSpPr>
            <p:nvPr/>
          </p:nvCxnSpPr>
          <p:spPr>
            <a:xfrm flipV="1" rot="16200000">
              <a:off x="4798440" y="2150280"/>
              <a:ext cx="1241280" cy="154836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9" name="_s1029"/>
            <p:cNvCxnSpPr>
              <a:stCxn id="50" idx="0"/>
              <a:endCxn id="48" idx="2"/>
            </p:cNvCxnSpPr>
            <p:nvPr/>
          </p:nvCxnSpPr>
          <p:spPr>
            <a:xfrm flipV="1" rot="16200000">
              <a:off x="5230800" y="1717560"/>
              <a:ext cx="376200" cy="154836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1" name="_s1030"/>
            <p:cNvCxnSpPr>
              <a:stCxn id="52" idx="0"/>
              <a:endCxn id="48" idx="2"/>
            </p:cNvCxnSpPr>
            <p:nvPr/>
          </p:nvCxnSpPr>
          <p:spPr>
            <a:xfrm flipH="1" flipV="1" rot="5400000">
              <a:off x="3195720" y="2095200"/>
              <a:ext cx="1241280" cy="1658520"/>
            </a:xfrm>
            <a:prstGeom prst="bentConnector3">
              <a:avLst>
                <a:gd name="adj1" fmla="val 919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1031"/>
            <p:cNvCxnSpPr>
              <a:stCxn id="54" idx="0"/>
              <a:endCxn id="48" idx="2"/>
            </p:cNvCxnSpPr>
            <p:nvPr/>
          </p:nvCxnSpPr>
          <p:spPr>
            <a:xfrm flipH="1" flipV="1" rot="5400000">
              <a:off x="3628440" y="1662480"/>
              <a:ext cx="376200" cy="1658520"/>
            </a:xfrm>
            <a:prstGeom prst="bentConnector3">
              <a:avLst>
                <a:gd name="adj1" fmla="val 30459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8" name="_s1032"/>
            <p:cNvSpPr/>
            <p:nvPr/>
          </p:nvSpPr>
          <p:spPr>
            <a:xfrm>
              <a:off x="3132000" y="1699560"/>
              <a:ext cx="3024360" cy="576000"/>
            </a:xfrm>
            <a:prstGeom prst="rect">
              <a:avLst/>
            </a:prstGeom>
            <a:solidFill>
              <a:srgbClr val="00cc99">
                <a:alpha val="50000"/>
              </a:srgbClr>
            </a:solidFill>
            <a:ln w="57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3300"/>
                  </a:solidFill>
                  <a:latin typeface="Arial Black"/>
                </a:rPr>
                <a:t>УСЛОВИЯ ТРУДА</a:t>
              </a:r>
              <a:endParaRPr b="1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_s1033"/>
            <p:cNvSpPr/>
            <p:nvPr/>
          </p:nvSpPr>
          <p:spPr>
            <a:xfrm>
              <a:off x="1980000" y="2708280"/>
              <a:ext cx="2015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1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ТИМАЛЬ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_s1034"/>
            <p:cNvSpPr/>
            <p:nvPr/>
          </p:nvSpPr>
          <p:spPr>
            <a:xfrm>
              <a:off x="1980000" y="3573360"/>
              <a:ext cx="2015640" cy="64692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3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ВРЕД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_s1035"/>
            <p:cNvSpPr/>
            <p:nvPr/>
          </p:nvSpPr>
          <p:spPr>
            <a:xfrm>
              <a:off x="5220000" y="2708280"/>
              <a:ext cx="1943640" cy="57600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4920" rIns="34920" tIns="17280" bIns="17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2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ДОПУСТИМ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_s1036"/>
            <p:cNvSpPr/>
            <p:nvPr/>
          </p:nvSpPr>
          <p:spPr>
            <a:xfrm>
              <a:off x="5220000" y="3573360"/>
              <a:ext cx="1943640" cy="863280"/>
            </a:xfrm>
            <a:prstGeom prst="rect">
              <a:avLst/>
            </a:prstGeom>
            <a:solidFill>
              <a:srgbClr val="3333cc">
                <a:alpha val="50000"/>
              </a:srgbClr>
            </a:solidFill>
            <a:ln w="57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720" rIns="54720" tIns="27360" bIns="27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ff0000"/>
                  </a:solidFill>
                  <a:latin typeface="Arial Black"/>
                </a:rPr>
                <a:t>4 класс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ОПАСНЫЕ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Arial Black"/>
                </a:rPr>
                <a:t>(экстремальные)</a:t>
              </a: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5" name="Picture 25" descr="HH01762_"/>
          <p:cNvPicPr/>
          <p:nvPr/>
        </p:nvPicPr>
        <p:blipFill>
          <a:blip r:embed="rId1"/>
          <a:stretch/>
        </p:blipFill>
        <p:spPr>
          <a:xfrm>
            <a:off x="4067280" y="3789360"/>
            <a:ext cx="1033200" cy="11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animClr clrSpc="rgb">
                                      <p:cBhvr>
                                        <p:cTn id="34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66"/>
                                      </p:to>
                                    </p:animClr>
                                    <p:set>
                                      <p:cBhvr>
                                        <p:cTn id="35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07640" y="980640"/>
            <a:ext cx="5472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 Black"/>
              </a:rPr>
              <a:t>ВРЕДНЫЕ УСЛОВИЯ ТРУ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561672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исчезают при более длительном прерывании контакта с вредность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Отклонения, которые могут вызвать стойкие функциональные изменения, приводящие к увеличению заболеваемости с временной утратой трудоспособности и легких форм профзаболеваний (при стаже работы более 15 лет и без потери трудоспособности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Легкие и средней тяжести профзаболевания с потерей трудоспосо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Times New Roman"/>
              </a:rPr>
              <a:t>Возникают тяжелые формы профзаболеваем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620640"/>
            <a:ext cx="56880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8000"/>
                </a:solidFill>
                <a:latin typeface="Arial Black"/>
              </a:rPr>
              <a:t>Классификация вредных и опасных производственны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Organization Chart 174"/>
          <p:cNvGrpSpPr/>
          <p:nvPr/>
        </p:nvGrpSpPr>
        <p:grpSpPr>
          <a:xfrm>
            <a:off x="1763640" y="1413000"/>
            <a:ext cx="5760720" cy="3456000"/>
            <a:chOff x="1763640" y="1413000"/>
            <a:chExt cx="5760720" cy="3456000"/>
          </a:xfrm>
        </p:grpSpPr>
        <p:cxnSp>
          <p:nvCxnSpPr>
            <p:cNvPr id="60" name="_s2052"/>
            <p:cNvCxnSpPr>
              <a:stCxn id="61" idx="0"/>
              <a:endCxn id="62" idx="3"/>
            </p:cNvCxnSpPr>
            <p:nvPr/>
          </p:nvCxnSpPr>
          <p:spPr>
            <a:xfrm flipV="1" rot="16200000">
              <a:off x="5436360" y="2023200"/>
              <a:ext cx="504000" cy="1298160"/>
            </a:xfrm>
            <a:prstGeom prst="bentConnector3">
              <a:avLst>
                <a:gd name="adj1" fmla="val 22659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3" name="_s2053"/>
            <p:cNvCxnSpPr>
              <a:stCxn id="64" idx="0"/>
              <a:endCxn id="62" idx="2"/>
            </p:cNvCxnSpPr>
            <p:nvPr/>
          </p:nvCxnSpPr>
          <p:spPr>
            <a:xfrm flipH="1" flipV="1" rot="5400000">
              <a:off x="3862440" y="2612160"/>
              <a:ext cx="1369080" cy="985680"/>
            </a:xfrm>
            <a:prstGeom prst="bentConnector3">
              <a:avLst>
                <a:gd name="adj1" fmla="val 8337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5" name="_s2054"/>
            <p:cNvCxnSpPr>
              <a:stCxn id="66" idx="0"/>
              <a:endCxn id="62" idx="1"/>
            </p:cNvCxnSpPr>
            <p:nvPr/>
          </p:nvCxnSpPr>
          <p:spPr>
            <a:xfrm flipH="1" flipV="1" rot="5400000">
              <a:off x="3780000" y="1377360"/>
              <a:ext cx="216720" cy="2302920"/>
            </a:xfrm>
            <a:prstGeom prst="bentConnector3">
              <a:avLst>
                <a:gd name="adj1" fmla="val 49916"/>
              </a:avLst>
            </a:prstGeom>
            <a:ln w="9360">
              <a:solidFill>
                <a:srgbClr val="000000"/>
              </a:solidFill>
              <a:miter/>
            </a:ln>
          </p:spPr>
        </p:cxnSp>
        <p:cxnSp>
          <p:nvCxnSpPr>
            <p:cNvPr id="67" name="_s2055"/>
            <p:cNvCxnSpPr>
              <a:stCxn id="68" idx="0"/>
              <a:endCxn id="62" idx="0"/>
            </p:cNvCxnSpPr>
            <p:nvPr/>
          </p:nvCxnSpPr>
          <p:spPr>
            <a:xfrm>
              <a:off x="3346920" y="1881000"/>
              <a:ext cx="217080" cy="370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62" name="_s2056"/>
            <p:cNvSpPr/>
            <p:nvPr/>
          </p:nvSpPr>
          <p:spPr>
            <a:xfrm>
              <a:off x="3564000" y="1413000"/>
              <a:ext cx="2952720" cy="100800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00cc99"/>
                </a:gs>
                <a:gs pos="50000">
                  <a:srgbClr val="ffffff"/>
                </a:gs>
                <a:gs pos="100000">
                  <a:srgbClr val="00cc99"/>
                </a:gs>
              </a:gsLst>
              <a:lin ang="8100000"/>
            </a:gradFill>
            <a:ln w="32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производственные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0000"/>
                  </a:solidFill>
                  <a:latin typeface="Times New Roman"/>
                </a:rPr>
                <a:t>факторы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_s2057"/>
            <p:cNvSpPr/>
            <p:nvPr/>
          </p:nvSpPr>
          <p:spPr>
            <a:xfrm>
              <a:off x="1763640" y="1413000"/>
              <a:ext cx="1583640" cy="93636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_s2058"/>
            <p:cNvSpPr/>
            <p:nvPr/>
          </p:nvSpPr>
          <p:spPr>
            <a:xfrm>
              <a:off x="1763640" y="2637000"/>
              <a:ext cx="1944720" cy="1079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хим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_s2059"/>
            <p:cNvSpPr/>
            <p:nvPr/>
          </p:nvSpPr>
          <p:spPr>
            <a:xfrm>
              <a:off x="3132000" y="3789360"/>
              <a:ext cx="1843200" cy="107964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б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_s2060"/>
            <p:cNvSpPr/>
            <p:nvPr/>
          </p:nvSpPr>
          <p:spPr>
            <a:xfrm>
              <a:off x="5148000" y="2924280"/>
              <a:ext cx="2376360" cy="94428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3333cc"/>
                </a:gs>
                <a:gs pos="50000">
                  <a:srgbClr val="ffffff"/>
                </a:gs>
                <a:gs pos="100000">
                  <a:srgbClr val="3333cc"/>
                </a:gs>
              </a:gsLst>
              <a:lin ang="8100000"/>
            </a:gradFill>
            <a:ln w="32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360" rIns="81360" tIns="40680" bIns="406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психо-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физиологические</a:t>
              </a: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050920" y="333000"/>
            <a:ext cx="554544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cc33"/>
                </a:solidFill>
                <a:latin typeface="Arial Black"/>
              </a:rPr>
              <a:t>ГРУППА ФИЗИЧЕСКИХ ФАКТОР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вижущиеся машины, механизмы, подвижные элементы оборудования, передвигающиеся заготовки, изделия, материал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запыленность и загазованность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температура поверхностей оборудова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шума, вибрации, инфразвука и ультразвука на Р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ое или пониженное барометрическое давление в рабочей зоне (РЗ) и его резкое измен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или пониженная влажность, подвижность и ионизация воздух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излучения в РЗ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напряжения в электрической цепи и уровень статического электричест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ая напряженность электрического и магнитного поле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электромагнитных излуче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сутствие или недостаток естественного света, недостаточная освещенность РЗ, повышенная яркость, пониженная контрастность, прямая и отраженная блесткость, повышенная пульсация светового пото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овышенный уровень УФ и ИК-радиаци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ff"/>
                </a:solidFill>
                <a:latin typeface="Arial Black"/>
              </a:rPr>
              <a:t>Группа химических фактор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1763640" y="1773360"/>
            <a:ext cx="2664000" cy="33732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характеру воздейств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5003640" y="1773360"/>
            <a:ext cx="2376720" cy="580680"/>
          </a:xfrm>
          <a:prstGeom prst="rect">
            <a:avLst/>
          </a:prstGeom>
          <a:solidFill>
            <a:srgbClr val="00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По пути проникновения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2"/>
          <p:cNvSpPr/>
          <p:nvPr/>
        </p:nvSpPr>
        <p:spPr>
          <a:xfrm>
            <a:off x="1763640" y="234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3"/>
          <p:cNvSpPr/>
          <p:nvPr/>
        </p:nvSpPr>
        <p:spPr>
          <a:xfrm>
            <a:off x="1763640" y="2852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24"/>
          <p:cNvSpPr/>
          <p:nvPr/>
        </p:nvSpPr>
        <p:spPr>
          <a:xfrm>
            <a:off x="1763640" y="328464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5"/>
          <p:cNvSpPr/>
          <p:nvPr/>
        </p:nvSpPr>
        <p:spPr>
          <a:xfrm>
            <a:off x="1763640" y="378936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26"/>
          <p:cNvSpPr/>
          <p:nvPr/>
        </p:nvSpPr>
        <p:spPr>
          <a:xfrm>
            <a:off x="4932360" y="364500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7"/>
          <p:cNvSpPr/>
          <p:nvPr/>
        </p:nvSpPr>
        <p:spPr>
          <a:xfrm>
            <a:off x="4932360" y="3141720"/>
            <a:ext cx="2664000" cy="317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8"/>
          <p:cNvSpPr/>
          <p:nvPr/>
        </p:nvSpPr>
        <p:spPr>
          <a:xfrm>
            <a:off x="1763640" y="4221000"/>
            <a:ext cx="2664000" cy="3175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30"/>
          <p:cNvSpPr/>
          <p:nvPr/>
        </p:nvSpPr>
        <p:spPr>
          <a:xfrm flipV="1">
            <a:off x="4932360" y="2636280"/>
            <a:ext cx="2664000" cy="3171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1"/>
          <p:cNvSpPr/>
          <p:nvPr/>
        </p:nvSpPr>
        <p:spPr>
          <a:xfrm>
            <a:off x="2027520" y="2322360"/>
            <a:ext cx="178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щетоксическ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32"/>
          <p:cNvSpPr/>
          <p:nvPr/>
        </p:nvSpPr>
        <p:spPr>
          <a:xfrm>
            <a:off x="2257200" y="2827440"/>
            <a:ext cx="157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здража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3"/>
          <p:cNvSpPr/>
          <p:nvPr/>
        </p:nvSpPr>
        <p:spPr>
          <a:xfrm>
            <a:off x="2025720" y="3257640"/>
            <a:ext cx="20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енсибилизирующи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35"/>
          <p:cNvSpPr/>
          <p:nvPr/>
        </p:nvSpPr>
        <p:spPr>
          <a:xfrm>
            <a:off x="2326680" y="3763800"/>
            <a:ext cx="1604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канцеро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36"/>
          <p:cNvSpPr/>
          <p:nvPr/>
        </p:nvSpPr>
        <p:spPr>
          <a:xfrm>
            <a:off x="2987640" y="422100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7"/>
          <p:cNvSpPr/>
          <p:nvPr/>
        </p:nvSpPr>
        <p:spPr>
          <a:xfrm>
            <a:off x="2420280" y="4194000"/>
            <a:ext cx="1287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утагенн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38"/>
          <p:cNvSpPr/>
          <p:nvPr/>
        </p:nvSpPr>
        <p:spPr>
          <a:xfrm>
            <a:off x="1763640" y="4724280"/>
            <a:ext cx="3456000" cy="337320"/>
          </a:xfrm>
          <a:prstGeom prst="rect">
            <a:avLst/>
          </a:prstGeom>
          <a:solidFill>
            <a:srgbClr val="ff99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действ.на репродуктивную ф-цию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39"/>
          <p:cNvSpPr/>
          <p:nvPr/>
        </p:nvSpPr>
        <p:spPr>
          <a:xfrm>
            <a:off x="5016600" y="2610000"/>
            <a:ext cx="244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дыхательные пути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40"/>
          <p:cNvSpPr/>
          <p:nvPr/>
        </p:nvSpPr>
        <p:spPr>
          <a:xfrm>
            <a:off x="5632560" y="3114720"/>
            <a:ext cx="120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ЖКТ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41"/>
          <p:cNvSpPr/>
          <p:nvPr/>
        </p:nvSpPr>
        <p:spPr>
          <a:xfrm>
            <a:off x="5058000" y="3618000"/>
            <a:ext cx="236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ерез кожу и слизистые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42"/>
          <p:cNvSpPr/>
          <p:nvPr/>
        </p:nvSpPr>
        <p:spPr>
          <a:xfrm>
            <a:off x="3059280" y="2133720"/>
            <a:ext cx="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43"/>
          <p:cNvSpPr/>
          <p:nvPr/>
        </p:nvSpPr>
        <p:spPr>
          <a:xfrm>
            <a:off x="3059280" y="2708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48"/>
          <p:cNvSpPr/>
          <p:nvPr/>
        </p:nvSpPr>
        <p:spPr>
          <a:xfrm>
            <a:off x="305928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49"/>
          <p:cNvSpPr/>
          <p:nvPr/>
        </p:nvSpPr>
        <p:spPr>
          <a:xfrm>
            <a:off x="3059280" y="4076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50"/>
          <p:cNvSpPr/>
          <p:nvPr/>
        </p:nvSpPr>
        <p:spPr>
          <a:xfrm>
            <a:off x="3059280" y="458136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51"/>
          <p:cNvSpPr/>
          <p:nvPr/>
        </p:nvSpPr>
        <p:spPr>
          <a:xfrm>
            <a:off x="6227640" y="2349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52"/>
          <p:cNvSpPr/>
          <p:nvPr/>
        </p:nvSpPr>
        <p:spPr>
          <a:xfrm>
            <a:off x="6227640" y="2924280"/>
            <a:ext cx="0" cy="217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53"/>
          <p:cNvSpPr/>
          <p:nvPr/>
        </p:nvSpPr>
        <p:spPr>
          <a:xfrm>
            <a:off x="6227640" y="3429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54"/>
          <p:cNvSpPr/>
          <p:nvPr/>
        </p:nvSpPr>
        <p:spPr>
          <a:xfrm>
            <a:off x="3059280" y="2708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56" descr="j0079118"/>
          <p:cNvPicPr/>
          <p:nvPr/>
        </p:nvPicPr>
        <p:blipFill>
          <a:blip r:embed="rId1"/>
          <a:stretch/>
        </p:blipFill>
        <p:spPr>
          <a:xfrm flipH="1">
            <a:off x="5490720" y="4149720"/>
            <a:ext cx="1241640" cy="13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 Black"/>
              </a:rPr>
              <a:t>Группа биологических факто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63640" y="1700280"/>
            <a:ext cx="5616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действие этих факторов приводит к травмам и заболеваниям, которые возникают при контакте 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а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(травмы и заболевания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микроорганизмами</a:t>
            </a: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(только заболевания) при работе с живыми и убитыми вакцинами, при выявлении и лечении боль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Black"/>
              </a:rPr>
              <a:t>веществами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получаемыми при переработке продуктов жизнедеятельности (пепсин, инсулин, антибиотики, биологически активные препараты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9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6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99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2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5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08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Психо-физиологические факто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63640" y="19890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Физические перегруз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cc"/>
                </a:solidFill>
                <a:latin typeface="Arial Black"/>
              </a:rPr>
              <a:t>Вынужденная поз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2411280" y="2637000"/>
            <a:ext cx="273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2627280" y="2852640"/>
            <a:ext cx="273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3059280" y="2421000"/>
            <a:ext cx="2736720" cy="476280"/>
          </a:xfrm>
          <a:prstGeom prst="rect">
            <a:avLst/>
          </a:prstGeom>
          <a:solidFill>
            <a:srgbClr val="ff00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solidFill>
            <a:srgbClr val="ff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3708360" y="3068640"/>
            <a:ext cx="2736720" cy="476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14"/>
          <p:cNvSpPr/>
          <p:nvPr/>
        </p:nvSpPr>
        <p:spPr>
          <a:xfrm>
            <a:off x="3420720" y="2421000"/>
            <a:ext cx="18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ат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3998880" y="3068640"/>
            <a:ext cx="214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6"/>
          <p:cNvSpPr/>
          <p:nvPr/>
        </p:nvSpPr>
        <p:spPr>
          <a:xfrm>
            <a:off x="4510440" y="3716280"/>
            <a:ext cx="2791440" cy="459720"/>
          </a:xfrm>
          <a:prstGeom prst="rect">
            <a:avLst/>
          </a:prstGeom>
          <a:solidFill>
            <a:srgbClr val="ffcc99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иподинамические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Picture 17" descr="j0078739"/>
          <p:cNvPicPr/>
          <p:nvPr/>
        </p:nvPicPr>
        <p:blipFill>
          <a:blip r:embed="rId1"/>
          <a:stretch/>
        </p:blipFill>
        <p:spPr>
          <a:xfrm>
            <a:off x="6588000" y="1413000"/>
            <a:ext cx="107964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9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9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2350"/>
                            </p:stCondLst>
                            <p:childTnLst>
                              <p:par>
                                <p:cTn id="232" nodeType="after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animClr clrSpc="rgb">
                                      <p:cBhvr>
                                        <p:cTn id="234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2b2b2"/>
                                      </p:to>
                                    </p:animClr>
                                    <p:set>
                                      <p:cBhvr>
                                        <p:cTn id="235" dur="2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36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7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38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39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0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763640" y="981000"/>
            <a:ext cx="56167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Arial Black"/>
              </a:rPr>
              <a:t>Классификация труда по тяжести трудового процесс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1547640" y="1484280"/>
          <a:ext cx="6048720" cy="3897360"/>
        </p:xfrm>
        <a:graphic>
          <a:graphicData uri="http://schemas.openxmlformats.org/drawingml/2006/table">
            <a:tbl>
              <a:tblPr/>
              <a:tblGrid>
                <a:gridCol w="1800360"/>
                <a:gridCol w="1200240"/>
                <a:gridCol w="1195200"/>
                <a:gridCol w="936720"/>
                <a:gridCol w="916200"/>
              </a:tblGrid>
              <a:tr h="33732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арактеристика нагрузки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лассы условий труда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64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тималь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легкая 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опуст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ы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средняя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из.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грузка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редный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 тяжелый труд 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34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степени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акс. величина поднимаемых грузов или прилагаемых усилий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8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9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1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0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более 2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2"/>
                      <a:tile tx="0" ty="0" sx="100000" sy="100000" algn="ctr"/>
                    </a:blipFill>
                  </a:tcPr>
                </a:tc>
              </a:tr>
              <a:tr h="103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хождение в вынужденной позе в %% от времени смен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ободная поза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25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6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до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тоя до 8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свыше 50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17"/>
                      <a:tile tx="0" ty="0" sx="100000" sy="100000" algn="ctr"/>
                    </a:blip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asyNote</cp:lastModifiedBy>
  <dcterms:modified xsi:type="dcterms:W3CDTF">2012-11-29T13:53:01Z</dcterms:modified>
  <cp:revision>14</cp:revision>
  <dc:subject/>
  <dc:title>PowerPoint Presentation</dc:title>
</cp:coreProperties>
</file>