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9BFB-B775-49CC-A41C-366B462DA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83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4183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9CBC-7E03-454F-8416-823A6C3F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282132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6CFE-10B6-450E-904C-970D28EA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091600" y="21607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506040" y="21607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091600" y="41875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3506040" y="41875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E667-AA30-41A5-A8FF-A2B0B674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B28D-2CBC-46E3-9693-C7B22D2F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2CC9-F2DF-409B-80F1-E37D7082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8129-4168-4FC5-943D-4D7AD331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ED52-5F9D-4DAA-BB7F-B445E3CB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C30B-9154-469B-824E-7B8B558A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DE54-7708-43AA-8F70-AD64C755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DF12-B3B4-4123-BB26-04D1CB27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FDE6-EB34-4F03-B13E-C07F9A5A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82132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BE0D-3B0C-4A09-A9B5-BF6FB377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83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329C-C876-4199-AFB8-8CC397B5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83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4183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3547-463C-4658-B213-CDC1AC84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282132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5B74-A1FF-4332-9E18-49744F18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091600" y="21607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506040" y="21607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2091600" y="41875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3506040" y="41875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B5E2-50CA-4971-B9D7-F47C18660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7560D-C5F5-4DF4-8F26-D5B733C4E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B79AD-4D99-4B4A-94A7-F7C594B6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E581C-7D9A-4A2A-BEA7-4D22DA0A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7B95A-B2BF-427A-A8DF-F48C9533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1F914-C3F0-47A5-BD25-83D5BCB0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1115-3183-4FE5-BBD3-40E13B19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3F822-8D31-4AC7-A5A3-C910FA34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A78DA-504D-4828-972E-3D9DE80D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82132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C6139-26DD-4EA9-9C0B-EC1E504A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83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E0ACD-3ACC-4099-84E3-79AEA0CE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83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4183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0525C-147D-4DB0-A061-D84BBF8A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82132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1543E-5752-4F71-BF1E-8F182CAB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091600" y="21607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506040" y="21607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091600" y="41875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3506040" y="41875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D9029-8CA7-45AF-9DB4-262E60B7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B849F-9BEE-48DA-A2AC-99DC38A97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142EF-CB58-4C71-956E-86FD381F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B7E6F-C50F-4E7E-AABB-9EE4A049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E1B8-2A92-4F88-9701-21E5CBE9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83521-6A31-4C6B-B64F-7AD47F07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4523D-709B-4DA9-AFE7-CE06F468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C0E2D-EE19-4EC0-B071-565FF7DF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DB02F-4E83-44DC-BF9E-206E390A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82132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B36A1-516E-47AB-BC90-1F2BC07E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83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9E151-241A-4DF0-B622-857829AB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83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4183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FE8B0-0280-489C-A431-B8C1F2A4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82132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FBBCF-99C1-4D30-910B-CAFDE6A78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091600" y="21607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506040" y="21607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091600" y="41875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3506040" y="4187520"/>
            <a:ext cx="13467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42E76-FEE7-459B-8D42-EEA942B2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81F0-3843-4C6D-B5DA-2B1D5C3E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0909-2F9A-4522-914E-68672301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024C-12B0-4C85-B582-14E0BFA0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821320" y="41875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478A-9D76-468A-9CCD-E964AFCD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821320" y="2160720"/>
            <a:ext cx="2041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8356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55AC-3C55-475C-A5D0-7AC0B5E8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2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3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6"/>
          <p:cNvGrpSpPr/>
          <p:nvPr/>
        </p:nvGrpSpPr>
        <p:grpSpPr>
          <a:xfrm>
            <a:off x="360" y="-8640"/>
            <a:ext cx="12191400" cy="6866640"/>
            <a:chOff x="360" y="-8640"/>
            <a:chExt cx="12191400" cy="6866640"/>
          </a:xfrm>
        </p:grpSpPr>
        <p:cxnSp>
          <p:nvCxnSpPr>
            <p:cNvPr id="12" name="Straight Connector 31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13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14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Isosceles Triangle 26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Isosceles Triangle 30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Isosceles Triangle 18"/>
            <p:cNvSpPr/>
            <p:nvPr/>
          </p:nvSpPr>
          <p:spPr>
            <a:xfrm rot="10800000">
              <a:off x="36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06960" y="2404440"/>
            <a:ext cx="77666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dt" idx="1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2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9F4719-08EB-4778-A17A-A3AF917DE70A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64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65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66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205071-92C5-4596-A7FC-C5AA31F60421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16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117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118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5720" y="2161080"/>
            <a:ext cx="41853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body"/>
          </p:nvPr>
        </p:nvSpPr>
        <p:spPr>
          <a:xfrm>
            <a:off x="675720" y="2737080"/>
            <a:ext cx="4185360" cy="33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5088240" y="2161080"/>
            <a:ext cx="418536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5088240" y="2737080"/>
            <a:ext cx="4185360" cy="33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dt" idx="7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 type="ftr" idx="8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8"/>
          <p:cNvSpPr>
            <a:spLocks noGrp="1"/>
          </p:cNvSpPr>
          <p:nvPr>
            <p:ph type="sldNum" idx="9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B174C7-A684-4A30-9EF9-E981599C5477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71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172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173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716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body"/>
          </p:nvPr>
        </p:nvSpPr>
        <p:spPr>
          <a:xfrm>
            <a:off x="509004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dt" idx="10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1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2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E34E14-FB1F-4874-8E47-EB1A5993ABDB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06960" y="2404440"/>
            <a:ext cx="77666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2000"/>
          </a:bodyPr>
          <a:p>
            <a:pPr indent="0">
              <a:lnSpc>
                <a:spcPct val="100000"/>
              </a:lnSpc>
              <a:buNone/>
            </a:pPr>
            <a:r>
              <a:rPr b="0" lang="en-US" sz="7300" spc="-1" strike="noStrike">
                <a:solidFill>
                  <a:schemeClr val="accent1"/>
                </a:solidFill>
                <a:latin typeface="Trebuchet MS"/>
              </a:rPr>
              <a:t>GRAMMAR</a:t>
            </a:r>
            <a:br>
              <a:rPr sz="5400"/>
            </a:br>
            <a:r>
              <a:rPr b="0" lang="en-US" sz="6700" spc="-1" strike="noStrike">
                <a:solidFill>
                  <a:schemeClr val="accent1"/>
                </a:solidFill>
                <a:latin typeface="Trebuchet MS"/>
              </a:rPr>
              <a:t>Future Tenses</a:t>
            </a:r>
            <a:br>
              <a:rPr sz="5400"/>
            </a:br>
            <a:endParaRPr b="0" lang="ru-RU" sz="6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506960" y="4050720"/>
            <a:ext cx="7766640" cy="109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rebuchet MS"/>
              </a:rPr>
              <a:t>10</a:t>
            </a:r>
            <a:r>
              <a:rPr b="0" lang="en-US" sz="4000" spc="-1" strike="noStrike" baseline="30000">
                <a:solidFill>
                  <a:srgbClr val="808080"/>
                </a:solidFill>
                <a:latin typeface="Trebuchet MS"/>
              </a:rPr>
              <a:t>th</a:t>
            </a:r>
            <a:r>
              <a:rPr b="0" lang="en-US" sz="1800" spc="-1" strike="noStrike">
                <a:solidFill>
                  <a:srgbClr val="808080"/>
                </a:solidFill>
                <a:latin typeface="Trebuchet MS"/>
              </a:rPr>
              <a:t> form (Spotlight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77160" y="1617840"/>
            <a:ext cx="8596440" cy="44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1. Tomorrow afternoon I’m going to play tennis from 3 o’clock until 4.30. So at 4 o’clock tomorrow I  </a:t>
            </a: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will be playing tennis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.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Jim is going to study from 7 o’clock until 10 o’clock this evening. So at 8.30 this evening he </a:t>
            </a: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will be studying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e are going to  clean the flat tomorrow. It will take from 9 until 11 o’clock. So at 10 o’clock tomorrow morning  </a:t>
            </a: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we will be cleaning the flat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.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want your friend to give Tom a message this afternoon. </a:t>
            </a: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Will you be seeing Tom this afternoon?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want to use your friend’s laptop tomorrow evening. </a:t>
            </a: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Will you be using your laptop tomorrow evening?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friend is going shopping/ you want him/ her to buy some stamps for you at the post office. </a:t>
            </a: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Will you be passing the post office when you’re in town?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677880" y="609480"/>
            <a:ext cx="8596080" cy="68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chemeClr val="accent1"/>
                </a:solidFill>
                <a:latin typeface="Trebuchet MS"/>
              </a:rPr>
              <a:t>Future Continuous Practice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chemeClr val="accent1"/>
                </a:solidFill>
                <a:latin typeface="Trebuchet MS"/>
              </a:rPr>
              <a:t>Future Perfect</a:t>
            </a:r>
            <a:endParaRPr b="0" lang="ru-RU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77160" y="1842840"/>
            <a:ext cx="8596440" cy="419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chemeClr val="accent5"/>
                </a:solidFill>
                <a:latin typeface="Trebuchet MS"/>
              </a:rPr>
              <a:t>before, by, by then, by the time, untill/till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+</a:t>
            </a:r>
            <a:r>
              <a:rPr b="0" lang="en-US" sz="1800" spc="-1" strike="noStrike">
                <a:solidFill>
                  <a:schemeClr val="accent5"/>
                </a:solidFill>
                <a:latin typeface="Trebuchet MS"/>
              </a:rPr>
              <a:t>  </a:t>
            </a: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     S + will have + V</a:t>
            </a:r>
            <a:r>
              <a:rPr b="0" lang="en-US" sz="2800" spc="-1" strike="noStrike">
                <a:solidFill>
                  <a:schemeClr val="accent5"/>
                </a:solidFill>
                <a:latin typeface="Trebuchet MS"/>
              </a:rPr>
              <a:t>ed/3</a:t>
            </a: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 </a:t>
            </a:r>
            <a:endParaRPr b="0" lang="ru-RU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 </a:t>
            </a: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-     S + won’t  have + V</a:t>
            </a:r>
            <a:r>
              <a:rPr b="0" lang="en-US" sz="2800" spc="-1" strike="noStrike">
                <a:solidFill>
                  <a:schemeClr val="accent5"/>
                </a:solidFill>
                <a:latin typeface="Trebuchet MS"/>
              </a:rPr>
              <a:t>ed/3 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?      Will + S + be V</a:t>
            </a:r>
            <a:r>
              <a:rPr b="0" lang="en-US" sz="2800" spc="-1" strike="noStrike">
                <a:solidFill>
                  <a:schemeClr val="accent5"/>
                </a:solidFill>
                <a:latin typeface="Trebuchet MS"/>
              </a:rPr>
              <a:t>ed/3</a:t>
            </a: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?</a:t>
            </a:r>
            <a:endParaRPr b="0" lang="ru-RU" sz="4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4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chemeClr val="accent1"/>
                </a:solidFill>
                <a:latin typeface="Trebuchet MS"/>
              </a:rPr>
              <a:t>We use Future Perfect for 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77160" y="2433600"/>
            <a:ext cx="4183560" cy="36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an action which will be finished before a stated future time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90040" y="2363400"/>
            <a:ext cx="4183560" cy="367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he will have written her essay by 7 o’clock.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77160" y="1659960"/>
            <a:ext cx="8596440" cy="438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Jim always goes to bed at 11 o’clock.  Tom is going to visit him at 11.30 this evening. When Tom arrives, (Jim / go / to bed) ________________________  .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om is on holiday. He has very little money and he is spending too much too quickly. Before the end of his holiday, (he / spend / all his money)___________________________________________.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huck came to Britain from the USA nearly 3 years ago. Next Monday it will be exactly 3 years since he arrived. Next Monday ( he / be / here / exactly 3 years)___________________________________________.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10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chemeClr val="accent1"/>
                </a:solidFill>
                <a:latin typeface="Trebuchet MS"/>
              </a:rPr>
              <a:t>Future Perfect Practice </a:t>
            </a:r>
            <a:endParaRPr b="0" lang="ru-RU" sz="6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chemeClr val="accent1"/>
                </a:solidFill>
                <a:latin typeface="Trebuchet MS"/>
              </a:rPr>
              <a:t>Future Perfect Practice </a:t>
            </a:r>
            <a:endParaRPr b="0" lang="ru-RU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Jim always goes to bed at 11 o’clock.  Tom is going to visit him at 11.30 this evening. When Tom arrives, </a:t>
            </a:r>
            <a:r>
              <a:rPr b="0" lang="en-US" sz="2400" spc="-1" strike="noStrike">
                <a:solidFill>
                  <a:schemeClr val="accent1"/>
                </a:solidFill>
                <a:latin typeface="Trebuchet MS"/>
              </a:rPr>
              <a:t>Jim will have  gone to bed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Tom is on holiday. He has very little money and he is spending too much too quickly. Before the end of his holiday, </a:t>
            </a:r>
            <a:r>
              <a:rPr b="0" lang="en-US" sz="2400" spc="-1" strike="noStrike">
                <a:solidFill>
                  <a:schemeClr val="accent1"/>
                </a:solidFill>
                <a:latin typeface="Trebuchet MS"/>
              </a:rPr>
              <a:t>he will have spent all his money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Chuck came to Britain from the USA nearly 3 years ago. Next Monday it will be exactly 3 years since he arrived. Next Monday  </a:t>
            </a:r>
            <a:r>
              <a:rPr b="0" lang="en-US" sz="2400" spc="-1" strike="noStrike">
                <a:solidFill>
                  <a:schemeClr val="accent1"/>
                </a:solidFill>
                <a:latin typeface="Trebuchet MS"/>
              </a:rPr>
              <a:t>he will have been  here  exactly 3 year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.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800" spc="-1" strike="noStrike">
                <a:solidFill>
                  <a:srgbClr val="ff0000"/>
                </a:solidFill>
                <a:latin typeface="Trebuchet MS"/>
              </a:rPr>
              <a:t>Attention!!!!</a:t>
            </a:r>
            <a:endParaRPr b="0" lang="ru-RU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77160" y="1434960"/>
            <a:ext cx="9212040" cy="460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while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before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unti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as soon as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after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If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by the time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as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are followed by Present Simple or Present Perfect!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I’ll go out </a:t>
            </a:r>
            <a:r>
              <a:rPr b="0" lang="en-US" sz="2800" spc="-1" strike="noStrike">
                <a:solidFill>
                  <a:schemeClr val="accent1"/>
                </a:solidFill>
                <a:latin typeface="Trebuchet MS"/>
              </a:rPr>
              <a:t>after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I 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finish/have finished 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doing my homework. 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8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chemeClr val="accent1"/>
                </a:solidFill>
                <a:latin typeface="Trebuchet MS"/>
              </a:rPr>
              <a:t>Other ways to express future</a:t>
            </a:r>
            <a:endParaRPr b="0" lang="ru-RU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77160" y="1659960"/>
            <a:ext cx="8596440" cy="438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4800" spc="-1" strike="noStrike">
                <a:solidFill>
                  <a:srgbClr val="404040"/>
                </a:solidFill>
                <a:latin typeface="Trebuchet MS"/>
              </a:rPr>
              <a:t>be going to</a:t>
            </a:r>
            <a:endParaRPr b="0" lang="ru-RU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4800" spc="-1" strike="noStrike">
                <a:solidFill>
                  <a:srgbClr val="404040"/>
                </a:solidFill>
                <a:latin typeface="Trebuchet MS"/>
              </a:rPr>
              <a:t>Present Simple with future meaning</a:t>
            </a:r>
            <a:endParaRPr b="0" lang="ru-RU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4800" spc="-1" strike="noStrike">
                <a:solidFill>
                  <a:srgbClr val="404040"/>
                </a:solidFill>
                <a:latin typeface="Trebuchet MS"/>
              </a:rPr>
              <a:t>Present Continuous with future meaning</a:t>
            </a:r>
            <a:endParaRPr b="0" lang="ru-RU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chemeClr val="accent1"/>
                </a:solidFill>
                <a:latin typeface="Trebuchet MS"/>
              </a:rPr>
              <a:t>be  going to 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77880" y="1646280"/>
            <a:ext cx="859608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+</a:t>
            </a:r>
            <a:r>
              <a:rPr b="0" lang="en-US" sz="1800" spc="-1" strike="noStrike">
                <a:solidFill>
                  <a:schemeClr val="accent5"/>
                </a:solidFill>
                <a:latin typeface="Trebuchet MS"/>
              </a:rPr>
              <a:t>  </a:t>
            </a: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    </a:t>
            </a:r>
            <a:r>
              <a:rPr b="0" lang="en-US" sz="4000" spc="-1" strike="noStrike">
                <a:solidFill>
                  <a:schemeClr val="accent5"/>
                </a:solidFill>
                <a:latin typeface="Trebuchet MS"/>
              </a:rPr>
              <a:t> S + am / is / are  going to + V</a:t>
            </a:r>
            <a:endParaRPr b="0" lang="ru-RU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-    </a:t>
            </a:r>
            <a:r>
              <a:rPr b="0" lang="en-US" sz="3200" spc="-1" strike="noStrike">
                <a:solidFill>
                  <a:schemeClr val="accent5"/>
                </a:solidFill>
                <a:latin typeface="Trebuchet MS"/>
              </a:rPr>
              <a:t>  S + ‘m not/isn’t/aren’t going to + V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?     </a:t>
            </a:r>
            <a:r>
              <a:rPr b="0" lang="en-US" sz="4000" spc="-1" strike="noStrike">
                <a:solidFill>
                  <a:schemeClr val="accent5"/>
                </a:solidFill>
                <a:latin typeface="Trebuchet MS"/>
              </a:rPr>
              <a:t> am/is/are + S + going to +  V?</a:t>
            </a:r>
            <a:endParaRPr b="0" lang="ru-RU" sz="4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chemeClr val="accent1"/>
                </a:solidFill>
                <a:latin typeface="Trebuchet MS"/>
              </a:rPr>
              <a:t>We use be going to for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77160" y="1702080"/>
            <a:ext cx="4183560" cy="43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future plans and intentions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predictions based on what we see or know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talking about things we are sure about or we have already decided to do in the near future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090040" y="1744560"/>
            <a:ext cx="4953960" cy="429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She’s going to go shopping tomorrow.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The are black clouds in the sky. It looks like it is going to rain. 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They are going to build a bridge here. (It has been decided.)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chemeClr val="accent1"/>
                </a:solidFill>
                <a:latin typeface="Trebuchet MS"/>
              </a:rPr>
              <a:t>be going to practice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ave you phoned Tom? (after lunch)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t yet. I _________________________________________________________ .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ave you had dinner? (just)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t yet. I ________________________________________________________________ .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ave you painted your flat? (soon)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t yet. I  ________________________________________________________ .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Have you   repaired my bicycle? (just)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t yet. I  ________________________________________________________ .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600" spc="-1" strike="noStrike">
                <a:solidFill>
                  <a:schemeClr val="accent1"/>
                </a:solidFill>
                <a:latin typeface="Trebuchet MS"/>
              </a:rPr>
              <a:t>Future Simple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chemeClr val="accent5"/>
                </a:solidFill>
                <a:latin typeface="Trebuchet MS"/>
              </a:rPr>
              <a:t>tomorrow, the day after tomorrow, next week/month/year, tonight, soon, in a week/month/year</a:t>
            </a:r>
            <a:br>
              <a:rPr sz="6600"/>
            </a:b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77160" y="2624400"/>
            <a:ext cx="8596440" cy="22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+</a:t>
            </a:r>
            <a:r>
              <a:rPr b="0" lang="en-US" sz="1800" spc="-1" strike="noStrike">
                <a:solidFill>
                  <a:schemeClr val="accent5"/>
                </a:solidFill>
                <a:latin typeface="Trebuchet MS"/>
              </a:rPr>
              <a:t>  </a:t>
            </a: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     S + will + V</a:t>
            </a:r>
            <a:endParaRPr b="0" lang="ru-RU" sz="4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-      S + won’t + V</a:t>
            </a:r>
            <a:endParaRPr b="0" lang="ru-RU" sz="4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?      Will + S + V?</a:t>
            </a:r>
            <a:endParaRPr b="0" lang="ru-RU" sz="4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chemeClr val="accent1"/>
                </a:solidFill>
                <a:latin typeface="Trebuchet MS"/>
              </a:rPr>
              <a:t>be going to practice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ave you phoned Tom? (after lunch) 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ot yet. I </a:t>
            </a:r>
            <a:r>
              <a:rPr b="0" lang="en-US" sz="2400" spc="-1" strike="noStrike">
                <a:solidFill>
                  <a:schemeClr val="accent1"/>
                </a:solidFill>
                <a:latin typeface="Trebuchet MS"/>
              </a:rPr>
              <a:t>‘m going to phone him after lunch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ave you had dinner? (just) 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ot yet. I </a:t>
            </a:r>
            <a:r>
              <a:rPr b="0" lang="en-US" sz="2400" spc="-1" strike="noStrike">
                <a:solidFill>
                  <a:schemeClr val="accent1"/>
                </a:solidFill>
                <a:latin typeface="Trebuchet MS"/>
              </a:rPr>
              <a:t>‘m just going to have it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. 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ave you painted your flat? (soon) 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ot yet. I  </a:t>
            </a:r>
            <a:r>
              <a:rPr b="0" lang="en-US" sz="2400" spc="-1" strike="noStrike">
                <a:solidFill>
                  <a:schemeClr val="accent1"/>
                </a:solidFill>
                <a:latin typeface="Trebuchet MS"/>
              </a:rPr>
              <a:t>‘m gong to paint it soon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Have you   repaired my bicycle? (just)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ot yet. I  </a:t>
            </a:r>
            <a:r>
              <a:rPr b="0" lang="en-US" sz="2400" spc="-1" strike="noStrike">
                <a:solidFill>
                  <a:schemeClr val="accent1"/>
                </a:solidFill>
                <a:latin typeface="Trebuchet MS"/>
              </a:rPr>
              <a:t>‘m just going to repair it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chemeClr val="accent1"/>
                </a:solidFill>
                <a:latin typeface="Trebuchet MS"/>
              </a:rPr>
              <a:t>We use Present Simple     </a:t>
            </a:r>
            <a:r>
              <a:rPr b="0" lang="en-US" sz="2400" spc="-1" strike="noStrike">
                <a:solidFill>
                  <a:schemeClr val="accent1"/>
                </a:solidFill>
                <a:latin typeface="Trebuchet MS"/>
              </a:rPr>
              <a:t>with future meaning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3200" spc="-1" strike="noStrike">
                <a:solidFill>
                  <a:schemeClr val="accent1"/>
                </a:solidFill>
                <a:latin typeface="Trebuchet MS"/>
              </a:rPr>
              <a:t>timetables and programmes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9004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e bus arrives at 2 o’clock in the morning. 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7716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xed arrangements in the near future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9004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I’m relaxing at home this week. (It’s planned.)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chemeClr val="accent1"/>
                </a:solidFill>
                <a:latin typeface="Trebuchet MS"/>
              </a:rPr>
              <a:t>We use Present Continuous     </a:t>
            </a:r>
            <a:r>
              <a:rPr b="0" lang="en-US" sz="2400" spc="-1" strike="noStrike">
                <a:solidFill>
                  <a:schemeClr val="accent1"/>
                </a:solidFill>
                <a:latin typeface="Trebuchet MS"/>
              </a:rPr>
              <a:t>with future meaning</a:t>
            </a:r>
            <a:endParaRPr b="0" lang="ru-RU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6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chemeClr val="accent1"/>
                </a:solidFill>
                <a:latin typeface="Trebuchet MS"/>
              </a:rPr>
              <a:t>We use Future Simple for 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 rot="10800000">
            <a:off x="997560" y="1392120"/>
            <a:ext cx="3716640" cy="40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42240" y="1932480"/>
            <a:ext cx="4185360" cy="449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rebuchet MS"/>
              </a:rPr>
              <a:t>predictions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about the future (usually with verbs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: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chemeClr val="accent5"/>
                </a:solidFill>
                <a:latin typeface="Trebuchet MS"/>
              </a:rPr>
              <a:t>hope, think, believe, expect, imagine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;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with expressions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: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chemeClr val="accent5"/>
                </a:solidFill>
                <a:latin typeface="Trebuchet MS"/>
              </a:rPr>
              <a:t>I’m sure, I’m afraid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;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with the adverbs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:</a:t>
            </a:r>
            <a:r>
              <a:rPr b="0" lang="en-US" sz="1800" spc="-1" strike="noStrike">
                <a:solidFill>
                  <a:schemeClr val="accent5"/>
                </a:solidFill>
                <a:latin typeface="Trebuchet MS"/>
              </a:rPr>
              <a:t>probably, perhaps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rebuchet MS"/>
              </a:rPr>
              <a:t>promises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rebuchet MS"/>
              </a:rPr>
              <a:t>on-the-spot decisions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rebuchet MS"/>
              </a:rPr>
              <a:t>threats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rebuchet MS"/>
              </a:rPr>
              <a:t>hopes, fear, offers, warnings, requests and comments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rebuchet MS"/>
              </a:rPr>
              <a:t>things we are not yet sure about or we haven’t decided to do yet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975560" y="1392120"/>
            <a:ext cx="4073040" cy="40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088240" y="1926360"/>
            <a:ext cx="4185360" cy="48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I believe he’ll have to cancel his trip.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He’ll probably be late. 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I promise I won’t forget you.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I’m so tired. I‘ll take a break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If you don’t study hard, you will fail your exams. 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I’m afraid she will be busy tomorrow.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Trebuchet MS"/>
              </a:rPr>
              <a:t>Maybe I’ll go to the cinema later.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chemeClr val="accent1"/>
                </a:solidFill>
                <a:latin typeface="Trebuchet MS"/>
              </a:rPr>
              <a:t>Shall</a:t>
            </a:r>
            <a:r>
              <a:rPr b="0" lang="en-US" sz="3600" spc="-1" strike="noStrike">
                <a:solidFill>
                  <a:schemeClr val="accent1"/>
                </a:solidFill>
                <a:latin typeface="Trebuchet MS"/>
              </a:rPr>
              <a:t> is used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in </a:t>
            </a:r>
            <a:r>
              <a:rPr b="0" lang="en-US" sz="24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rebuchet MS"/>
              </a:rPr>
              <a:t>suggestion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, </a:t>
            </a:r>
            <a:r>
              <a:rPr b="0" lang="en-US" sz="24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rebuchet MS"/>
              </a:rPr>
              <a:t>offers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and when asking for </a:t>
            </a:r>
            <a:r>
              <a:rPr b="0" lang="en-US" sz="24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rebuchet MS"/>
              </a:rPr>
              <a:t>advice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9004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Shall we go out later?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900" spc="-1" strike="noStrike">
                <a:solidFill>
                  <a:schemeClr val="accent1"/>
                </a:solidFill>
                <a:latin typeface="Trebuchet MS"/>
              </a:rPr>
              <a:t>Future</a:t>
            </a:r>
            <a:r>
              <a:rPr b="0" lang="en-US" sz="3600" spc="-1" strike="noStrike">
                <a:solidFill>
                  <a:schemeClr val="accent1"/>
                </a:solidFill>
                <a:latin typeface="Trebuchet MS"/>
              </a:rPr>
              <a:t> </a:t>
            </a:r>
            <a:r>
              <a:rPr b="0" lang="en-US" sz="5900" spc="-1" strike="noStrike">
                <a:solidFill>
                  <a:schemeClr val="accent1"/>
                </a:solidFill>
                <a:latin typeface="Trebuchet MS"/>
              </a:rPr>
              <a:t>Simple Practice </a:t>
            </a:r>
            <a:endParaRPr b="0" lang="ru-RU" sz="5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1) They _____ football at the institute. (to play)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2) She _____ emails. (not / to write)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3) ____ you____ English? (to speak)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4) My mother ____ fish. (not / to like)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5) ____ Ann ____ any friends? (to have)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6) His brother _____ in an office. (to work)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7) She ___ very fast. (to read)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8) ____ they ____ the flowers every 3 days? (to water)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9) His wife _____ a motorbike. (not / to ride)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10) ____ Elizabeth_____ coffee? (to drink)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77160" y="50256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chemeClr val="accent1"/>
                </a:solidFill>
                <a:latin typeface="Trebuchet MS"/>
              </a:rPr>
              <a:t>Future Simple Practice </a:t>
            </a:r>
            <a:endParaRPr b="0" lang="ru-RU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y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Trebuchet MS"/>
              </a:rPr>
              <a:t>will play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otball at the institute.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2) She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Trebuchet MS"/>
              </a:rPr>
              <a:t>won’t write 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mails.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3)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Trebuchet MS"/>
              </a:rPr>
              <a:t>Will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you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Trebuchet MS"/>
              </a:rPr>
              <a:t>speak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English?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4) My mother 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Trebuchet MS"/>
              </a:rPr>
              <a:t>won’t like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sh.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5)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Trebuchet MS"/>
              </a:rPr>
              <a:t>Will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 Ann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Trebuchet MS"/>
              </a:rPr>
              <a:t>have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any friends?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6) His brother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Trebuchet MS"/>
              </a:rPr>
              <a:t>will work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n an office.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7) She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Trebuchet MS"/>
              </a:rPr>
              <a:t>won’t read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very fast.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8)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Trebuchet MS"/>
              </a:rPr>
              <a:t>Will</a:t>
            </a:r>
            <a:r>
              <a:rPr b="0" lang="en-US" sz="1800" spc="-1" strike="noStrike">
                <a:solidFill>
                  <a:schemeClr val="accent2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y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Trebuchet MS"/>
              </a:rPr>
              <a:t>water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the flowers every 3 days?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9) His wife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Trebuchet MS"/>
              </a:rPr>
              <a:t>won’t ride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 motorbike.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10)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Trebuchet MS"/>
              </a:rPr>
              <a:t>Will</a:t>
            </a:r>
            <a:r>
              <a:rPr b="0" lang="en-US" sz="1800" spc="-1" strike="noStrike">
                <a:solidFill>
                  <a:schemeClr val="accent2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lizabeth </a:t>
            </a:r>
            <a:r>
              <a:rPr b="0" lang="en-US" sz="1800" spc="-1" strike="noStrike" u="sng">
                <a:solidFill>
                  <a:schemeClr val="accent2"/>
                </a:solidFill>
                <a:uFillTx/>
                <a:latin typeface="Trebuchet MS"/>
              </a:rPr>
              <a:t>drink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coffee? (to drink)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chemeClr val="accent1"/>
                </a:solidFill>
                <a:latin typeface="Trebuchet MS"/>
              </a:rPr>
              <a:t>Future</a:t>
            </a:r>
            <a:r>
              <a:rPr b="0" lang="en-US" sz="3600" spc="-1" strike="noStrike">
                <a:solidFill>
                  <a:schemeClr val="accent1"/>
                </a:solidFill>
                <a:latin typeface="Trebuchet MS"/>
              </a:rPr>
              <a:t> </a:t>
            </a:r>
            <a:r>
              <a:rPr b="0" lang="en-US" sz="6000" spc="-1" strike="noStrike">
                <a:solidFill>
                  <a:schemeClr val="accent1"/>
                </a:solidFill>
                <a:latin typeface="Trebuchet MS"/>
              </a:rPr>
              <a:t>Continuous</a:t>
            </a:r>
            <a:endParaRPr b="0" lang="ru-RU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+</a:t>
            </a:r>
            <a:r>
              <a:rPr b="0" lang="en-US" sz="1800" spc="-1" strike="noStrike">
                <a:solidFill>
                  <a:schemeClr val="accent5"/>
                </a:solidFill>
                <a:latin typeface="Trebuchet MS"/>
              </a:rPr>
              <a:t>  </a:t>
            </a: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     S + will be + V</a:t>
            </a:r>
            <a:r>
              <a:rPr b="0" lang="en-US" sz="2800" spc="-1" strike="noStrike">
                <a:solidFill>
                  <a:schemeClr val="accent5"/>
                </a:solidFill>
                <a:latin typeface="Trebuchet MS"/>
              </a:rPr>
              <a:t>ing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-      S + won’t  be + V</a:t>
            </a:r>
            <a:r>
              <a:rPr b="0" lang="en-US" sz="2800" spc="-1" strike="noStrike">
                <a:solidFill>
                  <a:schemeClr val="accent5"/>
                </a:solidFill>
                <a:latin typeface="Trebuchet MS"/>
              </a:rPr>
              <a:t>ing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?      Will + S + be V</a:t>
            </a:r>
            <a:r>
              <a:rPr b="0" lang="en-US" sz="2800" spc="-1" strike="noStrike">
                <a:solidFill>
                  <a:schemeClr val="accent5"/>
                </a:solidFill>
                <a:latin typeface="Trebuchet MS"/>
              </a:rPr>
              <a:t>ing</a:t>
            </a:r>
            <a:r>
              <a:rPr b="0" lang="en-US" sz="4400" spc="-1" strike="noStrike">
                <a:solidFill>
                  <a:schemeClr val="accent5"/>
                </a:solidFill>
                <a:latin typeface="Trebuchet MS"/>
              </a:rPr>
              <a:t>?</a:t>
            </a:r>
            <a:endParaRPr b="0" lang="ru-RU" sz="4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8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chemeClr val="accent1"/>
                </a:solidFill>
                <a:latin typeface="Trebuchet MS"/>
              </a:rPr>
              <a:t>We use Future Continuous for</a:t>
            </a:r>
            <a:r>
              <a:rPr b="0" lang="ru-RU" sz="3200" spc="-1" strike="noStrike">
                <a:solidFill>
                  <a:schemeClr val="accent1"/>
                </a:solidFill>
                <a:latin typeface="Trebuchet MS"/>
              </a:rPr>
              <a:t>:</a:t>
            </a:r>
            <a:r>
              <a:rPr b="0" lang="en-US" sz="3600" spc="-1" strike="noStrike">
                <a:solidFill>
                  <a:schemeClr val="accent1"/>
                </a:solidFill>
                <a:latin typeface="Trebuchet MS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77160" y="1547280"/>
            <a:ext cx="4183560" cy="449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actions  in progress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at a stated future time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actions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 which will definitely happen in the future </a:t>
            </a: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as a result of a routine or arrangement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asking politely about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someone’s </a:t>
            </a:r>
            <a:r>
              <a:rPr b="0" lang="en-US" sz="1800" spc="-1" strike="noStrike">
                <a:solidFill>
                  <a:schemeClr val="accent1"/>
                </a:solidFill>
                <a:latin typeface="Trebuchet MS"/>
              </a:rPr>
              <a:t>plans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 for the near future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90040" y="1533240"/>
            <a:ext cx="4183560" cy="450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s time next week I’ll be sunbathing in Barbados.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he will be driving to Cheshire tonight.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ill you be watching the show tonight?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chemeClr val="accent1"/>
                </a:solidFill>
                <a:latin typeface="Trebuchet MS"/>
              </a:rPr>
              <a:t>Future Continuous Practice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77160" y="1434960"/>
            <a:ext cx="8596440" cy="460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1. Tomorrow afternoon I’m going to play tennis from 3 o’clock until 4.30. So at 4 o’clock tomorrow I ___________________________________________ .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Jim is going to study from 7 o’clock until 10 o’clock this evening. So at 8.30 this evening he __________________________________________________ .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e are going to  clean the flat tomorrow. It will take from 9 until 11 o’clock. So at 10 o’clock tomorrow morning ________________________________ . 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want your friend to give Tom a message this afternoon. (you / see Tom / this afternoon? )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want to use your friend’s laptop tomorrow evening. (you / use / your laptop /  tomorrow evening ? )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friend is going shopping/ you want him/ her to buy some stamps for you at the post office. ( you / pass / the post office when you’re in town ? )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Грань">
  <a:themeElements>
    <a:clrScheme name="Грань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рань">
  <a:themeElements>
    <a:clrScheme name="Грань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Грань">
  <a:themeElements>
    <a:clrScheme name="Грань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Грань">
  <a:themeElements>
    <a:clrScheme name="Грань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acet</Template>
  <TotalTime>159</TotalTime>
  <Application>LibreOffice/7.4.7.2$Linux_X86_64 LibreOffice_project/40$Build-2</Application>
  <AppVersion>15.0000</AppVersion>
  <Words>1232</Words>
  <Paragraphs>144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1T06:12:29Z</dcterms:created>
  <dc:creator>каб. 303</dc:creator>
  <dc:description/>
  <dc:language>en-US</dc:language>
  <cp:lastModifiedBy>HP</cp:lastModifiedBy>
  <dcterms:modified xsi:type="dcterms:W3CDTF">2018-10-14T06:23:05Z</dcterms:modified>
  <cp:revision>23</cp:revision>
  <dc:subject/>
  <dc:title>GRAMMAR Future Tens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22</vt:r8>
  </property>
</Properties>
</file>