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17A-64CF-4A4B-9981-9BFD677C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B7C-334D-4814-9F2C-D6C9A8FD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D92-5DD4-4CBB-BC12-E973C4B9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09160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50604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09160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350604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B0A-6027-47FD-8CB8-E5FF8121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FDC7-F772-4D98-ABBE-ED7E5D15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8A59-EA8F-4EB1-8F9A-C782B746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539B-B062-4276-885C-A41468FF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B1C0-6082-4C56-9AF2-388E97AF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EA52-F472-4359-A342-C50FDEEF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4AD9-1ED4-4973-949A-3E626BF3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3B3F-309C-481D-A8C0-705076DF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1E2E-7400-4155-B108-088BA612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EA9A-6953-4258-B037-8FAF3076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4927-C6C4-438E-BD99-A25AADAB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64FC-E30D-400D-A3AC-119369DC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957B-8EA0-4D27-9485-4EB5D3E0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9160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50604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09160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350604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E1B1-5C6D-4224-84DD-2ADA5F0C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F2FEA-B7CA-42B0-BC57-E1937934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2F2A4-DFA5-4AE9-AF67-0AF101F6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3F65C-1AC9-4416-A709-3537DADE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93C25-85C1-4372-B2EE-A3D42691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0F3FD-7AC2-42D5-AF00-EDC82E2B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5515-215A-4F1B-867E-99D776C6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0C62B-4D85-4DED-A689-2D19F7E2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C7B76-FBB4-45AA-B784-38570302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EEEDC-B094-4BE0-9936-3837B9A2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7C3AB-482B-4E16-84F5-8719770F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22D15-1AB7-4D49-9930-986F65E4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755BB-73ED-4BD1-B4AE-9F049400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09160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50604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09160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350604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585C5-9BC9-4415-8947-69EC55A0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323A0-0D6A-4118-B774-9CCD5D4C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FA99A-5EDD-426C-9C32-41D5D364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FB3C0-514F-4CB8-B6F3-769C8773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87E-60A1-43D4-8756-C87F5012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C6C4A-A3AE-4542-A862-F10DB248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6C88-D174-4602-8FE6-76C4A2ED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99C07-B5EA-47EA-A3BA-33297F3C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72F01-585D-4702-A9BF-D06EE88F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87C62-3854-42B0-9CA2-9AEF8ECC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A6FBD-7BDB-4CF1-A096-24526B49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84DCF-2BC6-49C0-8B12-1D3C446E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73804-5D37-4E37-A738-F2DAC96E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09160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50604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09160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350604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CF8CE-375F-4964-B5AB-A475FA28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2721-BD68-4250-BE6F-B0AE73D1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B5FC-37CF-4B0A-8476-DF4006A4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A93-4152-4F55-87BF-1ECE3D95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0DF-7D72-40AB-86A3-1FF63998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A5C-9026-40C6-9C90-9A6923C7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360" y="-8640"/>
            <a:ext cx="12191400" cy="6866640"/>
            <a:chOff x="360" y="-8640"/>
            <a:chExt cx="12191400" cy="6866640"/>
          </a:xfrm>
        </p:grpSpPr>
        <p:cxnSp>
          <p:nvCxnSpPr>
            <p:cNvPr id="12" name="Straight Connector 31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3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4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Isosceles Triangle 26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Isosceles Triangle 30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18"/>
            <p:cNvSpPr/>
            <p:nvPr/>
          </p:nvSpPr>
          <p:spPr>
            <a:xfrm rot="10800000">
              <a:off x="36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180E1D-C278-4B56-B821-840DDB01FA8F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FD340C-675C-4FB0-8460-3FAD79EBE70D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16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17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18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5720" y="2161080"/>
            <a:ext cx="41853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body"/>
          </p:nvPr>
        </p:nvSpPr>
        <p:spPr>
          <a:xfrm>
            <a:off x="675720" y="2737080"/>
            <a:ext cx="418536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5088240" y="2161080"/>
            <a:ext cx="41853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5088240" y="2737080"/>
            <a:ext cx="418536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dt" idx="7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 type="ftr" idx="8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8"/>
          <p:cNvSpPr>
            <a:spLocks noGrp="1"/>
          </p:cNvSpPr>
          <p:nvPr>
            <p:ph type="sldNum" idx="9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697CCC-D9D4-45A8-A680-F5D035E4BFE4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7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7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7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body"/>
          </p:nvPr>
        </p:nvSpPr>
        <p:spPr>
          <a:xfrm>
            <a:off x="509004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dt" idx="10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1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2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1C182B-F5C8-46A2-9A3B-9CBB0478B1F1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2000"/>
          </a:bodyPr>
          <a:p>
            <a:pPr indent="0">
              <a:lnSpc>
                <a:spcPct val="100000"/>
              </a:lnSpc>
              <a:buNone/>
            </a:pPr>
            <a:r>
              <a:rPr b="0" lang="en-US" sz="7300" spc="-1" strike="noStrike">
                <a:solidFill>
                  <a:schemeClr val="accent1"/>
                </a:solidFill>
                <a:latin typeface="Trebuchet MS"/>
              </a:rPr>
              <a:t>GRAMMAR</a:t>
            </a:r>
            <a:br>
              <a:rPr sz="5400"/>
            </a:br>
            <a:r>
              <a:rPr b="0" lang="en-US" sz="6700" spc="-1" strike="noStrike">
                <a:solidFill>
                  <a:schemeClr val="accent1"/>
                </a:solidFill>
                <a:latin typeface="Trebuchet MS"/>
              </a:rPr>
              <a:t>Future Tenses</a:t>
            </a:r>
            <a:br>
              <a:rPr sz="5400"/>
            </a:br>
            <a:endParaRPr b="0" lang="ru-RU" sz="6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506960" y="4050720"/>
            <a:ext cx="7766640" cy="109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rebuchet MS"/>
              </a:rPr>
              <a:t>10</a:t>
            </a:r>
            <a:r>
              <a:rPr b="0" lang="en-US" sz="4000" spc="-1" strike="noStrike" baseline="30000">
                <a:solidFill>
                  <a:srgbClr val="808080"/>
                </a:solidFill>
                <a:latin typeface="Trebuchet MS"/>
              </a:rPr>
              <a:t>th</a:t>
            </a:r>
            <a:r>
              <a:rPr b="0" lang="en-US" sz="1800" spc="-1" strike="noStrike">
                <a:solidFill>
                  <a:srgbClr val="808080"/>
                </a:solidFill>
                <a:latin typeface="Trebuchet MS"/>
              </a:rPr>
              <a:t> form (Spotlight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77160" y="1617840"/>
            <a:ext cx="8596440" cy="44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1. Tomorrow afternoon I’m going to play tennis from 3 o’clock until 4.30. So at 4 o’clock tomorrow I 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ill be playing tenni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im is going to study from 7 o’clock until 10 o’clock this evening. So at 8.30 this evening he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ill be studying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 are going to  clean the flat tomorrow. It will take from 9 until 11 o’clock. So at 10 o’clock tomorrow morning 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e will be cleaning the fla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want your friend to give Tom a message this afternoon.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ill you be seeing Tom this afternoon?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want to use your friend’s laptop tomorrow evening.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ill you be using your laptop tomorrow evening?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friend is going shopping/ you want him/ her to buy some stamps for you at the post office.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ill you be passing the post office when you’re in town?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677880" y="609480"/>
            <a:ext cx="8596080" cy="6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Future Continuous Practice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Future Perfect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77160" y="1842840"/>
            <a:ext cx="8596440" cy="419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before, by, by then, by the time, untill/till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+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  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     S + will have + V</a:t>
            </a: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ed/3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 </a:t>
            </a:r>
            <a:endParaRPr b="0" lang="ru-RU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 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-     S + won’t  have + V</a:t>
            </a: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ed/3 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?      Will + S + be V</a:t>
            </a: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ed/3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?</a:t>
            </a:r>
            <a:endParaRPr b="0" lang="ru-RU" sz="4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4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We use Future Perfect for 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77160" y="2433600"/>
            <a:ext cx="4183560" cy="36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n action which will be finished before a stated future time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90040" y="2363400"/>
            <a:ext cx="4183560" cy="367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e will have written her essay by 7 o’clock.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77160" y="1659960"/>
            <a:ext cx="859644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Jim always goes to bed at 11 o’clock.  Tom is going to visit him at 11.30 this evening. When Tom arrives, (Jim / go / to bed) ________________________  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om is on holiday. He has very little money and he is spending too much too quickly. Before the end of his holiday, (he / spend / all his money)___________________________________________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huck came to Britain from the USA nearly 3 years ago. Next Monday it will be exactly 3 years since he arrived. Next Monday ( he / be / here / exactly 3 years)___________________________________________.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1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Future Perfect Practice 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Future Perfect Practice 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Jim always goes to bed at 11 o’clock.  Tom is going to visit him at 11.30 this evening. When Tom arrives,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Jim will have  gone to bed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om is on holiday. He has very little money and he is spending too much too quickly. Before the end of his holiday,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he will have spent all his money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huck came to Britain from the USA nearly 3 years ago. Next Monday it will be exactly 3 years since he arrived. Next Monday 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he will have been  here  exactly 3 year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ff0000"/>
                </a:solidFill>
                <a:latin typeface="Trebuchet MS"/>
              </a:rPr>
              <a:t>Attention!!!!</a:t>
            </a:r>
            <a:endParaRPr b="0" lang="ru-RU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7160" y="1434960"/>
            <a:ext cx="9212040" cy="460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hile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before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unti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s soon as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fter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If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by the time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s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are followed by Present Simple or Present Perfect!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I’ll go out </a:t>
            </a:r>
            <a:r>
              <a:rPr b="0" lang="en-US" sz="2800" spc="-1" strike="noStrike">
                <a:solidFill>
                  <a:schemeClr val="accent1"/>
                </a:solidFill>
                <a:latin typeface="Trebuchet MS"/>
              </a:rPr>
              <a:t>after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I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finish/have finished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doing my homework. 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8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1"/>
                </a:solidFill>
                <a:latin typeface="Trebuchet MS"/>
              </a:rPr>
              <a:t>Other ways to express future</a:t>
            </a:r>
            <a:endParaRPr b="0" lang="ru-RU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77160" y="1659960"/>
            <a:ext cx="859644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800" spc="-1" strike="noStrike">
                <a:solidFill>
                  <a:srgbClr val="404040"/>
                </a:solidFill>
                <a:latin typeface="Trebuchet MS"/>
              </a:rPr>
              <a:t>be going to</a:t>
            </a:r>
            <a:endParaRPr b="0" lang="ru-RU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800" spc="-1" strike="noStrike">
                <a:solidFill>
                  <a:srgbClr val="404040"/>
                </a:solidFill>
                <a:latin typeface="Trebuchet MS"/>
              </a:rPr>
              <a:t>Present Simple with future meaning</a:t>
            </a:r>
            <a:endParaRPr b="0" lang="ru-RU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800" spc="-1" strike="noStrike">
                <a:solidFill>
                  <a:srgbClr val="404040"/>
                </a:solidFill>
                <a:latin typeface="Trebuchet MS"/>
              </a:rPr>
              <a:t>Present Continuous with future meaning</a:t>
            </a:r>
            <a:endParaRPr b="0" lang="ru-RU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be  going to 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77880" y="1646280"/>
            <a:ext cx="85960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+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  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    </a:t>
            </a:r>
            <a:r>
              <a:rPr b="0" lang="en-US" sz="4000" spc="-1" strike="noStrike">
                <a:solidFill>
                  <a:schemeClr val="accent5"/>
                </a:solidFill>
                <a:latin typeface="Trebuchet MS"/>
              </a:rPr>
              <a:t> S + am / is / are  going to + V</a:t>
            </a:r>
            <a:endParaRPr b="0" lang="ru-RU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-    </a:t>
            </a:r>
            <a:r>
              <a:rPr b="0" lang="en-US" sz="3200" spc="-1" strike="noStrike">
                <a:solidFill>
                  <a:schemeClr val="accent5"/>
                </a:solidFill>
                <a:latin typeface="Trebuchet MS"/>
              </a:rPr>
              <a:t>  S + ‘m not/isn’t/aren’t going to + V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?     </a:t>
            </a:r>
            <a:r>
              <a:rPr b="0" lang="en-US" sz="4000" spc="-1" strike="noStrike">
                <a:solidFill>
                  <a:schemeClr val="accent5"/>
                </a:solidFill>
                <a:latin typeface="Trebuchet MS"/>
              </a:rPr>
              <a:t> am/is/are + S + going to +  V?</a:t>
            </a:r>
            <a:endParaRPr b="0" lang="ru-RU" sz="4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We use be going to for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7160" y="1702080"/>
            <a:ext cx="418356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future plans and intentions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predictions based on what we see or know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alking about things we are sure about or we have already decided to do in the near future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90040" y="1744560"/>
            <a:ext cx="4953960" cy="42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he’s going to go shopping tomorrow.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he are black clouds in the sky. It looks like it is going to rain. 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hey are going to build a bridge here. (It has been decided.)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be going to practice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ave you phoned Tom? (after lunch)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yet. I _________________________________________________________ 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ave you had dinner? (just)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yet. I ________________________________________________________________ .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ave you painted your flat? (soon)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yet. I  ________________________________________________________ 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ave you   repaired my bicycle? (just)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yet. I  ________________________________________________________ 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600" spc="-1" strike="noStrike">
                <a:solidFill>
                  <a:schemeClr val="accent1"/>
                </a:solidFill>
                <a:latin typeface="Trebuchet MS"/>
              </a:rPr>
              <a:t>Future Sim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chemeClr val="accent5"/>
                </a:solidFill>
                <a:latin typeface="Trebuchet MS"/>
              </a:rPr>
              <a:t>tomorrow, the day after tomorrow, next week/month/year, tonight, soon, in a week/month/year</a:t>
            </a:r>
            <a:br>
              <a:rPr sz="6600"/>
            </a:b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77160" y="2624400"/>
            <a:ext cx="8596440" cy="22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+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  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     S + will + V</a:t>
            </a:r>
            <a:endParaRPr b="0" lang="ru-RU" sz="4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-      S + won’t + V</a:t>
            </a:r>
            <a:endParaRPr b="0" lang="ru-RU" sz="4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?      Will + S + V?</a:t>
            </a:r>
            <a:endParaRPr b="0" lang="ru-RU" sz="4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be going to practice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ave you phoned Tom? (after lunch)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t yet. I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‘m going to phone him after lunch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ave you had dinner? (just)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t yet. I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‘m just going to have it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.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ave you painted your flat? (soon)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t yet. I 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‘m gong to paint it soo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ave you   repaired my bicycle? (just)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t yet. I 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‘m just going to repair it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We use Present Simple    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with future meaning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3200" spc="-1" strike="noStrike">
                <a:solidFill>
                  <a:schemeClr val="accent1"/>
                </a:solidFill>
                <a:latin typeface="Trebuchet MS"/>
              </a:rPr>
              <a:t>timetables and programmes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9004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e bus arrives at 2 o’clock in the morning. 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xed arrangements in the near future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9004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’m relaxing at home this week. (It’s planned.)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We use Present Continuous    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with future meaning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6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We use Future Simple for 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 rot="10800000">
            <a:off x="997560" y="1392120"/>
            <a:ext cx="3716640" cy="40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42240" y="1932480"/>
            <a:ext cx="4185360" cy="449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prediction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bout the future (usually with verbs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hope, think, believe, expect, imagin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;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with expressions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I’m sure, I’m afrai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;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with the adverbs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: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probably, perhaps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promises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on-the-spot decisions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threats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hopes, fear, offers, warnings, requests and comments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things we are not yet sure about or we haven’t decided to do yet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75560" y="1392120"/>
            <a:ext cx="4073040" cy="40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088240" y="1926360"/>
            <a:ext cx="4185360" cy="48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 believe he’ll have to cancel his trip.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He’ll probably be late. 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 promise I won’t forget you.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’m so tired. I‘ll take a break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f you don’t study hard, you will fail your exams. 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’m afraid she will be busy tomorrow.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Maybe I’ll go to the cinema later.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Shall</a:t>
            </a: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 is used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 </a:t>
            </a:r>
            <a:r>
              <a:rPr b="0" lang="en-US" sz="24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suggestion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, </a:t>
            </a:r>
            <a:r>
              <a:rPr b="0" lang="en-US" sz="24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offer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and when asking for </a:t>
            </a:r>
            <a:r>
              <a:rPr b="0" lang="en-US" sz="24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advice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9004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hall we go out later?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chemeClr val="accent1"/>
                </a:solidFill>
                <a:latin typeface="Trebuchet MS"/>
              </a:rPr>
              <a:t>Future</a:t>
            </a: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en-US" sz="5900" spc="-1" strike="noStrike">
                <a:solidFill>
                  <a:schemeClr val="accent1"/>
                </a:solidFill>
                <a:latin typeface="Trebuchet MS"/>
              </a:rPr>
              <a:t>Simple Practice </a:t>
            </a:r>
            <a:endParaRPr b="0" lang="ru-RU" sz="5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1) They _____ football at the institute. (to play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2) She _____ emails. (not / to write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3) ____ you____ English? (to speak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4) My mother ____ fish. (not / to like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5) ____ Ann ____ any friends? (to have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6) His brother _____ in an office. (to work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7) She ___ very fast. (to read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8) ____ they ____ the flowers every 3 days? (to water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9) His wife _____ a motorbike. (not / to ride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10) ____ Elizabeth_____ coffee? (to drink)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160" y="50256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Future Simple Practice 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y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ill play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otball at the institute.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2) She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on’t write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mails.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3)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ill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you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speak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English?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4) My mother 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on’t like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sh.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5)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ill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 Ann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have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ny friends?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6) His brother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ill work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an office.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7) She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on’t read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ery fast.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8)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ill</a:t>
            </a:r>
            <a:r>
              <a:rPr b="0" lang="en-US" sz="1800" spc="-1" strike="noStrike">
                <a:solidFill>
                  <a:schemeClr val="accent2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y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ater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the flowers every 3 days?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9) His wife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on’t ride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motorbike.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10)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ill</a:t>
            </a:r>
            <a:r>
              <a:rPr b="0" lang="en-US" sz="1800" spc="-1" strike="noStrike">
                <a:solidFill>
                  <a:schemeClr val="accent2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izabeth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drink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coffee? (to drink)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Future</a:t>
            </a: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Continuous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+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  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     S + will be + V</a:t>
            </a: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ing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-      S + won’t  be + V</a:t>
            </a: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ing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?      Will + S + be V</a:t>
            </a: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ing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?</a:t>
            </a:r>
            <a:endParaRPr b="0" lang="ru-RU" sz="4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8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1"/>
                </a:solidFill>
                <a:latin typeface="Trebuchet MS"/>
              </a:rPr>
              <a:t>We use Future Continuous for</a:t>
            </a:r>
            <a:r>
              <a:rPr b="0" lang="ru-RU" sz="3200" spc="-1" strike="noStrike">
                <a:solidFill>
                  <a:schemeClr val="accent1"/>
                </a:solidFill>
                <a:latin typeface="Trebuchet MS"/>
              </a:rPr>
              <a:t>:</a:t>
            </a: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7160" y="1547280"/>
            <a:ext cx="4183560" cy="44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ctions  in progres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t a stated future time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ction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 which will definitely happen in the future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s a result of a routine or arrangemen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sking politely abou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someone’s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plan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for the near future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90040" y="1533240"/>
            <a:ext cx="4183560" cy="450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s time next week I’ll be sunbathing in Barbados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e will be driving to Cheshire tonight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ll you be watching the show tonight?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Future Continuous Practice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77160" y="1434960"/>
            <a:ext cx="8596440" cy="460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1. Tomorrow afternoon I’m going to play tennis from 3 o’clock until 4.30. So at 4 o’clock tomorrow I ___________________________________________ 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im is going to study from 7 o’clock until 10 o’clock this evening. So at 8.30 this evening he __________________________________________________ 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 are going to  clean the flat tomorrow. It will take from 9 until 11 o’clock. So at 10 o’clock tomorrow morning ________________________________ .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want your friend to give Tom a message this afternoon. (you / see Tom / this afternoon? )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want to use your friend’s laptop tomorrow evening. (you / use / your laptop /  tomorrow evening ? )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friend is going shopping/ you want him/ her to buy some stamps for you at the post office. ( you / pass / the post office when you’re in town ? )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159</TotalTime>
  <Application>LibreOffice/7.4.7.2$Linux_X86_64 LibreOffice_project/40$Build-2</Application>
  <AppVersion>15.0000</AppVersion>
  <Words>1232</Words>
  <Paragraphs>144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1T06:12:29Z</dcterms:created>
  <dc:creator>каб. 303</dc:creator>
  <dc:description/>
  <dc:language>en-US</dc:language>
  <cp:lastModifiedBy>HP</cp:lastModifiedBy>
  <dcterms:modified xsi:type="dcterms:W3CDTF">2018-10-14T06:23:05Z</dcterms:modified>
  <cp:revision>23</cp:revision>
  <dc:subject/>
  <dc:title>GRAMMAR Future Tens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22</vt:r8>
  </property>
</Properties>
</file>