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74C-094F-4B44-8166-984B8735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9F6-1CBC-4645-BD45-94D33946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6BA-1D69-44EC-8732-5A87CB35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09160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0604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09160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350604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A7E-68EC-44B8-8FE7-E4D1A42C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159D-452D-432C-9C56-F6F4FED2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37FC-D88C-4402-AAED-3B3CECC5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57DE-62DF-4D73-8F5A-9B943D0D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AEE5-C620-4744-A8F6-7A1531CA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810F-6030-432B-BD26-EE7FD9B0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0D79-FA60-4004-B313-9A2B5224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8015-120F-429E-93A3-B445BA87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5E7-4564-44EE-AF56-8FA75051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6C4D-EFC2-461F-8CD4-524335C4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98CD-4EED-493E-85DD-C53572BD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8A6A-44F5-45B4-B074-AA596872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6B65-711F-4610-BC1B-1EE437F8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9160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50604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09160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350604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E838-96EB-477F-B503-9D302917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E3BE-F9E7-427F-BF48-F141916A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2E019-503A-4FE2-88AE-EF9A8617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4ACBE-0397-43D3-9443-41963546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465F3-1967-48EA-A363-B30C4C5D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E91D-F27A-4B1C-ADA7-179E033E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9F6-C560-4FAF-8045-D89DF317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69EEC-4423-4948-954D-4AA5329D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804D6-F6DA-49E5-A5E8-F679657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59D9-0A26-495A-994B-B84AF67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F40DD-1C66-4DE4-9C17-EC3637D9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694A-81E5-4444-8369-1697E3F6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D7C77-E66A-4DC3-9846-3654E139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09160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0604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09160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350604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8CD09-4511-4C80-ACA8-47D4F7BD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6A15-99F6-41A6-AF2E-0F950EB6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DF754-32C2-4DAF-9779-937E95F4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D398-5410-41D0-B790-21D911C1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0C0-6C43-485B-AF88-B1D18E08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241A-5B60-4A0D-8BCD-69D6B40E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B19E-50E1-46E0-B4C5-B70C8593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69E3-BD41-4976-8CAF-3B406C7A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7C32C-A7BC-4DF9-B025-6D2B12A9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DD8A-8793-4BA3-B9AE-AC3E0153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5F99-455C-4AB5-A0DB-8F37E3E2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E900-5DC8-4E7D-BC73-FF4FF7C3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F4B1F-B66D-4509-BF14-84DD0445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09160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50604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09160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350604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1F0E8-C236-4EC0-882C-808965C9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D6F-FE2C-48D4-8B60-F6FBA870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47C-32FA-4D38-A1F3-537AE735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124-D66D-4B11-BAD6-29432824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9AD-DE93-4535-AE7F-1881AC7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935-6BB5-4138-A5A0-6CA35593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07F36F-F12A-478A-9D2F-B1357C894888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EFFC79-10EF-47AF-AAA5-1D51551CB76F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5720" y="2161080"/>
            <a:ext cx="4185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675720" y="2737080"/>
            <a:ext cx="418536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5088240" y="2161080"/>
            <a:ext cx="4185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5088240" y="2737080"/>
            <a:ext cx="418536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8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4C4EC7-7C0C-42DA-B20E-22898B9D081C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7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7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7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body"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10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1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2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083D29-A32C-45B3-B648-9FB4AB8D8C9F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2000"/>
          </a:bodyPr>
          <a:p>
            <a:pPr indent="0">
              <a:lnSpc>
                <a:spcPct val="100000"/>
              </a:lnSpc>
              <a:buNone/>
            </a:pPr>
            <a:r>
              <a:rPr b="0" lang="en-US" sz="7300" spc="-1" strike="noStrike">
                <a:solidFill>
                  <a:schemeClr val="accent1"/>
                </a:solidFill>
                <a:latin typeface="Trebuchet MS"/>
              </a:rPr>
              <a:t>GRAMMAR</a:t>
            </a:r>
            <a:br>
              <a:rPr sz="5400"/>
            </a:br>
            <a:r>
              <a:rPr b="0" lang="en-US" sz="6700" spc="-1" strike="noStrike">
                <a:solidFill>
                  <a:schemeClr val="accent1"/>
                </a:solidFill>
                <a:latin typeface="Trebuchet MS"/>
              </a:rPr>
              <a:t>Future Tenses</a:t>
            </a:r>
            <a:br>
              <a:rPr sz="5400"/>
            </a:br>
            <a:endParaRPr b="0" lang="ru-RU" sz="6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506960" y="4050720"/>
            <a:ext cx="7766640" cy="10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rebuchet MS"/>
              </a:rPr>
              <a:t>10</a:t>
            </a:r>
            <a:r>
              <a:rPr b="0" lang="en-US" sz="4000" spc="-1" strike="noStrike" baseline="30000">
                <a:solidFill>
                  <a:srgbClr val="808080"/>
                </a:solidFill>
                <a:latin typeface="Trebuchet MS"/>
              </a:rPr>
              <a:t>th</a:t>
            </a:r>
            <a:r>
              <a:rPr b="0" lang="en-US" sz="1800" spc="-1" strike="noStrike">
                <a:solidFill>
                  <a:srgbClr val="808080"/>
                </a:solidFill>
                <a:latin typeface="Trebuchet MS"/>
              </a:rPr>
              <a:t> form (Spotlight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77160" y="1617840"/>
            <a:ext cx="8596440" cy="44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. Tomorrow afternoon I’m going to play tennis from 3 o’clock until 4.30. So at 4 o’clock tomorrow I 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be playing tenni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im is going to study from 7 o’clock until 10 o’clock this evening. So at 8.30 this evening he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be studying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are going to  clean the flat tomorrow. It will take from 9 until 11 o’clock. So at 10 o’clock tomorrow morning 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e will be cleaning the fla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want your friend to give Tom a message this afternoon.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you be seeing Tom this afternoon?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want to use your friend’s laptop tomorrow evening.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you be using your laptop tomorrow evening?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friend is going shopping/ you want him/ her to buy some stamps for you at the post office.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you be passing the post office when you’re in town?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77880" y="609480"/>
            <a:ext cx="859608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Future Continuous Practice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 Perfect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77160" y="1842840"/>
            <a:ext cx="8596440" cy="41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before, by, by then, by the time, untill/till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+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 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    S + will have +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ed/3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-     S + won’t  have +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ed/3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      Will + S + be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ed/3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4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We use Future Perfect for 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7160" y="2433600"/>
            <a:ext cx="4183560" cy="36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n action which will be finished before a stated future tim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90040" y="2363400"/>
            <a:ext cx="4183560" cy="36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e will have written her essay by 7 o’clock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77160" y="1659960"/>
            <a:ext cx="859644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Jim always goes to bed at 11 o’clock.  Tom is going to visit him at 11.30 this evening. When Tom arrives, (Jim / go / to bed) ________________________  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m is on holiday. He has very little money and he is spending too much too quickly. Before the end of his holiday, (he / spend / all his money)___________________________________________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uck came to Britain from the USA nearly 3 years ago. Next Monday it will be exactly 3 years since he arrived. Next Monday ( he / be / here / exactly 3 years)___________________________________________.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 Perfect Practice 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 Perfect Practice 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Jim always goes to bed at 11 o’clock.  Tom is going to visit him at 11.30 this evening. When Tom arrives,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Jim will have  gone to bed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m is on holiday. He has very little money and he is spending too much too quickly. Before the end of his holiday,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he will have spent all his money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uck came to Britain from the USA nearly 3 years ago. Next Monday it will be exactly 3 years since he arrived. Next Monday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he will have been  here  exactly 3 year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ff0000"/>
                </a:solidFill>
                <a:latin typeface="Trebuchet MS"/>
              </a:rPr>
              <a:t>Attention!!!!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7160" y="1434960"/>
            <a:ext cx="9212040" cy="460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hil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befor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unti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s soon a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fter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If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by the tim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s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are followed by Present Simple or Present Perfect!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’ll go out </a:t>
            </a:r>
            <a:r>
              <a:rPr b="0" lang="en-US" sz="2800" spc="-1" strike="noStrike">
                <a:solidFill>
                  <a:schemeClr val="accent1"/>
                </a:solidFill>
                <a:latin typeface="Trebuchet MS"/>
              </a:rPr>
              <a:t>after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I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finish/have finished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oing my homework.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8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/>
                </a:solidFill>
                <a:latin typeface="Trebuchet MS"/>
              </a:rPr>
              <a:t>Other ways to express future</a:t>
            </a:r>
            <a:endParaRPr b="0" lang="ru-RU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7160" y="1659960"/>
            <a:ext cx="859644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be going to</a:t>
            </a:r>
            <a:endParaRPr b="0" lang="ru-RU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Present Simple with future meaning</a:t>
            </a:r>
            <a:endParaRPr b="0" lang="ru-RU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Present Continuous with future meaning</a:t>
            </a:r>
            <a:endParaRPr b="0" lang="ru-RU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be  going to 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77880" y="1646280"/>
            <a:ext cx="8596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+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 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   </a:t>
            </a:r>
            <a:r>
              <a:rPr b="0" lang="en-US" sz="4000" spc="-1" strike="noStrike">
                <a:solidFill>
                  <a:schemeClr val="accent5"/>
                </a:solidFill>
                <a:latin typeface="Trebuchet MS"/>
              </a:rPr>
              <a:t> S + am / is / are  going to + V</a:t>
            </a: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-    </a:t>
            </a:r>
            <a:r>
              <a:rPr b="0" lang="en-US" sz="3200" spc="-1" strike="noStrike">
                <a:solidFill>
                  <a:schemeClr val="accent5"/>
                </a:solidFill>
                <a:latin typeface="Trebuchet MS"/>
              </a:rPr>
              <a:t>  S + ‘m not/isn’t/aren’t going to + V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     </a:t>
            </a:r>
            <a:r>
              <a:rPr b="0" lang="en-US" sz="4000" spc="-1" strike="noStrike">
                <a:solidFill>
                  <a:schemeClr val="accent5"/>
                </a:solidFill>
                <a:latin typeface="Trebuchet MS"/>
              </a:rPr>
              <a:t> am/is/are + S + going to +  V?</a:t>
            </a: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We use be going to for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7160" y="1702080"/>
            <a:ext cx="418356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future plans and intentions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redictions based on what we see or know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lking about things we are sure about or we have already decided to do in the near future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90040" y="1744560"/>
            <a:ext cx="4953960" cy="42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he’s going to go shopping tomorrow.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he are black clouds in the sky. It looks like it is going to rain.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hey are going to build a bridge here. (It has been decided.)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be going to practice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ave you phoned Tom? (after lunch)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yet. I ______________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ave you had dinner? (just)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yet. I ________________________________________________________________ 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ave you painted your flat? (soon)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yet. I  _____________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ave you   repaired my bicycle? (just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yet. I  _____________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600" spc="-1" strike="noStrike">
                <a:solidFill>
                  <a:schemeClr val="accent1"/>
                </a:solidFill>
                <a:latin typeface="Trebuchet MS"/>
              </a:rPr>
              <a:t>Future Sim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chemeClr val="accent5"/>
                </a:solidFill>
                <a:latin typeface="Trebuchet MS"/>
              </a:rPr>
              <a:t>tomorrow, the day after tomorrow, next week/month/year, tonight, soon, in a week/month/year</a:t>
            </a:r>
            <a:br>
              <a:rPr sz="6600"/>
            </a:b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7160" y="2624400"/>
            <a:ext cx="8596440" cy="22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+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 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    S + will + V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-      S + won’t + V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      Will + S + V?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be going to practice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you phoned Tom? (after lunch)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t yet. I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‘m going to phone him after lunch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you had dinner? (just)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t yet. I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‘m just going to have i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you painted your flat? (soon)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t yet. I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‘m gong to paint it so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you   repaired my bicycle? (just)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t yet. I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‘m just going to repair i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We use Present Simple   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with future meaning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200" spc="-1" strike="noStrike">
                <a:solidFill>
                  <a:schemeClr val="accent1"/>
                </a:solidFill>
                <a:latin typeface="Trebuchet MS"/>
              </a:rPr>
              <a:t>timetables and programmes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e bus arrives at 2 o’clock in the morning. 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xed arrangements in the near future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’m relaxing at home this week. (It’s planned.)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We use Present Continuous   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with future meaning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6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We use Future Simple for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 rot="10800000">
            <a:off x="997560" y="1392120"/>
            <a:ext cx="3716640" cy="40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42240" y="1932480"/>
            <a:ext cx="4185360" cy="449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prediction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bout the future (usually with verb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hope, think, believe, expect, imagin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;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with expression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I’m sure, I’m afrai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;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with the adverb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probably, perhap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promise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on-the-spot decision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threat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hopes, fear, offers, warnings, requests and comment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things we are not yet sure about or we haven’t decided to do ye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75560" y="1392120"/>
            <a:ext cx="4073040" cy="40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088240" y="1926360"/>
            <a:ext cx="4185360" cy="48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 believe he’ll have to cancel his trip.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e’ll probably be late. 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 promise I won’t forget you.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’m so tired. I‘ll take a break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f you don’t study hard, you will fail your exams. 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’m afraid she will be busy tomorrow.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aybe I’ll go to the cinema later.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Shall</a:t>
            </a: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is used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suggestion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offer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and when asking for 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advice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hall we go out later?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chemeClr val="accent1"/>
                </a:solidFill>
                <a:latin typeface="Trebuchet MS"/>
              </a:rPr>
              <a:t>Future</a:t>
            </a: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en-US" sz="5900" spc="-1" strike="noStrike">
                <a:solidFill>
                  <a:schemeClr val="accent1"/>
                </a:solidFill>
                <a:latin typeface="Trebuchet MS"/>
              </a:rPr>
              <a:t>Simple Practice </a:t>
            </a:r>
            <a:endParaRPr b="0" lang="ru-RU" sz="5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) They _____ football at the institute. (to play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2) She _____ emails. (not / to write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3) ____ you____ English? (to speak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4) My mother ____ fish. (not / to like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5) ____ Ann ____ any friends? (to have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6) His brother _____ in an office. (to work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7) She ___ very fast. (to read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8) ____ they ____ the flowers every 3 days? (to water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9) His wife _____ a motorbike. (not / to ride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0) ____ Elizabeth_____ coffee? (to drink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160" y="50256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 Simple Practice 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y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 play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otball at the institute.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2) She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on’t write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mails.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3)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you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speak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English?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4) My mother 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on’t like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sh.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5)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 Ann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have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ny friends?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6) His brother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 work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an office.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7) She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on’t read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ery fast.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8)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</a:t>
            </a:r>
            <a:r>
              <a:rPr b="0" lang="en-US" sz="1800" spc="-1" strike="noStrike">
                <a:solidFill>
                  <a:schemeClr val="accent2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y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ater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the flowers every 3 days?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9) His wife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on’t ride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motorbike.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0)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</a:t>
            </a:r>
            <a:r>
              <a:rPr b="0" lang="en-US" sz="1800" spc="-1" strike="noStrike">
                <a:solidFill>
                  <a:schemeClr val="accent2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izabeth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drink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coffee? (to drink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</a:t>
            </a: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Continuous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+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 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    S + will be +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ing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-      S + won’t  be +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ing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      Will + S + be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ing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8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1"/>
                </a:solidFill>
                <a:latin typeface="Trebuchet MS"/>
              </a:rPr>
              <a:t>We use Future Continuous for</a:t>
            </a:r>
            <a:r>
              <a:rPr b="0" lang="ru-RU" sz="3200" spc="-1" strike="noStrike">
                <a:solidFill>
                  <a:schemeClr val="accent1"/>
                </a:solidFill>
                <a:latin typeface="Trebuchet MS"/>
              </a:rPr>
              <a:t>:</a:t>
            </a: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160" y="1547280"/>
            <a:ext cx="4183560" cy="44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ctions  in progres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t a stated future tim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ction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 which will definitely happen in the future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s a result of a routine or arrangemen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sking politely abou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someone’s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plan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for the near futur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90040" y="1533240"/>
            <a:ext cx="4183560" cy="450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s time next week I’ll be sunbathing in Barbados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e will be driving to Cheshire tonight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ll you be watching the show tonight?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Future Continuous Practice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7160" y="1434960"/>
            <a:ext cx="8596440" cy="460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. Tomorrow afternoon I’m going to play tennis from 3 o’clock until 4.30. So at 4 o’clock tomorrow I 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im is going to study from 7 o’clock until 10 o’clock this evening. So at 8.30 this evening he _______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are going to  clean the flat tomorrow. It will take from 9 until 11 o’clock. So at 10 o’clock tomorrow morning ________________________________ 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want your friend to give Tom a message this afternoon. (you / see Tom / this afternoon? 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want to use your friend’s laptop tomorrow evening. (you / use / your laptop /  tomorrow evening ? 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friend is going shopping/ you want him/ her to buy some stamps for you at the post office. ( you / pass / the post office when you’re in town ? 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59</TotalTime>
  <Application>LibreOffice/7.4.7.2$Linux_X86_64 LibreOffice_project/40$Build-2</Application>
  <AppVersion>15.0000</AppVersion>
  <Words>1232</Words>
  <Paragraphs>144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1T06:12:29Z</dcterms:created>
  <dc:creator>каб. 303</dc:creator>
  <dc:description/>
  <dc:language>en-US</dc:language>
  <cp:lastModifiedBy>HP</cp:lastModifiedBy>
  <dcterms:modified xsi:type="dcterms:W3CDTF">2018-10-14T06:23:05Z</dcterms:modified>
  <cp:revision>23</cp:revision>
  <dc:subject/>
  <dc:title>GRAMMAR Future Tens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22</vt:r8>
  </property>
</Properties>
</file>