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wmf" ContentType="image/x-wmf"/>
  <Override PartName="/ppt/media/image27.jpeg" ContentType="image/jpeg"/>
  <Override PartName="/ppt/media/image10.wmf" ContentType="image/x-wmf"/>
  <Override PartName="/ppt/media/image25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5.png" ContentType="image/png"/>
  <Override PartName="/ppt/media/image30.jpeg" ContentType="image/jpe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4.wmf" ContentType="image/x-wmf"/>
  <Override PartName="/ppt/media/image2.wmf" ContentType="image/x-wmf"/>
  <Override PartName="/ppt/media/image23.jpeg" ContentType="image/jpeg"/>
  <Override PartName="/ppt/media/image1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4.jpeg" ContentType="image/jpeg"/>
  <Override PartName="/ppt/media/image22.png" ContentType="image/png"/>
  <Override PartName="/ppt/media/image28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FC92-49D3-4673-B9F6-2569333F44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остатка уксусной кислоты CH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O- в состав молекулы –ацет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оединение АМФ - адени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524B-5E1D-4655-BDE1-D2FD2E8311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EBB2-1DB2-43B4-8407-95AF1520B4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6F81-DBDD-46CD-8A6A-2A95CC1B3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 клубень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EC5-ADFB-4BE5-AB3B-617FA0C2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181B-D684-4E58-8202-E4D361FC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F0F-2302-4667-B7AE-2DD05756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CF92-0845-458B-B65D-0204DCA1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810-9688-4D68-8479-8E30E0CE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194-D7BE-48C4-A7AA-EADD541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76B-0ED5-441F-A8BB-FC6C8D1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2D3-EB84-4E7C-9338-F9FD0B93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EC8-9240-4489-BF31-0A3EA3DA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433-69AA-477D-84EE-D37653C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130-320E-4D88-B318-2B9DA9A5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6AF-D9A9-4D7F-BE70-C139BCD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FC82-8A71-4975-9AB7-3220D4505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642960" y="6429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ханизму действия  на бактериальную клетку все известные антибиотики можно разделить на 4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интез клеточной сте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менение проницаемости мемб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нгибирование нуклеотидного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рушение синтеза бел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07" descr=""/>
          <p:cNvPicPr/>
          <p:nvPr/>
        </p:nvPicPr>
        <p:blipFill>
          <a:blip r:embed="rId1"/>
          <a:srcRect l="0" t="0" r="1998" b="12116"/>
          <a:stretch/>
        </p:blipFill>
        <p:spPr>
          <a:xfrm>
            <a:off x="0" y="0"/>
            <a:ext cx="8715240" cy="5000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71680" y="5929200"/>
            <a:ext cx="81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4. Эволю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и пенициллинсвязывающих белков от общего белка-предшествен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rcRect l="0" t="0" r="2153" b="24532"/>
          <a:stretch/>
        </p:blipFill>
        <p:spPr>
          <a:xfrm>
            <a:off x="0" y="0"/>
            <a:ext cx="7643880" cy="4786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357120" y="5072040"/>
            <a:ext cx="77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5. Сравнение структур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класса А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oli (A), B.licheniformis (B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В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fragilis (C);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 С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cloaceae (D); DD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азы-транспептидазы 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sp. (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0" t="0" r="11508" b="11360"/>
          <a:stretch/>
        </p:blipFill>
        <p:spPr>
          <a:xfrm>
            <a:off x="142920" y="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308720" y="3716280"/>
            <a:ext cx="1584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Temonier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вый пациент, у которого была обнару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0" y="62150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6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е ТЕМ-1, приводящих к образованию ферментов с «расширенным спектром действ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rcRect l="6424" t="1077" r="10036" b="19412"/>
          <a:stretch/>
        </p:blipFill>
        <p:spPr>
          <a:xfrm>
            <a:off x="571680" y="142920"/>
            <a:ext cx="803088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600084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7. Положение и типы аминокислотных замен в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ах типа ТЕМ, приводящих к образованию ферментов, устойчивых к ингибитор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082" r="5230" b="25979"/>
          <a:stretch/>
        </p:blipFill>
        <p:spPr>
          <a:xfrm>
            <a:off x="720720" y="0"/>
            <a:ext cx="6994440" cy="4929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0" y="4857840"/>
            <a:ext cx="89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8. Структура β-лактамазы ТЕМ-1, ацетилированная открытой формой пенициллина G (показана розовым цвет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м цветом выделены остатки Met69, Arg244 и Gln276, замены которых наиболее часто наблюдаются при появлении β-лактамаз, устойчивых к действию ингибиторов. Желтым цветом указаны остатки Glu104 и 240, мутации которых приводят к получению ТЕМ-50, обладающей двойным фенотипом устойчивости. Зеленым цветом выделены остатки, также приводящие к устойчивости против действия ингибиторов β-лактам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0" y="-71280"/>
            <a:ext cx="9144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ой тенденцией последних 5–10 лет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явление все новых и новых мутантных форм этих ферментов, устойчивых к действию новых препаратов (включая цефалоспорины IV поколения и карбапенемы). Около 50% новых ферментов были найдены в течение пяти последн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мбинация в одном штамме сразу нескольких типов резистентности. Например из более 800 штаммов из госпиталей и клиник Москвы, Санкт-Петербурга, Томска и Назрани, проверенных на резистентность к β-лактамам более чем в 50% изолятов было обнаружено по две различных β-лактамазы (SHV + CTX-M или ТЕМ + СЕХ-М), а у 12% штаммов одновременно присутствовали ТЕМ, SHV и СТХ-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сокая скорость распространения новых мутантов во всем мире. Например, β-лактамаза СТХ-М, которую еще недавно практически не находили в Российской Федерации. Ферменты этой группы были обнаружены в 40% штаммов, полученных из клиник Москвы и Санкт-Петербурга – наиболее часто посещаемых городов России. Исследования показали, что устойчивость к цефалоспорина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-IV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о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фтазидиму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возникает уже через два-три месяца с момента его применения в клинике. Поэтому во многих госпиталях через каждые три месяца практикуют заменять использованный β-лактам на новый. Появление мутантных β-лактамаз с несколькими фенотипами устойчивости требует разработки методов экспресс-диагностики типов резистентности с использованием методов генетической инжен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rcRect l="0" t="10124" r="2032" b="0"/>
          <a:stretch/>
        </p:blipFill>
        <p:spPr>
          <a:xfrm>
            <a:off x="285840" y="2857680"/>
            <a:ext cx="8429400" cy="3438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85840" y="21420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пептидные антибиотики (ванкомицин и тейкопланин) традиционно используются при лечении энтерококковых инфек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то, что ванкомицин применяется в медицинской практике с начала 50-х годов, первое сообщение об устойчивости энтерококков к этому антибиотику появилось только в конце 80-х годов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myc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faeciu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57120" y="285840"/>
            <a:ext cx="857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энтерококков c фенотипом VanA синтез модифицированного предшественника является результатом активности минимум 7 генов, входящих в состав оперона, локализованного на транспозоне T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ы, детерминирующие устойчивость к ванкомицину начинают экспрессироваться только в присутствии антибиотика. Это обусловлено функционированием так называемой двухкомпонентной системы (широко распространенный механизм ответа бактериальной клетки на изменения внешней сре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766880" y="209520"/>
            <a:ext cx="5181480" cy="48560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971640" y="5373720"/>
            <a:ext cx="795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9. Механизм устойчивости к ванкомицину 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coccu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-чувствительный (связывается с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ахаридпентапептидом – предшественником пептидогликан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R-реезистентный к ванкомицину штаммы, соответств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rcRect l="-2983" t="0" r="3290" b="27537"/>
          <a:stretch/>
        </p:blipFill>
        <p:spPr>
          <a:xfrm>
            <a:off x="500040" y="0"/>
            <a:ext cx="7358040" cy="450072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85840" y="5286240"/>
            <a:ext cx="828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0. Модель двухкомпонентной регуляторн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К – гистидинкиназа; РО –регулятор ответа; Н –консервативный гистидиновый остаток ГК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рвативный остаток аспарагиновой кислоты Р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76"/>
          <p:cNvSpPr/>
          <p:nvPr/>
        </p:nvSpPr>
        <p:spPr>
          <a:xfrm>
            <a:off x="1419120" y="947052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46" descr=""/>
          <p:cNvPicPr/>
          <p:nvPr/>
        </p:nvPicPr>
        <p:blipFill>
          <a:blip r:embed="rId1"/>
          <a:srcRect l="0" t="0" r="-3013" b="17587"/>
          <a:stretch/>
        </p:blipFill>
        <p:spPr>
          <a:xfrm>
            <a:off x="0" y="0"/>
            <a:ext cx="9088560" cy="521496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14200" y="535788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1. Основные механизмы действия антибиотиков на бактериальную клет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FA, DHFA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огидро- и  дигидрофолевая кислоты соответствен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А – пара-аминобензойная кисл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3864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6500880" y="-71280"/>
            <a:ext cx="235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H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дегидрогеназой, ответственной за синтез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D-лакта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бел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A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уществляет синтез дипептида D-Ala–D-lac, бел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X Van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рушает нормальный дипептид D-Ala–D-Ala. Продукты генов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VanZ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являются обязательными для проявления устойчивости к гликопептидам, хотя и оказывают некоторое влияние на ее выраж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428760" y="500040"/>
            <a:ext cx="8286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оперона, определяющего фенотип VanB, принципиально сходна со структурой оперона VanA, описанной выше. Выявлена почти 80%-ная гомология между генами, кодирующими ферменты синтеза модифицированного мономера. Однако в структуре генов, кодирующих регуляторные белки, найдены значительные отличия – степень гомологии составляет 25–35%. Этим, вероятно, можно объяснить тот факт, что у штаммов, демонстрирующих фенотип VanB, тейкопланин не индуцирует продукцию ферментов, синтезирующих модифицированный предшественник. В результате штаммы VanB фенотипа при вариабельном уровне устойчивости к ванкомицину сохраняют чувствительность к тейкопланину, что является отличительным признаком указанного фен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500040" y="428760"/>
            <a:ext cx="77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антибиотиков нарушающих синтез белка наиболее часто плазмидное происхождение имеют гены, детерминирующие устойчивость к аминогликозидным антибиотикам, хлорамфениколу, антибиотикам группы МКЛС и тетрацикли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Структура и ферментативная модификация молекулы канамицина"/>
          <p:cNvPicPr/>
          <p:nvPr/>
        </p:nvPicPr>
        <p:blipFill>
          <a:blip r:embed="rId1"/>
          <a:stretch/>
        </p:blipFill>
        <p:spPr>
          <a:xfrm>
            <a:off x="0" y="-23760"/>
            <a:ext cx="6858000" cy="5495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2"/>
          <p:cNvSpPr/>
          <p:nvPr/>
        </p:nvSpPr>
        <p:spPr>
          <a:xfrm>
            <a:off x="214200" y="5643720"/>
            <a:ext cx="871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иногликозиды являются группой антибактериальных препаратов, широко используемых в клинической практике для лечения инфекционных болезней. Аминогликозидные антибиотики, содержат в молекуле остатки аминосахаров, действующие на синтез белка (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убъединицу рибос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7000920" y="0"/>
            <a:ext cx="2143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ферментативная модификация молекулы канамицина: стрелками указаны шесть функциональных групп, подвергшихся ферментативной мод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85840" y="357120"/>
            <a:ext cx="88581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ативная модификация молекулы антибиотика является наиболее распространенным механизмом резистентности. Различают три вида аминогликозидмодифицирующих ферментов (АГМФ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трансфераз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трансфераз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ы (нуклеотидилтрансферазы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500040"/>
            <a:ext cx="8929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фосфотрансфераз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H) – это ферменты, модифицирующие аминогликозидные антибиотик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м фосфорилирования их гидроксильных групп в присутствии АТФ в качестве кофактор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ьшей или меньшей степени изучен ряд APH, продуцируемых как грамотрицательными, так и грамположительными микроорганизм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положения гидроксильной группы антибиотика, модифицируемой ферментом, различают 5 типов фосфотрансфе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H(3'); APH(3''); APH(6); АРН(4); АРН(2'') – в составе бифункционального фермента ААС(6') + АРН(2'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е клиническое значение имеет фермент АРН(3'), распространенный у грамотрицательных бактерий и обусловливающий резистентность к аминогликозидам разных поколений. Данный фермент может быть представлен 7 изоферментами: APH(3')-I – APH(3')-VII, кодируемыми соответствующими генами: aphA1 – aphA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ым является фермент APH(3')-I, обусловливающий резистентность к канамицину, неомицину, мономицину и ливидомицину. Этот фермент обнаружен у представителей семейств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, Pseudomona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netobac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p. Широкому распространению кодирующего этот фермент гена способствовала его локализация в составе различных транспозонов: Tn903, Tn6 (Tn 2680), Tn 1525, Tn 1699, Tn 2350, Tn 435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357120" y="428760"/>
            <a:ext cx="8501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нуклеотидилтрансферазы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), называемые также аминогликозидаденилилтрансферазами (AAD), осуществляют модификацию молекулы аминогликозидных антибиотиков за сче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рования гидроксильных групп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молекул в присутствии АТФ в качестве ко-фактора. Известно 4 типа нуклеотидилтрансфераз: ANT(4'), ANT(2''), ANT(3'') и ANT(6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лилтрансфераза ANT(4'), обозначаемая также как ANT(4')(4''), обусловливает резистентность стафилококков и стрептококков к амикацину, тобрамицину, канамицину, неомицину, мономицину, бутирозину, ливидомицину и исепамицину. Ген, кодирующий этот фермент, обнаружен в составе многокопийных и низкокопийных плазм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гликозидацетилтрансфера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АС)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илируют аминогрупп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ы аминогликозидов в присутствии ацетил-КоA в качестве ко-фактора. Известны 4 типа этих ферментов: AAC(6'), AAC(2'), AAC(3) и AAC(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учении структуры гена, кодирующего аденилилтрансферазу ANT(3'')(9), показано, что он входит в состав интегронов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14200" y="214200"/>
            <a:ext cx="8929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ая устойчивость ко всем аминогликозидным антибиотикам (перекрестная резистентность) характерна для облигатных анаэробов и обусловлена отсутствием системы электронного транспорта, что не позволяет антибиотику проникнуть внутрь бактериальной клетки. Приобретенная резистентность к аминогликозидам, обусловленная снижением электронного транспорта, часто наблюдается у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aeruginos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же – у представителей семейства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bacteriacea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отношении таких штаммов аминогликозиды могут быть эффективны только при использовании высоких доз. Кроме того, было показано, что низкие уровни резистентности к аминогликозидам у микроорганизмов могут быть обусловлены мутациями, изменяющими липополисахаридный состав клеточной стенки бактерий. Такой тип резистентности, по-видимому, обусловлен уменьшением числа потенциальных участков связывания липополисахаридов с положительно заряженными аминогруппами в составе аминогликозидов. К резистентности могут также приводить мутации генов, кодирующих пориновые белки внешней мембраны грамотрицательных бактерий. Однако этот механизм встречается значительно реже, чем изменения липополисахаридов или системы электронного транспор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0" y="571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птомици́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исторически второй антибиотик (после пенициллина), он же первый из группы аминогликозидов, а также первый, оказавшийся эффективным против туберкулеза и чумы. Был открыт американским  микробиологом Зельманом Ваксманом. Образуется в процессе жизнедеятельности лучистых грибов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globisporus streptomycin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ли других родственных микро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ептомициноустойчивых микроорганизмов рибосомы в результате модификации белков 30S субъединицы теряют способность связывать стрептомицин.. Имеются также сообщения о резистентности к гентамицину, вызванной структурными изменениями белка 50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мосомальная устойчивость к стрептомицину обусловлена мутациями гена rpsL, кодирующего белок 1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357120" y="428760"/>
            <a:ext cx="835812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лорамфеникол (левомицет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амфеникол впервые выделен в 1947 из культуральной жидкости актиномицета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venezuela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зже получен синтетическим путём. Применяют для лечения брюшного тифа, дизентерии, менингококковой инфекции и других заболеваний. Обладает высокой активностью. Активен против многих грамположительных и грамотрицательных бактерий, риккетсий, спирохет, хламид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2" descr="Файл:Chloramphenicol-2D-skeletal.png"/>
          <p:cNvPicPr/>
          <p:nvPr/>
        </p:nvPicPr>
        <p:blipFill>
          <a:blip r:embed="rId1"/>
          <a:stretch/>
        </p:blipFill>
        <p:spPr>
          <a:xfrm>
            <a:off x="0" y="3914640"/>
            <a:ext cx="48481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428760" y="785880"/>
            <a:ext cx="82152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резистентности включа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оксикация или инактивац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 проникновения или усиление выведения (эффлюк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, устранение или сокращение стадии, чувствительной для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мишени действия антибиот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родукция соединения, на которое действует антибио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стадии метабол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14200" y="571680"/>
            <a:ext cx="8929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встречающимся механизмом устойчивости к хлорамфениколу является инактивация антибиотика посредством его модификации (ацетилирования) с помощью ацетилтрансфераз (САТ), кодируемых генами плазмид и транспозонов. Фермент обеспечивает преобразование хлорамфеникола сначала в 3-ацетоксихлорамфеникола, а затем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3-диацетоксихлорамфеникол, который является не активным, Существует несколько типов САТ. Достаточно распространенным является тип I, имеющий транспозонную природу (локализован в транспозоне Tn9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85840" y="0"/>
            <a:ext cx="864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10960" y="216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Макролиды, кетолиды, линкозамиды и стрептограм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(группа МКЛС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ритромицин"/>
          <p:cNvPicPr/>
          <p:nvPr/>
        </p:nvPicPr>
        <p:blipFill>
          <a:blip r:embed="rId1"/>
          <a:stretch/>
        </p:blipFill>
        <p:spPr>
          <a:xfrm>
            <a:off x="0" y="785880"/>
            <a:ext cx="5510160" cy="42861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85840" y="57862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Химическая структура эритромиц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715000" y="785880"/>
            <a:ext cx="3429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размеров макролактонного кольца макролиды подразделяют на 14-ти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тромици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леандомицин, кларитромицин, рокситромицин), 15-ти (азитромицин) и 16-членные (джозамицин, мидекамицин и спирамици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действия антибиотиков указанной группы основан на ингибировании биосинтеза белка в результате связывания с 50S cубъединицей рибосо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571680" y="428760"/>
            <a:ext cx="7858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я актибиотики группы МКЛС активны в отношении широкого спектра бактерий, однако на практике их обычно применяют против ряда грамположительных микроорганизм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типичных патогенов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lamydi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plasma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, а из грамотрицательных бактерий только в случае инфицирова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icobacter pylor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олгое время считалось, что низкая активность в отношении грамотрицательных бактерий связана с низкой проницаемостью этих антибиотиков через пориновые каналы, однако, очевидно, не менее важен и процесс их активного выведения из орган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357120" y="357120"/>
            <a:ext cx="8572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ы группы МКЛС связываются с доменами II и V 23S рРНК. Основным участком связывания антибиотиков является домен V, причем основные точки связывания – нуклеотиды в положениях А2058, А2059 и G2505, хотя недавно обнаружено связывание и по некоторым другим позициям. В пределах домена II антибиотик взаимодействует с нуклеотидом в положении А752, что наиболее характерно для кетолидов, и этим объясняют их более высокую антибактериальную активность, а также отсутствие перекрестной устойчивости с макролидами. Связь с 23S рРНК препятствует сборке 50S субъединицы и процессу элонг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357120" y="285840"/>
            <a:ext cx="85010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препаратам группы МКЛС может быть связана с модификацией мишени действия, их активным выведением и быстрой инактивацией. Однако наиболее распространенным и практически важным механизмом устойчивости явля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ция мишени действ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дификация 23S рРНК осуществляется либо в результате метилирования аденина в положении 2058, либо в результате ряда нуклеотидных замен. Из двух приведенных механизмов наиболее распространенным и клинически важным является метилирование. Метилирование (моно- или ди-) осуществляется семейством N-метилтрансфераз, соответствующие гены которых получили названи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ribosome methyl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285840" y="428760"/>
            <a:ext cx="84294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у различных бактерий описано около 40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ов, локализованных обычно на плазмидах. Известны два варианта экспрессии устойчивости, связанной с метилированием: конститутивный и индуцибельный. При конститутивном типе экспрессии синтез активной мРНК метилазы происходит независимо от наличия индукторов. Фенотипически это проявляется в перекрестной устойчивости к макролидам, линкозамидам и стрептограминам В; кетолиды при этом сохраняют активность. При индуцибельном типе экспрессии в отсутствие индуктора синтез мРНК метилазы не происходит до конца за счет образования шпильки. Синтез полноразмерной мРНК становится возможным в результате перестройки конформации мРНК после связывания с индуктором аттенуатора экспрессии. Способность отдельных антибиотиков индуцировать перестройку мРНК определяется в основном структурой аттенуатора, различающейся у отдельных видов 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4192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2"/>
          <p:cNvSpPr/>
          <p:nvPr/>
        </p:nvSpPr>
        <p:spPr>
          <a:xfrm>
            <a:off x="285840" y="4714920"/>
            <a:ext cx="8643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тернативная конформация мРНК для индуцибельного ген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m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азмиды рЕ194. Показана вторичная структура мРНК в отсутствии (А) и присутствии (В) эритромицина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B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ибосом связывающий сайт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лидерный пептид,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крытая рамка считывания, 1, 2, 3 и 4 – инвертированные повторы. Зеленая и красные линии обозначают кодирующую последова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357120"/>
            <a:ext cx="8858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ктики важно, что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14- и 15-членные макролиды. Таким образом, штаммы с индуцибельным характером экспрессии метилаз, устойчивые к указанным антибиотикам, сохраняют чувствительность к 16-членным макролидам и стрептограминам. 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p. индуцирующей активностью обладают все антибиотики группы МКЛС, однако у 16-членных макролидов, линкозамидов и стрептограминов индуцирующая активность незначительна. На практике это приводит к значительному разнообразию фенотип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428760" y="500040"/>
            <a:ext cx="8286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ым, относительно недавно расшифрованным механизмом модификации мишени действия антибиотиков группы МКЛС, являются мутации в генах рРНК и рибосомальных белков, приводящие к конформационным изменениям пептидилтрансферазного центра и, соответственно, к снижению аффинности препаратов. Детальная информация об известных мутациях в генах рРНК доступна на веб-сайте http://ribosome.fandm.edu. Мутации в генах рРНК являются основным механизмом устойчивости к макролидам 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pyl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428760" y="500040"/>
            <a:ext cx="814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ки группы тетрациклина представлены в клинической практике как природными лекарственными средствами – тетрациклин, окситетрациклин и другие, так и полусинтетическими – доксициклин (вибрамицин), миноциклин, метациклина гидрохлорид (рондомицин) и др. В химической структуре всех перечисленных препаратов содержится четыре циклические системы, что и определило их общее название - тетрациклины (от греч. tetra - четыре, kyklos - круг, цик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Tetracyclines"/>
          <p:cNvPicPr/>
          <p:nvPr/>
        </p:nvPicPr>
        <p:blipFill>
          <a:blip r:embed="rId1"/>
          <a:stretch/>
        </p:blipFill>
        <p:spPr>
          <a:xfrm>
            <a:off x="2143080" y="4349880"/>
            <a:ext cx="3643200" cy="18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28760" y="50004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ойчивость к антибиотикам, ингибирующим синтез клеточной стен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0" y="571680"/>
            <a:ext cx="89298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представитель этой группы лекарств - хлортетрациклин - был получен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aureofacien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948 г. Два года спустя из грибов вид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myces rimosu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 выделен препарат окситетрацик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механизма действия лекарственных средств этой группы лежит их способность обратимо связываться со специфичными для них рецепторами, расположенными на бактериальных рибосомах, в результате они препятствуют включению аминокислот в строящуюся пептидную цепь и тем самым нарушают синтез белка в микробной клетке, что в конечном итоге препятствует их делению. Тетрациклины проникают в микробную клетку в основном путем пассивной диффузии, но в некоторых случаях и путем активного тран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часто гены резистентности к тетрациклину, расположенные на плазмидах, обеспечивают активное выведение тетрациклина из микроб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539640" y="692280"/>
            <a:ext cx="799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социированные с мембраной транспортеры относятся к одному из 5 семей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–семейство (или АТФ-связывающая касс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jor facilitator super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емейство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multidrug resistance famil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малое семейство, обеспечивающее устойчивости в различным лекарственным препарат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ultidrug and toxin extrusion fami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ств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esistance-nodulation-divi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571680"/>
            <a:ext cx="82864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ы всех вышеперечисленных семейств, кроме семейства ABC (члены которого гидролизуют АТФ для удаления антибиотика и других соединений из клетки) действуют как вторичные переносчики, т.е. выводят антибиотик из клетки и закачивают в клетку ионы водорода (H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ли ионы натрия (Na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антипорт-системы). Системы эффлюкс обеспечивают выведения не только антибиотиков, но играют ключевую роль в патогенности бактерий, образовании биопленок, а также обеспечивают устойчивость к стрессовым факторам среды (например, от токсичного действия активных форм кислорода, в частности, перекиси водород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rcRect l="12684" t="1602" r="0" b="0"/>
          <a:stretch/>
        </p:blipFill>
        <p:spPr>
          <a:xfrm rot="5400000">
            <a:off x="2111400" y="353880"/>
            <a:ext cx="4600440" cy="5749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0" y="57340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 грамотрицательных бактерий эффлюкс система включает в себ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Транспортерную систему, локализованную во внутренней  мемб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Белок –посредник, пронизывающий приплазматическое простран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Белок наружной мембраны, образующий ка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rcRect l="3905" t="-2586" r="7033" b="0"/>
          <a:stretch/>
        </p:blipFill>
        <p:spPr>
          <a:xfrm>
            <a:off x="357120" y="428760"/>
            <a:ext cx="8143920" cy="3071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2920" y="4149720"/>
            <a:ext cx="87868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грамположительных бактерий в виду присутствия только одной цитоплазматической мембраны системы эффлюкс не содержат белковых посредников, пронизывающих периплазматическое простран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Q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флюорокиноло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хлорамфенико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тетрациклин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макролиды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β-лактамы, Биоциды-антисептики,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лирезистен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1108080"/>
          <a:ext cx="9001080" cy="4749840"/>
        </p:xfrm>
        <a:graphic>
          <a:graphicData uri="http://schemas.openxmlformats.org/drawingml/2006/table">
            <a:tbl>
              <a:tblPr/>
              <a:tblGrid>
                <a:gridCol w="3025800"/>
                <a:gridCol w="2332080"/>
                <a:gridCol w="3643200"/>
              </a:tblGrid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би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ство эффлю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итроми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трацик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роли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656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амфеник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рицательные и грамположительные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292680" y="360"/>
            <a:ext cx="577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люкс-системы плазмид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285840" y="301680"/>
            <a:ext cx="8286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точный метаб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 и триметоприм блокируют различные этапы одного метаболического пути бактерий – синтез фолиевой кислоты, благодаря чему между ними отмечается выраженный синерг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аниламиды, являющиеся структурным аналогом парааминобензойной кислоты, являются конкурентными ингибиторами дигидроптеоратсинтета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топрим подавляет активность дигидрофолатредуктазы. Устойчивость связана с формированием метаболического шунта. Устойчивость к триметоприму или сульфаниламидам может являться результатом приобретения генов дигидрофолатредуктазы или дигидроптеоратсинтетазы, нечувствительной (или малочувствительной) к действию антибиотика.  Следует отметить, что устойчивость к триметоприму часто локализуется в составе транспозонов (Tn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51"/>
          <p:cNvSpPr/>
          <p:nvPr/>
        </p:nvSpPr>
        <p:spPr>
          <a:xfrm>
            <a:off x="0" y="794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0"/>
          <a:ext cx="8785080" cy="6797520"/>
        </p:xfrm>
        <a:graphic>
          <a:graphicData uri="http://schemas.openxmlformats.org/drawingml/2006/table">
            <a:tbl>
              <a:tblPr/>
              <a:tblGrid>
                <a:gridCol w="2736720"/>
                <a:gridCol w="1224000"/>
                <a:gridCol w="482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био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ханизм устойчив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Β-лактамные антибио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енициллин, цефалоспорин, карбепене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клеточной стен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антибиотика с помощью β-лактамаз (гидролиз лактамового коль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Модификация пенициллинсвязывающих бел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Уменьшение проницаемости мембраны (утрата белков поринов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mpF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икпротеиновые антибиоти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анкомицин, тейкопланин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мишени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миногликозиды (стрептомицин, неомицин, канамицин и мономиц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гибируют синтез белка за счет изменений в рибосома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Модификация антибиотика путем фосфорилирования, ацетилирования, адени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Изменения мишени (rpsL) 3. Блокирование энергитических систем, приводящих к остановке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орамфеникол (левомицети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Инактивация хлорамфеникол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Устойчивость рибосом </a:t>
                      </a: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цик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Активное выведение (эффлюкс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2. Изменения мишени 3. Уменьшение проницаемости мембраны (утрата белка порина Omp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а МКЛС макролиды (эритромицин), кетолиды, линкозамиды и стрептограм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рРНК –метилазы изменяют мишень действия 23SрРНК2. 2. Активное выведение (эффлюкс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льфониламид. Ингибирует дигидроптеоратсинте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126000" bIns="12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нтез фолиевой кисло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парааминобензойной кислоты   3. Дупликация гена дигидроптеоратсинтет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имеоприм.  Ингибирует дигидрофолатредукта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. Синтез нечувствительного аналог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. Сверхпродукция дигидрофолатредукт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7977" t="1824" r="11331" b="11939"/>
          <a:stretch/>
        </p:blipFill>
        <p:spPr>
          <a:xfrm>
            <a:off x="285840" y="214200"/>
            <a:ext cx="4643280" cy="33879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0" y="3621240"/>
            <a:ext cx="91440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да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P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размером 51 409 п.н. обеспечивает устойчивость бактерий-хозяев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striatum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in M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16 антибиотикам шести классов, имеющих разное происхождение. В частности, устойчивость к эритромицину из хромосомы патогенных для человека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ynebacterium diphtheri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тетрациклину и оксициллину из хромосомы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obacterium tuberculos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устойчивость к хлорамфениколу из хромосомы почвенных бактерий; устойчивость к аминогликозидным антибиотикам (канамицин, неомицин, ливидомицин, парамомицин и рибостамицин из хромосомы патогенных для рыб бактерий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ella piscicida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остав плазмиды входят пять транспозонов и четыре IS-элемента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9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3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0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), локализованных в восьми разных сайтах. Плазмида состоит из восьми фрагментов ДНК, имеющих разное происхожд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506840" y="1571760"/>
            <a:ext cx="4565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енетическая карта плазмиды рТР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озяин - Corynebacterium striatum strain M82B (патоген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6-2"/>
          <p:cNvPicPr/>
          <p:nvPr/>
        </p:nvPicPr>
        <p:blipFill>
          <a:blip r:embed="rId1"/>
          <a:stretch/>
        </p:blipFill>
        <p:spPr>
          <a:xfrm>
            <a:off x="0" y="0"/>
            <a:ext cx="9158400" cy="3429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928800" y="400068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ы имеют инвертированные концевые повторы. Внедрение транспозонов вызывает образование в сайте-мишени прямых повторов фланкирующей ДН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85840" y="428760"/>
            <a:ext cx="8215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биотики группы пеницил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яются первыми антибиотиками, внедренными в клиническую практику. Впервые пенициллин был обнаружен в 1929 г. А. Флемингом, но в чистом виде пенициллин был получен лишь в 1940 г. английским патологом Х.У. Флори (H.W. Florey) и английским биохимиком Э.Б.Чейном (E.B.Che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2 г. российский микробиолог 3. В. Ермольева самостоятельно получила отечественный пеницилл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6" descr=""/>
          <p:cNvPicPr/>
          <p:nvPr/>
        </p:nvPicPr>
        <p:blipFill>
          <a:blip r:embed="rId1"/>
          <a:srcRect l="0" t="1897" r="0" b="0"/>
          <a:stretch/>
        </p:blipFill>
        <p:spPr>
          <a:xfrm>
            <a:off x="0" y="0"/>
            <a:ext cx="8862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7" descr="http://www.wormbook.org/chapters/www_transposons/transposonsfig2.jpg"/>
          <p:cNvPicPr/>
          <p:nvPr/>
        </p:nvPicPr>
        <p:blipFill>
          <a:blip r:embed="rId1"/>
          <a:stretch/>
        </p:blipFill>
        <p:spPr>
          <a:xfrm>
            <a:off x="0" y="0"/>
            <a:ext cx="520056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2"/>
          <p:cNvSpPr/>
          <p:nvPr/>
        </p:nvSpPr>
        <p:spPr>
          <a:xfrm>
            <a:off x="357120" y="6072120"/>
            <a:ext cx="80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перемещения транспозонов с образованием прямых дуплицированных пов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8" descr="Презентация. Микробиология. Генотип"/>
          <p:cNvPicPr/>
          <p:nvPr/>
        </p:nvPicPr>
        <p:blipFill>
          <a:blip r:embed="rId1"/>
          <a:srcRect l="0" t="24419" r="-6385" b="0"/>
          <a:stretch/>
        </p:blipFill>
        <p:spPr>
          <a:xfrm>
            <a:off x="0" y="0"/>
            <a:ext cx="7500960" cy="3994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37180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позон Tn10. Инвертированные концевые повторы имеют длину, равную 22 парам оснований; из них, вероятно, только последние 13 важны для реакции транспозиции. Мутации в этой области предотвращают транспозицию и являются цис-активными. Тn10-необычный элемент, имеющий специфическую последовательность в сайте-мишени. Прямые фланкирующие повторы из 9 пар оснований, которые образуются при транспозиции, обнаруживают обобщенную последовательность из 6 нуклеотидных пар, симметрично расположенную в сайте-мишени. Так, повторы с каждой стороны Тn10 часто представлены последователь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GCTNAGC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CGANTC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9" descr="http://groh.ru/gro/lewin/36-5.gif"/>
          <p:cNvPicPr/>
          <p:nvPr/>
        </p:nvPicPr>
        <p:blipFill>
          <a:blip r:embed="rId1"/>
          <a:srcRect l="21260" t="30426" r="-1791" b="0"/>
          <a:stretch/>
        </p:blipFill>
        <p:spPr>
          <a:xfrm>
            <a:off x="0" y="0"/>
            <a:ext cx="8766000" cy="3786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14200" y="442908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а промотора в противоположной ориентации расположены вблизи наружной границы IS1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м модулем Тn10 служит элемент IS10R, который определяет синтез белка транспозиции. Модуль IS10L функционально дефектен и обеспечивает только 1-10% транспозиционной активности IS10R. Накопление мутаций в IS10L по сравнению с IS10R и обусловливает их примерно 2,5%-ную диверген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10" descr=""/>
          <p:cNvPicPr/>
          <p:nvPr/>
        </p:nvPicPr>
        <p:blipFill>
          <a:blip r:embed="rId1"/>
          <a:stretch/>
        </p:blipFill>
        <p:spPr>
          <a:xfrm>
            <a:off x="0" y="0"/>
            <a:ext cx="7929720" cy="4708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2"/>
          <p:cNvSpPr/>
          <p:nvPr/>
        </p:nvSpPr>
        <p:spPr>
          <a:xfrm>
            <a:off x="1071720" y="50720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организации модулей IS50L и IS50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12" descr="МОБИЛЬНЫЕ ГЕНЕТИЧЕСКИЕ ЭЛЕМЕНТЫ. ТРАНСПОЗИЦИИ В геномах плазмид, бактерий"/>
          <p:cNvPicPr/>
          <p:nvPr/>
        </p:nvPicPr>
        <p:blipFill>
          <a:blip r:embed="rId1"/>
          <a:srcRect l="17594" t="8640" r="19445" b="67906"/>
          <a:stretch/>
        </p:blipFill>
        <p:spPr>
          <a:xfrm>
            <a:off x="0" y="239760"/>
            <a:ext cx="8572680" cy="24033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14280" y="3214800"/>
            <a:ext cx="32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Tn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0" descr="МОБИЛЬНЫЕ ГЕНЕТИЧЕСКИЕ ЭЛЕМЕНТЫ. ТРАНСПОЗИЦИИВ геномах плазмид, бактерий и"/>
          <p:cNvPicPr/>
          <p:nvPr/>
        </p:nvPicPr>
        <p:blipFill>
          <a:blip r:embed="rId1"/>
          <a:srcRect l="10086" t="11205" r="52941" b="0"/>
          <a:stretch/>
        </p:blipFill>
        <p:spPr>
          <a:xfrm>
            <a:off x="857160" y="714240"/>
            <a:ext cx="3143520" cy="5661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7" descr="МОБИЛЬНЫЕ ГЕНЕТИЧЕСКИЕ ЭЛЕМЕНТЫ. ТРАНСПОЗИЦИИ В геномах плазмид, бактерий"/>
          <p:cNvPicPr/>
          <p:nvPr/>
        </p:nvPicPr>
        <p:blipFill>
          <a:blip r:embed="rId2"/>
          <a:srcRect l="28705" t="46913" r="25929" b="0"/>
          <a:stretch/>
        </p:blipFill>
        <p:spPr>
          <a:xfrm>
            <a:off x="4429080" y="928800"/>
            <a:ext cx="3500640" cy="30718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714240" y="6500880"/>
            <a:ext cx="70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репликативной транспоз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6" descr="Транспозиция и сайт - специфическая рекомбинация - online presentation"/>
          <p:cNvPicPr/>
          <p:nvPr/>
        </p:nvPicPr>
        <p:blipFill>
          <a:blip r:embed="rId1"/>
          <a:stretch/>
        </p:blipFill>
        <p:spPr>
          <a:xfrm>
            <a:off x="0" y="0"/>
            <a:ext cx="81439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23" descr="mb4_003"/>
          <p:cNvPicPr/>
          <p:nvPr/>
        </p:nvPicPr>
        <p:blipFill>
          <a:blip r:embed="rId1"/>
          <a:srcRect l="0" t="0" r="-267" b="8280"/>
          <a:stretch/>
        </p:blipFill>
        <p:spPr>
          <a:xfrm>
            <a:off x="0" y="0"/>
            <a:ext cx="7286760" cy="4606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857160" y="5000760"/>
            <a:ext cx="62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а интегр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rcRect l="4148" t="0" r="17804" b="0"/>
          <a:stretch/>
        </p:blipFill>
        <p:spPr>
          <a:xfrm>
            <a:off x="0" y="0"/>
            <a:ext cx="6715080" cy="5327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79280" y="579276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 2. Структура ядер трех основных типов β-лактамных антибиотиков и трех наиболее широко используемых на практике ингибиторов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643800" y="11160"/>
            <a:ext cx="2286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нициллины относятся к так называемой групп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(бета)-лактамных антибиоти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которую помимо собственно пенициллинов входят цефалоспорины, карбапенемы и монобактамы. Такое название эти антибиотики получили в связи с тем, что все они имеют в составе своей молекул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β-лактамное кольц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0" y="285840"/>
            <a:ext cx="85726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ыделяют более 400 β-лактамаз, отличающихся друг от друга по способности гидролизовать отдельные группы β-лактамного кольца антибиотиков, например, только пенициллинов или только цефалоспоринов, или тех и других в равной степ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рамотрицательных микроорганизмов β-лактамазы локализованы в периплазматическом пространстве, а у грамположительных микроорганизмов β-лактамазы свободно диффундируют в окружающую бактерии ср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ы (и другие β-лактамные антибиотики), бета-лактамное кольцо которых разрушается β-лактамазами (пенициллиназами) бактерий, относятся к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неустойчивым антибиотикам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клинической практике широко используют пенициллины (и другие β-лактамные антибиотики), содержащие в структуре β-лактамного кольца специальные радикалы (химические группы), защищающие антибиотики от расщепления β-лактамазами. Такие антибиотики называют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линазорезистент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ме того, в клиническую практику внедрены комбинированные препараты, включающие β-лактамный антибиотик и специальный ингибитор β-лактам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rcRect l="6276" t="0" r="10481" b="13247"/>
          <a:stretch/>
        </p:blipFill>
        <p:spPr>
          <a:xfrm>
            <a:off x="0" y="0"/>
            <a:ext cx="9156600" cy="46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42920" y="5786280"/>
            <a:ext cx="878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3. Классификация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лактамаз по молекулярным классам и функциональным груп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500040" y="500040"/>
            <a:ext cx="7929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летках прокариот существует большая группа белков и ферментов, называемая «пенициллин-связывающими белками» (ПСБ), которые участвуют в синтезе клеточной стенки. В эту группу входят ферменты самых различных классов, включая оксидоредуктазы и гидролазы. Основой бактерицидного действия β-лактамов является подавление роста клеточной стенки за счет ингибирования ПС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связывания пенициллинов с ПСБ, с одной стороны, подавляется синтез пептидогликана (ригидного слоя бактерий), а с другой - активизируются аутолитические ферменты, приводящие к лизису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03:45:16Z</dcterms:created>
  <dc:creator>Marina</dc:creator>
  <dc:description/>
  <dc:language>en-US</dc:language>
  <cp:lastModifiedBy>Марина</cp:lastModifiedBy>
  <dcterms:modified xsi:type="dcterms:W3CDTF">2022-12-04T07:17:40Z</dcterms:modified>
  <cp:revision>58</cp:revision>
  <dc:subject/>
  <dc:title>Слайд 1</dc:title>
</cp:coreProperties>
</file>