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5AC-E2EC-48FB-9CE2-9A83519A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6AE-5317-456E-B768-78CFEB6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007-8617-45E5-A99D-EDE1EBBC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F39-8281-4A16-A528-EDD96303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8397-BC92-4A6F-82B0-EBA4AD80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256E-EC66-4E28-A090-2701452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D42-EF6B-4D31-AF9D-BBFE0F84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0401-FD1F-4C20-9043-30C3764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6C97-6D3B-44C0-B30D-8F57D5A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714E-F314-4191-A241-1E087C0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74D-5728-49C7-A163-3349992B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117-B1F8-42D8-AD29-6EA7F9C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0AB-BCC3-4CCE-93FC-EC2E3AB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9F1-75AA-478D-81A1-2AF5A03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6FF-FB87-421D-A717-77B2AD1D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E91-9D71-4DC2-82F6-E619044F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FE3C-A160-4031-B579-A594DFC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D0FA-8B50-4469-8CA3-C872D7E2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C699-B6CF-40D0-81A8-AEC6508B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E743-53D0-4DEE-B3CE-68BEA50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9809-A960-4F26-BB90-FB11F5A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8117-3A32-498E-BD1D-0541A593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A0B-79FC-4F7E-8DED-95670B9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A555-2428-40F6-83C2-50BD7EBA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8F4F-E3DE-41C1-9918-1CF9976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E9CE-1B17-4EEB-9F39-6EC666A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11AE-C0B2-4836-93E4-11D21F7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622A-9849-4CA4-8859-30988AA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FE60-A8C2-46CC-B579-CCBCCDDB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7285-ED1D-4ADB-BC4C-99127212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E4C-63F3-4E35-9729-10D3A0BC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0C9-B1C0-4C26-8BAF-94C13D65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E46-55EA-4674-B2E0-C2E6618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4F9-5A28-4C3C-94F4-F85DBA5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838-BD7D-4918-80F8-933537C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E10-18CC-4E1E-9311-E10E959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6F7AD8-F7A5-4EFA-9534-018336A1A8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F3C73B-A371-467E-B41F-FFF19B9E51A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49ECA9-1D03-4B1A-8E90-E843D8ADDC7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251360"/>
            <a:ext cx="777204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евое государственное бюджетное профессиона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«Ачинский торгово-экономический техникум»</a:t>
            </a:r>
            <a:br>
              <a:rPr sz="1400"/>
            </a:b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061000"/>
            <a:ext cx="6400440" cy="35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знес-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сервис «Поб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итина Виктория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а 2МП-9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начальные инвести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Содержимое 3"/>
          <p:cNvGraphicFramePr/>
          <p:nvPr/>
        </p:nvGraphicFramePr>
        <p:xfrm>
          <a:off x="467640" y="1556640"/>
          <a:ext cx="822924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рная стоимость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спош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вента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8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925000"/>
            <a:ext cx="8229240" cy="32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61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- «Побед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бизнес-плане автосервиса рассмотрена идея открытия автосервисного центра, который будет предлагать широкий ассортимент услуг, от ремонта до покраски автотранспорт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стить бизнес планируется в селе Новобирилюссы, Бирилюсского района, Красноярского края в помещении соответствующем всем нормам и требован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вой аудиторией  планируемого предприятия будет являться – население имеющие в пользовании автомобили ,проживающие на территории Бирилюсского рай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 приобретение оборудования для автосервиса сумма которого составляет 185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проекта планируется осуществить как за счет собствен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начальные инвестиции в бизнес составляют 213 8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компан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анном бизнес-плане рассмотрен проект открытия одиночного СТО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тоимость оказания услуг-3500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деятельности предприятия является извлечение дохода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сс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высокого уровня технического обслуживания автомобилей и поддержание качества оказанных услу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уется два арендованных совмещенных отапливаемых гаражных бокса, оборудованных в соответствии с требованиями для автосервисов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, что предприятие будет оказывать следующий список услуг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ическое обслуживание автомобиля (замена масла, свечей, фильтров и прочие мелкие работы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подвеск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тормозной сист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охлажд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номонтажные работ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кондициониров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рулевого управл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зовные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3132000" y="1700640"/>
            <a:ext cx="2808000" cy="935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(бухгалтер , касс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"/>
          <p:cNvCxnSpPr/>
          <p:nvPr/>
        </p:nvCxnSpPr>
        <p:spPr>
          <a:xfrm flipH="1">
            <a:off x="2339640" y="2636640"/>
            <a:ext cx="792360" cy="576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5" name="Прямоугольник 7"/>
          <p:cNvSpPr/>
          <p:nvPr/>
        </p:nvSpPr>
        <p:spPr>
          <a:xfrm>
            <a:off x="1043640" y="3285000"/>
            <a:ext cx="1944000" cy="719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еханик-диаг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9"/>
          <p:cNvCxnSpPr/>
          <p:nvPr/>
        </p:nvCxnSpPr>
        <p:spPr>
          <a:xfrm>
            <a:off x="5940000" y="2636640"/>
            <a:ext cx="936360" cy="648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7" name="Прямоугольник 11"/>
          <p:cNvSpPr/>
          <p:nvPr/>
        </p:nvSpPr>
        <p:spPr>
          <a:xfrm>
            <a:off x="6516360" y="3357000"/>
            <a:ext cx="1800000" cy="647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5"/>
          <p:cNvCxnSpPr/>
          <p:nvPr/>
        </p:nvCxnSpPr>
        <p:spPr>
          <a:xfrm>
            <a:off x="4644000" y="2636640"/>
            <a:ext cx="360" cy="864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9" name="Прямоугольник 16"/>
          <p:cNvSpPr/>
          <p:nvPr/>
        </p:nvSpPr>
        <p:spPr>
          <a:xfrm>
            <a:off x="3852000" y="3645000"/>
            <a:ext cx="1800000" cy="863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ех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640" y="4221000"/>
            <a:ext cx="2443680" cy="1832760"/>
          </a:xfrm>
          <a:prstGeom prst="rect">
            <a:avLst/>
          </a:prstGeom>
          <a:ln w="9525">
            <a:noFill/>
          </a:ln>
        </p:spPr>
      </p:pic>
      <p:sp>
        <p:nvSpPr>
          <p:cNvPr id="141" name="Прямоугольник 19"/>
          <p:cNvSpPr/>
          <p:nvPr/>
        </p:nvSpPr>
        <p:spPr>
          <a:xfrm>
            <a:off x="611640" y="5373360"/>
            <a:ext cx="143640" cy="64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Picture 4" descr="https://papik.pro/uploads/posts/2022-01/1641281011_10-papik-pro-p-vektornii-risunok-mekhanik-10.jpg"/>
          <p:cNvPicPr/>
          <p:nvPr/>
        </p:nvPicPr>
        <p:blipFill>
          <a:blip r:embed="rId2"/>
          <a:stretch/>
        </p:blipFill>
        <p:spPr>
          <a:xfrm>
            <a:off x="3852000" y="4653000"/>
            <a:ext cx="1949040" cy="195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thumbs.dreamstime.com/b/%D0%BC%D0%B0%D1%81%D1%82%D0%B5%D1%80-%D0%BD%D0%B0-%D0%BA%D0%B0%D1%80%D1%82%D0%B8%D0%BD%D0%B5-53999862.jpg"/>
          <p:cNvPicPr/>
          <p:nvPr/>
        </p:nvPicPr>
        <p:blipFill>
          <a:blip r:embed="rId3"/>
          <a:stretch/>
        </p:blipFill>
        <p:spPr>
          <a:xfrm>
            <a:off x="6372360" y="414900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енн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Содержимое 3"/>
          <p:cNvGraphicFramePr/>
          <p:nvPr/>
        </p:nvGraphicFramePr>
        <p:xfrm>
          <a:off x="395640" y="1845000"/>
          <a:ext cx="8229240" cy="446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ъемники автомоби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иагностический ап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мк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с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ппарат сва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ключ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отвер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урупове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755640" y="1268640"/>
            <a:ext cx="76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чень необходимого оборудования и его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Таблица 3"/>
          <p:cNvGraphicFramePr/>
          <p:nvPr/>
        </p:nvGraphicFramePr>
        <p:xfrm>
          <a:off x="539640" y="2205000"/>
          <a:ext cx="8316000" cy="4176000"/>
        </p:xfrm>
        <a:graphic>
          <a:graphicData uri="http://schemas.openxmlformats.org/drawingml/2006/table">
            <a:tbl>
              <a:tblPr/>
              <a:tblGrid>
                <a:gridCol w="4625640"/>
                <a:gridCol w="3690360"/>
              </a:tblGrid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19378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2222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отип автосерви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5" descr="7H_seXykEX8.jpg"/>
          <p:cNvPicPr/>
          <p:nvPr/>
        </p:nvPicPr>
        <p:blipFill>
          <a:blip r:embed="rId1"/>
          <a:stretch/>
        </p:blipFill>
        <p:spPr>
          <a:xfrm>
            <a:off x="2267640" y="1412640"/>
            <a:ext cx="4038120" cy="403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Содержимое 7"/>
          <p:cNvGraphicFramePr/>
          <p:nvPr/>
        </p:nvGraphicFramePr>
        <p:xfrm>
          <a:off x="11916720" y="3645000"/>
          <a:ext cx="4643640" cy="5532840"/>
        </p:xfrm>
        <a:graphic>
          <a:graphicData uri="http://schemas.openxmlformats.org/drawingml/2006/table">
            <a:tbl>
              <a:tblPr/>
              <a:tblGrid>
                <a:gridCol w="2322000"/>
                <a:gridCol w="2322000"/>
              </a:tblGrid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0700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6740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нанс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оплату труда составляют- 90000 рублей в месяц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 за год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Таблица 4"/>
          <p:cNvGraphicFramePr/>
          <p:nvPr/>
        </p:nvGraphicFramePr>
        <p:xfrm>
          <a:off x="9468720" y="0"/>
          <a:ext cx="2915640" cy="965520"/>
        </p:xfrm>
        <a:graphic>
          <a:graphicData uri="http://schemas.openxmlformats.org/drawingml/2006/table">
            <a:tbl>
              <a:tblPr/>
              <a:tblGrid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</a:tblGrid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Таблица 5"/>
          <p:cNvGraphicFramePr/>
          <p:nvPr/>
        </p:nvGraphicFramePr>
        <p:xfrm>
          <a:off x="1475640" y="3357000"/>
          <a:ext cx="6095520" cy="296604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за год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ру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3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быль до налогооб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8 78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ог на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 0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истая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7 7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  <Words>421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4T09:15:05Z</dcterms:created>
  <dc:creator>Виктория Никитина</dc:creator>
  <dc:description/>
  <dc:language>en-US</dc:language>
  <cp:lastModifiedBy>Виктория Никитина</cp:lastModifiedBy>
  <dcterms:modified xsi:type="dcterms:W3CDTF">2022-12-15T18:58:50Z</dcterms:modified>
  <cp:revision>25</cp:revision>
  <dc:subject/>
  <dc:title>Краевое государственное бюджетное профессиональное образовательное учреждение  «Ачинский торгово-экономический технику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