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D22-D2BB-493D-BA9F-04862541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1C6-DBD5-44CF-BA5C-7CF0839B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DF7-B000-4206-B1EE-44D174CB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A730-FDE1-4283-B614-65372A49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78B8-B754-4A87-B0AB-6077FEFB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BCD3-D967-45D0-A1AC-252A590C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C09-E267-43B3-A26C-2C768228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214F-8399-4FAF-8A97-E9BF9239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292-24F8-4182-BD01-802DF2CB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C76F-237D-49E5-BDDB-D0DA696E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938-049C-4C04-BB59-E5EBF616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AD5-6D7D-4F46-9F6E-D82B60CC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C310-1061-4EE6-A1B8-A260E20C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8A3E-D8AD-4D9B-B488-69E963C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DAB2-4FF0-4C89-A5C9-EF50E1E9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DBC6-F414-4952-9228-6B05F7E7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F185-CF2B-4015-BB13-B5B199FE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331E-1CDA-4633-9078-E15B0337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E2AC3-A5F7-4000-9C9E-D0708D03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F60F-E761-46F2-A864-DF2E58DC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B4B3-8C0B-4E6A-8AEF-30FDBF10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7680-D5B0-499B-B917-AA899498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20F-51DF-4EB6-9887-27A84D6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EE033-CEEA-4BA8-B5D7-789A23CB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D552-9E63-4E86-B312-1A27E6BA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73F0-55A3-4F47-89D8-CF20551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4338-723F-496C-9A99-838FFA85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9844-20D2-403C-9C92-85AD1281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2FBC-6B7C-433C-A69C-C0C656F1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50F5-1162-4E58-8DBE-94AC9A2C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B05-5999-4971-9A8E-317D87E7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CF2-8357-40F9-9DC3-F1AD5C5C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48B-3BF9-433D-9A39-40767594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D1C-EF35-49EB-91A2-E5E92E66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B25-6104-4F9D-9410-13D5FEB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0D2-7FF9-4418-ADAD-6537163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FE1752-CB3D-41F1-98D5-1985F6B25E4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C2D417-A137-4434-B9C8-470DD20341F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524A9B-D51C-4F8A-8262-456371D1E9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251360"/>
            <a:ext cx="7772040" cy="33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раевое государственное бюджетное профессиональное 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«Ачинский торгово-экономический техникум»</a:t>
            </a:r>
            <a:br>
              <a:rPr sz="1400"/>
            </a:b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2061000"/>
            <a:ext cx="6400440" cy="357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знес-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сервис «Побе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икитина Виктория Валер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руппа 2МП-9-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воначальные инвести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" name="Содержимое 3"/>
          <p:cNvGraphicFramePr/>
          <p:nvPr/>
        </p:nvGraphicFramePr>
        <p:xfrm>
          <a:off x="467640" y="1556640"/>
          <a:ext cx="822924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рная стоимость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оспошли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нвентар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8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l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925000"/>
            <a:ext cx="8229240" cy="32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661240" cy="50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вание- «Победа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анном бизнес-плане автосервиса рассмотрена идея открытия автосервисного центра, который будет предлагать широкий ассортимент услуг, от ремонта до покраски автотранспорта. 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местить бизнес планируется в селе Новобирилюссы, Бирилюсского района, Красноярского края в помещении соответствующем всем нормам и требован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евой аудиторией  планируемого предприятия будет являться – население имеющие в пользовании автомобили ,проживающие на территории Бирилюсского район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 приобретение оборудования для автосервиса сумма которого составляет 185 0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проекта планируется осуществить как за счет собственных средст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начальные инвестиции в бизнес составляют 213 800 руб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компан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данном бизнес-плане рассмотрен проект открытия одиночного СТО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едняя стоимость оказания услуг-3500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ю деятельности предприятия является извлечение дохода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исс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высокого уровня технического обслуживания автомобилей и поддержание качества оказанных услу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уется два арендованных совмещенных отапливаемых гаражных бокса, оборудованных в соответствии с требованиями для автосервисов.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60640"/>
            <a:ext cx="8229240" cy="58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нируется, что предприятие будет оказывать следующий список услуг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хническое обслуживание автомобиля (замена масла, свечей, фильтров и прочие мелкие работы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подвески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тормозной систем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охлаждения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иномонтажные работы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системы кондиционирова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монт рулевого управл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зовные работы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3132000" y="1700640"/>
            <a:ext cx="2808000" cy="935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(бухгалтер , касс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Прямая со стрелкой 5"/>
          <p:cNvCxnSpPr/>
          <p:nvPr/>
        </p:nvCxnSpPr>
        <p:spPr>
          <a:xfrm flipH="1">
            <a:off x="2339640" y="2636640"/>
            <a:ext cx="792360" cy="576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5" name="Прямоугольник 7"/>
          <p:cNvSpPr/>
          <p:nvPr/>
        </p:nvSpPr>
        <p:spPr>
          <a:xfrm>
            <a:off x="1043640" y="3285000"/>
            <a:ext cx="1944000" cy="719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еханик-диаг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9"/>
          <p:cNvCxnSpPr/>
          <p:nvPr/>
        </p:nvCxnSpPr>
        <p:spPr>
          <a:xfrm>
            <a:off x="5940000" y="2636640"/>
            <a:ext cx="936360" cy="648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7" name="Прямоугольник 11"/>
          <p:cNvSpPr/>
          <p:nvPr/>
        </p:nvSpPr>
        <p:spPr>
          <a:xfrm>
            <a:off x="6516360" y="3357000"/>
            <a:ext cx="1800000" cy="647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Автома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Прямая со стрелкой 15"/>
          <p:cNvCxnSpPr/>
          <p:nvPr/>
        </p:nvCxnSpPr>
        <p:spPr>
          <a:xfrm>
            <a:off x="4644000" y="2636640"/>
            <a:ext cx="360" cy="864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39" name="Прямоугольник 16"/>
          <p:cNvSpPr/>
          <p:nvPr/>
        </p:nvSpPr>
        <p:spPr>
          <a:xfrm>
            <a:off x="3852000" y="3645000"/>
            <a:ext cx="1800000" cy="863640"/>
          </a:xfrm>
          <a:prstGeom prst="rect">
            <a:avLst/>
          </a:prstGeom>
          <a:solidFill>
            <a:srgbClr val="4bacc6"/>
          </a:solidFill>
          <a:ln>
            <a:solidFill>
              <a:srgbClr val="377f92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еха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11640" y="4221000"/>
            <a:ext cx="2443680" cy="1832760"/>
          </a:xfrm>
          <a:prstGeom prst="rect">
            <a:avLst/>
          </a:prstGeom>
          <a:ln w="9525">
            <a:noFill/>
          </a:ln>
        </p:spPr>
      </p:pic>
      <p:sp>
        <p:nvSpPr>
          <p:cNvPr id="141" name="Прямоугольник 19"/>
          <p:cNvSpPr/>
          <p:nvPr/>
        </p:nvSpPr>
        <p:spPr>
          <a:xfrm>
            <a:off x="611640" y="5373360"/>
            <a:ext cx="143640" cy="64764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Picture 4" descr="https://papik.pro/uploads/posts/2022-01/1641281011_10-papik-pro-p-vektornii-risunok-mekhanik-10.jpg"/>
          <p:cNvPicPr/>
          <p:nvPr/>
        </p:nvPicPr>
        <p:blipFill>
          <a:blip r:embed="rId2"/>
          <a:stretch/>
        </p:blipFill>
        <p:spPr>
          <a:xfrm>
            <a:off x="3852000" y="4653000"/>
            <a:ext cx="1949040" cy="195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s://thumbs.dreamstime.com/b/%D0%BC%D0%B0%D1%81%D1%82%D0%B5%D1%80-%D0%BD%D0%B0-%D0%BA%D0%B0%D1%80%D1%82%D0%B8%D0%BD%D0%B5-53999862.jpg"/>
          <p:cNvPicPr/>
          <p:nvPr/>
        </p:nvPicPr>
        <p:blipFill>
          <a:blip r:embed="rId3"/>
          <a:stretch/>
        </p:blipFill>
        <p:spPr>
          <a:xfrm>
            <a:off x="6372360" y="4149000"/>
            <a:ext cx="2030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изводственн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Содержимое 3"/>
          <p:cNvGraphicFramePr/>
          <p:nvPr/>
        </p:nvGraphicFramePr>
        <p:xfrm>
          <a:off x="395640" y="1845000"/>
          <a:ext cx="8229240" cy="446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ъемники автомоби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67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иагностический аппа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омк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с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ппарат свар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ключ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бор отвер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урупове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389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755640" y="1268640"/>
            <a:ext cx="763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чень необходимого оборудования и его 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етинг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OT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Таблица 3"/>
          <p:cNvGraphicFramePr/>
          <p:nvPr/>
        </p:nvGraphicFramePr>
        <p:xfrm>
          <a:off x="539640" y="2205000"/>
          <a:ext cx="8316000" cy="4176000"/>
        </p:xfrm>
        <a:graphic>
          <a:graphicData uri="http://schemas.openxmlformats.org/drawingml/2006/table">
            <a:tbl>
              <a:tblPr/>
              <a:tblGrid>
                <a:gridCol w="4625640"/>
                <a:gridCol w="3690360"/>
              </a:tblGrid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19378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07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2222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оготип автосервис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Содержимое 5" descr="7H_seXykEX8.jpg"/>
          <p:cNvPicPr/>
          <p:nvPr/>
        </p:nvPicPr>
        <p:blipFill>
          <a:blip r:embed="rId1"/>
          <a:stretch/>
        </p:blipFill>
        <p:spPr>
          <a:xfrm>
            <a:off x="2267640" y="1412640"/>
            <a:ext cx="4038120" cy="403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Содержимое 7"/>
          <p:cNvGraphicFramePr/>
          <p:nvPr/>
        </p:nvGraphicFramePr>
        <p:xfrm>
          <a:off x="11916720" y="3645000"/>
          <a:ext cx="4643640" cy="5532840"/>
        </p:xfrm>
        <a:graphic>
          <a:graphicData uri="http://schemas.openxmlformats.org/drawingml/2006/table">
            <a:tbl>
              <a:tblPr/>
              <a:tblGrid>
                <a:gridCol w="2322000"/>
                <a:gridCol w="2322000"/>
              </a:tblGrid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ильн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лабые сторо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307008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Широта оказываем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добство расположен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олее низкие цены, которые позволят привлечь дополнительных кли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яркой привлекательной вывески, видной с дорог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работанной клиентской баз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сутствие набранных квалифицированных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394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змо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400"/>
                        </a:spcAf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1674000"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новых технологий оказания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ичие налаженных партнерских отношений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стоянное увеличение цены на товар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явление конкур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15000"/>
                        </a:lnSpc>
                        <a:spcAft>
                          <a:spcPts val="400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льнейшее развитие кризи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нансовый пла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ы на оплату труда составляют- 90000 рублей в месяц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чет за год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Таблица 4"/>
          <p:cNvGraphicFramePr/>
          <p:nvPr/>
        </p:nvGraphicFramePr>
        <p:xfrm>
          <a:off x="9468720" y="0"/>
          <a:ext cx="2915640" cy="965520"/>
        </p:xfrm>
        <a:graphic>
          <a:graphicData uri="http://schemas.openxmlformats.org/drawingml/2006/table">
            <a:tbl>
              <a:tblPr/>
              <a:tblGrid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  <a:gridCol w="208080"/>
              </a:tblGrid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ru-RU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Таблица 5"/>
          <p:cNvGraphicFramePr/>
          <p:nvPr/>
        </p:nvGraphicFramePr>
        <p:xfrm>
          <a:off x="1475640" y="3357000"/>
          <a:ext cx="6095520" cy="296604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каза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 за год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chemeClr val="accent5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ыру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3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быль до налогооб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8 78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лог на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11 04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fe2ea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истая 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27 7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  <Words>421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2-14T09:15:05Z</dcterms:created>
  <dc:creator>Виктория Никитина</dc:creator>
  <dc:description/>
  <dc:language>en-US</dc:language>
  <cp:lastModifiedBy>Виктория Никитина</cp:lastModifiedBy>
  <dcterms:modified xsi:type="dcterms:W3CDTF">2022-12-15T18:58:50Z</dcterms:modified>
  <cp:revision>25</cp:revision>
  <dc:subject/>
  <dc:title>Краевое государственное бюджетное профессиональное образовательное учреждение  «Ачинский торгово-экономический техникум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