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1FC-AECB-4662-81B0-53470006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D5D-F5B5-479B-BD8D-4ACEB6E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20B-CF89-4BAF-A7B8-61F5ED4D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E17-53A6-4BDF-8330-D999FB72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489-5DED-4989-8FCC-E536D9DF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E17-9621-4C00-94E7-BED10FAC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BC7F-B329-48EF-9509-2987463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131B-DC0E-4ABF-8801-2D69E95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FA49-0FBA-4F23-9A5B-48644AB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DC48-96AA-4F0C-9FF6-3810C4BA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3432-4712-4A62-82CA-91F752E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28C-A993-4969-814C-CCF6C85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D35F-F5F9-4F58-99A7-F889D445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F2F8-D2A0-4965-9114-E8C5F02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220F-8599-4D98-A954-0B5CB7D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9768-E7DF-4B37-967B-3208DC14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F33-076D-4B87-BB9C-EAFA518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AAA1-A960-4889-BDE8-9BCB201D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FFEA-6242-4D65-9AFE-A4A6049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B35F-B6E6-489A-9906-CA18E09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DDD6-3723-49FA-9D94-29E39AB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E36E-6BA2-4E71-92CE-F40C3EF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53D-CB6E-4545-9B59-C9A4D0B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8DA3-8A62-43DF-BEC0-A428882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3E5E-5359-4246-945D-130B31C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74AA-5F8D-4E59-9724-789C49B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67E2-E4B7-43A4-A088-DE7944D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0738-E605-42A9-973E-F016ED5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5F2B-885C-40D7-8EFA-A45F5AC8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051F-1E88-4B55-B0DD-F45B1A9C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737-7A6D-45E7-867E-B6223F6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FAD-B678-4B79-B50E-AE403F1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684-3842-43F9-8CE2-2151C8C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EC9-8381-4E16-BD49-766C453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F4C-91B0-4BEC-9130-CAA6D4B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98C-982E-4BA7-A950-8777D04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FB416-74C1-4A93-AFE9-849BBB9ECC1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05CA5F-1650-410F-848D-F393647D415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5BA1B4-75B4-4651-98C7-EA8E5B5E9F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251360"/>
            <a:ext cx="777204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евое государственное бюджетное профессиона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«Ачинский торгово-экономический техникум»</a:t>
            </a:r>
            <a:br>
              <a:rPr sz="1400"/>
            </a:b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061000"/>
            <a:ext cx="6400440" cy="35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знес-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сервис «Поб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итина Виктория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а 2МП-9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начальные инвести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Содержимое 3"/>
          <p:cNvGraphicFramePr/>
          <p:nvPr/>
        </p:nvGraphicFramePr>
        <p:xfrm>
          <a:off x="467640" y="1556640"/>
          <a:ext cx="822924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рная стоимость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спош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вента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8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925000"/>
            <a:ext cx="8229240" cy="32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61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- «Побед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бизнес-плане автосервиса рассмотрена идея открытия автосервисного центра, который будет предлагать широкий ассортимент услуг, от ремонта до покраски автотранспорт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стить бизнес планируется в селе Новобирилюссы, Бирилюсского района, Красноярского края в помещении соответствующем всем нормам и требован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вой аудиторией  планируемого предприятия будет являться – население имеющие в пользовании автомобили ,проживающие на территории Бирилюсского рай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 приобретение оборудования для автосервиса сумма которого составляет 185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проекта планируется осуществить как за счет собствен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начальные инвестиции в бизнес составляют 213 8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компан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анном бизнес-плане рассмотрен проект открытия одиночного СТО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тоимость оказания услуг-3500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деятельности предприятия является извлечение дохода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сс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высокого уровня технического обслуживания автомобилей и поддержание качества оказанных услу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уется два арендованных совмещенных отапливаемых гаражных бокса, оборудованных в соответствии с требованиями для автосервисов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, что предприятие будет оказывать следующий список услуг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ическое обслуживание автомобиля (замена масла, свечей, фильтров и прочие мелкие работы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подвеск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тормозной сист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охлажд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номонтажные работ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кондициониров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рулевого управл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зовные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3132000" y="1700640"/>
            <a:ext cx="2808000" cy="935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(бухгалтер , касс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"/>
          <p:cNvCxnSpPr/>
          <p:nvPr/>
        </p:nvCxnSpPr>
        <p:spPr>
          <a:xfrm flipH="1">
            <a:off x="2339640" y="2636640"/>
            <a:ext cx="792360" cy="576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5" name="Прямоугольник 7"/>
          <p:cNvSpPr/>
          <p:nvPr/>
        </p:nvSpPr>
        <p:spPr>
          <a:xfrm>
            <a:off x="1043640" y="3285000"/>
            <a:ext cx="1944000" cy="719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еханик-диаг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9"/>
          <p:cNvCxnSpPr/>
          <p:nvPr/>
        </p:nvCxnSpPr>
        <p:spPr>
          <a:xfrm>
            <a:off x="5940000" y="2636640"/>
            <a:ext cx="936360" cy="648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7" name="Прямоугольник 11"/>
          <p:cNvSpPr/>
          <p:nvPr/>
        </p:nvSpPr>
        <p:spPr>
          <a:xfrm>
            <a:off x="6516360" y="3357000"/>
            <a:ext cx="1800000" cy="647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5"/>
          <p:cNvCxnSpPr/>
          <p:nvPr/>
        </p:nvCxnSpPr>
        <p:spPr>
          <a:xfrm>
            <a:off x="4644000" y="2636640"/>
            <a:ext cx="360" cy="864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9" name="Прямоугольник 16"/>
          <p:cNvSpPr/>
          <p:nvPr/>
        </p:nvSpPr>
        <p:spPr>
          <a:xfrm>
            <a:off x="3852000" y="3645000"/>
            <a:ext cx="1800000" cy="863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ех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640" y="4221000"/>
            <a:ext cx="2443680" cy="1832760"/>
          </a:xfrm>
          <a:prstGeom prst="rect">
            <a:avLst/>
          </a:prstGeom>
          <a:ln w="9525">
            <a:noFill/>
          </a:ln>
        </p:spPr>
      </p:pic>
      <p:sp>
        <p:nvSpPr>
          <p:cNvPr id="141" name="Прямоугольник 19"/>
          <p:cNvSpPr/>
          <p:nvPr/>
        </p:nvSpPr>
        <p:spPr>
          <a:xfrm>
            <a:off x="611640" y="5373360"/>
            <a:ext cx="143640" cy="64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Picture 4" descr="https://papik.pro/uploads/posts/2022-01/1641281011_10-papik-pro-p-vektornii-risunok-mekhanik-10.jpg"/>
          <p:cNvPicPr/>
          <p:nvPr/>
        </p:nvPicPr>
        <p:blipFill>
          <a:blip r:embed="rId2"/>
          <a:stretch/>
        </p:blipFill>
        <p:spPr>
          <a:xfrm>
            <a:off x="3852000" y="4653000"/>
            <a:ext cx="1949040" cy="195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thumbs.dreamstime.com/b/%D0%BC%D0%B0%D1%81%D1%82%D0%B5%D1%80-%D0%BD%D0%B0-%D0%BA%D0%B0%D1%80%D1%82%D0%B8%D0%BD%D0%B5-53999862.jpg"/>
          <p:cNvPicPr/>
          <p:nvPr/>
        </p:nvPicPr>
        <p:blipFill>
          <a:blip r:embed="rId3"/>
          <a:stretch/>
        </p:blipFill>
        <p:spPr>
          <a:xfrm>
            <a:off x="6372360" y="414900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енн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Содержимое 3"/>
          <p:cNvGraphicFramePr/>
          <p:nvPr/>
        </p:nvGraphicFramePr>
        <p:xfrm>
          <a:off x="395640" y="1845000"/>
          <a:ext cx="8229240" cy="446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ъемники автомоби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иагностический ап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мк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с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ппарат сва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ключ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отвер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урупове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755640" y="1268640"/>
            <a:ext cx="76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чень необходимого оборудования и его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Таблица 3"/>
          <p:cNvGraphicFramePr/>
          <p:nvPr/>
        </p:nvGraphicFramePr>
        <p:xfrm>
          <a:off x="539640" y="2205000"/>
          <a:ext cx="8316000" cy="4176000"/>
        </p:xfrm>
        <a:graphic>
          <a:graphicData uri="http://schemas.openxmlformats.org/drawingml/2006/table">
            <a:tbl>
              <a:tblPr/>
              <a:tblGrid>
                <a:gridCol w="4625640"/>
                <a:gridCol w="3690360"/>
              </a:tblGrid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19378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2222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отип автосерви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5" descr="7H_seXykEX8.jpg"/>
          <p:cNvPicPr/>
          <p:nvPr/>
        </p:nvPicPr>
        <p:blipFill>
          <a:blip r:embed="rId1"/>
          <a:stretch/>
        </p:blipFill>
        <p:spPr>
          <a:xfrm>
            <a:off x="2267640" y="1412640"/>
            <a:ext cx="4038120" cy="403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Содержимое 7"/>
          <p:cNvGraphicFramePr/>
          <p:nvPr/>
        </p:nvGraphicFramePr>
        <p:xfrm>
          <a:off x="11916720" y="3645000"/>
          <a:ext cx="4643640" cy="5532840"/>
        </p:xfrm>
        <a:graphic>
          <a:graphicData uri="http://schemas.openxmlformats.org/drawingml/2006/table">
            <a:tbl>
              <a:tblPr/>
              <a:tblGrid>
                <a:gridCol w="2322000"/>
                <a:gridCol w="2322000"/>
              </a:tblGrid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0700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6740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нанс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оплату труда составляют- 90000 рублей в месяц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 за год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Таблица 4"/>
          <p:cNvGraphicFramePr/>
          <p:nvPr/>
        </p:nvGraphicFramePr>
        <p:xfrm>
          <a:off x="9468720" y="0"/>
          <a:ext cx="2915640" cy="965520"/>
        </p:xfrm>
        <a:graphic>
          <a:graphicData uri="http://schemas.openxmlformats.org/drawingml/2006/table">
            <a:tbl>
              <a:tblPr/>
              <a:tblGrid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</a:tblGrid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Таблица 5"/>
          <p:cNvGraphicFramePr/>
          <p:nvPr/>
        </p:nvGraphicFramePr>
        <p:xfrm>
          <a:off x="1475640" y="3357000"/>
          <a:ext cx="6095520" cy="296604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за год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ру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3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быль до налогооб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8 78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ог на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 0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истая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7 7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  <Words>421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4T09:15:05Z</dcterms:created>
  <dc:creator>Виктория Никитина</dc:creator>
  <dc:description/>
  <dc:language>en-US</dc:language>
  <cp:lastModifiedBy>Виктория Никитина</cp:lastModifiedBy>
  <dcterms:modified xsi:type="dcterms:W3CDTF">2022-12-15T18:58:50Z</dcterms:modified>
  <cp:revision>25</cp:revision>
  <dc:subject/>
  <dc:title>Краевое государственное бюджетное профессиональное образовательное учреждение  «Ачинский торгово-экономический технику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