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10565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AAF0-1694-4C8B-ABA3-A932D04C2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5213-0F99-4D71-A3F0-06DB3B68B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9C04-492E-457D-BC76-D9E0F994C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40B7-7BF3-4235-8EFE-528394DED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B76B-3778-4D0E-8473-2245F12C5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6578-0A4E-4DA5-8194-8EC4848D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953D-DF0D-4486-8358-A0550E84B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A3A4-DCFB-4B21-9FB3-7DA01132D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5466-039D-41E3-9B7D-75735BB61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8004-70C3-4794-ABEE-4A377F75E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B9DE-E7DB-4B74-9CB1-BDFFF90E5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20AA-1D33-492F-BB17-E6AEC2F08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33317-94C6-4A20-817F-D90BB030162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Предмет механіки.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82800"/>
            <a:ext cx="91440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ханіка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розділ фізики, який вивчає найбільш просту і найбільш загальну форму руху матерії – механічний р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906560" y="2735280"/>
            <a:ext cx="5511960" cy="3832200"/>
            <a:chOff x="1906560" y="2735280"/>
            <a:chExt cx="5511960" cy="38322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5083200" y="3821040"/>
              <a:ext cx="2335320" cy="15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906560" y="2735280"/>
              <a:ext cx="143208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317760" y="2735280"/>
              <a:ext cx="1865520" cy="12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4879800" y="5089680"/>
              <a:ext cx="253872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330720" y="4000680"/>
              <a:ext cx="1823760" cy="15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2797200" y="5265720"/>
              <a:ext cx="208260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5184720" y="2735280"/>
              <a:ext cx="223380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1906560" y="4521240"/>
              <a:ext cx="140976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1906560" y="5332320"/>
              <a:ext cx="89532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5. Переміщення, шлях. Рівняння руху матеріальної точки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708280"/>
            <a:ext cx="9144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При вивченні руху тіл, найбільш часто використовують декартову прямокутну систему координ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00"/>
            <a:ext cx="9144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оження точки у просторі в декартовій системі координат визначають трьома координатами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x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або радіус-вектором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, проведеним з початку координат у дану точку (на рисунку, наприклад,          – радіус-вектор точки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496360" y="981000"/>
                <a:ext cx="345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032360" y="1773360"/>
                <a:ext cx="3366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840200" y="3749760"/>
            <a:ext cx="795600" cy="93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2529000"/>
            <a:ext cx="509400" cy="47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6224760"/>
            <a:ext cx="50976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67640" y="5553000"/>
            <a:ext cx="509400" cy="47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5157720"/>
            <a:ext cx="68112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673360"/>
            <a:ext cx="511200" cy="47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4257720"/>
            <a:ext cx="681120" cy="47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2360" y="2708280"/>
            <a:ext cx="1440" cy="28526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2360" y="5560920"/>
            <a:ext cx="306072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65240" y="5587920"/>
            <a:ext cx="1158840" cy="115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2360" y="3319200"/>
            <a:ext cx="826920" cy="224316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2360" y="4506480"/>
            <a:ext cx="2700360" cy="1055880"/>
          </a:xfrm>
          <a:prstGeom prst="line">
            <a:avLst/>
          </a:prstGeom>
          <a:ln cap="sq" w="507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3040" y="3341520"/>
            <a:ext cx="1849680" cy="1132200"/>
          </a:xfrm>
          <a:prstGeom prst="line">
            <a:avLst/>
          </a:prstGeom>
          <a:ln cap="sq" w="507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3176640"/>
            <a:ext cx="2413080" cy="1368360"/>
          </a:xfrm>
          <a:prstGeom prst="pie">
            <a:avLst/>
          </a:prstGeom>
          <a:noFill/>
          <a:ln cap="sq"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904000" y="3176640"/>
                <a:ext cx="582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343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3897360"/>
                <a:ext cx="576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338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03640" y="3716280"/>
                <a:ext cx="53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16720" y="4905360"/>
                <a:ext cx="576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317664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-2.59259 -6 C 0.0270800000000002 -0.0157400000000001 0.05555 -0.02824 0.07153 -0.01805 C 0.08819 -0.00694 0.06371 0.05695 0.09514 0.06829 C 0.12656 0.0801 0.23889 0.03334 0.25885 0.05047 C 0.27969 0.0676 0.21962 0.15023 0.21146 0.17107 E">
                                      <p:cBhvr>
                                        <p:cTn id="19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55640" y="4780080"/>
                <a:ext cx="2521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724360" y="5229360"/>
                <a:ext cx="2016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-14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х точки в просторі опису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івнянням руху,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арактеризують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іщенням, швидкістю і прискорен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ою задачею кінематики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є визначення положення тіла у просторі відносно інших тіл у даний момент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івняння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х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тематичний вираз, який чітко дозволяє визначити місцеположення тіла у просторі в даний момент ча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68600" y="52275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-18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Переміще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ц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торна фізична величина, що являє собою радіус-вектор, проведений із точки початку руху тіла (точка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точку кінця руху (точка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492360" y="50760"/>
                <a:ext cx="64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32080" y="2260440"/>
                <a:ext cx="45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Δr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z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41960" y="2333520"/>
                <a:ext cx="1260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4788000" y="3284640"/>
            <a:ext cx="2843280" cy="3074760"/>
            <a:chOff x="4788000" y="3284640"/>
            <a:chExt cx="2843280" cy="30747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788000" y="3284640"/>
              <a:ext cx="284328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524640" y="3751200"/>
              <a:ext cx="5922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721560" y="3711600"/>
                  <a:ext cx="6379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6958080" y="5918040"/>
              <a:ext cx="59220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8000" y="4911840"/>
              <a:ext cx="5922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4827600" y="4871880"/>
                  <a:ext cx="630360" cy="4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1187280" y="3284640"/>
            <a:ext cx="3311640" cy="3122640"/>
            <a:chOff x="1187280" y="3284640"/>
            <a:chExt cx="3311640" cy="31226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187280" y="3284640"/>
              <a:ext cx="3311640" cy="3122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2084400" y="4632480"/>
                  <a:ext cx="62244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3486240" y="3927600"/>
                  <a:ext cx="63000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475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інію, вздовж якої тіло рухається,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називають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траєкторією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Шлях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калярна фізична величина, що дорівнює довжині лінії траєкторії руху тіла,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165400" y="2665440"/>
            <a:ext cx="1800" cy="1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165400" y="2894040"/>
            <a:ext cx="1800" cy="1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2165400" y="3065400"/>
            <a:ext cx="1800" cy="1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165400" y="3274920"/>
            <a:ext cx="1800" cy="1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640" y="2852640"/>
            <a:ext cx="9142200" cy="3603600"/>
            <a:chOff x="17640" y="2852640"/>
            <a:chExt cx="9142200" cy="36036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8936" r="0" b="0"/>
            <a:stretch/>
          </p:blipFill>
          <p:spPr>
            <a:xfrm>
              <a:off x="17640" y="2852640"/>
              <a:ext cx="914220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875640" y="4510080"/>
              <a:ext cx="20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800" spc="-1" strike="noStrike">
                  <a:solidFill>
                    <a:srgbClr val="ffffff"/>
                  </a:solidFill>
                  <a:latin typeface="Times New Roman"/>
                </a:rPr>
                <a:t>траєкторі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88000" y="5013360"/>
              <a:ext cx="23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800" spc="-1" strike="noStrike">
                  <a:solidFill>
                    <a:srgbClr val="ffffff"/>
                  </a:solidFill>
                  <a:latin typeface="Times New Roman"/>
                </a:rPr>
                <a:t>переміщен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73280" y="2852640"/>
              <a:ext cx="17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Times New Roman"/>
                </a:rPr>
                <a:t>траєктор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1640" y="378936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Times New Roman"/>
                </a:rPr>
                <a:t>переміщ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dur="indefinite" nodeType="clickEffect" fill="hold">
                      <p:stCondLst>
                        <p:cond delay="0"/>
                      </p:stCondLst>
                      <p:childTnLst>
                        <p:par>
                          <p:cTn id="2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Times New Roman"/>
              </a:rPr>
              <a:t>6. Швидкість та прискоренн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40000" y="5229360"/>
                <a:ext cx="19083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27640" y="5229360"/>
                <a:ext cx="136692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υ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14115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характеристики інтенсивності зміни тілом свого положення у просторі з часом вводять поняття швидкості.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едньою швидкістю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назива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торну фізичну величину, що чисельно дорівнює відношенню переміщення до проміжку часу, за який це переміщення було здійснен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155680" y="3661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626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кщо визначити швидкість у даний момент часу, тобто взяти границю від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при Δ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uk-UA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, то будемо мати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</a:rPr>
              <a:t>миттєву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швидкіс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2168640"/>
                <a:ext cx="684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519280" y="3537000"/>
                <a:ext cx="15382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08720" y="3537000"/>
                <a:ext cx="1260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152960" y="36813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nodeType="clickEffect" fill="hold">
                      <p:stCondLst>
                        <p:cond delay="0"/>
                      </p:stCondLst>
                      <p:childTnLst>
                        <p:par>
                          <p:cTn id="3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456000" y="1844640"/>
                <a:ext cx="1260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932360" y="1844640"/>
                <a:ext cx="133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υ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08000" y="4986360"/>
                <a:ext cx="18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80000" y="5113440"/>
                <a:ext cx="129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32360" y="5157720"/>
                <a:ext cx="16560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187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иттєвою швидкіст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ивають векторну фізичну величину, що чисельно дорівнює зміні переміщення з часом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5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 випадку, коли Δ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0" i="1" lang="uk-UA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Δ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і Δ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(переміщення і шлях) майже співпадають, тоді має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22880" y="5335560"/>
            <a:ext cx="10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б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44960" y="533556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nodeType="clickEffect" fill="hold">
                      <p:stCondLst>
                        <p:cond delay="0"/>
                      </p:stCondLst>
                      <p:childTnLst>
                        <p:par>
                          <p:cTn id="3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69880" y="880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59280" y="2971800"/>
                <a:ext cx="15476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ер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0" y="4157640"/>
                <a:ext cx="1979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16000" y="4173480"/>
                <a:ext cx="1332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4121280"/>
                <a:ext cx="15825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19640" y="5553000"/>
                <a:ext cx="1368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м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285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характеристики інтенсивності зміни швид-кості тіла з часом вводять поняття  прискорення.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20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скоре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ц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торна фізична величина, що характеризує зміну швидкості з часом: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7680" y="3105000"/>
            <a:ext cx="28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реднє прискоренн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3120" y="31446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3120" y="410652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0760" y="4346640"/>
            <a:ext cx="351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ттєве прискоренн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dur="indefinite" nodeType="clickEffect" fill="hold">
                      <p:stCondLst>
                        <p:cond delay="0"/>
                      </p:stCondLst>
                      <p:childTnLst>
                        <p:par>
                          <p:cTn id="3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6000"/>
            <a:ext cx="91440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ід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ханічним</a:t>
            </a: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ухом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тіла розумію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міну положення тіла (або його частин) в просторі і часі по відношенню до інших тіл (або інших частин тіл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95360" y="2224080"/>
            <a:ext cx="6534360" cy="4307040"/>
            <a:chOff x="1395360" y="2224080"/>
            <a:chExt cx="6534360" cy="430704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332320" y="3443400"/>
              <a:ext cx="2597400" cy="17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395360" y="2224080"/>
              <a:ext cx="169704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3068640" y="2224080"/>
              <a:ext cx="22114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4921200" y="4870440"/>
              <a:ext cx="3008520" cy="16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784600" y="3646440"/>
              <a:ext cx="262260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2451240" y="5067360"/>
              <a:ext cx="24685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5280120" y="2224080"/>
              <a:ext cx="26478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8"/>
            <a:stretch/>
          </p:blipFill>
          <p:spPr>
            <a:xfrm>
              <a:off x="1395360" y="4230720"/>
              <a:ext cx="167184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1395360" y="5141880"/>
              <a:ext cx="106200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-17640"/>
            <a:ext cx="914400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наючи кінематичне рівняння руху, шляхом диференціювання за часом можна знай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видкість і прискорення в будь-який момент часу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яма задача кінематики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впаки, знаючи прискорення точки, а також початкові умови (положе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і швидкість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в початковий момент часу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=0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, можна знай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іщення і траєкторію руху точки у момент час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ернена задача кінематики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ійсно, із формул швидкості і прискорення випливає, що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              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і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</a:rPr>
              <a:t>                      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тод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481720"/>
                <a:ext cx="2833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040360" y="5516640"/>
                <a:ext cx="26845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616720" y="2313000"/>
                <a:ext cx="45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352000" y="2313000"/>
                <a:ext cx="438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592360" y="4941720"/>
                <a:ext cx="1943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υ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184720" y="4965840"/>
                <a:ext cx="1979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υ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4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77192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глянемо матеріальну точку, що рухається вздовж довільної траєкторії зі змінною швидкіст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336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79520" indent="-478080">
              <a:lnSpc>
                <a:spcPct val="100000"/>
              </a:lnSpc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537920"/>
              </a:tabLst>
            </a:pPr>
            <a:r>
              <a:rPr b="1" lang="uk-UA" sz="3300" spc="-1" strike="noStrike">
                <a:solidFill>
                  <a:srgbClr val="333399"/>
                </a:solidFill>
                <a:latin typeface="Times New Roman"/>
              </a:rPr>
              <a:t>7. Нормальне і тангенціальне прискоренн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87280" y="3321000"/>
            <a:ext cx="54792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dur="indefinite" nodeType="clickEffect" fill="hold">
                      <p:stCondLst>
                        <p:cond delay="0"/>
                      </p:stCondLst>
                      <p:childTnLst>
                        <p:par>
                          <p:cTn id="4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7 L -1.85185 -6 C 0.01736 -0.0162000000000004 0.0349 -0.03241 0.05434 -0.04514 C 0.07379 -0.05787 0.09479 -0.07014 0.11701 -0.07662 C 0.13924 -0.0831 0.16597 -0.0831 0.18819 -0.08356 C 0.21042 -0.08403 0.22708 -0.08449 0.25087 -0.07893 C 0.27465 -0.07338 0.30347 -0.06504 0.33056 -0.04954 C 0.35764 -0.03403 0.38663 -0.01204 0.41354 0.01366 C 0.44045 0.03935 0.46667 0.06945 0.49149 0.10394 C 0.51632 0.13866 0.54549 0.1882 0.56267 0.2213 C 0.57986 0.2544 0.58542 0.27639 0.59497 0.30255 C 0.60451 0.32894 0.61632 0.36621 0.62031 0.3794 E">
                                      <p:cBhvr>
                                        <p:cTn id="46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20520000">
            <a:off x="971280" y="2638080"/>
            <a:ext cx="4751280" cy="4633920"/>
          </a:xfrm>
          <a:prstGeom prst="pie">
            <a:avLst/>
          </a:prstGeom>
          <a:noFill/>
          <a:ln cap="sq" w="3168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727280" y="2347560"/>
            <a:ext cx="1708200" cy="703080"/>
          </a:xfrm>
          <a:prstGeom prst="line">
            <a:avLst/>
          </a:prstGeom>
          <a:ln cap="sq" w="38160">
            <a:solidFill>
              <a:srgbClr val="000080"/>
            </a:solidFill>
            <a:miter/>
            <a:headEnd len="med" type="oval" w="med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64000" y="3753000"/>
            <a:ext cx="3170160" cy="2808000"/>
          </a:xfrm>
          <a:prstGeom prst="line">
            <a:avLst/>
          </a:prstGeom>
          <a:ln cap="sq" w="38160">
            <a:solidFill>
              <a:srgbClr val="008000"/>
            </a:solidFill>
            <a:miter/>
            <a:headEnd len="med" type="oval" w="med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56000" y="2349360"/>
            <a:ext cx="1460520" cy="350388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25840" y="1950840"/>
            <a:ext cx="487440" cy="385740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456000" y="1987200"/>
            <a:ext cx="976320" cy="351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454560" y="2347920"/>
            <a:ext cx="490320" cy="386064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959280" y="5803920"/>
            <a:ext cx="973080" cy="350640"/>
          </a:xfrm>
          <a:prstGeom prst="line">
            <a:avLst/>
          </a:prstGeom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2492280"/>
            <a:ext cx="703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2997360"/>
            <a:ext cx="679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0960" y="1916280"/>
                <a:ext cx="346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43640" y="5697360"/>
                <a:ext cx="422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727280" y="3068640"/>
            <a:ext cx="3168720" cy="2809800"/>
          </a:xfrm>
          <a:prstGeom prst="line">
            <a:avLst/>
          </a:prstGeom>
          <a:ln cap="sq" w="38160">
            <a:solidFill>
              <a:srgbClr val="008000"/>
            </a:solidFill>
            <a:miter/>
            <a:headEnd len="med" type="oval" w="med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19640" y="4797360"/>
                <a:ext cx="40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87280" y="3321000"/>
            <a:ext cx="547920" cy="55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716360" y="4797360"/>
                <a:ext cx="2124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16360" y="1521000"/>
                <a:ext cx="417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311640" y="5589720"/>
                <a:ext cx="474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76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-146880"/>
            <a:ext cx="9142560" cy="1601640"/>
            <a:chOff x="0" y="-146880"/>
            <a:chExt cx="9142560" cy="1601640"/>
          </a:xfrm>
        </p:grpSpPr>
        <p:sp>
          <p:nvSpPr>
            <p:cNvPr id="216" name=""/>
            <p:cNvSpPr/>
            <p:nvPr/>
          </p:nvSpPr>
          <p:spPr>
            <a:xfrm>
              <a:off x="0" y="-146880"/>
              <a:ext cx="91425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Нехай точка в положенні А в момент часу t має швидкість   </a:t>
              </a:r>
              <a:r>
                <a:rPr b="0" lang="en-US" sz="26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0" lang="uk-UA" sz="800" spc="-1" strike="noStrike">
                  <a:solidFill>
                    <a:srgbClr val="333399"/>
                  </a:solidFill>
                  <a:latin typeface="Times New Roman"/>
                </a:rPr>
                <a:t>.</a:t>
              </a: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   . За час </a:t>
              </a:r>
              <a:r>
                <a:rPr b="0" i="1" lang="uk-UA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</a:t>
              </a:r>
              <a:r>
                <a:rPr b="0" i="1" lang="uk-UA" sz="26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 рухома точка перейде в положення В і набуде швидкості     . Перенесемо вектор     у точку А і знайдемо зміну швидкості                    . Розкладемо  вектор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lang="uk-UA" sz="2600" spc="-1" strike="noStrike">
                  <a:solidFill>
                    <a:srgbClr val="333399"/>
                  </a:solidFill>
                  <a:latin typeface="Times New Roman"/>
                </a:rPr>
                <a:t>зміни швидкості</a:t>
              </a:r>
              <a:r>
                <a:rPr b="0" lang="uk-UA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16000" y="260280"/>
                  <a:ext cx="28260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655640" y="512640"/>
                  <a:ext cx="2923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υ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4932360" y="584280"/>
                  <a:ext cx="2826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υ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1655640" y="800280"/>
                  <a:ext cx="150984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0" y="-74520"/>
              <a:ext cx="914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8532720" y="944640"/>
                  <a:ext cx="44928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" name=""/>
          <p:cNvGrpSpPr/>
          <p:nvPr/>
        </p:nvGrpSpPr>
        <p:grpSpPr>
          <a:xfrm>
            <a:off x="5003640" y="1199880"/>
            <a:ext cx="4138920" cy="2971080"/>
            <a:chOff x="5003640" y="1199880"/>
            <a:chExt cx="4138920" cy="2971080"/>
          </a:xfrm>
        </p:grpSpPr>
        <p:sp>
          <p:nvSpPr>
            <p:cNvPr id="224" name=""/>
            <p:cNvSpPr/>
            <p:nvPr/>
          </p:nvSpPr>
          <p:spPr>
            <a:xfrm>
              <a:off x="5003640" y="1199880"/>
              <a:ext cx="41389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на дві взаємно перпенди-кулярні складові:   – вздовж вектора   , яку називають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тангенціаль-ною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(або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дотичною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), і    </a:t>
              </a:r>
              <a:r>
                <a:rPr b="0" lang="uk-UA" sz="800" spc="-1" strike="noStrike">
                  <a:solidFill>
                    <a:srgbClr val="333399"/>
                  </a:solidFill>
                  <a:latin typeface="Times New Roman"/>
                </a:rPr>
                <a:t>.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 –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нормальну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 (або </a:t>
              </a:r>
              <a:r>
                <a:rPr b="1" i="1" lang="uk-UA" sz="2800" spc="-1" strike="noStrike">
                  <a:solidFill>
                    <a:srgbClr val="333399"/>
                  </a:solidFill>
                  <a:latin typeface="Times New Roman"/>
                </a:rPr>
                <a:t>до-центрову</a:t>
              </a:r>
              <a:r>
                <a:rPr b="0" lang="uk-UA" sz="2800" spc="-1" strike="noStrike">
                  <a:solidFill>
                    <a:srgbClr val="333399"/>
                  </a:solidFill>
                  <a:latin typeface="Times New Roman"/>
                </a:rPr>
                <a:t>), направлену по нормалі до вектора    , тоб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209080" y="1449360"/>
                  <a:ext cx="322200" cy="46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τ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7812000" y="1881360"/>
                  <a:ext cx="2541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8809200" y="2384280"/>
                  <a:ext cx="3333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675640" y="3465360"/>
                  <a:ext cx="2556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012000" y="3716280"/>
                  <a:ext cx="1761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τ</m:t>
                              </m:r>
                            </m:sub>
                          </m:sSub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υ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-1.85185 -6 C 0.01736 -0.0162000000000004 0.0349 -0.03241 0.05434 -0.04514 C 0.07379 -0.05787 0.09479 -0.07014 0.11701 -0.07662 C 0.13924 -0.0831 0.16597 -0.0831 0.1882 -0.08356 C 0.21042 -0.08403 0.22708 -0.08449 0.25087 -0.07893 C 0.27465 -0.07338 0.30347 -0.06504 0.33056 -0.04954 C 0.35764 -0.03403 0.38663 -0.01204 0.41354 0.01366 C 0.44045 0.03935 0.46667 0.06945 0.49149 0.10394 C 0.51632 0.13866 0.54549 0.1882 0.56267 0.2213 C 0.57986 0.2544 0.58542 0.27639 0.59497 0.30255 C 0.60451 0.32894 0.61632 0.36621 0.62031 0.3794 E">
                                      <p:cBhvr>
                                        <p:cTn id="47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258920" y="1916280"/>
                <a:ext cx="14032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19640" y="1809720"/>
                <a:ext cx="162072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92000" y="4292640"/>
                <a:ext cx="2124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υ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708360" y="4221000"/>
                <a:ext cx="136836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5759280" y="2097000"/>
          <a:ext cx="3384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9280" y="2097000"/>
                    <a:ext cx="3384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-1676520" y="1708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44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скорення може виникнути при зміні швидкості не лише за величиною, але і за напрямом, тому прискорення (або повне прискорення) має дві складов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75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нгенціальне прискор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є зміну швидкості за величиною і направлене по дотичній до траєкторії руху точ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85880" y="20955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б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890080"/>
            <a:ext cx="575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75000"/>
              </a:lnSpc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рмальне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скор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ує зміну швидкості за напря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 і направлене до центру кривиз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траєкторії у даний момент ча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66960" y="44737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б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265720"/>
            <a:ext cx="9144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е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 радіус кривизни траєктор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гальне (повне) прискорення</a:t>
            </a:r>
            <a:r>
              <a:rPr b="0" lang="uk-UA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визначається за теоремою Піфагора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57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8360" y="6070680"/>
                <a:ext cx="2627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2920" y="1413000"/>
                <a:ext cx="2016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059280" y="1413000"/>
                <a:ext cx="1404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35640" y="1305000"/>
                <a:ext cx="1549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8000" y="5013360"/>
                <a:ext cx="27352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r</m:t>
                                </m:r>
                              </m:e>
                            </m:d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932360" y="5624640"/>
                <a:ext cx="1836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υ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160200"/>
            <a:ext cx="63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такі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и рух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прямолінійний рівномірний р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56440" y="5163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67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763640" y="2563920"/>
            <a:ext cx="5942160" cy="1766880"/>
          </a:xfrm>
          <a:prstGeom prst="line">
            <a:avLst/>
          </a:prstGeom>
          <a:ln cap="sq" w="28440">
            <a:solidFill>
              <a:srgbClr val="2301e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763640" y="3571920"/>
            <a:ext cx="2521080" cy="722160"/>
          </a:xfrm>
          <a:prstGeom prst="line">
            <a:avLst/>
          </a:prstGeom>
          <a:ln cap="sq" w="254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68360" y="3897360"/>
            <a:ext cx="719280" cy="718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50920" y="252900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l-GR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υ</a:t>
            </a:r>
            <a:r>
              <a:rPr b="0" i="1" lang="uk-UA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=</a:t>
            </a:r>
            <a:r>
              <a:rPr b="0" i="1" lang="en-US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n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dur="indefinite" nodeType="clickEffect" fill="hold">
                      <p:stCondLst>
                        <p:cond delay="0"/>
                      </p:stCondLst>
                      <p:childTnLst>
                        <p:par>
                          <p:cTn id="6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532 L 0.65382 -0.2463 E">
                                      <p:cBhvr>
                                        <p:cTn id="62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-1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 прямолінійний рівнозмінний (рівноприс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ний або рівносповільнений) р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0400" y="2079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56440" y="5163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67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655640" y="2274840"/>
            <a:ext cx="5942160" cy="1766880"/>
          </a:xfrm>
          <a:prstGeom prst="line">
            <a:avLst/>
          </a:prstGeom>
          <a:ln cap="sq" w="28440">
            <a:solidFill>
              <a:srgbClr val="2301e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655640" y="3282480"/>
            <a:ext cx="2521080" cy="722520"/>
          </a:xfrm>
          <a:prstGeom prst="line">
            <a:avLst/>
          </a:prstGeom>
          <a:ln cap="sq" w="254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84360" y="2995560"/>
            <a:ext cx="3672000" cy="1046160"/>
          </a:xfrm>
          <a:prstGeom prst="line">
            <a:avLst/>
          </a:prstGeom>
          <a:ln cap="sq" w="254160">
            <a:solidFill>
              <a:srgbClr val="f0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60360" y="360828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933800" y="3465360"/>
            <a:ext cx="90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r>
              <a:rPr b="1" i="1" lang="el-GR" sz="4800" spc="-1" strike="noStrike" baseline="-25000">
                <a:solidFill>
                  <a:srgbClr val="f00a0a"/>
                </a:solidFill>
                <a:latin typeface="Times New Roman"/>
                <a:ea typeface="Times New Roman"/>
              </a:rPr>
              <a:t>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81440" y="2239920"/>
            <a:ext cx="7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l-GR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1197000"/>
                <a:ext cx="2160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1160640"/>
                <a:ext cx="1692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319640" y="1052640"/>
                <a:ext cx="35654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" y="2879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" y="34984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061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448000" y="5157720"/>
                <a:ext cx="4213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dur="indefinite" nodeType="clickEffect" fill="hold">
                      <p:stCondLst>
                        <p:cond delay="0"/>
                      </p:stCondLst>
                      <p:childTnLst>
                        <p:par>
                          <p:cTn id="6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532 L 0.65382 -0.2463 E">
                                      <p:cBhvr>
                                        <p:cTn id="68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241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рівномірний рух по ко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67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71640" y="944640"/>
                <a:ext cx="2160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240000" y="907920"/>
                <a:ext cx="1511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859280" y="620640"/>
                <a:ext cx="327672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694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23840" y="3051000"/>
            <a:ext cx="3492720" cy="3600360"/>
          </a:xfrm>
          <a:prstGeom prst="ellipse">
            <a:avLst/>
          </a:prstGeom>
          <a:noFill/>
          <a:ln cap="sq" w="50760">
            <a:solidFill>
              <a:srgbClr val="2301ed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633480" y="3319560"/>
            <a:ext cx="1011240" cy="1479600"/>
          </a:xfrm>
          <a:prstGeom prst="line">
            <a:avLst/>
          </a:prstGeom>
          <a:ln cap="sq" w="57240">
            <a:solidFill>
              <a:srgbClr val="2301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743280" y="1663200"/>
            <a:ext cx="2557440" cy="1551240"/>
          </a:xfrm>
          <a:prstGeom prst="line">
            <a:avLst/>
          </a:prstGeom>
          <a:ln cap="sq" w="127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3704760" y="3355560"/>
            <a:ext cx="652680" cy="1011240"/>
          </a:xfrm>
          <a:prstGeom prst="line">
            <a:avLst/>
          </a:prstGeom>
          <a:ln cap="sq" w="127080">
            <a:solidFill>
              <a:srgbClr val="f00a0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706920" y="2239560"/>
            <a:ext cx="1765080" cy="1119240"/>
          </a:xfrm>
          <a:prstGeom prst="line">
            <a:avLst/>
          </a:prstGeom>
          <a:ln cap="sq" w="127080">
            <a:solidFill>
              <a:srgbClr val="f0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51280" y="4149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4800" spc="-1" strike="noStrike">
                <a:solidFill>
                  <a:srgbClr val="2301ed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19640" y="3247560"/>
            <a:ext cx="1584360" cy="1011240"/>
          </a:xfrm>
          <a:prstGeom prst="line">
            <a:avLst/>
          </a:prstGeom>
          <a:ln cap="sq" w="50760">
            <a:solidFill>
              <a:srgbClr val="f00a0a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362560" y="2347920"/>
            <a:ext cx="579600" cy="866880"/>
          </a:xfrm>
          <a:prstGeom prst="line">
            <a:avLst/>
          </a:prstGeom>
          <a:ln cap="sq" w="50760">
            <a:solidFill>
              <a:srgbClr val="f00a0a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672000" y="3174840"/>
            <a:ext cx="2340000" cy="182880"/>
          </a:xfrm>
          <a:prstGeom prst="line">
            <a:avLst/>
          </a:prstGeom>
          <a:ln cap="sq" w="127080">
            <a:solidFill>
              <a:srgbClr val="f00a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56360" y="2997360"/>
            <a:ext cx="8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3640" y="3824280"/>
            <a:ext cx="66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r>
              <a:rPr b="0" i="1" lang="de-DE" sz="4800" spc="-1" strike="noStrike" baseline="-25000">
                <a:solidFill>
                  <a:srgbClr val="f00a0a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360" y="1521000"/>
            <a:ext cx="61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4800" spc="-1" strike="noStrike">
                <a:solidFill>
                  <a:srgbClr val="f00a0a"/>
                </a:solidFill>
                <a:latin typeface="Times New Roman"/>
              </a:rPr>
              <a:t>a</a:t>
            </a:r>
            <a:r>
              <a:rPr b="0" i="1" lang="el-GR" sz="4800" spc="-1" strike="noStrike" baseline="-25000">
                <a:solidFill>
                  <a:srgbClr val="f00a0a"/>
                </a:solidFill>
                <a:latin typeface="Times New Roman"/>
                <a:ea typeface="Times New Roman"/>
              </a:rPr>
              <a:t>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311640" y="292428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040360" y="1197000"/>
            <a:ext cx="7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l-GR" sz="4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dur="indefinite" nodeType="clickEffect" fill="hold">
                      <p:stCondLst>
                        <p:cond delay="0"/>
                      </p:stCondLst>
                      <p:childTnLst>
                        <p:par>
                          <p:cTn id="7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96 -0.02474 C 0.2092 -0.0259 0.29618 0.08904 0.29722 0.22503 C 0.29618 0.36957 0.20868 0.4815 0.10104 0.48358 C -0.00745999999999999 0.48266 -0.0934 0.36841 -0.09444 0.22803 C -0.09444 0.08951 -0.00729000000000001 -0.02451 0.09896 -0.02474 Z">
                                      <p:cBhvr>
                                        <p:cTn id="740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41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 algn="just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 криволінійний рівнозмінний ру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042920" y="765000"/>
                <a:ext cx="20876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11640" y="765000"/>
                <a:ext cx="1512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896000" y="692280"/>
                <a:ext cx="1441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898640" y="3645000"/>
            <a:ext cx="1512720" cy="1439640"/>
          </a:xfrm>
          <a:prstGeom prst="ellipse">
            <a:avLst/>
          </a:prstGeom>
          <a:noFill/>
          <a:ln cap="sq" w="76320">
            <a:solidFill>
              <a:srgbClr val="230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31640" y="414828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300720" y="1889280"/>
            <a:ext cx="2303640" cy="2160360"/>
          </a:xfrm>
          <a:prstGeom prst="ellipse">
            <a:avLst/>
          </a:prstGeom>
          <a:noFill/>
          <a:ln cap="sq" w="76320">
            <a:solidFill>
              <a:srgbClr val="230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49720" y="3868560"/>
            <a:ext cx="1008360" cy="936720"/>
          </a:xfrm>
          <a:prstGeom prst="ellipse">
            <a:avLst/>
          </a:prstGeom>
          <a:noFill/>
          <a:ln cap="sq" w="76320">
            <a:solidFill>
              <a:srgbClr val="2301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92360" y="4363920"/>
            <a:ext cx="71640" cy="720720"/>
          </a:xfrm>
          <a:prstGeom prst="line">
            <a:avLst/>
          </a:prstGeom>
          <a:ln cap="sq" w="76320">
            <a:solidFill>
              <a:srgbClr val="f0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664000" y="4938840"/>
            <a:ext cx="1079280" cy="14760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2590560" y="4506840"/>
            <a:ext cx="74520" cy="57960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592360" y="4362480"/>
            <a:ext cx="1079640" cy="14760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670200" y="4362120"/>
            <a:ext cx="74880" cy="57924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664000" y="4362120"/>
            <a:ext cx="1008000" cy="723960"/>
          </a:xfrm>
          <a:prstGeom prst="line">
            <a:avLst/>
          </a:prstGeom>
          <a:ln cap="sq"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2268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93960" y="4699080"/>
            <a:ext cx="3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el-GR" sz="2400" spc="-1" strike="noStrike" baseline="-25000">
                <a:solidFill>
                  <a:srgbClr val="33cc33"/>
                </a:solidFill>
                <a:latin typeface="Times New Roman"/>
                <a:ea typeface="Times New Roman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57880" y="4338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33cc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22640" y="44355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800" spc="-1" strike="noStrike">
                <a:solidFill>
                  <a:srgbClr val="f00a0a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7280" y="1484280"/>
            <a:ext cx="8425080" cy="3659400"/>
          </a:xfrm>
          <a:prstGeom prst="pie">
            <a:avLst/>
          </a:prstGeom>
          <a:noFill/>
          <a:ln cap="sq" w="19080">
            <a:solidFill>
              <a:srgbClr val="2301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543640" y="3857760"/>
            <a:ext cx="73080" cy="436320"/>
          </a:xfrm>
          <a:prstGeom prst="line">
            <a:avLst/>
          </a:prstGeom>
          <a:ln cap="sq" w="76320">
            <a:solidFill>
              <a:srgbClr val="f0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4720" y="38592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800" spc="-1" strike="noStrike">
                <a:solidFill>
                  <a:srgbClr val="f00a0a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6720" y="2995560"/>
            <a:ext cx="792360" cy="792360"/>
          </a:xfrm>
          <a:prstGeom prst="line">
            <a:avLst/>
          </a:prstGeom>
          <a:ln cap="sq" w="76320">
            <a:solidFill>
              <a:srgbClr val="f0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35880" y="2706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de-DE" sz="2800" spc="-1" strike="noStrike">
                <a:solidFill>
                  <a:srgbClr val="f00a0a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630920" y="3787920"/>
            <a:ext cx="579240" cy="50472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43640" y="4076640"/>
            <a:ext cx="3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el-GR" sz="2400" spc="-1" strike="noStrike" baseline="-25000">
                <a:solidFill>
                  <a:srgbClr val="33cc33"/>
                </a:solidFill>
                <a:latin typeface="Times New Roman"/>
                <a:ea typeface="Times New Roman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775640" y="3354480"/>
            <a:ext cx="433440" cy="434880"/>
          </a:xfrm>
          <a:prstGeom prst="line">
            <a:avLst/>
          </a:prstGeom>
          <a:ln cap="sq"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20360" y="3114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33cc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198920" y="3789360"/>
            <a:ext cx="1011240" cy="69840"/>
          </a:xfrm>
          <a:prstGeom prst="line">
            <a:avLst/>
          </a:prstGeom>
          <a:ln cap="sq"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64480" y="35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199280" y="3355920"/>
            <a:ext cx="579600" cy="50472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7199280" y="3857760"/>
            <a:ext cx="433440" cy="434880"/>
          </a:xfrm>
          <a:prstGeom prst="line">
            <a:avLst/>
          </a:prstGeom>
          <a:ln cap="sq"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Будь-яку криволінійну траєкторію руху тіла  можна розкласти на прямолінійні ділянки та ділянки, що є частинами кіл різного раді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8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 -6 L -7.91908 -6 C 0.0708399999999996 0.0443899999999999 0.14167 0.08901 0.1889 0.10473 C 0.23612 0.12046 0.22969 0.12046 0.28351 0.09433 C 0.33733 0.0682 0.44879 -0.03145 0.51181 -0.05249 C 0.57483 -0.07353 0.61424 -0.03307 0.66146 -0.03145 C 0.70869 -0.02983 0.7599 -0.02105 0.79532 -0.04209 C 0.83074 -0.06313 0.85817 -0.10336 0.87396 -0.15746 C 0.88976 -0.21157 0.88976 -0.28949 0.88976 -0.36717 E">
                                      <p:cBhvr>
                                        <p:cTn id="84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dur="indefinite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dur="indefinite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dur="indefinite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dur="indefinite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dur="indefinite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dur="indefinite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dur="indefinite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dur="indefinite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dur="indefinite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2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dur="indefinite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dur="indefinite" nodeType="click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dur="indefinite" nodeType="click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dur="indefinite" nodeType="click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dur="indefinite" nodeType="click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dur="indefinite" nodeType="click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ханіку поділяють на три частини, це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60640"/>
            <a:ext cx="579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інематика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ивчає рух тіл без виявлення причин, що його зумови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наміка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ивчає закони руху тіл і причини, що зумовили цей р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тик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ивчає закони рівноваги тіл або системи тіл (більш детально вивчається у курсі теоретичної механі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1885680" cy="15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4257720"/>
            <a:ext cx="1890720" cy="165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35640" y="2924280"/>
            <a:ext cx="19083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0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Фізичні моделі механ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52640"/>
            <a:ext cx="91440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им принципом сучасної фізики є принцип моделю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ль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абстрактний об’єкт, що має основні властивості реального об’єкту (матеріальна точка, точковий заряд, ідеальна рідина, абсолютно чорне тіло тощ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делювання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–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 процес заміни опису реального об’єкту (як правило надзвичайно складного) набагато простішим описом адекватної моделі, що дає змогу значно спростити процес його фізичного аналіз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nodeType="clickEffect" fill="hold">
                      <p:stCondLst>
                        <p:cond delay="0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описання механічного руху та розв’язання основної задачі кінематики вводять такі основні фізичні моделі та поня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173480"/>
            <a:ext cx="91440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95120" indent="262080" algn="just">
              <a:lnSpc>
                <a:spcPct val="85000"/>
              </a:lnSpc>
              <a:buClr>
                <a:srgbClr val="333399"/>
              </a:buClr>
              <a:buFont typeface="Times New Roman"/>
              <a:buChar char="•"/>
              <a:tabLst>
                <a:tab algn="l" pos="195120"/>
                <a:tab algn="l" pos="1109520"/>
                <a:tab algn="l" pos="2023920"/>
                <a:tab algn="l" pos="2938320"/>
                <a:tab algn="l" pos="3852720"/>
                <a:tab algn="l" pos="4767120"/>
                <a:tab algn="l" pos="5681520"/>
                <a:tab algn="l" pos="6595920"/>
                <a:tab algn="l" pos="7510320"/>
                <a:tab algn="l" pos="8424720"/>
                <a:tab algn="l" pos="9339120"/>
                <a:tab algn="l" pos="10253520"/>
                <a:tab algn="l" pos="105156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бсолютно тверде тіло (АТТ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іло, деформацією якого за даних умов можна знехтув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262080" algn="just">
              <a:lnSpc>
                <a:spcPct val="85000"/>
              </a:lnSpc>
              <a:buClr>
                <a:srgbClr val="333399"/>
              </a:buClr>
              <a:buFont typeface="Times New Roman"/>
              <a:buChar char="•"/>
              <a:tabLst>
                <a:tab algn="l" pos="195120"/>
                <a:tab algn="l" pos="1109520"/>
                <a:tab algn="l" pos="2023920"/>
                <a:tab algn="l" pos="2938320"/>
                <a:tab algn="l" pos="3852720"/>
                <a:tab algn="l" pos="4767120"/>
                <a:tab algn="l" pos="5681520"/>
                <a:tab algn="l" pos="6595920"/>
                <a:tab algn="l" pos="7510320"/>
                <a:tab algn="l" pos="8424720"/>
                <a:tab algn="l" pos="9339120"/>
                <a:tab algn="l" pos="10253520"/>
                <a:tab algn="l" pos="105156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цільне середовище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верді тіла, рідини та гази, молекулярною будовою яких нехтують за даних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63800"/>
            <a:ext cx="5472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95120" indent="246240" algn="just">
              <a:lnSpc>
                <a:spcPct val="85000"/>
              </a:lnSpc>
              <a:buClr>
                <a:srgbClr val="333399"/>
              </a:buClr>
              <a:buFont typeface="Times New Roman"/>
              <a:buChar char="•"/>
              <a:tabLst>
                <a:tab algn="l" pos="195120"/>
                <a:tab algn="l" pos="1109520"/>
                <a:tab algn="l" pos="2023920"/>
                <a:tab algn="l" pos="2938320"/>
                <a:tab algn="l" pos="3852720"/>
                <a:tab algn="l" pos="4767120"/>
                <a:tab algn="l" pos="5681520"/>
                <a:tab algn="l" pos="6595920"/>
                <a:tab algn="l" pos="7510320"/>
                <a:tab algn="l" pos="8424720"/>
                <a:tab algn="l" pos="9339120"/>
                <a:tab algn="l" pos="10253520"/>
                <a:tab algn="l" pos="10515600"/>
              </a:tabLst>
            </a:pP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атеріальна точка (МТ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тіло, що має масу, але розмірами якого в умовах даної задачі можна знехтув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508720" y="1700280"/>
            <a:ext cx="3452760" cy="2374920"/>
            <a:chOff x="5508720" y="1700280"/>
            <a:chExt cx="3452760" cy="2374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5508720" y="1700280"/>
              <a:ext cx="345276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508720" y="1719360"/>
              <a:ext cx="1757160" cy="109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nodeType="clickEffect" fill="hold">
                      <p:stCondLst>
                        <p:cond delay="0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838080" indent="-836640" algn="ctr">
              <a:lnSpc>
                <a:spcPct val="100000"/>
              </a:lnSpc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89648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Простір та час. Системи відліку.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65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фізики та інших природничих наук поняття </a:t>
            </a: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стору </a:t>
            </a:r>
            <a:r>
              <a:rPr b="0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</a:t>
            </a: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часу</a:t>
            </a:r>
            <a:r>
              <a:rPr b="0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є основними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стір</a:t>
            </a:r>
            <a:r>
              <a:rPr b="0" lang="uk-UA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ражає відокремленість об’єктів та їхню протяжність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i="1" lang="uk-UA" sz="35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</a:t>
            </a:r>
            <a:r>
              <a:rPr b="0" lang="uk-UA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є послідовність існування явищ і відокремленість різних стадій розвитку, тривалість, періодичність та швидкість процесів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nodeType="clickEffect" fill="hold">
                      <p:stCondLst>
                        <p:cond delay="0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65000"/>
            <a:ext cx="91440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</a:t>
            </a: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ласичній механіці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за концепцією І. Ньютона, поняття простору та часу мають абсолютний характер, незалежний від матеріальних об’єк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бсолютний простір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змежна порожнеча, нерухома і проникна, безперервна, однорідна, ізотроп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бсолютний ча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звідносний до будь-чого зовнішнього, безперервний і однорідний, плине рівномірно в одному напрямі від минулого до майбутн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73664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 розвитком науки змінюються уявлення про простір і ч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орія відносності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А. Ейнштейна привела до заміни класичної концепції простору і часу новою концепцією, згідно якої,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ір і час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ідносні, органічно пов’язані між собою і з рухом матерії. Матерія, рух, простір і час розглядають як одне ціле.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кільки рух тіл відбувається у просторі і у часі, то для його описання необхідно знати, в яких місцях простору і в які моменти часу це тіло знаходи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оження тіла визначають відносн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ого-небудь іншого, довільно вибраного тіла –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іла відліку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21000"/>
            <a:ext cx="39956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упність пр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вої системи координат і год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, пов’язаних з тілом відліку, н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ють </a:t>
            </a:r>
            <a:r>
              <a:rPr b="0" i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ою відліку</a:t>
            </a:r>
            <a:r>
              <a:rPr b="0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995640" y="3284640"/>
            <a:ext cx="5146920" cy="3095280"/>
            <a:chOff x="3995640" y="3284640"/>
            <a:chExt cx="5146920" cy="30952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3995640" y="3833640"/>
              <a:ext cx="5146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840280" y="4043880"/>
              <a:ext cx="174312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ло відлі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05800" y="5932440"/>
              <a:ext cx="1436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5720" y="4001040"/>
              <a:ext cx="1176480" cy="3682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дин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6360" y="5571720"/>
              <a:ext cx="133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координ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48200" y="3284640"/>
              <a:ext cx="30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відлі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8:55:06Z</dcterms:created>
  <dc:creator>Vlad</dc:creator>
  <dc:description/>
  <dc:language>en-US</dc:language>
  <cp:lastModifiedBy>Admin</cp:lastModifiedBy>
  <dcterms:modified xsi:type="dcterms:W3CDTF">2015-09-08T12:54:49Z</dcterms:modified>
  <cp:revision>191</cp:revision>
  <dc:subject/>
  <dc:title>НАВЧАЛЬНИЙ КОМПЛЕКТ З ФІЗИКИ У ВИЩИХ БУДІВЕЛЬНИ</dc:title>
</cp:coreProperties>
</file>