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9F4-A42C-4F21-93F6-A4C0EE74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289-D86D-4163-879C-A3883D4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DF9-00D6-4928-9FC2-9C8DE866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9AE-AA93-406A-97AD-6C77A40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54B-D7A7-4D74-98E7-88FDEE6F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62F-971D-4B43-A591-40BE00D6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D75E-C084-41A0-8513-AEAE883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3FC-1E3B-412C-B8E1-ECF5D94E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84BF-0BEA-497E-B62B-4917B98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D23-F2C2-4A12-94E3-C7F861E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C748-47E5-4EEE-8DA3-1375401A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3CE-3E2E-4426-887C-9CAEBF09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372D-5C62-4D32-8273-D3F03E8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8EE-030D-4D44-BB77-7C39E49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F73D-4475-4F17-8891-F91CDA33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B4D5-1248-48A0-AA5F-252672FA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DB1B-4A83-46A5-822B-40D22AA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E1F-08DF-437B-86B2-61F59A99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351-BA26-496D-8588-33857EB0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CD8-2B1A-4C74-9FC1-A9F8CC1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3C4-C584-46FC-9AD7-1F96C2A2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46B-E957-48AC-87AA-DE2BC17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692-FDB0-4F56-85B2-40FFF27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14F-96FE-4D34-88D0-E0ED50D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D3501-66A9-4009-AB2B-5925E30A93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C29DC6-AE0F-47CB-B678-1B2DBB203B8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ОДГОТОВКА К ПОЛУГОДОВОЙ КОНТРОЛЬНОЙ РАБОТЕ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ую форму глагол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days ago Roy (goes/went) to the Lake District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ss always (does/ did) her room on Saturda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know where London (is/was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sterday I (meet/ met) my friend Alice at the bus stop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idn’t (see/ saw) Fred at the part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единительная линия 4"/>
          <p:cNvCxnSpPr/>
          <p:nvPr/>
        </p:nvCxnSpPr>
        <p:spPr>
          <a:xfrm>
            <a:off x="6363720" y="232740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7" name="Прямая соединительная линия 6"/>
          <p:cNvCxnSpPr/>
          <p:nvPr/>
        </p:nvCxnSpPr>
        <p:spPr>
          <a:xfrm>
            <a:off x="3948480" y="2969280"/>
            <a:ext cx="89604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8" name="Прямая соединительная линия 7"/>
          <p:cNvCxnSpPr/>
          <p:nvPr/>
        </p:nvCxnSpPr>
        <p:spPr>
          <a:xfrm>
            <a:off x="6802560" y="3597480"/>
            <a:ext cx="5868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9" name="Прямая соединительная линия 10"/>
          <p:cNvCxnSpPr/>
          <p:nvPr/>
        </p:nvCxnSpPr>
        <p:spPr>
          <a:xfrm>
            <a:off x="4844160" y="42530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90" name="Прямая соединительная линия 11"/>
          <p:cNvCxnSpPr/>
          <p:nvPr/>
        </p:nvCxnSpPr>
        <p:spPr>
          <a:xfrm>
            <a:off x="2895480" y="53708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недостающие форм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Таблица 4"/>
          <p:cNvGraphicFramePr/>
          <p:nvPr/>
        </p:nvGraphicFramePr>
        <p:xfrm>
          <a:off x="838080" y="1825560"/>
          <a:ext cx="10515240" cy="423144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 flipH="1">
            <a:off x="8422560" y="23367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 flipH="1">
            <a:off x="2885760" y="2860200"/>
            <a:ext cx="126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 flipH="1">
            <a:off x="3016800" y="338328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flipH="1">
            <a:off x="8297640" y="39063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flipH="1">
            <a:off x="8422560" y="44175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 flipH="1">
            <a:off x="8164440" y="5002560"/>
            <a:ext cx="151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 flipH="1">
            <a:off x="3148560" y="552600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4280" y="486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ественн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496160"/>
            <a:ext cx="105152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47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701800" y="4220280"/>
            <a:ext cx="5402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nineteen forty-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701800" y="2480760"/>
            <a:ext cx="3394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-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01800" y="3380040"/>
            <a:ext cx="510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hundred and f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701800" y="16570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770920" y="4985640"/>
            <a:ext cx="4174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 nine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770920" y="5912640"/>
            <a:ext cx="650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thousand and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ый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5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8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4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83080" y="182556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83080" y="25336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683080" y="342900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wenty-fif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683080" y="425376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orty-eigh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683080" y="4961880"/>
            <a:ext cx="4206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ninety-fou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равнительную и превосходную степени следующих прилагательны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Таблица 5"/>
          <p:cNvGraphicFramePr/>
          <p:nvPr/>
        </p:nvGraphicFramePr>
        <p:xfrm>
          <a:off x="838080" y="1825560"/>
          <a:ext cx="10688400" cy="4113000"/>
        </p:xfrm>
        <a:graphic>
          <a:graphicData uri="http://schemas.openxmlformats.org/drawingml/2006/table">
            <a:tbl>
              <a:tblPr/>
              <a:tblGrid>
                <a:gridCol w="3562920"/>
                <a:gridCol w="3562920"/>
                <a:gridCol w="3562920"/>
              </a:tblGrid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и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осх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pp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5"/>
          <p:cNvSpPr/>
          <p:nvPr/>
        </p:nvSpPr>
        <p:spPr>
          <a:xfrm>
            <a:off x="5577840" y="23367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956440" y="231804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rg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576760" y="28443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8957160" y="284436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t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578560" y="3369960"/>
            <a:ext cx="1255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795160" y="3339000"/>
            <a:ext cx="182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appi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5289120" y="3881160"/>
            <a:ext cx="2023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8544240" y="3881160"/>
            <a:ext cx="246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5664600" y="4394160"/>
            <a:ext cx="101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9151920" y="4422960"/>
            <a:ext cx="1247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5649840" y="4907160"/>
            <a:ext cx="100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9050400" y="4884480"/>
            <a:ext cx="14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649480" y="5406840"/>
            <a:ext cx="11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c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8957520" y="5425920"/>
            <a:ext cx="174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ick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цифрам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half past two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to s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past on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ine o’clock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wenty to el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en past ten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56360" y="189360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256360" y="2526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256360" y="3309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256360" y="4092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257080" y="487512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5257080" y="547056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предложения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:5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:1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:45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:3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:1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736720" y="1930320"/>
            <a:ext cx="2910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half past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735280" y="2588400"/>
            <a:ext cx="257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five to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741760" y="3290760"/>
            <a:ext cx="37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pas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737080" y="4031640"/>
            <a:ext cx="308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to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2742120" y="4755960"/>
            <a:ext cx="3861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wenty-five to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737440" y="5501160"/>
            <a:ext cx="2972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en past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  <Words>268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0T12:22:56Z</dcterms:created>
  <dc:creator>Ксения Сен</dc:creator>
  <dc:description/>
  <dc:language>en-US</dc:language>
  <cp:lastModifiedBy>Ксения Сен</cp:lastModifiedBy>
  <dcterms:modified xsi:type="dcterms:W3CDTF">2022-12-21T05:26:32Z</dcterms:modified>
  <cp:revision>4</cp:revision>
  <dc:subject/>
  <dc:title>ПОДГОТОВКА К ПОЛУГОДОВОЙ КОНТРОЛЬНОЙ РАБОТ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