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7FF4-1702-44BC-9212-47832ACF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434-03C7-4C6C-85AC-FFCBAC56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B88-65D8-4708-B9E8-5A411708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7B1-6C5E-4B0D-9F53-4874BCAF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8F60-B46A-4751-BF18-117F6116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98D9-CC5D-4E25-AB11-EC391DF7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E9ED-9C99-4A52-9F30-6EF06D2F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B7BC-153B-45F9-AF06-FE068315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1BFC-14F2-4446-968F-ABC8B9C9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7894-C7F1-4676-BE50-D7D80850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1F2A-0C92-46BD-ACCC-A71D9DF4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60A-30DB-4072-99BC-C47E8D04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A042-66BB-4C07-B8A0-531F9DB7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FD56-CE5B-4A7F-9E85-66401A7E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35B5-E51A-474D-86D1-912329CC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7996-27C1-432D-9D1E-4F4012EF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E72C-35E1-48D9-BF46-6821B307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905-88A8-45B9-9C69-6D6EED57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20A-87CC-4CA6-B21D-7268EA4D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D2A-DD8C-4D89-B82C-F32F9164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A79E-25D0-4B60-8863-C8B832B1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FD3-443E-4A59-BEA1-747202D7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A50-F647-445B-BFF9-C27C3CFE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1B14-1CCD-4AEB-B2BA-81A1ABA0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C24407-83D3-40BD-9B48-1B7E051D4FF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DD33DD-CE3D-47BD-A563-63412A7FC59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ПОДГОТОВКА К ПОЛУГОДОВОЙ КОНТРОЛЬНОЙ РАБОТЕ 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NBOW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равильную форму глагол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days ago Roy (goes/went) to the Lake District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ss always (does/ did) her room on Saturday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you know where London (is/was)?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esterday I (meet/ met) my friend Alice at the bus stop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didn’t (see/ saw) Fred at the party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Прямая соединительная линия 4"/>
          <p:cNvCxnSpPr/>
          <p:nvPr/>
        </p:nvCxnSpPr>
        <p:spPr>
          <a:xfrm>
            <a:off x="6363720" y="2327400"/>
            <a:ext cx="896400" cy="360"/>
          </a:xfrm>
          <a:prstGeom prst="straightConnector1">
            <a:avLst/>
          </a:prstGeom>
          <a:ln w="57150">
            <a:solidFill>
              <a:srgbClr val="ed7d31"/>
            </a:solidFill>
          </a:ln>
        </p:spPr>
      </p:cxnSp>
      <p:cxnSp>
        <p:nvCxnSpPr>
          <p:cNvPr id="87" name="Прямая соединительная линия 6"/>
          <p:cNvCxnSpPr/>
          <p:nvPr/>
        </p:nvCxnSpPr>
        <p:spPr>
          <a:xfrm>
            <a:off x="3948480" y="2969280"/>
            <a:ext cx="896040" cy="360"/>
          </a:xfrm>
          <a:prstGeom prst="straightConnector1">
            <a:avLst/>
          </a:prstGeom>
          <a:ln w="57150">
            <a:solidFill>
              <a:srgbClr val="ed7d31"/>
            </a:solidFill>
          </a:ln>
        </p:spPr>
      </p:cxnSp>
      <p:cxnSp>
        <p:nvCxnSpPr>
          <p:cNvPr id="88" name="Прямая соединительная линия 7"/>
          <p:cNvCxnSpPr/>
          <p:nvPr/>
        </p:nvCxnSpPr>
        <p:spPr>
          <a:xfrm>
            <a:off x="6802560" y="3597480"/>
            <a:ext cx="586800" cy="360"/>
          </a:xfrm>
          <a:prstGeom prst="straightConnector1">
            <a:avLst/>
          </a:prstGeom>
          <a:ln w="57150">
            <a:solidFill>
              <a:srgbClr val="ed7d31"/>
            </a:solidFill>
          </a:ln>
        </p:spPr>
      </p:cxnSp>
      <p:cxnSp>
        <p:nvCxnSpPr>
          <p:cNvPr id="89" name="Прямая соединительная линия 10"/>
          <p:cNvCxnSpPr/>
          <p:nvPr/>
        </p:nvCxnSpPr>
        <p:spPr>
          <a:xfrm>
            <a:off x="4844160" y="4253040"/>
            <a:ext cx="896400" cy="360"/>
          </a:xfrm>
          <a:prstGeom prst="straightConnector1">
            <a:avLst/>
          </a:prstGeom>
          <a:ln w="57150">
            <a:solidFill>
              <a:srgbClr val="ed7d31"/>
            </a:solidFill>
          </a:ln>
        </p:spPr>
      </p:cxnSp>
      <p:cxnSp>
        <p:nvCxnSpPr>
          <p:cNvPr id="90" name="Прямая соединительная линия 11"/>
          <p:cNvCxnSpPr/>
          <p:nvPr/>
        </p:nvCxnSpPr>
        <p:spPr>
          <a:xfrm>
            <a:off x="2895480" y="5370840"/>
            <a:ext cx="896400" cy="360"/>
          </a:xfrm>
          <a:prstGeom prst="straightConnector1">
            <a:avLst/>
          </a:prstGeom>
          <a:ln w="57150">
            <a:solidFill>
              <a:srgbClr val="ed7d31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ишите недостающие формы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Таблица 4"/>
          <p:cNvGraphicFramePr/>
          <p:nvPr/>
        </p:nvGraphicFramePr>
        <p:xfrm>
          <a:off x="838080" y="1825560"/>
          <a:ext cx="10515240" cy="4231440"/>
        </p:xfrm>
        <a:graphic>
          <a:graphicData uri="http://schemas.openxmlformats.org/drawingml/2006/table">
            <a:tbl>
              <a:tblPr/>
              <a:tblGrid>
                <a:gridCol w="5257800"/>
                <a:gridCol w="5257800"/>
              </a:tblGrid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2520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2520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e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u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sp>
        <p:nvSpPr>
          <p:cNvPr id="93" name="TextBox 4"/>
          <p:cNvSpPr/>
          <p:nvPr/>
        </p:nvSpPr>
        <p:spPr>
          <a:xfrm flipH="1">
            <a:off x="8422560" y="2336760"/>
            <a:ext cx="997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 flipH="1">
            <a:off x="2885760" y="2860200"/>
            <a:ext cx="1260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Th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 flipH="1">
            <a:off x="3016800" y="3383280"/>
            <a:ext cx="997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 flipH="1">
            <a:off x="8297640" y="3906360"/>
            <a:ext cx="997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g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 flipH="1">
            <a:off x="8422560" y="4417560"/>
            <a:ext cx="997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s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 flipH="1">
            <a:off x="8164440" y="5002560"/>
            <a:ext cx="1514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b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 flipH="1">
            <a:off x="3148560" y="5526000"/>
            <a:ext cx="997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4280" y="4860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ишите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количественное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числительное словами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496160"/>
            <a:ext cx="1051524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77720" indent="-477720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3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-477720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-477720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-477720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47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-477720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19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77720" indent="-477720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ru-RU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701800" y="4220280"/>
            <a:ext cx="5402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nineteen forty-s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701800" y="2480760"/>
            <a:ext cx="3394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wenty-e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01800" y="3380040"/>
            <a:ext cx="5102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wo hundred and f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2701800" y="1657080"/>
            <a:ext cx="2756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hir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2770920" y="4985640"/>
            <a:ext cx="4174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wenty nine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2770920" y="5912640"/>
            <a:ext cx="6501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wo thousand and 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ишите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порядковое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числительное словами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ый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и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5ы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8о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94ы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683080" y="1825560"/>
            <a:ext cx="2756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he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83080" y="2533680"/>
            <a:ext cx="2756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he thi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683080" y="3429000"/>
            <a:ext cx="4142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he twenty-fif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2683080" y="4253760"/>
            <a:ext cx="4142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he forty-eigh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2683080" y="4961880"/>
            <a:ext cx="4206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the ninety-fou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сравнительную и превосходную степени следующих прилагательных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Таблица 5"/>
          <p:cNvGraphicFramePr/>
          <p:nvPr/>
        </p:nvGraphicFramePr>
        <p:xfrm>
          <a:off x="838080" y="1825560"/>
          <a:ext cx="10688400" cy="4113000"/>
        </p:xfrm>
        <a:graphic>
          <a:graphicData uri="http://schemas.openxmlformats.org/drawingml/2006/table">
            <a:tbl>
              <a:tblPr/>
              <a:tblGrid>
                <a:gridCol w="3562920"/>
                <a:gridCol w="3562920"/>
                <a:gridCol w="3562920"/>
              </a:tblGrid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итель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2520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и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2520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восход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2520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pp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icul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c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sp>
        <p:nvSpPr>
          <p:cNvPr id="117" name="TextBox 5"/>
          <p:cNvSpPr/>
          <p:nvPr/>
        </p:nvSpPr>
        <p:spPr>
          <a:xfrm>
            <a:off x="5577840" y="2336760"/>
            <a:ext cx="1036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8956440" y="2318040"/>
            <a:ext cx="1604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arg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5576760" y="2844360"/>
            <a:ext cx="1036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t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8957160" y="2844360"/>
            <a:ext cx="1604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ott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5578560" y="3369960"/>
            <a:ext cx="1255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ppi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8795160" y="3339000"/>
            <a:ext cx="1824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appi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5289120" y="3881160"/>
            <a:ext cx="2023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diffic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8544240" y="3881160"/>
            <a:ext cx="2462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st diffic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5664600" y="4394160"/>
            <a:ext cx="1019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4"/>
          <p:cNvSpPr/>
          <p:nvPr/>
        </p:nvSpPr>
        <p:spPr>
          <a:xfrm>
            <a:off x="9151920" y="4422960"/>
            <a:ext cx="1247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5649840" y="4907160"/>
            <a:ext cx="1001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9050400" y="4884480"/>
            <a:ext cx="1450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or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7"/>
          <p:cNvSpPr/>
          <p:nvPr/>
        </p:nvSpPr>
        <p:spPr>
          <a:xfrm>
            <a:off x="5649480" y="5406840"/>
            <a:ext cx="11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ck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"/>
          <p:cNvSpPr/>
          <p:nvPr/>
        </p:nvSpPr>
        <p:spPr>
          <a:xfrm>
            <a:off x="8957520" y="5425920"/>
            <a:ext cx="1740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hick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ишите время цифрами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half past two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a quarter to seven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a quarter past one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nine o’clock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twenty to eleven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ten past ten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256360" y="1893600"/>
            <a:ext cx="834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2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5256360" y="2526120"/>
            <a:ext cx="834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6: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5256360" y="3309120"/>
            <a:ext cx="834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1: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5256360" y="4092120"/>
            <a:ext cx="834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9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5257080" y="4875120"/>
            <a:ext cx="1013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10: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5257080" y="5470560"/>
            <a:ext cx="1013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10: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ишите время предложениям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:30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:55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:15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:45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:35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:10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736720" y="1930320"/>
            <a:ext cx="2910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t’s half past f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2735280" y="2588400"/>
            <a:ext cx="2579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t’s five to 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2741760" y="3290760"/>
            <a:ext cx="3788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t’s a quarter past 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2737080" y="4031640"/>
            <a:ext cx="3085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t’s a quarter to s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2742120" y="4755960"/>
            <a:ext cx="3861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t’s twenty-five to sev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2737440" y="5501160"/>
            <a:ext cx="2972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t’s ten past sev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  <Words>268</Words>
  <Paragraphs>10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20T12:22:56Z</dcterms:created>
  <dc:creator>Ксения Сен</dc:creator>
  <dc:description/>
  <dc:language>en-US</dc:language>
  <cp:lastModifiedBy>Ксения Сен</cp:lastModifiedBy>
  <dcterms:modified xsi:type="dcterms:W3CDTF">2022-12-21T05:26:32Z</dcterms:modified>
  <cp:revision>4</cp:revision>
  <dc:subject/>
  <dc:title>ПОДГОТОВКА К ПОЛУГОДОВОЙ КОНТРОЛЬНОЙ РАБОТЕ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8</vt:r8>
  </property>
</Properties>
</file>