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8063-15DF-41D6-90B8-4CD92333B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837-78DC-4C1D-B15D-7C79992FA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и, как и тв.тела м/б проводниками эл.тока. В жидких металлах носителями эл.тока (заряда) являются электроны, поэтому говорят, что жидкие металлы обладают электронной проводимостью. В растворах и расплавах электролитов (солей, кислот и щёлочей) перенос зарядов под действием эл.поля, осуществляется «+» и «-» ионами, которые движутся в противоположных направл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839-9B15-4DF5-8D80-B0DE5C3EA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творе появляются свободные носители эл.тока +Си и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окружены полярными молекулами воды. Данное явление называется электролитической диссоци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D98F-2BED-4645-9C0B-584C1C7E0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ледствие теплового движения молекул растворимость зависит от температуры. «+» и «-» ионы могут возникать и при плавлении тв.электролитов в результате распада полярных молекул из-за увеличения амплитуды тепловых колеб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яду с процессом диссоциации (распада) молекул в электролитах возможен обрат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лижении ионов разных знаков возможно их объединение в одну молекулу – рекомбин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число молекул распадающихся на ионы становится равным числу молеку, возникающих за то же время вследствие рекомбинации, наступает динамическ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4FB-5CB9-41FC-976C-D9C44F67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4D5-2A53-4CFB-8126-38A14B9A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6AF-3096-4001-A05E-ADBE9EB9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727-E64E-4278-83A8-E164972C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A6E-C39E-4A50-9D22-6B5A387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22B-35A5-49DB-9901-68970CB0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3B0-B09A-4C4D-8EF5-680EA789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8E9-CE2F-4C7F-9245-D6E91821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72F-A6DE-40E7-B106-66664A99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C6F-466D-4569-B483-A87BB0B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62F-64D5-4077-894F-AB6D3F3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01B-6054-4204-ADF9-FFFFAD2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A3AA-E793-4CB7-AA2C-04CE9E932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610884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1523880" y="1865160"/>
            <a:ext cx="6172200" cy="1785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10" descr="image001"/>
          <p:cNvPicPr/>
          <p:nvPr/>
        </p:nvPicPr>
        <p:blipFill>
          <a:blip r:embed="rId1"/>
          <a:srcRect l="0" t="0" r="0" b="54498"/>
          <a:stretch/>
        </p:blipFill>
        <p:spPr>
          <a:xfrm>
            <a:off x="685800" y="3944880"/>
            <a:ext cx="2797200" cy="194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mage001"/>
          <p:cNvPicPr/>
          <p:nvPr/>
        </p:nvPicPr>
        <p:blipFill>
          <a:blip r:embed="rId2"/>
          <a:srcRect l="0" t="49864" r="0" b="5527"/>
          <a:stretch/>
        </p:blipFill>
        <p:spPr>
          <a:xfrm>
            <a:off x="5105520" y="3873600"/>
            <a:ext cx="2939760" cy="1927080"/>
          </a:xfrm>
          <a:prstGeom prst="rect">
            <a:avLst/>
          </a:prstGeom>
          <a:ln w="0">
            <a:noFill/>
          </a:ln>
        </p:spPr>
      </p:pic>
      <p:sp>
        <p:nvSpPr>
          <p:cNvPr id="53" name="Line 12"/>
          <p:cNvSpPr/>
          <p:nvPr/>
        </p:nvSpPr>
        <p:spPr>
          <a:xfrm>
            <a:off x="5105520" y="3944880"/>
            <a:ext cx="0" cy="17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0033cc"/>
                </a:solidFill>
                <a:latin typeface="Comic Sans MS"/>
              </a:rPr>
              <a:t>постоянная Фарад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Comic Sans MS"/>
              </a:rPr>
              <a:t>F</a:t>
            </a:r>
            <a:r>
              <a:rPr b="1" i="1" lang="ru-RU" sz="3600" spc="-1" strike="noStrike">
                <a:solidFill>
                  <a:srgbClr val="0033cc"/>
                </a:solidFill>
                <a:latin typeface="Comic Sans MS"/>
              </a:rPr>
              <a:t>= 96500Кл/м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Физ.смысл </a:t>
            </a:r>
            <a:r>
              <a:rPr b="1" i="1" lang="en-US" sz="3200" spc="-1" strike="noStrike">
                <a:solidFill>
                  <a:srgbClr val="ff0066"/>
                </a:solidFill>
                <a:latin typeface="Comic Sans MS"/>
              </a:rPr>
              <a:t>F</a:t>
            </a:r>
            <a:r>
              <a:rPr b="1" i="1" lang="ru-RU" sz="3200" spc="-1" strike="noStrike">
                <a:solidFill>
                  <a:srgbClr val="ff0066"/>
                </a:solidFill>
                <a:latin typeface="Comic Sans MS"/>
              </a:rPr>
              <a:t>-</a:t>
            </a:r>
            <a:r>
              <a:rPr b="1" i="1" lang="ru-RU" sz="3200" spc="-1" strike="noStrike">
                <a:solidFill>
                  <a:srgbClr val="0033cc"/>
                </a:solidFill>
                <a:latin typeface="Comic Sans MS"/>
              </a:rPr>
              <a:t> численно равна заряду, который надо пропустить через раствор электролита, чтобы выделить на электроде 1 моль одновалентного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755640" y="476280"/>
                <a:ext cx="2087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бук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2560" y="785880"/>
            <a:ext cx="9001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те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а то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ря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о Авогад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= 1,6*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-19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,  е- заряд элек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- электрохимический эквивал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К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ая Фарад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04920" y="7621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 увеличением температуры сопротивление электролита уменьшает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28600" y="2167920"/>
            <a:ext cx="853452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ная зависимость сопротивления электролита объясняется в основ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м удельного сопротив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альфа - температур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сопротивл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лектролитов все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тивление электролита можно расс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формул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class-fizika.narod.ru/10_11_class/10_toksreda/58.jpg"/>
          <p:cNvPicPr/>
          <p:nvPr/>
        </p:nvPicPr>
        <p:blipFill>
          <a:blip r:embed="rId1"/>
          <a:stretch/>
        </p:blipFill>
        <p:spPr>
          <a:xfrm>
            <a:off x="685800" y="2743200"/>
            <a:ext cx="3200400" cy="91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ttp://class-fizika.narod.ru/10_11_class/10_toksreda/57.jpg"/>
          <p:cNvPicPr/>
          <p:nvPr/>
        </p:nvPicPr>
        <p:blipFill>
          <a:blip r:embed="rId2"/>
          <a:stretch/>
        </p:blipFill>
        <p:spPr>
          <a:xfrm>
            <a:off x="3657600" y="3809880"/>
            <a:ext cx="12873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class-fizika.narod.ru/10_11_class/10_toksreda/56.jpg"/>
          <p:cNvPicPr/>
          <p:nvPr/>
        </p:nvPicPr>
        <p:blipFill>
          <a:blip r:embed="rId3"/>
          <a:stretch/>
        </p:blipFill>
        <p:spPr>
          <a:xfrm>
            <a:off x="6083280" y="3643200"/>
            <a:ext cx="3060720" cy="235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ttp://class-fizika.narod.ru/10_11_class/10_toksreda/59.jpg"/>
          <p:cNvPicPr/>
          <p:nvPr/>
        </p:nvPicPr>
        <p:blipFill>
          <a:blip r:embed="rId4"/>
          <a:stretch/>
        </p:blipFill>
        <p:spPr>
          <a:xfrm>
            <a:off x="2000160" y="5214960"/>
            <a:ext cx="25732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рименение электролиза в техн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окрытие металлических изделий тонким слоем другого металла (никелирование, хромирование, омеднение, золочение)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(гальваностегия</a:t>
            </a:r>
            <a:r>
              <a:rPr b="1" i="1" lang="ru-RU" sz="2400" spc="-1" strike="noStrike">
                <a:solidFill>
                  <a:srgbClr val="cc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2.Изготовление металлических копий рельефных предметов. Этим способом были сделаны фигуры для Исаакиевского собора в Санкт-Петербурге (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альванопластика)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3.Получение полы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4.Получение чистых металлов  (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афинирование)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rcRect l="7770" t="55320" r="59274" b="19188"/>
          <a:stretch/>
        </p:blipFill>
        <p:spPr>
          <a:xfrm>
            <a:off x="2357280" y="4500720"/>
            <a:ext cx="4071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image001"/>
          <p:cNvPicPr/>
          <p:nvPr/>
        </p:nvPicPr>
        <p:blipFill>
          <a:blip r:embed="rId1"/>
          <a:srcRect l="0" t="0" r="0" b="50173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5257800" y="2133720"/>
            <a:ext cx="3429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Zn, Ag, Au, 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FIG13"/>
          <p:cNvPicPr/>
          <p:nvPr/>
        </p:nvPicPr>
        <p:blipFill>
          <a:blip r:embed="rId1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352680" y="4191120"/>
            <a:ext cx="5410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14200" y="63612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 получение оксидных защитных пленок на металлах (анодирование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i?id=42170919&amp;tov=7"/>
          <p:cNvPicPr/>
          <p:nvPr/>
        </p:nvPicPr>
        <p:blipFill>
          <a:blip r:embed="rId1"/>
          <a:stretch/>
        </p:blipFill>
        <p:spPr>
          <a:xfrm>
            <a:off x="2843280" y="0"/>
            <a:ext cx="3600360" cy="2711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3203640" y="292356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альваническое наращивания тонкого сло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Картинка 10 из 21"/>
          <p:cNvPicPr/>
          <p:nvPr/>
        </p:nvPicPr>
        <p:blipFill>
          <a:blip r:embed="rId2"/>
          <a:stretch/>
        </p:blipFill>
        <p:spPr>
          <a:xfrm>
            <a:off x="0" y="0"/>
            <a:ext cx="2771640" cy="2730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2520" y="278100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мазный инстру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готовленный мет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льваност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Картинка 2 из 21"/>
          <p:cNvPicPr/>
          <p:nvPr/>
        </p:nvPicPr>
        <p:blipFill>
          <a:blip r:embed="rId3"/>
          <a:stretch/>
        </p:blipFill>
        <p:spPr>
          <a:xfrm>
            <a:off x="395280" y="3716280"/>
            <a:ext cx="5832360" cy="3141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Картинка 3 из 21"/>
          <p:cNvPicPr/>
          <p:nvPr/>
        </p:nvPicPr>
        <p:blipFill>
          <a:blip r:embed="rId4"/>
          <a:stretch/>
        </p:blipFill>
        <p:spPr>
          <a:xfrm>
            <a:off x="6437160" y="1752480"/>
            <a:ext cx="2706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Картинка 2 из 229"/>
          <p:cNvPicPr/>
          <p:nvPr/>
        </p:nvPicPr>
        <p:blipFill>
          <a:blip r:embed="rId1"/>
          <a:srcRect l="5719" t="7625" r="28774" b="46800"/>
          <a:stretch/>
        </p:blipFill>
        <p:spPr>
          <a:xfrm>
            <a:off x="3203640" y="3716280"/>
            <a:ext cx="3011400" cy="314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1080" y="314100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цы, чеканка, камни, золо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Картинка 3 из 229"/>
          <p:cNvPicPr/>
          <p:nvPr/>
        </p:nvPicPr>
        <p:blipFill>
          <a:blip r:embed="rId2"/>
          <a:stretch/>
        </p:blipFill>
        <p:spPr>
          <a:xfrm>
            <a:off x="0" y="0"/>
            <a:ext cx="3564000" cy="2994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3"/>
          <a:srcRect l="61396" t="19380" r="26590" b="67520"/>
          <a:stretch/>
        </p:blipFill>
        <p:spPr>
          <a:xfrm>
            <a:off x="3564000" y="18900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4"/>
          <a:srcRect l="61772" t="58912" r="27620" b="27013"/>
          <a:stretch/>
        </p:blipFill>
        <p:spPr>
          <a:xfrm>
            <a:off x="0" y="3689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5"/>
          <a:srcRect l="43554" t="54016" r="46865" b="27485"/>
          <a:stretch/>
        </p:blipFill>
        <p:spPr>
          <a:xfrm>
            <a:off x="6372360" y="3284640"/>
            <a:ext cx="2430360" cy="357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6"/>
          <a:srcRect l="21740" t="54232" r="67689" b="26614"/>
          <a:stretch/>
        </p:blipFill>
        <p:spPr>
          <a:xfrm>
            <a:off x="6743880" y="0"/>
            <a:ext cx="24001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элект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228600" y="5715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Comic Sans MS"/>
              </a:rPr>
              <a:t>Электролиты – 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это вещества, водные растворы  которых проводят электрический 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ам электролит в твердом состоя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е проводит электрически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оводимость электролита.wmv" descr=""/>
          <p:cNvPicPr/>
          <p:nvPr/>
        </p:nvPicPr>
        <p:blipFill>
          <a:blip r:embed="rId1"/>
          <a:stretch/>
        </p:blipFill>
        <p:spPr>
          <a:xfrm>
            <a:off x="4214880" y="2833560"/>
            <a:ext cx="4929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4932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При растворении электролита в воде его молекулы распадаются на положительные и отрицательные ионы под действием ЭП полярных молекул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27007" t="22992" r="3783" b="12918"/>
          <a:stretch/>
        </p:blipFill>
        <p:spPr>
          <a:xfrm>
            <a:off x="1643040" y="2000160"/>
            <a:ext cx="5543640" cy="31435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14200" y="528624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лектролитическая диссоци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роцесс распада молекул электролита на положительные и отрицательные ио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тепень диссоци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зависит от концентрации раствора, температуры, диэлектрической проницаемости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екомбин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оцесс объединения ионов разных знаков в нейтральные моле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намическое равновес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гда число молекул распадающихся на ионы становится равным числу молекул, возникающих за то же время вследствие рекомбин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ключении раствора электролита к источнику тока положительные ионы идут к отрицательному полюсу, отрицательные ионы – к положительному полюсу. Возникает электрический ток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жидкостях носителям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ряда тока (движущи-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я зарядами)  являют-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я   положительные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тельные ио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онная проводимост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rcRect l="32787" t="28120" r="28782" b="28327"/>
          <a:stretch/>
        </p:blipFill>
        <p:spPr>
          <a:xfrm>
            <a:off x="5072040" y="2571840"/>
            <a:ext cx="3929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лектро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процесс выделения вещества на электродах, связанный с окислительно-восстановительной реак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кон электролиза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 в 1833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г. физи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йклом Фараде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17318" t="55276" r="69169" b="23312"/>
          <a:stretch/>
        </p:blipFill>
        <p:spPr>
          <a:xfrm>
            <a:off x="5143680" y="2428920"/>
            <a:ext cx="36432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900000" y="404640"/>
                <a:ext cx="2232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116000" y="1125360"/>
                <a:ext cx="1440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971640" y="2060640"/>
                <a:ext cx="16556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825480" y="3357720"/>
                <a:ext cx="2163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4"/>
              <p:cNvSpPr txBox="1"/>
              <p:nvPr/>
            </p:nvSpPr>
            <p:spPr>
              <a:xfrm>
                <a:off x="790560" y="4437000"/>
                <a:ext cx="22338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Δ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2"/>
              <p:cNvSpPr txBox="1"/>
              <p:nvPr/>
            </p:nvSpPr>
            <p:spPr>
              <a:xfrm>
                <a:off x="4643280" y="692280"/>
                <a:ext cx="28083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I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4"/>
              <p:cNvSpPr txBox="1"/>
              <p:nvPr/>
            </p:nvSpPr>
            <p:spPr>
              <a:xfrm>
                <a:off x="4788000" y="2565360"/>
                <a:ext cx="2087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7"/>
              <p:cNvSpPr txBox="1"/>
              <p:nvPr/>
            </p:nvSpPr>
            <p:spPr>
              <a:xfrm>
                <a:off x="4572000" y="3686040"/>
                <a:ext cx="3887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9"/>
              <p:cNvSpPr txBox="1"/>
              <p:nvPr/>
            </p:nvSpPr>
            <p:spPr>
              <a:xfrm>
                <a:off x="4572000" y="5084640"/>
                <a:ext cx="3816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Δ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85840"/>
            <a:ext cx="5219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Масса вещества, выделившегося на электроде за время </a:t>
            </a:r>
            <a:r>
              <a:rPr b="1" i="1" lang="el-GR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Δ</a:t>
            </a:r>
            <a:r>
              <a:rPr b="1" i="1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при прохождении электрического тока, прямо пропорциональна силе тока и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K</a:t>
            </a:r>
            <a:r>
              <a:rPr b="1" i="1" lang="ru-RU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 –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электрохимический эквивалент вещества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(зависит от молярной массы вещества «М» и валентности «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n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Физ. смысл </a:t>
            </a:r>
            <a:r>
              <a:rPr b="1" i="1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k</a:t>
            </a:r>
            <a:r>
              <a:rPr b="1" i="1" lang="ru-RU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– численно равен массе вещества, выделившегося на электроде при прохождении через электролит заряда в 1 К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5643720" y="1000080"/>
                <a:ext cx="30715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786280" y="3429000"/>
                <a:ext cx="23180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Прямая соединительная линия 11"/>
          <p:cNvSpPr/>
          <p:nvPr/>
        </p:nvSpPr>
        <p:spPr>
          <a:xfrm>
            <a:off x="5643720" y="1071720"/>
            <a:ext cx="3143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5"/>
          <p:cNvSpPr/>
          <p:nvPr/>
        </p:nvSpPr>
        <p:spPr>
          <a:xfrm flipH="1">
            <a:off x="8714880" y="1143000"/>
            <a:ext cx="1800" cy="12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7"/>
          <p:cNvSpPr/>
          <p:nvPr/>
        </p:nvSpPr>
        <p:spPr>
          <a:xfrm flipH="1">
            <a:off x="5643720" y="1071720"/>
            <a:ext cx="1440" cy="14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0"/>
          <p:cNvSpPr/>
          <p:nvPr/>
        </p:nvSpPr>
        <p:spPr>
          <a:xfrm>
            <a:off x="5643720" y="2500200"/>
            <a:ext cx="3143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7"/>
          <p:cNvSpPr/>
          <p:nvPr/>
        </p:nvSpPr>
        <p:spPr>
          <a:xfrm>
            <a:off x="5786280" y="342900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9"/>
          <p:cNvSpPr/>
          <p:nvPr/>
        </p:nvSpPr>
        <p:spPr>
          <a:xfrm flipH="1">
            <a:off x="5785920" y="3430440"/>
            <a:ext cx="1800" cy="13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2"/>
          <p:cNvSpPr/>
          <p:nvPr/>
        </p:nvSpPr>
        <p:spPr>
          <a:xfrm>
            <a:off x="5715000" y="4786200"/>
            <a:ext cx="242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4"/>
          <p:cNvSpPr/>
          <p:nvPr/>
        </p:nvSpPr>
        <p:spPr>
          <a:xfrm flipH="1">
            <a:off x="8071920" y="3429000"/>
            <a:ext cx="180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07:03Z</dcterms:created>
  <dc:creator>вап</dc:creator>
  <dc:description/>
  <dc:language>en-US</dc:language>
  <cp:lastModifiedBy>Albina</cp:lastModifiedBy>
  <dcterms:modified xsi:type="dcterms:W3CDTF">2023-01-16T07:07:26Z</dcterms:modified>
  <cp:revision>168</cp:revision>
  <dc:subject/>
  <dc:title>Слайд 1</dc:title>
</cp:coreProperties>
</file>