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7CF-C507-4D66-B6E9-80B64B66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0E9-AA90-4EFC-8517-685C8C69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EFC-A319-45E4-AA76-87BFEC9D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852-7DBB-4D2C-988C-8D16796E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25E-D56C-4093-8C73-35FBBD0D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F23C-2403-4061-A93B-41EF812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1C15-D6EB-47B2-B6C7-3070CEE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09F-30D3-4344-B4DD-2A3CDBA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369-71E6-42A7-B314-4CC1E3A0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322B-409C-49F7-B941-4F9517D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C45-EB89-4886-ACEE-B1B3640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B74-6CA8-46BB-AB7B-157CBF2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BFBF-5208-490D-88EB-E8E401B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0B3-E11F-486A-98C0-1DB43E0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6FFE-3379-4734-A0C7-22D5E7B3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D54F-5BAF-4DF4-A992-00107EC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DE08-981C-44FC-9F67-3E42FC9A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48C-D885-43FB-9906-44046D0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3E0-C553-4516-BE10-9B13009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E29-83A7-4845-B057-3EE9520C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2F3-2F36-43AF-AC64-0C8A70B3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126-2369-4BD3-8184-07DD35C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093-2244-4171-B6C3-32F954F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017-C7E3-450E-8A1E-C5367B5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3BA3-8340-45CD-AC47-8D9706521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A21F-A6A1-4D4F-AD53-38026D3C84A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"МУ 3.5.1.3674-20. 3.5.1. Дезинфектология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Обеззараживание рук медицинских работников и кожных покровов пациентов при оказании медицинской помощи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Методические указания"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(утв. Главным государственным санитарным врачом РФ 14.12.2020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5516280"/>
            <a:ext cx="28083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Гл. медсест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ЖОГОЛЕВА В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3. Обработку рук кожным антисептиком класса Б проводят перед выполнением любых оперативных вмешательств или других инвазивных процедур, манипуляций любой локализации, продолжительности, сложности, в т.ч.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катетеризацией магистральных сосу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установкой/заменой инвазивного/дренажного устройства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ункциями тканей, полостей, сосудов, спинномозговых канал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выполнением стерильных эндоскопических манипуляций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риемом ро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ри проведении процедур и уходе за новорожденными в отделениях/палатах реанимации и интенсивной терапии для новорожденных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4. До нанесения кожного антисептика кисти рук, запястья и предплечья до локтей включительно моют в течение двух минут без применения щеток теплой проточной водой с жидким мылом без антимикробных компонентов. Затем руки высушивают (промокают) одноразовой стерильной тканевой салфеткой или стерильным полотенце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Следуя определенному алгоритму (приложение 3 к настоящим МУ), кожным антисептиком класса Б обрабатывают кисти рук, запястья и предплечья до локтей включительно. Кожный антисептик наносят отдельными порциями, равномерно распределяют и тщательно втирают в кожу, поддерживая руки во влажном состоянии в течение времени обработки. Количество кожного антисептика на одну обработку, кратность обработки и ее продолжительность должны соответствовать инструкции по применению препарат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. Кожные антисептики класса 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1. Кожные антисептики класса В предназначены для гигиенической обработки рук работников медицинских и др. организаций на всех этапах оказания медицинской помощи, а также ее обеспечения, включая работников пищеблоков и других вспомогательных подразделений; лиц, осуществляющих уборку помещений, обслуживание оборудования, другие работы в помещениях, предназначенных для оказания медицинской помощи, а также для пациентов, членов их семей, других лиц при посещении пациентов и уходе за ни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Возможность использования кожного антисептика для гигиенической обработки рук предусматривается инструкцией по его примене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2. Кожные антисептики класса В обеспечивают снижение общей микробной обсемененности поверхности кожи не менее, чем на 95%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280" y="333360"/>
            <a:ext cx="814716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3. Обработку рук кожным антисептиком класса В (приложение 4 к настоящим МУ) проводя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до и после непосредственного контакта с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биологическими жидкостями,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еред выполнением инвазивных процедур (до контакта с инвазивным оборудованием и изделиями), кроме перечисленных в п. 4.3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медицинским оборудованием и другими объектами, находящимися в непосредственной близости от пациент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ри переходе от более контаминированного микроорганизмами участка тела пациента к менее контаминированному при оказании медицинской помощи и уходе за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снятия медицинских перчато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. Гигиена рук медицинского персонал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341360"/>
            <a:ext cx="8013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1. Для обеспечения эффективного мытья и обеззараживания рук необходимо соблюдать следующие услови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огти на руках - чистые, коротко остриженные, не покрытые лак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тсутствие искусственных ногте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а пальцах и кистях рук - отсутствие колец, перстней, элементов пирсинга, других украшений; перед обработкой рук хирургов необходимо снять часы, браслеты, другие украшения рук и предплечи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микротравмы (порезы, проколы, заусеницы, царапины, микротрещины) необходимо обработать антисептическим лекарственным средством и закрыть водостойким лейкопласты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620640"/>
            <a:ext cx="7786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2. Мытье рук жидким мылом и водой необходимо при их явном загрязнении, при этом следует соблюдать определенную последовательность (приложение 5 к настоящим М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3. Мытье рук мылом не является заменой обработки рук кожным антисептик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4. После мытья руки высушивают, промокая их салфеткой/полотенцем однократного использования; не следует применять электросушители. Салфетки (полотенца) бумажные однократного применения выбирают с достаточной гигроскопичностью, плотностью, не оставляющие после использования видимых волокон на коже рук. Не следует надевать перчатки на влажные рук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3640" y="404280"/>
            <a:ext cx="85690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5. Необходимо обеспечить доступность кожных антисептиков, предназначенных для гигиенической обработки рук, в достаточном количестве для всех пользователей. Для этого дозаторы (диспенсеры) кожных антисептиков размещают в наиболее востребованных местах, удобных для применения персоналом, пациентами, посетителями - у входа (выхода) в отделение, процедурную, перевязочную, манипуляционную, палату, бокс, туалет и др. (приложение 6 к настоящим МУ), обеспечивая их бесперебойную работу. Для отдельных категорий персонала, связанного с частым посещением отделений и палат  в дополнение к дозаторам целесообразно использовать кожные антисептики в индивидуальных флаконах небольшого (100 - 200 миллилитров) объем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6. Для ухода за кожей рук перед рабочей сменой, перед обеденным перерывом и после него, а также в конце рабочей смены рекомендуется использовать смягчающие и увлажняющие, питающие кожу кремы, лосьоны, бальзамы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. Санитарная обработка антисептикам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1. Санитарная обработка антисептиками кожных покровов пациентов (полная или частичная) предназначена для удаления загрязнений и снижения количества транзиторной микрофлоры, проводится по показаниям и не заменяет гигиенические процедуры (мытье водой с мылом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2. Санитарную обработку кожных покровов проводят при поступлении в отделение, накануне оперативного вмешательства или при уходе за пациен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3. Для санитарной обработки кожных покровов используют кожные антисептики класса В, не содержащие спиртов, обладающие моющими свойства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4. Всю поверхность тела, либо отдельный участок кожи протирают/моют салфеткой или тампоном, смоченным кожным антисептиком либо готовой к применению салфеткой, пропитанной кожным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I. Организация мероприятий по обеспечению эффективного обеззараживания рук и формированию приверженности  медицинского персонала гигиене рук обеспечивает администрация организаци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.3. Мероприятия по обеспечению эффективного обеззараживания рук включаю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рганизационное обеспечение мероприятий: разработка и утверждение инструкций; назначение лиц, ответственных за реализацию мероприятий и контроль их исполнения; мониторинг эпидемиологической ситуации, выполнения методики обеззараживания рук; расчет необходимого количества кожных антисептиков и учет их расход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6920" y="620640"/>
            <a:ext cx="76327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пациентов, посетителей правилам обработки рук, использование всех доступных средств наглядной информации о необходимости обработки рук, правилах ее проведени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медицинского персонала правилам обработки рук при поступлении на работу и далее не менее 1 раза в год, и дополнительно при внесении изменений в схему обработки рук (смена оборудования, дозаторов и др.), а также с учетом результатов производственного контрол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тоянный контроль, включая микробиологический, за соблюдением методики обеззараживания рук, разработка и реализация мер реагирования на выявленные на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ГОСУДАРСТВЕННОЕ САНИТАРНО-ЭПИДЕМИОЛОГИЧЕСКОЕ НОРМИРОВА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РОССИЙСКОЙ ФЕДЕР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I. Область примен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      </a:t>
            </a: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1.1.Настоящие методические указания (далее - МУ) содержат общие рекомендации по выбору и применению кожных антисептиков и направлены на снижение риска возникновения инфекций, связанных с оказанием медицинской помощи (далее - ИСМП), у пациентов, а также профессиональных заболеваний работников медицинских организа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КРОФЛОР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 МЕДИЦИНСКИХ РАБОТНИКОВ И 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6920" y="2204640"/>
            <a:ext cx="7777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обитающие на коже рук медицинских работников и контаминирующие кожные покровы пациентов, представлены резидентной (естественной, постоянной) и транзиторной (временно присутствующей) микрофлорой. Наибольшее эпидемиологическое значение имеет транзиторная микрофл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представляющие резидентную микрофлору, постоянно обитают на коже. В основном они находятся в глубоких слоях кожи, в том числе в сальных и потовых железах, волосяных фолликула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Резидентная микрофлора не вызывает патологических процессов на неповрежденной коже, однако может стать причиной инфекционного процесса при попадании в стерильные полости организма человека либо на поврежденную кожу.  Резидентные микроорганизмы невозможно удалить полностью, однако можно снизить их количество применением кожных антисепт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Транзиторная микрофлора попадает на руки медицинского персонала при контакте с пациентами и проведении различных диагностических и лечебных вмешательств, а также при контакте с контаминированными объектами внутрибольничной среды и может длительно выживать на кож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Транзиторная микрофлора может быть представлена патогенными и условно-патогенными микроорганизмами, имеющими различную степень эпидемиологической опасности для пациентов и медицинских работн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положительных микроорганизмов наибольшее значение имеют Staphylococcus aureus, в том числе метициллин-резистентный золотистый стафилококк (MRSA), Streptococcus spp, Mycobacterium tuberculosi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отрицательных микроорганизмов возбудителями ИСМП могут быть Pseudomonas aeruginosa, Acinetobacter baumannii, Klebsiella spp. (в частности, Klebsiella pneumoniae), Enterococcus spp., в том числе ванкомицин-резистентный энтерококк (VRE), Salmonella spp., а также Clostridium difficile - возбудитель псевдомембранозного энтероколи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еречисленные в данном пункте возбудители ИСМП и другие возможные возбудители ИСМП (например, вирусы парентеральных гепатитов, ВИЧ, герпеса, цитомегалии, грибы рода Candida и т.д.) могут передаваться через необеззараженные руки медицинского персонала и пациен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. Факторами, определяющими вероятность контаминации рук транзиторной микрофлорой и распространения возбудителей ИСМП, является наличие источников инфекции среди пациентов и медицинского персонала, виды и частота применяемых инструментальных методов обследования, диагностики и лечения больных, тип используемой лечебной и диагностической аппаратуры, количество проводимых инвазивных диагностических и лечебных процедур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Обеззараживание антисептиками рук медицинских работников и кожных покровов пациентов необходимо выполнять во всех случаях, когда имеется реальная или потенциальная вероятность контаминации микроорганизмами на всех этапах оказания медицинской помощи и ухода за пациентами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оказателями качественной гигиенической обработки рук служит отсутствие в смывах с рук санитарно-показательных микроорганизмов, вегетативных форм патогенных и условно-патогенных микроорганизмов, а после обработки рук хирургов - отсутствие любых видов микроорганизмов в смывах с рук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Ы, ВИДЫ И ХАРАКТЕРИСТИКИ КОЖНЫХ АНТИСЕПТИК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341360"/>
            <a:ext cx="8642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525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Кожные антисептики выпускают в виде готовых к применению спиртовых или водных растворов, гелей, дезинфицирующих салфеток, жидких/пенных мыл с антимикробными свойствами (кожные антисептики - моющие средства). Способ обработки рук зависит от формы выпуска антисептика. Растворы, гели втирают в кожу, нанося средство из флакона, дозатора; дезинфицирующими салфетками протирают кожу рук; кожными антисептиками-моющими средствами моют кожные покровы. Количество антисептика и время обработки определяется инструкцией по применению препарат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Действующими веществами кожных антисептиков являются спирты (этиловый (этанол), изопропиловый (пропанол-2), пропиловый (пропанол-1) или смеси этих спиртов в разных количественных соотношениях), а также действующие вещества из других групп химических соединений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4000" y="259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Спиртосодержащие (без дополнительных антимикробных добавок) кожные антисептики имеют, как правило, оптимальную эффективность при концентрации спиртов (по массе): этилового - не менее 70%, изопропилового - не менее 60%, пропилового - не менее 50%; в композиционных составах кожных антисептиков оптимальное суммарное содержание этилового и/или изопропилового и/или пропилового спиртов должно составлять 60 - 70%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. Кожные антисептики должны отвечать следующим характеристика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короткое время обработки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необходимый (в соответствии с назначением антисептика) спектр антимикробного действия, обеспечивающий гибель грамположительных и грамотрицательных бактерий, патогенных грибов, вирусов, других возбудителей ИСМП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безопасность для персонала и пациентов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удобная для применения форма выпуск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246560" cy="4389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 ОБРАБОТКИ РУК ХИРУРГОВ КОЖНЫМ АНТИСЕПТИКОМ &lt;4&gt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&lt;4&gt; Необходимое количество антисептика и продолжительность обработки определяется инструкцией по применению сред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560" y="40464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.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Алгоритм обработки рук хирургов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примерно 5 мл (2 - 3 дозы) спиртосодержащего средства в ладонь левой руки, используя локоть правой руки для управления дозатором (рис. 1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грузить в средство кончики пальцев правой руки для обеззараживания подногтевых пространств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распределить средство по всей поверхности правого предплечья круговыми движениями до высыхания средства (10 - 15 секунд) (рис. 3 -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нанести примерно 5 мл (2 - 3 дозы) спиртосодержащего средства в ладонь правой руки, используя локоть левой руки для управления дозатором (рис. 8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погрузить в средство кончики пальцев левой руки для обеззараживания подногтевых пространств (рис. 9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распределить средство по всей поверхности левого предплечья круговыми движениями до высыхания средства (10 - 15 секунд) (рис. 10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) нанести примерно 5 мл (2 - 3 дозы) спиртосодержащего средства в ладонь левой руки, используя локоть правой руки для управления диспенсером (рис. 11). Обработать руки до запястья в соответствии с рисунками 12 - 16 в течение 20 - 30 секунд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нанести средство на всю поверхность кистей рук до запястья и круговыми движениями растереть средство (рис. 12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бработать тыльную сторону левой руки, включая запястье, двигая правую ладонь вперед-назад; поменять руки и выполнить процедуру для другой руки (рис. 13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переплести пальцы и растереть ладонью ладонь (рис. 14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соединить пальцы в "замок", тыльной стороной согнутых пальцев левой руки растирать ладонь правой руки движениями вперед и назад; поменять руки и выполнить процедуру для другой руки (рис. 15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хватить большой палец левой руки правой ладонью и потереть его круговыми движениями; поменять руки и выполнить процедуру для другой руки (рис. 16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стерильные перчатки (рис. 17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ГИЕНИЧЕСКОЙ ОБРАБОТКИ РУК КОЖНЫ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ТИСЕПТИКОМ &lt;5&gt;</a:t>
            </a:r>
            <a:br>
              <a:rPr sz="2000"/>
            </a:b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&lt;5&gt; Необходимое количество антисептика и продолжительность обработки определяется инструкцией по применению средств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I. Область применени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1. В медицинских организациях главным фактором передачи возбудителей ИСМП от пациентов - медицинским работникам и от медицинских работников - пациентам являются руки медицинских работников.        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2. Для обеззараживания кожи рук персонала медицинских организаций, посетителей, кожных покровов пациентов применяют кожные антисептики - химические дезинфицирующие средства, обладающие антимикробной активностью и обеспечивающие уничтожение транзиторной и/или снижение до безопасного уровня резидентной микрофлоры, характеристика которой представлена в приложении 1 к настоящим МУ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000" y="0"/>
            <a:ext cx="856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Алгоритм обработки рук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антисептик на ладонь (рис. 1a, 1b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тереть одну ладонь о другую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правой ладонью растереть антисептик по тыльной поверхности левой кисти, переплетая пальцы, и наоборот (рис. 3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переплести пальцы, растирая ладонь о ладонь (рис. 4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соединить пальцы в "замок", тыльной стороной согнутых пальцев растирать ладонь другой руки (рис. 5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охватить большой палец левой руки правой ладонью и потереть его круговыми движениями, поменять руки и выполнить процедуру для другой руки (рис. 6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7) круговыми движениями в направлении вперед и назад сомкнутыми пальцами правой руки потереть левую ладонь, поменять руки и выполнить процедуру для другой руки (рис.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перчатки. Руки готовы к работе (рис. 8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71717"/>
                </a:solidFill>
                <a:latin typeface="Arial"/>
              </a:rPr>
              <a:t>АЛГОРИТМ МЫТЬЯ РУК МЫЛОМ И ВОДОЙ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549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. Алгоритм мытья рук мылом и водой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) увлажнить руки водой (рис. 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2) нанести на ладони необходимое количество мыла (рис. 2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) потереть одну ладонь о другую (рис. 3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) правой ладонью растереть мыло по тыльной поверхности левой кисти и наоборот (рис. 4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) переплести пальцы, растирая ладонь о ладонь (рис. 5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) соединить пальцы в "замок", тыльной стороной пальцев растирать ладонь другой руки (рис. 6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7) охватить большой палец левой руки правой ладонью и потереть его круговыми движениями, поменять руки (рис. 7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) круговыми движениями в направлении вперед и назад сомкнутыми пальцами правой руки потереть левую ладонь, поменять руки (рис. 8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9) тщательно смыть мыло под проточной водопроводной водой (рис. 9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0) тщательно промокнуть одноразовым полотенцем (салфеткой) (рис. 10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1) использовать полотенце для закрытия крана (рис. 1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2) руки готовы к работе (рис. 12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СПОЛЬЗОВАНИЕ ДОЗАТОР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Дозаторы представляют собой устройства для дозированного нанесения кожного антисептика или жидкого/пенного мыла на руки. Для безопасного хранения и удобного дозированного извлечения расходных материалов (полотенец, перчаток, салфеток и др.) также используют специальные дозаторы (диспенсеры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нение механических или сенсорных дозаторов снижает риск перекрестной контаминации рук медицинских работников, пациентов, исключая или сводя к минимуму, контакт обрабатываемой кожи рук с устройством для дозирования, позволяет регулировать количество средств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При использовании дозатора с заливным флаконом новую порцию антисептика (или мыла) наливают в дозатор после его опорожнения с последующими дезинфекцией, промыванием водой и высушиванием (всех частей дозатора). Дозаторы одноразового применения, повторному использованию не подлежат (доливать новую порцию антисептика или мыла в используемый дозатор с остатками средства не допускается!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 Разнообразные модели сенсорных дозаторов могут работать от сети, батареек, или от обоих источников питания. Выпускаются также автоматические системы/станции, позволяющие дозированно наносить на руки антисептики, жидкое мыло и воду. Полная автоматизация работы устройства, возможность настройки режимов дозирования снижают общий расход кожных антисептиков. Существуют модели дозаторов кожных антисептиков, подключаемые к автоматическим дверям. При этом двери откроются только в случае использования дозатора, что позволяет применять их при входе (выходе) в помещения высокого эпидемиологического риска - отделения интенсивной терапии, ожоговые, родильные, инфекционные и т.п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Некоторые модели дозаторов имеют цветовое кодирование. Рекомендуется использовать разные цвета дозаторов в разных зонах медицинской организации в зависимости от требований к санитарно-противоэпидемическому режиму конкретной зо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 Дозаторы с кожными антисептиками должны быть максимально доступны. Их размещают при входе в отделения, палаты, кабинеты, туалеты, другие помещения высокого эпидемиологического риска; в отделениях с высокой интенсивностью ухода за пациентами - у постели больного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испенсеры для мыла и салфеток должны находиться в непосредственной близости от раковин, на расстоянии не более 40 см от смесителя (справа, слева или сверх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ff0000"/>
                </a:solidFill>
                <a:uFillTx/>
                <a:latin typeface="Verdana"/>
              </a:rPr>
              <a:t>Спасибо за внимание!</a:t>
            </a:r>
            <a:endParaRPr b="0" lang="en-US" sz="4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3. Использование кожных антисептиков в медицинских организациях осуществляется в соответствии с санитарно-эпидемиологическими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требованиями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&lt;1&gt;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-------------------------------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&lt;1&gt;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СанПиН 2.1.3.2630-10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"Санитарно-эпидемиологические требования к организациям, осуществляющим медицинскую деятельность", утвержденные постановлением Главного государственного санитарного врача Российской Федерации от 18.05.2010 N 58 (зарегистрировано Минюстом России 09.08.2010, регистрационный N 18094), с изменениями, внесенными постановлениями Главного государственного санитарного врача Российской Федерации от 04.03.2016 N 27 (зарегистрировано Минюстом России 15.03.2016, регистрационный N 41424), от 10.06.2016 N 76 (зарегистрировано Минюстом России 22.06.2016, регистрационный N 42606)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4. По назначению кожные антисептики делятся на следующие классы: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- класс А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кожи операционного и инъекционного полей пациенто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 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класс Б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рук хирургов и других медицинских работников, участвующих в выполнении оперативных и иных инвазивных вмешательст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 класс В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гигиенической обработки кожных покровов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5. В медицинской организации необходимо использовать кожные антисептики в соответствии с предназначением (областью применения), имеющие свидетельство о государственной регистрации &lt;2&gt;, декларацию о соответствии &lt;3&gt;, инструкцию по применению, этикетку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6. Не рекомендуется использование антисептиков в форме спрея в непосредственной близости с новорожденным ребенком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\\Pdc\documents\Главная мед.сестра\Гигиена рук (картинки)\Обработку рук хирургов.jpg"/>
          <p:cNvPicPr/>
          <p:nvPr/>
        </p:nvPicPr>
        <p:blipFill>
          <a:blip r:embed="rId1"/>
          <a:stretch/>
        </p:blipFill>
        <p:spPr>
          <a:xfrm>
            <a:off x="5702400" y="2349360"/>
            <a:ext cx="32623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9840" y="189000"/>
            <a:ext cx="8713800" cy="67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II. Кожные антисептики класса 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1. Кожные антисептики класса А предназначены для обработки кожи операционного поля, кожи локтевых сгибов доноров, кожи мест введения/входа пункционной иглы или установки катетера, включая использование стерильных систем для переливания крови и других жидкостей, а также кожи инъекционного пол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Указанные области применен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едусматриваются инструкцие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о применению кожного антисепти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2. Кожные антисептики класса 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еспечивают снижение общей микроб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семененности поверхности кожи н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енее чем на 100%, за исключение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кожных антисептиков, предназначенны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ля обработки кожи инъекционного поля, которые обеспечивают снижение общей микробной обсемененности не менее, чем на 95%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3.3. При использовании кожных антисептиков класса А обработку кожи операционного поля, кожи мест введения/входа пункционной иглы или установки периферического/центрального венозного катетера проводят только способом протирания двукратно, последовательно, отдельными стерильными салфетками/тампонами, смоченными кожным антисептиком. Кожу инъекционного поля протирают однократно стерильными салфетками/тампонами или орошают кожным антисептиком из флакона с распылителем или используют готовые к использованию салфетки, пропитанные кожным антисептико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Необходимое для обработки количество кожного антисептика и время его экспозиции определяются инструкцией по применению конкретного препарата. После обработки необходимо выдержать интервал не менее 30 секунд для высыхания поверхности кожных покрово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4. Для детей в возрасте до 7 лет рекомендуется применять кожные антисептики класса А на основе этилового спирта без добавления других действующих веществ. Для кожи новорожденных с массой тела более 1500 г применяют спирт этиловый 70%. Для обработки кожи новорожденных с массой тела менее 1500 г применяют предназначенные для них антисептические лекарственные средства, которые после применения необходимо смыть стерильной салфеткой, пропитанной водой для инъек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5. Для обработки операционного поля предпочтительнее применять кожные антисептики класса А с красителем для визуального определения границы обработанного участ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3" descr="Кожные антисептики.jpg"/>
          <p:cNvPicPr/>
          <p:nvPr/>
        </p:nvPicPr>
        <p:blipFill>
          <a:blip r:embed="rId1"/>
          <a:stretch/>
        </p:blipFill>
        <p:spPr>
          <a:xfrm>
            <a:off x="457200" y="1628640"/>
            <a:ext cx="3610080" cy="388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V. Кожные антисептики класса Б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8920" y="907560"/>
            <a:ext cx="70628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1. Кожные антисептики класса Б предназначены для обработки рук специалистов, участвующи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в выполнении оперативны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и иных инвазивных вмешательст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Указанная область применения предусматривается инструкцией по применению кожного антисептик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2. Кожные антисептики класса Б обеспечивают снижение общей микробной обсемененности поверхности кожи не менее, чем на 100%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9:58:29Z</dcterms:created>
  <dc:creator>IT</dc:creator>
  <dc:description/>
  <dc:language>en-US</dc:language>
  <cp:lastModifiedBy>Жоголева Валентина Вениаминовна</cp:lastModifiedBy>
  <dcterms:modified xsi:type="dcterms:W3CDTF">2021-04-13T10:10:30Z</dcterms:modified>
  <cp:revision>54</cp:revision>
  <dc:subject/>
  <dc:title>ПРОФИЛАКТИКА ВБИ</dc:title>
</cp:coreProperties>
</file>