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EFB0-1BDD-4621-AC29-8EAB851DE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26C-0C5B-4EAE-B04F-92DF1801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E1D2-75E2-4DA9-A7C3-76DB8AC2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C1E2-44DF-492D-98EB-D00F056DE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C6EB-16FD-4E9E-A120-0CCFC1AE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C9C0-8D0A-4ACF-B758-178B3064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AADC-3413-4544-A014-DC61B984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F1E1A-2C45-47A0-83D7-95C6F9A5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DD719-525D-4157-A0CD-B3E1DAA7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869B-6586-44A5-8DE5-268867C2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CEE6-0791-41DA-B258-D2B0C21F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2099-8FBF-41D9-A8AD-97824045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0C5D-3CF2-46DF-8E78-39E48BD0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0E868-116B-4ADA-8D56-8B1095E8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DA06-4BAB-4560-B59D-4CDF9727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410E-9D3A-46F7-8F8D-8337F951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671B-B224-40F0-8744-71A96E2E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D80A-55DE-4778-B191-2AC7690E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A2CA-8D05-4D2F-942B-43A972AC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7260-DE11-4836-8F07-37B2321F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9F73-F8A1-45A0-8830-001D3C24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8CF8-0F49-4816-85ED-6125A383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1128-8106-4E18-A59B-9C85F076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E311-A5CB-41AD-95AF-846F742E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676E-7D4D-4123-8BCB-7D4CDCB52C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8296-7F88-48F8-8B18-746F736B529D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920000" cy="496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1717"/>
                </a:solidFill>
                <a:latin typeface="Arial"/>
              </a:rPr>
              <a:t>"МУ 3.5.1.3674-20. 3.5.1. Дезинфектология. </a:t>
            </a:r>
            <a:br>
              <a:rPr sz="3200"/>
            </a:br>
            <a:r>
              <a:rPr b="0" lang="ru-RU" sz="3200" spc="-1" strike="noStrike">
                <a:solidFill>
                  <a:srgbClr val="171717"/>
                </a:solidFill>
                <a:latin typeface="Arial"/>
              </a:rPr>
              <a:t>Обеззараживание рук медицинских работников и кожных покровов пациентов при оказании медицинской помощи. </a:t>
            </a:r>
            <a:br>
              <a:rPr sz="3200"/>
            </a:br>
            <a:r>
              <a:rPr b="0" lang="ru-RU" sz="3200" spc="-1" strike="noStrike">
                <a:solidFill>
                  <a:srgbClr val="171717"/>
                </a:solidFill>
                <a:latin typeface="Arial"/>
              </a:rPr>
              <a:t>Методические указания"</a:t>
            </a:r>
            <a:br>
              <a:rPr sz="3200"/>
            </a:br>
            <a:r>
              <a:rPr b="0" lang="ru-RU" sz="3200" spc="-1" strike="noStrike">
                <a:solidFill>
                  <a:srgbClr val="171717"/>
                </a:solidFill>
                <a:latin typeface="Arial"/>
              </a:rPr>
              <a:t>(утв. Главным государственным санитарным врачом РФ 14.12.2020)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94920" y="5516280"/>
            <a:ext cx="280836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Гл. медсестр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ЖОГОЛЕВА В.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964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4.3. Обработку рук кожным антисептиком класса Б проводят перед выполнением любых оперативных вмешательств или других инвазивных процедур, манипуляций любой локализации, продолжительности, сложности, в т.ч.: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- перед катетеризацией магистральных сосудов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- перед установкой/заменой инвазивного/дренажного устройства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- перед пункциями тканей, полостей, сосудов, спинномозговых каналов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- перед выполнением стерильных эндоскопических манипуляций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- перед приемом родов;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- при проведении процедур и уходе за новорожденными в отделениях/палатах реанимации и интенсивной терапии для новорожденных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4.4. До нанесения кожного антисептика кисти рук, запястья и предплечья до локтей включительно моют в течение двух минут без применения щеток теплой проточной водой с жидким мылом без антимикробных компонентов. Затем руки высушивают (промокают) одноразовой стерильной тканевой салфеткой или стерильным полотенцем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           </a:t>
            </a: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Следуя определенному алгоритму (приложение 3 к настоящим МУ), кожным антисептиком класса Б обрабатывают кисти рук, запястья и предплечья до локтей включительно. Кожный антисептик наносят отдельными порциями, равномерно распределяют и тщательно втирают в кожу, поддерживая руки во влажном состоянии в течение времени обработки. Количество кожного антисептика на одну обработку, кратность обработки и ее продолжительность должны соответствовать инструкции по применению препарата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V. Кожные антисептики класса В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5.1. Кожные антисептики класса В предназначены для гигиенической обработки рук работников медицинских и др. организаций на всех этапах оказания медицинской помощи, а также ее обеспечения, включая работников пищеблоков и других вспомогательных подразделений; лиц, осуществляющих уборку помещений, обслуживание оборудования, другие работы в помещениях, предназначенных для оказания медицинской помощи, а также для пациентов, членов их семей, других лиц при посещении пациентов и уходе за ним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    </a:t>
            </a: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Возможность использования кожного антисептика для гигиенической обработки рук предусматривается инструкцией по его применению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5.2. Кожные антисептики класса В обеспечивают снижение общей микробной обсемененности поверхности кожи не менее, чем на 95%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9280" y="333360"/>
            <a:ext cx="8147160" cy="59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5.3. Обработку рук кожным антисептиком класса В (приложение 4 к настоящим МУ) проводят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до и после непосредственного контакта с пациентом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после контакта с биологическими жидкостями, секретами или экскретами организма, слизистыми оболочками, повязками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перед выполнением инвазивных процедур (до контакта с инвазивным оборудованием и изделиями), кроме перечисленных в п. 4.3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после контакта с медицинским оборудованием и другими объектами, находящимися в непосредственной близости от пациента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при переходе от более контаминированного микроорганизмами участка тела пациента к менее контаминированному при оказании медицинской помощи и уходе за пациентом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после снятия медицинских перчато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VI. Гигиена рук медицинского персонала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55640" y="1341360"/>
            <a:ext cx="8013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6.1. Для обеспечения эффективного мытья и обеззараживания рук необходимо соблюдать следующие условия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ногти на руках - чистые, коротко остриженные, не покрытые лаком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отсутствие искусственных ногтей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на пальцах и кистях рук - отсутствие колец, перстней, элементов пирсинга, других украшений; перед обработкой рук хирургов необходимо снять часы, браслеты, другие украшения рук и предплечий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микротравмы (порезы, проколы, заусеницы, царапины, микротрещины) необходимо обработать антисептическим лекарственным средством и закрыть водостойким лейкопластыре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900000" y="620640"/>
            <a:ext cx="77868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6.2. Мытье рук жидким мылом и водой необходимо при их явном загрязнении, при этом следует соблюдать определенную последовательность (приложение 5 к настоящим МУ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6.3. Мытье рук мылом не является заменой обработки рук кожным антисептик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6.4. После мытья руки высушивают, промокая их салфеткой/полотенцем однократного использования; не следует применять электросушители. Салфетки (полотенца) бумажные однократного применения выбирают с достаточной гигроскопичностью, плотностью, не оставляющие после использования видимых волокон на коже рук. Не следует надевать перчатки на влажные рук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23640" y="404280"/>
            <a:ext cx="856908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6.5. Необходимо обеспечить доступность кожных антисептиков, предназначенных для гигиенической обработки рук, в достаточном количестве для всех пользователей. Для этого дозаторы (диспенсеры) кожных антисептиков размещают в наиболее востребованных местах, удобных для применения персоналом, пациентами, посетителями - у входа (выхода) в отделение, процедурную, перевязочную, манипуляционную, палату, бокс, туалет и др. (приложение 6 к настоящим МУ), обеспечивая их бесперебойную работу. Для отдельных категорий персонала, связанного с частым посещением отделений и палат  в дополнение к дозаторам целесообразно использовать кожные антисептики в индивидуальных флаконах небольшого (100 - 200 миллилитров) объема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6.6. Для ухода за кожей рук перед рабочей сменой, перед обеденным перерывом и после него, а также в конце рабочей смены рекомендуется использовать смягчающие и увлажняющие, питающие кожу кремы, лосьоны, бальзамы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01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VII. Санитарная обработка антисептиками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жных покровов пациентов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9640" y="1413000"/>
            <a:ext cx="8229600" cy="46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7.1. Санитарная обработка антисептиками кожных покровов пациентов (полная или частичная) предназначена для удаления загрязнений и снижения количества транзиторной микрофлоры, проводится по показаниям и не заменяет гигиенические процедуры (мытье водой с мылом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7.2. Санитарную обработку кожных покровов проводят при поступлении в отделение, накануне оперативного вмешательства или при уходе за пациент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7.3. Для санитарной обработки кожных покровов используют кожные антисептики класса В, не содержащие спиртов, обладающие моющими свойствам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7.4. Всю поверхность тела, либо отдельный участок кожи протирают/моют салфеткой или тампоном, смоченным кожным антисептиком либо готовой к применению салфеткой, пропитанной кожным антисептик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28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VIII. Организация мероприятий по обеспечению эффективного обеззараживания рук и формированию приверженности  медицинского персонала гигиене рук обеспечивает администрация организации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8.3. Мероприятия по обеспечению эффективного обеззараживания рук включают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организационное обеспечение мероприятий: разработка и утверждение инструкций; назначение лиц, ответственных за реализацию мероприятий и контроль их исполнения; мониторинг эпидемиологической ситуации, выполнения методики обеззараживания рук; расчет необходимого количества кожных антисептиков и учет их расхода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26920" y="620640"/>
            <a:ext cx="76327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систематическое обучение пациентов, посетителей правилам обработки рук, использование всех доступных средств наглядной информации о необходимости обработки рук, правилах ее проведения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систематическое обучение медицинского персонала правилам обработки рук при поступлении на работу и далее не менее 1 раза в год, и дополнительно при внесении изменений в схему обработки рук (смена оборудования, дозаторов и др.), а также с учетом результатов производственного контроля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- постоянный контроль, включая микробиологический, за соблюдением методики обеззараживания рук, разработка и реализация мер реагирования на выявленные нарушени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1717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ГОСУДАРСТВЕННОЕ САНИТАРНО-ЭПИДЕМИОЛОГИЧЕСКОЕ НОРМИРОВАНИ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РОССИЙСКОЙ ФЕДЕРАЦИ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71717"/>
                </a:solidFill>
                <a:latin typeface="Verdana"/>
                <a:ea typeface="Arial"/>
              </a:rPr>
              <a:t>I. Область применения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Verdana"/>
                <a:ea typeface="Arial"/>
              </a:rPr>
              <a:t>      </a:t>
            </a:r>
            <a:r>
              <a:rPr b="0" lang="ru-RU" sz="2400" spc="-1" strike="noStrike">
                <a:solidFill>
                  <a:srgbClr val="171717"/>
                </a:solidFill>
                <a:latin typeface="Verdana"/>
                <a:ea typeface="Arial"/>
              </a:rPr>
              <a:t>1.1.Настоящие методические указания (далее - МУ) содержат общие рекомендации по выбору и применению кожных антисептиков и направлены на снижение риска возникновения инфекций, связанных с оказанием медицинской помощи (далее - ИСМП), у пациентов, а также профессиональных заболеваний работников медицинских организаци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ИКРОФЛОРА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УК МЕДИЦИНСКИХ РАБОТНИКОВ И КОЖНЫХ ПОКРОВОВ ПАЦИЕНТОВ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26920" y="2204640"/>
            <a:ext cx="777744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Микроорганизмы, обитающие на коже рук медицинских работников и контаминирующие кожные покровы пациентов, представлены резидентной (естественной, постоянной) и транзиторной (временно присутствующей) микрофлорой. Наибольшее эпидемиологическое значение имеет транзиторная микрофлор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Микроорганизмы, представляющие резидентную микрофлору, постоянно обитают на коже. В основном они находятся в глубоких слоях кожи, в том числе в сальных и потовых железах, волосяных фолликулах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3.Резидентная микрофлора не вызывает патологических процессов на неповрежденной коже, однако может стать причиной инфекционного процесса при попадании в стерильные полости организма человека либо на поврежденную кожу.  Резидентные микроорганизмы невозможно удалить полностью, однако можно снизить их количество применением кожных антисептик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4. Транзиторная микрофлора попадает на руки медицинского персонала при контакте с пациентами и проведении различных диагностических и лечебных вмешательств, а также при контакте с контаминированными объектами внутрибольничной среды и может длительно выживать на кож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Транзиторная микрофлора может быть представлена патогенными и условно-патогенными микроорганизмами, имеющими различную степень эпидемиологической опасности для пациентов и медицинских работник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Среди грамположительных микроорганизмов наибольшее значение имеют Staphylococcus aureus, в том числе метициллин-резистентный золотистый стафилококк (MRSA), Streptococcus spp, Mycobacterium tuberculosi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Среди грамотрицательных микроорганизмов возбудителями ИСМП могут быть Pseudomonas aeruginosa, Acinetobacter baumannii, Klebsiella spp. (в частности, Klebsiella pneumoniae), Enterococcus spp., в том числе ванкомицин-резистентный энтерококк (VRE), Salmonella spp., а также Clostridium difficile - возбудитель псевдомембранозного энтероколит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Перечисленные в данном пункте возбудители ИСМП и другие возможные возбудители ИСМП (например, вирусы парентеральных гепатитов, ВИЧ, герпеса, цитомегалии, грибы рода Candida и т.д.) могут передаваться через необеззараженные руки медицинского персонала и пациентов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50920" y="404640"/>
            <a:ext cx="864216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5. Факторами, определяющими вероятность контаминации рук транзиторной микрофлорой и распространения возбудителей ИСМП, является наличие источников инфекции среди пациентов и медицинского персонала, виды и частота применяемых инструментальных методов обследования, диагностики и лечения больных, тип используемой лечебной и диагностической аппаратуры, количество проводимых инвазивных диагностических и лечебных процедур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Обеззараживание антисептиками рук медицинских работников и кожных покровов пациентов необходимо выполнять во всех случаях, когда имеется реальная или потенциальная вероятность контаминации микроорганизмами на всех этапах оказания медицинской помощи и ухода за пациентами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Показателями качественной гигиенической обработки рук служит отсутствие в смывах с рук санитарно-показательных микроорганизмов, вегетативных форм патогенных и условно-патогенных микроорганизмов, а после обработки рук хирургов - отсутствие любых видов микроорганизмов в смывах с рук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ФОРМЫ, ВИДЫ И ХАРАКТЕРИСТИКИ КОЖНЫХ АНТИСЕПТИКОВ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341360"/>
            <a:ext cx="864216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4525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1. Кожные антисептики выпускают в виде готовых к применению спиртовых или водных растворов, гелей, дезинфицирующих салфеток, жидких/пенных мыл с антимикробными свойствами (кожные антисептики - моющие средства). Способ обработки рук зависит от формы выпуска антисептика. Растворы, гели втирают в кожу, нанося средство из флакона, дозатора; дезинфицирующими салфетками протирают кожу рук; кожными антисептиками-моющими средствами моют кожные покровы. Количество антисептика и время обработки определяется инструкцией по применению препарата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39480" indent="452520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Действующими веществами кожных антисептиков являются спирты (этиловый (этанол), изопропиловый (пропанол-2), пропиловый (пропанол-1) или смеси этих спиртов в разных количественных соотношениях), а также действующие вещества из других групп химических соединений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39480" indent="4525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39480" indent="45252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45252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24000" y="25992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2. Спиртосодержащие (без дополнительных антимикробных добавок) кожные антисептики имеют, как правило, оптимальную эффективность при концентрации спиртов (по массе): этилового - не менее 70%, изопропилового - не менее 60%, пропилового - не менее 50%; в композиционных составах кожных антисептиков оптимальное суммарное содержание этилового и/или изопропилового и/или пропилового спиртов должно составлять 60 - 70%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3. Кожные антисептики должны отвечать следующим характеристикам: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- короткое время обработки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- необходимый (в соответствии с назначением антисептика) спектр антимикробного действия, обеспечивающий гибель грамположительных и грамотрицательных бактерий, патогенных грибов, вирусов, других возбудителей ИСМП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- безопасность для персонала и пациентов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- удобная для применения форма выпуска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Рисунок 5" descr=""/>
          <p:cNvPicPr/>
          <p:nvPr/>
        </p:nvPicPr>
        <p:blipFill>
          <a:blip r:embed="rId1"/>
          <a:stretch/>
        </p:blipFill>
        <p:spPr>
          <a:xfrm>
            <a:off x="2700360" y="1268280"/>
            <a:ext cx="4246560" cy="43894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АЛГОРИТМ ОБРАБОТКИ РУК ХИРУРГОВ КОЖНЫМ АНТИСЕПТИКОМ &lt;4&gt;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&lt;4&gt; Необходимое количество антисептика и продолжительность обработки определяется инструкцией по применению средств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50560" y="404640"/>
            <a:ext cx="84358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Verdana"/>
              </a:rPr>
              <a:t>I</a:t>
            </a:r>
            <a:r>
              <a:rPr b="0" lang="ru-RU" sz="1900" spc="-1" strike="noStrike">
                <a:solidFill>
                  <a:srgbClr val="ff0000"/>
                </a:solidFill>
                <a:latin typeface="Verdana"/>
              </a:rPr>
              <a:t>. </a:t>
            </a:r>
            <a:r>
              <a:rPr b="1" lang="ru-RU" sz="1900" spc="-1" strike="noStrike">
                <a:solidFill>
                  <a:srgbClr val="ff0000"/>
                </a:solidFill>
                <a:latin typeface="Verdana"/>
              </a:rPr>
              <a:t>Алгоритм обработки рук хирургов кожным антисептиком: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1) нанести примерно 5 мл (2 - 3 дозы) спиртосодержащего средства в ладонь левой руки, используя локоть правой руки для управления дозатором (рис. 1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2) погрузить в средство кончики пальцев правой руки для обеззараживания подногтевых пространств (рис. 2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3) распределить средство по всей поверхности правого предплечья круговыми движениями до высыхания средства (10 - 15 секунд) (рис. 3 - 7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4) нанести примерно 5 мл (2 - 3 дозы) спиртосодержащего средства в ладонь правой руки, используя локоть левой руки для управления дозатором (рис. 8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5) погрузить в средство кончики пальцев левой руки для обеззараживания подногтевых пространств (рис. 9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6) распределить средство по всей поверхности левого предплечья круговыми движениями до высыхания средства (10 - 15 секунд) (рис. 10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15920"/>
            <a:ext cx="82296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7) нанести примерно 5 мл (2 - 3 дозы) спиртосодержащего средства в ладонь левой руки, используя локоть правой руки для управления диспенсером (рис. 11). Обработать руки до запястья в соответствии с рисунками 12 - 16 в течение 20 - 30 секунд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- нанести средство на всю поверхность кистей рук до запястья и круговыми движениями растереть средство (рис. 12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- обработать тыльную сторону левой руки, включая запястье, двигая правую ладонь вперед-назад; поменять руки и выполнить процедуру для другой руки (рис. 13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- переплести пальцы и растереть ладонью ладонь (рис. 14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- соединить пальцы в "замок", тыльной стороной согнутых пальцев левой руки растирать ладонь правой руки движениями вперед и назад; поменять руки и выполнить процедуру для другой руки (рис. 15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- охватить большой палец левой руки правой ладонью и потереть его круговыми движениями; поменять руки и выполнить процедуру для другой руки (рис. 16);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8) когда антисептик высохнет, надеть стерильные перчатки (рис. 17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71717"/>
                </a:solidFill>
                <a:latin typeface="Verdana"/>
              </a:rPr>
              <a:t>Примечание: приведена схема обработки рук для праворуких людей (правшей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 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ЛГОРИТМ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ИГИЕНИЧЕСКОЙ ОБРАБОТКИ РУК КОЖНЫМ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НТИСЕПТИКОМ &lt;5&gt;</a:t>
            </a:r>
            <a:br>
              <a:rPr sz="2000"/>
            </a:br>
            <a:r>
              <a:rPr b="0" lang="ru-RU" sz="2000" spc="-1" strike="noStrike">
                <a:solidFill>
                  <a:srgbClr val="171717"/>
                </a:solidFill>
                <a:latin typeface="Arial"/>
              </a:rPr>
              <a:t>&lt;5&gt; Необходимое количество антисептика и продолжительность обработки определяется инструкцией по применению средств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5" name="Рисунок 3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7632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Verdana"/>
              </a:rPr>
              <a:t>II. Область применения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 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 algn="just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2.1. В медицинских организациях главным фактором передачи возбудителей ИСМП от пациентов - медицинским работникам и от медицинских работников - пациентам являются руки медицинских работников.        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 algn="just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2.2. Для обеззараживания кожи рук персонала медицинских организаций, посетителей, кожных покровов пациентов применяют кожные антисептики - химические дезинфицирующие средства, обладающие антимикробной активностью и обеспечивающие уничтожение транзиторной и/или снижение до безопасного уровня резидентной микрофлоры, характеристика которой представлена в приложении 1 к настоящим МУ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68000" y="0"/>
            <a:ext cx="8567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1. Алгоритм обработки рук кожным антисептиком: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1) нанести антисептик на ладонь (рис. 1a, 1b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2) потереть одну ладонь о другую (рис. 2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3) правой ладонью растереть антисептик по тыльной поверхности левой кисти, переплетая пальцы, и наоборот (рис. 3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4) переплести пальцы, растирая ладонь о ладонь (рис. 4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5) соединить пальцы в "замок", тыльной стороной согнутых пальцев растирать ладонь другой руки (рис. 5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6) охватить большой палец левой руки правой ладонью и потереть его круговыми движениями, поменять руки и выполнить процедуру для другой руки (рис. 6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7) круговыми движениями в направлении вперед и назад сомкнутыми пальцами правой руки потереть левую ладонь, поменять руки и выполнить процедуру для другой руки (рис. 7);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8) когда антисептик высохнет, надеть перчатки. Руки готовы к работе (рис. 8)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Примечание: приведена схема обработки рук для праворуких людей (правшей)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171717"/>
                </a:solidFill>
                <a:latin typeface="Arial"/>
              </a:rPr>
              <a:t>АЛГОРИТМ МЫТЬЯ РУК МЫЛОМ И ВОДОЙ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8" name="Содержимое 3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64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539640" y="549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1. Алгоритм мытья рук мылом и водой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1) увлажнить руки водой (рис. 1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2) нанести на ладони необходимое количество мыла (рис. 2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3) потереть одну ладонь о другую (рис. 3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4) правой ладонью растереть мыло по тыльной поверхности левой кисти и наоборот (рис. 4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5) переплести пальцы, растирая ладонь о ладонь (рис. 5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6) соединить пальцы в "замок", тыльной стороной пальцев растирать ладонь другой руки (рис. 6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7) охватить большой палец левой руки правой ладонью и потереть его круговыми движениями, поменять руки (рис. 7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11280" y="475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8) круговыми движениями в направлении вперед и назад сомкнутыми пальцами правой руки потереть левую ладонь, поменять руки (рис. 8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9) тщательно смыть мыло под проточной водопроводной водой (рис. 9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10) тщательно промокнуть одноразовым полотенцем (салфеткой) (рис. 10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11) использовать полотенце для закрытия крана (рис. 11);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12) руки готовы к работе (рис. 12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Примечание: приведена схема обработки рук для праворуких людей (правшей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34272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ИСПОЛЬЗОВАНИЕ ДОЗАТОРОВ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11280" y="620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3013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1. Дозаторы представляют собой устройства для дозированного нанесения кожного антисептика или жидкого/пенного мыла на руки. Для безопасного хранения и удобного дозированного извлечения расходных материалов (полотенец, перчаток, салфеток и др.) также используют специальные дозаторы (диспенсеры)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01680" indent="3013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Применение механических или сенсорных дозаторов снижает риск перекрестной контаминации рук медицинских работников, пациентов, исключая или сводя к минимуму, контакт обрабатываемой кожи рук с устройством для дозирования, позволяет регулировать количество средства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01680" indent="301320" algn="just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171717"/>
                </a:solidFill>
                <a:latin typeface="Verdana"/>
              </a:rPr>
              <a:t>2. При использовании дозатора с заливным флаконом новую порцию антисептика (или мыла) наливают в дозатор после его опорожнения с последующими дезинфекцией, промыванием водой и высушиванием (всех частей дозатора). Дозаторы одноразового применения, повторному использованию не подлежат (доливать новую порцию антисептика или мыла в используемый дозатор с остатками средства не допускается!).</a:t>
            </a: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  <a:p>
            <a:pPr marL="301680" indent="301320">
              <a:spcBef>
                <a:spcPts val="476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6836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3. Разнообразные модели сенсорных дозаторов могут работать от сети, батареек, или от обоих источников питания. Выпускаются также автоматические системы/станции, позволяющие дозированно наносить на руки антисептики, жидкое мыло и воду. Полная автоматизация работы устройства, возможность настройки режимов дозирования снижают общий расход кожных антисептиков. Существуют модели дозаторов кожных антисептиков, подключаемые к автоматическим дверям. При этом двери откроются только в случае использования дозатора, что позволяет применять их при входе (выходе) в помещения высокого эпидемиологического риска - отделения интенсивной терапии, ожоговые, родильные, инфекционные и т.п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4. Некоторые модели дозаторов имеют цветовое кодирование. Рекомендуется использовать разные цвета дозаторов в разных зонах медицинской организации в зависимости от требований к санитарно-противоэпидемическому режиму конкретной зо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53964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5. Дозаторы с кожными антисептиками должны быть максимально доступны. Их размещают при входе в отделения, палаты, кабинеты, туалеты, другие помещения высокого эпидемиологического риска; в отделениях с высокой интенсивностью ухода за пациентами - у постели больного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Диспенсеры для мыла и салфеток должны находиться в непосредственной близости от раковин, на расстоянии не более 40 см от смесителя (справа, слева или сверху)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ctr">
              <a:spcBef>
                <a:spcPts val="1125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500" spc="-1" strike="noStrike" u="sng">
                <a:solidFill>
                  <a:srgbClr val="ff0000"/>
                </a:solidFill>
                <a:uFillTx/>
                <a:latin typeface="Verdana"/>
              </a:rPr>
              <a:t>Спасибо за внимание!</a:t>
            </a:r>
            <a:endParaRPr b="0" lang="en-US" sz="45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66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2.3. Использование кожных антисептиков в медицинских организациях осуществляется в соответствии с санитарно-эпидемиологическими </a:t>
            </a:r>
            <a:r>
              <a:rPr b="0" lang="ru-RU" sz="2200" spc="-1" strike="noStrike" u="sng">
                <a:solidFill>
                  <a:srgbClr val="171717"/>
                </a:solidFill>
                <a:uFillTx/>
                <a:latin typeface="Verdana"/>
              </a:rPr>
              <a:t>требованиями</a:t>
            </a: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 &lt;1&gt;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--------------------------------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&lt;1&gt; </a:t>
            </a:r>
            <a:r>
              <a:rPr b="0" lang="ru-RU" sz="2200" spc="-1" strike="noStrike" u="sng">
                <a:solidFill>
                  <a:srgbClr val="171717"/>
                </a:solidFill>
                <a:uFillTx/>
                <a:latin typeface="Verdana"/>
              </a:rPr>
              <a:t>СанПиН 2.1.3.2630-10</a:t>
            </a: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 "Санитарно-эпидемиологические требования к организациям, осуществляющим медицинскую деятельность", утвержденные постановлением Главного государственного санитарного врача Российской Федерации от 18.05.2010 N 58 (зарегистрировано Минюстом России 09.08.2010, регистрационный N 18094), с изменениями, внесенными постановлениями Главного государственного санитарного врача Российской Федерации от 04.03.2016 N 27 (зарегистрировано Минюстом России 15.03.2016, регистрационный N 41424), от 10.06.2016 N 76 (зарегистрировано Минюстом России 22.06.2016, регистрационный N 42606)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2.4. По назначению кожные антисептики делятся на следующие классы: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171717"/>
                </a:solidFill>
                <a:latin typeface="Verdana"/>
              </a:rPr>
              <a:t>- класс А</a:t>
            </a: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 - для обработки кожи операционного и инъекционного полей пациентов;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- </a:t>
            </a:r>
            <a:r>
              <a:rPr b="1" lang="ru-RU" sz="2100" spc="-1" strike="noStrike">
                <a:solidFill>
                  <a:srgbClr val="171717"/>
                </a:solidFill>
                <a:latin typeface="Verdana"/>
              </a:rPr>
              <a:t>класс Б</a:t>
            </a: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 - для обработки рук хирургов и других медицинских работников, участвующих в выполнении оперативных и иных инвазивных вмешательств;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-</a:t>
            </a:r>
            <a:r>
              <a:rPr b="1" lang="ru-RU" sz="2100" spc="-1" strike="noStrike">
                <a:solidFill>
                  <a:srgbClr val="171717"/>
                </a:solidFill>
                <a:latin typeface="Verdana"/>
              </a:rPr>
              <a:t> класс В</a:t>
            </a: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 - для гигиенической обработки кожных покровов.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24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2.5. В медицинской организации необходимо использовать кожные антисептики в соответствии с предназначением (областью применения), имеющие свидетельство о государственной регистрации &lt;2&gt;, декларацию о соответствии &lt;3&gt;, инструкцию по применению, этикетку.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24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171717"/>
                </a:solidFill>
                <a:latin typeface="Verdana"/>
              </a:rPr>
              <a:t>2.6. Не рекомендуется использование антисептиков в форме спрея в непосредственной близости с новорожденным ребенком.</a:t>
            </a:r>
            <a:endParaRPr b="0" lang="en-US" sz="21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\\Pdc\documents\Главная мед.сестра\Гигиена рук (картинки)\Обработку рук хирургов.jpg"/>
          <p:cNvPicPr/>
          <p:nvPr/>
        </p:nvPicPr>
        <p:blipFill>
          <a:blip r:embed="rId1"/>
          <a:stretch/>
        </p:blipFill>
        <p:spPr>
          <a:xfrm>
            <a:off x="5702400" y="2349360"/>
            <a:ext cx="3262320" cy="3672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29840" y="189000"/>
            <a:ext cx="8713800" cy="67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III. Кожные антисептики класса 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Verdana"/>
              </a:rPr>
              <a:t> </a:t>
            </a: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3.1. Кожные антисептики класса А предназначены для обработки кожи операционного поля, кожи локтевых сгибов доноров, кожи мест введения/входа пункционной иглы или установки катетера, включая использование стерильных систем для переливания крови и других жидкостей, а также кожи инъекционного поля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Указанные области применени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предусматриваются инструкцией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по применению кожного антисептик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3.2. Кожные антисептики класса А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обеспечивают снижение общей микробной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обсемененности поверхности кожи не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менее чем на 100%, за исключением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кожных антисептиков, предназначенных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Verdana"/>
              </a:rPr>
              <a:t>для обработки кожи инъекционного поля, которые обеспечивают снижение общей микробной обсемененности не менее, чем на 95%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50920" y="115560"/>
            <a:ext cx="86421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3.3. При использовании кожных антисептиков класса А обработку кожи операционного поля, кожи мест введения/входа пункционной иглы или установки периферического/центрального венозного катетера проводят только способом протирания двукратно, последовательно, отдельными стерильными салфетками/тампонами, смоченными кожным антисептиком. Кожу инъекционного поля протирают однократно стерильными салфетками/тампонами или орошают кожным антисептиком из флакона с распылителем или используют готовые к использованию салфетки, пропитанные кожным антисептиком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        </a:t>
            </a: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Необходимое для обработки количество кожного антисептика и время его экспозиции определяются инструкцией по применению конкретного препарата. После обработки необходимо выдержать интервал не менее 30 секунд для высыхания поверхности кожных покровов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68360" y="189000"/>
            <a:ext cx="842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Verdana"/>
              </a:rPr>
              <a:t>3.4. Для детей в возрасте до 7 лет рекомендуется применять кожные антисептики класса А на основе этилового спирта без добавления других действующих веществ. Для кожи новорожденных с массой тела более 1500 г применяют спирт этиловый 70%. Для обработки кожи новорожденных с массой тела менее 1500 г применяют предназначенные для них антисептические лекарственные средства, которые после применения необходимо смыть стерильной салфеткой, пропитанной водой для инъекци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Verdana"/>
              </a:rPr>
              <a:t>3.5. Для обработки операционного поля предпочтительнее применять кожные антисептики класса А с красителем для визуального определения границы обработанного участка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Содержимое 3" descr="Кожные антисептики.jpg"/>
          <p:cNvPicPr/>
          <p:nvPr/>
        </p:nvPicPr>
        <p:blipFill>
          <a:blip r:embed="rId1"/>
          <a:stretch/>
        </p:blipFill>
        <p:spPr>
          <a:xfrm>
            <a:off x="457200" y="1628640"/>
            <a:ext cx="3610080" cy="388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IV. Кожные антисептики класса Б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618920" y="907560"/>
            <a:ext cx="70628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4.1. Кожные антисептики класса Б предназначены для обработки рук специалистов, участвующих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в выполнении оперативных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и иных инвазивных вмешательств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Указанная область применения предусматривается инструкцией по применению кожного антисептика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r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171717"/>
                </a:solidFill>
                <a:latin typeface="Verdana"/>
              </a:rPr>
              <a:t>4.2. Кожные антисептики класса Б обеспечивают снижение общей микробной обсемененности поверхности кожи не менее, чем на 100%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9:58:29Z</dcterms:created>
  <dc:creator>IT</dc:creator>
  <dc:description/>
  <dc:language>en-US</dc:language>
  <cp:lastModifiedBy>Жоголева Валентина Вениаминовна</cp:lastModifiedBy>
  <dcterms:modified xsi:type="dcterms:W3CDTF">2021-04-13T10:10:30Z</dcterms:modified>
  <cp:revision>54</cp:revision>
  <dc:subject/>
  <dc:title>ПРОФИЛАКТИКА ВБИ</dc:title>
</cp:coreProperties>
</file>