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6858000" cy="9906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DA3-BFE9-4CC7-9F35-EE47EC0F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FF0-A0DE-40BB-9080-0981F2D6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DB2-CC32-4D75-8171-5CC0E83E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0A6-473F-4ADB-91D3-AE774181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DC2B-F06C-4AF5-AABE-EADB78E4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B378-3F81-4CEB-8DFE-F7EB8E62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03DA-37F4-45B5-B499-B7D80991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B9D0-0F51-4A77-ACE5-60A28549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E731-9914-4BCE-8267-91D2C63B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B7CA-3F4B-4606-80CC-B6B63C5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F289-9733-4B50-B2AD-C26E493C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4B8-C135-411E-8886-A2FB7ADE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D09C-4B8B-46EC-AB82-595F912E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91AA-B540-4B17-8779-D22372E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C89A-89FD-452C-97B2-9D716BC8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1249-5D11-4BA6-ACD8-898EA220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E5D7-C146-4B29-9F25-07C55ACB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A667-764C-461A-B33D-6FE928F3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8B20-C4ED-4125-9FF7-77F1FE28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2AC0-9DF9-4E5E-BAD4-9E677AC4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2F57-B445-44E8-ACB0-9FCBA6DA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50A5-E6B2-4958-BF9D-A04BE250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2F9-DFC1-4DA9-955C-EF7F724B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3D92-1D1B-409F-85AD-D5B5E977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12CC-7A8F-4001-A021-B1F0741E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A351-A910-45D2-82D9-B38CC0B0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7E27-464F-4DFB-BFE4-37E924C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59A4-D3AB-4B5D-87F2-9199DFB3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421B-6F24-4701-8610-7C834319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3D99-7C8C-445C-A348-3D188F39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0FB-8BEB-4F44-9278-3818B7FC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5FD-8C63-4607-8BCC-2DA87994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74F-00B9-41FE-A668-F8A2C7AD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730-AAC8-4529-AE33-214F86D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0E4-D8C1-4677-B9B8-6FBE4714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364-719F-49CA-9F71-4CA3D831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1621080"/>
            <a:ext cx="5829120" cy="344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7160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71600" y="9181440"/>
            <a:ext cx="23140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84344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A62219-FD7A-4A9E-9E9A-C4D0D3DB6C80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52740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7160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71600" y="9181440"/>
            <a:ext cx="23140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84344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1A2726-6C3E-445E-8BE1-213141F66EC9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7160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2271600" y="9181440"/>
            <a:ext cx="23140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484344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23CE3B-9AF1-4B97-A70E-5D00D360B46F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9520" y="4576680"/>
            <a:ext cx="5538240" cy="96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азвитие силовых способностей у юношей. В становой тяг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097160" y="6802200"/>
            <a:ext cx="2560680" cy="9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 Яковлев 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82880" y="0"/>
            <a:ext cx="6491880" cy="88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звестно, что в силовом троеборье применяются в основном те же упражнения, со штангой, что и тяжелой атлетике, для которой уже разработали научно-обоснованные классифицированные упражнения основанное на принципах, предложенных теорией физического воспитания для всех видов спорта. Однако силовое троеборье по сравнению с тяжелой атлетикой имеет существенное отличие не только по спортивной технике, но и по методике подготовки, в связи, с чем этот вид спорта развивает специфическую силу характерную для «лифтер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огласно классификации в тяжелой атлетике, применительно к силовому троеборью в первую группу входят соревновательные упражнения. Приседания, жим, лежа на горизонтальной скамье и тя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торая группа объединяет специально подготовленные подводящие упражнения, которые распространяются на несколько групп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водящие упражнения для жима леж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водящие упражнения для тяг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водящие упражнения для присе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Наиболее широко распространенных упражнений во второй группе, для тяги, применяемых спортсменами в тренировочном процессе следующ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значительной степени упражнения второй группы близки по своей координации к первой группе, кроме того, все они выполняются с большим отягощением, которые способствуют выполнению работы большой мощности. Таким образом, эта группа упражнений являются основными в подготовке спортсменов, так как одновременно влияют как на развитие специфических, физических качеств, так и на совершенство высшего технического мастерства спортсменов в современных упражнени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третьей группе упражнений концентрируются дополнительные развивающие упражнения. Они выполняются не только со штангой, но и на тренажерах, с использование гирь и других отягощ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Развивающие упражнения в большинстве своем оказывают локальное воздействие, из-за своеобразной структуры техники, если выполняются с относительно небольшим весом (отягощением), отсюда развиваемая при этом мощность сравнительно невел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169920" y="393840"/>
            <a:ext cx="651816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2 Методы развития становой тя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дин из основоположников теории физического воспитания А.Д. Новиков (1949г). Считал, что общая систематика физических упражнений должна быть суммой для всех звеньев системы физвоспитания, в противном случае, она теряет свое научно-практическ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истематика физических упражнений, как важнейшее условие их педагогического использования является одним из главных элементов системы физического вос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Классификация упражнений, применяемых в тренировочном процессе в силовом троеборье разработанная Алексеем Медведевым – д.п. наук, Ярославом Якубенко – Росс. Госуд. ОкФ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Классификация, в любом виде, физических упражнений, в спорте играет существенную роль в определении объективности получаемой организмом спортсмена нагрузки по объему и интенсивности в ходе тренировоч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0" y="115560"/>
            <a:ext cx="6857640" cy="9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Упражнения рассматриваемой группы по техническим параметрам могут значительно отличаться от структуры соревновательных упражнений. В связи с этим развивающие упражнения служат дополнительным средством в подготовке спортсме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Таким образом, с целях более объективной оценки и учета тренировочного процесса, воздействия испытываемого организма спортсмена в результате упражнений первой и второй группой, их нагрузку надо считать основной, а нагрузку третьей группы дополните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равнительно, основные и дополнительные нагрузки должны учитываться и анализироваться отде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настоящее время специалистам по физической культуре и спорту предлагается много информации о различных средствах, методах и методических приемах, рекомендуемых для развития силы. Большинство из них в той или иной мере могут быть использованы занимающимися атлетической гимнастикой.Метод максимальных усилий. Если упражнение с каким-либо отягощением спортсмен выполняет в одном подходе 1, максимум 3 раза (и больше не может), значит, он использует метод максимальных усилий. Для занимающихся атлетизмом с целью выступления в соревнованиях по силовому троеборью этот метод является одним из основных . Как часто можно использовать предельные и около предельные отягощения в тренировочном процессе? Универсальных рекомендаций не существует. Есть, однако, данные, которые позволяют заключить, что чем чаще тренируется атлет с максимальными весами, тем больше у него прирост силы. Ограничения связаны в основном с переносимостью нагрузок. Одни атлеты после тренировки с предельными отягощениями могут повторить ее в течение ближайшей недели, другим, чтобы "отойти" от таких нагрузок, требуется около месяца. Вывод об эффективности применения метода максимальных усилий для силового направления атлетизма базируется на обобщении соответствующего опыта тренировки и на известных материалах исследований в тяжелой атлетике .Более того, в тренировочном процессе, по-видимому, проявляется закономер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117720" y="169920"/>
            <a:ext cx="658332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бщебиологического характера. Это подтверждают результаты исследований в различных видах спорта. В лыжных гонках, например, недавно обнаружили, что самой нижней границей скорости оказывающей эффективное тренирующее воздействие на организм, является скорость выше 90% от соревновательной. В легкой атлетике выявлена прямая зависимость спортивных результатов от интенсивности и объема интенсивной части тренировки . Отсюда можно сделать вывод: чем чаще используется метод максимальных усилий в тренировочном процессе, тем выше темпы увеличения силы. Однако использовать эту закономерность далеко не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117720" y="130680"/>
            <a:ext cx="673992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сновные средства и методы развития силовых показателей в становой тя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тод максимальных усилий (ММ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ри использовании этого метода упражнения выполняются с предельными или околопредельными отягощени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сновной вес отягощений 1-3 ПМ При лучшем результате в жиме лежа - 100 кг (на данный момент) применение ММУ может выглядеть так: жим лежа 85 кг х2, 90 х 1, 95 х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ри использовании данного метода прирост мышечной массы маловероят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реди традиционных методов ММУ - один из самых эффективных для увеличения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тод повторных усилий (МП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сновная характеристика метода: при его использовании упражнения с непредельными отягощениями выполняются с предельным количеством повторений в 1 подход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Рекомендуемый диапазон отягощений - 4-12 ПМ Приседания со штангой на плечах в 3 подходах по 8-12 р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ес подбирается таким образом, чтобы последнее повторение в каждом подходе выполнялось на преде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спользование МПУ (особенно в диапазоне отягощений 6-10 ПМ) сопровождается приростом мышечной м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спользование статических (изометрических) упражн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татические упражнения - это такие физические упражнения, в которых мышечные напряжения не сопровождаются какими-либо перемещениями спортсмена и (или) снаря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Эти упражнения выполняются с максимальным напряжением, длительностью 5-6 с в каждом подх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169920" y="261360"/>
            <a:ext cx="646560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занятии статические упражнения не должны занимать более 10-15 м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аксимальное приложение усилий к штанге с заведомо неподъемным вес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спользование статических упражнений в неизменном виде более 1-2 месяцев не рекомендуется. Статические упражнения в меньшей степени способствуют мышечной гипертрофии, чем динамичес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54880" y="156600"/>
            <a:ext cx="6406920" cy="80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3 Техника выполнения становой тя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тановая тяга: самое травмоопасное упражнение причем можно повредить самый важный орган позвоночный стол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пасность травм в этом упражнении усугубляется еще и тем, что в нем невозможна страхо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Техника выполнения становой тяги есть два стиля Очень широкая постановка ступней и традиционная узкая постановка. Из этого выделяются два стиля становая-классическая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и тяга сум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Ещё касается самого захвата штанги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Самый простой способ это разносторонний хват При нем ладони обращены в разные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равила выполнения упражнения: гриф должен двигаться вверх по воображаемой вертикали через середину ступней. Гриф штанги должен двигаться как можно ближе к туловищу. Не следует округлять спину, а также опускать голову на грудь. Первыми в работу при тяге вступают ноги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но точно не сп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части тяги следует поднимать лопатки а плечи развернуть наз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шибки при выполнении становой тя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Отматывание грифа на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Прогиб туловища назад после завершения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Округленные сп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4.Центар штанги должен находиться на середины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760" y="140400"/>
            <a:ext cx="1563120" cy="29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3040" y="609840"/>
            <a:ext cx="6631560" cy="29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а 1 Путеводитель по становой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нятие становой тяги как силового кач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развития становой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ника выполнения становой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а 2 Результаты-экспериментальной работы по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я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Методика развития силовых показателей в становой тяги у юношей 15-17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намика развития силовых показа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80" y="200880"/>
            <a:ext cx="2428200" cy="5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вед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80" y="757800"/>
            <a:ext cx="656784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Актуальность исследования . Сегодня упражнения со штангой 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тяжести как эффективное развития своих силовых возможностей привлекают многих каких молодых людей (мужского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женского пола), а также людей  старшего и среднего возраста. Они позволяют быстро увеличивать физическую силу, равномерно развивать все групповые мышцы, также исправлять отдельные недостатки тела, а также способствуют укреплению своего здоровья. Быстрый рост спортивных достижений и рекордов, предъявляет невиданный рост физических возможностей человека. Одним из важнейших физических качеств в большинстве видов спорта является сама сила, поэтому ее развитию спортсмены уделяют много внимание и время. Силовая подготовка имеет важное внимание для хорошей спортивной тренировки. Известно, что силовое пауэрлифтинг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троеборье обладает двумя основными качествами – доступностью и также неплохой эффективностью , чем оно и ценится как средство физического воспитания своей си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0" y="254880"/>
            <a:ext cx="6857640" cy="77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 доступностью подразумевают следующе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 Возможность заниматься в группах или индивидуа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 Достаточно простое исполнение упражнений, что позволяет больше уделять внимание развитию и совершенствованию кач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 Для занятий не требуется много оборудования всевозможными тренажерами помещений, можно заниматься и в небольших залах, где имеются штанга, стойки для приседаний и скамейки для жима леж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4. Простота обеспечения по сравнению со многими видами спор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5. Широкий возрастной диапаз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6. Сведение к минимуму случаев травматизма.[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пауэрлифтинге соревнования проходят в трех упражнениях - жиме штанги лежа и становой тяги, приседании со штангой на спине но нас будет интересовать только становая тяга, так как по результатам анализа научной литературы ( Зациорский В. М., Роман Р. А., Верхошанский Ю.В. Смолов С. Ю.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Воробьев А. Н.) показатели силовых в становой тяги наиболее большое влияние на спортивные достижения в силовом троеборье, так как это упражнение вовлекает в работу большее количество мышечных груп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2"/>
          <p:cNvSpPr/>
          <p:nvPr/>
        </p:nvSpPr>
        <p:spPr>
          <a:xfrm>
            <a:off x="0" y="307080"/>
            <a:ext cx="685764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ачи исследования: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Проанализировать научною литературу по воспитанию силовых способностей (становой тяги ) в силовом троебор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Исследовать методику для роста силовых показателей в становой тяге у юношей 1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юн. разряда (на примере занятий троеборье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3.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Проверить опытным путем эффективности данной метод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тоды исследования: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Анализ научной литературы по проблеме исслед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Контрольные испытания и тес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Математично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татистические мет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82880" y="130680"/>
            <a:ext cx="6544080" cy="9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ава 1.Путеводитель по становой тя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1.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нятие становой тяги как силового качества</a:t>
            </a: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од силой нужно понимать способность человека преодолевать надо за счёт усилий внешнее сопротивление внешним силам . Сила – одно из важных физических качеств в абсолютном большинстве видов спорта, поэтому её развитию уделяют исключительно много внимания и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В процессе выполнения приёмов профессиональных или спортивных связанных с подниманием, опусканием, удержание тяжёлых грузов, мышцы, сокращаются и укорачиваются. Такая работа называется преодолевающей. мешать какому-либо сопротивлению мышцы, могут при напряжении, и удлиняться, например, удержание тяжёлого груза. В таком случае их работа будет называется уступающей. Оба эти режима объединяются под одним названием - динамического. Сила, проявляемая в движении. в динамическом режиме называется динамической сил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Сокращение мышцы при постоянном напряжении или внешней нагрузке называется изотоническим. Данный режим имеет место в силовых упражнениях с штан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Если усилие спортсмена движением не сопровождается и производится без изменения длины мышц. Такая сила называется статичес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ежду силой, и скоростью сокращения мышц существует обратно пропорциональна завис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сихологические механика это качества силы связаны с регуляцией напряжения в всякий режимах их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изометрическом - без изменения длины мыш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иометрическом - уменьшается длина мышцы (в постоянном движен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лиометрическом - увеличение длины мышцы во время её растягивания. Этот режим связан с приседанием, с замахами и.т.д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ри педагогической характеристике силовых качеств человека выделяют разновид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аксимальная изометрическая (так же статическая сил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1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0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91440" y="169920"/>
            <a:ext cx="676620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(показатель силы, проявляемой при удержании в течении времени предельных отягоще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едленная динамическая (жимовая сила), проявляемая во время перемещения предметов большой массы, скорость перемещения практически не имеет зна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взрывная сила - способность преодолевать сопрртивление с максимальным мышечным напряжением в кроткое время. В этом случае сила и быстрота движений сочета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Средствами воспитания силы мышц являются различные несложные по структуре обще развивающие силовые упражнения, среди которых можно выделить три их основных ви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упражнения с преодолением веса собственного те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упражнения с внешним сопротивл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изометрические упраж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а) Упражнения с внешним сопротивлением, наиболее эффективными для развития силы 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1. упражнения с тяжест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2. упражнения с партнё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3. упражнения с сопротивлением внешней сре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352800" y="535680"/>
            <a:ext cx="626976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б) Упражнения с преодолением собственного ве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н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гимнастические силовые упраж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прыжковые упражнения однократные и корот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261360" y="104400"/>
            <a:ext cx="6478920" cy="10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дленная динамическая (жимовая сила), проявляемая во время перемещения предметов большой массы, скорость перемещения практически не имеет зна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зрывная сила - способность преодолевать сопрртивление с максимальным мышечным напряжением в кроткое время. В этом случае сила и быстрота движений сочета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редствами воспитания силы мышц являются различные несложные по структуре обще развивающие силовые упражнения, среди которых можно выделить три их основных ви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упражнения с преодолением веса собственного те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упражнения с внешним сопротивл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зометрические упраж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а) Упражнения с внешним сопротивлением, наиболее эффективными для развития силы 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 упражнения с тяжест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 упражнения с партнё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 упражнения с сопротивлением внешней сре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б) Упражнения с преодолением собственного ве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н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гимнастические силовые упраж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прыжковые упражнения однократные и коротк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 2013 - 2022</Template>
  <TotalTime>351</TotalTime>
  <Application>LibreOffice/7.4.7.2$Linux_X86_64 LibreOffice_project/40$Build-2</Application>
  <AppVersion>15.0000</AppVersion>
  <Words>2268</Words>
  <Paragraphs>1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5T08:17:10Z</dcterms:created>
  <dc:creator>Admin</dc:creator>
  <dc:description/>
  <dc:language>en-US</dc:language>
  <cp:lastModifiedBy>Дима Миронов</cp:lastModifiedBy>
  <dcterms:modified xsi:type="dcterms:W3CDTF">2023-01-31T14:17:20Z</dcterms:modified>
  <cp:revision>6</cp:revision>
  <dc:subject/>
  <dc:title>Тема: «Путь к 100кг становой тяг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Лист A4 (210x297 мм)</vt:lpwstr>
  </property>
  <property fmtid="{D5CDD505-2E9C-101B-9397-08002B2CF9AE}" pid="3" name="Slides">
    <vt:r8>16</vt:r8>
  </property>
</Properties>
</file>