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F3D-E03A-47EA-82A5-8099628C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E29-6A96-42F9-B0B8-037B9F57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40A-6488-4CF0-8C73-071C00F6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6FB-0CCA-4539-AC2D-02029346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ECFD-7A71-41AE-A51D-8963FA2B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F4F9-5BAB-4B6D-A5DD-C1BDC9C9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3F6D-0FBF-41C2-8136-EE9104D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9F44-0EAF-44D9-B4AF-D858DF2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E147-022A-4BFE-9705-3E480E9D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0AEF-2CEC-4E51-B653-60DF744B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4E67-4568-4986-BD0F-7D10B6EB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614-4AE2-4D55-8758-D44A1B6E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5623-3724-40BB-A5B6-1C3C13F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E91D-A3A7-415D-81B3-768F1D1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7E36-7A2C-4815-A7A6-F15D9186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2DD8-AEC1-46DB-8CE8-D45CBF6B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6C09-1883-4D3D-B67D-7BB37046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C4EC-3964-46EF-89AA-E1CB5731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8E9A9-BA93-432C-9D5D-7C9571D4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191F-FBF7-479F-A4EE-B0B11B7B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7301-2960-483D-A58F-7FEE147B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761F-1AFC-47F8-869D-30A1F13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1A0-C56A-4937-9CF3-9416F6A3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5D82-A914-42CA-819A-B9505EC4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CB4C8-6FF3-43D4-AA4B-7C784292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95B7-EA6C-4131-8858-1714CE90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4B22-BFB8-4D42-9F4A-F1BC6586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D987-C848-40B4-B3FB-82749394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6CDC-8D3F-4C98-B097-58004042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3722-4249-4D21-80C3-AB0A2BD7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457-D27F-4DA6-A496-F5B0BBA3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2AB-9554-4E30-BBAD-9A4438B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48D-77BA-4D8B-AFAB-08B8C069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9E6-9C6E-4D26-AFCE-BCAA9CE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45D-340F-45E1-AB58-A2CBA51A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51D-8375-49DF-AB6F-017784C8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1621080"/>
            <a:ext cx="5829120" cy="344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5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71BC1A-13CE-46B9-9EEC-0BD555CB61C4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52740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AE61E-275B-4295-8685-F401A0895CFD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7160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2271600" y="9181440"/>
            <a:ext cx="23140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4843440" y="9181440"/>
            <a:ext cx="1542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B6E4E0-38A9-4712-B7E6-84F2EDEA3620}" type="slidenum">
              <a:rPr b="0" lang="ru-RU" sz="9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9520" y="4576680"/>
            <a:ext cx="5538240" cy="96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Развитие силовых способностей у юношей. В становой тяг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097160" y="6802200"/>
            <a:ext cx="2560680" cy="9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 Яковлев 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82880" y="0"/>
            <a:ext cx="6491880" cy="88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звестно, что в силовом троеборье применяются в основном те же упражнения, со штангой, что и тяжелой атлетике, для которой уже разработали научно-обоснованные классифицированные упражнения основанное на принципах, предложенных теорией физического воспитания для всех видов спорта. Однако силовое троеборье по сравнению с тяжелой атлетикой имеет существенное отличие не только по спортивной технике, но и по методике подготовки, в связи, с чем этот вид спорта развивает специфическую силу характерную для «лифтер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огласно классификации в тяжелой атлетике, применительно к силовому троеборью в первую группу входят соревновательные упражнения. Приседания, жим, лежа на горизонтальной скамье и тя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торая группа объединяет специально подготовленные подводящие упражнения, которые распространяются на несколько групп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жима леж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тяг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водящие упражнения для присе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Наиболее широко распространенных упражнений во второй группе, для тяги, применяемых спортсменами в тренировочном процессе следующ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значительной степени упражнения второй группы близки по своей координации к первой группе, кроме того, все они выполняются с большим отягощением, которые способствуют выполнению работы большой мощности. Таким образом, эта группа упражнений являются основными в подготовке спортсменов, так как одновременно влияют как на развитие специфических, физических качеств, так и на совершенство высшего технического мастерства спортсменов в современных упражнени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третьей группе упражнений концентрируются дополнительные развивающие упражнения. Они выполняются не только со штангой, но и на тренажерах, с использование гирь и других отягощ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Развивающие упражнения в большинстве своем оказывают локальное воздействие, из-за своеобразной структуры техники, если выполняются с относительно небольшим весом (отягощением), отсюда развиваемая при этом мощность сравнительно невел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169920" y="393840"/>
            <a:ext cx="651816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2 Методы развития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дин из основоположников теории физического воспитания А.Д. Новиков (1949г). Считал, что общая систематика физических упражнений должна быть суммой для всех звеньев системы физвоспитания, в противном случае, она теряет свое научно-практическ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истематика физических упражнений, как важнейшее условие их педагогического использования является одним из главных элементов системы физического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Классификация упражнений, применяемых в тренировочном процессе в силовом троеборье разработанная Алексеем Медведевым – д.п. наук, Ярославом Якубенко – Росс. Госуд. ОкФ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Классификация, в любом виде, физических упражнений, в спорте играет существенную роль в определении объективности получаемой организмом спортсмена нагрузки по объему и интенсивности в ходе тренировоч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0" y="115560"/>
            <a:ext cx="6857640" cy="9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рассматриваемой группы по техническим параметрам могут значительно отличаться от структуры соревновательных упражнений. В связи с этим развивающие упражнения служат дополнительным средством в подготовке спортсме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аким образом, с целях более объективной оценки и учета тренировочного процесса, воздействия испытываемого организма спортсмена в результате упражнений первой и второй группой, их нагрузку надо считать основной, а нагрузку третьей группы дополните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авнительно, основные и дополнительные нагрузки должны учитываться и анализироваться отде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настоящее время специалистам по физической культуре и спорту предлагается много информации о различных средствах, методах и методических приемах, рекомендуемых для развития силы. Большинство из них в той или иной мере могут быть использованы занимающимися атлетической гимнастикой.Метод максимальных усилий. Если упражнение с каким-либо отягощением спортсмен выполняет в одном подходе 1, максимум 3 раза (и больше не может), значит, он использует метод максимальных усилий. Для занимающихся атлетизмом с целью выступления в соревнованиях по силовому троеборью этот метод является одним из основных . Как часто можно использовать предельные и около предельные отягощения в тренировочном процессе? Универсальных рекомендаций не существует. Есть, однако, данные, которые позволяют заключить, что чем чаще тренируется атлет с максимальными весами, тем больше у него прирост силы. Ограничения связаны в основном с переносимостью нагрузок. Одни атлеты после тренировки с предельными отягощениями могут повторить ее в течение ближайшей недели, другим, чтобы "отойти" от таких нагрузок, требуется около месяца. Вывод об эффективности применения метода максимальных усилий для силового направления атлетизма базируется на обобщении соответствующего опыта тренировки и на известных материалах исследований в тяжелой атлетике .Более того, в тренировочном процессе, по-видимому, проявляется закономер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117720" y="169920"/>
            <a:ext cx="65833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бщебиологического характера. Это подтверждают результаты исследований в различных видах спорта. В лыжных гонках, например, недавно обнаружили, что самой нижней границей скорости оказывающей эффективное тренирующее воздействие на организм, является скорость выше 90% от соревновательной. В легкой атлетике выявлена прямая зависимость спортивных результатов от интенсивности и объема интенсивной части тренировки . Отсюда можно сделать вывод: чем чаще используется метод максимальных усилий в тренировочном процессе, тем выше темпы увеличения силы. Однако использовать эту закономерность далеко не про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117720" y="130680"/>
            <a:ext cx="673992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ые средства и методы развития силовых показателей в становой тя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 максимальных усилий (ММ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и использовании этого метода упражнения выполняются с предельными или околопредельными отягоще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ой вес отягощений 1-3 ПМ При лучшем результате в жиме лежа - 100 кг (на данный момент) применение ММУ может выглядеть так: жим лежа 85 кг х2, 90 х 1, 95 х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и использовании данного метода прирост мышечной массы маловероят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еди традиционных методов ММУ - один из самых эффективных для увеличения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 повторных усилий (МП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сновная характеристика метода: при его использовании упражнения с непредельными отягощениями выполняются с предельным количеством повторений в 1 подход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Рекомендуемый диапазон отягощений - 4-12 ПМ Приседания со штангой на плечах в 3 подходах по 8-12 р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ес подбирается таким образом, чтобы последнее повторение в каждом подходе выполнялось на преде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МПУ (особенно в диапазоне отягощений 6-10 ПМ) сопровождается приростом мышечной м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статических (изометрических) упражн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тические упражнения - это такие физические упражнения, в которых мышечные напряжения не сопровождаются какими-либо перемещениями спортсмена и (или) снаря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Эти упражнения выполняются с максимальным напряжением, длительностью 5-6 с в каждом подх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169920" y="261360"/>
            <a:ext cx="6465600" cy="16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занятии статические упражнения не должны занимать более 10-15 м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аксимальное приложение усилий к штанге с заведомо неподъемным вес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спользование статических упражнений в неизменном виде более 1-2 месяцев не рекомендуется. Статические упражнения в меньшей степени способствуют мышечной гипертрофии, чем динамичес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54880" y="156600"/>
            <a:ext cx="6406920" cy="80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3 Техника выполнения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новая тяга: самое травмоопасное упражнение причем можно повредить самый важный орган позвоночный стол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пасность травм в этом упражнении усугубляется еще и тем, что в нем невозможна страх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ехника выполнения становой тяги есть два стиля Очень широкая постановка ступней и традиционная узкая постановка. Из этого выделяются два стиля становая-классическая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и тяга сум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Ещё касается самого захвата штанги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Самый простой способ это разносторонний хват При нем ладони обращены в разные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равила выполнения упражнения: гриф должен двигаться вверх по воображаемой вертикали через середину ступней. Гриф штанги должен двигаться как можно ближе к туловищу. Не следует округлять спину, а также опускать голову на грудь. Первыми в работу при тяге вступают ноги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но точно не сп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части тяги следует поднимать лопатки а плечи развернуть наз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шибки при выполнении становой тя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Отматывание грифа на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Прогиб туловища назад после завершения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Округленные сп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4.Центар штанги должен находиться на середины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760" y="140400"/>
            <a:ext cx="1563120" cy="29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3040" y="609840"/>
            <a:ext cx="6631560" cy="29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а 1 Путеводитель по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нятие становой тяги как силового каче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развития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ника выполнения становой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ва 2 Результаты-экспериментальной работы по тяг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я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Методика развития силовых показателей в становой тяги у юношей 15-17 л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намика развития силовых показа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80" y="200880"/>
            <a:ext cx="2428200" cy="5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вед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80" y="757800"/>
            <a:ext cx="656784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Актуальность исследования . Сегодня упражнения со штангой 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тяжести как эффективное развития своих силовых возможностей привлекают многих каких молодых людей (мужского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женского пола), а также людей  старшего и среднего возраста. Они позволяют быстро увеличивать физическую силу, равномерно развивать все групповые мышцы, также исправлять отдельные недостатки тела, а также способствуют укреплению своего здоровья. Быстрый рост спортивных достижений и рекордов, предъявляет невиданный рост физических возможностей человека. Одним из важнейших физических качеств в большинстве видов спорта является сама сила, поэтому ее развитию спортсмены уделяют много внимание и время. Силовая подготовка имеет важное внимание для хорошей спортивной тренировки. Известно, что силовое пауэрлифтинг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троеборье обладает двумя основными качествами – доступностью и также неплохой эффективностью , чем оно и ценится как средство физического воспитания своей си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0" y="254880"/>
            <a:ext cx="6857640" cy="77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Под доступностью подразумевают следующе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 Возможность заниматься в группах или индивидуа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 Достаточно простое исполнение упражнений, что позволяет больше уделять внимание развитию и совершенствованию кач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 Для занятий не требуется много оборудования всевозможными тренажерами помещений, можно заниматься и в небольших залах, где имеются штанга, стойки для приседаний и скамейки для жима леж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4. Простота обеспечения по сравнению со многими видами спор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5. Широкий возрастной диапаз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6. Сведение к минимуму случаев травматизма.[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 пауэрлифтинге соревнования проходят в трех упражнениях - жиме штанги лежа и становой тяги, приседании со штангой на спине но нас будет интересовать только становая тяга, так как по результатам анализа научной литературы ( Зациорский В. М., Роман Р. А., Верхошанский Ю.В. Смолов С. Ю.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Воробьев А. Н.) показатели силовых в становой тяги наиболее большое влияние на спортивные достижения в силовом троеборье, так как это упражнение вовлекает в работу большее количество мышечных груп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2"/>
          <p:cNvSpPr/>
          <p:nvPr/>
        </p:nvSpPr>
        <p:spPr>
          <a:xfrm>
            <a:off x="0" y="307080"/>
            <a:ext cx="685764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ачи исследования: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Проанализировать научною литературу по воспитанию силовых способностей (становой тяги ) в силовом троебор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Исследовать методику для роста силовых показателей в становой тяге у юношей 1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юн. разряда (на примере занятий троеборье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3.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 Проверить опытным путем эффективности данной метод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тоды исследования: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Анализ научной литературы по проблеме иссле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Контрольные испытания и тес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Математично</a:t>
            </a:r>
            <a:r>
              <a:rPr b="0" lang="en-US" sz="1400" spc="-1" strike="noStrike">
                <a:solidFill>
                  <a:srgbClr val="181818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татистические мет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182880" y="130680"/>
            <a:ext cx="6544080" cy="9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ава 1.Путеводитель по становой тя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1.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нятие становой тяги как силового качества</a:t>
            </a: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од силой нужно понимать способность человека преодолевать надо за счёт усилий внешнее сопротивление внешним силам . Сила – одно из важных физических качеств в абсолютном большинстве видов спорта, поэтому её развитию уделяют исключительно много внимания и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В процессе выполнения приёмов профессиональных или спортивных связанных с подниманием, опусканием, удержание тяжёлых грузов, мышцы, сокращаются и укорачиваются. Такая работа называется преодолевающей. мешать какому-либо сопротивлению мышцы, могут при напряжении, и удлиняться, например, удержание тяжёлого груза. В таком случае их работа будет называется уступающей. Оба эти режима объединяются под одним названием - динамического. Сила, проявляемая в движении. в динамическом режиме называется динамической сил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Сокращение мышцы при постоянном напряжении или внешней нагрузке называется изотоническим. Данный режим имеет место в силовых упражнениях с штан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Если усилие спортсмена движением не сопровождается и производится без изменения длины мышц. Такая сила называется статичес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ежду силой, и скоростью сокращения мышц существует обратно пропорциональна завис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сихологические механика это качества силы связаны с регуляцией напряжения в всякий режимах их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изометрическом - без изменения длины мыш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иометрическом - уменьшается длина мышцы (в постоянном движен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лиометрическом - увеличение длины мышцы во время её растягивания. Этот режим связан с приседанием, с замахами и.т.д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при педагогической характеристике силовых качеств человека выделяют разновид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аксимальная изометрическая (так же статическая сил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1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0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91440" y="169920"/>
            <a:ext cx="676620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(показатель силы, проявляемой при удержании в течении времени предельных отягоще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медленная динамическая (жимовая сила), проявляемая во время перемещения предметов большой массы, скорость перемещения практически не имеет зна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взрывная сила - способность преодолевать сопрртивление с максимальным мышечным напряжением в кроткое время. В этом случае сила и быстрота движений сочет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Средствами воспитания силы мышц являются различные несложные по структуре обще развивающие силовые упражнения, среди которых можно выделить три их основных ви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упражнения с преодолением веса собственного те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упражнения с внешним сопротивл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изометрические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а) Упражнения с внешним сопротивлением, наиболее эффективными для развития силы 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1. упражнения с тяжест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2. упражнения с партнё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Open Sans"/>
              </a:rPr>
              <a:t>3. упражнения с сопротивлением внешней сре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52800" y="535680"/>
            <a:ext cx="626976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б) Упражнения с преодолением собственного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н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гимнастические силовые упраж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прыжковые упражнения однократные и корот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261360" y="104400"/>
            <a:ext cx="6478920" cy="10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медленная динамическая (жимовая сила), проявляемая во время перемещения предметов большой массы, скорость перемещения практически не имеет знач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взрывная сила - способность преодолевать сопрртивление с максимальным мышечным напряжением в кроткое время. В этом случае сила и быстрота движений сочет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Средствами воспитания силы мышц являются различные несложные по структуре обще развивающие силовые упражнения, среди которых можно выделить три их основных ви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с преодолением веса собственного те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упражнения с внешним сопротивл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изометрические упраж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а) Упражнения с внешним сопротивлением, наиболее эффективными для развития силы 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1. упражнения с тяжест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2. упражнения с партнё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3. упражнения с сопротивлением внешней сре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б) Упражнения с преодолением собственного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Они подразделяются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гимнастические силовые упраж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1400" spc="-1" strike="noStrike">
                <a:solidFill>
                  <a:srgbClr val="181818"/>
                </a:solidFill>
                <a:latin typeface="Times New Roman"/>
              </a:rPr>
              <a:t>· прыжковые упражнения однократные и корот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 2013 - 2022</Template>
  <TotalTime>351</TotalTime>
  <Application>LibreOffice/7.4.7.2$Linux_X86_64 LibreOffice_project/40$Build-2</Application>
  <AppVersion>15.0000</AppVersion>
  <Words>2268</Words>
  <Paragraphs>1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05T08:17:10Z</dcterms:created>
  <dc:creator>Admin</dc:creator>
  <dc:description/>
  <dc:language>en-US</dc:language>
  <cp:lastModifiedBy>Дима Миронов</cp:lastModifiedBy>
  <dcterms:modified xsi:type="dcterms:W3CDTF">2023-01-31T14:17:20Z</dcterms:modified>
  <cp:revision>6</cp:revision>
  <dc:subject/>
  <dc:title>Тема: «Путь к 100кг становой тяг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Лист A4 (210x297 мм)</vt:lpwstr>
  </property>
  <property fmtid="{D5CDD505-2E9C-101B-9397-08002B2CF9AE}" pid="3" name="Slides">
    <vt:r8>16</vt:r8>
  </property>
</Properties>
</file>