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png" ContentType="image/png"/>
  <Override PartName="/ppt/media/image7.jpeg" ContentType="image/jpeg"/>
  <Override PartName="/ppt/media/image8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11.png" ContentType="image/png"/>
  <Override PartName="/ppt/media/image19.jpeg" ContentType="image/jpeg"/>
  <Override PartName="/ppt/media/image5.wmf" ContentType="image/x-wmf"/>
  <Override PartName="/ppt/media/image6.jpeg" ContentType="image/jpeg"/>
  <Override PartName="/ppt/media/image10.png" ContentType="image/png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33.png" ContentType="image/png"/>
  <Override PartName="/ppt/media/image16.wmf" ContentType="image/x-wmf"/>
  <Override PartName="/ppt/media/image4.png" ContentType="image/png"/>
  <Override PartName="/ppt/media/image27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15.wmf" ContentType="image/x-wmf"/>
  <Override PartName="/ppt/media/image17.png" ContentType="image/png"/>
  <Override PartName="/ppt/media/image18.jpeg" ContentType="image/jpeg"/>
  <Override PartName="/ppt/media/image22.png" ContentType="image/png"/>
  <Override PartName="/ppt/media/image23.wmf" ContentType="image/x-wmf"/>
  <Override PartName="/ppt/media/image24.wmf" ContentType="image/x-wmf"/>
  <Override PartName="/ppt/media/image32.png" ContentType="image/png"/>
  <Override PartName="/ppt/media/image25.jpeg" ContentType="image/jpeg"/>
  <Override PartName="/ppt/media/image2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dt" idx="2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2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3A903C-3C44-4D14-A3CE-555FF4662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83B7D2-51B5-423C-AC41-594E58A9BF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2AFFE6-EC44-45BE-BD38-14D8CD62D4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2EDD-7429-4D5D-A29E-E22CAD2C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92B-4830-417E-BB81-2B2FACDF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5B3-551C-4A36-932E-FE97F4A9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4B34-49BE-43C3-BFCB-50C9FD02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ED84-A208-45A0-B94D-950B4E52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D042-F5DB-41C0-9337-6FF51AF8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6275-0FD1-4705-999D-77D97A85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8C4F-661D-48F9-BECB-0A8279D8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5955-0A4F-4F01-890C-B2693B67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F2C1-CC6E-4E98-B87B-7220362A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79FE-E784-4C1A-8B7B-1A2C04D2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40C-0B1F-43A2-BE7D-12A8BD66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20B9-00A2-44CC-9D96-CE7F4996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D346-328C-4801-8F8E-96E33CA4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06B7-CC75-4584-B126-C43A62F5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B352-AFE7-4301-8DA2-6E28AE94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1CFB-1A3B-4F84-8C40-43FA9865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00AA4-5CB0-4CD5-AD14-5A53B48B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9BEEE-EB26-4219-8ED5-0CB1C72A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52597-5880-4ADA-9F69-BC234F0B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CEDCD-63BA-4AF6-8ED5-379B1855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ED900-D3C0-408B-B495-E353AFD0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FB00-0E9F-48C2-99CA-0042A5BC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636E2-B2D3-41B3-8C9A-A710964B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B83FD-FF36-4433-BBEA-25BEA784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06440-7751-4945-BC65-96E307C6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987F8-A84A-4C41-B06B-E76FCC16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640C5-8921-4BB5-ABD3-C9560AA3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3A2A5-83B5-487D-B136-F2586653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20ADE-3537-41A0-82EB-A810B853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4B725-05BC-42C2-BDD9-FCD245A7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154E0-38E6-44DB-B604-34C60447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46B99-63C8-4915-9678-62FCDCA7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0E7-397E-44F4-8924-D29E87F9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AA7D0-00EA-48DA-8CA5-972F25A0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3CE43-454D-4301-96FF-1FB37287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CAC13-256F-4F9C-B358-AB7577D8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583D6-D98B-45B0-958D-A2671516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D47AA-8845-4FD7-997A-539F4143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97CEC-C51E-4824-B124-6623689B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549DB-0D66-4A49-B9D9-F5B65E30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466B3-5CA3-484A-AD70-80A915CB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A9C90-8CB5-43AD-9DAF-7494D162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F8ECA-13F1-4148-8D3B-58FE891E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007-7729-4096-A7E2-84865846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41429-9C13-45A0-A4E0-08CD821C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880C1-65D1-4C25-B223-CF868F9B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85611-DCEF-4A82-BB31-B392F472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77973-853E-4B5A-B69B-6315CA95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743E2-27C1-4E3D-8BB8-B9747635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E2B3B-A633-48C2-A639-09399FEA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9BCCE-56D4-445A-A663-F3253C02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1EAAF-B1CA-4959-A13F-04F8B717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BBEAD-BE34-4A99-BA90-DDA7C776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1A41D-104B-4AB5-A074-B81E697D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6FFC-20CC-4434-826E-5CD75A6A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6862B-6664-4D56-B1DE-FE149EE6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D80F1-3F00-44EA-BCA6-D981C653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AF8EB-7580-4D1E-8A4C-FFB64413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006B0-D25A-4F8D-A3D8-68CE794A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E9262-C6BC-4AC3-AE2A-F3EBF9BA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6706D-B6BC-42CD-9A9E-592BFCF2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710E2-20AE-4048-B67A-36C32674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4C883-A06C-4934-938B-974F56E3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C9F48-24C3-4CD2-BCBF-1780530D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07CB6-B163-4E61-992D-EBE7A894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BCC-6FD0-4467-909E-E70AE782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7D9A5-3D03-4E54-B0FD-9937F43F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56E0C-6113-436D-A2F6-C54E8C1C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59C72-EBA8-4861-A886-6EB18926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FB412-2D3F-4C4E-B9A4-9BC1D3FE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21574-13BC-474E-B687-93848478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30E57-FDB4-49F7-A781-9104EB18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2C9B7-67B9-459F-B546-28DEBBA8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E5E35-71E2-4307-A620-065D40B0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FC90D-211B-421F-B1C0-8B674A1D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7FF2D-1652-4DB3-BDDA-A2030A42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69E-BE1A-4F95-82DD-577B5D7A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42E73-5DA6-4B1D-92D9-105F3914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023F5-FADD-498C-A83D-1F2D6CC2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C0EA7-2DDD-4ECF-B93C-3EA6A194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EA2BA-2E43-4E6F-B6D5-06B8985E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82DA1-E3C4-4D67-9FA1-7B1389A2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C4C4-5214-46B5-9BF7-C28F02E6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3"/>
          <p:cNvSpPr/>
          <p:nvPr/>
        </p:nvSpPr>
        <p:spPr>
          <a:xfrm>
            <a:off x="905040" y="3648240"/>
            <a:ext cx="7314840" cy="127908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4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Прямоугольник 5"/>
          <p:cNvSpPr/>
          <p:nvPr/>
        </p:nvSpPr>
        <p:spPr>
          <a:xfrm>
            <a:off x="905040" y="3648240"/>
            <a:ext cx="228240" cy="127908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6" name="Прямоугольник 6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400800" y="6354720"/>
            <a:ext cx="22856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898720" y="6354720"/>
            <a:ext cx="347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1216080" y="6354720"/>
            <a:ext cx="12189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9494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E690D6A-D186-4A96-B84B-CF130C371E3C}" type="slidenum">
              <a:rPr b="0" lang="ru-RU" sz="1400" spc="-1" strike="noStrike">
                <a:solidFill>
                  <a:srgbClr val="94949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9494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A3B8E31-1185-4A19-A0D1-59095E85C22E}" type="slidenum">
              <a:rPr b="0" lang="ru-RU" sz="1400" spc="-1" strike="noStrike">
                <a:solidFill>
                  <a:srgbClr val="94949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9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218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4648320" y="3938760"/>
            <a:ext cx="4038120" cy="2187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9494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0C83526-659A-4018-AC48-8825798B90BE}" type="slidenum">
              <a:rPr b="0" lang="ru-RU" sz="1400" spc="-1" strike="noStrike">
                <a:solidFill>
                  <a:srgbClr val="94949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9" hidden="1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1" name="Прямая соединительная линия 10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Равнобедренный треугольник 2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9494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95A3267-CC52-40D7-A552-EE44E94E45F4}" type="slidenum">
              <a:rPr b="0" lang="ru-RU" sz="1400" spc="-1" strike="noStrike">
                <a:solidFill>
                  <a:srgbClr val="94949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Равнобедренный треугольник 9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dt" idx="13"/>
          </p:nvPr>
        </p:nvSpPr>
        <p:spPr>
          <a:xfrm>
            <a:off x="6400800" y="6356520"/>
            <a:ext cx="2288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612720" y="6356520"/>
            <a:ext cx="19807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9494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F3231DA-00C7-45E7-B7D3-CB0BE73677CC}" type="slidenum">
              <a:rPr b="0" lang="ru-RU" sz="1400" spc="-1" strike="noStrike">
                <a:solidFill>
                  <a:srgbClr val="94949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99937" sy="99937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E6B880-691B-45DD-83CE-15C9C043F451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99937" sy="99937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8A01EC-612C-40F7-A015-B6317E63E0FB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5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6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6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1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6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992720" cy="3096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8000"/>
          </a:bodyPr>
          <a:p>
            <a:pPr indent="0" algn="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Рівноприскорений прямолінійний рух. Прискорення. Швидкість рівноприскореного прямолінійного руху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"/>
          <p:cNvSpPr/>
          <p:nvPr/>
        </p:nvSpPr>
        <p:spPr>
          <a:xfrm>
            <a:off x="1732680" y="4077000"/>
            <a:ext cx="252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Урок фізики в 9 клас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"/>
          <p:cNvSpPr/>
          <p:nvPr/>
        </p:nvSpPr>
        <p:spPr>
          <a:xfrm>
            <a:off x="1593720" y="5220000"/>
            <a:ext cx="254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истанційне нав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Объект 3" descr=""/>
          <p:cNvPicPr/>
          <p:nvPr/>
        </p:nvPicPr>
        <p:blipFill>
          <a:blip r:embed="rId1"/>
          <a:srcRect l="0" t="0" r="47268" b="-1229"/>
          <a:stretch/>
        </p:blipFill>
        <p:spPr>
          <a:xfrm>
            <a:off x="1115640" y="908640"/>
            <a:ext cx="5151600" cy="34552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4"/>
          <p:cNvSpPr/>
          <p:nvPr/>
        </p:nvSpPr>
        <p:spPr>
          <a:xfrm>
            <a:off x="755640" y="4508640"/>
            <a:ext cx="8280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кщо  тіло гальмує, рух сповільнений, проекція прискорення від’ємна, то графік розташований під віссю абсц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3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Рівноприскорений</a:t>
            </a:r>
            <a:r>
              <a:rPr b="1" lang="uk-UA" sz="4000" spc="-1" strike="noStrike">
                <a:solidFill>
                  <a:schemeClr val="accent2"/>
                </a:solidFill>
                <a:latin typeface="Bookman Old Style"/>
              </a:rPr>
              <a:t> </a:t>
            </a: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прямолінійний</a:t>
            </a:r>
            <a:r>
              <a:rPr b="1" lang="uk-UA" sz="4000" spc="-1" strike="noStrike">
                <a:solidFill>
                  <a:schemeClr val="accent2"/>
                </a:solidFill>
                <a:latin typeface="Bookman Old Style"/>
              </a:rPr>
              <a:t> </a:t>
            </a: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рух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685800" y="1413000"/>
            <a:ext cx="7776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Рівноприскорений прямолінійний рух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– це рух, під час якого тіло рухається прямолінійною траєкторією з незмінним прискоренн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6" descr="C:\Users\User\Desktop\fizika-9-zasekina-pogl-347.jpg"/>
          <p:cNvPicPr/>
          <p:nvPr/>
        </p:nvPicPr>
        <p:blipFill>
          <a:blip r:embed="rId1"/>
          <a:stretch/>
        </p:blipFill>
        <p:spPr>
          <a:xfrm>
            <a:off x="1598760" y="4076640"/>
            <a:ext cx="5951160" cy="22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0840" y="193680"/>
            <a:ext cx="8229240" cy="1498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Швидкість рівноприскореного прямолінійного руху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789120" y="1692360"/>
            <a:ext cx="7776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ід час рівноприскореного руху швидкість весь час змінює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728640" y="2847960"/>
            <a:ext cx="75610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Миттєва швидкіст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– це швидкість руху тіла в даний момент часу, швидкість у даній точці траєктор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"/>
          <p:cNvPicPr/>
          <p:nvPr/>
        </p:nvPicPr>
        <p:blipFill>
          <a:blip r:embed="rId1"/>
          <a:stretch/>
        </p:blipFill>
        <p:spPr>
          <a:xfrm>
            <a:off x="5508000" y="4005000"/>
            <a:ext cx="266544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4" descr=""/>
          <p:cNvPicPr/>
          <p:nvPr/>
        </p:nvPicPr>
        <p:blipFill>
          <a:blip r:embed="rId1"/>
          <a:stretch/>
        </p:blipFill>
        <p:spPr>
          <a:xfrm>
            <a:off x="5364000" y="2061000"/>
            <a:ext cx="3387600" cy="33832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Залежність швидкості від часу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1763640" y="3284640"/>
          <a:ext cx="2231640" cy="59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3284640"/>
                    <a:ext cx="2231640" cy="59976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3" name="Text Box 8"/>
          <p:cNvSpPr/>
          <p:nvPr/>
        </p:nvSpPr>
        <p:spPr>
          <a:xfrm>
            <a:off x="611280" y="1484280"/>
            <a:ext cx="47527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Графік швидкості – це  пряма, нахилена під певним кутом до осі ча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467640" y="4005000"/>
            <a:ext cx="49687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51"/>
              </a:spcBef>
              <a:tabLst>
                <a:tab algn="l" pos="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Якщо проекція прискорення – додатня </a:t>
            </a:r>
            <a:r>
              <a:rPr b="1" i="1" lang="uk-UA" sz="2300" spc="-1" strike="noStrike">
                <a:solidFill>
                  <a:srgbClr val="000000"/>
                </a:solidFill>
                <a:latin typeface="Times New Roman"/>
              </a:rPr>
              <a:t>(а</a:t>
            </a:r>
            <a:r>
              <a:rPr b="1" i="1" lang="uk-UA" sz="2300" spc="-1" strike="noStrike" baseline="-25000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uk-UA" sz="2300" spc="-1" strike="noStrike">
                <a:solidFill>
                  <a:srgbClr val="000000"/>
                </a:solidFill>
                <a:latin typeface="Times New Roman"/>
              </a:rPr>
              <a:t>0),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 то графік швидкості підіймається (1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51"/>
              </a:spcBef>
              <a:tabLst>
                <a:tab algn="l" pos="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Якщо проекція прискорення – від`ємна (а</a:t>
            </a:r>
            <a:r>
              <a:rPr b="0" lang="uk-UA" sz="2300" spc="-1" strike="noStrike" baseline="-25000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0), то графік швидкості опускається. (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Объект 5" descr=""/>
          <p:cNvPicPr/>
          <p:nvPr/>
        </p:nvPicPr>
        <p:blipFill>
          <a:blip r:embed="rId2"/>
          <a:srcRect l="5080" t="8310" r="7884" b="12527"/>
          <a:stretch/>
        </p:blipFill>
        <p:spPr>
          <a:xfrm>
            <a:off x="250920" y="260280"/>
            <a:ext cx="4922640" cy="24508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79280" y="2852640"/>
            <a:ext cx="8353080" cy="3671640"/>
          </a:xfrm>
          <a:prstGeom prst="rect">
            <a:avLst/>
          </a:prstGeom>
          <a:solidFill>
            <a:srgbClr val="2e823c"/>
          </a:soli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На малюнку крапками позначені положення п'яти тіл, що рухаються зліва направо, через рівні проміжки часу. Проміжки часу між двома позначками на всіх смужках однакові. На якій смужці зареєстровано рівномірний рух з найменшою швидкістю? З найбільшою швидкістю? Рівноприскорений рух? Рівносповільнений рух?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786520" cy="1714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 графіком швидкості визначити швидкість тіла в момент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= 4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с. Чому дорівнює прискорення?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8"/>
          <p:cNvSpPr/>
          <p:nvPr/>
        </p:nvSpPr>
        <p:spPr>
          <a:xfrm>
            <a:off x="5508000" y="4005000"/>
            <a:ext cx="343260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2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- 2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- 4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16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Группа 5"/>
          <p:cNvGrpSpPr/>
          <p:nvPr/>
        </p:nvGrpSpPr>
        <p:grpSpPr>
          <a:xfrm>
            <a:off x="468360" y="2016000"/>
            <a:ext cx="4463640" cy="3860280"/>
            <a:chOff x="468360" y="2016000"/>
            <a:chExt cx="4463640" cy="3860280"/>
          </a:xfrm>
        </p:grpSpPr>
        <p:pic>
          <p:nvPicPr>
            <p:cNvPr id="380" name="Picture 2" descr=""/>
            <p:cNvPicPr/>
            <p:nvPr/>
          </p:nvPicPr>
          <p:blipFill>
            <a:blip r:embed="rId2"/>
            <a:stretch/>
          </p:blipFill>
          <p:spPr>
            <a:xfrm>
              <a:off x="468360" y="2016000"/>
              <a:ext cx="4463640" cy="3860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81" name="Прямая соединительная линия 6"/>
            <p:cNvCxnSpPr/>
            <p:nvPr/>
          </p:nvCxnSpPr>
          <p:spPr>
            <a:xfrm flipH="1">
              <a:off x="4462200" y="3946320"/>
              <a:ext cx="2160" cy="1429200"/>
            </a:xfrm>
            <a:prstGeom prst="straightConnector1">
              <a:avLst/>
            </a:prstGeom>
            <a:ln w="57150">
              <a:solidFill>
                <a:srgbClr val="c00000"/>
              </a:solidFill>
              <a:prstDash val="dash"/>
              <a:round/>
            </a:ln>
          </p:spPr>
        </p:cxnSp>
        <p:cxnSp>
          <p:nvCxnSpPr>
            <p:cNvPr id="382" name="Прямая соединительная линия 7"/>
            <p:cNvCxnSpPr/>
            <p:nvPr/>
          </p:nvCxnSpPr>
          <p:spPr>
            <a:xfrm>
              <a:off x="1447560" y="5373360"/>
              <a:ext cx="3026160" cy="11520"/>
            </a:xfrm>
            <a:prstGeom prst="straightConnector1">
              <a:avLst/>
            </a:prstGeom>
            <a:ln w="57150">
              <a:solidFill>
                <a:srgbClr val="c00000"/>
              </a:solidFill>
              <a:prstDash val="dash"/>
              <a:round/>
            </a:ln>
          </p:spPr>
        </p:cxnSp>
      </p:grpSp>
      <p:pic>
        <p:nvPicPr>
          <p:cNvPr id="383" name="Picture 2" descr=""/>
          <p:cNvPicPr/>
          <p:nvPr/>
        </p:nvPicPr>
        <p:blipFill>
          <a:blip r:embed="rId3"/>
          <a:stretch/>
        </p:blipFill>
        <p:spPr>
          <a:xfrm>
            <a:off x="6012000" y="2476440"/>
            <a:ext cx="2425320" cy="8535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10"/>
          <p:cNvSpPr/>
          <p:nvPr/>
        </p:nvSpPr>
        <p:spPr>
          <a:xfrm>
            <a:off x="2054160" y="407700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1"/>
          <p:cNvSpPr/>
          <p:nvPr/>
        </p:nvSpPr>
        <p:spPr>
          <a:xfrm>
            <a:off x="6878880" y="400500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3"/>
          <p:cNvSpPr/>
          <p:nvPr/>
        </p:nvSpPr>
        <p:spPr>
          <a:xfrm>
            <a:off x="7094880" y="450900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4"/>
          <p:cNvSpPr/>
          <p:nvPr/>
        </p:nvSpPr>
        <p:spPr>
          <a:xfrm>
            <a:off x="7022880" y="501300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5"/>
          <p:cNvSpPr/>
          <p:nvPr/>
        </p:nvSpPr>
        <p:spPr>
          <a:xfrm>
            <a:off x="7094880" y="537336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7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3320" y="84240"/>
            <a:ext cx="8787960" cy="248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3600" spc="-1" strike="noStrike">
                <a:solidFill>
                  <a:srgbClr val="c00000"/>
                </a:solidFill>
                <a:latin typeface="Times New Roman"/>
              </a:rPr>
              <a:t>ДОМАШНЯ ЗАДАЧА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а графіком швидкості визначити швидкість тіла в момент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2 с. Чому дорівню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є прискорення?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8"/>
          <p:cNvSpPr/>
          <p:nvPr/>
        </p:nvSpPr>
        <p:spPr>
          <a:xfrm>
            <a:off x="5651640" y="4016520"/>
            <a:ext cx="24285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3,3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4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5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3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Группа 3"/>
          <p:cNvGrpSpPr/>
          <p:nvPr/>
        </p:nvGrpSpPr>
        <p:grpSpPr>
          <a:xfrm>
            <a:off x="395280" y="2527200"/>
            <a:ext cx="4333680" cy="3061800"/>
            <a:chOff x="395280" y="2527200"/>
            <a:chExt cx="4333680" cy="3061800"/>
          </a:xfrm>
        </p:grpSpPr>
        <p:grpSp>
          <p:nvGrpSpPr>
            <p:cNvPr id="392" name="Группа 2"/>
            <p:cNvGrpSpPr/>
            <p:nvPr/>
          </p:nvGrpSpPr>
          <p:grpSpPr>
            <a:xfrm>
              <a:off x="395280" y="2527200"/>
              <a:ext cx="4333680" cy="3061800"/>
              <a:chOff x="395280" y="2527200"/>
              <a:chExt cx="4333680" cy="3061800"/>
            </a:xfrm>
          </p:grpSpPr>
          <p:pic>
            <p:nvPicPr>
              <p:cNvPr id="393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280" y="2527200"/>
                <a:ext cx="4333680" cy="30618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394" name="Прямая соединительная линия 28"/>
              <p:cNvCxnSpPr/>
              <p:nvPr/>
            </p:nvCxnSpPr>
            <p:spPr>
              <a:xfrm flipV="1">
                <a:off x="4262400" y="3457440"/>
                <a:ext cx="1800" cy="1590840"/>
              </a:xfrm>
              <a:prstGeom prst="straightConnector1">
                <a:avLst/>
              </a:prstGeom>
              <a:ln w="57150">
                <a:solidFill>
                  <a:srgbClr val="c00000"/>
                </a:solidFill>
                <a:prstDash val="dash"/>
                <a:round/>
              </a:ln>
            </p:spPr>
          </p:cxnSp>
        </p:grpSp>
        <p:cxnSp>
          <p:nvCxnSpPr>
            <p:cNvPr id="395" name="Прямая соединительная линия 29"/>
            <p:cNvCxnSpPr/>
            <p:nvPr/>
          </p:nvCxnSpPr>
          <p:spPr>
            <a:xfrm>
              <a:off x="1353960" y="3490560"/>
              <a:ext cx="2941920" cy="2160"/>
            </a:xfrm>
            <a:prstGeom prst="straightConnector1">
              <a:avLst/>
            </a:prstGeom>
            <a:ln w="57150">
              <a:solidFill>
                <a:srgbClr val="c00000"/>
              </a:solidFill>
              <a:prstDash val="dash"/>
              <a:round/>
            </a:ln>
          </p:spPr>
        </p:cxnSp>
      </p:grpSp>
      <p:pic>
        <p:nvPicPr>
          <p:cNvPr id="396" name="Picture 2" descr="f23"/>
          <p:cNvPicPr/>
          <p:nvPr/>
        </p:nvPicPr>
        <p:blipFill>
          <a:blip r:embed="rId3"/>
          <a:stretch/>
        </p:blipFill>
        <p:spPr>
          <a:xfrm>
            <a:off x="5837400" y="2624040"/>
            <a:ext cx="2303280" cy="729720"/>
          </a:xfrm>
          <a:prstGeom prst="rect">
            <a:avLst/>
          </a:prstGeom>
          <a:ln w="63500">
            <a:solidFill>
              <a:srgbClr val="ff0000"/>
            </a:solidFill>
            <a:miter/>
          </a:ln>
        </p:spPr>
      </p:pic>
      <p:sp>
        <p:nvSpPr>
          <p:cNvPr id="397" name="TextBox 9"/>
          <p:cNvSpPr/>
          <p:nvPr/>
        </p:nvSpPr>
        <p:spPr>
          <a:xfrm>
            <a:off x="7238880" y="400500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0"/>
          <p:cNvSpPr/>
          <p:nvPr/>
        </p:nvSpPr>
        <p:spPr>
          <a:xfrm>
            <a:off x="7022880" y="450900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7022880" y="508536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2"/>
          <p:cNvSpPr/>
          <p:nvPr/>
        </p:nvSpPr>
        <p:spPr>
          <a:xfrm>
            <a:off x="7022880" y="544536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5840" y="548640"/>
            <a:ext cx="8857800" cy="2552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За графіком швидкості визначити швидкість тіла наприкінці 3-ої секунди. Чому дорівнює прискорення?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4536000" cy="3399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3"/>
          <a:stretch/>
        </p:blipFill>
        <p:spPr>
          <a:xfrm>
            <a:off x="5796000" y="4005000"/>
            <a:ext cx="2425320" cy="85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rcRect l="2053" t="1820" r="0" b="0"/>
          <a:stretch/>
        </p:blipFill>
        <p:spPr>
          <a:xfrm>
            <a:off x="323640" y="980640"/>
            <a:ext cx="8565840" cy="424800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785960"/>
          </a:xfrm>
          <a:prstGeom prst="rect">
            <a:avLst/>
          </a:prstGeom>
          <a:solidFill>
            <a:srgbClr val="ff5722"/>
          </a:solidFill>
          <a:ln w="38160">
            <a:solidFill>
              <a:srgbClr val="ff5722"/>
            </a:solidFill>
            <a:round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Verdana"/>
              </a:rPr>
              <a:t>Формуємо компетентність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  <a:ea typeface="Verdana"/>
              </a:rPr>
              <a:t>Я поміркую і зможу дати відповідь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51640" y="2493000"/>
            <a:ext cx="8682480" cy="28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Згадуємо кінематику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684360" y="1197000"/>
            <a:ext cx="799272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Кінематика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розділ механіки, що вивчає рух тіл і при цьому не розглядає причини, якими цей виклик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790560" y="2581200"/>
            <a:ext cx="79927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Механічний рух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– це зміна з часом положення тіла в просторі відносно інших ті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slide-42-638"/>
          <p:cNvPicPr/>
          <p:nvPr/>
        </p:nvPicPr>
        <p:blipFill>
          <a:blip r:embed="rId1"/>
          <a:srcRect l="7701" t="77592" r="7701" b="9248"/>
          <a:stretch/>
        </p:blipFill>
        <p:spPr>
          <a:xfrm>
            <a:off x="755640" y="4292640"/>
            <a:ext cx="806400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0000cc"/>
                </a:solidFill>
                <a:latin typeface="Bookman Old Style"/>
              </a:rPr>
              <a:t>Дякую за увагу!!!</a:t>
            </a:r>
            <a:endParaRPr b="0" lang="ru-RU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Згадуємо</a:t>
            </a:r>
            <a:r>
              <a:rPr b="1" lang="uk-UA" sz="3200" spc="-1" strike="noStrike">
                <a:solidFill>
                  <a:schemeClr val="accent2"/>
                </a:solidFill>
                <a:latin typeface="Bookman Old Style"/>
              </a:rPr>
              <a:t> </a:t>
            </a: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кінематику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684360" y="1197000"/>
            <a:ext cx="7992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атеріальна точка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це фізична модель тіла, розмірами якого в умовах задачі можна знехтува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684360" y="2133720"/>
            <a:ext cx="7992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е саме тіло в умовах однієї задачі можна вважати матеріальною точкою, а в умовах іншої – не мож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" descr="матеріальна точка"/>
          <p:cNvPicPr/>
          <p:nvPr/>
        </p:nvPicPr>
        <p:blipFill>
          <a:blip r:embed="rId1"/>
          <a:srcRect l="7296" t="28833" r="7296" b="10715"/>
          <a:stretch/>
        </p:blipFill>
        <p:spPr>
          <a:xfrm>
            <a:off x="1325520" y="3154320"/>
            <a:ext cx="671004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5018040" y="1925640"/>
            <a:ext cx="2160360" cy="2160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240" cy="863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Згадуємо</a:t>
            </a:r>
            <a:r>
              <a:rPr b="1" lang="uk-UA" sz="3200" spc="-1" strike="noStrike">
                <a:solidFill>
                  <a:schemeClr val="accent2"/>
                </a:solidFill>
                <a:latin typeface="Bookman Old Style"/>
              </a:rPr>
              <a:t> </a:t>
            </a: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кінематику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12"/>
          <p:cNvGraphicFramePr/>
          <p:nvPr/>
        </p:nvGraphicFramePr>
        <p:xfrm>
          <a:off x="3851280" y="4581360"/>
          <a:ext cx="298080" cy="46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4581360"/>
                    <a:ext cx="29808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3"/>
          <p:cNvSpPr/>
          <p:nvPr/>
        </p:nvSpPr>
        <p:spPr>
          <a:xfrm>
            <a:off x="684360" y="1052640"/>
            <a:ext cx="7992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раєкторія тіла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лінія, яку описує рухоме ті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552600" y="1677960"/>
            <a:ext cx="554472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 видом траєкторії рухи буваю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4507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ямоліній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4507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воліній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0" descr="Траектория самолета"/>
          <p:cNvPicPr/>
          <p:nvPr/>
        </p:nvPicPr>
        <p:blipFill>
          <a:blip r:embed="rId4"/>
          <a:stretch/>
        </p:blipFill>
        <p:spPr>
          <a:xfrm>
            <a:off x="7020000" y="1476360"/>
            <a:ext cx="2015640" cy="17712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1"/>
          <p:cNvSpPr/>
          <p:nvPr/>
        </p:nvSpPr>
        <p:spPr>
          <a:xfrm>
            <a:off x="611280" y="3716280"/>
            <a:ext cx="4608000" cy="26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51"/>
              </a:spcBef>
              <a:tabLst>
                <a:tab algn="l" pos="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Шлях 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– довжина траєкторії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скалярна величи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51"/>
              </a:spcBef>
              <a:tabLst>
                <a:tab algn="l" pos="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Переміщення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-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напрямлений відрізок прямої, який з'єднує початкове і кінцеве положення  тіла – векторна фізична величи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4" descr="slide-43-638"/>
          <p:cNvPicPr/>
          <p:nvPr/>
        </p:nvPicPr>
        <p:blipFill>
          <a:blip r:embed="rId5"/>
          <a:srcRect l="53312" t="8041" r="7701" b="78799"/>
          <a:stretch/>
        </p:blipFill>
        <p:spPr>
          <a:xfrm>
            <a:off x="5307120" y="4556160"/>
            <a:ext cx="374292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Згадуємо</a:t>
            </a:r>
            <a:r>
              <a:rPr b="1" lang="uk-UA" sz="3200" spc="-1" strike="noStrike">
                <a:solidFill>
                  <a:schemeClr val="accent2"/>
                </a:solidFill>
                <a:latin typeface="Bookman Old Style"/>
              </a:rPr>
              <a:t> </a:t>
            </a: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кінематику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Object 17"/>
          <p:cNvGraphicFramePr/>
          <p:nvPr/>
        </p:nvGraphicFramePr>
        <p:xfrm>
          <a:off x="3132000" y="5229360"/>
          <a:ext cx="2014200" cy="89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5229360"/>
                    <a:ext cx="2014200" cy="89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22"/>
          <p:cNvGraphicFramePr/>
          <p:nvPr/>
        </p:nvGraphicFramePr>
        <p:xfrm>
          <a:off x="6084720" y="2924280"/>
          <a:ext cx="2020680" cy="21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2924280"/>
                    <a:ext cx="2020680" cy="216036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3" name="Text Box 3"/>
          <p:cNvSpPr/>
          <p:nvPr/>
        </p:nvSpPr>
        <p:spPr>
          <a:xfrm>
            <a:off x="644400" y="1316160"/>
            <a:ext cx="799272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Рівномірний прямолінійний рух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– механічний рух, під час якого тіло за будь-які рівні інтервали часу здійснює однакові переміщен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684360" y="3397320"/>
            <a:ext cx="44636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Швидкість рівномірного прямолінійного руху протягом усього час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остереження не змінюється ані за значенням, ані за напрям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5"/>
          <p:cNvSpPr/>
          <p:nvPr/>
        </p:nvSpPr>
        <p:spPr>
          <a:xfrm>
            <a:off x="828720" y="345960"/>
            <a:ext cx="79196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рискоре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– це векторна ФВ, яка характеризує швидкість зміни швидкості руху тіла й дорівнює відношенню зміни швидкості руху тіла до інтервалу часу, за який ця зміна відбувала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899640" y="4653000"/>
            <a:ext cx="777672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рискорення руху ті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початкова швидк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швидкість руху тіла через деякий інтервал час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0" descr=""/>
          <p:cNvPicPr/>
          <p:nvPr/>
        </p:nvPicPr>
        <p:blipFill>
          <a:blip r:embed="rId1"/>
          <a:stretch/>
        </p:blipFill>
        <p:spPr>
          <a:xfrm>
            <a:off x="3537000" y="3260880"/>
            <a:ext cx="5190840" cy="909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3" descr=""/>
          <p:cNvPicPr/>
          <p:nvPr/>
        </p:nvPicPr>
        <p:blipFill>
          <a:blip r:embed="rId2"/>
          <a:stretch/>
        </p:blipFill>
        <p:spPr>
          <a:xfrm>
            <a:off x="539640" y="3141000"/>
            <a:ext cx="3024000" cy="1142640"/>
          </a:xfrm>
          <a:prstGeom prst="rect">
            <a:avLst/>
          </a:prstGeom>
          <a:ln w="9525">
            <a:noFill/>
          </a:ln>
        </p:spPr>
      </p:pic>
      <p:pic>
        <p:nvPicPr>
          <p:cNvPr id="349" name="Picture 34" descr=""/>
          <p:cNvPicPr/>
          <p:nvPr/>
        </p:nvPicPr>
        <p:blipFill>
          <a:blip r:embed="rId3"/>
          <a:stretch/>
        </p:blipFill>
        <p:spPr>
          <a:xfrm>
            <a:off x="827640" y="4534920"/>
            <a:ext cx="579240" cy="531000"/>
          </a:xfrm>
          <a:prstGeom prst="rect">
            <a:avLst/>
          </a:prstGeom>
          <a:ln w="9525">
            <a:noFill/>
          </a:ln>
        </p:spPr>
      </p:pic>
      <p:pic>
        <p:nvPicPr>
          <p:cNvPr id="350" name="Picture 35" descr=""/>
          <p:cNvPicPr/>
          <p:nvPr/>
        </p:nvPicPr>
        <p:blipFill>
          <a:blip r:embed="rId4"/>
          <a:stretch/>
        </p:blipFill>
        <p:spPr>
          <a:xfrm>
            <a:off x="827640" y="5157360"/>
            <a:ext cx="537840" cy="595800"/>
          </a:xfrm>
          <a:prstGeom prst="rect">
            <a:avLst/>
          </a:prstGeom>
          <a:ln w="9525">
            <a:noFill/>
          </a:ln>
        </p:spPr>
      </p:pic>
      <p:pic>
        <p:nvPicPr>
          <p:cNvPr id="351" name="Picture 36" descr=""/>
          <p:cNvPicPr/>
          <p:nvPr/>
        </p:nvPicPr>
        <p:blipFill>
          <a:blip r:embed="rId5"/>
          <a:stretch/>
        </p:blipFill>
        <p:spPr>
          <a:xfrm>
            <a:off x="827640" y="5733360"/>
            <a:ext cx="614520" cy="596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Object 3"/>
          <p:cNvGraphicFramePr/>
          <p:nvPr/>
        </p:nvGraphicFramePr>
        <p:xfrm>
          <a:off x="5651640" y="2195640"/>
          <a:ext cx="2333160" cy="87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2195640"/>
                    <a:ext cx="2333160" cy="87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495680" y="3716280"/>
            <a:ext cx="4468320" cy="2665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Графік прискорення – пряма лінія  паралельна віссі часу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4282920" y="428760"/>
            <a:ext cx="4463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Формула для розрахунку прискор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5"/>
          <p:cNvGraphicFramePr/>
          <p:nvPr/>
        </p:nvGraphicFramePr>
        <p:xfrm>
          <a:off x="830160" y="463680"/>
          <a:ext cx="3341160" cy="15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160" y="463680"/>
                    <a:ext cx="3341160" cy="156816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58" name="Picture 4" descr=""/>
          <p:cNvPicPr/>
          <p:nvPr/>
        </p:nvPicPr>
        <p:blipFill>
          <a:blip r:embed="rId5"/>
          <a:srcRect l="66366" t="28999" r="-396" b="-1148"/>
          <a:stretch/>
        </p:blipFill>
        <p:spPr>
          <a:xfrm>
            <a:off x="971640" y="3154320"/>
            <a:ext cx="3311280" cy="265716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12"/>
          <p:cNvSpPr/>
          <p:nvPr/>
        </p:nvSpPr>
        <p:spPr>
          <a:xfrm>
            <a:off x="845640" y="2421000"/>
            <a:ext cx="4606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Одиниця вимірюв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Тема Office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Тема Office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</TotalTime>
  <Application>LibreOffice/7.4.7.2$Linux_X86_64 LibreOffice_project/40$Build-2</Application>
  <AppVersion>15.0000</AppVersion>
  <Words>467</Words>
  <Paragraphs>62</Paragraphs>
  <Company>WareZ Provide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9:12:30Z</dcterms:created>
  <dc:creator>Marico</dc:creator>
  <dc:description/>
  <dc:language>en-US</dc:language>
  <cp:lastModifiedBy>Diasha</cp:lastModifiedBy>
  <dcterms:modified xsi:type="dcterms:W3CDTF">2023-02-14T09:39:08Z</dcterms:modified>
  <cp:revision>122</cp:revision>
  <dc:subject/>
  <dc:title>Атом і атомне ядро. Досліди Резерфор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20</vt:r8>
  </property>
</Properties>
</file>