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png" ContentType="image/png"/>
  <Override PartName="/ppt/media/image7.jpeg" ContentType="image/jpeg"/>
  <Override PartName="/ppt/media/image8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11.png" ContentType="image/png"/>
  <Override PartName="/ppt/media/image19.jpeg" ContentType="image/jpeg"/>
  <Override PartName="/ppt/media/image5.wmf" ContentType="image/x-wmf"/>
  <Override PartName="/ppt/media/image6.jpeg" ContentType="image/jpeg"/>
  <Override PartName="/ppt/media/image10.png" ContentType="image/png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33.png" ContentType="image/png"/>
  <Override PartName="/ppt/media/image16.wmf" ContentType="image/x-wmf"/>
  <Override PartName="/ppt/media/image4.png" ContentType="image/png"/>
  <Override PartName="/ppt/media/image27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15.wmf" ContentType="image/x-wmf"/>
  <Override PartName="/ppt/media/image17.png" ContentType="image/png"/>
  <Override PartName="/ppt/media/image18.jpeg" ContentType="image/jpeg"/>
  <Override PartName="/ppt/media/image22.png" ContentType="image/png"/>
  <Override PartName="/ppt/media/image23.wmf" ContentType="image/x-wmf"/>
  <Override PartName="/ppt/media/image24.wmf" ContentType="image/x-wmf"/>
  <Override PartName="/ppt/media/image32.png" ContentType="image/png"/>
  <Override PartName="/ppt/media/image25.jpeg" ContentType="image/jpeg"/>
  <Override PartName="/ppt/media/image2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dt" idx="2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2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F03F1E-5242-4D40-AEC1-D2B3CFA4D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5A1EBC-EE07-4135-8284-6266F29F2A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6E54AB-D938-48E8-8275-78808FB25A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768-EEE2-4EA9-B7B7-3BF9C1F6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A9C-5C59-4BD8-B7EC-56D75BED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57B8-B611-4E55-B7EF-D8E7E515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9D9-6C57-488D-87AE-EE45F30C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7973-1FFF-497C-A520-33FF5C1B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515C-8C5C-4286-8A31-F8B1C8C7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C7DA-A178-4E69-AF51-FDACB020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1FEC-9267-4C38-9261-E208AC02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1459-CB10-4A13-931D-0B449479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98BA-8258-4A0A-BECD-7352F329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0250-4F45-4B1C-8EA4-FBC5A5C6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13C-E06E-405A-BE70-AE5E20CB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F436-0493-4890-9BF3-8976395E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111C-A0D6-4FA3-B491-974336EA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8D79-2598-46A3-A60D-F40DFCEB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DB8A-13D3-4BA2-A5DA-C59B37C9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1D45-883F-4601-A2F4-2E875A7F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7460C-17B7-400E-AC29-96344A23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93AE7-B72B-4A1E-AB31-7071DD98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24FC5-C2D7-48D3-99E8-2554167D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6DD42-E812-4C96-AB32-51AA707E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69A85-B560-47C6-990B-F8FB1EF6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D04-09C7-4EA0-94D8-45FFDC4B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6A092-D3E6-43E7-84CA-BD2A6DA1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7BB67-E1EE-4F89-AC16-34E15B2F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AF2E8-2C63-4641-A322-C390F404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1F732-938E-4679-87E1-A3781491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D158F-6368-4FA7-B463-7DA5DBBE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6AC79-3D6B-42E6-9793-5204836A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3606A-F98E-4720-98D5-4CD6BBC8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870CB-51B0-43ED-954C-B12CF69D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F68C7-3C77-4502-B4BE-B3F36CC1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B81E3-C2CD-40A3-97C6-0F2B878F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A53-792F-4ECD-96D4-204234D7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69E5D-F181-4346-A155-42ABB54F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A82CB-560C-4C87-B0F7-AA13CF05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54BA3-8F56-438B-B13F-C3C511CF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2E6F8-4418-41F4-B3B5-96EF305F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7AF1A-1BAE-4899-98AB-B05B5C13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756B2-8E18-4997-8601-A3925CCB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BFDE0-A7E2-479D-8FCA-736DFC68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746BB-4E22-489B-AC0D-FC7FC6F7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EF715-B4D7-4DBB-A111-0F7050D7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E92D0-F6FB-4D3D-83D9-4F61C2CD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76B-F621-4CEF-963D-B66080E7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22E0C-A0B4-4880-9B9A-11F98C72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2D89F-D46F-42B6-AB2F-4D708AE5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F017D-950B-4E30-AFA3-FC1C6B20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9CF68-D3BC-4996-A7EA-F0A46141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D7CB6-5399-497A-AC9B-8BA97FA9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7B4A0-5E96-4AE3-80D5-38882D13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2FD31-F7C3-4CF7-978A-DE4BBB0A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5CFE4-7412-4DB7-B254-665D49AE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7AFA9-39D9-4C85-912E-0E5B8994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1F17A-CEBC-4241-9B82-CC46D1A0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E577-869F-4BAD-8213-12E7DCFA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A572E-0C58-4AE9-ACC2-58BA1299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00C7D-FFBA-496B-873E-982A053F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BF15D-965C-4778-8BA1-3FDF94EA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AC9E9-3062-41FC-829C-1327E261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0A2FA-2ECC-4AC0-B79A-43631A5E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6781F-F679-4157-8821-746A6A6A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D4E21-30E6-44D2-9433-7C857024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E270A-64F7-4861-80E2-B1F66BE1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766BA-B429-4164-997F-C5BC84FF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99673-31CB-4E9F-AD1F-4C9B6435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676-8236-4683-BCBF-5A5FAB3F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78FD7-E2EB-4528-BD88-FE636A8C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2F742-2122-4C05-82A9-A3EF9E73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D0101-A839-42D7-B7E7-6EF17F76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D7544-03E5-4F1B-A6D5-A46133AB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4CF90-94B6-44DA-B9C5-E0EA4E2B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5BCB5-9278-4890-BD48-B9C8E843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ED72C-DE69-4C1D-B5CA-70C5DB97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4F6CA-444E-435A-8AB0-88F8BB3C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093AF-2E0C-499C-9643-81F9BD20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8EABB-FE3C-4BA5-BC6A-A4DF5AEA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42DB-C660-4DB6-A96C-E2ECF0C1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4CC5A-4167-415B-A26C-A22F6CAB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87564-406A-48E1-9138-74F62C03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3E5C4-597F-4033-8E71-CEF426A3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24E86-1966-47E4-B2BF-0CCE3CD4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58DFB-9972-47B3-BCB2-56554840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8AF-0B0C-4C12-8886-1B7FAE14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3"/>
          <p:cNvSpPr/>
          <p:nvPr/>
        </p:nvSpPr>
        <p:spPr>
          <a:xfrm>
            <a:off x="905040" y="3648240"/>
            <a:ext cx="7314840" cy="127908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4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Прямоугольник 5"/>
          <p:cNvSpPr/>
          <p:nvPr/>
        </p:nvSpPr>
        <p:spPr>
          <a:xfrm>
            <a:off x="905040" y="3648240"/>
            <a:ext cx="228240" cy="127908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6" name="Прямоугольник 6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400800" y="6354720"/>
            <a:ext cx="22856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898720" y="6354720"/>
            <a:ext cx="347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1216080" y="6354720"/>
            <a:ext cx="12189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9494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1DF3C59-8016-47E2-8F5B-2D806F0D619B}" type="slidenum">
              <a:rPr b="0" lang="ru-RU" sz="1400" spc="-1" strike="noStrike">
                <a:solidFill>
                  <a:srgbClr val="94949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9494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2BF8BD6-DB3F-4232-BA02-5BEE2ECDB43C}" type="slidenum">
              <a:rPr b="0" lang="ru-RU" sz="1400" spc="-1" strike="noStrike">
                <a:solidFill>
                  <a:srgbClr val="94949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9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218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4648320" y="3938760"/>
            <a:ext cx="4038120" cy="2187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9494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6736A61-7ED2-42D4-B139-E83E8ED9EAB3}" type="slidenum">
              <a:rPr b="0" lang="ru-RU" sz="1400" spc="-1" strike="noStrike">
                <a:solidFill>
                  <a:srgbClr val="94949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9" hidden="1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1" name="Прямая соединительная линия 10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Равнобедренный треугольник 2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9494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A9CACFD-19D5-4275-B264-CC2FB1F49F45}" type="slidenum">
              <a:rPr b="0" lang="ru-RU" sz="1400" spc="-1" strike="noStrike">
                <a:solidFill>
                  <a:srgbClr val="94949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Равнобедренный треугольник 9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dt" idx="13"/>
          </p:nvPr>
        </p:nvSpPr>
        <p:spPr>
          <a:xfrm>
            <a:off x="6400800" y="6356520"/>
            <a:ext cx="2288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612720" y="6356520"/>
            <a:ext cx="19807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9494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0207C5D-5EC0-4FB1-B27C-86B5FF598A23}" type="slidenum">
              <a:rPr b="0" lang="ru-RU" sz="1400" spc="-1" strike="noStrike">
                <a:solidFill>
                  <a:srgbClr val="94949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99937" sy="99937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DEA200-C261-4B9D-95AC-32708439AA7F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99937" sy="99937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A8257F-88C0-4B9F-8F4E-3A0F8461FC41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5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6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6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1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6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992720" cy="3096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8000"/>
          </a:bodyPr>
          <a:p>
            <a:pPr indent="0" algn="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Рівноприскорений прямолінійний рух. Прискорення. Швидкість рівноприскореного прямолінійного руху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"/>
          <p:cNvSpPr/>
          <p:nvPr/>
        </p:nvSpPr>
        <p:spPr>
          <a:xfrm>
            <a:off x="1732680" y="4077000"/>
            <a:ext cx="252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Урок фізики в 9 клас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"/>
          <p:cNvSpPr/>
          <p:nvPr/>
        </p:nvSpPr>
        <p:spPr>
          <a:xfrm>
            <a:off x="1593720" y="5220000"/>
            <a:ext cx="254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истанційне нав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Объект 3" descr=""/>
          <p:cNvPicPr/>
          <p:nvPr/>
        </p:nvPicPr>
        <p:blipFill>
          <a:blip r:embed="rId1"/>
          <a:srcRect l="0" t="0" r="47268" b="-1229"/>
          <a:stretch/>
        </p:blipFill>
        <p:spPr>
          <a:xfrm>
            <a:off x="1115640" y="908640"/>
            <a:ext cx="5151600" cy="34552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4"/>
          <p:cNvSpPr/>
          <p:nvPr/>
        </p:nvSpPr>
        <p:spPr>
          <a:xfrm>
            <a:off x="755640" y="4508640"/>
            <a:ext cx="8280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кщо  тіло гальмує, рух сповільнений, проекція прискорення від’ємна, то графік розташований під віссю абсц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3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Рівноприскорений</a:t>
            </a:r>
            <a:r>
              <a:rPr b="1" lang="uk-UA" sz="4000" spc="-1" strike="noStrike">
                <a:solidFill>
                  <a:schemeClr val="accent2"/>
                </a:solidFill>
                <a:latin typeface="Bookman Old Style"/>
              </a:rPr>
              <a:t> </a:t>
            </a: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прямолінійний</a:t>
            </a:r>
            <a:r>
              <a:rPr b="1" lang="uk-UA" sz="4000" spc="-1" strike="noStrike">
                <a:solidFill>
                  <a:schemeClr val="accent2"/>
                </a:solidFill>
                <a:latin typeface="Bookman Old Style"/>
              </a:rPr>
              <a:t> </a:t>
            </a: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рух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685800" y="1413000"/>
            <a:ext cx="7776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Рівноприскорений прямолінійний рух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– це рух, під час якого тіло рухається прямолінійною траєкторією з незмінним прискоренн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6" descr="C:\Users\User\Desktop\fizika-9-zasekina-pogl-347.jpg"/>
          <p:cNvPicPr/>
          <p:nvPr/>
        </p:nvPicPr>
        <p:blipFill>
          <a:blip r:embed="rId1"/>
          <a:stretch/>
        </p:blipFill>
        <p:spPr>
          <a:xfrm>
            <a:off x="1598760" y="4076640"/>
            <a:ext cx="5951160" cy="22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0840" y="193680"/>
            <a:ext cx="8229240" cy="1498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Швидкість рівноприскореного прямолінійного руху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789120" y="1692360"/>
            <a:ext cx="7776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ід час рівноприскореного руху швидкість весь час змінює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728640" y="2847960"/>
            <a:ext cx="75610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Миттєва швидкіст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– це швидкість руху тіла в даний момент часу, швидкість у даній точці траєктор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"/>
          <p:cNvPicPr/>
          <p:nvPr/>
        </p:nvPicPr>
        <p:blipFill>
          <a:blip r:embed="rId1"/>
          <a:stretch/>
        </p:blipFill>
        <p:spPr>
          <a:xfrm>
            <a:off x="5508000" y="4005000"/>
            <a:ext cx="266544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4" descr=""/>
          <p:cNvPicPr/>
          <p:nvPr/>
        </p:nvPicPr>
        <p:blipFill>
          <a:blip r:embed="rId1"/>
          <a:stretch/>
        </p:blipFill>
        <p:spPr>
          <a:xfrm>
            <a:off x="5364000" y="2061000"/>
            <a:ext cx="3387600" cy="33832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Залежність швидкості від часу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1763640" y="3284640"/>
          <a:ext cx="2231640" cy="59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3284640"/>
                    <a:ext cx="2231640" cy="59976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3" name="Text Box 8"/>
          <p:cNvSpPr/>
          <p:nvPr/>
        </p:nvSpPr>
        <p:spPr>
          <a:xfrm>
            <a:off x="611280" y="1484280"/>
            <a:ext cx="47527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Графік швидкості – це  пряма, нахилена під певним кутом до осі ча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467640" y="4005000"/>
            <a:ext cx="49687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51"/>
              </a:spcBef>
              <a:tabLst>
                <a:tab algn="l" pos="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Якщо проекція прискорення – додатня </a:t>
            </a:r>
            <a:r>
              <a:rPr b="1" i="1" lang="uk-UA" sz="2300" spc="-1" strike="noStrike">
                <a:solidFill>
                  <a:srgbClr val="000000"/>
                </a:solidFill>
                <a:latin typeface="Times New Roman"/>
              </a:rPr>
              <a:t>(а</a:t>
            </a:r>
            <a:r>
              <a:rPr b="1" i="1" lang="uk-UA" sz="2300" spc="-1" strike="noStrike" baseline="-25000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uk-UA" sz="2300" spc="-1" strike="noStrike">
                <a:solidFill>
                  <a:srgbClr val="000000"/>
                </a:solidFill>
                <a:latin typeface="Times New Roman"/>
              </a:rPr>
              <a:t>0),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 то графік швидкості підіймається (1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51"/>
              </a:spcBef>
              <a:tabLst>
                <a:tab algn="l" pos="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Якщо проекція прискорення – від`ємна (а</a:t>
            </a:r>
            <a:r>
              <a:rPr b="0" lang="uk-UA" sz="2300" spc="-1" strike="noStrike" baseline="-25000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0), то графік швидкості опускається. (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Объект 5" descr=""/>
          <p:cNvPicPr/>
          <p:nvPr/>
        </p:nvPicPr>
        <p:blipFill>
          <a:blip r:embed="rId2"/>
          <a:srcRect l="5080" t="8310" r="7884" b="12527"/>
          <a:stretch/>
        </p:blipFill>
        <p:spPr>
          <a:xfrm>
            <a:off x="250920" y="260280"/>
            <a:ext cx="4922640" cy="24508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79280" y="2852640"/>
            <a:ext cx="8353080" cy="3671640"/>
          </a:xfrm>
          <a:prstGeom prst="rect">
            <a:avLst/>
          </a:prstGeom>
          <a:solidFill>
            <a:srgbClr val="2e823c"/>
          </a:soli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На малюнку крапками позначені положення п'яти тіл, що рухаються зліва направо, через рівні проміжки часу. Проміжки часу між двома позначками на всіх смужках однакові. На якій смужці зареєстровано рівномірний рух з найменшою швидкістю? З найбільшою швидкістю? Рівноприскорений рух? Рівносповільнений рух?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786520" cy="1714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 графіком швидкості визначити швидкість тіла в момент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= 4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с. Чому дорівнює прискорення?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8"/>
          <p:cNvSpPr/>
          <p:nvPr/>
        </p:nvSpPr>
        <p:spPr>
          <a:xfrm>
            <a:off x="5508000" y="4005000"/>
            <a:ext cx="343260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2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- 2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- 4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16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Группа 5"/>
          <p:cNvGrpSpPr/>
          <p:nvPr/>
        </p:nvGrpSpPr>
        <p:grpSpPr>
          <a:xfrm>
            <a:off x="468360" y="2016000"/>
            <a:ext cx="4463640" cy="3860280"/>
            <a:chOff x="468360" y="2016000"/>
            <a:chExt cx="4463640" cy="3860280"/>
          </a:xfrm>
        </p:grpSpPr>
        <p:pic>
          <p:nvPicPr>
            <p:cNvPr id="380" name="Picture 2" descr=""/>
            <p:cNvPicPr/>
            <p:nvPr/>
          </p:nvPicPr>
          <p:blipFill>
            <a:blip r:embed="rId2"/>
            <a:stretch/>
          </p:blipFill>
          <p:spPr>
            <a:xfrm>
              <a:off x="468360" y="2016000"/>
              <a:ext cx="4463640" cy="3860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81" name="Прямая соединительная линия 6"/>
            <p:cNvCxnSpPr/>
            <p:nvPr/>
          </p:nvCxnSpPr>
          <p:spPr>
            <a:xfrm flipH="1">
              <a:off x="4462200" y="3946320"/>
              <a:ext cx="2160" cy="1429200"/>
            </a:xfrm>
            <a:prstGeom prst="straightConnector1">
              <a:avLst/>
            </a:prstGeom>
            <a:ln w="57150">
              <a:solidFill>
                <a:srgbClr val="c00000"/>
              </a:solidFill>
              <a:prstDash val="dash"/>
              <a:round/>
            </a:ln>
          </p:spPr>
        </p:cxnSp>
        <p:cxnSp>
          <p:nvCxnSpPr>
            <p:cNvPr id="382" name="Прямая соединительная линия 7"/>
            <p:cNvCxnSpPr/>
            <p:nvPr/>
          </p:nvCxnSpPr>
          <p:spPr>
            <a:xfrm>
              <a:off x="1447560" y="5373360"/>
              <a:ext cx="3026160" cy="11520"/>
            </a:xfrm>
            <a:prstGeom prst="straightConnector1">
              <a:avLst/>
            </a:prstGeom>
            <a:ln w="57150">
              <a:solidFill>
                <a:srgbClr val="c00000"/>
              </a:solidFill>
              <a:prstDash val="dash"/>
              <a:round/>
            </a:ln>
          </p:spPr>
        </p:cxnSp>
      </p:grpSp>
      <p:pic>
        <p:nvPicPr>
          <p:cNvPr id="383" name="Picture 2" descr=""/>
          <p:cNvPicPr/>
          <p:nvPr/>
        </p:nvPicPr>
        <p:blipFill>
          <a:blip r:embed="rId3"/>
          <a:stretch/>
        </p:blipFill>
        <p:spPr>
          <a:xfrm>
            <a:off x="6012000" y="2476440"/>
            <a:ext cx="2425320" cy="8535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10"/>
          <p:cNvSpPr/>
          <p:nvPr/>
        </p:nvSpPr>
        <p:spPr>
          <a:xfrm>
            <a:off x="2054160" y="407700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1"/>
          <p:cNvSpPr/>
          <p:nvPr/>
        </p:nvSpPr>
        <p:spPr>
          <a:xfrm>
            <a:off x="6878880" y="400500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3"/>
          <p:cNvSpPr/>
          <p:nvPr/>
        </p:nvSpPr>
        <p:spPr>
          <a:xfrm>
            <a:off x="7094880" y="450900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4"/>
          <p:cNvSpPr/>
          <p:nvPr/>
        </p:nvSpPr>
        <p:spPr>
          <a:xfrm>
            <a:off x="7022880" y="501300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5"/>
          <p:cNvSpPr/>
          <p:nvPr/>
        </p:nvSpPr>
        <p:spPr>
          <a:xfrm>
            <a:off x="7094880" y="537336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7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3320" y="84240"/>
            <a:ext cx="8787960" cy="248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3600" spc="-1" strike="noStrike">
                <a:solidFill>
                  <a:srgbClr val="c00000"/>
                </a:solidFill>
                <a:latin typeface="Times New Roman"/>
              </a:rPr>
              <a:t>ДОМАШНЯ ЗАДАЧА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а графіком швидкості визначити швидкість тіла в момент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2 с. Чому дорівню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є прискорення?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8"/>
          <p:cNvSpPr/>
          <p:nvPr/>
        </p:nvSpPr>
        <p:spPr>
          <a:xfrm>
            <a:off x="5651640" y="4016520"/>
            <a:ext cx="24285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3,3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4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5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3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Группа 3"/>
          <p:cNvGrpSpPr/>
          <p:nvPr/>
        </p:nvGrpSpPr>
        <p:grpSpPr>
          <a:xfrm>
            <a:off x="395280" y="2527200"/>
            <a:ext cx="4333680" cy="3061800"/>
            <a:chOff x="395280" y="2527200"/>
            <a:chExt cx="4333680" cy="3061800"/>
          </a:xfrm>
        </p:grpSpPr>
        <p:grpSp>
          <p:nvGrpSpPr>
            <p:cNvPr id="392" name="Группа 2"/>
            <p:cNvGrpSpPr/>
            <p:nvPr/>
          </p:nvGrpSpPr>
          <p:grpSpPr>
            <a:xfrm>
              <a:off x="395280" y="2527200"/>
              <a:ext cx="4333680" cy="3061800"/>
              <a:chOff x="395280" y="2527200"/>
              <a:chExt cx="4333680" cy="3061800"/>
            </a:xfrm>
          </p:grpSpPr>
          <p:pic>
            <p:nvPicPr>
              <p:cNvPr id="393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280" y="2527200"/>
                <a:ext cx="4333680" cy="30618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394" name="Прямая соединительная линия 28"/>
              <p:cNvCxnSpPr/>
              <p:nvPr/>
            </p:nvCxnSpPr>
            <p:spPr>
              <a:xfrm flipV="1">
                <a:off x="4262400" y="3457440"/>
                <a:ext cx="1800" cy="1590840"/>
              </a:xfrm>
              <a:prstGeom prst="straightConnector1">
                <a:avLst/>
              </a:prstGeom>
              <a:ln w="57150">
                <a:solidFill>
                  <a:srgbClr val="c00000"/>
                </a:solidFill>
                <a:prstDash val="dash"/>
                <a:round/>
              </a:ln>
            </p:spPr>
          </p:cxnSp>
        </p:grpSp>
        <p:cxnSp>
          <p:nvCxnSpPr>
            <p:cNvPr id="395" name="Прямая соединительная линия 29"/>
            <p:cNvCxnSpPr/>
            <p:nvPr/>
          </p:nvCxnSpPr>
          <p:spPr>
            <a:xfrm>
              <a:off x="1353960" y="3490560"/>
              <a:ext cx="2941920" cy="2160"/>
            </a:xfrm>
            <a:prstGeom prst="straightConnector1">
              <a:avLst/>
            </a:prstGeom>
            <a:ln w="57150">
              <a:solidFill>
                <a:srgbClr val="c00000"/>
              </a:solidFill>
              <a:prstDash val="dash"/>
              <a:round/>
            </a:ln>
          </p:spPr>
        </p:cxnSp>
      </p:grpSp>
      <p:pic>
        <p:nvPicPr>
          <p:cNvPr id="396" name="Picture 2" descr="f23"/>
          <p:cNvPicPr/>
          <p:nvPr/>
        </p:nvPicPr>
        <p:blipFill>
          <a:blip r:embed="rId3"/>
          <a:stretch/>
        </p:blipFill>
        <p:spPr>
          <a:xfrm>
            <a:off x="5837400" y="2624040"/>
            <a:ext cx="2303280" cy="729720"/>
          </a:xfrm>
          <a:prstGeom prst="rect">
            <a:avLst/>
          </a:prstGeom>
          <a:ln w="63500">
            <a:solidFill>
              <a:srgbClr val="ff0000"/>
            </a:solidFill>
            <a:miter/>
          </a:ln>
        </p:spPr>
      </p:pic>
      <p:sp>
        <p:nvSpPr>
          <p:cNvPr id="397" name="TextBox 9"/>
          <p:cNvSpPr/>
          <p:nvPr/>
        </p:nvSpPr>
        <p:spPr>
          <a:xfrm>
            <a:off x="7238880" y="400500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0"/>
          <p:cNvSpPr/>
          <p:nvPr/>
        </p:nvSpPr>
        <p:spPr>
          <a:xfrm>
            <a:off x="7022880" y="450900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7022880" y="508536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2"/>
          <p:cNvSpPr/>
          <p:nvPr/>
        </p:nvSpPr>
        <p:spPr>
          <a:xfrm>
            <a:off x="7022880" y="544536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5840" y="548640"/>
            <a:ext cx="8857800" cy="2552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За графіком швидкості визначити швидкість тіла наприкінці 3-ої секунди. Чому дорівнює прискорення?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4536000" cy="3399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3"/>
          <a:stretch/>
        </p:blipFill>
        <p:spPr>
          <a:xfrm>
            <a:off x="5796000" y="4005000"/>
            <a:ext cx="2425320" cy="85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rcRect l="2053" t="1820" r="0" b="0"/>
          <a:stretch/>
        </p:blipFill>
        <p:spPr>
          <a:xfrm>
            <a:off x="323640" y="980640"/>
            <a:ext cx="8565840" cy="424800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785960"/>
          </a:xfrm>
          <a:prstGeom prst="rect">
            <a:avLst/>
          </a:prstGeom>
          <a:solidFill>
            <a:srgbClr val="ff5722"/>
          </a:solidFill>
          <a:ln w="38160">
            <a:solidFill>
              <a:srgbClr val="ff5722"/>
            </a:solidFill>
            <a:round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Verdana"/>
              </a:rPr>
              <a:t>Формуємо компетентність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  <a:ea typeface="Verdana"/>
              </a:rPr>
              <a:t>Я поміркую і зможу дати відповідь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51640" y="2493000"/>
            <a:ext cx="8682480" cy="28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Згадуємо кінематику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684360" y="1197000"/>
            <a:ext cx="799272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Кінематика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розділ механіки, що вивчає рух тіл і при цьому не розглядає причини, якими цей виклик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790560" y="2581200"/>
            <a:ext cx="79927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Механічний рух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– це зміна з часом положення тіла в просторі відносно інших ті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slide-42-638"/>
          <p:cNvPicPr/>
          <p:nvPr/>
        </p:nvPicPr>
        <p:blipFill>
          <a:blip r:embed="rId1"/>
          <a:srcRect l="7701" t="77592" r="7701" b="9248"/>
          <a:stretch/>
        </p:blipFill>
        <p:spPr>
          <a:xfrm>
            <a:off x="755640" y="4292640"/>
            <a:ext cx="806400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0000cc"/>
                </a:solidFill>
                <a:latin typeface="Bookman Old Style"/>
              </a:rPr>
              <a:t>Дякую за увагу!!!</a:t>
            </a:r>
            <a:endParaRPr b="0" lang="ru-RU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Згадуємо</a:t>
            </a:r>
            <a:r>
              <a:rPr b="1" lang="uk-UA" sz="3200" spc="-1" strike="noStrike">
                <a:solidFill>
                  <a:schemeClr val="accent2"/>
                </a:solidFill>
                <a:latin typeface="Bookman Old Style"/>
              </a:rPr>
              <a:t> </a:t>
            </a: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кінематику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684360" y="1197000"/>
            <a:ext cx="7992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атеріальна точка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це фізична модель тіла, розмірами якого в умовах задачі можна знехтува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684360" y="2133720"/>
            <a:ext cx="7992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е саме тіло в умовах однієї задачі можна вважати матеріальною точкою, а в умовах іншої – не мож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" descr="матеріальна точка"/>
          <p:cNvPicPr/>
          <p:nvPr/>
        </p:nvPicPr>
        <p:blipFill>
          <a:blip r:embed="rId1"/>
          <a:srcRect l="7296" t="28833" r="7296" b="10715"/>
          <a:stretch/>
        </p:blipFill>
        <p:spPr>
          <a:xfrm>
            <a:off x="1325520" y="3154320"/>
            <a:ext cx="671004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5018040" y="1925640"/>
            <a:ext cx="2160360" cy="2160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240" cy="863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Згадуємо</a:t>
            </a:r>
            <a:r>
              <a:rPr b="1" lang="uk-UA" sz="3200" spc="-1" strike="noStrike">
                <a:solidFill>
                  <a:schemeClr val="accent2"/>
                </a:solidFill>
                <a:latin typeface="Bookman Old Style"/>
              </a:rPr>
              <a:t> </a:t>
            </a: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кінематику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12"/>
          <p:cNvGraphicFramePr/>
          <p:nvPr/>
        </p:nvGraphicFramePr>
        <p:xfrm>
          <a:off x="3851280" y="4581360"/>
          <a:ext cx="298080" cy="46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4581360"/>
                    <a:ext cx="29808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3"/>
          <p:cNvSpPr/>
          <p:nvPr/>
        </p:nvSpPr>
        <p:spPr>
          <a:xfrm>
            <a:off x="684360" y="1052640"/>
            <a:ext cx="7992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раєкторія тіла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лінія, яку описує рухоме ті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552600" y="1677960"/>
            <a:ext cx="554472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 видом траєкторії рухи буваю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4507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ямоліній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4507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воліній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0" descr="Траектория самолета"/>
          <p:cNvPicPr/>
          <p:nvPr/>
        </p:nvPicPr>
        <p:blipFill>
          <a:blip r:embed="rId4"/>
          <a:stretch/>
        </p:blipFill>
        <p:spPr>
          <a:xfrm>
            <a:off x="7020000" y="1476360"/>
            <a:ext cx="2015640" cy="17712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1"/>
          <p:cNvSpPr/>
          <p:nvPr/>
        </p:nvSpPr>
        <p:spPr>
          <a:xfrm>
            <a:off x="611280" y="3716280"/>
            <a:ext cx="4608000" cy="26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51"/>
              </a:spcBef>
              <a:tabLst>
                <a:tab algn="l" pos="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Шлях 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– довжина траєкторії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скалярна величи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51"/>
              </a:spcBef>
              <a:tabLst>
                <a:tab algn="l" pos="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Переміщення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-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напрямлений відрізок прямої, який з'єднує початкове і кінцеве положення  тіла – векторна фізична величи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4" descr="slide-43-638"/>
          <p:cNvPicPr/>
          <p:nvPr/>
        </p:nvPicPr>
        <p:blipFill>
          <a:blip r:embed="rId5"/>
          <a:srcRect l="53312" t="8041" r="7701" b="78799"/>
          <a:stretch/>
        </p:blipFill>
        <p:spPr>
          <a:xfrm>
            <a:off x="5307120" y="4556160"/>
            <a:ext cx="374292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Згадуємо</a:t>
            </a:r>
            <a:r>
              <a:rPr b="1" lang="uk-UA" sz="3200" spc="-1" strike="noStrike">
                <a:solidFill>
                  <a:schemeClr val="accent2"/>
                </a:solidFill>
                <a:latin typeface="Bookman Old Style"/>
              </a:rPr>
              <a:t> </a:t>
            </a: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кінематику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Object 17"/>
          <p:cNvGraphicFramePr/>
          <p:nvPr/>
        </p:nvGraphicFramePr>
        <p:xfrm>
          <a:off x="3132000" y="5229360"/>
          <a:ext cx="2014200" cy="89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5229360"/>
                    <a:ext cx="2014200" cy="89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22"/>
          <p:cNvGraphicFramePr/>
          <p:nvPr/>
        </p:nvGraphicFramePr>
        <p:xfrm>
          <a:off x="6084720" y="2924280"/>
          <a:ext cx="2020680" cy="21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2924280"/>
                    <a:ext cx="2020680" cy="216036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3" name="Text Box 3"/>
          <p:cNvSpPr/>
          <p:nvPr/>
        </p:nvSpPr>
        <p:spPr>
          <a:xfrm>
            <a:off x="644400" y="1316160"/>
            <a:ext cx="799272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Рівномірний прямолінійний рух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– механічний рух, під час якого тіло за будь-які рівні інтервали часу здійснює однакові переміщен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684360" y="3397320"/>
            <a:ext cx="44636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Швидкість рівномірного прямолінійного руху протягом усього час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остереження не змінюється ані за значенням, ані за напрям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5"/>
          <p:cNvSpPr/>
          <p:nvPr/>
        </p:nvSpPr>
        <p:spPr>
          <a:xfrm>
            <a:off x="828720" y="345960"/>
            <a:ext cx="79196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рискоре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– це векторна ФВ, яка характеризує швидкість зміни швидкості руху тіла й дорівнює відношенню зміни швидкості руху тіла до інтервалу часу, за який ця зміна відбувала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899640" y="4653000"/>
            <a:ext cx="777672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рискорення руху ті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початкова швидк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швидкість руху тіла через деякий інтервал час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0" descr=""/>
          <p:cNvPicPr/>
          <p:nvPr/>
        </p:nvPicPr>
        <p:blipFill>
          <a:blip r:embed="rId1"/>
          <a:stretch/>
        </p:blipFill>
        <p:spPr>
          <a:xfrm>
            <a:off x="3537000" y="3260880"/>
            <a:ext cx="5190840" cy="909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3" descr=""/>
          <p:cNvPicPr/>
          <p:nvPr/>
        </p:nvPicPr>
        <p:blipFill>
          <a:blip r:embed="rId2"/>
          <a:stretch/>
        </p:blipFill>
        <p:spPr>
          <a:xfrm>
            <a:off x="539640" y="3141000"/>
            <a:ext cx="3024000" cy="1142640"/>
          </a:xfrm>
          <a:prstGeom prst="rect">
            <a:avLst/>
          </a:prstGeom>
          <a:ln w="9525">
            <a:noFill/>
          </a:ln>
        </p:spPr>
      </p:pic>
      <p:pic>
        <p:nvPicPr>
          <p:cNvPr id="349" name="Picture 34" descr=""/>
          <p:cNvPicPr/>
          <p:nvPr/>
        </p:nvPicPr>
        <p:blipFill>
          <a:blip r:embed="rId3"/>
          <a:stretch/>
        </p:blipFill>
        <p:spPr>
          <a:xfrm>
            <a:off x="827640" y="4534920"/>
            <a:ext cx="579240" cy="531000"/>
          </a:xfrm>
          <a:prstGeom prst="rect">
            <a:avLst/>
          </a:prstGeom>
          <a:ln w="9525">
            <a:noFill/>
          </a:ln>
        </p:spPr>
      </p:pic>
      <p:pic>
        <p:nvPicPr>
          <p:cNvPr id="350" name="Picture 35" descr=""/>
          <p:cNvPicPr/>
          <p:nvPr/>
        </p:nvPicPr>
        <p:blipFill>
          <a:blip r:embed="rId4"/>
          <a:stretch/>
        </p:blipFill>
        <p:spPr>
          <a:xfrm>
            <a:off x="827640" y="5157360"/>
            <a:ext cx="537840" cy="595800"/>
          </a:xfrm>
          <a:prstGeom prst="rect">
            <a:avLst/>
          </a:prstGeom>
          <a:ln w="9525">
            <a:noFill/>
          </a:ln>
        </p:spPr>
      </p:pic>
      <p:pic>
        <p:nvPicPr>
          <p:cNvPr id="351" name="Picture 36" descr=""/>
          <p:cNvPicPr/>
          <p:nvPr/>
        </p:nvPicPr>
        <p:blipFill>
          <a:blip r:embed="rId5"/>
          <a:stretch/>
        </p:blipFill>
        <p:spPr>
          <a:xfrm>
            <a:off x="827640" y="5733360"/>
            <a:ext cx="614520" cy="596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Object 3"/>
          <p:cNvGraphicFramePr/>
          <p:nvPr/>
        </p:nvGraphicFramePr>
        <p:xfrm>
          <a:off x="5651640" y="2195640"/>
          <a:ext cx="2333160" cy="87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2195640"/>
                    <a:ext cx="2333160" cy="87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495680" y="3716280"/>
            <a:ext cx="4468320" cy="2665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Графік прискорення – пряма лінія  паралельна віссі часу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4282920" y="428760"/>
            <a:ext cx="4463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Формула для розрахунку прискор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5"/>
          <p:cNvGraphicFramePr/>
          <p:nvPr/>
        </p:nvGraphicFramePr>
        <p:xfrm>
          <a:off x="830160" y="463680"/>
          <a:ext cx="3341160" cy="15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160" y="463680"/>
                    <a:ext cx="3341160" cy="156816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58" name="Picture 4" descr=""/>
          <p:cNvPicPr/>
          <p:nvPr/>
        </p:nvPicPr>
        <p:blipFill>
          <a:blip r:embed="rId5"/>
          <a:srcRect l="66366" t="28999" r="-396" b="-1148"/>
          <a:stretch/>
        </p:blipFill>
        <p:spPr>
          <a:xfrm>
            <a:off x="971640" y="3154320"/>
            <a:ext cx="3311280" cy="265716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12"/>
          <p:cNvSpPr/>
          <p:nvPr/>
        </p:nvSpPr>
        <p:spPr>
          <a:xfrm>
            <a:off x="845640" y="2421000"/>
            <a:ext cx="4606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Одиниця вимірюв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Тема Office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Тема Office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</TotalTime>
  <Application>LibreOffice/7.4.7.2$Linux_X86_64 LibreOffice_project/40$Build-2</Application>
  <AppVersion>15.0000</AppVersion>
  <Words>467</Words>
  <Paragraphs>62</Paragraphs>
  <Company>WareZ Provide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9:12:30Z</dcterms:created>
  <dc:creator>Marico</dc:creator>
  <dc:description/>
  <dc:language>en-US</dc:language>
  <cp:lastModifiedBy>Diasha</cp:lastModifiedBy>
  <dcterms:modified xsi:type="dcterms:W3CDTF">2023-02-14T09:39:08Z</dcterms:modified>
  <cp:revision>122</cp:revision>
  <dc:subject/>
  <dc:title>Атом і атомне ядро. Досліди Резерфор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20</vt:r8>
  </property>
</Properties>
</file>