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1408-BA3F-4365-A236-D7052B62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FAF2-3926-4AC7-AEE7-B6B301E0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E01-8684-4B37-A3E4-C5BB47B2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88D-71A2-4874-88CA-14E1E7C6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241-2AF3-4060-92A3-7A51D49B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C55-00F2-484D-83D1-C2C9AE25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3BB-57F9-4550-A403-3592B7BF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A43-C2F6-4672-A9C2-CC07993C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3AC-0622-4CB9-9C58-4D1313B4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09CD-A039-438F-A5C9-72D286E7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D0E6-7603-43B2-9ADC-875B6C1B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863F-9BFD-495F-9454-E2D88F5E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94D198-56A6-4D8D-8B52-D50CC84AB97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>
            <a:off x="764280" y="927720"/>
            <a:ext cx="7615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бюджетное общеобразовательное учреждение города Новосибирска «Средняя общеобразовательная школа № 196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-1005840" y="4258440"/>
            <a:ext cx="973152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6000"/>
              </a:lnSpc>
              <a:spcAft>
                <a:spcPts val="799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ила: Змейкова Софья Викто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6000"/>
              </a:lnSpc>
              <a:spcAft>
                <a:spcPts val="799"/>
              </a:spcAf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ица 5 «А» класса МБОУ СОШ № 19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6000"/>
              </a:lnSpc>
              <a:spcAft>
                <a:spcPts val="799"/>
              </a:spcAf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водитель: Колесников Олег Николаеви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6000"/>
              </a:lnSpc>
              <a:spcAft>
                <a:spcPts val="799"/>
              </a:spcAf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физическ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6000"/>
              </a:lnSpc>
              <a:spcAft>
                <a:spcPts val="799"/>
              </a:spcAf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6000"/>
              </a:lnSpc>
              <a:spcAft>
                <a:spcPts val="799"/>
              </a:spcAf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СОШ № 1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 txBox="1"/>
          <p:nvPr/>
        </p:nvSpPr>
        <p:spPr>
          <a:xfrm>
            <a:off x="496440" y="1871280"/>
            <a:ext cx="8150760" cy="23497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 algn="ctr">
              <a:lnSpc>
                <a:spcPct val="106000"/>
              </a:lnSpc>
              <a:spcAft>
                <a:spcPts val="799"/>
              </a:spcAft>
            </a:pPr>
            <a:r>
              <a:rPr b="1" lang="ru-RU" sz="3200" spc="-1" strike="noStrike">
                <a:ln w="0">
                  <a:noFill/>
                </a:ln>
                <a:solidFill>
                  <a:srgbClr val="ff0000"/>
                </a:solidFill>
                <a:latin typeface="Georgia"/>
                <a:ea typeface="Calibri"/>
              </a:rPr>
              <a:t>ФОТОАЛЬБОМ </a:t>
            </a:r>
            <a:endParaRPr b="0" lang="en-US" sz="32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6000"/>
              </a:lnSpc>
              <a:spcAft>
                <a:spcPts val="799"/>
              </a:spcAft>
            </a:pPr>
            <a:r>
              <a:rPr b="1" lang="ru-RU" sz="3200" spc="-1" strike="noStrike">
                <a:ln w="0">
                  <a:noFill/>
                </a:ln>
                <a:solidFill>
                  <a:srgbClr val="ff0000"/>
                </a:solidFill>
                <a:latin typeface="Georgia"/>
                <a:ea typeface="Calibri"/>
              </a:rPr>
              <a:t>«ОЛИМПИЙСКИЕ ЧЕМПИОНЫ ГОРОДА НОВОСИБИРСКА И </a:t>
            </a:r>
            <a:endParaRPr b="0" lang="en-US" sz="32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6000"/>
              </a:lnSpc>
              <a:spcAft>
                <a:spcPts val="799"/>
              </a:spcAft>
            </a:pPr>
            <a:r>
              <a:rPr b="1" lang="ru-RU" sz="3200" spc="-1" strike="noStrike">
                <a:ln w="0">
                  <a:noFill/>
                </a:ln>
                <a:solidFill>
                  <a:srgbClr val="ff0000"/>
                </a:solidFill>
                <a:latin typeface="Georgia"/>
                <a:ea typeface="Calibri"/>
              </a:rPr>
              <a:t>НОВОСИБИРСКОЙ ОБЛАСТИ»</a:t>
            </a:r>
            <a:endParaRPr b="0" lang="en-US" sz="32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1918800" y="820800"/>
            <a:ext cx="735408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Гаврилова Юлия Петр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Фехт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мпионка Олимпийских игр в Рио-де-Жанейро (20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20 июля 1989 го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ио-де-Жанейро 2016 Сабля, командное первенство 13.08.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0" y="5143320"/>
            <a:ext cx="9600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Юлия Петровна Гаврилова (род. 20 июля 1989) — российская фехтовальщица-саблист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лимпийская чемпионка (2016), чемпионка мира и Европ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novosib-sport.ru/ckfinder/userfiles/images/stat/olimp-gavrilova-2016.png"/>
          <p:cNvPicPr/>
          <p:nvPr/>
        </p:nvPicPr>
        <p:blipFill>
          <a:blip r:embed="rId2"/>
          <a:srcRect l="0" t="0" r="10693" b="0"/>
          <a:stretch/>
        </p:blipFill>
        <p:spPr>
          <a:xfrm>
            <a:off x="143640" y="1537200"/>
            <a:ext cx="1916640" cy="31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1325880" y="1172160"/>
            <a:ext cx="751068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Кривошеева Ольга Ю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олей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мпионка Олимпийских игр в Сеуле (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15 мая 1961 года (55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еул 1988 Женская сборная 29.09.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s://kazhimukansportmektebi.kz/images/gordost/krivoweeva.jpg"/>
          <p:cNvPicPr/>
          <p:nvPr/>
        </p:nvPicPr>
        <p:blipFill>
          <a:blip r:embed="rId2"/>
          <a:stretch/>
        </p:blipFill>
        <p:spPr>
          <a:xfrm>
            <a:off x="195840" y="1831680"/>
            <a:ext cx="1925280" cy="25671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1521720" y="4528440"/>
            <a:ext cx="60998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льга Юрьевна  Кривошеева— советская волейболистка, игрок сборной СССР (1984—1988). Олимпийская чемпионка 1988, чемпионка Европы 1985. Связующая. Заслуженный мастер спорта СССР (198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"/>
          <p:cNvSpPr/>
          <p:nvPr/>
        </p:nvSpPr>
        <p:spPr>
          <a:xfrm>
            <a:off x="1920240" y="986760"/>
            <a:ext cx="72234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ер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Андрей Борис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ёгкая атл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мпион Олимпиады в Барселоне (199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12 декабря 1961 го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арселона 1992 Спортивная ходьба, 50 км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07.08.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1391040" y="4691880"/>
            <a:ext cx="63612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ндрей Борисович Перлов  — известный советский легкоатлет, заслуженный мастер спорта СССР (19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Чемпион Олимпийских игр 1992 года в ходьбе на 50 км. Дважды победитель (1987, 1989) в командных соревнованиях Кубка мира. Шестикратный чемпион СССР на 20 км (1990, 1989) и 50 км (1984, 1985, 19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www.novosib-sport.ru/ckfinder/userfiles/images/stat/olimp-perlov.png"/>
          <p:cNvPicPr/>
          <p:nvPr/>
        </p:nvPicPr>
        <p:blipFill>
          <a:blip r:embed="rId2"/>
          <a:srcRect l="0" t="0" r="10131" b="2504"/>
          <a:stretch/>
        </p:blipFill>
        <p:spPr>
          <a:xfrm>
            <a:off x="125280" y="1391040"/>
            <a:ext cx="2003400" cy="322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2834640" y="914040"/>
            <a:ext cx="579960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Власов Роман Андрее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орьба греко-рим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вукратный олимпийский чемп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6 октября 1990 го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ондон 2012 до 74 кг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05.08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ио-де-Жанейро 2016 до 75 кг 14.08.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&amp;Vcy;&amp;lcy;&amp;acy;&amp;scy;&amp;ocy;&amp;vcy; &amp;Rcy;&amp;ocy;&amp;mcy;&amp;acy;&amp;ncy; &amp;fcy;&amp;ocy;&amp;tcy;&amp;ocy;"/>
          <p:cNvPicPr/>
          <p:nvPr/>
        </p:nvPicPr>
        <p:blipFill>
          <a:blip r:embed="rId2"/>
          <a:stretch/>
        </p:blipFill>
        <p:spPr>
          <a:xfrm>
            <a:off x="288360" y="1423800"/>
            <a:ext cx="2349720" cy="3103920"/>
          </a:xfrm>
          <a:prstGeom prst="rect">
            <a:avLst/>
          </a:prstGeom>
          <a:ln w="9525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927360" y="4615560"/>
            <a:ext cx="7288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оман Власов – российский спортсмен, борец греко-римского стиля, Заслуженный мастер спорта РФ. Роман Власов получил и не раз подтвердил титулы чемпиона России, чемпиона Европы и чемпиона мира. Также спортсмен дважды выигрывал Олимпийские игры, причем в разных весовых категориях: Игры XXX Олимпиады в Лондоне в категории до 74 кг и Игры XXXI Олимпиады в Рио-де-Жанейро в категории до 75 к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1998720" y="788040"/>
            <a:ext cx="6792480" cy="40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Карел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Александр Александр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орьба греко-рим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рёхкратный олимпийский чемп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19 сентября 1967 года (49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Атланта 1996 до 130 кг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2.07.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арселона 1992 до 130 кг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9.07.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еул 1988 до 130 кг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1.09.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идней 2000 до 130 кг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7.09.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visualrian.ru/images/old_preview/286/40/2864037_preview.jpg"/>
          <p:cNvPicPr/>
          <p:nvPr/>
        </p:nvPicPr>
        <p:blipFill>
          <a:blip r:embed="rId2"/>
          <a:stretch/>
        </p:blipFill>
        <p:spPr>
          <a:xfrm>
            <a:off x="195840" y="1951920"/>
            <a:ext cx="2195640" cy="29541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1058760" y="5143320"/>
            <a:ext cx="70257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арелин Александр Александрович – знаменитый российский борец (греко-римская), Карелин А.А. - мастер спорта, троекратный Олимпийский чемпион (1988, 1992, 1996), девятикратный чемпион мира, двенадцатикратный чемпион Европы и тринадцатикратный чемпион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496440" y="874080"/>
            <a:ext cx="912888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оздняков Станислав Алексее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Фехт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тырёхкратный олимпийский чемп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27 сентября 1973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Атланта 1996 Сабля, личное первенство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21.07.19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Атланта 1996 Сабля, командное первенство 24.07.19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идней 2000 Сабля, командное первенство 24.09.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Барселона 1992 Сабля, командное первенство 07.08.19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Афины 2004 Сабля, командное первенство 19.08.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novosib-sport.ru/ckfinder/userfiles/images/stat/olimp-pozdnjakov.png"/>
          <p:cNvPicPr/>
          <p:nvPr/>
        </p:nvPicPr>
        <p:blipFill>
          <a:blip r:embed="rId2"/>
          <a:srcRect l="0" t="0" r="11186" b="0"/>
          <a:stretch/>
        </p:blipFill>
        <p:spPr>
          <a:xfrm>
            <a:off x="172800" y="1896840"/>
            <a:ext cx="1686240" cy="28152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-404280" y="4712400"/>
            <a:ext cx="995184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здняков Станислав Алексеевич– выпускник Новосибирского государствен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едагогического университ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служенный мастер спорта (фехтование на саблях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Фехтованием занимается с 10 лет. Чемпион мира (1993) среди юниоров, чемпи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Европы (1994), чемпион Всемирной Универсиады (1995), трехкратный чемпион Олимпийс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гр (1992, в командном зачете; 1996, в личном и командном зачетах), победитель (1997)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еребряный призер (1999) чемпионатов мира, победитель Кубков мира (1994-1996, 1999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2000, в личном заче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1597320" y="843840"/>
            <a:ext cx="7040520" cy="30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Маркин Виктор Фёдор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ёгкая атл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вукратный олимпийский чемп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пос. Октябр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23 февраля 1957 го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осква 1980 Бег, 400 м 30.07.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осква 1980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Эстафета, 4×400 м 01.08.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2" descr=""/>
          <p:cNvPicPr/>
          <p:nvPr/>
        </p:nvPicPr>
        <p:blipFill>
          <a:blip r:embed="rId2"/>
          <a:stretch/>
        </p:blipFill>
        <p:spPr>
          <a:xfrm>
            <a:off x="289440" y="1450080"/>
            <a:ext cx="1572480" cy="21924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"/>
          <p:cNvPicPr/>
          <p:nvPr/>
        </p:nvPicPr>
        <p:blipFill>
          <a:blip r:embed="rId3"/>
          <a:srcRect l="0" t="0" r="12138" b="9680"/>
          <a:stretch/>
        </p:blipFill>
        <p:spPr>
          <a:xfrm>
            <a:off x="289440" y="3921480"/>
            <a:ext cx="1572480" cy="23947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2320200" y="4518720"/>
            <a:ext cx="5594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иктор Фёдорович Маркин  — советский легкоатлет (длинный спринт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вукратный олимпийский чемпион, заслуженный мастер спорта ССС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"/>
          <p:cNvSpPr/>
          <p:nvPr/>
        </p:nvSpPr>
        <p:spPr>
          <a:xfrm>
            <a:off x="2612520" y="827280"/>
            <a:ext cx="629604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одгор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Евгений Анатоль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портивн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мпион Олимпийских игр в Атланте (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9 июля 1977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Атланта 1996 Командное первенство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2.07.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идней 2000 Командное первенство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8.09.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ttp://novosib-sport.ru/ckfinder/userfiles/images/stat/olimp-podgornyi.png"/>
          <p:cNvPicPr/>
          <p:nvPr/>
        </p:nvPicPr>
        <p:blipFill>
          <a:blip r:embed="rId2"/>
          <a:srcRect l="0" t="0" r="11441" b="3676"/>
          <a:stretch/>
        </p:blipFill>
        <p:spPr>
          <a:xfrm>
            <a:off x="364680" y="1312200"/>
            <a:ext cx="2130120" cy="34351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1025280" y="4852440"/>
            <a:ext cx="7092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вгений Анатольевич Подгорный  — российский гимнаст. Олимпийский чемпион 1996 года, бронзовый призёр Олимпийских игр 2000 года, серебряный призёр чемпионата мира 1999 года, многократный победитель и призёр чемпионатов Европы, России, обладатель кубка Гран-при во Франции, Кубка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3069720" y="754200"/>
            <a:ext cx="539460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Мин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Ирина Эдвин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аскет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мпионка Олимпиады в Барселоне (199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г. Черепан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16 апреля 1964 года (52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арселона 1992 Женская сборная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07.08.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еул 1988 Женская сборная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8.09.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ttp://1sg.ru/contests/10/content/media/users/2185/1/4.png"/>
          <p:cNvPicPr/>
          <p:nvPr/>
        </p:nvPicPr>
        <p:blipFill>
          <a:blip r:embed="rId2"/>
          <a:stretch/>
        </p:blipFill>
        <p:spPr>
          <a:xfrm>
            <a:off x="399960" y="1144800"/>
            <a:ext cx="2669400" cy="39549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2286000" y="517104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рина Эдвиновна Минх — советская баскетболистка.  Заслуженный мастер спорта СССР (199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"/>
          <p:cNvSpPr/>
          <p:nvPr/>
        </p:nvSpPr>
        <p:spPr>
          <a:xfrm>
            <a:off x="2651760" y="777600"/>
            <a:ext cx="6139080" cy="40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олян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Игорь Никола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л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мпион Олимпийских игр в Сеуле (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20 марта 1967 года (49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еул 1988 Спина, 200 м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2.09.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еул 1988 Спина, 100 м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4.09.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еул 1988 Комбинированная эстафета, 4×100 м25.09.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www.novosib-sport.ru/ckfinder/userfiles/images/stat/olimp-polanskiy.png"/>
          <p:cNvPicPr/>
          <p:nvPr/>
        </p:nvPicPr>
        <p:blipFill>
          <a:blip r:embed="rId2"/>
          <a:srcRect l="0" t="0" r="10551" b="1703"/>
          <a:stretch/>
        </p:blipFill>
        <p:spPr>
          <a:xfrm>
            <a:off x="261000" y="1094040"/>
            <a:ext cx="2142360" cy="34905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0" y="4795920"/>
            <a:ext cx="903924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горь Николаевич Полянский  — советский пловец, выступавший в плавании на спине, на Летних Олимпийских играх в Сеуле в 1988 году стал олимпийским чемпионом на дистанции 200 метров на спине и завоевал две бронзовых медали (100 метров на спине и комбинированная эстафета 4×100 метров), дважды становился чемпионом мира, является трёхкратным чемпионом Европы, пять раз устанавливал рекорды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служенный мастер спорта (1986), кавалер ордена «Знак Почёта». В 2002 году Игорь Полянский был введён в Зал Славы мирового плавания, который находится в г. Форт-Лодердейл в штате Флорида, СШ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1463040" y="992160"/>
            <a:ext cx="6975360" cy="30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Булыгин Сергей Иван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иат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мпион Олимпийских игр в Сараево (19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дер.Соловьё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10 июля 1963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араево 1984 Эстафета, 4×7.5 км 17.02.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2096640" y="4601520"/>
            <a:ext cx="57081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ергей Иванович Булыгин  — биатлонист, олимпийский чемпион 1984 г. в эстафете 4 х 7,5 км (с Д. Васильевым, Ю. Кашкаровым и А. Шалной), 4-кратный чемпион мира в эстафете 4х7,5 км (1983, 1985, 1986) и в командной гонке на 10 км (1989), неоднократный чемпион СССР (1983-8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novosib-sport.ru/ckfinder/userfiles/images/stat/olimp-bulygin.png"/>
          <p:cNvPicPr/>
          <p:nvPr/>
        </p:nvPicPr>
        <p:blipFill>
          <a:blip r:embed="rId2"/>
          <a:srcRect l="0" t="0" r="10719" b="4336"/>
          <a:stretch/>
        </p:blipFill>
        <p:spPr>
          <a:xfrm>
            <a:off x="207720" y="1663920"/>
            <a:ext cx="18392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84</TotalTime>
  <Application>LibreOffice/7.4.7.2$Linux_X86_64 LibreOffice_project/40$Build-2</Application>
  <AppVersion>15.0000</AppVersion>
  <Words>1021</Words>
  <Paragraphs>13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6T12:13:37Z</dcterms:created>
  <dc:creator>Пользователь Windows</dc:creator>
  <dc:description/>
  <dc:language>en-US</dc:language>
  <cp:lastModifiedBy>Windows User</cp:lastModifiedBy>
  <dcterms:modified xsi:type="dcterms:W3CDTF">2021-04-02T14:41:03Z</dcterms:modified>
  <cp:revision>1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2</vt:r8>
  </property>
</Properties>
</file>