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717-1634-475A-8E39-FEAF9F11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BFA-EAD5-4D44-A9E8-3B2D5451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32E-9D58-4500-9BFF-95D8CBC8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A52-72EF-474E-BE4D-33A19713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8C5-64E1-451D-AF46-441CBBF4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41B-CBF7-4773-AD28-7954E459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6D8-7850-46D1-9A46-D8D6939B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28C-EFC8-40E2-8AAD-EAA16791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DFE-68F1-46F9-ADB0-4AF01ED6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8FC-B672-44F2-91E0-4C5816E7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473-21BD-4FB7-918A-3F67150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020-13F3-4A38-A853-A6F5EC7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203B88-019F-4773-92D4-59A9B84EC8D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764280" y="927720"/>
            <a:ext cx="7615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 города Новосибирска «Средняя общеобразовательная школа № 196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-1005840" y="4258440"/>
            <a:ext cx="973152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Змейкова Софья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ца 5 «А» класса МБОУ СОШ № 1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 Колесников Олег Николаеви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6000"/>
              </a:lnSpc>
              <a:spcAft>
                <a:spcPts val="799"/>
              </a:spcAf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СОШ № 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 txBox="1"/>
          <p:nvPr/>
        </p:nvSpPr>
        <p:spPr>
          <a:xfrm>
            <a:off x="496440" y="1871280"/>
            <a:ext cx="8150760" cy="23497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lnSpc>
                <a:spcPct val="106000"/>
              </a:lnSpc>
              <a:spcAft>
                <a:spcPts val="799"/>
              </a:spcAft>
            </a:pPr>
            <a:r>
              <a:rPr b="1" lang="ru-RU" sz="3200" spc="-1" strike="noStrike">
                <a:ln w="0">
                  <a:noFill/>
                </a:ln>
                <a:solidFill>
                  <a:srgbClr val="ff0000"/>
                </a:solidFill>
                <a:latin typeface="Georgia"/>
                <a:ea typeface="Calibri"/>
              </a:rPr>
              <a:t>ФОТОАЛЬБОМ 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6000"/>
              </a:lnSpc>
              <a:spcAft>
                <a:spcPts val="799"/>
              </a:spcAft>
            </a:pPr>
            <a:r>
              <a:rPr b="1" lang="ru-RU" sz="3200" spc="-1" strike="noStrike">
                <a:ln w="0">
                  <a:noFill/>
                </a:ln>
                <a:solidFill>
                  <a:srgbClr val="ff0000"/>
                </a:solidFill>
                <a:latin typeface="Georgia"/>
                <a:ea typeface="Calibri"/>
              </a:rPr>
              <a:t>«ОЛИМПИЙСКИЕ ЧЕМПИОНЫ ГОРОДА НОВОСИБИРСКА И 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6000"/>
              </a:lnSpc>
              <a:spcAft>
                <a:spcPts val="799"/>
              </a:spcAft>
            </a:pPr>
            <a:r>
              <a:rPr b="1" lang="ru-RU" sz="3200" spc="-1" strike="noStrike">
                <a:ln w="0">
                  <a:noFill/>
                </a:ln>
                <a:solidFill>
                  <a:srgbClr val="ff0000"/>
                </a:solidFill>
                <a:latin typeface="Georgia"/>
                <a:ea typeface="Calibri"/>
              </a:rPr>
              <a:t>НОВОСИБИРСКОЙ ОБЛАСТИ»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1918800" y="820800"/>
            <a:ext cx="73540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Гаврилова Юлия Пет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ех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ка Олимпийских игр в Рио-де-Жанейро (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0 июля 1989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ио-де-Жанейро 2016 Сабля, командное первенство 13.08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0" y="5143320"/>
            <a:ext cx="9600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лия Петровна Гаврилова (род. 20 июля 1989) — российская фехтовальщица-саблис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лимпийская чемпионка (2016), чемпионка мира и Европ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novosib-sport.ru/ckfinder/userfiles/images/stat/olimp-gavrilova-2016.png"/>
          <p:cNvPicPr/>
          <p:nvPr/>
        </p:nvPicPr>
        <p:blipFill>
          <a:blip r:embed="rId2"/>
          <a:srcRect l="0" t="0" r="10693" b="0"/>
          <a:stretch/>
        </p:blipFill>
        <p:spPr>
          <a:xfrm>
            <a:off x="143640" y="1537200"/>
            <a:ext cx="1916640" cy="31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325880" y="1172160"/>
            <a:ext cx="75106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Кривошеева Ольг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олей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ка Олимпийских игр в Сеуле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5 мая 1961 года (55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Женская сборная 29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s://kazhimukansportmektebi.kz/images/gordost/krivoweeva.jpg"/>
          <p:cNvPicPr/>
          <p:nvPr/>
        </p:nvPicPr>
        <p:blipFill>
          <a:blip r:embed="rId2"/>
          <a:stretch/>
        </p:blipFill>
        <p:spPr>
          <a:xfrm>
            <a:off x="195840" y="1831680"/>
            <a:ext cx="1925280" cy="25671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521720" y="4528440"/>
            <a:ext cx="60998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льга Юрьевна  Кривошеева— советская волейболистка, игрок сборной СССР (1984—1988). Олимпийская чемпионка 1988, чемпионка Европы 1985. Связующая. Заслуженный мастер спорта СССР (198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920240" y="986760"/>
            <a:ext cx="72234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ер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ндрей Борис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ёгк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ады в Барселоне (19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2 декабря 1961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рселона 1992 Спортивная ходьба, 50 к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7.08.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391040" y="4691880"/>
            <a:ext cx="63612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ндрей Борисович Перлов  — известный советский легкоатлет, заслуженный мастер спорта СССР (19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1992 года в ходьбе на 50 км. Дважды победитель (1987, 1989) в командных соревнованиях Кубка мира. Шестикратный чемпион СССР на 20 км (1990, 1989) и 50 км (1984, 1985, 19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novosib-sport.ru/ckfinder/userfiles/images/stat/olimp-perlov.png"/>
          <p:cNvPicPr/>
          <p:nvPr/>
        </p:nvPicPr>
        <p:blipFill>
          <a:blip r:embed="rId2"/>
          <a:srcRect l="0" t="0" r="10131" b="2504"/>
          <a:stretch/>
        </p:blipFill>
        <p:spPr>
          <a:xfrm>
            <a:off x="125280" y="1391040"/>
            <a:ext cx="2003400" cy="322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2834640" y="914040"/>
            <a:ext cx="579960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ласов Роман Андр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рьба греко-рим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ву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6 октября 1990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ондон 2012 до 74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5.08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ио-де-Жанейро 2016 до 75 кг 14.08.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&amp;Vcy;&amp;lcy;&amp;acy;&amp;scy;&amp;ocy;&amp;vcy; &amp;Rcy;&amp;ocy;&amp;mcy;&amp;acy;&amp;ncy; &amp;fcy;&amp;ocy;&amp;tcy;&amp;ocy;"/>
          <p:cNvPicPr/>
          <p:nvPr/>
        </p:nvPicPr>
        <p:blipFill>
          <a:blip r:embed="rId2"/>
          <a:stretch/>
        </p:blipFill>
        <p:spPr>
          <a:xfrm>
            <a:off x="288360" y="1423800"/>
            <a:ext cx="2349720" cy="3103920"/>
          </a:xfrm>
          <a:prstGeom prst="rect">
            <a:avLst/>
          </a:prstGeom>
          <a:ln w="9525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927360" y="4615560"/>
            <a:ext cx="7288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оман Власов – российский спортсмен, борец греко-римского стиля, Заслуженный мастер спорта РФ. Роман Власов получил и не раз подтвердил титулы чемпиона России, чемпиона Европы и чемпиона мира. Также спортсмен дважды выигрывал Олимпийские игры, причем в разных весовых категориях: Игры XXX Олимпиады в Лондоне в категории до 74 кг и Игры XXXI Олимпиады в Рио-де-Жанейро в категории до 75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998720" y="788040"/>
            <a:ext cx="67924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Карел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Александр Александ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орьба греко-рим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рёх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9 сентября 1967 года (49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тланта 1996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2.07.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рселона 1992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9.07.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1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идней 2000 до 130 кг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7.09.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visualrian.ru/images/old_preview/286/40/2864037_preview.jpg"/>
          <p:cNvPicPr/>
          <p:nvPr/>
        </p:nvPicPr>
        <p:blipFill>
          <a:blip r:embed="rId2"/>
          <a:stretch/>
        </p:blipFill>
        <p:spPr>
          <a:xfrm>
            <a:off x="195840" y="1951920"/>
            <a:ext cx="2195640" cy="2954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058760" y="5143320"/>
            <a:ext cx="7025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релин Александр Александрович – знаменитый российский борец (греко-римская), Карелин А.А. - мастер спорта, троекратный Олимпийский чемпион (1988, 1992, 1996), девятикратный чемпион мира, двенадцатикратный чемпион Европы и тринадцатикратный чемпион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496440" y="874080"/>
            <a:ext cx="912888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здняков Станислав Алексе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ех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тырёх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7 сентября 1973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тланта 1996 Сабля, личное первенство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1.07.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тланта 1996 Сабля, командное первенство 24.07.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идней 2000 Сабля, командное первенство 24.09.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арселона 1992 Сабля, командное первенство 07.08.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фины 2004 Сабля, командное первенство 19.08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novosib-sport.ru/ckfinder/userfiles/images/stat/olimp-pozdnjakov.png"/>
          <p:cNvPicPr/>
          <p:nvPr/>
        </p:nvPicPr>
        <p:blipFill>
          <a:blip r:embed="rId2"/>
          <a:srcRect l="0" t="0" r="11186" b="0"/>
          <a:stretch/>
        </p:blipFill>
        <p:spPr>
          <a:xfrm>
            <a:off x="172800" y="1896840"/>
            <a:ext cx="1686240" cy="2815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-404280" y="4712400"/>
            <a:ext cx="995184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здняков Станислав Алексеевич– выпускник Новосибирского государстве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едагогического университ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служенный мастер спорта (фехтование на сабля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Фехтованием занимается с 10 лет. Чемпион мира (1993) среди юниоров, чемпи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Европы (1994), чемпион Всемирной Универсиады (1995), трехкратный чемпион Олимпий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гр (1992, в командном зачете; 1996, в личном и командном зачетах), победитель (1997)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еребряный призер (1999) чемпионатов мира, победитель Кубков мира (1994-1996, 1999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000, в личном зач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1597320" y="843840"/>
            <a:ext cx="704052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Маркин Виктор Фёдор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ёгкая атл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вукратный олимпийский чемп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пос. Октябр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3 февраля 1957 го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сква 1980 Бег, 400 м 30.07.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сква 1980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Эстафета, 4×400 м 01.08.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289440" y="1450080"/>
            <a:ext cx="1572480" cy="21924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rcRect l="0" t="0" r="12138" b="9680"/>
          <a:stretch/>
        </p:blipFill>
        <p:spPr>
          <a:xfrm>
            <a:off x="289440" y="3921480"/>
            <a:ext cx="1572480" cy="2394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320200" y="4518720"/>
            <a:ext cx="5594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иктор Фёдорович Маркин  — советский легкоатлет (длинный сприн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вукратный олимпийский чемпион, заслуженный мастер спорта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2612520" y="827280"/>
            <a:ext cx="62960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дго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Евгений Анато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портив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в Атланте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9 июля 1977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тланта 1996 Командное первенств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2.07.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идней 2000 Командное первенство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8.09.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novosib-sport.ru/ckfinder/userfiles/images/stat/olimp-podgornyi.png"/>
          <p:cNvPicPr/>
          <p:nvPr/>
        </p:nvPicPr>
        <p:blipFill>
          <a:blip r:embed="rId2"/>
          <a:srcRect l="0" t="0" r="11441" b="3676"/>
          <a:stretch/>
        </p:blipFill>
        <p:spPr>
          <a:xfrm>
            <a:off x="364680" y="1312200"/>
            <a:ext cx="2130120" cy="34351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1025280" y="4852440"/>
            <a:ext cx="709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вгений Анатольевич Подгорный  — российский гимнаст. Олимпийский чемпион 1996 года, бронзовый призёр Олимпийских игр 2000 года, серебряный призёр чемпионата мира 1999 года, многократный победитель и призёр чемпионатов Европы, России, обладатель кубка Гран-при во Франции, Кубк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3069720" y="754200"/>
            <a:ext cx="539460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Мин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Ирина Эдвин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ске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ка Олимпиады в Барселоне (199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Черепа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6 апреля 1964 года (52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арселона 1992 Женская сборная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7.08.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Женская сборная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8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1sg.ru/contests/10/content/media/users/2185/1/4.png"/>
          <p:cNvPicPr/>
          <p:nvPr/>
        </p:nvPicPr>
        <p:blipFill>
          <a:blip r:embed="rId2"/>
          <a:stretch/>
        </p:blipFill>
        <p:spPr>
          <a:xfrm>
            <a:off x="399960" y="1144800"/>
            <a:ext cx="2669400" cy="39549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286000" y="517104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рина Эдвиновна Минх — советская баскетболистка.  Заслуженный мастер спорта СССР (199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651760" y="777600"/>
            <a:ext cx="6139080" cy="40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Поля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Игорь Никола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в Сеуле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г. Новосиби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20 марта 1967 года (49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Спина, 200 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2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Спина, 100 м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4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еул 1988 Комбинированная эстафета, 4×100 м25.09.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novosib-sport.ru/ckfinder/userfiles/images/stat/olimp-polanskiy.png"/>
          <p:cNvPicPr/>
          <p:nvPr/>
        </p:nvPicPr>
        <p:blipFill>
          <a:blip r:embed="rId2"/>
          <a:srcRect l="0" t="0" r="10551" b="1703"/>
          <a:stretch/>
        </p:blipFill>
        <p:spPr>
          <a:xfrm>
            <a:off x="261000" y="1094040"/>
            <a:ext cx="2142360" cy="34905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0" y="4795920"/>
            <a:ext cx="903924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горь Николаевич Полянский  — советский пловец, выступавший в плавании на спине, на Летних Олимпийских играх в Сеуле в 1988 году стал олимпийским чемпионом на дистанции 200 метров на спине и завоевал две бронзовых медали (100 метров на спине и комбинированная эстафета 4×100 метров), дважды становился чемпионом мира, является трёхкратным чемпионом Европы, пять раз устанавливал рекорды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служенный мастер спорта (1986), кавалер ордена «Знак Почёта». В 2002 году Игорь Полянский был введён в Зал Славы мирового плавания, который находится в г. Форт-Лодердейл в штате Флорида, С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900igr.net/up/datai/241389/0002-002-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463040" y="992160"/>
            <a:ext cx="6975360" cy="30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Булыгин Сергей 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иат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мпион Олимпийских игр в Сараево (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сто рождения: Новосибирская область, дер.Соловьё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ата рождения: 10 июля 1963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лимпийские мед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араево 1984 Эстафета, 4×7.5 км 17.02.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096640" y="4601520"/>
            <a:ext cx="57081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ргей Иванович Булыгин  — биатлонист, олимпийский чемпион 1984 г. в эстафете 4 х 7,5 км (с Д. Васильевым, Ю. Кашкаровым и А. Шалной), 4-кратный чемпион мира в эстафете 4х7,5 км (1983, 1985, 1986) и в командной гонке на 10 км (1989), неоднократный чемпион СССР (1983-8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novosib-sport.ru/ckfinder/userfiles/images/stat/olimp-bulygin.png"/>
          <p:cNvPicPr/>
          <p:nvPr/>
        </p:nvPicPr>
        <p:blipFill>
          <a:blip r:embed="rId2"/>
          <a:srcRect l="0" t="0" r="10719" b="4336"/>
          <a:stretch/>
        </p:blipFill>
        <p:spPr>
          <a:xfrm>
            <a:off x="207720" y="1663920"/>
            <a:ext cx="18392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84</TotalTime>
  <Application>LibreOffice/7.4.7.2$Linux_X86_64 LibreOffice_project/40$Build-2</Application>
  <AppVersion>15.0000</AppVersion>
  <Words>1021</Words>
  <Paragraphs>1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6T12:13:37Z</dcterms:created>
  <dc:creator>Пользователь Windows</dc:creator>
  <dc:description/>
  <dc:language>en-US</dc:language>
  <cp:lastModifiedBy>Windows User</cp:lastModifiedBy>
  <dcterms:modified xsi:type="dcterms:W3CDTF">2021-04-02T14:41:03Z</dcterms:modified>
  <cp:revision>1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