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3A5F-2E6A-4CA0-8FC1-6C7F4CABD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0160" y="39765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AB14-A292-42B9-ABF5-304399D2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177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7901-03C3-45B1-BB4A-CDD120F96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4300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84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016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4300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84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ADF4-B15E-4036-B701-A116DB0C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C9A6-3627-46BB-9FF2-61D9B258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3E4F-6A14-461C-908E-9709C741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24F7-A4A9-4906-92A4-E43A8E7D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E3FB-7159-4EBF-AE64-1206FDDB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248C-C613-4EAB-819F-21DD429F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70160" y="301680"/>
            <a:ext cx="731340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7EC7-D383-40C0-953C-7BA8F527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E4A3-9A6B-4631-8D69-AD2158F1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1DDF-FCD2-45DA-B436-A2451243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177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6420-4066-4097-8B01-EED3DFA3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7701-D2E8-4F4F-AD36-E1F66D5F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370160" y="39765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7C7A-2060-42DF-9484-329346FB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177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9EB8-5102-42B4-B69A-83C660104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4300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1584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37016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4300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1584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2857-7924-433D-A3B4-B2BFA080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A8503-298F-4322-B398-F43BEE558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0C4C5-0093-4F4E-97DE-43408888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83988-9F5E-4D56-A4B5-982524D1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7BB00-3312-45D5-993A-F115594B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51651-33E0-4FFC-85E7-ECB26AB6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16E8-C1A9-46E4-B955-C59D6189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370160" y="301680"/>
            <a:ext cx="731340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9B2B1-9C40-4593-B8E5-828510B3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D6505-2BDC-4884-91E8-B9835B2A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177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53575-659F-40C1-922A-EF4F516B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194E6-63DF-4DE7-A5DD-541BBE27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370160" y="39765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4B7C3-85B1-40DB-81AD-2549A8A2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177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BA443-3182-4171-B0B2-875BDEE2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4300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31584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37016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4300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31584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41A9D-176A-4E61-8641-2E575FC7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BB302-FF9A-429D-BCAB-47D5BBAB8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92000-2C8A-452B-B3B4-7F2339A3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18151-D4F2-4DDA-83E6-A9E19ABA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139C-1FDC-4CC8-906B-0F04ADDF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291D5-2AFE-4522-96FE-0040458E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9E66E-CB3A-4643-AD13-706BCD7E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370160" y="301680"/>
            <a:ext cx="731340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D4EFD-682C-4CB2-BFCA-9C5153CB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4FF86-1265-4B7A-8479-08B0D8F2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1177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BBBFB-CB68-41CD-91F8-CC6E18A8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CD05D-22F0-48F9-929C-1070623E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370160" y="39765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BC6F3-9C54-4486-97EB-5A6F0178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1177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DE0F3-58C3-4226-A986-B926F22F3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4300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31584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37016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84300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31584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50D58-D467-4DBC-96C1-7334821C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3B35-5890-4F28-99F8-78389D56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70160" y="301680"/>
            <a:ext cx="731340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0807-57AF-40FB-802B-CB653143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9F8C-C6E7-4D0D-BB74-AB18611A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177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EF11-EAD8-4918-8153-F660BA7A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EBF9-A06A-4CC1-92D6-390E270E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520"/>
            <a:chOff x="-3238560" y="0"/>
            <a:chExt cx="11925360" cy="380952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440" cy="31237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296" y="5746"/>
                  </a:moveTo>
                  <a:cubicBezTo>
                    <a:pt x="58882" y="11730"/>
                    <a:pt x="64000" y="21534"/>
                    <a:pt x="64000" y="32000"/>
                  </a:cubicBezTo>
                  <a:cubicBezTo>
                    <a:pt x="64000" y="42465"/>
                    <a:pt x="58882" y="52269"/>
                    <a:pt x="50296" y="58253"/>
                  </a:cubicBezTo>
                  <a:cubicBezTo>
                    <a:pt x="50296" y="58253"/>
                    <a:pt x="50296" y="58253"/>
                    <a:pt x="50295" y="58253"/>
                  </a:cubicBezTo>
                  <a:lnTo>
                    <a:pt x="50296" y="58254"/>
                  </a:lnTo>
                  <a:lnTo>
                    <a:pt x="50296" y="5746"/>
                  </a:lnTo>
                  <a:lnTo>
                    <a:pt x="50295" y="5746"/>
                  </a:lnTo>
                  <a:cubicBezTo>
                    <a:pt x="50296" y="5746"/>
                    <a:pt x="50296" y="5746"/>
                    <a:pt x="50296" y="5746"/>
                  </a:cubicBezTo>
                  <a:close/>
                </a:path>
              </a:pathLst>
            </a:cu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396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077" y="5595"/>
                  </a:moveTo>
                  <a:cubicBezTo>
                    <a:pt x="58790" y="11560"/>
                    <a:pt x="64000" y="21440"/>
                    <a:pt x="64000" y="32000"/>
                  </a:cubicBezTo>
                  <a:cubicBezTo>
                    <a:pt x="64000" y="42559"/>
                    <a:pt x="58790" y="52439"/>
                    <a:pt x="50077" y="58404"/>
                  </a:cubicBezTo>
                  <a:cubicBezTo>
                    <a:pt x="50077" y="58404"/>
                    <a:pt x="50077" y="58404"/>
                    <a:pt x="50076" y="58404"/>
                  </a:cubicBezTo>
                  <a:lnTo>
                    <a:pt x="50077" y="58405"/>
                  </a:lnTo>
                  <a:lnTo>
                    <a:pt x="50077" y="5595"/>
                  </a:lnTo>
                  <a:lnTo>
                    <a:pt x="50076" y="5595"/>
                  </a:lnTo>
                  <a:cubicBezTo>
                    <a:pt x="50077" y="5595"/>
                    <a:pt x="50077" y="5595"/>
                    <a:pt x="50077" y="5595"/>
                  </a:cubicBezTo>
                  <a:close/>
                </a:path>
              </a:pathLst>
            </a:cu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" name="Group 2"/>
          <p:cNvGrpSpPr/>
          <p:nvPr/>
        </p:nvGrpSpPr>
        <p:grpSpPr>
          <a:xfrm>
            <a:off x="-3222720" y="304920"/>
            <a:ext cx="11909520" cy="4723920"/>
            <a:chOff x="-3222720" y="304920"/>
            <a:chExt cx="11909520" cy="4723920"/>
          </a:xfrm>
        </p:grpSpPr>
        <p:sp>
          <p:nvSpPr>
            <p:cNvPr id="5" name="Line 3"/>
            <p:cNvSpPr/>
            <p:nvPr/>
          </p:nvSpPr>
          <p:spPr>
            <a:xfrm>
              <a:off x="1447560" y="2514600"/>
              <a:ext cx="723924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AutoShape 4"/>
            <p:cNvSpPr/>
            <p:nvPr/>
          </p:nvSpPr>
          <p:spPr>
            <a:xfrm>
              <a:off x="-2514600" y="1371600"/>
              <a:ext cx="3657240" cy="36572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44083" y="2368"/>
                  </a:moveTo>
                  <a:cubicBezTo>
                    <a:pt x="56127" y="7280"/>
                    <a:pt x="64000" y="18993"/>
                    <a:pt x="64000" y="32000"/>
                  </a:cubicBezTo>
                  <a:cubicBezTo>
                    <a:pt x="64000" y="45006"/>
                    <a:pt x="56127" y="56719"/>
                    <a:pt x="44083" y="61631"/>
                  </a:cubicBezTo>
                  <a:cubicBezTo>
                    <a:pt x="44082" y="61631"/>
                    <a:pt x="44082" y="61631"/>
                    <a:pt x="44082" y="61631"/>
                  </a:cubicBezTo>
                  <a:lnTo>
                    <a:pt x="44083" y="61632"/>
                  </a:lnTo>
                  <a:lnTo>
                    <a:pt x="44083" y="2368"/>
                  </a:lnTo>
                  <a:lnTo>
                    <a:pt x="44082" y="2368"/>
                  </a:lnTo>
                  <a:cubicBezTo>
                    <a:pt x="44082" y="2368"/>
                    <a:pt x="44082" y="2368"/>
                    <a:pt x="44083" y="2368"/>
                  </a:cubicBezTo>
                  <a:close/>
                </a:path>
              </a:pathLst>
            </a:cu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AutoShape 5"/>
            <p:cNvSpPr/>
            <p:nvPr/>
          </p:nvSpPr>
          <p:spPr>
            <a:xfrm>
              <a:off x="-3222720" y="304920"/>
              <a:ext cx="4038120" cy="40381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994" y="6246"/>
                  </a:moveTo>
                  <a:cubicBezTo>
                    <a:pt x="59172" y="12279"/>
                    <a:pt x="64000" y="21837"/>
                    <a:pt x="64000" y="32000"/>
                  </a:cubicBezTo>
                  <a:cubicBezTo>
                    <a:pt x="64000" y="42162"/>
                    <a:pt x="59172" y="51720"/>
                    <a:pt x="50994" y="57753"/>
                  </a:cubicBezTo>
                  <a:cubicBezTo>
                    <a:pt x="50993" y="57753"/>
                    <a:pt x="50993" y="57753"/>
                    <a:pt x="50993" y="57753"/>
                  </a:cubicBezTo>
                  <a:lnTo>
                    <a:pt x="50994" y="57754"/>
                  </a:lnTo>
                  <a:lnTo>
                    <a:pt x="50994" y="6246"/>
                  </a:lnTo>
                  <a:lnTo>
                    <a:pt x="50993" y="6246"/>
                  </a:lnTo>
                  <a:cubicBezTo>
                    <a:pt x="50993" y="6246"/>
                    <a:pt x="50993" y="6246"/>
                    <a:pt x="50994" y="6246"/>
                  </a:cubicBezTo>
                  <a:close/>
                </a:path>
              </a:pathLst>
            </a:cu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880" y="985680"/>
            <a:ext cx="7238520" cy="1444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Образец заголов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9CB765-7E14-4CF9-B12B-3CEB93307DB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-3238560" y="0"/>
            <a:ext cx="11925360" cy="3809520"/>
            <a:chOff x="-3238560" y="0"/>
            <a:chExt cx="11925360" cy="3809520"/>
          </a:xfrm>
        </p:grpSpPr>
        <p:sp>
          <p:nvSpPr>
            <p:cNvPr id="50" name="AutoShape 3"/>
            <p:cNvSpPr/>
            <p:nvPr/>
          </p:nvSpPr>
          <p:spPr>
            <a:xfrm>
              <a:off x="-3238560" y="685800"/>
              <a:ext cx="4114440" cy="31237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296" y="5746"/>
                  </a:moveTo>
                  <a:cubicBezTo>
                    <a:pt x="58882" y="11730"/>
                    <a:pt x="64000" y="21534"/>
                    <a:pt x="64000" y="32000"/>
                  </a:cubicBezTo>
                  <a:cubicBezTo>
                    <a:pt x="64000" y="42465"/>
                    <a:pt x="58882" y="52269"/>
                    <a:pt x="50296" y="58253"/>
                  </a:cubicBezTo>
                  <a:cubicBezTo>
                    <a:pt x="50296" y="58253"/>
                    <a:pt x="50296" y="58253"/>
                    <a:pt x="50295" y="58253"/>
                  </a:cubicBezTo>
                  <a:lnTo>
                    <a:pt x="50296" y="58254"/>
                  </a:lnTo>
                  <a:lnTo>
                    <a:pt x="50296" y="5746"/>
                  </a:lnTo>
                  <a:lnTo>
                    <a:pt x="50295" y="5746"/>
                  </a:lnTo>
                  <a:cubicBezTo>
                    <a:pt x="50296" y="5746"/>
                    <a:pt x="50296" y="5746"/>
                    <a:pt x="50296" y="5746"/>
                  </a:cubicBezTo>
                  <a:close/>
                </a:path>
              </a:pathLst>
            </a:cu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-2425680" y="0"/>
              <a:ext cx="3093840" cy="315396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077" y="5595"/>
                  </a:moveTo>
                  <a:cubicBezTo>
                    <a:pt x="58790" y="11560"/>
                    <a:pt x="64000" y="21440"/>
                    <a:pt x="64000" y="32000"/>
                  </a:cubicBezTo>
                  <a:cubicBezTo>
                    <a:pt x="64000" y="42559"/>
                    <a:pt x="58790" y="52439"/>
                    <a:pt x="50077" y="58404"/>
                  </a:cubicBezTo>
                  <a:cubicBezTo>
                    <a:pt x="50077" y="58404"/>
                    <a:pt x="50077" y="58404"/>
                    <a:pt x="50076" y="58404"/>
                  </a:cubicBezTo>
                  <a:lnTo>
                    <a:pt x="50077" y="58405"/>
                  </a:lnTo>
                  <a:lnTo>
                    <a:pt x="50077" y="5595"/>
                  </a:lnTo>
                  <a:lnTo>
                    <a:pt x="50076" y="5595"/>
                  </a:lnTo>
                  <a:cubicBezTo>
                    <a:pt x="50077" y="5595"/>
                    <a:pt x="50077" y="5595"/>
                    <a:pt x="50077" y="5595"/>
                  </a:cubicBezTo>
                  <a:close/>
                </a:path>
              </a:pathLst>
            </a:cu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5"/>
            <p:cNvSpPr/>
            <p:nvPr/>
          </p:nvSpPr>
          <p:spPr>
            <a:xfrm>
              <a:off x="1371600" y="1523880"/>
              <a:ext cx="731520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бразец текст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торой уровен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06666"/>
              </a:buClr>
              <a:buSzPct val="65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етий уровень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Четвертый уровень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80"/>
              </a:spcBef>
              <a:buClr>
                <a:srgbClr val="006666"/>
              </a:buClr>
              <a:buSzPct val="60000"/>
              <a:buFont typeface="Wingdings" charset="2"/>
              <a:buChar char="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ятый уровень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14B4BF-ABBF-4FBE-BD6D-177F01C6272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-3238560" y="0"/>
            <a:ext cx="11925360" cy="3809520"/>
            <a:chOff x="-3238560" y="0"/>
            <a:chExt cx="11925360" cy="3809520"/>
          </a:xfrm>
        </p:grpSpPr>
        <p:sp>
          <p:nvSpPr>
            <p:cNvPr id="95" name="AutoShape 3"/>
            <p:cNvSpPr/>
            <p:nvPr/>
          </p:nvSpPr>
          <p:spPr>
            <a:xfrm>
              <a:off x="-3238560" y="685800"/>
              <a:ext cx="4114440" cy="31237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296" y="5746"/>
                  </a:moveTo>
                  <a:cubicBezTo>
                    <a:pt x="58882" y="11730"/>
                    <a:pt x="64000" y="21534"/>
                    <a:pt x="64000" y="32000"/>
                  </a:cubicBezTo>
                  <a:cubicBezTo>
                    <a:pt x="64000" y="42465"/>
                    <a:pt x="58882" y="52269"/>
                    <a:pt x="50296" y="58253"/>
                  </a:cubicBezTo>
                  <a:cubicBezTo>
                    <a:pt x="50296" y="58253"/>
                    <a:pt x="50296" y="58253"/>
                    <a:pt x="50295" y="58253"/>
                  </a:cubicBezTo>
                  <a:lnTo>
                    <a:pt x="50296" y="58254"/>
                  </a:lnTo>
                  <a:lnTo>
                    <a:pt x="50296" y="5746"/>
                  </a:lnTo>
                  <a:lnTo>
                    <a:pt x="50295" y="5746"/>
                  </a:lnTo>
                  <a:cubicBezTo>
                    <a:pt x="50296" y="5746"/>
                    <a:pt x="50296" y="5746"/>
                    <a:pt x="50296" y="5746"/>
                  </a:cubicBezTo>
                  <a:close/>
                </a:path>
              </a:pathLst>
            </a:cu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AutoShape 4"/>
            <p:cNvSpPr/>
            <p:nvPr/>
          </p:nvSpPr>
          <p:spPr>
            <a:xfrm>
              <a:off x="-2425680" y="0"/>
              <a:ext cx="3093840" cy="315396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077" y="5595"/>
                  </a:moveTo>
                  <a:cubicBezTo>
                    <a:pt x="58790" y="11560"/>
                    <a:pt x="64000" y="21440"/>
                    <a:pt x="64000" y="32000"/>
                  </a:cubicBezTo>
                  <a:cubicBezTo>
                    <a:pt x="64000" y="42559"/>
                    <a:pt x="58790" y="52439"/>
                    <a:pt x="50077" y="58404"/>
                  </a:cubicBezTo>
                  <a:cubicBezTo>
                    <a:pt x="50077" y="58404"/>
                    <a:pt x="50077" y="58404"/>
                    <a:pt x="50076" y="58404"/>
                  </a:cubicBezTo>
                  <a:lnTo>
                    <a:pt x="50077" y="58405"/>
                  </a:lnTo>
                  <a:lnTo>
                    <a:pt x="50077" y="5595"/>
                  </a:lnTo>
                  <a:lnTo>
                    <a:pt x="50076" y="5595"/>
                  </a:lnTo>
                  <a:cubicBezTo>
                    <a:pt x="50077" y="5595"/>
                    <a:pt x="50077" y="5595"/>
                    <a:pt x="50077" y="5595"/>
                  </a:cubicBezTo>
                  <a:close/>
                </a:path>
              </a:pathLst>
            </a:cu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5"/>
            <p:cNvSpPr/>
            <p:nvPr/>
          </p:nvSpPr>
          <p:spPr>
            <a:xfrm>
              <a:off x="1371600" y="1523880"/>
              <a:ext cx="731520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370160" y="1827360"/>
            <a:ext cx="357948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зец текс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6666"/>
              </a:buClr>
              <a:buSzPct val="60000"/>
              <a:buFont typeface="Wingdings" charset="2"/>
              <a:buChar char="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body"/>
          </p:nvPr>
        </p:nvSpPr>
        <p:spPr>
          <a:xfrm>
            <a:off x="5102280" y="1827360"/>
            <a:ext cx="3580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зец текс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6666"/>
              </a:buClr>
              <a:buSzPct val="60000"/>
              <a:buFont typeface="Wingdings" charset="2"/>
              <a:buChar char="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dt" idx="7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4F08DE-8CC0-45D6-93C3-18CC7D708D5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-3238560" y="0"/>
            <a:ext cx="11925360" cy="3809520"/>
            <a:chOff x="-3238560" y="0"/>
            <a:chExt cx="11925360" cy="3809520"/>
          </a:xfrm>
        </p:grpSpPr>
        <p:sp>
          <p:nvSpPr>
            <p:cNvPr id="141" name="AutoShape 3"/>
            <p:cNvSpPr/>
            <p:nvPr/>
          </p:nvSpPr>
          <p:spPr>
            <a:xfrm>
              <a:off x="-3238560" y="685800"/>
              <a:ext cx="4114440" cy="31237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296" y="5746"/>
                  </a:moveTo>
                  <a:cubicBezTo>
                    <a:pt x="58882" y="11730"/>
                    <a:pt x="64000" y="21534"/>
                    <a:pt x="64000" y="32000"/>
                  </a:cubicBezTo>
                  <a:cubicBezTo>
                    <a:pt x="64000" y="42465"/>
                    <a:pt x="58882" y="52269"/>
                    <a:pt x="50296" y="58253"/>
                  </a:cubicBezTo>
                  <a:cubicBezTo>
                    <a:pt x="50296" y="58253"/>
                    <a:pt x="50296" y="58253"/>
                    <a:pt x="50295" y="58253"/>
                  </a:cubicBezTo>
                  <a:lnTo>
                    <a:pt x="50296" y="58254"/>
                  </a:lnTo>
                  <a:lnTo>
                    <a:pt x="50296" y="5746"/>
                  </a:lnTo>
                  <a:lnTo>
                    <a:pt x="50295" y="5746"/>
                  </a:lnTo>
                  <a:cubicBezTo>
                    <a:pt x="50296" y="5746"/>
                    <a:pt x="50296" y="5746"/>
                    <a:pt x="50296" y="5746"/>
                  </a:cubicBezTo>
                  <a:close/>
                </a:path>
              </a:pathLst>
            </a:cu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-2425680" y="0"/>
              <a:ext cx="3093840" cy="315396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077" y="5595"/>
                  </a:moveTo>
                  <a:cubicBezTo>
                    <a:pt x="58790" y="11560"/>
                    <a:pt x="64000" y="21440"/>
                    <a:pt x="64000" y="32000"/>
                  </a:cubicBezTo>
                  <a:cubicBezTo>
                    <a:pt x="64000" y="42559"/>
                    <a:pt x="58790" y="52439"/>
                    <a:pt x="50077" y="58404"/>
                  </a:cubicBezTo>
                  <a:cubicBezTo>
                    <a:pt x="50077" y="58404"/>
                    <a:pt x="50077" y="58404"/>
                    <a:pt x="50076" y="58404"/>
                  </a:cubicBezTo>
                  <a:lnTo>
                    <a:pt x="50077" y="58405"/>
                  </a:lnTo>
                  <a:lnTo>
                    <a:pt x="50077" y="5595"/>
                  </a:lnTo>
                  <a:lnTo>
                    <a:pt x="50076" y="5595"/>
                  </a:lnTo>
                  <a:cubicBezTo>
                    <a:pt x="50077" y="5595"/>
                    <a:pt x="50077" y="5595"/>
                    <a:pt x="50077" y="5595"/>
                  </a:cubicBezTo>
                  <a:close/>
                </a:path>
              </a:pathLst>
            </a:cu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5"/>
            <p:cNvSpPr/>
            <p:nvPr/>
          </p:nvSpPr>
          <p:spPr>
            <a:xfrm>
              <a:off x="1371600" y="1523880"/>
              <a:ext cx="731520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370160" y="1827360"/>
            <a:ext cx="3579480" cy="1980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бразец текст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торой уровен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06666"/>
              </a:buClr>
              <a:buSzPct val="65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етий уровень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Четвертый уровень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80"/>
              </a:spcBef>
              <a:buClr>
                <a:srgbClr val="006666"/>
              </a:buClr>
              <a:buSzPct val="60000"/>
              <a:buFont typeface="Wingdings" charset="2"/>
              <a:buChar char="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ятый уровень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body"/>
          </p:nvPr>
        </p:nvSpPr>
        <p:spPr>
          <a:xfrm>
            <a:off x="5102280" y="1827360"/>
            <a:ext cx="3580920" cy="1980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бразец текст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торой уровен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06666"/>
              </a:buClr>
              <a:buSzPct val="65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етий уровень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Четвертый уровень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80"/>
              </a:spcBef>
              <a:buClr>
                <a:srgbClr val="006666"/>
              </a:buClr>
              <a:buSzPct val="60000"/>
              <a:buFont typeface="Wingdings" charset="2"/>
              <a:buChar char="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ятый уровень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body"/>
          </p:nvPr>
        </p:nvSpPr>
        <p:spPr>
          <a:xfrm>
            <a:off x="1370160" y="3960720"/>
            <a:ext cx="3579480" cy="1980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бразец текст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торой уровен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06666"/>
              </a:buClr>
              <a:buSzPct val="65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етий уровень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Четвертый уровень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80"/>
              </a:spcBef>
              <a:buClr>
                <a:srgbClr val="006666"/>
              </a:buClr>
              <a:buSzPct val="60000"/>
              <a:buFont typeface="Wingdings" charset="2"/>
              <a:buChar char="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ятый уровень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body"/>
          </p:nvPr>
        </p:nvSpPr>
        <p:spPr>
          <a:xfrm>
            <a:off x="5102280" y="3960720"/>
            <a:ext cx="3580920" cy="1980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бразец текст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торой уровен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06666"/>
              </a:buClr>
              <a:buSzPct val="65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етий уровень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Четвертый уровень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80"/>
              </a:spcBef>
              <a:buClr>
                <a:srgbClr val="006666"/>
              </a:buClr>
              <a:buSzPct val="60000"/>
              <a:buFont typeface="Wingdings" charset="2"/>
              <a:buChar char="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ятый уровень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 type="dt" idx="10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8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582E7E-B3C8-4DF2-8551-26EE7B93E1F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antibiotic.ru/ab/013-22.shtml" TargetMode="External"/><Relationship Id="rId2" Type="http://schemas.openxmlformats.org/officeDocument/2006/relationships/hyperlink" Target="http://www.antibiotic.ru/ab/microbiol_termins.shtml" TargetMode="External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antibiotic.ru/ab/013-22.shtml" TargetMode="External"/><Relationship Id="rId2" Type="http://schemas.openxmlformats.org/officeDocument/2006/relationships/hyperlink" Target="http://www.antibiotic.ru/ab/023-29.shtml" TargetMode="External"/><Relationship Id="rId3" Type="http://schemas.openxmlformats.org/officeDocument/2006/relationships/hyperlink" Target="http://www.antibiotic.ru/ab/microbiol_termins.shtml" TargetMode="External"/><Relationship Id="rId4" Type="http://schemas.openxmlformats.org/officeDocument/2006/relationships/hyperlink" Target="http://www.antibiotic.ru/ab/042-47.shtml" TargetMode="External"/><Relationship Id="rId5" Type="http://schemas.openxmlformats.org/officeDocument/2006/relationships/hyperlink" Target="http://www.antibiotic.ru/ab/047-49.shtml" TargetMode="External"/><Relationship Id="rId6" Type="http://schemas.openxmlformats.org/officeDocument/2006/relationships/hyperlink" Target="http://www.antibiotic.ru/ab/056-60.shtml" TargetMode="External"/><Relationship Id="rId7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antibiotic.ru/ab/013-22.shtml" TargetMode="External"/><Relationship Id="rId2" Type="http://schemas.openxmlformats.org/officeDocument/2006/relationships/hyperlink" Target="http://www.antibiotic.ru/ab/microbiol_termins.shtml" TargetMode="External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antibiotic.ru/ab/013-22.shtml" TargetMode="External"/><Relationship Id="rId2" Type="http://schemas.openxmlformats.org/officeDocument/2006/relationships/hyperlink" Target="http://www.antibiotic.ru/ab/microbiol_termins.shtml" TargetMode="External"/><Relationship Id="rId3" Type="http://schemas.openxmlformats.org/officeDocument/2006/relationships/hyperlink" Target="http://www.antibiotic.ru/ab/047-49.shtml" TargetMode="External"/><Relationship Id="rId4" Type="http://schemas.openxmlformats.org/officeDocument/2006/relationships/hyperlink" Target="http://www.antibiotic.ru/ab/038-42.shtml" TargetMode="External"/><Relationship Id="rId5" Type="http://schemas.openxmlformats.org/officeDocument/2006/relationships/hyperlink" Target="http://www.antibiotic.ru/ab/013-22.shtml" TargetMode="External"/><Relationship Id="rId6" Type="http://schemas.openxmlformats.org/officeDocument/2006/relationships/hyperlink" Target="http://www.antibiotic.ru/ab/047-49.shtml" TargetMode="External"/><Relationship Id="rId7" Type="http://schemas.openxmlformats.org/officeDocument/2006/relationships/hyperlink" Target="http://www.antibiotic.ru/ab/056-60.shtml" TargetMode="External"/><Relationship Id="rId8" Type="http://schemas.openxmlformats.org/officeDocument/2006/relationships/hyperlink" Target="http://www.antibiotic.ru/ab/082-83.shtml" TargetMode="External"/><Relationship Id="rId9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antibiotic.ru/ab/013-22.shtml" TargetMode="External"/><Relationship Id="rId2" Type="http://schemas.openxmlformats.org/officeDocument/2006/relationships/hyperlink" Target="http://www.antibiotic.ru/ab/056-60.shtml" TargetMode="External"/><Relationship Id="rId3" Type="http://schemas.openxmlformats.org/officeDocument/2006/relationships/hyperlink" Target="http://www.antibiotic.ru/ab/082-83.shtml" TargetMode="External"/><Relationship Id="rId4" Type="http://schemas.openxmlformats.org/officeDocument/2006/relationships/hyperlink" Target="http://www.antibiotic.ru/ab/023-29.shtml" TargetMode="External"/><Relationship Id="rId5" Type="http://schemas.openxmlformats.org/officeDocument/2006/relationships/hyperlink" Target="http://www.antibiotic.ru/ab/038-42.shtml" TargetMode="External"/><Relationship Id="rId6" Type="http://schemas.openxmlformats.org/officeDocument/2006/relationships/hyperlink" Target="http://www.antibiotic.ru/ab/106-109.shtml" TargetMode="External"/><Relationship Id="rId7" Type="http://schemas.openxmlformats.org/officeDocument/2006/relationships/hyperlink" Target="http://www.antibiotic.ru/ab/013-22.shtml" TargetMode="External"/><Relationship Id="rId8" Type="http://schemas.openxmlformats.org/officeDocument/2006/relationships/hyperlink" Target="http://www.antibiotic.ru/ab/056-60.shtml" TargetMode="External"/><Relationship Id="rId9" Type="http://schemas.openxmlformats.org/officeDocument/2006/relationships/hyperlink" Target="http://www.antibiotic.ru/ab/033-37.shtml" TargetMode="External"/><Relationship Id="rId10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antibiotic.ru/ab/143-146.shtml" TargetMode="External"/><Relationship Id="rId2" Type="http://schemas.openxmlformats.org/officeDocument/2006/relationships/hyperlink" Target="http://www.antibiotic.ru/ab/microbiol_termins.shtml" TargetMode="External"/><Relationship Id="rId3" Type="http://schemas.openxmlformats.org/officeDocument/2006/relationships/hyperlink" Target="http://www.antibiotic.ru/ab/023-29.shtml" TargetMode="External"/><Relationship Id="rId4" Type="http://schemas.openxmlformats.org/officeDocument/2006/relationships/hyperlink" Target="http://www.antibiotic.ru/ab/033-37.shtml" TargetMode="External"/><Relationship Id="rId5" Type="http://schemas.openxmlformats.org/officeDocument/2006/relationships/hyperlink" Target="http://www.antibiotic.ru/ab/033-37.shtml" TargetMode="External"/><Relationship Id="rId6" Type="http://schemas.openxmlformats.org/officeDocument/2006/relationships/hyperlink" Target="http://www.antibiotic.ru/ab/038-42.shtml" TargetMode="External"/><Relationship Id="rId7" Type="http://schemas.openxmlformats.org/officeDocument/2006/relationships/hyperlink" Target="http://www.antibiotic.ru/ab/033-37.shtml" TargetMode="External"/><Relationship Id="rId8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antibiotic.ru/ab/143-146.shtml" TargetMode="External"/><Relationship Id="rId2" Type="http://schemas.openxmlformats.org/officeDocument/2006/relationships/hyperlink" Target="http://www.antibiotic.ru/ab/023-29.shtml" TargetMode="External"/><Relationship Id="rId3" Type="http://schemas.openxmlformats.org/officeDocument/2006/relationships/hyperlink" Target="http://www.antibiotic.ru/ab/033-37.shtml" TargetMode="External"/><Relationship Id="rId4" Type="http://schemas.openxmlformats.org/officeDocument/2006/relationships/hyperlink" Target="http://www.antibiotic.ru/ab/038-42.shtml" TargetMode="External"/><Relationship Id="rId5" Type="http://schemas.openxmlformats.org/officeDocument/2006/relationships/hyperlink" Target="http://www.antibiotic.ru/ab/030-32.shtml" TargetMode="External"/><Relationship Id="rId6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antibiotic.ru/ab/143-146.shtml" TargetMode="External"/><Relationship Id="rId2" Type="http://schemas.openxmlformats.org/officeDocument/2006/relationships/hyperlink" Target="http://www.antibiotic.ru/ab/013-22.shtml" TargetMode="External"/><Relationship Id="rId3" Type="http://schemas.openxmlformats.org/officeDocument/2006/relationships/hyperlink" Target="http://www.antibiotic.ru/ab/033-37.shtml" TargetMode="External"/><Relationship Id="rId4" Type="http://schemas.openxmlformats.org/officeDocument/2006/relationships/hyperlink" Target="http://www.antibiotic.ru/ab/038-42.shtml" TargetMode="External"/><Relationship Id="rId5" Type="http://schemas.openxmlformats.org/officeDocument/2006/relationships/hyperlink" Target="http://www.antibiotic.ru/ab/052-54.shtml" TargetMode="External"/><Relationship Id="rId6" Type="http://schemas.openxmlformats.org/officeDocument/2006/relationships/hyperlink" Target="http://www.antibiotic.ru/ab/microbiol_termins.shtml" TargetMode="External"/><Relationship Id="rId7" Type="http://schemas.openxmlformats.org/officeDocument/2006/relationships/hyperlink" Target="http://www.antibiotic.ru/ab/042-47.shtml" TargetMode="External"/><Relationship Id="rId8" Type="http://schemas.openxmlformats.org/officeDocument/2006/relationships/hyperlink" Target="http://www.antibiotic.ru/ab/033-37.shtml" TargetMode="External"/><Relationship Id="rId9" Type="http://schemas.openxmlformats.org/officeDocument/2006/relationships/hyperlink" Target="http://www.antibiotic.ru/ab/047-49.shtml" TargetMode="External"/><Relationship Id="rId10" Type="http://schemas.openxmlformats.org/officeDocument/2006/relationships/hyperlink" Target="http://www.antibiotic.ru/ab/056-60.shtml" TargetMode="External"/><Relationship Id="rId11" Type="http://schemas.openxmlformats.org/officeDocument/2006/relationships/hyperlink" Target="http://www.antibiotic.ru/ab/038-42.shtml" TargetMode="External"/><Relationship Id="rId1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antibiotic.ru/ab/023-29.shtml" TargetMode="External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antibiotic.ru/cmac/2001_3_2/" TargetMode="External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antibiotic.ru/cmac/2001_3_2/" TargetMode="External"/><Relationship Id="rId2" Type="http://schemas.openxmlformats.org/officeDocument/2006/relationships/hyperlink" Target="http://www.antibiotic.ru/cmac/2001_3_2/" TargetMode="External"/><Relationship Id="rId3" Type="http://schemas.openxmlformats.org/officeDocument/2006/relationships/hyperlink" Target="http://www.antibiotic.ru/cmac/2001_3_2/" TargetMode="External"/><Relationship Id="rId4" Type="http://schemas.openxmlformats.org/officeDocument/2006/relationships/hyperlink" Target="http://www.antibiotic.ru/ab/013-22.shtml" TargetMode="External"/><Relationship Id="rId5" Type="http://schemas.openxmlformats.org/officeDocument/2006/relationships/hyperlink" Target="http://www.antibiotic.ru/ab/023-29.shtml" TargetMode="External"/><Relationship Id="rId6" Type="http://schemas.openxmlformats.org/officeDocument/2006/relationships/hyperlink" Target="http://www.antibiotic.ru/ab/032-33.shtml" TargetMode="External"/><Relationship Id="rId7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antibiotic.ru/cmac/2001_3_2/" TargetMode="External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880" y="985680"/>
            <a:ext cx="7238520" cy="1444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АНТИМИКРОБНЫЕ ПРЕПАРАТЫ И АНТИМИКРОБНАЯ РЕЗИСТЕНТ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4" descr="1"/>
          <p:cNvPicPr/>
          <p:nvPr/>
        </p:nvPicPr>
        <p:blipFill>
          <a:blip r:embed="rId1"/>
          <a:stretch/>
        </p:blipFill>
        <p:spPr>
          <a:xfrm>
            <a:off x="324000" y="2565360"/>
            <a:ext cx="8819640" cy="4292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по химической структур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34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Макролиды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14-членные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15-членные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16 членные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иродные (эритромицин, спирамицин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олусинтетические (кларитромицин, азитромицин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0"/>
              </a:spcBef>
              <a:buNone/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Хинолоны (ингибиторы РНК-гиразы, которая отвечает за суперспирализацию ДНК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поколение (нефторированные) налидиксовая кислот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(фторхинолоны) ципрофлоксацин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нарушают синтез белка рибосомам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Бактериостатик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бактерицидный эффект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нарушает биосинтез ДНК (репликацию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по химической структур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2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Хинолоны (ингибиторы РНК-гиразы, которая отвечает за суперспирализацию ДНК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поколение (нефторированные) налидиксовая кислот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(фторхинолоны) ципрофлоксацин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38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бактерицидный эффект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8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арушает биосинтез ДНК (репликацию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80"/>
              </a:spcBef>
              <a:buNone/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80"/>
              </a:spcBef>
              <a:buNone/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по химической структур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етрациклин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актериостатик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рушают синтез белк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енкосамид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актериостатик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рушают синтез белка рибосомам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по химической структур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Гликопептид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бактериостатик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рушают синтез клеточной стенк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лимиксин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действуют на ЦП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бактерицидный эффек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итроимидазол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бактерицидный эффек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рушают репликацию ДН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рушают синтез бел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нгибируют тканевое дыхани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по химической структур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81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ульфаниламид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актериостатик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аналог ПАБ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онкурентно ингибирует фермент, отвечающий за синтез дигидрофолиевой кислоты (предшественницы фолиевой кислоты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по химической структур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2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итрофуран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кцепторы О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арушают клеточное дыхание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ингибируют биосинтез нуклеиновых кислот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ифампицин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блокируют трансляцию на этапе ДНК → мРНК, ингибируя ДНК-зависимую РНК-полимеразу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Хлорамфеникол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блокируют синтез белка за счет невозможности присоединения к большой субъединице рибосом тРНК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трептограмин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мишень – рибосомы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0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одходы в назначении антибиотиков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мпирически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тиотропны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Этиотропный подход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2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о всех случаях, когда выделяется микроб, этиологическая роль которого очевидна или вероятн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е проводитс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 отношении условно-патогенных м/о при выделении из мест их естественного обитани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 случаях отсутствия стандартных методов исследования и критерий оценки чувствительност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Этиотропный подход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огда чувствительность нельзя предположить на основании результатов идентификации, например, чувствительность стрептококка группы А к бензилпенициллину 100%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Этиотропный подход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 отношении всех м/о, выделенных из стерильных в норме жидкостей, ткане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 отношении м/о, для которых известна высокая частота формирования приобретенной устойчивост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Классификация по происхожден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41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родные (пенициллин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1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нтетические (химические производные природных а/б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1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усинтетические (получены путем модификации природных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ДДМ не используетс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если для роста &gt; 48 ч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если микроб – облигатный анаэроб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ультура не образует равномерного газона на плотной сред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если для роста требуются среды не соответствующие применяемым для оценки а/б чувствитель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если зона подавления роста не соответствует истинной чувствительност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Резистентность микроорганизм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иродна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иобретенная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Истинная природная устойчив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42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характеризуется отсутствием у микроорганизмов мишени действия антибиотика или недоступности мишени вследствие первично низкой проницаемости или ферментативной инактиваци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и наличии у бактерий природной устойчивости антибиотики клинически неэффективн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иродная резистентность является постоянным видовым признаком микроорганизмов и легко прогнозируется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иобретенная устойчивост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38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войство отдельных штаммов бактерий сохранять жизнеспособность при тех концентрациях антибиотиков, которые подавляют основную часть микробной популяци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8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озможны ситуации, когда большая часть микробной популяции проявляет приобретенную устойчивость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8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оявление у бактерий приобретенной резистентности не обязательно сопровождается снижением клинической эффективности антибиотик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8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Формирование резистентности во всех случаях обусловлено генетически: приобретением новой генетической информации или изменением уровня экспрессии собственных генов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механизмы устойчивости бактерий к антибиотикам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52600" indent="-552600">
              <a:lnSpc>
                <a:spcPct val="9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AutoNum type="arabicPeriod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одификация мишени действи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AutoNum type="arabicPeriod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Инактивация антибиотика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AutoNum type="arabicPeriod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ктивное выведение антибиотика из микробной клетки (эффлюкс)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AutoNum type="arabicPeriod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рушение проницаемости внешних структур микробной клетки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AutoNum type="arabicPeriod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Формирование метаболического "шунта"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03280" y="40464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Методы оценки а/б чувствитель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spcBef>
                <a:spcPts val="581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иско-диффузионый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(качественный/полуколичественный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81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81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ерийных разведений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(количественный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4" descr="Рис. 1-а"/>
          <p:cNvPicPr/>
          <p:nvPr/>
        </p:nvPicPr>
        <p:blipFill>
          <a:blip r:embed="rId1"/>
          <a:stretch/>
        </p:blipFill>
        <p:spPr>
          <a:xfrm>
            <a:off x="4427640" y="3141720"/>
            <a:ext cx="3600000" cy="2087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Автодиспенсер для нанесения диск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4" descr="1"/>
          <p:cNvPicPr/>
          <p:nvPr/>
        </p:nvPicPr>
        <p:blipFill>
          <a:blip r:embed="rId1"/>
          <a:stretch/>
        </p:blipFill>
        <p:spPr>
          <a:xfrm>
            <a:off x="0" y="1484280"/>
            <a:ext cx="8819640" cy="5184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8" name="Picture 4" descr="1"/>
          <p:cNvPicPr/>
          <p:nvPr/>
        </p:nvPicPr>
        <p:blipFill>
          <a:blip r:embed="rId1"/>
          <a:stretch/>
        </p:blipFill>
        <p:spPr>
          <a:xfrm>
            <a:off x="0" y="189000"/>
            <a:ext cx="9143640" cy="6668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74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14840" cy="5616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актериологический метод на этапе изучения чисой культуры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2. Применен диффузный способ определения чувствительности к дискам с антибиотикам на плотной среде АГВ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3. Этап исследования определяется по размерам зоны задержки роста культуры или ее отсутствии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4. Для подтверждения диагноза необходимо- определить  минимальную подавляющую концентрацию  препаратов (МПК), определить чувствительность к лекарственным препаратам с помощью ПЦР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5. Основные формы и механизмы резистентности: модификационная и генетические формы; механизмы связаны с изменчивостью бактерий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190440"/>
            <a:ext cx="94071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нтибиотикограмма, способ дисков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ДИСКО-ДИФФУЗНЫЙ МЕТОД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4" descr="1"/>
          <p:cNvPicPr/>
          <p:nvPr/>
        </p:nvPicPr>
        <p:blipFill>
          <a:blip r:embed="rId1"/>
          <a:stretch/>
        </p:blipFill>
        <p:spPr>
          <a:xfrm>
            <a:off x="250920" y="1484280"/>
            <a:ext cx="8892720" cy="5373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иродные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лученные из бактерий и актиномицет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з грибов(пенициллин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з растительных клеток(чеснок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з животных клето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Возбудители внебольничных инфекц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81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Staphylococcus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spp. - устойчивость к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природным и полусинтетическим пенициллина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связанная с продукцией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b-лактамаз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Возбудители внебольничных инфекц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S.pneumoniae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- устойчивость различного уровня к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пенициллину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(часть штаммов устойчива к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цефалоспоринам III поколения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), связанная с модификацией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ПСБ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; высокая частота ассоциированной устойчивости к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макролида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тетрациклина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6"/>
              </a:rPr>
              <a:t>котримоксазолу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Возбудители внебольничных инфекц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H.influenzae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M.catarrhalis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- устойчивость к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полусинтетическим пенициллина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связанная с продукцией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b-лактамаз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Возбудители внебольничных инфекц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N.gonorrhoeae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- устойчивость к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пенициллина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связанная с продукцией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b-лактамаз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устойчивость к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тетрациклина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фторхинолона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Shigella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spp. - устойчивость к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ампициллину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6"/>
              </a:rPr>
              <a:t>тетрациклина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7"/>
              </a:rPr>
              <a:t>ко-тримоксазолу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8"/>
              </a:rPr>
              <a:t>хлорамфениколу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Возбудители внебольничных инфекц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Salmonella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spp. - устойчивость к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ампициллину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ко-тримоксазолу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хлорамфениколу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Появление устойчивости к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цефалоспоринам III поколения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фторхинолона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E.col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- при внебольничных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6"/>
              </a:rPr>
              <a:t>инфекциях МВП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- возможна устойчивость к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7"/>
              </a:rPr>
              <a:t>ампициллину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8"/>
              </a:rPr>
              <a:t>ко-тримоксазолу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9"/>
              </a:rPr>
              <a:t>гентамицину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Возбудители </a:t>
            </a:r>
            <a:r>
              <a:rPr b="0" lang="ru-RU" sz="3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нозокомиальных инфекц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Enterobacteriaceae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- продукция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БЛРС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(чаще всего среди </a:t>
            </a: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Klebsiella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spp.), обуславливающая клиническую неэффективность всех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цефалоспоринов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; очень высокая частота ассоциированной устойчивости к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гентамицину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тобрамицину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; в некоторых учреждениях тенденция к росту ассоциированной резистентности к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6"/>
              </a:rPr>
              <a:t>фторхинолонам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7"/>
              </a:rPr>
              <a:t>амикацину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Возбудители </a:t>
            </a:r>
            <a:r>
              <a:rPr b="0" lang="ru-RU" sz="3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нозокомиальных инфекц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Pseudomonas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spp., 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Acinetobacter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spp., 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S.maltophilia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- ассоциированная устойчивость к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цефалоспорина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аминогликозида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фторхинолона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иногда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карбапенема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Возбудители </a:t>
            </a:r>
            <a:r>
              <a:rPr b="0" lang="ru-RU" sz="3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нозокомиальных инфекц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Enterococcus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spp. - ассоциация устойчивости к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пенициллинам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, высокого уровня устойчивости к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аминогликозидам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фторхинолонам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гликопептидам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Staphylococcus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spp. (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6"/>
              </a:rPr>
              <a:t>метициллинорезистентные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) - ассоциированная устойчивость к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7"/>
              </a:rPr>
              <a:t>макролидам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8"/>
              </a:rPr>
              <a:t>аминогликозидам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9"/>
              </a:rPr>
              <a:t>тетрациклинам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10"/>
              </a:rPr>
              <a:t>ко-тримоксазолу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11"/>
              </a:rPr>
              <a:t>фторхинолонам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тод "двойных дисков"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spcBef>
                <a:spcPts val="420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Принцип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етод "двойных дисков" представляет собой вариант классического дискодиффузионного метода определения чувствительности, который позволяет обнаружить продукцию БЛРС по наличию расширенной зоны подавления роста вокруг диска с 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цефалоспорином III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поколения напротив диска, содержащего клавулановую кислоту (синергизм отмечается в участке пересечения зон диффузии двух дисков, расположенных на небольшом расстоянии друг от друга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тод "двойных дисков"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Материал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1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. Стерильный физиологический раствор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1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2. Стерильные пробирки, пипетки, чашки Петр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1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3. Стандарт мутности 0,5 по МакФарланду (эквивалент 1,5 x 108 КОЕ/мл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1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4. Агар Мюллера–Хинтон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Классифик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Verdana"/>
              </a:rPr>
              <a:t>по направленности действи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нтибактериальны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отивогрибковы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отивовирусны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отивопротозойны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отивоопухолевы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тод "двойных дисков"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3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5. Диски с антибиотиками: азтреонам (30 мкг), цефотаксим (30 мкг), цефтазидим (30 мкг), цефтриаксон (30 мкг), цефепим (30 мкг), цефпиром (30 мкг), амоксициллин/клавуланат (20/10 мкг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3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6. Термоста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3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7. Контрольные штаммы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3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E.coli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ATCC® 25922 – отрицательный контроль (БЛРС–)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3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K.pneumoniae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ATCC® 700603 – положительный контроль (БЛРС+)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3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8. Суточные культуры исследуемых микроорганизм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тод "двойных дисков"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Verdana"/>
              </a:rPr>
              <a:t>Постановка тест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Для приготовления инокулюма используют чистую суточную культуру исследуемого микроорганизма, выращенную на агаризованной среде. Несколько колоний стерильным тампоном или петлей переносят в пробирку с 3 мл стерильного физиологического раствора. Взвесь бактериальных клеток доводят до мутности 0,5 по МакФарланду и наносят стерильным ватным тампоном на поверхность агара Мюллера–Хинтона в трех различных направлениях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Через 5–10 мин после инокулирования на подсохшую поверхность агара накладывают диски с антибиотиками: в центр – диск, содержащий клавулановую кислоту, обычно в виде комбинации амоксициллин/клавуланат (20/10 мкг), по бокам от него на расстоянии 20 и 30 мм между центрами дисков – диски с цефтазидимом (30 мкг) и цефотаксимом (30 мкг)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тод "двойных дисков"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Использование двух дисков каждого антибиотика, расположенных на разном расстоянии от диска с клавулановой кислотой, позволяет повысить эффективность обнаружения БЛРС (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рис. 1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Чашки инкубируют в термостате при температуре 35oС в течение 18–20 ч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араллельно с анализом испытуемых культур исследуют контрольные штаммы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тод "двойных дисков"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Picture 30" descr="Рис. 1-а"/>
          <p:cNvPicPr/>
          <p:nvPr/>
        </p:nvPicPr>
        <p:blipFill>
          <a:blip r:embed="rId1"/>
          <a:stretch/>
        </p:blipFill>
        <p:spPr>
          <a:xfrm>
            <a:off x="2220840" y="1893960"/>
            <a:ext cx="1875960" cy="1847520"/>
          </a:xfrm>
          <a:prstGeom prst="rect">
            <a:avLst/>
          </a:prstGeom>
          <a:ln w="9525">
            <a:noFill/>
          </a:ln>
        </p:spPr>
      </p:pic>
      <p:pic>
        <p:nvPicPr>
          <p:cNvPr id="282" name="Picture 32" descr="Рис. 1-b"/>
          <p:cNvPicPr/>
          <p:nvPr/>
        </p:nvPicPr>
        <p:blipFill>
          <a:blip r:embed="rId2"/>
          <a:stretch/>
        </p:blipFill>
        <p:spPr>
          <a:xfrm>
            <a:off x="5954760" y="1893960"/>
            <a:ext cx="1875960" cy="1847520"/>
          </a:xfrm>
          <a:prstGeom prst="rect">
            <a:avLst/>
          </a:prstGeom>
          <a:ln w="9525">
            <a:noFill/>
          </a:ln>
        </p:spPr>
      </p:pic>
      <p:pic>
        <p:nvPicPr>
          <p:cNvPr id="283" name="Picture 34" descr="Рис. 1-c"/>
          <p:cNvPicPr/>
          <p:nvPr/>
        </p:nvPicPr>
        <p:blipFill>
          <a:blip r:embed="rId3"/>
          <a:stretch/>
        </p:blipFill>
        <p:spPr>
          <a:xfrm>
            <a:off x="2220840" y="4056120"/>
            <a:ext cx="1875960" cy="1790280"/>
          </a:xfrm>
          <a:prstGeom prst="rect">
            <a:avLst/>
          </a:prstGeom>
          <a:ln w="9525">
            <a:noFill/>
          </a:ln>
        </p:spPr>
      </p:pic>
      <p:pic>
        <p:nvPicPr>
          <p:cNvPr id="284" name="Picture 36" descr="Рис. 1-d"/>
          <p:cNvPicPr/>
          <p:nvPr/>
        </p:nvPicPr>
        <p:blipFill>
          <a:blip r:embed="rId4"/>
          <a:stretch/>
        </p:blipFill>
        <p:spPr>
          <a:xfrm>
            <a:off x="5954760" y="4056120"/>
            <a:ext cx="1875960" cy="1790280"/>
          </a:xfrm>
          <a:prstGeom prst="rect">
            <a:avLst/>
          </a:prstGeom>
          <a:ln w="9525">
            <a:noFill/>
          </a:ln>
        </p:spPr>
      </p:pic>
      <p:sp>
        <p:nvSpPr>
          <p:cNvPr id="285" name="Rectangle 38"/>
          <p:cNvSpPr/>
          <p:nvPr/>
        </p:nvSpPr>
        <p:spPr>
          <a:xfrm>
            <a:off x="923040" y="5870880"/>
            <a:ext cx="13860360" cy="94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явление продукции БЛРС с помощью метода "двойных дисков"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трицательные результаты (БЛРС-): a -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E.coli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TEM-1), b -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E.cloacae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гиперпродукция AmpC)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ложительные результаты (БЛРС+): c -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K.pneumoniae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SHV-2); d -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K.pneumoniae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SHV-5)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означения дисков: AMC - амоксициллин/клавулановая кислота (20/10 мкг), CAZ - цефтазидим (30 мкг), CTX - цефотаксим (30 мкг), CPO - цефпиром (30 мкг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тод "двойных дисков"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Verdana"/>
              </a:rPr>
              <a:t>Учет и интерпретация результато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тод "двойных дисков"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42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асширение зоны подавления роста между одним или несколькими дисками с оксиимино-b-лактамами и диском, содержащим клавулановую кислоту, указывает на наличие БЛРС (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рис. 1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21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c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ru-RU" sz="21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d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езависимо от абсолютных значений диаметров зон подавления роста штаммы, продуцирующие БЛРС, рассматриваются как устойчивые ко всем 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пенициллинам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цефалоспоринам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(за исключением цефамицинов) и 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Verdana"/>
                <a:hlinkClick r:id="rId6"/>
              </a:rPr>
              <a:t>монобактамам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E-тес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1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Е-тесты, выпускаемые компанией AB BIODISK (Швеция), представляют собой пластиковые полоски, на внутренней (обращенной к агару) стороне которых нанесен антибиотик в заданном градиенте концентрации, а на внешней стороне – шкала соответствующих значений МПК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E-тес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51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Е-тесты, используемые для выявления БЛРС, содержат на противоположных концах полоски два убывающих по направлению к центру градиента концентрации: цефтазидима (диапазон МПК – 0,5–32 мг/л) и комбинации цефтазидима (диапазон МПК – 0,125–8 мг/л) с клавулановой кислотой, нанесенной в фиксированной концентрации (4 мг/л) вдоль градиента (</a:t>
            </a:r>
            <a:r>
              <a:rPr b="0" lang="ru-RU" sz="26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рис. 2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E-тес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ределение продукции БЛРС с помощью Е-тестов основано на количественном сравнении МПК цефтазидима и цефтазидима/клавулановой кислоты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Антибактериальные антибиотик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40651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 антимикробной актив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3600" spc="-1" strike="noStrike">
                <a:solidFill>
                  <a:schemeClr val="accent1"/>
                </a:solidFill>
                <a:latin typeface="Times New Roman"/>
              </a:rPr>
              <a:t>бактерицидные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(тетрациклин, хлорамфеникол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3600" spc="-1" strike="noStrike">
                <a:solidFill>
                  <a:schemeClr val="accent1"/>
                </a:solidFill>
                <a:latin typeface="Times New Roman"/>
              </a:rPr>
              <a:t>бактериостатические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(пенициллин), действуют только на растущую микробную клетку (молодую, активно делящуюся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 спектру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узкого (гр.- или гр.+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широкого (гр.- и гр.+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по механизму действ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рушающие синтез клеточной стенк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1800" spc="-1" strike="noStrike">
                <a:solidFill>
                  <a:schemeClr val="accent1"/>
                </a:solidFill>
                <a:latin typeface="Verdana"/>
              </a:rPr>
              <a:t>пенициллины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lang="ru-RU" sz="1800" spc="-1" strike="noStrike">
                <a:solidFill>
                  <a:schemeClr val="accent1"/>
                </a:solidFill>
                <a:latin typeface="Verdana"/>
              </a:rPr>
              <a:t>цефалоспорин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ы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рушающие синтез белка на уровне транскрипции(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рушающие синтез белка на уровне рибосом(</a:t>
            </a:r>
            <a:r>
              <a:rPr b="0" lang="ru-RU" sz="2000" spc="-1" strike="noStrike">
                <a:solidFill>
                  <a:schemeClr val="accent1"/>
                </a:solidFill>
                <a:latin typeface="Verdana"/>
              </a:rPr>
              <a:t>стрептомицины</a:t>
            </a:r>
            <a:r>
              <a:rPr b="0" lang="en-US" sz="2000" spc="-1" strike="noStrike">
                <a:solidFill>
                  <a:schemeClr val="accent1"/>
                </a:solidFill>
                <a:latin typeface="Verdana"/>
              </a:rPr>
              <a:t>/ </a:t>
            </a:r>
            <a:r>
              <a:rPr b="0" lang="ru-RU" sz="1800" spc="-1" strike="noStrike">
                <a:solidFill>
                  <a:schemeClr val="accent1"/>
                </a:solidFill>
                <a:latin typeface="Verdana"/>
              </a:rPr>
              <a:t>макролиды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рушающие репликацию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нк(</a:t>
            </a:r>
            <a:r>
              <a:rPr b="0" lang="ru-RU" sz="2000" spc="-1" strike="noStrike">
                <a:solidFill>
                  <a:schemeClr val="accent1"/>
                </a:solidFill>
                <a:latin typeface="Verdana"/>
              </a:rPr>
              <a:t>ХИНОЛОН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ействующие на ЦПМ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750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хема клеточных мишений для антибиотик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3" descr="1"/>
          <p:cNvPicPr/>
          <p:nvPr/>
        </p:nvPicPr>
        <p:blipFill>
          <a:blip r:embed="rId1"/>
          <a:stretch/>
        </p:blipFill>
        <p:spPr>
          <a:xfrm>
            <a:off x="179280" y="1052640"/>
            <a:ext cx="8964360" cy="5805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по химической структур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2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β-лактамы (пенициллин, оксациллин, ампициллин, цефалотин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енициллины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карбапенемы (имипинем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цефалоспорины (цефепим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монобактамы (азтреонам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бактерицидны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ишень – пенициллинсвязанные белки (ПСБ), являющиеся ферментом для синтеза пептидогликана, т.к. формируют поперечные связ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СБ и ПГ отсутствуют у человека, поэтому нетоксичны для челове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по химической структур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Аминогликозиды (стрептомицины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2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покол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2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I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кол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2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покол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06666"/>
              </a:buClr>
              <a:buSzPct val="65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бактерицидны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06666"/>
              </a:buClr>
              <a:buSzPct val="65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арушают синтез белка на уровне рибосом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Затмение">
  <a:themeElements>
    <a:clrScheme name="Затмение 1">
      <a:dk1>
        <a:srgbClr val="000000"/>
      </a:dk1>
      <a:lt1>
        <a:srgbClr val="ffffff"/>
      </a:lt1>
      <a:dk2>
        <a:srgbClr val="006666"/>
      </a:dk2>
      <a:lt2>
        <a:srgbClr val="5f5f5f"/>
      </a:lt2>
      <a:accent1>
        <a:srgbClr val="33cccc"/>
      </a:accent1>
      <a:accent2>
        <a:srgbClr val="99cccc"/>
      </a:accent2>
      <a:accent3>
        <a:srgbClr val="ffffff"/>
      </a:accent3>
      <a:accent4>
        <a:srgbClr val="000000"/>
      </a:accent4>
      <a:accent5>
        <a:srgbClr val="ade2e2"/>
      </a:accent5>
      <a:accent6>
        <a:srgbClr val="8ab9b9"/>
      </a:accent6>
      <a:hlink>
        <a:srgbClr val="006666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Затмение">
  <a:themeElements>
    <a:clrScheme name="Затмение 1">
      <a:dk1>
        <a:srgbClr val="000000"/>
      </a:dk1>
      <a:lt1>
        <a:srgbClr val="ffffff"/>
      </a:lt1>
      <a:dk2>
        <a:srgbClr val="006666"/>
      </a:dk2>
      <a:lt2>
        <a:srgbClr val="5f5f5f"/>
      </a:lt2>
      <a:accent1>
        <a:srgbClr val="33cccc"/>
      </a:accent1>
      <a:accent2>
        <a:srgbClr val="99cccc"/>
      </a:accent2>
      <a:accent3>
        <a:srgbClr val="ffffff"/>
      </a:accent3>
      <a:accent4>
        <a:srgbClr val="000000"/>
      </a:accent4>
      <a:accent5>
        <a:srgbClr val="ade2e2"/>
      </a:accent5>
      <a:accent6>
        <a:srgbClr val="8ab9b9"/>
      </a:accent6>
      <a:hlink>
        <a:srgbClr val="006666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Затмение">
  <a:themeElements>
    <a:clrScheme name="Затмение 1">
      <a:dk1>
        <a:srgbClr val="000000"/>
      </a:dk1>
      <a:lt1>
        <a:srgbClr val="ffffff"/>
      </a:lt1>
      <a:dk2>
        <a:srgbClr val="006666"/>
      </a:dk2>
      <a:lt2>
        <a:srgbClr val="5f5f5f"/>
      </a:lt2>
      <a:accent1>
        <a:srgbClr val="33cccc"/>
      </a:accent1>
      <a:accent2>
        <a:srgbClr val="99cccc"/>
      </a:accent2>
      <a:accent3>
        <a:srgbClr val="ffffff"/>
      </a:accent3>
      <a:accent4>
        <a:srgbClr val="000000"/>
      </a:accent4>
      <a:accent5>
        <a:srgbClr val="ade2e2"/>
      </a:accent5>
      <a:accent6>
        <a:srgbClr val="8ab9b9"/>
      </a:accent6>
      <a:hlink>
        <a:srgbClr val="006666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Затмение">
  <a:themeElements>
    <a:clrScheme name="Затмение 1">
      <a:dk1>
        <a:srgbClr val="000000"/>
      </a:dk1>
      <a:lt1>
        <a:srgbClr val="ffffff"/>
      </a:lt1>
      <a:dk2>
        <a:srgbClr val="006666"/>
      </a:dk2>
      <a:lt2>
        <a:srgbClr val="5f5f5f"/>
      </a:lt2>
      <a:accent1>
        <a:srgbClr val="33cccc"/>
      </a:accent1>
      <a:accent2>
        <a:srgbClr val="99cccc"/>
      </a:accent2>
      <a:accent3>
        <a:srgbClr val="ffffff"/>
      </a:accent3>
      <a:accent4>
        <a:srgbClr val="000000"/>
      </a:accent4>
      <a:accent5>
        <a:srgbClr val="ade2e2"/>
      </a:accent5>
      <a:accent6>
        <a:srgbClr val="8ab9b9"/>
      </a:accent6>
      <a:hlink>
        <a:srgbClr val="006666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clipse</Template>
  <TotalTime>255</TotalTime>
  <Application>LibreOffice/7.4.7.2$Linux_X86_64 LibreOffice_project/40$Build-2</Application>
  <AppVersion>15.0000</AppVersion>
  <Words>1281</Words>
  <Paragraphs>225</Paragraphs>
  <Company>ИЦ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05:55:23Z</dcterms:created>
  <dc:creator>Мавзютов</dc:creator>
  <dc:description/>
  <dc:language>en-US</dc:language>
  <cp:lastModifiedBy>Дом</cp:lastModifiedBy>
  <cp:lastPrinted>1601-01-01T00:00:00Z</cp:lastPrinted>
  <dcterms:modified xsi:type="dcterms:W3CDTF">2015-10-22T08:20:09Z</dcterms:modified>
  <cp:revision>7</cp:revision>
  <dc:subject/>
  <dc:title>АНТИМИКРОБНЫЕ ПРЕПАРА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8</vt:r8>
  </property>
  <property fmtid="{D5CDD505-2E9C-101B-9397-08002B2CF9AE}" pid="4" name="Version">
    <vt:r8>5</vt:r8>
  </property>
</Properties>
</file>