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57E-882C-45E7-9E17-1357012E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F52-D411-430D-871C-72CB1A71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DE9-EF58-43AF-A41D-609C26BB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7EB-FB20-468B-BEBB-19586C64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874E-93D5-499E-84AA-00844B53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098F-132D-45C2-8D1D-356658C4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F4AA-8AF0-463A-96EF-DAE06F40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AC94-9C42-4484-8E56-CC7598E8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2346-2C8F-48A4-838B-B277B3FB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6CC7-F9EF-467F-B7A2-E8E19CB6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AED6-DCDC-4151-B350-16CA44B7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110-A9E7-458B-A2D3-6D476218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B3E3-F0F2-4801-BC2C-E5A4FFB4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C94C-FCF2-4EA3-AA8C-C065691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83FE-EE43-498D-AA5E-42C49B27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F96B-9FC0-4730-894F-4A6E320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9677-C8E1-4674-A1CE-FC421E0E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6533B-1DF8-47A7-A42C-0342B110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02BEF-B30A-4829-8B2A-A08A2030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3451-3480-49F8-BB8D-6225BF91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05A6-3AEE-4490-AD9A-910FF70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8A22-C9D9-406C-BA61-305B834E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AB26-85E3-4FA6-9E3B-5C34E349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45D2-4D25-4ED1-B2FC-2EBBF420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4DA89-3499-462B-86A5-8DC2D430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673F0-7C20-4BAF-96B7-35E360FA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120F4-FE3A-4547-A676-EFC61D06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095C-BE83-4937-8AA8-6D1A9998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D90C-BCF9-4656-AE72-64DCD874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EE08-758B-4AAE-A4AC-5A6E9E50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1177E-24A0-43DF-8E66-67452083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BAC04-A796-4F3D-B90C-C57A21B8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97D4-3891-46F9-8F80-162F60FB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DFFD-5C1D-4170-AEAF-D2B3EE0C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05F29-9D8D-4925-A9A2-D563CFE3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4DBEE-32B7-4E3C-BA37-FE884E7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9DCC8-00C5-42AB-92F3-EB293412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E141-6F69-442E-AAB9-070C186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2039-626D-4F65-8754-03C2CB5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09E9-DD0B-4D20-B34D-B287BAE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29522-416C-4495-BB95-EEE0E086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D254-CF63-460C-8D7A-2DE5EE66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4300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15840" y="18273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37016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4300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15840" y="3976560"/>
            <a:ext cx="23547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1666A-3A22-4AF7-883A-4DD2B4B1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4A5-4AF6-4E48-AF59-10013B8B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70160" y="301680"/>
            <a:ext cx="73134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9DEE-466B-465B-9187-75DCC2B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2D6-1506-4D03-B7A5-68D0643D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7760" y="39765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C00-5280-4C99-BFBC-C4D24A24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760" y="1827360"/>
            <a:ext cx="356868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0160" y="3976560"/>
            <a:ext cx="73134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0DDF-72AB-4298-82DA-3D2D3E0D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" name="Group 2"/>
          <p:cNvGrpSpPr/>
          <p:nvPr/>
        </p:nvGrpSpPr>
        <p:grpSpPr>
          <a:xfrm>
            <a:off x="-3222720" y="304920"/>
            <a:ext cx="11909520" cy="4723920"/>
            <a:chOff x="-3222720" y="304920"/>
            <a:chExt cx="11909520" cy="4723920"/>
          </a:xfrm>
        </p:grpSpPr>
        <p:sp>
          <p:nvSpPr>
            <p:cNvPr id="5" name="Line 3"/>
            <p:cNvSpPr/>
            <p:nvPr/>
          </p:nvSpPr>
          <p:spPr>
            <a:xfrm>
              <a:off x="1447560" y="2514600"/>
              <a:ext cx="723924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AutoShape 4"/>
            <p:cNvSpPr/>
            <p:nvPr/>
          </p:nvSpPr>
          <p:spPr>
            <a:xfrm>
              <a:off x="-2514600" y="1371600"/>
              <a:ext cx="3657240" cy="36572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utoShape 5"/>
            <p:cNvSpPr/>
            <p:nvPr/>
          </p:nvSpPr>
          <p:spPr>
            <a:xfrm>
              <a:off x="-3222720" y="304920"/>
              <a:ext cx="4038120" cy="40381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16A96C-DEB3-40EE-B9B8-4331B9D75D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50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31086B-5B1E-4587-A6F4-FDF4CC7485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95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65EFC3-3D6D-42D7-84AE-8B036B6C95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-3238560" y="0"/>
            <a:ext cx="11925360" cy="3809520"/>
            <a:chOff x="-3238560" y="0"/>
            <a:chExt cx="11925360" cy="3809520"/>
          </a:xfrm>
        </p:grpSpPr>
        <p:sp>
          <p:nvSpPr>
            <p:cNvPr id="141" name="AutoShape 3"/>
            <p:cNvSpPr/>
            <p:nvPr/>
          </p:nvSpPr>
          <p:spPr>
            <a:xfrm>
              <a:off x="-3238560" y="685800"/>
              <a:ext cx="4114440" cy="31237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-2425680" y="0"/>
              <a:ext cx="3093840" cy="31539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chemeClr val="hlink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1371600" y="1523880"/>
              <a:ext cx="7315200" cy="360"/>
            </a:xfrm>
            <a:prstGeom prst="line">
              <a:avLst/>
            </a:prstGeom>
            <a:ln w="127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357948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body"/>
          </p:nvPr>
        </p:nvSpPr>
        <p:spPr>
          <a:xfrm>
            <a:off x="5102280" y="1827360"/>
            <a:ext cx="35809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1370160" y="3960720"/>
            <a:ext cx="357948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body"/>
          </p:nvPr>
        </p:nvSpPr>
        <p:spPr>
          <a:xfrm>
            <a:off x="5102280" y="3960720"/>
            <a:ext cx="3580920" cy="1980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бразец текст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торой уровен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етий уров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Четвер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380"/>
              </a:spcBef>
              <a:buClr>
                <a:srgbClr val="006666"/>
              </a:buClr>
              <a:buSzPct val="6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ятый уровен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dt" idx="10"/>
          </p:nvPr>
        </p:nvSpPr>
        <p:spPr>
          <a:xfrm>
            <a:off x="45720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8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24DF6E-7447-48E3-930F-8DAD4905786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023-29.shtml" TargetMode="External"/><Relationship Id="rId3" Type="http://schemas.openxmlformats.org/officeDocument/2006/relationships/hyperlink" Target="http://www.antibiotic.ru/ab/microbiol_termins.shtml" TargetMode="External"/><Relationship Id="rId4" Type="http://schemas.openxmlformats.org/officeDocument/2006/relationships/hyperlink" Target="http://www.antibiotic.ru/ab/042-47.shtml" TargetMode="External"/><Relationship Id="rId5" Type="http://schemas.openxmlformats.org/officeDocument/2006/relationships/hyperlink" Target="http://www.antibiotic.ru/ab/047-49.shtml" TargetMode="External"/><Relationship Id="rId6" Type="http://schemas.openxmlformats.org/officeDocument/2006/relationships/hyperlink" Target="http://www.antibiotic.ru/ab/056-60.shtml" TargetMode="External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hyperlink" Target="http://www.antibiotic.ru/ab/047-49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13-22.shtml" TargetMode="External"/><Relationship Id="rId6" Type="http://schemas.openxmlformats.org/officeDocument/2006/relationships/hyperlink" Target="http://www.antibiotic.ru/ab/047-49.shtml" TargetMode="External"/><Relationship Id="rId7" Type="http://schemas.openxmlformats.org/officeDocument/2006/relationships/hyperlink" Target="http://www.antibiotic.ru/ab/056-60.shtml" TargetMode="External"/><Relationship Id="rId8" Type="http://schemas.openxmlformats.org/officeDocument/2006/relationships/hyperlink" Target="http://www.antibiotic.ru/ab/082-83.shtml" TargetMode="External"/><Relationship Id="rId9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ntibiotic.ru/ab/013-22.shtml" TargetMode="External"/><Relationship Id="rId2" Type="http://schemas.openxmlformats.org/officeDocument/2006/relationships/hyperlink" Target="http://www.antibiotic.ru/ab/056-60.shtml" TargetMode="External"/><Relationship Id="rId3" Type="http://schemas.openxmlformats.org/officeDocument/2006/relationships/hyperlink" Target="http://www.antibiotic.ru/ab/082-83.shtml" TargetMode="External"/><Relationship Id="rId4" Type="http://schemas.openxmlformats.org/officeDocument/2006/relationships/hyperlink" Target="http://www.antibiotic.ru/ab/023-29.shtml" TargetMode="External"/><Relationship Id="rId5" Type="http://schemas.openxmlformats.org/officeDocument/2006/relationships/hyperlink" Target="http://www.antibiotic.ru/ab/038-42.shtml" TargetMode="External"/><Relationship Id="rId6" Type="http://schemas.openxmlformats.org/officeDocument/2006/relationships/hyperlink" Target="http://www.antibiotic.ru/ab/106-109.shtml" TargetMode="External"/><Relationship Id="rId7" Type="http://schemas.openxmlformats.org/officeDocument/2006/relationships/hyperlink" Target="http://www.antibiotic.ru/ab/013-22.shtml" TargetMode="External"/><Relationship Id="rId8" Type="http://schemas.openxmlformats.org/officeDocument/2006/relationships/hyperlink" Target="http://www.antibiotic.ru/ab/056-60.shtml" TargetMode="External"/><Relationship Id="rId9" Type="http://schemas.openxmlformats.org/officeDocument/2006/relationships/hyperlink" Target="http://www.antibiotic.ru/ab/033-37.shtml" TargetMode="External"/><Relationship Id="rId10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microbiol_termins.shtml" TargetMode="External"/><Relationship Id="rId3" Type="http://schemas.openxmlformats.org/officeDocument/2006/relationships/hyperlink" Target="http://www.antibiotic.ru/ab/023-29.shtml" TargetMode="External"/><Relationship Id="rId4" Type="http://schemas.openxmlformats.org/officeDocument/2006/relationships/hyperlink" Target="http://www.antibiotic.ru/ab/033-37.shtml" TargetMode="External"/><Relationship Id="rId5" Type="http://schemas.openxmlformats.org/officeDocument/2006/relationships/hyperlink" Target="http://www.antibiotic.ru/ab/033-37.shtml" TargetMode="External"/><Relationship Id="rId6" Type="http://schemas.openxmlformats.org/officeDocument/2006/relationships/hyperlink" Target="http://www.antibiotic.ru/ab/038-42.shtml" TargetMode="External"/><Relationship Id="rId7" Type="http://schemas.openxmlformats.org/officeDocument/2006/relationships/hyperlink" Target="http://www.antibiotic.ru/ab/033-37.shtml" TargetMode="External"/><Relationship Id="rId8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023-29.shtml" TargetMode="External"/><Relationship Id="rId3" Type="http://schemas.openxmlformats.org/officeDocument/2006/relationships/hyperlink" Target="http://www.antibiotic.ru/ab/033-37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30-32.shtml" TargetMode="External"/><Relationship Id="rId6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antibiotic.ru/ab/143-146.shtml" TargetMode="External"/><Relationship Id="rId2" Type="http://schemas.openxmlformats.org/officeDocument/2006/relationships/hyperlink" Target="http://www.antibiotic.ru/ab/013-22.shtml" TargetMode="External"/><Relationship Id="rId3" Type="http://schemas.openxmlformats.org/officeDocument/2006/relationships/hyperlink" Target="http://www.antibiotic.ru/ab/033-37.shtml" TargetMode="External"/><Relationship Id="rId4" Type="http://schemas.openxmlformats.org/officeDocument/2006/relationships/hyperlink" Target="http://www.antibiotic.ru/ab/038-42.shtml" TargetMode="External"/><Relationship Id="rId5" Type="http://schemas.openxmlformats.org/officeDocument/2006/relationships/hyperlink" Target="http://www.antibiotic.ru/ab/052-54.shtml" TargetMode="External"/><Relationship Id="rId6" Type="http://schemas.openxmlformats.org/officeDocument/2006/relationships/hyperlink" Target="http://www.antibiotic.ru/ab/microbiol_termins.shtml" TargetMode="External"/><Relationship Id="rId7" Type="http://schemas.openxmlformats.org/officeDocument/2006/relationships/hyperlink" Target="http://www.antibiotic.ru/ab/042-47.shtml" TargetMode="External"/><Relationship Id="rId8" Type="http://schemas.openxmlformats.org/officeDocument/2006/relationships/hyperlink" Target="http://www.antibiotic.ru/ab/033-37.shtml" TargetMode="External"/><Relationship Id="rId9" Type="http://schemas.openxmlformats.org/officeDocument/2006/relationships/hyperlink" Target="http://www.antibiotic.ru/ab/047-49.shtml" TargetMode="External"/><Relationship Id="rId10" Type="http://schemas.openxmlformats.org/officeDocument/2006/relationships/hyperlink" Target="http://www.antibiotic.ru/ab/056-60.shtml" TargetMode="External"/><Relationship Id="rId11" Type="http://schemas.openxmlformats.org/officeDocument/2006/relationships/hyperlink" Target="http://www.antibiotic.ru/ab/038-42.shtml" TargetMode="External"/><Relationship Id="rId1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tibiotic.ru/ab/023-29.shtml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hyperlink" Target="http://www.antibiotic.ru/cmac/2001_3_2/" TargetMode="External"/><Relationship Id="rId3" Type="http://schemas.openxmlformats.org/officeDocument/2006/relationships/hyperlink" Target="http://www.antibiotic.ru/cmac/2001_3_2/" TargetMode="External"/><Relationship Id="rId4" Type="http://schemas.openxmlformats.org/officeDocument/2006/relationships/hyperlink" Target="http://www.antibiotic.ru/ab/013-22.shtml" TargetMode="External"/><Relationship Id="rId5" Type="http://schemas.openxmlformats.org/officeDocument/2006/relationships/hyperlink" Target="http://www.antibiotic.ru/ab/023-29.shtml" TargetMode="External"/><Relationship Id="rId6" Type="http://schemas.openxmlformats.org/officeDocument/2006/relationships/hyperlink" Target="http://www.antibiotic.ru/ab/032-33.shtml" TargetMode="External"/><Relationship Id="rId7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antibiotic.ru/cmac/2001_3_2/" TargetMode="External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880" y="985680"/>
            <a:ext cx="7238520" cy="1444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НТИМИКРОБНЫЕ ПРЕПАРАТЫ И АНТИМИКРОБНАЯ РЕЗИСТЕН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4" descr="1"/>
          <p:cNvPicPr/>
          <p:nvPr/>
        </p:nvPicPr>
        <p:blipFill>
          <a:blip r:embed="rId1"/>
          <a:stretch/>
        </p:blipFill>
        <p:spPr>
          <a:xfrm>
            <a:off x="324000" y="2565360"/>
            <a:ext cx="8819640" cy="4292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кролиды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4-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5-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6 членные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риродные (эритромицин, спирамицин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лусинтетические (кларитромицин, азитромицин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0"/>
              </a:spcBef>
              <a:buNone/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Хинолоны (ингибиторы РНК-гиразы, которая отвечает за суперспирализацию ДНК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поколение (нефторированные) налидиксовая кислот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 (фторхинолоны) ципрофлоксацин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ушают синтез белка рибосомам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нарушает биосинтез ДНК (репликацию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инолоны (ингибиторы РНК-гиразы, которая отвечает за суперспирализацию ДНК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поколение (нефторированные) налидиксовая кислот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(фторхинолоны) ципрофлоксацин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рушает биосинтез ДНК (репликацию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80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етрациклин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т синтез бел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енкосами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т синтез белка рибосома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ликопептид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синтез клеточной ст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лимикси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действуют на ЦП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итроимидазол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й эффек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репликацию ДН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рушают синтез бел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нгибируют тканевое дыха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ульфанилами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стат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налог ПАБ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нкурентно ингибирует фермент, отвечающий за синтез дигидрофолиевой кислоты (предшественницы фолиевой кислоты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итрофура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кцепторы О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рушают клеточное дыха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нгибируют биосинтез нуклеиновых кисло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ифампиц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локируют трансляцию на этапе ДНК → мРНК, ингибируя ДНК-зависимую РНК-полимеразу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лорамфеникол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блокируют синтез белка за счет невозможности присоединения к большой субъединице рибосом тРНК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рептограм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ишень – рибосом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дходы в назначении антибиотик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мпирически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Этиотропны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 всех случаях, когда выделяется микроб, этиологическая роль которого очевидна или вероят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 проводитс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отношении условно-патогенных м/о при выделении из мест их естественного обита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случаях отсутствия стандартных методов исследования и критерий оценки чувствительност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гда чувствительность нельзя предположить на основании результатов идентификации, например, чувствительность стрептококка группы А к бензилпенициллину 100%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тиотропный подх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ношении всех м/о, выделенных из стерильных в норме жидкостей, ткан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 отношении м/о, для которых известна высокая частота формирования приобретенной устойчивост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лассификация по происхожде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ные (пенициллин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нтетические (химические производные природных а/б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1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синтетические (получены путем модификации природных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ДМ не используетс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для роста &gt; 48 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микроб – облигатный анаэроб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ультура не образует равномерного газона на плотной сред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для роста требуются среды не соответствующие применяемым для оценки а/б чувствитель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если зона подавления роста не соответствует истинной чувствитель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езистентность микроорганиз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родна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иобретенна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тинная природная устойчив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характеризуется отсутствием у микроорганизмов мишени действия антибиотика или недоступности мишени вследствие первично низкой проницаемости или ферментативной инактивац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 наличии у бактерий природной устойчивости антибиотики клинически неэффектив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риродная резистентность является постоянным видовым признаком микроорганизмов и легко прогнозируется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обретенная устойчив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войство отдельных штаммов бактерий сохранять жизнеспособность при тех концентрациях антибиотиков, которые подавляют основную часть микробной популяци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озможны ситуации, когда большая часть микробной популяции проявляет приобретенную устойчивость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явление у бактерий приобретенной резистентности не обязательно сопровождается снижением клинической эффективности антибиотик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8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ормирование резистентности во всех случаях обусловлено генетически: приобретением новой генетической информации или изменением уровня экспрессии собственных генов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ханизмы устойчивости бактерий к антибиотикам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Модификация мишени действи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Инактивация антибиотик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ктивное выведение антибиотика из микробной клетки (эффлюкс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рушение проницаемости внешних структур микробной клетк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AutoNum type="arabicPeriod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Формирование метаболического "шунта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3280" y="40464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Методы оценки а/б чувстви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иско-диффузионы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(качественный/полуколичественны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ерийных разведений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(количественный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Рис. 1-а"/>
          <p:cNvPicPr/>
          <p:nvPr/>
        </p:nvPicPr>
        <p:blipFill>
          <a:blip r:embed="rId1"/>
          <a:stretch/>
        </p:blipFill>
        <p:spPr>
          <a:xfrm>
            <a:off x="4427640" y="3141720"/>
            <a:ext cx="360000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втодиспенсер для нанесения дис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1"/>
          <p:cNvPicPr/>
          <p:nvPr/>
        </p:nvPicPr>
        <p:blipFill>
          <a:blip r:embed="rId1"/>
          <a:stretch/>
        </p:blipFill>
        <p:spPr>
          <a:xfrm>
            <a:off x="0" y="1484280"/>
            <a:ext cx="8819640" cy="518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0" y="189000"/>
            <a:ext cx="9143640" cy="666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74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14840" cy="561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актериологический метод на этапе изучения чисой культуры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 Применен диффузный способ определения чувствительности к дискам с антибиотикам на плотной среде АГ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Этап исследования определяется по размерам зоны задержки роста культуры или ее отсутстви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4. Для подтверждения диагноза необходимо- определить  минимальную подавляющую концентрацию  препаратов (МПК), определить чувствительность к лекарственным препаратам с помощью ПЦР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. Основные формы и механизмы резистентности: модификационная и генетические формы; механизмы связаны с изменчивостью бактерий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190440"/>
            <a:ext cx="9407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тибиотикограмма, способ дисков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ИСКО-ДИФФУЗНЫЙ МЕТО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1"/>
          <p:cNvPicPr/>
          <p:nvPr/>
        </p:nvPicPr>
        <p:blipFill>
          <a:blip r:embed="rId1"/>
          <a:stretch/>
        </p:blipFill>
        <p:spPr>
          <a:xfrm>
            <a:off x="250920" y="1484280"/>
            <a:ext cx="8892720" cy="537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родные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лученные из бактерий и актиномице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грибов(пенициллин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растительных клеток(чеснок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з животных клето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81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taphylococcu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риродным и полусинтетическим 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.pneumoni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различного уровня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ен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(часть штаммов устойчива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цефалоспоринам III поколе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), связанная с модифика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ПСБ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; высокая частота ассоциированной устойчивости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макролид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ко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H.influenz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M.catarrhali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олусинтетическим 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N.gonorrhoeae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пеницил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связанная с продукцией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b-лактамаз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higell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тетрацикл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хлорамфеник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внебольнич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almonell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 -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хлорамфеник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Появление устойчивости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цефалоспоринам III поколени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при внебольничных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инфекциях МВП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возможна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ампицилл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ко-тримоксазол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гентамицину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Enterobacteriaceae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- продукция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БЛРС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(чаще всего среди </a:t>
            </a: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Klebsiella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), обуславливающая клиническую неэффективность всех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цефалоспоринов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очень высокая частота ассоциированной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гентами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тобрами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; в некоторых учреждениях тенденция к росту ассоциированной резистентн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амикацин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8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Pseudomonas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Acinetobacter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spp., </a:t>
            </a:r>
            <a:r>
              <a:rPr b="0" i="1" lang="ru-RU" sz="2900" spc="-1" strike="noStrike">
                <a:solidFill>
                  <a:srgbClr val="000000"/>
                </a:solidFill>
                <a:latin typeface="Verdana"/>
              </a:rPr>
              <a:t>S.maltophilia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- ассоциированная устойчивость к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цефалоспори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аминогликозид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, иногда </a:t>
            </a:r>
            <a:r>
              <a:rPr b="0" lang="ru-RU" sz="29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карбапенемам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озбудители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нозокомиальных инфекц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Enterococcus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 - ассоциация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пеницилли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высокого уровня устойчивости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аминогликоз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гликопепт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500" spc="-1" strike="noStrike">
                <a:solidFill>
                  <a:srgbClr val="000000"/>
                </a:solidFill>
                <a:latin typeface="Verdana"/>
              </a:rPr>
              <a:t>Staphylococcus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spp.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метициллинорезистентные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 - ассоциированная устойчивость к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макрол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аминогликозид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тетрацикли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ко-тримоксазолу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фторхинолонам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spcBef>
                <a:spcPts val="420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1" i="1" lang="ru-RU" sz="2100" spc="-1" strike="noStrike">
                <a:solidFill>
                  <a:srgbClr val="000000"/>
                </a:solidFill>
                <a:latin typeface="Verdana"/>
              </a:rPr>
              <a:t>Принцип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тод "двойных дисков" представляет собой вариант классического дискодиффузионного метода определения чувствительности, который позволяет обнаружить продукцию БЛРС по наличию расширенной зоны подавления роста вокруг диска с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цефалоспорином II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 напротив диска, содержащего клавулановую кислоту (синергизм отмечается в участке пересечения зон диффузии двух дисков, расположенных на небольшом расстоянии друг от друга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Материал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 Стерильный физиологический раствор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Стерильные пробирки, пипетки, чашки Петр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Стандарт мутности 0,5 по МакФарланду (эквивалент 1,5 x 108 КОЕ/мл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Агар Мюллера–Хинтона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ссифик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Verdana"/>
              </a:rPr>
              <a:t>по направленности действи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нтибактериаль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грибков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вирус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протозойн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отивоопухолевы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. Диски с антибиотиками: азтреонам (30 мкг), цефотаксим (30 мкг), цефтазидим (30 мкг), цефтриаксон (30 мкг), цефепим (30 мкг), цефпиром (30 мкг), амоксициллин/клавуланат (20/10 мкг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6. Термоста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7. Контрольные штаммы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ATCC® 25922 – отрицательный контроль (БЛРС–);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ATCC® 700603 – положительный контроль (БЛРС+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3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8. Суточные культуры исследуемых микроорганизм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Verdana"/>
              </a:rPr>
              <a:t>Постановка тест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приготовления инокулюма используют чистую суточную культуру исследуемого микроорганизма, выращенную на агаризованной среде. Несколько колоний стерильным тампоном или петлей переносят в пробирку с 3 мл стерильного физиологического раствора. Взвесь бактериальных клеток доводят до мутности 0,5 по МакФарланду и наносят стерильным ватным тампоном на поверхность агара Мюллера–Хинтона в трех различных направления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Через 5–10 мин после инокулирования на подсохшую поверхность агара накладывают диски с антибиотиками: в центр – диск, содержащий клавулановую кислоту, обычно в виде комбинации амоксициллин/клавуланат (20/10 мкг), по бокам от него на расстоянии 20 и 30 мм между центрами дисков – диски с цефтазидимом (30 мкг) и цефотаксимом (30 мкг)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пользование двух дисков каждого антибиотика, расположенных на разном расстоянии от диска с клавулановой кислотой, позволяет повысить эффективность обнаружения БЛРС (</a:t>
            </a:r>
            <a:r>
              <a:rPr b="0" lang="ru-RU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1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Чашки инкубируют в термостате при температуре 35oС в течение 18–20 ч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раллельно с анализом испытуемых культур исследуют контрольные штамм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30" descr="Рис. 1-а"/>
          <p:cNvPicPr/>
          <p:nvPr/>
        </p:nvPicPr>
        <p:blipFill>
          <a:blip r:embed="rId1"/>
          <a:stretch/>
        </p:blipFill>
        <p:spPr>
          <a:xfrm>
            <a:off x="2220840" y="1893960"/>
            <a:ext cx="1875960" cy="1847520"/>
          </a:xfrm>
          <a:prstGeom prst="rect">
            <a:avLst/>
          </a:prstGeom>
          <a:ln w="9525">
            <a:noFill/>
          </a:ln>
        </p:spPr>
      </p:pic>
      <p:pic>
        <p:nvPicPr>
          <p:cNvPr id="282" name="Picture 32" descr="Рис. 1-b"/>
          <p:cNvPicPr/>
          <p:nvPr/>
        </p:nvPicPr>
        <p:blipFill>
          <a:blip r:embed="rId2"/>
          <a:stretch/>
        </p:blipFill>
        <p:spPr>
          <a:xfrm>
            <a:off x="5954760" y="1893960"/>
            <a:ext cx="1875960" cy="1847520"/>
          </a:xfrm>
          <a:prstGeom prst="rect">
            <a:avLst/>
          </a:prstGeom>
          <a:ln w="9525">
            <a:noFill/>
          </a:ln>
        </p:spPr>
      </p:pic>
      <p:pic>
        <p:nvPicPr>
          <p:cNvPr id="283" name="Picture 34" descr="Рис. 1-c"/>
          <p:cNvPicPr/>
          <p:nvPr/>
        </p:nvPicPr>
        <p:blipFill>
          <a:blip r:embed="rId3"/>
          <a:stretch/>
        </p:blipFill>
        <p:spPr>
          <a:xfrm>
            <a:off x="2220840" y="4056120"/>
            <a:ext cx="1875960" cy="1790280"/>
          </a:xfrm>
          <a:prstGeom prst="rect">
            <a:avLst/>
          </a:prstGeom>
          <a:ln w="9525">
            <a:noFill/>
          </a:ln>
        </p:spPr>
      </p:pic>
      <p:pic>
        <p:nvPicPr>
          <p:cNvPr id="284" name="Picture 36" descr="Рис. 1-d"/>
          <p:cNvPicPr/>
          <p:nvPr/>
        </p:nvPicPr>
        <p:blipFill>
          <a:blip r:embed="rId4"/>
          <a:stretch/>
        </p:blipFill>
        <p:spPr>
          <a:xfrm>
            <a:off x="5954760" y="4056120"/>
            <a:ext cx="1875960" cy="1790280"/>
          </a:xfrm>
          <a:prstGeom prst="rect">
            <a:avLst/>
          </a:prstGeom>
          <a:ln w="9525">
            <a:noFill/>
          </a:ln>
        </p:spPr>
      </p:pic>
      <p:sp>
        <p:nvSpPr>
          <p:cNvPr id="285" name="Rectangle 38"/>
          <p:cNvSpPr/>
          <p:nvPr/>
        </p:nvSpPr>
        <p:spPr>
          <a:xfrm>
            <a:off x="923040" y="5870880"/>
            <a:ext cx="13860360" cy="941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ыявление продукции БЛРС с помощью метода "двойных дисков"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рицательные результаты (БЛРС-): a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E.col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TEM-1), b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E.cloac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гиперпродукция AmpC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ложительные результаты (БЛРС+): c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SHV-2); d - 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K.pneumonia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(SHV-5)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означения дисков: AMC - амоксициллин/клавулановая кислота (20/10 мкг), CAZ - цефтазидим (30 мкг), CTX - цефотаксим (30 мкг), CPO - цефпиром (30 мк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Verdana"/>
              </a:rPr>
              <a:t>Учет и интерпретация результат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"двойных дисков"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сширение зоны подавления роста между одним или несколькими дисками с оксиимино-b-лактамами и диском, содержащим клавулановую кислоту, указывает на наличие БЛРС (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1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c</a:t>
            </a:r>
            <a:r>
              <a:rPr b="0" i="1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езависимо от абсолютных значений диаметров зон подавления роста штаммы, продуцирующие БЛРС, рассматриваются как устойчивые ко всем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пенициллин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цефалоспорин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за исключением цефамицинов) и </a:t>
            </a:r>
            <a:r>
              <a:rPr b="0" lang="ru-RU" sz="21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монобактамам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-тесты, выпускаемые компанией AB BIODISK (Швеция), представляют собой пластиковые полоски, на внутренней (обращенной к агару) стороне которых нанесен антибиотик в заданном градиенте концентрации, а на внешней стороне – шкала соответствующих значений МПК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1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-тесты, используемые для выявления БЛРС, содержат на противоположных концах полоски два убывающих по направлению к центру градиента концентрации: цефтазидима (диапазон МПК – 0,5–32 мг/л) и комбинации цефтазидима (диапазон МПК – 0,125–8 мг/л) с клавулановой кислотой, нанесенной в фиксированной концентрации (4 мг/л) вдоль градиента (</a:t>
            </a:r>
            <a:r>
              <a:rPr b="0" lang="ru-RU" sz="26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рис. 2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E-тес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ределение продукции БЛРС с помощью Е-тестов основано на количественном сравнении МПК цефтазидима и цефтазидима/клавулановой кислоты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тибактериальные антибиотик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4065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антимикробной актив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600" spc="-1" strike="noStrike">
                <a:solidFill>
                  <a:schemeClr val="accent1"/>
                </a:solidFill>
                <a:latin typeface="Times New Roman"/>
              </a:rPr>
              <a:t>бактерицидны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тетрациклин, хлорамфеникол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3600" spc="-1" strike="noStrike">
                <a:solidFill>
                  <a:schemeClr val="accent1"/>
                </a:solidFill>
                <a:latin typeface="Times New Roman"/>
              </a:rPr>
              <a:t>бактериостатические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(пенициллин), действуют только на растущую микробную клетку (молодую, активно делящуюся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 спектр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узкого (гр.- или гр.+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широкого (гр.- и гр.+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механизму действ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клеточной стен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пенициллины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цефалоспорин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белка на уровне транскрипции(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синтез белка на уровне рибосом(</a:t>
            </a:r>
            <a:r>
              <a:rPr b="0" lang="ru-RU" sz="2000" spc="-1" strike="noStrike">
                <a:solidFill>
                  <a:schemeClr val="accent1"/>
                </a:solidFill>
                <a:latin typeface="Verdana"/>
              </a:rPr>
              <a:t>стрептомицины</a:t>
            </a:r>
            <a:r>
              <a:rPr b="0" lang="en-US" sz="2000" spc="-1" strike="noStrike">
                <a:solidFill>
                  <a:schemeClr val="accent1"/>
                </a:solidFill>
                <a:latin typeface="Verdana"/>
              </a:rPr>
              <a:t>/ </a:t>
            </a:r>
            <a:r>
              <a:rPr b="0" lang="ru-RU" sz="1800" spc="-1" strike="noStrike">
                <a:solidFill>
                  <a:schemeClr val="accent1"/>
                </a:solidFill>
                <a:latin typeface="Verdana"/>
              </a:rPr>
              <a:t>макролиды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рушающие репликацию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нк(</a:t>
            </a:r>
            <a:r>
              <a:rPr b="0" lang="ru-RU" sz="2000" spc="-1" strike="noStrike">
                <a:solidFill>
                  <a:schemeClr val="accent1"/>
                </a:solidFill>
                <a:latin typeface="Verdana"/>
              </a:rPr>
              <a:t>ХИНОЛОНЫ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ействующие на ЦП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750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хема клеточных мишений для антибиотик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3" descr="1"/>
          <p:cNvPicPr/>
          <p:nvPr/>
        </p:nvPicPr>
        <p:blipFill>
          <a:blip r:embed="rId1"/>
          <a:stretch/>
        </p:blipFill>
        <p:spPr>
          <a:xfrm>
            <a:off x="179280" y="1052640"/>
            <a:ext cx="8964360" cy="5805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420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β-лактамы (пенициллин, оксациллин, ампициллин, цефалотин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енициллины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арбапенемы (имипине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цефалоспорины (цефепи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8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онобактамы (азтреонам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бактерицид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шень – пенициллинсвязанные белки (ПСБ), являющиеся ферментом для синтеза пептидогликана, т.к. формируют поперечные связ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СБ и ПГ отсутствуют у человека, поэтому нетоксичны для челове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0160" y="301680"/>
            <a:ext cx="731340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006666"/>
                </a:solidFill>
                <a:uFillTx/>
                <a:latin typeface="Arial"/>
              </a:rPr>
              <a:t>по химической структур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миногликозиды (стрептомицины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0"/>
              </a:spcBef>
              <a:buClr>
                <a:srgbClr val="99cccc"/>
              </a:buClr>
              <a:buSzPct val="70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покол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370160" y="1827360"/>
            <a:ext cx="731340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бактерици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06666"/>
              </a:buClr>
              <a:buSzPct val="65000"/>
              <a:buFont typeface="Wingdings" charset="2"/>
              <a:buChar char=""/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рушают синтез белка на уровне рибосо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Затмение">
  <a:themeElements>
    <a:clrScheme name="Затмение 1">
      <a:dk1>
        <a:srgbClr val="000000"/>
      </a:dk1>
      <a:lt1>
        <a:srgbClr val="ffffff"/>
      </a:lt1>
      <a:dk2>
        <a:srgbClr val="006666"/>
      </a:dk2>
      <a:lt2>
        <a:srgbClr val="5f5f5f"/>
      </a:lt2>
      <a:accent1>
        <a:srgbClr val="33cccc"/>
      </a:accent1>
      <a:accent2>
        <a:srgbClr val="99cccc"/>
      </a:accent2>
      <a:accent3>
        <a:srgbClr val="ffffff"/>
      </a:accent3>
      <a:accent4>
        <a:srgbClr val="000000"/>
      </a:accent4>
      <a:accent5>
        <a:srgbClr val="ade2e2"/>
      </a:accent5>
      <a:accent6>
        <a:srgbClr val="8a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Eclipse</Template>
  <TotalTime>255</TotalTime>
  <Application>LibreOffice/7.4.7.2$Linux_X86_64 LibreOffice_project/40$Build-2</Application>
  <AppVersion>15.0000</AppVersion>
  <Words>1281</Words>
  <Paragraphs>225</Paragraphs>
  <Company>ИЦ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5:55:23Z</dcterms:created>
  <dc:creator>Мавзютов</dc:creator>
  <dc:description/>
  <dc:language>en-US</dc:language>
  <cp:lastModifiedBy>Дом</cp:lastModifiedBy>
  <cp:lastPrinted>1601-01-01T00:00:00Z</cp:lastPrinted>
  <dcterms:modified xsi:type="dcterms:W3CDTF">2015-10-22T08:20:09Z</dcterms:modified>
  <cp:revision>7</cp:revision>
  <dc:subject/>
  <dc:title>АНТИМИКРОБНЫЕ ПРЕПАРА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8</vt:r8>
  </property>
  <property fmtid="{D5CDD505-2E9C-101B-9397-08002B2CF9AE}" pid="4" name="Version">
    <vt:r8>5</vt:r8>
  </property>
</Properties>
</file>