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AAA-91EA-4418-94A0-0AC22123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035-79CC-4BAF-9D41-AF5D6249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480-1412-46E3-A1BE-E95BEFA0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D05-5617-4E30-8384-AAA6B29D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FBFE-DE3B-45E1-8156-E76CA8FB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509-98A0-4F88-A04A-4B536328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BBB1-2872-49FB-9E16-ED33A124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F2A-1F45-46CA-B60A-5DF935D9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DAC8-5757-4A73-8B1B-5C8B8B74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0F69-B872-4672-B33A-8803A956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D1BB-FE59-4F31-9BC4-4AEE9447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A61-7B10-45EB-B827-1DCAB639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C653-9F4B-4273-BF71-A6F27DAE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7E25-A897-48EC-9B5B-48DB56B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AA10-6393-486B-8A38-EB84C043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8F05-7682-49DA-9F70-684CA362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7297-5A82-417E-B6CD-D3988F89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CD100-5288-40B2-B605-65DC929C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CFA7-7C53-47A1-9E5E-BA54D5C5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0EE10-16C5-4754-8E5A-98D9D21A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D519-5DC2-4A26-842E-FB3E268F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D196-63A7-42FB-8DFB-EEB5A586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664-C48D-4D7E-8969-F88437D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BC66-EA68-453F-ADE7-0A4A373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B5D3-440C-4E7F-8649-6D509155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9703-9D75-488A-B2DB-12EB702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5C67-3264-4B49-A898-15C1A65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EC51-DA57-40E3-89E3-07DD21CF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E023-7770-436C-B8A1-8A41B1DD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672A4-1439-4836-849C-4F007830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203D0-928A-4FC9-8B25-2235A619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65CD-998D-4880-A15B-C962DFBE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4011-1A80-4653-9453-8F640D4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CAF-85D2-40F1-80D1-B4FB54F8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02F5-85EA-4AFD-94CB-CE0F34EC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17397-8301-44EF-8F39-91154682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8F14-921D-475C-9D77-3B61B938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3AF8A-A468-4404-8B42-C5437171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5EE2-3CA1-4819-BCBB-F63564CA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CDED-EB8B-47DD-8D18-72F5CA5F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5A96-2B05-4BE9-972C-3B8A30D9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BC9C-3B43-4011-A5BE-CC95B65A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655C-75B7-4633-85E1-822F3F82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43E-7A02-451A-8E6E-891BF7CD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DE1-6ADE-4E23-B6D5-F852B418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358-80BD-4C3D-A759-C4BAC9CE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EB5-0C29-4713-B179-407E0E8F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2AC-6FB7-4DC7-A73D-71613CD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-3222720" y="304920"/>
            <a:ext cx="11909520" cy="4723920"/>
            <a:chOff x="-3222720" y="304920"/>
            <a:chExt cx="11909520" cy="4723920"/>
          </a:xfrm>
        </p:grpSpPr>
        <p:sp>
          <p:nvSpPr>
            <p:cNvPr id="5" name="Line 3"/>
            <p:cNvSpPr/>
            <p:nvPr/>
          </p:nvSpPr>
          <p:spPr>
            <a:xfrm>
              <a:off x="1447560" y="2514600"/>
              <a:ext cx="723924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AutoShape 4"/>
            <p:cNvSpPr/>
            <p:nvPr/>
          </p:nvSpPr>
          <p:spPr>
            <a:xfrm>
              <a:off x="-2514600" y="1371600"/>
              <a:ext cx="3657240" cy="36572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44083" y="2368"/>
                  </a:moveTo>
                  <a:cubicBezTo>
                    <a:pt x="56127" y="7280"/>
                    <a:pt x="64000" y="18993"/>
                    <a:pt x="64000" y="32000"/>
                  </a:cubicBezTo>
                  <a:cubicBezTo>
                    <a:pt x="64000" y="45006"/>
                    <a:pt x="56127" y="56719"/>
                    <a:pt x="44083" y="61631"/>
                  </a:cubicBezTo>
                  <a:cubicBezTo>
                    <a:pt x="44082" y="61631"/>
                    <a:pt x="44082" y="61631"/>
                    <a:pt x="44082" y="61631"/>
                  </a:cubicBezTo>
                  <a:lnTo>
                    <a:pt x="44083" y="61632"/>
                  </a:lnTo>
                  <a:lnTo>
                    <a:pt x="44083" y="2368"/>
                  </a:lnTo>
                  <a:lnTo>
                    <a:pt x="44082" y="2368"/>
                  </a:lnTo>
                  <a:cubicBezTo>
                    <a:pt x="44082" y="2368"/>
                    <a:pt x="44082" y="2368"/>
                    <a:pt x="44083" y="2368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utoShape 5"/>
            <p:cNvSpPr/>
            <p:nvPr/>
          </p:nvSpPr>
          <p:spPr>
            <a:xfrm>
              <a:off x="-3222720" y="304920"/>
              <a:ext cx="4038120" cy="40381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994" y="6246"/>
                  </a:moveTo>
                  <a:cubicBezTo>
                    <a:pt x="59172" y="12279"/>
                    <a:pt x="64000" y="21837"/>
                    <a:pt x="64000" y="32000"/>
                  </a:cubicBezTo>
                  <a:cubicBezTo>
                    <a:pt x="64000" y="42162"/>
                    <a:pt x="59172" y="51720"/>
                    <a:pt x="50994" y="57753"/>
                  </a:cubicBezTo>
                  <a:cubicBezTo>
                    <a:pt x="50993" y="57753"/>
                    <a:pt x="50993" y="57753"/>
                    <a:pt x="50993" y="57753"/>
                  </a:cubicBezTo>
                  <a:lnTo>
                    <a:pt x="50994" y="57754"/>
                  </a:lnTo>
                  <a:lnTo>
                    <a:pt x="50994" y="6246"/>
                  </a:lnTo>
                  <a:lnTo>
                    <a:pt x="50993" y="6246"/>
                  </a:lnTo>
                  <a:cubicBezTo>
                    <a:pt x="50993" y="6246"/>
                    <a:pt x="50993" y="6246"/>
                    <a:pt x="50994" y="6246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880" y="985680"/>
            <a:ext cx="7238520" cy="1444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065E1B-9B92-40B1-91E9-BE635184CF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AF4DE1-7A6E-41C1-A874-9B48E0BCAC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95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357948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5102280" y="1827360"/>
            <a:ext cx="3580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B5A3DA-F18A-43E7-BF46-D8B371D0A5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141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357948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body"/>
          </p:nvPr>
        </p:nvSpPr>
        <p:spPr>
          <a:xfrm>
            <a:off x="5102280" y="1827360"/>
            <a:ext cx="358092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1370160" y="3960720"/>
            <a:ext cx="357948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5102280" y="3960720"/>
            <a:ext cx="358092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8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B61508-9A22-47DD-A0AD-809A23397F6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023-29.shtml" TargetMode="External"/><Relationship Id="rId3" Type="http://schemas.openxmlformats.org/officeDocument/2006/relationships/hyperlink" Target="http://www.antibiotic.ru/ab/microbiol_termins.shtml" TargetMode="External"/><Relationship Id="rId4" Type="http://schemas.openxmlformats.org/officeDocument/2006/relationships/hyperlink" Target="http://www.antibiotic.ru/ab/042-47.shtml" TargetMode="External"/><Relationship Id="rId5" Type="http://schemas.openxmlformats.org/officeDocument/2006/relationships/hyperlink" Target="http://www.antibiotic.ru/ab/047-49.shtml" TargetMode="External"/><Relationship Id="rId6" Type="http://schemas.openxmlformats.org/officeDocument/2006/relationships/hyperlink" Target="http://www.antibiotic.ru/ab/056-60.shtml" TargetMode="External"/><Relationship Id="rId7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hyperlink" Target="http://www.antibiotic.ru/ab/047-49.shtml" TargetMode="External"/><Relationship Id="rId4" Type="http://schemas.openxmlformats.org/officeDocument/2006/relationships/hyperlink" Target="http://www.antibiotic.ru/ab/038-42.shtml" TargetMode="External"/><Relationship Id="rId5" Type="http://schemas.openxmlformats.org/officeDocument/2006/relationships/hyperlink" Target="http://www.antibiotic.ru/ab/013-22.shtml" TargetMode="External"/><Relationship Id="rId6" Type="http://schemas.openxmlformats.org/officeDocument/2006/relationships/hyperlink" Target="http://www.antibiotic.ru/ab/047-49.shtml" TargetMode="External"/><Relationship Id="rId7" Type="http://schemas.openxmlformats.org/officeDocument/2006/relationships/hyperlink" Target="http://www.antibiotic.ru/ab/056-60.shtml" TargetMode="External"/><Relationship Id="rId8" Type="http://schemas.openxmlformats.org/officeDocument/2006/relationships/hyperlink" Target="http://www.antibiotic.ru/ab/082-83.shtml" TargetMode="External"/><Relationship Id="rId9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056-60.shtml" TargetMode="External"/><Relationship Id="rId3" Type="http://schemas.openxmlformats.org/officeDocument/2006/relationships/hyperlink" Target="http://www.antibiotic.ru/ab/082-83.shtml" TargetMode="External"/><Relationship Id="rId4" Type="http://schemas.openxmlformats.org/officeDocument/2006/relationships/hyperlink" Target="http://www.antibiotic.ru/ab/023-29.shtml" TargetMode="External"/><Relationship Id="rId5" Type="http://schemas.openxmlformats.org/officeDocument/2006/relationships/hyperlink" Target="http://www.antibiotic.ru/ab/038-42.shtml" TargetMode="External"/><Relationship Id="rId6" Type="http://schemas.openxmlformats.org/officeDocument/2006/relationships/hyperlink" Target="http://www.antibiotic.ru/ab/106-109.shtml" TargetMode="External"/><Relationship Id="rId7" Type="http://schemas.openxmlformats.org/officeDocument/2006/relationships/hyperlink" Target="http://www.antibiotic.ru/ab/013-22.shtml" TargetMode="External"/><Relationship Id="rId8" Type="http://schemas.openxmlformats.org/officeDocument/2006/relationships/hyperlink" Target="http://www.antibiotic.ru/ab/056-60.shtml" TargetMode="External"/><Relationship Id="rId9" Type="http://schemas.openxmlformats.org/officeDocument/2006/relationships/hyperlink" Target="http://www.antibiotic.ru/ab/033-37.shtml" TargetMode="External"/><Relationship Id="rId10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antibiotic.ru/ab/143-146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hyperlink" Target="http://www.antibiotic.ru/ab/023-29.shtml" TargetMode="External"/><Relationship Id="rId4" Type="http://schemas.openxmlformats.org/officeDocument/2006/relationships/hyperlink" Target="http://www.antibiotic.ru/ab/033-37.shtml" TargetMode="External"/><Relationship Id="rId5" Type="http://schemas.openxmlformats.org/officeDocument/2006/relationships/hyperlink" Target="http://www.antibiotic.ru/ab/033-37.shtml" TargetMode="External"/><Relationship Id="rId6" Type="http://schemas.openxmlformats.org/officeDocument/2006/relationships/hyperlink" Target="http://www.antibiotic.ru/ab/038-42.shtml" TargetMode="External"/><Relationship Id="rId7" Type="http://schemas.openxmlformats.org/officeDocument/2006/relationships/hyperlink" Target="http://www.antibiotic.ru/ab/033-37.shtml" TargetMode="External"/><Relationship Id="rId8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antibiotic.ru/ab/143-146.shtml" TargetMode="External"/><Relationship Id="rId2" Type="http://schemas.openxmlformats.org/officeDocument/2006/relationships/hyperlink" Target="http://www.antibiotic.ru/ab/023-29.shtml" TargetMode="External"/><Relationship Id="rId3" Type="http://schemas.openxmlformats.org/officeDocument/2006/relationships/hyperlink" Target="http://www.antibiotic.ru/ab/033-37.shtml" TargetMode="External"/><Relationship Id="rId4" Type="http://schemas.openxmlformats.org/officeDocument/2006/relationships/hyperlink" Target="http://www.antibiotic.ru/ab/038-42.shtml" TargetMode="External"/><Relationship Id="rId5" Type="http://schemas.openxmlformats.org/officeDocument/2006/relationships/hyperlink" Target="http://www.antibiotic.ru/ab/030-32.shtml" TargetMode="Externa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antibiotic.ru/ab/143-146.shtml" TargetMode="External"/><Relationship Id="rId2" Type="http://schemas.openxmlformats.org/officeDocument/2006/relationships/hyperlink" Target="http://www.antibiotic.ru/ab/013-22.shtml" TargetMode="External"/><Relationship Id="rId3" Type="http://schemas.openxmlformats.org/officeDocument/2006/relationships/hyperlink" Target="http://www.antibiotic.ru/ab/033-37.shtml" TargetMode="External"/><Relationship Id="rId4" Type="http://schemas.openxmlformats.org/officeDocument/2006/relationships/hyperlink" Target="http://www.antibiotic.ru/ab/038-42.shtml" TargetMode="External"/><Relationship Id="rId5" Type="http://schemas.openxmlformats.org/officeDocument/2006/relationships/hyperlink" Target="http://www.antibiotic.ru/ab/052-54.shtml" TargetMode="External"/><Relationship Id="rId6" Type="http://schemas.openxmlformats.org/officeDocument/2006/relationships/hyperlink" Target="http://www.antibiotic.ru/ab/microbiol_termins.shtml" TargetMode="External"/><Relationship Id="rId7" Type="http://schemas.openxmlformats.org/officeDocument/2006/relationships/hyperlink" Target="http://www.antibiotic.ru/ab/042-47.shtml" TargetMode="External"/><Relationship Id="rId8" Type="http://schemas.openxmlformats.org/officeDocument/2006/relationships/hyperlink" Target="http://www.antibiotic.ru/ab/033-37.shtml" TargetMode="External"/><Relationship Id="rId9" Type="http://schemas.openxmlformats.org/officeDocument/2006/relationships/hyperlink" Target="http://www.antibiotic.ru/ab/047-49.shtml" TargetMode="External"/><Relationship Id="rId10" Type="http://schemas.openxmlformats.org/officeDocument/2006/relationships/hyperlink" Target="http://www.antibiotic.ru/ab/056-60.shtml" TargetMode="External"/><Relationship Id="rId11" Type="http://schemas.openxmlformats.org/officeDocument/2006/relationships/hyperlink" Target="http://www.antibiotic.ru/ab/038-42.shtml" TargetMode="External"/><Relationship Id="rId1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tibiotic.ru/ab/023-29.shtml" TargetMode="External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antibiotic.ru/cmac/2001_3_2/" TargetMode="External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antibiotic.ru/cmac/2001_3_2/" TargetMode="External"/><Relationship Id="rId2" Type="http://schemas.openxmlformats.org/officeDocument/2006/relationships/hyperlink" Target="http://www.antibiotic.ru/cmac/2001_3_2/" TargetMode="External"/><Relationship Id="rId3" Type="http://schemas.openxmlformats.org/officeDocument/2006/relationships/hyperlink" Target="http://www.antibiotic.ru/cmac/2001_3_2/" TargetMode="External"/><Relationship Id="rId4" Type="http://schemas.openxmlformats.org/officeDocument/2006/relationships/hyperlink" Target="http://www.antibiotic.ru/ab/013-22.shtml" TargetMode="External"/><Relationship Id="rId5" Type="http://schemas.openxmlformats.org/officeDocument/2006/relationships/hyperlink" Target="http://www.antibiotic.ru/ab/023-29.shtml" TargetMode="External"/><Relationship Id="rId6" Type="http://schemas.openxmlformats.org/officeDocument/2006/relationships/hyperlink" Target="http://www.antibiotic.ru/ab/032-33.shtml" TargetMode="External"/><Relationship Id="rId7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antibiotic.ru/cmac/2001_3_2/" TargetMode="External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880" y="985680"/>
            <a:ext cx="7238520" cy="1444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НТИМИКРОБНЫЕ ПРЕПАРАТЫ И АНТИМИКРОБНАЯ РЕЗИСТЕН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1"/>
          <p:cNvPicPr/>
          <p:nvPr/>
        </p:nvPicPr>
        <p:blipFill>
          <a:blip r:embed="rId1"/>
          <a:stretch/>
        </p:blipFill>
        <p:spPr>
          <a:xfrm>
            <a:off x="324000" y="2565360"/>
            <a:ext cx="8819640" cy="4292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акролид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4-членны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5-членны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6 членны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иродные (эритромицин, спирамицин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лусинтетические (кларитромицин, азитромицин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0"/>
              </a:spcBef>
              <a:buNone/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Хинолоны (ингибиторы РНК-гиразы, которая отвечает за суперспирализацию ДНК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поколение (нефторированные) налидиксовая кислот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(фторхинолоны) ципрофлоксацин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рушают синтез белка рибосомам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рушает биосинтез ДНК (репликацию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нолоны (ингибиторы РНК-гиразы, которая отвечает за суперспирализацию ДНК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поколение (нефторированные) налидиксовая кислот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(фторхинолоны) ципрофлоксаци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рушает биосинтез ДНК (репликацию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80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80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трациклин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т синтез бел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нкосами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т синтез белка рибосома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ликопепти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рушают синтез клеточной ст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лимикси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йствуют на ЦП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итроимидазол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рушают репликацию ДН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рушают синтез бел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нгибируют тканевое дыха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ульфанилами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налог ПАБ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нкурентно ингибирует фермент, отвечающий за синтез дигидрофолиевой кислоты (предшественницы фолиевой кислоты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итрофура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кцепторы О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рушают клеточное дыха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нгибируют биосинтез нуклеиновых кисло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ифампиц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локируют трансляцию на этапе ДНК → мРНК, ингибируя ДНК-зависимую РНК-полимераз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лорамфеникол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локируют синтез белка за счет невозможности присоединения к большой субъединице рибосом тРН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рептограм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ишень – рибосомы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0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дходы в назначении антибиотик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мпирическ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иотропны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тиотропный под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 всех случаях, когда выделяется микроб, этиологическая роль которого очевидна или вероят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 проводитс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отношении условно-патогенных м/о при выделении из мест их естественного обита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случаях отсутствия стандартных методов исследования и критерий оценки чувствительно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тиотропный под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гда чувствительность нельзя предположить на основании результатов идентификации, например, чувствительность стрептококка группы А к бензилпенициллину 100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тиотропный под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отношении всех м/о, выделенных из стерильных в норме жидкостей, ткан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отношении м/о, для которых известна высокая частота формирования приобретенной устойчиво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сификация по происхожде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родные (пенициллин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тетические (химические производные природных а/б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синтетические (получены путем модификации природных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ДМ не используетс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для роста &gt; 48 ч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микроб – облигатный анаэроб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ультура не образует равномерного газона на плотной сред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для роста требуются среды не соответствующие применяемым для оценки а/б чувстви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зона подавления роста не соответствует истинной чувствитель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Резистентность микроорганиз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родна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обретенна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стинная природная устойчив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арактеризуется отсутствием у микроорганизмов мишени действия антибиотика или недоступности мишени вследствие первично низкой проницаемости или ферментативной инактив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наличии у бактерий природной устойчивости антибиотики клинически неэффектив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родная резистентность является постоянным видовым признаком микроорганизмов и легко прогнозируется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обретенная устойчив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войство отдельных штаммов бактерий сохранять жизнеспособность при тех концентрациях антибиотиков, которые подавляют основную часть микробной популяци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озможны ситуации, когда большая часть микробной популяции проявляет приобретенную устойчивост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явление у бактерий приобретенной резистентности не обязательно сопровождается снижением клинической эффективности антибиотик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ормирование резистентности во всех случаях обусловлено генетически: приобретением новой генетической информации или изменением уровня экспрессии собственных генов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еханизмы устойчивости бактерий к антибиотика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дификация мишени действ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нактивация антибиотик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ное выведение антибиотика из микробной клетки (эффлюкс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рушение проницаемости внешних структур микробной клетк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метаболического "шунта"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етоды оценки а/б чувстви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иско-диффузионы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качественный/полуколичественный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ерийных разведени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(количественный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4" descr="Рис. 1-а"/>
          <p:cNvPicPr/>
          <p:nvPr/>
        </p:nvPicPr>
        <p:blipFill>
          <a:blip r:embed="rId1"/>
          <a:stretch/>
        </p:blipFill>
        <p:spPr>
          <a:xfrm>
            <a:off x="4427640" y="3141720"/>
            <a:ext cx="3600000" cy="208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втодиспенсер для нанесения дис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1"/>
          <p:cNvPicPr/>
          <p:nvPr/>
        </p:nvPicPr>
        <p:blipFill>
          <a:blip r:embed="rId1"/>
          <a:stretch/>
        </p:blipFill>
        <p:spPr>
          <a:xfrm>
            <a:off x="0" y="1484280"/>
            <a:ext cx="8819640" cy="518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0" y="189000"/>
            <a:ext cx="9143640" cy="6668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7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1484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логический метод на этапе изучения чисой культуры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Применен диффузный способ определения чувствительности к дискам с антибиотикам на плотной среде АГ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Этап исследования определяется по размерам зоны задержки роста культуры или ее отсутстви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 Для подтверждения диагноза необходимо- определить  минимальную подавляющую концентрацию  препаратов (МПК), определить чувствительность к лекарственным препаратам с помощью ПЦР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. Основные формы и механизмы резистентности: модификационная и генетические формы; механизмы связаны с изменчивостью бактерий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190440"/>
            <a:ext cx="9407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тибиотикограмма, способ диск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СКО-ДИФФУЗНЫЙ МЕТ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1"/>
          <p:cNvPicPr/>
          <p:nvPr/>
        </p:nvPicPr>
        <p:blipFill>
          <a:blip r:embed="rId1"/>
          <a:stretch/>
        </p:blipFill>
        <p:spPr>
          <a:xfrm>
            <a:off x="250920" y="1484280"/>
            <a:ext cx="8892720" cy="5373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родные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лученные из бактерий и актиномицет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грибов(пенициллин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растительных клеток(чеснок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животных клет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taphylococcus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риродным и полусинтетическим пеницил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связанная с продук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b-лактамаз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.pneumoniae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устойчивость различного уровня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ен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(часть штаммов устойчива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цефалоспоринам III поколен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), связанная с модифика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ПСБ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; высокая частота ассоциированной устойчивости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макролид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тетрацик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ко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H.influenzae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M.catarrhalis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олусинтетическим пеницил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связанная с продук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b-лактамаз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N.gonorrhoeae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еницил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связанная с продук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b-лактамаз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тетрацик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фторхиноло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higella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амп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тетрацик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ко-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хлорамфеник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almonella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амп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ко-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хлорамфеник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Появление устойчивости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цефалоспоринам III поколен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фторхиноло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E.col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при внебольничных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инфекциях МВП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возможна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амп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ко-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гентамиц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озокомиаль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Enterobacteriaceae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продукция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БЛРС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(чаще всего среди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Klebsiella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spp.), обуславливающая клиническую неэффективность всех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цефалоспоринов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очень высокая частота ассоциированной устойчив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гентамицин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тобрамицин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в некоторых учреждениях тенденция к росту ассоциированной резистентн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фторхиноло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амикацин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озокомиаль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Pseudomonas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,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Acinetobacter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,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.maltophilia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ассоциированная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цефалоспор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аминогликозид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фторхиноло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иногда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карбапенем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озокомиаль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Enterococcus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spp. - ассоциация устойчив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пеницилли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высокого уровня устойчив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аминогликоз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фторхиноло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гликопепт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Staphylococcus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spp.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метициллинорезистентные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) - ассоциированная устойчивость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макрол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аминогликоз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тетрацикли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0"/>
              </a:rPr>
              <a:t>ко-тримоксазол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1"/>
              </a:rPr>
              <a:t>фторхиноло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420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Принци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од "двойных дисков" представляет собой вариант классического дискодиффузионного метода определения чувствительности, который позволяет обнаружить продукцию БЛРС по наличию расширенной зоны подавления роста вокруг диска с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цефалоспорином III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околения напротив диска, содержащего клавулановую кислоту (синергизм отмечается в участке пересечения зон диффузии двух дисков, расположенных на небольшом расстоянии друг от друга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Материал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 Стерильный физиологический раствор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Стерильные пробирки, пипетки, чашки Петр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Стандарт мутности 0,5 по МакФарланду (эквивалент 1,5 x 108 КОЕ/мл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Агар Мюллера–Хинто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ассифик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по направленности действ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нтибактериальн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грибков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вирусн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протозойн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опухолев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. Диски с антибиотиками: азтреонам (30 мкг), цефотаксим (30 мкг), цефтазидим (30 мкг), цефтриаксон (30 мкг), цефепим (30 мкг), цефпиром (30 мкг), амоксициллин/клавуланат (20/10 мкг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. Термост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. Контрольные штаммы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E.coli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ATCC® 25922 – отрицательный контроль (БЛРС–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K.pneumonia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ATCC® 700603 – положительный контроль (БЛРС+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8. Суточные культуры исследуемых микроорганизм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Verdana"/>
              </a:rPr>
              <a:t>Постановка тест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приготовления инокулюма используют чистую суточную культуру исследуемого микроорганизма, выращенную на агаризованной среде. Несколько колоний стерильным тампоном или петлей переносят в пробирку с 3 мл стерильного физиологического раствора. Взвесь бактериальных клеток доводят до мутности 0,5 по МакФарланду и наносят стерильным ватным тампоном на поверхность агара Мюллера–Хинтона в трех различных направления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Через 5–10 мин после инокулирования на подсохшую поверхность агара накладывают диски с антибиотиками: в центр – диск, содержащий клавулановую кислоту, обычно в виде комбинации амоксициллин/клавуланат (20/10 мкг), по бокам от него на расстоянии 20 и 30 мм между центрами дисков – диски с цефтазидимом (30 мкг) и цефотаксимом (30 мкг)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спользование двух дисков каждого антибиотика, расположенных на разном расстоянии от диска с клавулановой кислотой, позволяет повысить эффективность обнаружения БЛРС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рис. 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шки инкубируют в термостате при температуре 35oС в течение 18–20 ч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араллельно с анализом испытуемых культур исследуют контрольные штамм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30" descr="Рис. 1-а"/>
          <p:cNvPicPr/>
          <p:nvPr/>
        </p:nvPicPr>
        <p:blipFill>
          <a:blip r:embed="rId1"/>
          <a:stretch/>
        </p:blipFill>
        <p:spPr>
          <a:xfrm>
            <a:off x="2220840" y="1893960"/>
            <a:ext cx="1875960" cy="1847520"/>
          </a:xfrm>
          <a:prstGeom prst="rect">
            <a:avLst/>
          </a:prstGeom>
          <a:ln w="9525">
            <a:noFill/>
          </a:ln>
        </p:spPr>
      </p:pic>
      <p:pic>
        <p:nvPicPr>
          <p:cNvPr id="282" name="Picture 32" descr="Рис. 1-b"/>
          <p:cNvPicPr/>
          <p:nvPr/>
        </p:nvPicPr>
        <p:blipFill>
          <a:blip r:embed="rId2"/>
          <a:stretch/>
        </p:blipFill>
        <p:spPr>
          <a:xfrm>
            <a:off x="5954760" y="1893960"/>
            <a:ext cx="1875960" cy="1847520"/>
          </a:xfrm>
          <a:prstGeom prst="rect">
            <a:avLst/>
          </a:prstGeom>
          <a:ln w="9525">
            <a:noFill/>
          </a:ln>
        </p:spPr>
      </p:pic>
      <p:pic>
        <p:nvPicPr>
          <p:cNvPr id="283" name="Picture 34" descr="Рис. 1-c"/>
          <p:cNvPicPr/>
          <p:nvPr/>
        </p:nvPicPr>
        <p:blipFill>
          <a:blip r:embed="rId3"/>
          <a:stretch/>
        </p:blipFill>
        <p:spPr>
          <a:xfrm>
            <a:off x="2220840" y="4056120"/>
            <a:ext cx="1875960" cy="1790280"/>
          </a:xfrm>
          <a:prstGeom prst="rect">
            <a:avLst/>
          </a:prstGeom>
          <a:ln w="9525">
            <a:noFill/>
          </a:ln>
        </p:spPr>
      </p:pic>
      <p:pic>
        <p:nvPicPr>
          <p:cNvPr id="284" name="Picture 36" descr="Рис. 1-d"/>
          <p:cNvPicPr/>
          <p:nvPr/>
        </p:nvPicPr>
        <p:blipFill>
          <a:blip r:embed="rId4"/>
          <a:stretch/>
        </p:blipFill>
        <p:spPr>
          <a:xfrm>
            <a:off x="5954760" y="4056120"/>
            <a:ext cx="1875960" cy="1790280"/>
          </a:xfrm>
          <a:prstGeom prst="rect">
            <a:avLst/>
          </a:prstGeom>
          <a:ln w="9525">
            <a:noFill/>
          </a:ln>
        </p:spPr>
      </p:pic>
      <p:sp>
        <p:nvSpPr>
          <p:cNvPr id="285" name="Rectangle 38"/>
          <p:cNvSpPr/>
          <p:nvPr/>
        </p:nvSpPr>
        <p:spPr>
          <a:xfrm>
            <a:off x="923040" y="5870880"/>
            <a:ext cx="13860360" cy="94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явление продукции БЛРС с помощью метода "двойных дисков"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рицательные результаты (БЛРС-): a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E.col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TEM-1), b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E.cloaca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гиперпродукция AmpC)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ожительные результаты (БЛРС+): c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K.pneumonia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SHV-2); d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K.pneumonia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SHV-5)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значения дисков: AMC - амоксициллин/клавулановая кислота (20/10 мкг), CAZ - цефтазидим (30 мкг), CTX - цефотаксим (30 мкг), CPO - цефпиром (30 мк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Учет и интерпретация результат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ширение зоны подавления роста между одним или несколькими дисками с оксиимино-b-лактамами и диском, содержащим клавулановую кислоту, указывает на наличие БЛРС (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рис. 1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c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зависимо от абсолютных значений диаметров зон подавления роста штаммы, продуцирующие БЛРС, рассматриваются как устойчивые ко всем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пенициллин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цефалоспорин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за исключением цефамицинов) и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монобактам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E-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-тесты, выпускаемые компанией AB BIODISK (Швеция), представляют собой пластиковые полоски, на внутренней (обращенной к агару) стороне которых нанесен антибиотик в заданном градиенте концентрации, а на внешней стороне – шкала соответствующих значений МПК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E-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-тесты, используемые для выявления БЛРС, содержат на противоположных концах полоски два убывающих по направлению к центру градиента концентрации: цефтазидима (диапазон МПК – 0,5–32 мг/л) и комбинации цефтазидима (диапазон МПК – 0,125–8 мг/л) с клавулановой кислотой, нанесенной в фиксированной концентрации (4 мг/л) вдоль градиента (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рис. 2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E-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ение продукции БЛРС с помощью Е-тестов основано на количественном сравнении МПК цефтазидима и цефтазидима/клавуланов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нтибактериальные антибиот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65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 антимикробной актив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600" spc="-1" strike="noStrike">
                <a:solidFill>
                  <a:schemeClr val="accent1"/>
                </a:solidFill>
                <a:latin typeface="Times New Roman"/>
              </a:rPr>
              <a:t>бактерицидны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тетрациклин, хлорамфеникол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600" spc="-1" strike="noStrike">
                <a:solidFill>
                  <a:schemeClr val="accent1"/>
                </a:solidFill>
                <a:latin typeface="Times New Roman"/>
              </a:rPr>
              <a:t>бактериостатически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пенициллин), действуют только на растущую микробную клетку (молодую, активно делящуюся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 спектр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узкого (гр.- или гр.+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широкого (гр.- и гр.+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механизму действ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синтез клеточной стен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chemeClr val="accent1"/>
                </a:solidFill>
                <a:latin typeface="Verdana"/>
              </a:rPr>
              <a:t>пенициллины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ru-RU" sz="1800" spc="-1" strike="noStrike">
                <a:solidFill>
                  <a:schemeClr val="accent1"/>
                </a:solidFill>
                <a:latin typeface="Verdana"/>
              </a:rPr>
              <a:t>цефалоспор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синтез белка на уровне транскрипции(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синтез белка на уровне рибосом(</a:t>
            </a:r>
            <a:r>
              <a:rPr b="0" lang="ru-RU" sz="2000" spc="-1" strike="noStrike">
                <a:solidFill>
                  <a:schemeClr val="accent1"/>
                </a:solidFill>
                <a:latin typeface="Verdana"/>
              </a:rPr>
              <a:t>стрептомицины</a:t>
            </a:r>
            <a:r>
              <a:rPr b="0" lang="en-US" sz="2000" spc="-1" strike="noStrike">
                <a:solidFill>
                  <a:schemeClr val="accent1"/>
                </a:solidFill>
                <a:latin typeface="Verdana"/>
              </a:rPr>
              <a:t>/ </a:t>
            </a:r>
            <a:r>
              <a:rPr b="0" lang="ru-RU" sz="1800" spc="-1" strike="noStrike">
                <a:solidFill>
                  <a:schemeClr val="accent1"/>
                </a:solidFill>
                <a:latin typeface="Verdana"/>
              </a:rPr>
              <a:t>макролиды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репликацию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нк(</a:t>
            </a:r>
            <a:r>
              <a:rPr b="0" lang="ru-RU" sz="2000" spc="-1" strike="noStrike">
                <a:solidFill>
                  <a:schemeClr val="accent1"/>
                </a:solidFill>
                <a:latin typeface="Verdana"/>
              </a:rPr>
              <a:t>ХИНОЛО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йствующие на ЦП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750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хема клеточных мишений для антибиоти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3" descr="1"/>
          <p:cNvPicPr/>
          <p:nvPr/>
        </p:nvPicPr>
        <p:blipFill>
          <a:blip r:embed="rId1"/>
          <a:stretch/>
        </p:blipFill>
        <p:spPr>
          <a:xfrm>
            <a:off x="179280" y="1052640"/>
            <a:ext cx="8964360" cy="580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β-лактамы (пенициллин, оксациллин, ампициллин, цефалотин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енициллины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арбапенемы (имипинем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цефалоспорины (цефепим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онобактамы (азтреонам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цид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шень – пенициллинсвязанные белки (ПСБ), являющиеся ферментом для синтеза пептидогликана, т.к. формируют поперечные связ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СБ и ПГ отсутствуют у человека, поэтому нетоксичны для челове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миногликозиды (стрептомицины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око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ко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око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актерицид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рушают синтез белка на уровне рибос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clipse</Template>
  <TotalTime>255</TotalTime>
  <Application>LibreOffice/7.4.7.2$Linux_X86_64 LibreOffice_project/40$Build-2</Application>
  <AppVersion>15.0000</AppVersion>
  <Words>1281</Words>
  <Paragraphs>225</Paragraphs>
  <Company>ИЦ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05:55:23Z</dcterms:created>
  <dc:creator>Мавзютов</dc:creator>
  <dc:description/>
  <dc:language>en-US</dc:language>
  <cp:lastModifiedBy>Дом</cp:lastModifiedBy>
  <cp:lastPrinted>1601-01-01T00:00:00Z</cp:lastPrinted>
  <dcterms:modified xsi:type="dcterms:W3CDTF">2015-10-22T08:20:09Z</dcterms:modified>
  <cp:revision>7</cp:revision>
  <dc:subject/>
  <dc:title>АНТИМИКРОБНЫЕ ПРЕПАРА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8</vt:r8>
  </property>
  <property fmtid="{D5CDD505-2E9C-101B-9397-08002B2CF9AE}" pid="4" name="Version">
    <vt:r8>5</vt:r8>
  </property>
</Properties>
</file>