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01F-47EE-4519-A44E-734BB87E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773-4A99-446C-9204-8A84DFC3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418-81B4-47A1-BC17-765AAFB5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E9F-7DF4-40C1-B87A-3F0428EC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2DFA-0B13-409E-8301-AEBFA57F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7A14-EEAC-4C58-8B4C-1F0E41F8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9096-94A3-4F91-8D65-FF823C88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7F5F-353B-4069-BA65-9911B4E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B953-E7AE-4027-8378-7FD1BD7A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DA32-3808-43D0-B274-4DD87D26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F0F-7D02-459A-9A70-BE16F5B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01A-06D3-498B-BB32-18E016E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3024-84D6-4F42-9E36-A39793A9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EC26-A912-4A05-B4F2-300EB66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1FC1-9A71-49E5-9454-4AF89864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959D-0C13-43FC-8251-EA1E783F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C742-8D36-4597-83E8-0188276F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EB1-4455-4A6F-9B1C-7CF0EA49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B594-5DAF-4B5F-BE0F-CF752C9F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37F-CC35-4131-864F-CAB2002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6BB-5607-47A2-987A-040ADD4D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3DB-6544-49B9-B609-62C80F9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7CA-40BC-4634-98F5-326A8EB7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740-3EAD-4619-B92A-7FC250A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E59A-707D-4FCB-916D-FFB74FF7B479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2C4-0C89-4473-A2F4-2147C8C27475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7315200" cy="320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7707" t="0" r="31094" b="77878"/>
          <a:stretch/>
        </p:blipFill>
        <p:spPr>
          <a:xfrm>
            <a:off x="2124000" y="1371600"/>
            <a:ext cx="590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80640" y="1268280"/>
            <a:ext cx="8163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MUST – SHOULD – OUGHT TO -  HAD BE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547640" y="404280"/>
            <a:ext cx="7010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1885320"/>
            <a:ext cx="36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1. Must </a:t>
            </a:r>
            <a:r>
              <a:rPr b="1" lang="ru-RU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Should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640" y="2565360"/>
          <a:ext cx="7992720" cy="3624120"/>
        </p:xfrm>
        <a:graphic>
          <a:graphicData uri="http://schemas.openxmlformats.org/drawingml/2006/table">
            <a:tbl>
              <a:tblPr/>
              <a:tblGrid>
                <a:gridCol w="3913560"/>
                <a:gridCol w="4079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Must / mustn’t                                    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должен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/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запрещен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/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n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следует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не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это приказ или настойчивый сов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s film is great! You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e i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это совет или рекоменд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’s cold there. You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take some warm clothe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n’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пр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ust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alk the dog here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n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это совет или рекомендация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sh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eat a lot of fast food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4840" y="98028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</a:rPr>
              <a:t>2. SHOULD - OUGHT TO -  HAD BETTER</a:t>
            </a:r>
            <a:r>
              <a:rPr b="0" lang="ru-RU" sz="2800" spc="-1" strike="noStrike">
                <a:solidFill>
                  <a:srgbClr val="336666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700280"/>
          <a:ext cx="8353440" cy="4462560"/>
        </p:xfrm>
        <a:graphic>
          <a:graphicData uri="http://schemas.openxmlformats.org/drawingml/2006/table">
            <a:tbl>
              <a:tblPr/>
              <a:tblGrid>
                <a:gridCol w="2663640"/>
                <a:gridCol w="3024360"/>
                <a:gridCol w="2665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 (not) + infinitiv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e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 advice or recommendatio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rcise more ofte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12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OUGHT (not) TO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infinitive</a:t>
                      </a: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следует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(it’s a good thing to do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times implies moral obligation. It’s the right thing to do, but we don’t always do i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s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ght t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y hard if they really want to graduate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HAD BETTER (not) + infinitiv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лучше бы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ice only for a particular situatio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 implies some sort of problem if the advice isn’t followed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129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's freezing cold today.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'd bette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ut on gloves and a scarf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articular situation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27280" y="907200"/>
            <a:ext cx="45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3. Should</a:t>
            </a:r>
            <a:r>
              <a:rPr b="1" lang="ru-RU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cc3300"/>
                </a:solidFill>
                <a:latin typeface="Cambria"/>
                <a:ea typeface="Times New Roman"/>
              </a:rPr>
              <a:t>Be supposed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628640"/>
          <a:ext cx="8353440" cy="4946760"/>
        </p:xfrm>
        <a:graphic>
          <a:graphicData uri="http://schemas.openxmlformats.org/drawingml/2006/table">
            <a:tbl>
              <a:tblPr/>
              <a:tblGrid>
                <a:gridCol w="2662200"/>
                <a:gridCol w="2954520"/>
                <a:gridCol w="273672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Should / shouldn’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e supposed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следовало бы, предполагается, что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кто-то что-то делает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 expected to behave in a particular way, especially  according to a rule, an agreement, or someone in authorit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tend the seminar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t’s a good idea because I can ge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useful information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rink much fizzy drink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t’s not a good idea because you may put on weight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’m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sed to 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tend the seminar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he manager expects me to do so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n’t supposed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have more than two drinks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Webdings"/>
                          <a:ea typeface="Webdings"/>
                        </a:rPr>
                        <a:t>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he reception organisers planned it so.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Obligation → adv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 rot="20341800">
            <a:off x="2050920" y="2204640"/>
            <a:ext cx="4870440" cy="417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Modals of permission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CAN – MAY – BE ALLOWED TO – BE PERMIT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24000" y="1507680"/>
            <a:ext cx="4225680" cy="4057920"/>
          </a:xfrm>
          <a:prstGeom prst="rect">
            <a:avLst/>
          </a:prstGeom>
          <a:solidFill>
            <a:srgbClr val="f1f1d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be allowed to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(to talk about the </a:t>
            </a:r>
            <a:r>
              <a:rPr b="1" i="1" lang="ru-RU" sz="2000" spc="-1" strike="noStrike">
                <a:solidFill>
                  <a:srgbClr val="fb85d4"/>
                </a:solidFill>
                <a:latin typeface="Arial"/>
              </a:rPr>
              <a:t>future</a:t>
            </a:r>
            <a:r>
              <a:rPr b="1" i="1" lang="ru-RU" sz="2000" spc="-1" strike="noStrike">
                <a:solidFill>
                  <a:srgbClr val="f5c4c5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or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present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(to talk about the 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past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- used f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repeated actions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was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/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were allowed to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to talk about the</a:t>
            </a: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 past 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- used f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repeated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or </a:t>
            </a:r>
            <a:r>
              <a:rPr b="0" i="1" lang="ru-RU" sz="2000" spc="-1" strike="noStrike" u="sng">
                <a:solidFill>
                  <a:srgbClr val="336666"/>
                </a:solidFill>
                <a:uFillTx/>
                <a:latin typeface="Arial"/>
              </a:rPr>
              <a:t>single</a:t>
            </a:r>
            <a:r>
              <a:rPr b="0" i="1" lang="ru-RU" sz="2000" spc="-1" strike="noStrike">
                <a:solidFill>
                  <a:srgbClr val="336666"/>
                </a:solidFill>
                <a:latin typeface="Arial"/>
              </a:rPr>
              <a:t> actions)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31c07"/>
                </a:solidFill>
                <a:latin typeface="Arial"/>
              </a:rPr>
              <a:t>couldn't </a:t>
            </a:r>
            <a:r>
              <a:rPr b="1" lang="en-US" sz="2000" spc="-1" strike="noStrike">
                <a:solidFill>
                  <a:srgbClr val="cc2d19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d31c07"/>
                </a:solidFill>
                <a:latin typeface="Arial"/>
              </a:rPr>
              <a:t>wasn't allowed to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in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negations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50505"/>
                </a:solidFill>
                <a:latin typeface="Arial"/>
              </a:rPr>
              <a:t>questions</a:t>
            </a:r>
            <a:r>
              <a:rPr b="0" i="1" lang="en-US" sz="2000" spc="-1" strike="noStrike">
                <a:solidFill>
                  <a:srgbClr val="050505"/>
                </a:solidFill>
                <a:latin typeface="Arial"/>
              </a:rPr>
              <a:t> for either repeated or single actions)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3" name="Прямоугольник 7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425448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58770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llow = permit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more formal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765000"/>
            <a:ext cx="72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CAN –BE ALLOWED TO – BE PERMITTED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7524720" y="6580080"/>
            <a:ext cx="1511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Verdana"/>
              </a:rPr>
              <a:t>Рычкова Н.И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403200" y="789120"/>
            <a:ext cx="3952800" cy="642600"/>
          </a:xfrm>
          <a:prstGeom prst="rect">
            <a:avLst/>
          </a:prstGeom>
          <a:solidFill>
            <a:srgbClr val="f1f1de"/>
          </a:solidFill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ould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more formal</a:t>
            </a:r>
            <a:r>
              <a:rPr b="1" i="1" lang="en-GB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and </a:t>
            </a:r>
            <a:r>
              <a:rPr b="1" i="1" lang="en-GB" sz="1800" spc="-1" strike="noStrike">
                <a:solidFill>
                  <a:srgbClr val="0070c0"/>
                </a:solidFill>
                <a:latin typeface="Arial"/>
              </a:rPr>
              <a:t>polite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368960" y="804960"/>
            <a:ext cx="4491000" cy="642600"/>
          </a:xfrm>
          <a:prstGeom prst="rect">
            <a:avLst/>
          </a:prstGeom>
          <a:noFill/>
          <a:ln w="936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g.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~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I interrupt you for a second?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415800" y="1576440"/>
            <a:ext cx="3940200" cy="642600"/>
          </a:xfrm>
          <a:prstGeom prst="rect">
            <a:avLst/>
          </a:prstGeom>
          <a:solidFill>
            <a:srgbClr val="f1f1de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</a:t>
            </a:r>
            <a:r>
              <a:rPr b="1" lang="en-GB" sz="1800" spc="-1" strike="noStrike">
                <a:solidFill>
                  <a:srgbClr val="336666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ight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very formal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4371840" y="1576440"/>
            <a:ext cx="449100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E</a:t>
            </a:r>
            <a:r>
              <a:rPr b="1" i="1" lang="en-GB" sz="1800" spc="-1" strike="noStrike">
                <a:solidFill>
                  <a:srgbClr val="336666"/>
                </a:solidFill>
                <a:latin typeface="Arial"/>
              </a:rPr>
              <a:t>g. </a:t>
            </a:r>
            <a:r>
              <a:rPr b="0" i="1" lang="en-US" sz="1800" spc="-1" strike="noStrike">
                <a:solidFill>
                  <a:srgbClr val="0033cc"/>
                </a:solidFill>
                <a:latin typeface="Arial"/>
              </a:rPr>
              <a:t>~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May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/ </a:t>
            </a:r>
            <a:r>
              <a:rPr b="0" i="1" lang="ru-RU" sz="1800" spc="-1" strike="noStrike">
                <a:solidFill>
                  <a:srgbClr val="c00000"/>
                </a:solidFill>
                <a:latin typeface="Arial"/>
              </a:rPr>
              <a:t>Might 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I speak to the bank manager, please?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441360" y="2932200"/>
            <a:ext cx="3927600" cy="3750840"/>
          </a:xfrm>
          <a:prstGeom prst="rect">
            <a:avLst/>
          </a:prstGeom>
          <a:solidFill>
            <a:srgbClr val="f1f1de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; giving permission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cc"/>
                </a:solidFill>
                <a:uFillTx/>
                <a:latin typeface="Arial"/>
              </a:rPr>
              <a:t>Note: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ould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is not used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in </a:t>
            </a:r>
            <a:r>
              <a:rPr b="0" i="1" lang="ru-RU" sz="1800" spc="-1" strike="noStrike" u="sng">
                <a:solidFill>
                  <a:srgbClr val="008000"/>
                </a:solidFill>
                <a:uFillTx/>
                <a:latin typeface="Arial"/>
              </a:rPr>
              <a:t>the present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to give permission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; giving permission - also used in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written notices</a:t>
            </a:r>
            <a:r>
              <a:rPr b="0" i="1" lang="ru-RU" sz="1800" spc="-1" strike="noStrike">
                <a:solidFill>
                  <a:srgbClr val="336666"/>
                </a:solidFill>
                <a:latin typeface="Arial"/>
              </a:rPr>
              <a:t> or </a:t>
            </a:r>
            <a:r>
              <a:rPr b="0" i="1" lang="ru-RU" sz="1800" spc="-1" strike="noStrike" u="sng">
                <a:solidFill>
                  <a:srgbClr val="336666"/>
                </a:solidFill>
                <a:uFillTx/>
                <a:latin typeface="Arial"/>
              </a:rPr>
              <a:t>formal announcements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ustn't</a:t>
            </a:r>
            <a:r>
              <a:rPr b="1" lang="ru-RU" sz="1800" spc="-1" strike="noStrike">
                <a:solidFill>
                  <a:srgbClr val="336666"/>
                </a:solidFill>
                <a:latin typeface="Arial"/>
              </a:rPr>
              <a:t> /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can't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informa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- refusing permission)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may not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formal 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- refusing permission)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3" name="Прямоугольник 12" descr=""/>
          <p:cNvPicPr/>
          <p:nvPr/>
        </p:nvPicPr>
        <p:blipFill>
          <a:blip r:embed="rId1"/>
          <a:stretch/>
        </p:blipFill>
        <p:spPr>
          <a:xfrm>
            <a:off x="4303800" y="2889360"/>
            <a:ext cx="4627440" cy="3835440"/>
          </a:xfrm>
          <a:prstGeom prst="rect">
            <a:avLst/>
          </a:prstGeom>
          <a:ln w="0">
            <a:noFill/>
          </a:ln>
        </p:spPr>
      </p:pic>
      <p:sp>
        <p:nvSpPr>
          <p:cNvPr id="144" name="_s1033"/>
          <p:cNvSpPr/>
          <p:nvPr/>
        </p:nvSpPr>
        <p:spPr>
          <a:xfrm>
            <a:off x="1258920" y="177840"/>
            <a:ext cx="6553080" cy="51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Asking for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permission</a:t>
            </a:r>
            <a:r>
              <a:rPr b="1" lang="en-GB" sz="2000" spc="-1" strike="noStrike">
                <a:solidFill>
                  <a:srgbClr val="33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_s1033"/>
          <p:cNvSpPr/>
          <p:nvPr/>
        </p:nvSpPr>
        <p:spPr>
          <a:xfrm>
            <a:off x="1258920" y="2330280"/>
            <a:ext cx="6553080" cy="516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Giving </a:t>
            </a:r>
            <a:r>
              <a:rPr b="1" lang="ru-RU" sz="2000" spc="-1" strike="noStrike">
                <a:solidFill>
                  <a:srgbClr val="336666"/>
                </a:solidFill>
                <a:latin typeface="Verdana"/>
              </a:rPr>
              <a:t>or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refusing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permission</a:t>
            </a:r>
            <a:r>
              <a:rPr b="1" lang="en-GB" sz="2000" spc="-1" strike="noStrike">
                <a:solidFill>
                  <a:srgbClr val="3366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79640" y="260280"/>
            <a:ext cx="6477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66"/>
                </a:solidFill>
                <a:latin typeface="Arial"/>
              </a:rPr>
              <a:t>MODALS OF SPECULATION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16360" y="2033640"/>
            <a:ext cx="468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045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0" r="0" b="73157"/>
          <a:stretch/>
        </p:blipFill>
        <p:spPr>
          <a:xfrm>
            <a:off x="1619280" y="692280"/>
            <a:ext cx="6469200" cy="79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79167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What are modal verbs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18"/>
                </a:solidFill>
                <a:latin typeface="Arial"/>
              </a:rPr>
              <a:t>Modal verbs </a:t>
            </a:r>
            <a:r>
              <a:rPr b="0" lang="ru-RU" sz="2400" spc="-1" strike="noStrike">
                <a:solidFill>
                  <a:srgbClr val="181818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181818"/>
                </a:solidFill>
                <a:latin typeface="Arial"/>
              </a:rPr>
              <a:t>special kind of</a:t>
            </a:r>
            <a:r>
              <a:rPr b="1" lang="en-US" sz="2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uxiliary</a:t>
            </a:r>
            <a:r>
              <a:rPr b="1" lang="ru-RU" sz="2400" spc="-1" strike="noStrike">
                <a:solidFill>
                  <a:srgbClr val="b95a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verbs</a:t>
            </a:r>
            <a:r>
              <a:rPr b="1" lang="ru-RU" sz="2400" spc="-1" strike="noStrike">
                <a:solidFill>
                  <a:srgbClr val="18181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at  provide additional and specific  meaning to the main verb of the  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AN 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UST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AVE TO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You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HOULD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use modal ver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42483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unctions of modal verb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5830" r="0" b="0"/>
          <a:stretch/>
        </p:blipFill>
        <p:spPr>
          <a:xfrm>
            <a:off x="684360" y="2852640"/>
            <a:ext cx="7061040" cy="3600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al verbs are used to express the following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029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Modals of abil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000" y="1268280"/>
            <a:ext cx="34290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CAN – BE ABL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50920" y="1905120"/>
          <a:ext cx="8642160" cy="4448160"/>
        </p:xfrm>
        <a:graphic>
          <a:graphicData uri="http://schemas.openxmlformats.org/drawingml/2006/table">
            <a:tbl>
              <a:tblPr/>
              <a:tblGrid>
                <a:gridCol w="1568520"/>
                <a:gridCol w="2338200"/>
                <a:gridCol w="3306960"/>
                <a:gridCol w="1428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S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CA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= general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hysical or mental ability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/ CAN’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im like a fish.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’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ak Spanish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lk for hours when they lived together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LDN’T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ingle or 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n’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win the race.      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uldn’t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rite well when we were in primary school.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----------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3880" y="190440"/>
            <a:ext cx="7010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Modals of ability</a:t>
            </a:r>
            <a:endParaRPr b="0" lang="en-US" sz="42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920" y="1413000"/>
          <a:ext cx="8569080" cy="5057640"/>
        </p:xfrm>
        <a:graphic>
          <a:graphicData uri="http://schemas.openxmlformats.org/drawingml/2006/table">
            <a:tbl>
              <a:tblPr/>
              <a:tblGrid>
                <a:gridCol w="1555560"/>
                <a:gridCol w="2637000"/>
                <a:gridCol w="2162160"/>
                <a:gridCol w="22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B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AM / IS / AR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WAS / WERE ABLE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66"/>
                          </a:solidFill>
                          <a:latin typeface="Arial"/>
                          <a:ea typeface="Times New Roman"/>
                        </a:rPr>
                        <a:t>WILL BE ABLE TO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physical or mental ability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(more formal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m able t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 the problem myself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sn’t able to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lk because she has broken her leg.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ed action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as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wim across the river when he was young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actio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= managed to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er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get home before midnigh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31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y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eren’t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limb the mountain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ingle or repeated actions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ou’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ll b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drive a car if you practise a lot.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won’t be able to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tend the conference next month.                                         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Modals of oblig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MUST vs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11280" y="1484280"/>
          <a:ext cx="7924680" cy="4780080"/>
        </p:xfrm>
        <a:graphic>
          <a:graphicData uri="http://schemas.openxmlformats.org/drawingml/2006/table">
            <a:tbl>
              <a:tblPr/>
              <a:tblGrid>
                <a:gridCol w="3713040"/>
                <a:gridCol w="42116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ust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Have to</a:t>
                      </a:r>
                      <a:endParaRPr b="0" lang="en-US" sz="22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390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аз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ross the street on the green ligh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your homework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моё личное обязательство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Я решаю):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put on too much weight.           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u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 on a diet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ктуется обстоятельствами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= вынужден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 have a terrible toothache. I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go to the dentist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eorge can’t come out with us this evening. 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work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336666"/>
                        </a:buClr>
                        <a:buSzPct val="70000"/>
                        <a:buFont typeface="Times New Roman"/>
                        <a:buChar char="-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а  (= кто-то другой решает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choolchildren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wear a uniform.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390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the project for the History lesson.    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46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66"/>
                </a:solidFill>
                <a:latin typeface="Arial"/>
              </a:rPr>
              <a:t>MUSTN’T vs DON’T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2133720"/>
          <a:ext cx="7632720" cy="1614240"/>
        </p:xfrm>
        <a:graphic>
          <a:graphicData uri="http://schemas.openxmlformats.org/drawingml/2006/table">
            <a:tbl>
              <a:tblPr/>
              <a:tblGrid>
                <a:gridCol w="4086000"/>
                <a:gridCol w="35467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mustn</a:t>
                      </a: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это противозаконно или запрещено, поэтому НЕ делайте это.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993366"/>
                      </a:solidFill>
                    </a:lnL>
                    <a:lnR w="12240">
                      <a:solidFill>
                        <a:srgbClr val="993366"/>
                      </a:solidFill>
                    </a:lnR>
                    <a:lnT w="12240">
                      <a:solidFill>
                        <a:srgbClr val="993366"/>
                      </a:solidFill>
                    </a:lnT>
                    <a:lnB w="12240">
                      <a:solidFill>
                        <a:srgbClr val="99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don’t have 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do someth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ам НЕТ НЕОБХОДИМОСТИ делать это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о если хотите, то делайте)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993366"/>
                      </a:solidFill>
                    </a:lnL>
                    <a:lnR w="12240">
                      <a:solidFill>
                        <a:srgbClr val="993366"/>
                      </a:solidFill>
                    </a:lnR>
                    <a:lnT w="12240">
                      <a:solidFill>
                        <a:srgbClr val="993366"/>
                      </a:solidFill>
                    </a:lnT>
                    <a:lnB w="12240">
                      <a:solidFill>
                        <a:srgbClr val="99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rcRect l="9002" t="0" r="8438" b="0"/>
          <a:stretch/>
        </p:blipFill>
        <p:spPr>
          <a:xfrm>
            <a:off x="1403280" y="3789360"/>
            <a:ext cx="2448000" cy="2733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860640"/>
            <a:ext cx="2562120" cy="252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47640" y="1628640"/>
            <a:ext cx="25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PROHIBI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Verdana"/>
              </a:rPr>
              <a:t>LACK OF NECESSITY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777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DON’T HAVE TO – DON’T NEED TO -  NEE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010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Lack of neces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221000"/>
            <a:ext cx="8089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Absence of necessity: </a:t>
            </a:r>
            <a:r>
              <a:rPr b="1" lang="en-US" sz="2800" spc="-1" strike="noStrike">
                <a:solidFill>
                  <a:srgbClr val="ff0066"/>
                </a:solidFill>
                <a:latin typeface="Cambria"/>
              </a:rPr>
              <a:t>NEEDN’T HAVE T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9780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83534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3T00:25:55Z</dcterms:created>
  <dc:creator>GRANT</dc:creator>
  <dc:description/>
  <dc:language>en-US</dc:language>
  <cp:lastModifiedBy>GRANT</cp:lastModifiedBy>
  <dcterms:modified xsi:type="dcterms:W3CDTF">2023-04-12T17:30:39Z</dcterms:modified>
  <cp:revision>37</cp:revision>
  <dc:subject/>
  <dc:title>MODALS OF SPECULATION</dc:title>
</cp:coreProperties>
</file>