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6080-246D-4545-93D1-771E9133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9C3F-82EC-4EDD-A603-65FE68D5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B2F-4ECC-4648-904E-6B42B509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F24-0904-4570-B5A1-4D4B40F8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37CC-66D0-4A65-8340-AF15B2EE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094C-2636-4C4D-97AC-B60B2C7E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AC2B-AB65-4568-947D-AE4EFB5C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EDAD-1B78-47FC-B13C-2E48D10E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0898-2E68-4D4E-A0AD-827122AE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BFCE-5CF3-4238-8482-539CADC5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9672-A6BC-440B-9901-5C5C3F1D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868-F34F-4BDB-BFC6-92243DC6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1AAB-2D57-4390-8B0C-26A101C2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8435-D4F8-4D72-BF31-1667FFB2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B8F7-E535-4376-B3BE-926EDB50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8D8F-679A-4BE0-906D-C23492BD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325C-E266-4498-8BED-5D5A7548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3BB5-7FC9-4BA2-8F59-2D28A325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E49-1355-4875-9593-A3E71F87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0A0-F89C-49CD-9B1E-642C00C4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53CB-3CCE-46FC-A2A9-1908E662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17C-1929-4369-B031-C46ACCE7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ED9E-5F04-4282-936C-922BC79D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869F-3503-497A-8B9A-6AE38F1E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9205-E955-4B06-B89F-A3CB5243EFE7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2030-336F-4867-833D-C2D4CCFEADDD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71640" y="3213000"/>
            <a:ext cx="7315200" cy="3200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17707" t="0" r="31094" b="77878"/>
          <a:stretch/>
        </p:blipFill>
        <p:spPr>
          <a:xfrm>
            <a:off x="2124000" y="1371600"/>
            <a:ext cx="5904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80640" y="1268280"/>
            <a:ext cx="8163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MUST – SHOULD – OUGHT TO -  HAD BET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547640" y="404280"/>
            <a:ext cx="7010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Obligation → adv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1885320"/>
            <a:ext cx="36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mbria"/>
                <a:ea typeface="Times New Roman"/>
              </a:rPr>
              <a:t>1. Must </a:t>
            </a:r>
            <a:r>
              <a:rPr b="1" lang="ru-RU" sz="2800" spc="-1" strike="noStrike">
                <a:solidFill>
                  <a:srgbClr val="cc3300"/>
                </a:solidFill>
                <a:latin typeface="Cambria"/>
                <a:ea typeface="Times New Roman"/>
              </a:rPr>
              <a:t> - </a:t>
            </a:r>
            <a:r>
              <a:rPr b="1" lang="en-US" sz="2800" spc="-1" strike="noStrike">
                <a:solidFill>
                  <a:srgbClr val="cc3300"/>
                </a:solidFill>
                <a:latin typeface="Cambria"/>
                <a:ea typeface="Times New Roman"/>
              </a:rPr>
              <a:t>Should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39640" y="2565360"/>
          <a:ext cx="7992720" cy="3624120"/>
        </p:xfrm>
        <a:graphic>
          <a:graphicData uri="http://schemas.openxmlformats.org/drawingml/2006/table">
            <a:tbl>
              <a:tblPr/>
              <a:tblGrid>
                <a:gridCol w="3913560"/>
                <a:gridCol w="4079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Must / mustn’t                                    = 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должен</a:t>
                      </a:r>
                      <a:r>
                        <a:rPr b="1" i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/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запрещено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Should</a:t>
                      </a: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/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shouldn</a:t>
                      </a: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=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следует </a:t>
                      </a: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не следует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mu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o someth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это приказ или настойчивый совет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is film is great! You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must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e it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houl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o someth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это совет или рекомендация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’s cold there. You 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hould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ake some warm clothe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mustn’t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someth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прет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mustn’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walk the dog here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houldn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o someth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это совет или рекомендация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houldn’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eat a lot of fast food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Obligation → adv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4840" y="98028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mbria"/>
              </a:rPr>
              <a:t>2. SHOULD - OUGHT TO -  HAD BETTER</a:t>
            </a:r>
            <a:r>
              <a:rPr b="0" lang="ru-RU" sz="2800" spc="-1" strike="noStrike">
                <a:solidFill>
                  <a:srgbClr val="336666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700280"/>
          <a:ext cx="8353440" cy="4462560"/>
        </p:xfrm>
        <a:graphic>
          <a:graphicData uri="http://schemas.openxmlformats.org/drawingml/2006/table">
            <a:tbl>
              <a:tblPr/>
              <a:tblGrid>
                <a:gridCol w="2663640"/>
                <a:gridCol w="3024360"/>
                <a:gridCol w="2665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12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SHOULD (not) + infinitiv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e 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= следует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2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l advice or recommendation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ne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uld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rcise more often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12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OUGHT (not) TO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infinitive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= следует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ul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(it’s a good thing to do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metimes implies moral obligation. It’s the right thing to do, but we don’t always do it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s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ght to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y hard if they really want to graduate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HAD BETTER (not) + infinitive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= 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лучше бы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129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ice only for a particular situation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4680" indent="129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ten implies some sort of problem if the advice isn’t followed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129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's freezing cold today.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'd better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put on gloves and a scarf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particular situation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27280" y="907200"/>
            <a:ext cx="45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mbria"/>
                <a:ea typeface="Times New Roman"/>
              </a:rPr>
              <a:t>3. Should</a:t>
            </a:r>
            <a:r>
              <a:rPr b="1" lang="ru-RU" sz="2800" spc="-1" strike="noStrike">
                <a:solidFill>
                  <a:srgbClr val="cc3300"/>
                </a:solidFill>
                <a:latin typeface="Cambria"/>
                <a:ea typeface="Times New Roman"/>
              </a:rPr>
              <a:t> – </a:t>
            </a:r>
            <a:r>
              <a:rPr b="1" lang="en-US" sz="2800" spc="-1" strike="noStrike">
                <a:solidFill>
                  <a:srgbClr val="cc3300"/>
                </a:solidFill>
                <a:latin typeface="Cambria"/>
                <a:ea typeface="Times New Roman"/>
              </a:rPr>
              <a:t>Be supposed t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9640" y="1628640"/>
          <a:ext cx="8353440" cy="4946760"/>
        </p:xfrm>
        <a:graphic>
          <a:graphicData uri="http://schemas.openxmlformats.org/drawingml/2006/table">
            <a:tbl>
              <a:tblPr/>
              <a:tblGrid>
                <a:gridCol w="2662200"/>
                <a:gridCol w="2954520"/>
                <a:gridCol w="273672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Should / shouldn’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Be supposed to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= 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следовало бы, предполагается, что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(кто-то что-то делает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 expected to behave in a particular way, especially  according to a rule, an agreement, or someone in authority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uld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ttend the seminar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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t’s a good idea because I can get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me useful information.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uldn’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rink much fizzy drink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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t’s not a good idea because you may put on weight.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’m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sed to 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tend the seminar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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he manager expects me to do so.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n’t supposed to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have more than two drink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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he reception organisers planned it so.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Obligation → adv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3" descr=""/>
          <p:cNvPicPr/>
          <p:nvPr/>
        </p:nvPicPr>
        <p:blipFill>
          <a:blip r:embed="rId1"/>
          <a:stretch/>
        </p:blipFill>
        <p:spPr>
          <a:xfrm rot="20341800">
            <a:off x="2050920" y="2204640"/>
            <a:ext cx="4870440" cy="4176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23880" y="190440"/>
            <a:ext cx="7010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Modals of permission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424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ambria"/>
              </a:rPr>
              <a:t>CAN – MAY – BE ALLOWED TO – BE PERMITT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24000" y="1507680"/>
            <a:ext cx="4225680" cy="4057920"/>
          </a:xfrm>
          <a:prstGeom prst="rect">
            <a:avLst/>
          </a:prstGeom>
          <a:solidFill>
            <a:srgbClr val="f1f1de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can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/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be allowed to 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(to talk about the </a:t>
            </a:r>
            <a:r>
              <a:rPr b="1" i="1" lang="ru-RU" sz="2000" spc="-1" strike="noStrike">
                <a:solidFill>
                  <a:srgbClr val="fb85d4"/>
                </a:solidFill>
                <a:latin typeface="Arial"/>
              </a:rPr>
              <a:t>future</a:t>
            </a:r>
            <a:r>
              <a:rPr b="1" i="1" lang="ru-RU" sz="2000" spc="-1" strike="noStrike">
                <a:solidFill>
                  <a:srgbClr val="f5c4c5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or 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present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could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(to talk about the 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past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 - used for </a:t>
            </a:r>
            <a:r>
              <a:rPr b="0" i="1" lang="ru-RU" sz="2000" spc="-1" strike="noStrike" u="sng">
                <a:solidFill>
                  <a:srgbClr val="336666"/>
                </a:solidFill>
                <a:uFillTx/>
                <a:latin typeface="Arial"/>
              </a:rPr>
              <a:t>repeated actions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was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/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were allowed to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to talk about the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 past 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- used for </a:t>
            </a:r>
            <a:r>
              <a:rPr b="0" i="1" lang="ru-RU" sz="2000" spc="-1" strike="noStrike" u="sng">
                <a:solidFill>
                  <a:srgbClr val="336666"/>
                </a:solidFill>
                <a:uFillTx/>
                <a:latin typeface="Arial"/>
              </a:rPr>
              <a:t>repeated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 or </a:t>
            </a:r>
            <a:r>
              <a:rPr b="0" i="1" lang="ru-RU" sz="2000" spc="-1" strike="noStrike" u="sng">
                <a:solidFill>
                  <a:srgbClr val="336666"/>
                </a:solidFill>
                <a:uFillTx/>
                <a:latin typeface="Arial"/>
              </a:rPr>
              <a:t>single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 actions)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31c07"/>
                </a:solidFill>
                <a:latin typeface="Arial"/>
              </a:rPr>
              <a:t>couldn't </a:t>
            </a:r>
            <a:r>
              <a:rPr b="1" lang="en-US" sz="2000" spc="-1" strike="noStrike">
                <a:solidFill>
                  <a:srgbClr val="cc2d19"/>
                </a:solidFill>
                <a:latin typeface="Arial"/>
              </a:rPr>
              <a:t>/ </a:t>
            </a:r>
            <a:r>
              <a:rPr b="1" lang="en-US" sz="2000" spc="-1" strike="noStrike">
                <a:solidFill>
                  <a:srgbClr val="d31c07"/>
                </a:solidFill>
                <a:latin typeface="Arial"/>
              </a:rPr>
              <a:t>wasn't allowed to </a:t>
            </a:r>
            <a:r>
              <a:rPr b="1" i="1" lang="en-US" sz="2000" spc="-1" strike="noStrike">
                <a:solidFill>
                  <a:srgbClr val="050505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50505"/>
                </a:solidFill>
                <a:latin typeface="Arial"/>
              </a:rPr>
              <a:t>in </a:t>
            </a:r>
            <a:r>
              <a:rPr b="1" i="1" lang="en-US" sz="2000" spc="-1" strike="noStrike">
                <a:solidFill>
                  <a:srgbClr val="050505"/>
                </a:solidFill>
                <a:latin typeface="Arial"/>
              </a:rPr>
              <a:t>negations</a:t>
            </a:r>
            <a:r>
              <a:rPr b="0" i="1" lang="en-US" sz="2000" spc="-1" strike="noStrike">
                <a:solidFill>
                  <a:srgbClr val="050505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50505"/>
                </a:solidFill>
                <a:latin typeface="Arial"/>
              </a:rPr>
              <a:t>questions</a:t>
            </a:r>
            <a:r>
              <a:rPr b="0" i="1" lang="en-US" sz="2000" spc="-1" strike="noStrike">
                <a:solidFill>
                  <a:srgbClr val="050505"/>
                </a:solidFill>
                <a:latin typeface="Arial"/>
              </a:rPr>
              <a:t> for either repeated or single actions)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3" name="Прямоугольник 7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4254480" cy="4032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692360" y="587700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llow = permit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more form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76360" y="765000"/>
            <a:ext cx="72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ambria"/>
              </a:rPr>
              <a:t>CAN –BE ALLOWED TO – BE PERMITTED T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1"/>
          <p:cNvSpPr/>
          <p:nvPr/>
        </p:nvSpPr>
        <p:spPr>
          <a:xfrm>
            <a:off x="7524720" y="6580080"/>
            <a:ext cx="151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Verdana"/>
              </a:rPr>
              <a:t>Рычкова Н.И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403200" y="789120"/>
            <a:ext cx="3952800" cy="642600"/>
          </a:xfrm>
          <a:prstGeom prst="rect">
            <a:avLst/>
          </a:prstGeom>
          <a:solidFill>
            <a:srgbClr val="f1f1de"/>
          </a:solidFill>
          <a:ln w="936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can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informal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/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could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more formal</a:t>
            </a:r>
            <a:r>
              <a:rPr b="1" i="1" lang="en-GB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336666"/>
                </a:solidFill>
                <a:latin typeface="Arial"/>
              </a:rPr>
              <a:t>and </a:t>
            </a:r>
            <a:r>
              <a:rPr b="1" i="1" lang="en-GB" sz="1800" spc="-1" strike="noStrike">
                <a:solidFill>
                  <a:srgbClr val="0070c0"/>
                </a:solidFill>
                <a:latin typeface="Arial"/>
              </a:rPr>
              <a:t>polite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4368960" y="804960"/>
            <a:ext cx="4491000" cy="642600"/>
          </a:xfrm>
          <a:prstGeom prst="rect">
            <a:avLst/>
          </a:prstGeom>
          <a:noFill/>
          <a:ln w="936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E</a:t>
            </a:r>
            <a:r>
              <a:rPr b="1" i="1" lang="en-GB" sz="1800" spc="-1" strike="noStrike">
                <a:solidFill>
                  <a:srgbClr val="336666"/>
                </a:solidFill>
                <a:latin typeface="Arial"/>
              </a:rPr>
              <a:t>g. </a:t>
            </a:r>
            <a:r>
              <a:rPr b="0" i="1" lang="en-US" sz="1800" spc="-1" strike="noStrike">
                <a:solidFill>
                  <a:srgbClr val="0033cc"/>
                </a:solidFill>
                <a:latin typeface="Arial"/>
              </a:rPr>
              <a:t>~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Can 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/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Could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 I interrupt you for a second?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415800" y="1576440"/>
            <a:ext cx="3940200" cy="642600"/>
          </a:xfrm>
          <a:prstGeom prst="rect">
            <a:avLst/>
          </a:prstGeom>
          <a:solidFill>
            <a:srgbClr val="f1f1de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may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formal</a:t>
            </a:r>
            <a:r>
              <a:rPr b="1" lang="en-GB" sz="1800" spc="-1" strike="noStrike">
                <a:solidFill>
                  <a:srgbClr val="336666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/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might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very formal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Прямоугольник 9"/>
          <p:cNvSpPr/>
          <p:nvPr/>
        </p:nvSpPr>
        <p:spPr>
          <a:xfrm>
            <a:off x="4371840" y="1576440"/>
            <a:ext cx="4491000" cy="6426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E</a:t>
            </a:r>
            <a:r>
              <a:rPr b="1" i="1" lang="en-GB" sz="1800" spc="-1" strike="noStrike">
                <a:solidFill>
                  <a:srgbClr val="336666"/>
                </a:solidFill>
                <a:latin typeface="Arial"/>
              </a:rPr>
              <a:t>g. </a:t>
            </a:r>
            <a:r>
              <a:rPr b="0" i="1" lang="en-US" sz="1800" spc="-1" strike="noStrike">
                <a:solidFill>
                  <a:srgbClr val="0033cc"/>
                </a:solidFill>
                <a:latin typeface="Arial"/>
              </a:rPr>
              <a:t>~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May 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/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Might 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I speak to the bank manager, please?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Прямоугольник 11"/>
          <p:cNvSpPr/>
          <p:nvPr/>
        </p:nvSpPr>
        <p:spPr>
          <a:xfrm>
            <a:off x="441360" y="2932200"/>
            <a:ext cx="3927600" cy="3750840"/>
          </a:xfrm>
          <a:prstGeom prst="rect">
            <a:avLst/>
          </a:prstGeom>
          <a:solidFill>
            <a:srgbClr val="f1f1de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can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informal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; giving permission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Note: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could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is not used </a:t>
            </a:r>
            <a:r>
              <a:rPr b="0" i="1" lang="ru-RU" sz="1800" spc="-1" strike="noStrike" u="sng">
                <a:solidFill>
                  <a:srgbClr val="336666"/>
                </a:solidFill>
                <a:uFillTx/>
                <a:latin typeface="Arial"/>
              </a:rPr>
              <a:t>in </a:t>
            </a:r>
            <a:r>
              <a:rPr b="0" i="1" lang="ru-RU" sz="1800" spc="-1" strike="noStrike" u="sng">
                <a:solidFill>
                  <a:srgbClr val="008000"/>
                </a:solidFill>
                <a:uFillTx/>
                <a:latin typeface="Arial"/>
              </a:rPr>
              <a:t>the present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i="1" lang="ru-RU" sz="1800" spc="-1" strike="noStrike" u="sng">
                <a:solidFill>
                  <a:srgbClr val="336666"/>
                </a:solidFill>
                <a:uFillTx/>
                <a:latin typeface="Arial"/>
              </a:rPr>
              <a:t>to give permission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may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formal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; giving permission - also used in </a:t>
            </a:r>
            <a:r>
              <a:rPr b="0" i="1" lang="ru-RU" sz="1800" spc="-1" strike="noStrike" u="sng">
                <a:solidFill>
                  <a:srgbClr val="336666"/>
                </a:solidFill>
                <a:uFillTx/>
                <a:latin typeface="Arial"/>
              </a:rPr>
              <a:t>written notices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 or </a:t>
            </a:r>
            <a:r>
              <a:rPr b="0" i="1" lang="ru-RU" sz="1800" spc="-1" strike="noStrike" u="sng">
                <a:solidFill>
                  <a:srgbClr val="336666"/>
                </a:solidFill>
                <a:uFillTx/>
                <a:latin typeface="Arial"/>
              </a:rPr>
              <a:t>formal announcements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mustn't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/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can't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informal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- refusing permission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may not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formal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- refusing permission)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3" name="Прямоугольник 12" descr=""/>
          <p:cNvPicPr/>
          <p:nvPr/>
        </p:nvPicPr>
        <p:blipFill>
          <a:blip r:embed="rId1"/>
          <a:stretch/>
        </p:blipFill>
        <p:spPr>
          <a:xfrm>
            <a:off x="4303800" y="2889360"/>
            <a:ext cx="4627440" cy="3835440"/>
          </a:xfrm>
          <a:prstGeom prst="rect">
            <a:avLst/>
          </a:prstGeom>
          <a:ln w="0">
            <a:noFill/>
          </a:ln>
        </p:spPr>
      </p:pic>
      <p:sp>
        <p:nvSpPr>
          <p:cNvPr id="144" name="_s1033"/>
          <p:cNvSpPr/>
          <p:nvPr/>
        </p:nvSpPr>
        <p:spPr>
          <a:xfrm>
            <a:off x="1258920" y="177840"/>
            <a:ext cx="6553080" cy="515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Asking for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permission</a:t>
            </a:r>
            <a:r>
              <a:rPr b="1" lang="en-GB" sz="2000" spc="-1" strike="noStrike">
                <a:solidFill>
                  <a:srgbClr val="3366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_s1033"/>
          <p:cNvSpPr/>
          <p:nvPr/>
        </p:nvSpPr>
        <p:spPr>
          <a:xfrm>
            <a:off x="1258920" y="2330280"/>
            <a:ext cx="6553080" cy="516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Giving </a:t>
            </a:r>
            <a:r>
              <a:rPr b="1" lang="ru-RU" sz="2000" spc="-1" strike="noStrike">
                <a:solidFill>
                  <a:srgbClr val="336666"/>
                </a:solidFill>
                <a:latin typeface="Verdana"/>
              </a:rPr>
              <a:t>or</a:t>
            </a: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 refusing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permission</a:t>
            </a:r>
            <a:r>
              <a:rPr b="1" lang="en-GB" sz="2000" spc="-1" strike="noStrike">
                <a:solidFill>
                  <a:srgbClr val="3366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979640" y="260280"/>
            <a:ext cx="6477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66"/>
                </a:solidFill>
                <a:latin typeface="Arial"/>
              </a:rPr>
              <a:t>MODALS OF SPECULATION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16360" y="2033640"/>
            <a:ext cx="4680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80456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4978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0" t="0" r="0" b="73157"/>
          <a:stretch/>
        </p:blipFill>
        <p:spPr>
          <a:xfrm>
            <a:off x="1619280" y="692280"/>
            <a:ext cx="6469200" cy="792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791676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What are modal verb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249192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1818"/>
                </a:solidFill>
                <a:latin typeface="Arial"/>
              </a:rPr>
              <a:t>Modal verbs </a:t>
            </a:r>
            <a:r>
              <a:rPr b="0" lang="ru-RU" sz="2400" spc="-1" strike="noStrike">
                <a:solidFill>
                  <a:srgbClr val="181818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181818"/>
                </a:solidFill>
                <a:latin typeface="Arial"/>
              </a:rPr>
              <a:t>special kind of</a:t>
            </a:r>
            <a:r>
              <a:rPr b="1" lang="en-US" sz="2400" spc="-1" strike="noStrike">
                <a:solidFill>
                  <a:srgbClr val="18181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uxiliary</a:t>
            </a:r>
            <a:r>
              <a:rPr b="1" lang="ru-RU" sz="2400" spc="-1" strike="noStrike">
                <a:solidFill>
                  <a:srgbClr val="b95a2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verbs</a:t>
            </a:r>
            <a:r>
              <a:rPr b="1" lang="ru-RU" sz="2400" spc="-1" strike="noStrike">
                <a:solidFill>
                  <a:srgbClr val="18181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at  provide additional and specific  meaning to the main verb of the  sent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You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AN 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use modal ver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You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use modal ver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You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AVE TO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use modal ver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You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SHOULD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use modal ver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84360" y="1341360"/>
            <a:ext cx="424836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Functions of modal verb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25830" r="0" b="0"/>
          <a:stretch/>
        </p:blipFill>
        <p:spPr>
          <a:xfrm>
            <a:off x="684360" y="2852640"/>
            <a:ext cx="7061040" cy="3600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1557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al verbs are used to express the following fun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63640" y="2060640"/>
            <a:ext cx="50292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Modals of abili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92000" y="1268280"/>
            <a:ext cx="342900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CAN – BE ABLE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50920" y="1905120"/>
          <a:ext cx="8642160" cy="4448160"/>
        </p:xfrm>
        <a:graphic>
          <a:graphicData uri="http://schemas.openxmlformats.org/drawingml/2006/table">
            <a:tbl>
              <a:tblPr/>
              <a:tblGrid>
                <a:gridCol w="1568520"/>
                <a:gridCol w="2338200"/>
                <a:gridCol w="3306960"/>
                <a:gridCol w="1428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S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3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CAN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= general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physical or mental ability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/ CAN’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wim like a fish.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e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’t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ak Spanish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LD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epeated action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y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uld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lk for hours when they lived together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LDN’T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ingle or repeated action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uldn’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win the race.                                    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uldn’t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te well when we were in primary school.   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---------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3880" y="190440"/>
            <a:ext cx="7010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Modals of ability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0920" y="1413000"/>
          <a:ext cx="8569080" cy="5057640"/>
        </p:xfrm>
        <a:graphic>
          <a:graphicData uri="http://schemas.openxmlformats.org/drawingml/2006/table">
            <a:tbl>
              <a:tblPr/>
              <a:tblGrid>
                <a:gridCol w="1555560"/>
                <a:gridCol w="2637000"/>
                <a:gridCol w="2162160"/>
                <a:gridCol w="221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BE ABLE TO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66"/>
                          </a:solidFill>
                          <a:latin typeface="Arial"/>
                          <a:ea typeface="Times New Roman"/>
                        </a:rPr>
                        <a:t>AM / IS / ARE ABLE TO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66"/>
                          </a:solidFill>
                          <a:latin typeface="Arial"/>
                          <a:ea typeface="Times New Roman"/>
                        </a:rPr>
                        <a:t>WAS / WERE ABLE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66"/>
                          </a:solidFill>
                          <a:latin typeface="Arial"/>
                          <a:ea typeface="Times New Roman"/>
                        </a:rPr>
                        <a:t>WILL BE ABLE TO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general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physical or mental ability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(more formal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am able to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 the problem myself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e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isn’t able to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lk because she has broken her leg.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13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ed action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was able to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swim across the river when he was young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13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gle action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= managed to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were able to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get home before midnight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y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weren’t able to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limb the mountain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ingle or repeated action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’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ll be able to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rive a car if you practise a lot.                              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won’t be able to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ttend the conference next month.                                            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Modals of oblig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201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Arial"/>
              </a:rPr>
              <a:t>MUST vs HAV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11280" y="1484280"/>
          <a:ext cx="7924680" cy="4780080"/>
        </p:xfrm>
        <a:graphic>
          <a:graphicData uri="http://schemas.openxmlformats.org/drawingml/2006/table">
            <a:tbl>
              <a:tblPr/>
              <a:tblGrid>
                <a:gridCol w="3713040"/>
                <a:gridCol w="421164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ust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Have t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90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аз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mu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cross the street on the green light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mu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do your homework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 моё личное обязательство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Я решаю):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put on too much weight.           I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mu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go on a diet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6666"/>
                        </a:buClr>
                        <a:buSzPct val="70000"/>
                        <a:buFont typeface="Times New Roman"/>
                        <a:buChar char="-"/>
                        <a:tabLst>
                          <a:tab algn="l" pos="390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ктуется обстоятельствами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= вынужден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390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 have a terrible toothache. I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ave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go to the dentis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390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eorge can’t come out with us this evening. He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as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work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90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6666"/>
                        </a:buClr>
                        <a:buSzPct val="70000"/>
                        <a:buFont typeface="Times New Roman"/>
                        <a:buChar char="-"/>
                        <a:tabLst>
                          <a:tab algn="l" pos="390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вила  (= кто-то другой решает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390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choolchildren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ave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wear a uniform. 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390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he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as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do the project for the History lesson.   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7640" y="549360"/>
            <a:ext cx="6467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Arial"/>
              </a:rPr>
              <a:t>MUSTN’T vs DON’T HAV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2133720"/>
          <a:ext cx="7632720" cy="1614240"/>
        </p:xfrm>
        <a:graphic>
          <a:graphicData uri="http://schemas.openxmlformats.org/drawingml/2006/table">
            <a:tbl>
              <a:tblPr/>
              <a:tblGrid>
                <a:gridCol w="4086000"/>
                <a:gridCol w="3546720"/>
              </a:tblGrid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mustn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’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do someth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 это противозаконно или запрещено, поэтому НЕ делайте это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993366"/>
                      </a:solidFill>
                    </a:lnL>
                    <a:lnR w="12240">
                      <a:solidFill>
                        <a:srgbClr val="993366"/>
                      </a:solidFill>
                    </a:lnR>
                    <a:lnT w="12240">
                      <a:solidFill>
                        <a:srgbClr val="993366"/>
                      </a:solidFill>
                    </a:lnT>
                    <a:lnB w="12240">
                      <a:solidFill>
                        <a:srgbClr val="99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don’t have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do someth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м НЕТ НЕОБХОДИМОСТИ делать это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но если хотите, то делайте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993366"/>
                      </a:solidFill>
                    </a:lnL>
                    <a:lnR w="12240">
                      <a:solidFill>
                        <a:srgbClr val="993366"/>
                      </a:solidFill>
                    </a:lnR>
                    <a:lnT w="12240">
                      <a:solidFill>
                        <a:srgbClr val="993366"/>
                      </a:solidFill>
                    </a:lnT>
                    <a:lnB w="12240">
                      <a:solidFill>
                        <a:srgbClr val="99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"/>
          <a:srcRect l="9002" t="0" r="8438" b="0"/>
          <a:stretch/>
        </p:blipFill>
        <p:spPr>
          <a:xfrm>
            <a:off x="1403280" y="3789360"/>
            <a:ext cx="2448000" cy="2733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3860640"/>
            <a:ext cx="2562120" cy="252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47640" y="1628640"/>
            <a:ext cx="25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PROHIBITION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88000" y="1628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LACK OF NECESSITY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777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ambria"/>
              </a:rPr>
              <a:t>DON’T HAVE TO – DON’T NEED TO -  NEED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010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Lack of neces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221000"/>
            <a:ext cx="8089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Absence of necessity: </a:t>
            </a:r>
            <a:r>
              <a:rPr b="1" lang="en-US" sz="2800" spc="-1" strike="noStrike">
                <a:solidFill>
                  <a:srgbClr val="ff0066"/>
                </a:solidFill>
                <a:latin typeface="Cambria"/>
              </a:rPr>
              <a:t>NEEDN’T HAVE T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497800" cy="1944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5157720"/>
            <a:ext cx="835344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3T00:25:55Z</dcterms:created>
  <dc:creator>GRANT</dc:creator>
  <dc:description/>
  <dc:language>en-US</dc:language>
  <cp:lastModifiedBy>GRANT</cp:lastModifiedBy>
  <dcterms:modified xsi:type="dcterms:W3CDTF">2023-04-12T17:30:39Z</dcterms:modified>
  <cp:revision>37</cp:revision>
  <dc:subject/>
  <dc:title>MODALS OF SPECULATION</dc:title>
</cp:coreProperties>
</file>