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9A6-D0C5-48D4-9371-255BBE5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996-3B80-4FEB-8329-9BB5FB49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62C-BC31-4C0F-93DE-CC07AD6A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FAA-00F4-436A-9305-A8641B83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3A13-E378-44BA-9D66-F1A5EBE5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711F-EF7F-4956-911D-DF1EDA93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EBDE-90DA-4B7D-B36D-1AE1BDD2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7661-49AF-4962-BF69-54DF6A6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2AF6-27D4-47A9-AAA3-F148FFFA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9C8B-F857-4112-893E-D0080F7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FCF9-5B78-4587-9C5C-778BDCF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6A4-3E59-4099-8517-8BC0D12B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A52F-A085-4A10-AD2A-0D0DB20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AE8B-2606-4594-8F2B-71F1E40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288F-3891-4542-AC30-2BF3D91E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0B6-FE18-4B12-B92D-F33A8E98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1895-576E-4616-B4BF-0ECDB4AF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F00-F6DD-427F-9E36-75D54C0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F69-E0D2-4E47-A013-7C9BA7F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C93-8219-4F3E-BEEE-370E58B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C56-73A1-4F80-898F-6243B81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E0E-F342-4C98-8546-7D5128C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FED-7D64-416E-8221-02B9897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E5B-DE52-4776-86FD-033E152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E66-9045-4CB5-9C11-D6F56076B46A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ED04-0D19-4F22-B16B-73EF01844FFA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731520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7707" t="0" r="31094" b="77878"/>
          <a:stretch/>
        </p:blipFill>
        <p:spPr>
          <a:xfrm>
            <a:off x="2124000" y="1371600"/>
            <a:ext cx="590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80640" y="1268280"/>
            <a:ext cx="8163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MUST – SHOULD – OUGHT TO -  HAD BE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1885320"/>
            <a:ext cx="36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1. Must 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Should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2565360"/>
          <a:ext cx="7992720" cy="3624120"/>
        </p:xfrm>
        <a:graphic>
          <a:graphicData uri="http://schemas.openxmlformats.org/drawingml/2006/table">
            <a:tbl>
              <a:tblPr/>
              <a:tblGrid>
                <a:gridCol w="3913560"/>
                <a:gridCol w="4079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Must / mustn’t                                    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должен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запреще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следует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не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это приказ или настойчивый сов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film is great! 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e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’s cold there. 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ake some warm cloth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р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alk the dog her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eat a lot of fast foo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4840" y="98028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</a:rPr>
              <a:t>2. SHOULD - OUGHT TO -  HAD BETTER</a:t>
            </a:r>
            <a:r>
              <a:rPr b="0" lang="ru-RU" sz="2800" spc="-1" strike="noStrike">
                <a:solidFill>
                  <a:srgbClr val="336666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700280"/>
          <a:ext cx="8353440" cy="4462560"/>
        </p:xfrm>
        <a:graphic>
          <a:graphicData uri="http://schemas.openxmlformats.org/drawingml/2006/table">
            <a:tbl>
              <a:tblPr/>
              <a:tblGrid>
                <a:gridCol w="2663640"/>
                <a:gridCol w="3024360"/>
                <a:gridCol w="2665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(not) + infinitiv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advice or recommenda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rcise more ofte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OUGHT (not) TO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it’s a good thing to d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times implies moral obligation. It’s the right thing to do, but we don’t always do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ght 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y hard if they really want to graduat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HAD BETTER (not) + infinitiv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лучше б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ice only for a particular situ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 implies some sort of problem if the advice isn’t followe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's freezing cold today.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'd bette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ut on gloves and a scarf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rticular situation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7280" y="90720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3. Should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Be suppos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628640"/>
          <a:ext cx="8353440" cy="4946760"/>
        </p:xfrm>
        <a:graphic>
          <a:graphicData uri="http://schemas.openxmlformats.org/drawingml/2006/table">
            <a:tbl>
              <a:tblPr/>
              <a:tblGrid>
                <a:gridCol w="2662200"/>
                <a:gridCol w="2954520"/>
                <a:gridCol w="273672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/ should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supposed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следовало бы, предполагается, чт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кто-то что-то дел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 expected to behave in a particular way, especially  according to a rule, an agreement, or someone in authorit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semina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a good idea because I can ge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useful information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nk much fizzy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not a good idea because you may put on weight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’m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sed to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d the seminar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manager expects me to do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n’t supposed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ave more than two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reception organisers planned it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 rot="20341800">
            <a:off x="2050920" y="2204640"/>
            <a:ext cx="48704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permission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 MAY – BE ALLOWED TO – BE PERMIT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1507680"/>
            <a:ext cx="4225680" cy="4057920"/>
          </a:xfrm>
          <a:prstGeom prst="rect">
            <a:avLst/>
          </a:prstGeom>
          <a:solidFill>
            <a:srgbClr val="f1f1d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be allowed to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fb85d4"/>
                </a:solidFill>
                <a:latin typeface="Arial"/>
              </a:rPr>
              <a:t>future</a:t>
            </a:r>
            <a:r>
              <a:rPr b="1" i="1" lang="ru-RU" sz="2000" spc="-1" strike="noStrike">
                <a:solidFill>
                  <a:srgbClr val="f5c4c5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or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present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past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 actions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a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ere allowed to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to talk about the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past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single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actions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couldn't </a:t>
            </a:r>
            <a:r>
              <a:rPr b="1" lang="en-US" sz="2000" spc="-1" strike="noStrike">
                <a:solidFill>
                  <a:srgbClr val="cc2d19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wasn't allowed to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in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nega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ques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for either repeated or single action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Прямоугольник 7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2544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5877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llow = permi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more form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76500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BE ALLOWED TO – BE PERMITT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7524720" y="6580080"/>
            <a:ext cx="151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Verdana"/>
              </a:rPr>
              <a:t>Рычкова Н.И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03200" y="789120"/>
            <a:ext cx="39528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more formal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and 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polite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368960" y="804960"/>
            <a:ext cx="4491000" cy="64260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I interrupt you for a second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415800" y="1576440"/>
            <a:ext cx="39402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igh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very formal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4371840" y="1576440"/>
            <a:ext cx="449100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ay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ight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I speak to the bank manager, please?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441360" y="2932200"/>
            <a:ext cx="3927600" cy="375084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Note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is not used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in </a:t>
            </a:r>
            <a:r>
              <a:rPr b="0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the present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to give permiss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 - also used in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written notices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formal announcements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ustn'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'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- refus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 no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- refusing permission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Прямоугольник 12" descr=""/>
          <p:cNvPicPr/>
          <p:nvPr/>
        </p:nvPicPr>
        <p:blipFill>
          <a:blip r:embed="rId1"/>
          <a:stretch/>
        </p:blipFill>
        <p:spPr>
          <a:xfrm>
            <a:off x="4303800" y="2889360"/>
            <a:ext cx="4627440" cy="3835440"/>
          </a:xfrm>
          <a:prstGeom prst="rect">
            <a:avLst/>
          </a:prstGeom>
          <a:ln w="0">
            <a:noFill/>
          </a:ln>
        </p:spPr>
      </p:pic>
      <p:sp>
        <p:nvSpPr>
          <p:cNvPr id="144" name="_s1033"/>
          <p:cNvSpPr/>
          <p:nvPr/>
        </p:nvSpPr>
        <p:spPr>
          <a:xfrm>
            <a:off x="1258920" y="177840"/>
            <a:ext cx="6553080" cy="51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Asking for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_s1033"/>
          <p:cNvSpPr/>
          <p:nvPr/>
        </p:nvSpPr>
        <p:spPr>
          <a:xfrm>
            <a:off x="1258920" y="2330280"/>
            <a:ext cx="6553080" cy="516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Giving </a:t>
            </a:r>
            <a:r>
              <a:rPr b="1" lang="ru-RU" sz="2000" spc="-1" strike="noStrike">
                <a:solidFill>
                  <a:srgbClr val="336666"/>
                </a:solidFill>
                <a:latin typeface="Verdana"/>
              </a:rPr>
              <a:t>or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refusing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79640" y="260280"/>
            <a:ext cx="6477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"/>
              </a:rPr>
              <a:t>MODALS OF SPECULATION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16360" y="203364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045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73157"/>
          <a:stretch/>
        </p:blipFill>
        <p:spPr>
          <a:xfrm>
            <a:off x="1619280" y="692280"/>
            <a:ext cx="646920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16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What are modal verb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Modal verbs </a:t>
            </a:r>
            <a:r>
              <a:rPr b="0" lang="ru-RU" sz="2400" spc="-1" strike="noStrike">
                <a:solidFill>
                  <a:srgbClr val="181818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special kind of</a:t>
            </a:r>
            <a:r>
              <a:rPr b="1" lang="en-US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uxiliary</a:t>
            </a:r>
            <a:r>
              <a:rPr b="1" lang="ru-RU" sz="2400" spc="-1" strike="noStrike">
                <a:solidFill>
                  <a:srgbClr val="b95a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verbs</a:t>
            </a:r>
            <a:r>
              <a:rPr b="1" lang="ru-RU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at  provide additional and specific  meaning to the main verb of the  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VE TO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HOULD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483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unctions of modal verb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5830" r="0" b="0"/>
          <a:stretch/>
        </p:blipFill>
        <p:spPr>
          <a:xfrm>
            <a:off x="684360" y="2852640"/>
            <a:ext cx="706104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al verbs are used to express the following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029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000" y="1268280"/>
            <a:ext cx="34290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AN – BE ABL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905120"/>
          <a:ext cx="8642160" cy="4448160"/>
        </p:xfrm>
        <a:graphic>
          <a:graphicData uri="http://schemas.openxmlformats.org/drawingml/2006/table">
            <a:tbl>
              <a:tblPr/>
              <a:tblGrid>
                <a:gridCol w="1568520"/>
                <a:gridCol w="2338200"/>
                <a:gridCol w="3306960"/>
                <a:gridCol w="1428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A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/ CA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im like a fish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’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ak Spanish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lk for hours when they lived togethe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N’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in the race.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well when we were in primary school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--------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413000"/>
          <a:ext cx="8569080" cy="5057640"/>
        </p:xfrm>
        <a:graphic>
          <a:graphicData uri="http://schemas.openxmlformats.org/drawingml/2006/table">
            <a:tbl>
              <a:tblPr/>
              <a:tblGrid>
                <a:gridCol w="1555560"/>
                <a:gridCol w="2637000"/>
                <a:gridCol w="2162160"/>
                <a:gridCol w="22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AM / IS / AR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AS / WERE ABL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ILL 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more formal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 the problem myself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sn’t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lk because she has broken her leg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ed action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as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wim across the river when he was young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ac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= managed t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get home before midn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n’t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limb the mountai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’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l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ve a car if you practise a lot.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on’t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conference next month.        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oblig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 vs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1280" y="1484280"/>
          <a:ext cx="7924680" cy="4780080"/>
        </p:xfrm>
        <a:graphic>
          <a:graphicData uri="http://schemas.openxmlformats.org/drawingml/2006/table">
            <a:tbl>
              <a:tblPr/>
              <a:tblGrid>
                <a:gridCol w="3713040"/>
                <a:gridCol w="42116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Have 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9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ross the street on the green l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your home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моё личное обязательств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Я решаю)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put on too much weight.          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 on a die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ктуется обстоятельствам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= вынужден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have a terrible toothache.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go to the denti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orge can’t come out with us this evening. 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а  (= кто-то другой реш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hoolchildren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ear a uniform.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the project for the History lesson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46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N’T vs DON’T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2133720"/>
          <a:ext cx="7632720" cy="1614240"/>
        </p:xfrm>
        <a:graphic>
          <a:graphicData uri="http://schemas.openxmlformats.org/drawingml/2006/table">
            <a:tbl>
              <a:tblPr/>
              <a:tblGrid>
                <a:gridCol w="4086000"/>
                <a:gridCol w="35467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это противозаконно или запрещено, поэтому НЕ делайте это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do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м НЕТ НЕОБХОДИМОСТИ делать это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о если хотите, то делайте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rcRect l="9002" t="0" r="8438" b="0"/>
          <a:stretch/>
        </p:blipFill>
        <p:spPr>
          <a:xfrm>
            <a:off x="1403280" y="378936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562120" cy="252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162864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PROHIBI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LACK OF NECESSI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77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DON’T HAVE TO – DON’T NEED TO -  NEE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010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Lack of neces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221000"/>
            <a:ext cx="8089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Absence of necessity: </a:t>
            </a: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NEEDN’T HAVE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9780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8353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3T00:25:55Z</dcterms:created>
  <dc:creator>GRANT</dc:creator>
  <dc:description/>
  <dc:language>en-US</dc:language>
  <cp:lastModifiedBy>GRANT</cp:lastModifiedBy>
  <dcterms:modified xsi:type="dcterms:W3CDTF">2023-04-12T17:30:39Z</dcterms:modified>
  <cp:revision>37</cp:revision>
  <dc:subject/>
  <dc:title>MODALS OF SPECULATION</dc:title>
</cp:coreProperties>
</file>