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D8B8C-4DC6-4F89-B534-24F10E263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5"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8511-BF84-4739-B4AD-6DD1E625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8"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9"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0"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2257D-1EE9-4279-96B3-32A723919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3"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4"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5"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6"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7"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03460-FACA-4563-9340-6AD583115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F6667-585E-4A34-9933-3B1A516DE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01FF8-5F12-4E4B-BAD7-78CEFFBD2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361CE-004D-4076-A036-1C6F1AA87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3"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4"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797D3-05DE-483F-9A2A-1BF061B98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B77FB-0355-4500-B094-656115374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A0277-E0D9-426A-BADB-4C278C963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8"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9"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0"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04B98-A79E-43F1-BFBF-398F6450B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4E29-7760-44BE-8A3E-0B3D0FA4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2"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3"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4"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94E34-14CD-4F94-8837-CA05F9019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6"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8"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790E4-B467-483D-96B8-36A62CC5C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0"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1"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FC98B-4AB4-4C96-955B-1EA842016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3"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4"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5"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6"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499DE-7F48-4EBB-B57E-2A4F86A15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8"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9"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0"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1"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2"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3"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8AC99-56A8-4FA5-86DC-F626668A6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9B62-4795-4392-8F3E-9CA6FF4B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18"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CB056-4933-4552-AF57-CFE34D027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6C40-4090-46D8-9517-B8CFD0F3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F488-C2B4-449C-9838-7AC4EB86D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3"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4"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10AE-A1CA-4037-A257-9B335FA85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8"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2669-C1DB-49D3-94D2-AF912201B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1"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2"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F2450-5530-4858-805D-283B9F550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0D57CC26-64B1-40D6-B42D-A96DDB05D8AB}"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
        <p:nvSpPr>
          <p:cNvPr id="9" name="Овал 7"/>
          <p:cNvSpPr/>
          <p:nvPr/>
        </p:nvSpPr>
        <p:spPr>
          <a:xfrm>
            <a:off x="921600" y="1413720"/>
            <a:ext cx="209880" cy="209880"/>
          </a:xfrm>
          <a:prstGeom prst="ellipse">
            <a:avLst/>
          </a:prstGeom>
          <a:gradFill rotWithShape="0">
            <a:gsLst>
              <a:gs pos="0">
                <a:srgbClr val="e8ffdf">
                  <a:alpha val="95294"/>
                </a:srgbClr>
              </a:gs>
              <a:gs pos="100000">
                <a:srgbClr val="74ff00">
                  <a:alpha val="85098"/>
                </a:srgbClr>
              </a:gs>
            </a:gsLst>
            <a:path path="circle">
              <a:fillToRect l="25000" t="12000" r="75000" b="88000"/>
            </a:path>
          </a:gradFill>
          <a:ln cap="rnd" w="2000">
            <a:solidFill>
              <a:srgbClr val="7fd13b">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ill Sans MT"/>
            </a:endParaRPr>
          </a:p>
        </p:txBody>
      </p:sp>
      <p:sp>
        <p:nvSpPr>
          <p:cNvPr id="10" name="Овал 8"/>
          <p:cNvSpPr/>
          <p:nvPr/>
        </p:nvSpPr>
        <p:spPr>
          <a:xfrm>
            <a:off x="1157040" y="1344960"/>
            <a:ext cx="63720" cy="63720"/>
          </a:xfrm>
          <a:prstGeom prst="ellipse">
            <a:avLst/>
          </a:prstGeom>
          <a:noFill/>
          <a:ln cap="rnd" w="12700">
            <a:solidFill>
              <a:srgbClr val="7fd13b">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Gill Sans MT"/>
              </a:rPr>
              <a:t>Click to edit the outline text format</a:t>
            </a:r>
            <a:endParaRPr b="0" lang="ru-RU"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Gill Sans MT"/>
              </a:rPr>
              <a:t>Second Outline Level</a:t>
            </a:r>
            <a:endParaRPr b="0" lang="ru-RU"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Gill Sans MT"/>
              </a:rPr>
              <a:t>Third Outline Level</a:t>
            </a:r>
            <a:endParaRPr b="0" lang="ru-RU"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Gill Sans MT"/>
              </a:rPr>
              <a:t>Fourth Outline Level</a:t>
            </a:r>
            <a:endParaRPr b="0" lang="ru-RU"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9"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0"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1"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2"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разец текста</a:t>
            </a:r>
            <a:endParaRPr b="0" lang="ru-RU" sz="3200" spc="-1" strike="noStrike">
              <a:solidFill>
                <a:srgbClr val="000000"/>
              </a:solidFill>
              <a:latin typeface="Gill Sans MT"/>
            </a:endParaRPr>
          </a:p>
          <a:p>
            <a:pPr lvl="1" marL="640080" indent="-237600">
              <a:lnSpc>
                <a:spcPct val="100000"/>
              </a:lnSpc>
              <a:spcBef>
                <a:spcPts val="550"/>
              </a:spcBef>
              <a:buClr>
                <a:srgbClr val="7fd13b"/>
              </a:buClr>
              <a:buFont typeface="Verdana"/>
              <a:buChar char="◦"/>
            </a:pPr>
            <a:r>
              <a:rPr b="0" lang="ru-RU" sz="2800" spc="-1" strike="noStrike">
                <a:solidFill>
                  <a:srgbClr val="000000"/>
                </a:solidFill>
                <a:latin typeface="Gill Sans MT"/>
              </a:rPr>
              <a:t>Второй уровень</a:t>
            </a:r>
            <a:endParaRPr b="0" lang="ru-RU" sz="2800" spc="-1" strike="noStrike">
              <a:solidFill>
                <a:srgbClr val="000000"/>
              </a:solidFill>
              <a:latin typeface="Gill Sans MT"/>
            </a:endParaRPr>
          </a:p>
          <a:p>
            <a:pPr lvl="2" marL="887040" indent="-228600">
              <a:lnSpc>
                <a:spcPct val="100000"/>
              </a:lnSpc>
              <a:spcBef>
                <a:spcPts val="479"/>
              </a:spcBef>
              <a:buClr>
                <a:srgbClr val="ea157a"/>
              </a:buClr>
              <a:buFont typeface="Wingdings 2" charset="2"/>
              <a:buChar char=""/>
            </a:pPr>
            <a:r>
              <a:rPr b="0" lang="ru-RU" sz="2400" spc="-1" strike="noStrike">
                <a:solidFill>
                  <a:srgbClr val="000000"/>
                </a:solidFill>
                <a:latin typeface="Gill Sans MT"/>
              </a:rPr>
              <a:t>Третий уровень</a:t>
            </a:r>
            <a:endParaRPr b="0" lang="ru-RU" sz="2400" spc="-1" strike="noStrike">
              <a:solidFill>
                <a:srgbClr val="000000"/>
              </a:solidFill>
              <a:latin typeface="Gill Sans MT"/>
            </a:endParaRPr>
          </a:p>
          <a:p>
            <a:pPr lvl="3" marL="1097280" indent="-173880">
              <a:lnSpc>
                <a:spcPct val="100000"/>
              </a:lnSpc>
              <a:spcBef>
                <a:spcPts val="400"/>
              </a:spcBef>
              <a:buClr>
                <a:srgbClr val="feb80a"/>
              </a:buClr>
              <a:buFont typeface="Wingdings 2" charset="2"/>
              <a:buChar char=""/>
            </a:pPr>
            <a:r>
              <a:rPr b="0" lang="ru-RU" sz="2000" spc="-1" strike="noStrike">
                <a:solidFill>
                  <a:srgbClr val="000000"/>
                </a:solidFill>
                <a:latin typeface="Gill Sans MT"/>
              </a:rPr>
              <a:t>Четвертый уровень</a:t>
            </a:r>
            <a:endParaRPr b="0" lang="ru-RU" sz="2000" spc="-1" strike="noStrike">
              <a:solidFill>
                <a:srgbClr val="000000"/>
              </a:solidFill>
              <a:latin typeface="Gill Sans MT"/>
            </a:endParaRPr>
          </a:p>
          <a:p>
            <a:pPr lvl="4" marL="1298520" indent="-182880">
              <a:lnSpc>
                <a:spcPct val="100000"/>
              </a:lnSpc>
              <a:spcBef>
                <a:spcPts val="400"/>
              </a:spcBef>
              <a:buClr>
                <a:srgbClr val="00addc"/>
              </a:buClr>
              <a:buFont typeface="Wingdings 2" charset="2"/>
              <a:buChar char=""/>
            </a:pPr>
            <a:r>
              <a:rPr b="0" lang="ru-RU" sz="2000" spc="-1" strike="noStrike">
                <a:solidFill>
                  <a:srgbClr val="000000"/>
                </a:solidFill>
                <a:latin typeface="Gill Sans MT"/>
              </a:rPr>
              <a:t>Пятый уровень</a:t>
            </a:r>
            <a:endParaRPr b="0" lang="ru-RU"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2F90F63E-F1F9-437C-93A0-8817CDC823B0}"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32440" y="360000"/>
            <a:ext cx="7406280" cy="3568680"/>
          </a:xfrm>
          <a:prstGeom prst="rect">
            <a:avLst/>
          </a:prstGeom>
          <a:noFill/>
          <a:ln w="0">
            <a:noFill/>
          </a:ln>
        </p:spPr>
        <p:txBody>
          <a:bodyPr lIns="90000" rIns="90000" tIns="45000" bIns="45000" anchor="b">
            <a:noAutofit/>
          </a:bodyPr>
          <a:p>
            <a:pPr indent="0" algn="ctr">
              <a:lnSpc>
                <a:spcPct val="100000"/>
              </a:lnSpc>
              <a:buNone/>
            </a:pPr>
            <a:r>
              <a:rPr b="1" lang="ru-RU" sz="4300" spc="-1" strike="noStrike">
                <a:solidFill>
                  <a:srgbClr val="495a74"/>
                </a:solidFill>
                <a:latin typeface="Gill Sans MT"/>
              </a:rPr>
              <a:t>Реализм. </a:t>
            </a:r>
            <a:br>
              <a:rPr sz="4300"/>
            </a:br>
            <a:r>
              <a:rPr b="1" lang="ru-RU" sz="4300" spc="-1" strike="noStrike">
                <a:solidFill>
                  <a:srgbClr val="495a74"/>
                </a:solidFill>
                <a:latin typeface="Gill Sans MT"/>
              </a:rPr>
              <a:t>Литературные группы </a:t>
            </a:r>
            <a:br>
              <a:rPr sz="4300"/>
            </a:br>
            <a:r>
              <a:rPr b="1" lang="ru-RU" sz="4300" spc="-1" strike="noStrike">
                <a:solidFill>
                  <a:srgbClr val="495a74"/>
                </a:solidFill>
                <a:latin typeface="Gill Sans MT"/>
              </a:rPr>
              <a:t>1920-х годов</a:t>
            </a:r>
            <a:endParaRPr b="0" lang="ru-RU" sz="4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6000"/>
          </a:bodyPr>
          <a:p>
            <a:pPr marL="326880" indent="-2530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4 г. Горький вместе с Пятницким начинают издавать сборники </a:t>
            </a:r>
            <a:r>
              <a:rPr b="1" lang="ru-RU" sz="3200" spc="-1" strike="noStrike">
                <a:solidFill>
                  <a:srgbClr val="000000"/>
                </a:solidFill>
                <a:latin typeface="Gill Sans MT"/>
              </a:rPr>
              <a:t>«Знания»</a:t>
            </a:r>
            <a:r>
              <a:rPr b="0" lang="ru-RU" sz="3200" spc="-1" strike="noStrike">
                <a:solidFill>
                  <a:srgbClr val="000000"/>
                </a:solidFill>
                <a:latin typeface="Gill Sans MT"/>
              </a:rPr>
              <a:t>, которые воспринимались как средоточение основных сил демократического лагеря русской литературы. Широкая литературная программа, материальные условия, созданные «Знанием»  в короткий срок привлекли в это издательство значительный круг писателей. Среди них были Бунин, Серафимович, Андреев, Вересаев, Шмелев, Гусев-Оренбургский, Скиталец. Их шутливо называли «созвездием Большого Максим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8000"/>
          </a:bodyPr>
          <a:p>
            <a:pPr marL="321840" indent="-2491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7 г. конкурентом «Знания» становится </a:t>
            </a:r>
            <a:r>
              <a:rPr b="1" lang="ru-RU" sz="3200" spc="-1" strike="noStrike">
                <a:solidFill>
                  <a:srgbClr val="000000"/>
                </a:solidFill>
                <a:latin typeface="Gill Sans MT"/>
              </a:rPr>
              <a:t>«Шиповник»</a:t>
            </a:r>
            <a:r>
              <a:rPr b="0" lang="ru-RU" sz="3200" spc="-1" strike="noStrike">
                <a:solidFill>
                  <a:srgbClr val="000000"/>
                </a:solidFill>
                <a:latin typeface="Gill Sans MT"/>
              </a:rPr>
              <a:t>, для сборников которого была характерна модернистская ориентация. Тем не менее многие сотрудники «Знания», переживавшего кризис, там печатались. Не был исключением и Бунин, хотя он, будучи своеобразным знаньевцем, изменил свой творческий облик не столь явно, как другие.</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поддерживала и марксистская критика – Г. Плеханов, Н. Ленин, А. Луначарский, В. Воровский. С утверждением и пропагандой реализма была связана позиция ряда изданий и издательств, и в этом процессе ведущей стала фигура Горького. Складывались и определенные организационные формы: реалисты тяготели к петербургскому журналу «Жизнь» (1897–1901), в нем печатались М. Горький, А. Серафимович, И. Бунин, А. Куприн, Л. Андреев, С. Скиталец, Е. Чириков и др.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6000"/>
          </a:bodyPr>
          <a:p>
            <a:pPr marL="351000" indent="-271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в книге «Русский реализм начала ХХ века»  раскрыл новые качества реализма: отход от жесткой детерминистской концепции, смена основного субъекта активности – появление героя массы, изменения в трактовке традиционных тем – крестьянского, провинциального, городского бы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определял реализм как искусство, передающее ощущение нового исторического времени, глубоких общественных разломов. Новый реализм показал высвобождение активных начал человеческой жизни из-под диктата гнетущих социальных обстоятельств, и традиционные социальные вопросы «Кто виноват?» и «Что делать?» сменялись философскими раздумьями о духе и бытии, о вечности и ценности мгновений жизни, об ответственности личности за все окружающее.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усском реализме рассматриваемого периода шли далеко не простые процессы познания реальности: разочарование в народничестве, толстовстве, ощущение бездорожья в эпоху порубежья заставляли интенсивно переосмысливать духовные и эстетические завоевания прошлого опыта. Это был уже качественно другой реализм. Так, в прозе начала ХХ в. нет эпически глобальной картины мир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исателей-реалистов рассматриваемого периода отличает активный поиск философско-эстетического синтеза, стремление стать над идеологией в поисках глубинной (универсальной) всечеловеческой сущност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мкую характеристику принципиальной новизны реализма ХХ в. дал М. Бахтин: «В современной литературе произошел сдвиг: в ней нет разделения судьбы и переживаний, противопоставления окружающей среды и психологии героя, что так нравилось старым критикам. Психологическое, внутреннее теряет свое отграничение от внешнего мира, переживание находит свое выражение во внешнем».</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2000"/>
          </a:bodyPr>
          <a:p>
            <a:pPr marL="336240" indent="-2606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зме начала ХХ в. В.А. Келдыш четко выделяет два течения.</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Первое</a:t>
            </a:r>
            <a:r>
              <a:rPr b="1" lang="ru-RU" sz="3200" spc="-1" strike="noStrike">
                <a:solidFill>
                  <a:srgbClr val="000000"/>
                </a:solidFill>
                <a:latin typeface="Gill Sans MT"/>
              </a:rPr>
              <a:t>	</a:t>
            </a:r>
            <a:r>
              <a:rPr b="0" lang="ru-RU" sz="3200" spc="-1" strike="noStrike">
                <a:solidFill>
                  <a:srgbClr val="000000"/>
                </a:solidFill>
                <a:latin typeface="Gill Sans MT"/>
              </a:rPr>
              <a:t>раскрывает </a:t>
            </a:r>
            <a:r>
              <a:rPr b="0" i="1" lang="ru-RU" sz="3200" spc="-1" strike="noStrike">
                <a:solidFill>
                  <a:srgbClr val="000000"/>
                </a:solidFill>
                <a:latin typeface="Gill Sans MT"/>
              </a:rPr>
              <a:t>историю через быт</a:t>
            </a:r>
            <a:r>
              <a:rPr b="0" lang="ru-RU" sz="3200" spc="-1" strike="noStrike">
                <a:solidFill>
                  <a:srgbClr val="000000"/>
                </a:solidFill>
                <a:latin typeface="Gill Sans MT"/>
              </a:rPr>
              <a:t>, развиваясь в русле «социологического реализма». В нем пока преобладает фактор социальной причинности. </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торое </a:t>
            </a:r>
            <a:r>
              <a:rPr b="0" lang="ru-RU" sz="3200" spc="-1" strike="noStrike">
                <a:solidFill>
                  <a:srgbClr val="000000"/>
                </a:solidFill>
                <a:latin typeface="Gill Sans MT"/>
              </a:rPr>
              <a:t>определяется формулой «бытие через быт» и его нередко называют неореализмом.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воеобразие неореализма проявилось в ослаблении роли сюжета, эскизности, незавершенности повествования, открытости финала. Художественная реальность в новом реализме предстает как единый поток вне строгого сюжетного каркаса с обязательностью всех его элемент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от лат. realis – вещественный, действительный), как художественный, так и философский, – есть точка зрения реальности и утверждает наличное бытие действительности, лежащей вне сознания познающего объек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3000"/>
          </a:bodyPr>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унинский хронотоп, даже по сравнению с Чеховым, разрушающим традиционные временные и пространственные границы, определялся слиянием прошлого и настоящего, </a:t>
            </a:r>
            <a:r>
              <a:rPr b="0" i="1" lang="ru-RU" sz="3200" spc="-1" strike="noStrike">
                <a:solidFill>
                  <a:srgbClr val="000000"/>
                </a:solidFill>
                <a:latin typeface="Gill Sans MT"/>
              </a:rPr>
              <a:t>переживанием прошлого как настоящего</a:t>
            </a:r>
            <a:r>
              <a:rPr b="0" lang="ru-RU" sz="3200" spc="-1" strike="noStrike">
                <a:solidFill>
                  <a:srgbClr val="000000"/>
                </a:solidFill>
                <a:latin typeface="Gill Sans MT"/>
              </a:rPr>
              <a:t>, что трактуется как феноменологичность его прозы. </a:t>
            </a:r>
            <a:endParaRPr b="0" lang="ru-RU" sz="3200" spc="-1" strike="noStrike">
              <a:solidFill>
                <a:srgbClr val="000000"/>
              </a:solidFill>
              <a:latin typeface="Gill Sans MT"/>
            </a:endParaRPr>
          </a:p>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идимый мир расширяется до вселенной, реальное время – до вечности, и это становится общим признаком реализма ХХ в. Изменения коснулись не только специфики хронотопа, но и отношений автора и героя, выраженных наличием двух несовпадающих оценочных планов. Тем самым деформируется объективно - реалистический тон повествования и структура образов, усиливается исповедальность проз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стических сюжетах теперь отмечаются разрушение линейного хода действия, пропуски логических звеньев («скачки»), отсутствие причинно-следственных связей, возрастание роли подсознания и прапамяти, что ведет к интуитивному постижению бытия в его антинонимичности, наконец, нарушение местоименного строя повествова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следователи говорят об особом качестве психологизма писателей ХХ в.: психологическое, внутреннее теряет свое отграничение от внешнего мира; переживание находит свое выражение во внешнем. </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центр внимания писателей и критиков выдвигается надындивидуальность субъективных психических процессов, слияние индивидуально неповторимого и универсального.</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казываясь от полноты изображения человеческого характера, свойственного традиционному реализму, писатели ХХ в. делают основным предметом художественного изображения индивидуальное сознание героя, на которое и проецируются социальные конфликты, бывшие ранее основным</a:t>
            </a:r>
            <a:r>
              <a:rPr b="1" lang="ru-RU" sz="3200" spc="-1" strike="noStrike">
                <a:solidFill>
                  <a:srgbClr val="000000"/>
                </a:solidFill>
                <a:latin typeface="Gill Sans MT"/>
              </a:rPr>
              <a:t> </a:t>
            </a:r>
            <a:r>
              <a:rPr b="0" lang="ru-RU" sz="3200" spc="-1" strike="noStrike">
                <a:solidFill>
                  <a:srgbClr val="000000"/>
                </a:solidFill>
                <a:latin typeface="Gill Sans MT"/>
              </a:rPr>
              <a:t>предметом раздумий и поисков художник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итуации модернизма, в полемике с ним, реализм, несомненно, обновлялся и испытывал непосредственное воздействие художественных открытий модернистской литературы</a:t>
            </a:r>
            <a:r>
              <a:rPr b="0" lang="ru-RU" sz="3200" spc="-1" strike="noStrike" baseline="30000">
                <a:solidFill>
                  <a:srgbClr val="000000"/>
                </a:solidFill>
                <a:latin typeface="Gill Sans MT"/>
              </a:rPr>
              <a:t>287</a:t>
            </a:r>
            <a:r>
              <a:rPr b="0" lang="ru-RU" sz="3200" spc="-1" strike="noStrike">
                <a:solidFill>
                  <a:srgbClr val="000000"/>
                </a:solidFill>
                <a:latin typeface="Gill Sans MT"/>
              </a:rPr>
              <a:t>, осваивал ее проблематику и средства художественной выразительности, добиваясь слияния картин внешнего мира с внутренним миром персонаж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ак, нитей, связывающих Бунина с модернизмом, не могли не видеть даже литературоведы 1950–1960-х гг. Его творчество эмигрантского периода, особенно роман «Жизнь Арсеньева», свидетельствовало о кардинальном обновлении им реалистической системы. Отныне она выражает катастрофизм бытия, роковые переломы в частной жизни отдельного человек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кусство русского реализма начала века – первой трети ХХ в. оказалось наиболее многогранным в плане творческого использования различных стилевых тенденций.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Шолохов и А. Толстой продолжали традиции эпического повествования Л. Толстого. Имя А. Леонова прочно связывается с традициями Ф. Достоевского.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вязи с изучением творчества М. Булгакова, А. Леонова появляются и такие определения реализма,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странный</a:t>
            </a:r>
            <a:r>
              <a:rPr b="0" lang="ru-RU" sz="3200" spc="-1" strike="noStrike">
                <a:solidFill>
                  <a:srgbClr val="000000"/>
                </a:solidFill>
                <a:latin typeface="Gill Sans MT"/>
              </a:rPr>
              <a:t>.</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литературы советского периода стали определять термином «социалистический реализм». Казалось бы, творческий метод пролетарской литературы должен быть рассмотрен в ряду реалистических течений, но это был эстетический конгломерат с явным превалированием идеологического подхода над эстетическими оценками действите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44160" indent="-266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ХХ в. социалистический реализм существовал как художественная тенденция, никак не называемая, а подчас и не осознаваемая. Она вызревала в романтико-реалистическом художественном мире раннего Горького, вступившего в литературу одновременно с нарастанием рабочего движения. В его творчестве были многократно усилены идеологические и эстетические поиски, характерные для его старших современнико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2000"/>
          </a:bodyPr>
          <a:p>
            <a:pPr marL="324000" indent="-250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вышенное боевое настроение пролетариата, осознавшего якобы предназначенную ему роль хозяина мира и освободителя человечества, Горький называл «героическим романтизмом коллективизма». Отличительные особенности социалистического реализма проявлялись в трактовке и художественном претворении материала, обретшем социально- конкретные фор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создает иллюзии реальности, для чего писателями чаще всего использовались (но не только) </a:t>
            </a:r>
            <a:r>
              <a:rPr b="0" i="1" lang="ru-RU" sz="3200" spc="-1" strike="noStrike">
                <a:solidFill>
                  <a:srgbClr val="000000"/>
                </a:solidFill>
                <a:latin typeface="Gill Sans MT"/>
              </a:rPr>
              <a:t>формы самой жизни</a:t>
            </a:r>
            <a:r>
              <a:rPr b="0" lang="ru-RU" sz="3200" spc="-1" strike="noStrike">
                <a:solidFill>
                  <a:srgbClr val="000000"/>
                </a:solidFill>
                <a:latin typeface="Gill Sans MT"/>
              </a:rPr>
              <a:t>, которые в модернизме осознавались лишь как </a:t>
            </a:r>
            <a:r>
              <a:rPr b="0" i="1" lang="ru-RU" sz="3200" spc="-1" strike="noStrike">
                <a:solidFill>
                  <a:srgbClr val="000000"/>
                </a:solidFill>
                <a:latin typeface="Gill Sans MT"/>
              </a:rPr>
              <a:t>прием</a:t>
            </a:r>
            <a:r>
              <a:rPr b="0" lang="ru-RU" sz="3200" spc="-1" strike="noStrike">
                <a:solidFill>
                  <a:srgbClr val="000000"/>
                </a:solidFill>
                <a:latin typeface="Gill Sans MT"/>
              </a:rPr>
              <a:t>, сопровождаемый всякого рода деформациями, а не как репрезентация самой действительности. Внося существенные коррективы в практику художества как мимезиса, реализм и на новом этапе своего развития остался верен ему как творческому принципу. Для реализма оставалась и остается важнейшей такая категория, как «жизненная правд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1000"/>
          </a:bodyPr>
          <a:p>
            <a:pPr marL="320040" indent="-2476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орький утверждал свое активное отношение к миру, испытывал желание его кардинально переделать. По сравнению с литературой ХIХ в. можно говорить о качественно новом характере социальной активности горьковского положительного героя. Слова Горького «Только люди безжалостно прямые и твердые, как мечи, – только они пробьют» можно поставить эпиграфом к галерее положительных героев соц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Характерной особенностью литературы социалистического реализма, социально-педагогической, по определению Горького, является ее ярко выраженное сращение с идеологией, сакральность, а также то, что эта литература фактически была особой разновидностью массовой литературы, во всяком случае выполняла ее агитационно- социалистические функ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Ярко выраженная агитационность произведений соцреализма проявлялась и в дальнейшем – в заметной заданности сюжета, композиции, часто альтернативной (свои/враги), в явной заботе автора о доступности его художественной проповеди, то есть некоторой прагматичности.</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6000"/>
          </a:bodyPr>
          <a:p>
            <a:pPr marL="311040" indent="-2408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тепень агитационности искусства могла быть разной: одно дело – «Мать» Горького, другое – стихи Д. Бедного. Разграничить уровни агитационности можно и в поэзии одного и того же автора – Маяковского. Луначарский в статье «Значение искусства с коммунистической точки зрения» предложил условное разграничение социалистического искусства на Агитационное и Большое. Большое – это то, которое преследует художественную цель, не огладываясь на читателей, не достигших необходимого культурного уровня. Агитационное искусство «одевает свои поучения в художественность и делает, таким образом, эти поучения более действенным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1000"/>
          </a:bodyPr>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гитационную роль в воспитании подрастающего поколения в 1920-е гг. играли «Неделя» Либединского, «Чапаев» Фурманова, «Железный поток» Серафимовича.</a:t>
            </a:r>
            <a:endParaRPr b="0" lang="ru-RU" sz="3200" spc="-1" strike="noStrike">
              <a:solidFill>
                <a:srgbClr val="000000"/>
              </a:solidFill>
              <a:latin typeface="Gill Sans MT"/>
            </a:endParaRPr>
          </a:p>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4 г. «задача идейной переделки и воспитания трудящихся в духе социализма» была отражена в Уставе Союза писателей – в определении социалистического 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2" name="PlaceHolder 2"/>
          <p:cNvSpPr>
            <a:spLocks noGrp="1"/>
          </p:cNvSpPr>
          <p:nvPr>
            <p:ph/>
          </p:nvPr>
        </p:nvSpPr>
        <p:spPr>
          <a:xfrm>
            <a:off x="1435680" y="1447920"/>
            <a:ext cx="7497720" cy="526716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арадокс заключается в том, что при превалировании идеологического подхода к эстетическим оценкам действительности в «рамках» социалистического реализма оказывались произведения не только реалистические, но и авангардные (яркий пример – послеоктябрьское творчество Маяковского).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кубофутуризма как искусства авангардного также характерно неприятие произведения как объекта чисто эстетического переживания. Ему, напротив, свойственно непосредственное вмешательство в жизнь, культ физической силы, а не дух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3984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 всей теоретической ориентированности на реалистические традиции и ожесточенную идеологическую борьбу с модернистами и авангардистами социалистический реализм имел в художественной практике нечто сходное с авангардом . Его целью было формирование общественного сознания путем откровенного воздействия на сознание </a:t>
            </a:r>
            <a:r>
              <a:rPr b="0" i="1" lang="ru-RU" sz="3200" spc="-1" strike="noStrike">
                <a:solidFill>
                  <a:srgbClr val="000000"/>
                </a:solidFill>
                <a:latin typeface="Gill Sans MT"/>
              </a:rPr>
              <a:t>другого</a:t>
            </a:r>
            <a:r>
              <a:rPr b="0" lang="ru-RU" sz="3200" spc="-1" strike="noStrike">
                <a:solidFill>
                  <a:srgbClr val="000000"/>
                </a:solidFill>
                <a:latin typeface="Gill Sans MT"/>
              </a:rPr>
              <a:t>, а эстетическим принципом – утверждение идеологической природы и специфики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ле революции 1917 г. по всей стране появилось множество различных литературных групп. Многие из них возникали и исчезали, даже не успевая оставить после себя какой-либо заметный след. Только в одной Москве в 1920 г. существовало более 30 литературных групп и объединен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чины возникновения литературных групп:</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атериальные,</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ктивизация «устных» форм литературы,</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зличные художественные и литературные пристрастия.</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оэтов функционировал в Петрограде в 1920–1922 гг. и 1924–1929 гг. и в Москве в 1918–1929 гг. и был связан с именами В. Каменского, В. Брюсова, Г. Шенгели и др. К Союзу поэтов проявляли интерес А. Блок, Н. Гумилев, И. Садофьев, Н. Тихонов и др.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ъединяя поэтов разных направлений и школ, Союз способствовал изданию книг, поэтических сборников и альманахов, устраивал литературные вечера, но в 1929 г. ОГПУ потребовало его ликвида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мена художественной парадигмы (отказ от мимезиса), интенсивное развитие модернистских течений, их активная борьба за первенство в литературной жизни не умалили роли реализма, который и в ХХ в., особенно в прозе, остался важнейшим литературным направление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исателей возник в 1918 г. и также имел Московское и Петроградское отделения. В Москве председателем Союза был Б. Зайцев. Как вспоминает М. Осоргин, весь разнородный состав Союза легко объединился благодаря этому имени. Активную роль в пору создания Союза играл И. Шмеле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9000"/>
          </a:bodyPr>
          <a:p>
            <a:pPr marL="325440" indent="-252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ольшую роль в литературной жизни сыграл Петроградский Дом искусств (1919–1923). Было выпущено два одноименных альманаха, работали литературные студии – Замятина, Гумилева, Чуковского. Наряду с Домом литераторов и Домом ученых он был «кораблем», «ковчегом», спасающим петербургскую интеллигенцию в годы революционной разрух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СДХЛ</a:t>
            </a:r>
            <a:r>
              <a:rPr b="0" lang="ru-RU" sz="3200" spc="-1" strike="noStrike">
                <a:solidFill>
                  <a:srgbClr val="000000"/>
                </a:solidFill>
                <a:latin typeface="Gill Sans MT"/>
              </a:rPr>
              <a:t> (Союз деятелей художественной литературы) был образован в марте 1918 г. в Петрограде. В него входили М. Горький, А. Блок, Н. Гумилев, А. Куприн, Е. Замятин, К. Чуковский и др. Стремление помочь своим членам материально было определяющим, но не единственным стимулом возникновения СДХЛ. Объединение ставило перед собой задачи защиты деятелей художественной литературы, помощи начинающим художникам слова из демократической молодежи и даже «партийного руковод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еобходимо отметить старейшее Общество любителей русской словесности (1811–1930), среди председателей и членов которого были почти все известные русские писатели. В ХХ веке с ним связаны имена Л. Толстого, В. Соловьева, В. Короленко, В. Вересаева, М. Горького, К. Бальмонта, Д. Мережковского, В. Брюсова, А. Белого, Вяч. Иванова, М. Волошина, Б. Зайцева, А. Куприна, Н. Бердяева. В 1930 г. это уникальное и активно пропагандирующее литературную классику общество разделило участь всех остальных объединений и групп.</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преддверии Октября, символисты примкнули к   известной   группе   </a:t>
            </a:r>
            <a:r>
              <a:rPr b="1" lang="ru-RU" sz="3200" spc="-1" strike="noStrike">
                <a:solidFill>
                  <a:srgbClr val="000000"/>
                </a:solidFill>
                <a:latin typeface="Gill Sans MT"/>
              </a:rPr>
              <a:t>«Скифы»   </a:t>
            </a:r>
            <a:r>
              <a:rPr b="0" lang="ru-RU" sz="3200" spc="-1" strike="noStrike">
                <a:solidFill>
                  <a:srgbClr val="000000"/>
                </a:solidFill>
                <a:latin typeface="Gill Sans MT"/>
              </a:rPr>
              <a:t>(1917–1918),   возглавляемой Р. Ивановым-Разумником. Это были писатели разных школ и направлений (кроме А. Белого и А. Блока в группу входили С. Клычков, С. Есенин, П. Орешин, А. Чапыгин, О. Форш; в сборниках также печатались А. Ремизов, Е. Замятин, М. Пришвин). Их объединяли вначале близость к левым эсерам, потом – сотрудничество с советской властью и, главное, издание сборников «Скиф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обновляет активную организационную деятельность и акмеист Н. Гумилев. Вернувшись в 1918 г. на родину, когда другие спешно ее покидали, Гумилев открывает студию </a:t>
            </a:r>
            <a:r>
              <a:rPr b="1" lang="ru-RU" sz="3200" spc="-1" strike="noStrike">
                <a:solidFill>
                  <a:srgbClr val="000000"/>
                </a:solidFill>
                <a:latin typeface="Gill Sans MT"/>
              </a:rPr>
              <a:t>«Звучащая раковина» </a:t>
            </a:r>
            <a:r>
              <a:rPr b="0" lang="ru-RU" sz="3200" spc="-1" strike="noStrike">
                <a:solidFill>
                  <a:srgbClr val="000000"/>
                </a:solidFill>
                <a:latin typeface="Gill Sans MT"/>
              </a:rPr>
              <a:t>при Доме искусств, заново создает третий «Цех поэтов» (1920–1922), куда вошли молодые литераторы Н. Оцуп, Г. Адамович, К. Вагинов и др., участвует вместе с Горьким в работе издательства «Всемирная литература», становится председателем Петроградского отделения «Союза поэтов», издает свои книг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2 г. образовалась группа </a:t>
            </a:r>
            <a:r>
              <a:rPr b="1" lang="ru-RU" sz="3200" spc="-1" strike="noStrike">
                <a:solidFill>
                  <a:srgbClr val="000000"/>
                </a:solidFill>
                <a:latin typeface="Gill Sans MT"/>
              </a:rPr>
              <a:t>ЛЕФ </a:t>
            </a:r>
            <a:r>
              <a:rPr b="0" lang="ru-RU" sz="3200" spc="-1" strike="noStrike">
                <a:solidFill>
                  <a:srgbClr val="000000"/>
                </a:solidFill>
                <a:latin typeface="Gill Sans MT"/>
              </a:rPr>
              <a:t>(Левый фронт искусства), куда входили В. Маяковский, Б. Арватов, В. Каменский, Б. Пастернак, Н. Асеев, В. Шкловский, О. Брик, С. Кирсанов, С. Третьяков, Н. Чужак. Издавались журналы «ЛЕФ» и «Новый ЛЕФ». К ЛЕФу были близки кинорежиссеры – С. Эйзенштейн, Д. Вертов</a:t>
            </a:r>
            <a:r>
              <a:rPr b="0" lang="ru-RU" sz="3200" spc="-1" strike="noStrike" baseline="30000">
                <a:solidFill>
                  <a:srgbClr val="000000"/>
                </a:solidFill>
                <a:latin typeface="Gill Sans MT"/>
              </a:rPr>
              <a:t>329</a:t>
            </a:r>
            <a:r>
              <a:rPr b="0" lang="ru-RU" sz="3200" spc="-1" strike="noStrike">
                <a:solidFill>
                  <a:srgbClr val="000000"/>
                </a:solidFill>
                <a:latin typeface="Gill Sans MT"/>
              </a:rPr>
              <a:t>. Под названием «</a:t>
            </a:r>
            <a:r>
              <a:rPr b="0" i="1" lang="ru-RU" sz="3200" spc="-1" strike="noStrike">
                <a:solidFill>
                  <a:srgbClr val="000000"/>
                </a:solidFill>
                <a:latin typeface="Gill Sans MT"/>
              </a:rPr>
              <a:t>Левый </a:t>
            </a:r>
            <a:r>
              <a:rPr b="0" lang="ru-RU" sz="3200" spc="-1" strike="noStrike">
                <a:solidFill>
                  <a:srgbClr val="000000"/>
                </a:solidFill>
                <a:latin typeface="Gill Sans MT"/>
              </a:rPr>
              <a:t>фронт» подразумевался (кроме левизны футуризма в целом) отход группы от правого крыла футуризма, чуждого социальной проблематик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стетические принципы объединения изложены Маяковским в «Письме о футуризме» и в коллективном манифесте «За что борется ЛЕФ?»</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ждая область искусства, согласно концепциям ЛЕФа, должна была осмыслить свою технику в тех понятиях и представлениях, которыми пользовалось производство. Искусство должно было раствориться в нем. Такая вульгарно-социологическая концепция ЛЕФа, разработанная в основном</a:t>
            </a:r>
            <a:r>
              <a:rPr b="0" lang="ru-RU" sz="3200" spc="-1" strike="noStrike">
                <a:solidFill>
                  <a:srgbClr val="000000"/>
                </a:solidFill>
                <a:latin typeface="Gill Sans MT"/>
              </a:rPr>
              <a:t>	</a:t>
            </a:r>
            <a:r>
              <a:rPr b="0" lang="ru-RU" sz="3200" spc="-1" strike="noStrike">
                <a:solidFill>
                  <a:srgbClr val="000000"/>
                </a:solidFill>
                <a:latin typeface="Gill Sans MT"/>
              </a:rPr>
              <a:t>Б. Арватовым оказала влияние и на</a:t>
            </a:r>
            <a:r>
              <a:rPr b="0" lang="ru-RU" sz="3200" spc="-1" strike="noStrike">
                <a:solidFill>
                  <a:srgbClr val="000000"/>
                </a:solidFill>
                <a:latin typeface="Gill Sans MT"/>
              </a:rPr>
              <a:t>	</a:t>
            </a:r>
            <a:r>
              <a:rPr b="0" lang="ru-RU" sz="3200" spc="-1" strike="noStrike">
                <a:solidFill>
                  <a:srgbClr val="000000"/>
                </a:solidFill>
                <a:latin typeface="Gill Sans MT"/>
              </a:rPr>
              <a:t>лирику Маяковского, выступившего против</a:t>
            </a:r>
            <a:r>
              <a:rPr b="0" lang="ru-RU" sz="3200" spc="-1" strike="noStrike">
                <a:solidFill>
                  <a:srgbClr val="000000"/>
                </a:solidFill>
                <a:latin typeface="Gill Sans MT"/>
              </a:rPr>
              <a:t>	</a:t>
            </a:r>
            <a:r>
              <a:rPr b="0" lang="ru-RU" sz="3200" spc="-1" strike="noStrike">
                <a:solidFill>
                  <a:srgbClr val="000000"/>
                </a:solidFill>
                <a:latin typeface="Gill Sans MT"/>
              </a:rPr>
              <a:t>«вселенского» быта за полное растворение индивидуальных форм жизнедеятельности людей в коллективных формах.</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овцы выдвинули теорию «социального заказа», идею «производственного» искусства. </a:t>
            </a:r>
            <a:endParaRPr b="0" lang="ru-RU" sz="3200" spc="-1" strike="noStrike">
              <a:solidFill>
                <a:srgbClr val="000000"/>
              </a:solidFill>
              <a:latin typeface="Gill Sans MT"/>
            </a:endParaRPr>
          </a:p>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та группа афишировала себя</a:t>
            </a:r>
            <a:r>
              <a:rPr b="0" lang="ru-RU" sz="3200" spc="-1" strike="noStrike">
                <a:solidFill>
                  <a:srgbClr val="000000"/>
                </a:solidFill>
                <a:latin typeface="Gill Sans MT"/>
              </a:rPr>
              <a:t>	</a:t>
            </a:r>
            <a:r>
              <a:rPr b="0" lang="ru-RU" sz="3200" spc="-1" strike="noStrike">
                <a:solidFill>
                  <a:srgbClr val="000000"/>
                </a:solidFill>
                <a:latin typeface="Gill Sans MT"/>
              </a:rPr>
              <a:t>как «гегемона» революционной литературы и нетерпимо относилась к другим группам. Она, вопреки практике футуризма, пришла к отрицанию художественной условности, а из литературных жанров признавала только очерк, репортаж, лозунг; вымыслу в литературе она противопоставляла литературу факта. Отвергая принцип литературного обобщения, лефовцы тем самым умаляли эстетическую, воспитательную роль искусств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едпосылкой платформы </a:t>
            </a:r>
            <a:r>
              <a:rPr b="1" lang="ru-RU" sz="3200" spc="-1" strike="noStrike">
                <a:solidFill>
                  <a:srgbClr val="000000"/>
                </a:solidFill>
                <a:latin typeface="Gill Sans MT"/>
              </a:rPr>
              <a:t>имажинизма </a:t>
            </a:r>
            <a:r>
              <a:rPr b="0" lang="ru-RU" sz="3200" spc="-1" strike="noStrike">
                <a:solidFill>
                  <a:srgbClr val="000000"/>
                </a:solidFill>
                <a:latin typeface="Gill Sans MT"/>
              </a:rPr>
              <a:t>(от лат. imagо – образ) были еще дореволюционные статьи В. Шершеневича.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е 1918 г. заявила о себе группа Мариенгофа в Пензе. В январе 1919 г. С. Есенин, Р. Ивнев, А. Мариенгоф, В. Шершеневич и др., именовавшие себя «Верховным Советом Ордена имажинистов», выступили с изложением принципов нового, альтернативного футуризму (это оговаривалось специально) литературного направле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здний Толстой, автор «Хаджи-Мурата» и «Дьявола»; Чехов, Короленко, Бунин, Куприн, Зайцев, А. Толстой, Горький, Серафимович, Сергеев-Ценский и др. представляли мощное реалистическое крыло русской литературы начала века.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 в 1920-е гг. она обогатилась именами Шолохова, Булгакова, Фадеева, Леонова и многих других своеобразных художников, творческой доминантой которых оставался реализм, хотя он и определялся такими эпитетами,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романтический </a:t>
            </a:r>
            <a:r>
              <a:rPr b="0" lang="ru-RU" sz="3200" spc="-1" strike="noStrike">
                <a:solidFill>
                  <a:srgbClr val="000000"/>
                </a:solidFill>
                <a:latin typeface="Gill Sans MT"/>
              </a:rPr>
              <a:t>и т.д.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фициальной структурой, зарегистрированной    Московским    советом    группы, была «Ассоциация вольнодумцев» в Москве, образованная в сентябре 1919 г. (20 февраля 1920 г. Есенин был избран ее председателем). Ассоциация стала выпускать журнал с манерным названием «Гостиница для путешествующих в прекрасном». Группа стала хорошей творческой школой и довольно многочисленной: в нее входили, кроме названных, И. Грузинов, будущий известный кинодраматург Н. Эрдман и др. В творческих поисках участвовали художники и композито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мажинизмом» именовалась школа в англоязычной поэзии (Т. Элиот, Д. Лоренс, Р. Олдингтон и др.), принципами которой были несущественность тематики, чистая образность, ассоциативность мышления, и точность изображения лирического переживания.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усские же имажинисты считали всякое содержание в художественном произведении таким же глупым и бессмысленным, как наклейки из газет на картин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a:t>
            </a:r>
            <a:r>
              <a:rPr b="0" lang="ru-RU" sz="3200" spc="-1" strike="noStrike">
                <a:solidFill>
                  <a:srgbClr val="000000"/>
                </a:solidFill>
                <a:latin typeface="Gill Sans MT"/>
              </a:rPr>
              <a:t>	</a:t>
            </a:r>
            <a:r>
              <a:rPr b="0" lang="ru-RU" sz="3200" spc="-1" strike="noStrike">
                <a:solidFill>
                  <a:srgbClr val="000000"/>
                </a:solidFill>
                <a:latin typeface="Gill Sans MT"/>
              </a:rPr>
              <a:t>февраля 1921 г. несколько молодых писателей</a:t>
            </a:r>
            <a:r>
              <a:rPr b="0" lang="ru-RU" sz="3200" spc="-1" strike="noStrike">
                <a:solidFill>
                  <a:srgbClr val="000000"/>
                </a:solidFill>
                <a:latin typeface="Gill Sans MT"/>
              </a:rPr>
              <a:t>	</a:t>
            </a:r>
            <a:r>
              <a:rPr b="0" lang="ru-RU" sz="3200" spc="-1" strike="noStrike">
                <a:solidFill>
                  <a:srgbClr val="000000"/>
                </a:solidFill>
                <a:latin typeface="Gill Sans MT"/>
              </a:rPr>
              <a:t>при Петербургском Доме искусств образовали группу </a:t>
            </a:r>
            <a:r>
              <a:rPr b="1" lang="ru-RU" sz="3200" spc="-1" strike="noStrike">
                <a:solidFill>
                  <a:srgbClr val="000000"/>
                </a:solidFill>
                <a:latin typeface="Gill Sans MT"/>
              </a:rPr>
              <a:t>«Серапионовы братья» </a:t>
            </a:r>
            <a:r>
              <a:rPr b="0" lang="ru-RU" sz="3200" spc="-1" strike="noStrike">
                <a:solidFill>
                  <a:srgbClr val="000000"/>
                </a:solidFill>
                <a:latin typeface="Gill Sans MT"/>
              </a:rPr>
              <a:t>(по названию кружка друзей в одноименном романе Э. Гофмана). В нее вошли Вс. Иванов, К. Федин, Н. Тихонов, М. Зощенко, В. Каверин, Н. Никитин, М. Слонимский. Это были совершенно разные творческие индивидуа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нифесте «Почему мы Серапионовы братья?», написанном 19-летним студентом Л. Лунцем, подчеркивался отказ от «тенденциозности». </a:t>
            </a:r>
            <a:endParaRPr b="0" lang="ru-RU" sz="3200" spc="-1" strike="noStrike">
              <a:solidFill>
                <a:srgbClr val="000000"/>
              </a:solidFill>
              <a:latin typeface="Gill Sans MT"/>
            </a:endParaRPr>
          </a:p>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Заранее предвидя неизбежный вопрос: «С кем же вы?» Лунц отвечал: «Мы с пустынником Серапионом». Там же он утверждал, что искусство «без цели и без смысла существует потому, что не может не существовать», хотя с ним соглашались далеко не вс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руппа уделяла большое внимание  многообразию творческих подходов   к   теме, занимательности сюжетостроения   («Города и годы» К. Федина), фабульному динамизму (произведения В. Каверина и Л. Лунца), мастерству орнаментальной и бытовой прозы (Вс. Иванов, Н. Никитин, М. Зощенк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3 г. вокруг редактируемого А.К. Воронским журнала «Красная новь» образовалась группа «</a:t>
            </a:r>
            <a:r>
              <a:rPr b="1" lang="ru-RU" sz="3200" spc="-1" strike="noStrike">
                <a:solidFill>
                  <a:srgbClr val="000000"/>
                </a:solidFill>
                <a:latin typeface="Gill Sans MT"/>
              </a:rPr>
              <a:t>Перевал</a:t>
            </a:r>
            <a:r>
              <a:rPr b="0" lang="ru-RU" sz="3200" spc="-1" strike="noStrike">
                <a:solidFill>
                  <a:srgbClr val="000000"/>
                </a:solidFill>
                <a:latin typeface="Gill Sans MT"/>
              </a:rPr>
              <a:t>» (название было дано по статье А. Воронского «На перевале (дела литературные)». Первоначально в группу входили А. Веселый, Н. Зарудин, М. Светлов, М. Голодный, а позднее И. Катаев, Э. Багрицкий, М. Пришвин, А. Малышкин. В отличие от многих других групп, перевальцы подчеркивали свои связи с лучшими традициями русской и мировой литературы, отстаивали принципы реализма и познавательную роль искусства, не признавали дидактику и иллюстративность.</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едущее место в литературном процессе послеоктябрьских лет заняла, как говорили тогда, пролетарская литература. В 1918–1920 гг. издавались поддерживаемые правительством журналы «Пламя» (Петроград) и «Творчество» (Моск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иболее активную деятельность в первые годы революции развивали поэты и прозаики </a:t>
            </a:r>
            <a:r>
              <a:rPr b="1" lang="ru-RU" sz="3200" spc="-1" strike="noStrike">
                <a:solidFill>
                  <a:srgbClr val="000000"/>
                </a:solidFill>
                <a:latin typeface="Gill Sans MT"/>
              </a:rPr>
              <a:t>Пролеткульта</a:t>
            </a:r>
            <a:r>
              <a:rPr b="0" lang="ru-RU" sz="3200" spc="-1" strike="noStrike">
                <a:solidFill>
                  <a:srgbClr val="000000"/>
                </a:solidFill>
                <a:latin typeface="Gill Sans MT"/>
              </a:rPr>
              <a:t>. Оформившись 19 октября 1917 г., он ставил своей целью развитие творческой самодеятельности пролетариата, создание новой пролетарской культуры. После Октябрьской революции Пролеткульт стал самой массовой и наиболее отвечающей революционным задачам организаци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н объединял большую армию профессиональных и полупрофессиональных писателей, вышедших   главным   образом   из    рабочей   среды.   Наиболее   известны М. Герасимов, А. Гастев, В. Кириллов, В. Александровский, критики В. Плетнев, Вал. Полянский. Почти во всех крупных городах страны существовали отделения Пролеткульта и свои печатные органы: журналы «Пролетарская культура» (Москва), «Грядущее» (Петербург).</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еоретики Пролеткульта трактовали художественное творчество как</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рганизацию» коллективного опыта людей в виде «живых образов». В их выступлениях преобладали догматические идеи об ущербности всего личного, о превосходстве практической деятельности над духовной. Это была механистическая, абстрактная теория пролетарской культуры, в которой индивидуальность, личность – «я» – подменялась безликим, коллективным «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отличие от модернистских течений, заявлявших о себе шумными манифестами, писатели-реалисты рассматриваемого периода не декларировали своих принципов столь активн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культовцы считали необходимым отказаться от культурного наследства, резко противопоставляли пролетарскую культуру всей предшествующей. Эстетическими принципами, соответствующими    психологии     рабочего класса, были объявлены «коллективно-трудовая» точка зрения на мир, идея «одухотворенного единства» с машиной («машинизм»). Привлекая и воспитывая писателей из рабочей среды, пролеткультовцы изолировали их от всех других слоев общества, в том числе от крестьянства и интеллигенци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0 г. группа поэтов – В. Александровский, Г. Санников,</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Герасимов, В. Казин, С. Обрадович, С. Родов и др. – вышла из Пролеткульта, образовав свою группу «</a:t>
            </a:r>
            <a:r>
              <a:rPr b="1" lang="ru-RU" sz="3200" spc="-1" strike="noStrike">
                <a:solidFill>
                  <a:srgbClr val="000000"/>
                </a:solidFill>
                <a:latin typeface="Gill Sans MT"/>
              </a:rPr>
              <a:t>Кузница</a:t>
            </a:r>
            <a:r>
              <a:rPr b="0" lang="ru-RU" sz="3200" spc="-1" strike="noStrike">
                <a:solidFill>
                  <a:srgbClr val="000000"/>
                </a:solidFill>
                <a:latin typeface="Gill Sans MT"/>
              </a:rPr>
              <a:t>» Всероссийского Союза пролетарских писателей (до 1922 г. издавался и журнал «Кузница»). Этот Союз был учрежден на I Всероссийском съезде пролетарских писателей в Москве в октябре 1920 г. и «Кузница» стала его ядро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чиная со второй половины 1921 г. Союз получил название Всероссийская ассоциация пролетарских писателей (ВАПП).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охраняя верность общим теоретическим установкам Пролеткульта, что отражено в «Декларации пролетарских писателей «Кузницы», «Кузница» гораздо больше внимания уделяла поэтике; с нею связан определенный этап советской романтической поэзии, подкупающей искренностью и силой чувст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2 г. образовались группы </a:t>
            </a:r>
            <a:r>
              <a:rPr b="1" lang="ru-RU" sz="3200" spc="-1" strike="noStrike">
                <a:solidFill>
                  <a:srgbClr val="000000"/>
                </a:solidFill>
                <a:latin typeface="Gill Sans MT"/>
              </a:rPr>
              <a:t>«Молодая гвардия», «Октябрь», «Рабочая весна», «Вагранка»</a:t>
            </a:r>
            <a:r>
              <a:rPr b="0" lang="ru-RU" sz="3200" spc="-1" strike="noStrike">
                <a:solidFill>
                  <a:srgbClr val="000000"/>
                </a:solidFill>
                <a:latin typeface="Gill Sans MT"/>
              </a:rPr>
              <a:t>, которые с марта 1923 г. организационно стали входить в Московскую АПП. Лидировала в этом объединении группа «Октябрь» с журналом «На посту», выдвигавшим задачу строительства «своей классовой культуры, а следовательно, и художественной литературы». С названными группами было связано немало известных советских писател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олодую гвардию» входили комсомольские поэты А. Жаров, М. Светлов, А. Безыменский, М. Голодный, прозаики – М. Колосов и начинающий М. Шолох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Октябрем» были связаны Д. Фурманов, Ю. Либединский, вначале работавший в редакции альманаха «Молодогвардейц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Журнал «На посту» занял резко нигилистическую позицию как по отношению к классическому наследию, так и к современным непролетарским писателям – «попутчикам» – по отношению к которым «напостовцы» нагнетали атмосферу межгрупповой борьб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стаивание пролетарской литературы велось с вульгарно-социологических позиций. Остроту ситуации тех лет обнажает письмо в ЦК РКП(б), подписанное 36 писателями, среди которых были В. Катаев, Б. Пильняк, С. Клычков, С. Есенин, О. Мандельштам, И. Бабель, М. Волошин, В. Инбер, М. Пришвин, М. Зощенко, Н. Тихонов, А. Толстой, В. Каверин, Вс. Иванов, М. Шагинян и други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ужно отметить, что в 1920-е гг. партийное руководство еще достаточно либерально относилось к наличию в литературе различных организаций, направлений и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амках Всесоюзной ассоциации пролетарских писателей </a:t>
            </a:r>
            <a:r>
              <a:rPr b="1" lang="ru-RU" sz="3200" spc="-1" strike="noStrike">
                <a:solidFill>
                  <a:srgbClr val="000000"/>
                </a:solidFill>
                <a:latin typeface="Gill Sans MT"/>
              </a:rPr>
              <a:t>(ВАПП)</a:t>
            </a:r>
            <a:r>
              <a:rPr b="0" lang="ru-RU" sz="3200" spc="-1" strike="noStrike">
                <a:solidFill>
                  <a:srgbClr val="000000"/>
                </a:solidFill>
                <a:latin typeface="Gill Sans MT"/>
              </a:rPr>
              <a:t> самой мощной литературной организацией была Российская ассоциация пролетарских писателей </a:t>
            </a:r>
            <a:r>
              <a:rPr b="1" lang="ru-RU" sz="3200" spc="-1" strike="noStrike">
                <a:solidFill>
                  <a:srgbClr val="000000"/>
                </a:solidFill>
                <a:latin typeface="Gill Sans MT"/>
              </a:rPr>
              <a:t>(РАПП)</a:t>
            </a:r>
            <a:r>
              <a:rPr b="0" lang="ru-RU" sz="3200" spc="-1" strike="noStrike">
                <a:solidFill>
                  <a:srgbClr val="000000"/>
                </a:solidFill>
                <a:latin typeface="Gill Sans MT"/>
              </a:rPr>
              <a:t>, официально оформившаяся в январе 1925 г.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ассоциацию    входили     многие     крупные     писатели:    А. Фадеев, А. Серафимович, Ю. Либединский и др. Ее печатным органом стал новый (с апреля 1926 г.) журнал «На литературном посту», он сменил осужденный в  подтексте резолюции ЦК журнал «На посту».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ыступая против модернизма, реалисты тем самым отстаивали реалистическую позицию и подчеркивали свою верность идеалам русской классики, ее гражданственности и народности, противопоставляемой ими «мелкотемью» и «безнравственности» декадентской литературы.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нципы реалистов, единственно верные, как они утверждали, уходили истоками в золотой век русской литерату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ервый Всесоюзный съезд пролетарских писателей (1928) реорганизовал ВАПП. Пролетарские ассоциации всех национальных республик были объединены в ВОАПП, и во главе этого Всесоюзного объединения стала РАПП, призванная «объединить все творческие силы рабочего класса и повести за собою всю литературу». Но РАПП эту надежду не оправдала и задачи не выполнила, а зачастую действовала вразрез обозначенным в критике задачам, насаждая дух групповщины.</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пповцы громогласно провозгласили главным принципом своей деятельности строгое следование партийной линии, борьбу за партийность литературы, за внедрение партийной идеологии в масс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ще в 1918 г. С. Клычков, С. Есенин и П. Орешин, назвав себя инициативной группой крестьянских поэтов и писателей, подали в московский Пролеткульт заявление о необходимости образования крестьянской секци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сероссийский Союз крестьянских писателей </a:t>
            </a:r>
            <a:r>
              <a:rPr b="0" lang="ru-RU" sz="3200" spc="-1" strike="noStrike">
                <a:solidFill>
                  <a:srgbClr val="000000"/>
                </a:solidFill>
                <a:latin typeface="Gill Sans MT"/>
              </a:rPr>
              <a:t>был создан в мае 1921 г.. В уставе Союза ставилась задача всестороннего художественного отражения всех «бытовых, социальных, экономических особенностей» жизни крестьянской массы. С 1925 г. он был переименован во </a:t>
            </a:r>
            <a:r>
              <a:rPr b="1" lang="ru-RU" sz="3200" spc="-1" strike="noStrike">
                <a:solidFill>
                  <a:srgbClr val="000000"/>
                </a:solidFill>
                <a:latin typeface="Gill Sans MT"/>
              </a:rPr>
              <a:t>Всероссийское объединение крестьянских писателей (ВОКП). </a:t>
            </a:r>
            <a:r>
              <a:rPr b="0" lang="ru-RU" sz="3200" spc="-1" strike="noStrike">
                <a:solidFill>
                  <a:srgbClr val="000000"/>
                </a:solidFill>
                <a:latin typeface="Gill Sans MT"/>
              </a:rPr>
              <a:t>Издавал журнал «Жерно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 I Всероссийском съезде крестьянских писателей в 1929 г., где выступали Луначарский и Горький, говорилось о необходимости «особого» крестьянского писателя, идеологические устремления которого были бы </a:t>
            </a:r>
            <a:r>
              <a:rPr b="0" i="1" lang="ru-RU" sz="3200" spc="-1" strike="noStrike">
                <a:solidFill>
                  <a:srgbClr val="000000"/>
                </a:solidFill>
                <a:latin typeface="Gill Sans MT"/>
              </a:rPr>
              <a:t>пролетарскими</a:t>
            </a:r>
            <a:r>
              <a:rPr b="0" lang="ru-RU" sz="3200" spc="-1" strike="noStrike">
                <a:solidFill>
                  <a:srgbClr val="000000"/>
                </a:solidFill>
                <a:latin typeface="Gill Sans MT"/>
              </a:rPr>
              <a:t>.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1 г. ВОКП было переименовано в организацию «пролетарско- колхозных писателей», что соответствовало проводимой в стране политике «раскрестьянивания». А тем временем началось уничтожение писателей, действительно выражавших мировосприятие русского крестьянст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деологический и политический прессинг партийно- государственного аппарата сказался и на трагической судьбе последней по времени создания литературной группы </a:t>
            </a:r>
            <a:r>
              <a:rPr b="1" lang="ru-RU" sz="3200" spc="-1" strike="noStrike">
                <a:solidFill>
                  <a:srgbClr val="000000"/>
                </a:solidFill>
                <a:latin typeface="Gill Sans MT"/>
              </a:rPr>
              <a:t>Обэриу</a:t>
            </a:r>
            <a:r>
              <a:rPr b="0" lang="ru-RU" sz="3200" spc="-1" strike="noStrike">
                <a:solidFill>
                  <a:srgbClr val="000000"/>
                </a:solidFill>
                <a:latin typeface="Gill Sans MT"/>
              </a:rPr>
              <a:t>, которая на десятилетия была просто-напросто вычеркнута из истории литературы. В нее входили Д. Хармс, А. Введенский, Н. Заболоцкий, Н. Олейников и др. Название Обэриу, возникшее в конце 1927 г., расшифровывается как Объединение Реального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0000"/>
          </a:bodyPr>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1928 г. была написана Декларация обэриутов, состоявшая из четырех гла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1. Общественное лицо Обэриу.</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2. Поэзия обэриуто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3. На путях к Новому кино.</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4. Театр Обэриу.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творческой практики, прежде   всего    для   поэзии   обэриутов, характерны алогизм, гротеск, «столкновение смыслов», понимаемые не только как художественные приемы, но и как   выражение   конфликтности   мироуклада, как путь «расширения»    реальности,   неподвластной   законам   разу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итературные группы, возникшие в крупных культурных центрах – в Москве и Петрограде, организационно оформляли различные тенденции художественного развития. «Перевалу» была свойственна </a:t>
            </a:r>
            <a:r>
              <a:rPr b="1" lang="ru-RU" sz="3200" spc="-1" strike="noStrike">
                <a:solidFill>
                  <a:srgbClr val="000000"/>
                </a:solidFill>
                <a:latin typeface="Gill Sans MT"/>
              </a:rPr>
              <a:t>реалистическая </a:t>
            </a:r>
            <a:r>
              <a:rPr b="0" lang="ru-RU" sz="3200" spc="-1" strike="noStrike">
                <a:solidFill>
                  <a:srgbClr val="000000"/>
                </a:solidFill>
                <a:latin typeface="Gill Sans MT"/>
              </a:rPr>
              <a:t>ориентация, «Кузнице» и комсомольским поэтам – своеобразный </a:t>
            </a:r>
            <a:r>
              <a:rPr b="1" lang="ru-RU" sz="3200" spc="-1" strike="noStrike">
                <a:solidFill>
                  <a:srgbClr val="000000"/>
                </a:solidFill>
                <a:latin typeface="Gill Sans MT"/>
              </a:rPr>
              <a:t>неоромантизм</a:t>
            </a:r>
            <a:r>
              <a:rPr b="0" lang="ru-RU" sz="3200" spc="-1" strike="noStrike">
                <a:solidFill>
                  <a:srgbClr val="000000"/>
                </a:solidFill>
                <a:latin typeface="Gill Sans MT"/>
              </a:rPr>
              <a:t>.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арский реализм РАПП, при всех полемических выпадах против Горького, продолжал линию горьковской «Матери» . </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 имажинизм в его крайнем выражении, конструктивизм, ОБЭРИУ представляли литературный </a:t>
            </a:r>
            <a:r>
              <a:rPr b="1" lang="ru-RU" sz="3200" spc="-1" strike="noStrike">
                <a:solidFill>
                  <a:srgbClr val="000000"/>
                </a:solidFill>
                <a:latin typeface="Gill Sans MT"/>
              </a:rPr>
              <a:t>авангард</a:t>
            </a:r>
            <a:r>
              <a:rPr b="0" lang="ru-RU" sz="3200" spc="-1" strike="noStrike">
                <a:solidFill>
                  <a:srgbClr val="000000"/>
                </a:solidFill>
                <a:latin typeface="Gill Sans MT"/>
              </a:rPr>
              <a:t>.</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ерапионовы братья» демонстрировали плюрализм художественных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к человек, как личность писатель русский… был честный боец, великомученик правды ради… Всю жизнь свою он тратил на жаркую проповедь.., будил внимание к народу своему.</a:t>
            </a:r>
            <a:endParaRPr b="0" lang="ru-RU" sz="3200" spc="-1" strike="noStrike">
              <a:solidFill>
                <a:srgbClr val="000000"/>
              </a:solidFill>
              <a:latin typeface="Gill Sans MT"/>
            </a:endParaRPr>
          </a:p>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Что говорил, чему учил старый писатель? Верь в свой народ, создавший могучий русский язык, верь в его творческие силы. Помогай ему подниматься с колен, иди к нему, иди с ни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тепенно сложились и свои организационные формы участия писателей-реалистов в литературной жизни. Широкую известность получила </a:t>
            </a:r>
            <a:r>
              <a:rPr b="1" lang="ru-RU" sz="3200" spc="-1" strike="noStrike">
                <a:solidFill>
                  <a:srgbClr val="000000"/>
                </a:solidFill>
                <a:latin typeface="Gill Sans MT"/>
              </a:rPr>
              <a:t>«Среда»   </a:t>
            </a:r>
            <a:r>
              <a:rPr b="0" lang="ru-RU" sz="3200" spc="-1" strike="noStrike">
                <a:solidFill>
                  <a:srgbClr val="000000"/>
                </a:solidFill>
                <a:latin typeface="Gill Sans MT"/>
              </a:rPr>
              <a:t>(«Московская   литературная   среда»)   –   литературный   кружок, действовавший с 1899 г.</a:t>
            </a:r>
            <a:r>
              <a:rPr b="0" lang="ru-RU" sz="3200" spc="-1" strike="noStrike" baseline="30000">
                <a:solidFill>
                  <a:srgbClr val="000000"/>
                </a:solidFill>
                <a:latin typeface="Gill Sans MT"/>
              </a:rPr>
              <a:t>272</a:t>
            </a:r>
            <a:r>
              <a:rPr b="0" lang="ru-RU" sz="3200" spc="-1" strike="noStrike">
                <a:solidFill>
                  <a:srgbClr val="000000"/>
                </a:solidFill>
                <a:latin typeface="Gill Sans MT"/>
              </a:rPr>
              <a:t> Его участники собирались на телешовской квартире в Москве и объединили писателей реалистического направления. В них участвовали Горький, Бунин, Куприн, Андреев, Серафимович, Скиталец, Вересаев и др.</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123</TotalTime>
  <Application>LibreOffice/7.4.7.2$Linux_X86_64 LibreOffice_project/40$Build-2</Application>
  <AppVersion>15.0000</AppVersion>
  <Words>4615</Words>
  <Paragraphs>1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11:32:12Z</dcterms:created>
  <dc:creator>Egor</dc:creator>
  <dc:description/>
  <dc:language>en-US</dc:language>
  <cp:lastModifiedBy>Egor</cp:lastModifiedBy>
  <dcterms:modified xsi:type="dcterms:W3CDTF">2021-05-31T13:46:14Z</dcterms:modified>
  <cp:revision>18</cp:revision>
  <dc:subject/>
  <dc:title>Реализм.  Литературные групп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7</vt:r8>
  </property>
</Properties>
</file>