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</p:sldIdLst>
  <p:sldSz cx="7556500" cy="10706100"/>
  <p:notesSz cx="7556500" cy="10706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3AB9-E41F-41FF-AA3A-EE6A92115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77640" y="426960"/>
            <a:ext cx="6800400" cy="17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77640" y="2504880"/>
            <a:ext cx="6800400" cy="29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77640" y="5748120"/>
            <a:ext cx="6800400" cy="29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A35B-BD63-4B00-BFD3-7FEFE0BD2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77640" y="426960"/>
            <a:ext cx="6800400" cy="17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77640" y="2504880"/>
            <a:ext cx="3318480" cy="29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62440" y="2504880"/>
            <a:ext cx="3318480" cy="29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77640" y="5748120"/>
            <a:ext cx="3318480" cy="29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62440" y="5748120"/>
            <a:ext cx="3318480" cy="29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C277-F02E-49B6-848F-914DBF4F6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77640" y="426960"/>
            <a:ext cx="6800400" cy="17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77640" y="2504880"/>
            <a:ext cx="2189520" cy="29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676960" y="2504880"/>
            <a:ext cx="2189520" cy="29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976280" y="2504880"/>
            <a:ext cx="2189520" cy="29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77640" y="5748120"/>
            <a:ext cx="2189520" cy="29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676960" y="5748120"/>
            <a:ext cx="2189520" cy="29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976280" y="5748120"/>
            <a:ext cx="2189520" cy="29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7F6D-5487-4F6A-B481-52C669F7C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AE291-B9CB-489B-B52C-5FCEF5AA1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77640" y="426960"/>
            <a:ext cx="6800400" cy="17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77640" y="2504880"/>
            <a:ext cx="6800400" cy="62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A3D02-3FD7-4E18-8FC5-7FAD3B2B5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77640" y="426960"/>
            <a:ext cx="6800400" cy="17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77640" y="2504880"/>
            <a:ext cx="6800400" cy="62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996D8-B243-49AD-91A1-25AC63F9E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77640" y="426960"/>
            <a:ext cx="6800400" cy="17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77640" y="2504880"/>
            <a:ext cx="3318480" cy="62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862440" y="2504880"/>
            <a:ext cx="3318480" cy="62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F0D2C-C585-466E-882E-AE3C0DBA8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77640" y="426960"/>
            <a:ext cx="6800400" cy="17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4CADB-48D6-4F2B-85B6-DA64B50EE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77640" y="426960"/>
            <a:ext cx="6800400" cy="82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697C1-CAAB-458B-BA9A-AEA9C6663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77640" y="426960"/>
            <a:ext cx="6800400" cy="17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77640" y="2504880"/>
            <a:ext cx="3318480" cy="29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62440" y="2504880"/>
            <a:ext cx="3318480" cy="62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77640" y="5748120"/>
            <a:ext cx="3318480" cy="29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57092-B1A1-41E8-A712-9221AA1A8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77640" y="426960"/>
            <a:ext cx="6800400" cy="17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77640" y="2504880"/>
            <a:ext cx="6800400" cy="62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1B3D-63EE-41B9-9589-A2A47E4E5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77640" y="426960"/>
            <a:ext cx="6800400" cy="17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77640" y="2504880"/>
            <a:ext cx="3318480" cy="62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862440" y="2504880"/>
            <a:ext cx="3318480" cy="29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62440" y="5748120"/>
            <a:ext cx="3318480" cy="29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3C32D-E819-4533-89ED-28D825EEE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77640" y="426960"/>
            <a:ext cx="6800400" cy="17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77640" y="2504880"/>
            <a:ext cx="3318480" cy="29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62440" y="2504880"/>
            <a:ext cx="3318480" cy="29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77640" y="5748120"/>
            <a:ext cx="6800400" cy="29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0DB58-5D87-42A9-B3A6-B45A81478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77640" y="426960"/>
            <a:ext cx="6800400" cy="17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77640" y="2504880"/>
            <a:ext cx="6800400" cy="29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77640" y="5748120"/>
            <a:ext cx="6800400" cy="29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41934-9BA2-4CC1-BE16-381D16B6F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77640" y="426960"/>
            <a:ext cx="6800400" cy="17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77640" y="2504880"/>
            <a:ext cx="3318480" cy="29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440" y="2504880"/>
            <a:ext cx="3318480" cy="29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77640" y="5748120"/>
            <a:ext cx="3318480" cy="29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862440" y="5748120"/>
            <a:ext cx="3318480" cy="29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1EB90-B664-4961-A907-80BEC9731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77640" y="426960"/>
            <a:ext cx="6800400" cy="17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77640" y="2504880"/>
            <a:ext cx="2189520" cy="29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676960" y="2504880"/>
            <a:ext cx="2189520" cy="29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76280" y="2504880"/>
            <a:ext cx="2189520" cy="29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77640" y="5748120"/>
            <a:ext cx="2189520" cy="29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676960" y="5748120"/>
            <a:ext cx="2189520" cy="29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4976280" y="5748120"/>
            <a:ext cx="2189520" cy="29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71821-421F-477B-88F2-31C3F4400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77640" y="426960"/>
            <a:ext cx="6800400" cy="17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77640" y="2504880"/>
            <a:ext cx="6800400" cy="62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13D0-A209-4277-A209-3B807F3AC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77640" y="426960"/>
            <a:ext cx="6800400" cy="17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77640" y="2504880"/>
            <a:ext cx="3318480" cy="62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862440" y="2504880"/>
            <a:ext cx="3318480" cy="62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CD10-380B-4FC4-8487-990322608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77640" y="426960"/>
            <a:ext cx="6800400" cy="17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A8B0-BF61-4C03-B9D4-231B30196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77640" y="426960"/>
            <a:ext cx="6800400" cy="82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EFD4-6904-4BCB-8D5F-6C9732B6B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77640" y="426960"/>
            <a:ext cx="6800400" cy="17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77640" y="2504880"/>
            <a:ext cx="3318480" cy="29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862440" y="2504880"/>
            <a:ext cx="3318480" cy="62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77640" y="5748120"/>
            <a:ext cx="3318480" cy="29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4326-9DC8-4B99-8F42-1FC784B91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77640" y="426960"/>
            <a:ext cx="6800400" cy="17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77640" y="2504880"/>
            <a:ext cx="3318480" cy="62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862440" y="2504880"/>
            <a:ext cx="3318480" cy="29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62440" y="5748120"/>
            <a:ext cx="3318480" cy="29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555A-A46E-4DAB-9420-2632AF626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77640" y="426960"/>
            <a:ext cx="6800400" cy="17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77640" y="2504880"/>
            <a:ext cx="3318480" cy="29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62440" y="2504880"/>
            <a:ext cx="3318480" cy="29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77640" y="5748120"/>
            <a:ext cx="6800400" cy="29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01BE-CC1F-4C48-B62B-244CD84DE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lt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Google Shape;6;p1"/>
          <p:cNvSpPr/>
          <p:nvPr/>
        </p:nvSpPr>
        <p:spPr>
          <a:xfrm>
            <a:off x="0" y="0"/>
            <a:ext cx="7556040" cy="10686600"/>
          </a:xfrm>
          <a:custGeom>
            <a:avLst/>
            <a:gdLst>
              <a:gd name="textAreaLeft" fmla="*/ 0 w 7556040"/>
              <a:gd name="textAreaRight" fmla="*/ 7556400 w 7556040"/>
              <a:gd name="textAreaTop" fmla="*/ 0 h 10686600"/>
              <a:gd name="textAreaBottom" fmla="*/ 10686960 h 10686600"/>
            </a:gdLst>
            <a:ahLst/>
            <a:rect l="textAreaLeft" t="textAreaTop" r="textAreaRight" b="textAreaBottom"/>
            <a:pathLst>
              <a:path w="7556500" h="10687685">
                <a:moveTo>
                  <a:pt x="0" y="10687689"/>
                </a:moveTo>
                <a:lnTo>
                  <a:pt x="7555992" y="10687689"/>
                </a:lnTo>
                <a:lnTo>
                  <a:pt x="7555992" y="8"/>
                </a:lnTo>
                <a:lnTo>
                  <a:pt x="0" y="8"/>
                </a:lnTo>
                <a:lnTo>
                  <a:pt x="0" y="10687689"/>
                </a:lnTo>
              </a:path>
            </a:pathLst>
          </a:custGeom>
          <a:solidFill>
            <a:srgbClr val="f0f0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2568600" y="9956880"/>
            <a:ext cx="2418840" cy="620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2"/>
          </p:nvPr>
        </p:nvSpPr>
        <p:spPr>
          <a:xfrm>
            <a:off x="378000" y="9956880"/>
            <a:ext cx="1738080" cy="620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5440320" y="9956880"/>
            <a:ext cx="1738080" cy="620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8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601F0490-6A81-4F74-9223-83D9359AC044}" type="slidenum">
              <a:rPr b="0" lang="en-US" sz="18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377640" y="426960"/>
            <a:ext cx="6800400" cy="17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377640" y="2504880"/>
            <a:ext cx="6800400" cy="62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lt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Google Shape;6;p1"/>
          <p:cNvSpPr/>
          <p:nvPr/>
        </p:nvSpPr>
        <p:spPr>
          <a:xfrm>
            <a:off x="0" y="0"/>
            <a:ext cx="7556040" cy="10686600"/>
          </a:xfrm>
          <a:custGeom>
            <a:avLst/>
            <a:gdLst>
              <a:gd name="textAreaLeft" fmla="*/ 0 w 7556040"/>
              <a:gd name="textAreaRight" fmla="*/ 7556400 w 7556040"/>
              <a:gd name="textAreaTop" fmla="*/ 0 h 10686600"/>
              <a:gd name="textAreaBottom" fmla="*/ 10686960 h 10686600"/>
            </a:gdLst>
            <a:ahLst/>
            <a:rect l="textAreaLeft" t="textAreaTop" r="textAreaRight" b="textAreaBottom"/>
            <a:pathLst>
              <a:path w="7556500" h="10687685">
                <a:moveTo>
                  <a:pt x="0" y="10687689"/>
                </a:moveTo>
                <a:lnTo>
                  <a:pt x="7555992" y="10687689"/>
                </a:lnTo>
                <a:lnTo>
                  <a:pt x="7555992" y="8"/>
                </a:lnTo>
                <a:lnTo>
                  <a:pt x="0" y="8"/>
                </a:lnTo>
                <a:lnTo>
                  <a:pt x="0" y="10687689"/>
                </a:lnTo>
              </a:path>
            </a:pathLst>
          </a:custGeom>
          <a:solidFill>
            <a:srgbClr val="f0f0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24120" y="192240"/>
            <a:ext cx="3908160" cy="17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78000" y="2462040"/>
            <a:ext cx="6800400" cy="620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4"/>
          </p:nvPr>
        </p:nvSpPr>
        <p:spPr>
          <a:xfrm>
            <a:off x="2568600" y="9956880"/>
            <a:ext cx="2418840" cy="620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5"/>
          </p:nvPr>
        </p:nvSpPr>
        <p:spPr>
          <a:xfrm>
            <a:off x="378000" y="9956880"/>
            <a:ext cx="1738080" cy="620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5440320" y="9956880"/>
            <a:ext cx="1738080" cy="620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8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5D74F62E-A246-41A9-999E-F958291D28FE}" type="slidenum">
              <a:rPr b="0" lang="en-US" sz="18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Google Shape;44;p7"/>
          <p:cNvSpPr/>
          <p:nvPr/>
        </p:nvSpPr>
        <p:spPr>
          <a:xfrm>
            <a:off x="531720" y="825480"/>
            <a:ext cx="6384600" cy="162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6200" algn="ctr">
              <a:lnSpc>
                <a:spcPct val="118000"/>
              </a:lnSpc>
              <a:tabLst>
                <a:tab algn="l" pos="0"/>
              </a:tabLst>
            </a:pPr>
            <a:r>
              <a:rPr b="1" lang="en-US" sz="2200" spc="-1" strike="noStrike">
                <a:solidFill>
                  <a:schemeClr val="dk1"/>
                </a:solidFill>
                <a:latin typeface="Lucida Sans"/>
                <a:ea typeface="Lucida Sans"/>
              </a:rPr>
              <a:t>Учебный цент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06200" algn="ctr">
              <a:lnSpc>
                <a:spcPct val="118000"/>
              </a:lnSpc>
              <a:tabLst>
                <a:tab algn="l" pos="0"/>
              </a:tabLst>
            </a:pPr>
            <a:r>
              <a:rPr b="1" lang="en-US" sz="2200" spc="-1" strike="noStrike">
                <a:solidFill>
                  <a:schemeClr val="dk1"/>
                </a:solidFill>
                <a:latin typeface="Cambria"/>
                <a:ea typeface="Cambria"/>
              </a:rPr>
              <a:t>FINEX</a:t>
            </a:r>
            <a:r>
              <a:rPr b="1" lang="en-US" sz="22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chemeClr val="dk1"/>
                </a:solidFill>
                <a:latin typeface="Cambria"/>
                <a:ea typeface="Cambria"/>
              </a:rPr>
              <a:t>EDU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06200">
              <a:lnSpc>
                <a:spcPct val="100000"/>
              </a:lnSpc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106200" algn="ctr">
              <a:lnSpc>
                <a:spcPct val="100000"/>
              </a:lnSpc>
              <a:tabLst>
                <a:tab algn="l" pos="0"/>
              </a:tabLst>
            </a:pPr>
            <a:r>
              <a:rPr b="1" lang="en-US" sz="2600" spc="-1" strike="noStrike">
                <a:solidFill>
                  <a:srgbClr val="202020"/>
                </a:solidFill>
                <a:latin typeface="Arial"/>
                <a:ea typeface="Arial"/>
              </a:rPr>
              <a:t>ТЕСТЫ С ОТВЕТАМИ ПО ПОД Ф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Google Shape;45;p7"/>
          <p:cNvSpPr/>
          <p:nvPr/>
        </p:nvSpPr>
        <p:spPr>
          <a:xfrm>
            <a:off x="541440" y="3036960"/>
            <a:ext cx="6803640" cy="79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521160" algn="ctr">
              <a:lnSpc>
                <a:spcPct val="109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chemeClr val="dk1"/>
                </a:solidFill>
                <a:latin typeface="Lucida Sans"/>
                <a:ea typeface="Lucida Sans"/>
              </a:rPr>
              <a:t>Т Е С Т Ы</a:t>
            </a:r>
            <a:r>
              <a:rPr b="0" lang="en-US" sz="1800" spc="-1" strike="noStrike">
                <a:solidFill>
                  <a:schemeClr val="dk1"/>
                </a:solidFill>
                <a:latin typeface="Lucida Sans"/>
                <a:ea typeface="Lucida Sans"/>
              </a:rPr>
              <a:t>	</a:t>
            </a:r>
            <a:r>
              <a:rPr b="0" lang="en-US" sz="1800" spc="-1" strike="noStrike">
                <a:solidFill>
                  <a:schemeClr val="dk1"/>
                </a:solidFill>
                <a:latin typeface="Lucida Sans"/>
                <a:ea typeface="Lucida Sans"/>
              </a:rPr>
              <a:t>РА ЗД Е Л Е Н Ы</a:t>
            </a:r>
            <a:r>
              <a:rPr b="0" lang="en-US" sz="1800" spc="-1" strike="noStrike">
                <a:solidFill>
                  <a:schemeClr val="dk1"/>
                </a:solidFill>
                <a:latin typeface="Lucida Sans"/>
                <a:ea typeface="Lucida Sans"/>
              </a:rPr>
              <a:t>	</a:t>
            </a:r>
            <a:r>
              <a:rPr b="0" lang="en-US" sz="1800" spc="-1" strike="noStrike">
                <a:solidFill>
                  <a:schemeClr val="dk1"/>
                </a:solidFill>
                <a:latin typeface="Lucida Sans"/>
                <a:ea typeface="Lucida Sans"/>
              </a:rPr>
              <a:t>П О БЛ О КА М</a:t>
            </a:r>
            <a:r>
              <a:rPr b="0" lang="en-US" sz="1800" spc="-1" strike="noStrike">
                <a:solidFill>
                  <a:schemeClr val="dk1"/>
                </a:solidFill>
                <a:latin typeface="Calibri"/>
                <a:ea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1160" algn="ctr">
              <a:lnSpc>
                <a:spcPct val="109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chemeClr val="dk1"/>
                </a:solidFill>
                <a:latin typeface="Lucida Sans"/>
                <a:ea typeface="Lucida Sans"/>
              </a:rPr>
              <a:t>ВО П РО С Ы</a:t>
            </a:r>
            <a:r>
              <a:rPr b="0" lang="en-US" sz="1800" spc="-1" strike="noStrike">
                <a:solidFill>
                  <a:schemeClr val="dk1"/>
                </a:solidFill>
                <a:latin typeface="Lucida Sans"/>
                <a:ea typeface="Lucida Sans"/>
              </a:rPr>
              <a:t>	</a:t>
            </a:r>
            <a:r>
              <a:rPr b="0" lang="en-US" sz="1800" spc="-1" strike="noStrike">
                <a:solidFill>
                  <a:schemeClr val="dk1"/>
                </a:solidFill>
                <a:latin typeface="Lucida Sans"/>
                <a:ea typeface="Lucida Sans"/>
              </a:rPr>
              <a:t>П О Д С ВЕ ЧЕ Н Ы ЧЕ РН ЫМ</a:t>
            </a:r>
            <a:r>
              <a:rPr b="0" lang="en-US" sz="1800" spc="-1" strike="noStrike">
                <a:solidFill>
                  <a:schemeClr val="dk1"/>
                </a:solidFill>
                <a:latin typeface="Lucida Sans"/>
                <a:ea typeface="Lucida Sans"/>
              </a:rPr>
              <a:t>	</a:t>
            </a:r>
            <a:r>
              <a:rPr b="0" lang="en-US" sz="1800" spc="-1" strike="noStrike">
                <a:solidFill>
                  <a:schemeClr val="dk1"/>
                </a:solidFill>
                <a:latin typeface="Lucida Sans"/>
                <a:ea typeface="Lucida Sans"/>
              </a:rPr>
              <a:t>Ц ВЕ Т О М</a:t>
            </a:r>
            <a:r>
              <a:rPr b="0" lang="en-US" sz="18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1160" algn="ctr">
              <a:lnSpc>
                <a:spcPct val="109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chemeClr val="dk1"/>
                </a:solidFill>
                <a:latin typeface="Lucida Sans"/>
                <a:ea typeface="Lucida Sans"/>
              </a:rPr>
              <a:t>О Т ВЕ Т Ы  П О Д С ВЕ ЧЕ Н Ы КРА С Н ЫМ</a:t>
            </a:r>
            <a:r>
              <a:rPr b="0" lang="en-US" sz="1800" spc="-1" strike="noStrike">
                <a:solidFill>
                  <a:schemeClr val="dk1"/>
                </a:solidFill>
                <a:latin typeface="Lucida Sans"/>
                <a:ea typeface="Lucida Sans"/>
              </a:rPr>
              <a:t>	</a:t>
            </a:r>
            <a:r>
              <a:rPr b="0" lang="en-US" sz="1800" spc="-1" strike="noStrike">
                <a:solidFill>
                  <a:schemeClr val="dk1"/>
                </a:solidFill>
                <a:latin typeface="Lucida Sans"/>
                <a:ea typeface="Lucida Sans"/>
              </a:rPr>
              <a:t>ЦВЕ Т О М</a:t>
            </a:r>
            <a:r>
              <a:rPr b="0" lang="en-US" sz="1800" spc="-1" strike="noStrike">
                <a:solidFill>
                  <a:schemeClr val="dk1"/>
                </a:solidFill>
                <a:latin typeface="Calibri"/>
                <a:ea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1160" algn="ctr">
              <a:lnSpc>
                <a:spcPct val="113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chemeClr val="dk1"/>
                </a:solidFill>
                <a:latin typeface="Lucida Sans"/>
                <a:ea typeface="Lucida Sans"/>
              </a:rPr>
              <a:t>Н Е БО Л ЬШИЕ</a:t>
            </a:r>
            <a:r>
              <a:rPr b="0" lang="en-US" sz="1800" spc="-1" strike="noStrike">
                <a:solidFill>
                  <a:schemeClr val="dk1"/>
                </a:solidFill>
                <a:latin typeface="Lucida Sans"/>
                <a:ea typeface="Lucida Sans"/>
              </a:rPr>
              <a:t>	</a:t>
            </a:r>
            <a:r>
              <a:rPr b="0" lang="en-US" sz="1800" spc="-1" strike="noStrike">
                <a:solidFill>
                  <a:schemeClr val="dk1"/>
                </a:solidFill>
                <a:latin typeface="Lucida Sans"/>
                <a:ea typeface="Lucida Sans"/>
              </a:rPr>
              <a:t>П О МЕ Т КИ</a:t>
            </a:r>
            <a:r>
              <a:rPr b="0" lang="en-US" sz="1800" spc="-1" strike="noStrike">
                <a:solidFill>
                  <a:schemeClr val="dk1"/>
                </a:solidFill>
                <a:latin typeface="Lucida Sans"/>
                <a:ea typeface="Lucida Sans"/>
              </a:rPr>
              <a:t>	</a:t>
            </a:r>
            <a:r>
              <a:rPr b="0" lang="en-US" sz="1800" spc="-1" strike="noStrike">
                <a:solidFill>
                  <a:schemeClr val="dk1"/>
                </a:solidFill>
                <a:latin typeface="Lucida Sans"/>
                <a:ea typeface="Lucida Sans"/>
              </a:rPr>
              <a:t>С У Т О ЧН Е Н ИЯ МИ</a:t>
            </a:r>
            <a:r>
              <a:rPr b="0" lang="en-US" sz="1800" spc="-1" strike="noStrike">
                <a:solidFill>
                  <a:schemeClr val="dk1"/>
                </a:solidFill>
                <a:latin typeface="Lucida Sans"/>
                <a:ea typeface="Lucida Sans"/>
              </a:rPr>
              <a:t>	</a:t>
            </a:r>
            <a:r>
              <a:rPr b="0" lang="en-US" sz="1800" spc="-1" strike="noStrike">
                <a:solidFill>
                  <a:schemeClr val="dk1"/>
                </a:solidFill>
                <a:latin typeface="Lucida Sans"/>
                <a:ea typeface="Lucida Sans"/>
              </a:rPr>
              <a:t>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1160" algn="ctr">
              <a:lnSpc>
                <a:spcPct val="113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chemeClr val="dk1"/>
                </a:solidFill>
                <a:latin typeface="Lucida Sans"/>
                <a:ea typeface="Lucida Sans"/>
              </a:rPr>
              <a:t>П О Д С ВЕ Т ИЛ И  ЗЕ Л Е Н ЫМ ЦВЕ Т О М  Д Л Я  ВА ШЕ Г 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116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chemeClr val="dk1"/>
                </a:solidFill>
                <a:latin typeface="Lucida Sans"/>
                <a:ea typeface="Lucida Sans"/>
              </a:rPr>
              <a:t>У Д О БС Т ВА </a:t>
            </a:r>
            <a:r>
              <a:rPr b="0" lang="en-US" sz="1800" spc="-1" strike="noStrike">
                <a:solidFill>
                  <a:schemeClr val="dk1"/>
                </a:solidFill>
                <a:latin typeface="Calibri"/>
                <a:ea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116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1160" algn="just">
              <a:lnSpc>
                <a:spcPct val="114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chemeClr val="dk1"/>
                </a:solidFill>
                <a:latin typeface="Arial"/>
                <a:ea typeface="Arial"/>
              </a:rPr>
              <a:t>НА ПО МИНА Е М,  О Т О М ЧТ О НЕ  В С Е  Т Е С Т Ы ,</a:t>
            </a:r>
            <a:r>
              <a:rPr b="1" lang="en-US" sz="18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</a:t>
            </a:r>
            <a:r>
              <a:rPr b="1" lang="en-US" sz="1800" spc="-1" strike="noStrike">
                <a:solidFill>
                  <a:schemeClr val="dk1"/>
                </a:solidFill>
                <a:latin typeface="Arial"/>
                <a:ea typeface="Arial"/>
              </a:rPr>
              <a:t>КО Т О Р Ы Е З ДЕ С Ь ИМЕ ЮТ С Я МО Г У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1160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chemeClr val="dk1"/>
                </a:solidFill>
                <a:latin typeface="Arial"/>
                <a:ea typeface="Arial"/>
              </a:rPr>
              <a:t>В А М ПО ПА С Т А Т Ь С Я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1160" algn="ctr">
              <a:lnSpc>
                <a:spcPct val="113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chemeClr val="dk1"/>
                </a:solidFill>
                <a:latin typeface="Arial"/>
                <a:ea typeface="Arial"/>
              </a:rPr>
              <a:t>1</a:t>
            </a:r>
            <a:r>
              <a:rPr b="1" lang="en-US" sz="18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chemeClr val="dk1"/>
                </a:solidFill>
                <a:latin typeface="Arial"/>
                <a:ea typeface="Arial"/>
              </a:rPr>
              <a:t>0</a:t>
            </a:r>
            <a:r>
              <a:rPr b="1" lang="en-US" sz="18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chemeClr val="dk1"/>
                </a:solidFill>
                <a:latin typeface="Arial"/>
                <a:ea typeface="Arial"/>
              </a:rPr>
              <a:t>-</a:t>
            </a:r>
            <a:r>
              <a:rPr b="1" lang="en-US" sz="18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chemeClr val="dk1"/>
                </a:solidFill>
                <a:latin typeface="Arial"/>
                <a:ea typeface="Arial"/>
              </a:rPr>
              <a:t>1</a:t>
            </a:r>
            <a:r>
              <a:rPr b="1" lang="en-US" sz="18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chemeClr val="dk1"/>
                </a:solidFill>
                <a:latin typeface="Arial"/>
                <a:ea typeface="Arial"/>
              </a:rPr>
              <a:t>5</a:t>
            </a:r>
            <a:r>
              <a:rPr b="1" lang="en-US" sz="18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chemeClr val="dk1"/>
                </a:solidFill>
                <a:latin typeface="Arial"/>
                <a:ea typeface="Arial"/>
              </a:rPr>
              <a:t>%</a:t>
            </a:r>
            <a:r>
              <a:rPr b="1" lang="en-US" sz="18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chemeClr val="dk1"/>
                </a:solidFill>
                <a:latin typeface="Arial"/>
                <a:ea typeface="Arial"/>
              </a:rPr>
              <a:t>Т Е С Т О В МО Г УТ О Т ЛИЧА Т Ь С Я ПР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116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chemeClr val="dk1"/>
                </a:solidFill>
                <a:latin typeface="Arial"/>
                <a:ea typeface="Arial"/>
              </a:rPr>
              <a:t>А Т Т Е С Т А 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116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1160">
              <a:lnSpc>
                <a:spcPct val="116000"/>
              </a:lnSpc>
              <a:tabLst>
                <a:tab algn="l" pos="0"/>
              </a:tabLst>
            </a:pPr>
            <a:r>
              <a:rPr b="1" lang="en-US" sz="1800" spc="-1" strike="noStrike" u="sng">
                <a:solidFill>
                  <a:schemeClr val="hlink"/>
                </a:solidFill>
                <a:uFillTx/>
                <a:latin typeface="Calibri"/>
                <a:ea typeface="Calibri"/>
                <a:hlinkClick r:id="rId1"/>
              </a:rPr>
              <a:t>www.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 f i n e x s t . kz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chemeClr val="dk1"/>
                </a:solidFill>
                <a:latin typeface="Arial"/>
                <a:ea typeface="Arial"/>
              </a:rPr>
              <a:t>8</a:t>
            </a:r>
            <a:r>
              <a:rPr b="1" lang="en-US" sz="18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chemeClr val="dk1"/>
                </a:solidFill>
                <a:latin typeface="Arial"/>
                <a:ea typeface="Arial"/>
              </a:rPr>
              <a:t>-775</a:t>
            </a:r>
            <a:r>
              <a:rPr b="1" lang="en-US" sz="18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chemeClr val="dk1"/>
                </a:solidFill>
                <a:latin typeface="Arial"/>
                <a:ea typeface="Arial"/>
              </a:rPr>
              <a:t>-401</a:t>
            </a:r>
            <a:r>
              <a:rPr b="1" lang="en-US" sz="18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chemeClr val="dk1"/>
                </a:solidFill>
                <a:latin typeface="Arial"/>
                <a:ea typeface="Arial"/>
              </a:rPr>
              <a:t>-33</a:t>
            </a:r>
            <a:r>
              <a:rPr b="1" lang="en-US" sz="18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chemeClr val="dk1"/>
                </a:solidFill>
                <a:latin typeface="Arial"/>
                <a:ea typeface="Arial"/>
              </a:rPr>
              <a:t>-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824120" y="192240"/>
            <a:ext cx="3908160" cy="17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202020"/>
                </a:solidFill>
                <a:latin typeface="Lucida Sans"/>
                <a:ea typeface="Lucida Sans"/>
              </a:rPr>
              <a:t>ПРОФИЛЬНЫЕТЕСТЫ</a:t>
            </a:r>
            <a:br>
              <a:rPr sz="3200"/>
            </a:br>
            <a:r>
              <a:rPr b="0" lang="en-US" sz="2300" spc="-1" strike="noStrike">
                <a:solidFill>
                  <a:srgbClr val="202020"/>
                </a:solidFill>
                <a:latin typeface="Trebuchet MS"/>
                <a:ea typeface="Trebuchet MS"/>
              </a:rPr>
              <a:t>4</a:t>
            </a:r>
            <a:r>
              <a:rPr b="0" lang="en-US" sz="2300" spc="-1" strike="noStrike">
                <a:solidFill>
                  <a:srgbClr val="202020"/>
                </a:solidFill>
                <a:latin typeface="Lucida Sans"/>
                <a:ea typeface="Lucida Sans"/>
              </a:rPr>
              <a:t>БЛОК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Google Shape;116;p16"/>
          <p:cNvSpPr/>
          <p:nvPr/>
        </p:nvSpPr>
        <p:spPr>
          <a:xfrm>
            <a:off x="158760" y="1440000"/>
            <a:ext cx="12816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1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Google Shape;117;p16"/>
          <p:cNvSpPr/>
          <p:nvPr/>
        </p:nvSpPr>
        <p:spPr>
          <a:xfrm>
            <a:off x="395280" y="1440000"/>
            <a:ext cx="673380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808200">
              <a:lnSpc>
                <a:spcPct val="100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ЧТО НЕ ОТНОСИТСЯ К МИКРОФИНАНСОВОЙ ДЕЯТЕЛЬНОСТИ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08200">
              <a:lnSpc>
                <a:spcPct val="117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МИКРОФИНАНСОВЫМ ОРГАНИЗАЦИЯМ ЗАПРЕЩАЕТСЯ ОСУЩЕСТВЛЯТЬ ИНУЮ НЕ ПРЕДУСМОТРЕННУЮЗАКОНОМ О МФД ПРЕДПРИНИМАТЕЛЬСКУЮ ДЕЯТЕЛЬНОСТЬ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Google Shape;118;p16"/>
          <p:cNvSpPr/>
          <p:nvPr/>
        </p:nvSpPr>
        <p:spPr>
          <a:xfrm>
            <a:off x="6480" y="2533680"/>
            <a:ext cx="7543440" cy="82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700200" indent="-200160">
              <a:lnSpc>
                <a:spcPct val="121000"/>
              </a:lnSpc>
              <a:buClr>
                <a:srgbClr val="202020"/>
              </a:buClr>
              <a:buFont typeface="Trebuchet MS"/>
              <a:buAutoNum type="arabicPeriod" startAt="2"/>
            </a:pP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ДОПУСКАЕТСЯ ЛИ УСТУПКА ПРАВА 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ТРЕБОВАНИЯ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ПО ДОГОВОРУ О ПРЕДОСТАВЛЕНИИ МИКРОКРЕДИТА В ОТНОШЕНИИ ОДНОГО ЗАЕМЩИК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00040" indent="20016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НЕСКОЛЬКИМ ЛИЦАМ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00040" indent="20016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НЕ ДОПУСКАЕТС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700200" indent="-200160">
              <a:lnSpc>
                <a:spcPct val="112000"/>
              </a:lnSpc>
              <a:spcBef>
                <a:spcPts val="300"/>
              </a:spcBef>
              <a:buClr>
                <a:srgbClr val="202020"/>
              </a:buClr>
              <a:buFont typeface="Trebuchet MS"/>
              <a:buAutoNum type="arabicPeriod" startAt="3"/>
              <a:tabLst>
                <a:tab algn="l" pos="0"/>
              </a:tabLst>
            </a:pP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В ТЕЧЕНИИ СКОЛЬКИХ ДНЕЙ МИКРОФИНАНСОВАЯ ОРГАНИЗАЦИЯ ОБЯЗАНА ПОСЛЕ ПОЛУЧЕНИЯ УВЕДОМЛЕНИЯ ГОСУДАРСТВЕННОГО ОРГАНА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00040" indent="200160" algn="ctr">
              <a:lnSpc>
                <a:spcPct val="116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ОСУЩЕСТВЛЯЮЩЕГО ГОСУДАРСТВЕННОЕ РЕГУЛИРОВАНИЕ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КОНТРОЛЬ И НАДЗОР ФИНАНСОВОГО РЫНКА И ФИНАНСОВЫХ ОРГАНИЗАЦИЙ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ОБ ИСКЛЮЧЕНИИ ИЗ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00040" indent="200160" algn="ctr">
              <a:lnSpc>
                <a:spcPct val="116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РЕЕСТРА МИКРОФИНАНСОВЫХ ОРГАНИЗАЦИЙ ПРОВЕСТИ ПРОЦЕДУРУ ПЕРЕРЕГИСТРАЦИИ ПУТЕМ ИСКЛЮЧЕНИЯ ИЗ СВОЕГО НАИМЕНОВАНИЯ СЛО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00040" indent="20016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«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МИКРОФИНАНСОВАЯ ОРГАНИЗАЦИЯ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»,</a:t>
            </a:r>
            <a:r>
              <a:rPr b="0" lang="en-US" sz="15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«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КРЕДИТНОЕ ТОВАРИЩЕСТВО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»,</a:t>
            </a:r>
            <a:r>
              <a:rPr b="0" lang="en-US" sz="15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«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ЛОМБАРД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»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00040" indent="20016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ПРОИЗВОДНЫХ ОТ НИХ СЛОВ ИЛИ АББРЕВИАТУРЫ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ПРЕДПОЛАГАЮЩИХ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ЧТ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00040" indent="200160" algn="ctr">
              <a:lnSpc>
                <a:spcPct val="114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УКАЗАННОЕ ЮРИДИЧЕСКОЕ ЛИЦО ОСУЩЕСТВЛЯЕТ ДЕЯТЕЛЬНОСТЬ ПО ПРЕДОСТАВЛЕНИЮ МИКРОКРЕДИТОВ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ЛИБО ПРИНЯТЬ РЕШЕНИЕ О РЕОРГАНИЗАЦИИ ИЛИ ЛИКВИДАЦИИ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00040" indent="20016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30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ТРИДЦАТЬ РАБОЧИХ ДНЕЙ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.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 АТТЕСТАЦИИ СТОИТ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30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КАЛЕНДАРНЫХ ДНЕ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00040" indent="200160">
              <a:lnSpc>
                <a:spcPct val="100000"/>
              </a:lnSpc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00200" indent="-200160">
              <a:lnSpc>
                <a:spcPct val="112000"/>
              </a:lnSpc>
              <a:buClr>
                <a:srgbClr val="202020"/>
              </a:buClr>
              <a:buFont typeface="Trebuchet MS"/>
              <a:buAutoNum type="arabicPeriod" startAt="2"/>
              <a:tabLst>
                <a:tab algn="l" pos="0"/>
              </a:tabLst>
            </a:pP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В КАКИХ СЛУЧАЯХ МИКРОФИНАНСОВАЯ ОРГАНИЗАЦИЯ ОБЯЗАНА ОТКАЗЫВАТЬ В ПРЕДОСТАВЛЕНИИ МИКРОКРЕДИТА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00040" indent="200160" algn="ctr">
              <a:lnSpc>
                <a:spcPct val="14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ОТКАЗЫВАТЬ В ПРЕДОСТАВЛЕНИИ МИКРОКРЕДИТА В СЛУЧАЯХ</a:t>
            </a:r>
            <a:r>
              <a:rPr b="0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ПРЕДУСМОТРЕННЫХ ЗАКОНОМ РЕСПУБЛИКИ КАЗАХСТАН </a:t>
            </a:r>
            <a:r>
              <a:rPr b="0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«</a:t>
            </a: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О ПРОТИВОДЕЙСТВИИ ЛЕГАЛИЗАЦИ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00040" indent="200160" algn="ctr">
              <a:lnSpc>
                <a:spcPct val="10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00040" indent="20016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ФИНАНСИРОВАНИЮ ТЕРРОРИЗМА</a:t>
            </a:r>
            <a:r>
              <a:rPr b="0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Google Shape;119;p16"/>
          <p:cNvSpPr/>
          <p:nvPr/>
        </p:nvSpPr>
        <p:spPr>
          <a:xfrm>
            <a:off x="0" y="0"/>
            <a:ext cx="1387080" cy="340920"/>
          </a:xfrm>
          <a:custGeom>
            <a:avLst/>
            <a:gdLst>
              <a:gd name="textAreaLeft" fmla="*/ 0 w 1387080"/>
              <a:gd name="textAreaRight" fmla="*/ 1387440 w 1387080"/>
              <a:gd name="textAreaTop" fmla="*/ 0 h 340920"/>
              <a:gd name="textAreaBottom" fmla="*/ 341280 h 340920"/>
            </a:gdLst>
            <a:ahLst/>
            <a:rect l="textAreaLeft" t="textAreaTop" r="textAreaRight" b="textAreaBottom"/>
            <a:pathLst>
              <a:path w="1387475" h="340995">
                <a:moveTo>
                  <a:pt x="366855" y="0"/>
                </a:moveTo>
                <a:lnTo>
                  <a:pt x="0" y="340980"/>
                </a:lnTo>
                <a:lnTo>
                  <a:pt x="236850" y="340980"/>
                </a:lnTo>
                <a:lnTo>
                  <a:pt x="603706" y="0"/>
                </a:lnTo>
                <a:lnTo>
                  <a:pt x="366855" y="0"/>
                </a:lnTo>
              </a:path>
              <a:path w="1387475" h="340995">
                <a:moveTo>
                  <a:pt x="758643" y="0"/>
                </a:moveTo>
                <a:lnTo>
                  <a:pt x="391799" y="340980"/>
                </a:lnTo>
                <a:lnTo>
                  <a:pt x="628649" y="340980"/>
                </a:lnTo>
                <a:lnTo>
                  <a:pt x="995505" y="0"/>
                </a:lnTo>
                <a:lnTo>
                  <a:pt x="758643" y="0"/>
                </a:lnTo>
              </a:path>
              <a:path w="1387475" h="340995">
                <a:moveTo>
                  <a:pt x="1150441" y="0"/>
                </a:moveTo>
                <a:lnTo>
                  <a:pt x="783585" y="340980"/>
                </a:lnTo>
                <a:lnTo>
                  <a:pt x="1021079" y="340980"/>
                </a:lnTo>
                <a:lnTo>
                  <a:pt x="1387312" y="0"/>
                </a:lnTo>
                <a:lnTo>
                  <a:pt x="1150441" y="0"/>
                </a:lnTo>
              </a:path>
            </a:pathLst>
          </a:custGeom>
          <a:solidFill>
            <a:srgbClr val="2020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Google Shape;124;p17"/>
          <p:cNvSpPr/>
          <p:nvPr/>
        </p:nvSpPr>
        <p:spPr>
          <a:xfrm>
            <a:off x="14400" y="2532240"/>
            <a:ext cx="7494120" cy="51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33280" indent="-210960">
              <a:lnSpc>
                <a:spcPct val="100000"/>
              </a:lnSpc>
              <a:buClr>
                <a:srgbClr val="202020"/>
              </a:buClr>
              <a:buFont typeface="Trebuchet MS"/>
              <a:buAutoNum type="arabicPeriod" startAt="5"/>
            </a:pP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КТО ОТНОСИТСЯ К ОРГАНИЗАЦИЯМ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ОСУЩЕСТВЛЯЮЩИМ МИКРОФИНАНСОВУЮ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33280" indent="-21096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ДЕЯТЕЛЬНОСТЬ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243000" indent="-95400">
              <a:lnSpc>
                <a:spcPct val="100000"/>
              </a:lnSpc>
              <a:buClr>
                <a:srgbClr val="ff1515"/>
              </a:buClr>
              <a:buFont typeface="Trebuchet MS"/>
              <a:buAutoNum type="arabicParenR"/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ЕЯТЕЛЬНОСТЬ КРЕДИТНЫХ ТОВАРИЩЕСТВ ПО ПРЕДОСТАВЛЕНИЮ МИКРОКРЕДИТО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33280" indent="-21096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СВОИМ УЧАСТНИКАМ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243000" indent="-95400">
              <a:lnSpc>
                <a:spcPct val="114000"/>
              </a:lnSpc>
              <a:spcBef>
                <a:spcPts val="99"/>
              </a:spcBef>
              <a:buClr>
                <a:srgbClr val="ff1515"/>
              </a:buClr>
              <a:buFont typeface="Trebuchet MS"/>
              <a:buAutoNum type="arabicParenR"/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ЕЯТЕЛЬНОСТЬ ЛОМБАРДОВ ПО ПРЕДОСТАВЛЕНИЮ МИКРОКРЕДИТОВ ФИЗИЧЕСКИМ ЛИЦАМ ПОД ЗАЛОГ ДВИЖИМОГО ИМУЩЕСТВ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РЕДНАЗНАЧЕННОГО ДЛЯ ЛИЧНОГО ПОЛЬЗОВАНИЯ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НА СРОК ДО ОДНОГО ГОДА В РАЗМЕРЕ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НЕ ПРЕВЫШАЮЩЕМ ВОСЬМ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33280" indent="-210960" algn="ctr">
              <a:lnSpc>
                <a:spcPct val="117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ТЫСЯЧЕКРАТНОГО РАЗМЕРА МЕСЯЧНОГО РАСЧЕТНОГО ПОКАЗАТЕЛЯ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УСТАНОВЛЕННОГО НА СООТВЕТСТВУЮЩИЙ ФИНАНСОВЫЙ ГОД ЗАКОНОМ О РЕСПУБЛИКАНСКОМ БЮДЖЕТЕ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243000" indent="-95400">
              <a:lnSpc>
                <a:spcPct val="114000"/>
              </a:lnSpc>
              <a:spcBef>
                <a:spcPts val="99"/>
              </a:spcBef>
              <a:buClr>
                <a:srgbClr val="ff1515"/>
              </a:buClr>
              <a:buFont typeface="Trebuchet MS"/>
              <a:buChar char="•"/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ЕЯТЕЛЬНОСТЬ МИКРОФИНАНСОВЫХ ОРГАНИЗАЦИЙ ПО ПРЕДОСТАВЛЕНИЮ МИКРОКРЕДИТОВ ФИЗИЧЕСКИМ И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ЛИ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ЮРИДИЧЕСКИМ ЛИЦАМ С ОБЕСПЕЧЕНИЕМ ЛИБО БЕЗ ОБЕСПЕЧЕНИЯ В РАЗМЕРЕ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НЕ ПРЕВЫШАЮЩЕМ ДВАДЦАТИ ТЫСЯЧЕКРАТНОГО РАЗМЕР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33280" indent="-21096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МЕСЯЧНОГО РАСЧЕТНОГО ПОКАЗАТЕЛЯ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УСТАНОВЛЕННОГО НА СООТВЕТСТВУЮЩИЙ ФИНАНСОВЫЙ ГОД ЗАКОНОМ О РЕСПУБЛИКАНСКОМ БЮДЖЕТЕ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Google Shape;125;p17"/>
          <p:cNvSpPr/>
          <p:nvPr/>
        </p:nvSpPr>
        <p:spPr>
          <a:xfrm>
            <a:off x="0" y="0"/>
            <a:ext cx="1398240" cy="352080"/>
          </a:xfrm>
          <a:custGeom>
            <a:avLst/>
            <a:gdLst>
              <a:gd name="textAreaLeft" fmla="*/ 0 w 1398240"/>
              <a:gd name="textAreaRight" fmla="*/ 1398600 w 1398240"/>
              <a:gd name="textAreaTop" fmla="*/ 0 h 352080"/>
              <a:gd name="textAreaBottom" fmla="*/ 352440 h 352080"/>
            </a:gdLst>
            <a:ahLst/>
            <a:rect l="textAreaLeft" t="textAreaTop" r="textAreaRight" b="textAreaBottom"/>
            <a:pathLst>
              <a:path w="1398905" h="352425">
                <a:moveTo>
                  <a:pt x="615314" y="0"/>
                </a:moveTo>
                <a:lnTo>
                  <a:pt x="378464" y="0"/>
                </a:lnTo>
                <a:lnTo>
                  <a:pt x="0" y="352409"/>
                </a:lnTo>
                <a:lnTo>
                  <a:pt x="236850" y="352409"/>
                </a:lnTo>
                <a:lnTo>
                  <a:pt x="615314" y="0"/>
                </a:lnTo>
                <a:close/>
              </a:path>
              <a:path w="1398905" h="352425">
                <a:moveTo>
                  <a:pt x="1007114" y="0"/>
                </a:moveTo>
                <a:lnTo>
                  <a:pt x="770250" y="0"/>
                </a:lnTo>
                <a:lnTo>
                  <a:pt x="391799" y="352409"/>
                </a:lnTo>
                <a:lnTo>
                  <a:pt x="628649" y="352409"/>
                </a:lnTo>
                <a:lnTo>
                  <a:pt x="1007114" y="0"/>
                </a:lnTo>
                <a:close/>
              </a:path>
              <a:path w="1398905" h="352425">
                <a:moveTo>
                  <a:pt x="1398900" y="0"/>
                </a:moveTo>
                <a:lnTo>
                  <a:pt x="1162049" y="0"/>
                </a:lnTo>
                <a:lnTo>
                  <a:pt x="783585" y="352409"/>
                </a:lnTo>
                <a:lnTo>
                  <a:pt x="1020449" y="352409"/>
                </a:lnTo>
                <a:lnTo>
                  <a:pt x="1398900" y="0"/>
                </a:lnTo>
                <a:close/>
              </a:path>
            </a:pathLst>
          </a:custGeom>
          <a:solidFill>
            <a:srgbClr val="2020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Google Shape;130;p18"/>
          <p:cNvSpPr/>
          <p:nvPr/>
        </p:nvSpPr>
        <p:spPr>
          <a:xfrm>
            <a:off x="9360" y="946080"/>
            <a:ext cx="7522920" cy="110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49400" indent="392040">
              <a:lnSpc>
                <a:spcPct val="112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6.</a:t>
            </a:r>
            <a:r>
              <a:rPr b="0" lang="en-US" sz="15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КАКИЕ СУБЪЕКТЫ ФИНАНСОВОГО МОНИТОРИНГА СОГЛАСНО ЗАКОНА РЕСПУБЛИКИ КАЗАХСТАН 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“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О ПРОТИВОДЕЙСТВИИ ЛЕГАЛИЗАЦИИ 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49400" indent="392040" algn="ctr">
              <a:lnSpc>
                <a:spcPct val="116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”,</a:t>
            </a:r>
            <a:r>
              <a:rPr b="0" lang="en-US" sz="15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В РАМКАХ ДИСТАНЦИОННО УСТАНОВЛЕННЫХ ДЕЛОВЫХ ОТНОШЕНИЙ С КЛИЕНТОМ ВПРАВЕ СОВЕРШАТЬ ОПЕРАЦИИ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ЗА ИСКЛЮЧЕНИЕМ ТРАНСГРАНИЧНЫХ ПЛАТЕЖЕЙ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БЕЗ ПРИНЯТИЯ МЕР ПО ПРОВЕРКЕ ДОСТОВЕРНОСТИ СВЕДЕНИЙ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НЕОБХОДИМЫХ ДЛЯ ИДЕНТИФИКАЦИИ КЛИЕНТА 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ЕГО ПРЕДСТАВИТЕЛЯ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),</a:t>
            </a:r>
            <a:r>
              <a:rPr b="0" lang="en-US" sz="15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БЕНЕФИЦИАРНОГО СОБСТВЕННИКА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В СЛУЧАЯХ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:</a:t>
            </a:r>
            <a:r>
              <a:rPr b="0" lang="en-US" sz="15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ОСУЩЕСТВЛЕНИЯ КЛИЕНТОМ ОПЕРАЦИЙ ПО УПЛАТЕ НАЛОГОВ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ПЕНИ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ШТРАФОВ И ДРУГИХ ОБЯЗАТЕЛЬНЫХ ПЛАТЕЖЕЙ В БЮДЖЕТ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А ТАКЖЕ СТРАХОВЫХ ПРЕМИЙ ПО ДОГОВОРА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49400" indent="392040" algn="ctr">
              <a:lnSpc>
                <a:spcPct val="111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ОБЯЗАТЕЛЬНОГО СТРАХОВАНИЯ И ЗАЧИСЛЕНИЯ ДЕНЕГ НА БАНКОВСКИЙ СЧЕТ КЛИЕНТА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49400" indent="39204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 ЗАКОНЕ УКАЗАНО СУБЪЕКТЫ УКАЗАННЫЕ В СТАТЬЕ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3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УНКТ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1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ДПУНКТ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1-5;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11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12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49400" indent="39204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НИЖЕ РАСШИФРОВКА ЭТИХ СУБЪЕКТОВ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41440" indent="-392040">
              <a:lnSpc>
                <a:spcPct val="114000"/>
              </a:lnSpc>
              <a:buClr>
                <a:srgbClr val="ff1515"/>
              </a:buClr>
              <a:buFont typeface="Trebuchet MS"/>
              <a:buChar char="•"/>
              <a:tabLst>
                <a:tab algn="l" pos="0"/>
              </a:tabLst>
            </a:pP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БАНКИ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ФИЛИАЛЫ БАНКОВ 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НЕРЕЗИДЕНТОВ РЕСПУБЛИКИ КАЗАХСТАН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ОРГАНИЗАЦИИ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ОСУЩЕСТВЛЯЮЩИЕ ОТДЕЛЬНЫЕ ВИДЫ БАНКОВСКИХ ОПЕРАЦИЙ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ЗА ИСКЛЮЧЕНИЕМ ОПЕРАТОРА ИЛИ ОПЕРАЦИОННОГО ЦЕНТ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9400" indent="392040" algn="ctr">
              <a:lnSpc>
                <a:spcPct val="133000"/>
              </a:lnSpc>
              <a:tabLst>
                <a:tab algn="l" pos="0"/>
              </a:tabLst>
            </a:pP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МЕЖБАНКОВСКОЙ СИСТЕМЫ ПЕРЕВОДОВ ДЕНЕГ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А ТАКЖЕ ЮРИДИЧЕСКИХ ЛИЦ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ИСКЛЮЧИТЕЛЬНОЙ ДЕЯТЕЛЬНОСТЬЮ КОТОРЫХ ЯВЛЯЕТСЯ ИНКАССАЦИЯ БАНКНОТ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МОНЕТ И ЦЕННОСТЕЙ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41440" indent="-392040">
              <a:lnSpc>
                <a:spcPct val="100000"/>
              </a:lnSpc>
              <a:spcBef>
                <a:spcPts val="99"/>
              </a:spcBef>
              <a:buClr>
                <a:srgbClr val="ff1515"/>
              </a:buClr>
              <a:buFont typeface="Trebuchet MS"/>
              <a:buChar char="•"/>
              <a:tabLst>
                <a:tab algn="l" pos="0"/>
              </a:tabLst>
            </a:pP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БИРЖИ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41440" indent="-392040">
              <a:lnSpc>
                <a:spcPct val="113000"/>
              </a:lnSpc>
              <a:buClr>
                <a:srgbClr val="ff1515"/>
              </a:buClr>
              <a:buFont typeface="Trebuchet MS"/>
              <a:buChar char="•"/>
              <a:tabLst>
                <a:tab algn="l" pos="0"/>
              </a:tabLst>
            </a:pP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СТРАХОВЫЕ 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ПЕРЕСТРАХОВОЧНЫЕ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ОРГАНИЗАЦИИ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СТРАХОВЫЕ БРОКЕРЫ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ОБЩЕСТВА ВЗАИМНОГО СТРАХОВАНИЯ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ФИЛИАЛЫ СТРАХОВЫХ 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ПЕРЕСТРАХОВОЧНЫХ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ОРГАНИЗАЦИЙ 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НЕРЕЗИДЕНТОВ РЕСПУБЛ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9400" indent="39204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КАЗАХСТАН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ФИЛИАЛЫ СТРАХОВЫХ БРОКЕРОВ 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НЕРЕЗИДЕНТОВ РЕСПУБЛИКИ КАЗАХСТАН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41440" indent="-392040">
              <a:lnSpc>
                <a:spcPct val="100000"/>
              </a:lnSpc>
              <a:spcBef>
                <a:spcPts val="201"/>
              </a:spcBef>
              <a:buClr>
                <a:srgbClr val="ff1515"/>
              </a:buClr>
              <a:buFont typeface="Trebuchet MS"/>
              <a:buChar char="•"/>
              <a:tabLst>
                <a:tab algn="l" pos="0"/>
              </a:tabLst>
            </a:pP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ЕДИНЫЙ НАКОПИТЕЛЬНЫЙ ПЕНСИОННЫЙ ФОНД И ДОБРОВОЛЬНЫЕ НАКОПИТЕЛЬНЫЕ ПЕНСИОННЫЕ ФОНДЫ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41440" indent="-392040">
              <a:lnSpc>
                <a:spcPct val="100000"/>
              </a:lnSpc>
              <a:spcBef>
                <a:spcPts val="201"/>
              </a:spcBef>
              <a:buClr>
                <a:srgbClr val="ff1515"/>
              </a:buClr>
              <a:buFont typeface="Trebuchet MS"/>
              <a:buChar char="•"/>
              <a:tabLst>
                <a:tab algn="l" pos="0"/>
              </a:tabLst>
            </a:pP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ПРОФЕССИОНАЛЬНЫЕ УЧАСТНИКИ РЫНКА ЦЕННЫХ БУМАГ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ЦЕНТРАЛЬНЫЙ ДЕПОЗИТАРИЙ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357200" indent="-220680">
              <a:lnSpc>
                <a:spcPct val="100000"/>
              </a:lnSpc>
              <a:spcBef>
                <a:spcPts val="201"/>
              </a:spcBef>
              <a:buClr>
                <a:srgbClr val="ff1515"/>
              </a:buClr>
              <a:buFont typeface="Trebuchet MS"/>
              <a:buChar char="•"/>
              <a:tabLst>
                <a:tab algn="l" pos="0"/>
              </a:tabLst>
            </a:pP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ОРГАНИЗАЦИИ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ОСУЩЕСТВЛЯЮЩИЕ МИКРОФИНАНСОВУЮ ДЕЯТЕЛЬНОСТЬ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357200" indent="-220680">
              <a:lnSpc>
                <a:spcPct val="100000"/>
              </a:lnSpc>
              <a:spcBef>
                <a:spcPts val="201"/>
              </a:spcBef>
              <a:buClr>
                <a:srgbClr val="ff1515"/>
              </a:buClr>
              <a:buFont typeface="Trebuchet MS"/>
              <a:buChar char="•"/>
              <a:tabLst>
                <a:tab algn="l" pos="0"/>
              </a:tabLst>
            </a:pP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ПЛАТЕЖНЫЕ ОРГАНИЗАЦИИ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41440" indent="-392040">
              <a:lnSpc>
                <a:spcPct val="114000"/>
              </a:lnSpc>
              <a:buClr>
                <a:srgbClr val="ff1515"/>
              </a:buClr>
              <a:buFont typeface="Trebuchet MS"/>
              <a:buChar char="•"/>
              <a:tabLst>
                <a:tab algn="l" pos="0"/>
              </a:tabLst>
            </a:pP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УСЛУГИ 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ПРОДУКТЫ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ОПЕРАЦИИ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ОРГАНИЗАЦИИ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А ТАКЖЕ СПОСОБЫ ИХ ПРЕДОСТАВЛЕНИЯ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ПОДВЕРЖЕННЫЕ ВЫСОКОМУ РИСКУ ЛЕГАЛИЗАЦИИ 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ОТМЫВАНИЯ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ДОХОДОВ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ПОЛУЧЕННЫХ ПРЕСТУПНЫМ ПУТЕМ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9400" indent="39204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ФИНАНСИРОВАНИЯ ТЕРРОРИЗМА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ВКЛЮЧАЮТ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НО НЕ ОГРАНИЧИВАЮТСЯ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357200" indent="-220680">
              <a:lnSpc>
                <a:spcPct val="113000"/>
              </a:lnSpc>
              <a:buClr>
                <a:srgbClr val="ff1515"/>
              </a:buClr>
              <a:buFont typeface="Trebuchet MS"/>
              <a:buChar char="•"/>
              <a:tabLst>
                <a:tab algn="l" pos="0"/>
              </a:tabLst>
            </a:pP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ДИСТАНЦИОННОЕ ОБСЛУЖИВАНИЕ КЛИЕНТОВ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ВКЛЮЧАЯ ОБСЛУЖИВАНИЕ ПОСРЕДСТВОМ ПЕРСОНАЛЬНЫХ КОМПЬЮТЕРОВ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ТЕЛЕФОНОВ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ЭЛЕКТРОННЫХ ТЕРМИНАЛОВ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357200" indent="-220680">
              <a:lnSpc>
                <a:spcPct val="114000"/>
              </a:lnSpc>
              <a:buClr>
                <a:srgbClr val="ff1515"/>
              </a:buClr>
              <a:buFont typeface="Trebuchet MS"/>
              <a:buChar char="•"/>
              <a:tabLst>
                <a:tab algn="l" pos="0"/>
              </a:tabLst>
            </a:pP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ВЫДАЧА ЗАЙМА НАЛИЧНЫМИ ДЕНЬГАМИ НА СУММУ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ПРЕВЫШАЮЩУЮ 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3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000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000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ТЕНГЕ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ЛИБО СУММУ В ИНОСТРАННОЙ ВАЛЮТЕ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ПРЕВЫШАЮЩУЮ ЭКВИВАЛЕНТ 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3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000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000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ТЕНГЕ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357200" indent="-220680">
              <a:lnSpc>
                <a:spcPct val="114000"/>
              </a:lnSpc>
              <a:buClr>
                <a:srgbClr val="ff1515"/>
              </a:buClr>
              <a:buFont typeface="Trebuchet MS"/>
              <a:buChar char="•"/>
              <a:tabLst>
                <a:tab algn="l" pos="0"/>
              </a:tabLst>
            </a:pP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НОВЫЕ ПРОДУКТЫ И ДЕЛОВЫЕ ПРАКТИКИ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ВКЛЮЧАЮЩИЕ МЕХАНИЗМЫ ПЕРЕДАЧИ ИНФОРМАЦИИ С ИСПОЛЬЗОВАНИЕМ НОВЫХ И РАЗВИВАЮЩИХСЯ ТЕХНОЛОГИЙ КАК ДЛЯ СУЩЕСТВУЮЩИХ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ТАК И Д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9400" indent="39204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ВНЕДРЯЕМЫХ ПРОДУКТОВ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Google Shape;131;p18"/>
          <p:cNvSpPr/>
          <p:nvPr/>
        </p:nvSpPr>
        <p:spPr>
          <a:xfrm>
            <a:off x="0" y="0"/>
            <a:ext cx="1398240" cy="352080"/>
          </a:xfrm>
          <a:custGeom>
            <a:avLst/>
            <a:gdLst>
              <a:gd name="textAreaLeft" fmla="*/ 0 w 1398240"/>
              <a:gd name="textAreaRight" fmla="*/ 1398600 w 1398240"/>
              <a:gd name="textAreaTop" fmla="*/ 0 h 352080"/>
              <a:gd name="textAreaBottom" fmla="*/ 352440 h 352080"/>
            </a:gdLst>
            <a:ahLst/>
            <a:rect l="textAreaLeft" t="textAreaTop" r="textAreaRight" b="textAreaBottom"/>
            <a:pathLst>
              <a:path w="1398905" h="352425">
                <a:moveTo>
                  <a:pt x="615314" y="0"/>
                </a:moveTo>
                <a:lnTo>
                  <a:pt x="378464" y="0"/>
                </a:lnTo>
                <a:lnTo>
                  <a:pt x="0" y="352409"/>
                </a:lnTo>
                <a:lnTo>
                  <a:pt x="236850" y="352409"/>
                </a:lnTo>
                <a:lnTo>
                  <a:pt x="615314" y="0"/>
                </a:lnTo>
                <a:close/>
              </a:path>
              <a:path w="1398905" h="352425">
                <a:moveTo>
                  <a:pt x="1007114" y="0"/>
                </a:moveTo>
                <a:lnTo>
                  <a:pt x="770250" y="0"/>
                </a:lnTo>
                <a:lnTo>
                  <a:pt x="391799" y="352409"/>
                </a:lnTo>
                <a:lnTo>
                  <a:pt x="628649" y="352409"/>
                </a:lnTo>
                <a:lnTo>
                  <a:pt x="1007114" y="0"/>
                </a:lnTo>
                <a:close/>
              </a:path>
              <a:path w="1398905" h="352425">
                <a:moveTo>
                  <a:pt x="1398900" y="0"/>
                </a:moveTo>
                <a:lnTo>
                  <a:pt x="1162049" y="0"/>
                </a:lnTo>
                <a:lnTo>
                  <a:pt x="783585" y="352409"/>
                </a:lnTo>
                <a:lnTo>
                  <a:pt x="1020449" y="352409"/>
                </a:lnTo>
                <a:lnTo>
                  <a:pt x="1398900" y="0"/>
                </a:lnTo>
                <a:close/>
              </a:path>
            </a:pathLst>
          </a:custGeom>
          <a:solidFill>
            <a:srgbClr val="2020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Google Shape;136;p19"/>
          <p:cNvSpPr/>
          <p:nvPr/>
        </p:nvSpPr>
        <p:spPr>
          <a:xfrm>
            <a:off x="1955880" y="74520"/>
            <a:ext cx="4185720" cy="11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500" spc="-1" strike="noStrike">
                <a:solidFill>
                  <a:srgbClr val="202020"/>
                </a:solidFill>
                <a:latin typeface="Lucida Sans"/>
                <a:ea typeface="Lucida Sans"/>
              </a:rPr>
              <a:t>ТЕСТЫПОЗАКОНУПОПОДФ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202020"/>
                </a:solidFill>
                <a:latin typeface="Trebuchet MS"/>
                <a:ea typeface="Trebuchet MS"/>
              </a:rPr>
              <a:t>5</a:t>
            </a:r>
            <a:r>
              <a:rPr b="0" lang="en-US" sz="2000" spc="-1" strike="noStrike">
                <a:solidFill>
                  <a:srgbClr val="202020"/>
                </a:solidFill>
                <a:latin typeface="Lucida Sans"/>
                <a:ea typeface="Lucida Sans"/>
              </a:rPr>
              <a:t>БЛ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Google Shape;137;p19"/>
          <p:cNvSpPr/>
          <p:nvPr/>
        </p:nvSpPr>
        <p:spPr>
          <a:xfrm>
            <a:off x="3240" y="1054080"/>
            <a:ext cx="7538760" cy="134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568680" indent="-3495600">
              <a:lnSpc>
                <a:spcPct val="112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1.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НАДЛЕЖАЩАЯ ПРОВЕРКА КЛИЕНТОВ ВКЛЮЧАЕТ ОСУЩЕСТВЛЕНИЕ СЛЕДУЮЩИХ МЕР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568680" indent="-3495600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ФИКСИРОВАНИЕ СВЕДЕНИЙ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НЕОБХОДИМЫХ ДЛЯ ИДЕНТИФИКАЦИИ ФИЗИЧЕСКОГО ЛИЦ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568680" indent="-3495600" algn="ctr">
              <a:lnSpc>
                <a:spcPct val="14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АННЫЕ ДОКУМЕНТ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УДОСТОВЕРЯЮЩЕГО ЕГО ЛИЧНОСТЬ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НДИВИДУАЛЬНЫЙ ИДЕНТИФИКАЦИОННЫЙ НОМЕР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ЗА ИСКЛЮЧЕНИЕМ СЛУЧАЕВ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КОГДА ФИЗИЧЕСКОМУ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568680" indent="-3495600" algn="ctr">
              <a:lnSpc>
                <a:spcPct val="113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ЛИЦУ НЕ ПРИСВОЕН ИНДИВИДУАЛЬНЫЙ ИДЕНТИФИКАЦИОННЫЙ НОМЕР В СООТВЕТСТВИИ С ЗАКОНОДАТЕЛЬСТВОМ РЕСПУБЛИКИ КАЗАХСТАН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А ТАКЖ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568680" indent="-349560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ЮРИДИЧЕСКИЙ АДРЕС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568680" indent="-3495600">
              <a:lnSpc>
                <a:spcPct val="100000"/>
              </a:lnSpc>
              <a:tabLst>
                <a:tab algn="l" pos="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568680" indent="-3495600">
              <a:lnSpc>
                <a:spcPct val="116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2.</a:t>
            </a:r>
            <a:r>
              <a:rPr b="0" i="1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chemeClr val="dk1"/>
                </a:solidFill>
                <a:latin typeface="Arial"/>
                <a:ea typeface="Arial"/>
              </a:rPr>
              <a:t>В СЛУЧАЕ</a:t>
            </a:r>
            <a:r>
              <a:rPr b="0" i="1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chemeClr val="dk1"/>
                </a:solidFill>
                <a:latin typeface="Arial"/>
                <a:ea typeface="Arial"/>
              </a:rPr>
              <a:t>ЕСЛИ БЕНЕФИЦИАРНЫЙ СОБСТВЕННИК КЛИЕНТА НЕ ВЫЯВЛЕН</a:t>
            </a:r>
            <a:r>
              <a:rPr b="0" i="1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chemeClr val="dk1"/>
                </a:solidFill>
                <a:latin typeface="Arial"/>
                <a:ea typeface="Arial"/>
              </a:rPr>
              <a:t>ДОПУСКАЕТСЯ</a:t>
            </a:r>
            <a:r>
              <a:rPr b="0" i="1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r>
              <a:rPr b="0" i="1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РИЗНАНИЕ БЕНЕФИЦИАРНЫМ СОБСТВЕННИКОМ ЕДИНОЛИЧНОГО ИСПОЛНИТЕЛЬНОГО ОРГАНА ЛИБО РУКОВОДИТЕЛЯ КОЛЛЕГИАЛЬНОГО ИСПОЛНИТЕЛЬНОГО ОРГАНА КЛИЕНТА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568680" indent="-349560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ЮРИДИЧЕСКОГО ЛИЦ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568680" indent="-3495600">
              <a:lnSpc>
                <a:spcPct val="100000"/>
              </a:lnSpc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568680" indent="-3495600">
              <a:lnSpc>
                <a:spcPct val="112000"/>
              </a:lnSpc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КАКОЙ ИЗ НИЖЕ ПЕРЕЧИСЛЕННЫХ ПЕРЕЧНЕЙ СОСТАВЛЯЕТСЯ УПОЛНОМОЧЕННЫМ ОРГАНОМ ПО ФИНАНСОВОМУМОНИТОРИНГУ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568680" indent="-3495600" algn="ctr">
              <a:lnSpc>
                <a:spcPct val="113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УПОЛНОМОЧЕННЫЙ ОРГАН СОСТАВЛЯЕТ ПЕРЕЧЕНЬ ОРГАНИЗАЦИЙ И ЛИЦ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СВЯЗАННЫХ С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568680" indent="-349560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ФИНАНСИРОВАНИЕМ ТЕРРОРИЗМА И ЭКСТРЕМИЗМ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568680" indent="-3495600"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568680" indent="-3495600">
              <a:lnSpc>
                <a:spcPct val="121000"/>
              </a:lnSpc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ЛЯ СОСТАВЛЕНИЯ ПЕРЕЧНЯ ОРГАНИЗАЦИЙ И ЛИЦ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ВЯЗАННЫХ С ФИНАНСИРОВАНИЕМ ТЕРРОРИЗМА И ЭКСТРЕМИЗМА КАКИМ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568680" indent="-349560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ГОСУДАРСТВЕННЫМИ ОРГАНАМИ РЕСПУБЛИКИ КАЗАХСТАН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НАПРАВЛЯЮТС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568680" indent="-3495600" algn="ctr">
              <a:lnSpc>
                <a:spcPct val="116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ВЕДЕНИЯ ОБ ОРГАНИЗАЦИЯХ 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Л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ФИЗИЧЕСКИХ ЛИЦАХ В УПОЛНОМОЧЕННЫЙ ОРГАН ПО ФИНАНСОВОМУ МОНИТОРИНГУ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568680" indent="-349560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СЕМИ ВЫШЕПЕРЕЧИСЛЕННЫМИ ГОСОРГАНАМИ РЕСПУБЛИКИ КАЗАХСТАН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568680" indent="-3495600">
              <a:lnSpc>
                <a:spcPct val="100000"/>
              </a:lnSpc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568680" indent="-3495600">
              <a:lnSpc>
                <a:spcPct val="112000"/>
              </a:lnSpc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КАКОЕ ДЕЙСТВИЕ ОСУЩЕСТВЛЯЕТСЯ УПОЛНОМОЧЕННЫМ ОРГАНОМ В ОТНОШЕНИИПЕРЕЧНЯ ОРГАНИЗАЦИЙ И ЛИЦ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ВЯЗАННЫХ С ФИНАНСИРОВАНИЕ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568680" indent="-3495600" algn="ctr">
              <a:lnSpc>
                <a:spcPct val="116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ТЕРРОРИЗМА ИЭКСТРЕМИЗМ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В СООТВЕТСТВИИ С ИНФОРМАЦИЕЙ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ЕДОСТАВЛЯЕМОЙГОСУДАРСТВЕННЫМИ ОРГАНАМ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568680" indent="-349560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БНОВЛЯЕТС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Google Shape;138;p19"/>
          <p:cNvSpPr/>
          <p:nvPr/>
        </p:nvSpPr>
        <p:spPr>
          <a:xfrm>
            <a:off x="0" y="0"/>
            <a:ext cx="1387080" cy="340920"/>
          </a:xfrm>
          <a:custGeom>
            <a:avLst/>
            <a:gdLst>
              <a:gd name="textAreaLeft" fmla="*/ 0 w 1387080"/>
              <a:gd name="textAreaRight" fmla="*/ 1387440 w 1387080"/>
              <a:gd name="textAreaTop" fmla="*/ 0 h 340920"/>
              <a:gd name="textAreaBottom" fmla="*/ 341280 h 340920"/>
            </a:gdLst>
            <a:ahLst/>
            <a:rect l="textAreaLeft" t="textAreaTop" r="textAreaRight" b="textAreaBottom"/>
            <a:pathLst>
              <a:path w="1386840" h="340995">
                <a:moveTo>
                  <a:pt x="366189" y="0"/>
                </a:moveTo>
                <a:lnTo>
                  <a:pt x="0" y="340980"/>
                </a:lnTo>
                <a:lnTo>
                  <a:pt x="236850" y="340980"/>
                </a:lnTo>
                <a:lnTo>
                  <a:pt x="603040" y="0"/>
                </a:lnTo>
                <a:lnTo>
                  <a:pt x="366189" y="0"/>
                </a:lnTo>
              </a:path>
              <a:path w="1386840" h="340995">
                <a:moveTo>
                  <a:pt x="757976" y="0"/>
                </a:moveTo>
                <a:lnTo>
                  <a:pt x="391799" y="340980"/>
                </a:lnTo>
                <a:lnTo>
                  <a:pt x="628649" y="340980"/>
                </a:lnTo>
                <a:lnTo>
                  <a:pt x="994839" y="0"/>
                </a:lnTo>
                <a:lnTo>
                  <a:pt x="757976" y="0"/>
                </a:lnTo>
              </a:path>
              <a:path w="1386840" h="340995">
                <a:moveTo>
                  <a:pt x="1149775" y="0"/>
                </a:moveTo>
                <a:lnTo>
                  <a:pt x="783585" y="340980"/>
                </a:lnTo>
                <a:lnTo>
                  <a:pt x="1021079" y="340980"/>
                </a:lnTo>
                <a:lnTo>
                  <a:pt x="1386647" y="0"/>
                </a:lnTo>
                <a:lnTo>
                  <a:pt x="1149775" y="0"/>
                </a:lnTo>
              </a:path>
            </a:pathLst>
          </a:custGeom>
          <a:solidFill>
            <a:srgbClr val="2020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Google Shape;143;p20"/>
          <p:cNvSpPr/>
          <p:nvPr/>
        </p:nvSpPr>
        <p:spPr>
          <a:xfrm>
            <a:off x="-1440" y="204840"/>
            <a:ext cx="7503840" cy="134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600120" indent="28440">
              <a:lnSpc>
                <a:spcPct val="112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6.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ЧТО ЯВЛЯЕТСЯ ОСНОВАНИЕМ ДЛЯ ВКЛЮЧЕНИЯ ОРГАНИЗАЦИИ ИЛИ ФИЗИЧЕСКОГОЛИЦА В ПЕРЕЧЕНЬ ОРГАНИЗАЦИИ И ЛИЦ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ВЯЗАННЫХ С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0120" indent="2844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ФИНАНСИРОВАНИЕМТЕРРОРИЗМА И ЭКСТРЕМИЗМ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28560" indent="-28440" algn="ctr">
              <a:lnSpc>
                <a:spcPct val="100000"/>
              </a:lnSpc>
              <a:buClr>
                <a:srgbClr val="ff1515"/>
              </a:buClr>
              <a:buFont typeface="Trebuchet MS"/>
              <a:buChar char="-"/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СТУПИВШЕЕ В ЗАКОННУЮ СИЛУ РЕШЕНИЕ СУДА РК О ЛИКВИДАЦИИ ОРГАНИЗАЦИ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0120" indent="2844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СВЯЗИ С ОСУЩЕСТВЛЕНИЕМ ЕЮ ТЕРРОРИСТИЧЕСКОЙ ДЕЯТЕЛЬНОСТИ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ЛИ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0120" indent="2844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ЭКСТРЕМИЗМ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0120" indent="28440">
              <a:lnSpc>
                <a:spcPct val="100000"/>
              </a:lnSpc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108000">
              <a:lnSpc>
                <a:spcPct val="112000"/>
              </a:lnSpc>
              <a:buClr>
                <a:srgbClr val="000000"/>
              </a:buClr>
              <a:buFont typeface="Trebuchet MS"/>
              <a:buAutoNum type="arabicPeriod" startAt="7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ЧТО ЯВЛЯЕТСЯ ОСНОВАНИЕМ ДЛЯ ИСКЛЮЧЕНИЯ ОРГАНИЗАЦИИ И ФИЗИЧЕСКОГО ЛИЦАИЗ ПЕРЕЧНЯ ОРГАНИЗАЦИЙ И ЛИЦ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ВЯЗАННЫХ С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0120" indent="2844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ФИНАНСИРОВАНИЕМ ТЕРРОРИЗМА ИЭКСТРЕМИЗМ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0120" indent="2844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НАЛИЧИЕ ДОКУМЕНТАЛЬНО ПОДТВЕРЖДЕННЫХ ДАННЫХ О ПОГАШЕНИИ ИЛИ СНЯТИ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0120" indent="28440" algn="ctr">
              <a:lnSpc>
                <a:spcPct val="14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СУДИМОСТИ С ФИЗИЧЕСКОГО ЛИЦ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СУЖДЕННОГО ЗА СОВЕРШЕНИЕ ЭКСТРЕМИСТСКОГО И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ЛИ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ТЕРРОРИСТИЧЕСКОГО ПРЕСТУПЛЕ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0120" indent="28440">
              <a:lnSpc>
                <a:spcPct val="100000"/>
              </a:lnSpc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108000">
              <a:lnSpc>
                <a:spcPct val="111000"/>
              </a:lnSpc>
              <a:buClr>
                <a:srgbClr val="000000"/>
              </a:buClr>
              <a:buFont typeface="Trebuchet MS"/>
              <a:buAutoNum type="arabicPeriod" startAt="7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КТО РАССМАТРИВАЕТ ЗАЯВЛЕНИЕ ОБ ИСКЛЮЧЕНИИ ОРГАНИЗАЦИИ ИЛИ ФИЗИЧЕСКОГОЛИЦА ИЗ ПЕРЕЧНЯ ОРГАНИЗАЦИЙ И ЛИЦ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ВЯЗАННЫХ С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0120" indent="28440" algn="ctr">
              <a:lnSpc>
                <a:spcPct val="12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ФИНАНСИРОВАНИЕМТЕРРОРИЗМА И ЭКСТРЕМИЗМ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0120" indent="28440" algn="ctr">
              <a:lnSpc>
                <a:spcPct val="12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УПОЛНОМОЧЕННЫЙ ОРГАН ПО ФИНАНСОВОМУ МОНИТОРИНГУ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0120" indent="2844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СТ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.12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УНКТ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7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АБЗАЦ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0120" indent="2844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108000">
              <a:lnSpc>
                <a:spcPct val="117000"/>
              </a:lnSpc>
              <a:buClr>
                <a:srgbClr val="000000"/>
              </a:buClr>
              <a:buFont typeface="Trebuchet MS"/>
              <a:buAutoNum type="arabicPeriod" startAt="7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КЕМ ОПРЕДЕЛЯЕТСЯ ПОРЯДОК ВЫПЛАТЫ СРЕДСТВ ФИЗИЧЕСКОМУ ЛИЦУ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ВКЛЮЧЕННОМУ В ПЕРЕЧЕНЬ ОРГАНИЗАЦИЙ И ЛИЦ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ВЯЗАННЫХ С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0120" indent="28440">
              <a:lnSpc>
                <a:spcPct val="14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ФИНАНСИРОВАНИЕМТЕРРОРИЗМА И ЭКСТРЕМИЗМ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ЛЯ ОБЕСПЕЧЕНИЯ СВОЕЙ ЖИЗНЕДЕЯТЕЛЬНОСТ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0120" indent="28440" algn="ctr">
              <a:lnSpc>
                <a:spcPct val="106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УПОЛНОМОЧЕННЫМ ОРГАНО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0120" indent="2844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108000">
              <a:lnSpc>
                <a:spcPct val="117000"/>
              </a:lnSpc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В КАКИХ СЛУЧАЯХ ФИЗИЧЕСКОЕ ЛИЦО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ВКЛЮЧЕННОЕ В ПЕРЕЧЕНЬ ОРГАНИЗАЦИЙ ИЛИЦ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ВЯЗАННЫХ С ФИНАНСИРОВАНИЕМ ТЕРРОРИЗМА 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0120" indent="28440" algn="ctr">
              <a:lnSpc>
                <a:spcPct val="14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ЭКСТРЕМИЗМ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ВПРАВЕОБРАТИТЬСЯ К СУБЪЕКТУ ФИНАНСОВОГО МОНИТОРИНГА ДЛЯ ОСУЩЕСТВЛЕНИЯОПЕРАЦИЙ С ДЕНЬГАМИ ИЛИ ИНЫМ ИМУЩЕСТВО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0120" indent="28440">
              <a:lnSpc>
                <a:spcPct val="113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ЛУЧЕННЫМИ В ВИДЕ ОПЛАТЫ ТРУДОВОГО ОТПУСКА ИЛИ ЗАРАБОТНОЙ ПЛАТЫ 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0120" indent="2844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РАЗМЕРЕ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НЕ ПРЕВЫШАЮЩЕМ МИНИМАЛЬНОГО РАЗМЕРА ЗАРАБОТНОЙ ПЛАТЫ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0120" indent="2844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УСТАНОВЛЕННОГО НА СООТВЕТСТВУЮЩИЙ ФИНАНСОВЫЙ ГОД ЗАКОНОМ О РЕСПУБЛИКАНСКОМ БЮДЖЕТЕ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 ТЕЧЕНИЕ КАЛЕНДАРНОГО МЕСЯЦА ИЗ РАСЧЕТА НА КАЖДОГО ЧЛЕНА СЕМЬ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0120" indent="28440">
              <a:lnSpc>
                <a:spcPct val="100000"/>
              </a:lnSpc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0120" indent="28440"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11.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	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СКЛЮЧЕНИЕ ОРГАНИЗАЦИИ И ФИЗИЧЕСКОГО ЛИЦА ИЗ ПЕРЕЧНЯ ЯВЛЯЕТСЯ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0120" indent="2844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ЯВЛЯЕТСЯ ОСНОВАНИЕМ ДЛЯ ОТМЕНЫ ПРИМЕНЕНИЯ МЕР ПО ЗАМОРАЖИВАНИЮ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0120" indent="2844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МУЩЕСТВ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М ПРИНАДЛЕЖАЩИ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Google Shape;148;p21"/>
          <p:cNvSpPr/>
          <p:nvPr/>
        </p:nvSpPr>
        <p:spPr>
          <a:xfrm>
            <a:off x="63360" y="115920"/>
            <a:ext cx="7419600" cy="20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55680" indent="244440">
              <a:lnSpc>
                <a:spcPct val="117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12.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КАКИЕ ПРАВА У ФИЗИЧЕСКОГО ЛИЦ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ВКЛЮЧЕННОГО В ПЕРЕЧЕНЬ ОРГАНИЗАЦИИ ИЛИЦ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ВЯЗАННЫХ С ФИНАНСИРОВАНИЕМ ТЕРРОРИЗМА 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55680" indent="24444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ЭКСТРЕМИЗМ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55680" indent="24444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ПРАВЕ ОБРАТИТЬСЯ В УПОЛНОМОЧЕННЫЙ ОРГАН С ПИСЬМЕННЫМ МОТИВИРОВАННЫ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55680" indent="244440" algn="ctr">
              <a:lnSpc>
                <a:spcPct val="117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ЗАЯВЛЕНИЕМ О ЧАСТИЧНОЙ ИЛИ ПОЛНОЙ ОТМЕНЕ ПРИМЕНЯЕМЫХ МЕР ПО ЗАМОРАЖИВАНИЮ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Google Shape;149;p21"/>
          <p:cNvSpPr/>
          <p:nvPr/>
        </p:nvSpPr>
        <p:spPr>
          <a:xfrm>
            <a:off x="-1440" y="2255760"/>
            <a:ext cx="7519680" cy="104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99960" indent="-95400">
              <a:lnSpc>
                <a:spcPct val="111000"/>
              </a:lnSpc>
              <a:buClr>
                <a:srgbClr val="000000"/>
              </a:buClr>
              <a:buFont typeface="Trebuchet MS"/>
              <a:buAutoNum type="arabicPeriod" startAt="13"/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КАКИЕ ДЕЙСТВИЯ ДОЛЖЕН ПРОИЗВЕСТИ УПОЛНОМОЧЕННЫЙ ОРГАН ПО ФИНАНСОВОМУ МОНИТОРИНГУ В СЛУЧАЕ ВЫЯВЛЕНИЯ ИМУЩЕСТВА ЛИЦ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99960" indent="-22320" algn="ctr">
              <a:lnSpc>
                <a:spcPct val="14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ВКЛЮЧЕННОГО В ПЕРЕЧЕНЬ ОРГАНИЗАЦИИ И ЛИЦ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ВЯЗАННЫХ СФИНАНСИРОВАНИЕМТЕРРОРИЗМА И ЭКСТРЕМИЗМ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99960" indent="-22320" algn="ctr">
              <a:lnSpc>
                <a:spcPct val="113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НЕЗАМЕДЛИТЕЛЬНО ПЕРЕДАЕТ ТАКИЕ СВЕДЕНИЯ В ГЕНЕРАЛЬНУЮ ПРОКУРАТУРУ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99960" indent="-2232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РЕСПУБЛИКИ КАЗАХСТАН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99960" indent="-2232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9960" indent="-95400">
              <a:lnSpc>
                <a:spcPct val="116000"/>
              </a:lnSpc>
              <a:buClr>
                <a:srgbClr val="000000"/>
              </a:buClr>
              <a:buFont typeface="Trebuchet MS"/>
              <a:buAutoNum type="arabicPeriod" startAt="14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КОГО ПРИЗНАЮТ ПОД ЧЛЕНАМИ СЕМЬИ ФИЗИЧЕСКОГО ЛИЦ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ВКЛЮЧЕННОГО В ПЕРЕЧЕНЬ ОРГАНИЗАЦИИ И ЛИЦ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ВЯЗАННЫХ С ФИНАНСИРОВАНИЕМ ТЕРРОРИЗМ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99960" indent="-22320" algn="ctr">
              <a:lnSpc>
                <a:spcPct val="12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ЭКСТРЕМИЗМ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99960" indent="-22320">
              <a:lnSpc>
                <a:spcPct val="12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СУПРУГА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СУПРУГ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СОВМЕСТНЫЕ ИЛИ ОДНОГО ИЗ СУПРУГОВ НЕСОВЕРШЕННОЛЕТНИ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99960" indent="-2232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ЕТИ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 ТОМ ЧИСЛЕ УСЫНОВЛЕННЫЕ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НАХОДЯЩИЕСЯ НА ИЖДИВЕНИИ ИЛИ ПОД ОПЕКО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99960" indent="-22320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ПЕЧИТЕЛЬСТВОМ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;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РОДИТЕЛИ И РОДИТЕЛИ СУПРУГА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СУПРУГИ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НАХОДЯЩИЕСЯ Н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99960" indent="-2232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ЖДИВЕНИИ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99960" indent="-22320">
              <a:lnSpc>
                <a:spcPct val="100000"/>
              </a:lnSpc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99960" indent="-95400">
              <a:lnSpc>
                <a:spcPct val="112000"/>
              </a:lnSpc>
              <a:buClr>
                <a:srgbClr val="000000"/>
              </a:buClr>
              <a:buFont typeface="Trebuchet MS"/>
              <a:buAutoNum type="arabicPeriod" startAt="14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ГОСУДАРСТВЕННЫЕ ОРГАНЫ РЕСПУБЛИКИ КАЗАХСТАН В ПРЕДЕЛАХ СВОЕЙ КОМПЕТЕНЦИИ ОСУЩЕСТВЛЯЮТ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99960" indent="-22320" algn="ctr">
              <a:lnSpc>
                <a:spcPct val="113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КОНТРОЛЬ ЗА СОБЛЮДЕНИЕМ СУБЪЕКТАМИ ФИНАНСОВОГО МОНИТОРИНГА ЗАКОН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99960" indent="-22320" algn="ctr">
              <a:lnSpc>
                <a:spcPct val="117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РЕСПУБЛИКИ КАЗАХСТАН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«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 ПРОТИВОДЕЙСТВИИ ЛЕГАЛИЗАЦИИ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ТМЫВАНИЮ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ОХОДОВ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ЛУЧЕННЫХ ПРЕСТУПНЫМ ПУТЕМ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 ФИНАНСИРОВАНИЮ ТЕРРОРИЗМ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99960" indent="-22320">
              <a:lnSpc>
                <a:spcPct val="100000"/>
              </a:lnSpc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99960" indent="-22320">
              <a:lnSpc>
                <a:spcPct val="111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16.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ЧТО ВХОДИТ В ОБЯЗАННОСТИ ГОСУДАРСТВЕННЫХ ОРГАНОВ РЕСПУБЛИКИ КАЗАХСТАН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СУЩЕСТВЛЯЮЩИЕ В ПРЕДЕЛАХ СВОЕЙ КОМПЕТЕНЦИИ КОНТРОЛЬ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99960" indent="-22320" algn="ctr">
              <a:lnSpc>
                <a:spcPct val="115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ЗАСОБЛЮДЕНИЕМ СУБЪЕКТАМИ ФИНАНСОВОГО МОНИТОРИНГА ЗАКОНОДАТЕЛЬСТВАРЕСПУБЛИКИ КАЗАХСТАН О ПРОТИВОДЕЙСТВИИ ЛЕГАЛИЗАЦИ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99960" indent="-2232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РЕДОСТАВЛЯТЬ ИНФОРМАЦИЮ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СВЕДЕНИЯ И ДОКУМЕНТЫ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НЕОБХОДИМЫ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99960" indent="-2232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УПОЛНОМОЧЕННОМУ ОРГАНУ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Google Shape;154;p22"/>
          <p:cNvSpPr/>
          <p:nvPr/>
        </p:nvSpPr>
        <p:spPr>
          <a:xfrm>
            <a:off x="12600" y="36360"/>
            <a:ext cx="7475040" cy="13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712800" indent="-412920">
              <a:lnSpc>
                <a:spcPct val="100000"/>
              </a:lnSpc>
              <a:buClr>
                <a:srgbClr val="000000"/>
              </a:buClr>
              <a:buFont typeface="Trebuchet MS"/>
              <a:buAutoNum type="arabicPeriod" startAt="17"/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ГОСУДАРСТВЕННЫЕ ОРГАНЫ РЕСПУБЛИКИ КАЗАХСТАН ОБЯЗАНЫ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9880" indent="41292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СЕ ВЫШЕПЕРЕЧИСЛЕННО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9880" indent="412920"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712800" indent="-412920">
              <a:lnSpc>
                <a:spcPct val="117000"/>
              </a:lnSpc>
              <a:buClr>
                <a:srgbClr val="000000"/>
              </a:buClr>
              <a:buFont typeface="Trebuchet MS"/>
              <a:buAutoNum type="arabicPeriod" startAt="18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ВЕДЕНИЯ И ИНФОРМАЦИЯ ОБ ОПЕРАЦИЯХ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ДЛЕЖАЩИХ ФИНАНСОВОМУ МОНИТОРИНГУ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УПОЛНОМОЧЕННОМУ ОРГАНУ В СФЕРЕВНЕШНЕЙ РАЗВЕДК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9880" indent="41292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ЕДОСТАВЛЯЕТСЯ В ПОРЯДКЕ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9880" indent="41292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-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ПРЕДЕЛЯЕМЫМ СОВМЕСТНЫМ НОРМАТИВНЫМ ПРАВОВЫМ АКТО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9880" indent="412920" algn="ctr">
              <a:lnSpc>
                <a:spcPct val="14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УПОЛНОМОЧЕННОГО ОРГАНА В СФЕРЕ ВНЕШНЕЙ РАЗВЕДКИ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ГЕНЕРАЛЬНОЙ ПРОКУРАТУРЫ РЕСПУБЛИКИ КАЗАХСТАН И УПОЛНОМОЧЕННОГО ОРГАНА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9880" indent="41292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0" indent="-412920">
              <a:lnSpc>
                <a:spcPct val="117000"/>
              </a:lnSpc>
              <a:buClr>
                <a:srgbClr val="000000"/>
              </a:buClr>
              <a:buFont typeface="Trebuchet MS"/>
              <a:buAutoNum type="arabicPeriod" startAt="18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ЧЕМ НЕ ЯВЛЯЕТСЯ ПЕРЕДАЧА СВЕДЕНИЯ И ИНФОРМАЦИИ ОБ ОПЕРАЦИ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ДЛЕЖАЩЕЙ ФИНАНСОВОМУ МОНИТОРИНГУ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В ТОМ ЧИСЛЕ 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9880" indent="41292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ДОЗРИТЕЛЬНОЙОПЕРАЦИ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9880" indent="41292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НЕ ЯВЛЯЕТСЯ РАЗГЛАШЕНИЕМ СЛУЖЕБНОЙ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КОММЕРЧЕСКОЙ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БАНКОВСКОЙ ИЛИ ИНО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9880" indent="41292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ХРАНЯЕМОЙ ЗАКОНОМ ТАЙНЫ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9880" indent="412920">
              <a:lnSpc>
                <a:spcPct val="100000"/>
              </a:lnSpc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712800" indent="-412920">
              <a:lnSpc>
                <a:spcPct val="111000"/>
              </a:lnSpc>
              <a:buClr>
                <a:srgbClr val="000000"/>
              </a:buClr>
              <a:buFont typeface="Trebuchet MS"/>
              <a:buAutoNum type="arabicPeriod" startAt="18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КАКОЙ ИЗ НИЖЕ ПЕРЕЧИСЛЕННЫХ ПЕРЕЧНЕЙ СОСТАВЛЯЕТСЯ УПОЛНОМОЧЕННЫМ ОРГАНОМ ПО ФИНАНСОВОМУМОНИТОРИНГУ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9880" indent="41292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РГАНИЗАЦИЙ И ЛИЦ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СВЯЗАННЫХ С ФИНАНСИРОВАНИЕМ РАСПРОСТРАНЕНИЯ ОРУЖ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9880" indent="41292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МАССОВОГО УНИЧТОЖЕ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9880" indent="412920">
              <a:lnSpc>
                <a:spcPct val="100000"/>
              </a:lnSpc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712800" indent="-412920">
              <a:lnSpc>
                <a:spcPct val="112000"/>
              </a:lnSpc>
              <a:buClr>
                <a:srgbClr val="000000"/>
              </a:buClr>
              <a:buFont typeface="Trebuchet MS"/>
              <a:buAutoNum type="arabicPeriod" startAt="17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ГДЕ РАЗМЕЩАЕТСЯ ПЕРЕЧЕНЬ ФИНАНСИРОВАНИЯ РАСПРОСТРАНЕНИЯ ОРУЖИЯ МАССОВОГО УНИЧТОЖЕНИ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9880" indent="41292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РАЗМЕЩАЕТСЯ НА ИНТЕРНЕТ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-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РЕСУРСЕ УПОЛНОМОЧЕННОГО ОРГАНА ПО ФИНАНСОВОМУ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9880" indent="41292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МОНИТОРИНГУ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9880" indent="412920"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712800" indent="-412920">
              <a:lnSpc>
                <a:spcPct val="121000"/>
              </a:lnSpc>
              <a:buClr>
                <a:srgbClr val="000000"/>
              </a:buClr>
              <a:buFont typeface="Trebuchet MS"/>
              <a:buAutoNum type="arabicPeriod" startAt="18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КТО НЕЗАМЕДЛИТЕЛЬНО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НО НЕ ПОЗДНЕЕ ОДНОГО РАБОЧЕГО ДНЯ СО ДНЯ ПРИНЯТИЯ РЕШЕНИЯ ОБ ИСКЛЮЧЕНИИ ОРГАНИЗАЦИИ ИЛИФИЗИЧЕСКОГО ЛИЦ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9880" indent="41292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З ПЕРЕЧНЯ ОРГАНИЗАЦИЙ И ЛИЦ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ВЯЗАННЫХ СФИНАНСИРОВАНИЕ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9880" indent="412920" algn="ctr">
              <a:lnSpc>
                <a:spcPct val="116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РАСПРОСТРАНЕНИЯ ОРУЖИЯ МАССОВОГО УНИЧТОЖЕНИ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РАЗМЕЩАЕТ НА СВОЕМ ИНТЕРНЕТ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-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РЕСУРСЕ ТАКОЕ РЕШЕНИЕ И НАПРАВЛЯЕТ ЕГОСООТВЕТСТВУЮЩИМ ГОСУДАРСТВЕННЫМ ОРГАНАМ И ОРГАНИЗАЦИЯ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9880" indent="41292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УПОЛНОМОЧЕННЫЙ ОРГАН ПО ФИНАНСОВОМУ МОНИТОРИНГУ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9880" indent="41292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0" indent="-412920">
              <a:lnSpc>
                <a:spcPct val="117000"/>
              </a:lnSpc>
              <a:buClr>
                <a:srgbClr val="000000"/>
              </a:buClr>
              <a:buFont typeface="Trebuchet MS"/>
              <a:buAutoNum type="arabicPeriod" startAt="18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КТО ИЗ НИЖЕПЕРЕЧИСЛЕННЫХ ВПРАВЕ ОБРАТИТЬСЯ В УПОЛНОМОЧЕННЫЙ ОРГАН ПО ФИНАНСОВОМУ МОНИТОРИНГУ С ПИСЬМЕННЫМ МОТИВИРОВАННЫ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9880" indent="412920" algn="ctr">
              <a:lnSpc>
                <a:spcPct val="111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ЗАЯВЛЕНИЕМ ОБ ИХ ИСКЛЮЧЕНИИ ИЗ ПЕРЕЧНЯ ФИНАНСИРОВАНИЯ ОРУЖИЯ МАССОВОГО УНИЧТОЖЕНИ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9880" indent="41292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РГАНИЗАЦИИ ИЛИ ФИЗИЧЕСКИЕ ЛИЦА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ШИБОЧНО ВКЛЮЧЕННЫЕ В ПЕРЕЧЕНЬ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Google Shape;159;p23"/>
          <p:cNvSpPr/>
          <p:nvPr/>
        </p:nvSpPr>
        <p:spPr>
          <a:xfrm>
            <a:off x="-1440" y="25560"/>
            <a:ext cx="7519680" cy="136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28880" indent="-409680">
              <a:lnSpc>
                <a:spcPct val="120000"/>
              </a:lnSpc>
              <a:buClr>
                <a:srgbClr val="000000"/>
              </a:buClr>
              <a:buFont typeface="Trebuchet MS"/>
              <a:buAutoNum type="arabicPeriod" startAt="24"/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КАКОЕ ДЕЙСТВИЕ МОЖЕТ ПОСЛЕДОВАТЬ ПОСЛЕ РЕШЕНИЯ УПОЛНОМОЧЕННОГООРГАНА ПО ФИНАНСОВОМУ МОНИТОРИНГУ ПО ИСКЛЮЧЕНИЮ ИЗ ПЕРЕЧНЯФИНАНСИРОВАНИЯ ОРУЖИЯ МАССОВОГ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19200" indent="40968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УНИЧТОЖЕНИ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19200" indent="40968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МОЖЕТ БЫТЬ ОБЖАЛОВАНО ЗАЯВИТЕЛЕМ В СУД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19200" indent="40968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28880" indent="-409680">
              <a:lnSpc>
                <a:spcPct val="121000"/>
              </a:lnSpc>
              <a:buClr>
                <a:srgbClr val="000000"/>
              </a:buClr>
              <a:buFont typeface="Trebuchet MS"/>
              <a:buAutoNum type="arabicPeriod" startAt="25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В СЛУЧАЕ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ЕСЛИ ХОТЯ БЫ ОДНА ИЗ СТОРОН ОПЕРАЦИЙ ЯВЛЯЕТСЯ ЛИЦО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ВКЛЮЧЕННЫМ В ПЕРЕЧЕНЬ ФИНАНСИРОВАНИЯ ОРУЖИЯ МАССОВОГ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19200" indent="409680" algn="ctr">
              <a:lnSpc>
                <a:spcPct val="133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УНИЧТОЖЕНИ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РЕШЕНИЕ О ПРИОСТАНОВЛЕНИИ ПРОВЕДЕНИЯ ОПЕРАЦИИ ДОВОДИТСЯ ДО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19200" indent="409680" algn="ctr">
              <a:lnSpc>
                <a:spcPct val="113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О СУБЪЕКТА ФИНАНСОВОГО МОНИТОРИНГ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19200" indent="409680">
              <a:lnSpc>
                <a:spcPct val="100000"/>
              </a:lnSpc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028880" indent="-409680">
              <a:lnSpc>
                <a:spcPct val="112000"/>
              </a:lnSpc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УПОЛНОМОЧЕННЫЙ ОРГАН ПОСЛЕ ПРИНЯТИЯ РЕШЕНИЯ О ПРИОСТАНОВЛЕНИИ ПРОВЕДЕНИЯ ОПЕРАЦИ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ИНИМАЕТ РЕШЕНИЕ О ПРОВЕДЕНИИ ОПЕРАЦИИ ЛИБ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19200" indent="40968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КАЗЕ В ПРОВЕДЕНИИ ОПЕРАЦИ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В ТЕЧЕНИ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19200" indent="40968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ТРЕХ РАБОЧИХ ДНЕ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19200" indent="409680">
              <a:lnSpc>
                <a:spcPct val="100000"/>
              </a:lnSpc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028880" indent="-409680" algn="just">
              <a:lnSpc>
                <a:spcPct val="116000"/>
              </a:lnSpc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В СЛУЧАЕ НЕПОЛУЧЕНИЯ СУБЪЕКТОМ ФИНАНСОВОГО МОНИТОРИНГА В ТЕЧЕНИЕ ДВАДЦАТИ ЧЕТЫРЕХ ЧАСОВ С МОМЕНТА СООБЩЕНИЯ ИНФОРМАЦИИ РЕШЕНИЯ УПОЛНОМОЧЕННОГО ОРГАНА О ПРИОСТАНОВЛЕНИИ ПРОВЕДЕ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19200" indent="40968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ПЕРАЦИИ ОПЕРАЦИЯ ДОЛЖНА БЫТЬ ПРОВЕДЕН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19200" indent="40968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ЕСЛИ НЕ ИМЕЮТСЯ ИНЫЕ ОСНОВАНИЯ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РЕДУСМОТРЕННЫЕ ЗАКОНАМИ РЕСПУБЛИК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19200" indent="40968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КАЗАХСТАН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РЕПЯТСТВУЮЩИЕ ПРОВЕДЕНИЮ ТАКОЙ ОПЕРАЦИ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19200" indent="409680">
              <a:lnSpc>
                <a:spcPct val="100000"/>
              </a:lnSpc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028880" indent="-409680">
              <a:lnSpc>
                <a:spcPct val="112000"/>
              </a:lnSpc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И ПЕРЕСЕЧЕНИИ ГОСУДАРСТВЕННОЙ ГРАНИЦЫ РЕСПУБЛИКИ КАЗАХСТАН ФИЗИЧЕСКИМИ ЛИЦАМ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ВКЛЮЧЕННЫМИ В ПЕРЕЧЕНЬ ФИНАНСИРОВА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19200" indent="40968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РУЖИЯ МАССОВОГО УНИЧТОЖЕНИ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19200" indent="40968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УПОЛНОМОЧЕННЫЙ ОРГАН ПО ФИНАНСОВОМУ МОНИТОРИНГУ УВЕДОМЛЯЕТ КОМИТЕ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19200" indent="40968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СБ ООН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19200" indent="40968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28880" indent="-409680">
              <a:lnSpc>
                <a:spcPct val="117000"/>
              </a:lnSpc>
              <a:buClr>
                <a:srgbClr val="000000"/>
              </a:buClr>
              <a:buFont typeface="Trebuchet MS"/>
              <a:buAutoNum type="arabicPeriod" startAt="25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БЛАГОТВОРИТЕЛЬНЫЕ ОРГАНИЗАЦИ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А ТАКЖЕ РЕЛИГИОЗНЫЕ ОБЪЕДИНЕНИ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БРАЩАЮЩИЕСЯ ЗА ДОБРОВОЛЬНЫМИ ПОЖЕРТВОВАНИЯМИ ОБЯЗАНЫ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19200" indent="40968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СУЩЕСТВЛЯТЬ ПЛАТЕЖИ И ПЕРЕВОДЫ ДЕНЕГ ПО ОБРАЩЕНИЮ ТРЕТЬИХ ЛИЦ ЛИБО П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19200" indent="40968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СОБСТВЕННОЙ ИНИЦИАТИВЕ ЧЕРЕЗ СУБЪЕКТОВ ФИНАНСОВОГО МОНИТОРИНГ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19200" indent="40968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28880" indent="-409680">
              <a:lnSpc>
                <a:spcPct val="116000"/>
              </a:lnSpc>
              <a:buClr>
                <a:srgbClr val="000000"/>
              </a:buClr>
              <a:buFont typeface="Trebuchet MS"/>
              <a:buAutoNum type="arabicPeriod" startAt="24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БЛАГОТВОРИТЕЛЬНЫЕ ОРГАНИЗАЦИ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А ТАКЖЕ РЕЛИГИОЗНЫЕ ОБЪЕДИНЕНИ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БРАЩАЮЩИЕСЯ ЗА ДОБРОВОЛЬНЫМИ ПОЖЕРТВОВАНИЯМИ ОБЯЗАНЫ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19200" indent="40968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ЕДОСТАВЛЯТЬ ПО ЗАПРОСУ ФИНАНСОВУЮ ОТЧЕТНОСТЬ О ПРОВЕДЕННЫХ ОПЕРАЦИЯХ 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19200" indent="40968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ДЕНЬГАМИ И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ЛИ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)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НЫМ ИМУЩЕСТВОМ И ИНФОРМАЦИЮ О ВЫЯВЛЕННЫХ РИСКАХ УПОЛНОМОЧЕННОМУ ОРГАН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Google Shape;164;p24"/>
          <p:cNvSpPr/>
          <p:nvPr/>
        </p:nvSpPr>
        <p:spPr>
          <a:xfrm>
            <a:off x="73080" y="7920"/>
            <a:ext cx="7399080" cy="120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665280" indent="-342720">
              <a:lnSpc>
                <a:spcPct val="113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chemeClr val="dk1"/>
                </a:solidFill>
                <a:latin typeface="Calibri"/>
                <a:ea typeface="Calibri"/>
              </a:rPr>
              <a:t>31.</a:t>
            </a:r>
            <a:r>
              <a:rPr b="0" i="1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</a:t>
            </a:r>
            <a:r>
              <a:rPr b="0" i="1" lang="en-US" sz="1500" spc="-1" strike="noStrike">
                <a:solidFill>
                  <a:schemeClr val="dk1"/>
                </a:solidFill>
                <a:latin typeface="Arial"/>
                <a:ea typeface="Arial"/>
              </a:rPr>
              <a:t>БЛАГОТВОРИТЕЛЬНЫЕ ОРГАНИЗАЦИИ</a:t>
            </a:r>
            <a:r>
              <a:rPr b="0" i="1" lang="en-US" sz="15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chemeClr val="dk1"/>
                </a:solidFill>
                <a:latin typeface="Arial"/>
                <a:ea typeface="Arial"/>
              </a:rPr>
              <a:t>А ТАКЖЕ РЕЛИГИОЗНЫЕ ОБЪЕДИНЕНИЯ</a:t>
            </a:r>
            <a:r>
              <a:rPr b="0" i="1" lang="en-US" sz="15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chemeClr val="dk1"/>
                </a:solidFill>
                <a:latin typeface="Arial"/>
                <a:ea typeface="Arial"/>
              </a:rPr>
              <a:t>ОБРАЩАЮЩИЕСЯ ЗА ДОБРОВОЛЬНЫМИ ПОЖЕРТВОВАНИЯМИ ОБЯЗАНЫ</a:t>
            </a:r>
            <a:r>
              <a:rPr b="0" i="1" lang="en-US" sz="1500" spc="-1" strike="noStrike">
                <a:solidFill>
                  <a:schemeClr val="dk1"/>
                </a:solidFill>
                <a:latin typeface="Calibri"/>
                <a:ea typeface="Calibri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65280" indent="-342720">
              <a:lnSpc>
                <a:spcPct val="114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ХРАНИТЬ НЕ МЕНЕЕ ПЯТИ ЛЕТ ИНФОРМАЦИЮ О ПРОВЕДЕННЫХ ОПЕРАЦИЯХ С ДЕНЬГАМИ И </a:t>
            </a:r>
            <a:r>
              <a:rPr b="0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ИЛИ</a:t>
            </a:r>
            <a:r>
              <a:rPr b="0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ИНЫМ ИМУЩЕСТВОМ</a:t>
            </a:r>
            <a:r>
              <a:rPr b="0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ПОДЛЕЖАЩИМ ОБЯЗАТЕЛЬНОЙ ГОСУДАРСТВЕННОЙ РЕГИСТРАЦИИ</a:t>
            </a:r>
            <a:r>
              <a:rPr b="0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А ТАКЖЕ ОБ УЧРЕДИТЕЛЯХ </a:t>
            </a:r>
            <a:r>
              <a:rPr b="0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УЧАСТНИКАХ</a:t>
            </a:r>
            <a:r>
              <a:rPr b="0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65280" indent="-342720">
              <a:lnSpc>
                <a:spcPct val="100000"/>
              </a:lnSpc>
              <a:tabLst>
                <a:tab algn="l" pos="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65280" indent="-342720">
              <a:lnSpc>
                <a:spcPct val="121000"/>
              </a:lnSpc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В СЛУЧАЕ НАЛИЧИЯ У БЛАГОТВОРИТЕЛЬНОЙ ОРГАНИЗАЦИ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А ТАКЖЕ РЕЛИГИОЗНЫХ ОБЪЕДИНЕНИЙ ПОДОЗРЕНИЯ ОБ ИХ ИСПОЛЬЗОВАНИИ В ЦЕЛЯХ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65280" indent="-342720" algn="ctr">
              <a:lnSpc>
                <a:spcPct val="111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ФИНАНСИРОВАНИЯ ТЕРРОРИЗМА ОНИ НАПРАВЛЯЮТ СООТВЕТСТВУЮЩУЮ ИНФОРМАЦИЮ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65280" indent="-34272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 УПОЛНОМОЧЕННЫЙ ОРГАН ПО ФИНАНСОВОМУ МОНИТОРИНГУ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65280" indent="-34272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5280" indent="-342720">
              <a:lnSpc>
                <a:spcPct val="117000"/>
              </a:lnSpc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ЕРЕЧЕНЬ ОРГАНИЗАЦИИ И ЛИЦ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ВЯЗАННЫХ С ФИНАНСИРОВАНИЕМ ТЕРРОРИЗМА И ЭКСТРЕМИЗМА РАЗМЕЩАЕТС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65280" indent="-34272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НА ИНТЕРНЕТ РЕСУРСЕ УПОЛНОМОЧЕННОГО ОРГАН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65280" indent="-342720">
              <a:lnSpc>
                <a:spcPct val="100000"/>
              </a:lnSpc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65280" indent="-342720">
              <a:lnSpc>
                <a:spcPct val="112000"/>
              </a:lnSpc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ЕРЕЧЕНЬ ФИНАНСИРОВАНИЯ РАСПРОСТРАНЕНИЯ ОРУЖИЯ МАССОВОГО УНИЧТОЖЕНИЯ РАЗМЕЩАЕТС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65280" indent="-34272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НА ИНТЕРНЕТ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-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РЕСУРСЕ УПОЛНОМОЧЕННОГО ОРГАНА ПО ФИНАНСОВОМУ МОНИТОРИНГУ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65280" indent="-342720">
              <a:lnSpc>
                <a:spcPct val="100000"/>
              </a:lnSpc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65280" indent="-342720">
              <a:lnSpc>
                <a:spcPct val="111000"/>
              </a:lnSpc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ЕНА ПРИГОВОРА СУДА РЕСПУБЛИКИ КАЗАХСТАН О ПРИЗНАНИИ ФИЗИЧЕСКОГО ЛИЦА ВИНОВНЫМ В СОВЕРШЕНИИ ЭКСТРЕМИСТСКОГО 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Л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65280" indent="-34272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ТЕРРОРИСТИЧЕСКОГО ПРЕСТУПЛЕНИЙ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65280" indent="-34272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ЯВЛЯЕТСЯ ОСНОВАНИЕМ ДЛЯ ИСКЛЮЧЕНИЯ ЛИЦА ИЗ ПЕРЕЧН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65280" indent="-34272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5280" indent="-342720">
              <a:lnSpc>
                <a:spcPct val="112000"/>
              </a:lnSpc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НАЛИЧИЕ ДОКУМЕНТАЛЬНО ПОДТВЕРЖДЕННЫХ ДАННЫХО СМЕРТИ ФИЗИЧЕСКОГО ЛИЦ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ВКЛЮЧЕННОГО В ПЕРЕЧЕНЬ ОРГАНИЗАЦИИ И ЛИЦ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65280" indent="-34272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ВЯЗАННЫХ С ФИНАНСИРОВАНИМЕ ТЕРРОРИЗМ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БУДЕТ ЯВЛЯТЬС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65280" indent="-34272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-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ЯВЛЯЕТСЯ ОСНОВАНИЕМ ДЛЯ ИСКЛЮЧЕНИЯ ИЗ ПРАВИ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65280" indent="-342720">
              <a:lnSpc>
                <a:spcPct val="100000"/>
              </a:lnSpc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65280" indent="-342720">
              <a:lnSpc>
                <a:spcPct val="114000"/>
              </a:lnSpc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НАХОЖДЕНИЕ ОРГАНИЗАЦИИ ИЛИ ФИЗИЧЕСКОГО ЛИЦА В ПЕРЕЧНЕ ОРГАНИЗАЦИЙ И ЛИЦ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ВЯЗАННЫХ С ТЕРРОРИСТИЧЕСКИМИ ОРГАНИЗАЦИЯМИ ИЛИ ТЕРРОРИСТАМ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ОСТАВЛЯЕМОМ МЕЖДУНАРОДНЫМИ ОРГАНИЗАЦИЯМ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65280" indent="-34272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СУЩЕСТВЛЯЮЩИМИ ПРОТИВОДЕЙСТВИЕ ТЕРРОРИЗМУ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Л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65280" indent="-342720" algn="ctr">
              <a:lnSpc>
                <a:spcPct val="111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УПОЛНОМОЧЕННЫМИ ИМИ ОРГАНАМИ В СООТВЕТСТВИИ С МЕЖДУНАРОДНЫМИ ДОГОВОРАМИ РЕСПУБЛИКИ КАЗАХСТАН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65280" indent="-34272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ЯВЛЯЕТСЯ ОСНОВАНИЕМ ДЛЯ ВКЛЮЧЕНИЯ ТАКОГО ЛИЦА В ПЕРЕЧЕНЬ ОРГАНИЗАЦИИ 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65280" indent="-34272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ЛИЦ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СВЯЗАННЫХ С ФИНАНСИРОВАНИЕМ ТЕРРОРИЗМА И ЭКСТРЕМИЗМ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Google Shape;169;p25"/>
          <p:cNvSpPr/>
          <p:nvPr/>
        </p:nvSpPr>
        <p:spPr>
          <a:xfrm>
            <a:off x="1440" y="25560"/>
            <a:ext cx="7500600" cy="136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587600" indent="-1390680">
              <a:lnSpc>
                <a:spcPct val="119000"/>
              </a:lnSpc>
              <a:buClr>
                <a:srgbClr val="000000"/>
              </a:buClr>
              <a:buFont typeface="Trebuchet MS"/>
              <a:buAutoNum type="arabicPeriod" startAt="38"/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УБЪЕКТАМ ФИНАНСОВОГО МОНИТОРИНГА ЗАПРЕЩАЕТСЯ УСТАНАВЛИВАТЬ ДЕЛОВЫЕ ОТНОШЕНИЯ ДИСТАНЦИОННО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ЕСЛ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587600" indent="-139068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НЕТ ПРАВИЛЬНОГО ОТВЕТ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587600" indent="-1390680"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587600" indent="-1390680">
              <a:lnSpc>
                <a:spcPct val="121000"/>
              </a:lnSpc>
              <a:buClr>
                <a:srgbClr val="000000"/>
              </a:buClr>
              <a:buFont typeface="Trebuchet MS"/>
              <a:buAutoNum type="arabicPeriod" startAt="39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КОМИТЕТОМ МЕЖДУНАРОДНОГО ФИНАНСОВОГО ЦЕНТРА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"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АСТАН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"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 РЕГУЛИРОВАНИЮ ФИНАНСОВЫХ УСЛУГ ПО СОГЛАСОВАНИЮ С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587600" indent="-139068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УПОЛНОМОЧЕННЫМ ОРГАНОМ УСТАНАВЛИВАЕТ ДЛЯ СВОИХ УЧАСТНИК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587600" indent="-139068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ТРЕБОВАНИЯ К НАДЛЕЖАЩЕЙ ПРОВЕРКЕ КЛИЕНТОВ В СЛУЧАЕ ДИСТАНЦИОННОГ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587600" indent="-1390680" algn="ctr">
              <a:lnSpc>
                <a:spcPct val="10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УСТАНОВЛЕНИЯ ДЕЛОВЫХ ОТНОШЕНИЙ С СУБЪЕКТАМИ ФИНАНСОВОГО МОНИТОРИНГ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587600" indent="-1390680">
              <a:lnSpc>
                <a:spcPct val="100000"/>
              </a:lnSpc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587600" indent="-13906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AutoNum type="arabicPeriod" startAt="38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КТО НЕ ЯВЛЯЕТСЯ СУБЪЕКТОМ ФИНАНСОВОГО МОНИТОРИНГ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587600" indent="-139068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ГОСУДАРСТВЕННЫЕ ОРГАН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587600" indent="-1390680">
              <a:lnSpc>
                <a:spcPct val="100000"/>
              </a:lnSpc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587600" indent="-1390680">
              <a:lnSpc>
                <a:spcPct val="112000"/>
              </a:lnSpc>
              <a:buClr>
                <a:srgbClr val="000000"/>
              </a:buClr>
              <a:buFont typeface="Trebuchet MS"/>
              <a:buAutoNum type="arabicPeriod" startAt="39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КТО ПРИНИМАЕТ РЕШЕНИЕ О НАЛОЖЕНИИ АРЕСТА НА ИМУЩЕСТВО В СЛУЧАЕ ВЫЯВЛЕНИЯ ЕГО У ЛИЦ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ВКЛЮЧЕННОГО В ПЕРЕЧЕНЬ ОРГАНИЗАЦИИ И ЛИЦ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587600" indent="-139068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ВЯЗАННЫХ С ФИНАНСИРОВАНИЕМ ТЕРРОРИЗМА И ЭКСТРЕМИЗМ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587600" indent="-139068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ГЕНЕРАЛЬНАЯ ПРОКУРАТУР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587600" indent="-1390680"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587600" indent="-1390680">
              <a:lnSpc>
                <a:spcPct val="117000"/>
              </a:lnSpc>
              <a:buClr>
                <a:srgbClr val="000000"/>
              </a:buClr>
              <a:buFont typeface="Trebuchet MS"/>
              <a:buAutoNum type="arabicPeriod" startAt="38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ЧТО ТАКОЕ ПОДОЗРИТЕЛЬНАЯ ОПЕРАЦИЯ С ДЕНЬГАМИ 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Л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НЫМ ИМУЩЕСТВО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587600" indent="-139068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ПЕРАЦИЯ КЛИЕНТА 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КЛЮЧАЯ ПОПЫТКУ СОВЕРШЕНИЯ ТАКОЙ ОПЕРАЦИИ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ПЕРАЦИЮ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587600" indent="-139068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НАХОДЯЩУЮСЯ В ПРОЦЕССЕ СОВЕРШЕНИЯ ИЛИ УЖЕ СОВЕРШЕННУЮ ОПЕРАЦИЮ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)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587600" indent="-1390680" algn="ctr">
              <a:lnSpc>
                <a:spcPct val="117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ТНОШЕНИИ КОТОРОЙ ВОЗНИКАЮТ ПОДОЗРЕНИЯ О ТОМ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ЧТО ДЕНЬГИ И 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ЛИ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НОЕ ИМУЩЕСТВО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СПОЛЬЗУЕМЫЕ ДЛЯ ЕЕ СОВЕРШЕНИЯ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ЯВЛЯЮТСЯ ДОХОДОМ ОТ ПРЕСТУПНОЙ ДЕЯТЕЛЬНОСТИ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ЛИБО САМА ОПЕРАЦИЯ НАПРАВЛЕНА НА ЛЕГАЛИЗАЦИЮ 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ТМЫВАНИЕ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ОХОДОВ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ЛУЧЕННЫХ ПРЕСТУПНЫМ ПУТЕМ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ЛИ ФИНАНСИРОВАНИЕ ТЕРРОРИЗМА ЛИБО ИНУЮ ПРЕСТУПНУЮ ДЕЯТЕЛЬНОСТЬ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587600" indent="-1390680">
              <a:lnSpc>
                <a:spcPct val="100000"/>
              </a:lnSpc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587600" indent="-13906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AutoNum type="arabicPeriod" startAt="38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ПЕРАЦИИ С ДЕНЬГАМИ 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Л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НЫМ ИМУЩЕСТВОМ ЭТО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587600" indent="-139068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ЕЙСТВИЯ ФИЗИЧЕСКИХ И ЮРИДИЧЕСКИХ ЛИЦ С ДЕНЬГАМИ И 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ЛИ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НЫ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587600" indent="-1390680" algn="ctr">
              <a:lnSpc>
                <a:spcPct val="117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МУЩЕСТВОМ НЕЗАВИСИМО ОТ ФОРМЫ И СПОСОБА ИХ ОСУЩЕСТВЛЕНИЯ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НАПРАВЛЕННЫЕ НА УСТАНОВЛЕНИЕ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ЗМЕНЕНИЕ ИЛИ ПРЕКРАЩЕНИЕ СВЯЗАННЫХ С НИМИ ГРАЖДАНСКИХ ПРАВ И ОБЯЗАННОСТЕ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587600" indent="-1390680">
              <a:lnSpc>
                <a:spcPct val="100000"/>
              </a:lnSpc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587600" indent="-13906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ЗАМОРАЖИВАНИЕ ОПЕРАЦИЙ С ДЕНЬГАМИ 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Л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НЫМ ИМУЩЕСТВОМ ЭТО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587600" indent="-139068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МЕРЫ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РИНИМАЕМЫЕ СУБЪЕКТАМИ ФИНАНСОВОГО МОНИТОРИНГА 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587600" indent="-1390680" algn="ctr">
              <a:lnSpc>
                <a:spcPct val="14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ГОСУДАРСТВЕННЫМИ ОРГАНАМИ ПО ПРИОСТАНОВЛЕНИЮ ПЕРЕДАЧИ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РЕОБРАЗОВАНИЯ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ТЧУЖДЕНИЯ ИЛИ ПЕРЕМЕЩЕНИЯ ДЕНЕГ И 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ЛИ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НОГО ИМУЩЕСТВ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Google Shape;50;p8"/>
          <p:cNvSpPr/>
          <p:nvPr/>
        </p:nvSpPr>
        <p:spPr>
          <a:xfrm>
            <a:off x="479520" y="569880"/>
            <a:ext cx="6630480" cy="9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</a:tabLst>
            </a:pPr>
            <a:r>
              <a:rPr b="0" lang="en-US" sz="3200" spc="-1" strike="noStrike">
                <a:solidFill>
                  <a:srgbClr val="202020"/>
                </a:solidFill>
                <a:latin typeface="Lucida Sans"/>
                <a:ea typeface="Lucida Sans"/>
              </a:rPr>
              <a:t>ТЕСТЫ ПО ПЕРЕДАЧЕ СООБЩ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Google Shape;51;p8"/>
          <p:cNvSpPr/>
          <p:nvPr/>
        </p:nvSpPr>
        <p:spPr>
          <a:xfrm>
            <a:off x="100080" y="1065240"/>
            <a:ext cx="7327440" cy="103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85680"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300" spc="-1" strike="noStrike">
                <a:solidFill>
                  <a:srgbClr val="202020"/>
                </a:solidFill>
                <a:latin typeface="Calibri"/>
                <a:ea typeface="Calibri"/>
              </a:rPr>
              <a:t>1</a:t>
            </a:r>
            <a:r>
              <a:rPr b="0" lang="en-US" sz="2300" spc="-1" strike="noStrike">
                <a:solidFill>
                  <a:srgbClr val="202020"/>
                </a:solidFill>
                <a:latin typeface="Lucida Sans"/>
                <a:ea typeface="Lucida Sans"/>
              </a:rPr>
              <a:t>БЛОК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85680" indent="-95400">
              <a:lnSpc>
                <a:spcPct val="111000"/>
              </a:lnSpc>
              <a:spcBef>
                <a:spcPts val="601"/>
              </a:spcBef>
              <a:buClr>
                <a:srgbClr val="20202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В СЛУЧАЕ ВОЗНИКНОВЕНИЯ ОШИБОК ПРИ ОТПРАВЛЕНИИ СООБЩЕНИЯ ФОРМЫ ФМ</a:t>
            </a:r>
            <a:r>
              <a:rPr b="0" lang="en-US" sz="1500" spc="-1" strike="noStrike">
                <a:solidFill>
                  <a:srgbClr val="202020"/>
                </a:solidFill>
                <a:latin typeface="Calibri"/>
                <a:ea typeface="Calibri"/>
              </a:rPr>
              <a:t>-1,</a:t>
            </a:r>
            <a:r>
              <a:rPr b="0" lang="en-US" sz="15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КАКУЮ ИНФОРМАЦИЮ НЕОБХОДИМО ПЕРЕДАТЬ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5680" algn="ctr">
              <a:lnSpc>
                <a:spcPct val="112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СУБЪЕКТУ ФИНАНСОВОГО МОНИТОРИНГА В ТЕХНИЧЕСКУЮ СЛУЖБУ ПОДДЕРЖКИ</a:t>
            </a:r>
            <a:r>
              <a:rPr b="0" lang="en-US" sz="1500" spc="-1" strike="noStrike">
                <a:solidFill>
                  <a:srgbClr val="202020"/>
                </a:solidFill>
                <a:latin typeface="Calibri"/>
                <a:ea typeface="Calibri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5680" algn="ctr">
              <a:lnSpc>
                <a:spcPct val="113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ЗАПРОС ЗАМЕНЫ СООБЩЕНИЯ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С УКАЗАНИЕМ НОМЕРА СООБЩЕНИЯ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568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95400">
              <a:lnSpc>
                <a:spcPct val="117000"/>
              </a:lnSpc>
              <a:buClr>
                <a:srgbClr val="202020"/>
              </a:buClr>
              <a:buFont typeface="Calibri"/>
              <a:buAutoNum type="arabicPeriod" startAt="2"/>
              <a:tabLst>
                <a:tab algn="l" pos="0"/>
              </a:tabLst>
            </a:pP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ПРИ НАПРАВЛЕНИИ СООБЩЕНИЯ ФОРМЫ ФМ</a:t>
            </a:r>
            <a:r>
              <a:rPr b="0" lang="en-US" sz="1500" spc="-1" strike="noStrike">
                <a:solidFill>
                  <a:srgbClr val="202020"/>
                </a:solidFill>
                <a:latin typeface="Calibri"/>
                <a:ea typeface="Calibri"/>
              </a:rPr>
              <a:t>-1</a:t>
            </a:r>
            <a:r>
              <a:rPr b="0" lang="en-US" sz="15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СУБЪЕКТОМ</a:t>
            </a:r>
            <a:r>
              <a:rPr b="0" lang="en-US" sz="1500" spc="-1" strike="noStrike">
                <a:solidFill>
                  <a:srgbClr val="202020"/>
                </a:solidFill>
                <a:latin typeface="Calibri"/>
                <a:ea typeface="Calibri"/>
              </a:rPr>
              <a:t>,</a:t>
            </a:r>
            <a:r>
              <a:rPr b="0" lang="en-US" sz="15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ПОЛЬЗОВАТЕЛЬ С КАКОЙ РОЛЬЮ МОЖЕТ ПОДПИСАТЬ И ОТПРАВИТЬ СООБЩЕНИЕ</a:t>
            </a:r>
            <a:r>
              <a:rPr b="0" lang="en-US" sz="1500" spc="-1" strike="noStrike">
                <a:solidFill>
                  <a:srgbClr val="202020"/>
                </a:solidFill>
                <a:latin typeface="Calibri"/>
                <a:ea typeface="Calibri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5680" algn="ctr">
              <a:lnSpc>
                <a:spcPct val="113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ТВЕТСТВЕННОЕ ЛИЦ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5680">
              <a:lnSpc>
                <a:spcPct val="100000"/>
              </a:lnSpc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5680" indent="-95400">
              <a:lnSpc>
                <a:spcPct val="100000"/>
              </a:lnSpc>
              <a:spcBef>
                <a:spcPts val="1001"/>
              </a:spcBef>
              <a:buClr>
                <a:srgbClr val="202020"/>
              </a:buClr>
              <a:buFont typeface="Calibri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КАКАЯ КОДИРОВКА СИМВОЛОВ ПРИМЕНЯТСЯ ДЛЯ ПРЕДОСТАВЛЕНИЯ ДАННЫХ</a:t>
            </a:r>
            <a:r>
              <a:rPr b="0" lang="en-US" sz="1500" spc="-1" strike="noStrike">
                <a:solidFill>
                  <a:srgbClr val="202020"/>
                </a:solidFill>
                <a:latin typeface="Calibri"/>
                <a:ea typeface="Calibri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5680" algn="ctr">
              <a:lnSpc>
                <a:spcPct val="100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-</a:t>
            </a:r>
            <a:r>
              <a:rPr b="0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UTF-16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5680">
              <a:lnSpc>
                <a:spcPct val="100000"/>
              </a:lnSpc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5680" indent="-95400">
              <a:lnSpc>
                <a:spcPct val="113000"/>
              </a:lnSpc>
              <a:spcBef>
                <a:spcPts val="901"/>
              </a:spcBef>
              <a:buClr>
                <a:srgbClr val="202020"/>
              </a:buClr>
              <a:buFont typeface="Calibri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ЧТО СОДЕРЖИТ В СЕБЕ ИЗВЕЩЕНИЕ О ПРИНЯТИИ</a:t>
            </a:r>
            <a:r>
              <a:rPr b="0" lang="en-US" sz="1500" spc="-1" strike="noStrike">
                <a:solidFill>
                  <a:srgbClr val="202020"/>
                </a:solidFill>
                <a:latin typeface="Calibri"/>
                <a:ea typeface="Calibri"/>
              </a:rPr>
              <a:t>/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НЕПРИНЯТИИ ФОРМЫ ФМ</a:t>
            </a:r>
            <a:r>
              <a:rPr b="0" lang="en-US" sz="1500" spc="-1" strike="noStrike">
                <a:solidFill>
                  <a:srgbClr val="202020"/>
                </a:solidFill>
                <a:latin typeface="Calibri"/>
                <a:ea typeface="Calibri"/>
              </a:rPr>
              <a:t>-1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5680" indent="-95400" algn="ctr">
              <a:lnSpc>
                <a:spcPct val="113000"/>
              </a:lnSpc>
              <a:buClr>
                <a:srgbClr val="ff1515"/>
              </a:buClr>
              <a:buFont typeface="Trebuchet MS"/>
              <a:buAutoNum type="arabicPeriod"/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РИЧИНА НЕПРИНЯТИЯ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УКАЗЫВАЕТСЯ ТОЛЬКО В СЛУЧАЕ НЕПРИНЯТИЯ ФОРМЫ ФМ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1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568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УСТРАНИТЬ ПРИЧИНЫ НАПРАВЛЕ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568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НФОРМАЦИИ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РЕДСТАВЛЕННОЙ В ИСКАЖЕННОМ ВИДЕ ИЛИ НЕПОЛНОМ ОБЪЕМЕ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5680" algn="ctr">
              <a:lnSpc>
                <a:spcPct val="14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 ТЕЧЕНИЕ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1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РАБОЧЕГО ДНЯ СО ДНЯ ПОЛУЧЕНИЯ НАСТОЯЩЕГО ИЗВЕЩЕНИЯ ИСПРАВИТЬ НЕПРИНЯТО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568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СООБЩЕНИЕ ОБ ОПЕРАЦИИ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ДЛЕЖАЩЕЙ ФИНАНСОВОМУ МОНИТОРИНГУ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568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РЕДСТАВИТЬ ЕГО ПОВТОРН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5680"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41360" indent="-34920">
              <a:lnSpc>
                <a:spcPct val="121000"/>
              </a:lnSpc>
              <a:buClr>
                <a:srgbClr val="202020"/>
              </a:buClr>
              <a:buFont typeface="Calibri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ДОПУСТИМЫЙ РАЗМЕР ФАЙЛА</a:t>
            </a:r>
            <a:r>
              <a:rPr b="0" lang="en-US" sz="1500" spc="-1" strike="noStrike">
                <a:solidFill>
                  <a:srgbClr val="202020"/>
                </a:solidFill>
                <a:latin typeface="Calibri"/>
                <a:ea typeface="Calibri"/>
              </a:rPr>
              <a:t>,</a:t>
            </a:r>
            <a:r>
              <a:rPr b="0" lang="en-US" sz="15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КОТОРЫЙ ОТПРАВЛЯЕТСЯ СУБЪЕКТОМ ФИНАНСОВОГО МОНИТОРИНГА В ОТВЕТ НА ЗАПРОС ДОПОЛНИТЕЛЬНО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5680" algn="ctr">
              <a:lnSpc>
                <a:spcPct val="12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ИНФОРМАЦИИ</a:t>
            </a:r>
            <a:r>
              <a:rPr b="0" lang="en-US" sz="1500" spc="-1" strike="noStrike">
                <a:solidFill>
                  <a:srgbClr val="202020"/>
                </a:solidFill>
                <a:latin typeface="Calibri"/>
                <a:ea typeface="Calibri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5680" algn="ctr">
              <a:lnSpc>
                <a:spcPct val="12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ТЕКСТОВАЯ СТРОКА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3000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СИМВОЛОВ ИЛИ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3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КБ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5680">
              <a:lnSpc>
                <a:spcPct val="100000"/>
              </a:lnSpc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1360" indent="-34920">
              <a:lnSpc>
                <a:spcPct val="111000"/>
              </a:lnSpc>
              <a:buClr>
                <a:srgbClr val="202020"/>
              </a:buClr>
              <a:buFont typeface="Calibri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МАКСИМАЛЬНЫЙ ОБЪЕМ ТЕКСТОВОГО ПОЛЯ ОТВЕТА НА ЗАПРОС ДОПОЛНИТЕЛЬНОЙ ИНФОРМАЦИИ</a:t>
            </a:r>
            <a:r>
              <a:rPr b="0" lang="en-US" sz="1500" spc="-1" strike="noStrike">
                <a:solidFill>
                  <a:srgbClr val="202020"/>
                </a:solidFill>
                <a:latin typeface="Calibri"/>
                <a:ea typeface="Calibri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568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ТЕКСТОВАЯ СТРОКА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3000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СИМВОЛО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Google Shape;52;p8"/>
          <p:cNvSpPr/>
          <p:nvPr/>
        </p:nvSpPr>
        <p:spPr>
          <a:xfrm>
            <a:off x="0" y="0"/>
            <a:ext cx="1398240" cy="352080"/>
          </a:xfrm>
          <a:custGeom>
            <a:avLst/>
            <a:gdLst>
              <a:gd name="textAreaLeft" fmla="*/ 0 w 1398240"/>
              <a:gd name="textAreaRight" fmla="*/ 1398600 w 1398240"/>
              <a:gd name="textAreaTop" fmla="*/ 0 h 352080"/>
              <a:gd name="textAreaBottom" fmla="*/ 352440 h 352080"/>
            </a:gdLst>
            <a:ahLst/>
            <a:rect l="textAreaLeft" t="textAreaTop" r="textAreaRight" b="textAreaBottom"/>
            <a:pathLst>
              <a:path w="1398905" h="352425">
                <a:moveTo>
                  <a:pt x="615314" y="0"/>
                </a:moveTo>
                <a:lnTo>
                  <a:pt x="378464" y="0"/>
                </a:lnTo>
                <a:lnTo>
                  <a:pt x="0" y="352409"/>
                </a:lnTo>
                <a:lnTo>
                  <a:pt x="236850" y="352409"/>
                </a:lnTo>
                <a:lnTo>
                  <a:pt x="615314" y="0"/>
                </a:lnTo>
                <a:close/>
              </a:path>
              <a:path w="1398905" h="352425">
                <a:moveTo>
                  <a:pt x="1007114" y="0"/>
                </a:moveTo>
                <a:lnTo>
                  <a:pt x="770250" y="0"/>
                </a:lnTo>
                <a:lnTo>
                  <a:pt x="391799" y="352409"/>
                </a:lnTo>
                <a:lnTo>
                  <a:pt x="628649" y="352409"/>
                </a:lnTo>
                <a:lnTo>
                  <a:pt x="1007114" y="0"/>
                </a:lnTo>
                <a:close/>
              </a:path>
              <a:path w="1398905" h="352425">
                <a:moveTo>
                  <a:pt x="1398900" y="0"/>
                </a:moveTo>
                <a:lnTo>
                  <a:pt x="1162049" y="0"/>
                </a:lnTo>
                <a:lnTo>
                  <a:pt x="783585" y="352409"/>
                </a:lnTo>
                <a:lnTo>
                  <a:pt x="1020449" y="352409"/>
                </a:lnTo>
                <a:lnTo>
                  <a:pt x="1398900" y="0"/>
                </a:lnTo>
                <a:close/>
              </a:path>
            </a:pathLst>
          </a:custGeom>
          <a:solidFill>
            <a:srgbClr val="2020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Google Shape;174;p26"/>
          <p:cNvSpPr/>
          <p:nvPr/>
        </p:nvSpPr>
        <p:spPr>
          <a:xfrm>
            <a:off x="1440" y="565200"/>
            <a:ext cx="7511760" cy="11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744480" indent="-566640">
              <a:lnSpc>
                <a:spcPct val="116000"/>
              </a:lnSpc>
              <a:buClr>
                <a:srgbClr val="000000"/>
              </a:buClr>
              <a:buFont typeface="Trebuchet MS"/>
              <a:buAutoNum type="arabicPeriod" startAt="45"/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КТО ТАКИЕ ИНДИВИДУАЛЬНЫЕ ПРЕДПРИНИМАТЕЛИ И ЮРИДИЧЕСКИЕ ЛИЦ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СУЩЕСТВЛЯЮЩИЕ ОПЕРАЦИИ С ДРАГОЦЕННЫМИ МЕТАЛЛАМИ И ДРАГОЦЕННЫМИ КАМНЯМ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ЮВЕЛИРНЫМИ ИЗДЕЛИЯМИ ИЗ НИХ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744480" indent="-56664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ЛИЦА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СУЩЕСТВЛЯЮЩИЕ КУПЛЮ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-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РОДАЖУ ДРАГОЦЕННЫХ МЕТАЛЛОВ И ДРАГОЦЕННЫХ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744480" indent="-566640" algn="ctr">
              <a:lnSpc>
                <a:spcPct val="117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КАМНЕЙ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ЮВЕЛИРНЫХ ИЗДЕЛИЙ ИЗ НИХ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ЗА ИСКЛЮЧЕНИЕМ РЕЛИГИОЗНЫХ ОРГАНИЗАЦИЙ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МУЗЕЕВ И ОРГАНИЗАЦИЙ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СПОЛЬЗУЮЩИХ ДРАГОЦЕННЫЕ МЕТАЛЛЫ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Х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744480" indent="-566640">
              <a:lnSpc>
                <a:spcPct val="117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ХИМИЧЕСКИЕ СОЕДИНЕНИЯ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РАГОЦЕННЫЕ КАМНИ В МЕДИЦИНСКИХ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НАУЧНО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-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ССЛЕДОВАТЕЛЬСКИХ ЦЕЛЯХ ЛИБО В СОСТАВЕ ИНСТРУМЕНТОВ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РИБОРОВ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744480" indent="-56664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БОРУДОВАНИЯ И ИЗДЕЛИЙ ПРОИЗВОДСТВЕННО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-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ТЕХНИЧЕСКОГО НАЗНАЧЕ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744480" indent="-566640">
              <a:lnSpc>
                <a:spcPct val="100000"/>
              </a:lnSpc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44480" indent="-566640"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БЕНЕФИЦИАРНЫЙ СОБСТВЕННИК ЭТО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744480" indent="-56664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ФИЗИЧЕСКОЕ ЛИЦО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: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744480" indent="-566640" algn="ctr">
              <a:lnSpc>
                <a:spcPct val="114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КОТОРОМУ ПРЯМО ИЛИ КОСВЕННО ПРИНАДЛЕЖАТ БОЛЕЕ ДВАДЦАТИ ПЯТИ ПРОЦЕНТОВ ДОЛЕЙ УЧАСТИЯ В УСТАВНОМ КАПИТАЛЕ ЛИБО РАЗМЕЩЕННЫХ 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ЗА ВЫЧЕТО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744480" indent="-56664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РИВИЛЕГИРОВАННЫХ И ВЫКУПЛЕННЫХ ОБЩЕСТВОМ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АКЦИЙ КЛИЕНТА 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–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744480" indent="-566640">
              <a:lnSpc>
                <a:spcPct val="117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ЮРИДИЧЕСКОГО ЛИЦА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;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СУЩЕСТВЛЯЮЩЕЕ КОНТРОЛЬ НАД КЛИЕНТОМ ИНЫМ ОБРАЗОМ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744480" indent="-56664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 ИНТЕРЕСАХ КОТОРОГО КЛИЕНТОМ СОВЕРШАЮТСЯ ОПЕРАЦИИ С ДЕНЬГАМИ И 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ЛИ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744480" indent="-56664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НЫМ ИМУЩЕСТВО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744480" indent="-566640">
              <a:lnSpc>
                <a:spcPct val="100000"/>
              </a:lnSpc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744480" indent="-5666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AutoNum type="arabicPeriod" startAt="45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НЕЗАВИСИМЫЙ СПЕЦИАЛИСТ ПО ЮРИДИЧЕСКИМ ВОПРОСАМ ЭТО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744480" indent="-56664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ФИЗИЧЕСКОЕ ЛИЦО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КАЗЫВАЮЩЕЕ ЮРИДИЧЕСКИЕ УСЛУГИ КАК САМОСТОЯТЕЛЬНО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ТАК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744480" indent="-566640">
              <a:lnSpc>
                <a:spcPct val="114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 В КАЧЕСТВЕ ПАРТНЕРА ИЛИ РАБОТНИКА НА ОСНОВАНИИ ТРУДОВОГО ДОГОВОРА С СУБЪЕКТОМ ПРЕДПРИНИМАТЕЛЬСТВА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КАЗЫВАЮЩЕГО ЮРИДИЧЕСКУЮ ПОМОЩЬ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744480" indent="-566640">
              <a:lnSpc>
                <a:spcPct val="100000"/>
              </a:lnSpc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744480" indent="-566640">
              <a:lnSpc>
                <a:spcPct val="100000"/>
              </a:lnSpc>
              <a:buClr>
                <a:srgbClr val="000000"/>
              </a:buClr>
              <a:buFont typeface="Trebuchet MS"/>
              <a:buAutoNum type="arabicPeriod" startAt="45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КЛИЕНТ ЭТО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744480" indent="-566640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-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ФИЗИЧЕСКОЕ ИЛИ ЮРИДИЧЕСКОЕ ЛИЦО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ЛУЧАЮЩЕЕ УСЛУГИ СУБЪЕКТ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744480" indent="-566640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ФИНАНСОВОГО МОНИТОРИНГ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744480" indent="-566640">
              <a:lnSpc>
                <a:spcPct val="100000"/>
              </a:lnSpc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744480" indent="-566640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49.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КОРРЕСПОНДЕНТСКИЕ ОТНОШЕНИЯ ЭТО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744480" indent="-56664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ОГОВОРНЫЕ ОТНОШЕНИЯ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ОЗНИКАЮЩИЕ ПРИ ОТКРЫТИИ БАНКАМИ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744480" indent="-566640">
              <a:lnSpc>
                <a:spcPct val="14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РГАНИЗАЦИЯМИ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СУЩЕСТВЛЯЮЩИМИ ОТДЕЛЬНЫЕ ВИДЫ БАНКОВСКИХ ОПЕРАЦИЙ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КОРРЕСПОНДЕНТСКИХ СЧЕТОВ ДРУГИМ БАНКАМ С ЦЕЛЬЮ СОВЕРШЕНИЯ ОПЕРАЦИЙ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744480" indent="-566640" algn="ctr">
              <a:lnSpc>
                <a:spcPct val="10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СВЯЗАННЫХ С ОСУЩЕСТВЛЕНИЕМ БАНКОВСКОГО ОБСЛУЖИВА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Google Shape;179;p27"/>
          <p:cNvSpPr/>
          <p:nvPr/>
        </p:nvSpPr>
        <p:spPr>
          <a:xfrm>
            <a:off x="-12600" y="301680"/>
            <a:ext cx="7538760" cy="146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703600">
              <a:lnSpc>
                <a:spcPct val="113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50.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БАНК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-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ШИРМ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ЭТО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03600" indent="-88560">
              <a:lnSpc>
                <a:spcPct val="113000"/>
              </a:lnSpc>
              <a:buClr>
                <a:srgbClr val="ff1515"/>
              </a:buClr>
              <a:buFont typeface="Trebuchet MS"/>
              <a:buChar char="•"/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БАНК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НЕРЕЗИДЕНТ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КОТОРЫЙ НЕ ИМЕЕТ ФИЗИЧЕСКОГО ПРИСУТСТВИЯ В ГОСУДАРСТВ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03600" algn="ctr">
              <a:lnSpc>
                <a:spcPct val="14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ТЕРРИТОРИИ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 КОТОРОМ ОН ЗАРЕГИСТРИРОВАН В КАЧЕСТВЕ БАНКА И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ЛИ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ЛУЧИЛ ЛИЦЕНЗИЮ НА ОСУЩЕСТВЛЕНИЕ БАНКОВСКОЙ ДЕЯТЕЛЬНОСТИ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ЗА ИСКЛЮЧЕНИЕ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03600" algn="ctr">
              <a:lnSpc>
                <a:spcPct val="113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НАХОЖДЕНИЯ ТАКОГО БАНКА В ПРЯМОМ ИЛИ КОСВЕННОМ ВЛАДЕНИИ БАНКОВСКОГО ХОЛДИНГ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ДЛЕЖАЩЕГО КОНСОЛИДИРОВАННОМУ НАДЗОРУ В ГОСУДАРСТВ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0360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ТЕРРИТОРИИ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 КОТОРОМ ОН ЗАРЕГИСТРИРОВАН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03600">
              <a:lnSpc>
                <a:spcPct val="100000"/>
              </a:lnSpc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2328840" indent="-258840">
              <a:lnSpc>
                <a:spcPct val="113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ФИНАНСОВЫЙ МОНИТОРИНГ ЭТО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03600">
              <a:lnSpc>
                <a:spcPct val="113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СОВОКУПНОСТЬ МЕР ПО СБОРУ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БРАБОТКЕ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АНАЛИЗУ И ИСПОЛЬЗОВАНИЮ СВЕДЕНИЙ 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0360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НФОРМАЦИИ ОБ ОПЕРАЦИЯХ С ДЕНЬГАМИ И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ЛИ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НЫМ ИМУЩЕСТВОМ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03600" algn="ctr">
              <a:lnSpc>
                <a:spcPct val="115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СУЩЕСТВЛЯЕМЫХ УПОЛНОМОЧЕННЫМ ОРГАНОМ ПО ФИНАНСОВОМУ МОНИТОРИНГУ И СУБЪЕКТОМ ФИНАНСОВОГО МОНИТОРИНГА В СООТВЕТСТВИИ С ЗАКОНОМ РЕСПУБЛИКИ КАЗАХСТАН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«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 ПРОТИВОДЕЙСТВИИ ЛЕГАЛИЗАЦИИ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ТМЫВАНИЮ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ОХОДОВ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ЛУЧЕННЫХ ПРЕСТУПНЫМ ПУТЕМ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 ФИНАНСИРОВАНИЮ ТЕРРОРИЗМ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»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03600">
              <a:lnSpc>
                <a:spcPct val="100000"/>
              </a:lnSpc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2328840" indent="-258840">
              <a:lnSpc>
                <a:spcPct val="113000"/>
              </a:lnSpc>
              <a:spcBef>
                <a:spcPts val="10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ПЕРАЦИ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ДЛЕЖАЩИЕ ФИНАНСОВОМУ МОНИТОРИНГУ ЭТО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03600" indent="-88560">
              <a:lnSpc>
                <a:spcPct val="113000"/>
              </a:lnSpc>
              <a:buClr>
                <a:srgbClr val="ff1515"/>
              </a:buClr>
              <a:buFont typeface="Trebuchet MS"/>
              <a:buChar char="•"/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ПЕРАЦИИ КЛИЕНТА СУБЪЕКТА ФИНАНСОВОГО МОНИТОРИНГА С ДЕНЬГАМИ И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ЛИ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03600" algn="ctr">
              <a:lnSpc>
                <a:spcPct val="117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НЫМ ИМУЩЕСТВОМ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 ОТНОШЕНИИ КОТОРЫХ В СООТВЕТСТВИИ СЗАКОНОМ РЕСПУБЛИКИ КАЗАХСТАН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«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 ПРОТИВОДЕЙСТВИИ ЛЕГАЛИЗАЦИИ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ТМЫВАНИЮ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ОХОДОВ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ЛУЧЕННЫХ ПРЕСТУПНЫМ ПУТЕМ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 ФИНАНСИРОВАНИЮ ТЕРРОРИЗМ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»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УСТАНОВЛЕН ФИНАНСОВЫЙ МОНИТОРИНГ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03600">
              <a:lnSpc>
                <a:spcPct val="100000"/>
              </a:lnSpc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03600" indent="-95400">
              <a:lnSpc>
                <a:spcPct val="113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БНАЛИЧИВАНИЕ ДЕНЕГ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ЭТО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03600">
              <a:lnSpc>
                <a:spcPct val="113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ЕЙСТВИЯ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СОВЕРШАЕМЫЕ ФИЗИЧЕСКИМИ ИЛИ ЮРИДИЧЕСКИМИ ЛИЦАМИ С ЦЕЛЬЮ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03600" algn="ctr">
              <a:lnSpc>
                <a:spcPct val="113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ЛУЧЕНИЯ НАЛИЧНЫХ ДЕНЕГ ПУТЕМ ИСПОЛЬЗОВАНИЯ ДОКУМЕНТОВ ПРИ СОВЕРШЕНИИ МНИМОЙ СДЕЛКИ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НАПРАВЛЕННОЙ НА ЛЕГАЛИЗАЦИЮ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ТМЫВАНИЕ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ЕНЕГ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03600">
              <a:lnSpc>
                <a:spcPct val="100000"/>
              </a:lnSpc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03600" indent="-95400">
              <a:lnSpc>
                <a:spcPct val="113000"/>
              </a:lnSpc>
              <a:spcBef>
                <a:spcPts val="10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Ы ПОЛУЧЕННЫЕ ПРЕСТУПНЫМ ПУТЁМ ЭТО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03600">
              <a:lnSpc>
                <a:spcPct val="113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ЕНЬГИ И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ЛИ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НОЕ ИМУЩЕСТВО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ЛУЧЕННЫЕ В РЕЗУЛЬТАТЕ СОВЕРШЕ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0360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УГОЛОВНОГО ПРАВОНАРУШЕ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Google Shape;184;p28"/>
          <p:cNvSpPr/>
          <p:nvPr/>
        </p:nvSpPr>
        <p:spPr>
          <a:xfrm>
            <a:off x="-12600" y="298440"/>
            <a:ext cx="7538760" cy="155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540240" indent="-3354480">
              <a:lnSpc>
                <a:spcPct val="116000"/>
              </a:lnSpc>
              <a:buClr>
                <a:srgbClr val="000000"/>
              </a:buClr>
              <a:buFont typeface="Trebuchet MS"/>
              <a:buAutoNum type="arabicPeriod" startAt="55"/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ЛЕГАЛИЗАЦИЯ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Е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ЭТО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540240" indent="-3354480" algn="ctr">
              <a:lnSpc>
                <a:spcPct val="113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ОВЛЕЧЕНИЕ В ЗАКОННЫЙ ОБОРОТ ДЕНЕГ И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ЛИ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НОГО ИМУЩЕСТВ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ЛУЧЕННЫХ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540240" indent="-335448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РЕСТУПНЫМ ПУТЕМ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СРЕДСТВОМ СОВЕРШЕНИЯ СДЕЛОК В ВИДЕ КОНВЕРСИИ ИЛИ ПЕРЕВОДА ИМУЩЕСТВ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РЕДСТАВЛЯЮЩЕГО ДОХОДЫ ОТ УГОЛОВНЫХ ПРАВОНАРУШЕНИЙ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ЛИБО ВЛАДЕНИЕ И ИСПОЛЬЗОВАНИЕ ТАКОГО ИМУЩЕСТВ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СОКРЫТИЕ ИЛИ УТАИВАНИЕ ЕГО ПОДЛИННОГО ХАРАКТЕР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СТОЧНИК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МЕСТА НАХОЖДЕНИЯ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СПОСОБА РАСПОРЯЖЕНИЯ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ЕРЕМЕЩЕНИЯ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РАВ НА ИМУЩЕСТВО ИЛИ ЕГО ПРИНАДЛЕЖНОСТИ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ЕСЛИ ИЗВЕСТНО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ЧТО ТАКОЕ ИМУЩЕСТВО ПРЕДСТАВЛЯЕТ ДОХОДЫ ОТ УГОЛОВНЫХ ПРАВОНАРУШЕНИЙ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А РАВНО ПОСРЕДНИЧЕСТВО В ЛЕГАЛИЗАЦИИ ДЕНЕГ И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ЛИ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НОГО ИМУЩЕСТВ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ЛУЧЕННЫХ ПРЕСТУПНЫМ ПУТЕ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540240" indent="-3354480">
              <a:lnSpc>
                <a:spcPct val="100000"/>
              </a:lnSpc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540240" indent="-3354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AutoNum type="arabicPeriod" startAt="55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ГОСУДАРСТВЕННАЯ ПОЛИТИКА В СФЕРЕ ПРОТИВОДЕЙСТВИЯ ЛЕГАЛИЗАЦИ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540240" indent="-3354480" algn="ctr">
              <a:lnSpc>
                <a:spcPct val="116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Ю ТЕРРОРИЗМА ЭТО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540240" indent="-335448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РАВОВЫЕ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АДМИНИСТРАТИВНЫЕ И ОРГАНИЗАЦИОННЫЕ МЕРЫ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НАПРАВЛЕННЫЕ Н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540240" indent="-335448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СНИЖЕНИЕ РИСКОВ ЛЕГАЛИЗАЦИИ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ТМЫВАНИЯ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ОХОДОВ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ЛУЧЕННЫХ ПРЕСТУПНЫ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540240" indent="-335448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УТЕМ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 ФИНАНСИРОВАНИЯ ТЕРРОРИЗМ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 ИНЫЕ МЕРЫ В СООТВЕТСТВИИ С ЗАКОНОДАТЕЛЬСТВОМ О ПРОТИВОДЕЙСТВИИ ЛЕГАЛИЗАЦИИ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ТМЫВАНИЮ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ОХОДОВ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ЛУЧЕННЫХ ПРЕСТУПНЫМ ПУТЕМ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 ФИНАНСИРОВАНИЮ ТЕРРОРИЗМ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540240" indent="-3354480">
              <a:lnSpc>
                <a:spcPct val="100000"/>
              </a:lnSpc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540240" indent="-3354480">
              <a:lnSpc>
                <a:spcPct val="113000"/>
              </a:lnSpc>
              <a:spcBef>
                <a:spcPts val="1001"/>
              </a:spcBef>
              <a:buClr>
                <a:srgbClr val="000000"/>
              </a:buClr>
              <a:buFont typeface="Trebuchet MS"/>
              <a:buAutoNum type="arabicPeriod" startAt="55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ЦЕЛЕВЫЕ ФИНАНСОВЫЕ САНКЦИИ ЭТО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540240" indent="-3354480">
              <a:lnSpc>
                <a:spcPct val="113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МЕРЫ ПО ЗАМОРАЖИВАНИЮ ОПЕРАЦИЙ С ДЕНЬГАМИ И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ЛИ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НЫМ ИМУЩЕСТВОМ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540240" indent="-335448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РИНИМАЕМЫЕ СУБЪЕКТАМИ ФИНАНСОВОГО МОНИТОРИНГА И ГОСУДАРСТВЕННЫМИ ОРГАНАМИ В СООТВЕТСТВИИ С ЗАКОНОМ РЕСПУБЛИКИ КАЗАХСТАН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«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 ПРОТИВОДЕЙСТВИИ ЛЕГАЛИЗАЦИИ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ТМЫВАНИЮ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ОХОДОВ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ЛУЧЕННЫХ ПРЕСТУПНЫМ ПУТЕМ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 ФИНАНСИРОВАНИЮ ТЕРРОРИЗМ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»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 РЕЗОЛЮЦИЯМИ СОВЕТА БЕЗОПАСНОСТИ ОРГАНИЗАЦИИ ОБЪЕДИНЕННЫХ НАЦИЙ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ТНОСЯЩИМИСЯ К ПРЕДУПРЕЖДЕНИЮ И ПРЕДОТВРАЩЕНИЮ ТЕРРОРИЗМА И ФИНАНСИРОВАНИЯ ТЕРРОРИЗМ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 ПРЕДУПРЕЖДЕНИЮ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ОСПРЕПЯТСТВОВАНИЮ И ПРЕКРАЩЕНИЮ РАСПРОСТРАНЕНИЯ ОРУЖИЯ МАССОВОГО УНИЧТОЖЕНИЯ И ЕГО ФИНАНСИРОВА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Google Shape;189;p29"/>
          <p:cNvSpPr/>
          <p:nvPr/>
        </p:nvSpPr>
        <p:spPr>
          <a:xfrm>
            <a:off x="-12600" y="311040"/>
            <a:ext cx="175680" cy="4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5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Google Shape;190;p29"/>
          <p:cNvSpPr/>
          <p:nvPr/>
        </p:nvSpPr>
        <p:spPr>
          <a:xfrm>
            <a:off x="2104920" y="301680"/>
            <a:ext cx="351108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ФИНАНСИРОВАНИЕ ТЕРРОРИЗМА ЭТО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Google Shape;191;p29"/>
          <p:cNvSpPr/>
          <p:nvPr/>
        </p:nvSpPr>
        <p:spPr>
          <a:xfrm>
            <a:off x="31680" y="525600"/>
            <a:ext cx="7465680" cy="66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2160" indent="-81000">
              <a:lnSpc>
                <a:spcPct val="116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РЕДОСТАВЛЕНИЕ ИЛИ СБОР ДЕНЕГ И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ЛИ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НОГО ИМУЩЕСТВ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РАВА НА ИМУЩЕСТВО ИЛИ ВЫГОД ИМУЩЕСТВЕННОГО ХАРАКТЕР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А ТАКЖЕ ДАРЕНИЕ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МЕН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ЖЕРТВОВАНИЯ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БЛАГОТВОРИТЕЛЬНАЯ ПОМОЩЬ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КАЗАНИЕ ИНФОРМАЦИОННЫХ И ИНОГО РОДА УСЛУГ ЛИБО ОКАЗАНИЕ ФИНАНСОВЫХ УСЛУГ ФИЗИЧЕСКОМУ ЛИЦУ ЛИБО ГРУППЕ ЛИЦ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ЛИБ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92160" indent="-81000" algn="ctr">
              <a:lnSpc>
                <a:spcPct val="117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ЮРИДИЧЕСКОМУ ЛИЦУ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СОВЕРШЕННЫЕ ЛИЦОМ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ЗАВЕДОМО ОСОЗНАВАВШИМ ТЕРРОРИСТИЧЕСКИЙ ХАРАКТЕР ИХ ДЕЯТЕЛЬНОСТИ ЛИБО ТО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ЧТО ПРЕДОСТАВЛЕННОЕ ИМУЩЕСТВО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КАЗАННЫЕ ИНФОРМАЦИОННЫЕ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ФИНАНСОВЫЕ И ИНОГО РОДА УСЛУГИ БУДУТ ИСПОЛЬЗОВАНЫ ДЛЯ ОСУЩЕСТВЛЕНИЯ ТЕРРОРИСТИЧЕСКОЙ ДЕЯТЕЛЬНОСТИ ЛИБО ОБЕСПЕЧЕНИЯ ТЕРРОРИСТИЧЕСКОЙ ГРУППЫ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ТЕРРОРИСТИЧЕСКОЙ ОРГАНИЗАЦИИ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НЕЗАКОННОГО ВОЕНИЗИРОВАННОГО ФОРМИРОВА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92160" indent="-81000">
              <a:lnSpc>
                <a:spcPct val="100000"/>
              </a:lnSpc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92160" indent="-81000">
              <a:lnSpc>
                <a:spcPct val="113000"/>
              </a:lnSpc>
              <a:spcBef>
                <a:spcPts val="901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59.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УПОЛНОМОЧЕННЫЙ ОРГАН ПО ФИНАНСОВОМУ МОНИТОРИНГУ ЭТО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92160" indent="-81000" algn="ctr">
              <a:lnSpc>
                <a:spcPct val="113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ГОСУДАРСТВЕННЫЙ ОРГАН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СУЩЕСТВЛЯЮЩИЙ ФИНАНСОВЫЙ МОНИТОРИНГ 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92160" indent="-8100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РИНИМАЮЩИЙ ИНЫЕ МЕРЫ ПО ПРОТИВОДЕЙСТВИЮ ЛЕГАЛИЗАЦИИ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ТМЫВАНИЮ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92160" indent="-81000" algn="ctr">
              <a:lnSpc>
                <a:spcPct val="117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ОХОДОВ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ЛУЧЕННЫХ ПРЕСТУПНЫМ ПУТЕМ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ФИНАНСИРОВАНИЮ ТЕРРОРИЗМ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ФИНАНСИРОВАНИЮ РАСПРОСТРАНЕНИЯ ОРУЖИЯ МАССОВОГО УНИЧТОЖЕНИЯ В СООТВЕТСТВИИ С ЗАКОНОМ РЕСПУБЛИКИ КАЗАХСТАН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«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 ПРОТИВОДЕЙСТВИИ ЛЕГАЛИЗАЦИИ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ТМЫВАНИЮ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ОХОДОВ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ЛУЧЕННЫХ ПРЕСТУПНЫМ ПУТЕМ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 ФИНАНСИРОВАНИЮ ТЕРРОРИЗМ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Google Shape;192;p29"/>
          <p:cNvSpPr/>
          <p:nvPr/>
        </p:nvSpPr>
        <p:spPr>
          <a:xfrm>
            <a:off x="-12600" y="6170760"/>
            <a:ext cx="175680" cy="4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6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Google Shape;193;p29"/>
          <p:cNvSpPr/>
          <p:nvPr/>
        </p:nvSpPr>
        <p:spPr>
          <a:xfrm>
            <a:off x="166680" y="6159600"/>
            <a:ext cx="7178400" cy="33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89000" algn="ctr">
              <a:lnSpc>
                <a:spcPct val="113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НОСТРАННОЕ ПУБЛИЧНОЕ ДОЛЖНОСТНОЕ ЛИЦО ЭТО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89000">
              <a:lnSpc>
                <a:spcPct val="113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ЛИЦО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НАЗНАЧАЕМОЕ ИЛИ ИЗБИРАЕМОЕ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ЗАНИМАЮЩЕЕ КАКУЮ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ЛИБО ДОЛЖНОСТЬ 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89000" algn="ctr">
              <a:lnSpc>
                <a:spcPct val="117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ЗАКОНОДАТЕЛЬНОМ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СПОЛНИТЕЛЬНОМ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АДМИНИСТРАТИВНОМ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СУДЕБНОМ ОРГАНАХ ИЛИ ВООРУЖЕННЫХ СИЛАХ ИНОСТРАННОГО ГОСУДАРСТВ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89000" algn="ctr">
              <a:lnSpc>
                <a:spcPct val="14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ЛЮБОЕ ЛИЦО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ЫПОЛНЯЮЩЕЕ КАКУЮ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ЛИБО ПУБЛИЧНУЮ ФУНКЦИЮ ДЛЯ ИНОСТРАННОГО ГОСУДАРСТВ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89000" algn="ctr">
              <a:lnSpc>
                <a:spcPct val="10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ЛИЦО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ЗАНИМАЮЩЕЕ РУКОВОДЯЩУЮ ДОЛЖНОСТЬ В ОРГАНИЗАЦИЯХ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СОЗДАННЫХ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89000" algn="ctr">
              <a:lnSpc>
                <a:spcPct val="14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СТРАНАМИ НА ОСНОВЕ СОГЛАШЕНИЙ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КОТОРЫЕ ИМЕЮТ СТАТУС МЕЖДУНАРОДНЫХ ДОГОВОРО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Google Shape;194;p29"/>
          <p:cNvSpPr/>
          <p:nvPr/>
        </p:nvSpPr>
        <p:spPr>
          <a:xfrm>
            <a:off x="252360" y="8825040"/>
            <a:ext cx="7009920" cy="17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650880">
              <a:lnSpc>
                <a:spcPct val="113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61.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КОМПЕТЕНТНЫЙ ОРГАН ИНОСТРАННОГО ГОСУДАРСТВА ЭТО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50880">
              <a:lnSpc>
                <a:spcPct val="113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РГАН ИНОСТРАННОГО ГОСУДАРСТВ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СУЩЕСТВЛЯЮЩИЙ В СООТВЕТСТВИИ С ЕГ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50880">
              <a:lnSpc>
                <a:spcPct val="14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ЗАКОНОДАТЕЛЬСТВОМ СБОР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БРАБОТКУ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АНАЛИЗ И ИСПОЛЬЗОВАНИЕ СВЕДЕНИЙ И ИНФОРМАЦИИ ОБ ОПЕРАЦИЯХ С ДЕНЬГАМИ И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ЛИ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НЫМ ИМУЩЕСТВО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Google Shape;199;p30"/>
          <p:cNvSpPr/>
          <p:nvPr/>
        </p:nvSpPr>
        <p:spPr>
          <a:xfrm>
            <a:off x="-12600" y="301680"/>
            <a:ext cx="74991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13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61.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	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ФИЗИЧЕСКОЕ ПРИСУТСТВИЕ ЭТО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13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	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МЕСТО ВЕДЕНИЯ ДЕЯТЕЛЬНОСТИ БАНК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РАСПОЛОЖЕННОЕ ПО ПОСТОЯННОМУ АДРЕСУ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КРОМЕ АДРЕСА ПОЧТОВОГО ЯЩИКА ИЛИ ЭЛЕКТРОННОГО АДРЕС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 КОТОРОМ ИМЕЮТС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16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РГАНЫ УПРАВЛЕНИЯ И ПЕРСОНАЛ БАНК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ЕДУТСЯ УЧЕТ И ХРАНЕНИЕ ДОКУМЕНТОВ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ТНОСЯЩИХСЯ К БАНКОВСКОЙ ДЕЯТЕЛЬНОСТИ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 ПРОВОДЯТСЯ ПРОВЕРКИ УПОЛНОМОЧЕННОГО ОРГАН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ЫДАВШЕГО БАНКУ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НЕРЕЗИДЕНТУ ЛИЦЕНЗИЮ Н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СУЩЕСТВЛЕНИЕ БАНКОВСКОЙ ДЕЯТЕЛЬНОСТ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13000"/>
              </a:lnSpc>
              <a:spcBef>
                <a:spcPts val="901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62.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Ы ПОЛУЧЕННЫЕ ПРЕСТУПНЫМ ПУТЁМ ЭТО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13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ЕНЬГИ И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ЛИ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НОЕ ИМУЩЕСТВО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ЛУЧЕННЫЕ В РЕЗУЛЬТАТЕ СОВЕРШЕ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УГОЛОВНОГО ПРАВОНАРУШЕ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Google Shape;200;p30"/>
          <p:cNvSpPr/>
          <p:nvPr/>
        </p:nvSpPr>
        <p:spPr>
          <a:xfrm>
            <a:off x="-12600" y="3508200"/>
            <a:ext cx="175680" cy="4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6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Google Shape;201;p30"/>
          <p:cNvSpPr/>
          <p:nvPr/>
        </p:nvSpPr>
        <p:spPr>
          <a:xfrm>
            <a:off x="2558880" y="3498840"/>
            <a:ext cx="264744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ЕЛОВЫЕ ОТНОШЕНИЯ ЭТО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Google Shape;202;p30"/>
          <p:cNvSpPr/>
          <p:nvPr/>
        </p:nvSpPr>
        <p:spPr>
          <a:xfrm>
            <a:off x="3240" y="3722760"/>
            <a:ext cx="7540200" cy="80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4000" algn="ctr">
              <a:lnSpc>
                <a:spcPct val="121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ТНОШЕНИЯ С КЛИЕНТАМИ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ОЗНИКАЮЩИЕ В ПРОЦЕССЕ ОСУЩЕСТВЛЕНИЯ СУБЪЕКТОМ ФИНАНСОВОГО МОНИТОРИНГА ПРОФЕССИОНАЛЬНОЙ ДЕЯТЕЛЬНОСТ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112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64.</a:t>
            </a:r>
            <a:r>
              <a:rPr b="0" i="1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</a:t>
            </a:r>
            <a:r>
              <a:rPr b="0" i="1" lang="en-US" sz="1500" spc="-1" strike="noStrike">
                <a:solidFill>
                  <a:schemeClr val="dk1"/>
                </a:solidFill>
                <a:latin typeface="Arial"/>
                <a:ea typeface="Arial"/>
              </a:rPr>
              <a:t>В КАКИХ СЛУЧАЯХ СУБЪЕКТЫ ФИНАНСОВОГО МОНИТОРИНГА ОБЯЗАНЫ ОТКАЗАТЬ ФИЗИЧЕСКОМУ ИЛИ ЮРИДИЧЕСКОМУ ЛИЦУ В УСТАНОВЛЕНИИ ДЕЛОВЫХ ОТНОШЕНИЙ</a:t>
            </a:r>
            <a:r>
              <a:rPr b="0" i="1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400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 СЛУЧАЕ НЕВОЗМОЖНОСТИ ПРИНЯТИЯ МЕР НАДЛЕЖАЩЕЙ ПРОВЕРКИ СУБЪЕКТАМИ ФИНАНСОВОГО МОНИТОРИНГА КЛИЕНТО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100000"/>
              </a:lnSpc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4000" indent="-95400" algn="just">
              <a:lnSpc>
                <a:spcPct val="114000"/>
              </a:lnSpc>
              <a:buClr>
                <a:srgbClr val="000000"/>
              </a:buClr>
              <a:buFont typeface="Trebuchet MS"/>
              <a:buAutoNum type="arabicPeriod" startAt="65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УБЪЕКТЫ ФИНАНСОВОГО МОНИТОРИНГА ВПРАВЕ ОТКАЗАТЬ В ПРОВЕДЕНИИ ОПЕРАЦИЙ С ДЕНЬГАМИ 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Л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НЫМ ИМУЩЕСТВО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А ТАКЖЕ В УСТАНОВЛЕНИИ ДЕЛОВЫХ ОТНОШЕНИЙ 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Л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ЕКРАТИТЬ ДЕЛОВЫЕ ОТНОШЕНИЯ С КЛИЕНТО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4000" algn="ctr">
              <a:lnSpc>
                <a:spcPct val="12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В СЛУЧАЕ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4000" algn="ctr">
              <a:lnSpc>
                <a:spcPct val="12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НАЛИЧИЯ ПОДОЗРЕНИЙ О ТОМ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ЧТО ДЕЛОВЫЕ ОТНОШЕНИЯ ИСПОЛЬЗУЮТСЯ КЛИЕНТОМ 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4000" algn="ctr">
              <a:lnSpc>
                <a:spcPct val="14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ЦЕЛЯХ ЛЕГАЛИЗАЦИИ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ТМЫВАНИЯ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ОХОДОВ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ЛУЧЕННЫХ ПРЕСТУПНЫМ ПУТЕМ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ЛИ ФИНАНСИРОВАНИЯ ТЕРРОРИЗМ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000" indent="-95400">
              <a:lnSpc>
                <a:spcPct val="117000"/>
              </a:lnSpc>
              <a:buClr>
                <a:srgbClr val="000000"/>
              </a:buClr>
              <a:buFont typeface="Trebuchet MS"/>
              <a:buAutoNum type="arabicPeriod" startAt="65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И НАЛИЧИИ ПОДОЗРЕНИЙ О ТО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ЧТО ДЕЛОВЫЕ ОТНОШЕНИЯ ИСПОЛЬЗУЮТСЯ КЛИЕНТОМ В ЦЕЛЯХ ЛЕГАЛИЗАЦИ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ЛИ ФИНАНСИРОВАНИЯ ТЕРРОРИЗМ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4000" algn="ctr">
              <a:lnSpc>
                <a:spcPct val="12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УБЪЕКТ ФИНАНСОВОГО МОНИТОРИНГА ВПРАВЕ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4000" algn="ctr">
              <a:lnSpc>
                <a:spcPct val="12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СЕ ОТВЕТЫ ВЕРНЫ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121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•</a:t>
            </a:r>
            <a:r>
              <a:rPr b="0" lang="en-US" sz="1500" spc="-1" strike="noStrike">
                <a:solidFill>
                  <a:srgbClr val="16cc52"/>
                </a:solidFill>
                <a:latin typeface="Lucida Sans"/>
                <a:ea typeface="Lucida Sans"/>
              </a:rPr>
              <a:t>ОТКАЗАТЬ КЛИЕНТУ В ПРОВЕДЕНИИ ОПЕРАЦИЙ С ДЕНЬГАМИ И </a:t>
            </a:r>
            <a:r>
              <a:rPr b="0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rgbClr val="16cc52"/>
                </a:solidFill>
                <a:latin typeface="Lucida Sans"/>
                <a:ea typeface="Lucida Sans"/>
              </a:rPr>
              <a:t>ИЛИ</a:t>
            </a:r>
            <a:r>
              <a:rPr b="0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16cc52"/>
                </a:solidFill>
                <a:latin typeface="Lucida Sans"/>
                <a:ea typeface="Lucida Sans"/>
              </a:rPr>
              <a:t>ИНЫМ ИМУЩЕСТВО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10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•</a:t>
            </a:r>
            <a:r>
              <a:rPr b="0" lang="en-US" sz="1500" spc="-1" strike="noStrike">
                <a:solidFill>
                  <a:srgbClr val="16cc52"/>
                </a:solidFill>
                <a:latin typeface="Lucida Sans"/>
                <a:ea typeface="Lucida Sans"/>
              </a:rPr>
              <a:t>ОТКАЗАТЬ В УСТАНОВЛЕНИИ ДЕЛОВЫХ ОТНОШЕНИЙ С КЛИЕНТО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400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•</a:t>
            </a:r>
            <a:r>
              <a:rPr b="0" lang="en-US" sz="1500" spc="-1" strike="noStrike">
                <a:solidFill>
                  <a:srgbClr val="16cc52"/>
                </a:solidFill>
                <a:latin typeface="Lucida Sans"/>
                <a:ea typeface="Lucida Sans"/>
              </a:rPr>
              <a:t>ПРЕКРАТИТЬ ДЕЛОВЫЕ ОТНОШЕНИЯ С КЛИЕНТО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Google Shape;207;p31"/>
          <p:cNvSpPr/>
          <p:nvPr/>
        </p:nvSpPr>
        <p:spPr>
          <a:xfrm>
            <a:off x="-1440" y="298440"/>
            <a:ext cx="7536960" cy="122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0160" indent="-187200">
              <a:lnSpc>
                <a:spcPct val="116000"/>
              </a:lnSpc>
              <a:buClr>
                <a:srgbClr val="000000"/>
              </a:buClr>
              <a:buFont typeface="Trebuchet MS"/>
              <a:buAutoNum type="arabicPeriod" startAt="67"/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КАКИЕ МЕРЫ ПО ЗАМОРАЖИВАНИЮ ОПЕРАЦИЙ С ДЕНЬГАМИ 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Л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НЫМ ИМУЩЕСТВОМ ОБЯЗАНЫ ПРЕДПРИНЯТЬ СУБЪЕКТЫ ФИНАНСОВОГО МОНИТОРИНГА НЕ ПОЗДНЕЕ ОДНОГО РАБОЧЕГО ДНЯ СО ДНЯ РАЗМЕЩЕНИЯ НА ИНТЕРНЕТ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-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РЕСУРСЕ УПОЛНОМОЧЕННОГО ОРГАНА ПО ФИНАНСОВОМУ МОНИТОРИНГУ СПИСКА ЛИЦ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indent="18720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ИЧАСТНЫХ К ТЕРРОРИСТИЧЕСКОЙ ДЕЯТЕЛЬНОСТ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НФОРМАЦИИ 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indent="187200" algn="ctr">
              <a:lnSpc>
                <a:spcPct val="116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ВКЛЮЧЕНИИ ОРГАНИЗАЦИИ ИЛИ ЛИЦА В ПЕРЕЧЕНЬ ОРГАНИЗАЦИЙ И ЛИЦ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ВЯЗАННЫХ С ФИНАНСИРОВАНИЕМ ТЕРРОРИЗМА И ЭКСТРЕМИЗМ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А ТАКЖЕ В ПЕРЕЧЕНЬ ОРГАНИЗАЦИЙ И ЛИЦ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ВЯЗАННЫХ С ФИНАНСИРОВАНИЕМ РАСПРОСТРАНЕНИЯ ОРУЖИЯ МАССОВОГО УНИЧТОЖЕНИ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indent="18720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СЕ ОТВЕТЫ ВЕРН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indent="187200">
              <a:lnSpc>
                <a:spcPct val="114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ПРИОСТАНАВЛИВАТЬ ИСПОЛНЕНИЕ УКАЗАНИЙ ПО ПЛАТЕЖУ ИЛИ ПЕРЕВОДУ ДЕНЕГ БЕЗ ИСПОЛЬЗОВАНИЯ БАНКОВСКОГО СЧЕТА ТАКИХ ОРГАНИЗАЦИЙ И ФИЗИЧЕСКИХ ЛИЦ</a:t>
            </a:r>
            <a:r>
              <a:rPr b="0" i="1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А ТАКЖЕ УКАЗАНИЙ КЛИЕНТА</a:t>
            </a:r>
            <a:r>
              <a:rPr b="0" i="1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БЕНЕФИЦИАРНЫМ СОБСТВЕННИКОМ КОТОРОГО ЯВЛЯЕТС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indent="187200" algn="ctr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ТАКОЕ ФИЗИЧЕСКОЕ ЛИЦ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indent="18720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БЛОКИРОВАТЬ ЦЕННЫЕ БУМАГИ В СИСТЕМЕ РЕЕСТРОВ ДЕРЖАТЕЛЕЙ ЦЕННЫХ БУМАГ 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indent="18720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СИСТЕМЕ УЧЕТА НОМИНАЛЬНОГО ДЕРЖАНИЯ НА ЛИЦЕВЫХ СЧЕТАХ ТАКОЙ ОРГАНИЗАЦИИ ИЛИ ФИЗИЧЕСКОГО ЛИЦА</a:t>
            </a:r>
            <a:r>
              <a:rPr b="0" i="1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А ТАКЖЕ НА ЛИЦЕВЫХ СЧЕТАХ КЛИЕНТА</a:t>
            </a:r>
            <a:r>
              <a:rPr b="0" i="1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БЕНЕФИЦИАРНЫМ СОБСТВЕННИКОМ КОТОРОГО ЯВЛЯЕТСЯ ТАКОЕ ФИЗИЧЕСКОЕ ЛИЦ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indent="187200">
              <a:lnSpc>
                <a:spcPct val="133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ПРИОСТАНОВИТЬ РАСХОДНЫЕ ОПЕРАЦИИ ПО БАНКОВСКИМ СЧЕТАМ ТАКОЙ ОРГАНИЗАЦИИ ИЛИ ФИЗИЧЕСКОГО ЛИЦА</a:t>
            </a:r>
            <a:r>
              <a:rPr b="0" i="1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А ТАКЖЕ ПО БАНКОВСКИМ СЧЕТАМ КЛИЕНТА</a:t>
            </a:r>
            <a:r>
              <a:rPr b="0" i="1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indent="187200" algn="ctr">
              <a:lnSpc>
                <a:spcPct val="10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БЕНЕФИЦИАРНЫМ СОБСТВЕННИКОМ КОТОРОГО ЯВЛЯЕТСЯ ТАКОЕ ФИЗИЧЕСКОЕ ЛИЦО </a:t>
            </a:r>
            <a:r>
              <a:rPr b="0" i="1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З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indent="18720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ИСКЛЮЧЕНИЕМ ОПЕРАЦИЙ</a:t>
            </a:r>
            <a:r>
              <a:rPr b="0" i="1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СВЯЗАННЫХ С ОБСЛУЖИВАНИЕМ БАНКОВСКИХ СЧЕТОВ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indent="18720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0160" indent="-187200">
              <a:lnSpc>
                <a:spcPct val="116000"/>
              </a:lnSpc>
              <a:buClr>
                <a:srgbClr val="000000"/>
              </a:buClr>
              <a:buFont typeface="Trebuchet MS"/>
              <a:buAutoNum type="arabicPeriod" startAt="67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КАКИЕ МЕРЫ ПО ЗАМОРАЖИВАНИЮ ОПЕРАЦИЙ С ДЕНЬГАМИ 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Л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НЫМ ИМУЩЕСТВОМ ОБЯЗАНЫ ПРЕДПРИНЯТЬ СУБЪЕКТЫ ФИНАНСОВОГО МОНИТОРИНГА НЕ ПОЗДНЕЕ ОДНОГО РАБОЧЕГО ДНЯ СО ДНЯ РАЗМЕЩЕНИЯ НА ИНТЕРНЕТ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-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РЕСУРСЕ УПОЛНОМОЧЕННОГО ОРГАНА ПО ФИНАНСОВОМУ МОНИТОРИНГУ СПИСКА ЛИЦ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indent="18720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ИЧАСТНЫХ К ТЕРРОРИСТИЧЕСКОЙ ДЕЯТЕЛЬНОСТ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НФОРМАЦИИ 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indent="187200" algn="ctr">
              <a:lnSpc>
                <a:spcPct val="116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ВКЛЮЧЕНИИ ОРГАНИЗАЦИИ ИЛИ ЛИЦА В ПЕРЕЧЕНЬ ОРГАНИЗАЦИЙ И ЛИЦ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ВЯЗАННЫХ С ФИНАНСИРОВАНИЕМ ТЕРРОРИЗМА И ЭКСТРЕМИЗМ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А ТАКЖЕ В ПЕРЕЧЕНЬ ОРГАНИЗАЦИЙ И ЛИЦ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ВЯЗАННЫХ С ФИНАНСИРОВАНИЕМ РАСПРОСТРАНЕНИЯ ОРУЖИЯ МАССОВОГО УНИЧТОЖЕНИ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indent="187200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РИОСТАНОВИТЬ РАСХОДНЫЕ ОПЕРАЦИИ ПО БАНКОВСКИМ СЧЕТАМ ТАКО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indent="187200">
              <a:lnSpc>
                <a:spcPct val="116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РГАНИЗАЦИИ ИЛИ ФИЗИЧЕСКОГО ЛИЦ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А ТАКЖЕ ПО БАНКОВСКИМ СЧЕТАМ КЛИЕНТ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БЕНЕФИЦИАРНЫМ СОБСТВЕННИКОМ КОТОРОГО ЯВЛЯЕТСЯ ТАКОЕ ФИЗИЧЕСКОЕ ЛИЦО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З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indent="18720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СКЛЮЧЕНИЕМ ОПЕРАЦИЙ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СВЯЗАННЫХ С ОБСЛУЖИВАНИЕМ БАНКОВСКИХ СЧЕТОВ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Google Shape;212;p32"/>
          <p:cNvSpPr/>
          <p:nvPr/>
        </p:nvSpPr>
        <p:spPr>
          <a:xfrm>
            <a:off x="-15840" y="307800"/>
            <a:ext cx="7549920" cy="119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8080" indent="-123840">
              <a:lnSpc>
                <a:spcPct val="111000"/>
              </a:lnSpc>
              <a:buClr>
                <a:srgbClr val="000000"/>
              </a:buClr>
              <a:buFont typeface="Trebuchet MS"/>
              <a:buAutoNum type="arabicPeriod" startAt="69"/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УБЪЕКТЫ ФИНАНСОВОГО МОНИТОРИНГА В ЦЕЛЯХ ПРЕДУПРЕЖДЕНИЯ ФАКТОВ ЛЕГАЛИЗАЦИ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08080" indent="-123840" algn="ctr">
              <a:lnSpc>
                <a:spcPct val="112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ФИНАНСИРОВАНИЯ ТЕРРОРИЗМА ОБЯЗАНЫ ПРИ ПРИЗНАНИИ ОПЕРАЦИИ В КАЧЕСТВЕ ПОДОЗРИТЕЛЬНОЙ НЕЗАМЕДЛИТЕЛЬНО СООБЩИТЬ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08080" indent="-123840" algn="ctr">
              <a:lnSpc>
                <a:spcPct val="113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 УПОЛНОМОЧЕННЫЙ ОРГАН ПО ФИНАНСОВОМУ МОНИТОРИНГУ О ТАКОЙ ОПЕРАЦИ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08080" indent="-12384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О ЕЕ ПРОВЕДЕ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08080" indent="-123840">
              <a:lnSpc>
                <a:spcPct val="100000"/>
              </a:lnSpc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08080" indent="-123840">
              <a:lnSpc>
                <a:spcPct val="112000"/>
              </a:lnSpc>
              <a:buClr>
                <a:srgbClr val="000000"/>
              </a:buClr>
              <a:buFont typeface="Trebuchet MS"/>
              <a:buAutoNum type="arabicPeriod" startAt="69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УБЪЕКТЫ ФИНАНСОВОГО МОНИТОРИНГА В ЦЕЛЯХ ПРЕДУПРЕЖДЕНИЯ ФАКТОВ ЛЕГАЛИЗАЦИ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08080" indent="-123840" algn="ctr">
              <a:lnSpc>
                <a:spcPct val="112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ФИНАНСИРОВАНИЯ ТЕРРОРИЗМА ОБЯЗАНЫ ПРИ ПРИЗНАНИИ ОПЕРАЦИИ В КАЧЕСТВЕ ПОДОЗРИТЕЛЬНОЙ НЕЗАМЕДЛИТЕЛЬНО СООБЩИТЬ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08080" indent="-12384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НЕТ ВЕРНОГО ОТВЕТ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08080" indent="-12384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123840">
              <a:lnSpc>
                <a:spcPct val="117000"/>
              </a:lnSpc>
              <a:buClr>
                <a:srgbClr val="000000"/>
              </a:buClr>
              <a:buFont typeface="Trebuchet MS"/>
              <a:buAutoNum type="arabicPeriod" startAt="69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В ЦЕЛЯХ ПРЕДУПРЕЖДЕНИЯ ФАКТОВ ЛЕГАЛИЗАЦИ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Я ТЕРРОРИЗМА ОБЯЗАН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08080" indent="-123840" algn="ctr">
              <a:lnSpc>
                <a:spcPct val="112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И ПРИЗНАНИИ ОПЕРАЦИИ В КАЧЕСТВЕ ПОДОЗРИТЕЛЬНОЙ СУБЪЕКТЫ ФИНАНСОВОГО МОНИТОРИНГА НЕЗАМЕДЛИТЕЛЬНО СООБЩИТЬ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08080" indent="-123840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НЕТ ВЕРНОГО ОТВЕТ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08080" indent="-12384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123840">
              <a:lnSpc>
                <a:spcPct val="116000"/>
              </a:lnSpc>
              <a:buClr>
                <a:srgbClr val="000000"/>
              </a:buClr>
              <a:buFont typeface="Trebuchet MS"/>
              <a:buAutoNum type="arabicPeriod" startAt="69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В ЦЕЛЯХ ПРЕДУПРЕЖДЕНИЯ ФАКТОВ ЛЕГАЛИЗАЦИ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Я ТЕРРОРИЗМА ОБЯЗАН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08080" indent="-123840" algn="ctr">
              <a:lnSpc>
                <a:spcPct val="111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И ПРИЗНАНИИ ОПЕРАЦИИ В КАЧЕСТВЕ ПОДОЗРИТЕЛЬНОЙ СУБЪЕКТЫ ФИНАНСОВОГО МОНИТОРИНГА НЕЗАМЕДЛИТЕЛЬНО СООБЩИТЬ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08080" indent="-123840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 УПОЛНОМОЧЕННЫЙ ОРГАН ПО ФИНАНСОВОМУ МОНИТОРИНГУ О ТАКОЙ ОПЕРАЦИ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08080" indent="-12384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О ЕЕ ПРОВЕДЕ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08080" indent="-123840">
              <a:lnSpc>
                <a:spcPct val="100000"/>
              </a:lnSpc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08080" indent="-123840">
              <a:lnSpc>
                <a:spcPct val="114000"/>
              </a:lnSpc>
              <a:buClr>
                <a:srgbClr val="000000"/>
              </a:buClr>
              <a:buFont typeface="Trebuchet MS"/>
              <a:buAutoNum type="arabicPeriod" startAt="69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КАКИЕ ДЕЙСТВИЯ СУБЪЕКТЫ ФИНАНСОВОГО МОНИТОРИНГА ОБЯЗАН ПРЕДПРИНЯТЬ В ЦЕЛЯХ ПРЕДУПРЕЖДЕНИЯ ФАКТОВ ЛЕГАЛИЗАЦИ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Я ТЕРРОРИЗМ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08080" indent="-12384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И ПРИЗНАНИИ ОПЕРАЦИИ В КАЧЕСТВЕ ПОДОЗРИТЕЛЬНОЙ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08080" indent="-12384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НЕТ ВЕРНОГО ОТВЕТ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08080" indent="-12384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123840">
              <a:lnSpc>
                <a:spcPct val="117000"/>
              </a:lnSpc>
              <a:buClr>
                <a:srgbClr val="000000"/>
              </a:buClr>
              <a:buFont typeface="Trebuchet MS"/>
              <a:buAutoNum type="arabicPeriod" startAt="69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И ПРИЗНАНИИ ОПЕРАЦИИ В КАЧЕСТВЕ ПОДОЗРИТЕЛЬНОЙ СУБЪЕКТЫ ФИНАНСОВОГО МОНИТОРИНГА В ЦЕЛЯХ ПРЕДУПРЕЖДЕНИЯ ФАКТО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08080" indent="-123840" algn="ctr">
              <a:lnSpc>
                <a:spcPct val="140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ЛЕГАЛИЗАЦИ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Я ТЕРРОРИЗМА ОБЯЗАНЫ НЕЗАМЕДЛИТЕЛЬНО СООБЩИТЬ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08080" indent="-123840">
              <a:lnSpc>
                <a:spcPct val="10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НЕТ ВЕРНОГО ОТВЕТ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Google Shape;217;p33"/>
          <p:cNvSpPr/>
          <p:nvPr/>
        </p:nvSpPr>
        <p:spPr>
          <a:xfrm>
            <a:off x="-15840" y="25560"/>
            <a:ext cx="7549920" cy="12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660240" indent="-246240">
              <a:lnSpc>
                <a:spcPct val="123000"/>
              </a:lnSpc>
              <a:buClr>
                <a:srgbClr val="000000"/>
              </a:buClr>
              <a:buFont typeface="Trebuchet MS"/>
              <a:buAutoNum type="arabicPeriod" startAt="75"/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И ПРИЗНАНИИ ОПЕРАЦИИ В КАЧЕСТВЕ ПОДОЗРИТЕЛЬНОЙ СУБЪЕКТЫ ФИНАНСОВОГО МОНИТОРИНГА В ЦЕЛЯХ ПРЕДУПРЕЖДЕНИЯ ФАКТО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60240" indent="-246240" algn="ctr">
              <a:lnSpc>
                <a:spcPct val="133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ЛЕГАЛИЗАЦИ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Я ТЕРРОРИЗМА ОБЯЗАНЫ НЕЗАМЕДЛИТЕЛЬНО СООБЩИТЬ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60240" indent="-246240">
              <a:lnSpc>
                <a:spcPct val="106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 УПОЛНОМОЧЕННЫЙ ОРГАН ПО ФИНАНСОВОМУ МОНИТОРИНГУ О ТАКОЙ ОПЕРАЦИ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60240" indent="-24624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О ЕЕ ПРОВЕДЕ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60240" indent="-246240">
              <a:lnSpc>
                <a:spcPct val="100000"/>
              </a:lnSpc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60240" indent="-246240">
              <a:lnSpc>
                <a:spcPct val="114000"/>
              </a:lnSpc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КАКИЕ ДЕЙСТВИЯ СУБЪЕКТЫ ФИНАНСОВОГО МОНИТОРИНГА ОБЯЗАН ПРЕДПРИНЯТЬ В ЦЕЛЯХ ПРЕДУПРЕЖДЕНИЯ ФАКТОВ ЛЕГАЛИЗАЦИ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Я ТЕРРОРИЗМ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60240" indent="-246240" algn="ctr">
              <a:lnSpc>
                <a:spcPct val="11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И ПРИЗНАНИИ ОПЕРАЦИИ В КАЧЕСТВЕ ПОДОЗРИТЕЛЬНОЙ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НЕЗАМЕДЛИТЕЛЬНО СООБЩИТЬ В УПОЛНОМОЧЕННЫЙ ОРГАН ПО ФИНАНСОВОМУ МОНИТОРИНГУ О ТАКОЙ ОПЕРАЦИИ ДО ЕЕ ПРОВЕДЕ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60240" indent="-246240"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60240" indent="-246240">
              <a:lnSpc>
                <a:spcPct val="121000"/>
              </a:lnSpc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МЕЖДУНАРОДНОЕ СОТРУДНИЧЕСТВО УПОЛНОМОЧЕННОГО ОРГАН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НЫХ ГОСУДАРСТВЕННЫХ ОРГАНОВ РЕСПУБЛИКИ КАЗАХСТАН С СООТВЕТСТВУЮЩИМ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60240" indent="-246240" algn="ctr">
              <a:lnSpc>
                <a:spcPct val="111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РГАНАМИ ИНОСТРАННОГО ГОСУДАРСТВА В СФЕРЕ ПРОТИВОДЕЙСТВИЯ ЛЕГАЛИЗАЦИ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60240" indent="-246240" algn="ctr">
              <a:lnSpc>
                <a:spcPct val="111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ФИНАНСИРОВАНИЮ ТЕРРОРИЗМА ОСУЩЕСТВЛЯЕТСЯ НА ПРИНЦИПАХ ВЗАИМНОСТИ ПУТЕ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60240" indent="-24624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ЗАПРОСА И ОБМЕНА ИНФОРМАЦИЕ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60240" indent="-246240">
              <a:lnSpc>
                <a:spcPct val="100000"/>
              </a:lnSpc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60240" indent="-246240">
              <a:lnSpc>
                <a:spcPct val="112000"/>
              </a:lnSpc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КАКИМ ПУТЕМ ОСУЩЕСТВЛЯЕТСЯ МЕЖДУНАРОДНОЕ СОТРУДНИЧЕСТВО УПОЛНОМОЧЕННОГО ОРГАНА ПО ФИНАНСОВОМУ МОНИТОРИНГУ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НЫХ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60240" indent="-246240" algn="ctr">
              <a:lnSpc>
                <a:spcPct val="115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ГОСУДАРСТВЕННЫХ ОРГАНОВ РЕСПУБЛИКИ КАЗАХСТАН С СООТВЕТСТВУЮЩИМИ ОРГАНАМИ ИНОСТРАННОГО ГОСУДАРСТВА В СФЕРЕ ПРОТИВОДЕЙСТВИЯ ЛЕГАЛИЗАЦИ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60240" indent="-24624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ЗАПРОСА И ОБМЕНА ИНФОРМАЦИЕ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60240" indent="-246240">
              <a:lnSpc>
                <a:spcPct val="100000"/>
              </a:lnSpc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60240" indent="-246240">
              <a:lnSpc>
                <a:spcPct val="115000"/>
              </a:lnSpc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МЕЖДУНАРОДНОЕ СОТРУДНИЧЕСТВО УПОЛНОМОЧЕННОГО ОРГАНА ПО ФИНАНСОВОМУ МОНИТОРИНГУ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НЫХ ГОСУДАРСТВЕННЫХ ОРГАНОВ РЕСПУБЛИКИ КАЗАХСТАН С СООТВЕТСТВУЮЩИМИ ОРГАНАМИ ИНОСТРАННОГО ГОСУДАРСТВА В СФЕРЕ ПРОТИВОДЕЙСТВИЯ ЛЕГАЛИЗАЦИ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Ю ТЕРРОРИЗМА ОСУЩЕСТВЛЯЕТСЯ Н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60240" indent="-246240" algn="ctr">
              <a:lnSpc>
                <a:spcPct val="140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ИНЦИПАХ ВЗАИМНОСТИ ПУТЕ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НЕТ ВЕРНОГО ОТВЕТ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Google Shape;222;p34"/>
          <p:cNvSpPr/>
          <p:nvPr/>
        </p:nvSpPr>
        <p:spPr>
          <a:xfrm>
            <a:off x="123840" y="25560"/>
            <a:ext cx="7281360" cy="121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35080" indent="160200">
              <a:lnSpc>
                <a:spcPct val="118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80.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УПОЛНОМОЧЕННЫЙ ОРГАН ПО ФИНАНСОВОМУ МОНИТОРИНГУ ПРИ ПРОВЕДЕНИИ АНАЛИЗА ИНФОРМАЦИ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ОЙ В СООТВЕТСТВИИ С ЗАКОНОМ РЕСПУБЛИКИ КАЗАХСТАН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"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 ПРОТИВОДЕЙСТВИИ ЛЕГАЛИЗАЦИ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35080" indent="160200" algn="ctr">
              <a:lnSpc>
                <a:spcPct val="14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"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В ЦЕЛЯХ ПРОТИВОДЕЙСТВИЯ ЛЕГАЛИЗАЦИ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35080" indent="160200" algn="ctr">
              <a:lnSpc>
                <a:spcPct val="10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35080" indent="160200" algn="ctr">
              <a:lnSpc>
                <a:spcPct val="12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ФИНАНСИРОВАНИЮ ТЕРРОРИЗМ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35080" indent="160200" algn="ctr">
              <a:lnSpc>
                <a:spcPct val="12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ПРАВЕ ЗАПРАШИВАТЬ ИНФОРМАЦИЮ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СВЕДЕНИЯ И ДОКУМЕНТЫ У КОМПЕТЕНТНЫХ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35080" indent="16020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РГАНОВ ИНОСТРАННЫХ ГОСУДАРСТ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35080" indent="160200">
              <a:lnSpc>
                <a:spcPct val="100000"/>
              </a:lnSpc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35080" indent="160200">
              <a:lnSpc>
                <a:spcPct val="116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81.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	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УПОЛНОМОЧЕННЫЙ ОРГАН ПО ФИНАНСОВОМУ МОНИТОРИНГУ ПРИ ПРОВЕДЕНИИ АНАЛИЗА ИНФОРМАЦИ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ОЙ В СООТВЕТСТВИИ С ЗАКОНОМ РЕСПУБЛИКИ КАЗАХСТАН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"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 ПРОТИВОДЕЙСТВИИ ЛЕГАЛИЗАЦИ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"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В ЦЕЛЯХ ПРОТИВОДЕЙСТВИЯ ЛЕГАЛИЗАЦИ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35080" indent="160200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НЕТ ВЕРНОГО ОТВЕТ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35080" indent="160200">
              <a:lnSpc>
                <a:spcPct val="100000"/>
              </a:lnSpc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95280" indent="-160200">
              <a:lnSpc>
                <a:spcPct val="112000"/>
              </a:lnSpc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УПОЛНОМОЧЕННЫЙ ОРГАН ПО ФИНАНСОВОМУ МОНИТОРИНГУ ВПРАВЕ ИСПОЛЬЗОВАТЬ ПОЛУЧЕННЫЕ ПО ЗАПРОСУ ИНФОРМАЦИЮ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ВЕДЕНИЯ 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35080" indent="16020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КУМЕНТЫ ИСКЛЮЧИТЕЛЬНО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35080" indent="160200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 ЦЕЛЯХ УКАЗАННЫХ В ЗАПРОС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35080" indent="16020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5280" indent="-160200">
              <a:lnSpc>
                <a:spcPct val="116000"/>
              </a:lnSpc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УПОЛНОМОЧЕННЫЙ ОРГАН ПО ФИНАНСОВОМУ МОНИТОРИНГУ ВПРАВЕ ОТКАЗАТЬ В УДОВЛЕТВОРЕНИИ ЗАПРОСА КОМПЕТЕНТНОМУ ОРГАНУ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35080" indent="16020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НОСТРАННОГО ГОСУДАРСТВА В СЛЕДУЮЩИХ СЛУЧАЯХ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ЕСЛ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35080" indent="16020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СЕ ОТВЕТЫ ВЕРН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35080" indent="160200" algn="ctr">
              <a:lnSpc>
                <a:spcPct val="14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ПРЕДОСТАВЛЕНИЕ ИНФОРМАЦИИ</a:t>
            </a:r>
            <a:r>
              <a:rPr b="0" i="1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СВЕДЕНИЙ И ДОКУМЕНТОВ ЗАТРАГИВАЕТ КОНСТИТУЦИОННЫЕ ПРАВА И СВОБОДЫ ЧЕЛОВЕКА И ГРАЖДАНИНА</a:t>
            </a:r>
            <a:r>
              <a:rPr b="0" i="1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НАНОСИТ УЩЕРБ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35080" indent="160200" algn="ctr">
              <a:lnSpc>
                <a:spcPct val="112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ИНТЕРЕСАМ НАЦИОНАЛЬНОЙ БЕЗОПАСНОСТИ РЕСПУБЛИКИ КАЗАХСТАН ПРЕДОСТАВЛЕНИЕ ИНФОРМАЦИИ</a:t>
            </a:r>
            <a:r>
              <a:rPr b="0" i="1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СВЕДЕНИЙ И ДОКУМЕНТОВ ПОВЛИЯЕТ НА ХО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35080" indent="160200">
              <a:lnSpc>
                <a:spcPct val="113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УГОЛОВНОГО СУДОПРОИЗВОДСТВА В РЕСПУБЛИКЕ КАЗАХСТАН ИМЕЮТСЯ ОСНОВАНИЯ ПОЛАГАТЬ</a:t>
            </a:r>
            <a:r>
              <a:rPr b="0" i="1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ЧТО КОМПЕТЕНТНЫЙ ОРГАН ИНОСТРАННОГ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35080" indent="160200" algn="ctr">
              <a:lnSpc>
                <a:spcPct val="14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ГОСУДАРСТВА НЕ МОЖЕТ ОБЕСПЕЧИТЬ ЗАЩИТУ ПРЕДОСТАВЛЯЕМЫХ ИНФОРМАЦИИ</a:t>
            </a:r>
            <a:r>
              <a:rPr b="0" i="1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СВЕДЕНИЙ И ДОКУМЕНТО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Google Shape;227;p35"/>
          <p:cNvSpPr/>
          <p:nvPr/>
        </p:nvSpPr>
        <p:spPr>
          <a:xfrm>
            <a:off x="19080" y="339840"/>
            <a:ext cx="7536960" cy="56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92240" indent="-123840">
              <a:lnSpc>
                <a:spcPct val="111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84.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И ОСУЩЕСТВЛЕНИИ ПО УКАЗАНИЯМ КЛИЕНТОВ БЕЗНАЛИЧНЫХ ПЛАТЕЖЕЙ И ПЕРЕВОДОВ ДЕНЕГ В ПОЛЬЗУ ИНОСТРАННОЙ ФИНАНСОВОЙ ОРГАНИЗАЦИ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З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92240" indent="-123840" algn="ctr">
              <a:lnSpc>
                <a:spcPct val="115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СКЛЮЧЕНИЕМ ПЛАТЕЖЕЙ И ПЕРЕВОДОВ ДЕНЕГ С ИСПОЛЬЗОВАНИЕМ ПЛАТЕЖНЫХ КАРТОЧЕК БАНКИ И ОРГАНИЗАЦИ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СУЩЕСТВЛЯЮЩИЕ ОТДЕЛЬНЫЕ ВИДЫ БАНКОВСКИХ ОПЕРАЦИЙ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БЕСПЕЧИВАЮТ НАЛИЧИЕ В ПЛАТЕЖНОМ ДОКУМЕНТЕ И ПЕРЕДАЧУ УЧАСТНИКУ ПЛАТЕЖА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ЕРЕВОД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ЕНЕГ РЕКВИЗИТ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ЕДУСМОТРЕННЫХ ЗАКОНОДАТЕЛЬСТВОМ РЕСПУБЛИКИ КАЗАХСТАН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ВКЛЮЧА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92240" indent="-123840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ФАМИЛИИ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МЕНИ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ТЧЕСТВА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РИ ЕГО НАЛИЧИИ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ЛИБО ПОЛНЫЕ ИЛИ СОКРАЩЕННЫ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92240" indent="-12384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НАИМЕНОВАНИЯ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ЛЯ ЮРИДИЧЕСКИХ ЛИЦ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ТПРАВИТЕЛЯ И ПОЛУЧАТЕЛЯ ДЕНЕГ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92240" indent="-12384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БЕНЕФИЦИАР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;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НДИВИДУАЛЬНЫЕ ИДЕНТИФИКАЦИОННЫЕ КОДЫ ОТПРАВИТЕЛЯ И ПОЛУЧАТЕЛЯ ДЕНЕГ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БЕНЕФИЦИАР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ЕСЛИ ПЕРЕВОД ДЕНЕГ ОСУЩЕСТВЛЕН С ИСПОЛЬЗОВАНИЕМ БАНКОВСКОГО СЧЕТ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ЛИБО НОМЕР УКАЗАНИЯ ПО ПЛАТЕЖУ ИЛИ ПЕРЕВОДУ ДЕНЕГ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ЕСЛИ ПЕРЕВОД ДЕНЕГ ОСУЩЕСТВЛЕН БЕЗ ИСПОЛЬЗОВАНИЯ БАНКОВСКОГО СЧЕТ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;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ДЕНТИФИКАЦИОННЫЙ НОМЕР ИЛИ АДРЕС ОТПРАВИТЕЛЯ ДЕНЕГ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ЛЯ ФИЗИЧЕСКИХ И ЮРИДИЧЕСКИХ ЛИЦ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ЛИБО НОМЕР ДОКУМЕНТ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УДОСТОВЕРЯЮЩЕГО ЛИЧНОСТЬ ОТПРАВИТЕЛЯ ДЕНЕГ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ЛЯ ФИЗИЧЕСКОГО ЛИЦ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Google Shape;228;p35"/>
          <p:cNvSpPr/>
          <p:nvPr/>
        </p:nvSpPr>
        <p:spPr>
          <a:xfrm>
            <a:off x="196920" y="5130720"/>
            <a:ext cx="7143480" cy="49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54160" indent="-241200">
              <a:lnSpc>
                <a:spcPct val="112000"/>
              </a:lnSpc>
              <a:buClr>
                <a:srgbClr val="000000"/>
              </a:buClr>
              <a:buFont typeface="Trebuchet MS"/>
              <a:buAutoNum type="arabicPeriod" startAt="85"/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УБЪЕКТЫ ФИНАНСОВОГО МОНИТОРИНГА В ЦЕЛЯХ ПРЕДОТВРАЩЕНИЯ ЛЕГАЛИЗАЦИ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indent="24120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ФИНАНСИРОВАНИЯ ТЕРРОРИЗМА РАЗРАБАТЫВАЮТ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indent="24120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РАВИЛА ВНУТРЕННЕГО КОНТРОЛ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indent="24120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4160" indent="-241200">
              <a:lnSpc>
                <a:spcPct val="116000"/>
              </a:lnSpc>
              <a:buClr>
                <a:srgbClr val="000000"/>
              </a:buClr>
              <a:buFont typeface="Trebuchet MS"/>
              <a:buAutoNum type="arabicPeriod" startAt="85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ТРЕБОВАНИЯ К ПРАВИЛАМ ВНУТРЕННЕГО КОНТРОЛЯ ДЛЯ НОТАРИУС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СУЩЕСТВЛЯЮЩИЕ НОТАРИАЛЬНЫЕ ДЕЙСТВИЯ С ДЕНЬГАМИ 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Л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НЫ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indent="24120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МУЩЕСТВОМ УСТАНАВЛИВАЮТС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indent="241200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УПОЛНОМОЧЕННЫМ ОРГАНОМ ПО ФИНАНСОВОМУ МОНИТОРИНГУ 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indent="24120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СООТВЕТСТВУЮЩИМ ГОСУДАРСТВЕННЫМ ОРГАНО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indent="241200">
              <a:lnSpc>
                <a:spcPct val="100000"/>
              </a:lnSpc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4160" indent="-241200" algn="ctr"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ТРЕБОВАНИЯ К ПРАВИЛАМ ВНУТРЕННЕГО КОНТРОЛЯ ДЛЯ СТРАХОВЫХ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indent="241200" algn="ctr">
              <a:lnSpc>
                <a:spcPct val="117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ЕРЕСТРАХОВОЧНЫХ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РГАНИЗАЦИ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ТРАХОВЫХ БРОКЕР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БЩЕСТВА ВЗАИМНОГО СТРАХОВАНИЯ УСТАНАВЛИВАЮТС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indent="241200" algn="ctr">
              <a:lnSpc>
                <a:spcPct val="113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УПОЛНОМОЧЕННЫМ ОРГАНОМ ПО РЕГУЛИРОВАНИЮ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КОНТРОЛЮ И НАДЗОРУ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indent="24120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ФИНАНСОВОГО РЫНКА И ФИНАНСОВЫХ ОРГАНИЗАЦИИ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АРРФР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Google Shape;57;p9"/>
          <p:cNvSpPr/>
          <p:nvPr/>
        </p:nvSpPr>
        <p:spPr>
          <a:xfrm>
            <a:off x="0" y="0"/>
            <a:ext cx="1387080" cy="340920"/>
          </a:xfrm>
          <a:custGeom>
            <a:avLst/>
            <a:gdLst>
              <a:gd name="textAreaLeft" fmla="*/ 0 w 1387080"/>
              <a:gd name="textAreaRight" fmla="*/ 1387440 w 1387080"/>
              <a:gd name="textAreaTop" fmla="*/ 0 h 340920"/>
              <a:gd name="textAreaBottom" fmla="*/ 341280 h 340920"/>
            </a:gdLst>
            <a:ahLst/>
            <a:rect l="textAreaLeft" t="textAreaTop" r="textAreaRight" b="textAreaBottom"/>
            <a:pathLst>
              <a:path w="1386840" h="340995">
                <a:moveTo>
                  <a:pt x="366189" y="0"/>
                </a:moveTo>
                <a:lnTo>
                  <a:pt x="0" y="340980"/>
                </a:lnTo>
                <a:lnTo>
                  <a:pt x="236850" y="340980"/>
                </a:lnTo>
                <a:lnTo>
                  <a:pt x="603040" y="0"/>
                </a:lnTo>
                <a:lnTo>
                  <a:pt x="366189" y="0"/>
                </a:lnTo>
              </a:path>
              <a:path w="1386840" h="340995">
                <a:moveTo>
                  <a:pt x="757976" y="0"/>
                </a:moveTo>
                <a:lnTo>
                  <a:pt x="391799" y="340980"/>
                </a:lnTo>
                <a:lnTo>
                  <a:pt x="628649" y="340980"/>
                </a:lnTo>
                <a:lnTo>
                  <a:pt x="994839" y="0"/>
                </a:lnTo>
                <a:lnTo>
                  <a:pt x="757976" y="0"/>
                </a:lnTo>
              </a:path>
              <a:path w="1386840" h="340995">
                <a:moveTo>
                  <a:pt x="1149775" y="0"/>
                </a:moveTo>
                <a:lnTo>
                  <a:pt x="783585" y="340980"/>
                </a:lnTo>
                <a:lnTo>
                  <a:pt x="1021079" y="340980"/>
                </a:lnTo>
                <a:lnTo>
                  <a:pt x="1386647" y="0"/>
                </a:lnTo>
                <a:lnTo>
                  <a:pt x="1149775" y="0"/>
                </a:lnTo>
              </a:path>
            </a:pathLst>
          </a:custGeom>
          <a:solidFill>
            <a:srgbClr val="2020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Google Shape;58;p9"/>
          <p:cNvSpPr/>
          <p:nvPr/>
        </p:nvSpPr>
        <p:spPr>
          <a:xfrm>
            <a:off x="-12600" y="114480"/>
            <a:ext cx="7562520" cy="99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716040"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202020"/>
                </a:solidFill>
                <a:latin typeface="Lucida Sans"/>
                <a:ea typeface="Lucida Sans"/>
              </a:rPr>
              <a:t>ТЕСТЫ</a:t>
            </a:r>
            <a:r>
              <a:rPr b="0" lang="en-US" sz="2400" spc="-1" strike="noStrike">
                <a:solidFill>
                  <a:srgbClr val="202020"/>
                </a:solidFill>
                <a:latin typeface="Lucida Sans"/>
                <a:ea typeface="Lucida Sans"/>
              </a:rPr>
              <a:t>	</a:t>
            </a:r>
            <a:r>
              <a:rPr b="0" lang="en-US" sz="2400" spc="-1" strike="noStrike">
                <a:solidFill>
                  <a:srgbClr val="202020"/>
                </a:solidFill>
                <a:latin typeface="Lucida Sans"/>
                <a:ea typeface="Lucida Sans"/>
              </a:rPr>
              <a:t>ПО </a:t>
            </a:r>
            <a:r>
              <a:rPr b="0" lang="en-US" sz="2400" spc="-1" strike="noStrike">
                <a:solidFill>
                  <a:srgbClr val="202020"/>
                </a:solidFill>
                <a:latin typeface="Calibri"/>
                <a:ea typeface="Calibri"/>
              </a:rPr>
              <a:t>1000</a:t>
            </a:r>
            <a:r>
              <a:rPr b="0" lang="en-US" sz="2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202020"/>
                </a:solidFill>
                <a:latin typeface="Lucida Sans"/>
                <a:ea typeface="Lucida Sans"/>
              </a:rPr>
              <a:t>ПРИКАЗУ </a:t>
            </a:r>
            <a:r>
              <a:rPr b="0" lang="en-US" sz="2400" spc="-1" strike="noStrike">
                <a:solidFill>
                  <a:srgbClr val="202020"/>
                </a:solidFill>
                <a:latin typeface="Calibri"/>
                <a:ea typeface="Calibri"/>
              </a:rPr>
              <a:t>(№6 </a:t>
            </a:r>
            <a:r>
              <a:rPr b="0" lang="en-US" sz="2400" spc="-1" strike="noStrike">
                <a:solidFill>
                  <a:srgbClr val="202020"/>
                </a:solidFill>
                <a:latin typeface="Lucida Sans"/>
                <a:ea typeface="Lucida Sans"/>
              </a:rPr>
              <a:t>ОТ </a:t>
            </a:r>
            <a:r>
              <a:rPr b="0" lang="en-US" sz="2400" spc="-1" strike="noStrike">
                <a:solidFill>
                  <a:srgbClr val="202020"/>
                </a:solidFill>
                <a:latin typeface="Calibri"/>
                <a:ea typeface="Calibri"/>
              </a:rPr>
              <a:t>09.08.202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6040" algn="ctr">
              <a:lnSpc>
                <a:spcPct val="10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2100" spc="-1" strike="noStrike">
                <a:solidFill>
                  <a:srgbClr val="202020"/>
                </a:solidFill>
                <a:latin typeface="Calibri"/>
                <a:ea typeface="Calibri"/>
              </a:rPr>
              <a:t>2</a:t>
            </a:r>
            <a:r>
              <a:rPr b="0" lang="en-US" sz="2100" spc="-1" strike="noStrike">
                <a:solidFill>
                  <a:srgbClr val="202020"/>
                </a:solidFill>
                <a:latin typeface="Lucida Sans"/>
                <a:ea typeface="Lucida Sans"/>
              </a:rPr>
              <a:t>БЛОК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716040">
              <a:lnSpc>
                <a:spcPct val="100000"/>
              </a:lnSpc>
              <a:tabLst>
                <a:tab algn="l" pos="0"/>
              </a:tabLst>
            </a:pPr>
            <a:r>
              <a:rPr b="0" lang="en-US" sz="1300" spc="-1" strike="noStrike">
                <a:solidFill>
                  <a:srgbClr val="202020"/>
                </a:solidFill>
                <a:latin typeface="Calibri"/>
                <a:ea typeface="Calibri"/>
              </a:rPr>
              <a:t>1.</a:t>
            </a:r>
            <a:r>
              <a:rPr b="0" lang="en-US" sz="13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КЕМ УТВЕРЖДАЮТСЯ ТРЕБОВАНИЯ К СУБЪЕКТАМ ФИНАНСОВОГО МОНИТОРИНГА П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6040" algn="ctr">
              <a:lnSpc>
                <a:spcPct val="115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ПОДГОТОВКЕ И ОБУЧЕНИЮ В СФЕРЕ ПРОТИВОДЕЙСТВИЯ ЛЕГАЛИЗАЦИИ 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(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)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ДОХОДОВ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6040" algn="ctr">
              <a:lnSpc>
                <a:spcPct val="121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ИКАЗ ПРЕДСЕДАТЕЛЯ АФМ РК ОТ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09.08.2021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Г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№6 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РАНЕЕ ПРИКАЗ МИНИСТРА ФИНАН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604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РЕСПУБЛИКИ КАЗАХСТАН ОТ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13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КТЯБРЯ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2020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ГОДА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№ 10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6040"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6040" algn="just">
              <a:lnSpc>
                <a:spcPct val="112000"/>
              </a:lnSpc>
              <a:spcBef>
                <a:spcPts val="799"/>
              </a:spcBef>
              <a:tabLst>
                <a:tab algn="l" pos="0"/>
              </a:tabLst>
            </a:pPr>
            <a:r>
              <a:rPr b="0" lang="en-US" sz="1300" spc="-1" strike="noStrike">
                <a:solidFill>
                  <a:srgbClr val="202020"/>
                </a:solidFill>
                <a:latin typeface="Calibri"/>
                <a:ea typeface="Calibri"/>
              </a:rPr>
              <a:t>2.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ЦЕЛЬЮ ПОДГОТОВКИ И ОБУЧЕНИЯ СУБЪЕКТОВ ФИНАНСОВОГО МОНИТОРИНГА ЯВЛЯЕТСЯ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6040" indent="-88920" algn="ctr">
              <a:lnSpc>
                <a:spcPct val="114000"/>
              </a:lnSpc>
              <a:buClr>
                <a:srgbClr val="ff1515"/>
              </a:buClr>
              <a:buFont typeface="Trebuchet MS"/>
              <a:buChar char="-"/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ЛУЧЕНИЕ СУБЪЕКТАМИ ЗНАНИЙ В СФЕРЕ ПОД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/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ФТ В СООТВЕТСТВИИ С ТРЕБОВАНИЯМ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604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НЕОБХОДИМЫХ ИМ ДЛЯ СОБЛЮДЕНИЯ ЗАКОНОДАТЕЛЬСТВА РЕСПУБЛИКИ КАЗАХСТАН О ПОД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/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ФТ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604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82800">
              <a:lnSpc>
                <a:spcPct val="115000"/>
              </a:lnSpc>
              <a:buClr>
                <a:srgbClr val="202020"/>
              </a:buClr>
              <a:buFont typeface="Calibri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КЕМ РАЗРАБАТЫВАЕТСЯ ПРОГРАММА ПОДГОТОВКИ И ОБУЧЕНИЯ В СФЕРЕ ПРОТИВОДЕЙСТВИЯ ЛЕГАЛИЗАЦИИ 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(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)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ДОХОДОВ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6040" algn="ctr">
              <a:lnSpc>
                <a:spcPct val="121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УБЪЕКТОМ ФИНАНСОВОГО МОНИТОРИНГ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604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82800" algn="just">
              <a:lnSpc>
                <a:spcPct val="115000"/>
              </a:lnSpc>
              <a:buClr>
                <a:srgbClr val="202020"/>
              </a:buClr>
              <a:buFont typeface="Calibri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ОДНА ИЗ ПРОГРАММ ПОДГОТОВКИ И ОБУЧЕНИЯ В СФЕРЕ ПРОТИВОДЕЙСТВИЯ ЛЕГАЛИЗАЦИИ 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(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)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ДОХОДОВ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И ФИНАНСИРОВАНИЮ ТЕРРОРИЗМА ЭТО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6040" indent="-88920">
              <a:lnSpc>
                <a:spcPct val="112000"/>
              </a:lnSpc>
              <a:spcBef>
                <a:spcPts val="99"/>
              </a:spcBef>
              <a:buClr>
                <a:srgbClr val="ff1515"/>
              </a:buClr>
              <a:buFont typeface="Calibri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ИЗУЧЕНИЕ НОРМАТИВНЫХ ПРАВОВЫХ АКТОВ РЕСПУБЛИКИ КАЗАХСТАН В ОБЛАСТИ ПОД</a:t>
            </a:r>
            <a:r>
              <a:rPr b="0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/</a:t>
            </a: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ФТ И МЕЖДУНАРОДНЫХ СТАНДАРТОВ В СФЕРЕ ПОД</a:t>
            </a:r>
            <a:r>
              <a:rPr b="0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/</a:t>
            </a: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ФТ</a:t>
            </a:r>
            <a:r>
              <a:rPr b="0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6040" indent="-88920">
              <a:lnSpc>
                <a:spcPct val="113000"/>
              </a:lnSpc>
              <a:spcBef>
                <a:spcPts val="99"/>
              </a:spcBef>
              <a:buClr>
                <a:srgbClr val="ff1515"/>
              </a:buClr>
              <a:buFont typeface="Calibri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ИЗУЧЕНИЕ ПРАВИЛ ВНУТРЕННЕГО КОНТРОЛЯ И ПРОГРАММЫ ИХ ОСУЩЕСТВЛЕНИЯ ПРИ ИСПОЛНЕНИИ СУБЪЕКТАМИ СВОИХ СЛУЖЕБНЫХ ОБЯЗАННОСТЕЙ</a:t>
            </a:r>
            <a:r>
              <a:rPr b="0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А ТАКЖЕ МЕР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6040" algn="just">
              <a:lnSpc>
                <a:spcPct val="115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ОТВЕТСТВЕННОСТИ ЗА НЕИСПОЛНЕНИЕ ТРЕБОВАНИЙ ЗАКОНОДАТЕЛЬСТВА РЕСПУБЛИКИ КАЗАХСТАН О ПОД</a:t>
            </a:r>
            <a:r>
              <a:rPr b="0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/</a:t>
            </a: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ФТ</a:t>
            </a:r>
            <a:r>
              <a:rPr b="0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УСТАНОВЛЕННУЮ СТАТЬЕЙ </a:t>
            </a:r>
            <a:r>
              <a:rPr b="0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214</a:t>
            </a:r>
            <a:r>
              <a:rPr b="0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КОДЕКСА РЕСПУБЛИКИ КАЗАХСТАН </a:t>
            </a:r>
            <a:r>
              <a:rPr b="0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"</a:t>
            </a: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ОБ АДМИНИСТРАТИВНЫХ ПРАВОНАРУШЕНИЯХ</a:t>
            </a:r>
            <a:r>
              <a:rPr b="0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6040" indent="-88920">
              <a:lnSpc>
                <a:spcPct val="100000"/>
              </a:lnSpc>
              <a:spcBef>
                <a:spcPts val="99"/>
              </a:spcBef>
              <a:buClr>
                <a:srgbClr val="ff1515"/>
              </a:buClr>
              <a:buFont typeface="Calibri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ИЗУЧЕНИЕ ТИПОЛОГИЙ</a:t>
            </a:r>
            <a:r>
              <a:rPr b="0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СХЕМ И СПОСОБОВ ЛЕГАЛИЗАЦИИ </a:t>
            </a:r>
            <a:r>
              <a:rPr b="0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(</a:t>
            </a: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ОТМЫВАНИЯ</a:t>
            </a:r>
            <a:r>
              <a:rPr b="0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6040" algn="ctr">
              <a:lnSpc>
                <a:spcPct val="117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ДОХОДОВ</a:t>
            </a:r>
            <a:r>
              <a:rPr b="0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В СООТВЕТСТВИИ С ПУНКТОМ </a:t>
            </a:r>
            <a:r>
              <a:rPr b="0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5</a:t>
            </a:r>
            <a:r>
              <a:rPr b="0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СТАТЬИ </a:t>
            </a:r>
            <a:r>
              <a:rPr b="0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4</a:t>
            </a:r>
            <a:r>
              <a:rPr b="0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ЗАКОНА О ПОД</a:t>
            </a:r>
            <a:r>
              <a:rPr b="0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/</a:t>
            </a: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ФТ</a:t>
            </a:r>
            <a:r>
              <a:rPr b="0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А ТАКЖЕ ПРИЗНАКОВ ОПРЕДЕЛЕНИЯ ПОДОЗРИТЕЛЬНЫХ ОПЕРАЦИЙ</a:t>
            </a:r>
            <a:r>
              <a:rPr b="0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Google Shape;233;p36"/>
          <p:cNvSpPr/>
          <p:nvPr/>
        </p:nvSpPr>
        <p:spPr>
          <a:xfrm>
            <a:off x="27000" y="339840"/>
            <a:ext cx="7507080" cy="38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5560" indent="108000" algn="just">
              <a:lnSpc>
                <a:spcPct val="114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88.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ТРЕБОВАНИЯ К ПРАВИЛАМ ВНУТРЕННЕГО КОНТРОЛЯ ДЛЯ ИНДИВИДУАЛЬНЫХ ПРЕДПРИНИМАТЕЛЕЙ И ЮРИДИЧЕСКИХ ЛИЦ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СУЩЕСТВЛЯЮЩИХ ЛИЗИНГОВУЮ ДЕЯТЕЛЬНОСТЬ В КАЧЕСТВЕ ЛИЗИНГОДАТЕЛЯ БЕЗ ЛИЦЕНЗИ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УСТАНАВЛИВАЮТС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5560" indent="108000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УПОЛНОМОЧЕННЫМ ОРГАНОМ ПО ФИНАНСОВОМУ МОНИТОРИНГУ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5560" indent="10800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560" indent="108000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89.</a:t>
            </a:r>
            <a:r>
              <a:rPr b="0" i="1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</a:t>
            </a:r>
            <a:r>
              <a:rPr b="0" i="1" lang="en-US" sz="1500" spc="-1" strike="noStrike">
                <a:solidFill>
                  <a:schemeClr val="dk1"/>
                </a:solidFill>
                <a:latin typeface="Arial"/>
                <a:ea typeface="Arial"/>
              </a:rPr>
              <a:t>ГОСУДАРСТВЕННЫЕ ОРГАНЫ</a:t>
            </a:r>
            <a:r>
              <a:rPr b="0" i="1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5560" indent="108000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НЕ ЯВЛЯЮТСЯ СУБЪЕКТОМ ФИНАНСОВОГО МОНИТОРИНГ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5560" indent="108000">
              <a:lnSpc>
                <a:spcPct val="100000"/>
              </a:lnSpc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560" indent="108000">
              <a:lnSpc>
                <a:spcPct val="111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90.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УБЪЕКТАМИ ФИНАНСОВОГО МОНИТОРИНГА НАПРАВЛЯЮТСЯ УВЕДОМЛЕНИЯ В КОМИТЕТ О НАЧАЛЕ ИЛИ ПРЕКРАЩЕНИИ СВОЕЙ ДЕЯТЕЛЬНОСТ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5560" indent="108000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 ОБЯЗАТЕЛЬНОМ ПОРЯДКЕ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УСТАНОВЛЕННОМ ЗАКОНОМ РЕСПУБЛИКИ КАЗАХСТАН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«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5560" indent="108000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РАЗРЕШЕНИЯХ И УВЕДОМЛЕНИЯХ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Google Shape;234;p36"/>
          <p:cNvSpPr/>
          <p:nvPr/>
        </p:nvSpPr>
        <p:spPr>
          <a:xfrm>
            <a:off x="149400" y="3795840"/>
            <a:ext cx="7273440" cy="26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8680" indent="-47520">
              <a:lnSpc>
                <a:spcPct val="112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91.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КАКИМ ДОКУМЕНТОМ ПРЕДУСМОТРЕНО ПРЕДОСТАВЛЕНИЕ В МИНИСТЕРСТВО ЮСТИЦИИ РЕСПУБЛИКИ КАЗАХСТАНИНФОРМАЦИ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ВЕДЕНИЙ И ДОКУМЕНТО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8680" indent="-4752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УБЪЕКТАМИ ФИНАНСОВОГО МОНИТОРИНГА В ЦЕЛЯХ И ПОРЯДКЕ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8680" indent="-47520" algn="ctr">
              <a:lnSpc>
                <a:spcPct val="116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ЕДУСМОТРЕННЫХ ЗАКОНОМ РЕСПУБЛИКИ КАЗАХСТАН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«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 ПРОТИВОДЕЙСТВИИ ЛЕГАЛИЗАЦИ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»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8680" indent="-47520" algn="ctr">
              <a:lnSpc>
                <a:spcPct val="113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ЗАКОНОМ РЕСПУБЛИКИ КАЗАХСТАН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«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 ПРОТИВОДЕЙСТВИИ ЛЕГАЛИЗАЦИ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8680" indent="-4752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ТМЫВАНИЮ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ОХОДОВ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ЛУЧЕННЫХ ПРЕСТУПНЫМ ПУТЕМ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 ФИНАНСИРОВАНИЮ ТЕРРОРИЗМ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»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НЕ УСТАНОВЛЕН ТАКОЙ ПОРЯДОК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Google Shape;235;p36"/>
          <p:cNvSpPr/>
          <p:nvPr/>
        </p:nvSpPr>
        <p:spPr>
          <a:xfrm>
            <a:off x="-1440" y="5353200"/>
            <a:ext cx="853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Google Shape;236;p36"/>
          <p:cNvSpPr/>
          <p:nvPr/>
        </p:nvSpPr>
        <p:spPr>
          <a:xfrm>
            <a:off x="-1440" y="6410160"/>
            <a:ext cx="737208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697120" indent="-2684520">
              <a:lnSpc>
                <a:spcPct val="100000"/>
              </a:lnSpc>
              <a:buClr>
                <a:srgbClr val="000000"/>
              </a:buClr>
              <a:buFont typeface="Trebuchet MS"/>
              <a:buAutoNum type="arabicPeriod" startAt="92"/>
            </a:pPr>
            <a:r>
              <a:rPr b="0" i="1" lang="en-US" sz="1500" spc="-1" strike="noStrike">
                <a:solidFill>
                  <a:schemeClr val="dk1"/>
                </a:solidFill>
                <a:latin typeface="Arial"/>
                <a:ea typeface="Arial"/>
              </a:rPr>
              <a:t>КЕМ УТВЕРЖДАЮТСЯ МЕРЫ</a:t>
            </a:r>
            <a:r>
              <a:rPr b="0" i="1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chemeClr val="dk1"/>
                </a:solidFill>
                <a:latin typeface="Arial"/>
                <a:ea typeface="Arial"/>
              </a:rPr>
              <a:t>НАПРАВЛЕННЫЕ НА СНИЖЕНИЕ РИСКОВ ЛЕГАЛИЗАЦИ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97120" indent="-268452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chemeClr val="dk1"/>
                </a:solidFill>
                <a:latin typeface="Arial"/>
                <a:ea typeface="Arial"/>
              </a:rPr>
              <a:t>ОТМЫВАНИЯ</a:t>
            </a:r>
            <a:r>
              <a:rPr b="0" i="1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chemeClr val="dk1"/>
                </a:solidFill>
                <a:latin typeface="Arial"/>
                <a:ea typeface="Arial"/>
              </a:rPr>
              <a:t>ДОХОДОВ И ФИНАНСИРОВАНИЯ ТЕРРОРИЗМА</a:t>
            </a:r>
            <a:r>
              <a:rPr b="0" i="1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97120" indent="-2684520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УПОЛНОМОЧЕННЫМ ОРГАНОМ ПО ФИНАНСОВОМУ МОНИТОРИНГУ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97120" indent="-268452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97120" indent="-2684520">
              <a:lnSpc>
                <a:spcPct val="112000"/>
              </a:lnSpc>
              <a:buClr>
                <a:srgbClr val="000000"/>
              </a:buClr>
              <a:buFont typeface="Trebuchet MS"/>
              <a:buAutoNum type="arabicPeriod" startAt="93"/>
              <a:tabLst>
                <a:tab algn="l" pos="0"/>
              </a:tabLst>
            </a:pPr>
            <a:r>
              <a:rPr b="0" i="1" lang="en-US" sz="1500" spc="-1" strike="noStrike">
                <a:solidFill>
                  <a:schemeClr val="dk1"/>
                </a:solidFill>
                <a:latin typeface="Arial"/>
                <a:ea typeface="Arial"/>
              </a:rPr>
              <a:t>ОЦЕНКА РИСКОВ ОТМЫВАНИЯ ДОХОДОВ И ФИНАНСИРОВАНИЯ ТЕРРОРИЗМА ПРОИЗВОДИТСЯ В ЦЕЛЯХ</a:t>
            </a:r>
            <a:r>
              <a:rPr b="0" i="1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97120" indent="-268452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СЕ НИЖЕ ПЕРЕЧИСЛЕННЫЕ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97120" indent="-2684520" algn="ctr">
              <a:lnSpc>
                <a:spcPct val="14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-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ОПРЕДЕЛЕНИЯ УГРОЗ ЛЕГАЛИЗАЦИИ </a:t>
            </a:r>
            <a:r>
              <a:rPr b="0" i="1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ОТМЫВАНИЯ</a:t>
            </a:r>
            <a:r>
              <a:rPr b="0" i="1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ДОХОДОВ И ФИНАНСИРОВАНИЯ ТЕРРОРИЗМА В РЕСПУБЛИКЕ КАЗАХСТАН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97120" indent="-2684520" algn="ctr">
              <a:lnSpc>
                <a:spcPct val="10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-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ОПРЕДЕЛЕНИЯ ВОЗМОЖНОСТИ ЛЕГАЛИЗАЦИИ </a:t>
            </a:r>
            <a:r>
              <a:rPr b="0" i="1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ОТМЫВАНИЯ</a:t>
            </a:r>
            <a:r>
              <a:rPr b="0" i="1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ДОХОДОВ 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97120" indent="-268452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ФИНАНСИРОВАНИЯ ТЕРРОРИЗМА В РЕСПУБЛИКЕ КАЗАХСТАН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97120" indent="-268452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-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ВЫЯВЛЕНИЯ НЕДОСТАТКОВ РЕАЛИЗАЦИИ МЕР ПО ПРОТИВОДЕЙСТВИЮ ЛЕГАЛИЗАЦИ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97120" indent="-268452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ОТМЫВАНИЮ</a:t>
            </a:r>
            <a:r>
              <a:rPr b="0" i="1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ДОХОДОВ И ФИНАНСИРОВАНИЮ ТЕРРОРИЗМ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Google Shape;241;p37"/>
          <p:cNvSpPr/>
          <p:nvPr/>
        </p:nvSpPr>
        <p:spPr>
          <a:xfrm>
            <a:off x="30240" y="339840"/>
            <a:ext cx="7488000" cy="9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43000" indent="-155520" algn="just">
              <a:lnSpc>
                <a:spcPct val="114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94.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КЕМ УТВЕРЖДАЕТСЯ МЕТОДОЛОГИЯ ПО СБОРУ ДАННЫХ ОТ ГОСУДАРСТВЕННЫХ ОРГАНОВ И СУБЪЕКТОВ ФИНАНСОВОГО МОНИТОРИНГА ДЛЯ ОЦЕНКИ РИСКОВ ЛЕГАЛИЗАЦИ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 И ФИНАНСИРОВАНИЯ ТЕРРОРИЗМ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3000" indent="-15552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УПОЛНОМОЧЕННЫМ ОРГАНОМ ПО ФИНАНСОВОМУ МОНИТОРИНГУ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3000" indent="-15552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000" indent="-155520">
              <a:lnSpc>
                <a:spcPct val="111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chemeClr val="dk1"/>
                </a:solidFill>
                <a:latin typeface="Calibri"/>
                <a:ea typeface="Calibri"/>
              </a:rPr>
              <a:t>95.</a:t>
            </a:r>
            <a:r>
              <a:rPr b="0" i="1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</a:t>
            </a:r>
            <a:r>
              <a:rPr b="0" i="1" lang="en-US" sz="1500" spc="-1" strike="noStrike">
                <a:solidFill>
                  <a:schemeClr val="dk1"/>
                </a:solidFill>
                <a:latin typeface="Arial"/>
                <a:ea typeface="Arial"/>
              </a:rPr>
              <a:t>ПОЛОЖЕНИЕ И СОСТАВ МЕЖВЕДОМСТВЕННОГО СОВЕТА ПО ВОПРОСАМ ПРЕДУПРЕЖДЕНИЯ ЛЕГАЛИЗАЦИИ </a:t>
            </a:r>
            <a:r>
              <a:rPr b="0" i="1" lang="en-US" sz="1500" spc="-1" strike="noStrike">
                <a:solidFill>
                  <a:schemeClr val="dk1"/>
                </a:solidFill>
                <a:latin typeface="Calibri"/>
                <a:ea typeface="Calibri"/>
              </a:rPr>
              <a:t>(</a:t>
            </a:r>
            <a:r>
              <a:rPr b="0" i="1" lang="en-US" sz="1500" spc="-1" strike="noStrike">
                <a:solidFill>
                  <a:schemeClr val="dk1"/>
                </a:solidFill>
                <a:latin typeface="Arial"/>
                <a:ea typeface="Arial"/>
              </a:rPr>
              <a:t>ОТМЫВАНИЯ</a:t>
            </a:r>
            <a:r>
              <a:rPr b="0" i="1" lang="en-US" sz="1500" spc="-1" strike="noStrike">
                <a:solidFill>
                  <a:schemeClr val="dk1"/>
                </a:solidFill>
                <a:latin typeface="Calibri"/>
                <a:ea typeface="Calibri"/>
              </a:rPr>
              <a:t>)</a:t>
            </a:r>
            <a:r>
              <a:rPr b="0" i="1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chemeClr val="dk1"/>
                </a:solidFill>
                <a:latin typeface="Arial"/>
                <a:ea typeface="Arial"/>
              </a:rPr>
              <a:t>ДОХОДОВ</a:t>
            </a:r>
            <a:r>
              <a:rPr b="0" i="1" lang="en-US" sz="15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chemeClr val="dk1"/>
                </a:solidFill>
                <a:latin typeface="Arial"/>
                <a:ea typeface="Arial"/>
              </a:rPr>
              <a:t>ПОЛУЧЕННЫХ ПРЕСТУПНЫ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3000" indent="-15552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chemeClr val="dk1"/>
                </a:solidFill>
                <a:latin typeface="Arial"/>
                <a:ea typeface="Arial"/>
              </a:rPr>
              <a:t>ПУТЕМ</a:t>
            </a:r>
            <a:r>
              <a:rPr b="0" i="1" lang="en-US" sz="15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chemeClr val="dk1"/>
                </a:solidFill>
                <a:latin typeface="Arial"/>
                <a:ea typeface="Arial"/>
              </a:rPr>
              <a:t>И ФИНАНСИРОВАНИЯ ТЕРРОРИЗМА УТВЕРЖДАЮТСЯ</a:t>
            </a:r>
            <a:r>
              <a:rPr b="0" i="1" lang="en-US" sz="1500" spc="-1" strike="noStrike">
                <a:solidFill>
                  <a:schemeClr val="dk1"/>
                </a:solidFill>
                <a:latin typeface="Calibri"/>
                <a:ea typeface="Calibri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3000" indent="-15552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УПОЛНОМОЧЕННЫМ ОРГАНОМ ПО ФИНАНСОВОМУ МОНИТОРИНГУ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3000" indent="-15552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000" indent="-155520">
              <a:lnSpc>
                <a:spcPct val="114000"/>
              </a:lnSpc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МЕЖВЕДОМСТВЕННЫЙ СОВЕТ ПО ВОПРОСАМ ПРЕДУПРЕЖДЕНИЯ ЛЕГАЛИЗАЦИ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Я ТЕРРОРИЗМА РАССМАТРИВАЕТ И ОДОБРЯЕТ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3000" indent="-15552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ТЧЕТ ПО ОЦЕНКЕ РИСКОВ ЛЕГАЛИЗАЦИИ 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ТМЫВАНИЯ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ОХОДОВ И ФИНАНСИРОВА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3000" indent="-15552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ТЕРРОРИЗМ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3000" indent="-155520">
              <a:lnSpc>
                <a:spcPct val="100000"/>
              </a:lnSpc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3000" indent="-1555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УПОЛНОМОЧЕННЫЙ ОРГАН ПО ФИНАНСОВОМУ МОНИТОРИНГУ ВПРАВЕ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3000" indent="-15552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ЗАПРАШИВАТЬ НЕОБХОДИМЫЕ ИНФОРМАЦИЮ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СВЕДЕНИЯ И ДОКУМЕНТЫ ОБ ОПЕРАЦИЯХ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3000" indent="-15552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С ДЕНЬГАМИ И 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ЛИ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НЫМ ИМУЩЕСТВОМ У СУБЪЕКТОВ ФИНАНСОВОГО МОНИТОРИНГА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А ТАКЖЕ У ГОСУДАРСТВЕННЫХ ОРГАНОВ РЕСПУБЛИКИ КАЗАХСТАН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3000" indent="-15552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000" indent="-155520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chemeClr val="dk1"/>
                </a:solidFill>
                <a:latin typeface="Calibri"/>
                <a:ea typeface="Calibri"/>
              </a:rPr>
              <a:t>98.</a:t>
            </a:r>
            <a:r>
              <a:rPr b="0" i="1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</a:t>
            </a:r>
            <a:r>
              <a:rPr b="0" i="1" lang="en-US" sz="1500" spc="-1" strike="noStrike">
                <a:solidFill>
                  <a:schemeClr val="dk1"/>
                </a:solidFill>
                <a:latin typeface="Arial"/>
                <a:ea typeface="Arial"/>
              </a:rPr>
              <a:t>УПОЛНОМОЧЕННЫЙ ОРГАН ПО ФИНАНСОВОМУ МОНИТОРИНГУ ВПРАВЕ</a:t>
            </a:r>
            <a:r>
              <a:rPr b="0" i="1" lang="en-US" sz="1500" spc="-1" strike="noStrike">
                <a:solidFill>
                  <a:schemeClr val="dk1"/>
                </a:solidFill>
                <a:latin typeface="Calibri"/>
                <a:ea typeface="Calibri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3000" indent="-15552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ЫНОСИТЬ РЕШЕНИЕ О ПРИОСТАНОВЛЕНИИ ОПЕРАЦИЙ С ДЕНЬГАМИ И 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ЛИ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НЫМ ИМУЩЕСТВОМ В СЛУЧАЕ ОБНАРУЖЕНИЯ ПРИЗНАКОВ ПОДОЗРИТЕЛЬНОЙ ОПЕРАЦИИ НА СРОК ДО ТРЕХ РАБОЧИХ ДНЕ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3000" indent="-155520">
              <a:lnSpc>
                <a:spcPct val="100000"/>
              </a:lnSpc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3000" indent="-155520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99.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УПОЛНОМОЧЕННЫЙ ОРГАН ПО ФИНАНСОВОМУ МОНИТОРИНГУ ВПРАВЕ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3000" indent="-15552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 ЗАПРОСУ ИЛИ САМОСТОЯТЕЛЬНО ОБМЕНИВАТЬСЯ ИНФОРМАЦИЕЙ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СВЕДЕНИЯМИ 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3000" indent="-155520" algn="ctr">
              <a:lnSpc>
                <a:spcPct val="117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ОКУМЕНТАМИ С КОМПЕТЕНТНЫМ ОРГАНОМ ИНОСТРАННОГО ГОСУДАРСТВА В СФЕРЕ ПРОТИВОДЕЙСТВИЯ ЛЕГАЛИЗАЦИИ 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ТМЫВАНИЮ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ОХОДОВ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ЛУЧЕННЫХ ПРЕСТУПНЫМ ПУТЕМ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 ФИНАНСИРОВАНИЮ ТЕРРОРИЗМ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Google Shape;246;p38"/>
          <p:cNvSpPr/>
          <p:nvPr/>
        </p:nvSpPr>
        <p:spPr>
          <a:xfrm>
            <a:off x="30240" y="331920"/>
            <a:ext cx="7476840" cy="73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64960">
              <a:lnSpc>
                <a:spcPct val="100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100.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УПОЛНОМОЧЕННЫЙ ПО ФИНАНСОВОМУ МОНИТОРИНГУ ОРГАН ВПРАВЕ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496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СЕ ОТВЕТЫ ВЕРНЫ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496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16cc52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ВЫНОСИТЬ РЕШЕНИЕ О ПРИОСТАНОВЛЕНИИ ОПЕРАЦИЙ С ДЕНЬГАМИ И </a:t>
            </a:r>
            <a:r>
              <a:rPr b="0" i="1" lang="en-US" sz="1500" spc="-1" strike="noStrike">
                <a:solidFill>
                  <a:srgbClr val="16cc52"/>
                </a:solidFill>
                <a:latin typeface="Calibri"/>
                <a:ea typeface="Calibri"/>
              </a:rPr>
              <a:t>(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ИЛИ</a:t>
            </a:r>
            <a:r>
              <a:rPr b="0" i="1" lang="en-US" sz="1500" spc="-1" strike="noStrike">
                <a:solidFill>
                  <a:srgbClr val="16cc52"/>
                </a:solidFill>
                <a:latin typeface="Calibri"/>
                <a:ea typeface="Calibri"/>
              </a:rPr>
              <a:t>)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ИНЫМ ИМУЩЕСТВОМ В СЛУЧАЕ ОБНАРУЖЕНИЯ ПРИЗНАКОВ ПОДОЗРИТЕЛЬНОЙ ОПЕРАЦИИ НА СРОК ДО ТРЕХ РАБОЧИХ ДНЕ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496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16cc52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ЗАПРАШИВАТЬ НЕОБХОДИМЫЕ ИНФОРМАЦИЮ</a:t>
            </a:r>
            <a:r>
              <a:rPr b="0" i="1" lang="en-US" sz="1500" spc="-1" strike="noStrike">
                <a:solidFill>
                  <a:srgbClr val="16cc52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СВЕДЕНИЯ И ДОКУМЕНТЫ ОБ ОПЕРАЦИЯХ С ДЕНЬГАМИ И </a:t>
            </a:r>
            <a:r>
              <a:rPr b="0" i="1" lang="en-US" sz="1500" spc="-1" strike="noStrike">
                <a:solidFill>
                  <a:srgbClr val="16cc52"/>
                </a:solidFill>
                <a:latin typeface="Calibri"/>
                <a:ea typeface="Calibri"/>
              </a:rPr>
              <a:t>(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ИЛИ</a:t>
            </a:r>
            <a:r>
              <a:rPr b="0" i="1" lang="en-US" sz="1500" spc="-1" strike="noStrike">
                <a:solidFill>
                  <a:srgbClr val="16cc52"/>
                </a:solidFill>
                <a:latin typeface="Calibri"/>
                <a:ea typeface="Calibri"/>
              </a:rPr>
              <a:t>)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ИНЫМ ИМУЩЕСТВОМ У СУБЪЕКТОВ ФИНАНСОВОГО МОНИТОРИНГА</a:t>
            </a:r>
            <a:r>
              <a:rPr b="0" i="1" lang="en-US" sz="1500" spc="-1" strike="noStrike">
                <a:solidFill>
                  <a:srgbClr val="16cc52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А ТАКЖЕ У ГОСУДАРСТВЕННЫХ ОРГАНОВ РЕСПУБЛИКИ КАЗАХСТАН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4960" algn="just">
              <a:lnSpc>
                <a:spcPct val="114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16cc52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НАПРАВЛЯТЬ СООТВЕТСТВУЮЩИМ ГОСУДАРСТВЕННЫМ ОРГАНАМ УВЕДОМЛЕНИЕ О НАРУШЕНИИ ЗАКОНОДАТЕЛЬСТВА РЕСПУБЛИКИ КАЗАХСТАН О ПРОТИВОДЕЙСТВИИ ЛЕГАЛИЗАЦИИ </a:t>
            </a:r>
            <a:r>
              <a:rPr b="0" i="1" lang="en-US" sz="1500" spc="-1" strike="noStrike">
                <a:solidFill>
                  <a:srgbClr val="16cc52"/>
                </a:solidFill>
                <a:latin typeface="Calibri"/>
                <a:ea typeface="Calibri"/>
              </a:rPr>
              <a:t>(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ОТМЫВАНИЮ</a:t>
            </a:r>
            <a:r>
              <a:rPr b="0" i="1" lang="en-US" sz="1500" spc="-1" strike="noStrike">
                <a:solidFill>
                  <a:srgbClr val="16cc52"/>
                </a:solidFill>
                <a:latin typeface="Calibri"/>
                <a:ea typeface="Calibri"/>
              </a:rPr>
              <a:t>)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ДОХОДОВ</a:t>
            </a:r>
            <a:r>
              <a:rPr b="0" i="1" lang="en-US" sz="1500" spc="-1" strike="noStrike">
                <a:solidFill>
                  <a:srgbClr val="16cc52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ПОЛУЧЕННЫХ ПРЕСТУПНЫМ ПУТЕМ</a:t>
            </a:r>
            <a:r>
              <a:rPr b="0" i="1" lang="en-US" sz="1500" spc="-1" strike="noStrike">
                <a:solidFill>
                  <a:srgbClr val="16cc52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496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ФИНАНСИРОВАНИЮ ТЕРРОРИЗМ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496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>
              <a:lnSpc>
                <a:spcPct val="111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101.</a:t>
            </a:r>
            <a:r>
              <a:rPr b="0" i="1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 </a:t>
            </a:r>
            <a:r>
              <a:rPr b="0" i="1" lang="en-US" sz="1500" spc="-1" strike="noStrike">
                <a:solidFill>
                  <a:schemeClr val="dk1"/>
                </a:solidFill>
                <a:latin typeface="Arial"/>
                <a:ea typeface="Arial"/>
              </a:rPr>
              <a:t>УПОЛНОМОЧЕННЫЙ ОРГАН ПО ФИНАНСОВОМУ МОНИТОРИНГУ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НЕТ ПРАВИЛЬНОГО ОТВЕТ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496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16cc52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РАЗРАБАТЫВАТЬ ПРАВИЛА ВНУТРЕННЕГО КОНТРОЛЯ ДЛЯ СУБЪЕКТОВ ФИНАНСОВОГ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496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МОНИТОРИНГ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496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16cc52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ВЫНОСИТЬ РЕШЕНИЕ О ПРИОСТАНОВЛЕНИИ ОПЕРАЦИЙ С ДЕНЬГАМИ И </a:t>
            </a:r>
            <a:r>
              <a:rPr b="0" i="1" lang="en-US" sz="1500" spc="-1" strike="noStrike">
                <a:solidFill>
                  <a:srgbClr val="16cc52"/>
                </a:solidFill>
                <a:latin typeface="Calibri"/>
                <a:ea typeface="Calibri"/>
              </a:rPr>
              <a:t>(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ИЛИ</a:t>
            </a:r>
            <a:r>
              <a:rPr b="0" i="1" lang="en-US" sz="1500" spc="-1" strike="noStrike">
                <a:solidFill>
                  <a:srgbClr val="16cc52"/>
                </a:solidFill>
                <a:latin typeface="Calibri"/>
                <a:ea typeface="Calibri"/>
              </a:rPr>
              <a:t>)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ИНЫ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496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ИМУЩЕСТВОМ В СЛУЧАЕ ОБНАРУЖЕНИЯ ПРИЗНАКОВ ПОДОЗРИТЕЛЬНОЙ ОПЕРАЦИИ НА СРОК ДО ПЯТИ РАБОЧИХ ДНЕ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4960" algn="ctr">
              <a:lnSpc>
                <a:spcPct val="14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16cc52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ЗАПРАШИВАТЬ НЕОБХОДИМЫЕ ИНФОРМАЦИЮ</a:t>
            </a:r>
            <a:r>
              <a:rPr b="0" i="1" lang="en-US" sz="1500" spc="-1" strike="noStrike">
                <a:solidFill>
                  <a:srgbClr val="16cc52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СВЕДЕНИЯ И ДОКУМЕНТЫ ОБ ОПЕРАЦИЯХ С ДЕНЬГАМИ И </a:t>
            </a:r>
            <a:r>
              <a:rPr b="0" i="1" lang="en-US" sz="1500" spc="-1" strike="noStrike">
                <a:solidFill>
                  <a:srgbClr val="16cc52"/>
                </a:solidFill>
                <a:latin typeface="Calibri"/>
                <a:ea typeface="Calibri"/>
              </a:rPr>
              <a:t>(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ИЛИ</a:t>
            </a:r>
            <a:r>
              <a:rPr b="0" i="1" lang="en-US" sz="1500" spc="-1" strike="noStrike">
                <a:solidFill>
                  <a:srgbClr val="16cc52"/>
                </a:solidFill>
                <a:latin typeface="Calibri"/>
                <a:ea typeface="Calibri"/>
              </a:rPr>
              <a:t>)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ИНЫМ ИМУЩЕСТВОМ У ФИЗИЧЕСКИХ ЛИ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Google Shape;247;p38"/>
          <p:cNvSpPr/>
          <p:nvPr/>
        </p:nvSpPr>
        <p:spPr>
          <a:xfrm>
            <a:off x="123840" y="6676920"/>
            <a:ext cx="729720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102.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УПОЛНОМОЧЕННЫЙ ОРГАН ПО ФИНАНСОВОМУ МОНИТОРИНГУ ВПРАВЕ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СЕ ОТВЕТЫ ВЕРНЫ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4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16cc52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НАПРАВЛЯТЬ СООТВЕТСТВУЮЩИМ ГОСУДАРСТВЕННЫМ ОРГАНАМ УВЕДОМЛЕНИЕ О НАРУШЕНИИ ЗАКОНОДАТЕЛЬСТВА РЕСПУБЛИКИ КАЗАХСТАН О ПРОТИВОДЕЙСТВИИ ЛЕГАЛИЗАЦИИ </a:t>
            </a:r>
            <a:r>
              <a:rPr b="0" i="1" lang="en-US" sz="1500" spc="-1" strike="noStrike">
                <a:solidFill>
                  <a:srgbClr val="16cc52"/>
                </a:solidFill>
                <a:latin typeface="Calibri"/>
                <a:ea typeface="Calibri"/>
              </a:rPr>
              <a:t>(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ОТМЫВАНИЮ</a:t>
            </a:r>
            <a:r>
              <a:rPr b="0" i="1" lang="en-US" sz="1500" spc="-1" strike="noStrike">
                <a:solidFill>
                  <a:srgbClr val="16cc52"/>
                </a:solidFill>
                <a:latin typeface="Calibri"/>
                <a:ea typeface="Calibri"/>
              </a:rPr>
              <a:t>)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ДОХОДОВ</a:t>
            </a:r>
            <a:r>
              <a:rPr b="0" i="1" lang="en-US" sz="1500" spc="-1" strike="noStrike">
                <a:solidFill>
                  <a:srgbClr val="16cc52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ПОЛУЧЕННЫХ ПРЕСТУПНЫМ ПУТЕМ</a:t>
            </a:r>
            <a:r>
              <a:rPr b="0" i="1" lang="en-US" sz="1500" spc="-1" strike="noStrike">
                <a:solidFill>
                  <a:srgbClr val="16cc52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ФИНАНСИРОВАНИЮ ТЕРРОРИЗМ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16cc52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ПО ЗАПРОСУ ИЛИ САМОСТОЯТЕЛЬНО ОБМЕНИВАТЬСЯ ИНФОРМАЦИЕЙ</a:t>
            </a:r>
            <a:r>
              <a:rPr b="0" i="1" lang="en-US" sz="1500" spc="-1" strike="noStrike">
                <a:solidFill>
                  <a:srgbClr val="16cc52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СВЕДЕНИЯМИ И ДОКУМЕНТАМИ С КОМПЕТЕНТНЫМ ОРГАНОМ ИНОСТРАННОГО ГОСУДАРСТВА В СФЕРЕ ПРОТИВОДЕЙСТВИЯ ЛЕГАЛИЗАЦИИ </a:t>
            </a:r>
            <a:r>
              <a:rPr b="0" i="1" lang="en-US" sz="1500" spc="-1" strike="noStrike">
                <a:solidFill>
                  <a:srgbClr val="16cc52"/>
                </a:solidFill>
                <a:latin typeface="Calibri"/>
                <a:ea typeface="Calibri"/>
              </a:rPr>
              <a:t>(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ОТМЫВАНИЮ</a:t>
            </a:r>
            <a:r>
              <a:rPr b="0" i="1" lang="en-US" sz="1500" spc="-1" strike="noStrike">
                <a:solidFill>
                  <a:srgbClr val="16cc52"/>
                </a:solidFill>
                <a:latin typeface="Calibri"/>
                <a:ea typeface="Calibri"/>
              </a:rPr>
              <a:t>)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ДОХОДОВ</a:t>
            </a:r>
            <a:r>
              <a:rPr b="0" i="1" lang="en-US" sz="1500" spc="-1" strike="noStrike">
                <a:solidFill>
                  <a:srgbClr val="16cc52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ПОЛУЧЕННЫХ ПРЕСТУПНЫМ ПУТЕМ</a:t>
            </a:r>
            <a:r>
              <a:rPr b="0" i="1" lang="en-US" sz="1500" spc="-1" strike="noStrike">
                <a:solidFill>
                  <a:srgbClr val="16cc52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И ФИНАНСИРОВАНИЮ ТЕРРОРИЗМ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16cc52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ВЫНОСИТЬ РЕШЕНИЕ О ПРИОСТАНОВЛЕНИИ ОПЕРАЦИЙ С ДЕНЬГАМИ И </a:t>
            </a:r>
            <a:r>
              <a:rPr b="0" i="1" lang="en-US" sz="1500" spc="-1" strike="noStrike">
                <a:solidFill>
                  <a:srgbClr val="16cc52"/>
                </a:solidFill>
                <a:latin typeface="Calibri"/>
                <a:ea typeface="Calibri"/>
              </a:rPr>
              <a:t>(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ИЛИ</a:t>
            </a:r>
            <a:r>
              <a:rPr b="0" i="1" lang="en-US" sz="1500" spc="-1" strike="noStrike">
                <a:solidFill>
                  <a:srgbClr val="16cc52"/>
                </a:solidFill>
                <a:latin typeface="Calibri"/>
                <a:ea typeface="Calibri"/>
              </a:rPr>
              <a:t>)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ИНЫМ ИМУЩЕСТВОМ В СЛУЧАЕ ОБНАРУЖЕНИЯ ПРИЗНАКОВ ПОДОЗРИТЕЛЬНОЙ ОПЕРАЦИИ НА СРОК ДО ТРЕХ РАБОЧИХ ДНЕ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Google Shape;252;p39"/>
          <p:cNvSpPr/>
          <p:nvPr/>
        </p:nvSpPr>
        <p:spPr>
          <a:xfrm>
            <a:off x="17640" y="331920"/>
            <a:ext cx="7524360" cy="12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63680" indent="-347760">
              <a:lnSpc>
                <a:spcPct val="100000"/>
              </a:lnSpc>
              <a:buClr>
                <a:srgbClr val="000000"/>
              </a:buClr>
              <a:buFont typeface="Trebuchet MS"/>
              <a:buAutoNum type="arabicPeriod" startAt="103"/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УПОЛНОМОЧЕННЫЙ ОРГАН ПО ФИНАНСОВОМУ МОНИТОРИНГУ ВПРАВЕ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С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3680" indent="-34776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СОВМЕСТНО С ПРАВООХРАНИТЕЛЬНЫМИ И СПЕЦИАЛЬНЫМИ ГОСУДАРСТВЕННЫМ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3680" indent="-347760" algn="ctr">
              <a:lnSpc>
                <a:spcPct val="133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РГАНАМИ ОПРЕДЕЛЯТЬ ПОРЯДОК ВЗАИМОДЕЙСТВИЯ ПО ОБМЕНУ И ПЕРЕДАЧЕ СВЕДЕНИЙ И ИНФОРМАЦИИ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СВЯЗАННЫХ С ЛЕГАЛИЗАЦИЕЙ 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ТМЫВАНИЕМ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ОХОДОВ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ЛУЧЕННЫХ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3680" indent="-34776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РЕСТУПНЫМ ПУТЕМ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 ФИНАНСИРОВАНИЕМ ТЕРРОРИЗМ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3680" indent="-34776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3680" indent="-34776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chemeClr val="dk1"/>
                </a:solidFill>
                <a:latin typeface="Calibri"/>
                <a:ea typeface="Calibri"/>
              </a:rPr>
              <a:t>104</a:t>
            </a:r>
            <a:r>
              <a:rPr b="0" i="1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chemeClr val="dk1"/>
                </a:solidFill>
                <a:latin typeface="Arial"/>
                <a:ea typeface="Arial"/>
              </a:rPr>
              <a:t>УПОЛНОМОЧЕННЫЙ ОРГАН ПО ФИНАНСОВОМУ МОНИТОРИНГУ ОБЯЗАН</a:t>
            </a:r>
            <a:r>
              <a:rPr b="0" i="1" lang="en-US" sz="1500" spc="-1" strike="noStrike">
                <a:solidFill>
                  <a:schemeClr val="dk1"/>
                </a:solidFill>
                <a:latin typeface="Calibri"/>
                <a:ea typeface="Calibri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3680" indent="-347760" algn="ctr">
              <a:lnSpc>
                <a:spcPct val="14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РИНИМАТЬ МЕРЫ ПО ПРОТИВОДЕЙСТВИЮ ЛЕГАЛИЗАЦИИ 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ТМЫВАНИЮ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ОХОДОВ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ЛУЧЕННЫХ ПРЕСТУПНЫМ ПУТЕМ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 ФИНАНСИРОВАНИЮ ТЕРРОРИЗМ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3680" indent="-347760">
              <a:lnSpc>
                <a:spcPct val="100000"/>
              </a:lnSpc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47760"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УПОЛНОМОЧЕННЫЙ ОРГАН ПО ФИНАНСОВОМУ МОНИТОРИНГУ ОБЯЗАН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3680" indent="-34776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БЕСПЕЧИВАТЬ СООТВЕТСТВУЮЩИЙ РЕЖИМ ХРАНЕНИЯ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ЗАЩИТЫ И СОХРАННОСТЬ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3680" indent="-347760" algn="ctr">
              <a:lnSpc>
                <a:spcPct val="117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ЛУЧЕННЫХ В ПРОЦЕССЕ СВОЕЙ ДЕЯТЕЛЬНОСТИ ИНФОРМАЦИИ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СВЕДЕНИЙ И ДОКУМЕНТОВ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СОСТАВЛЯЮЩИХ СЛУЖЕБНУЮ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КОММЕРЧЕСКУЮ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БАНКОВСКУЮ ИЛИ ИНУЮ ОХРАНЯЕМУЮ ЗАКОНОМ ТАЙНУ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3680" indent="-347760">
              <a:lnSpc>
                <a:spcPct val="100000"/>
              </a:lnSpc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47760"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УПОЛНОМОЧЕННЫЙ ОРГАН ПО ФИН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.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МОНИТОРИНГУ ОБЯЗАН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3680" indent="-34776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НЕТ ПРАВИЛЬНОГО ОТВЕТ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3680" indent="-347760" algn="ctr">
              <a:lnSpc>
                <a:spcPct val="117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16cc52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ПО ЗАПРОСУ ИЛИ САМОСТОЯТЕЛЬНО ОБМЕНИВАТЬСЯ ИНФОРМАЦИЕЙ</a:t>
            </a:r>
            <a:r>
              <a:rPr b="0" i="1" lang="en-US" sz="1500" spc="-1" strike="noStrike">
                <a:solidFill>
                  <a:srgbClr val="16cc52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СВЕДЕНИЯМИ И ДОКУМЕНТАМИ С КОМПЕТЕНТНЫМ ОРГАНОМ ИНОСТРАННОГО ГОСУДАРСТВА В СФЕРЕ ПРОТИВОДЕЙСТВИЯ ЛЕГАЛИЗАЦИИ </a:t>
            </a:r>
            <a:r>
              <a:rPr b="0" i="1" lang="en-US" sz="1500" spc="-1" strike="noStrike">
                <a:solidFill>
                  <a:srgbClr val="16cc52"/>
                </a:solidFill>
                <a:latin typeface="Calibri"/>
                <a:ea typeface="Calibri"/>
              </a:rPr>
              <a:t>(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ОТМЫВАНИЮ</a:t>
            </a:r>
            <a:r>
              <a:rPr b="0" i="1" lang="en-US" sz="1500" spc="-1" strike="noStrike">
                <a:solidFill>
                  <a:srgbClr val="16cc52"/>
                </a:solidFill>
                <a:latin typeface="Calibri"/>
                <a:ea typeface="Calibri"/>
              </a:rPr>
              <a:t>)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ДОХОДОВ</a:t>
            </a:r>
            <a:r>
              <a:rPr b="0" i="1" lang="en-US" sz="1500" spc="-1" strike="noStrike">
                <a:solidFill>
                  <a:srgbClr val="16cc52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ПОЛУЧЕННЫХ ПРЕСТУПНЫМ ПУТЕМ</a:t>
            </a:r>
            <a:r>
              <a:rPr b="0" i="1" lang="en-US" sz="1500" spc="-1" strike="noStrike">
                <a:solidFill>
                  <a:srgbClr val="16cc52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И ФИНАНСИРОВАНИЮ ТЕРРОРИЗМ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3680" indent="-34776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16cc52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ВЫНОСИТЬ РЕШЕНИЕ О ПРИОСТАНОВЛЕНИИ ОПЕРАЦИЙ С ДЕНЬГАМИ И </a:t>
            </a:r>
            <a:r>
              <a:rPr b="0" i="1" lang="en-US" sz="1500" spc="-1" strike="noStrike">
                <a:solidFill>
                  <a:srgbClr val="16cc52"/>
                </a:solidFill>
                <a:latin typeface="Calibri"/>
                <a:ea typeface="Calibri"/>
              </a:rPr>
              <a:t>(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ИЛИ</a:t>
            </a:r>
            <a:r>
              <a:rPr b="0" i="1" lang="en-US" sz="1500" spc="-1" strike="noStrike">
                <a:solidFill>
                  <a:srgbClr val="16cc52"/>
                </a:solidFill>
                <a:latin typeface="Calibri"/>
                <a:ea typeface="Calibri"/>
              </a:rPr>
              <a:t>)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ИНЫМ ИМУЩЕСТВОМ В СЛУЧАЕ ОБНАРУЖЕНИЯ ПРИЗНАКОВ ПОДОЗРИТЕЛЬНОЙ ОПЕРАЦИИ НА СРОК ДО ТРЕХ РАБОЧИХ ДНЕ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3680" indent="-347760">
              <a:lnSpc>
                <a:spcPct val="114000"/>
              </a:lnSpc>
              <a:buClr>
                <a:srgbClr val="16cc52"/>
              </a:buClr>
              <a:buFont typeface="Calibri"/>
              <a:buChar char="•"/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НАПРАВЛЯТЬ СООТВЕТСТВУЮЩИМ ГОСУДАРСТВЕННЫМ ОРГАНАМ УВЕДОМЛЕНИЕ О НАРУШЕНИИ ЗАКОНОДАТЕЛЬСТВА РЕСПУБЛИКИ КАЗАХСТАН О ПРОТИВОДЕЙСТВИИ ЛЕГАЛИЗАЦИИ </a:t>
            </a:r>
            <a:r>
              <a:rPr b="0" i="1" lang="en-US" sz="1500" spc="-1" strike="noStrike">
                <a:solidFill>
                  <a:srgbClr val="16cc52"/>
                </a:solidFill>
                <a:latin typeface="Calibri"/>
                <a:ea typeface="Calibri"/>
              </a:rPr>
              <a:t>(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ОТМЫВАНИЮ</a:t>
            </a:r>
            <a:r>
              <a:rPr b="0" i="1" lang="en-US" sz="1500" spc="-1" strike="noStrike">
                <a:solidFill>
                  <a:srgbClr val="16cc52"/>
                </a:solidFill>
                <a:latin typeface="Calibri"/>
                <a:ea typeface="Calibri"/>
              </a:rPr>
              <a:t>)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ДОХОДОВ</a:t>
            </a:r>
            <a:r>
              <a:rPr b="0" i="1" lang="en-US" sz="1500" spc="-1" strike="noStrike">
                <a:solidFill>
                  <a:srgbClr val="16cc52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ПОЛУЧЕННЫХ ПРЕСТУПНЫМ ПУТЕМ</a:t>
            </a:r>
            <a:r>
              <a:rPr b="0" i="1" lang="en-US" sz="1500" spc="-1" strike="noStrike">
                <a:solidFill>
                  <a:srgbClr val="16cc52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3680" indent="-34776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ФИНАНСИРОВАНИЮ ТЕРРОРИЗМ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3680" indent="-347760">
              <a:lnSpc>
                <a:spcPct val="100000"/>
              </a:lnSpc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63680" indent="-347760">
              <a:lnSpc>
                <a:spcPct val="112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107.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БЯЗАН ЛИ УПОЛНОМОЧЕННЫЙ ОРГАН ПО ФИНАНСОВОМУ МОНИТОРИНГУ ПРИНИМАТЬ МЕРЫ ПО ПРОТИВОДЕЙСТВИЮ ЛЕГАЛИЗАЦИ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3680" indent="-347760" algn="ctr">
              <a:lnSpc>
                <a:spcPct val="14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3680" indent="-347760" algn="ctr">
              <a:lnSpc>
                <a:spcPct val="113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А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БЯЗАН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Google Shape;257;p40"/>
          <p:cNvSpPr/>
          <p:nvPr/>
        </p:nvSpPr>
        <p:spPr>
          <a:xfrm>
            <a:off x="6480" y="344520"/>
            <a:ext cx="7532280" cy="117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16080" indent="-281160">
              <a:lnSpc>
                <a:spcPct val="113000"/>
              </a:lnSpc>
              <a:buClr>
                <a:srgbClr val="000000"/>
              </a:buClr>
              <a:buFont typeface="Trebuchet MS"/>
              <a:buAutoNum type="arabicPeriod" startAt="108"/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УПОЛНОМОЧЕННЫЙ ОРГАН ПО ФИНАНСОВОМУ МОНИТОРИНГУ ОБЯЗАН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920" indent="281160" algn="ctr">
              <a:lnSpc>
                <a:spcPct val="113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СЕ ОТВЕТЫ ВЕРН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920" indent="281160">
              <a:lnSpc>
                <a:spcPct val="100000"/>
              </a:lnSpc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6080" indent="-281160" algn="ctr">
              <a:lnSpc>
                <a:spcPct val="100000"/>
              </a:lnSpc>
              <a:buClr>
                <a:srgbClr val="000000"/>
              </a:buClr>
              <a:buFont typeface="Trebuchet MS"/>
              <a:buAutoNum type="arabicPeriod" startAt="109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ВЫНОСИТЬ РЕШЕНИЕ О ПРИОСТАНОВЛЕНИИ ОПЕРАЦИЙ С ДЕНЬГАМИ 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Л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920" indent="281160" algn="ctr">
              <a:lnSpc>
                <a:spcPct val="111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НЫМ ИМУЩЕСТВОМ В СЛУЧАЕ ОБНАРУЖЕНИЯ ПРИЗНАКОВ ПОДОЗРИТЕЛЬНОЙ ОПЕРАЦИИ НА СРОК ДО ТРЕХ РАБОЧИХ ДНЕЙ ВПРАВЕ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920" indent="28116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АФ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16080" indent="-281160">
              <a:lnSpc>
                <a:spcPct val="112000"/>
              </a:lnSpc>
              <a:spcBef>
                <a:spcPts val="400"/>
              </a:spcBef>
              <a:buClr>
                <a:srgbClr val="000000"/>
              </a:buClr>
              <a:buFont typeface="Trebuchet MS"/>
              <a:buAutoNum type="arabicPeriod" startAt="110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ЛЖНЫ ЛИ СУБЪЕКТЫ ФИНАНСОВОГО МОНИТОРИНГА ПРИНИМАТЬ МЕРЫ ПО НАДЛЕЖАЩЕЙ ПРОВЕРКЕ СВОИХ КЛИЕНТОВ И БЕНЕФИЦИАРНЫХ СОБСТВЕННИК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920" indent="28116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•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А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.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ОЛЖН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920" indent="281160">
              <a:lnSpc>
                <a:spcPct val="100000"/>
              </a:lnSpc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6080" indent="-281160">
              <a:lnSpc>
                <a:spcPct val="111000"/>
              </a:lnSpc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УБЪЕКТЫ ФИНАНСОВОГО МОНИТОРИНГА ОСУЩЕСТВЛЯЮТ НАДЛЕЖАЩУЮ ПРОВЕРКУ КЛИЕНТОВ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Х ПРЕДСТАВИТЕЛЕЙ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 БЕНЕФИЦИАРНЫХ СОБСТВЕННИКО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920" indent="28116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В СЛУЧАЯХ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920" indent="28116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•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УСТАНОВЛЕНИЯ ДЕЛОВЫХ ОТНОШЕНИЙ С КЛИЕНТО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920" indent="281160">
              <a:lnSpc>
                <a:spcPct val="100000"/>
              </a:lnSpc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6080" indent="-281160">
              <a:lnSpc>
                <a:spcPct val="111000"/>
              </a:lnSpc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УБЪЕКТЫ ФИНАНСОВОГО МОНИТОРИНГА ОСУЩЕСТВЛЯЮТ НАДЛЕЖАЩУЮ ПРОВЕРКУ КЛИЕНТОВ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Х ПРЕДСТАВИТЕЛЕЙ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 БЕНЕФИЦИАРНЫХ СОБСТВЕННИКО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920" indent="28116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В СЛУЧАЯХ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920" indent="28116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СЕ ОТВЕТЫ ВЕРН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920" indent="281160">
              <a:lnSpc>
                <a:spcPct val="100000"/>
              </a:lnSpc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6080" indent="-281160">
              <a:lnSpc>
                <a:spcPct val="111000"/>
              </a:lnSpc>
              <a:buClr>
                <a:srgbClr val="20202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КАКИЕ МЕРЫ ВКЛЮЧАЕТ В СЕБЯ НАДЛЕЖАЩАЯ ПРОВЕРКА СУБЪЕКТАМИ ФИНАНСОВОГО МОНИТОРИНГА СВОИХ КЛИЕНТОВ 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ИХ ПРЕДСТАВИТЕЛЕЙ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920" indent="28116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БЕНЕФИЦИАРНЫХ СОБСТВЕННИКОВ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920" indent="28116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СЕ ОТВЕТЫ ВЕРН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920" indent="281160">
              <a:lnSpc>
                <a:spcPct val="100000"/>
              </a:lnSpc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6080" indent="-281160">
              <a:lnSpc>
                <a:spcPct val="100000"/>
              </a:lnSpc>
              <a:buClr>
                <a:srgbClr val="000000"/>
              </a:buClr>
              <a:buFont typeface="Trebuchet MS"/>
              <a:buAutoNum type="arabicPeriod" startAt="109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КЕМ РАЗРАБАТЫВАЮТСЯ ПРАВИЛА ВНУТРЕННЕГО КОНТРОЛЯ ТЕРРОРИЗМ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920" indent="28116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СУБЪЕКТОМ ФИНАНСОВОГО МОНИТОРИНГ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920" indent="28116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6080" indent="-281160">
              <a:lnSpc>
                <a:spcPct val="112000"/>
              </a:lnSpc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НАДЛЕЖАЩАЯ ПРОВЕРКА СУБЪЕКТАМИ ФИНАНСОВОГО МОНИТОРИНГА СВОИХ КЛИЕНТОВ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Х ПРЕДСТАВИТЕЛЕЙ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 БЕНЕФИЦИАРНЫХ СОБСТВЕННИКОВ ВКЛЮЧАЕ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920" indent="28116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СУЩЕСТВЛЕНИЕ СЛЕДУЮЩИХ МЕР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920" indent="28116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УСТАНОВЛЕНИЕ ПРЕДПОЛАГАЕМОЙ ЦЕЛИ И ХАРАКТЕРА ДЕЛОВЫХ ОТНОШЕНИ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920" indent="28116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6080" indent="-281160">
              <a:lnSpc>
                <a:spcPct val="112000"/>
              </a:lnSpc>
              <a:buClr>
                <a:srgbClr val="000000"/>
              </a:buClr>
              <a:buFont typeface="Trebuchet MS"/>
              <a:buAutoNum type="arabicPeriod" startAt="109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УБЪЕКТЫ ФИНАНСОВОГО МОНИТОРИНГА В ЦЕЛЯХ ПРЕДОТВРАЩЕНИЯ ЛЕГАЛИЗАЦИ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920" indent="281160" algn="ctr">
              <a:lnSpc>
                <a:spcPct val="113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ФИНАНСИРОВАНИЯ ТЕРРОРИЗМА РАЗРАБАТЫВАЮТ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920" indent="281160" algn="ctr">
              <a:lnSpc>
                <a:spcPct val="113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НЕТ ПРАВИЛЬНОГО ОТВЕТ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Google Shape;262;p41"/>
          <p:cNvSpPr/>
          <p:nvPr/>
        </p:nvSpPr>
        <p:spPr>
          <a:xfrm>
            <a:off x="15840" y="254160"/>
            <a:ext cx="7543440" cy="73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15800" indent="398520">
              <a:lnSpc>
                <a:spcPct val="117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117.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ТРЕБОВАНИЯ К НАДЛЕЖАЩЕЙ ПРОВЕРКЕ КЛИЕНТОВ В СЛУЧАЕ ДИСТАНЦИОННОГО УСТАНОВЛЕНИЯ ДЕЛОВЫХ ОТНОШЕНИЙ СУБЪЕКТАМ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15800" indent="398520" algn="ctr">
              <a:lnSpc>
                <a:spcPct val="133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ФИНАНСОВОГО МОНИТОРИНГА ДЛЯ БАНК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БИРЖ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ТРАХОВЫХ ОРГАНИЗАЦИИ И ОРГАНИЗАЦИ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СУЩЕСТВЛЯЮЩИЕ МИКРОФИНАНСОВУЮ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15800" indent="398520" algn="ctr">
              <a:lnSpc>
                <a:spcPct val="10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ЕЯТЕЛЬНОСТЬУСТАНАВЛИВАЮТС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15800" indent="39852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УПОЛНОМОЧЕННЫМ ОРГАНОМ ПО РЕГУЛИРОВАНИЮ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КОНТРОЛЯ И НАДЗОРУ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15800" indent="398520" algn="ctr">
              <a:lnSpc>
                <a:spcPct val="117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ФИНАНСОВОГО РЫНКА И ФИНАНСОВЫХ ОРГАНИЗАЦИЙ ПО СОГЛАСОВАНИЮ С КОМИТЕТОМ ПО ФИНАНСОВОМУ МОНИТОРИНГУ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15800" indent="39852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5800" indent="398520" algn="ctr">
              <a:lnSpc>
                <a:spcPct val="119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118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....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БРАЗУЕТ МЕЖВЕДОМСТВЕННЫЙ СОВЕТ ПО ВОПРОСАМ ПРЕДУПРЕЖДЕНИЯ ЛЕГАЛИЗАЦИ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Я ТЕРРОРИЗМ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15800" indent="39852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•</a:t>
            </a:r>
            <a:r>
              <a:rPr b="0" lang="en-US" sz="1500" spc="-1" strike="noStrike">
                <a:solidFill>
                  <a:srgbClr val="16cc52"/>
                </a:solidFill>
                <a:latin typeface="Lucida Sans"/>
                <a:ea typeface="Lucida Sans"/>
              </a:rPr>
              <a:t>КОМИТЕТ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АГЕНСТВО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ПО ФИНАНСОВОМУ МОНИТОРИНГУ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15800" indent="398520"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14320" indent="-398520">
              <a:lnSpc>
                <a:spcPct val="112000"/>
              </a:lnSpc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КТО ВХОДИТ В СОСТАВ МЕЖВЕДОМСТВЕННОГО СОВЕТА ПО ВОПРОСАМ ПРЕДУПРЕЖДЕНИЯ ЛЕГАЛИЗАЦИ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15800" indent="39852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ЕСТУПНЫМ ПУТЕ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Я ТЕРРОРИЗМ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15800" indent="39852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РЕДСТАВИТЕЛИ ПРАВООХРАНИТЕЛЬНЫХ И СПЕЦИАЛЬНЫХ ГОСУДАРСТВЕННЫХ ОРГАНО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15800" indent="39852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4320" indent="-398520">
              <a:lnSpc>
                <a:spcPct val="114000"/>
              </a:lnSpc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КЕМ УТВЕРЖДАЕТСЯ ПОЛОЖЕНИЕ И СОСТАВ МЕЖВЕДОМСТВЕННОГО СОВЕТА ПО ВОПРОСАМ ПРЕДУПРЕЖДЕНИЯ ЛЕГАЛИЗАЦИ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Я ТЕРРОРИЗМ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15800" indent="39852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УПОЛНОМОЧЕННЫМ ОРГАНОМ ПО ФИНАНСОВОМУ МОНИТОРИНГУ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Google Shape;263;p41"/>
          <p:cNvSpPr/>
          <p:nvPr/>
        </p:nvSpPr>
        <p:spPr>
          <a:xfrm>
            <a:off x="-1440" y="6594480"/>
            <a:ext cx="2538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121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Google Shape;264;p41"/>
          <p:cNvSpPr/>
          <p:nvPr/>
        </p:nvSpPr>
        <p:spPr>
          <a:xfrm>
            <a:off x="738360" y="6594480"/>
            <a:ext cx="6422760" cy="11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АВИЛА ПРОВЕДЕНИЯ ОЦЕНКИ РИСКОВ ЛЕГАЛИЗАЦИ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algn="ctr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 И ФИНАНСИРОВАНИЯ ТЕРРОРИЗМА УТВЕРЖДАЮТСЯ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…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УПОЛНОМОЧЕННЫМ ОРГАНОМ ПО ФИНАНСОВОМУ МОНИТОРИНГУ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Google Shape;265;p41"/>
          <p:cNvSpPr/>
          <p:nvPr/>
        </p:nvSpPr>
        <p:spPr>
          <a:xfrm>
            <a:off x="96840" y="7670880"/>
            <a:ext cx="7351200" cy="22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548080" indent="-2536920">
              <a:lnSpc>
                <a:spcPct val="111000"/>
              </a:lnSpc>
              <a:tabLst>
                <a:tab algn="l" pos="0"/>
              </a:tabLst>
            </a:pPr>
            <a:r>
              <a:rPr b="1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122.</a:t>
            </a:r>
            <a:r>
              <a:rPr b="1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АВИТЕЛЬСТВО РЕСПУБЛИКИ КАЗАХСТАН ПО ИТОГАМ ПРОВЕДЕНИЯ ОЦЕНКИ РИСКОВ УТВЕРЖДАЕТ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… </a:t>
            </a:r>
            <a:r>
              <a:rPr b="1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548080" indent="-253692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НЕТ ПРАВИЛЬНО ОТВЕТ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548080" indent="-2536920">
              <a:lnSpc>
                <a:spcPct val="100000"/>
              </a:lnSpc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48080" indent="-2536920">
              <a:lnSpc>
                <a:spcPct val="100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123.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УБЪЕКТЫ ФИНАНСОВОГО МОНИТОРИНГА И ИХ РАБОТНИКИ НЕ ВПРАВЕ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548080" indent="-253692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ЗВЕЩАТЬ КЛИЕНТОВ И ИНЫХ ЛИЦ О ПРЕДОСТАВЛЕНИИ В УПОЛНОМОЧЕННЫЙ ОРГАН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548080" indent="-253692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 ФИНАНСОВОМУ МОНИТОРИНГУ ИНФОРМАЦИ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Google Shape;270;p42"/>
          <p:cNvSpPr/>
          <p:nvPr/>
        </p:nvSpPr>
        <p:spPr>
          <a:xfrm>
            <a:off x="14400" y="339840"/>
            <a:ext cx="7527600" cy="127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00280" indent="-1654200">
              <a:lnSpc>
                <a:spcPct val="111000"/>
              </a:lnSpc>
              <a:buClr>
                <a:srgbClr val="000000"/>
              </a:buClr>
              <a:buFont typeface="Trebuchet MS"/>
              <a:buAutoNum type="arabicPeriod" startAt="124"/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ТРЕБОВАНИЯ К СУБЪЕКТАМ ФИНАНСОВОГО МОНИТОРИНГА ПО ПОДГОТОВКЕ И ОБУЧЕНИЮ РАБОТНИКОВ УТВЕРЖДАЮТСЯ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… 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00280" indent="-165420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УПОЛНОМОЧЕННЫМ ОРГАНОМ ПО ФИНАНСОВОМУ МОНИТОРИНГУ ПО СОГЛАСОВАНИЮ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00280" indent="-165420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С СООТВЕТСТВУЮЩИМИ ГОСУДАРСТВЕННЫМИ ОРГАНАМ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00280" indent="-165420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00280" indent="-1654200">
              <a:lnSpc>
                <a:spcPct val="116000"/>
              </a:lnSpc>
              <a:buClr>
                <a:srgbClr val="000000"/>
              </a:buClr>
              <a:buFont typeface="Trebuchet MS"/>
              <a:buAutoNum type="arabicPeriod" startAt="125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В СООТВЕТСТВИИ С ЗАКОНОМ РЕСПУБЛИКИ КАЗАХСТАН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«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 ПРОТИВОДЕЙСТВИИ ЛЕГАЛИЗАЦИ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 И ФИНАНСИРОВАНИЮ ТЕРРОРИЗМ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»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К СУБЪЕКТАМ ФИНАНСОВОГО МОНИТОРИНГ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00280" indent="-165420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НОСЯТС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00280" indent="-1654200" algn="ctr">
              <a:lnSpc>
                <a:spcPct val="116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БАНКИ</a:t>
            </a:r>
            <a:r>
              <a:rPr b="0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ОРГАНИЗАЦИИ</a:t>
            </a:r>
            <a:r>
              <a:rPr b="0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ОСУЩЕСТВЛЯЮЩИЕ ОТДЕЛЬНЫЕ ВИДЫ БАНКОВСКИХ ОПЕРАЦИЙ</a:t>
            </a:r>
            <a:r>
              <a:rPr b="0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ЗА ИСКЛЮЧЕНИЕМ ОПЕРАТОРА ИЛИ ОПЕРАЦИОННОГО ЦЕНТРА МЕЖБАНКОВСКОЙ СИСТЕМЫ ПЕРЕВОДОВ ДЕНЕГ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00280" indent="-165420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00280" indent="-1654200">
              <a:lnSpc>
                <a:spcPct val="116000"/>
              </a:lnSpc>
              <a:buClr>
                <a:srgbClr val="000000"/>
              </a:buClr>
              <a:buFont typeface="Trebuchet MS"/>
              <a:buAutoNum type="arabicPeriod" startAt="124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НОСЯТСЯ ЛИ В СООТВЕТСТВИИ С ЗАКОНОМ РЕСПУБЛИКИ КАЗАХСТАН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«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 ПРОТИВОДЕЙСТВИИ ЛЕГАЛИЗАЦИ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00280" indent="-1654200" algn="ctr">
              <a:lnSpc>
                <a:spcPct val="116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ЕСТУПНЫМ ПУТЕМ И ФИНАНСИРОВАНИЮ ТЕРРОРИЗМ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»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К СУБЪЕКТАМ ФИНАНСОВОГО МОНИТОРИНГ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НДИВИДУАЛЬНЫЕ ПРЕДПРИНИМАТЕЛИ И ЮРИДИЧЕСКИЕ ЛИЦ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СУЩЕСТВЛЯЮЩИЕ ОПЕРАЦИИ С ДРАГОЦЕННЫМИ МЕТАЛЛАМИ И ДРАГОЦЕННЫМИ КАМНЯМ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ЮВЕЛИРНЫМИ ИЗДЕЛИЯМИ ИЗ НИХ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00280" indent="-165420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А ОТНОСИТС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00280" indent="-1654200">
              <a:lnSpc>
                <a:spcPct val="100000"/>
              </a:lnSpc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700280" indent="-1654200">
              <a:lnSpc>
                <a:spcPct val="117000"/>
              </a:lnSpc>
              <a:buClr>
                <a:srgbClr val="000000"/>
              </a:buClr>
              <a:buFont typeface="Trebuchet MS"/>
              <a:buAutoNum type="arabicPeriod" startAt="125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КАКИЕ СУБЪЕКТЫ ФИНАНСОВОГО МОНИТОРИНГА ОБЯЗАНЫ НАПРАВЛЯТЬ УВЕДОМЛЕНИЕ О НАЧАЛЕ ИЛИ ПРЕКРАЩЕНИИ ДЕЯТЕЛЬНОСТИ 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00280" indent="-1654200" algn="ctr">
              <a:lnSpc>
                <a:spcPct val="140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УПОЛНОМОЧЕННЫЙ ОРГАН В ПОРЯДКЕ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УСТАНОВЛЕННОМ ЗАКОНОМ РЕСПУБЛИКИ КАЗАХСТАН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«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 РАЗРЕШЕНИЯХ И УВЕДОМЛЕНИЯХ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»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00280" indent="-1654200">
              <a:lnSpc>
                <a:spcPct val="113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ЮРИДИЧЕСКИЕ КОНСУЛЬТАНТЫ И ДРУГИЕ НЕЗАВИСИМЫЕ СПЕЦИАЛИСТЫ П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00280" indent="-165420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ЮРИДИЧЕСКИМ ВОПРОСАМ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–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 СЛУЧАЯХ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КОГДА ОНИ ОТ ИМЕНИ ИЛИ ПО ПОРУЧЕНИЮ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00280" indent="-165420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КЛИЕНТА УЧАСТВУЮТ В ОПЕРАЦИЯХ С ДЕНЬГАМИ И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ЛИ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НЫМ ИМУЩЕСТВОМ В ОТНОШЕНИИ СЛЕДУЮЩЕЙ ДЕЯТЕЛЬНОСТИ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;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НДИВИДУАЛЬНЫЕ ПРЕДПРИНИМАТЕЛИ И ЮРИДИЧЕСКИЕ ЛИЦ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СУЩЕСТВЛЯЮЩИЕ ЛИЗИНГОВУЮ ДЕЯТЕЛЬНОСТЬ В КАЧЕСТВЕ ЛИЗИНГОДАТЕЛЯ БЕЗ ЛИЦЕНЗИИ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;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НДИВИДУАЛЬНЫЕ ПРЕДПРИНИМАТЕЛИ И ЮРИДИЧЕСКИЕ ЛИЦ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СУЩЕСТВЛЯЮЩИЕ ОПЕРАЦИИ С ДРАГОЦЕННЫМИ МЕТАЛЛАМИ И ДРАГОЦЕННЫМИ КАМНЯМИ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ЮВЕЛИРНЫМИ ИЗДЕЛИЯМИ ИЗ НИХ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Google Shape;275;p43"/>
          <p:cNvSpPr/>
          <p:nvPr/>
        </p:nvSpPr>
        <p:spPr>
          <a:xfrm>
            <a:off x="39600" y="339840"/>
            <a:ext cx="7495920" cy="131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660680" indent="-1193760">
              <a:lnSpc>
                <a:spcPct val="111000"/>
              </a:lnSpc>
              <a:buClr>
                <a:srgbClr val="000000"/>
              </a:buClr>
              <a:buFont typeface="Trebuchet MS"/>
              <a:buAutoNum type="arabicPeriod" startAt="128"/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ЯВЛЯЮТСЯ ЛИ ГОСУДАРСТВЕННЫЕ ОРГАНЫ РЕСПУБЛИКИ КАЗАХСТАН СУБЪЕКТАМИ ФИНАНСОВОГО МОНИТОРИНГ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660680" indent="-119376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НЕ ЯВЛЯЮТС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660680" indent="-1193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rebuchet MS"/>
              <a:buAutoNum type="arabicPeriod" startAt="129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КТО ОТНОСИТСЯ К СУБЪЕКТАМ ФИНАНСОВОГО МОНИТОРИНГ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660680" indent="-119376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УЧАСТНИКИ МЕЖДУНАРОДНОГО ФИНАНСОВОГО ЦЕНТРА </a:t>
            </a:r>
            <a:r>
              <a:rPr b="0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«</a:t>
            </a: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АСТАНА</a:t>
            </a:r>
            <a:r>
              <a:rPr b="0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»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660680" indent="-119376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ОСУЩЕСТВЛЯЮЩИЕ НА ТЕРРИТОРИИ МЕЖДУНАРОДНОГО ФИНАНСОВОГО ЦЕНТР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660680" indent="-1193760" algn="ctr">
              <a:lnSpc>
                <a:spcPct val="116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«</a:t>
            </a: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АСТАНА</a:t>
            </a:r>
            <a:r>
              <a:rPr b="0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»</a:t>
            </a:r>
            <a:r>
              <a:rPr b="0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ДАЛЕЕ </a:t>
            </a:r>
            <a:r>
              <a:rPr b="0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– </a:t>
            </a: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МФЦА</a:t>
            </a:r>
            <a:r>
              <a:rPr b="0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ОТДЕЛЬНЫЕ ВИДЫ ДЕЯТЕЛЬНОСТИ</a:t>
            </a:r>
            <a:r>
              <a:rPr b="0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ОПРЕДЕЛЯЕМЫЕ КОМИТЕТОМ МФЦА ПО РЕГУЛИРОВАНИЮ ФИНАНСОВЫХ УСЛУГ ПО СОГЛАСОВАНИЮ С УПОЛНОМОЧЕННЫМ ОРГАНОМ В СООТВЕТСТВИИ С РЕКОМЕНДАЦИЯМИ ГРУППЫ РАЗРАБОТКИ ФИНАНСОВЫХ МЕР БОРЬБЫ С ОТМЫВАНИЕМ ДЕНЕГ </a:t>
            </a:r>
            <a:r>
              <a:rPr b="0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ФАТФ</a:t>
            </a:r>
            <a:r>
              <a:rPr b="0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660680" indent="-1193760">
              <a:lnSpc>
                <a:spcPct val="100000"/>
              </a:lnSpc>
              <a:tabLst>
                <a:tab algn="l" pos="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660680" indent="-1193760" algn="just">
              <a:lnSpc>
                <a:spcPct val="119000"/>
              </a:lnSpc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В КАКИХ СЛУЧАЯХ АДВОКАТЫ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ЮРИДИЧЕСКИЕ КОНСУЛЬТАНТЫ И ДРУГИЕ НЕЗАВИСИМЫЕ СПЕЦИАЛИСТЫ ПО ЮРИДИЧЕСКИМ ВОПРОСА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КОГДА ОНИ ОТ ИМЕНИ ИЛИ ПО ПОРУЧЕНИЮ КЛИЕНТА УЧАСТВУЮТ В ОПЕРАЦИЯХ С ДЕНЬГАМИ 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660680" indent="-1193760" algn="ctr">
              <a:lnSpc>
                <a:spcPct val="140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Л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НЫМ ИМУЩЕСТВОМ ОТНОСЯТСЯ К СУБЪЕКТАМ ФИНАНСОВОГО МОНИТОРИНГ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660680" indent="-1193760">
              <a:lnSpc>
                <a:spcPct val="113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СЕ ВАРИАНТЫ ВЕРН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660680" indent="-1193760">
              <a:lnSpc>
                <a:spcPct val="100000"/>
              </a:lnSpc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660680" indent="-11937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К СУБЪЕКТАМ ФИНАНСОВОГО МОНИТОРИНГА НЕ ОТНОСЯТСЯ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660680" indent="-119376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ФИЗИЧЕСКИЕ ЛИЦ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660680" indent="-1193760">
              <a:lnSpc>
                <a:spcPct val="100000"/>
              </a:lnSpc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660680" indent="-11937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К СУБЪЕКТАМ ФИНАНСОВОГО МОНИТОРИНГА ОТНОСЯТС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660680" indent="-119376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ФОНД СОЦИАЛЬНОГО МЕДИЦИНСКОГО СТРАХОВА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660680" indent="-1193760">
              <a:lnSpc>
                <a:spcPct val="100000"/>
              </a:lnSpc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660680" indent="-1193760">
              <a:lnSpc>
                <a:spcPct val="113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К СУБЪЕКТАМ ФИНАНСОВОГО МОНИТОРИНГА ОТНОСЯТС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660680" indent="-1193760" algn="ctr">
              <a:lnSpc>
                <a:spcPct val="113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РГАНИЗАТОРЫ ИГОРНОГО БИЗНЕСА И ЛОТЕРЕ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660680" indent="-1193760">
              <a:lnSpc>
                <a:spcPct val="100000"/>
              </a:lnSpc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660680" indent="-1193760">
              <a:lnSpc>
                <a:spcPct val="113000"/>
              </a:lnSpc>
              <a:spcBef>
                <a:spcPts val="10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КТО ОТНОСИТСЯ К СУБЪЕКТАМ ФИНАНСОВОГО МОНИТОРИНГ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660680" indent="-1193760" algn="ctr">
              <a:lnSpc>
                <a:spcPct val="113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СЕ ОТВЕТЫ ВЕРН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660680" indent="-1193760" algn="ctr">
              <a:lnSpc>
                <a:spcPct val="117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ИНДИВИДУАЛЬНЫЕ ПРЕДПРИНИМАТЕЛИ И ЮРИДИЧЕСКИЕ ЛИЦА</a:t>
            </a:r>
            <a:r>
              <a:rPr b="0" i="1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ОСУЩЕСТВЛЯЮЩИЕ ЛИЗИНГОВУЮ ДЕЯТЕЛЬНОСТЬ В КАЧЕСТВЕ ЛИЗИНГОДАТЕЛЯ БЕЗ ЛИЦЕНЗИИ ИНДИВИДУАЛЬНЫЕ ПРЕДПРИНИМАТЕЛИ И ЮРИДИЧЕСКИЕ ЛИЦА</a:t>
            </a:r>
            <a:r>
              <a:rPr b="0" i="1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ОСУЩЕСТВЛЯЮЩИ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660680" indent="-1193760" algn="ctr">
              <a:lnSpc>
                <a:spcPct val="14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ОПЕРАЦИИ С ДРАГОЦЕННЫМИ МЕТАЛЛАМИ И ДРАГОЦЕННЫМИ КАМНЯМИ</a:t>
            </a:r>
            <a:r>
              <a:rPr b="0" i="1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ЮВЕЛИРНЫМИ ИЗДЕЛИЯМИ ИЗ НИХ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660680" indent="-1193760" algn="ctr">
              <a:lnSpc>
                <a:spcPct val="10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ИНДИВИДУАЛЬНЫЕ ПРЕДПРИНИМАТЕЛИ И ЮРИДИЧЕСКИЕ ЛИЦА</a:t>
            </a:r>
            <a:r>
              <a:rPr b="0" i="1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ОКАЗЫВАЮЩИ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660680" indent="-119376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ПОСРЕДНИЧЕСКИЕ УСЛУГИ ПРИ ОСУЩЕСТВЛЕНИИ СДЕЛОК КУПЛИ</a:t>
            </a:r>
            <a:r>
              <a:rPr b="0" i="1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-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ПРОДАЖ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660680" indent="-1193760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НЕДВИЖИМОГО ИМУЩЕСТВ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Google Shape;280;p44"/>
          <p:cNvSpPr/>
          <p:nvPr/>
        </p:nvSpPr>
        <p:spPr>
          <a:xfrm>
            <a:off x="162000" y="295200"/>
            <a:ext cx="7252920" cy="81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28480" indent="-104760">
              <a:lnSpc>
                <a:spcPct val="116000"/>
              </a:lnSpc>
              <a:buClr>
                <a:srgbClr val="000000"/>
              </a:buClr>
              <a:buFont typeface="Trebuchet MS"/>
              <a:buAutoNum type="arabicPeriod" startAt="135"/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УБЪЕКТЫ ФИНАНСОВОГО МОНИТОРИНГ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БАНК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РГАНИЗАЦИ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СУЩЕСТВЛЯЮЩИЕ ОТДЕЛЬНЫЕ ВИДЫ БАНКОВСКИХ ОПЕРАЦИЙ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З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28480" indent="-104760" algn="ctr">
              <a:lnSpc>
                <a:spcPct val="116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СКЛЮЧЕНИЕМ ОПЕРАТОРА ИЛИ ОПЕРАЦИОННОГО ЦЕНТРА МЕЖБАНКОВСКОЙ СИСТЕМЫ ПЕРЕВОДОВ ДЕНЕГ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МИМО МЕР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ЕДУСМОТРЕННЫХ ПО НАДЛЕЖАЩЕЙ ПРОВЕРКЕ СУБЪЕКТАМИ ФИНАНСОВОГО МОНИТОРИНГА СВОИХ КЛИЕНТОВ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Х ПРЕДСТАВИТЕЛЕЙ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 БЕНЕФИЦИАРНЫХ СОБСТВЕННИКОВ В СООТВЕТСТВИИ С ЗАКОНОМ РЕСПУБЛИКИ КАЗАХСТАН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«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 ПРОТИВОДЕЙСТВИИ ЛЕГАЛИЗАЦИ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»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И УСТАНОВЛЕНИИ КОРРЕСПОНДЕНТСКИХ ОТНОШЕНИЙ С ИНОСТРАННЫМИ ФИНАНСОВЫМИ ОРГАНИЗАЦИЯМИ ДОПОЛНИТЕЛЬНО ОБЯЗАНЫ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28480" indent="-104760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СЕ ВАРИАНТЫ ВЕРН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28480" indent="-10476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480" indent="-104760">
              <a:lnSpc>
                <a:spcPct val="117000"/>
              </a:lnSpc>
              <a:buClr>
                <a:srgbClr val="000000"/>
              </a:buClr>
              <a:buFont typeface="Trebuchet MS"/>
              <a:buAutoNum type="arabicPeriod" startAt="135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УБЪЕКТЫ ФИНАНСОВОГО МОНИТОРИНГ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БАНК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РГАНИЗАЦИ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СУЩЕСТВЛЯЮЩИЕ ОТДЕЛЬНЫЕ ВИДЫ БАНКОВСКИХ ОПЕРАЦИЙ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З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28480" indent="-104760" algn="ctr">
              <a:lnSpc>
                <a:spcPct val="116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СКЛЮЧЕНИЕМ ОПЕРАТОРА ИЛИ ОПЕРАЦИОННОГО ЦЕНТРА МЕЖБАНКОВСКОЙ СИСТЕМЫ ПЕРЕВОДОВ ДЕНЕГ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МИМО МЕР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ЕДУСМОТРЕННЫХ ПО НАДЛЕЖАЩЕЙ ПРОВЕРКЕ СУБЪЕКТАМИ ФИНАНСОВОГО МОНИТОРИНГА СВОИХ КЛИЕНТОВ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Х ПРЕДСТАВИТЕЛЕЙ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 БЕНЕФИЦИАРНЫХ СОБСТВЕННИКОВ В СООТВЕТСТВИИ С ЗАКОНОМ РЕСПУБЛИКИ КАЗАХСТАН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«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 ПРОТИВОДЕЙСТВИИ ЛЕГАЛИЗАЦИ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»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И УСТАНОВЛЕНИИ КОРРЕСПОНДЕНТСКИХ ОТНОШЕНИЙ С ИНОСТРАННЫМИ ФИНАНСОВЫМИ ОРГАНИЗАЦИЯМИ ДОПОЛНИТЕЛЬНО ОБЯЗАНЫ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28480" indent="-104760">
              <a:lnSpc>
                <a:spcPct val="100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НЕ УСТАНАВЛИВАТЬ И НЕ ПОДДЕРЖИВАТЬ КОРРЕСПОНДЕНТСКИЕ ОТНОШЕНИЯ С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28480" indent="-10476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БАНКАМИ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ШИРМАМ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Google Shape;285;p45"/>
          <p:cNvSpPr/>
          <p:nvPr/>
        </p:nvSpPr>
        <p:spPr>
          <a:xfrm>
            <a:off x="162000" y="328680"/>
            <a:ext cx="7252920" cy="44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28480" indent="-104760">
              <a:lnSpc>
                <a:spcPct val="116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137.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УБЪЕКТЫ ФИНАНСОВОГО МОНИТОРИНГ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БАНК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РГАНИЗАЦИ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СУЩЕСТВЛЯЮЩИЕ ОТДЕЛЬНЫЕ ВИДЫ БАНКОВСКИХ ОПЕРАЦИЙ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З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28480" indent="-104760" algn="ctr">
              <a:lnSpc>
                <a:spcPct val="116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СКЛЮЧЕНИЕМ ОПЕРАТОРА ИЛИ ОПЕРАЦИОННОГО ЦЕНТРА МЕЖБАНКОВСКОЙ СИСТЕМЫ ПЕРЕВОДОВ ДЕНЕГ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МИМО МЕР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ЕДУСМОТРЕННЫХ ПО НАДЛЕЖАЩЕЙ ПРОВЕРКЕ СУБЪЕКТАМИ ФИНАНСОВОГО МОНИТОРИНГА СВОИХ КЛИЕНТОВ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Х ПРЕДСТАВИТЕЛЕЙ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 БЕНЕФИЦИАРНЫХ СОБСТВЕННИКОВ В СООТВЕТСТВИИ С ЗАКОНОМ РЕСПУБЛИКИ КАЗАХСТАН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«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 ПРОТИВОДЕЙСТВИИ ЛЕГАЛИЗАЦИ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»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И УСТАНОВЛЕНИИ КОРРЕСПОНДЕНТСКИХ ОТНОШЕНИЙ С ИНОСТРАННЫМИ ФИНАНСОВЫМИ ОРГАНИЗАЦИЯМИ ДОПОЛНИТЕЛЬНО ОБЯЗАНЫ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28480" indent="-104760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УДОСТОВЕРИТЬСЯ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ЧТО ИНОСТРАННАЯ ФИНАНСОВАЯ ОРГАНИЗАЦИЯ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–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РЕСПОНДЕН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28480" indent="-10476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ТКАЗЫВАЕТ В ИСПОЛЬЗОВАНИИ СВОИХ СЧЕТОВ БАНКАМИ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ШИРМАМ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Google Shape;286;p45"/>
          <p:cNvSpPr/>
          <p:nvPr/>
        </p:nvSpPr>
        <p:spPr>
          <a:xfrm>
            <a:off x="162000" y="4321080"/>
            <a:ext cx="7252920" cy="42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28480" indent="-104760">
              <a:lnSpc>
                <a:spcPct val="117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138.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УБЪЕКТЫ ФИНАНСОВОГО МОНИТОРИНГ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БАНК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РГАНИЗАЦИ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СУЩЕСТВЛЯЮЩИЕ ОТДЕЛЬНЫЕ ВИДЫ БАНКОВСКИХ ОПЕРАЦИЙ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З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28480" indent="-104760" algn="ctr">
              <a:lnSpc>
                <a:spcPct val="116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СКЛЮЧЕНИЕМ ОПЕРАТОРА ИЛИ ОПЕРАЦИОННОГО ЦЕНТРА МЕЖБАНКОВСКОЙ СИСТЕМЫ ПЕРЕВОДОВ ДЕНЕГ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МИМО МЕР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ЕДУСМОТРЕННЫХ ПО НАДЛЕЖАЩЕЙ ПРОВЕРКЕ СУБЪЕКТАМИ ФИНАНСОВОГО МОНИТОРИНГА СВОИХ КЛИЕНТОВ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Х ПРЕДСТАВИТЕЛЕЙ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 БЕНЕФИЦИАРНЫХ СОБСТВЕННИКОВ В СООТВЕТСТВИИ С ЗАКОНОМ РЕСПУБЛИКИ КАЗАХСТАН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«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 ПРОТИВОДЕЙСТВИИ ЛЕГАЛИЗАЦИ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»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И УСТАНОВЛЕНИИ КОРРЕСПОНДЕНТСКИХ ОТНОШЕНИЙ С ИНОСТРАННЫМИ ФИНАНСОВЫМИ ОРГАНИЗАЦИЯМИ ДОПОЛНИТЕЛЬНО ОБЯЗАНЫ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28480" indent="-104760">
              <a:lnSpc>
                <a:spcPct val="117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ПОЛУЧАТЬ РАЗРЕШЕНИЕ РУКОВОДЯЩЕГО РАБОТНИКА ОРГАНИЗАЦИИ НА УСТАНОВЛЕНИЕ НОВЫХ КОРРЕСПОНДЕНТСКИХ ОТНОШЕНИ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Google Shape;63;p10"/>
          <p:cNvSpPr/>
          <p:nvPr/>
        </p:nvSpPr>
        <p:spPr>
          <a:xfrm>
            <a:off x="531720" y="851040"/>
            <a:ext cx="134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</a:tabLst>
            </a:pPr>
            <a:r>
              <a:rPr b="0" lang="en-US" sz="1300" spc="-1" strike="noStrike">
                <a:solidFill>
                  <a:srgbClr val="202020"/>
                </a:solidFill>
                <a:latin typeface="Calibri"/>
                <a:ea typeface="Calibri"/>
              </a:rPr>
              <a:t>5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Google Shape;64;p10"/>
          <p:cNvSpPr/>
          <p:nvPr/>
        </p:nvSpPr>
        <p:spPr>
          <a:xfrm>
            <a:off x="960480" y="847800"/>
            <a:ext cx="5906880" cy="4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В КАКИХ СЛУЧАЯХ В СООТВЕТСТВИИ С ТРЕБОВАНИЯМИ К СУБЪЕКТА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Google Shape;65;p10"/>
          <p:cNvSpPr/>
          <p:nvPr/>
        </p:nvSpPr>
        <p:spPr>
          <a:xfrm>
            <a:off x="512640" y="1096920"/>
            <a:ext cx="6513120" cy="50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0240">
              <a:lnSpc>
                <a:spcPct val="115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ФИНАНСОВОГО МОНИТОРИНГА ПО ПОДГОТОВКЕ И ОБУЧЕНИЮ В СФЕРЕ ПРОТИВОДЕЙСТВИЯ ЛЕГАЛИЗАЦИИ 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(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)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ДОХОДОВ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И ФИНАНСИРОВАНИЮ ТЕРРОРИЗМА ПРОВОДИТСЯ ДОПОЛНИТЕЛЬНО ОБУЧЕНИЕ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240">
              <a:lnSpc>
                <a:spcPct val="114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И ИЗМЕНЕНИЕ ДЕЙСТВУЮЩИХ И ВСТУПЛЕНИИ В СИЛУ НОВЫХ НОРМАТИВ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24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АКТОВ РК В ОБЛАСТИ ПОД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/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ФТ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240" algn="ctr">
              <a:lnSpc>
                <a:spcPct val="135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И УТВЕРЖДЕНИИ СУБЪЕКТОМ НОВЫХ ИЛИ ИЗМЕНЕНИИ ДЕЙСТВУЮЩИХ ПРАВИЛ ВНУТРЕННЕГО КОНТРОЛЯ В ЦЕЛЯХ ПОД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/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ФТ И ПРОГРАММА ИХ ОСУЩЕСТВЛЕНИЯ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24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240">
              <a:lnSpc>
                <a:spcPct val="116000"/>
              </a:lnSpc>
              <a:tabLst>
                <a:tab algn="l" pos="0"/>
              </a:tabLst>
            </a:pPr>
            <a:r>
              <a:rPr b="0" lang="en-US" sz="1300" spc="-1" strike="noStrike">
                <a:solidFill>
                  <a:srgbClr val="202020"/>
                </a:solidFill>
                <a:latin typeface="Calibri"/>
                <a:ea typeface="Calibri"/>
              </a:rPr>
              <a:t>6.</a:t>
            </a:r>
            <a:r>
              <a:rPr b="0" lang="en-US" sz="13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КЕМ УТВЕРЖДАЕТСЯ ПЕРЕЧЕНЬ ОТВЕТСТВЕННЫХ ЛИЦ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КОТОРЫЕ ПРОХОДЯТ ОБУЧЕНИЕ В ЦЕЛЯХ ПРОТИВОДЕЙСТВИЯ ЛЕГАЛИЗАЦИИ 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(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)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ДОХОДОВ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ДО НАЧАЛА ОСУЩЕСТВЛЕНИЯ ИМИ ФУНКЦИЙ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СВЯЗАННЫХ С СОБЛЮДЕНИЕМ ЗАКОНОДАТЕЛЬСТВА РЕСПУБЛИКИ КАЗАХСТАН О ПРОТИВОДЕЙСТВИЯ ЛЕГАЛИЗАЦИИ 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(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)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ДОХОДОВ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240" algn="ctr">
              <a:lnSpc>
                <a:spcPct val="114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РУКОВОДИТЕЛЕМ СФ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Google Shape;66;p10"/>
          <p:cNvSpPr/>
          <p:nvPr/>
        </p:nvSpPr>
        <p:spPr>
          <a:xfrm>
            <a:off x="-12600" y="5526000"/>
            <a:ext cx="134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</a:tabLst>
            </a:pPr>
            <a:r>
              <a:rPr b="0" lang="en-US" sz="1300" spc="-1" strike="noStrike">
                <a:solidFill>
                  <a:srgbClr val="202020"/>
                </a:solidFill>
                <a:latin typeface="Calibri"/>
                <a:ea typeface="Calibri"/>
              </a:rPr>
              <a:t>7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Google Shape;67;p10"/>
          <p:cNvSpPr/>
          <p:nvPr/>
        </p:nvSpPr>
        <p:spPr>
          <a:xfrm>
            <a:off x="946080" y="5516640"/>
            <a:ext cx="5713200" cy="15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8160" algn="ctr">
              <a:lnSpc>
                <a:spcPct val="100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ОБУЧЕНИЕ СУБЪЕКТОВ ФИНАНСОВОГО МОНИТОРИНГА ПРОВОДЯТ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16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ЛИЦА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СООТВЕТСТВУЮЩИЕ СЛЕДУЮЩИМ ТРЕБОВАНИЯМ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16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НАЛИЧИЕ ВЫСШЕГО ОБРАЗОВАНИЯ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16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НАЛИЧИЕ СТАЖА РАБОТЫ В СФЕРЕ ПОД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/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ФТ НЕ МЕНЕЕ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5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Л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16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НАЛИЧИЕ СЕРТИФИКАТОВ О ПРОХОЖДЕНИИ ОБУЧЕНИЯ В СФЕРЕ ПОД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/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Ф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Google Shape;68;p10"/>
          <p:cNvSpPr/>
          <p:nvPr/>
        </p:nvSpPr>
        <p:spPr>
          <a:xfrm>
            <a:off x="595440" y="7029360"/>
            <a:ext cx="635904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13000"/>
              </a:lnSpc>
              <a:tabLst>
                <a:tab algn="l" pos="0"/>
              </a:tabLst>
            </a:pPr>
            <a:r>
              <a:rPr b="0" lang="en-US" sz="1300" spc="-1" strike="noStrike">
                <a:solidFill>
                  <a:schemeClr val="dk1"/>
                </a:solidFill>
                <a:latin typeface="Calibri"/>
                <a:ea typeface="Calibri"/>
              </a:rPr>
              <a:t>8.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ЕМ УСТАНАВЛИВАЕТСЯ ПОРЯДОК УЧЕТА ПРОХОЖДЕНИЯ СОТРУДНИКАМИ СУБЪЕКТА ФИНАНСОВОГО МОНИТОРИНГА ПРОГРАММЫ ОБУЧЕНИЯ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600" algn="ctr">
              <a:lnSpc>
                <a:spcPct val="114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УБЪЕКТ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13000"/>
              </a:lnSpc>
              <a:tabLst>
                <a:tab algn="l" pos="0"/>
              </a:tabLst>
            </a:pPr>
            <a:r>
              <a:rPr b="0" lang="en-US" sz="1300" spc="-1" strike="noStrike">
                <a:solidFill>
                  <a:srgbClr val="202020"/>
                </a:solidFill>
                <a:latin typeface="Calibri"/>
                <a:ea typeface="Calibri"/>
              </a:rPr>
              <a:t>9.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КАКИМ ДОКУМЕНТОМ ПОДТВЕРЖДАЕТСЯ ПРОХОЖДЕНИЕ СУБЪЕКТОМ ФИНАНСОВОГО МОНИТОРИНГА ТЕСТИРОВАНИЯ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600" algn="ctr">
              <a:lnSpc>
                <a:spcPct val="114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ОХОЖДЕНИЕ СУБЪЕКТОМ ТЕСТИРОВАНИЯ ПОДТВЕРЖДАЕТСЯ ДОКУМЕНТОМ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60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ЫДАВАЕМЫМ ЦЕНТРОМ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АКЦИОНЕРНОЕ ОБЩЕСТВО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"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НАЦИОНАЛЬНЫЙ ЦЕНТР ПО УПРАВЛЕНИЮ ПЕРСОНАЛОМ ГОСУДАРСТВЕННОЙ СЛУЖБЫ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"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13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10.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ГДЕ РАЗМЕЩАЕТСЯ ИНФОРМАЦИЯ О ПРОХОЖДЕНИИ СУБЪЕКТОМ ФИНАНСОВОГО МОНИТОРИНГА ТЕСТИРОВАНИЯ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600" algn="ctr">
              <a:lnSpc>
                <a:spcPct val="92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 ЛИЧНОМ КАБИНЕТЕ СФ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Google Shape;69;p10"/>
          <p:cNvSpPr/>
          <p:nvPr/>
        </p:nvSpPr>
        <p:spPr>
          <a:xfrm>
            <a:off x="0" y="0"/>
            <a:ext cx="1398240" cy="352080"/>
          </a:xfrm>
          <a:custGeom>
            <a:avLst/>
            <a:gdLst>
              <a:gd name="textAreaLeft" fmla="*/ 0 w 1398240"/>
              <a:gd name="textAreaRight" fmla="*/ 1398600 w 1398240"/>
              <a:gd name="textAreaTop" fmla="*/ 0 h 352080"/>
              <a:gd name="textAreaBottom" fmla="*/ 352440 h 352080"/>
            </a:gdLst>
            <a:ahLst/>
            <a:rect l="textAreaLeft" t="textAreaTop" r="textAreaRight" b="textAreaBottom"/>
            <a:pathLst>
              <a:path w="1398905" h="352425">
                <a:moveTo>
                  <a:pt x="615314" y="0"/>
                </a:moveTo>
                <a:lnTo>
                  <a:pt x="378464" y="0"/>
                </a:lnTo>
                <a:lnTo>
                  <a:pt x="0" y="352409"/>
                </a:lnTo>
                <a:lnTo>
                  <a:pt x="236850" y="352409"/>
                </a:lnTo>
                <a:lnTo>
                  <a:pt x="615314" y="0"/>
                </a:lnTo>
                <a:close/>
              </a:path>
              <a:path w="1398905" h="352425">
                <a:moveTo>
                  <a:pt x="1007114" y="0"/>
                </a:moveTo>
                <a:lnTo>
                  <a:pt x="770250" y="0"/>
                </a:lnTo>
                <a:lnTo>
                  <a:pt x="391799" y="352409"/>
                </a:lnTo>
                <a:lnTo>
                  <a:pt x="628649" y="352409"/>
                </a:lnTo>
                <a:lnTo>
                  <a:pt x="1007114" y="0"/>
                </a:lnTo>
                <a:close/>
              </a:path>
              <a:path w="1398905" h="352425">
                <a:moveTo>
                  <a:pt x="1398900" y="0"/>
                </a:moveTo>
                <a:lnTo>
                  <a:pt x="1162049" y="0"/>
                </a:lnTo>
                <a:lnTo>
                  <a:pt x="783585" y="352409"/>
                </a:lnTo>
                <a:lnTo>
                  <a:pt x="1020449" y="352409"/>
                </a:lnTo>
                <a:lnTo>
                  <a:pt x="1398900" y="0"/>
                </a:lnTo>
                <a:close/>
              </a:path>
            </a:pathLst>
          </a:custGeom>
          <a:solidFill>
            <a:srgbClr val="2020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Google Shape;291;p46"/>
          <p:cNvSpPr/>
          <p:nvPr/>
        </p:nvSpPr>
        <p:spPr>
          <a:xfrm>
            <a:off x="25560" y="328680"/>
            <a:ext cx="7482960" cy="57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665280" indent="-104760">
              <a:lnSpc>
                <a:spcPct val="116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139.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УБЪЕКТЫ ФИНАНСОВОГО МОНИТОРИНГ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БАНК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РГАНИЗАЦИ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СУЩЕСТВЛЯЮЩИЕ ОТДЕЛЬНЫЕ ВИДЫ БАНКОВСКИХ ОПЕРАЦИЙ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З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65280" indent="-104760" algn="ctr">
              <a:lnSpc>
                <a:spcPct val="116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СКЛЮЧЕНИЕМ ОПЕРАТОРА ИЛИ ОПЕРАЦИОННОГО ЦЕНТРА МЕЖБАНКОВСКОЙ СИСТЕМЫ ПЕРЕВОДОВ ДЕНЕГ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МИМО МЕР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ЕДУСМОТРЕННЫХ ПО НАДЛЕЖАЩЕЙ ПРОВЕРКЕ СУБЪЕКТАМИ ФИНАНСОВОГО МОНИТОРИНГА СВОИХ КЛИЕНТОВ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Х ПРЕДСТАВИТЕЛЕЙ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 БЕНЕФИЦИАРНЫХ СОБСТВЕННИКОВ В СООТВЕТСТВИИ С ЗАКОНОМ РЕСПУБЛИКИ КАЗАХСТАН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«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 ПРОТИВОДЕЙСТВИИ ЛЕГАЛИЗАЦИ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»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И УСТАНОВЛЕНИИ КОРРЕСПОНДЕНТСКИХ ОТНОШЕНИЙ С ИНОСТРАННЫМИ ФИНАНСОВЫМИ ОРГАНИЗАЦИЯМИ ДОПОЛНИТЕЛЬНО ОБЯЗАНЫ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65280" indent="-10476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СУЩЕСТВЛЯТЬ СБОР И ДОКУМЕНТАЛЬНО ФИКСИРОВАТЬ СВЕДЕНИЯ О РЕПУТАЦИИ 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65280" indent="-10476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ХАРАКТЕРЕ ДЕЯТЕЛЬНОСТИ ИНОСТРАННОЙ ФИНАНСОВОЙ ОРГАНИЗАЦИИ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РЕСПОНДЕНТ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65280" indent="-104760" algn="ctr">
              <a:lnSpc>
                <a:spcPct val="115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ТОМ ЧИСЛЕ ПРОВЕДЕНИИ В ОТНОШЕНИИ НЕГО РАССЛЕДОВАНИЯ И ПРИМЕНЕНИИ К НЕМУ САНКЦИЙ ЗА НАРУШЕНИЕ ЗАКОНОДАТЕЛЬСТВА СТРАНЫ ЕГО РЕГИСТРАЦИИ ПО ПРОТИВОДЕЙСТВИЮ ЛЕГАЛИЗАЦИИ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ТМЫВАНИЮ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ОХОДОВ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ЛУЧЕННЫХ ПРЕСТУПНЫМ ПУТЕМ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 ФИНАНСИРОВАНИЮ ТЕРРОРИЗМ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Google Shape;292;p46"/>
          <p:cNvSpPr/>
          <p:nvPr/>
        </p:nvSpPr>
        <p:spPr>
          <a:xfrm>
            <a:off x="162000" y="5383080"/>
            <a:ext cx="7252920" cy="58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28480" indent="-104760">
              <a:lnSpc>
                <a:spcPct val="116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140.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УБЪЕКТЫ ФИНАНСОВОГО МОНИТОРИНГ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БАНК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РГАНИЗАЦИ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СУЩЕСТВЛЯЮЩИЕ ОТДЕЛЬНЫЕ ВИДЫ БАНКОВСКИХ ОПЕРАЦИЙ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З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28480" indent="-104760" algn="ctr">
              <a:lnSpc>
                <a:spcPct val="116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СКЛЮЧЕНИЕМ ОПЕРАТОРА ИЛИ ОПЕРАЦИОННОГО ЦЕНТРА МЕЖБАНКОВСКОЙ СИСТЕМЫ ПЕРЕВОДОВ ДЕНЕГ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МИМО МЕР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ЕДУСМОТРЕННЫХ ПО НАДЛЕЖАЩЕЙ ПРОВЕРКЕ СУБЪЕКТАМИ ФИНАНСОВОГО МОНИТОРИНГА СВОИХ КЛИЕНТОВ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Х ПРЕДСТАВИТЕЛЕЙ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 БЕНЕФИЦИАРНЫХ СОБСТВЕННИКОВ В СООТВЕТСТВИИ С ЗАКОНОМ РЕСПУБЛИКИ КАЗАХСТАН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«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 ПРОТИВОДЕЙСТВИИ ЛЕГАЛИЗАЦИ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»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И УСТАНОВЛЕНИИ КОРРЕСПОНДЕНТСКИХ ОТНОШЕНИЙ С ИНОСТРАННЫМИ ФИНАНСОВЫМИ ОРГАНИЗАЦИЯМИ ДОПОЛНИТЕЛЬНО ОБЯЗАНЫ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28480" indent="-104760" algn="just">
              <a:lnSpc>
                <a:spcPct val="115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ДОКУМЕНТАЛЬНО ФИКСИРОВАТЬ ИНФОРМАЦИЮ О МЕРАХ ВНУТРЕННЕГО КОНТРОЛЯ</a:t>
            </a:r>
            <a:r>
              <a:rPr b="0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ПРИНИМАЕМЫХ ИНОСТРАННОЙ ФИНАНСОВОЙ ОРГАНИЗАЦИЕЙ</a:t>
            </a:r>
            <a:r>
              <a:rPr b="0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РЕСПОНДЕНТОМ В СООТВЕТСТВИИ С ЗАКОНОМ СТРАНЫ ЕГО РЕГИСТРАЦИИ ПО ПРОТИВОДЕЙСТВИЮ ЛЕГАЛИЗАЦИИ </a:t>
            </a:r>
            <a:r>
              <a:rPr b="0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ПОЛУЧЕННЫХ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28480" indent="-10476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ПРЕСТУПНЫМ ПУТЕМ</a:t>
            </a:r>
            <a:r>
              <a:rPr b="0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А ТАКЖ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28480" indent="-104760" algn="ctr">
              <a:lnSpc>
                <a:spcPct val="116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ОСУЩЕСТВЛЯТЬ ОЦЕНКУ ЭФФЕКТИВНОСТИ ПРИНИМАЕМЫХ МЕР ВНУТРЕННЕГО КОНТРОЛ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Google Shape;297;p47"/>
          <p:cNvSpPr/>
          <p:nvPr/>
        </p:nvSpPr>
        <p:spPr>
          <a:xfrm>
            <a:off x="3240" y="328680"/>
            <a:ext cx="752436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689040" indent="-104760">
              <a:lnSpc>
                <a:spcPct val="116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141.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УБЪЕКТЫ ФИНАНСОВОГО МОНИТОРИНГ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БАНК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РГАНИЗАЦИ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СУЩЕСТВЛЯЮЩИЕ ОТДЕЛЬНЫЕ ВИДЫ БАНКОВСКИХ ОПЕРАЦИЙ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З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89040" indent="-104760" algn="ctr">
              <a:lnSpc>
                <a:spcPct val="116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СКЛЮЧЕНИЕМ ОПЕРАТОРА ИЛИ ОПЕРАЦИОННОГО ЦЕНТРА МЕЖБАНКОВСКОЙ СИСТЕМЫ ПЕРЕВОДОВ ДЕНЕГ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МИМО МЕР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ЕДУСМОТРЕННЫХ ПО НАДЛЕЖАЩЕЙ ПРОВЕРКЕ СУБЪЕКТАМИ ФИНАНСОВОГО МОНИТОРИНГА СВОИХ КЛИЕНТОВ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Х ПРЕДСТАВИТЕЛЕЙ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 БЕНЕФИЦИАРНЫХ СОБСТВЕННИКОВ В СООТВЕТСТВИИ С ЗАКОНОМ РЕСПУБЛИКИ КАЗАХСТАН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«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 ПРОТИВОДЕЙСТВИИ ЛЕГАЛИЗАЦИ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»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И УСТАНОВЛЕНИИ КОРРЕСПОНДЕНТСКИХ ОТНОШЕНИЙ С ИНОСТРАННЫМИ ФИНАНСОВЫМИ ОРГАНИЗАЦИЯМИ ДОПОЛНИТЕЛЬНО ОБЯЗАНЫ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89040" indent="-104760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ЛУЧАТЬ ПОДТВЕРЖДЕНИЕ ТОГО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ЧТО ИНОСТРАННАЯ ФИНАНСОВАЯ ОРГАНИЗАЦИЯ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89040" indent="-104760" algn="ctr">
              <a:lnSpc>
                <a:spcPct val="14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РЕСПОНДЕНТ ПРОВЕЛ НАДЛЕЖАЩУЮ ПРОВЕРКУ КЛИЕНТ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МЕЮЩЕГО ПРЯМОЙ ДОСТУП К СЧЕТАМ БАНК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КОРРЕСПОНДЕНТ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 ЧТО ОН ИМЕЕТ ВОЗМОЖНОСТЬ ПРЕДОСТАВЛЯТЬ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89040" indent="-104760" algn="ctr">
              <a:lnSpc>
                <a:spcPct val="113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НЕОБХОДИМУЮ ИНФОРМАЦИЮ ПО НАДЛЕЖАЩЕЙ ПРОВЕРКЕ КЛИЕНТА ПО ЗАПРОСУ БАНК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КОРРЕСПОНДЕНТ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Google Shape;298;p47"/>
          <p:cNvSpPr/>
          <p:nvPr/>
        </p:nvSpPr>
        <p:spPr>
          <a:xfrm>
            <a:off x="81000" y="5119560"/>
            <a:ext cx="7411680" cy="58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57320" indent="-41400">
              <a:lnSpc>
                <a:spcPct val="116000"/>
              </a:lnSpc>
              <a:buClr>
                <a:srgbClr val="000000"/>
              </a:buClr>
              <a:buFont typeface="Trebuchet MS"/>
              <a:buAutoNum type="arabicPeriod" startAt="142"/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НАЛИЧИЕ У ИНОСТРАННОЙ ФИНАНСОВОЙ ОРГАНИЗАЦИ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–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РЕСПОНДЕНТА КОРРЕСПОНДЕНТСКИХ ОТНОШЕНИЙ С БАНКАМ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-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ШИРМАМИ ОПРЕДЕЛЯЕТСЯ Н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15920" indent="41400" algn="ctr">
              <a:lnSpc>
                <a:spcPct val="12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СНОВЕ ИНФОРМАЦИ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15920" indent="41400" algn="ctr">
              <a:lnSpc>
                <a:spcPct val="12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РЕДОСТАВЛЯЕМОЙ ИНОСТРАННОЙ ФИНАНСОВОЙ ОРГАНИЗАЦИЕЙ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–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РЕСПОНДЕНТОМ 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15920" indent="4140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ЛИ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ЛУЧАЕМОЙ СУБЪЕКТОМ ФИНАНСОВОГО МОНИТОРИНГА ИЗ ИНЫХ ИСТОЧНИКО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15920" indent="4140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7320" indent="-41400">
              <a:lnSpc>
                <a:spcPct val="117000"/>
              </a:lnSpc>
              <a:buClr>
                <a:srgbClr val="000000"/>
              </a:buClr>
              <a:buFont typeface="Trebuchet MS"/>
              <a:buAutoNum type="arabicPeriod" startAt="142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УБЪЕКТЫ ФИНАНСОВОГО МОНИТОРИНГ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БАНК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РГАНИЗАЦИ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СУЩЕСТВЛЯЮЩИЕ ОТДЕЛЬНЫЕ ВИДЫ БАНКОВСКИХ ОПЕРАЦИЙ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З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15920" indent="41400" algn="ctr">
              <a:lnSpc>
                <a:spcPct val="116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СКЛЮЧЕНИЕМ ОПЕРАТОРА ИЛИ ОПЕРАЦИОННОГО ЦЕНТРА МЕЖБАНКОВСКОЙ СИСТЕМЫ ПЕРЕВОДОВ ДЕНЕГ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МИМО МЕР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ЕДУСМОТРЕННЫХ ПО НАДЛЕЖАЩЕЙ ПРОВЕРКЕ СУБЪЕКТАМИ ФИНАНСОВОГО МОНИТОРИНГА СВОИХ КЛИЕНТОВ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Х ПРЕДСТАВИТЕЛЕЙ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 БЕНЕФИЦИАРНЫХ СОБСТВЕННИКОВ В СООТВЕТСТВИИ С ЗАКОНОМ РЕСПУБЛИКИ КАЗАХСТАН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«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 ПРОТИВОДЕЙСТВИИ ЛЕГАЛИЗАЦИ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»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И УСТАНОВЛЕНИИ КОРРЕСПОНДЕНТСКИХ ОТНОШЕНИЙ С ИНОСТРАННЫМИ ФИНАНСОВЫМИ ОРГАНИЗАЦИЯМИ ДОПОЛНИТЕЛЬНО ОБЯЗАНЫ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15920" indent="4140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СЕ ОТВЕТЫ ВЕРН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Google Shape;303;p48"/>
          <p:cNvSpPr/>
          <p:nvPr/>
        </p:nvSpPr>
        <p:spPr>
          <a:xfrm>
            <a:off x="69840" y="339840"/>
            <a:ext cx="2538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144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Google Shape;304;p48"/>
          <p:cNvSpPr/>
          <p:nvPr/>
        </p:nvSpPr>
        <p:spPr>
          <a:xfrm>
            <a:off x="419040" y="357120"/>
            <a:ext cx="7060680" cy="9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ЗАДАЧАМИ УПОЛНОМОЧЕННОГО ОРГАНА ПО ФИНАНСОВОМУ МОНИТОРИНГУ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ЯВЛЯЮТС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СЕ ОТВЕТЫ ВЕРН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Google Shape;305;p48"/>
          <p:cNvSpPr/>
          <p:nvPr/>
        </p:nvSpPr>
        <p:spPr>
          <a:xfrm>
            <a:off x="69840" y="1403280"/>
            <a:ext cx="2538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145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Google Shape;306;p48"/>
          <p:cNvSpPr/>
          <p:nvPr/>
        </p:nvSpPr>
        <p:spPr>
          <a:xfrm>
            <a:off x="419040" y="1420920"/>
            <a:ext cx="7060680" cy="9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ЗАДАЧАМИ УПОЛНОМОЧЕННОГО ОРГАНА ПО ФИНАНСОВОМУ МОНИТОРИНГУ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ЯВЛЯЮТС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ВСЕ ОТВЕТЫ ВЕРН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Google Shape;307;p48"/>
          <p:cNvSpPr/>
          <p:nvPr/>
        </p:nvSpPr>
        <p:spPr>
          <a:xfrm>
            <a:off x="69840" y="2468520"/>
            <a:ext cx="2538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146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Google Shape;308;p48"/>
          <p:cNvSpPr/>
          <p:nvPr/>
        </p:nvSpPr>
        <p:spPr>
          <a:xfrm>
            <a:off x="419040" y="2486160"/>
            <a:ext cx="7060680" cy="7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ЗАДАЧАМИ УПОЛНОМОЧЕННОГО ОРГАНА ПО ФИНАНСОВОМУ МОНИТОРИНГУ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ЯВЛЯЮТС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Google Shape;309;p48"/>
          <p:cNvSpPr/>
          <p:nvPr/>
        </p:nvSpPr>
        <p:spPr>
          <a:xfrm>
            <a:off x="22320" y="2959200"/>
            <a:ext cx="7502040" cy="74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6352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РЕАЛИЗАЦИЯ ЕДИНОЙ ГОСУДАРСТВЕННОЙ ПОЛИТИКИ В СФЕРЕ ПРОТИВОДЕЙСТВИЯ ЛЕГАЛИЗАЦИИ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ТМЫВАНИЮ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ОХОДОВ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ЛУЧЕННЫХ ПРЕСТУПНЫМ ПУТЕМ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 ФИНАНСИРОВАНИЮ ТЕРРОРИЗМ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3520">
              <a:lnSpc>
                <a:spcPct val="100000"/>
              </a:lnSpc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63520" indent="-95400">
              <a:lnSpc>
                <a:spcPct val="112000"/>
              </a:lnSpc>
              <a:buClr>
                <a:srgbClr val="000000"/>
              </a:buClr>
              <a:buFont typeface="Trebuchet MS"/>
              <a:buAutoNum type="arabicPeriod" startAt="147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ЗАДАЧАМИ УПОЛНОМОЧЕННОГО ОРГАНА ПО ФИНАНСОВОМУ МОНИТОРИНГУ ЯВЛЯЮТС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3520" algn="ctr">
              <a:lnSpc>
                <a:spcPct val="113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РОТИВОДЕЙСТВИЕ ЛЕГАЛИЗАЦИИ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ТМЫВАНИЮ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ОХОДОВ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ЛУЧЕННЫХ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3520" algn="ctr">
              <a:lnSpc>
                <a:spcPct val="14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РЕСТУПНЫМ ПУТЕМ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 ФИНАНСИРОВАНИЮ ТЕРРОРИЗМ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КООРДИНАЦИЯ РАБОТЫ ГОСУДАРСТВЕННЫХ ОРГАНОВ В ЭТОМ НАПРАВЛЕНИИ ДЕЯТЕЛЬНОСТ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352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520" indent="-95400">
              <a:lnSpc>
                <a:spcPct val="111000"/>
              </a:lnSpc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ЗАДАЧАМИ УПОЛНОМОЧЕННОГО ОРГАНА ПО ФИНАНСОВОМУ МОНИТОРИНГУ ЯВЛЯЮТС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3520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СОЗДАНИЕ ЕДИНОЙ ИНФОРМАЦИОННОЙ СИСТЕМЫ И ВЕДЕНИЕ РЕСПУБЛИКАНСКОЙ БАЗ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3520" algn="ctr">
              <a:lnSpc>
                <a:spcPct val="14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АННЫХ В СФЕРЕ ПРОТИВОДЕЙСТВИЯ ЛЕГАЛИЗАЦИИ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ТМЫВАНИЮ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ОХОДОВ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ЛУЧЕННЫХ ПРЕСТУПНЫМ ПУТЕМ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 ФИНАНСИРОВАНИЮ ТЕРРОРИЗМ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3520">
              <a:lnSpc>
                <a:spcPct val="100000"/>
              </a:lnSpc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63520" indent="-95400">
              <a:lnSpc>
                <a:spcPct val="112000"/>
              </a:lnSpc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ЗАДАЧАМИ УПОЛНОМОЧЕННОГО ОРГАНА ПО ФИНАНСОВОМУ МОНИТОРИНГУ ЯВЛЯЮТС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3520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СУЩЕСТВЛЕНИЕ ВЗАИМОДЕЙСТВИЯ И ИНФОРМАЦИОННОГО ОБМЕНА С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3520" algn="ctr">
              <a:lnSpc>
                <a:spcPct val="113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КОМПЕТЕНТНЫМИ ОРГАНАМИ ИНОСТРАННЫХ ГОСУДАРСТВ В СФЕРЕ ПРОТИВОДЕЙСТВИЯ ЛЕГАЛИЗАЦИИ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ТМЫВАНИЮ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ОХОДОВ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ЛУЧЕННЫХ ПРЕСТУПНЫМ ПУТЕМ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352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ФИНАНСИРОВАНИЮ ТЕРРОРИЗМ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Google Shape;314;p49"/>
          <p:cNvSpPr/>
          <p:nvPr/>
        </p:nvSpPr>
        <p:spPr>
          <a:xfrm>
            <a:off x="69840" y="339840"/>
            <a:ext cx="7410240" cy="19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168720" indent="-3156120">
              <a:lnSpc>
                <a:spcPct val="111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150.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ЗАДАЧАМИ УПОЛНОМОЧЕННОГО ОРГАНА ПО ФИНАНСОВОМУ МОНИТОРИНГУ ЯВЛЯЮТС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168720" indent="-3156120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РЕДСТАВЛЕНИЕ ИНТЕРЕСОВ РЕСПУБЛИКИ КАЗАХСТАН В МЕЖДУНАРОДНЫХ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168720" indent="-3156120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РГАНИЗАЦИЯХ ПО ВОПРОСАМ ПРОТИВОДЕЙСТВИЯ ЛЕГАЛИЗАЦИИ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ТМЫВАНИЮ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168720" indent="-3156120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ОХОДОВ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ЛУЧЕННЫХ ПРЕСТУПНЫМ ПУТЕМ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 ФИНАНСИРОВАНИЮ ТЕРРОРИЗМ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Google Shape;315;p49"/>
          <p:cNvSpPr/>
          <p:nvPr/>
        </p:nvSpPr>
        <p:spPr>
          <a:xfrm>
            <a:off x="69840" y="1933560"/>
            <a:ext cx="2538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151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Google Shape;316;p49"/>
          <p:cNvSpPr/>
          <p:nvPr/>
        </p:nvSpPr>
        <p:spPr>
          <a:xfrm>
            <a:off x="419040" y="1951200"/>
            <a:ext cx="7060680" cy="9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ЗАДАЧАМИ УПОЛНОМОЧЕННОГО ОРГАНА ПО ФИНАНСОВОМУ МОНИТОРИНГУ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ЯВЛЯЮТС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СЕ ОТВЕТЫ ВЕРН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Google Shape;317;p49"/>
          <p:cNvSpPr/>
          <p:nvPr/>
        </p:nvSpPr>
        <p:spPr>
          <a:xfrm>
            <a:off x="69840" y="2998800"/>
            <a:ext cx="2538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152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Google Shape;318;p49"/>
          <p:cNvSpPr/>
          <p:nvPr/>
        </p:nvSpPr>
        <p:spPr>
          <a:xfrm>
            <a:off x="419040" y="3016080"/>
            <a:ext cx="706068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ЗАДАЧАМИ УПОЛНОМОЧЕННОГО ОРГАНА ПО ФИНАНСОВОМУ МОНИТОРИНГУ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algn="ctr">
              <a:lnSpc>
                <a:spcPct val="12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ЯВЛЯЮТС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algn="ctr">
              <a:lnSpc>
                <a:spcPct val="12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СЕ ОТВЕТЫ ВЕРН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Google Shape;319;p49"/>
          <p:cNvSpPr/>
          <p:nvPr/>
        </p:nvSpPr>
        <p:spPr>
          <a:xfrm>
            <a:off x="69840" y="4064040"/>
            <a:ext cx="2538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153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Google Shape;320;p49"/>
          <p:cNvSpPr/>
          <p:nvPr/>
        </p:nvSpPr>
        <p:spPr>
          <a:xfrm>
            <a:off x="419040" y="4083120"/>
            <a:ext cx="7060680" cy="7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ЗАДАЧАМИ УПОЛНОМОЧЕННОГО ОРГАНА ПО ФИНАНСОВОМУ МОНИТОРИНГУ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ЯВЛЯЮТС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Google Shape;321;p49"/>
          <p:cNvSpPr/>
          <p:nvPr/>
        </p:nvSpPr>
        <p:spPr>
          <a:xfrm>
            <a:off x="14400" y="4554360"/>
            <a:ext cx="7509960" cy="67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69800" indent="-449280">
              <a:lnSpc>
                <a:spcPct val="112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СОЗДАНИЕ ЕДИНОЙ ИНФОРМАЦИОННОЙ СИСТЕМЫ И ВЕДЕНИЕ РЕСПУБЛИКАНСКОЙ БАЗЫ ДАННЫХ В СФЕРЕ ПРОТИВОДЕЙСТВИЯ ЛЕГАЛИЗАЦИИ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ТМЫВАНИЮ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ОХОДОВ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4928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ЛУЧЕННЫХ ПРЕСТУПНЫМ ПУТЕМ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 ФИНАНСИРОВАНИЮ ТЕРРОРИЗМ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4928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49280">
              <a:lnSpc>
                <a:spcPct val="116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•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154.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ЗАДАЧАМИ УПОЛНОМОЧЕННОГО ОРГАНА ПО ФИНАНСОВОМУ МОНИТОРИНГУ ЯВЛЯЮТС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49280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РЕДСТАВЛЕНИЕ ИНТЕРЕСОВ РЕСПУБЛИКИ КАЗАХСТАН В МЕЖДУНАРОДНЫХ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4928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РГАНИЗАЦИЯХ ПО ВОПРОСАМ ПРОТИВОДЕЙСТВИЯ ЛЕГАЛИЗАЦИИ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ТМЫВАНИЮ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4928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ОХОДОВ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ЛУЧЕННЫХ ПРЕСТУПНЫМ ПУТЕМ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 ФИНАНСИРОВАНИЮ ТЕРРОРИЗМ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4928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49280">
              <a:lnSpc>
                <a:spcPct val="117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155.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БАНКИ ВТОРОГО УРОВНЯ И ОРГАНИЗАЦИ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СУЩЕСТВЛЯЮЩИЕ ОТДЕЛЬНЫЕ ВИДЫ БАНКОВСКИХ ОПЕРАЦИЙ КОНТРОЛИРУЮТ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49280" algn="ctr">
              <a:lnSpc>
                <a:spcPct val="100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НАЛИЧИЕ В ПЛАТЕЖНОМ ДОКУМЕНТЕ ИНФОРМАЦИИ ПРИПОСТУПЛЕНИИ ПЛАТЕЖА 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49280" algn="ctr">
              <a:lnSpc>
                <a:spcPct val="133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ЕРЕВОДА ДЕНЕГ ОТ ИНОСТРАННОГО ФИНАНСОВОГО УЧРЕЖДЕНИЯ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А ТАКЖЕ ФИКСИРУЮТ И ХРАНЯТ СВЕДЕНИЯ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НЕОБХОДИМЫЕ ДЛЯ ИДЕНТИФИКАЦИИ ПОЛУЧАТЕЛЯ ПО ПЕРЕВОДУ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49280" algn="ctr">
              <a:lnSpc>
                <a:spcPct val="10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ЕНЕГ БЕЗ ИСПОЛЬЗОВАНИЯ БАНКОВСКОГО СЧЕТА ФАМИЛИИ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МЕНИ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ТЧЕСТВА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РИ ЕГ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4928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НАЛИЧИИ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ЛИБО ПОЛНЫЕ ИЛИ СОКРАЩЕННЫЕ НАИМЕНОВАНИЯ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ЛЯ ЮРИДИЧЕСКИХ ЛИЦ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ТПРАВИТЕЛЯ И ПОЛУЧАТЕЛЯ ДЕНЕГ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БЕНЕФИЦИАР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Google Shape;326;p50"/>
          <p:cNvSpPr/>
          <p:nvPr/>
        </p:nvSpPr>
        <p:spPr>
          <a:xfrm>
            <a:off x="23760" y="339840"/>
            <a:ext cx="7527600" cy="114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87200" indent="-168120">
              <a:lnSpc>
                <a:spcPct val="111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156.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И ОСУЩЕСТВЛЕНИИ ПО УКАЗАНИЯМ КЛИЕНТОВ БЕЗНАЛИЧНЫХ ПЛАТЕЖЕЙ И ПЕРЕВОДОВ ДЕНЕГ В ПОЛЬЗУ ИНОСТРАННОЙ ФИНАНСОВОЙ ОРГАНИЗАЦИ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З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87200" indent="-168120" algn="ctr">
              <a:lnSpc>
                <a:spcPct val="116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СКЛЮЧЕНИЕМ ПЛАТЕЖЕЙ И ПЕРЕВОДОВ ДЕНЕГ С ИСПОЛЬЗОВАНИЕМ ПЛАТЕЖНЫХ КАРТОЧЕК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А ТАКЖЕ СЛУЧАЕ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ЕДУСМОТРЕННЫХ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И ОСУЩЕСТВЛЕНИИ КЛИЕНТОМ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–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ФИЗИЧЕСКИМ ЛИЦОМ ОПЕРАЦИИ ПО ЗАЧИСЛЕНИЮ ДЕНЕГ НА БАНКОВСКИЙ СЧЕТ ФИЗИЧЕСКОГО ЛИЦА ЛИБО ПРОВЕДЕНИЮ ПЛАТЕЖА В ПОЛЬЗУ ПОСТАВЩИКА УСЛУГ ПОСРЕДСТВОМ ОБОРУДОВАНИЯ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УСТРОЙСТВ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ЕДНАЗНАЧЕННОГО ДЛЯ ПРИЕМА НАЛИЧНЫХ ДЕНЕГ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ЕСЛИ СУММА ТАКОЙ ОПЕРАЦИИ НЕ ПРЕВЫШАЕТ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500000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ТЕНГЕ ЛИБО СУММУ В ИНОСТРАННОЙ ВАЛЮТЕ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ЭКВИВАЛЕНТНУЮ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500000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ТЕНГЕ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;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И ОСУЩЕСТВЛЕНИИ КЛИЕНТОМ БЕЗНАЛИЧНОГО ПЛАТЕЖА ИЛИ ПЕРЕВОДА ДЕНЕГ БЕЗ ИСПОЛЬЗОВАНИЯ БАНКОВСКОГО СЧЕТ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ЕСЛИ СУММА ТАКОГО ПЛАТЕЖА ИЛИ ПЕРЕВОДА ДЕНЕГ НЕ ПРЕВЫШАЕТ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500000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ТЕНГЕ ЛИБО СУММУ В ИНОСТРАННОЙ ВАЛЮТЕ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ЭКВИВАЛЕНТНУЮ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500000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ТЕНГЕ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ЗА ИСКЛЮЧЕНИЕМ СЛУЧАЕВ СОВЕРШЕНИЯ КЛИЕНТОМ ПОДОЗРИТЕЛЬНОЙ ОПЕРАЦИ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;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И ОСУЩЕСТВЛЕНИИ КЛИЕНТОМ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–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ФИЗИЧЕСКИМ ЛИЦОМ ОПЕРАЦИИ ПО ОПЛАТЕ ЗАДОЛЖЕННОСТИ В РАМКАХ ИСПОЛНИТЕЛЬНОГО ПРОИЗВОДСТВА В ПОЛЬЗУ ГОСУДАРСТВЕННЫХ ОРГАНОВ ПОСРЕДСТВОМ ОБОРУДОВАНИЯ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УСТРОЙСТВ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ЕДНАЗНАЧЕННОГО ДЛЯ ПРИЕМА НАЛИЧНЫХ ДЕНЕГ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;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В СООТВЕТСТВИИ С ЗАКОНОМ РЕСПУБЛИКИ КАЗАХСТАН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«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 ПРОТИВОДЕЙСТВИИ ЛЕГАЛИЗАЦИ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»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БАНКИ И ОРГАНИЗАЦИ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СУЩЕСТВЛЯЮЩИЕ ОТДЕЛЬНЫЕ ВИДЫ БАНКОВСКИХ ОПЕРАЦИЙ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БЕСПЕЧИВАЮТ НАЛИЧИЕ В ПЛАТЕЖНОМ ДОКУМЕНТЕ И ПЕРЕДАЧУ УЧАСТНИКУ ПЛАТЕЖА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ЕРЕВОД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ЕНЕГ РЕКВИЗИТ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ЕДУСМОТРЕННЫХ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;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ЗАКОНОДАТЕЛЬСТВОМ РЕСПУБЛИКИ КАЗАХСТАН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ВКЛЮЧА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87200" indent="-16812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6812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СЕ ОТВЕТЫ ВЕРНЫ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87200" indent="-168120" algn="ctr">
              <a:lnSpc>
                <a:spcPct val="14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-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ФАМИЛИИ</a:t>
            </a:r>
            <a:r>
              <a:rPr b="0" i="1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ИМЕНИ</a:t>
            </a:r>
            <a:r>
              <a:rPr b="0" i="1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ОТЧЕСТВА </a:t>
            </a:r>
            <a:r>
              <a:rPr b="0" i="1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ПРИ ЕГО НАЛИЧИИ</a:t>
            </a:r>
            <a:r>
              <a:rPr b="0" i="1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ЛИБО ПОЛНЫЕ ИЛИ СОКРАЩЕННЫЕ НАИМЕНОВАНИЯ </a:t>
            </a:r>
            <a:r>
              <a:rPr b="0" i="1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ДЛЯ ЮРИДИЧЕСКИХ ЛИЦ</a:t>
            </a:r>
            <a:r>
              <a:rPr b="0" i="1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ОТПРАВИТЕЛЯ И ПОЛУЧАТЕЛЯ ДЕНЕГ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87200" indent="-168120" algn="ctr">
              <a:lnSpc>
                <a:spcPct val="10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БЕНЕФИЦИАРА</a:t>
            </a:r>
            <a:r>
              <a:rPr b="0" i="1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87200" indent="-16812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ИНДИВИДУАЛЬНЫЕ ИДЕНТИФИКАЦИОННЫЕ КОДЫ ОТПРАВИТЕЛЯ И ПОЛУЧАТЕЛЯ ДЕНЕГ </a:t>
            </a:r>
            <a:r>
              <a:rPr b="0" i="1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БЕНЕФИЦИАРА</a:t>
            </a:r>
            <a:r>
              <a:rPr b="0" i="1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),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ЕСЛИ ПЕРЕВОД ДЕНЕГ ОСУЩЕСТВЛЕН С ИСПОЛЬЗОВАНИЕМ БАНКОВСКОГО СЧЕТА</a:t>
            </a:r>
            <a:r>
              <a:rPr b="0" i="1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ЛИБО НОМЕР УКАЗАНИЯ ПО ПЛАТЕЖУ ИЛИ ПЕРЕВОДУ ДЕНЕГ</a:t>
            </a:r>
            <a:r>
              <a:rPr b="0" i="1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ЕСЛИ ПЕРЕВОД ДЕНЕГ ОСУЩЕСТВЛЕН БЕЗ ИСПОЛЬЗОВАНИЯ БАНКОВСКОГО СЧЕТА ИДЕНТИФИКАЦИОННЫЙ НОМЕР ИЛИ АДРЕС ОТПРАВИТЕЛЯ ДЕНЕГ </a:t>
            </a:r>
            <a:r>
              <a:rPr b="0" i="1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ДЛЯ ФИЗИЧЕСКИХ И ЮРИДИЧЕСКИХ ЛИЦ</a:t>
            </a:r>
            <a:r>
              <a:rPr b="0" i="1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ЛИБО НОМЕР ДОКУМЕНТА</a:t>
            </a:r>
            <a:r>
              <a:rPr b="0" i="1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УДОСТОВЕРЯЮЩЕГО ЛИЧНОСТЬ ОТПРАВИТЕЛЯ ДЕНЕГ </a:t>
            </a:r>
            <a:r>
              <a:rPr b="0" i="1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ДЛЯ ФИЗИЧЕСКОГОЛИЦА</a:t>
            </a:r>
            <a:r>
              <a:rPr b="0" i="1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Google Shape;331;p51"/>
          <p:cNvSpPr/>
          <p:nvPr/>
        </p:nvSpPr>
        <p:spPr>
          <a:xfrm>
            <a:off x="33480" y="339840"/>
            <a:ext cx="7464240" cy="59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 indent="87480">
              <a:lnSpc>
                <a:spcPct val="114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157.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И ОСУЩЕСТВЛЕНИИ КЛИЕНТОМ БЕЗНАЛИЧНОГО ПЛАТЕЖА ИЛИ ПЕРЕВОДА ДЕНЕГ БЕЗ ИСПОЛЬЗОВАНИЯ БАНКОВСКОГО СЧЕТ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ЕСЛИ СУММА ТАКОГО ПЛАТЕЖА ИЛИ ПЕРЕВОДА ДЕНЕГ НЕ ПРЕВЫШАЕТ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500000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ТЕНГЕ ЛИБО СУММУ В ИНОСТРАННО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indent="8748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ВАЛЮТЕ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ЭКВИВАЛЕНТНУЮ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500000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ТЕНГЕ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ЗА ИСКЛЮЧЕНИЕМ СЛУЧАЕ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indent="87480" algn="ctr">
              <a:lnSpc>
                <a:spcPct val="116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ОВЕРШЕНИЯ КЛИЕНТОМ ПОДОЗРИТЕЛЬНОЙ ОПЕРАЦИ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;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И ОСУЩЕСТВЛЕНИИ КЛИЕНТОМ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–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ФИЗИЧЕСКИМ ЛИЦОМ ОПЕРАЦИИ ПО ОПЛАТЕ ЗАДОЛЖЕННОСТИ 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indent="87480" algn="ctr">
              <a:lnSpc>
                <a:spcPct val="116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РАМКАХ ИСПОЛНИТЕЛЬНОГО ПРОИЗВОДСТВА В ПОЛЬЗУ ГОСУДАРСТВЕННЫХ ОРГАНОВ ПОСРЕДСТВОМ ОБОРУДОВАНИЯ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УСТРОЙСТВ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ЕДНАЗНАЧЕННОГО ДЛЯ ПРИЕМА НАЛИЧНЫХ ДЕНЕГ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;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В СООТВЕТСТВИИ С ЗАКОНОМ РЕСПУБЛИКИ КАЗАХСТАН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«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 ПРОТИВОДЕЙСТВИИ ЛЕГАЛИЗАЦИ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»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БАНКИ И ОРГАНИЗАЦИ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СУЩЕСТВЛЯЮЩИЕ ОТДЕЛЬНЫЕ ВИДЫ БАНКОВСКИХ ОПЕРАЦИЙ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БЕСПЕЧИВАЮТ НАЛИЧИЕ В ПЛАТЕЖНОМ ДОКУМЕНТЕ И ПЕРЕДАЧУ УЧАСТНИКУ ПЛАТЕЖА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ЕРЕВОД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ЕНЕГ РЕКВИЗИТ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ЕДУСМОТРЕННЫХ ЗАКОНОДАТЕЛЬСТВОМ РЕСПУБЛИКИ КАЗАХСТАН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ВКЛЮЧА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indent="8748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ФАМИЛИИ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МЕНИ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ТЧЕСТВА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РИ ЕГО НАЛИЧИИ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ЛИБО ПОЛНЫЕ ИЛИ СОКРАЩЕННЫ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indent="8748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НАИМЕНОВАНИЯ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ЛЯ ЮРИДИЧЕСКИХ ЛИЦ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ТПРАВИТЕЛЯ И ПОЛУЧАТЕЛЯ ДЕНЕГ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indent="8748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БЕНЕФИЦИАР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Google Shape;332;p51"/>
          <p:cNvSpPr/>
          <p:nvPr/>
        </p:nvSpPr>
        <p:spPr>
          <a:xfrm>
            <a:off x="3740040" y="5613480"/>
            <a:ext cx="8856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Google Shape;337;p52"/>
          <p:cNvSpPr/>
          <p:nvPr/>
        </p:nvSpPr>
        <p:spPr>
          <a:xfrm>
            <a:off x="23760" y="339840"/>
            <a:ext cx="7527600" cy="90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87200" indent="-168120">
              <a:lnSpc>
                <a:spcPct val="111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158.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И ОСУЩЕСТВЛЕНИИ ПО УКАЗАНИЯМ КЛИЕНТОВ БЕЗНАЛИЧНЫХ ПЛАТЕЖЕЙ И ПЕРЕВОДОВ ДЕНЕГ В ПОЛЬЗУ ИНОСТРАННОЙ ФИНАНСОВОЙ ОРГАНИЗАЦИ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З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87200" indent="-168120" algn="ctr">
              <a:lnSpc>
                <a:spcPct val="116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СКЛЮЧЕНИЕМ ПЛАТЕЖЕЙ И ПЕРЕВОДОВ ДЕНЕГ С ИСПОЛЬЗОВАНИЕМ ПЛАТЕЖНЫХ КАРТОЧЕК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А ТАКЖЕ СЛУЧАЕ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ЕДУСМОТРЕННЫХ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И ОСУЩЕСТВЛЕНИИ КЛИЕНТОМ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–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ФИЗИЧЕСКИМ ЛИЦОМ ОПЕРАЦИИ ПО ЗАЧИСЛЕНИЮ ДЕНЕГ НА БАНКОВСКИЙ СЧЕТ ФИЗИЧЕСКОГО ЛИЦА ЛИБО ПРОВЕДЕНИЮ ПЛАТЕЖА В ПОЛЬЗУ ПОСТАВЩИКА УСЛУГ ПОСРЕДСТВОМ ОБОРУДОВАНИЯ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УСТРОЙСТВ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ЕДНАЗНАЧЕННОГО ДЛЯ ПРИЕМА НАЛИЧНЫХ ДЕНЕГ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ЕСЛИ СУММА ТАКОЙ ОПЕРАЦИИ НЕ ПРЕВЫШАЕТ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500000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ТЕНГЕ ЛИБО СУММУ В ИНОСТРАННОЙ ВАЛЮТЕ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ЭКВИВАЛЕНТНУЮ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500000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ТЕНГЕ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;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И ОСУЩЕСТВЛЕНИИ КЛИЕНТОМ БЕЗНАЛИЧНОГО ПЛАТЕЖА ИЛИ ПЕРЕВОДА ДЕНЕГ БЕЗ ИСПОЛЬЗОВАНИЯ БАНКОВСКОГО СЧЕТ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ЕСЛИ СУММА ТАКОГО ПЛАТЕЖА ИЛИ ПЕРЕВОДА ДЕНЕГ НЕ ПРЕВЫШАЕТ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500000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ТЕНГЕ ЛИБО СУММУ В ИНОСТРАННОЙ ВАЛЮТЕ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ЭКВИВАЛЕНТНУЮ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500000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ТЕНГЕ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ЗА ИСКЛЮЧЕНИЕМ СЛУЧАЕВ СОВЕРШЕНИЯ КЛИЕНТОМ ПОДОЗРИТЕЛЬНОЙ ОПЕРАЦИ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;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И ОСУЩЕСТВЛЕНИИ КЛИЕНТОМ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–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ФИЗИЧЕСКИМ ЛИЦОМ ОПЕРАЦИИ ПО ОПЛАТЕ ЗАДОЛЖЕННОСТИ В РАМКАХ ИСПОЛНИТЕЛЬНОГО ПРОИЗВОДСТВА В ПОЛЬЗУ ГОСУДАРСТВЕННЫХ ОРГАНОВ ПОСРЕДСТВОМ ОБОРУДОВАНИЯ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УСТРОЙСТВ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ЕДНАЗНАЧЕННОГО ДЛЯ ПРИЕМА НАЛИЧНЫХ ДЕНЕГ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;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В СООТВЕТСТВИИ С ЗАКОНОМ РЕСПУБЛИКИ КАЗАХСТАН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«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 ПРОТИВОДЕЙСТВИИ ЛЕГАЛИЗАЦИ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»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БАНКИ И ОРГАНИЗАЦИ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СУЩЕСТВЛЯЮЩИЕ ОТДЕЛЬНЫЕ ВИДЫ БАНКОВСКИХ ОПЕРАЦИЙ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БЕСПЕЧИВАЮТ НАЛИЧИЕ В ПЛАТЕЖНОМ ДОКУМЕНТЕ И ПЕРЕДАЧУ УЧАСТНИКУ ПЛАТЕЖА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ЕРЕВОД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ЕНЕГ РЕКВИЗИТ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ЕДУСМОТРЕННЫХ ЗАКОНОДАТЕЛЬСТВОМ РЕСПУБЛИКИ КАЗАХСТАН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ВКЛЮЧА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87200" indent="-16812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НДИВИДУАЛЬНЫЕ ИДЕНТИФИКАЦИОННЫЕ КОДЫ ОТПРАВИТЕЛЯ И ПОЛУЧАТЕЛЯ ДЕНЕГ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87200" indent="-168120" algn="ctr">
              <a:lnSpc>
                <a:spcPct val="14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БЕНЕФИЦИАР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ЕСЛИ ПЕРЕВОД ДЕНЕГ ОСУЩЕСТВЛЕН С ИСПОЛЬЗОВАНИЕМ БАНКОВСКОГО СЧЕТ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ЛИБО НОМЕР УКАЗАНИЯ ПО ПЛАТЕЖУ ИЛИ ПЕРЕВОДУ ДЕНЕГ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ЕСЛ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87200" indent="-16812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ЕРЕВОД ДЕНЕГ ОСУЩЕСТВЛЕН БЕЗ ИСПОЛЬЗОВАНИЯ БАНКОВСКОГО СЧЕТ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Google Shape;338;p52"/>
          <p:cNvSpPr/>
          <p:nvPr/>
        </p:nvSpPr>
        <p:spPr>
          <a:xfrm>
            <a:off x="3740040" y="8539200"/>
            <a:ext cx="8856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Google Shape;343;p53"/>
          <p:cNvSpPr/>
          <p:nvPr/>
        </p:nvSpPr>
        <p:spPr>
          <a:xfrm>
            <a:off x="33480" y="339840"/>
            <a:ext cx="7464240" cy="68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 indent="87480">
              <a:lnSpc>
                <a:spcPct val="114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159.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И ОСУЩЕСТВЛЕНИИ КЛИЕНТОМ БЕЗНАЛИЧНОГО ПЛАТЕЖА ИЛИ ПЕРЕВОДА ДЕНЕГ БЕЗ ИСПОЛЬЗОВАНИЯ БАНКОВСКОГО СЧЕТ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ЕСЛИ СУММА ТАКОГО ПЛАТЕЖА ИЛИ ПЕРЕВОДА ДЕНЕГ НЕ ПРЕВЫШАЕТ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500000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ТЕНГЕ ЛИБО СУММУ В ИНОСТРАННО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indent="8748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ВАЛЮТЕ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ЭКВИВАЛЕНТНУЮ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500000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ТЕНГЕ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ЗА ИСКЛЮЧЕНИЕМ СЛУЧАЕ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indent="87480" algn="ctr">
              <a:lnSpc>
                <a:spcPct val="116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ОВЕРШЕНИЯ КЛИЕНТОМ ПОДОЗРИТЕЛЬНОЙ ОПЕРАЦИ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;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И ОСУЩЕСТВЛЕНИИ КЛИЕНТОМ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–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ФИЗИЧЕСКИМ ЛИЦОМ ОПЕРАЦИИ ПО ОПЛАТЕ ЗАДОЛЖЕННОСТИ 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indent="87480" algn="ctr">
              <a:lnSpc>
                <a:spcPct val="116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РАМКАХ ИСПОЛНИТЕЛЬНОГО ПРОИЗВОДСТВА В ПОЛЬЗУ ГОСУДАРСТВЕННЫХ ОРГАНОВ ПОСРЕДСТВОМ ОБОРУДОВАНИЯ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УСТРОЙСТВ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ЕДНАЗНАЧЕННОГО ДЛЯ ПРИЕМА НАЛИЧНЫХ ДЕНЕГ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;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В СООТВЕТСТВИИ С ЗАКОНОМ РЕСПУБЛИКИ КАЗАХСТАН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«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 ПРОТИВОДЕЙСТВИИ ЛЕГАЛИЗАЦИ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»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БАНКИ И ОРГАНИЗАЦИ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СУЩЕСТВЛЯЮЩИЕ ОТДЕЛЬНЫЕ ВИДЫ БАНКОВСКИХ ОПЕРАЦИЙ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БЕСПЕЧИВАЮТ НАЛИЧИЕ В ПЛАТЕЖНОМ ДОКУМЕНТЕ И ПЕРЕДАЧУ УЧАСТНИКУ ПЛАТЕЖА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ЕРЕВОД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ЕНЕГ РЕКВИЗИТ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ЕДУСМОТРЕННЫХ ЗАКОНОДАТЕЛЬСТВОМ РЕСПУБЛИКИ КАЗАХСТАН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ВКЛЮЧА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indent="87480">
              <a:lnSpc>
                <a:spcPct val="100000"/>
              </a:lnSpc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indent="8748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ДЕНТИФИКАЦИОННЫЙ НОМЕР ИЛИ АДРЕС ОТПРАВИТЕЛЯ ДЕНЕГ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ЛЯ ФИЗИЧЕСКИХ И ЮРИДИЧЕСКИХ ЛИЦ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ЛИБО НОМЕР ДОКУМЕНТ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УДОСТОВЕРЯЮЩЕГО ЛИЧНОСТЬ ОТПРАВИТЕЛЯ ДЕНЕГ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ЛЯ ФИЗИЧЕСКОГО ЛИЦ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indent="87480">
              <a:lnSpc>
                <a:spcPct val="100000"/>
              </a:lnSpc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2600" indent="87480">
              <a:lnSpc>
                <a:spcPct val="100000"/>
              </a:lnSpc>
              <a:tabLst>
                <a:tab algn="l" pos="0"/>
              </a:tabLst>
            </a:pPr>
            <a:r>
              <a:rPr b="1" i="1" lang="en-US" sz="1500" spc="-1" strike="noStrike">
                <a:solidFill>
                  <a:schemeClr val="dk1"/>
                </a:solidFill>
                <a:latin typeface="Arial"/>
                <a:ea typeface="Arial"/>
              </a:rPr>
              <a:t>160.</a:t>
            </a:r>
            <a:r>
              <a:rPr b="1" i="1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 </a:t>
            </a:r>
            <a:r>
              <a:rPr b="1" i="1" lang="en-US" sz="1500" spc="-1" strike="noStrike">
                <a:solidFill>
                  <a:schemeClr val="dk1"/>
                </a:solidFill>
                <a:latin typeface="Arial"/>
                <a:ea typeface="Arial"/>
              </a:rPr>
              <a:t>К СУБЪЕКТАМ ФИНАНСОВОГО МОНИТОРИНГА НЕ ОТНОСЯТСЯ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indent="87480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ГОСУДАРСТВЕННЫЕ ОРГАНЫ РК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Google Shape;344;p53"/>
          <p:cNvSpPr/>
          <p:nvPr/>
        </p:nvSpPr>
        <p:spPr>
          <a:xfrm>
            <a:off x="407880" y="6410160"/>
            <a:ext cx="6854400" cy="37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161.</a:t>
            </a:r>
            <a:r>
              <a:rPr b="1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</a:t>
            </a:r>
            <a:r>
              <a:rPr b="1" lang="en-US" sz="1500" spc="-1" strike="noStrike">
                <a:solidFill>
                  <a:schemeClr val="dk1"/>
                </a:solidFill>
                <a:latin typeface="Arial"/>
                <a:ea typeface="Arial"/>
              </a:rPr>
              <a:t>К СУБЪЕКТАМ ФИНАНСОВОГО МОНИТОРИНГА ОТНОСЯТСЯ</a:t>
            </a:r>
            <a:r>
              <a:rPr b="1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РГАНИЗАЦИИ ОСУЩЕСТВЛЯЮЩИЕ МИКРОФИНАНСОВУЮ ДЕЯТЕЛЬНОСТЬ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1" lang="en-US" sz="1500" spc="-1" strike="noStrike">
                <a:solidFill>
                  <a:schemeClr val="dk1"/>
                </a:solidFill>
                <a:latin typeface="Arial"/>
                <a:ea typeface="Arial"/>
              </a:rPr>
              <a:t>К СУБЪЕКТАМ ФИНАНСОВОГО МОНИТОРИНГА ОТНОСЯТСЯ</a:t>
            </a:r>
            <a:r>
              <a:rPr b="1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-95400" algn="ctr">
              <a:lnSpc>
                <a:spcPct val="117000"/>
              </a:lnSpc>
              <a:spcBef>
                <a:spcPts val="201"/>
              </a:spcBef>
              <a:buClr>
                <a:srgbClr val="ff1515"/>
              </a:buClr>
              <a:buFont typeface="Trebuchet MS"/>
              <a:buChar char="-"/>
              <a:tabLst>
                <a:tab algn="l" pos="0"/>
              </a:tabLst>
            </a:pP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БУХГАЛТЕРСКИЕ ОРГАНИЗАЦИИ И ПРОФЕССИОНАЛЬНЫЕ БУХГАЛТЕРЫ</a:t>
            </a:r>
            <a:r>
              <a:rPr b="0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ОСУЩЕСТВЛЯЮЩИЕ ПРЕДПРИНИМАТЕЛЬСКУЮ ДЕЯТЕЛЬНОСТЬ В СФЕРЕ БУХГАЛТЕРСКОГО УЧЕТА</a:t>
            </a:r>
            <a:r>
              <a:rPr b="0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АУДИТОРСКИЕ ОРГАНИЗАЦИ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85880" indent="-347760">
              <a:lnSpc>
                <a:spcPct val="113000"/>
              </a:lnSpc>
              <a:buClr>
                <a:srgbClr val="000000"/>
              </a:buClr>
              <a:buFont typeface="Trebuchet MS"/>
              <a:buAutoNum type="arabicPeriod" startAt="163"/>
              <a:tabLst>
                <a:tab algn="l" pos="0"/>
              </a:tabLst>
            </a:pPr>
            <a:r>
              <a:rPr b="1" lang="en-US" sz="1500" spc="-1" strike="noStrike">
                <a:solidFill>
                  <a:schemeClr val="dk1"/>
                </a:solidFill>
                <a:latin typeface="Arial"/>
                <a:ea typeface="Arial"/>
              </a:rPr>
              <a:t>К СУБЪЕКТАМ ФИНАНСОВОГО МОНИТОРИНГА ОТНОСЯТСЯ</a:t>
            </a:r>
            <a:r>
              <a:rPr b="1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3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БИРЖ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85880" indent="-347760">
              <a:lnSpc>
                <a:spcPct val="113000"/>
              </a:lnSpc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1" lang="en-US" sz="1500" spc="-1" strike="noStrike">
                <a:solidFill>
                  <a:schemeClr val="dk1"/>
                </a:solidFill>
                <a:latin typeface="Arial"/>
                <a:ea typeface="Arial"/>
              </a:rPr>
              <a:t>К СУБЪЕКТАМ ФИНАНСОВОГО МОНИТОРИНГА ОТНОСЯТСЯ</a:t>
            </a:r>
            <a:r>
              <a:rPr b="1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1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ВСЕ ОТВЕТЫ НЕ ВЕРНЫ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16cc52"/>
                </a:solidFill>
                <a:latin typeface="Lucida Sans"/>
                <a:ea typeface="Lucida Sans"/>
              </a:rPr>
              <a:t>ФИЗИЧЕСКИЕ ЛИЦА</a:t>
            </a:r>
            <a:r>
              <a:rPr b="0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:</a:t>
            </a:r>
            <a:r>
              <a:rPr b="0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16cc52"/>
                </a:solidFill>
                <a:latin typeface="Lucida Sans"/>
                <a:ea typeface="Lucida Sans"/>
              </a:rPr>
              <a:t>ГОСОРГАНЫ РК</a:t>
            </a:r>
            <a:r>
              <a:rPr b="0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;</a:t>
            </a:r>
            <a:r>
              <a:rPr b="0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16cc52"/>
                </a:solidFill>
                <a:latin typeface="Lucida Sans"/>
                <a:ea typeface="Lucida Sans"/>
              </a:rPr>
              <a:t>СУБЪЕКТЫ КВАЗИГОСУДАРСТВЕННОГО СЕКТОР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165.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К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…..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НДИВИДУАЛЬНЫЕ ПРЕДПРИНИМАТЕЛИ И ЮРИДИЧЕСКИЕ ЛИЦ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Google Shape;345;p53"/>
          <p:cNvSpPr/>
          <p:nvPr/>
        </p:nvSpPr>
        <p:spPr>
          <a:xfrm>
            <a:off x="-1440" y="6696000"/>
            <a:ext cx="25992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1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16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Google Shape;346;p53"/>
          <p:cNvSpPr/>
          <p:nvPr/>
        </p:nvSpPr>
        <p:spPr>
          <a:xfrm>
            <a:off x="1440" y="9642600"/>
            <a:ext cx="7542000" cy="9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160" algn="ctr">
              <a:lnSpc>
                <a:spcPct val="110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КАЗЫВАЮЩИЕ ПОСРЕДНИЧЕСКИЕ УСЛУГИ ПРИ ОСУЩЕСТВЛЕНИИ СДЕЛОК КУПЛ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-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ОДАЖИ НЕДВИЖИМОГО ИМУЩЕСТВА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1160" algn="ctr">
              <a:lnSpc>
                <a:spcPct val="10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СУБЪЕКТАМ ФИНАНСОВОГО МОНИТОРИНГ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116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Google Shape;351;p54"/>
          <p:cNvSpPr/>
          <p:nvPr/>
        </p:nvSpPr>
        <p:spPr>
          <a:xfrm>
            <a:off x="25560" y="339840"/>
            <a:ext cx="7511760" cy="113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87360" indent="-374760">
              <a:lnSpc>
                <a:spcPct val="116000"/>
              </a:lnSpc>
              <a:buClr>
                <a:srgbClr val="000000"/>
              </a:buClr>
              <a:buFont typeface="Trebuchet MS"/>
              <a:buAutoNum type="arabicPeriod" startAt="166"/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БЯЗАТЕЛЬНЫМИ ОСНОВАНИЯМИ ДЛЯ ИЗУЧЕНИЯ СУБЪЕКТОМ ФИНАНСОВОГО МОНИТОРИНГА СОВЕРШАЕМЫХ КЛИЕНТОМ ОПЕРАЦИЙ И ФИКСИРОВА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87360" indent="-37476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РЕЗУЛЬТАТОВ ТАКОГО ИЗУЧЕНИЯ В СООТВЕТСТВИИ С ЗАКОНОМ ЯВЛЯЮТС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…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87360" indent="-374760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СЕ ОТВЕТЫ ПРАВИЛЬНЫ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87360" indent="-374760">
              <a:lnSpc>
                <a:spcPct val="112000"/>
              </a:lnSpc>
              <a:spcBef>
                <a:spcPts val="300"/>
              </a:spcBef>
              <a:buClr>
                <a:srgbClr val="000000"/>
              </a:buClr>
              <a:buFont typeface="Trebuchet MS"/>
              <a:buAutoNum type="arabicPeriod" startAt="167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КАКИЕ ОПЕРАЦИИ ПОДЛЕЖАТ ФИНАНСОВОМУ МОНИТОРИНГУ НЕЗАВИСИМО ОТ ФОРМЫ ИХ ОСУЩЕСТВЛЕНИЯ И СУММЫ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НА КОТОРУЮ ОНИ СОВЕРШЕНЫ ЛИБ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87360" indent="-37476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МОГУТ ИЛИ МОГЛИ БЫТЬ СОВЕРШЕНЫ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87360" indent="-37476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ДОЗРИТЕЛЬНЫЕ ОПЕРАЦИ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87360" indent="-37476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7360" indent="-374760" algn="just">
              <a:lnSpc>
                <a:spcPct val="116000"/>
              </a:lnSpc>
              <a:buClr>
                <a:srgbClr val="000000"/>
              </a:buClr>
              <a:buFont typeface="Trebuchet MS"/>
              <a:buAutoNum type="arabicPeriod" startAt="168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КАКИЕ ОПЕРАЦИИ ПОДЛЕЖАТ ФИНАНСОВОМУ МОНИТОРИНГУ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МЕЮЩИЕ ХАРАКТЕРИСТИК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ООТВЕТСТВУЮЩИЕ ТИПОЛОГИЯ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ХЕМАМ И СПОСОБАМ ЛЕГАЛИЗАЦИ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ЕСТУПНЫХ ДОХОДОВ И ФИНАНСИРОВА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87360" indent="-37476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ТЕРРОРИЗМ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87360" indent="-37476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ПЕРАЦИИ КЛИЕНТ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87360" indent="-374760">
              <a:lnSpc>
                <a:spcPct val="117000"/>
              </a:lnSpc>
              <a:spcBef>
                <a:spcPts val="201"/>
              </a:spcBef>
              <a:buClr>
                <a:srgbClr val="000000"/>
              </a:buClr>
              <a:buFont typeface="Trebuchet MS"/>
              <a:buAutoNum type="arabicPeriod" startAt="168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КАКИМ ОРГАНОМ УТВЕРЖДАЮТСЯ ТИПОЛОГИ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ХЕМЫ И СПОСОБЫ ЛЕГАЛИЗАЦИ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ЕСТУПНЫХ ДОХОДОВ И ФИНАНСИРОВА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87360" indent="-374760" algn="ctr">
              <a:lnSpc>
                <a:spcPct val="114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ТЕРРОРИЗМА И ДОВОДЯТСЯ ДО СУБЪЕКТОВ ФИНАНСОВОГО МОНИТОРИНГА ПУТЕМ РАЗМЕЩЕНИЯ НА ОФИЦИАЛЬНОМ ИНТЕРНЕТ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-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РЕСУРСЕ УПОЛНОМОЧЕННОГО ОРГАН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87360" indent="-374760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УПОЛНОМОЧЕННЫМ ОРГАНО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87360" indent="-37476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7360" indent="-374760">
              <a:lnSpc>
                <a:spcPct val="117000"/>
              </a:lnSpc>
              <a:buClr>
                <a:srgbClr val="000000"/>
              </a:buClr>
              <a:buFont typeface="Trebuchet MS"/>
              <a:buAutoNum type="arabicPeriod" startAt="168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КОЛЬКО ВИДОВ ОПЕРАЦИЙ С ДЕНЬГАМИ 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Л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НЫМ ИМУЩЕСТВО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ДЛЕЖАЩИМ ФИНАНСОВОМУ МОНИТОРИНГУ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87360" indent="-374760" algn="ctr">
              <a:lnSpc>
                <a:spcPct val="113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22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87360" indent="-374760">
              <a:lnSpc>
                <a:spcPct val="117000"/>
              </a:lnSpc>
              <a:spcBef>
                <a:spcPts val="300"/>
              </a:spcBef>
              <a:buClr>
                <a:srgbClr val="000000"/>
              </a:buClr>
              <a:buFont typeface="Trebuchet MS"/>
              <a:buAutoNum type="arabicPeriod" startAt="166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КЕМ ПРЕДОСТАВЛЯЮТСЯ СВЕДЕНИЯ И ИНФОРМАЦИЯ ОБ ОПЕРАЦИЯХ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ДЛЕЖАЩИХ ФИНАНСОВОМУ МОНИТОРИНГУ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В УПОЛНОМОЧЕННЫЙ ОРГАН П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87360" indent="-37476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ФОРМЕ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КОТОРАЯ ДОЛЖНА СОДЕРЖАТЬ СЛЕДУЮЩИЕ РАЗДЕЛЫ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ВВОДНУЮ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87360" indent="-374760" algn="ctr">
              <a:lnSpc>
                <a:spcPct val="116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НФОРМАЦИЮ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ВЕДЕНИЯ О СУБЪЕКТЕ ФИНАНСОВОГО МОНИТОРИНГ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ВЕДЕНИЯ ОБ ОПЕРАЦИИ И УЧАСТНИКАХ ОПЕРАЦИ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ПОЛНИТЕЛЬНУЮ ИНФОРМАЦИЮ ПО ОПЕРАЦИ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ДЛЕЖАЩЕЙ ФИНАНСОВОМУ МОНИТОРИНГУ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.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АННАЯ ФОРМА ОПРЕДЕЛЯЕТСЯ ПРАВИЛАМ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УТВЕРЖДАЕМЫМИ ПРАВИТЕЛЬСТВОМ РЕСПУБЛИКИ КАЗАХСТАН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87360" indent="-37476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СУБЪЕКТОМ ФИНАНСОВОГО МОНИТОРИНГ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87360" indent="-37476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7360" indent="-374760">
              <a:lnSpc>
                <a:spcPct val="117000"/>
              </a:lnSpc>
              <a:buClr>
                <a:srgbClr val="000000"/>
              </a:buClr>
              <a:buFont typeface="Trebuchet MS"/>
              <a:buAutoNum type="arabicPeriod" startAt="167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КЕМ НЕ ПРЕДОСТАВЛЯЮТСЯ СВЕДЕНИЯ И ИНФОРМАЦИЯ ОБ ОПЕРАЦИ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ДЛЕЖАЩЕЙ ФИНАНСОВОМУ МОНИТОРИНГУ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87360" indent="-37476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УПОЛНОМОЧЕННЫМ ОРГАНО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87360" indent="-374760" algn="ctr">
              <a:lnSpc>
                <a:spcPct val="113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Google Shape;356;p55"/>
          <p:cNvSpPr/>
          <p:nvPr/>
        </p:nvSpPr>
        <p:spPr>
          <a:xfrm>
            <a:off x="63360" y="328680"/>
            <a:ext cx="7429320" cy="12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36440" indent="-123840">
              <a:lnSpc>
                <a:spcPct val="121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•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173.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В ТЕЧЕНИЕ СКОЛЬКИХ ДНЕЙ СУБЪЕКТ ФИНАНСОВОГО МОНИТОРИНГА ОБЯЗАН ПРЕДОСТАВИТЬ В УПОЛНОМОЧЕННЫЙ ОРГАН ПО ЕГО ЗАПРОСУ НЕОБХОДИМЫ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36440" indent="-123840" algn="ctr">
              <a:lnSpc>
                <a:spcPct val="133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НФОРМАЦИЮ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ВЕДЕНИЯ И ДОКУМЕНТЫ СО ДНЯ ПОЛУЧЕНИЯ СООТВЕТСТВУЮЩЕГО ЗАПРОС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36440" indent="-123840" algn="ctr">
              <a:lnSpc>
                <a:spcPct val="106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 ТЕЧЕНИИ ТРЁХ РАБОЧИХ ДНЕ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36440" indent="-123840">
              <a:lnSpc>
                <a:spcPct val="100000"/>
              </a:lnSpc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36440" indent="-123840">
              <a:lnSpc>
                <a:spcPct val="112000"/>
              </a:lnSpc>
              <a:buClr>
                <a:srgbClr val="000000"/>
              </a:buClr>
              <a:buFont typeface="Trebuchet MS"/>
              <a:buAutoNum type="arabicPeriod" startAt="174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В КАКОЙ ОРГАН СУБЪЕКТ ФИНАНСОВОГО МОНИТОРИНГА ОБЯЗАН ПРЕДОСТАВИТЬ ПО ЕГО ЗАПРОСУ НЕОБХОДИМЫЕ ИНФОРМАЦИЮ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ВЕДЕНИЯ 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36440" indent="-123840" algn="ctr">
              <a:lnSpc>
                <a:spcPct val="112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КУМЕНТЫ В ТЕЧЕНИЕ ТРЕХ РАБОЧИХ ДНЕЙ СО ДНЯ ПОЛУЧЕНИЯ СООТВЕТСТВУЮЩЕГО ЗАПРОС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36440" indent="-123840" algn="ctr">
              <a:lnSpc>
                <a:spcPct val="113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 УПОЛНОМОЧЕННЫЙ ОРГАН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36440" indent="-12384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36440" indent="-123840">
              <a:lnSpc>
                <a:spcPct val="117000"/>
              </a:lnSpc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В ТЕЧЕНИЕ СКОЛЬКИХ ДНЕЙ ПО ЗАПРОСУ УПОЛНОМОЧЕННОГО ОРГАН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ВЯЗАННОМУ С АНАЛИЗОМ ПОДОЗРИТЕЛЬНОЙ ОПЕРАЦИ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УБЪЕК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36440" indent="-123840" algn="ctr">
              <a:lnSpc>
                <a:spcPct val="112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ФИНАНСОВОГО МОНИТОРИНГА ОБЯЗАН ПРЕДОСТАВИТЬ НЕОБХОДИМЫЕ ИНФОРМАЦИЮ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ВЕДЕНИЯ И ДОКУМЕНТЫ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36440" indent="-12384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НЕ ПОЗДНЕЕ РАБОЧЕГО ДНЯ СО ДНЯ ПОЛУЧЕНИЯ ЗАПРОС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36440" indent="-123840"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36440" indent="-123840">
              <a:lnSpc>
                <a:spcPct val="112000"/>
              </a:lnSpc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НА КАКОЙ СРОК УПОЛНОМОЧЕННЫЙ ОРГАН ВПРАВЕ ПО ПИСЬМЕННОМУ ОБРАЩЕНИЮ СУБЪЕКТА ФИНАНСОВОГО МОНИТОРИНГА ПРОДЛИТЬ В СЛУЧАЯХ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36440" indent="-12384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КОГДА ДЛЯ ОБРАБОТКИ ЗАПРОСА ТРЕБУЕТСЯ ДОПОЛНИТЕЛЬНОЕ ВРЕМ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36440" indent="-12384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НЕ БОЛЕЕ ЧЕМ НА ДЕСЯТЬ РАБОЧИХ ДНЕ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36440" indent="-12384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6440" indent="-123840" algn="just">
              <a:lnSpc>
                <a:spcPct val="116000"/>
              </a:lnSpc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УПОЛНОМОЧЕННЫЙ ОРГАН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…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ЗАПРАШИВАТЬ ИНФОРМАЦИЮ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ВЕДЕНИЯ И ДОКУМЕНТЫ ПО ОПЕРАЦИЯ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ОВЕРШЕННЫМ ДО ВВЕДЕНИЯ В ДЕЙСТВИЕ ЗАКОНА РЕСПУБЛИКИ КАЗАХСТАН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"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 ПРОТИВОДЕЙСТВИИ ЛЕГАЛИЗАЦИ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36440" indent="-12384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Ю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36440" indent="-123840" algn="ctr">
              <a:lnSpc>
                <a:spcPct val="116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ТЕРРОРИЗМ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"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ЗА ИСКЛЮЧЕНИЕМ ИНФОРМАЦИ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ВЕДЕНИЙ И ДОКУМЕНТ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КОТОРЫЕ ПРЕДОСТАВЛЯЮТСЯ НА ОСНОВАНИИ МЕЖДУНАРОДНОГО ДОГОВОР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РАТИФИЦИРОВАННОГО РЕСПУБЛИКОЙ КАЗАХСТАН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36440" indent="-12384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НЕ ВПРАВ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36440" indent="-12384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6440" indent="-123840">
              <a:lnSpc>
                <a:spcPct val="117000"/>
              </a:lnSpc>
              <a:buClr>
                <a:srgbClr val="000000"/>
              </a:buClr>
              <a:buFont typeface="Trebuchet MS"/>
              <a:buAutoNum type="arabicPeriod" startAt="174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УБЪЕКТЫ ФИНАНСОВОГО МОНИТОРИНГА В КАКОЙ ОРГАН НЕСУТ РАСХОДЫ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ВЯЗАННЫЕ С ПЕРЕДАЧЕЙ СВЕДЕНИЙ ОБ ОПЕРАЦИ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ДЛЕЖАЩЕ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36440" indent="-123840" algn="ctr">
              <a:lnSpc>
                <a:spcPct val="14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ФИНАНСОВОМУ МОНИТОРИНГУ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И ПРОВЕДЕНИИ НАДЛЕЖАЩЕЙ ПРОВЕРКИ КЛИЕНТ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36440" indent="-123840" algn="ctr">
              <a:lnSpc>
                <a:spcPct val="10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В УПОЛНОМОЧЕННЫЙ ОРГАН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36440" indent="-12384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6440" indent="-12384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Google Shape;74;p11"/>
          <p:cNvSpPr/>
          <p:nvPr/>
        </p:nvSpPr>
        <p:spPr>
          <a:xfrm>
            <a:off x="0" y="0"/>
            <a:ext cx="5760720" cy="10537560"/>
          </a:xfrm>
          <a:custGeom>
            <a:avLst/>
            <a:gdLst>
              <a:gd name="textAreaLeft" fmla="*/ 0 w 5760720"/>
              <a:gd name="textAreaRight" fmla="*/ 5761080 w 5760720"/>
              <a:gd name="textAreaTop" fmla="*/ 0 h 10537560"/>
              <a:gd name="textAreaBottom" fmla="*/ 10537920 h 10537560"/>
            </a:gdLst>
            <a:ahLst/>
            <a:rect l="textAreaLeft" t="textAreaTop" r="textAreaRight" b="textAreaBottom"/>
            <a:pathLst>
              <a:path w="5761355" h="10537190">
                <a:moveTo>
                  <a:pt x="0" y="10537186"/>
                </a:moveTo>
                <a:lnTo>
                  <a:pt x="5761338" y="10537186"/>
                </a:lnTo>
                <a:lnTo>
                  <a:pt x="5761338" y="0"/>
                </a:lnTo>
                <a:lnTo>
                  <a:pt x="0" y="0"/>
                </a:lnTo>
                <a:lnTo>
                  <a:pt x="0" y="10537186"/>
                </a:lnTo>
              </a:path>
            </a:pathLst>
          </a:custGeom>
          <a:solidFill>
            <a:srgbClr val="f0f0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Google Shape;75;p11"/>
          <p:cNvSpPr/>
          <p:nvPr/>
        </p:nvSpPr>
        <p:spPr>
          <a:xfrm>
            <a:off x="0" y="0"/>
            <a:ext cx="1387080" cy="340920"/>
          </a:xfrm>
          <a:custGeom>
            <a:avLst/>
            <a:gdLst>
              <a:gd name="textAreaLeft" fmla="*/ 0 w 1387080"/>
              <a:gd name="textAreaRight" fmla="*/ 1387440 w 1387080"/>
              <a:gd name="textAreaTop" fmla="*/ 0 h 340920"/>
              <a:gd name="textAreaBottom" fmla="*/ 341280 h 340920"/>
            </a:gdLst>
            <a:ahLst/>
            <a:rect l="textAreaLeft" t="textAreaTop" r="textAreaRight" b="textAreaBottom"/>
            <a:pathLst>
              <a:path w="1386840" h="340995">
                <a:moveTo>
                  <a:pt x="366299" y="0"/>
                </a:moveTo>
                <a:lnTo>
                  <a:pt x="0" y="340493"/>
                </a:lnTo>
                <a:lnTo>
                  <a:pt x="236850" y="340493"/>
                </a:lnTo>
                <a:lnTo>
                  <a:pt x="603150" y="0"/>
                </a:lnTo>
                <a:lnTo>
                  <a:pt x="366299" y="0"/>
                </a:lnTo>
              </a:path>
              <a:path w="1386840" h="340995">
                <a:moveTo>
                  <a:pt x="758086" y="0"/>
                </a:moveTo>
                <a:lnTo>
                  <a:pt x="391799" y="340493"/>
                </a:lnTo>
                <a:lnTo>
                  <a:pt x="628649" y="340493"/>
                </a:lnTo>
                <a:lnTo>
                  <a:pt x="994949" y="0"/>
                </a:lnTo>
                <a:lnTo>
                  <a:pt x="758086" y="0"/>
                </a:lnTo>
              </a:path>
              <a:path w="1386840" h="340995">
                <a:moveTo>
                  <a:pt x="1149885" y="0"/>
                </a:moveTo>
                <a:lnTo>
                  <a:pt x="783585" y="340493"/>
                </a:lnTo>
                <a:lnTo>
                  <a:pt x="1021079" y="340493"/>
                </a:lnTo>
                <a:lnTo>
                  <a:pt x="1386756" y="0"/>
                </a:lnTo>
                <a:lnTo>
                  <a:pt x="1149885" y="0"/>
                </a:lnTo>
              </a:path>
            </a:pathLst>
          </a:custGeom>
          <a:solidFill>
            <a:srgbClr val="2020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Google Shape;76;p11"/>
          <p:cNvSpPr/>
          <p:nvPr/>
        </p:nvSpPr>
        <p:spPr>
          <a:xfrm>
            <a:off x="1262160" y="206280"/>
            <a:ext cx="5660640" cy="7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202020"/>
                </a:solidFill>
                <a:latin typeface="Lucida Sans"/>
                <a:ea typeface="Lucida Sans"/>
              </a:rPr>
              <a:t>ТЕСТЫ ПО ТИПОЛОГИЯМ И СХЕМАМ </a:t>
            </a:r>
            <a:r>
              <a:rPr b="0" i="1" lang="en-US" sz="2400" spc="-1" strike="noStrike">
                <a:solidFill>
                  <a:srgbClr val="ff1515"/>
                </a:solidFill>
                <a:latin typeface="Trebuchet MS"/>
                <a:ea typeface="Trebuchet MS"/>
              </a:rPr>
              <a:t>3</a:t>
            </a:r>
            <a:r>
              <a:rPr b="0" i="1" lang="en-US" sz="2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1515"/>
                </a:solidFill>
                <a:latin typeface="Arial"/>
                <a:ea typeface="Arial"/>
              </a:rPr>
              <a:t>БЛ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Google Shape;77;p11"/>
          <p:cNvSpPr/>
          <p:nvPr/>
        </p:nvSpPr>
        <p:spPr>
          <a:xfrm>
            <a:off x="-12600" y="573120"/>
            <a:ext cx="7569000" cy="19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1300" spc="-1" strike="noStrike">
                <a:solidFill>
                  <a:schemeClr val="dk1"/>
                </a:solidFill>
                <a:latin typeface="Calibri"/>
                <a:ea typeface="Calibri"/>
              </a:rPr>
              <a:t>1.</a:t>
            </a:r>
            <a:r>
              <a:rPr b="0" lang="en-US" sz="13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ЕМ УТВЕРЖДАЮТСЯ ТИПОЛОГИИ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ХЕМЫ И СПОСОБЫ ЛЕГАЛИЗАЦИИ 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(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Я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ЕСТУПНЫХ ДОХОДОВ И ФИНАНСИРОВАНИЯ ТЕРРОРИЗМА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УПОЛНОМОЧЕННЫМ ОРГАНОМ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АФМ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6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2.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АКИМ ОБРАЗОМ ТИПОЛОГИИ ДОВОДЯТСЯ ДО СУБЪЕКТОВ ФИНАНСОВОГО МОНИТОРИНГ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УТЕМ РАЗМЕЩЕНИЯ НА ИНТЕРНЕТ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РЕСУРСЕ АФ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Google Shape;78;p11"/>
          <p:cNvSpPr/>
          <p:nvPr/>
        </p:nvSpPr>
        <p:spPr>
          <a:xfrm>
            <a:off x="-1440" y="2639880"/>
            <a:ext cx="137880" cy="1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</a:tabLst>
            </a:pPr>
            <a:r>
              <a:rPr b="0" lang="en-US" sz="1300" spc="-1" strike="noStrike">
                <a:solidFill>
                  <a:schemeClr val="dk1"/>
                </a:solidFill>
                <a:latin typeface="Calibri"/>
                <a:ea typeface="Calibri"/>
              </a:rPr>
              <a:t>3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Google Shape;79;p11"/>
          <p:cNvSpPr/>
          <p:nvPr/>
        </p:nvSpPr>
        <p:spPr>
          <a:xfrm>
            <a:off x="846000" y="2630520"/>
            <a:ext cx="6108480" cy="4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АКАЯ ЦИФРА УКАЗЫВАЕТСЯ В СЛУЧАЕ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ЕСЛИ ОПЕРАЦИИ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МЕЮЩ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Google Shape;80;p11"/>
          <p:cNvSpPr/>
          <p:nvPr/>
        </p:nvSpPr>
        <p:spPr>
          <a:xfrm>
            <a:off x="-12600" y="2887560"/>
            <a:ext cx="7563960" cy="87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3760">
              <a:lnSpc>
                <a:spcPct val="116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ХАРАКТЕРИСТИКИ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ООТВЕТСТВУЮЩИЕ ТИПОЛОГИЯМ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ХЕМАМ И СПОСОБАМ ФИНАНСИРОВАНИЯ ТЕРРОРИЗМА В ГРАФЕ 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1.5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«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СНОВАНИЕ ДЛЯ ПОДАЧИ СООБЩЕНИЯ 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(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НУЖНОЕ ВЫБРАТЬ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)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*»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ФОРМЫ ФМ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-1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760" algn="ctr">
              <a:lnSpc>
                <a:spcPct val="121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76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760" indent="-88920">
              <a:lnSpc>
                <a:spcPct val="116000"/>
              </a:lnSpc>
              <a:buClr>
                <a:srgbClr val="000000"/>
              </a:buClr>
              <a:buFont typeface="Calibri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АКАЯ ЦИФРА УКАЗЫВАЕТСЯ В СЛУЧАЕ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ЕСЛИ ОПЕРАЦИИ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МЕЮЩИЕ ХАРАКТЕРИСТИКИ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ООТВЕТСТВУЮЩИЕ ТИПОЛОГИЯМ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ХЕМАМ И СПОСОБА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760" algn="ctr">
              <a:lnSpc>
                <a:spcPct val="117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ЛЕГАЛИЗАЦИИ 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(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Я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)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ЕСТУПНЫХ ДОХОДОВ В ГРАФЕ 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1.5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«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СНОВАНИЕ ДЛЯ ПОДАЧИ СООБЩЕНИЯ 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(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НУЖНОЕ ВЫБРАТЬ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)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*»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ФОРМЫ ФМ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-1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760" algn="ctr">
              <a:lnSpc>
                <a:spcPct val="121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76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760" indent="-88920">
              <a:lnSpc>
                <a:spcPct val="117000"/>
              </a:lnSpc>
              <a:buClr>
                <a:srgbClr val="000000"/>
              </a:buClr>
              <a:buFont typeface="Calibri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ДАЙТЕ ОПРЕДЕЛЕНИЕ ФИНАНСОВОЙ 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(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НВЕСТИЦИОННОЙ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)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ИРАМИДЕ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ОГЛАСНО УТВЕРЖДЁННОЙ ТИПОЛОГИЕЙ 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«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ФИНАНСОВЫЕ ПИРАМИДЫ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РИТЕР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760" algn="ctr">
              <a:lnSpc>
                <a:spcPct val="121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ДОЗРИТЕЛЬНОСТИ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ХЕМЫ ФУНКЦИОНИРОВАНИЯ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»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760">
              <a:lnSpc>
                <a:spcPct val="121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РГАНИЗАЦИЯ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СУЩЕСТВЛЯЮЩАЯ НЕЗАКОННУЮ ДЕЯТЕЛЬНОСТЬ ПО ИЗВЛЕЧЕН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760">
              <a:lnSpc>
                <a:spcPct val="116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ДОХОДА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МУЩЕСТВЕННОЙ ВЫГОДЫ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Т ПРИВЛЕЧЕНИЯ ДЕНЕГ ИЛИ ИНОГО ИМУЩЕСТВА ЛИБО ПРАВА НА НЕГО ФИЗИЧЕСКИХ И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Л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ЮРИДИЧЕСКИХ ЛИЦ БЕЗ ИСПОЛЬЗ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76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ИВЛЕЧЕННЫХ СРЕДСТВ НА ПРЕДПРИНИМАТЕЛЬСКУЮ ДЕЯТЕЛЬНОСТЬ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БЕСПЕЧИВАЮЩУЮ ПРИНЯТЫЕ ОБЯЗАТЕЛЬСТВА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УТЕМ ПЕРЕРАСПРЕДЕЛЕНИЯ ДАННЫХ АКТИВОВ И ОБОГАЩЕНИЯ ОДНИХ УЧАСТНИКОВ ЗА СЧЕТ ВЗНОСОВ ДРУГИХ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76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760" algn="ctr">
              <a:lnSpc>
                <a:spcPct val="115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6.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 КАКОЙ СТАТЬЕ УГОЛОВНОГО КОДЕКСА РЕСПУБЛИКИ КАЗАХСТАН ПРЕДУСМОТРЕНА ОТВЕТСТВЕННОСТЬ ЗА СОЗДАНИЕ ФИНАНСОВОЙ 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(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НВЕСТИЦИОННОЙ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)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ИРАМИДЫ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760" algn="ctr">
              <a:lnSpc>
                <a:spcPct val="121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	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ТАТЬЯ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217.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ОЗДАНИЕ И РУКОВОДСТВО ФИНАНСОВОЙ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НВЕСТИЦИОННОЙ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ИРАМИД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760"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760">
              <a:lnSpc>
                <a:spcPct val="112000"/>
              </a:lnSpc>
              <a:spcBef>
                <a:spcPts val="799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7.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КОЛЬКО ИНДИКАТОРОВ ПОДОЗРИТЕЛЬНОСТИ УКАЗАНЫ В УТВЕРЖДЁННОЙ ТИПОЛОГИЕЙ 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«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ФИНАНСОВЫЕ ПИРАМИДЫ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РИТЕРИИ ПОДОЗРИТЕЛЬНОСТИ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ХЕ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760" algn="ctr">
              <a:lnSpc>
                <a:spcPct val="121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ФУНКЦИОНИРОВАНИЯ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»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760" algn="ctr">
              <a:lnSpc>
                <a:spcPct val="121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16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ШЕСТНАДЦАТЬ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Google Shape;361;p56"/>
          <p:cNvSpPr/>
          <p:nvPr/>
        </p:nvSpPr>
        <p:spPr>
          <a:xfrm>
            <a:off x="46080" y="331920"/>
            <a:ext cx="7472160" cy="873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709560">
              <a:lnSpc>
                <a:spcPct val="100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179.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КАКИЕ ФУНКЦИИ ОСУЩЕСТВЛЯЕТ УПОЛНОМОЧЕННЫЙ ОРГАН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709560"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0956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СЕ ОТВЕТЫ ВЕРН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709560" algn="ctr">
              <a:lnSpc>
                <a:spcPct val="114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ОСУЩЕСТВЛЯЕТ СБОР И ОБРАБОТКУ ИНФОРМАЦИИ ОБ ОПЕРАЦИЯХ С ДЕНЬГАМИ И 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(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ИЛИ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)</a:t>
            </a:r>
            <a:r>
              <a:rPr b="0" lang="en-US" sz="12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ИНЫМ ИМУЩЕСТВОМ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lang="en-US" sz="12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ПОДЛЕЖАЩИХ ФИНАНСОВОМУ МОНИТОРИНГУ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lang="en-US" sz="12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В СООТВЕТСТВИИ С ЗАКОНОМ РЕСПУБЛИКИ КАЗАХСТАН 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"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О ПРОТИВОДЕЙСТВИИ ЛЕГАЛИЗАЦИИ 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(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)</a:t>
            </a:r>
            <a:r>
              <a:rPr b="0" lang="en-US" sz="12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ДОХОДОВ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lang="en-US" sz="12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lang="en-US" sz="12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";</a:t>
            </a:r>
            <a:r>
              <a:rPr b="0" lang="en-US" sz="12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ОСУЩЕСТВЛЯЕТ В УСТАНОВЛЕННОМ ПОРЯДКЕ АНАЛИЗ ПОЛУЧЕННОЙ ИНФОРМАЦИИ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;</a:t>
            </a:r>
            <a:r>
              <a:rPr b="0" lang="en-US" sz="12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КООРДИНИРУЕТ ДЕЯТЕЛЬНОСТЬ ГОСУДАРСТВЕННЫХ ОРГАНОВ В СФЕРЕ ПРОТИВОДЕЙСТВИЯ ЛЕГАЛИЗАЦИИ 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(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)</a:t>
            </a:r>
            <a:r>
              <a:rPr b="0" lang="en-US" sz="12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ДОХОДОВ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lang="en-US" sz="12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lang="en-US" sz="12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;</a:t>
            </a:r>
            <a:r>
              <a:rPr b="0" lang="en-US" sz="12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ПО ЗАПРОСУ СУДА ПО УГОЛОВНЫМ ДЕЛАМ НАПРАВЛЯЕТ НЕОБХОДИМУЮ ИНФОРМАЦИЮ ПО ОПЕРАЦИЯМ С ДЕНЬГАМИ И 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(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ИЛИ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)</a:t>
            </a:r>
            <a:r>
              <a:rPr b="0" lang="en-US" sz="12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ИНЫМ ИМУЩЕСТВОМ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lang="en-US" sz="12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ПОДЛЕЖАЩИМ ФИНАНСОВОМУ МОНИТОРИНГУ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lang="en-US" sz="12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ДЛЯ РАЗРЕШЕНИЯ МАТЕРИАЛОВ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lang="en-US" sz="12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НАХОДЯЩИХСЯ В ПРОИЗВОД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09560" algn="ctr">
              <a:lnSpc>
                <a:spcPct val="114000"/>
              </a:lnSpc>
              <a:tabLst>
                <a:tab algn="l" pos="0"/>
              </a:tabLst>
            </a:pP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-</a:t>
            </a:r>
            <a:r>
              <a:rPr b="0" lang="en-US" sz="12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ПРИ НАЛИЧИИ ОСНОВАНИЙ ПОЛАГАТЬ О ТОМ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lang="en-US" sz="12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ЧТО ОПЕРАЦИЯ С ДЕНЬГАМИ И 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(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ИЛИ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)</a:t>
            </a:r>
            <a:r>
              <a:rPr b="0" lang="en-US" sz="12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ИНЫМ ИМУЩЕСТВОМ СВЯЗАНА С ЛЕГАЛИЗАЦИЕЙ 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(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ОТМЫВАНИЕМ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)</a:t>
            </a:r>
            <a:r>
              <a:rPr b="0" lang="en-US" sz="12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ДОХОДОВ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lang="en-US" sz="12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lang="en-US" sz="12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И 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(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ИЛИ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)</a:t>
            </a:r>
            <a:r>
              <a:rPr b="0" lang="en-US" sz="12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ФИНАНСИРОВАНИЕМ ТЕРРОРИЗМА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lang="en-US" sz="12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ПЕРЕДАЕТ ИНФОРМАЦИЮ В ГЕНЕРАЛЬНУЮ ПРОКУРАТУРУ РЕСПУБЛИКИ КАЗАХСТАН ДЛЯ НАПРАВЛЕНИЯ В ПРАВООХРАНИТЕЛЬНЫЕ И СПЕЦИАЛЬНЫЕ ГОСУДАРСТВЕННЫЕ ОРГАНЫ В СООТВЕТСТВИИ С ИХ КОМПЕТЕНЦИЕЙ ДЛЯ ПРИНЯТИЯ ПРОЦЕССУАЛЬНОГО РЕШЕНИЯ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;</a:t>
            </a:r>
            <a:r>
              <a:rPr b="0" lang="en-US" sz="12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ПРИ НАЛИЧИИ ОСНОВАНИЙ ПОЛАГАТЬ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lang="en-US" sz="12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ЧТО ДЕЯТЕЛЬНОСТЬ ФИЗИЧЕСКИХ И ЮРИДИЧЕСКИХ ЛИЦ СВЯЗАНА С ЛЕГАЛИЗАЦИЕЙ 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(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ОТМЫВАНИЕМ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)</a:t>
            </a:r>
            <a:r>
              <a:rPr b="0" lang="en-US" sz="12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ДОХОДОВ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lang="en-US" sz="12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lang="en-US" sz="12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И 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(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ИЛИ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)</a:t>
            </a:r>
            <a:r>
              <a:rPr b="0" lang="en-US" sz="12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ФИНАНСИРОВАНИЕМ ТЕРРОРИЗМА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lang="en-US" sz="12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НАПРАВЛЯЕТ ИНФОРМАЦИЮ В ПРАВООХРАНИТЕЛЬНЫЕ И СПЕЦИАЛЬНЫЕ ГОСУДАРСТВЕННЫЕ ОРГАНЫ В СООТВЕТСТВИИ С ИХ КОМПЕТЕНЦИЕЙ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;</a:t>
            </a:r>
            <a:r>
              <a:rPr b="0" lang="en-US" sz="12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ОСУЩЕСТВЛЯЕТ ВЗАИМОДЕЙСТВИЕ С ПРАВООХРАНИТЕЛЬНЫМИ И СПЕЦИАЛЬНЫМИ ГОСУДАРСТВЕННЫМИ ОРГАНАМИ ПО ПЕРЕДАННОЙ ИНФОРМАЦИИ В СООТВЕТСТВИИ С ЗАКОНОМ РЕСПУБЛИКИ КАЗАХСТАН 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"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О ПРОТИВОДЕЙСТВИИ ЛЕГАЛИЗАЦИИ 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(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)</a:t>
            </a:r>
            <a:r>
              <a:rPr b="0" lang="en-US" sz="12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ДОХОДОВ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lang="en-US" sz="12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lang="en-US" sz="12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09560" algn="ctr">
              <a:lnSpc>
                <a:spcPct val="114000"/>
              </a:lnSpc>
              <a:tabLst>
                <a:tab algn="l" pos="0"/>
              </a:tabLst>
            </a:pP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-</a:t>
            </a:r>
            <a:r>
              <a:rPr b="0" lang="en-US" sz="12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УЧАСТВУЕТ В РАЗРАБОТКЕ И ОСУЩЕСТВЛЕНИИ ПРОГРАММ МЕЖДУНАРОДНОГО СОТРУДНИЧЕСТВА ПО ВОПРОСАМ ПРОТИВОДЕЙСТВИЯ ЛЕГАЛИЗАЦИИ 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(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)</a:t>
            </a:r>
            <a:r>
              <a:rPr b="0" lang="en-US" sz="12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ДОХОДОВ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lang="en-US" sz="12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lang="en-US" sz="12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;</a:t>
            </a:r>
            <a:r>
              <a:rPr b="0" lang="en-US" sz="12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ОРГАНИЗУЕТ ФОРМИРОВАНИЕ И ВЕДЕНИЕ РЕСПУБЛИКАНСКОЙ БАЗЫ ДАННЫХ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lang="en-US" sz="12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А ТАКЖЕ ОБЕСПЕЧИВАЕТ МЕТОДОЛОГИЧЕСКОЕ ЕДИНСТВО И СОГЛАСОВАННОЕ ФУНКЦИОНИРОВАНИЕ ИНФОРМАЦИОННЫХ СИСТЕМ В СФЕРЕ ПРОТИВОДЕЙСТВИЯ ЛЕГАЛИЗАЦИИ 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(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)</a:t>
            </a:r>
            <a:r>
              <a:rPr b="0" lang="en-US" sz="12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ДОХОДОВ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lang="en-US" sz="12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lang="en-US" sz="12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И ФИНАНСИРОВАНИЮ ТЕРРОРИЗМА И ДРУГ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09560">
              <a:lnSpc>
                <a:spcPct val="10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09560">
              <a:lnSpc>
                <a:spcPct val="100000"/>
              </a:lnSpc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70956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Google Shape;366;p57"/>
          <p:cNvSpPr/>
          <p:nvPr/>
        </p:nvSpPr>
        <p:spPr>
          <a:xfrm>
            <a:off x="-1440" y="328680"/>
            <a:ext cx="7552800" cy="123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85640" indent="-76320">
              <a:lnSpc>
                <a:spcPct val="116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180.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В ЦЕЛЯХ ПРОТИВОДЕЙСТВИЯ ЛЕГАЛИЗАЦИ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Ю ТЕРРОРИЗМ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85640" indent="-7632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УПОЛНОМОЧЕННЫЙ ОРГАН ОСУЩЕСТВЛЯЕТ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85640" indent="-76320"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85640" indent="-7632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СЕ ОТВЕТЫ ВЕРН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85640" indent="-76320">
              <a:lnSpc>
                <a:spcPct val="100000"/>
              </a:lnSpc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85640" indent="-82800" algn="ctr">
              <a:lnSpc>
                <a:spcPct val="100000"/>
              </a:lnSpc>
              <a:buClr>
                <a:srgbClr val="16cc52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ОСУЩЕСТВЛЯЕТ СБОР И ОБРАБОТКУ ИНФОРМАЦИИ ОБ ОПЕРАЦИЯХ С ДЕНЬГАМИ И </a:t>
            </a:r>
            <a:r>
              <a:rPr b="0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(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ИЛИ</a:t>
            </a:r>
            <a:r>
              <a:rPr b="0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85640" indent="-76320" algn="ctr">
              <a:lnSpc>
                <a:spcPct val="116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ИНЫМ ИМУЩЕСТВОМ</a:t>
            </a:r>
            <a:r>
              <a:rPr b="0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ПОДЛЕЖАЩИХ ФИНАНСОВОМУ МОНИТОРИНГУ</a:t>
            </a:r>
            <a:r>
              <a:rPr b="0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В СООТВЕТСТВИИ С ЗАКОНОМ РЕСПУБЛИКИ КАЗАХСТАН </a:t>
            </a:r>
            <a:r>
              <a:rPr b="0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"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О ПРОТИВОДЕЙСТВИИ ЛЕГАЛИЗАЦИИ </a:t>
            </a:r>
            <a:r>
              <a:rPr b="0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(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)</a:t>
            </a:r>
            <a:r>
              <a:rPr b="0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ДОХОДОВ</a:t>
            </a:r>
            <a:r>
              <a:rPr b="0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85640" indent="-76320">
              <a:lnSpc>
                <a:spcPct val="142000"/>
              </a:lnSpc>
              <a:tabLst>
                <a:tab algn="l" pos="0"/>
              </a:tabLst>
            </a:pPr>
            <a:r>
              <a:rPr b="0" lang="en-US" sz="1300" spc="-1" strike="noStrike">
                <a:solidFill>
                  <a:srgbClr val="16cc52"/>
                </a:solidFill>
                <a:latin typeface="Trebuchet MS"/>
                <a:ea typeface="Trebuchet MS"/>
              </a:rPr>
              <a:t>•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ОСУЩЕСТВЛЯЕТ В УСТАНОВЛЕННОМ ПОРЯДКЕ АНАЛИЗ ПОЛУЧЕННОЙ ИНФОРМАЦИИ</a:t>
            </a:r>
            <a:r>
              <a:rPr b="0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;</a:t>
            </a:r>
            <a:r>
              <a:rPr b="0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КООРДИНИРУЕТ ДЕЯТЕЛЬНОСТЬ ГОСУДАРСТВЕННЫХ ОРГАНОВ В СФЕР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85640" indent="-76320" algn="ctr">
              <a:lnSpc>
                <a:spcPct val="100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ПРОТИВОДЕЙСТВИЯ ЛЕГАЛИЗАЦИИ </a:t>
            </a:r>
            <a:r>
              <a:rPr b="0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(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)</a:t>
            </a:r>
            <a:r>
              <a:rPr b="0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ДОХОДОВ</a:t>
            </a:r>
            <a:r>
              <a:rPr b="0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ПОЛУЧЕН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85640" indent="-76320" algn="ctr">
              <a:lnSpc>
                <a:spcPct val="116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ПРЕСТУПНЫМ ПУТЕМ</a:t>
            </a:r>
            <a:r>
              <a:rPr b="0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;</a:t>
            </a:r>
            <a:r>
              <a:rPr b="0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ПО ЗАПРОСУ СУДА ПО УГОЛОВНЫМ ДЕЛАМ НАПРАВЛЯЕТ НЕОБХОДИМУЮ ИНФОРМАЦИЮ ПО ОПЕРАЦИЯМ С ДЕНЬГАМИ И </a:t>
            </a:r>
            <a:r>
              <a:rPr b="0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(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ИЛИ</a:t>
            </a:r>
            <a:r>
              <a:rPr b="0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)</a:t>
            </a:r>
            <a:r>
              <a:rPr b="0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ИНЫМ ИМУЩЕСТВОМ</a:t>
            </a:r>
            <a:r>
              <a:rPr b="0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ПОДЛЕЖАЩИМ ФИНАНСОВОМУ МОНИТОРИНГУ</a:t>
            </a:r>
            <a:r>
              <a:rPr b="0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ДЛЯ РАЗРЕШЕНИЯ МАТЕРИАЛОВ</a:t>
            </a:r>
            <a:r>
              <a:rPr b="0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НАХОДЯЩИХСЯ В ПРОИЗВОДСТВ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50760">
              <a:lnSpc>
                <a:spcPct val="116000"/>
              </a:lnSpc>
              <a:buClr>
                <a:srgbClr val="16cc52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ОСУЩЕСТВЛЯЕТ ВЗАИМОДЕЙСТВИЕ С ПРАВООХРАНИТЕЛЬНЫМИ И СПЕЦИАЛЬНЫМИ ГОСУДАРСТВЕННЫМИ ОРГАНАМИ ПО ПЕРЕДАННОЙ ИНФОРМАЦИИ В СООТВЕТСТВИИ 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85640" indent="-76320" algn="ctr">
              <a:lnSpc>
                <a:spcPct val="135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ЗАКОНОМ РЕСПУБЛИКИ КАЗАХСТАН </a:t>
            </a:r>
            <a:r>
              <a:rPr b="0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"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О ПРОТИВОДЕЙСТВИИ ЛЕГАЛИЗАЦИИ </a:t>
            </a:r>
            <a:r>
              <a:rPr b="0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(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)</a:t>
            </a:r>
            <a:r>
              <a:rPr b="0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ДОХОДОВ</a:t>
            </a:r>
            <a:r>
              <a:rPr b="0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85640" indent="-76320"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85640" indent="-76320">
              <a:lnSpc>
                <a:spcPct val="120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181.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ФУНКЦИИ УПОЛНОМОЧЕННОГО ОРГАНА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ВСЕ ОТВЕТЫ ВЕР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85640" indent="-76320">
              <a:lnSpc>
                <a:spcPct val="113000"/>
              </a:lnSpc>
              <a:tabLst>
                <a:tab algn="l" pos="0"/>
              </a:tabLst>
            </a:pPr>
            <a:r>
              <a:rPr b="0" lang="en-US" sz="1300" spc="-1" strike="noStrike">
                <a:solidFill>
                  <a:srgbClr val="16cc52"/>
                </a:solidFill>
                <a:latin typeface="Trebuchet MS"/>
                <a:ea typeface="Trebuchet MS"/>
              </a:rPr>
              <a:t>•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КООРДИНИРУЕТ РАБОТУ ПО РЕАЛИЗАЦИИ ОЦЕНКИ РИСКОВ В СФЕРЕ ПРОТИВОДЕЙСТВИЯ ЛЕГАЛИЗАЦИИ </a:t>
            </a:r>
            <a:r>
              <a:rPr b="0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(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)</a:t>
            </a:r>
            <a:r>
              <a:rPr b="0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ДОХОДОВ</a:t>
            </a:r>
            <a:r>
              <a:rPr b="0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85640" indent="-76320" algn="ctr">
              <a:lnSpc>
                <a:spcPct val="10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ФИНАНСИРОВАНИЮ ТЕРРОРИЗ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85640" indent="-76320">
              <a:lnSpc>
                <a:spcPct val="112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300" spc="-1" strike="noStrike">
                <a:solidFill>
                  <a:srgbClr val="16cc52"/>
                </a:solidFill>
                <a:latin typeface="Trebuchet MS"/>
                <a:ea typeface="Trebuchet MS"/>
              </a:rPr>
              <a:t>•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РАЗРАБАТЫВАЕТ И ВНОСИТ В ПРАВИТЕЛЬСТВО РЕСПУБЛИКИ КАЗАХСТАН НА УТВЕРЖДЕНИЕ ПРАВИЛА ПРОВЕДЕНИЯ ОЦЕНКИ РИСКОВ ЛЕГАЛИЗАЦИИ </a:t>
            </a:r>
            <a:r>
              <a:rPr b="0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(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ОТМЫВАНИЯ</a:t>
            </a:r>
            <a:r>
              <a:rPr b="0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85640" indent="-76320" algn="ctr">
              <a:lnSpc>
                <a:spcPct val="116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ДОХОДОВ И ФИНАНСИРОВАНИЯ ТЕРРОРИЗМА</a:t>
            </a:r>
            <a:r>
              <a:rPr b="0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А ТАКЖЕ МЕРЫ</a:t>
            </a:r>
            <a:r>
              <a:rPr b="0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НАПРАВЛЕННЫЕ НА СНИЖЕНИЕ РИСКОВ ЛЕГАЛИЗАЦИИ </a:t>
            </a:r>
            <a:r>
              <a:rPr b="0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(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ОТМЫВАНИЯ</a:t>
            </a:r>
            <a:r>
              <a:rPr b="0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)</a:t>
            </a:r>
            <a:r>
              <a:rPr b="0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ДОХОДОВ И ФИНАНСИР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85640" indent="-7632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ТЕРРОРИЗ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85640" indent="-76320">
              <a:lnSpc>
                <a:spcPct val="135000"/>
              </a:lnSpc>
              <a:tabLst>
                <a:tab algn="l" pos="0"/>
              </a:tabLst>
            </a:pPr>
            <a:r>
              <a:rPr b="0" lang="en-US" sz="1300" spc="-1" strike="noStrike">
                <a:solidFill>
                  <a:srgbClr val="16cc52"/>
                </a:solidFill>
                <a:latin typeface="Trebuchet MS"/>
                <a:ea typeface="Trebuchet MS"/>
              </a:rPr>
              <a:t>•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ОСУЩЕСТВЛЯЕТ ИНЫЕ ПОЛНОМОЧИЯ</a:t>
            </a:r>
            <a:r>
              <a:rPr b="0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ПРЕДУСМОТРЕННЫЕ ЗАКОНОМ РЕСПУБЛИКИ КАЗАХСТАН </a:t>
            </a:r>
            <a:r>
              <a:rPr b="0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"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О ПРОТИВОДЕЙСТВИИ ЛЕГАЛИЗАЦИИ </a:t>
            </a:r>
            <a:r>
              <a:rPr b="0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(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)</a:t>
            </a:r>
            <a:r>
              <a:rPr b="0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ДОХОДОВ</a:t>
            </a:r>
            <a:r>
              <a:rPr b="0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85640" indent="-76320" algn="ctr">
              <a:lnSpc>
                <a:spcPct val="135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",</a:t>
            </a:r>
            <a:r>
              <a:rPr b="0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ИНЫМИ ЗАКОНАМИ РЕСПУБЛИКИ КАЗАХСТАН</a:t>
            </a:r>
            <a:r>
              <a:rPr b="0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АКТАМИ ПРЕЗИДЕНТА РЕСПУБЛИКИ КАЗАХСТАН 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85640" indent="-7632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ПРАВИТЕЛЬСТВА РЕСПУБЛИКИ КАЗАХСТ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Google Shape;371;p58"/>
          <p:cNvSpPr/>
          <p:nvPr/>
        </p:nvSpPr>
        <p:spPr>
          <a:xfrm>
            <a:off x="61920" y="325440"/>
            <a:ext cx="7446600" cy="121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66560" indent="-231840">
              <a:lnSpc>
                <a:spcPct val="115000"/>
              </a:lnSpc>
              <a:buClr>
                <a:srgbClr val="000000"/>
              </a:buClr>
              <a:buFont typeface="Trebuchet MS"/>
              <a:buAutoNum type="arabicPeriod" startAt="182"/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ТО РАЗРАБАТЫВАЕТ И ПРОВОДИТ МЕРОПРИЯТИЯ ПО ПРЕДУПРЕЖДЕНИЮ НАРУШЕНИЙ ЗАКОНОДАТЕЛЬСТВА РЕСПУБЛИКИ КАЗАХСТАН О ПРОТИВОДЕЙСТВИИ ЛЕГАЛИЗАЦИИ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23184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ФИНАНСИРОВАНИЮ ТЕРРОРИЗМА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23184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УПОЛНОМОЧЕННЫЙ ОРГ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23184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6560" indent="-231840">
              <a:lnSpc>
                <a:spcPct val="116000"/>
              </a:lnSpc>
              <a:buClr>
                <a:srgbClr val="000000"/>
              </a:buClr>
              <a:buFont typeface="Trebuchet MS"/>
              <a:buAutoNum type="arabicPeriod" startAt="182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ТО ОСУЩЕСТВЛЯЕТ ВЗАИМОДЕЙСТВИЕ С ПРАВООХРАНИТЕЛЬНЫМИ И СПЕЦИАЛЬНЫМИ ГОСУДАРСТВЕННЫМИ ОРГАНАМИ ПО ПЕРЕДАННОЙ ИНФОРМАЦИИ 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231840" algn="ctr">
              <a:lnSpc>
                <a:spcPct val="135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ООТВЕТСТВИИ С ЗАКОНОМ РЕСПУБЛИКИ КАЗАХСТАН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"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 ПРОТИВОДЕЙСТВИИ ЛЕГАЛИЗАЦИИ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"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231840" algn="ctr">
              <a:lnSpc>
                <a:spcPct val="107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УПОЛНОМОЧЕННЫЙ ОРГ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23184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231840">
              <a:lnSpc>
                <a:spcPct val="116000"/>
              </a:lnSpc>
              <a:tabLst>
                <a:tab algn="l" pos="0"/>
              </a:tabLst>
            </a:pPr>
            <a:r>
              <a:rPr b="0" lang="en-US" sz="1300" spc="-1" strike="noStrike">
                <a:solidFill>
                  <a:schemeClr val="dk1"/>
                </a:solidFill>
                <a:latin typeface="Trebuchet MS"/>
                <a:ea typeface="Trebuchet MS"/>
              </a:rPr>
              <a:t>184.</a:t>
            </a:r>
            <a:r>
              <a:rPr b="0" lang="en-US" sz="13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ПЕРАЦИИ С ДЕНЬГАМИ И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ЛИ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НЫМ ИМУЩЕСТВОМ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ДЛЕЖАЩИЕ ФИНАНСОВОМУ МОНИТОРИНГУ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23184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СЕ ОТВЕТЫ ВЕР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231840" algn="ctr">
              <a:lnSpc>
                <a:spcPct val="115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ПОЛУЧЕНИЕ ВЫИГРЫША ПО РЕЗУЛЬТАТАМ ПРОВЕДЕНИЯ ПАРИ</a:t>
            </a:r>
            <a:r>
              <a:rPr b="0" i="1" lang="en-US" sz="1400" spc="-1" strike="noStrike">
                <a:solidFill>
                  <a:srgbClr val="16cc52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АЗАРТНОЙ ИГРЫ В ИГОРНЫХ ЗАВЕДЕНИЯХ И ЛОТЕРЕИ</a:t>
            </a:r>
            <a:r>
              <a:rPr b="0" i="1" lang="en-US" sz="1400" spc="-1" strike="noStrike">
                <a:solidFill>
                  <a:srgbClr val="16cc52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В ТОМ ЧИСЛЕ В ЭЛЕКТРОННОЙ ФОРМ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23184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ПОКУПКА</a:t>
            </a:r>
            <a:r>
              <a:rPr b="0" i="1" lang="en-US" sz="1400" spc="-1" strike="noStrike">
                <a:solidFill>
                  <a:srgbClr val="16cc52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ПРОДАЖА И ОБМЕН НАЛИЧНОЙ ИНОСТРАННОЙ ВАЛЮТЫ ЧЕРЕЗ ОБМЕННЫЕ ПУНКТЫ ПОЛУЧЕНИЕ ДЕНЕГ ПО ЧЕКУ ИЛИ ВЕКСЕЛ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231840"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66560" indent="-231840">
              <a:lnSpc>
                <a:spcPct val="116000"/>
              </a:lnSpc>
              <a:buClr>
                <a:srgbClr val="000000"/>
              </a:buClr>
              <a:buFont typeface="Trebuchet MS"/>
              <a:buAutoNum type="arabicPeriod" startAt="182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 ОПЕРАЦИЯМ С ДЕНЬГАМИ И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ЛИ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НЫМ ИМУЩЕСТВОМ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ДЛЕЖАЩИМ ФИНАНСОВОМУ МОНИТОРИНГУ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НОСЯТСЯ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23184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СЕ ОТВЕТЫ ВЕР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23184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16cc52"/>
                </a:solidFill>
                <a:latin typeface="Calibri"/>
                <a:ea typeface="Calibri"/>
              </a:rPr>
              <a:t>•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СНЯТИЕ С БАНКОВСКОГО СЧЕТА ИЛИ ЗАЧИСЛЕНИЕ НА БАНКОВСКИЙ СЧЕТ КЛИЕНТА ДЕНЕГ</a:t>
            </a:r>
            <a:r>
              <a:rPr b="0" i="1" lang="en-US" sz="1400" spc="-1" strike="noStrike">
                <a:solidFill>
                  <a:srgbClr val="16cc52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А РАВНО ПРИЕМ ОТ КЛИЕНТА ЛИБО ВЫДАЧА КЛИЕНТУ НАЛИЧНЫХ ДЕНЕ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23184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16cc52"/>
                </a:solidFill>
                <a:latin typeface="Calibri"/>
                <a:ea typeface="Calibri"/>
              </a:rPr>
              <a:t>•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ПОЛУЧЕНИЕ ДЕНЕГ ПО ЧЕКУ ИЛИ ВЕКСЕЛ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23184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ПЕРЕВОДЫ ДЕНЕГ ЗА ГРАНИЦУ НА СЧЕТА </a:t>
            </a:r>
            <a:r>
              <a:rPr b="0" i="1" lang="en-US" sz="1400" spc="-1" strike="noStrike">
                <a:solidFill>
                  <a:srgbClr val="16cc52"/>
                </a:solidFill>
                <a:latin typeface="Calibri"/>
                <a:ea typeface="Calibri"/>
              </a:rPr>
              <a:t>(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ВО ВКЛАДЫ</a:t>
            </a:r>
            <a:r>
              <a:rPr b="0" i="1" lang="en-US" sz="1400" spc="-1" strike="noStrike">
                <a:solidFill>
                  <a:srgbClr val="16cc52"/>
                </a:solidFill>
                <a:latin typeface="Calibri"/>
                <a:ea typeface="Calibri"/>
              </a:rPr>
              <a:t>),</a:t>
            </a:r>
            <a:r>
              <a:rPr b="0" i="1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ОТКРЫТЫЕ НА АНОНИМНОГО ВЛАДЕЛЬЦА</a:t>
            </a:r>
            <a:r>
              <a:rPr b="0" i="1" lang="en-US" sz="1400" spc="-1" strike="noStrike">
                <a:solidFill>
                  <a:srgbClr val="16cc52"/>
                </a:solidFill>
                <a:latin typeface="Calibri"/>
                <a:ea typeface="Calibri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23184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ПОСТУПЛЕНИЕ ДЕНЕГ ИЗ</a:t>
            </a:r>
            <a:r>
              <a:rPr b="0" i="1" lang="en-US" sz="1400" spc="-1" strike="noStrike">
                <a:solidFill>
                  <a:srgbClr val="16cc52"/>
                </a:solidFill>
                <a:latin typeface="Calibri"/>
                <a:ea typeface="Calibri"/>
              </a:rPr>
              <a:t>-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ЗА ГРАНИЦЫ СО СЧЕТА </a:t>
            </a:r>
            <a:r>
              <a:rPr b="0" i="1" lang="en-US" sz="1400" spc="-1" strike="noStrike">
                <a:solidFill>
                  <a:srgbClr val="16cc52"/>
                </a:solidFill>
                <a:latin typeface="Calibri"/>
                <a:ea typeface="Calibri"/>
              </a:rPr>
              <a:t>(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ВКЛАДА</a:t>
            </a:r>
            <a:r>
              <a:rPr b="0" i="1" lang="en-US" sz="1400" spc="-1" strike="noStrike">
                <a:solidFill>
                  <a:srgbClr val="16cc52"/>
                </a:solidFill>
                <a:latin typeface="Calibri"/>
                <a:ea typeface="Calibri"/>
              </a:rPr>
              <a:t>),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ОТКРЫТОГО НА АНОНИМНОГО ВЛАДЕЛЬЦ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23184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6560" indent="-231840">
              <a:lnSpc>
                <a:spcPct val="116000"/>
              </a:lnSpc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 ОПЕРАЦИЯМ С ДЕНЬГАМИ И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ЛИ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НЫМ ИМУЩЕСТВОМ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ДЛЕЖАЩИМ ФИНАНСОВОМУ МОНИТОРИНГУ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НЕ ОТНОСЯТСЯ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23184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 ЗАПРОСУ СУДА ПО УГОЛОВНЫМ ДЕЛАМ НАПРАВЛЯЕТ НЕОБХОДИМУЮ ИНФОРМАЦИЮ П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231840" algn="ctr">
              <a:lnSpc>
                <a:spcPct val="135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ПЕРАЦИЯМ С ДЕНЬГАМИ И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ЛИ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)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НЫМ ИМУЩЕСТВОМ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ДЛЕЖАЩИМ ФИНАНСОВОМУ МОНИТОРИНГУ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ДЛЯ РАЗРЕШЕНИЯ МАТЕРИАЛОВ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НАХОДЯЩИХСЯ В ПРОИЗВОДСТВ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231840">
              <a:lnSpc>
                <a:spcPct val="10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187.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	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ФУНКЦИЯ НЕ ОТНОСЯЩИЕСЯ К УПОЛНОМОЧЕННЫМ ОРГАНАМ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: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ИОСТАНОВИ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23184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РАСХОДНЫЕ ОПЕРАЦИИ ПО БАНКОВСКИМ СЧЕТАМ ТАКОЙ ОРГАНИЗАЦИИ ИЛИ ФИЗИЧЕСК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23184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ЛИЦА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А ТАКЖЕ ПО БАНКОВСКИМ СЧЕТАМ КЛИЕНТА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БЕНЕФИЦИАРНЫМ СОБСТВЕННИКОМ КОТОРОГО ЯВЛЯЕТСЯ ТАКОЕ ФИЗИЧЕСКОЕ ЛИЦ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Google Shape;376;p59"/>
          <p:cNvSpPr/>
          <p:nvPr/>
        </p:nvSpPr>
        <p:spPr>
          <a:xfrm>
            <a:off x="9360" y="318960"/>
            <a:ext cx="7538760" cy="112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07880" indent="-212760">
              <a:lnSpc>
                <a:spcPct val="116000"/>
              </a:lnSpc>
              <a:buClr>
                <a:srgbClr val="000000"/>
              </a:buClr>
              <a:buFont typeface="Trebuchet MS"/>
              <a:buAutoNum type="arabicPeriod" startAt="188"/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ВЕДЕНИЯ И ИНФОРМАЦИЯ ОБ ОПЕРАЦИЯХ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ДЛЕЖАЩИХ ФИНАНСОВОМУ МОНИТОРИНГУ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ЕДОСТАВЛЯЮТСЯ СУБЪЕКТАМИ ФИНАНСОВОГО МОНИТОРИНГА В УПОЛНОМОЧЕННЫЙ ОРГАН ПО ФОРМЕ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ОТОРАЯ ДОЛЖНА СОДЕРЖАТЬ СЛЕДУЮЩ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5120" indent="21276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РАЗДЕЛЫ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5120" indent="21276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СЕ ОТВЕТЫ ВЕР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5120" indent="21276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7880" indent="-212760">
              <a:lnSpc>
                <a:spcPct val="116000"/>
              </a:lnSpc>
              <a:buClr>
                <a:srgbClr val="000000"/>
              </a:buClr>
              <a:buFont typeface="Trebuchet MS"/>
              <a:buAutoNum type="arabicPeriod" startAt="188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 ЗАПРОСУ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…,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ВЯЗАННОМУ С АНАЛИЗОМ ПОДОЗРИТЕЛЬНОЙ ОПЕРАЦИИ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УБЪЕКТ ФИНАНСОВОГО МОНИТОРИНГА ОБЯЗАН ПРЕДОСТАВИТЬ НЕОБХОДИМЫЕ ИНФОРМАЦИЮ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5120" indent="21276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ВЕДЕНИЯ И ДОКУМЕНТЫ НЕ ПОЗДНЕЕ РАБОЧЕГО ДНЯ СО ДНЯ ПОЛУЧЕНИЯ ЗАПРОСА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5120" indent="21276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УПОЛНОМОЧЕННОГО ОРГА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7880" indent="-2127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rebuchet MS"/>
              <a:buAutoNum type="arabicPeriod" startAt="188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В СЛУЧАЯХ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ОГДА ДЛЯ ОБРАБОТКИ ЗАПРОСА ТРЕБУЕТСЯ ДОПОЛНИТЕЛЬНОЕ ВРЕМЯ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5120" indent="212760" algn="ctr">
              <a:lnSpc>
                <a:spcPct val="116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…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ВПРАВЕ ПО ПИСЬМЕННОМУ ОБРАЩЕНИЮ СУБЪЕКТА ФИНАНСОВОГО МОНИТОРИНГА ПРОДЛИТЬ СРОК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НЕ БОЛЕЕ ЧЕМ НА ДЕСЯТЬ РАБОЧИХ ДНЕЙ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5120" indent="21276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УПОЛНОМОЧЕННОГО ОРГА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7880" indent="-212760">
              <a:lnSpc>
                <a:spcPct val="116000"/>
              </a:lnSpc>
              <a:spcBef>
                <a:spcPts val="2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АКОЙ ОРГАН НЕ ВПРАВЕ ЗАПРАШИВАТЬ ИНФОРМАЦИЮ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ВЕДЕНИЯ И ДОКУМЕНТЫ ПО ОПЕРАЦИЯМ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ОВЕРШЕННЫМ ДО ВВЕДЕНИЯ В ДЕЙСТВИЕ ЗАКОНА РЕСПУБЛ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5120" indent="212760" algn="ctr">
              <a:lnSpc>
                <a:spcPct val="117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АЗАХСТАН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"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 ПРОТИВОДЕЙСТВИИ ЛЕГАЛИЗАЦИИ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"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ЗА ИСКЛЮЧЕНИЕМ ИНФОРМАЦИИ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ВЕДЕНИЙ И ДОКУМЕНТОВ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ОТОРЫЕ ПРЕДОСТАВЛЯЮТСЯ НА ОСНОВАНИИ МЕЖДУНАРОДНОГО ДОГОВОРА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РАТИФИЦИРОВАННОГО РЕСПУБЛИКОЙ КАЗАХСТАН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5120" indent="212760" algn="ctr">
              <a:lnSpc>
                <a:spcPct val="114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УПОЛНОМОЧЕННЫЙ ОРГ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5120" indent="21276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7880" indent="-212760">
              <a:lnSpc>
                <a:spcPct val="116000"/>
              </a:lnSpc>
              <a:buClr>
                <a:srgbClr val="000000"/>
              </a:buClr>
              <a:buFont typeface="Trebuchet MS"/>
              <a:buAutoNum type="arabicPeriod" startAt="188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В СЛУЧАЯХ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ОГДА ДЛЯ ОБРАБОТКИ ЗАПРОСА ТРЕБУЕТСЯ ДОПОЛНИТЕЛЬНОЕ ВРЕМЯ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УПОЛНОМОЧЕННЫЙ ОРГАН ВПРАВЕ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…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УБЪЕКТА ФИНАНСОВОГО МОНИТОРИНГ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5120" indent="21276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ОДЛИТЬ СРОК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НЕ БОЛЕЕ ЧЕМ НА ДЕСЯТЬ РАБОЧИХ ДН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5120" indent="212760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: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 ПИСЬМЕННОМУ ОБРАЩЕН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5120" indent="212760">
              <a:lnSpc>
                <a:spcPct val="120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193.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УПОЛНОМОЧЕННЫЙ ОРГАН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…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ЗАПРАШИВАТЬ ИНФОРМАЦИЮ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ВЕДЕНИЯ И ДОКУМЕНТЫ ПО ОПЕРАЦИЯМ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ОВЕРШЕННЫМ ДО ВВЕДЕНИЯ В ДЕЙСТВИЕ ЗАКО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5120" indent="212760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РЕСПУБЛИКИ КАЗАХСТАН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"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 ПРОТИВОДЕЙСТВИИ ЛЕГАЛИЗАЦИИ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5120" indent="212760" algn="ctr">
              <a:lnSpc>
                <a:spcPct val="116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"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ЗА ИСКЛЮЧЕНИЕМ ИНФОРМАЦИИ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ВЕДЕНИЙ И ДОКУМЕНТОВ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ОТОРЫЕ ПРЕДОСТАВЛЯЮТСЯ НА ОСНОВАНИИ МЕЖДУНАРОДНОГО ДОГОВОРА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РАТИФИЦИРОВАННОГО РЕСПУБЛИКОЙ КАЗАХСТАН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5120" indent="212760" algn="ctr">
              <a:lnSpc>
                <a:spcPct val="114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НЕ ВПРАВ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5120" indent="212760">
              <a:lnSpc>
                <a:spcPct val="116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194.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РАСХОДЫ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ВЯЗАННЫЕ С ПЕРЕДАЧЕЙ В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…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ВЕДЕНИЙ ОБ ОПЕРАЦИИ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ДЛЕЖАЩЕЙ ФИНАНСОВОМУ МОНИТОРИНГУ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И ПРОВЕДЕНИИ НАДЛЕЖАЩ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5120" indent="21276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ОВЕРКИ КЛИЕНТА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НЕСУТ СУБЪЕКТЫ ФИНАНСОВОГО МОНИТОРИНГА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5120" indent="21276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УПОЛНОМОЧЕННЫЙ ОРГ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Google Shape;381;p60"/>
          <p:cNvSpPr/>
          <p:nvPr/>
        </p:nvSpPr>
        <p:spPr>
          <a:xfrm>
            <a:off x="200160" y="184320"/>
            <a:ext cx="7410240" cy="113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3040" indent="-88920">
              <a:lnSpc>
                <a:spcPct val="116000"/>
              </a:lnSpc>
              <a:buClr>
                <a:srgbClr val="000000"/>
              </a:buClr>
              <a:buFont typeface="Trebuchet MS"/>
              <a:buAutoNum type="arabicPeriod" startAt="195"/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УБЪЕКТ ФИНАНСОВОГО МОНИТОРИНГА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…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ЕДОСТАВИТЬ В УПОЛНОМОЧЕННЫЙ ОРГАН ПО ЕГО ЗАПРОСУ НЕОБХОДИМЫЕ ИНФОРМАЦИЮ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ВЕДЕНИЯ И ДОКУМЕНТЫ В ТЕЧЕНИЕ ТРЕХ РАБОЧИХ ДНЕЙ СО ДНЯ ПОЛУЧЕНИЯ СООТВЕТСТВУЮЩЕГО ЗАПРОСА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3040" indent="-7920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ОБЯЗ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3040" indent="-79200"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03040" indent="-88920">
              <a:lnSpc>
                <a:spcPct val="100000"/>
              </a:lnSpc>
              <a:buClr>
                <a:srgbClr val="000000"/>
              </a:buClr>
              <a:buFont typeface="Trebuchet MS"/>
              <a:buAutoNum type="arabicPeriod" startAt="196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УПОЛНОМОЧЕННЫЙ ОРГАН ОБЯЗАН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3040" indent="-7920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ИНИМАТЬ МЕРЫ ПО ПРОТИВОДЕЙСТВИЮ ЛЕГАЛИЗАЦИИ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ТМЫВАНИЮ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)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ДОХОДОВ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3040" indent="-7920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ЛУЧЕННЫХ ПРЕСТУПНЫМ ПУТЕМ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 ФИНАНСИРОВАНИЮ ТЕРРОРИЗ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3040" indent="-79200">
              <a:lnSpc>
                <a:spcPct val="100000"/>
              </a:lnSpc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03040" indent="-88920"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УПОЛНОМОЧЕННЫЙ ОРГАН ВПРАВЕ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3040" indent="-79200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ИВЛЕКАТЬ К РАБОТЕ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 ТОМ ЧИСЛЕ НА ДОГОВОРНОЙ ОСНОВЕ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НАУЧНО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ССЛЕДОВАТЕЛЬ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3040" indent="-7920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 ДРУГИЕ ОРГАНИЗАЦИИ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А ТАКЖЕ ОТДЕЛЬНЫХ СПЕЦИАЛИСТОВ ДЛЯ ПРОВЕДЕНИЯ ЭКСПЕРТИ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3040" indent="-79200" algn="ctr">
              <a:lnSpc>
                <a:spcPct val="115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РАЗРАБОТКИ ПРОГРАММ ОБУЧЕНИЯ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МЕТОДИЧЕСКИХ МАТЕРИАЛОВ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ОГРАММНОГО И ИНФОРМАЦИОННОГО ОБЕСПЕЧЕНИЯ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ОЗДАНИЯ ИНФОРМАЦИОННЫХ СИСТЕМ В СФЕРЕ ФИНАНСОВОГО МОНИТОРИНГА С СОБЛЮДЕНИЕМ ТРЕБОВАНИЙ ПО ЗАЩИТЕ ГОСУДАРСТВЕН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3040" indent="-7920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ЛУЖЕБНОЙ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КОММЕРЧЕСКОЙ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БАНКОВСКОЙ И ИНОЙ ОХРАНЯЕМОЙ ЗАКОНОМ ТАЙ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3040" indent="-7920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040" indent="-88920">
              <a:lnSpc>
                <a:spcPct val="116000"/>
              </a:lnSpc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УПОЛНОМОЧЕННЫЙ ОРГАН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…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БЕСПЕЧИТЬ СОБЛЮДЕНИЕ ПРАВ И ЗАКОННЫХ ИНТЕРЕСОВ ЧЕЛОВЕКА И ГРАЖДАНИНА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ЮРИДИЧЕСКИХ ЛИЦ И ГОСУДАРСТВА В ПРОЦЕ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3040" indent="-7920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СУЩЕСТВЛЕНИЯ ФИНАНСОВОГО МОНИТОРИНГА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3040" indent="-7920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БЯЗ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3040" indent="-7920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040" indent="-88920" algn="just">
              <a:lnSpc>
                <a:spcPct val="116000"/>
              </a:lnSpc>
              <a:buClr>
                <a:srgbClr val="000000"/>
              </a:buClr>
              <a:buFont typeface="Trebuchet MS"/>
              <a:buAutoNum type="arabicPeriod" startAt="195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УПОЛНОМОЧЕННЫЙ ОРГАН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…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ВЫНОСИТЬ РЕШЕНИЕ О ПРИОСТАНОВЛЕНИИ ОПЕРАЦИЙ С ДЕНЬГАМИ И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ЛИ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НЫМ ИМУЩЕСТВОМ В СЛУЧАЕ ОБНАРУЖЕНИЯ ПРИЗНАКОВ ПОДОЗРИТЕЛЬНОЙ ОПЕРАЦИИ НА СРОК ДО ТРЕХ РАБОЧИХ ДНЕЙ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: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3040" indent="-7920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ПРАВ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3040" indent="-7920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040" indent="-8892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ТО ОРГАНИЗУЕТ ФОРМИРОВАНИЕ И ВЕДЕНИЕ РЕСПУБЛИКАНСКОЙ БАЗЫ ДАННЫХ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ТАКЖЕ ОБЕСПЕЧИВАЕТ МЕТОДОЛОГИЧЕСКОЕ ЕДИНСТВО И СОГЛАСОВАНН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3040" indent="-79200" algn="ctr">
              <a:lnSpc>
                <a:spcPct val="114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ФУНКЦИОНИРОВАНИЕ ИНФОРМАЦИОННЫХ СИСТЕМ В СФЕРЕ ПРОТИВОДЕЙСТВИЯ ЛЕГАЛИЗАЦИИ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3040" indent="-7920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–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УПОЛНОМОЧЕННЫЙ ОРГ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3040" indent="-79200"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03040" indent="-88920" algn="just">
              <a:lnSpc>
                <a:spcPct val="116000"/>
              </a:lnSpc>
              <a:buClr>
                <a:srgbClr val="000000"/>
              </a:buClr>
              <a:buFont typeface="Trebuchet MS"/>
              <a:buAutoNum type="arabicPeriod" startAt="195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АКОЙ ОРГАН ПРЕДОСТАВЛЯЕТ В УСТАНОВЛЕННОМ ЗАКОНОДАТЕЛЬСТВОМ РЕСПУБЛИКИ КАЗАХСТАН ПОРЯДКЕ ПО ЗАПРОСАМ ПРАВООХРАНИТЕЛЬНЫХ И СПЕЦИАЛЬНЫХ ГОСУДАРСТВЕННЫХ ОРГАНОВ СВЕДЕНИЯ И ИНФОРМАЦИЮ О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3040" indent="-79200" algn="ctr">
              <a:lnSpc>
                <a:spcPct val="10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ПЕРАЦИИ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ДЛЕЖАЩЕЙ ФИНАНСОВОМУ МОНИТОРИНГУ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3040" indent="-7920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УПОЛНОМОЧЕННЫЙ ОРГ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Google Shape;386;p61"/>
          <p:cNvSpPr/>
          <p:nvPr/>
        </p:nvSpPr>
        <p:spPr>
          <a:xfrm>
            <a:off x="9360" y="318960"/>
            <a:ext cx="7538760" cy="100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93640" indent="-298440">
              <a:lnSpc>
                <a:spcPct val="116000"/>
              </a:lnSpc>
              <a:buClr>
                <a:srgbClr val="000000"/>
              </a:buClr>
              <a:buFont typeface="Trebuchet MS"/>
              <a:buAutoNum type="arabicPeriod" startAt="202"/>
            </a:pP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…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.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И НАЛИЧИИ ОСНОВАНИЙ ПОЛАГАТЬ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ЧТО ДЕЯТЕЛЬНОСТЬ ФИЗИЧЕСКИХ И ЮРИДИЧЕСКИХ ЛИЦ СВЯЗАНА С ЛЕГАЛИЗАЦИЕЙ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ЕМ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3640" indent="-298440" algn="ctr">
              <a:lnSpc>
                <a:spcPct val="120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ЛИ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ФИНАНСИРОВАНИЕМ ТЕРРОРИЗМА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НАПРАВЛЯЕТ ИНФОРМАЦИЮ В ПРАВООХРАНИТЕЛЬНЫЕ И СПЕЦИАЛЬНЫЕ ГОСУДАРСТВЕННЫЕ ОРГАНЫ В СООТВЕТСТВИИ С ИХ КОМПЕТЕНЦИЕЙ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3640" indent="-298440" algn="ctr">
              <a:lnSpc>
                <a:spcPct val="107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УПОЛНОМОЧЕННЫЙ ОРГ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3640" indent="-29844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3640" indent="-298440">
              <a:lnSpc>
                <a:spcPct val="116000"/>
              </a:lnSpc>
              <a:buClr>
                <a:srgbClr val="000000"/>
              </a:buClr>
              <a:buFont typeface="Trebuchet MS"/>
              <a:buAutoNum type="arabicPeriod" startAt="202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…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УЧАСТВУЕТ В УСТАНОВЛЕННОМ ПОРЯДКЕ В ДЕЯТЕЛЬНОСТИ МЕЖДУНАРОДНЫХ ОРГАНИЗАЦИЙ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БЪЕДИНЕНИЙ И ИНЫХ РАБОЧИХ ГРУПП В СФЕРЕ ПРОТИВОДЕЙСТВ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3640" indent="-298440" algn="ctr">
              <a:lnSpc>
                <a:spcPct val="116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ЛЕГАЛИЗАЦИИ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3640" indent="-29844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УПОЛНОМОЧЕННЫЙ ОРГ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3640" indent="-29844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3640" indent="-298440">
              <a:lnSpc>
                <a:spcPct val="116000"/>
              </a:lnSpc>
              <a:buClr>
                <a:srgbClr val="000000"/>
              </a:buClr>
              <a:buFont typeface="Trebuchet MS"/>
              <a:buAutoNum type="arabicPeriod" startAt="202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…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ВЯЗАННОМУ С АНАЛИЗОМ ПОДОЗРИТЕЛЬНОЙ ОПЕРАЦИИ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УБЪЕКТ ФИНАНСОВОГО МОНИТОРИНГА ОБЯЗАН ПРЕДОСТАВИТЬ НЕОБХОДИМЫЕ ИНФОРМАЦИЮ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3640" indent="-298440" algn="ctr">
              <a:lnSpc>
                <a:spcPct val="114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ВЕДЕНИЯ И ДОКУМЕНТЫ НЕ ПОЗДНЕЕ РАБОЧЕГО ДНЯ СО ДНЯ ПОЛУЧЕНИЯ ЗАПРОСА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3640" indent="-298440" algn="ctr">
              <a:lnSpc>
                <a:spcPct val="114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-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 ЗАПРОСУ УПОЛНОМОЧЕННОГО ОРГА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3640" indent="-298440"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93640" indent="-298440">
              <a:lnSpc>
                <a:spcPct val="116000"/>
              </a:lnSpc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ВЕДЕНИЯ И ИНФОРМАЦИЯ ОБ ОПЕРАЦИИ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ДЛЕЖАЩЕЙ ФИНАНСОВОМУ МОНИТОРИНГУ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НЕ ПРЕДОСТАВЛЯЮТСЯ АДВОКАТАМИ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…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3640" indent="-29844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 СЛУЧАЕ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ЕСЛИ ЭТИ СВЕДЕНИЯ И ИНФОРМАЦИЯ ПОЛУЧЕНЫ В СВЯЗИ С ОКАЗАНИ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3640" indent="-298440" algn="ctr">
              <a:lnSpc>
                <a:spcPct val="114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ЮРИДИЧЕСКОЙ ПОМОЩИ ПО ВОПРОСАМ ПРЕДСТАВИТЕЛЬСТВА И ЗАЩИТЫ ФИЗИЧЕСКИХ И ЮРИДИЧЕСКИХ ЛИЦ В ОРГАНАХ ДОЗНАНИЯ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ЕДВАРИТЕЛЬНОГО СЛЕДСТВИЯ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УДАХ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А ТАКЖЕ ПРИ ОКАЗАНИИ ИМИ ЮРИДИЧЕСКОЙ ПОМОЩИ В ВИДЕ КОНСУЛЬТАЦИЙ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РАЗЪЯСНЕНИЙ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3640" indent="-29844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ОВЕТОВ И ПИСЬМЕННЫХ ЗАКЛЮЧЕНИЙ ПО ВОПРОСАМ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РАЗРЕШЕНИЕ КОТОРЫХ ТРЕБУЕТ ПРОФЕССИОНАЛЬНЫХ ЮРИДИЧЕСКИХ ЗНАНИЙ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ОСТАВЛЕНИЯ ИСКОВЫХ ЗАЯВЛЕНИЙ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ЖАЛОБ И ДРУГИХ ДОКУМЕНТОВ ПРАВОВОГО ХАРАКТЕ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3640" indent="-29844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3640" indent="-298440">
              <a:lnSpc>
                <a:spcPct val="117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206.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НА ЧЕМ ОСНОВЫВАЕТСЯ ЗАКОН РЕСПУБЛИКИ КАЗАХСТАН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«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 ПРОТИВОДЕЙСТВИИ ЛЕГАЛИЗАЦИИ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 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3640" indent="-29844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ФИНАНСИРОВАНИЮ ТЕРРОРИЗМА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»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3640" indent="-298440">
              <a:lnSpc>
                <a:spcPct val="100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КОНСТИТУЦИЯ РЕСПУБЛИКИ КАЗАХСТАН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ЗАКОН И ИНЫЕ НОРМАТИВНЫЕ ПРАВОВЫЕ АК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3640" indent="-29844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РЕСПУБЛИКИ КАЗАХСТ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Google Shape;387;p61"/>
          <p:cNvSpPr/>
          <p:nvPr/>
        </p:nvSpPr>
        <p:spPr>
          <a:xfrm>
            <a:off x="57240" y="8985240"/>
            <a:ext cx="7443360" cy="16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4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207.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АКИЕ МЕРЫ ОБЯЗАНЫ ОСУЩЕСТВЛЯТЬ СУБЪЕКТЫ ФИНАНСОВОГО МОНИТОРИНГА 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4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ТНОШЕНИИ ИНОСТРАННЫХ ПУБЛИЧНЫХ ДОЛЖНОСТНЫХ ЛИЦ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СУЩЕСТВЛЯТЬ ПРОВЕРКУ ПРИНАДЛЕЖНОСТИ И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ЛИ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)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ИЧАСТНОСТИ КЛИЕНТА 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НОСТРАННОМУ ПУБЛИЧНОМУ ДОЛЖНОСТНОМУ ЛИЦУ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ЕГО ЧЛЕНАМ СЕМЬИ И БЛИЗКИМ РОДСТВЕННИКА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Google Shape;392;p62"/>
          <p:cNvSpPr/>
          <p:nvPr/>
        </p:nvSpPr>
        <p:spPr>
          <a:xfrm>
            <a:off x="38160" y="336600"/>
            <a:ext cx="7500600" cy="129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65240" indent="-608040">
              <a:lnSpc>
                <a:spcPct val="113000"/>
              </a:lnSpc>
              <a:buClr>
                <a:srgbClr val="000000"/>
              </a:buClr>
              <a:buFont typeface="Calibri"/>
              <a:buAutoNum type="arabicPeriod" startAt="208"/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УБЪЕКТЫ ФИНАНСОВОГО МОНИТОРИНГА В ОТНОШЕНИИ ИНОСТРАННЫХ ПУБЛИЧНЫХ ДОЛЖНОСТНЫХ ЛИЦ ДОПОЛНИТЕЛЬНО ОБЯЗАНЫ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65240" indent="-608040">
              <a:lnSpc>
                <a:spcPct val="114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ЛУЧАТЬ РАЗРЕШЕНИЕ РУКОВОДЯЩЕГО РАБОТНИКА ОРГАНИЗАЦИИ НА УСТАНОВЛЕНИЕ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65240" indent="-60804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ОДОЛЖЕНИЕ ДЕЛОВЫХ ОТНОШЕНИЙ С ТАКИМИ КЛИЕНТ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65240" indent="-60804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65240" indent="-608040">
              <a:lnSpc>
                <a:spcPct val="112000"/>
              </a:lnSpc>
              <a:buClr>
                <a:srgbClr val="000000"/>
              </a:buClr>
              <a:buFont typeface="Calibri"/>
              <a:buAutoNum type="arabicPeriod" startAt="209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УБЪЕКТЫ ФИНАНСОВОГО МОНИТОРИНГА В ОТНОШЕНИИ ИНОСТРАННЫХ ПУБЛИЧНЫХ ДОЛЖНОСТНЫХ ЛИЦ ДОПОЛНИТЕЛЬНО ОБЯЗАНЫ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65240" indent="-608040" algn="ctr">
              <a:lnSpc>
                <a:spcPct val="114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СЕ ВАРИАНТЫ ВЕР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65240" indent="-60804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ПРЕДПРИНИМАТЬ ДОСТУПНЫЕ МЕРЫ ДЛЯ УСТАНОВЛЕНИЯ ИСТОЧНИКА СРЕДСТ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65240" indent="-608040" algn="ctr">
              <a:lnSpc>
                <a:spcPct val="135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ОСУЩЕСТВЛЯТЬ ОЦЕНКУ РЕПУТАЦИИ ДАННОГО ИНОСТРАННОГО ПУБЛИЧНОГО ДОЛЖНОСТНОГО ЛИЦА В ОТНОШЕНИИ ПРИЧАСТНОСТИ ЕГО К СЛУЧАЯМ ЛЕГАЛИЗАЦИИ </a:t>
            </a:r>
            <a:r>
              <a:rPr b="0" i="1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ОТМЫВАНИЯ</a:t>
            </a:r>
            <a:r>
              <a:rPr b="0" i="1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)</a:t>
            </a:r>
            <a:r>
              <a:rPr b="0" i="1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ДОХОДОВ</a:t>
            </a:r>
            <a:r>
              <a:rPr b="0" i="1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ПОЛУЧЕННЫХ ПРЕСТУПНЫМ ПУТЕМ</a:t>
            </a:r>
            <a:r>
              <a:rPr b="0" i="1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И ФИНАНСИРОВАНИЯ ТЕРРОРИЗ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65240" indent="-608040" algn="ctr">
              <a:lnSpc>
                <a:spcPct val="10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ОСУЩЕСТВЛЯТЬ ПРОВЕРКУ ПРИНАДЛЕЖНОСТИ И </a:t>
            </a:r>
            <a:r>
              <a:rPr b="0" i="1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ИЛИ</a:t>
            </a:r>
            <a:r>
              <a:rPr b="0" i="1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)</a:t>
            </a:r>
            <a:r>
              <a:rPr b="0" i="1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ПРИЧАСТНОСТИ КЛИЕНТА 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65240" indent="-608040" algn="ctr">
              <a:lnSpc>
                <a:spcPct val="135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ИНОСТРАННОМУ ПУБЛИЧНОМУ ДОЛЖНОСТНОМУ ЛИЦУ</a:t>
            </a:r>
            <a:r>
              <a:rPr b="0" i="1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ЕГО ЧЛЕНАМ СЕМЬИ И БЛИЗКИМ РОДСТВЕННИКА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65240" indent="-608040">
              <a:lnSpc>
                <a:spcPct val="100000"/>
              </a:lnSpc>
              <a:tabLst>
                <a:tab algn="l" pos="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065240" indent="-608040">
              <a:lnSpc>
                <a:spcPct val="116000"/>
              </a:lnSpc>
              <a:buClr>
                <a:srgbClr val="000000"/>
              </a:buClr>
              <a:buFont typeface="Calibri"/>
              <a:buAutoNum type="arabicPeriod" startAt="209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ДИН ИЗ МЕР В ОТНОШЕНИИ ИНОСТРАННЫХ ПУБЛИЧНЫХ ДОЛЖНОСТНЫХ ЛИЦ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ОТОРЫЕ СУБЪЕКТЫ ФИНАНСОВОГО МОНИТОРИНГА ДОПОЛНИТЕЛЬНО ОБЯЗАНЫ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65240" indent="-608040" algn="ctr">
              <a:lnSpc>
                <a:spcPct val="114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СУЩЕСТВЛЯТЬ ПРОВЕРКУ ПРИНАДЛЕЖНОСТИ И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Л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ИЧАСТНОСТИ КЛИЕНТА 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65240" indent="-608040" algn="ctr">
              <a:lnSpc>
                <a:spcPct val="135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НОСТРАННОМУ ПУБЛИЧНОМУ ДОЛЖНОСТНОМУ ЛИЦУ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ЕГО ЧЛЕНАМ СЕМЬИ И БЛИЗКИМ РОДСТВЕННИКА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65240" indent="-608040">
              <a:lnSpc>
                <a:spcPct val="100000"/>
              </a:lnSpc>
              <a:tabLst>
                <a:tab algn="l" pos="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065240" indent="-608040">
              <a:lnSpc>
                <a:spcPct val="116000"/>
              </a:lnSpc>
              <a:buClr>
                <a:srgbClr val="000000"/>
              </a:buClr>
              <a:buFont typeface="Calibri"/>
              <a:buAutoNum type="arabicPeriod" startAt="209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ДИН ИЗ МЕР В ОТНОШЕНИИ ИНОСТРАННЫХ ПУБЛИЧНЫХ ДОЛЖНОСТНЫХ ЛИЦ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ОТОРЫЕ СУБЪЕКТЫ ФИНАНСОВОГО МОНИТОРИНГА ДОПОЛНИТЕЛЬНО ОБЯЗАНЫ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65240" indent="-60804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СУЩЕСТВЛЯТЬ ОЦЕНКУ РЕПУТАЦИИ ИНОСТРАННОГО ПУБЛИЧНОГО ДОЛЖНОСТНОГО ЛИЦА 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65240" indent="-608040" algn="ctr">
              <a:lnSpc>
                <a:spcPct val="135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ТНОШЕНИИ ПРИЧАСТНОСТИ ЕГО К СЛУЧАЯМ ЛЕГАЛИЗАЦИИ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ТМЫВАНИЯ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ДОХОДОВ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ЛУЧЕННЫХ ПРЕСТУПНЫМ ПУТЕМ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 ФИНАНСИРОВАНИЯ ТЕРРОРИЗ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65240" indent="-60804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65240" indent="-608040">
              <a:lnSpc>
                <a:spcPct val="115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212.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ЕМ ОСУЩЕСТВЛЯЮТСЯ КОНТРОЛЬ ЗА ИСПОЛНЕНИЕМ СУБЪЕКТАМИ ФИНАНСОВОГО МОНИТОРИНГА ЗАКОНА РЕСПУБЛИКИ КАЗАХСТАН О ПРОТИВОДЕЙСТВИИ ЛЕГАЛИЗАЦИИ 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(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)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Ю ТЕРРОРИЗМА В ЧАСТИ ФИКСИРОВАНИЯ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ХРАНЕНИЯ И ПРЕДОСТАВЛЕНИЯ ИНФОРМ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65240" indent="-608040" algn="ctr">
              <a:lnSpc>
                <a:spcPct val="116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Б ОПЕРАЦИЯХ С ДЕНЬГАМИ И 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(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ЛИ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)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НЫМ ИМУЩЕСТВОМ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ДЛЕЖАЩИХ ФИНАНСОВОМУ МОНИТОРИНГУ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65240" indent="-608040">
              <a:lnSpc>
                <a:spcPct val="100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ООТВЕТСТВУЮЩИМИ ГОСУДАРСТВЕННЫМИ ОРГАНАМИ В СООТВЕТСТВИИ С И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65240" indent="-608040">
              <a:lnSpc>
                <a:spcPct val="135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КОМПЕТЕНЦИЕЙ И В ПОРЯДКЕ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КОТОРЫЕ УСТАНОВЛЕНЫ ЗАКОНОДАТЕЛЬСТВОМ РЕСПУБЛИКИ КАЗАХСТ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Google Shape;397;p63"/>
          <p:cNvSpPr/>
          <p:nvPr/>
        </p:nvSpPr>
        <p:spPr>
          <a:xfrm>
            <a:off x="9360" y="336600"/>
            <a:ext cx="7535520" cy="118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4600" indent="-123840">
              <a:lnSpc>
                <a:spcPct val="116000"/>
              </a:lnSpc>
              <a:buClr>
                <a:srgbClr val="000000"/>
              </a:buClr>
              <a:buFont typeface="Calibri"/>
              <a:buAutoNum type="arabicPeriod" startAt="213"/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ЕМ ОСУЩЕСТВЛЯЮТСЯ КОНТРОЛЬ ЗА ИСПОЛНЕНИЕМ СУБЪЕКТАМИ ФИНАНСОВОГО МОНИТОРИНГА ЗАКОНОДАТЕЛЬСТВА РЕСПУБЛИКИ КАЗАХСТАН О ПРОТИВОДЕЙСТВ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4600" indent="-12384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ЛЕГАЛИЗАЦИИ 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(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)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4600" indent="-123840" algn="ctr">
              <a:lnSpc>
                <a:spcPct val="113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ФИНАНСИРОВАНИЮ ТЕРРОРИЗМА В ЧАСТИ ПРИОСТАНОВЛЕНИЯ И ОТКАЗА ОТ ПРОВЕДЕНИЯ ОПЕРАЦИЙ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ДЛЕЖАЩИХ ФИНАНСОВОМУ МОНИТОРИНГУ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4600" indent="-123840" algn="ctr">
              <a:lnSpc>
                <a:spcPct val="114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ООТВЕТСТВУЮЩИМИ ГОСУДАРСТВЕННЫМИ ОРГАНАМИ В СООТВЕТСТВИИ С И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4600" indent="-123840" algn="ctr">
              <a:lnSpc>
                <a:spcPct val="142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КОМПЕТЕНЦИЕЙ И В ПОРЯДКЕ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КОТОРЫЕ УСТАНОВЛЕНЫ ЗАКОНОДАТЕЛЬСТВОМ РЕСПУБЛИКИ КАЗАХСТ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4600" indent="-12384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23840">
              <a:lnSpc>
                <a:spcPct val="116000"/>
              </a:lnSpc>
              <a:buClr>
                <a:srgbClr val="000000"/>
              </a:buClr>
              <a:buFont typeface="Calibri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ЕМ ОСУЩЕСТВЛЯЮТСЯ КОНТРОЛЬ ЗА ИСПОЛНЕНИЕМ СУБЪЕКТАМИ ФИНАНСОВОГО МОНИТОРИНГА ЗАКОНОДАТЕЛЬСТВА РЕСПУБЛИКИ КАЗАХСТАН О ПРОТИВОДЕЙСТВ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4600" indent="-123840" algn="ctr">
              <a:lnSpc>
                <a:spcPct val="135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ЛЕГАЛИЗАЦИИ 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(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)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Ю ТЕРРОРИЗМА В ЧАСТИ ЗАЩИТЫ ДОКУМЕНТОВ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В ПРОЦЕССЕ СВОЕЙ ДЕЯТЕЛЬНОСТИ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4600" indent="-123840">
              <a:lnSpc>
                <a:spcPct val="107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ООТВЕТСТВУЮЩИМИ ГОСУДАРСТВЕННЫМИ ОРГАНАМИ В СООТВЕТСТВИИ С И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4600" indent="-123840">
              <a:lnSpc>
                <a:spcPct val="135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КОМПЕТЕНЦИЕЙ И В ПОРЯДКЕ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КОТОРЫЕ УСТАНОВЛЕНЫ ЗАКОНОДАТЕЛЬСТВОМ РЕСПУБЛИКИ КАЗАХСТ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4600" indent="-123840"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74600" indent="-123840">
              <a:lnSpc>
                <a:spcPct val="112000"/>
              </a:lnSpc>
              <a:buClr>
                <a:srgbClr val="000000"/>
              </a:buClr>
              <a:buFont typeface="Calibri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АКИЕ ПРОЦЕДУРЫ ВКЛЮЧАЕТ ПРОГРАММА ОРГАНИЗАЦИИ ВНУТРЕННЕГО КОНТРОЛЯ В ЦЕЛЯХ ПРОТИВОДЕЙСТВИЯ ЛЕГАЛИЗАЦИИ 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(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)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4600" indent="-123840" algn="ctr">
              <a:lnSpc>
                <a:spcPct val="114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ЕСТУПНЫМ ПУТЕМ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4600" indent="-123840" algn="ctr">
              <a:lnSpc>
                <a:spcPct val="114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СЕ ВАРИАНТЫ ВЕР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4600" indent="-12384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23840">
              <a:lnSpc>
                <a:spcPct val="113000"/>
              </a:lnSpc>
              <a:buClr>
                <a:srgbClr val="000000"/>
              </a:buClr>
              <a:buFont typeface="Calibri"/>
              <a:buAutoNum type="arabicPeriod" startAt="213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АКИЕ ПРОЦЕДУРЫ ВКЛЮЧАЕТ ПРОГРАММА ОРГАНИЗАЦИИ ВНУТРЕННЕГО КОНТРОЛЯ В ЦЕЛЯХ ПРОТИВОДЕЙСТВИЯ ЛЕГАЛИЗАЦИИ 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(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)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4600" indent="-123840" algn="ctr">
              <a:lnSpc>
                <a:spcPct val="114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ЕСТУПНЫМ ПУТЕМ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4600" indent="-123840">
              <a:lnSpc>
                <a:spcPct val="114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ЕДСТАВЛЕНИЕ СВЕДЕНИЙ И ИНФОРМАЦИИ ОБ ОПЕРАЦИЯХ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ДЛЕЖАЩИХ ФИНАНСОВОМ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4600" indent="-123840">
              <a:lnSpc>
                <a:spcPct val="116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МОНИТОРИНГУ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ФАКТОВ ОТКАЗА ФИЗИЧЕСКОМУ ЛИЦУ В УСТАНОВЛЕНИИ ДЕЛОВЫХ ОТНОШЕНИЙ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ЕКРАЩЕНИЯ ДЕЛОВЫХ ОТНОШЕНИЙ С КЛИЕНТОМ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ТКАЗА В ПРОВЕДЕНИИ ОПЕРАЦИИ С ДЕНЬГАМИ И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Л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НЫМ ИМУЩЕСТВОМ В УПОЛНОМОЧЕННЫЙ ОРГАН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КЛЮЧ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4600" indent="-123840">
              <a:lnSpc>
                <a:spcPct val="115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УКАЗАНИЯ И РЕГЛАМЕНТЫ РАБОТЫ В АВТОМАТИЗИРОВАННЫХ ИНФОРМАЦИОННЫХ СИСТЕМАХ И ПРОГРАММНОМ ОБЕСПЕЧЕНИ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СПОЛЬЗУЕМЫХ ДЛЯ ПЕРЕДАЧИ СВЕДЕНИЙ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НФОРМАЦИИ И ДОКУМЕНТОВ В УПОЛНОМОЧЕННЫЙ ОРГ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4600" indent="-12384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23840">
              <a:lnSpc>
                <a:spcPct val="113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217.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АКИЕ ПРОЦЕДУРЫ ВКЛЮЧАЕТ ПРОГРАММА ОРГАНИЗАЦИИ ВНУТРЕННЕГО КОНТРОЛЯ В ЦЕЛЯХ ПРОТИВОДЕЙСТВИЯ ЛЕГАЛИЗАЦИИ 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(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)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4600" indent="-123840" algn="ctr">
              <a:lnSpc>
                <a:spcPct val="114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ЕСТУПНЫМ ПУТЕМ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: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4600" indent="-123840" algn="ctr">
              <a:lnSpc>
                <a:spcPct val="114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СЕ ВАРИАНТЫ ВЕР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Google Shape;402;p64"/>
          <p:cNvSpPr/>
          <p:nvPr/>
        </p:nvSpPr>
        <p:spPr>
          <a:xfrm>
            <a:off x="9360" y="336600"/>
            <a:ext cx="7535520" cy="144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076560" indent="-2917800">
              <a:lnSpc>
                <a:spcPct val="113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218.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АКИЕ ФУНКЦИИ ОСУЩЕСТВЛЯЕТ УПОЛНОМОЧЕННЫЙ ОРГАН ПО ФИНАНСОВОМУ МОНИТОРИНГУ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6560" indent="-2917800" algn="ctr">
              <a:lnSpc>
                <a:spcPct val="114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СУЩЕСТВЛЕНИЕ СБОР И ОБРАБОТКУ ИНФОРМАЦИИ ОБ ОПЕРАЦИЯХ С ДЕНЬГАМИ И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Л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6560" indent="-291780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НЫМ ИМУЩЕСТВОМ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ДЛЕЖАЩИХ ФИНАНСОВОМУ МОНИТОРИНГУ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 СООТВЕТСТВИИ С ЗАКОНОМ РЕСПУБЛИКИ КАЗАХСТАН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"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 ПРОТИВОДЕЙСТВИИ ЛЕГАЛИЗАЦИИ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ТМЫВАНИЮ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ДОХОДОВ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ЛУЧЕННЫХ ПРЕСТУПНЫМ ПУТЕМ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 ФИНАНСИРОВАНИЮ ТЕРРОРИЗМА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6560" indent="-291780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76560" indent="-2917800">
              <a:lnSpc>
                <a:spcPct val="113000"/>
              </a:lnSpc>
              <a:tabLst>
                <a:tab algn="l" pos="0"/>
              </a:tabLst>
            </a:pPr>
            <a:r>
              <a:rPr b="0" lang="en-US" sz="1300" spc="-1" strike="noStrike">
                <a:solidFill>
                  <a:schemeClr val="dk1"/>
                </a:solidFill>
                <a:latin typeface="Calibri"/>
                <a:ea typeface="Calibri"/>
              </a:rPr>
              <a:t>219.</a:t>
            </a:r>
            <a:r>
              <a:rPr b="0" lang="en-US" sz="13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УПОЛНОМОЧЕННЫЙ ОРГАН ПО ФИНАНСОВОМУ МОНИТОРИНГУ ОСУЩЕСТВЛЯЕТ СЛЕДУЮЩИЕ ФУНКЦИИ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: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6560" indent="-2917800">
              <a:lnSpc>
                <a:spcPct val="100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КООРДИНАЦИЮ ДЕЯТЕЛЬНОСТИ ГОСУДАРСТВЕННЫХ ОРГАНОВ В СФЕРЕ ПРОТИВОДЕЙСТВ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6560" indent="-2917800" algn="ctr">
              <a:lnSpc>
                <a:spcPct val="10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ЛЕГАЛИЗАЦИИ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ТМЫВАНИЮ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ДОХОДОВ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ЛУЧЕННЫХ ПРЕСТУПНЫМ ПУТЕМ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6560" indent="-291780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ФИНАНСИРОВАНИЮ ТЕРРОРИЗ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6560" indent="-291780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76560" indent="-2917800">
              <a:lnSpc>
                <a:spcPct val="112000"/>
              </a:lnSpc>
              <a:buClr>
                <a:srgbClr val="000000"/>
              </a:buClr>
              <a:buFont typeface="Calibri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АКИЕ ПРОЦЕДУРЫ ВКЛЮЧАЕТ ПРОГРАММА ОРГАНИЗАЦИИ ВНУТРЕННЕГО КОНТРОЛЯ В ЦЕЛЯХ ПРОТИВОДЕЙСТВИЯ ЛЕГАЛИЗАЦИИ 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(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)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6560" indent="-2917800" algn="ctr">
              <a:lnSpc>
                <a:spcPct val="114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ЕСТУПНЫМ ПУТЕМ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6560" indent="-2917800" algn="ctr">
              <a:lnSpc>
                <a:spcPct val="114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СЕ ВАРИАНТЫ ВЕР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6560" indent="-291780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76560" indent="-2917800">
              <a:lnSpc>
                <a:spcPct val="113000"/>
              </a:lnSpc>
              <a:buClr>
                <a:srgbClr val="000000"/>
              </a:buClr>
              <a:buFont typeface="Calibri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АКИЕ ПРОЦЕДУРЫ ВКЛЮЧАЕТ ПРОГРАММА ОРГАНИЗАЦИИ ВНУТРЕННЕГО КОНТРОЛЯ В ЦЕЛЯХ ПРОТИВОДЕЙСТВИЯ ЛЕГАЛИЗАЦИИ 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(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)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6560" indent="-2917800" algn="ctr">
              <a:lnSpc>
                <a:spcPct val="114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ЕСТУПНЫМ ПУТЕМ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6560" indent="-2917800" algn="ctr">
              <a:lnSpc>
                <a:spcPct val="114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УПОЛНОМОЧЕННЫЙ ОРГАН ПО ФИНАНСОВОМУ МОНИТОРИНГ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6560" indent="-2917800"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076560" indent="-2917800">
              <a:lnSpc>
                <a:spcPct val="116000"/>
              </a:lnSpc>
              <a:tabLst>
                <a:tab algn="l" pos="0"/>
              </a:tabLst>
            </a:pPr>
            <a:r>
              <a:rPr b="0" lang="en-US" sz="1300" spc="-1" strike="noStrike">
                <a:solidFill>
                  <a:schemeClr val="dk1"/>
                </a:solidFill>
                <a:latin typeface="Calibri"/>
                <a:ea typeface="Calibri"/>
              </a:rPr>
              <a:t>•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221.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УЧАСТИЕ В РАЗРАБОТКЕ И ОСУЩЕСТВЛЕНИИ ПРОГРАММ МЕЖДУНАРОДНОГО СОТРУДНИЧЕСТВА ПО ВОПРОСАМ ПРОТИВОДЕЙСТВИЯ ЛЕГАЛИЗАЦИИ 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(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)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Ю ТЕРРОРИЗ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6560" indent="-291780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НОСИТСЯ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6560" indent="-2917800">
              <a:lnSpc>
                <a:spcPct val="100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К ФУНКЦИЯМ УПОЛНОМОЧЕННОГО ОРГАНА ПО ФИНАНСОВОМУ МОНИТОРИНГ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6560" indent="-291780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6560" indent="-2917800">
              <a:lnSpc>
                <a:spcPct val="116000"/>
              </a:lnSpc>
              <a:tabLst>
                <a:tab algn="l" pos="0"/>
              </a:tabLst>
            </a:pPr>
            <a:r>
              <a:rPr b="0" lang="en-US" sz="1300" spc="-1" strike="noStrike">
                <a:solidFill>
                  <a:schemeClr val="dk1"/>
                </a:solidFill>
                <a:latin typeface="Calibri"/>
                <a:ea typeface="Calibri"/>
              </a:rPr>
              <a:t>222.</a:t>
            </a:r>
            <a:r>
              <a:rPr b="0" lang="en-US" sz="13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…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РАЗРАБАТЫВАЕТ И ПРОВОДИТ МЕРОПРИЯТИЯ ПО ПРЕДУПРЕЖДЕНИЮ НАРУШЕНИЙ ЗАКОНОДАТЕЛЬСТВА РЕСПУБЛИКИ КАЗАХСТАН О ПРОТИВОДЕЙСТВИИ ЛЕГАЛИЗАЦИИ 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(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)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6560" indent="-2917800" algn="ctr">
              <a:lnSpc>
                <a:spcPct val="100000"/>
              </a:lnSpc>
              <a:tabLst>
                <a:tab algn="l" pos="0"/>
              </a:tabLst>
            </a:pPr>
            <a:r>
              <a:rPr b="0" lang="en-US" sz="1300" spc="-1" strike="noStrike">
                <a:solidFill>
                  <a:schemeClr val="dk1"/>
                </a:solidFill>
                <a:latin typeface="Calibri"/>
                <a:ea typeface="Calibri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КОМИТЕТ ПО ФИНАНСОВОМУ МОНИТОРИНГУ МИНИСТЕРСТВА ФИНАНСОВ РЕСПУБЛ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6560" indent="-2917800" algn="ctr">
              <a:lnSpc>
                <a:spcPct val="10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КАЗАХСТ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6560" indent="-291780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6560" indent="-2917800">
              <a:lnSpc>
                <a:spcPct val="116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223.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…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ООРДИНИРУЕТ РАБОТУ ПО РЕАЛИЗАЦИИ ОЦЕНКИ РИСКОВ В СФЕРЕ ПРОТИВОДЕЙСТВИЯ ЛЕГАЛИЗАЦИИ 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(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)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6560" indent="-291780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ЕСТУПНЫМ ПУТЕМ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6560" indent="-2917800" algn="ctr">
              <a:lnSpc>
                <a:spcPct val="100000"/>
              </a:lnSpc>
              <a:tabLst>
                <a:tab algn="l" pos="0"/>
              </a:tabLst>
            </a:pPr>
            <a:r>
              <a:rPr b="1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КОМИТЕТ ПО ФИНАНСОВОМУ МОНИТОРИНГУ МИНИСТЕРСТВА ФИНАНСОВ РЕСПУБЛ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6560" indent="-291780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КАЗАХСТ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Google Shape;407;p65"/>
          <p:cNvSpPr/>
          <p:nvPr/>
        </p:nvSpPr>
        <p:spPr>
          <a:xfrm>
            <a:off x="30240" y="0"/>
            <a:ext cx="7525800" cy="10686600"/>
          </a:xfrm>
          <a:custGeom>
            <a:avLst/>
            <a:gdLst>
              <a:gd name="textAreaLeft" fmla="*/ 0 w 7525800"/>
              <a:gd name="textAreaRight" fmla="*/ 7526160 w 7525800"/>
              <a:gd name="textAreaTop" fmla="*/ 0 h 10686600"/>
              <a:gd name="textAreaBottom" fmla="*/ 10686960 h 10686600"/>
            </a:gdLst>
            <a:ahLst/>
            <a:rect l="textAreaLeft" t="textAreaTop" r="textAreaRight" b="textAreaBottom"/>
            <a:pathLst>
              <a:path w="7526020" h="10687685">
                <a:moveTo>
                  <a:pt x="0" y="10687681"/>
                </a:moveTo>
                <a:lnTo>
                  <a:pt x="7525512" y="10687681"/>
                </a:lnTo>
                <a:lnTo>
                  <a:pt x="7525512" y="0"/>
                </a:lnTo>
                <a:lnTo>
                  <a:pt x="0" y="0"/>
                </a:lnTo>
                <a:lnTo>
                  <a:pt x="0" y="10687681"/>
                </a:lnTo>
              </a:path>
            </a:pathLst>
          </a:custGeom>
          <a:solidFill>
            <a:srgbClr val="f0f0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Google Shape;408;p65"/>
          <p:cNvSpPr/>
          <p:nvPr/>
        </p:nvSpPr>
        <p:spPr>
          <a:xfrm>
            <a:off x="44280" y="328680"/>
            <a:ext cx="7462440" cy="129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20760" indent="-193680">
              <a:lnSpc>
                <a:spcPct val="116000"/>
              </a:lnSpc>
              <a:buClr>
                <a:srgbClr val="000000"/>
              </a:buClr>
              <a:buFont typeface="Calibri"/>
              <a:buAutoNum type="arabicPeriod" startAt="224"/>
            </a:pP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…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РАЗРАБАТЫВАЕТ И ВНОСИТ В ПРАВИТЕЛЬСТВО РЕСПУБЛИКИ КАЗАХСТАН НА УТВЕРЖДЕНИЕ ПРАВИЛА ПРОВЕДЕНИЯ ОЦЕНКИ РИСКОВ ЛЕГАЛИЗАЦИИ 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(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Я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7080" indent="193680" algn="ctr">
              <a:lnSpc>
                <a:spcPct val="117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 И ФИНАНСИРОВАНИЯ ТЕРРОРИЗМА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А ТАКЖЕ МЕРЫ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НАПРАВЛЕННЫЕ НА СНИЖЕНИЕ РИСКОВ ЛЕГАЛИЗАЦИИ 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(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Я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)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 И ФИНАНСИРОВАНИЯ ТЕРРОРИЗМА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7080" indent="193680" algn="ctr">
              <a:lnSpc>
                <a:spcPct val="114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НЕТ ПРАВИЛЬНОГО ОТВ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7080" indent="193680"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0760" indent="-193680">
              <a:lnSpc>
                <a:spcPct val="116000"/>
              </a:lnSpc>
              <a:buClr>
                <a:srgbClr val="000000"/>
              </a:buClr>
              <a:buFont typeface="Calibri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УПОЛНОМОЧЕННЫЙ ОРГАН ПО ФИНАНСОВОМУ МОНИТОРИНГУ КООРДИНИРУЕТ РАБОТУ ПО РЕАЛИЗАЦИИ ВНУТРЕННЮЮ ПОЛИТИКУ ГОСУДАРСТВЕННЫХ ОРГАНОВ 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7080" indent="19368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ФЕРЕ ПРОТИВОДЕЙСТВИЯ ФИНАНСИРОВАНИЮ ТЕРРОРИЗМА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7080" indent="193680">
              <a:lnSpc>
                <a:spcPct val="100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ЗАКОНОМ НЕ УСТАНОВЛЕ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7080" indent="19368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0760" indent="-193680">
              <a:lnSpc>
                <a:spcPct val="120000"/>
              </a:lnSpc>
              <a:buClr>
                <a:srgbClr val="000000"/>
              </a:buClr>
              <a:buFont typeface="Calibri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УПОЛНОМОЧЕННЫЙ ОРГАН ПО ФИНАНСОВОМУ МОНИТОРИНГУ 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...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РАБОТУ ПО РЕАЛИЗАЦИИ ОЦЕНКИ РИСКОВ В СФЕРЕ ПРОТИВОДЕЙСТВИЯ ЛЕГАЛИЗ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7080" indent="193680" algn="ctr">
              <a:lnSpc>
                <a:spcPct val="135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(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)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7080" indent="193680" algn="ctr">
              <a:lnSpc>
                <a:spcPct val="107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КООРДИНИРУ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7080" indent="193680"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0760" indent="-193680">
              <a:lnSpc>
                <a:spcPct val="113000"/>
              </a:lnSpc>
              <a:buClr>
                <a:srgbClr val="000000"/>
              </a:buClr>
              <a:buFont typeface="Calibri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АКИЕ ФУНКЦИИ ОСУЩЕСТВЛЯЕТ УПОЛНОМОЧЕННЫЙ ОРГАН ПО ФИНАНСОВОМУ МОНИТОРИНГУ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0760" indent="-193680" algn="ctr">
              <a:lnSpc>
                <a:spcPct val="114000"/>
              </a:lnSpc>
              <a:buClr>
                <a:srgbClr val="ff1515"/>
              </a:buClr>
              <a:buFont typeface="Trebuchet MS"/>
              <a:buAutoNum type="arabicPeriod" startAt="224"/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ОВОДИТ МЕРОПРИЯТИЯ ПО ПЕРЕПОДГОТОВКЕ И ПОВЫШЕНИЮ КВАЛИФИКАЦИИ КАДРОВ 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7080" indent="19368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ФЕРЕ ПРОТИВОДЕЙСТВИЯ ЛЕГАЛИЗАЦИИ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ТМЫВАНИЮ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ДОХОДОВ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ЛУЧЕННЫХ ПРЕСТУПНЫМ ПУТЕМ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 ФИНАНСИРОВАНИЮ ТЕРРОРИЗ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7080" indent="19368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706840" indent="-2527200">
              <a:lnSpc>
                <a:spcPct val="113000"/>
              </a:lnSpc>
              <a:buClr>
                <a:srgbClr val="000000"/>
              </a:buClr>
              <a:buFont typeface="Calibri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УПОЛНОМОЧЕННЫЙ ОРГАН ПО ФИНАНСОВОМУ МОНИТОРИНГУ ОСУЩЕСТВЛЯЕТ СЛЕДУЮЩИЕ ФУНКЦИИ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7080" indent="193680">
              <a:lnSpc>
                <a:spcPct val="100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СУЩЕСТВЛЯЕТ ВЗАИМОДЕЙСТВИЕ С ПРАВООХРАНИТЕЛЬНЫМИ И СПЕЦИАЛЬНЫ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7080" indent="193680" algn="ctr">
              <a:lnSpc>
                <a:spcPct val="113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ГОСУДАРСТВЕННЫМИ ОРГАНАМИ ПО ПЕРЕДАННОЙ ИНФОРМАЦИИ В СООТВЕТСТВИИ СЗАКОНОМ РЕСПУБЛИКИ КАЗАХСТАН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"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 ПРОТИВОДЕЙСТВИИ ЛЕГАЛИЗАЦИИ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ТМЫВАНИЮ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ДОХОДОВ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7080" indent="19368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ЛУЧЕННЫХ ПРЕСТУПНЫМ ПУТЕМ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 ФИНАНСИРОВАНИЮ ТЕРРОРИЗМА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7080" indent="193680"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2706840" indent="-2527200">
              <a:lnSpc>
                <a:spcPct val="116000"/>
              </a:lnSpc>
              <a:buClr>
                <a:srgbClr val="000000"/>
              </a:buClr>
              <a:buFont typeface="Calibri"/>
              <a:buAutoNum type="arabicPeriod" startAt="224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ВЕДЕНИЯ И ИНФОРМАЦИЯ ОБ ОПЕРАЦИЯХ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ДЛЕЖАЩИХ ФИНАНСОВОМУ МОНИТОРИНГУ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ЕДОСТАВЛЯЮТСЯ СУБЪЕКТАМИ ФИНАНСОВОГО МОНИТОРИНГА В УПОЛНОМОЧЕННЫЙ ОРГАН ПО ФИНАНСОВОМУ МОНИТОРИНГУ ПО ФОРМЕ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ОТОР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7080" indent="19368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ДОЛЖНА СОДЕРЖАТЬ СЛЕДУЮЩИЕ РАЗДЕЛЫ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: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7080" indent="193680">
              <a:lnSpc>
                <a:spcPct val="100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СЕ ОТВЕТЫ ВЕР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7080" indent="193680"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2706840" indent="-2527200">
              <a:lnSpc>
                <a:spcPct val="113000"/>
              </a:lnSpc>
              <a:buClr>
                <a:srgbClr val="000000"/>
              </a:buClr>
              <a:buFont typeface="Calibri"/>
              <a:buAutoNum type="arabicPeriod" startAt="224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РЯДОК ПРЕДОСТАВЛЕНИЯ СУБЪЕКТАМИ ФИНАНСОВОГО МОНИТОРИНГА СВЕДЕНИЙ И ИНФОРМАЦИИ ОБ ОПЕРАЦИЯХ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ДЛЕЖАЩИХ ФИНАНСОВОМ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7080" indent="193680" algn="ctr">
              <a:lnSpc>
                <a:spcPct val="107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МОНИТОРИНГУ УТВЕРЖДАЮТСЯ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: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7080" indent="19368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ИКАЗ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Google Shape;85;p12"/>
          <p:cNvSpPr/>
          <p:nvPr/>
        </p:nvSpPr>
        <p:spPr>
          <a:xfrm>
            <a:off x="82440" y="557280"/>
            <a:ext cx="7389360" cy="40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30040" indent="-14400">
              <a:lnSpc>
                <a:spcPct val="117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8.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КОЛЬКО СХЕМ ПРИВЕДЕНЫ В УТВЕРЖДЁННОЙ ТИПОЛОГИЕЙ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«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ФИНАНСОВЫЕ ПИРАМИДЫ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РИТЕРИИ ПОДОЗРИТЕЛЬНОСТИ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ХЕМЫ ФУНКЦИОНИРОВАНИЯ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»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-14400" algn="ctr">
              <a:lnSpc>
                <a:spcPct val="121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4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ЧЕТЫРЕ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ХЕ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-14400" algn="ctr">
              <a:lnSpc>
                <a:spcPct val="116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200" spc="-1" strike="noStrike">
                <a:solidFill>
                  <a:srgbClr val="ff1515"/>
                </a:solidFill>
                <a:latin typeface="Lucida Sans"/>
                <a:ea typeface="Lucida Sans"/>
              </a:rPr>
              <a:t>НА СЕГОДНЯШНИЙ ДЕНЬ СУЩЕСТВУЕТ </a:t>
            </a:r>
            <a:r>
              <a:rPr b="0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4</a:t>
            </a:r>
            <a:r>
              <a:rPr b="0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ff1515"/>
                </a:solidFill>
                <a:latin typeface="Lucida Sans"/>
                <a:ea typeface="Lucida Sans"/>
              </a:rPr>
              <a:t>ОСНОВНЫХ ВИДА ФИНАНСОВЫХ ПИРАМИД</a:t>
            </a:r>
            <a:r>
              <a:rPr b="0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:</a:t>
            </a:r>
            <a:r>
              <a:rPr b="0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ff1515"/>
                </a:solidFill>
                <a:latin typeface="Lucida Sans"/>
                <a:ea typeface="Lucida Sans"/>
              </a:rPr>
              <a:t>МНОГОУРОВНЕВАЯ ПИРАМИДА</a:t>
            </a:r>
            <a:r>
              <a:rPr b="0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0040" indent="-14400" algn="ctr">
              <a:lnSpc>
                <a:spcPct val="112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200" spc="-1" strike="noStrike">
                <a:solidFill>
                  <a:srgbClr val="ff1515"/>
                </a:solidFill>
                <a:latin typeface="Lucida Sans"/>
                <a:ea typeface="Lucida Sans"/>
              </a:rPr>
              <a:t>СХЕМА ПОНЦИ В ФИНАНСОВЫХ ПИРАМИДАХ МАСКИРУЮЩАЯСЯ ПИРАМИДА</a:t>
            </a:r>
            <a:r>
              <a:rPr b="0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0040" indent="-1440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200" spc="-1" strike="noStrike">
                <a:solidFill>
                  <a:srgbClr val="ff1515"/>
                </a:solidFill>
                <a:latin typeface="Lucida Sans"/>
                <a:ea typeface="Lucida Sans"/>
              </a:rPr>
              <a:t>МАТРИЧНАЯ ПИРАМИДА</a:t>
            </a:r>
            <a:r>
              <a:rPr b="0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0040" indent="-1440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14400">
              <a:lnSpc>
                <a:spcPct val="112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9.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КОЛЬКО ИНДИКАТОРОВ РИСКОВ ПРЕДУСМОТРЕНО ПО ПОДОЗРИТЕЛЬНОСТИ УТВЕРЖДЁННОЙ ТИПОЛОГИЕЙ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«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ВЫЯВЛЕНИЕ КОМПАНИИ ОСУЩЕСТВЛЯЮЩИ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-14400" algn="ctr">
              <a:lnSpc>
                <a:spcPct val="116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ВЫПИСКУ СЧЕТ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-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ФАКТУР БЕЗ ФАКТИЧЕСКОГО ВЫПОЛНЕНИЯ РАБОТ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КАЗАНИЯ УСЛУГ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ГРУЗКИ ТОВАРОВ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»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-14400">
              <a:lnSpc>
                <a:spcPct val="121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15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НДИКАТОРОВ РИС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-1440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1..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УПЛАТА НАЛОГОВ МИНИМАЛЬНАЯ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-14400">
              <a:lnSpc>
                <a:spcPct val="142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2.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ШТАТ КОМПАНИИ НЕ СООТВЕТСТВУЕТ ОСУЩЕСТВЛЯЕМОЙ ДЕЯТЕЛЬНОСТ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ЛИБО РАБОТНИКИ ОТСУТСТВУЮТ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Google Shape;86;p12"/>
          <p:cNvSpPr/>
          <p:nvPr/>
        </p:nvSpPr>
        <p:spPr>
          <a:xfrm>
            <a:off x="-12600" y="4695840"/>
            <a:ext cx="122040" cy="4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Google Shape;87;p12"/>
          <p:cNvSpPr/>
          <p:nvPr/>
        </p:nvSpPr>
        <p:spPr>
          <a:xfrm>
            <a:off x="-12600" y="4695840"/>
            <a:ext cx="7440120" cy="23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27000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НЯТ С УЧЕТА ПО НДС В СВЯЗИ С ОТСУТСТВИЕМ ПО МЕСТУ НАХОЖДЕНИЯ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27000" indent="-88920">
              <a:lnSpc>
                <a:spcPct val="116000"/>
              </a:lnSpc>
              <a:buClr>
                <a:srgbClr val="ff1515"/>
              </a:buClr>
              <a:buFont typeface="Trebuchet MS"/>
              <a:buAutoNum type="arabicPeriod" startAt="4"/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РУКОВОДИТЕЛ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/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УЧРЕДИТЕЛИ ПРИВЛЕКАЛИСЬ К УГОЛОВНОЙ ОТВЕТСТВЕННОСТ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ЛИБО К АДМИНИСТРАТИВНОЙ ОТВЕТСТВЕННОСТИ ЗА АСОЦИАЛЬНОЕ ПОВЕДЕНИЕ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РАСПИТИЕ СПИРТНЫХ НАПИТКОВ И ДР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МЕЮЩИЕ ПРИЗНАКИ ПОДСТАВНЫХ ЛИЦ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27000" indent="-88920">
              <a:lnSpc>
                <a:spcPct val="100000"/>
              </a:lnSpc>
              <a:spcBef>
                <a:spcPts val="300"/>
              </a:spcBef>
              <a:buClr>
                <a:srgbClr val="ff1515"/>
              </a:buClr>
              <a:buFont typeface="Trebuchet MS"/>
              <a:buChar char="•"/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ЫСОКАЯ ДОЛЯ ОБНАЛИЧИВАНИЯ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ВЫШЕ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80%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Т ВСЕХ БАНКОВСКИХ ОПЕРАЦИЯХ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27000" indent="-88920">
              <a:lnSpc>
                <a:spcPct val="100000"/>
              </a:lnSpc>
              <a:spcBef>
                <a:spcPts val="201"/>
              </a:spcBef>
              <a:buClr>
                <a:srgbClr val="ff1515"/>
              </a:buClr>
              <a:buFont typeface="Trebuchet MS"/>
              <a:buAutoNum type="arabicPeriod" startAt="4"/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УСТАНОВЛЕНА ГРУППА КОМПАНИИ ВЗАИМОРАСЧЕТЫ КОТОРЫХ ВЫЗЫВАЮТ СОМНЕНИЯ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Google Shape;88;p12"/>
          <p:cNvSpPr/>
          <p:nvPr/>
        </p:nvSpPr>
        <p:spPr>
          <a:xfrm>
            <a:off x="-12600" y="6237360"/>
            <a:ext cx="7524360" cy="4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7.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ВЯЗАННЫЕ КОМПАНИИ ЗАРЕГИСТРИРОВАНЫ НА ОДНИХ И ТЕХ ЖЕ ЮРИДИЧЕСКИХ АДРЕСАХ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Google Shape;89;p12"/>
          <p:cNvSpPr/>
          <p:nvPr/>
        </p:nvSpPr>
        <p:spPr>
          <a:xfrm>
            <a:off x="-12600" y="6496200"/>
            <a:ext cx="122040" cy="4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Google Shape;90;p12"/>
          <p:cNvSpPr/>
          <p:nvPr/>
        </p:nvSpPr>
        <p:spPr>
          <a:xfrm>
            <a:off x="112680" y="6496200"/>
            <a:ext cx="7329240" cy="34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07960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ЗА РУКОВОДИТЕЛЯМ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/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УЧРЕДИТЕЛЯМИ ЗАРЕГИСТРИРОВАНО НЕСКОЛЬКО ФИРМ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7960" indent="-88920">
              <a:lnSpc>
                <a:spcPct val="116000"/>
              </a:lnSpc>
              <a:buClr>
                <a:srgbClr val="ff1515"/>
              </a:buClr>
              <a:buFont typeface="Trebuchet MS"/>
              <a:buAutoNum type="arabicPeriod" startAt="9"/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УСТАНОВЛЕНА ВЗАИМОСВЯЗЬ ПО КОНТРАГЕНТАМ МЕЖДУ ИХ РУКОВОДИТЕЛЯМ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/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УЧРЕДИТЕЛЯМ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РАБОТНИКАМ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7960" indent="-88920">
              <a:lnSpc>
                <a:spcPct val="111000"/>
              </a:lnSpc>
              <a:spcBef>
                <a:spcPts val="99"/>
              </a:spcBef>
              <a:buClr>
                <a:srgbClr val="ff1515"/>
              </a:buClr>
              <a:buFont typeface="Trebuchet MS"/>
              <a:buAutoNum type="arabicPeriod" startAt="9"/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ДНИ И ТЕ ЖЕ ФИЗИЧЕСКИЕ ЛИЦА СО СЧЕТОВ РАЗЛИЧНЫХ КОМПАНИИ ОБНАЛИЧИВАЮТ ДЕНЕЖНЫЕ СРЕДСТВА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7960" indent="-88920">
              <a:lnSpc>
                <a:spcPct val="112000"/>
              </a:lnSpc>
              <a:spcBef>
                <a:spcPts val="99"/>
              </a:spcBef>
              <a:buClr>
                <a:srgbClr val="ff1515"/>
              </a:buClr>
              <a:buFont typeface="Trebuchet MS"/>
              <a:buAutoNum type="arabicPeriod" startAt="9"/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 КОРОТКИЙ ПЕРИОД ВРЕМЕНИ ПОСТУПИВШИЕ ДЕНЕЖНЫЕ СРЕДСТВА ПРОВОДЯТ НА ДРУГИЕ СЧЕТА ИЛИ ОБНАЛИЧИВАЮТСЯ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7960" indent="-88920">
              <a:lnSpc>
                <a:spcPct val="142000"/>
              </a:lnSpc>
              <a:spcBef>
                <a:spcPts val="99"/>
              </a:spcBef>
              <a:buClr>
                <a:srgbClr val="ff1515"/>
              </a:buClr>
              <a:buFont typeface="Trebuchet MS"/>
              <a:buChar char="•"/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МЕЕТСЯ ИНФОРМАЦИЯ ОБ ОТКАЗЕ В УСТАНОВЛЕНИЕ ДЕЛОВЫХ ОТНОШЕНИ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ЛИБО ПРЕКРАЩЕНЫ ДЕЛОВЫЕ ОТНОШЕНИИ СФМ С КЛИЕНТОМ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7960" indent="-88920">
              <a:lnSpc>
                <a:spcPct val="100000"/>
              </a:lnSpc>
              <a:spcBef>
                <a:spcPts val="99"/>
              </a:spcBef>
              <a:buClr>
                <a:srgbClr val="ff1515"/>
              </a:buClr>
              <a:buFont typeface="Trebuchet MS"/>
              <a:buAutoNum type="arabicPeriod" startAt="9"/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ЕРИОД РЕГИСТРАЦИИ ЮРИДИЧЕСКОГО ЛИЦА НЕ ПРЕВЫШАЕТ ОДНОГО ГОДА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БОЛЬШ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7960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БРАБОТКИ ПО СЧЕТАМ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Google Shape;91;p12"/>
          <p:cNvSpPr/>
          <p:nvPr/>
        </p:nvSpPr>
        <p:spPr>
          <a:xfrm>
            <a:off x="-12600" y="9318600"/>
            <a:ext cx="742608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65240" indent="-152280">
              <a:lnSpc>
                <a:spcPct val="100000"/>
              </a:lnSpc>
              <a:buClr>
                <a:srgbClr val="ff1515"/>
              </a:buClr>
              <a:buFont typeface="Trebuchet MS"/>
              <a:buAutoNum type="arabicPeriod" startAt="14"/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ТСУТСТВУЮТ ПРИХОД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ИОБРЕТЕНИЕ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ТОВАРОВ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5240" indent="-152280">
              <a:lnSpc>
                <a:spcPct val="112000"/>
              </a:lnSpc>
              <a:spcBef>
                <a:spcPts val="99"/>
              </a:spcBef>
              <a:buClr>
                <a:srgbClr val="ff1515"/>
              </a:buClr>
              <a:buFont typeface="Trebuchet MS"/>
              <a:buAutoNum type="arabicPeriod" startAt="14"/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ТАКЖЕ ПРИ СОВПАДЕНИИ С ПРИЗНАКАМИ ОПРЕДЕЛЕНИЕ ПОДОЗРИТЕЛЬНЫХ ОПЕРАЦИИ ОПРЕДЕЛЕННЫХ ПРИКАЗОМ АФМ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№ 13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Т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22.02.2022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Г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РАНЕЕ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№938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Т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30.09.2020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Г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Google Shape;92;p12"/>
          <p:cNvSpPr/>
          <p:nvPr/>
        </p:nvSpPr>
        <p:spPr>
          <a:xfrm>
            <a:off x="0" y="0"/>
            <a:ext cx="1398240" cy="352080"/>
          </a:xfrm>
          <a:custGeom>
            <a:avLst/>
            <a:gdLst>
              <a:gd name="textAreaLeft" fmla="*/ 0 w 1398240"/>
              <a:gd name="textAreaRight" fmla="*/ 1398600 w 1398240"/>
              <a:gd name="textAreaTop" fmla="*/ 0 h 352080"/>
              <a:gd name="textAreaBottom" fmla="*/ 352440 h 352080"/>
            </a:gdLst>
            <a:ahLst/>
            <a:rect l="textAreaLeft" t="textAreaTop" r="textAreaRight" b="textAreaBottom"/>
            <a:pathLst>
              <a:path w="1398905" h="352425">
                <a:moveTo>
                  <a:pt x="615314" y="0"/>
                </a:moveTo>
                <a:lnTo>
                  <a:pt x="378464" y="0"/>
                </a:lnTo>
                <a:lnTo>
                  <a:pt x="0" y="352409"/>
                </a:lnTo>
                <a:lnTo>
                  <a:pt x="236850" y="352409"/>
                </a:lnTo>
                <a:lnTo>
                  <a:pt x="615314" y="0"/>
                </a:lnTo>
                <a:close/>
              </a:path>
              <a:path w="1398905" h="352425">
                <a:moveTo>
                  <a:pt x="1007114" y="0"/>
                </a:moveTo>
                <a:lnTo>
                  <a:pt x="770250" y="0"/>
                </a:lnTo>
                <a:lnTo>
                  <a:pt x="391799" y="352409"/>
                </a:lnTo>
                <a:lnTo>
                  <a:pt x="628649" y="352409"/>
                </a:lnTo>
                <a:lnTo>
                  <a:pt x="1007114" y="0"/>
                </a:lnTo>
                <a:close/>
              </a:path>
              <a:path w="1398905" h="352425">
                <a:moveTo>
                  <a:pt x="1398900" y="0"/>
                </a:moveTo>
                <a:lnTo>
                  <a:pt x="1162049" y="0"/>
                </a:lnTo>
                <a:lnTo>
                  <a:pt x="783585" y="352409"/>
                </a:lnTo>
                <a:lnTo>
                  <a:pt x="1020449" y="352409"/>
                </a:lnTo>
                <a:lnTo>
                  <a:pt x="1398900" y="0"/>
                </a:lnTo>
                <a:close/>
              </a:path>
            </a:pathLst>
          </a:custGeom>
          <a:solidFill>
            <a:srgbClr val="2020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Google Shape;413;p66"/>
          <p:cNvSpPr/>
          <p:nvPr/>
        </p:nvSpPr>
        <p:spPr>
          <a:xfrm>
            <a:off x="20520" y="336600"/>
            <a:ext cx="7513200" cy="105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38200" indent="-88920">
              <a:lnSpc>
                <a:spcPct val="113000"/>
              </a:lnSpc>
              <a:buClr>
                <a:srgbClr val="000000"/>
              </a:buClr>
              <a:buFont typeface="Calibri"/>
              <a:buAutoNum type="arabicPeriod" startAt="231"/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РЯДОК ПРЕДОСТАВЛЕНИЯ СУБЪЕКТАМИ ФИНАНСОВОГО МОНИТОРИНГА СВЕДЕНИЙ И ИНФОРМАЦИИ ОБ ОПЕРАЦИЯХ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ДЛЕЖАЩИХ ФИНАНСОВОМ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8200" indent="-85680" algn="ctr">
              <a:lnSpc>
                <a:spcPct val="114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МОНИТОРИНГУ ОПРЕДЕЛЯЕТСЯ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8200" indent="-85680" algn="ctr">
              <a:lnSpc>
                <a:spcPct val="114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УПОЛНОМОЧЕННЫМ ОРГАНОМ ПО ФИНАНСОВОМУ МОНИТОРИНГ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8200" indent="-85680"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8200" indent="-88920">
              <a:lnSpc>
                <a:spcPct val="114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eriod" startAt="232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ИЗНАКИ ОПРЕДЕЛЕНИЯ ПОДОЗРИТЕЛЬНОЙ ОПЕРАЦИИ ОПРЕДЕЛЯЮТСЯ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8200" indent="-88920" algn="ctr">
              <a:lnSpc>
                <a:spcPct val="114000"/>
              </a:lnSpc>
              <a:buClr>
                <a:srgbClr val="ff1515"/>
              </a:buClr>
              <a:buFont typeface="Trebuchet MS"/>
              <a:buChar char="-"/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УПОЛНОМОЧЕННЫМ ОРГАНОМ ПО ФИНАНСОВОМУ МОНИТОРИНГУ ПО СОГЛАСОВАНИЮ 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8200" indent="-85680" algn="ctr">
              <a:lnSpc>
                <a:spcPct val="135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ГОСУДАРСТВЕННЫМИ ОРГАНАМ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СУЩЕСТВЛЯЮЩИМИ В ПРЕДЕЛАХ СВОЕЙ КОМПЕТЕНЦИИ ГОСУДАРСТВЕННЫЙ КОНТРОЛЬ ЗА СУБЪЕКТАМИ ФИНАНСОВОГО МОНИТОРИНГ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8200" indent="-8568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88920" algn="just">
              <a:lnSpc>
                <a:spcPct val="115000"/>
              </a:lnSpc>
              <a:buClr>
                <a:srgbClr val="000000"/>
              </a:buClr>
              <a:buFont typeface="Calibri"/>
              <a:buAutoNum type="arabicPeriod" startAt="231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РЯДОК ПРЕДОСТАВЛЕНИЯ СУБЪЕКТАМИ ФИНАНСОВОГО МОНИТОРИНГА СВЕДЕНИЙ И ИНФОРМАЦИИ ОБ ОПЕРАЦИЯХ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ДЛЕЖАЩИХ ФИНАНСОВОМУ МОНИТОРИНГУ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 ПРИЗНАКИ ОПРЕДЕЛЕНИЯ ПОДОЗРИТЕЛЬНОЙ ОПЕР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8200" indent="-85680" algn="ctr">
              <a:lnSpc>
                <a:spcPct val="114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УТВЕРЖДАЮТСЯ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8200" indent="-85680" algn="ctr">
              <a:lnSpc>
                <a:spcPct val="114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УПОЛНОМОЧЕННЫМ ОРГАНОМ ПО ФИН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МОНИТОРИНГ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8200" indent="-85680"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88920">
              <a:lnSpc>
                <a:spcPct val="118000"/>
              </a:lnSpc>
              <a:buClr>
                <a:srgbClr val="000000"/>
              </a:buClr>
              <a:buFont typeface="Calibri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C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ВЕДЕНИЯ И ИНФОРМАЦИЯ ОБ ОПЕРАЦИЯХ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ДЛЕЖАЩИХ ФИНАНСОВОМУ МОНИТОРИНГУ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ДОКУМЕНТАЛЬНО ФИКСИРУЮТСЯ И ПРЕДОСТАВЛЯЮТСЯ В УПОЛНОМОЧЕННЫЙ ОРГАН ПО ФИНАНСОВОМУ МОНИТОРИНГУ СУБЪЕКТ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8200" indent="-85680" algn="ctr">
              <a:lnSpc>
                <a:spcPct val="114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ФИНАНСОВОГО МОНИТОРИНГА 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...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НА КАЗАХСКОМ ИЛИ РУССКОМ ЯЗЫКЕ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8200" indent="-85680" algn="ctr">
              <a:lnSpc>
                <a:spcPct val="114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ЭЛЕКТРОННЫМ СПОСОБОМ ПОСРЕДСТВОМ ВЫДЕЛЕННЫХ КАНАЛОВ СВЯЗ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8200" indent="-85680"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88920">
              <a:lnSpc>
                <a:spcPct val="116000"/>
              </a:lnSpc>
              <a:buClr>
                <a:srgbClr val="000000"/>
              </a:buClr>
              <a:buFont typeface="Calibri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ВЕДЕНИЯ И ИНФОРМАЦИЯ О ПОРОГОВОЙ ОПЕРАЦИЙ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УБЪЕКТАМИ ФИНАНСОВОГО МОНИТОРИНГА ПРЕДОСТАВЛЯЮТСЯ В СЛЕДУЮЩИЕ СРОКИ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8200" indent="-85680" algn="ctr">
              <a:lnSpc>
                <a:spcPct val="114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НЕ ПОЗДНЕЕ РАБОЧЕГО ДНЯ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ЛЕДУЮЩЕГО ЗА ДНЁМ СОВЕРШ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8200" indent="-85680"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88920" algn="just">
              <a:lnSpc>
                <a:spcPct val="116000"/>
              </a:lnSpc>
              <a:buClr>
                <a:srgbClr val="000000"/>
              </a:buClr>
              <a:buFont typeface="Calibri"/>
              <a:buAutoNum type="arabicPeriod" startAt="232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ВЕДЕНИЯ И ИНФОРМАЦИЯ О ПОДОЗРИТЕЛЬНОЙ ОПЕРАЦИЙ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УБЪЕКТАМИ ФИНАНСОВОГО МОНИТОРИНГА ПРЕДОСТАВЛЯЮТСЯ В СЛЕДУЮЩИЕ СРОКИ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8200" indent="-8568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ДО ЕЁ ПРОВЕД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8200" indent="-85680"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88920">
              <a:lnSpc>
                <a:spcPct val="115000"/>
              </a:lnSpc>
              <a:buClr>
                <a:srgbClr val="000000"/>
              </a:buClr>
              <a:buFont typeface="Calibri"/>
              <a:buAutoNum type="arabicPeriod" startAt="231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НА КАКОЙ СРОК ПРОДЛЕВАЕТСЯ СРОК ПРЕДОСТАВЛЕНИЯ СУБЪЕКТАМИ ФИНАНСОВОГО МОНИТОРИНГА В УПОЛНОМОЧЕННЫЙ ОРГАН ПО ФИНАНСОВОМУ МОНИТОРИНГУ ОТВЕТА НА ЗАПРОС ДОПОЛНИТЕЛЬНОЙ ИНФОРМАЦИИ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ВЕДЕНИЙ И ДОКУМЕНТОВ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В СЛУЧАЯХ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ОГДА ДЛЯ ОБРАБОТКИ ЗАПРОСА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ВЯЗАННОГО С АНАЛИЗОМ ПОДОЗРИТЕЛЬНОЙ ОПЕРАЦИИ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ТРЕБУЕТСЯ ПОЛУЧЕНИЕ СВЕДЕНИЙ И ИНФОРМАЦИИ О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8200" indent="-85680" algn="ctr">
              <a:lnSpc>
                <a:spcPct val="114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ПЕРАТОРА СИСТЕМЫ ДЕНЕЖНЫХ ПЕРЕВОДОВ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?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8200" indent="-85680" algn="ctr">
              <a:lnSpc>
                <a:spcPct val="114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НЕ БОЛЕЕ ЧЕМ НА ДВА РАБОЧИХ Д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Google Shape;418;p67"/>
          <p:cNvSpPr/>
          <p:nvPr/>
        </p:nvSpPr>
        <p:spPr>
          <a:xfrm>
            <a:off x="46080" y="322200"/>
            <a:ext cx="7480080" cy="117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238.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ДАЙТЕ ОПРЕДЕЛЕНИЕ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«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ПЕРАЦИИ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ДЛЕЖАЩИЕ ФИНАНСОВОМУ МОНИТОРИНГУ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»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ПЕРАЦИИ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ДЛЕЖАЩИЕ ФИНАНСОВОМУ МОНИТОРИНГУ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ПЕРАЦИИ КЛИЕНТА СУБЪЕК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ФИНАНСОВОГО МОНИТОРИНГА С ДЕНЬГАМИ И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ЛИ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)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НЫМ ИМУЩЕСТВОМ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 ОТНОШЕНИИ КОТОРЫХ В СООТВЕТСТВИИ С ЗАКОНОМ РК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«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 ПРОТИВОДЕЙСТВИИ ЛЕГАЛИЗАЦИИ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ТМЫВАНИЮ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)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ДОХОДОВ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ЛУЧЕННЫХ ПРЕСТУПНЫМ ПУТЕМ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 ФИНАНСИРОВАНИЮ ТЕРРОРИЗМА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»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УСТАНОВЛЕН ФИНАНСОВЫЙ МОНИТОРИНГ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3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239.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ЕДОСТАВЛЕНИЕ СУБЪЕКТАМИ ФИНАНСОВОГО МОНИТОРИНГА СВЕДЕНИЙ И ИНФОРМАЦИИ ПО ОПЕРАЦИЯМ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ДЛЕЖАЩИХ ФИНАНСОВОМУ МОНИТОРИНГУ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 ОПЕРАЦИЯМ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ДЛЕЖАЩИМ ФИНАНСОВОМУ МОНИТОРИНГУ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УБЪЕКТЫ ФИНАНСОВ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4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МОНИТОРИНГА ДОКУМЕНТАЛЬНО ФИКСИРУЮТ И ПРЕДСТАВЛЯЮТ В УПОЛНОМОЧЕННЫЙ ОРГАН СВЕДЕНИЯ И ИНФОРМАЦИЮ ОБ ОПЕРАЦИИ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ДЛЕЖАЩЕЙ ФИНАНСОВОМУ МОНИТОРИНГУ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 ФОРМЕ СВЕДЕНИЙ И ИНФОРМАЦИИ ОБ ОПЕРАЦИИ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ДЛЕЖАЩЕЙ ФИНАНСОВОМ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МОНИТОРИНГУ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ОГЛАСНО ПРИЛОЖЕНИЮ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1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ИКАЗ МИНИСТРА ФИНАНСОВ РЕСПУБЛИКИ КАЗАХСТАН ОТ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30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ЕНТЯБРЯ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2020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ГОДА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№ 938.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Б УТВЕРЖДЕНИИ ПРАВИЛ ПРЕДСТАВЛЕНИЯ СУБЪЕКТАМИ ФИНАНСОВОГО МОНИТОРИНГА СВЕДЕНИЙ И ИНФОРМАЦИИ ОБ ОПЕРАЦИЯХ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ДЛЕЖАЩИХ ФИНАНСОВОМУ МОНИТОРИНГУ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 ПРИЗНАКОВ ОПРЕДЕЛЕНИЯ ПОДОЗРИТЕЛЬНОЙ ОПЕР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240.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ДАЙТЕ ОПРЕДЕЛЕНИЕ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«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ДЕЛОВЫЕ ОТНОШЕНИЯ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»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ДЕЛОВЫЕ ОТНОШЕНИЯ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ТНОШЕНИЯ С КЛИЕНТАМИ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ОЗНИКАЮЩИЕ В ПРОЦЕСС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СУЩЕСТВЛЕНИЯ СУБЪЕКТОМ ФИНАНСОВОГО МОНИТОРИНГА ПРОФЕССИОНАЛЬН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ДЕЯТЕЛЬ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2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241.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ЕДОСТАВЛЕНИЕ СУБЪЕКТАМИ ФИНАНСОВОГО МОНИТОРИНГА СВЕДЕНИЙ И ИНФОРМАЦИИ ОБ ОПЕРАЦИЯХ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ДЛЕЖАЩИХ ФИНАНСОВОМУ МОНИТОРИНГУ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НФОРМАЦИЯ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ЕДСТАВЛЯЕМАЯ СУБЪЕКТАМИ ФИНАНСОВОГО МОНИТОРИНГА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НАПРАВЛЯЕТ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 УПОЛНОМОЧЕННЫЙ ОРГАН ЭЛЕКТРОННЫМ СПОСОБОМ В ФОРМАТЕ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XML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 ФОРМЕ ФОРМАТА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XML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НФОРМАЦИИ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ЕДОСТАВЛЯЕМОЙ ЭЛЕКТРОННЫМ СПОСОБОМ СУБЪЕКТАМИ ФИНАНСОВОГО МОНИТОРИНГА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ОГЛАСНО ПРИЛОЖЕНИЮ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2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К ПРАВИЛАМ ПОСРЕДСТВОМ СЕТЕЙ ТЕЛЕКОММУНИКАЦИЙ РЕСПУБЛИКАНСКОГО ГОСУДАРСТВЕННОГО ПРЕДПРИЯТИЯ НА ПРАВЕ ХОЗЯЙСТВЕННОГО ВЕДЕНИЯ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«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КАЗАХСТАНСКИЙ ЦЕНТР МЕЖБАНКОВСКИХ РАСЧЕТОВ НАЦИОНАЛЬНОГО БАНКА РЕСПУБЛИКИ КАЗАХСТАН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»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ЛИ ВЕБ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РТАЛА УПОЛНОМОЧЕННОГО ОРГАНА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.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ИКАЗ МИНИСТРА ФИНАНСОВ РК ОТ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30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ЕНТЯБРЯ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2020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ГОДА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№ 93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242.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ДАЙТЕ ОПРЕДЕЛЕНИЕ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«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ДЕЛОВЫЕ ОТНОШЕНИЯ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ДЕЛОВЫЕ ОТНОШЕНИЯ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ТНОШЕНИЯ С КЛИЕНТАМИ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ОЗНИКАЮЩИЕ В ПРОЦЕСС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3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СУЩЕСТВЛЕНИЯ СУБЪЕКТОМ ФИНАНСОВОГО МОНИТОРИНГА ПРОФЕССИОНАЛЬНОЙ ДЕЯТЕЛЬ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Google Shape;423;p68"/>
          <p:cNvSpPr/>
          <p:nvPr/>
        </p:nvSpPr>
        <p:spPr>
          <a:xfrm>
            <a:off x="25560" y="325440"/>
            <a:ext cx="7517880" cy="121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26880" algn="ctr">
              <a:lnSpc>
                <a:spcPct val="113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243.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ЕДОСТАВЛЕНИЕ СУБЪЕКТАМИ ФИНАНСОВОГО МОНИТОРИНГА СВЕДЕНИЙ И ИНФОРМАЦИИ ОБ ОПЕРАЦИЯХ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ДЛЕЖАЩИХ ФИНАНСОВОМУ МОНИТОРИНГУ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688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НФОРМАЦИЯ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ЕДСТАВЛЯЕМАЯ СУБЪЕКТАМИ ФИНАНСОВОГО МОНИТОРИНГА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НАПРАВЛЯЕТ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688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 УПОЛНОМОЧЕННЫЙ ОРГАН ЭЛЕКТРОННЫМ СПОСОБОМ В ФОРМАТЕ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XML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 ФОРМЕ ФОРМАТА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XML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НФОРМАЦИИ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ЕДОСТАВЛЯЕМОЙ ЭЛЕКТРОННЫМ СПОСОБОМ СУБЪЕКТАМИ ФИНАНСОВОГО МОНИТОРИНГА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ОГЛАСНО ПРИЛОЖЕНИЮ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2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К ПРАВИЛАМ ПОСРЕДСТВОМ СЕТЕЙ ТЕЛЕКОММУНИКАЦИЙ РЕСПУБЛИКАНСКОГО ГОСУДАРСТВЕННОГО ПРЕДПРИЯТИЯ НА ПРАВЕ ХОЗЯЙСТВЕННОГО ВЕДЕНИЯ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«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КАЗАХСТАНСКИЙ ЦЕНТР МЕЖБАНКОВСКИХ РАСЧЕТОВ НАЦИОНАЛЬНОГО БАНКА РЕСПУБЛИКИ КАЗАХСТАН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»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ЛИ ВЕБ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РТАЛА УПОЛНОМОЧЕННОГО ОРГАНА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.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ИКАЗ МИНИСТРА ФИНАНСОВ РК ОТ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30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ЕНТЯБРЯ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2020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ГОДА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№ 93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6880">
              <a:lnSpc>
                <a:spcPct val="100000"/>
              </a:lnSpc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6880" indent="-88920" algn="ctr"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.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ДАЙТЕ ОПРЕДЕЛЕНИЕ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«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ПЕРАЦИИ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ДЛЕЖАЩИЕ ФИНАНСОВОМУ МОНИТОРИНГУ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»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688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-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ПЕРАЦИИ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ДЛЕЖАЩИЕ ФИНАНСОВОМУ МОНИТОРИНГУ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ПЕРАЦИИ КЛИЕНТА СУБЪЕК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688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ФИНАНСОВОГО МОНИТОРИНГА С ДЕНЬГАМИ И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ЛИ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)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НЫМ ИМУЩЕСТВОМ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 ОТНОШЕНИИ КОТОРЫХ В СООТВЕТСТВИИ С ЗАКОНОМ РК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«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 ПРОТИВОДЕЙСТВИИ ЛЕГАЛИЗАЦИИ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ТМЫВАНИЮ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)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ДОХОДОВ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ЛУЧЕННЫХ ПРЕСТУПНЫМ ПУТЕМ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 ФИНАНСИРОВАНИЮ ТЕРРОРИЗМА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»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УСТАНОВЛЕН ФИНАНСОВЫЙ МОНИТОРИН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6880"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6880" indent="-88920" algn="ctr">
              <a:lnSpc>
                <a:spcPct val="114000"/>
              </a:lnSpc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.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В КАКИХ СЛУЧАЯХ ОПЕРАЦИЯ СДЕЛКА С НЕДВИЖИМЫМ ИМУЩЕСТВОМ ОТНОСЯТСЯ К ОПЕРАЦИИ С ДЕНЬГАМИ И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ЛИ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НЫМ ИМУЩЕСТВОМ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ДЛЕЖАЩЕЙ ФИНАНСОВОМУ МОНИТОРИНГУ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688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ЕСЛИ СУММА ОПЕРАЦИИ РАВНА ИЛИ ПРЕВЫШАЕТ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200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000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000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ТЕНГЕ ЛИБО РАВНА СУММЕ 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688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НОСТРАННОЙ ВАЛЮТЕ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ЭКВИВАЛЕНТНОЙ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200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000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000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ТЕНГЕ ИЛИ ПРЕВЫШАЮЩЕЙ ЕЕ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А ПО СВОЕМУ ХАРАКТЕРУ ДАННАЯ ОПЕРАЦИЯ ОТНОСИТСЯ К СДЕЛКЕ С НЕДВИЖИМЫМ ИМУЩЕСТВОМ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РЕЗУЛЬТАТОМ СОВЕРШЕНИЯ КОТОРОЙ ЯВЛЯЕТСЯ ПЕРЕХОД ПРАВА СОБСТВЕННОСТИ НА ТАКОЕ ИМУЩЕ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688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6880">
              <a:lnSpc>
                <a:spcPct val="116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241.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ЕДОСТАВЛЕНИЕ СУБЪЕКТАМИ ФИНАНСОВОГО МОНИТОРИНГА СВЕДЕНИЙ И ИНФОРМАЦИИ ОБ ОПЕРАЦИЯХ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ДЛЕЖАЩИХ ФИНАНСОВОМУ МОНИТОРИНГУ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688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НФОРМАЦИЯ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ЕДСТАВЛЯЕМАЯ СУБЪЕКТАМИ ФИНАНСОВОГО МОНИТОРИНГА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НАПРАВЛЯЕТ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688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 УПОЛНОМОЧЕННЫЙ ОРГАН ЭЛЕКТРОННЫМ СПОСОБОМ В ФОРМАТЕ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XML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 ФОРМЕ ФОРМАТА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XML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НФОРМАЦИИ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ЕДОСТАВЛЯЕМОЙ ЭЛЕКТРОННЫМ СПОСОБОМ СУБЪЕКТАМИ ФИНАНСОВОГО МОНИТОРИНГА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ОГЛАСНО ПРИЛОЖЕНИЮ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2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К ПРАВИЛАМ ПОСРЕДСТВОМ СЕТЕЙ ТЕЛЕКОММУНИКАЦИЙ РЕСПУБЛИКАНСКОГО ГОСУДАРСТВЕННОГО ПРЕДПРИЯТИЯ НА ПРАВЕ ХОЗЯЙСТВЕННОГО ВЕДЕНИЯ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«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КАЗАХСТАНСКИЙ ЦЕНТР МЕЖБАНКОВСКИХ РАСЧЕТОВ НАЦИОНАЛЬНОГО БАНКА РЕСПУБЛИКИ КАЗАХСТАН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»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ЛИ ВЕБ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РТАЛА УПОЛНОМОЧЕННОГО ОРГАНА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.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ИКАЗ МИНИСТРА ФИНАНСОВ РК ОТ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30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ЕНТЯБРЯ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2020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ГОДА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№ 93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Google Shape;428;p69"/>
          <p:cNvSpPr/>
          <p:nvPr/>
        </p:nvSpPr>
        <p:spPr>
          <a:xfrm>
            <a:off x="55440" y="325440"/>
            <a:ext cx="7434000" cy="36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18960" indent="-22320">
              <a:lnSpc>
                <a:spcPct val="113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246.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ЕДОСТАВЛЕНИЕ СУБЪЕКТАМИ ФИНАНСОВОГО МОНИТОРИНГА СВЕДЕНИЙ И ИНФОРМАЦИИ ПО ОПЕРАЦИЯМ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ДЛЕЖАЩИХ ФИНАНСОВОМУ МОНИТОРИНГУ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22320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 ОПЕРАЦИЯМ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ДЛЕЖАЩИМ ФИНАНСОВОМУ МОНИТОРИНГУ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УБЪЕКТЫ ФИНАНСОВ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22320">
              <a:lnSpc>
                <a:spcPct val="116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МОНИТОРИНГА ДОКУМЕНТАЛЬНО ФИКСИРУЮТ И ПРЕДСТАВЛЯЮТ В УПОЛНОМОЧЕННЫЙ ОРГАН СВЕДЕНИЯ И ИНФОРМАЦИЮ ОБ ОПЕРАЦИИ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ДЛЕЖАЩЕЙ ФИНАНСОВОМУ МОНИТОРИНГУ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 ФОРМЕ СВЕДЕНИЙ И ИНФОРМАЦИИ ОБ ОПЕРАЦИИ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ДЛЕЖАЩЕЙ ФИНАНСОВОМУ МОНИТОРИНГУ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ОГЛАСНО ПРИЛОЖЕНИЮ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1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ИКАЗ МИНИСТРА ФИНАНСОВ РЕСПУБЛИКИ КАЗАХСТАН ОТ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30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ЕНТЯБРЯ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2020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ГОДА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№ 938.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Б УТВЕРЖДЕНИИ ПРАВИЛ ПРЕДСТАВЛЕНИЯ СУБЪЕКТАМИ ФИНАНСОВОГО МОНИТОРИНГА СВЕДЕНИЙ И ИНФОРМАЦИИ ОБ ОПЕРАЦИЯХ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22320">
              <a:lnSpc>
                <a:spcPct val="115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ДЛЕЖАЩИХ ФИНАНСОВОМУ МОНИТОРИНГУ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 ПРИЗНАКОВ ОПРЕДЕЛЕНИЯ ПОДОЗРИТЕЛЬНОЙ ОПЕР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Google Shape;429;p69"/>
          <p:cNvSpPr/>
          <p:nvPr/>
        </p:nvSpPr>
        <p:spPr>
          <a:xfrm>
            <a:off x="52560" y="3541680"/>
            <a:ext cx="7470360" cy="106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181320" indent="-3016080">
              <a:lnSpc>
                <a:spcPct val="113000"/>
              </a:lnSpc>
              <a:buClr>
                <a:srgbClr val="000000"/>
              </a:buClr>
              <a:buFont typeface="Trebuchet MS"/>
              <a:buAutoNum type="arabicPeriod" startAt="247"/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АКИМ ОРГАНОМ ОПРЕДЕЛЯЮТСЯ ПРИЗНАКИ ОПРЕДЕЛЕНИЯ ПОДОЗРИТЕЛЬНОЙ ОПЕРАЦИИ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1320" indent="-301608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УПОЛНОМОЧЕННЫМ ОРГАНОМ ПО ФИНАНСОВОМУ МОНИТОРИНГУ ПО СОГЛАСОВАНИЮ 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1320" indent="-3016080" algn="ctr">
              <a:lnSpc>
                <a:spcPct val="10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ГОСУДАРСТВЕННЫМИ ОРГАНАМИ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СУЩЕСТВЛЯЮЩИМИ В ПРЕДЕЛАХ СВОЕЙ КОМПЕТЕН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1320" indent="-301608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ГОСУДАРСТВЕННЫЙ КОНТРОЛЬ ЗА СОБЛЮДЕНИЕМ СУБЪЕКТАМИ ФИНАНСОВОГО МОНИТОРИНГА ЗАКОНА РЕСПУБЛИКИ КАЗАХСТАН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"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 ПРОТИВОДЕЙСТВИИ ЛЕГАЛИЗАЦИИ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ТМЫВАНИЮ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)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ДОХОДОВ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ЛУЧЕННЫХ ПРЕСТУПНЫМ ПУТЕМ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 ФИНАНСИРОВАНИЮ ТЕРРОРИЗМА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1320" indent="-3016080">
              <a:lnSpc>
                <a:spcPct val="100000"/>
              </a:lnSpc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181320" indent="-3016080">
              <a:lnSpc>
                <a:spcPct val="100000"/>
              </a:lnSpc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181320" indent="-3016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ПЕРАЦИИ ПРИЗНАЮТСЯ ПОДОЗРИТЕЛЬНЫМИ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1320" indent="-301608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 СООТВЕТСТВИИ С ПРОГРАММАМИ РЕАЛИЗАЦИИ ПРАВИЛ ВНУТРЕННЕГО КОНТРОЛЯ СУБЪЕК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1320" indent="-3016080" algn="ctr">
              <a:lnSpc>
                <a:spcPct val="135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ФИНАНСОВОГО МОНИТОРИНГА ИЛИ В РЕЗУЛЬТАТЕ ИЗУЧЕНИЯ ОПЕРАЦИЙ ПО ОСНОВАНИЯМ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УКАЗАННЫМ В ПУНКТЕ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4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ТАТЬИ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4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ЗАКОНА РЕСПУБЛИКИ КАЗАХСТАН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"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 ПРОТИВОДЕЙСТВИИ ЛЕГАЛИЗАЦИИ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ТМЫВАНИЮ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)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ДОХОДОВ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ЛУЧЕННЫХ ПРЕСТУПНЫМ ПУТЕМ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1320" indent="-3016080" algn="ctr">
              <a:lnSpc>
                <a:spcPct val="135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ФИНАНСИРОВАНИЮ ТЕРРОРИЗМА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"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У СУБЪЕКТА ФИНАНСОВОГО МОНИТОРИНГА ИМЕЮТСЯ ОСНОВАНИЯ ПОЛАГАТЬ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ЧТО ОПЕРАЦИИ КЛИЕНТА СВЯЗАНЫ С ЛЕГАЛИЗАЦИЕЙ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ТМЫВАНИЕМ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1320" indent="-3016080" algn="ctr">
              <a:lnSpc>
                <a:spcPct val="10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ДОХОДОВ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ЛУЧЕННЫХ ПРЕСТУПНЫМ ПУТЕМ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ЛИ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)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ФИНАНСИРОВАНИЕМ ТЕРРОРИЗ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1320" indent="-3016080"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181320" indent="-3016080">
              <a:lnSpc>
                <a:spcPct val="112000"/>
              </a:lnSpc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 КАКИХ ФАКТАХ СУБЪЕКТЫ ФИНАНСОВОГО МОНИТОРИНГА ПРЕДОСТАВЛЯЮТ СООБЩЕНИЯ В УПОЛНОМОЧЕННЫЙ ОРГАН ПО ФИНАНСОВОМУ МОНИТОРИНГУ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1320" indent="-3016080" algn="ctr">
              <a:lnSpc>
                <a:spcPct val="100000"/>
              </a:lnSpc>
              <a:tabLst>
                <a:tab algn="l" pos="0"/>
              </a:tabLst>
            </a:pPr>
            <a:r>
              <a:rPr b="1" i="1" lang="en-US" sz="1300" spc="-1" strike="noStrike">
                <a:solidFill>
                  <a:srgbClr val="ff1515"/>
                </a:solidFill>
                <a:latin typeface="Arial"/>
                <a:ea typeface="Arial"/>
              </a:rPr>
              <a:t>•</a:t>
            </a:r>
            <a:r>
              <a:rPr b="1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 ВСЕХ ПЕРЕЧИСЛЕННЫХ ФАКТАХ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1320" indent="-301608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 ФАКТАХ ПРЕКРАЩЕНИЯ ДЕЛОВЫХ ОТНОШЕНИЙ С КЛИЕНТ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1320" indent="-301608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 ФАКТАХ ОТКАЗА В ПРОВЕДЕНИИ ОПЕРАЦИИ С ДЕНЬГАМИ И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ЛИ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)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НЫМ ИМУЩЕСТВ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1320" indent="-301608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 ФАКТАХ ОТКАЗА ФИЗИЧЕСКОМУ ИЛИ ЮРИДИЧЕСКОМУ ЛИЦУ В УСТАНОВЛЕНИИ ДЕЛОВ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1320" indent="-3016080" algn="ctr">
              <a:lnSpc>
                <a:spcPct val="10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ТНОШ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Google Shape;434;p70"/>
          <p:cNvSpPr/>
          <p:nvPr/>
        </p:nvSpPr>
        <p:spPr>
          <a:xfrm>
            <a:off x="6480" y="325440"/>
            <a:ext cx="7546680" cy="131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31720" indent="-401760">
              <a:lnSpc>
                <a:spcPct val="116000"/>
              </a:lnSpc>
              <a:buClr>
                <a:srgbClr val="000000"/>
              </a:buClr>
              <a:buFont typeface="Trebuchet MS"/>
              <a:buAutoNum type="arabicPeriod" startAt="250"/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И ПРИЗНАНИИ ОПЕРАЦИИ В КАЧЕСТВЕ ПОДОЗРИТЕЛЬНОЙ ДО ЕЕ ПРОВЕДЕНИЯ В КАКОЙ СРОК СУБЪЕКТ ФИНАНСОВОГО МОНИТОРИНГА ДОЛЖЕН СООБЩИТЬ 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1720" indent="-401760" algn="ctr">
              <a:lnSpc>
                <a:spcPct val="10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УПОЛНОМОЧЕННЫЙ ОРГАН ПО ФИНАНСОВОМУ МОНИТОРИНГУ О ТАКОЙ ОПЕРАЦИИ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1720" indent="-40176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НЕЗАМЕДЛИТЕЛЬ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1720" indent="-401760">
              <a:lnSpc>
                <a:spcPct val="100000"/>
              </a:lnSpc>
              <a:tabLst>
                <a:tab algn="l" pos="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31720" indent="-401760">
              <a:lnSpc>
                <a:spcPct val="116000"/>
              </a:lnSpc>
              <a:buClr>
                <a:srgbClr val="000000"/>
              </a:buClr>
              <a:buFont typeface="Trebuchet MS"/>
              <a:buAutoNum type="arabicPeriod" startAt="251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В ТЕЧЕНИЕ КАКОГО СРОКА СУБЪЕКТАМИ ФИНАНСОВОГО МОНИТОРИНГА ПРЕДОСТАВЛЯЮТСЯ В УПОЛНОМОЧЕННЫЙ ОРГАН ПО ФИНАНСОВОМУ МОНИТОРИНГ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1720" indent="-401760" algn="ctr">
              <a:lnSpc>
                <a:spcPct val="135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ООБЩЕНИЯ О О СОВЕРШЕННЫХ ОПЕРАЦИЯХ С ДЕНЬГАМИ И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ЛИ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НЫМ ИМУЩЕСТВОМ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ОТОРЫЕ БЫЛИ ПРИЗНАНЫ ПОДОЗРИТЕЛЬНЫМИ ПОСЛЕ ИХ ПРОВЕДЕНИЯ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1720" indent="-401760" algn="ctr">
              <a:lnSpc>
                <a:spcPct val="107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НЕ ПОЗДНЕЕ ДВАДЦАТИ ЧЕТЫРЕХ ЧАСОВ ПОСЛЕ ПРИЗНАНИЯ ОПЕРАЦИИ ПОДОЗРИТЕЛЬН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1720" indent="-40176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1720" indent="-401760">
              <a:lnSpc>
                <a:spcPct val="116000"/>
              </a:lnSpc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В ТЕЧЕНИЕ КАКОГО СРОКА УПОЛНОМОЧЕННЫМ ОРГАНОМ ПО ФИНАНСОВОМУ МОНИТОРИНГУ ПРИНИМАЕТСЯ РЕШЕНИЕ ПО СООБЩЕНИЮ СУБЪЕКТА ФИНАНСОВ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1720" indent="-40176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МОНИТОРИНГА О ПОДОЗРИТЕЛЬНОЙ ОПЕРАЦИИ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1720" indent="-40176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 ТЕЧЕНИЕ ДВАДЦАТИ ЧЕТЫРЕХ ЧАСОВ С МОМЕНТА ПОЛУЧЕНИЯ СООБЩ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1720" indent="-401760"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31720" indent="-401760">
              <a:lnSpc>
                <a:spcPct val="116000"/>
              </a:lnSpc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НА КАКОЙ СРОК УПОЛНОМОЧЕННЫМ ОРГАНОМ ПО ФИНАНСОВОМУ МОНИТОРИНГУ МОЖЕТ БЫТЬ ПРИНЯТО РЕШЕНИЕ О ПРИОСТАНОВЛЕНИИ ПРОВЕД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1720" indent="-401760" algn="ctr">
              <a:lnSpc>
                <a:spcPct val="135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ДОЗРИТЕЛЬНОЙ ОПЕРАЦИИ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В СЛУЧАЕ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ЕСЛИ СООБЩЕНИЕ О ПОДОЗРИТЕЛЬНОЙ ОПЕРАЦИИ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ЕДСТАВЛЕННОЕ СУБЪЕКТОМ ФИНАНСОВОГО МОНИТОРИНГА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1720" indent="-401760" algn="ctr">
              <a:lnSpc>
                <a:spcPct val="135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РЕЗУЛЬТАТАМ АНАЛИЗА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ОВЕДЕННОГО УПОЛНОМОЧЕННЫМ ОРГАНОМ ПО ФИНАНСОВОМУ МОНИТОРИНГУ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ИЗНАНО ОБОСНОВАННЫМ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1720" indent="-401760" algn="ctr">
              <a:lnSpc>
                <a:spcPct val="107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НА СРОК ДО ТРЁХ РАБОЧИХ ДН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1720" indent="-401760">
              <a:lnSpc>
                <a:spcPct val="100000"/>
              </a:lnSpc>
              <a:tabLst>
                <a:tab algn="l" pos="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31720" indent="-401760">
              <a:lnSpc>
                <a:spcPct val="113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254.</a:t>
            </a:r>
            <a:r>
              <a:rPr b="0" i="1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	</a:t>
            </a:r>
            <a:r>
              <a:rPr b="0" i="1" lang="en-US" sz="1400" spc="-1" strike="noStrike">
                <a:solidFill>
                  <a:schemeClr val="dk1"/>
                </a:solidFill>
                <a:latin typeface="Arial"/>
                <a:ea typeface="Arial"/>
              </a:rPr>
              <a:t>В СЛУЧАЕ НЕПОЛУЧЕНИЯ СУБЪЕКТОМ ФИНАНСОВОГО МОНИТОРИНГА В ТЕЧЕНИЕ КАКОГО СРОКА С МОМЕНТА СООБЩЕНИЯ ИНФОРМАЦИИ ПО РЕШЕНИЮ УПОЛНОМОЧЕННОГО ОРГАНА ПО ФИНАНСОВОМУ МОНИТОРИНГУ О ПРИОСТАНОВЛЕНИИ ПОДОЗРИТЕЛЬНОЙ ОПЕРАЦИИ ЛИБО О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1720" indent="-401760" algn="ctr">
              <a:lnSpc>
                <a:spcPct val="135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chemeClr val="dk1"/>
                </a:solidFill>
                <a:latin typeface="Arial"/>
                <a:ea typeface="Arial"/>
              </a:rPr>
              <a:t>ОТСУТСТВИИ НЕОБХОДИМОСТИ В ПРИОСТАНОВЛЕНИИ ТАКОЙ ОПЕРАЦИИ ОПЕРАЦИЯ ДОЛЖНА БЫТЬ ПРОВЕДЕНА</a:t>
            </a:r>
            <a:r>
              <a:rPr b="0" i="1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1720" indent="-401760" algn="ctr">
              <a:lnSpc>
                <a:spcPct val="112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 ТЕЧЕНИЕ ДВАДЦАТИ ЧЕТЫРЕХ ЧАСОВ С МОМЕНТА СООБЩЕНИЯ ИНФОРМАЦИИ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ЕСЛИ НЕ ИМЕЮТСЯ ИНЫЕ ОСНОВАНИЯ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ЕДУСМОТРЕННЫЕ ЗАКОНОДАТЕЛЬНЫМИ АКТАМИ РЕСПУБЛ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1720" indent="-40176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КАЗАХСТАН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ЕПЯТСТВУЮЩИЕ ПРОВЕДЕНИЮ ДАННОЙ ОПЕР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1720" indent="-40176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1720" indent="-401760" algn="just">
              <a:lnSpc>
                <a:spcPct val="116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255.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СЛЕ ИСТЕЧЕНИЯ КАКОГО СРОКА ПОДОЗРИТЕЛЬНАЯ ОПЕРАЦИЯ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 КОТОРОЙ УПОЛНОМОЧЕННЫМ ОРГАНОМ ПО ФИНАНСОВОМУ МОНИТОРИНГУ ПРИНЯТО РЕШЕНИЕ О ПРИОСТАНОВЛЕНИИ ПРОВЕДЕНИЯ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ДОЛЖНА БЫТЬ ПРОВЕДЕНА ПРИ ОТСУТСТВИИ И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1720" indent="-401760" algn="ctr">
              <a:lnSpc>
                <a:spcPct val="135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СНОВАНИЙ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ЕДУСМОТРЕННЫХ ЗАКОНОДАТЕЛЬНЫМИ АКТАМИ РЕСПУБЛИКИ КАЗАХСТАН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ЕПЯТСТВУЮЩИХ ПРОВЕДЕНИЮ ТАКОЙ ОПЕР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1720" indent="-401760">
              <a:lnSpc>
                <a:spcPct val="135000"/>
              </a:lnSpc>
              <a:tabLst>
                <a:tab algn="l" pos="0"/>
              </a:tabLst>
            </a:pPr>
            <a:r>
              <a:rPr b="0" lang="en-US" sz="13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ПОСЛЕ ИСТЕЧЕНИЯ СРОКА ПРИОСТАНОВЛЕНИЯ ПОДОЗРИТЕЛЬНОЙ ОПЕРАЦИИ ПО РЕШЕНИЮ УПОЛНОМОЧЕННОГО ОРГАНА ПО ФИНАНСОВОМУ МОНИТОРИНГ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Google Shape;439;p71"/>
          <p:cNvSpPr/>
          <p:nvPr/>
        </p:nvSpPr>
        <p:spPr>
          <a:xfrm>
            <a:off x="33480" y="325440"/>
            <a:ext cx="7482960" cy="123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92040" indent="-249120">
              <a:lnSpc>
                <a:spcPct val="116000"/>
              </a:lnSpc>
              <a:buClr>
                <a:srgbClr val="000000"/>
              </a:buClr>
              <a:buFont typeface="Trebuchet MS"/>
              <a:buAutoNum type="arabicPeriod" startAt="256"/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В ТЕЧЕНИЕ КАКОГО СРОКА СУБЪЕКТ ФИНАНСОВОГО МОНИТОРИНГА ОБЯЗАН ПРЕДОСТАВИТЬ В УПОЛНОМОЧЕННЫЙ ОРГАН ПО ФИНАНСОВОМУ МОНИТОРИНГУ П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2920" indent="249120" algn="ctr">
              <a:lnSpc>
                <a:spcPct val="135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ЕГО ЗАПРОСУ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ВЯЗАННОМУ С АНАЛИЗОМ ПОДОЗРИТЕЛЬНОЙ ИНФОРМАЦИИ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НЕОБХОДИМЫЕ ИНФОРМАЦИЮ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ВЕДЕНИЯ И ДОКУМЕНТЫ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2920" indent="249120" algn="ctr">
              <a:lnSpc>
                <a:spcPct val="107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НЕ ПОЗДНЕЕ РАБОЧЕГО ДНЯ СО ДНЯ ПОЛУЧЕНИЯ ЗАПРО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2920" indent="249120"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92040" indent="-249120">
              <a:lnSpc>
                <a:spcPct val="116000"/>
              </a:lnSpc>
              <a:buClr>
                <a:srgbClr val="000000"/>
              </a:buClr>
              <a:buFont typeface="Trebuchet MS"/>
              <a:buAutoNum type="arabicPeriod" startAt="256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В ТЕЧЕНИЕ КАКОГО СРОКА СУБЪЕКТ ФИНАНСОВОГО МОНИТОРИНГА ОБЯЗАН ПРЕДОСТАВИТЬ В УПОЛНОМОЧЕННЫЙ ОРГАН ПО ФИНАНСОВОМУ МОНИТОРИНГУ П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2920" indent="249120" algn="ctr">
              <a:lnSpc>
                <a:spcPct val="135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ЕГО ЗАПРОСУ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ВЯЗАННОМУ С АНАЛИЗОМ ПОДОЗРИТЕЛЬНОЙ ИНФОРМАЦИИ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НЕОБХОДИМЫЕ ИНФОРМАЦИЮ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ВЕДЕНИЯ И ДОКУМЕНТЫ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2920" indent="249120" algn="ctr">
              <a:lnSpc>
                <a:spcPct val="107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НЕ ПОЗДНЕЕ РАБОЧЕГО ДНЯ СО ДНЯ ПОЛУЧЕНИЯ ЗАПРО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2920" indent="249120"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92040" indent="-249120">
              <a:lnSpc>
                <a:spcPct val="113000"/>
              </a:lnSpc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В КАКОЙ СРОК СУБЪЕКТАМИ ФИНАНСОВОГО МОНИТОРИНГА ДОЛЖНЫ БЫТЬ ПРЕДСТАВЛЕНЫ СООБЩЕНИЯ О СОВЕРШЕННЫХ ОПЕРАЦИЯХ С ДЕНЬГАМИ И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ЛИ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НЫ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2920" indent="249120" algn="ctr">
              <a:lnSpc>
                <a:spcPct val="116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МУЩЕСТВОМ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ОТОРЫЕ НЕ БЫЛИ ПРИЗНАНЫ ПОДОЗРИТЕЛЬНЫМИ ДО ИХ ПРОВЕДЕНИЯ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2920" indent="24912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НЕ ПОЗДНЕЕ ДВАДЦАТИ ЧЕТЫРЕХ ЧАСОВ ПОСЛЕ ПРИЗНАНИЯ ОПЕРАЦИИ ПОДОЗРИТЕЛЬН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2920" indent="249120"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92040" indent="-249120">
              <a:lnSpc>
                <a:spcPct val="113000"/>
              </a:lnSpc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В КАКОЙ СРОК СУБЪЕКТАМИ ФИНАНСОВОГО МОНИТОРИНГА ПРЕДОСТАВЛЯЮТСЯ СВЕДЕНИЯ И ИНФОРМАЦИЯ ОБ ОПЕРАЦИЯХ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ДЛЕЖАЩИХ ФИНАНСОВОМ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2920" indent="249120" algn="ctr">
              <a:lnSpc>
                <a:spcPct val="116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МОНИТОРИНГУ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УММА ПО КОТОРЫМ РАВНА ИЛИ ПРЕВЫШАЕТ ПОРОГОВОЕ ЗНАЧЕНИЕ ДЛЯ ДАННОГО ВИДА ОПЕРАЦИИ СОГЛАСНО ПУНКТУ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1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ТАТЬИ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4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ЗАКОНА РЕСПУБЛИКИ КАЗАХСТАН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"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 ПРОТИВОДЕЙСТВИИ ЛЕГАЛИЗАЦИИ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"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2920" indent="24912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НЕ ПОЗДНЕЕ РАБОЧЕГО ДНЯ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ЛЕДУЮЩЕГО ЗА ДНЕМ СОВЕРШ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2920" indent="249120">
              <a:lnSpc>
                <a:spcPct val="100000"/>
              </a:lnSpc>
              <a:tabLst>
                <a:tab algn="l" pos="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42920" indent="249120">
              <a:lnSpc>
                <a:spcPct val="111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260.</a:t>
            </a:r>
            <a:r>
              <a:rPr b="0" i="1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	</a:t>
            </a:r>
            <a:r>
              <a:rPr b="0" i="1" lang="en-US" sz="1400" spc="-1" strike="noStrike">
                <a:solidFill>
                  <a:schemeClr val="dk1"/>
                </a:solidFill>
                <a:latin typeface="Arial"/>
                <a:ea typeface="Arial"/>
              </a:rPr>
              <a:t>НА КАКОЙ СРОК УПОЛНОМОЧЕННЫМ ОРГАНОМ ПО ФИНАНСОВОМУ МОНИТОРИНГУ ВЫНОСИТСЯ РЕШЕНИЕ О ПРИОСТАНОВЛЕНИИ РАСХОДНЫХ ОПЕРАЦИЙ ПО БАНКОВСКИМ СЧЕТА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2920" indent="24912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chemeClr val="dk1"/>
                </a:solidFill>
                <a:latin typeface="Arial"/>
                <a:ea typeface="Arial"/>
              </a:rPr>
              <a:t>ИЛИ ОПЕРАЦИЙ С ЭЛЕКТРОННЫМИ ДЕНЬГАМИ ЛИЦ</a:t>
            </a:r>
            <a:r>
              <a:rPr b="0" i="1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chemeClr val="dk1"/>
                </a:solidFill>
                <a:latin typeface="Arial"/>
                <a:ea typeface="Arial"/>
              </a:rPr>
              <a:t>ЯВЛЯЮЩИХСЯ УЧАСТНИКАМИ ТАК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2920" indent="249120" algn="ctr">
              <a:lnSpc>
                <a:spcPct val="115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chemeClr val="dk1"/>
                </a:solidFill>
                <a:latin typeface="Arial"/>
                <a:ea typeface="Arial"/>
              </a:rPr>
              <a:t>ОПЕРАЦИИ</a:t>
            </a:r>
            <a:r>
              <a:rPr b="0" i="1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chemeClr val="dk1"/>
                </a:solidFill>
                <a:latin typeface="Arial"/>
                <a:ea typeface="Arial"/>
              </a:rPr>
              <a:t>В СЛУЧАЕ ПОЛУЧЕНИЯ ОТ ПРАВООХРАНИТЕЛЬНЫХ И СПЕЦИАЛЬНЫХ ГОСУДАРСТВЕННЫХ ОРГАНОВ РЕСПУБЛИКИ КАЗАХСТАН РЕШЕНИЯ О НЕОБХОДИМОСТИ ПРИОСТАНОВЛЕНИЯ ПОДОЗРИТЕЛЬНОЙ ОПЕРАЦИИ</a:t>
            </a:r>
            <a:r>
              <a:rPr b="0" i="1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2920" indent="24912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НА СРОК ДО ПЯТНАДЦАТИ КАЛЕНДАРНЫХ ДН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2920" indent="249120"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42920" indent="249120">
              <a:lnSpc>
                <a:spcPct val="112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261.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В КАКОЙ СРОК С МОМЕНТА ПОЛУЧЕНИЯ СООТВЕТСТВУЮЩЕГО ЗАПРОСА БАНКОВ И ОРГАНИЗАЦИЙ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СУЩЕСТВЛЯЮЩИХ ОТДЕЛЬНЫЕ ВИДЫ БАНКОВСКИХ ОПЕРАЦИЙ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2920" indent="249120" algn="ctr">
              <a:lnSpc>
                <a:spcPct val="113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ПЕРАТОРЫ СИСТЕМ ДЕНЕЖНЫХ ПЕРЕВОДОВ ОБЯЗАНЫ ПРЕДОСТАВИТЬ НЕОБХОДИМЫЕ ИНФОРМАЦИЮ И СВЕДЕНИЯ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2920" indent="249120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3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В ТЕЧЕНИЕ ДВУХ РАБОЧИХ ДНЕЙ СО ДНЯ ПОЛУЧЕНИЯ СООТВЕТСТВУЮЩЕГО ЗАПРО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Google Shape;444;p72"/>
          <p:cNvSpPr/>
          <p:nvPr/>
        </p:nvSpPr>
        <p:spPr>
          <a:xfrm>
            <a:off x="-12600" y="103320"/>
            <a:ext cx="7562520" cy="113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500" spc="-1" strike="noStrike">
                <a:solidFill>
                  <a:srgbClr val="202020"/>
                </a:solidFill>
                <a:latin typeface="Lucida Sans"/>
                <a:ea typeface="Lucida Sans"/>
              </a:rPr>
              <a:t>ПОДГОТОВКАКАТТЕСТАЦИ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600" spc="-1" strike="noStrike">
                <a:solidFill>
                  <a:srgbClr val="202020"/>
                </a:solidFill>
                <a:latin typeface="Lucida Sans"/>
                <a:ea typeface="Lucida Sans"/>
              </a:rPr>
              <a:t>БЛОК</a:t>
            </a:r>
            <a:r>
              <a:rPr b="0" lang="en-US" sz="1600" spc="-1" strike="noStrike">
                <a:solidFill>
                  <a:srgbClr val="202020"/>
                </a:solidFill>
                <a:latin typeface="Trebuchet MS"/>
                <a:ea typeface="Trebuchet MS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01"/>
              </a:spcBef>
              <a:tabLst>
                <a:tab algn="l" pos="0"/>
              </a:tabLst>
            </a:pPr>
            <a:r>
              <a:rPr b="0" i="1" lang="en-US" sz="2100" spc="-1" strike="noStrike">
                <a:solidFill>
                  <a:srgbClr val="ff1515"/>
                </a:solidFill>
                <a:latin typeface="Trebuchet MS"/>
                <a:ea typeface="Trebuchet MS"/>
              </a:rPr>
              <a:t>10</a:t>
            </a:r>
            <a:r>
              <a:rPr b="0" i="1" lang="en-US" sz="21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2100" spc="-1" strike="noStrike">
                <a:solidFill>
                  <a:srgbClr val="ff1515"/>
                </a:solidFill>
                <a:latin typeface="Arial"/>
                <a:ea typeface="Arial"/>
              </a:rPr>
              <a:t>ВОПРОСОВ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800" spc="-1" strike="noStrike">
                <a:solidFill>
                  <a:srgbClr val="ff1515"/>
                </a:solidFill>
                <a:latin typeface="Arial"/>
                <a:ea typeface="Arial"/>
              </a:rPr>
              <a:t>КМИНИСТРА ФИНАНСОВ РЕСПУБЛИКИ КАЗАХСТАН ОТ </a:t>
            </a:r>
            <a:r>
              <a:rPr b="0" i="1" lang="en-US" sz="1800" spc="-1" strike="noStrike">
                <a:solidFill>
                  <a:srgbClr val="ff1515"/>
                </a:solidFill>
                <a:latin typeface="Trebuchet MS"/>
                <a:ea typeface="Trebuchet MS"/>
              </a:rPr>
              <a:t>13</a:t>
            </a:r>
            <a:r>
              <a:rPr b="0" i="1" lang="en-US" sz="18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ff1515"/>
                </a:solidFill>
                <a:latin typeface="Arial"/>
                <a:ea typeface="Arial"/>
              </a:rPr>
              <a:t>ОКТЯБРЯ </a:t>
            </a:r>
            <a:r>
              <a:rPr b="0" i="1" lang="en-US" sz="1800" spc="-1" strike="noStrike">
                <a:solidFill>
                  <a:srgbClr val="ff1515"/>
                </a:solidFill>
                <a:latin typeface="Trebuchet MS"/>
                <a:ea typeface="Trebuchet MS"/>
              </a:rPr>
              <a:t>2020</a:t>
            </a:r>
            <a:r>
              <a:rPr b="0" i="1" lang="en-US" sz="18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ff1515"/>
                </a:solidFill>
                <a:latin typeface="Arial"/>
                <a:ea typeface="Arial"/>
              </a:rPr>
              <a:t>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800" spc="-1" strike="noStrike">
                <a:solidFill>
                  <a:srgbClr val="ff1515"/>
                </a:solidFill>
                <a:latin typeface="Trebuchet MS"/>
                <a:ea typeface="Trebuchet MS"/>
              </a:rPr>
              <a:t>№ </a:t>
            </a:r>
            <a:r>
              <a:rPr b="0" i="1" lang="en-US" sz="1800" spc="-1" strike="noStrike">
                <a:solidFill>
                  <a:srgbClr val="ff1515"/>
                </a:solidFill>
                <a:latin typeface="Trebuchet MS"/>
                <a:ea typeface="Trebuchet MS"/>
              </a:rPr>
              <a:t>10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4000"/>
              </a:lnSpc>
              <a:tabLst>
                <a:tab algn="l" pos="0"/>
              </a:tabLst>
            </a:pPr>
            <a:r>
              <a:rPr b="0" i="1" lang="en-US" sz="1800" spc="-1" strike="noStrike">
                <a:solidFill>
                  <a:srgbClr val="ff1515"/>
                </a:solidFill>
                <a:latin typeface="Trebuchet MS"/>
                <a:ea typeface="Trebuchet MS"/>
              </a:rPr>
              <a:t>«</a:t>
            </a:r>
            <a:r>
              <a:rPr b="0" i="1" lang="en-US" sz="1800" spc="-1" strike="noStrike">
                <a:solidFill>
                  <a:srgbClr val="ff1515"/>
                </a:solidFill>
                <a:latin typeface="Arial"/>
                <a:ea typeface="Arial"/>
              </a:rPr>
              <a:t>ОБ УТВЕРЖДЕНИИ ТРЕБОВАНИЙ К СУБЪЕКТАМ ФИНАНСОВОГО МОНИТОРИНГА ПО ПОДГОТОВКЕ И ОБУЧЕНИЮ В СФЕРЕ ПРОТИВОДЕЙСТВИЯ ЛЕГАЛИЗАЦИИ </a:t>
            </a:r>
            <a:r>
              <a:rPr b="0" i="1" lang="en-US" sz="18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800" spc="-1" strike="noStrike">
                <a:solidFill>
                  <a:srgbClr val="ff1515"/>
                </a:solidFill>
                <a:latin typeface="Arial"/>
                <a:ea typeface="Arial"/>
              </a:rPr>
              <a:t>ОТМЫВАНИЮ</a:t>
            </a:r>
            <a:r>
              <a:rPr b="0" i="1" lang="en-US" sz="18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8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ff1515"/>
                </a:solidFill>
                <a:latin typeface="Arial"/>
                <a:ea typeface="Arial"/>
              </a:rPr>
              <a:t>ДОХОДОВ</a:t>
            </a:r>
            <a:r>
              <a:rPr b="0" i="1" lang="en-US" sz="18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800" spc="-1" strike="noStrike">
                <a:solidFill>
                  <a:srgbClr val="ff1515"/>
                </a:solidFill>
                <a:latin typeface="Arial"/>
                <a:ea typeface="Arial"/>
              </a:rPr>
              <a:t>ПОЛУЧЕННЫХ ПРЕСТУПНЫМ ПУТЕМ</a:t>
            </a:r>
            <a:r>
              <a:rPr b="0" i="1" lang="en-US" sz="18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8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ff1515"/>
                </a:solidFill>
                <a:latin typeface="Arial"/>
                <a:ea typeface="Arial"/>
              </a:rPr>
              <a:t>И ФИНАНСИРОВАНИЮ ТЕРРОРИЗМА</a:t>
            </a:r>
            <a:r>
              <a:rPr b="0" i="1" lang="en-US" sz="1800" spc="-1" strike="noStrike">
                <a:solidFill>
                  <a:srgbClr val="ff1515"/>
                </a:solidFill>
                <a:latin typeface="Trebuchet MS"/>
                <a:ea typeface="Trebuchet MS"/>
              </a:rPr>
              <a:t>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800" spc="-1" strike="noStrike">
                <a:solidFill>
                  <a:srgbClr val="ff1515"/>
                </a:solidFill>
                <a:latin typeface="Arial"/>
                <a:ea typeface="Arial"/>
              </a:rPr>
              <a:t>СЕГОД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800" spc="-1" strike="noStrike">
                <a:solidFill>
                  <a:srgbClr val="ff1515"/>
                </a:solidFill>
                <a:latin typeface="Arial"/>
                <a:ea typeface="Arial"/>
              </a:rPr>
              <a:t>ПРИКАЗ ПРЕДСЕДАТЕЛЯ АГЕНТСТВА ФИНАНСОВОГО МОНИТОРИНГА РК </a:t>
            </a:r>
            <a:r>
              <a:rPr b="0" i="1" lang="en-US" sz="1800" spc="-1" strike="noStrike">
                <a:solidFill>
                  <a:srgbClr val="ff1515"/>
                </a:solidFill>
                <a:latin typeface="Trebuchet MS"/>
                <a:ea typeface="Trebuchet MS"/>
              </a:rPr>
              <a:t>№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800" spc="-1" strike="noStrike">
                <a:solidFill>
                  <a:srgbClr val="ff1515"/>
                </a:solidFill>
                <a:latin typeface="Arial"/>
                <a:ea typeface="Arial"/>
              </a:rPr>
              <a:t>ОТ </a:t>
            </a:r>
            <a:r>
              <a:rPr b="0" i="1" lang="en-US" sz="1800" spc="-1" strike="noStrike">
                <a:solidFill>
                  <a:srgbClr val="ff1515"/>
                </a:solidFill>
                <a:latin typeface="Trebuchet MS"/>
                <a:ea typeface="Trebuchet MS"/>
              </a:rPr>
              <a:t>9.08.2021</a:t>
            </a:r>
            <a:r>
              <a:rPr b="0" i="1" lang="en-US" sz="1800" spc="-1" strike="noStrike">
                <a:solidFill>
                  <a:srgbClr val="ff1515"/>
                </a:solidFill>
                <a:latin typeface="Arial"/>
                <a:ea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1.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КЕМ УТВЕРЖДАЮТСЯ ТРЕБОВАНИЯ К СУБЪЕКТАМ ФИНАНСОВОГО МОНИТОРИНГА ПО ПОДГОТОВКЕ И ОБУЧЕНИЮ В СФЕРЕ ПРОТИВОДЕЙСТВИЯ ЛЕГАЛИЗАЦИИ </a:t>
            </a: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(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200" spc="-1" strike="noStrike">
                <a:solidFill>
                  <a:srgbClr val="202020"/>
                </a:solidFill>
                <a:latin typeface="Lucida Sans"/>
                <a:ea typeface="Lucida Sans"/>
              </a:rPr>
              <a:t>ДОХОДОВ</a:t>
            </a:r>
            <a:r>
              <a:rPr b="0" lang="en-US" sz="1200" spc="-1" strike="noStrike">
                <a:solidFill>
                  <a:srgbClr val="202020"/>
                </a:solidFill>
                <a:latin typeface="Trebuchet MS"/>
                <a:ea typeface="Trebuchet MS"/>
              </a:rPr>
              <a:t>,</a:t>
            </a:r>
            <a:r>
              <a:rPr b="0" lang="en-US" sz="12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202020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200" spc="-1" strike="noStrike">
                <a:solidFill>
                  <a:srgbClr val="202020"/>
                </a:solidFill>
                <a:latin typeface="Trebuchet MS"/>
                <a:ea typeface="Trebuchet MS"/>
              </a:rPr>
              <a:t>,</a:t>
            </a:r>
            <a:r>
              <a:rPr b="0" lang="en-US" sz="12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202020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200" spc="-1" strike="noStrike">
                <a:solidFill>
                  <a:srgbClr val="202020"/>
                </a:solidFill>
                <a:latin typeface="Trebuchet MS"/>
                <a:ea typeface="Trebuchet MS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УПОЛНОМОЧЕННЫМ ОРГАНОМ ПО СОГЛАСОВАНИЮ С ГОСУДАРСТВЕННЫМИ ОРГАНАМИ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6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СУЩЕСТВЛЯЮЩИМИ В ПРЕДЕЛАХ СВОЕЙ КОМПЕТЕНЦИИ ГОСУДАРСТВЕННЫЙ КОНТРОЛЬ ЗА СОБЛЮДЕНИЯМИ СУБЪЕКТАМИ ФИНАНСОВОГО МОНИТОРИНГА ЗАОНОДАТЕЛЬСТВА РК О ПОД Ф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2.</a:t>
            </a:r>
            <a:r>
              <a:rPr b="0" lang="en-US" sz="15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ЦЕЛЬЮ ПОДГОТОВКИ И ОБУЧЕНИЯ СУБЪЕКТОВ ФИНАНСОВОГО МОНИТОРИНГА ЯВЛЯЕТСЯ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ЛУЧЕНИЕ СУБЪЕКТАМИ ФИНАНСОВОГО МОНИТОРИНГА ЗНАНИЙ В СФЕР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РОТИВОДЕЙСТВИЯ ЛЕГАЛИЗАЦИИ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ТМЫВАНИЮ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ОХОДОВ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ЛУЧЕННЫХ ПРЕСТУПНЫМ ПУТЕМ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 ФИНАНСИРОВАНИЮ ТЕРРОРИЗМА В СООТВЕТСТВИИ С ТРЕБОВАНИЯМИ К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2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СУБЪЕКТАМ ФИНАНСОВОГО МОНИТОРИНГА ПО ПОДГОТОВКЕ И ОБУЧЕНИЮ В СФЕРЕ ПРОТИВОДЕЙСТВИЯ ЛЕГАЛИЗАЦИИ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ТМЫВАНИЮ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ОХОДОВ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ЛУЧЕННЫХ ПРЕСТУПНЫ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УТЕМ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 ФИНАНСИРОВАНИЮ ТЕРРОРИЗМ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НЕОБХОДИМЫХ ИМ ДЛЯ СОБЛЮДЕНИЯ ЗАКОНОДАТЕЛЬСТВА РЕСПУБЛИКИ КАЗАХСТАН О ПРОТИВОДЕЙСТВИИ ЛЕГАЛИЗАЦИИ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ТМЫВАНИЮ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ОХОДОВ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ЛУЧЕННЫХ ПРЕСТУПНЫМ ПУТЕМ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 ФИНАНСИРОВАНИЮ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ТЕРРОРИЗМ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Google Shape;445;p72"/>
          <p:cNvSpPr/>
          <p:nvPr/>
        </p:nvSpPr>
        <p:spPr>
          <a:xfrm>
            <a:off x="0" y="0"/>
            <a:ext cx="1387080" cy="340920"/>
          </a:xfrm>
          <a:custGeom>
            <a:avLst/>
            <a:gdLst>
              <a:gd name="textAreaLeft" fmla="*/ 0 w 1387080"/>
              <a:gd name="textAreaRight" fmla="*/ 1387440 w 1387080"/>
              <a:gd name="textAreaTop" fmla="*/ 0 h 340920"/>
              <a:gd name="textAreaBottom" fmla="*/ 341280 h 340920"/>
            </a:gdLst>
            <a:ahLst/>
            <a:rect l="textAreaLeft" t="textAreaTop" r="textAreaRight" b="textAreaBottom"/>
            <a:pathLst>
              <a:path w="1386840" h="340995">
                <a:moveTo>
                  <a:pt x="366189" y="0"/>
                </a:moveTo>
                <a:lnTo>
                  <a:pt x="0" y="340980"/>
                </a:lnTo>
                <a:lnTo>
                  <a:pt x="236850" y="340980"/>
                </a:lnTo>
                <a:lnTo>
                  <a:pt x="603040" y="0"/>
                </a:lnTo>
                <a:lnTo>
                  <a:pt x="366189" y="0"/>
                </a:lnTo>
              </a:path>
              <a:path w="1386840" h="340995">
                <a:moveTo>
                  <a:pt x="757976" y="0"/>
                </a:moveTo>
                <a:lnTo>
                  <a:pt x="391799" y="340980"/>
                </a:lnTo>
                <a:lnTo>
                  <a:pt x="628649" y="340980"/>
                </a:lnTo>
                <a:lnTo>
                  <a:pt x="994839" y="0"/>
                </a:lnTo>
                <a:lnTo>
                  <a:pt x="757976" y="0"/>
                </a:lnTo>
              </a:path>
              <a:path w="1386840" h="340995">
                <a:moveTo>
                  <a:pt x="1149775" y="0"/>
                </a:moveTo>
                <a:lnTo>
                  <a:pt x="783585" y="340980"/>
                </a:lnTo>
                <a:lnTo>
                  <a:pt x="1021079" y="340980"/>
                </a:lnTo>
                <a:lnTo>
                  <a:pt x="1386647" y="0"/>
                </a:lnTo>
                <a:lnTo>
                  <a:pt x="1149775" y="0"/>
                </a:lnTo>
              </a:path>
            </a:pathLst>
          </a:custGeom>
          <a:solidFill>
            <a:srgbClr val="2020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Google Shape;450;p73"/>
          <p:cNvSpPr/>
          <p:nvPr/>
        </p:nvSpPr>
        <p:spPr>
          <a:xfrm>
            <a:off x="9360" y="576360"/>
            <a:ext cx="7542000" cy="11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3.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КЕМ РАЗРАБАТЫВАЕТСЯ ПРОГРАММА ПОДГОТОВКИ И ОБУЧЕНИЯ В СФЕР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4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200" spc="-1" strike="noStrike">
                <a:solidFill>
                  <a:srgbClr val="202020"/>
                </a:solidFill>
                <a:latin typeface="Lucida Sans"/>
                <a:ea typeface="Lucida Sans"/>
              </a:rPr>
              <a:t>ПРОТИВОДЕЙСТВИЯ ЛЕГАЛИЗАЦИИ </a:t>
            </a:r>
            <a:r>
              <a:rPr b="0" lang="en-US" sz="1200" spc="-1" strike="noStrike">
                <a:solidFill>
                  <a:srgbClr val="202020"/>
                </a:solidFill>
                <a:latin typeface="Trebuchet MS"/>
                <a:ea typeface="Trebuchet MS"/>
              </a:rPr>
              <a:t>(</a:t>
            </a:r>
            <a:r>
              <a:rPr b="0" lang="en-US" sz="1200" spc="-1" strike="noStrike">
                <a:solidFill>
                  <a:srgbClr val="202020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200" spc="-1" strike="noStrike">
                <a:solidFill>
                  <a:srgbClr val="202020"/>
                </a:solidFill>
                <a:latin typeface="Trebuchet MS"/>
                <a:ea typeface="Trebuchet MS"/>
              </a:rPr>
              <a:t>)</a:t>
            </a:r>
            <a:r>
              <a:rPr b="0" lang="en-US" sz="12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202020"/>
                </a:solidFill>
                <a:latin typeface="Lucida Sans"/>
                <a:ea typeface="Lucida Sans"/>
              </a:rPr>
              <a:t>ДОХОДОВ</a:t>
            </a:r>
            <a:r>
              <a:rPr b="0" lang="en-US" sz="1200" spc="-1" strike="noStrike">
                <a:solidFill>
                  <a:srgbClr val="202020"/>
                </a:solidFill>
                <a:latin typeface="Trebuchet MS"/>
                <a:ea typeface="Trebuchet MS"/>
              </a:rPr>
              <a:t>,</a:t>
            </a:r>
            <a:r>
              <a:rPr b="0" lang="en-US" sz="12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202020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200" spc="-1" strike="noStrike">
                <a:solidFill>
                  <a:srgbClr val="202020"/>
                </a:solidFill>
                <a:latin typeface="Trebuchet MS"/>
                <a:ea typeface="Trebuchet MS"/>
              </a:rPr>
              <a:t>,</a:t>
            </a:r>
            <a:r>
              <a:rPr b="0" lang="en-US" sz="12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202020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200" spc="-1" strike="noStrike">
                <a:solidFill>
                  <a:srgbClr val="202020"/>
                </a:solidFill>
                <a:latin typeface="Trebuchet MS"/>
                <a:ea typeface="Trebuchet MS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СУБЪЕКТАМИ ФИНАНСОВОГО МОНИТОРИНГА С УЧЕТОМ ТРЕБОВАНИ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ЗАКОНОДАТЕЛЬСТВА РЕСПУБЛИКИ КАЗАХСТАН О ПРОТИВОДЕЙСТВИИ ЛЕГАЛИЗАЦИИ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ТМЫВАНИЮ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ОХОДОВ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ЛУЧЕННЫХ ПРЕСТУПНЫМ ПУТЕМ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 ФИНАНСИРОВАНИЮ ТЕРРОРИЗМ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А ТАКЖЕ ОСОБЕННОСТЕЙ ДЕЯТЕЛЬНОСТИ СУБЪЕКТОВ ФИНАНСОВОГО МОНИТОРИНГА И ИХ КЛИЕНТО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-95400">
              <a:lnSpc>
                <a:spcPct val="112000"/>
              </a:lnSpc>
              <a:buClr>
                <a:srgbClr val="20202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ОДНА ИЗ ПРОГРАММ ПОДГОТОВКИ И ОБУЧЕНИЯ В СФЕРЕ ПРОТИВОДЕЙСТВИЯ ЛЕГАЛИЗАЦИИ 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ФИНАНСИРОВАНИЮ ТЕРРОРИЗМА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ЗУЧЕНИЕ ТИПОЛОГИЙ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СХЕМ И СПОСОБОВ ЛЕГАЛИЗАЦИИ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ТМЫВАНИЯ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ОХОДОВ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ЛУЧЕННЫХ ПРЕСТУПНЫМ ПУТЕМ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 ФИНАНСИРОВАНИЮ ТЕРРОРИЗМ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А ТАКЖЕ ПРИЗНАКОВ ОПРЕДЕЛЕНИЯ ПОДОЗРИТЕЛЬНЫХ ОПЕРАЦИ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-95400">
              <a:lnSpc>
                <a:spcPct val="146000"/>
              </a:lnSpc>
              <a:buClr>
                <a:srgbClr val="20202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В КАКИХ СЛУЧАЯХ В СООТВЕТСТВИИ С ТРЕБОВАНИЯМИ К СУБЪЕКТАМ ФИНАНСОВОГО МОНИТОРИНГА ПО ПОДГОТОВКЕ И ОБУЧЕНИЮ В СФЕР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ПРОТИВОДЕЙСТВИЯ ЛЕГАЛИЗАЦИИ 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ПОЛУЧЕННЫХ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ПРЕСТУПНЫМ ПУТЕМ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И ФИНАНСИРОВАНИЮ ТЕРРОРИЗМА ПРОВОДИТСЯ ДОПОЛНИТЕЛЬНО ОБУЧЕНИЕ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3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РИ ИЗМЕНЕНИИ ДЕЙСТВУЮЩИХ И ВСТУПЛЕНИИ В СИЛУ НОВЫХ НОРМАТИВНЫХ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РАВОВЫХ АКТОВ РЕСПУБЛИКИ КАЗАХСТАН В ОБЛАСТИ ПРОТИВОДЕЙСТВИЯ ЛЕГАЛИЗАЦИ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ТМЫВАНИЮ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ОХОДОВ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ЛУЧЕННЫХ ПРЕСТУПНЫМ ПУТЕМ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 ФИНАНСИРОВАНИЮ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ТЕРРОРИЗМА И УТВЕРЖДЕНИИ СУБЪЕКТОМ ФИНАНСОВОГО МОНИТОРИНГА НОВЫХ ИЛИ ИЗМЕНЕНИИ ДЕЙСТВУЮЩИХ ПРАВИЛ ВНУТРЕННЕГО КОНТРОЛЯ В ЦЕЛЯХ ПРОТИВОДЕЙСТВИЯ ЛЕГАЛИЗАЦИИ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ТМЫВАНИЮ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ОХОДОВ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ЛУЧЕННЫХ ПРЕСТУПНЫМ ПУТЕМ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 ФИНАНСИРОВАНИЮ ТЕРРОРИЗМА И ПРОГРАММ ИХ ОСУЩЕСТВЛЕНИЯ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-95400">
              <a:lnSpc>
                <a:spcPct val="116000"/>
              </a:lnSpc>
              <a:buClr>
                <a:srgbClr val="20202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КЕМ УТВЕРЖДАЕТСЯ ПЕРЕЧЕНЬ ОТВЕТСТВЕННЫХ ЛИЦ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КОТОРЫЕ ПРОХОДЯТ ОБУЧЕНИЕ В ЦЕЛЯХ ПРОТИВОДЕЙСТВИЯ ЛЕГАЛИЗАЦИИ 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ДО НАЧАЛА ОСУЩЕСТВЛЕ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ИМИ ФУНКЦИЙ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СВЯЗАННЫХ С СОБЛЮДЕНИЕМ ЗАКОНОДАТЕЛЬСТВА РЕСПУБЛИК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6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КАЗАХСТАН О ПРОТИВОДЕЙСТВИЯ ЛЕГАЛИЗАЦИИ 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РУКОВОДИТЕЛЕМ СФ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Google Shape;455;p74"/>
          <p:cNvSpPr/>
          <p:nvPr/>
        </p:nvSpPr>
        <p:spPr>
          <a:xfrm>
            <a:off x="19080" y="576360"/>
            <a:ext cx="751788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324080" indent="-476280">
              <a:lnSpc>
                <a:spcPct val="114000"/>
              </a:lnSpc>
              <a:buClr>
                <a:srgbClr val="202020"/>
              </a:buClr>
              <a:buFont typeface="Trebuchet MS"/>
              <a:buAutoNum type="arabicPeriod" startAt="7"/>
            </a:pP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ОБУЧЕНИЕ СУБЪЕКТОВ ФИНАНСОВОГО МОНИТОРИНГА ПРОВОДЯТ</a:t>
            </a: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324080" indent="-476280" algn="ctr">
              <a:lnSpc>
                <a:spcPct val="114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ЛИЦА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ООТВЕТСТВУЮЩИЕ СЛЕДУЮЩИМ ТРЕБОВАНИЯМ УСТАНОВЛЕННЫХ УПОЛНОМОЧЕННЫ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324080" indent="-47628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РГАНОМПО ФИНАНСИРОВАНИЮ МОНИТОРИНГ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324080" indent="-476280"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324080" indent="-476280">
              <a:lnSpc>
                <a:spcPct val="113000"/>
              </a:lnSpc>
              <a:buClr>
                <a:srgbClr val="202020"/>
              </a:buClr>
              <a:buFont typeface="Trebuchet MS"/>
              <a:buAutoNum type="arabicPeriod" startAt="8"/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КЕМ УСТАНАВЛИВАЕТСЯ ПОРЯДОК УЧЕТА ПРОХОЖДЕНИЯ СОТРУДНИКАМИ СУБЪЕКТА ФИНАНСОВОГО МОНИТОРИНГА ПРОГРАММЫ ОБУЧЕНИЯ</a:t>
            </a: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324080" indent="-47628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УСТАНАВЛИВАЕТСЯ СУБЪЕКТОМ ФИНАНСОВОГО МОНИТОРИНГА САМОСТОЯТЕЛЬ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324080" indent="-476280"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324080" indent="-476280">
              <a:lnSpc>
                <a:spcPct val="112000"/>
              </a:lnSpc>
              <a:tabLst>
                <a:tab algn="l" pos="0"/>
              </a:tabLst>
            </a:pPr>
            <a:r>
              <a:rPr b="0" lang="en-US" sz="1300" spc="-1" strike="noStrike">
                <a:solidFill>
                  <a:srgbClr val="202020"/>
                </a:solidFill>
                <a:latin typeface="Trebuchet MS"/>
                <a:ea typeface="Trebuchet MS"/>
              </a:rPr>
              <a:t>9.</a:t>
            </a:r>
            <a:r>
              <a:rPr b="0" lang="en-US" sz="13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ПРОХОЖДЕНИЕ СУБЪЕКТОМ ФИНАНСОВОГО МОНИТОРИНГА ТЕСТИРОВАНИЯ ПОДТВЕРЖДАЕТСЯ ДОКУМЕНТОМ</a:t>
            </a: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324080" indent="-476280">
              <a:lnSpc>
                <a:spcPct val="114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ЫДАВАЕМЫЙ АКЦИОНЕРНЫМ ОБЩЕСТВОМ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«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НАЦИОНАЛЬНЫЙ ЦЕНТР ПО УПРАВЛЕН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324080" indent="-47628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ЕРСОНАЛОМ ГОСУДАРСТВЕННОЙ СЛУЖБЫ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324080" indent="-47628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324080" indent="-476280">
              <a:lnSpc>
                <a:spcPct val="113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10.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ИНФОРМАЦИЯ О ПРОХОЖДЕНИИ СУБЪЕКТОМ ФИНАНСОВОГО МОНИТОРИНГА ТЕСТИРОВАНИЯ РАЗМЕЩАЕТСЯ </a:t>
            </a: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324080" indent="-476280">
              <a:lnSpc>
                <a:spcPct val="114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 ЛИЧНОМ КАБИНЕТЕ СУБЪЕКТА КОТОРЫЙ РАЗМЕЩЁН В ВЕБ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РТАЛЕ УПОЛНОМОЧЕНН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324080" indent="-47628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РГА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Google Shape;460;p75"/>
          <p:cNvSpPr/>
          <p:nvPr/>
        </p:nvSpPr>
        <p:spPr>
          <a:xfrm>
            <a:off x="122400" y="103320"/>
            <a:ext cx="7310160" cy="37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500" spc="-1" strike="noStrike">
                <a:solidFill>
                  <a:srgbClr val="202020"/>
                </a:solidFill>
                <a:latin typeface="Lucida Sans"/>
                <a:ea typeface="Lucida Sans"/>
              </a:rPr>
              <a:t>ПОДГОТОВКАКАТТЕСТАЦИ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2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600" spc="-1" strike="noStrike">
                <a:solidFill>
                  <a:srgbClr val="202020"/>
                </a:solidFill>
                <a:latin typeface="Lucida Sans"/>
                <a:ea typeface="Lucida Sans"/>
              </a:rPr>
              <a:t>БЛОК</a:t>
            </a:r>
            <a:r>
              <a:rPr b="0" lang="en-US" sz="1600" spc="-1" strike="noStrike">
                <a:solidFill>
                  <a:srgbClr val="202020"/>
                </a:solidFill>
                <a:latin typeface="Trebuchet MS"/>
                <a:ea typeface="Trebuchet MS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</a:tabLst>
            </a:pPr>
            <a:r>
              <a:rPr b="0" i="1" lang="en-US" sz="1800" spc="-1" strike="noStrike">
                <a:solidFill>
                  <a:srgbClr val="ff1515"/>
                </a:solidFill>
                <a:latin typeface="Trebuchet MS"/>
                <a:ea typeface="Trebuchet MS"/>
              </a:rPr>
              <a:t>16</a:t>
            </a:r>
            <a:r>
              <a:rPr b="0" i="1" lang="en-US" sz="18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ff1515"/>
                </a:solidFill>
                <a:latin typeface="Arial"/>
                <a:ea typeface="Arial"/>
              </a:rPr>
              <a:t>ВОПР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800" spc="-1" strike="noStrike">
                <a:solidFill>
                  <a:srgbClr val="ff1515"/>
                </a:solidFill>
                <a:latin typeface="Arial"/>
                <a:ea typeface="Arial"/>
              </a:rPr>
              <a:t>К ПРИКАЗУ МИНИСТРА ФИНАНСОВ РЕСПУБЛИКИ КАЗАХСТАН ОТ </a:t>
            </a:r>
            <a:r>
              <a:rPr b="0" i="1" lang="en-US" sz="1800" spc="-1" strike="noStrike">
                <a:solidFill>
                  <a:srgbClr val="ff1515"/>
                </a:solidFill>
                <a:latin typeface="Trebuchet MS"/>
                <a:ea typeface="Trebuchet MS"/>
              </a:rPr>
              <a:t>4</a:t>
            </a:r>
            <a:r>
              <a:rPr b="0" i="1" lang="en-US" sz="18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ff1515"/>
                </a:solidFill>
                <a:latin typeface="Arial"/>
                <a:ea typeface="Arial"/>
              </a:rPr>
              <a:t>ДЕКАБР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800" spc="-1" strike="noStrike">
                <a:solidFill>
                  <a:srgbClr val="ff1515"/>
                </a:solidFill>
                <a:latin typeface="Trebuchet MS"/>
                <a:ea typeface="Trebuchet MS"/>
              </a:rPr>
              <a:t>2015</a:t>
            </a:r>
            <a:r>
              <a:rPr b="0" i="1" lang="en-US" sz="18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ff1515"/>
                </a:solidFill>
                <a:latin typeface="Arial"/>
                <a:ea typeface="Arial"/>
              </a:rPr>
              <a:t>ГОДА </a:t>
            </a:r>
            <a:r>
              <a:rPr b="0" i="1" lang="en-US" sz="1800" spc="-1" strike="noStrike">
                <a:solidFill>
                  <a:srgbClr val="ff1515"/>
                </a:solidFill>
                <a:latin typeface="Trebuchet MS"/>
                <a:ea typeface="Trebuchet MS"/>
              </a:rPr>
              <a:t>№ 6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4000"/>
              </a:lnSpc>
              <a:tabLst>
                <a:tab algn="l" pos="0"/>
              </a:tabLst>
            </a:pPr>
            <a:r>
              <a:rPr b="0" i="1" lang="en-US" sz="1800" spc="-1" strike="noStrike">
                <a:solidFill>
                  <a:srgbClr val="ff1515"/>
                </a:solidFill>
                <a:latin typeface="Trebuchet MS"/>
                <a:ea typeface="Trebuchet MS"/>
              </a:rPr>
              <a:t>«</a:t>
            </a:r>
            <a:r>
              <a:rPr b="0" i="1" lang="en-US" sz="1800" spc="-1" strike="noStrike">
                <a:solidFill>
                  <a:srgbClr val="ff1515"/>
                </a:solidFill>
                <a:latin typeface="Arial"/>
                <a:ea typeface="Arial"/>
              </a:rPr>
              <a:t>ОБ УТВЕРЖДЕНИИ ПРАВИЛ ВЫПЛАТЫ СРЕДСТВ ФИЗИЧЕСКОМУ ЛИЦУ</a:t>
            </a:r>
            <a:r>
              <a:rPr b="0" i="1" lang="en-US" sz="18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8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ff1515"/>
                </a:solidFill>
                <a:latin typeface="Arial"/>
                <a:ea typeface="Arial"/>
              </a:rPr>
              <a:t>ВКЛЮЧЕННОМУ В ПЕРЕЧЕНЬ ОРГАНИЗАЦИЙ И ЛИЦ</a:t>
            </a:r>
            <a:r>
              <a:rPr b="0" i="1" lang="en-US" sz="18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8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ff1515"/>
                </a:solidFill>
                <a:latin typeface="Arial"/>
                <a:ea typeface="Arial"/>
              </a:rPr>
              <a:t>СВЯЗАННЫХ С ФИНАНСИРОВАНИЕМ ТЕРРОРИЗМА И ЭКСТРЕМИЗМА</a:t>
            </a:r>
            <a:r>
              <a:rPr b="0" i="1" lang="en-US" sz="18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8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ff1515"/>
                </a:solidFill>
                <a:latin typeface="Arial"/>
                <a:ea typeface="Arial"/>
              </a:rPr>
              <a:t>ДЛЯ ОБЕСПЕЧЕНИЯ СВОЕЙ ЖИЗНЕДЕЯТЕЛЬНОСТИ</a:t>
            </a:r>
            <a:r>
              <a:rPr b="0" i="1" lang="en-US" sz="1800" spc="-1" strike="noStrike">
                <a:solidFill>
                  <a:srgbClr val="ff1515"/>
                </a:solidFill>
                <a:latin typeface="Trebuchet MS"/>
                <a:ea typeface="Trebuchet MS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i="1" lang="en-US" sz="1800" spc="-1" strike="noStrike">
                <a:solidFill>
                  <a:srgbClr val="ff1515"/>
                </a:solidFill>
                <a:latin typeface="Arial"/>
                <a:ea typeface="Arial"/>
              </a:rPr>
              <a:t>ПРОФИЛЬНЫЕ БАН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Google Shape;461;p75"/>
          <p:cNvSpPr/>
          <p:nvPr/>
        </p:nvSpPr>
        <p:spPr>
          <a:xfrm>
            <a:off x="36360" y="3778200"/>
            <a:ext cx="7419600" cy="79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49400" indent="-71280" algn="just">
              <a:lnSpc>
                <a:spcPct val="116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1.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КОГДА БЫЛ УТВЕРЖДЕН ПРИКАЗ МИНИСТРА ФИНАНСОВ РЕСПУБЛИКИ КАЗАХСТАН </a:t>
            </a: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"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ОБ УТВЕРЖДЕНИИ ПРАВИЛ ВЫПЛАТЫ СРЕДСТВ ФИЗИЧЕСКОМУ ЛИЦУ</a:t>
            </a: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ВКЛЮЧЕННОМУ В ПЕРЕЧЕНЬ ОРГАНИЗАЦИЙ И ЛИЦ</a:t>
            </a: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СВЯЗАННЫХ С ФИНАНСИРОВАНИЕМ ТЕРРОРИЗМА 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400" indent="-7128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ЭКСТРЕМИЗМА</a:t>
            </a: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ДЛЯ ОБЕСПЕЧЕНИЯ СВОЕЙ ЖИЗНЕДЕЯТЕЛЬНОСТИ</a:t>
            </a: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”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400" indent="-7128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•04.12.2015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400" indent="-71280"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49400" indent="-71280">
              <a:lnSpc>
                <a:spcPct val="116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2.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КОГО ИНФОРМИРУЕТ УПОЛНОМОЧЕННЫЙ ОРГАН ПО ФИНАНСОВОМУ МОНИТОРИНГУ</a:t>
            </a: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ПРИ ПОЛУЧЕНИИ ОТ МИНИСТЕРСТВА ИНОСТРАННЫХ ДЕЛ РЕСПУБЛИКИ КАЗАХСТАН РЕШЕНИЯ КОМИТЕТА СОВЕТА БЕЗОПАСНОСТИ ОРГАНИЗАЦИИ ОБЪЕДИНЕННЫХ НАЦИЙ ОБ ОТКАЗЕ В УДОВЛЕТВОРЕНИИ ЗАЯВЛЕНИЯ О ЧАСТИЧНОЙ ИЛИ ПОЛНОЙ ОТМЕНЕ ПРИМЕНЯЕМЫХ МЕР ПО ЗАМОРАЖИВАНИЮ ОПЕРАЦИЙ С ДЕНЬГАМИ И </a:t>
            </a: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(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ИЛИ</a:t>
            </a: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)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ИНЫ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400" indent="-71280" algn="ctr">
              <a:lnSpc>
                <a:spcPct val="114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ИМУЩЕСТВОМ</a:t>
            </a: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400" indent="-71280" algn="ctr">
              <a:lnSpc>
                <a:spcPct val="114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ФИЗИЧЕСКОГО ЛИЦА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КЛЮЧЕННОГО В ПЕРЕЧЕНЬ ОРГАНИЗАЦИЙ И ЛИЦ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ВЯЗАННЫХ 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400" indent="-7128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ФИНАНСИРОВАНИЕМ ТЕРРОРИЗМА И ЭКСТРЕМИЗ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400" indent="-71280">
              <a:lnSpc>
                <a:spcPct val="1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49400" indent="-71280">
              <a:lnSpc>
                <a:spcPct val="116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3.</a:t>
            </a:r>
            <a:r>
              <a:rPr b="0" i="1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chemeClr val="dk1"/>
                </a:solidFill>
                <a:latin typeface="Arial"/>
                <a:ea typeface="Arial"/>
              </a:rPr>
              <a:t>КАКИЕ ДОКУМЕНТЫ ПРЕДОСТАВЛЯЕТ ФИЗИЧЕСКОЕ ЛИЦО</a:t>
            </a:r>
            <a:r>
              <a:rPr b="0" i="1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chemeClr val="dk1"/>
                </a:solidFill>
                <a:latin typeface="Arial"/>
                <a:ea typeface="Arial"/>
              </a:rPr>
              <a:t>ВКЛЮЧЕННОЕ В ПЕРЕЧЕНЬ ОРГАНИЗАЦИЙ И ЛИЦ</a:t>
            </a:r>
            <a:r>
              <a:rPr b="0" i="1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chemeClr val="dk1"/>
                </a:solidFill>
                <a:latin typeface="Arial"/>
                <a:ea typeface="Arial"/>
              </a:rPr>
              <a:t>СВЯЗАННЫХ С ФИНАНСИРОВАНИЕМ ТЕРРОРИЗМА И ЭКСТРЕМИЗМА</a:t>
            </a:r>
            <a:r>
              <a:rPr b="0" i="1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chemeClr val="dk1"/>
                </a:solidFill>
                <a:latin typeface="Arial"/>
                <a:ea typeface="Arial"/>
              </a:rPr>
              <a:t>Д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400" indent="-7128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chemeClr val="dk1"/>
                </a:solidFill>
                <a:latin typeface="Arial"/>
                <a:ea typeface="Arial"/>
              </a:rPr>
              <a:t>ВЫПЛАТЫ ДЕНЕГ</a:t>
            </a:r>
            <a:r>
              <a:rPr b="0" i="1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chemeClr val="dk1"/>
                </a:solidFill>
                <a:latin typeface="Arial"/>
                <a:ea typeface="Arial"/>
              </a:rPr>
              <a:t>ПОЛУЧЕННЫХ В ВИДЕ ТРУДОВОГО ОТПУСКА И ЗАРАБОТНОЙ ПЛАТЫ</a:t>
            </a:r>
            <a:r>
              <a:rPr b="0" i="1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chemeClr val="dk1"/>
                </a:solidFill>
                <a:latin typeface="Arial"/>
                <a:ea typeface="Arial"/>
              </a:rPr>
              <a:t>ДЛЯ ЧЛЕНОВ СЕМЬИ НЕ ИМЕЮЩИХ САМОСТОЯТЕЛЬНЫХ ИСТОЧНИКОВ ДОХОДА</a:t>
            </a:r>
            <a:r>
              <a:rPr b="0" i="1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400" indent="-7128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–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СЕ ОТВЕТЫ ВЕР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400" indent="-71280">
              <a:lnSpc>
                <a:spcPct val="135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16cc52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1)</a:t>
            </a:r>
            <a:r>
              <a:rPr b="0" i="1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ДОКУМЕНТ</a:t>
            </a:r>
            <a:r>
              <a:rPr b="0" i="1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УДОСТОВЕРЯЮЩИЙ ЛИЧНОСТЬ ЧЛЕНА СЕМЬИ</a:t>
            </a:r>
            <a:r>
              <a:rPr b="0" i="1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А ТАКЖЕ СВИДЕТЕЛЬСТВО О РОЖДЕНИИ ДЛЯ ИДЕНТИФИКАЦИИ РОДСТВА</a:t>
            </a:r>
            <a:r>
              <a:rPr b="0" i="1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400" indent="-71280" algn="ctr">
              <a:lnSpc>
                <a:spcPct val="10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16cc52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2)</a:t>
            </a:r>
            <a:r>
              <a:rPr b="0" i="1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ОРИГИНАЛ СВИДЕТЕЛЬСТВА О БРАКЕ ИЛИ СПРАВКА РЕГИСТРАЦИИ АКТА ГРАЖДАНСК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400" indent="-7128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СОСТОЯНИЯ НА СУПРУГУ </a:t>
            </a:r>
            <a:r>
              <a:rPr b="0" i="1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СУПРУГА</a:t>
            </a:r>
            <a:r>
              <a:rPr b="0" i="1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400" indent="-71280">
              <a:lnSpc>
                <a:spcPct val="114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16cc52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3)</a:t>
            </a:r>
            <a:r>
              <a:rPr b="0" i="1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СПРАВКА О РЕГИСТРАЦИИ В КАЧЕСТВЕ БЕЗРАБОТНОГО НА КАЖДОГО ТРУДОСПОСОБНОГО СОВЕРШЕННОЛЕТНЕГО ЧЛЕНА СЕМЬИ</a:t>
            </a:r>
            <a:r>
              <a:rPr b="0" i="1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Google Shape;462;p75"/>
          <p:cNvSpPr/>
          <p:nvPr/>
        </p:nvSpPr>
        <p:spPr>
          <a:xfrm>
            <a:off x="0" y="0"/>
            <a:ext cx="1387080" cy="340920"/>
          </a:xfrm>
          <a:custGeom>
            <a:avLst/>
            <a:gdLst>
              <a:gd name="textAreaLeft" fmla="*/ 0 w 1387080"/>
              <a:gd name="textAreaRight" fmla="*/ 1387440 w 1387080"/>
              <a:gd name="textAreaTop" fmla="*/ 0 h 340920"/>
              <a:gd name="textAreaBottom" fmla="*/ 341280 h 340920"/>
            </a:gdLst>
            <a:ahLst/>
            <a:rect l="textAreaLeft" t="textAreaTop" r="textAreaRight" b="textAreaBottom"/>
            <a:pathLst>
              <a:path w="1386840" h="340995">
                <a:moveTo>
                  <a:pt x="366189" y="0"/>
                </a:moveTo>
                <a:lnTo>
                  <a:pt x="0" y="340980"/>
                </a:lnTo>
                <a:lnTo>
                  <a:pt x="236850" y="340980"/>
                </a:lnTo>
                <a:lnTo>
                  <a:pt x="603040" y="0"/>
                </a:lnTo>
                <a:lnTo>
                  <a:pt x="366189" y="0"/>
                </a:lnTo>
              </a:path>
              <a:path w="1386840" h="340995">
                <a:moveTo>
                  <a:pt x="757976" y="0"/>
                </a:moveTo>
                <a:lnTo>
                  <a:pt x="391799" y="340980"/>
                </a:lnTo>
                <a:lnTo>
                  <a:pt x="628649" y="340980"/>
                </a:lnTo>
                <a:lnTo>
                  <a:pt x="994839" y="0"/>
                </a:lnTo>
                <a:lnTo>
                  <a:pt x="757976" y="0"/>
                </a:lnTo>
              </a:path>
              <a:path w="1386840" h="340995">
                <a:moveTo>
                  <a:pt x="1149775" y="0"/>
                </a:moveTo>
                <a:lnTo>
                  <a:pt x="783585" y="340980"/>
                </a:lnTo>
                <a:lnTo>
                  <a:pt x="1021079" y="340980"/>
                </a:lnTo>
                <a:lnTo>
                  <a:pt x="1386647" y="0"/>
                </a:lnTo>
                <a:lnTo>
                  <a:pt x="1149775" y="0"/>
                </a:lnTo>
              </a:path>
            </a:pathLst>
          </a:custGeom>
          <a:solidFill>
            <a:srgbClr val="2020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Google Shape;97;p13"/>
          <p:cNvSpPr/>
          <p:nvPr/>
        </p:nvSpPr>
        <p:spPr>
          <a:xfrm>
            <a:off x="82440" y="557280"/>
            <a:ext cx="74545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 indent="77760">
              <a:lnSpc>
                <a:spcPct val="116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10.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В УТВЕРЖДЁННОЙ ТИПОЛОГИЕЙ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«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ВЫЯВЛЕНИЕ КОМПАНИИ ОСУЩЕСТВЛЯЮЩИХ ВЫПИСКУ СЧЕТ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-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ФАКТУР БЕЗ ФАКТИЧЕСКОГО ВЫПОЛНЕНИЯ РАБОТ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КАЗАНИЯ УСЛУГ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ГРУЗКИ ТОВАРОВ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»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ДАНО ОПРЕДЕЛЕНИЕ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«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СОБО КРУПНЫЙ РАЗМЕР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».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НАЗОВИТ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600" indent="77760">
              <a:lnSpc>
                <a:spcPct val="117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УММУ ОСОБО КРУПНОГО РАЗМЕРА ДЛЯ СТАТЬИ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245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УГОЛОВНОГО КОДЕКСА РЕСПУБЛИКИ КАЗАХСТАН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600" indent="77760">
              <a:lnSpc>
                <a:spcPct val="121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УММА НЕ ПОСТУПИВШИХ ПЛАТЕЖЕЙ В БЮДЖЕТ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ЕВЫШАЮЩАЯ СЕМЬДЕСЯТ ПЯТЬ ТЫСЯ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600" indent="77760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МЕСЯЧНЫХ РАСЧЕТНЫХ ПОКАЗАТЕЛЕЙ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Google Shape;98;p13"/>
          <p:cNvSpPr/>
          <p:nvPr/>
        </p:nvSpPr>
        <p:spPr>
          <a:xfrm>
            <a:off x="115920" y="2868480"/>
            <a:ext cx="7303680" cy="27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697120" indent="-2409840">
              <a:lnSpc>
                <a:spcPct val="117000"/>
              </a:lnSpc>
              <a:buClr>
                <a:srgbClr val="000000"/>
              </a:buClr>
              <a:buFont typeface="Trebuchet MS"/>
              <a:buAutoNum type="arabicPeriod" startAt="11"/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ОГДА УТВЕРЖДЕНА ТИПОЛОГИЯ НА ТЕМУ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"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ТЕРРОРИЗМ И ИСТОЧНИКИ ЕГО ФИНАНСИРОВАНИЯ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"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97120" indent="-2409840" algn="ctr">
              <a:lnSpc>
                <a:spcPct val="121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30.09.20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97120" indent="-2409840"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97120" indent="-2409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AutoNum type="arabicPeriod" startAt="12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АКИМ СПОСОБОМ МОГУТ ПЕРЕДАВАТЬСЯ ДЕНЕЖНЫЕ СРЕДСТВА ТЕРРОРИСТАМ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97120" indent="-240984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-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НАРОЧНО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–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НАЛИЧНЫМИ ЧЕРЕЗ ГРАЖДАН КАЗАХСТАН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ВЫЕЗЖАЮЩИХ В ТУРЦИЮ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97120" indent="-2409840">
              <a:lnSpc>
                <a:spcPct val="121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-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УТЕМ ПЕРЕЧИСЛЕНИЯ НА ПЛАСТИКОВЫЕ БАНКОВСКИЕ КАРТЫ БОЕВИКОВ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97120" indent="-2409840" algn="ctr">
              <a:lnSpc>
                <a:spcPct val="121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СРЕДСТВОМ СИСТЕМЫ ДЕНЕЖНЫХ ПЕРЕВОДОВ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Google Shape;99;p13"/>
          <p:cNvSpPr/>
          <p:nvPr/>
        </p:nvSpPr>
        <p:spPr>
          <a:xfrm>
            <a:off x="27000" y="5438880"/>
            <a:ext cx="7499160" cy="59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628640" indent="-1616040">
              <a:lnSpc>
                <a:spcPct val="116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13.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ИЗНАКОМ ПОВЕДЕНИЯ ЧЕЛОВЕКА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ПАВШЕГО ПОД ВЛИЯНИЯ ДЕСТРУКТИВНЫХ РЕЛИГИОЗНЫХ ТЕЧЕНИЙ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“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ВЕРБОВКУ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”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ЯВЛЯЕТСЯ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28640" indent="-1616040" algn="ctr">
              <a:lnSpc>
                <a:spcPct val="121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ЗМЕНИЛИСЬ ПРИВЫЧК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МНОГО ВРЕМЕНИ УДЕЛЯЕТ ЧТЕНИЮ РЕЛИГИОЗНЫХ КНИГ 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28640" indent="-161604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МОЛИТВЕННЫХ ТЕКСТОВ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28640" indent="-161604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ЗМЕНИЛИСЬ ИНТЕРЕСЫ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Н МЕНЬШЕ ИНТЕРЕСУЕТСЯ СЕМЕЙНЫМИ ДЕЛАМ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ТАНОВИТСЯ РАВНОДУШНЫМ К ОБЩЕНИЮ С РОДНЫМИ И ДРУЗЬЯМ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К РАБОТЕ И УЧЕБЕ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28640" indent="-1616040" algn="ctr">
              <a:lnSpc>
                <a:spcPct val="142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ЗМЕНИЛОСЬ ПОВЕДЕНИЕ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НЕАДЕКВАТНО ИЛИ АГРЕССИВНО РЕАГИРУЕТ НА ПОВСЕДНЕВНЫЕ ПРИВЫЧКИ И ВЕЩ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28640" indent="-1616040" algn="ctr">
              <a:lnSpc>
                <a:spcPct val="142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ЗМЕНИЛИСЬ ВЗГЛЯДЫ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ЭМОЦИОНАЛЬНО ИЛИ АГРЕССИВНО РЕАГИРУЕТ НА СУЖДЕНИЯ И МНЕНИЯ ОКРУЖАЮЩИХ ПО ТЕОЛОГИЧЕСКИМ ВОПРОСАМ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ТАРАЕТСЯ В КАЧЕСТВЕ ИСТИН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28640" indent="-1616040" algn="ctr">
              <a:lnSpc>
                <a:spcPct val="10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ЕРНОЙ НАВЯЗАТЬ СВОЮ ТОЧКУ ЗРЕНИЯ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28640" indent="-161604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ЗМЕНИЛСЯ ОБРАЗ ЖИЗН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НЕСМОТРЯ НА ЧТО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БЩЕНИЕ С ДРУЗЬЯМИ И КОЛЛЕГАМИ ПО РАБОТЕ ОГРАНИЧЕНО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ЯВИЛОСЬ МНОЖЕСТВО ТЕЛЕФОННЫХ ЗВОНКОВ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ИСЕМ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ОИСХОДИТ УВЕЛИЧЕНИЕ КОЛИЧЕСТВА ВСТРЕЧ В НЕДЕЛЮ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ОБРАНИЙ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ЕМИНАРОВ Т Т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Д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28640" indent="-161604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ОЗМОЖНЫ ПОЕЗДКИ ПО СТРАНЕ И ЗА ГРАНИЦУ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НЕ СВЯЗАННЫЕ С РАБОТОЙ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28640" indent="-161604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ЗМЕНИЛИСЬ ДЕНЕЖНЫЕ ТРАТЫ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ОИСХОДИТ НЕОПРАВДАННОЕ УВЕЛИЧЕНИЕ ДЕНЕЖНЫХ ТРАТ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КАРМАННЫХ РАСХОДОВ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У ДЕТЕЙ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Google Shape;100;p13"/>
          <p:cNvSpPr/>
          <p:nvPr/>
        </p:nvSpPr>
        <p:spPr>
          <a:xfrm>
            <a:off x="0" y="0"/>
            <a:ext cx="1398240" cy="352080"/>
          </a:xfrm>
          <a:custGeom>
            <a:avLst/>
            <a:gdLst>
              <a:gd name="textAreaLeft" fmla="*/ 0 w 1398240"/>
              <a:gd name="textAreaRight" fmla="*/ 1398600 w 1398240"/>
              <a:gd name="textAreaTop" fmla="*/ 0 h 352080"/>
              <a:gd name="textAreaBottom" fmla="*/ 352440 h 352080"/>
            </a:gdLst>
            <a:ahLst/>
            <a:rect l="textAreaLeft" t="textAreaTop" r="textAreaRight" b="textAreaBottom"/>
            <a:pathLst>
              <a:path w="1398905" h="352425">
                <a:moveTo>
                  <a:pt x="615314" y="0"/>
                </a:moveTo>
                <a:lnTo>
                  <a:pt x="378464" y="0"/>
                </a:lnTo>
                <a:lnTo>
                  <a:pt x="0" y="352409"/>
                </a:lnTo>
                <a:lnTo>
                  <a:pt x="236850" y="352409"/>
                </a:lnTo>
                <a:lnTo>
                  <a:pt x="615314" y="0"/>
                </a:lnTo>
                <a:close/>
              </a:path>
              <a:path w="1398905" h="352425">
                <a:moveTo>
                  <a:pt x="1007114" y="0"/>
                </a:moveTo>
                <a:lnTo>
                  <a:pt x="770250" y="0"/>
                </a:lnTo>
                <a:lnTo>
                  <a:pt x="391799" y="352409"/>
                </a:lnTo>
                <a:lnTo>
                  <a:pt x="628649" y="352409"/>
                </a:lnTo>
                <a:lnTo>
                  <a:pt x="1007114" y="0"/>
                </a:lnTo>
                <a:close/>
              </a:path>
              <a:path w="1398905" h="352425">
                <a:moveTo>
                  <a:pt x="1398900" y="0"/>
                </a:moveTo>
                <a:lnTo>
                  <a:pt x="1162049" y="0"/>
                </a:lnTo>
                <a:lnTo>
                  <a:pt x="783585" y="352409"/>
                </a:lnTo>
                <a:lnTo>
                  <a:pt x="1020449" y="352409"/>
                </a:lnTo>
                <a:lnTo>
                  <a:pt x="1398900" y="0"/>
                </a:lnTo>
                <a:close/>
              </a:path>
            </a:pathLst>
          </a:custGeom>
          <a:solidFill>
            <a:srgbClr val="2020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Google Shape;467;p76"/>
          <p:cNvSpPr/>
          <p:nvPr/>
        </p:nvSpPr>
        <p:spPr>
          <a:xfrm>
            <a:off x="-19080" y="154080"/>
            <a:ext cx="7578360" cy="127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4000" indent="-88920" algn="just">
              <a:lnSpc>
                <a:spcPct val="118000"/>
              </a:lnSpc>
              <a:buClr>
                <a:srgbClr val="000000"/>
              </a:buClr>
              <a:buFont typeface="Trebuchet MS"/>
              <a:buAutoNum type="arabicPeriod" startAt="4"/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В ТЕЧЕНИЕ КАКОГО ВРЕМЕНИ УПОЛНОМОЧЕННЫЙ ОРГАН ПО ФИНАНСОВОМУ МОНИТОРИНГУ СО ДНЯ ПОЛУЧЕНИЯ ЗАЯВЛЕНИЯ О ЧАСТИЧНОЙ ИЛИ ПОЛНОЙ ОТМЕНЕ ПРИМЕНЯЕМЫХ МЕР ПО ЗАМОРАЖИВАНИЮОПЕРАЦИЙС ДЕНЬГАМИИ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ЛИ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НЫМИМУЩЕСТВОМ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НАПРАВЛЯЕТЕГ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4000" indent="-1260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МИНИСТЕРСТВОИНОСТРАННЫХДЕЛРЕСПУБЛИКИ КАЗАХСТАН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4000" indent="-1260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ТЕЧЕНИЕ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3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РАБОЧИХДН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4000" indent="-1260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000" indent="-88920">
              <a:lnSpc>
                <a:spcPct val="121000"/>
              </a:lnSpc>
              <a:buClr>
                <a:srgbClr val="202020"/>
              </a:buClr>
              <a:buFont typeface="Trebuchet MS"/>
              <a:buAutoNum type="arabicPeriod" startAt="5"/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В ТЕЧЕНИЕ КАКОГО ВРЕМЕНИ</a:t>
            </a: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УПОЛНОМОЧЕННЫЙ ОРГАН ПО ФИНАНСОВОМУ МОНИТОРИНГУ ПРИНИМАЕТРЕШЕНИЕО ПРОВЕДЕНИИОПЕРАЦИИЛИБООТКАЗЕ</a:t>
            </a: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4000" indent="-1260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ТЕЧЕНИЕДВАДЦАТИЧЕТЫРЕХЧА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4000" indent="-12600"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4000" indent="-88920">
              <a:lnSpc>
                <a:spcPct val="124000"/>
              </a:lnSpc>
              <a:buClr>
                <a:srgbClr val="000000"/>
              </a:buClr>
              <a:buFont typeface="Trebuchet MS"/>
              <a:buAutoNum type="arabicPeriod" startAt="4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ОГО ИНФОРМИРУЕТ УПОЛНОМОЧЕННЫЙ ОРГАН ПО ФИНАНСОВОМУ МОНИТОРИНГУ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И ПОЛУЧЕНИИОТМИНИСТЕРСТВАИНОСТРАННЫХДЕЛРЕСПУБЛИКИКАЗАХСТАНРЕШ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4000" indent="-12600" algn="ctr">
              <a:lnSpc>
                <a:spcPct val="118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ОМИТЕТА СОВЕТА БЕЗОПАСНОСТИ ОРГАНИЗАЦИИ ОБЪЕДИНЕННЫХ НАЦИЙ ОБ УДОВЛЕТВОРЕНИИ ЗАЯВЛЕНИЯ О ЧАСТИЧНОЙ ИЛИ ПОЛНОЙ ОТМЕНЕ ПРИМЕНЯЕМЫХ МЕР ПО ЗАМОРАЖИВАНИЮОПЕРАЦИЙС ДЕНЬГАМИИ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ЛИ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НЫМИМУЩЕСТВОМ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4000" indent="-1260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ФИЗИЧЕСКОГО ЛИЦА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КЛЮЧЕННОГО В ПЕРЕЧЕНЬ ОРГАНИЗАЦИЙ И ЛИЦ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ВЯЗАННЫХ 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4000" indent="-12600" algn="ctr">
              <a:lnSpc>
                <a:spcPct val="142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ФИНАНСИРОВАНИЕМТЕРРОРИЗМАИЭКСТРЕМИЗМА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АТАКЖЕСООТВЕТСТВУЮЩИЙСУБЪЕКТ ФИНАНСОВОГОМОНИТОРИНГ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4000" indent="-12600"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4000" indent="-12600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7.</a:t>
            </a:r>
            <a:r>
              <a:rPr b="0" i="1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chemeClr val="dk1"/>
                </a:solidFill>
                <a:latin typeface="Arial"/>
                <a:ea typeface="Arial"/>
              </a:rPr>
              <a:t>КАКИЕОПЕРАЦИИС ДЕНЬГАМИИЛИИНЫМИМУЩЕСТВОМСУБЪЕКТФИНАНСОВОГОМОНИТОРИНГ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4000" indent="-12600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chemeClr val="dk1"/>
                </a:solidFill>
                <a:latin typeface="Arial"/>
                <a:ea typeface="Arial"/>
              </a:rPr>
              <a:t>ПРИНИМАЕТСАМОСТОЯТЕЛЬНО</a:t>
            </a:r>
            <a:r>
              <a:rPr b="0" i="1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4000" indent="-1260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chemeClr val="dk1"/>
                </a:solidFill>
                <a:latin typeface="Arial"/>
                <a:ea typeface="Arial"/>
              </a:rPr>
              <a:t>ВСЕОТВЕТЫВЕР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4000" indent="-1260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ПОСОБ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4000" indent="-1260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ПЕНС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4000" indent="-1260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СТИПЕНД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4000" indent="-12600"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4000" indent="-88920">
              <a:lnSpc>
                <a:spcPct val="125000"/>
              </a:lnSpc>
              <a:buClr>
                <a:srgbClr val="000000"/>
              </a:buClr>
              <a:buFont typeface="Trebuchet MS"/>
              <a:buAutoNum type="arabicPeriod" startAt="4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УПОЛНОМОЧЕННЫЙ ОРГАН ПО ФИНАНСОВОМУ МОНИТОРИНГУ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ЗАЯВЛЕНИЕ О ЧАСТИЧНОЙ ИЛИПОЛНОЙ ОТМЕНЕ ПРИМЕНЯЕМЫХМЕР ПО ЗАМОРАЖИВАНИЮ ОПЕРАЦИЙ С ДЕНЬГАМИ 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4000" indent="-1260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ЛИ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НЫМИМУЩЕСТВОМВ ТЕЧЕНИЕ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3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ТРЕХ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РАБОЧИХДНЕЙНАПРАВЛЯЕТВ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4000" indent="-1260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МИНИСТЕРСТВОИНОСТРАННЫХДЕЛРЕСПУБЛИКИКАЗАХСТ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4000" indent="-12600"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4000" indent="-88920">
              <a:lnSpc>
                <a:spcPct val="122000"/>
              </a:lnSpc>
              <a:buClr>
                <a:srgbClr val="000000"/>
              </a:buClr>
              <a:buFont typeface="Trebuchet MS"/>
              <a:buAutoNum type="arabicPeriod" startAt="4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АКИЕ ДОКУМЕНТЫ ПРЕДОСТАВЛЯЕТ ФИЗИЧЕСКОЕ ЛИЦО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ВКЛЮЧЕННОЕ В ПЕРЕЧЕНЬ ОРГАНИЗАЦИЙИ ЛИЦ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ВЯЗАННЫХС ФИНАНСИРОВАНИЕМТЕРРОРИЗМАИ ЭКСТРЕМИЗМА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И ОБРАЩЕНИЯХ В УПОЛНОМОЧЕННЫЙ ОРГАН ПО ФИНАНСОВОМУ МОНИТОРИНГУ С ЗАЯВЛЕНИЕМ О ЧАСТИЧНОЙИЛИ ПОЛНОЙОТМЕНЕПРИМЕНЯЕМЫХМЕР ПО ЗАМОРАЖИВАНИЮОПЕРАЦИЙ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4000" indent="-12600" algn="ctr">
              <a:lnSpc>
                <a:spcPct val="10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ДЕНЬГАМИИ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ЛИ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НЫМИМУЩЕСТВОМ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4000" indent="-12600" algn="ctr">
              <a:lnSpc>
                <a:spcPct val="120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КОПИЯ ДОКУМЕНТА</a:t>
            </a:r>
            <a:r>
              <a:rPr b="0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УДОСТОВЕРЯЮЩЕГОЛИЧНОСТЬФИЗИЧЕСКОГОЛИЦА</a:t>
            </a:r>
            <a:r>
              <a:rPr b="0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ВКЛЮЧЕННОГО В ПЕРЕЧЕНЬ ОРГАНИЗАЦИЙ И ЛИЦ</a:t>
            </a:r>
            <a:r>
              <a:rPr b="0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СВЯЗАННЫХ С ФИНАНСИРОВАНИЕМ ТЕРРОРИЗМА И ЭКСТРЕМИЗМА</a:t>
            </a:r>
            <a:r>
              <a:rPr b="0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И КОПИЯДОКУМЕНТА</a:t>
            </a:r>
            <a:r>
              <a:rPr b="0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УДОСТОВЕРЯЮЩЕГОНАЛИЧИЕБАНКОВСКОГОСЧ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4000" indent="-12600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РЕКВИЗИТ</a:t>
            </a:r>
            <a:r>
              <a:rPr b="0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),</a:t>
            </a: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ИСПОЛЬЗУЕМОГОДЛЯСНЯТИЯДЕНЕ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Google Shape;472;p77"/>
          <p:cNvSpPr/>
          <p:nvPr/>
        </p:nvSpPr>
        <p:spPr>
          <a:xfrm>
            <a:off x="63360" y="144360"/>
            <a:ext cx="7437240" cy="713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752560" indent="-2682720">
              <a:lnSpc>
                <a:spcPct val="125000"/>
              </a:lnSpc>
              <a:buClr>
                <a:srgbClr val="000000"/>
              </a:buClr>
              <a:buFont typeface="Trebuchet MS"/>
              <a:buAutoNum type="arabicPeriod" startAt="10"/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МИНИСТЕРСТВОИНОСТРАННЫХДЕЛРК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ЗАЯВЛЕНИЕО ЧАСТИЧНОЙИЛИПОЛНОЙОТМЕНЕ ПРИМЕНЯЕМЫХМЕРП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52560" indent="-268272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ЗАМОРАЖИВАНИЮОПЕРАЦИЙС ДЕНЬГАМИ И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ЛИ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НЫМ ИМУЩЕСТВОМНАПРАВЛЯЕТВ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52560" indent="-268272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ООТВЕТСТВУЮЩИЙКОМИТЕТСОВЕТБЕЗОПАСНОСТИОРГАНИЗАЦИИОБЪЕДИНЕННЫХНАЦ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52560" indent="-268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AutoNum type="arabicPeriod" startAt="11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ЧЛЕНЫСЕМЬИЭТО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52560" indent="-268272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УПРУГА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УПРУГ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)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ОВМЕСТНЫЕ ИЛИ ОДНОГО ИЗ СУПРУГОВ НЕСОВЕРШЕННОЛЕТНИЕ ДЕТИ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 Т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52560" indent="-2682720" algn="ctr">
              <a:lnSpc>
                <a:spcPct val="142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ЧИСЛЕУСЫНОВЛЕННЫЕ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НАХОДЯЩИЕСЯНАИЖДИВЕНИИИЛИПОДОПЕКОЙ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ПЕЧИТЕЛЬСТВОМ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)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РОДИТЕЛИИРОДИТЕЛИСУПРУГА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УПРУГ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),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НАХОДЯЩИЕСЯНАИЖДИВЕНИ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52560" indent="-2682720">
              <a:lnSpc>
                <a:spcPct val="124000"/>
              </a:lnSpc>
              <a:buClr>
                <a:srgbClr val="000000"/>
              </a:buClr>
              <a:buFont typeface="Trebuchet MS"/>
              <a:buAutoNum type="arabicPeriod" startAt="10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В ТЕЧЕНИЕ КАКОГО ВРЕМЕНИ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УПОЛНОМОЧЕННЫЙ ОРГАН ПО ФИНАНСОВОМУ МОНИТОРИНГУ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НФОРМИРУЕТ ФИЗИЧЕСКОГО ЛИЦА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ВКЛЮЧЕННОМУ В ПЕРЕЧ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52560" indent="-268272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РГАНИЗАЦИЙИ ЛИЦ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ВЯЗАННЫХС ФИНАНСИРОВАНИЕМТЕРРОРИЗМАИ ЭКСТРЕМИЗМА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52560" indent="-2682720" algn="ctr">
              <a:lnSpc>
                <a:spcPct val="119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ИИ ОТ МИНИСТЕРСТВА ИНОСТРАННЫХ ДЕЛ РЕСПУБЛИКИ КАЗАХСТАН РЕШЕНИЯ КОМИТЕТА СОВЕТА БЕЗОПАСНОСТИ ОРГАНИЗАЦИИ ОБЪЕДИНЕННЫХ НАЦИЙ ОБ ОТКАЗЕ В УДОВЛЕТВОРЕНИИЗАЯВЛЕНИЯО ЧАСТИЧНОЙИЛИ ПОЛНОЙОТМЕНЕПРИМЕНЯЕМЫХМЕР ПО ЗАМОРАЖИВАНИЮОПЕРАЦИЙС ДЕНЬГАМИИ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ЛИ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НЫМИМУЩЕСТВОМ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52560" indent="-268272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НЕ ПОЗДНЕЕ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1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ДНОГО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РАБОЧЕГО ДНЯ СО ДНЯ ЕГО ПОЛУЧ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Google Shape;473;p77"/>
          <p:cNvSpPr/>
          <p:nvPr/>
        </p:nvSpPr>
        <p:spPr>
          <a:xfrm>
            <a:off x="-12600" y="4253040"/>
            <a:ext cx="180720" cy="4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1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Google Shape;474;p77"/>
          <p:cNvSpPr/>
          <p:nvPr/>
        </p:nvSpPr>
        <p:spPr>
          <a:xfrm>
            <a:off x="1346040" y="4253040"/>
            <a:ext cx="5054400" cy="8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ЧТОЯВЛЯЕТСЯОСНОВАНИЕМДЛЯОТКАЗАВ ПОЛУЧЕНИИДЕНЕГ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ВТОРНОЕПОЛУЧЕНИЕДЕНЕГВТЕЧЕНИЕКАЛЕНДАРНОГОМЕСЯЦ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Google Shape;475;p77"/>
          <p:cNvSpPr/>
          <p:nvPr/>
        </p:nvSpPr>
        <p:spPr>
          <a:xfrm>
            <a:off x="0" y="5022720"/>
            <a:ext cx="7516440" cy="70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30120" indent="-22320">
              <a:lnSpc>
                <a:spcPct val="100000"/>
              </a:lnSpc>
              <a:buClr>
                <a:srgbClr val="000000"/>
              </a:buClr>
              <a:buFont typeface="Trebuchet MS"/>
              <a:buAutoNum type="arabicPeriod" startAt="14"/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ЕРЕЧЕНЬ ОРГАНИЗАЦИЙ И ЛИЦ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ВЯЗАННЫХ С ФИНАНСИРОВАНИЕМ ТЕРРОРИЗМА 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800" indent="2232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ЭКСТРЕМИЗМАЭТО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800" indent="22320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ПИСОК ОРГАНИЗАЦИЙ И ЛИЦ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ВЯЗАННЫХ С ФИНАНСИРОВАНИЕМ ТЕРРОРИЗМА И ЭКСТРЕМИЗМА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800" indent="22320" algn="ctr">
              <a:lnSpc>
                <a:spcPct val="142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ОСТАВЛЯЕМЫЙИРАЗМЕЩАЕМЫЙУПОЛНОМОЧЕННЫМОРГАНОМНАИНТЕРНЕТ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РЕСУРСЕКОМИТЕТАПО ФИНАНСОВОМУМОНИТОРИНГУМИНИСТЕРСТВАФИНАНСОВРЕСПУБЛИКИКАЗАХСТ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800" indent="2232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0120" indent="-22320">
              <a:lnSpc>
                <a:spcPct val="120000"/>
              </a:lnSpc>
              <a:buClr>
                <a:srgbClr val="000000"/>
              </a:buClr>
              <a:buFont typeface="Trebuchet MS"/>
              <a:buAutoNum type="arabicPeriod" startAt="15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АКИЕВЫПЛАТЫДЕНЕГ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МОЖНОПРОИЗВОДИТЬСУБЪЕКТАМФИНАНСОВОГОМОНИТОРИНГА ФИЗИЧЕСКОМУЛИЦУ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ВКЛЮЧЕННОМУВ ПЕРЕЧЕНЬОРГАНИЗАЦИЙИ ЛИЦ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ВЯЗАННЫХ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800" indent="22320" algn="ctr">
              <a:lnSpc>
                <a:spcPct val="120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ФИНАНСИРОВАНИЕМ ТЕРРОРИЗМА И ЭКСТРЕМИЗМА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СЛЕ ПОЛУЧЕНИЯ РЕШЕНИЯ УПОЛНОМОЧЕННОГООРГАНАПОФИНАНСОВОМУМОНИТОРИНГУ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800" indent="2232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ВЫПЛАТЫДЕНЕГВВИДЕТРУДОВОГООТПУСКАИЛИЗАРАБОТНОЙПЛА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0120" indent="-22320">
              <a:lnSpc>
                <a:spcPct val="121000"/>
              </a:lnSpc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В ТЕЧЕНИЕКАКОГОВРЕМЕНИ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УПОЛНОМОЧЕННЫЙОРГАНПО ФИНАНСОВОМУ МОНИТОРИНГУ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НФОРМИРУЕТ ФИЗИЧЕСКОГО ЛИЦА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ВКЛЮЧЕННОГО В ПЕРЕЧЕ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800" indent="2232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РГАНИЗАЦИЙИ ЛИЦ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ВЯЗАННЫХС ФИНАНСИРОВАНИЕМТЕРРОРИЗМАИ ЭКСТРЕМИЗМА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800" indent="22320" algn="ctr">
              <a:lnSpc>
                <a:spcPct val="120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ООТВЕТСТВУЮЩИЙ СУБЪЕКТ ФИНАНСОВОГО МОНИТОРИНГА ПРИ ПОЛУЧЕНИИ ОТ МИНИСТЕРСТВА ИНОСТРАННЫХ ДЕЛ РЕСПУБЛИКИ КАЗАХСТАН РЕШЕНИЯ КОМИТЕТА СОВЕТА БЕЗОПАСНОСТИОРГАНИЗАЦИИОБЪЕДИНЕННЫХНАЦИЙОБ УДОВЛЕТВОРЕНИИЗАЯВЛЕНИЯО ЧАСТИЧНОЙИЛИПОЛНОЙОТМЕНЕПРИМЕНЯЕМЫХМЕРП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800" indent="2232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ЗАМОРАЖИВАНИЮОПЕРАЦИЙ С ДЕНЬГАМИ И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ЛИ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НЫМ ИМУЩЕСТВОМ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800" indent="2232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НЕ ПОЗДНЕЕ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1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ДНОГО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РАБОЧЕГО ДНЯ СО ДНЯ ЕГО ПОЛУЧ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Google Shape;480;p78"/>
          <p:cNvSpPr/>
          <p:nvPr/>
        </p:nvSpPr>
        <p:spPr>
          <a:xfrm>
            <a:off x="538200" y="103320"/>
            <a:ext cx="6467040" cy="268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500" spc="-1" strike="noStrike">
                <a:solidFill>
                  <a:srgbClr val="202020"/>
                </a:solidFill>
                <a:latin typeface="Lucida Sans"/>
                <a:ea typeface="Lucida Sans"/>
              </a:rPr>
              <a:t>ПОДГОТОВКАКАТТЕСТАЦИ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2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600" spc="-1" strike="noStrike">
                <a:solidFill>
                  <a:srgbClr val="202020"/>
                </a:solidFill>
                <a:latin typeface="Lucida Sans"/>
                <a:ea typeface="Lucida Sans"/>
              </a:rPr>
              <a:t>БЛОК</a:t>
            </a:r>
            <a:r>
              <a:rPr b="0" lang="en-US" sz="1600" spc="-1" strike="noStrike">
                <a:solidFill>
                  <a:srgbClr val="202020"/>
                </a:solidFill>
                <a:latin typeface="Trebuchet MS"/>
                <a:ea typeface="Trebuchet MS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1000"/>
              </a:lnSpc>
              <a:tabLst>
                <a:tab algn="l" pos="0"/>
              </a:tabLst>
            </a:pPr>
            <a:r>
              <a:rPr b="0" i="1" lang="en-US" sz="1800" spc="-1" strike="noStrike">
                <a:solidFill>
                  <a:srgbClr val="ff1515"/>
                </a:solidFill>
                <a:latin typeface="Trebuchet MS"/>
                <a:ea typeface="Trebuchet MS"/>
              </a:rPr>
              <a:t>10</a:t>
            </a:r>
            <a:r>
              <a:rPr b="0" i="1" lang="en-US" sz="18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ff1515"/>
                </a:solidFill>
                <a:latin typeface="Arial"/>
                <a:ea typeface="Arial"/>
              </a:rPr>
              <a:t>ВОПРОСОВ ПО ВЗАИМНОЙ ОЦЕН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1.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КАКАЯ ОСНОВНАЯ ЦЕЛЬ ВЗАИМНЫХ ОЦЕНОК</a:t>
            </a: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Trebuchet MS"/>
                <a:ea typeface="Trebuchet MS"/>
              </a:rPr>
              <a:t>1.</a:t>
            </a:r>
            <a:r>
              <a:rPr b="0" i="1" lang="en-US" sz="13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ЦЕНКА УРОВНЯ ЭФФЕКТИВНОСТИ НАЦИОНАЛЬНОЙ СИСТЕМ ПРОТИВОДЕЙСТВ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ТМЫВАНИЮ ДЕНЕГ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 ФИНАНСИРОВАНИЮ ТЕРРОРИЗМА И ФИНАНСИРОВАН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РАСПРОСТРАНЕНИЯ ОРУЖИЯ МАССОВОГО УНИЧТОЖ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Google Shape;481;p78"/>
          <p:cNvSpPr/>
          <p:nvPr/>
        </p:nvSpPr>
        <p:spPr>
          <a:xfrm>
            <a:off x="600120" y="2552760"/>
            <a:ext cx="643068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723960">
              <a:lnSpc>
                <a:spcPct val="114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2.</a:t>
            </a:r>
            <a:r>
              <a:rPr b="0" i="1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КАКАЯ ОРГАНИЗАЦИЯ ПРОВОДИТ ВЗАИМНУЮ ОЦЕНКУ</a:t>
            </a: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?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23960">
              <a:lnSpc>
                <a:spcPct val="114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ГРУППА РАЗРАБОТКИ ФИНАНСОВЫХ МЕР ПО БОРЬБЕ С ОТМЫВАНИЕМ ДЕНЕГ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ФАТФ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Google Shape;482;p78"/>
          <p:cNvSpPr/>
          <p:nvPr/>
        </p:nvSpPr>
        <p:spPr>
          <a:xfrm>
            <a:off x="-12600" y="2773440"/>
            <a:ext cx="1141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Trebuchet MS"/>
                <a:ea typeface="Trebuchet MS"/>
              </a:rPr>
              <a:t>1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Google Shape;483;p78"/>
          <p:cNvSpPr/>
          <p:nvPr/>
        </p:nvSpPr>
        <p:spPr>
          <a:xfrm>
            <a:off x="-12600" y="3306600"/>
            <a:ext cx="1108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</a:tabLst>
            </a:pPr>
            <a:r>
              <a:rPr b="0" lang="en-US" sz="1300" spc="-1" strike="noStrike">
                <a:solidFill>
                  <a:srgbClr val="202020"/>
                </a:solidFill>
                <a:latin typeface="Trebuchet MS"/>
                <a:ea typeface="Trebuchet MS"/>
              </a:rPr>
              <a:t>3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Google Shape;484;p78"/>
          <p:cNvSpPr/>
          <p:nvPr/>
        </p:nvSpPr>
        <p:spPr>
          <a:xfrm>
            <a:off x="90360" y="3295800"/>
            <a:ext cx="7359120" cy="40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35000" algn="ctr">
              <a:lnSpc>
                <a:spcPct val="100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ВЗАИМНУЮ ОЦЕНКУ РЕСПУБЛИКИ КАЗАХСТАН ПРОВОДИТ</a:t>
            </a: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: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3500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ЕВРАЗИЙСКАЯ ГРУППА ПО ПРОТИВОДЕЙСТВИЮ ЛЕГАЛИЗАЦИИ ПРЕСТУПНЫХ ДОХОДОВ 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3500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ФИНАНСИРОВАНИЮ ТЕРРОРИЗМА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35000" indent="-88920">
              <a:lnSpc>
                <a:spcPct val="115000"/>
              </a:lnSpc>
              <a:spcBef>
                <a:spcPts val="201"/>
              </a:spcBef>
              <a:buClr>
                <a:srgbClr val="202020"/>
              </a:buClr>
              <a:buFont typeface="Trebuchet MS"/>
              <a:buAutoNum type="arabicPeriod" startAt="4"/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ПРИ ПРОВЕДЕНИИ ВЗАИМНОЙ ОЦЕНКИ РЕСПУБЛИКИ КАЗАХСТАН БУДУТ ПРИНИМАТЬ УЧАСТИЕ</a:t>
            </a: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35000">
              <a:lnSpc>
                <a:spcPct val="116000"/>
              </a:lnSpc>
              <a:tabLst>
                <a:tab algn="l" pos="0"/>
              </a:tabLst>
            </a:pPr>
            <a:r>
              <a:rPr b="0" lang="en-US" sz="13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ГОСУДАРСТВЕННЫЕ ОРГАНЫ</a:t>
            </a:r>
            <a:r>
              <a:rPr b="0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ПРАВООХРАНИТЕЛЬНЫЕ И СПЕЦИАЛЬНЫЕ ГОСУДАРСТВЕННЫЕ ОРГАНЫ</a:t>
            </a:r>
            <a:r>
              <a:rPr b="0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СУБЪЕКТЫ ФИНАНСОВОГО МОНИТОРИНГА И НАДЗОР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35000" algn="ctr">
              <a:lnSpc>
                <a:spcPct val="142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ОРГАНЫ</a:t>
            </a:r>
            <a:r>
              <a:rPr b="0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САМОРЕГУЛИРУЕМЫЕ ОРГАНИЗАЦИИ</a:t>
            </a:r>
            <a:r>
              <a:rPr b="0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ПОДРАЗДЕЛЕНИЕ ФИНАНСОВОЙ РАЗВЕД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35000" indent="-88920">
              <a:lnSpc>
                <a:spcPct val="100000"/>
              </a:lnSpc>
              <a:spcBef>
                <a:spcPts val="99"/>
              </a:spcBef>
              <a:buClr>
                <a:srgbClr val="202020"/>
              </a:buClr>
              <a:buFont typeface="Trebuchet MS"/>
              <a:buAutoNum type="arabicPeriod" startAt="4"/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К ИДЕНТИФИКАЦИОННЫМ ДАННЫМ СОГЛАСНО МЕТОДОЛОГИИ ОЦЕН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35000" algn="ctr">
              <a:lnSpc>
                <a:spcPct val="107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ТЕХНИЧЕСКОГО СООТВЕТСТВИЯ РЕКОМЕНДАЦИЯМ ГРУППЫ РАЗРАБОТКИ ФИНАНСОВЫХ МЕР БОРЬБЫ С ОТМЫВАНИЕМ ДЕНЕГ ОТНОСЯТСЯ</a:t>
            </a: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35000">
              <a:lnSpc>
                <a:spcPct val="142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3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ДОКУМЕНТЫ</a:t>
            </a:r>
            <a:r>
              <a:rPr b="0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ДАННЫЕ ИЛИ ИНФОРМАЦИЯ ИЗ НАДЕЖНОГО</a:t>
            </a:r>
            <a:r>
              <a:rPr b="0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НЕЗАВИСИМОГО ИСТОЧН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Google Shape;485;p78"/>
          <p:cNvSpPr/>
          <p:nvPr/>
        </p:nvSpPr>
        <p:spPr>
          <a:xfrm>
            <a:off x="101520" y="7008840"/>
            <a:ext cx="7335360" cy="43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84320" indent="-88920">
              <a:lnSpc>
                <a:spcPct val="114000"/>
              </a:lnSpc>
              <a:buClr>
                <a:srgbClr val="000000"/>
              </a:buClr>
              <a:buFont typeface="Trebuchet MS"/>
              <a:buAutoNum type="arabicPeriod" startAt="6"/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ФИНАНСОВЫЕ УЧРЕЖДЕНИЯ И УСТАНОВЛЕННЫЕ НЕФИНАНСОВЫЕ ПРОФЕССИИ И ПРЕДПРИЯТИЯ ОБЯЗАНЫ ПРИНИМАТЬ СООТВЕТСТВУЮЩИЕ МЕРЫ ПО ВЫЯВЛЕНИЮ И ОЦЕНКЕ СВОИХ РИСКОВ ОТМЫВАНИЯ ДЕНЕГ И ФИНАНСИРОВАНИЯ ТЕРРОРИЗМА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5400" indent="88920" algn="ctr">
              <a:lnSpc>
                <a:spcPct val="114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ОТОРЫМ ОТНОСЯТСЯ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5400" indent="88920" algn="ctr">
              <a:lnSpc>
                <a:spcPct val="114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ДОКУМЕНТИРОВАНИЕ СВОИХ ОЦЕНОК РИСКА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ПРЕДЕЛЕНИЕ УРОВНЯ РИСКА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ИД СНИЖ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5400" indent="88920" algn="ctr">
              <a:lnSpc>
                <a:spcPct val="142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РИСКА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ДДЕРЖАНИЕ СВОИХ ОЦЕНОК В АКТУАЛЬНОМ СОСТОЯНИ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МЕТЬ МЕХАНИЗМЫ ДЛЯ ПРЕДОСТАВЛЕНИЯ ИНФОРМАЦИИ ОБ ОЦЕНКЕ РИСКОВ КОМПЕТЕНТНЫМ ОРГАНА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5400" indent="8892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4320" indent="-88920">
              <a:lnSpc>
                <a:spcPct val="113000"/>
              </a:lnSpc>
              <a:buClr>
                <a:srgbClr val="20202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ЕВРАЗИЙСКАЯ ГРУППА ПО ПРОТИВОДЕЙСТВИЮ ОТМЫВАНИЯ ДЕНЕГ И ФИНАНСИРОВАНИЯ ТЕРРОРИЗМА ПРИЗНАЕТ РЕЗУЛЬТАТЫ ВЗАИМНЫХ ОЦЕНОК</a:t>
            </a: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5400" indent="88920" algn="ctr">
              <a:lnSpc>
                <a:spcPct val="114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ПРОВЕДЕННЫХ</a:t>
            </a: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5400" indent="88920">
              <a:lnSpc>
                <a:spcPct val="114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ГРУППОЙ РАЗРАБОТКИ ФИНАНСОВЫХ МЕР БОРЬБЫ С ОТМЫВАНИЕМ ДЕНЕГ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РЕГИОНАЛЬНЫ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5400" indent="8892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ГРУППАМ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МЕЖДУНАРОДНЫМ ВАЛЮТНЫМ ФОНДОМ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СЕМИРНЫМ БАНК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Google Shape;486;p78"/>
          <p:cNvSpPr/>
          <p:nvPr/>
        </p:nvSpPr>
        <p:spPr>
          <a:xfrm>
            <a:off x="0" y="0"/>
            <a:ext cx="1387080" cy="340920"/>
          </a:xfrm>
          <a:custGeom>
            <a:avLst/>
            <a:gdLst>
              <a:gd name="textAreaLeft" fmla="*/ 0 w 1387080"/>
              <a:gd name="textAreaRight" fmla="*/ 1387440 w 1387080"/>
              <a:gd name="textAreaTop" fmla="*/ 0 h 340920"/>
              <a:gd name="textAreaBottom" fmla="*/ 341280 h 340920"/>
            </a:gdLst>
            <a:ahLst/>
            <a:rect l="textAreaLeft" t="textAreaTop" r="textAreaRight" b="textAreaBottom"/>
            <a:pathLst>
              <a:path w="1386840" h="340995">
                <a:moveTo>
                  <a:pt x="366189" y="0"/>
                </a:moveTo>
                <a:lnTo>
                  <a:pt x="0" y="340980"/>
                </a:lnTo>
                <a:lnTo>
                  <a:pt x="236850" y="340980"/>
                </a:lnTo>
                <a:lnTo>
                  <a:pt x="603040" y="0"/>
                </a:lnTo>
                <a:lnTo>
                  <a:pt x="366189" y="0"/>
                </a:lnTo>
              </a:path>
              <a:path w="1386840" h="340995">
                <a:moveTo>
                  <a:pt x="757976" y="0"/>
                </a:moveTo>
                <a:lnTo>
                  <a:pt x="391799" y="340980"/>
                </a:lnTo>
                <a:lnTo>
                  <a:pt x="628649" y="340980"/>
                </a:lnTo>
                <a:lnTo>
                  <a:pt x="994839" y="0"/>
                </a:lnTo>
                <a:lnTo>
                  <a:pt x="757976" y="0"/>
                </a:lnTo>
              </a:path>
              <a:path w="1386840" h="340995">
                <a:moveTo>
                  <a:pt x="1149775" y="0"/>
                </a:moveTo>
                <a:lnTo>
                  <a:pt x="783585" y="340980"/>
                </a:lnTo>
                <a:lnTo>
                  <a:pt x="1021079" y="340980"/>
                </a:lnTo>
                <a:lnTo>
                  <a:pt x="1386647" y="0"/>
                </a:lnTo>
                <a:lnTo>
                  <a:pt x="1149775" y="0"/>
                </a:lnTo>
              </a:path>
            </a:pathLst>
          </a:custGeom>
          <a:solidFill>
            <a:srgbClr val="2020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Google Shape;491;p79"/>
          <p:cNvSpPr/>
          <p:nvPr/>
        </p:nvSpPr>
        <p:spPr>
          <a:xfrm>
            <a:off x="15840" y="868320"/>
            <a:ext cx="752292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30120">
              <a:lnSpc>
                <a:spcPct val="100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8.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РЕЗУЛЬТАТЫ ВЗАИМНОЙ ОЦЕНКИ РЕСПУБЛИКИ КАЗАХСТАН УТВЕРЖДАЮТСЯ НА</a:t>
            </a: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0120" indent="-88920">
              <a:lnSpc>
                <a:spcPct val="100000"/>
              </a:lnSpc>
              <a:buClr>
                <a:srgbClr val="ff1515"/>
              </a:buClr>
              <a:buFont typeface="Trebuchet MS"/>
              <a:buChar char="•"/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ЛАНАРНЫХ ЗАСЕДАНИЯХ ЕВРАЗИЙСКОЙ ГРУППЫ ПО ПРОТИВОДЕЙСТВИЮ ЛЕГАЛИЗ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012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ЕСТУПНЫХ ДОХОДОВ И ФИНАНСИРОВАНИЮ ТЕРРОРИЗ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0120"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2081160" indent="-1579680">
              <a:lnSpc>
                <a:spcPct val="113000"/>
              </a:lnSpc>
              <a:buClr>
                <a:srgbClr val="202020"/>
              </a:buClr>
              <a:buFont typeface="Trebuchet MS"/>
              <a:buAutoNum type="arabicPeriod" startAt="9"/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ПО ИТОГАМ ОБСУЖДЕНИЯ И УТВЕРЖДЕНИЯ ОТЧЕТОВ О ВЗАИМНОЙ ОЦЕНКЕ ГОСУДАРСТВО МОЖЕТ ПОСТАВЛЕНО НА</a:t>
            </a: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0120">
              <a:lnSpc>
                <a:spcPct val="114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ТАНДАРТНЫЙ МОНИТОРИНГ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УСИЛЕННЫЙ МОНИТОРИН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0120"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81160" indent="-1579680">
              <a:lnSpc>
                <a:spcPct val="100000"/>
              </a:lnSpc>
              <a:spcBef>
                <a:spcPts val="901"/>
              </a:spcBef>
              <a:buClr>
                <a:srgbClr val="202020"/>
              </a:buClr>
              <a:buFont typeface="Trebuchet MS"/>
              <a:buAutoNum type="arabicPeriod" startAt="9"/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ЗАДАЧАМИ ОЦЕНКИ ЭФФЕКТИВНОСТИ ЯВЛЯЮТСЯ</a:t>
            </a: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0120">
              <a:lnSpc>
                <a:spcPct val="100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УСИЛИТЬ ОРИЕНТАЦИЮ ГРУППЫ РАЗРАБОТКИ ФИНАНСОВЫХ МЕР БОРЬБЫ С ОТМЫВАНИ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0120" algn="ctr">
              <a:lnSpc>
                <a:spcPct val="10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ДЕНЕГ НА РЕЗУЛЬТАТЫ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УСТАНОВИТЬ СТЕПЕНЬ ДОСТИЖЕНИЯ НАЦИОНАЛЬНОЙ СИСТЕ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012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ОТИВОДЕЙСТВИЯ ОТМЫВАНИЯ ДЕНЕГ И ФИНАНСИРОВАНИЯ ТЕРРОРИЗМА ЦЕЛЕЙ СТАНДАРТОВ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 ОПРЕДЕЛИТЬ СЛАБЫЕ СТОРОНЫ СИСТЕМЫ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ЕДОСТАВИТЬ ВОЗМОЖНОСТЬ СТРАНА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012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ПРЕДЕЛЯТЬ ПРИОРИТЕТЫ МЕРОПРИЯТИЙ ПО СОВЕРШЕНСТВОВАНИЮ СВОЕЙ СИСТЕ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Google Shape;496;p80"/>
          <p:cNvSpPr/>
          <p:nvPr/>
        </p:nvSpPr>
        <p:spPr>
          <a:xfrm>
            <a:off x="4680" y="103320"/>
            <a:ext cx="7546680" cy="34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500" spc="-1" strike="noStrike">
                <a:solidFill>
                  <a:srgbClr val="202020"/>
                </a:solidFill>
                <a:latin typeface="Lucida Sans"/>
                <a:ea typeface="Lucida Sans"/>
              </a:rPr>
              <a:t>ПОДГОТОВКАКАТТЕСТАЦИ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2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600" spc="-1" strike="noStrike">
                <a:solidFill>
                  <a:srgbClr val="202020"/>
                </a:solidFill>
                <a:latin typeface="Lucida Sans"/>
                <a:ea typeface="Lucida Sans"/>
              </a:rPr>
              <a:t>БЛОК</a:t>
            </a:r>
            <a:r>
              <a:rPr b="0" lang="en-US" sz="1600" spc="-1" strike="noStrike">
                <a:solidFill>
                  <a:srgbClr val="202020"/>
                </a:solidFill>
                <a:latin typeface="Trebuchet MS"/>
                <a:ea typeface="Trebuchet MS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</a:tabLst>
            </a:pPr>
            <a:r>
              <a:rPr b="0" i="1" lang="en-US" sz="1800" spc="-1" strike="noStrike">
                <a:solidFill>
                  <a:srgbClr val="ff1515"/>
                </a:solidFill>
                <a:latin typeface="Trebuchet MS"/>
                <a:ea typeface="Trebuchet MS"/>
              </a:rPr>
              <a:t>37</a:t>
            </a:r>
            <a:r>
              <a:rPr b="0" i="1" lang="en-US" sz="18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ff1515"/>
                </a:solidFill>
                <a:latin typeface="Arial"/>
                <a:ea typeface="Arial"/>
              </a:rPr>
              <a:t>ВОПР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800" spc="-1" strike="noStrike">
                <a:solidFill>
                  <a:srgbClr val="ff1515"/>
                </a:solidFill>
                <a:latin typeface="Arial"/>
                <a:ea typeface="Arial"/>
              </a:rPr>
              <a:t>К ПРИКАЗУ МИНИСТРА ФИНАНСОВ РЕСПУБЛИКИ КАЗАХСТАН ОТ </a:t>
            </a:r>
            <a:r>
              <a:rPr b="0" i="1" lang="en-US" sz="1800" spc="-1" strike="noStrike">
                <a:solidFill>
                  <a:srgbClr val="ff1515"/>
                </a:solidFill>
                <a:latin typeface="Trebuchet MS"/>
                <a:ea typeface="Trebuchet MS"/>
              </a:rPr>
              <a:t>30</a:t>
            </a:r>
            <a:r>
              <a:rPr b="0" i="1" lang="en-US" sz="18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ff1515"/>
                </a:solidFill>
                <a:latin typeface="Arial"/>
                <a:ea typeface="Arial"/>
              </a:rPr>
              <a:t>СЕНТЯБР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4000"/>
              </a:lnSpc>
              <a:tabLst>
                <a:tab algn="l" pos="0"/>
              </a:tabLst>
            </a:pPr>
            <a:r>
              <a:rPr b="0" i="1" lang="en-US" sz="1800" spc="-1" strike="noStrike">
                <a:solidFill>
                  <a:srgbClr val="ff1515"/>
                </a:solidFill>
                <a:latin typeface="Trebuchet MS"/>
                <a:ea typeface="Trebuchet MS"/>
              </a:rPr>
              <a:t>2020</a:t>
            </a:r>
            <a:r>
              <a:rPr b="0" i="1" lang="en-US" sz="18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ff1515"/>
                </a:solidFill>
                <a:latin typeface="Arial"/>
                <a:ea typeface="Arial"/>
              </a:rPr>
              <a:t>ГОДА </a:t>
            </a:r>
            <a:r>
              <a:rPr b="0" i="1" lang="en-US" sz="1800" spc="-1" strike="noStrike">
                <a:solidFill>
                  <a:srgbClr val="ff1515"/>
                </a:solidFill>
                <a:latin typeface="Trebuchet MS"/>
                <a:ea typeface="Trebuchet MS"/>
              </a:rPr>
              <a:t>№ 938«</a:t>
            </a:r>
            <a:r>
              <a:rPr b="0" i="1" lang="en-US" sz="1800" spc="-1" strike="noStrike">
                <a:solidFill>
                  <a:srgbClr val="ff1515"/>
                </a:solidFill>
                <a:latin typeface="Arial"/>
                <a:ea typeface="Arial"/>
              </a:rPr>
              <a:t>ОБ УТВЕРЖДЕНИИ ПРАВИЛ ПРЕДСТАВЛЕНИЯ СУБЪЕКТАМИ ФИНАНСОВОГО МОНИТОРИНГА СВЕДЕНИЙ И ИНФОРМАЦИИ ОБ ОПЕРАЦИЯХ</a:t>
            </a:r>
            <a:r>
              <a:rPr b="0" i="1" lang="en-US" sz="18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8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ff1515"/>
                </a:solidFill>
                <a:latin typeface="Arial"/>
                <a:ea typeface="Arial"/>
              </a:rPr>
              <a:t>ПОДЛЕЖАЩИХ ФИНАНСОВОМУ МОНИТОРИНГУ</a:t>
            </a:r>
            <a:r>
              <a:rPr b="0" i="1" lang="en-US" sz="18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8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ff1515"/>
                </a:solidFill>
                <a:latin typeface="Arial"/>
                <a:ea typeface="Arial"/>
              </a:rPr>
              <a:t>И ПРИЗНАКОВ ОПРЕДЕЛЕНИЯ ПОДОЗРИТЕЛЬНОЙ ОПЕРАЦИИ</a:t>
            </a:r>
            <a:r>
              <a:rPr b="0" i="1" lang="en-US" sz="1800" spc="-1" strike="noStrike">
                <a:solidFill>
                  <a:srgbClr val="ff1515"/>
                </a:solidFill>
                <a:latin typeface="Trebuchet MS"/>
                <a:ea typeface="Trebuchet MS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800" spc="-1" strike="noStrike">
                <a:solidFill>
                  <a:srgbClr val="ff1515"/>
                </a:solidFill>
                <a:latin typeface="Arial"/>
                <a:ea typeface="Arial"/>
              </a:rPr>
              <a:t>ДЕЙСТВУЕТ ПРИКАЗ </a:t>
            </a:r>
            <a:r>
              <a:rPr b="0" i="1" lang="en-US" sz="1800" spc="-1" strike="noStrike">
                <a:solidFill>
                  <a:srgbClr val="ff1515"/>
                </a:solidFill>
                <a:latin typeface="Trebuchet MS"/>
                <a:ea typeface="Trebuchet MS"/>
              </a:rPr>
              <a:t>13</a:t>
            </a:r>
            <a:r>
              <a:rPr b="0" i="1" lang="en-US" sz="18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ff1515"/>
                </a:solidFill>
                <a:latin typeface="Arial"/>
                <a:ea typeface="Arial"/>
              </a:rPr>
              <a:t>ОТ </a:t>
            </a:r>
            <a:r>
              <a:rPr b="0" i="1" lang="en-US" sz="1800" spc="-1" strike="noStrike">
                <a:solidFill>
                  <a:srgbClr val="ff1515"/>
                </a:solidFill>
                <a:latin typeface="Trebuchet MS"/>
                <a:ea typeface="Trebuchet MS"/>
              </a:rPr>
              <a:t>22.02.22</a:t>
            </a:r>
            <a:r>
              <a:rPr b="0" i="1" lang="en-US" sz="1800" spc="-1" strike="noStrike">
                <a:solidFill>
                  <a:srgbClr val="ff1515"/>
                </a:solidFill>
                <a:latin typeface="Arial"/>
                <a:ea typeface="Arial"/>
              </a:rPr>
              <a:t>Г</a:t>
            </a:r>
            <a:r>
              <a:rPr b="0" i="1" lang="en-US" sz="18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Google Shape;497;p80"/>
          <p:cNvSpPr/>
          <p:nvPr/>
        </p:nvSpPr>
        <p:spPr>
          <a:xfrm>
            <a:off x="19080" y="3879720"/>
            <a:ext cx="7502040" cy="86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54040" indent="-146160" algn="just">
              <a:lnSpc>
                <a:spcPct val="115000"/>
              </a:lnSpc>
              <a:buClr>
                <a:srgbClr val="202020"/>
              </a:buClr>
              <a:buFont typeface="Trebuchet MS"/>
              <a:buAutoNum type="arabicPeriod"/>
            </a:pP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СПОСОБ НАПРАВЛЕНИЯ В УПОЛНОМОЧЕННЫЙ ОРГАН ПО ФИНАНСОВОМУ МОНИТОРИНГУ ИНФОРМАЦИИ ОБ ОПЕРАЦИЯХ</a:t>
            </a: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ПОДЛЕЖАЩИХ ФИНАНСОВОМУ МОНИТОРИНГУ</a:t>
            </a: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СУБЪЕКТАМИ ФИНАНСОВОГО МОНИТОРИНГА СУБЪЕКТАМИ</a:t>
            </a: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7880" indent="146160">
              <a:lnSpc>
                <a:spcPct val="114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ЭЛЕКТРОННЫМ СПОСОБОМ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СРЕДСТВОМ СЕТЕЙ ТЕЛЕКОММУНИКАЦИЙ РЕСПУБЛИКАНСК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7880" indent="146160" algn="ctr">
              <a:lnSpc>
                <a:spcPct val="135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ГП НА ПХВ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"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КАЗАХСТАНСКИЙ ЦЕНТР МЕЖБАНКОВСКИХ РАСЧЕТОВ НАЦИОНАЛЬНОГО БАНКА РЕСПУБЛИКИ КАЗАХСТАН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"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ЛИ ВЕБ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РТАЛА УПОЛНОМОЧЕННОГО ОРГАНА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7880" indent="14616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040" indent="-146160">
              <a:lnSpc>
                <a:spcPct val="116000"/>
              </a:lnSpc>
              <a:buClr>
                <a:srgbClr val="202020"/>
              </a:buClr>
              <a:buFont typeface="Trebuchet MS"/>
              <a:buAutoNum type="arabicPeriod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В СЛУЧАЕ НАРУШЕНИЯ СРОКОВ ПРЕДОСТАВЛЕНИЯ ИНФОРМАЦИИ ПО ПРИЧИНЕ ВОЗНИКНОВЕНИЯ ТЕХНИЧЕСКИХ ОШИБОК В ПРОГРАММНОМ ОБЕСПЕЧЕНИИ И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7880" indent="146160" algn="ctr">
              <a:lnSpc>
                <a:spcPct val="135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АНАЛАХ СВЯЗИ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ДТВЕРЖДЕННЫХ УПОЛНОМОЧЕННЫМ ОРГАНОМ ПО ФИНАНСОВОМУ МОНИТОРИНГУ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В КАКИХ СЛУЧАЯХ ИНФОРМАЦИЯ СЧИТАЕТСЯ НАПРАВЛЕННОЙ В УСТАНОВЛЕННЫЙ СРОК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7880" indent="146160" algn="ctr">
              <a:lnSpc>
                <a:spcPct val="107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ЕСЛИ ТАКАЯ ИНФОРМАЦИЯ БУДЕТ НАПРАВЛЕНА НЕ ПОЗДНЕЕ ОДНОГО РАБОЧЕГО ДНЯ ПОСЛ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7880" indent="14616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УСТРАНЕНИЯ ТЕХНИЧЕСКИХ ОШИБОК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7880" indent="146160"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54040" indent="-146160">
              <a:lnSpc>
                <a:spcPct val="116000"/>
              </a:lnSpc>
              <a:buClr>
                <a:srgbClr val="202020"/>
              </a:buClr>
              <a:buFont typeface="Trebuchet MS"/>
              <a:buAutoNum type="arabicPeriod"/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В ТЕЧЕНИЕ КАКОГО ВРЕМЕНИ УПОЛНОМОЧЕННЫЙ ОРГАН ПО ФИНАНСОВОМУ МОНИТОРИНГУ НАПРАВЛЯЕТ СУБЪЕКТУ ФИНАНСОВОГО МОНИТОРИНГА ИЗВЕЩЕНИЕ 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7880" indent="146160" algn="ctr">
              <a:lnSpc>
                <a:spcPct val="114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ПРИНЯТИИ </a:t>
            </a: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(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НЕПРИНЯТИИ</a:t>
            </a: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)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ФОРМЫ ФМ</a:t>
            </a: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-1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7880" indent="146160" algn="ctr">
              <a:lnSpc>
                <a:spcPct val="114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 ТЕЧЕНИЕ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4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ЧЕТЫРЕХ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ЧАСОВ С МОМЕНТА ПОЛУЧ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7880" indent="14616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7880" indent="146160">
              <a:lnSpc>
                <a:spcPct val="111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4.</a:t>
            </a:r>
            <a:r>
              <a:rPr b="0" i="1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202020"/>
                </a:solidFill>
                <a:latin typeface="Arial"/>
                <a:ea typeface="Arial"/>
              </a:rPr>
              <a:t>В ТЕЧЕНИЕ КАКОГО ВРЕМЕНИ СУБЪЕКТ ФИНАНСОВОГО МОНИТОРИНГА ПРИНИМАЕТ МЕРЫ ПО УСТРАНЕНИЮ ПРИЧИН ОТКАЗА В ПРИНЯТИИ ИНФОРМАЦИИ</a:t>
            </a:r>
            <a:r>
              <a:rPr b="0" i="1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202020"/>
                </a:solidFill>
                <a:latin typeface="Arial"/>
                <a:ea typeface="Arial"/>
              </a:rPr>
              <a:t>УКАЗАННЫХ В ИЗВЕЩЕНИИ</a:t>
            </a:r>
            <a:r>
              <a:rPr b="0" i="1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202020"/>
                </a:solidFill>
                <a:latin typeface="Arial"/>
                <a:ea typeface="Arial"/>
              </a:rPr>
              <a:t>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7880" indent="14616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202020"/>
                </a:solidFill>
                <a:latin typeface="Arial"/>
                <a:ea typeface="Arial"/>
              </a:rPr>
              <a:t>НАПРАВЛЯЕТ В УПОЛНОМОЧЕННЫЙ ОРГАН ПО ФИНАНСОВОМУ МОНИТОРИНГУ ИСПРАВЛЕННУ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7880" indent="14616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202020"/>
                </a:solidFill>
                <a:latin typeface="Arial"/>
                <a:ea typeface="Arial"/>
              </a:rPr>
              <a:t>ИНФОРМАЦИЮ</a:t>
            </a:r>
            <a:r>
              <a:rPr b="0" i="1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7880" indent="146160">
              <a:lnSpc>
                <a:spcPct val="116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 ТЕЧЕНИЕ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24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ДВАДЦАТИ ЧЕТЫРЕХ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ЧАСОВ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ЗА ИСКЛЮЧЕНИЕМ ВЫХОДНЫХ И ПРАЗДНИЧНЫХ ДНЕЙ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Google Shape;498;p80"/>
          <p:cNvSpPr/>
          <p:nvPr/>
        </p:nvSpPr>
        <p:spPr>
          <a:xfrm>
            <a:off x="0" y="0"/>
            <a:ext cx="1387080" cy="340920"/>
          </a:xfrm>
          <a:custGeom>
            <a:avLst/>
            <a:gdLst>
              <a:gd name="textAreaLeft" fmla="*/ 0 w 1387080"/>
              <a:gd name="textAreaRight" fmla="*/ 1387440 w 1387080"/>
              <a:gd name="textAreaTop" fmla="*/ 0 h 340920"/>
              <a:gd name="textAreaBottom" fmla="*/ 341280 h 340920"/>
            </a:gdLst>
            <a:ahLst/>
            <a:rect l="textAreaLeft" t="textAreaTop" r="textAreaRight" b="textAreaBottom"/>
            <a:pathLst>
              <a:path w="1386840" h="340995">
                <a:moveTo>
                  <a:pt x="366189" y="0"/>
                </a:moveTo>
                <a:lnTo>
                  <a:pt x="0" y="340980"/>
                </a:lnTo>
                <a:lnTo>
                  <a:pt x="236850" y="340980"/>
                </a:lnTo>
                <a:lnTo>
                  <a:pt x="603040" y="0"/>
                </a:lnTo>
                <a:lnTo>
                  <a:pt x="366189" y="0"/>
                </a:lnTo>
              </a:path>
              <a:path w="1386840" h="340995">
                <a:moveTo>
                  <a:pt x="757976" y="0"/>
                </a:moveTo>
                <a:lnTo>
                  <a:pt x="391799" y="340980"/>
                </a:lnTo>
                <a:lnTo>
                  <a:pt x="628649" y="340980"/>
                </a:lnTo>
                <a:lnTo>
                  <a:pt x="994839" y="0"/>
                </a:lnTo>
                <a:lnTo>
                  <a:pt x="757976" y="0"/>
                </a:lnTo>
              </a:path>
              <a:path w="1386840" h="340995">
                <a:moveTo>
                  <a:pt x="1149775" y="0"/>
                </a:moveTo>
                <a:lnTo>
                  <a:pt x="783585" y="340980"/>
                </a:lnTo>
                <a:lnTo>
                  <a:pt x="1021079" y="340980"/>
                </a:lnTo>
                <a:lnTo>
                  <a:pt x="1386647" y="0"/>
                </a:lnTo>
                <a:lnTo>
                  <a:pt x="1149775" y="0"/>
                </a:lnTo>
              </a:path>
            </a:pathLst>
          </a:custGeom>
          <a:solidFill>
            <a:srgbClr val="2020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Google Shape;503;p81"/>
          <p:cNvSpPr/>
          <p:nvPr/>
        </p:nvSpPr>
        <p:spPr>
          <a:xfrm>
            <a:off x="9360" y="65160"/>
            <a:ext cx="7524360" cy="124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82440" indent="-69840">
              <a:lnSpc>
                <a:spcPct val="116000"/>
              </a:lnSpc>
              <a:buClr>
                <a:srgbClr val="202020"/>
              </a:buClr>
              <a:buFont typeface="Trebuchet MS"/>
              <a:buAutoNum type="arabicPeriod" startAt="5"/>
            </a:pP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В ТЕЧЕНИЕ КАКОГО ВРЕМЕНИ СУБЪЕКТ ФИНАНСОВОГО МОНИТОРИНГА НАПРАВЛЯЕТ В УПОЛНОМОЧЕННЫЙ ОРГАН ПО ФИНАНСОВОМУ МОНИТОРИНГУ ИНФОРМАЦИЮ ВЗАМЕ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600" indent="69840" algn="ctr">
              <a:lnSpc>
                <a:spcPct val="135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РАНЕЕ ПРЕДСТАВЛЕННОЙ И ПРИНЯТОЙ</a:t>
            </a: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В СЛУЧАЕ НЕОБХОДИМОСТИ ВНЕСЕНИЯ ИЗМЕНЕНИЙ И </a:t>
            </a: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(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ИЛИ</a:t>
            </a: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)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ДОПОЛНЕНИЙ В НЕЕ</a:t>
            </a: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600" indent="69840" algn="ctr">
              <a:lnSpc>
                <a:spcPct val="107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НЕ ПОЗДНЕЕ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1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ДНОГО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РАБОЧЕГО ДНЯ С ДАТЫ ОБНАРУЖЕНИЯ ИНФОРМАЦИ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ДЛЕЖАЩ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600" indent="6984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ЗАМЕН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600" indent="6984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440" indent="-69840">
              <a:lnSpc>
                <a:spcPct val="112000"/>
              </a:lnSpc>
              <a:buClr>
                <a:srgbClr val="20202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В КАКИЕ СРОКИ НАПРАВЛЯЮТСЯ СУБЪЕКТАМИ ФИНАНСОВОГО МОНИТОРИНГА ДОПОЛНИТЕЛЬНО ЗАПРАШИВАЕМАЯ ИНФОРМАЦИЯ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ВЕДЕНИЯ И ДОКУМЕНТЫ 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600" indent="6984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УПОЛНОМОЧЕННЫЙ ОРГАН ПО ФИНАНСОВОМУ МОНИТОРИНГУ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600" indent="6984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 ТЕЧЕНИЕ ТРЕХ РАБОЧИХ ДНЕЙ СО ДНЯ ПОЛУЧЕНИЯ ЗАПРО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600" indent="69840"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2440" indent="-69840">
              <a:lnSpc>
                <a:spcPct val="117000"/>
              </a:lnSpc>
              <a:buClr>
                <a:srgbClr val="20202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НА КАКОЙ МАКСИМАЛЬНЫЙ СРОК ПРОДЛЕВАЕТСЯ СРОК ПРЕДОСТАВЛЕНИЯ СУБЪЕКТАМИ ФИНАНСОВОГО МОНИТОРИНГА В УПОЛНОМОЧЕННЫЙ ОРГАН ОТВЕТА 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600" indent="69840" algn="ctr">
              <a:lnSpc>
                <a:spcPct val="114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ЗАПРОС ДОПОЛНИТЕЛЬНОЙ ИНФОРМАЦИИ</a:t>
            </a: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СВЕДЕНИЙ И ДОКУМЕНТОВ</a:t>
            </a: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600" indent="69840" algn="ctr">
              <a:lnSpc>
                <a:spcPct val="114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НЕ БОЛЕЕ ЧЕМ НА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10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РАБОЧИХ ДН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600" indent="69840"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2600" indent="69840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8.</a:t>
            </a:r>
            <a:r>
              <a:rPr b="0" i="1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202020"/>
                </a:solidFill>
                <a:latin typeface="Arial"/>
                <a:ea typeface="Arial"/>
              </a:rPr>
              <a:t>КОЛИЧЕСТВО РАЗДЕЛОВ ФОРМЫ ФМ</a:t>
            </a:r>
            <a:r>
              <a:rPr b="0" i="1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-1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600" indent="69840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4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РАЗДЕ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600" indent="69840"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2600" indent="69840">
              <a:lnSpc>
                <a:spcPct val="117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9.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ОЛИЧЕСТВО ОПЕРАЦИЙ И УЧАСТНИКОВ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 КОТОРЫМ ФОРМА ФМ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-1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ОДЕРЖИТ ИНФОРМАЦИЮ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600" indent="69840">
              <a:lnSpc>
                <a:spcPct val="100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ДНА ОПЕРАЦИЯ И НЕ БОЛЕЕ ДВУХ УЧАСТНИ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600" indent="6984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600" indent="69840">
              <a:lnSpc>
                <a:spcPct val="120000"/>
              </a:lnSpc>
              <a:tabLst>
                <a:tab algn="l" pos="0"/>
              </a:tabLst>
            </a:pPr>
            <a:r>
              <a:rPr b="0" lang="en-US" sz="1300" spc="-1" strike="noStrike">
                <a:solidFill>
                  <a:schemeClr val="dk1"/>
                </a:solidFill>
                <a:latin typeface="Trebuchet MS"/>
                <a:ea typeface="Trebuchet MS"/>
              </a:rPr>
              <a:t>10.</a:t>
            </a:r>
            <a:r>
              <a:rPr b="0" lang="en-US" sz="13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ВИД ДОКУМЕНТА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УКАЗЫВАЕМЫЙ В ФОРМЕ ФМ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-1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В СЛУЧАЕ ИНИЦИАТИВНОГО ВНЕСЕНИЯ СУБЪЕКТОМ ФИНАНСОВОГО МОНИТОРИНГА ИЗМЕН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600" indent="69840" algn="ctr">
              <a:lnSpc>
                <a:spcPct val="113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ЛИ ДОПОЛНЕНИЙ В РАНЕЕ ПРЕДСТАВЛЕННУЮ И ПРИНЯТУЮ УПОЛНОМОЧЕННЫМ ОРГАНОМ ПО ФИНАНСОВОМУ МОНИТОРИНГУ ФОРМУ ФМ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-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600" indent="69840">
              <a:lnSpc>
                <a:spcPct val="100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ЗАПРОС ЗАМЕНЫ СООБЩ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600" indent="6984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440" indent="-6984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НАЗОВИТЕ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СОСТОЯНИЕ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ПЕРАЦИИ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УКАЗЫВАЕМОЕ В ФОРМЕ ФМ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-1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В СЛУЧАЕ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ЕСЛИ СУБЪЕКТ ФИНАНСОВОГО МОНИТОРИНГА НАПРАВЛЯЕТ СООБЩЕНИЕ О ПРИЗНАН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600" indent="69840" algn="ctr">
              <a:lnSpc>
                <a:spcPct val="135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ПЕРАЦИИ В КАЧЕСТВЕ ПОДОЗРИТЕЛЬНОЙ В УПОЛНОМОЧЕННЫЙ ОРГАН ПО ФИНАНСОВОМУ МОНИТОРИНГУ ДО ЕЕ ПРОВЕДЕНИ</a:t>
            </a:r>
            <a:r>
              <a:rPr b="0" i="1" lang="en-US" sz="1400" spc="-1" strike="noStrike">
                <a:solidFill>
                  <a:schemeClr val="dk1"/>
                </a:solidFill>
                <a:latin typeface="Arial"/>
                <a:ea typeface="Arial"/>
              </a:rPr>
              <a:t>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73240" indent="-93600">
              <a:lnSpc>
                <a:spcPct val="100000"/>
              </a:lnSpc>
              <a:buClr>
                <a:srgbClr val="ff1515"/>
              </a:buClr>
              <a:buFont typeface="Trebuchet MS"/>
              <a:buChar char="•"/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НЕ СОВЕРШЕНО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–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ДЛЯ ПРИНЯТИЯ РЕШЕНИЯ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73240"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2440" indent="-69840">
              <a:lnSpc>
                <a:spcPct val="116000"/>
              </a:lnSpc>
              <a:buClr>
                <a:srgbClr val="20202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ДАННЫЕ КАКОГО ЛИЦА УКАЗЫВАЮТСЯ В РЕКВИЗИТЕ </a:t>
            </a: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2.7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"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ОТВЕТСТВЕННЫЙ РАБОТНИК</a:t>
            </a: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"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ФОРМЫ ФМ</a:t>
            </a: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-1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73240" indent="-93600">
              <a:lnSpc>
                <a:spcPct val="114000"/>
              </a:lnSpc>
              <a:buClr>
                <a:srgbClr val="ff1515"/>
              </a:buClr>
              <a:buFont typeface="Trebuchet MS"/>
              <a:buChar char="•"/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ДАННЫЕ КОНТАКТНОГО ЛИЦА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ТВЕТСТВЕННОГО ЗА СОБЛЮДЕНИЕ ПРАВИЛ ВНУТРЕННЕ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600" indent="6984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КОНТРО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600" indent="69840">
              <a:lnSpc>
                <a:spcPct val="114000"/>
              </a:lnSpc>
              <a:spcBef>
                <a:spcPts val="499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13.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КАКОЙ НОМЕР УКАЗЫВАЕТСЯ В РЕКВИЗИТЕ </a:t>
            </a: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3.1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"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НОМЕР ОПЕРАЦИИ</a:t>
            </a: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"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ФОРМЫ ФМ</a:t>
            </a: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-1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600" indent="69840">
              <a:lnSpc>
                <a:spcPct val="114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НОМЕР ОПЕРАЦИ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ЗАРЕГИСТРИРОВАННЫЙ ВО ВНУТРЕННЕМ РЕЕСТРЕ СУБЪЕКТА ФИНАНСОВ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600" indent="6984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МОНИТОРИНГ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Google Shape;508;p82"/>
          <p:cNvSpPr/>
          <p:nvPr/>
        </p:nvSpPr>
        <p:spPr>
          <a:xfrm>
            <a:off x="169920" y="438120"/>
            <a:ext cx="7202160" cy="70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92240" indent="-106200">
              <a:lnSpc>
                <a:spcPct val="119000"/>
              </a:lnSpc>
              <a:buClr>
                <a:srgbClr val="202020"/>
              </a:buClr>
              <a:buFont typeface="Calibri"/>
              <a:buAutoNum type="arabicPeriod" startAt="14"/>
            </a:pP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НАЗОВИТЕ ВИД ДОКУМЕНТА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УКАЗЫВАЕМЫЙ В ФОРМЕ ФМ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-1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В СЛУЧАЕ ПРИНЯТИЯ СУБЪЕКТОМ ФИНАНСОВОГО МОНИТОРИНГА МЕР ПО УСТРАНЕНИЮ УКАЗАННЫХ 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2240" indent="-106200" algn="ctr">
              <a:lnSpc>
                <a:spcPct val="113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ИЗВЕЩЕНИИ ПРИЧИН НЕПРИНЯТИЯ СООБЩЕНИЯ УПОЛНОМОЧЕННЫМ ОРГАНОМ ПО ФИНАНСОВОМУ МОНИТОРИНГУ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2240" indent="-10620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КОРРЕКТИРОВКА НЕПРИНЯТОГО СООБЩ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2240" indent="-10620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240" indent="-106200">
              <a:lnSpc>
                <a:spcPct val="120000"/>
              </a:lnSpc>
              <a:buClr>
                <a:srgbClr val="202020"/>
              </a:buClr>
              <a:buFont typeface="Calibri"/>
              <a:buAutoNum type="arabicPeriod" startAt="15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НАЗОВИТЕ СОСТОЯНИЕ ОПЕРАЦИИ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УКАЗЫВАЕМОЕ В ФОРМЕ ФМ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-1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В СЛУЧАЕ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ЕСЛИ СУБЪЕКТОМ ФИНАНСОВОГО МОНИТОРИНГА БЫЛО ПРИНЯТО РЕШЕНИЕ ОБ ОТКАЗЕ 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2240" indent="-106200" algn="ctr">
              <a:lnSpc>
                <a:spcPct val="114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ОВЕДЕНИИ ОПЕРАЦИИ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2240" indent="-106200">
              <a:lnSpc>
                <a:spcPct val="114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НЕ СОВЕРШЕНО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ТКАЗ В ПРОВЕДЕН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2240" indent="-10620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240" indent="-106200" algn="just">
              <a:lnSpc>
                <a:spcPct val="118000"/>
              </a:lnSpc>
              <a:buClr>
                <a:srgbClr val="202020"/>
              </a:buClr>
              <a:buFont typeface="Calibri"/>
              <a:buAutoNum type="arabicPeriod" startAt="15"/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УКАЖИТЕ ОСНОВАНИЕ ДЛЯ ПОДАЧИ СООБЩЕНИЯ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УКАЗЫВАЕМОЕ В ФОРМЕ ФМ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-1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В СЛУЧАЕ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ЕСЛИ ОПЕРАЦИЯ КЛИЕНТА ПРИЗНАНА В КАЧЕСТВЕ ПОДОЗРИТЕЛЬНОЙ В СООТВЕТСТВИИ С ПРИЗНАКАМИ ОПРЕДЕЛЕНИЯ ПОДОЗРИТЕЛЬНОЙ ОПЕР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2240" indent="-106200" algn="ctr">
              <a:lnSpc>
                <a:spcPct val="114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ДОЗРИТЕЛЬНАЯ ОПЕРА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2240" indent="-106200">
              <a:lnSpc>
                <a:spcPct val="1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2240" indent="-106200">
              <a:lnSpc>
                <a:spcPct val="116000"/>
              </a:lnSpc>
              <a:buClr>
                <a:srgbClr val="202020"/>
              </a:buClr>
              <a:buFont typeface="Trebuchet MS"/>
              <a:buChar char="•"/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202020"/>
                </a:solidFill>
                <a:latin typeface="Arial"/>
                <a:ea typeface="Arial"/>
              </a:rPr>
              <a:t>В СЛУЧАЕ</a:t>
            </a:r>
            <a:r>
              <a:rPr b="0" i="1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202020"/>
                </a:solidFill>
                <a:latin typeface="Arial"/>
                <a:ea typeface="Arial"/>
              </a:rPr>
              <a:t>ЕСЛИ УЧАСТНИК ОПЕРАЦИИ ЮРИДИЧЕСКОЕ ЛИЦО</a:t>
            </a:r>
            <a:r>
              <a:rPr b="0" i="1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202020"/>
                </a:solidFill>
                <a:latin typeface="Arial"/>
                <a:ea typeface="Arial"/>
              </a:rPr>
              <a:t>ДАННЫЕ ПО КАКИМ УЧРЕДИТЕЛЯМ УЧАСТНИКА УКАЗЫВАЮТСЯ В РЕКВИЗИТЕ </a:t>
            </a:r>
            <a:r>
              <a:rPr b="0" i="1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4.9</a:t>
            </a:r>
            <a:r>
              <a:rPr b="0" i="1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"</a:t>
            </a:r>
            <a:r>
              <a:rPr b="0" i="1" lang="en-US" sz="1400" spc="-1" strike="noStrike">
                <a:solidFill>
                  <a:srgbClr val="202020"/>
                </a:solidFill>
                <a:latin typeface="Arial"/>
                <a:ea typeface="Arial"/>
              </a:rPr>
              <a:t>УЧРЕДИТЕЛИ УЧАСТНИКА </a:t>
            </a:r>
            <a:r>
              <a:rPr b="0" i="1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202020"/>
                </a:solidFill>
                <a:latin typeface="Arial"/>
                <a:ea typeface="Arial"/>
              </a:rPr>
              <a:t>Д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2240" indent="-10620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202020"/>
                </a:solidFill>
                <a:latin typeface="Arial"/>
                <a:ea typeface="Arial"/>
              </a:rPr>
              <a:t>ЮРИДИЧЕСКИХ ЛИЦ</a:t>
            </a:r>
            <a:r>
              <a:rPr b="0" i="1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)"</a:t>
            </a:r>
            <a:r>
              <a:rPr b="0" i="1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202020"/>
                </a:solidFill>
                <a:latin typeface="Arial"/>
                <a:ea typeface="Arial"/>
              </a:rPr>
              <a:t>ФОРМЫ ФМ</a:t>
            </a:r>
            <a:r>
              <a:rPr b="0" i="1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-1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27080" indent="-93600">
              <a:lnSpc>
                <a:spcPct val="100000"/>
              </a:lnSpc>
              <a:spcBef>
                <a:spcPts val="201"/>
              </a:spcBef>
              <a:buClr>
                <a:srgbClr val="ff1515"/>
              </a:buClr>
              <a:buFont typeface="Trebuchet MS"/>
              <a:buAutoNum type="arabicPeriod" startAt="15"/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 ДОЛЕЙ УЧАСТИЯ НЕ МЕНЕЕ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10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ОЦЕНТОВ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2240" indent="-106200"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92240" indent="-106200">
              <a:lnSpc>
                <a:spcPct val="116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18.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УКАЖИТЕ УСТАНОВЛЕННУЮ ФОРМУ СВЕДЕНИЙ И ИНФОРМАЦИИ ОБ ОПЕРАЦИИ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ДЛЕЖАЩЕЙ ФИНАНСОВОМУ МОНИТОРИНГУ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2240" indent="-106200">
              <a:lnSpc>
                <a:spcPct val="114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ФМ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1*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ЕРВЫЙ ОТВЕТ ПРАВИЛЬНЫЙ У НИХ ФМ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Google Shape;509;p82"/>
          <p:cNvSpPr/>
          <p:nvPr/>
        </p:nvSpPr>
        <p:spPr>
          <a:xfrm>
            <a:off x="52560" y="6618240"/>
            <a:ext cx="742752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65160" indent="-52560">
              <a:lnSpc>
                <a:spcPct val="120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19.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ДАТА ПРИНЯТИЯ ПРИКАЗА МИНИСТРА ФИНАНСОВ РЕСПУБЛИКИ КАЗАХСТАН 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№ 938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“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Б УТВЕРЖДЕНИИ ПРАВИЛ ПРЕДСТАВЛЕНИЯ СУБЪЕКТАМИ ФИНАНСОВОГО МОНИТОРИНГ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5160" indent="-52560" algn="ctr">
              <a:lnSpc>
                <a:spcPct val="135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ВЕДЕНИЙ И ИНФОРМАЦИИ ОБ ОПЕРАЦИЯХ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ДЛЕЖАЩИХ ФИНАНСОВОМУ МОНИТОРИНГУ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 ПРИЗНАКОВ ОПРЕДЕЛЕНИЯ ПОДОЗРИТЕЛЬНОЙ ОПЕРАЦИИ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"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5160" indent="-52560" algn="ctr">
              <a:lnSpc>
                <a:spcPct val="107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30.09.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5160" indent="-5256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ДАТА ПРИНЯТИЯ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13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ИКАЗА ОТ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22.02.22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Google Shape;510;p82"/>
          <p:cNvSpPr/>
          <p:nvPr/>
        </p:nvSpPr>
        <p:spPr>
          <a:xfrm>
            <a:off x="-12600" y="7570800"/>
            <a:ext cx="82080" cy="1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Google Shape;511;p82"/>
          <p:cNvSpPr/>
          <p:nvPr/>
        </p:nvSpPr>
        <p:spPr>
          <a:xfrm>
            <a:off x="106200" y="8354880"/>
            <a:ext cx="7332480" cy="29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27160" indent="-1965240">
              <a:lnSpc>
                <a:spcPct val="113000"/>
              </a:lnSpc>
              <a:buClr>
                <a:srgbClr val="000000"/>
              </a:buClr>
              <a:buFont typeface="Calibri"/>
              <a:buAutoNum type="arabicPeriod" startAt="20"/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АКИЕ ОПЕРАЦИИ С УЧАСТИЕМ НЕКОММЕРЧЕСКИХ ОРГАНИЗАЦИЙ НЕ ПОДПАДАЮТ ПОД ПРИЗНАКИ ПОДОЗРИТЕЛЬНОСТИ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27160" indent="-1965240">
              <a:lnSpc>
                <a:spcPct val="114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ПЕРАЦИИ ПО РАСХОДОВАНИЮ ДЕНЕЖНЫХ СРЕДСТВ НЕКОММЕРЧЕСКИМИ ОРГАНИЗАЦИЯМ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27160" indent="-196524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ООТВЕТСТВУЮЩИЕ ЦЕЛЯМ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ЕДУСМОТРЕННЫМ ИХ УСТАВНЫМИ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УЧРЕДИТЕЛЬНЫМ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27160" indent="-196524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ДОКУМЕНТАМ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27160" indent="-1965240"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27160" indent="-1965240">
              <a:lnSpc>
                <a:spcPct val="114000"/>
              </a:lnSpc>
              <a:spcBef>
                <a:spcPts val="799"/>
              </a:spcBef>
              <a:buClr>
                <a:srgbClr val="202020"/>
              </a:buClr>
              <a:buFont typeface="Calibri"/>
              <a:buAutoNum type="arabicPeriod" startAt="21"/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ПРИЗНАКОМ ПОДОЗРИТЕЛЬНОСТИ ОПЕРАЦИИ ЯВЛЯЕТСЯ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27160" indent="-1965240" algn="ctr">
              <a:lnSpc>
                <a:spcPct val="114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СТУПЛЕНИЕ ИЗ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ЗА РУБЕЖА ДЕНЕГ НА СЧЕТА НЕКОММЕРЧЕСКИХ ОРГАНИЗАЦИЙ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Google Shape;516;p83"/>
          <p:cNvSpPr/>
          <p:nvPr/>
        </p:nvSpPr>
        <p:spPr>
          <a:xfrm>
            <a:off x="-12600" y="399960"/>
            <a:ext cx="7563960" cy="132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498680" indent="-241200">
              <a:lnSpc>
                <a:spcPct val="114000"/>
              </a:lnSpc>
              <a:buClr>
                <a:srgbClr val="202020"/>
              </a:buClr>
              <a:buFont typeface="Calibri"/>
              <a:buAutoNum type="arabicPeriod" startAt="23"/>
            </a:pP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ПРИЗНАКОМ ПОДОЗРИТЕЛЬНОСТИ ОПЕРАЦИИ ЯВЛЯЕТ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8680" indent="-241200" algn="ctr">
              <a:lnSpc>
                <a:spcPct val="114000"/>
              </a:lnSpc>
              <a:tabLst>
                <a:tab algn="l" pos="0"/>
              </a:tabLst>
            </a:pPr>
            <a:r>
              <a:rPr b="0" lang="en-US" sz="1300" spc="-1" strike="noStrike">
                <a:solidFill>
                  <a:srgbClr val="202020"/>
                </a:solidFill>
                <a:latin typeface="Calibri"/>
                <a:ea typeface="Calibri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ИСТЕМАТИЧЕСКИЕ ПЕРЕВОДЫ КЛИЕНТОМ СОБСТВЕННЫХ СРЕДСТВ В КРУПНЫХ РАЗМЕРАХ 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8680" indent="-241200" algn="ctr">
              <a:lnSpc>
                <a:spcPct val="10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БАНКОВСКИЙ СЧЕТ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ТКРЫТЫЙ В ОФФШОРНОЙ ЗОНЕ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8680" indent="-241200"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8680" indent="-241200">
              <a:lnSpc>
                <a:spcPct val="114000"/>
              </a:lnSpc>
              <a:spcBef>
                <a:spcPts val="901"/>
              </a:spcBef>
              <a:buClr>
                <a:srgbClr val="202020"/>
              </a:buClr>
              <a:buFont typeface="Calibri"/>
              <a:buAutoNum type="arabicPeriod" startAt="24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ИЗНАКОМ ПОДОЗРИТЕЛЬНОСТИ ОПЕРАЦИИ ЯВЛЯЕТ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8680" indent="-241200" algn="ctr">
              <a:lnSpc>
                <a:spcPct val="114000"/>
              </a:lnSpc>
              <a:tabLst>
                <a:tab algn="l" pos="0"/>
              </a:tabLst>
            </a:pPr>
            <a:r>
              <a:rPr b="0" lang="en-US" sz="1300" spc="-1" strike="noStrike">
                <a:solidFill>
                  <a:schemeClr val="dk1"/>
                </a:solidFill>
                <a:latin typeface="Calibri"/>
                <a:ea typeface="Calibri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ОВЕДЕНИЕ ОПЕРАЦИИ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ДЕЛК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КЛИЕНТОМ ПОД РУКОВОДСТВОМ ТРЕТЬЕГО ЛИЦА 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/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ЛИ ЛИЦ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8680" indent="-241200" algn="ctr">
              <a:lnSpc>
                <a:spcPct val="10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ИСУТСТВУЮЩИХ ПРИ ОПЕРАЦИИ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ДЕЛК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8680" indent="-241200"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8680" indent="-241200" algn="ctr">
              <a:lnSpc>
                <a:spcPct val="114000"/>
              </a:lnSpc>
              <a:spcBef>
                <a:spcPts val="901"/>
              </a:spcBef>
              <a:tabLst>
                <a:tab algn="l" pos="0"/>
              </a:tabLst>
            </a:pPr>
            <a:r>
              <a:rPr b="0" lang="en-US" sz="1300" spc="-1" strike="noStrike">
                <a:solidFill>
                  <a:srgbClr val="202020"/>
                </a:solidFill>
                <a:latin typeface="Calibri"/>
                <a:ea typeface="Calibri"/>
              </a:rPr>
              <a:t>•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25.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ПРИЗНАКОМ ПОДОЗРИТЕЛЬНОСТИ ОПЕРАЦИИ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НЕ ЯВЛЯЕТ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8680" indent="-241200">
              <a:lnSpc>
                <a:spcPct val="114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СТУПЛЕНИЕ НА СЧЕТ КЛИЕНТА КРУПНОЙ СУММЫ ДЕНЕГ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И ЭТОМ ПОЛУЧАТЕЛЬ ИМЕ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8680" indent="-241200" algn="ctr">
              <a:lnSpc>
                <a:spcPct val="142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ЗНАЧИТЕЛЬНЫЕ ОБОРОТЫ ПО ОПЕРАЦИЯМ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 С ДАТЫ ЕГО ГОСУДАРСТВЕННОЙ РЕГИСТРАЦИИ ПРОШЛО БОЛЕЕ ГОДА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8680" indent="-24120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98680" indent="-241200" algn="ctr">
              <a:lnSpc>
                <a:spcPct val="114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26.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ПРИЗНАКОМ ПОДОЗРИТЕЛЬНОСТИ ОПЕРАЦИИ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НЕ ЯВЛЯЕТ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8680" indent="-241200" algn="ctr">
              <a:lnSpc>
                <a:spcPct val="114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ОВЕРШЕНИЕ ОПЕРАЦИЙ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ДЕЛК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НА ИНДИВИДУАЛЬНЫХ ПЕНСИОННЫХ СЧЕТАХ ПО УЧЕТ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8680" indent="-24120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БЯЗАТЕЛЬНЫХ ПЕНСИОННЫХ ВЗНОСОВ И ОБЯЗАТЕЛЬНЫХ ПРОФЕССИОНАЛЬНЫХ ПЕНСИОННЫХ ВЗНОСОВ ЛИЦОМ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КЛЮЧЕННЫМ В ПЕРЕЧЕНЬ ОРГАНИЗАЦИЙ И ЛИЦ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ВЯЗАННЫХ С ФИНАНСИРОВАНИЕМ ТЕРРОРИЗМА И ЭКСТРЕМИЗМА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8680" indent="-241200"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498680" indent="-241200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27.</a:t>
            </a:r>
            <a:r>
              <a:rPr b="0" i="1" lang="en-US" sz="1400" spc="-1" strike="noStrike">
                <a:solidFill>
                  <a:srgbClr val="202020"/>
                </a:solidFill>
                <a:latin typeface="Arial"/>
                <a:ea typeface="Arial"/>
              </a:rPr>
              <a:t>В КАКОМ СЛУЧАЕ ПЕРЕЧИСЛЕНИЕ ДИВИДЕНДОВ ИЛИ ПРИБЫЛИ ПОДПАДАЕТ ПОД ПРИЗНА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8680" indent="-241200" algn="ctr">
              <a:lnSpc>
                <a:spcPct val="10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202020"/>
                </a:solidFill>
                <a:latin typeface="Arial"/>
                <a:ea typeface="Arial"/>
              </a:rPr>
              <a:t>ПОДОЗРИТЕЛЬНОСТИ</a:t>
            </a:r>
            <a:r>
              <a:rPr b="0" i="1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8680" indent="-241200">
              <a:lnSpc>
                <a:spcPct val="142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 СЛУЧАЕ СИСТЕМАТИЧЕСКОГО ПЕРЕЧИСЛЕНИЯ СО СЧЕТОВ ЮРИДИЧЕСКИХ ЛИЦ 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/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ЛИ ИНДИВИДУАЛЬНЫХ ПРЕДПРИНИМАТЕЛЕЙ В ПОЛЬЗУ ФИЗИЧЕСКИХ ЛИЦ ДЕНЕГ В КРУПН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8680" indent="-241200" algn="ctr">
              <a:lnSpc>
                <a:spcPct val="10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РАЗМЕРЕ В КАЧЕСТВЕ ДИВИДЕНДОВ ИЛИ ПРИБЫЛ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8680" indent="-24120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8680" indent="-241200">
              <a:lnSpc>
                <a:spcPct val="116000"/>
              </a:lnSpc>
              <a:spcBef>
                <a:spcPts val="20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ОВЕРШЕНИЕ ОПЕРАЦИЙ С ДЕНЬГАМИ И 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(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ЛИ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)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НЫМ ИМУЩЕСТВОМ С КАКИМИ СТРАНАМИ ОТНОСИТСЯ К ПРИЗНАКАМ ПОДОЗРИТЕЛЬНОСТИ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8680" indent="-241200" algn="ctr">
              <a:lnSpc>
                <a:spcPct val="114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О СТРАНАМИ С ВЫСОКИМ РИСКОМ ФИНАНСИРОВАНИЯ ТЕРРОРИЗМА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8680" indent="-24120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98680" indent="-241200">
              <a:lnSpc>
                <a:spcPct val="113000"/>
              </a:lnSpc>
              <a:buClr>
                <a:srgbClr val="000000"/>
              </a:buClr>
              <a:buFont typeface="Calibri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АКИЕ ОПЕРАЦИИ С ДЕНЬГАМИ И ИНЫМ ИМУЩЕСТВОМ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НЕ ОТНОСЯТСЯ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 ПРИЗНАКАМ ПОДОЗРИТЕЛЬНОСТИ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8680" indent="-241200">
              <a:lnSpc>
                <a:spcPct val="114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ПЕРАЦИ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ВЯЗАННЫЕ С КУПЛЕЙ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ОДАЖЕЙ СРЕДСТВ СВЯЗ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ОДУКТОВ ДЛИТЕЛЬН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8680" indent="-24120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ХРАНЕНИЯ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ЕСЛИ ЭТО НЕ ОТНОСИТСЯ К ДЕЯТЕЛЬНОСТИ КЛИЕНТА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8680" indent="-24120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98680" indent="-241200">
              <a:lnSpc>
                <a:spcPct val="113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20.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АКИЕ ОПЕРАЦИИ С УЧАСТИЕМ НЕКОММЕРЧЕСКИХ ОРГАНИЗАЦИЙ НЕ ПОДПАДАЮТ ПОД ПРИЗНАКИ ПОДОЗРИТЕЛЬНОСТИ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8680" indent="-241200" algn="ctr">
              <a:lnSpc>
                <a:spcPct val="114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ПЕРАЦИИ ПО РАСХОДОВАНИЮ ДЕНЕЖНЫХ СРЕДСТВ НЕКОММЕРЧЕСКИМИ ОРГАНИЗАЦИЯМ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8680" indent="-24120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ООТВЕТСТВУЮЩИЕ ЦЕЛЯМ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ЕДУСМОТРЕННЫМ ИХ УСТАВНЫМИ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УЧРЕДИТЕЛЬНЫМ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8680" indent="-24120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ДОКУМЕНТАМ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Google Shape;521;p84"/>
          <p:cNvSpPr/>
          <p:nvPr/>
        </p:nvSpPr>
        <p:spPr>
          <a:xfrm>
            <a:off x="-7920" y="439560"/>
            <a:ext cx="7551360" cy="126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25360" indent="-243000">
              <a:lnSpc>
                <a:spcPct val="114000"/>
              </a:lnSpc>
              <a:buClr>
                <a:srgbClr val="202020"/>
              </a:buClr>
              <a:buFont typeface="Calibri"/>
              <a:buAutoNum type="arabicPeriod" startAt="30"/>
            </a:pP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ОПЕРАЦИЯ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ПОДПАДАЮЩАЯ ПОД ПРИЗНАК ПОДОЗРИТЕЛЬ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5360" indent="-243000">
              <a:lnSpc>
                <a:spcPct val="114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И УКАЗАНИИ РЕЗИДЕНТОМ ПО ЭКСПОРТНО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МПОРТНОМУ КОНТРАКТУ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РОКА РЕПАТРИАЦИ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5360" indent="-243000" algn="ctr">
              <a:lnSpc>
                <a:spcPct val="135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ЕВЫШАЮЩЕГО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360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ДНЕЙ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ЗА ИСКЛЮЧЕНИЕМ КОНТРАКТОВ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ЕДУСМАТРИВАЮЩИХ ОКАЗАНИЕ УСЛУГ 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/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ЛИ ВЫПОЛНЕНИЕ СТРОИТЕЛЬНО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МОНТАЖНЫХ РАБОТ НА ТЕРРИТОРИИ РЕСПУБЛ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5360" indent="-243000" algn="ctr">
              <a:lnSpc>
                <a:spcPct val="10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КАЗАХСТАН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5360" indent="-243000"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5360" indent="-243000">
              <a:lnSpc>
                <a:spcPct val="114000"/>
              </a:lnSpc>
              <a:spcBef>
                <a:spcPts val="901"/>
              </a:spcBef>
              <a:buClr>
                <a:srgbClr val="202020"/>
              </a:buClr>
              <a:buFont typeface="Calibri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ИЗНАКОМ ПОДОЗРИТЕЛЬНОСТИ ОПЕРАЦИИ НЕ ЯВЛЯЕТСЯ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5360" indent="-243000">
              <a:lnSpc>
                <a:spcPct val="114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РЕГУЛЯРНЫЕ ПЕРЕВОДЫ ДЕНЕГ С ТЕКУЩЕГО СЧЕТА КЛИЕНТА НА ЕГО СЧЕТ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ЧЕТА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 ДРУГ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5360" indent="-243000" algn="ctr">
              <a:lnSpc>
                <a:spcPct val="135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БАНКЕ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ДРУГИХ БАНКАХ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 ПОСЛЕДУЮЩИМИ ОБРАТНЫМИ ПЕРЕВОДАМИ ДЕНЕГ В ОДИНАКОВЫХ 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/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ЛИ ПОХОЖИХ ПО ЗНАЧЕНИЮ СУММАХ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5360" indent="-24300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5360" indent="-243000">
              <a:lnSpc>
                <a:spcPct val="114000"/>
              </a:lnSpc>
              <a:buClr>
                <a:srgbClr val="202020"/>
              </a:buClr>
              <a:buFont typeface="Calibri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НАЗОВИТЕ ОПЕРАЦИЮ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СОДЕРЖАЩУЮ ПРИЗНАКИ ПОДОЗРИТЕЛЬНОСТИ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5360" indent="-243000" algn="ctr">
              <a:lnSpc>
                <a:spcPct val="114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ЛАТЕЖ В ПОЛЬЗУ НЕРЕЗИДЕНТА РЕСПУБЛИКИ КАЗАХСТАН ПО ДОГОВОРУ НА ИМПОРТ ТОВАРОВ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5360" indent="-243000" algn="ctr">
              <a:lnSpc>
                <a:spcPct val="112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ОГЛАСНО КОТОРОГО ФАКТИЧЕСКОЕ ПОСТУПЛЕНИЕ ИЛИ ПЕРЕМЕЩЕНИЕ ТОВАРА ПО ТЕРРИТОРИИ РЕСПУБЛИКИ КАЗАХСТАН НЕ ПРОИЗВОДИТСЯ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5360" indent="-243000"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125360" indent="-24300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33.</a:t>
            </a:r>
            <a:r>
              <a:rPr b="0" i="1" lang="en-US" sz="1400" spc="-1" strike="noStrike">
                <a:solidFill>
                  <a:srgbClr val="202020"/>
                </a:solidFill>
                <a:latin typeface="Arial"/>
                <a:ea typeface="Arial"/>
              </a:rPr>
              <a:t>ПРИЗНАКОМ ПОДОЗРИТЕЛЬНОСТИ ОПЕРАЦИИ 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НЕ ЯВЛЯЕТ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5360" indent="-243000">
              <a:lnSpc>
                <a:spcPct val="135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ЛАТЕЖИ И ПЕРЕВОДЫ ДЕНЕГ ПО ДОГОВОРУ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ДОГОВОРАМ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НА ИМПОРТ ТОВАРОВ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РАБОТ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УСЛУГ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 ПОЛЬЗУ НЕРЕЗИДЕНТА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НЕ ЯВЛЯЮЩЕГОСЯ СТОРОНОЙ ПО ДОГОВОРУ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ДОГОВОРАМ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5360" indent="-24300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5360" indent="-243000">
              <a:lnSpc>
                <a:spcPct val="100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34.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ПЕРАЦИЯ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ОДЕРЖАЩАЯ ПРИЗНАКИ ПОДОЗРИТЕЛЬ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5360" indent="-243000">
              <a:lnSpc>
                <a:spcPct val="100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ЧАСТОЕ ПОСТУПЛЕНИЕ В ПОЛЬЗУ КЛИЕНТА ПЛАТЕЖЕЙ ПО ТРАНСПОРТНЫМ УСЛУГАМ 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5360" indent="-243000" algn="ctr">
              <a:lnSpc>
                <a:spcPct val="113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СПОЛЬЗОВАНИЕМ ЭЛЕКТРОННЫХ ДЕНЕГ ОТ НЕ ИДЕНТИФИЦИРОВАННЫХ ВЛАДЕЛЬЦЕВ ЭЛЕКТРОННЫХ ДЕНЕГ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5360" indent="-243000"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5360" indent="-243000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34.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ПЕРАЦИЯ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ОДЕРЖАЩАЯ ПРИЗНАКИ ПОДОЗРИТЕЛЬ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5360" indent="-243000">
              <a:lnSpc>
                <a:spcPct val="100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ЧАСТОЕ ПОСТУПЛЕНИЕ В ПОЛЬЗУ КЛИЕНТА ПЛАТЕЖЕЙ ПО ТРАНСПОРТНЫМ УСЛУГАМ 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5360" indent="-243000" algn="ctr">
              <a:lnSpc>
                <a:spcPct val="113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СПОЛЬЗОВАНИЕМ ЭЛЕКТРОННЫХ ДЕНЕГ ОТ НЕ ИДЕНТИФИЦИРОВАННЫХ ВЛАДЕЛЬЦЕВ ЭЛЕКТРОННЫХ ДЕНЕГ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5360" indent="-243000"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125360" indent="-243000">
              <a:lnSpc>
                <a:spcPct val="116000"/>
              </a:lnSpc>
              <a:tabLst>
                <a:tab algn="l" pos="0"/>
              </a:tabLst>
            </a:pPr>
            <a:r>
              <a:rPr b="0" lang="en-US" sz="1300" spc="-1" strike="noStrike">
                <a:solidFill>
                  <a:schemeClr val="dk1"/>
                </a:solidFill>
                <a:latin typeface="Calibri"/>
                <a:ea typeface="Calibri"/>
              </a:rPr>
              <a:t>35.</a:t>
            </a:r>
            <a:r>
              <a:rPr b="0" lang="en-US" sz="13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АКАЯ ИЗ ОПЕРАЦИЙ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ОВЕРШАЕМЫХ ЛИЦОМ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ВКЛЮЧЕННЫМ В ПЕРЕЧЕНЬ ОРГАНИЗАЦИЙ И ЛИЦ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ВЯЗАННЫХ С ФИНАНСИРОВАНИЕМ ТЕРРОРИЗМА И ЭКСТРЕМИЗМА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НЕ ОПРЕДЕЛЯЕТСЯ КАК ПОДОЗРИТЕЛЬНАЯ СОГЛАСНО ПРИЗНАКАМ ОПРЕДЕЛЕНИЯ ПОДОЗРИТЕЛЬНЫХ ОПЕРАЦИЙ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5360" indent="-243000">
              <a:lnSpc>
                <a:spcPct val="114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ОВЕРШЕНИЕ ОПЕРАЦИЙ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ДЕЛК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НА ИНДИВИДУАЛЬНЫХ ПЕНСИОННЫХ СЧЕТАХ ПО УЧЕТ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5360" indent="-243000" algn="ctr">
              <a:lnSpc>
                <a:spcPct val="114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БЯЗАТЕЛЬНЫХ ПЕНСИОННЫХ ВЗНОСОВ И ОБЯЗАТЕЛЬНЫХ ПРОФЕССИОНАЛЬНЫХ ПЕНСИОННЫХ ВЗНОСОВ ЛИЦОМ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КЛЮЧЕННЫМ В ПЕРЕЧЕНЬ ОРГАНИЗАЦИЙ И ЛИЦ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ВЯЗАННЫХ С ФИНАНСИРОВАНИЕМ ТЕРРОРИЗМА И ЭКСТРЕМИЗМА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Google Shape;526;p85"/>
          <p:cNvSpPr/>
          <p:nvPr/>
        </p:nvSpPr>
        <p:spPr>
          <a:xfrm>
            <a:off x="44280" y="446040"/>
            <a:ext cx="7470360" cy="31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220920" indent="-3014640">
              <a:lnSpc>
                <a:spcPct val="112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36.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КАКИМ ОРГАНОМ ОПРЕДЕЛЯЮТСЯ ПРИЗНАКИ ОПРЕДЕЛЕНИЯ ПОДОЗРИТЕЛЬНОЙ ОПЕРАЦИИ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0920" indent="-3014640" algn="ctr">
              <a:lnSpc>
                <a:spcPct val="114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УПОЛНОМОЧЕННЫМ ОРГАНОМ ПО ФИНАНСОВОМУ МОНИТОРИНГУ ПО СОГЛАСОВАНИЮ 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0920" indent="-301464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ГОСУДАРСТВЕННЫМИ ОРГАНАМ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СУЩЕСТВЛЯЮЩИМИ В ПРЕДЕЛАХ СВОЕЙ КОМПЕТЕН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0920" indent="-3014640" algn="ctr">
              <a:lnSpc>
                <a:spcPct val="115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ГОСУДАРСТВЕННЫЙ КОНТРОЛЬ ЗА СОБЛЮДЕНИЕМ СУБЪЕКТАМИ ФИНАНСОВОГО МОНИТОРИНГА ЗАКОНОДАТЕЛЬСТВА РЕСПУБЛИКИ КАЗАХСТАН О ПРОТИВОДЕЙСТВИИ ЛЕГАЛИЗАЦИИ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ТМЫВАНИЮ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ДОХОДОВ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ЛУЧЕННЫХ ПРЕСТУПНЫМ ПУТЕМ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 ФИНАНСИРОВАНИЮ ТЕРРОРИЗМА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Google Shape;527;p85"/>
          <p:cNvSpPr/>
          <p:nvPr/>
        </p:nvSpPr>
        <p:spPr>
          <a:xfrm>
            <a:off x="461880" y="2919240"/>
            <a:ext cx="6675120" cy="27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49400" indent="-136440">
              <a:lnSpc>
                <a:spcPct val="116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37.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КОЛЬКО ДЕЙСТВУЮЩИХ В НАСТОЯЩЕЕ ВРЕМЯ ПРИЗНАКОВ ОПРЕДЕЛЕНИЯ ПОДОЗРИТЕЛЬНЫХ ОПЕРАЦИЙ СОГЛАСНО ПРИКАЗУ МИНИСТРА ФИНАН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400" indent="-136440" algn="ctr">
              <a:lnSpc>
                <a:spcPct val="10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РЕСПУБЛ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400" indent="-136440" algn="ctr">
              <a:lnSpc>
                <a:spcPct val="118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АЗАХСТАН ОТ 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30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ЕНТЯБРЯ 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2020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ГОДА 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№ 938 "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Б УТВЕРЖДЕНИИ ПРАВИЛ ПРЕДСТАВЛЕНИЯ СУБЪЕКТАМИ ФИНАНСОВОГО МОНИТОРИНГА СВЕДЕНИЙ И ИНФОРМ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400" indent="-136440" algn="ctr">
              <a:lnSpc>
                <a:spcPct val="135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Б ОПЕРАЦИЯХ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ДЛЕЖАЩИХ ФИНАНСОВОМУ МОНИТОРИНГУ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 ПРИЗНАКОВ ОПРЕДЕЛЕНИЯ ПОДОЗРИТЕЛЬНОЙ ОПЕРАЦИИ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"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400" indent="-136440" algn="ctr">
              <a:lnSpc>
                <a:spcPct val="107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8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400" indent="-13644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13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ИКАЗЕ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1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Google Shape;528;p85"/>
          <p:cNvSpPr/>
          <p:nvPr/>
        </p:nvSpPr>
        <p:spPr>
          <a:xfrm>
            <a:off x="-12600" y="4853160"/>
            <a:ext cx="82080" cy="1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Google Shape;105;p14"/>
          <p:cNvSpPr/>
          <p:nvPr/>
        </p:nvSpPr>
        <p:spPr>
          <a:xfrm>
            <a:off x="25560" y="220680"/>
            <a:ext cx="7503840" cy="126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628560" indent="-88920">
              <a:lnSpc>
                <a:spcPct val="112000"/>
              </a:lnSpc>
              <a:buClr>
                <a:srgbClr val="000000"/>
              </a:buClr>
              <a:buFont typeface="Trebuchet MS"/>
              <a:buAutoNum type="arabicPeriod" startAt="14"/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ЧТО ОТНОСИТСЯ К ТИПИЧНЫМ ХАРАКТЕРИСТИКАМ ЭКСТРЕМИСТОВ И ТЕРРОРИСТОВ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28560" algn="ctr">
              <a:lnSpc>
                <a:spcPct val="121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МУЖЧИНЫ В ВОЗРАСТЕ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16-35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Л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28560" algn="ctr">
              <a:lnSpc>
                <a:spcPct val="142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ИВЕРЖЕНЦЫ НЕТРАДИЦИОННЫХ РЕЛИГИОЗНЫХ ТЕЧЕНИЙ ДЕСТРУКТИВНЫХ И РАДИКАЛЬНОЙ НАПРАВЛЕН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28560" algn="ctr">
              <a:lnSpc>
                <a:spcPct val="10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ИВЕРЖЕНЦЫ НЕТРАДИЦИОННОГО РЕЛИГИОЗНОГО ТЕЧЕНИЯ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НРТ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)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НАПРИМЕ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2856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«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АЛАФИЗМ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»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28560" algn="ctr">
              <a:lnSpc>
                <a:spcPct val="142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ОМОЗАНЯТЫЕ ЛИЦА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ОЖИВАЮЩИЕ В РЕГИОНАХ СТРАНЫ С БОЛЬШИМ УРОВНЕМ БЕЗРАБОТИЦ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28560" algn="ctr">
              <a:lnSpc>
                <a:spcPct val="10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ЛИЦА РАНЕЕ ПРИВЛЕКАВШИЙСЯ К УГОЛОВНОЙ ОТВЕТСТВЕННОСТИ ЗА СОВЕРШ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2856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ЕСТУПЛЕНИЙ ПРОТИВ ЛИЧНОСТИ И СОБСТВЕН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28560" algn="ctr">
              <a:lnSpc>
                <a:spcPct val="142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АКТИВНО ПОСЕЩАЮЩИЕ ЭКСТРЕМИСТСКИЕ САЙТЫ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СТАВЛЯЮТ КОММЕНТАРИ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ЛУЧАЮТ КОНСУЛЬТАЦИИ ИДЕОЛОГОВ И НОСИТЕЛЕЙ ЭКСТРЕМИЗМА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28560" algn="ctr">
              <a:lnSpc>
                <a:spcPct val="10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ЛИЦА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ЯВЛЯЮЩИЕСЯ БЛИЗКИМИ РОДСТВЕННИКАМИ ТЕРРОРИСТОВ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ИНИМАЮЩИ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2856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ОНИМАВШИХ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УЧАСТИЕ В ЗОНАХ БОЕВЫХ КОНФЛИКТОВ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ЛИ ПРИНИМАВШИХ ПОПЫТКИ ВЫЕЗДА В ЗОНЫ КОНФЛИКТА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ОСТОЯЩИМИ В ПЕРЕЧНЕ ОРГАНИЗАЦИИ И ЛИЦ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ВЯЗАННЫХ 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2856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ФИНАНСИРОВАНИЕМ ТЕРРОРИЗМА И ЭКСТРЕМИЗ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2856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 БОЛЬШИНСТВЕ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НЕ ИМЕЮЩИЕ ВЫСШЕГО ОБРАЗ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28560" algn="ctr">
              <a:lnSpc>
                <a:spcPct val="117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МАЛОГРАМОТНЫЕ В РЕЛИГИОЗНЫХ ТЕЧЕНИЯХ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КЛОННЫЕ К РАДИКАЛЬНЫМ ВЗГЛЯДАМ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ПИРАЮЩИЕСЯ НА ЗНАНИЯ ТОЛЬКО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«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ЗБРАННЫХ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»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ШЕЙХОВ И ПРОПОВЕДНИКОВ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28560"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28560" indent="-88920">
              <a:lnSpc>
                <a:spcPct val="112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УКАЖИТЕ ПОВЕДЕНИЕ ЭКСТРЕМИСТОВ И ТЕРРОРИСТОВ ВО ВРЕМЯ ФИНАНСОВЫХ ОПЕРАЦИЙ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28560" algn="ctr">
              <a:lnSpc>
                <a:spcPct val="10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ПРИ ОТКРЫТИЕ СЧЕТА У СФ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2856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.-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КЛИЕНТ ПЫТАЕТСЯ ДАТЬ КАК МОЖНО МЕНЬШЕ ИНФОРМАЦИИ О СЕБ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2856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.-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ПРЕДСТАВЛЕННАЯ ИНФОРМАЦИЯ ЯВЛЯЕТСЯ ЛОЖНОЙ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ЛИБО ТРУДНО ПРОВЕРЯЕМ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28560">
              <a:lnSpc>
                <a:spcPct val="119000"/>
              </a:lnSpc>
              <a:tabLst>
                <a:tab algn="l" pos="0"/>
              </a:tabLst>
            </a:pP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.-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АДРЕС ЮРИДИЧЕСКОГО ЛИЦА ИЛИ ОРГАНИЗАЦИИ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ОТКРЫВШЕЙ СЧЕТ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СОВПАДАЕТ С АДРЕСАМИ ДРУГИХ ОРГАНИЗАЦИИ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ДЛЯ КОТОРЫХ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ОДИН ТОТ ЖЕ ЧЕЛОВЕК ИМЕЕТ ПРАВО ПОДПИСИ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2856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.-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СВОИМИ ДЕЙСТВИЯМИ ВЫЗЫВАЕТ ПОДОЗРИТЕЛЬНОСТЬ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СКРЫТ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2856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.-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ПРИ ОТСУТСТВИИ СТАБИЛЬНОГО ЗАРАБОТКА ИМЕЕТ ИНОСТРАННЫЕ ВАЛЮТЫ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РЕДКО ИСПОЛЬЗУЕМЫЕ 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2856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ТЕРРИТОРИИ  Р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2856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.-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	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КЛИЕНТ ПРОСИТ ПРОВЕСТИ ОПЕРАЦИЮ БЫСТРО БЕЗ ОБЪЯСНЕНИЯ ПРИЧ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2856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СИСТЕМ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2856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.-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МНОГОЧИСЛЕННЫЕ СЕРИИ ЗАПУТАННЫХ ОПЕР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2856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.-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НЕОДНОКРАТНЫЕ ПЕРЕВОДЫ НЕБОЛЬШИХ СУМ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2856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.-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НЕВОЗМОЖНОСТЬ УСТАНОВИТЬ ИСТОЧНИК СРЕД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2856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.-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ВКЛАДЫ ИЛИ СНЯТИЕ СУММ НЕМНОГО НИЖЕ ПОРОГА ИДЕНТИФИК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2856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.-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ПОСТОЯННЫЕ ПОЖЕРТВОВАНИЯ НА БЛАГОТВОРИ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2856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.-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  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СРЕДСТВА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ОТПРАВЛЕННЫЕ ИЛИ ПОЛУЧЕННЫЕ ИЗ СТРАН С ВЫСОКИМ УРОВНЕМ ТЕРРОРИСТИЧЕСК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2856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АКТИВНОСТ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28560">
              <a:lnSpc>
                <a:spcPct val="150000"/>
              </a:lnSpc>
              <a:tabLst>
                <a:tab algn="l" pos="0"/>
              </a:tabLst>
            </a:pP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.-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ОТПРАВИТЕЛИ ИЛИ ПОЛУЧАТЕЛИ ЯВЛЯЮТСЯ ГРАЖДАНАМИ СТРАН ЛИБО НАХОДЯТСЯ В СТРАНЕ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ГДЕ АКТИВНО ДЕЙСТВУЮТ ТЕРРОРИСТЫ ИЛИ ГРУППЫ ПОДДЕРЖИВАЮЩИЕ ИХ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2856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.-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	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ОБМЕН ИНОСТРАННОЙ ВАЛЮТЫ СРАЗУ ПОСЛЕ ПЕРЕВОДА ИХ СТРАН С ВЫСОКИМ УРОВНЕМ РИСКА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Google Shape;533;p86"/>
          <p:cNvSpPr/>
          <p:nvPr/>
        </p:nvSpPr>
        <p:spPr>
          <a:xfrm>
            <a:off x="1266840" y="103320"/>
            <a:ext cx="4973400" cy="17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500" spc="-1" strike="noStrike">
                <a:solidFill>
                  <a:srgbClr val="202020"/>
                </a:solidFill>
                <a:latin typeface="Lucida Sans"/>
                <a:ea typeface="Lucida Sans"/>
              </a:rPr>
              <a:t>ПОДГОТОВКАКАТТЕСТАЦИ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2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600" spc="-1" strike="noStrike">
                <a:solidFill>
                  <a:srgbClr val="202020"/>
                </a:solidFill>
                <a:latin typeface="Lucida Sans"/>
                <a:ea typeface="Lucida Sans"/>
              </a:rPr>
              <a:t>БЛОК</a:t>
            </a:r>
            <a:r>
              <a:rPr b="0" lang="en-US" sz="1600" spc="-1" strike="noStrike">
                <a:solidFill>
                  <a:srgbClr val="202020"/>
                </a:solidFill>
                <a:latin typeface="Calibri"/>
                <a:ea typeface="Calibri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</a:tabLst>
            </a:pPr>
            <a:r>
              <a:rPr b="1" i="1" lang="en-US" sz="1800" spc="-1" strike="noStrike">
                <a:solidFill>
                  <a:srgbClr val="ff1515"/>
                </a:solidFill>
                <a:latin typeface="Arial"/>
                <a:ea typeface="Arial"/>
              </a:rPr>
              <a:t>ВОПРО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3000"/>
              </a:lnSpc>
              <a:spcBef>
                <a:spcPts val="99"/>
              </a:spcBef>
              <a:tabLst>
                <a:tab algn="l" pos="0"/>
              </a:tabLst>
            </a:pPr>
            <a:r>
              <a:rPr b="1" i="1" lang="en-US" sz="1800" spc="-1" strike="noStrike">
                <a:solidFill>
                  <a:srgbClr val="ff1515"/>
                </a:solidFill>
                <a:latin typeface="Arial"/>
                <a:ea typeface="Arial"/>
              </a:rPr>
              <a:t>ПО ТИПОЛОГИЯМ, СХЕМАМ И СПОСОБАМ ОДФТ (МОГУТ БЫТЬ, МОГУТ НЕ БЫТ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Google Shape;534;p86"/>
          <p:cNvSpPr/>
          <p:nvPr/>
        </p:nvSpPr>
        <p:spPr>
          <a:xfrm>
            <a:off x="-12600" y="2252520"/>
            <a:ext cx="7554600" cy="76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822240" indent="-809640">
              <a:lnSpc>
                <a:spcPct val="100000"/>
              </a:lnSpc>
              <a:buClr>
                <a:srgbClr val="202020"/>
              </a:buClr>
              <a:buFont typeface="Calibri"/>
              <a:buAutoNum type="arabicPeriod"/>
            </a:pP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КЕМ УТВЕРЖДАЮТСЯ ТИПОЛОГИИ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СХЕМЫ И СПОСОБЫ ЛЕГАЛИЗАЦИИ 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(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ОТМЫВАНИЯ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22240" indent="-80964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ПРЕСТУПНЫХ ДОХОДОВ И ФИНАНСИРОВАНИЯ ТЕРРОРИЗМА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22240" indent="-809640">
              <a:lnSpc>
                <a:spcPct val="100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ЕА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22240" indent="-809640"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22240" indent="-809640">
              <a:lnSpc>
                <a:spcPct val="100000"/>
              </a:lnSpc>
              <a:spcBef>
                <a:spcPts val="799"/>
              </a:spcBef>
              <a:buClr>
                <a:srgbClr val="202020"/>
              </a:buClr>
              <a:buFont typeface="Calibri"/>
              <a:buAutoNum type="arabicPeriod" startAt="2"/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КАКИМ ОБРАЗОМ ТИПОЛОГИИ ДОВОДЯТСЯ ДО СУБЪЕКТОВ ФИНАНСОВ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22240" indent="-809640" algn="ctr">
              <a:lnSpc>
                <a:spcPct val="114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МОНИТОРИНГ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22240" indent="-809640" algn="ctr">
              <a:lnSpc>
                <a:spcPct val="114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ЧЕРЕЗ ЛИЧНЫЙ КАБИН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22240" indent="-809640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АЙТ АФ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22240" indent="-80964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2240" indent="-809640">
              <a:lnSpc>
                <a:spcPct val="116000"/>
              </a:lnSpc>
              <a:buClr>
                <a:srgbClr val="20202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ДАЙТЕ ОПРЕДЕЛЕНИЕ ФИНАНСОВОЙ 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(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ИНВЕСТИЦИОННОЙ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)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ПИРАМИДЕ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СОГЛАСНО УТВЕРЖДЁННОЙ ТИПОЛОГИЕЙ 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«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ФИНАНСОВЫЕ ПИРАМИДЫ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КРИТЕР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22240" indent="-809640" algn="ctr">
              <a:lnSpc>
                <a:spcPct val="114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ПОДОЗРИТЕЛЬНОСТИ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СХЕМЫ ФУНКЦИОНИРОВАНИЯ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»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22240" indent="-809640">
              <a:lnSpc>
                <a:spcPct val="114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16cc52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ОПРЕДЕЛЕНИЕ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–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ИСТЕМА ОБЕСПЕЧЕНИЯ ДОХОДА ОСНОВАТЕЛЮ И ЧЛЕНА СТРУКТУ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22240" indent="-809640">
              <a:lnSpc>
                <a:spcPct val="116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ФУНКЦИЯ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ДЛЯ ПОЛУЧЕНИЯ ДОХОДА ПЕРВОНАЧАЛЬНЫМ ВКЛАДЧИКАМ НЕТ НУЖДЫ ПРИВЛЕКАТЬ НОВИЧКОВ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ЕРВОПРОХОДЦЫ ПОЛУЧАЮТ ДОХОД ЗА СЧЁТ СОБСТВЕННЫХ СРЕДСТ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22240" indent="-80964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РГАНИЗАТОРА ЭТОЙ СХЕМЫ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ИВЛЕЧЕНИЕ НОВЫХ ВКЛАДЧИКОВ ОСНОВЫВАЕТСЯ НА РАСПРОСТРАНЕНИИ ИНФОРМАЦИИ ОБ УЛЬТРА СОВРЕМЕННОЙ СУПЕРДОХОДНОЙ ИНВЕСТИЦИОННОЙ РАЗРАБОТКЕ ОРГАНИЗАТОРА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КОТОРАЯ ПОДКРЕПЛЯЕТСЯ СЛОВАМИ ВКЛАДЧИКОВ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УЖЕ ПОЛУЧИВШИХ ПРИБЫЛЬ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22240" indent="-809640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16cc52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ПОДОЗРИТЕЛЬНОСТЬ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–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ЫСОКИЙ ДОХ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22240" indent="-80964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2240" indent="-809640">
              <a:lnSpc>
                <a:spcPct val="113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4.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ПО КАКОЙ СТАТЬЕ УГОЛОВНОГО КОДЕКСА РЕСПУБЛИКИ КАЗАХСТАН ПРЕДУСМОТРЕНА ОТВЕТСТВЕННОСТЬ ЗА СОЗДАНИЕ ФИНАНСОВОЙ 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(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ИНВЕСТИЦИОННОЙ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)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ПИРАМИДЫ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22240" indent="-809640" algn="ctr">
              <a:lnSpc>
                <a:spcPct val="10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••</a:t>
            </a: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СТАТЬЯ </a:t>
            </a:r>
            <a:r>
              <a:rPr b="0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217.</a:t>
            </a:r>
            <a:r>
              <a:rPr b="0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СОЗДАНИЕ И РУКОВОДСТВО ФИНАНСОВОЙ </a:t>
            </a:r>
            <a:r>
              <a:rPr b="0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(</a:t>
            </a: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ИНВЕСТИЦИОННОЙ</a:t>
            </a:r>
            <a:r>
              <a:rPr b="0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22240" indent="-80964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ПИРАМИД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Google Shape;535;p86"/>
          <p:cNvSpPr/>
          <p:nvPr/>
        </p:nvSpPr>
        <p:spPr>
          <a:xfrm>
            <a:off x="0" y="0"/>
            <a:ext cx="1387080" cy="340920"/>
          </a:xfrm>
          <a:custGeom>
            <a:avLst/>
            <a:gdLst>
              <a:gd name="textAreaLeft" fmla="*/ 0 w 1387080"/>
              <a:gd name="textAreaRight" fmla="*/ 1387440 w 1387080"/>
              <a:gd name="textAreaTop" fmla="*/ 0 h 340920"/>
              <a:gd name="textAreaBottom" fmla="*/ 341280 h 340920"/>
            </a:gdLst>
            <a:ahLst/>
            <a:rect l="textAreaLeft" t="textAreaTop" r="textAreaRight" b="textAreaBottom"/>
            <a:pathLst>
              <a:path w="1386840" h="340995">
                <a:moveTo>
                  <a:pt x="366189" y="0"/>
                </a:moveTo>
                <a:lnTo>
                  <a:pt x="0" y="340980"/>
                </a:lnTo>
                <a:lnTo>
                  <a:pt x="236850" y="340980"/>
                </a:lnTo>
                <a:lnTo>
                  <a:pt x="603040" y="0"/>
                </a:lnTo>
                <a:lnTo>
                  <a:pt x="366189" y="0"/>
                </a:lnTo>
              </a:path>
              <a:path w="1386840" h="340995">
                <a:moveTo>
                  <a:pt x="757976" y="0"/>
                </a:moveTo>
                <a:lnTo>
                  <a:pt x="391799" y="340980"/>
                </a:lnTo>
                <a:lnTo>
                  <a:pt x="628649" y="340980"/>
                </a:lnTo>
                <a:lnTo>
                  <a:pt x="994839" y="0"/>
                </a:lnTo>
                <a:lnTo>
                  <a:pt x="757976" y="0"/>
                </a:lnTo>
              </a:path>
              <a:path w="1386840" h="340995">
                <a:moveTo>
                  <a:pt x="1149775" y="0"/>
                </a:moveTo>
                <a:lnTo>
                  <a:pt x="783585" y="340980"/>
                </a:lnTo>
                <a:lnTo>
                  <a:pt x="1021079" y="340980"/>
                </a:lnTo>
                <a:lnTo>
                  <a:pt x="1386647" y="0"/>
                </a:lnTo>
                <a:lnTo>
                  <a:pt x="1149775" y="0"/>
                </a:lnTo>
              </a:path>
            </a:pathLst>
          </a:custGeom>
          <a:solidFill>
            <a:srgbClr val="2020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Google Shape;540;p87"/>
          <p:cNvSpPr/>
          <p:nvPr/>
        </p:nvSpPr>
        <p:spPr>
          <a:xfrm>
            <a:off x="-17640" y="555480"/>
            <a:ext cx="7508520" cy="9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79200" indent="361800">
              <a:lnSpc>
                <a:spcPct val="113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5.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СКОЛЬКО ИНДИКАТОРОВ РИСКОВ ПРЕДУСМОТРЕНО ПО ПОДОЗРИТЕЛЬНОСТИ УТВЕРЖДЁННОЙ ТИПОЛОГИЕЙ 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«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ВЫЯВЛЕНИЕ КОМПАНИИ ОСУЩЕСТВЛЯЮЩИХ ВЫПИСК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200" indent="361800">
              <a:lnSpc>
                <a:spcPct val="135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СЧЕТ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-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ФАКТУР БЕЗ ФАКТИЧЕСКОГО ВЫПОЛНЕНИЯ РАБОТ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ОКАЗАНИЯ УСЛУГ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ОТГРУЗКИ ТОВАРОВ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»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200" indent="361800" algn="ctr">
              <a:lnSpc>
                <a:spcPct val="107000"/>
              </a:lnSpc>
              <a:tabLst>
                <a:tab algn="l" pos="0"/>
              </a:tabLst>
            </a:pPr>
            <a:r>
              <a:rPr b="1" i="1" lang="en-US" sz="1300" spc="-1" strike="noStrike">
                <a:solidFill>
                  <a:srgbClr val="ff1515"/>
                </a:solidFill>
                <a:latin typeface="Arial"/>
                <a:ea typeface="Arial"/>
              </a:rPr>
              <a:t>•</a:t>
            </a:r>
            <a:r>
              <a:rPr b="1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15</a:t>
            </a:r>
            <a:r>
              <a:rPr b="1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НДИКАТОРОВ РИС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200" indent="361800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1.</a:t>
            </a:r>
            <a:r>
              <a:rPr b="0" i="1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УПЛАТА ПО НАЛОГАМ МИНИМАЛЬНАЯ</a:t>
            </a:r>
            <a:r>
              <a:rPr b="0" i="1" lang="en-US" sz="1400" spc="-1" strike="noStrike">
                <a:solidFill>
                  <a:srgbClr val="ff1515"/>
                </a:solidFill>
                <a:latin typeface="Cambria"/>
                <a:ea typeface="Cambri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1360" indent="-361800">
              <a:lnSpc>
                <a:spcPct val="111000"/>
              </a:lnSpc>
              <a:buClr>
                <a:srgbClr val="202020"/>
              </a:buClr>
              <a:buFont typeface="Calibri"/>
              <a:buChar char="•"/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.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ШТАТ КОМПАНИИ НЕ СООТВЕТСТВУЕТ ОСУЩЕСТВЛЯЕМОЙ ДЕЯТЕЛЬНОСТИ</a:t>
            </a:r>
            <a:r>
              <a:rPr b="0" i="1" lang="en-US" sz="1400" spc="-1" strike="noStrike">
                <a:solidFill>
                  <a:srgbClr val="ff1515"/>
                </a:solidFill>
                <a:latin typeface="Cambria"/>
                <a:ea typeface="Cambria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ЛИБО РАБОТНИКИ ОТСУТСТВУЮТ</a:t>
            </a:r>
            <a:r>
              <a:rPr b="0" i="1" lang="en-US" sz="1400" spc="-1" strike="noStrike">
                <a:solidFill>
                  <a:srgbClr val="ff1515"/>
                </a:solidFill>
                <a:latin typeface="Cambria"/>
                <a:ea typeface="Cambri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1360" indent="-361800">
              <a:lnSpc>
                <a:spcPct val="100000"/>
              </a:lnSpc>
              <a:spcBef>
                <a:spcPts val="201"/>
              </a:spcBef>
              <a:buClr>
                <a:srgbClr val="202020"/>
              </a:buClr>
              <a:buFont typeface="Calibri"/>
              <a:buChar char="•"/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.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НЯТ С УЧЕТА ПО НДС В СВЯЗИ С ОТСУТСТВИЕМ ПО МЕСТУ НАХОЖДЕНИЯ</a:t>
            </a:r>
            <a:r>
              <a:rPr b="0" i="1" lang="en-US" sz="1400" spc="-1" strike="noStrike">
                <a:solidFill>
                  <a:srgbClr val="ff1515"/>
                </a:solidFill>
                <a:latin typeface="Cambria"/>
                <a:ea typeface="Cambri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1360" indent="-361800">
              <a:lnSpc>
                <a:spcPct val="100000"/>
              </a:lnSpc>
              <a:spcBef>
                <a:spcPts val="99"/>
              </a:spcBef>
              <a:buClr>
                <a:srgbClr val="202020"/>
              </a:buClr>
              <a:buFont typeface="Calibri"/>
              <a:buChar char="•"/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.</a:t>
            </a:r>
            <a:r>
              <a:rPr b="0" i="1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РУКОВОДИТЕЛИ</a:t>
            </a:r>
            <a:r>
              <a:rPr b="0" i="1" lang="en-US" sz="1400" spc="-1" strike="noStrike">
                <a:solidFill>
                  <a:srgbClr val="ff1515"/>
                </a:solidFill>
                <a:latin typeface="Cambria"/>
                <a:ea typeface="Cambria"/>
              </a:rPr>
              <a:t>/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УЧРЕДИТЕЛИ КОМПАНИЙ ПРИВЛЕКАЛИСЬ К УГОЛОВН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200" indent="361800">
              <a:lnSpc>
                <a:spcPct val="113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ТВЕТСТВЕННОСТИ</a:t>
            </a:r>
            <a:r>
              <a:rPr b="0" i="1" lang="en-US" sz="1400" spc="-1" strike="noStrike">
                <a:solidFill>
                  <a:srgbClr val="ff1515"/>
                </a:solidFill>
                <a:latin typeface="Cambria"/>
                <a:ea typeface="Cambria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ЛИБО К АДМИНИСТРАТИВНОЙ ОТВЕТСТВЕННОСТИ ЗА АСОЦИАЛЬНОЕ ПОВЕДЕНИЕ </a:t>
            </a:r>
            <a:r>
              <a:rPr b="0" i="1" lang="en-US" sz="1400" spc="-1" strike="noStrike">
                <a:solidFill>
                  <a:srgbClr val="ff1515"/>
                </a:solidFill>
                <a:latin typeface="Cambria"/>
                <a:ea typeface="Cambria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РАСПИТИЕ СПИРТНЫХ НАПИТКОВ И ДР</a:t>
            </a:r>
            <a:r>
              <a:rPr b="0" i="1" lang="en-US" sz="1400" spc="-1" strike="noStrike">
                <a:solidFill>
                  <a:srgbClr val="ff1515"/>
                </a:solidFill>
                <a:latin typeface="Cambria"/>
                <a:ea typeface="Cambria"/>
              </a:rPr>
              <a:t>.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200" indent="361800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МЕЮЩИЕ ПРИЗНАКИ ПОДСТАВНЫХ ЛИЦ</a:t>
            </a:r>
            <a:r>
              <a:rPr b="0" i="1" lang="en-US" sz="1400" spc="-1" strike="noStrike">
                <a:solidFill>
                  <a:srgbClr val="ff1515"/>
                </a:solidFill>
                <a:latin typeface="Cambria"/>
                <a:ea typeface="Cambri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1360" indent="-361800">
              <a:lnSpc>
                <a:spcPct val="100000"/>
              </a:lnSpc>
              <a:spcBef>
                <a:spcPts val="201"/>
              </a:spcBef>
              <a:buClr>
                <a:srgbClr val="ff1515"/>
              </a:buClr>
              <a:buFont typeface="Cambria"/>
              <a:buChar char="•"/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ЫСОКАЯ ДОЛЯ ОБНАЛИЧИВАНИЯ </a:t>
            </a:r>
            <a:r>
              <a:rPr b="0" i="1" lang="en-US" sz="1400" spc="-1" strike="noStrike">
                <a:solidFill>
                  <a:srgbClr val="ff1515"/>
                </a:solidFill>
                <a:latin typeface="Cambria"/>
                <a:ea typeface="Cambria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ВЫШЕ </a:t>
            </a:r>
            <a:r>
              <a:rPr b="0" i="1" lang="en-US" sz="1400" spc="-1" strike="noStrike">
                <a:solidFill>
                  <a:srgbClr val="ff1515"/>
                </a:solidFill>
                <a:latin typeface="Cambria"/>
                <a:ea typeface="Cambria"/>
              </a:rPr>
              <a:t>80%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Т ВСЕХ БАНКОВСКИХ ОПЕРАЦИИ</a:t>
            </a:r>
            <a:r>
              <a:rPr b="0" i="1" lang="en-US" sz="1400" spc="-1" strike="noStrike">
                <a:solidFill>
                  <a:srgbClr val="ff1515"/>
                </a:solidFill>
                <a:latin typeface="Cambria"/>
                <a:ea typeface="Cambria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1360" indent="-361800">
              <a:lnSpc>
                <a:spcPct val="100000"/>
              </a:lnSpc>
              <a:spcBef>
                <a:spcPts val="201"/>
              </a:spcBef>
              <a:buClr>
                <a:srgbClr val="ff1515"/>
              </a:buClr>
              <a:buFont typeface="Cambria"/>
              <a:buChar char="•"/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mbria"/>
                <a:ea typeface="Cambria"/>
              </a:rPr>
              <a:t>.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УСТАНОВЛЕНА ГРУППА КОМПАНИИ ВЗАИМОРАСЧЕТЫ КОТОРЫХ ВЫЗЫВАЮТ СОМНЕНИЯ</a:t>
            </a:r>
            <a:r>
              <a:rPr b="0" i="1" lang="en-US" sz="1400" spc="-1" strike="noStrike">
                <a:solidFill>
                  <a:srgbClr val="ff1515"/>
                </a:solidFill>
                <a:latin typeface="Cambria"/>
                <a:ea typeface="Cambri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1360" indent="-3618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ambria"/>
              <a:buChar char="•"/>
              <a:tabLst>
                <a:tab algn="l" pos="0"/>
              </a:tabLst>
            </a:pPr>
            <a:r>
              <a:rPr b="0" i="1" lang="en-US" sz="1400" spc="-1" strike="noStrike">
                <a:solidFill>
                  <a:schemeClr val="dk1"/>
                </a:solidFill>
                <a:latin typeface="Cambria"/>
                <a:ea typeface="Cambria"/>
              </a:rPr>
              <a:t>.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ВЯЗАННЫЕ КОМПАНИИ ЗАРЕГИСТРИРОВАНЫ НА ОДНИХ И ТЕХ ЖЕ ЮРИДИЧЕСКИХ АДРЕСАХ</a:t>
            </a:r>
            <a:r>
              <a:rPr b="0" i="1" lang="en-US" sz="1400" spc="-1" strike="noStrike">
                <a:solidFill>
                  <a:srgbClr val="ff1515"/>
                </a:solidFill>
                <a:latin typeface="Cambria"/>
                <a:ea typeface="Cambri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1360" indent="-361800">
              <a:lnSpc>
                <a:spcPct val="100000"/>
              </a:lnSpc>
              <a:spcBef>
                <a:spcPts val="201"/>
              </a:spcBef>
              <a:buClr>
                <a:srgbClr val="ff1515"/>
              </a:buClr>
              <a:buFont typeface="Cambria"/>
              <a:buChar char="•"/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mbria"/>
                <a:ea typeface="Cambria"/>
              </a:rPr>
              <a:t>.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ЗА РУКОВОДИТЕЛЯМИ</a:t>
            </a:r>
            <a:r>
              <a:rPr b="0" i="1" lang="en-US" sz="1400" spc="-1" strike="noStrike">
                <a:solidFill>
                  <a:srgbClr val="ff1515"/>
                </a:solidFill>
                <a:latin typeface="Cambria"/>
                <a:ea typeface="Cambria"/>
              </a:rPr>
              <a:t>/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УЧРЕДИТЕЛЯМИ ЗАРЕГИСТРИРОВАНЫ НЕСКОЛЬКО ФИРМ</a:t>
            </a:r>
            <a:r>
              <a:rPr b="0" i="1" lang="en-US" sz="1400" spc="-1" strike="noStrike">
                <a:solidFill>
                  <a:srgbClr val="ff1515"/>
                </a:solidFill>
                <a:latin typeface="Cambria"/>
                <a:ea typeface="Cambri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200" indent="361800">
              <a:lnSpc>
                <a:spcPct val="135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chemeClr val="dk1"/>
                </a:solidFill>
                <a:latin typeface="Cambria"/>
                <a:ea typeface="Cambria"/>
              </a:rPr>
              <a:t>9.</a:t>
            </a:r>
            <a:r>
              <a:rPr b="0" i="1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УСТАНОВЛЕНА ВЗАИМОСВЯЗЬ ПО КОНТРАГЕНТАМ МЕЖДУ ИХ РУКОВОДИТЕЛЯМИ</a:t>
            </a:r>
            <a:r>
              <a:rPr b="0" i="1" lang="en-US" sz="1400" spc="-1" strike="noStrike">
                <a:solidFill>
                  <a:srgbClr val="ff1515"/>
                </a:solidFill>
                <a:latin typeface="Cambria"/>
                <a:ea typeface="Cambria"/>
              </a:rPr>
              <a:t>/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УЧРЕДИТЕЛЯМИ</a:t>
            </a:r>
            <a:r>
              <a:rPr b="0" i="1" lang="en-US" sz="1400" spc="-1" strike="noStrike">
                <a:solidFill>
                  <a:srgbClr val="ff1515"/>
                </a:solidFill>
                <a:latin typeface="Cambria"/>
                <a:ea typeface="Cambria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РАБОТНИКАМИ</a:t>
            </a:r>
            <a:r>
              <a:rPr b="0" i="1" lang="en-US" sz="1400" spc="-1" strike="noStrike">
                <a:solidFill>
                  <a:srgbClr val="ff1515"/>
                </a:solidFill>
                <a:latin typeface="Cambria"/>
                <a:ea typeface="Cambri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1360" indent="-361800">
              <a:lnSpc>
                <a:spcPct val="135000"/>
              </a:lnSpc>
              <a:buClr>
                <a:srgbClr val="000000"/>
              </a:buClr>
              <a:buFont typeface="Cambria"/>
              <a:buChar char="•"/>
              <a:tabLst>
                <a:tab algn="l" pos="0"/>
              </a:tabLst>
            </a:pPr>
            <a:r>
              <a:rPr b="0" i="1" lang="en-US" sz="1400" spc="-1" strike="noStrike">
                <a:solidFill>
                  <a:schemeClr val="dk1"/>
                </a:solidFill>
                <a:latin typeface="Cambria"/>
                <a:ea typeface="Cambria"/>
              </a:rPr>
              <a:t>.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ДНИ И ТЕ ЖЕ ФИЗИЧЕСКИЕ ЛИЦА СО СЧЕТОВ РАЗЛИЧНЫХ КОМПАНИИ ОБНАЛИЧИВАЮТ ДЕНЕЖНЫЕ СРЕДСТВА</a:t>
            </a:r>
            <a:r>
              <a:rPr b="0" i="1" lang="en-US" sz="1400" spc="-1" strike="noStrike">
                <a:solidFill>
                  <a:srgbClr val="ff1515"/>
                </a:solidFill>
                <a:latin typeface="Cambria"/>
                <a:ea typeface="Cambri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1360" indent="-361800">
              <a:lnSpc>
                <a:spcPct val="100000"/>
              </a:lnSpc>
              <a:spcBef>
                <a:spcPts val="99"/>
              </a:spcBef>
              <a:buClr>
                <a:srgbClr val="000000"/>
              </a:buClr>
              <a:buFont typeface="Cambria"/>
              <a:buChar char="•"/>
              <a:tabLst>
                <a:tab algn="l" pos="0"/>
              </a:tabLst>
            </a:pPr>
            <a:r>
              <a:rPr b="0" i="1" lang="en-US" sz="1400" spc="-1" strike="noStrike">
                <a:solidFill>
                  <a:schemeClr val="dk1"/>
                </a:solidFill>
                <a:latin typeface="Cambria"/>
                <a:ea typeface="Cambria"/>
              </a:rPr>
              <a:t>.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 КОРОТКИЙ ПЕРИОД ВРЕМЕНИ ПОСТУПИВШИЕ ДЕНЕЖНЬ</a:t>
            </a:r>
            <a:r>
              <a:rPr b="0" i="1" lang="en-US" sz="1400" spc="-1" strike="noStrike">
                <a:solidFill>
                  <a:srgbClr val="ff1515"/>
                </a:solidFill>
                <a:latin typeface="Cambria"/>
                <a:ea typeface="Cambria"/>
              </a:rPr>
              <a:t>L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Е СРЕДСТВА ПЕРЕВОДЯТСЯ 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200" indent="361800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ДРУГИЕ СЧЕТА ИЛИ ОБНАЛИЧИВАЮТСЯ</a:t>
            </a:r>
            <a:r>
              <a:rPr b="0" i="1" lang="en-US" sz="1400" spc="-1" strike="noStrike">
                <a:solidFill>
                  <a:srgbClr val="ff1515"/>
                </a:solidFill>
                <a:latin typeface="Cambria"/>
                <a:ea typeface="Cambri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1360" indent="-361800">
              <a:lnSpc>
                <a:spcPct val="135000"/>
              </a:lnSpc>
              <a:spcBef>
                <a:spcPts val="99"/>
              </a:spcBef>
              <a:buClr>
                <a:srgbClr val="000000"/>
              </a:buClr>
              <a:buFont typeface="Cambria"/>
              <a:buChar char="•"/>
              <a:tabLst>
                <a:tab algn="l" pos="0"/>
              </a:tabLst>
            </a:pPr>
            <a:r>
              <a:rPr b="0" i="1" lang="en-US" sz="1400" spc="-1" strike="noStrike">
                <a:solidFill>
                  <a:schemeClr val="dk1"/>
                </a:solidFill>
                <a:latin typeface="Cambria"/>
                <a:ea typeface="Cambria"/>
              </a:rPr>
              <a:t>.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МЕЕТСЯ ИНФОРМАЦИЯ ОБ ОТКАЗЕ В УСТАНОВЛЕНИИ ДЕЛОВЫХ ОТНОШЕНИИ</a:t>
            </a:r>
            <a:r>
              <a:rPr b="0" i="1" lang="en-US" sz="1400" spc="-1" strike="noStrike">
                <a:solidFill>
                  <a:srgbClr val="ff1515"/>
                </a:solidFill>
                <a:latin typeface="Cambria"/>
                <a:ea typeface="Cambria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ЛИБО П ПРЕКРАЩЕНЫ ДЕЛОВЫЕ ОТНОШЕНИЯ СФМ С КЛИЕНТОМ</a:t>
            </a:r>
            <a:r>
              <a:rPr b="0" i="1" lang="en-US" sz="1400" spc="-1" strike="noStrike">
                <a:solidFill>
                  <a:srgbClr val="ff1515"/>
                </a:solidFill>
                <a:latin typeface="Cambria"/>
                <a:ea typeface="Cambri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1360" indent="-361800">
              <a:lnSpc>
                <a:spcPct val="100000"/>
              </a:lnSpc>
              <a:spcBef>
                <a:spcPts val="99"/>
              </a:spcBef>
              <a:buClr>
                <a:srgbClr val="000000"/>
              </a:buClr>
              <a:buFont typeface="Cambria"/>
              <a:buChar char="•"/>
              <a:tabLst>
                <a:tab algn="l" pos="0"/>
              </a:tabLst>
            </a:pPr>
            <a:r>
              <a:rPr b="0" i="1" lang="en-US" sz="1400" spc="-1" strike="noStrike">
                <a:solidFill>
                  <a:schemeClr val="dk1"/>
                </a:solidFill>
                <a:latin typeface="Cambria"/>
                <a:ea typeface="Cambria"/>
              </a:rPr>
              <a:t>.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ЕРИОД РЕГИСТРАЦИИ ЮРИДИЧЕСКОГО ЛИЦА НЕ ПРЕВЫШАЕТ ОДНОГО ГОДА </a:t>
            </a:r>
            <a:r>
              <a:rPr b="0" i="1" lang="en-US" sz="1400" spc="-1" strike="noStrike">
                <a:solidFill>
                  <a:srgbClr val="ff1515"/>
                </a:solidFill>
                <a:latin typeface="Cambria"/>
                <a:ea typeface="Cambria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БОЛЬШ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200" indent="361800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БОРОТЫ ПО СЧЕТАМ</a:t>
            </a:r>
            <a:r>
              <a:rPr b="0" i="1" lang="en-US" sz="1400" spc="-1" strike="noStrike">
                <a:solidFill>
                  <a:srgbClr val="ff1515"/>
                </a:solidFill>
                <a:latin typeface="Cambria"/>
                <a:ea typeface="Cambria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1360" indent="-3618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ambria"/>
              <a:buChar char="•"/>
              <a:tabLst>
                <a:tab algn="l" pos="0"/>
              </a:tabLst>
            </a:pPr>
            <a:r>
              <a:rPr b="0" i="1" lang="en-US" sz="1400" spc="-1" strike="noStrike">
                <a:solidFill>
                  <a:schemeClr val="dk1"/>
                </a:solidFill>
                <a:latin typeface="Cambria"/>
                <a:ea typeface="Cambria"/>
              </a:rPr>
              <a:t>.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ТСУТСТВУЕТ ПРИХОД </a:t>
            </a:r>
            <a:r>
              <a:rPr b="0" i="1" lang="en-US" sz="1400" spc="-1" strike="noStrike">
                <a:solidFill>
                  <a:srgbClr val="ff1515"/>
                </a:solidFill>
                <a:latin typeface="Cambria"/>
                <a:ea typeface="Cambria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ИОБРЕТЕНИЕ</a:t>
            </a:r>
            <a:r>
              <a:rPr b="0" i="1" lang="en-US" sz="1400" spc="-1" strike="noStrike">
                <a:solidFill>
                  <a:srgbClr val="ff1515"/>
                </a:solidFill>
                <a:latin typeface="Cambria"/>
                <a:ea typeface="Cambria"/>
              </a:rPr>
              <a:t>)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ТОВАРОВ</a:t>
            </a:r>
            <a:r>
              <a:rPr b="0" i="1" lang="en-US" sz="1400" spc="-1" strike="noStrike">
                <a:solidFill>
                  <a:srgbClr val="ff1515"/>
                </a:solidFill>
                <a:latin typeface="Cambria"/>
                <a:ea typeface="Cambri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1360" indent="-361800">
              <a:lnSpc>
                <a:spcPct val="135000"/>
              </a:lnSpc>
              <a:buClr>
                <a:srgbClr val="000000"/>
              </a:buClr>
              <a:buFont typeface="Cambria"/>
              <a:buChar char="•"/>
              <a:tabLst>
                <a:tab algn="l" pos="0"/>
              </a:tabLst>
            </a:pPr>
            <a:r>
              <a:rPr b="0" i="1" lang="en-US" sz="1400" spc="-1" strike="noStrike">
                <a:solidFill>
                  <a:schemeClr val="dk1"/>
                </a:solidFill>
                <a:latin typeface="Cambria"/>
                <a:ea typeface="Cambria"/>
              </a:rPr>
              <a:t>.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ТАКЖЕ ПРИ СОВПАДЕНИИ С ПРИЗНАКАМИ ОПРЕДЕЛЕНИЯ ПОДОЗРИТЕЛЬНЫХ ОПЕРАЦИИ ОПРЕДЕЛЕННЫХ ПРИКАЗОМ </a:t>
            </a:r>
            <a:r>
              <a:rPr b="0" i="1" lang="en-US" sz="1400" spc="-1" strike="noStrike">
                <a:solidFill>
                  <a:srgbClr val="ff1515"/>
                </a:solidFill>
                <a:latin typeface="Cambria"/>
                <a:ea typeface="Cambria"/>
              </a:rPr>
              <a:t>№ 98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Google Shape;545;p88"/>
          <p:cNvSpPr/>
          <p:nvPr/>
        </p:nvSpPr>
        <p:spPr>
          <a:xfrm>
            <a:off x="-3240" y="809640"/>
            <a:ext cx="756576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23920" indent="98280">
              <a:lnSpc>
                <a:spcPct val="116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6.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В УТВЕРЖДЁННОЙ ТИПОЛОГИЕЙ 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«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ВЫЯВЛЕНИЕ КОМПАНИИ ОСУЩЕСТВЛЯЮЩИХ ВЫПИСКУ СЧЕТ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-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ФАКТУР БЕЗ ФАКТИЧЕСКОГО ВЫПОЛНЕНИЯ РАБОТ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ОКАЗАНИЯ УСЛУГ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3920" indent="98280" algn="ctr">
              <a:lnSpc>
                <a:spcPct val="116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ОТГРУЗКИ ТОВАРОВ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»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ДАНО ОПРЕДЕЛЕНИЕ 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«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ОСОБО КРУПНЫЙ РАЗМЕР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».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НАЗОВИТЕ СУММУ ОСОБО КРУПНОГО РАЗМЕРА ДЛЯ СТАТЬИ 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245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УГОЛОВНОГО КОДЕКСА РЕСПУБЛИКИ КАЗАХСТАН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3920" indent="9828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16cc52"/>
                </a:solidFill>
                <a:latin typeface="Cambria"/>
                <a:ea typeface="Cambria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УММА НЕ ПОСТУПИВШИХ ПЛАТЕЖЕЙ В БЮДЖЕТ</a:t>
            </a:r>
            <a:r>
              <a:rPr b="0" i="1" lang="en-US" sz="1400" spc="-1" strike="noStrike">
                <a:solidFill>
                  <a:srgbClr val="ff1515"/>
                </a:solidFill>
                <a:latin typeface="Cambria"/>
                <a:ea typeface="Cambria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ЕВЫШАЮЩАЯ СЕМЬДЕСЯТ ПЯТЬ ТЫСЯ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3920" indent="9828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МЕСЯЧНЫХ РАСЧЕТНЫХ ПОКАЗАТЕ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Google Shape;546;p88"/>
          <p:cNvSpPr/>
          <p:nvPr/>
        </p:nvSpPr>
        <p:spPr>
          <a:xfrm>
            <a:off x="20520" y="3033720"/>
            <a:ext cx="7492680" cy="82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44720" indent="-2303640">
              <a:lnSpc>
                <a:spcPct val="116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7.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КОГДА УТВЕРЖДЕНА ТИПОЛОГИЯ НА ТЕМУ 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"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ТЕРРОРИЗМ И ИСТОЧНИКИ ЕГО ФИНАНСИРОВАНИЯ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"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720" indent="-230364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mbria"/>
                <a:ea typeface="Cambria"/>
              </a:rPr>
              <a:t>30.09.2020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720" indent="-2303640"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44720" indent="-2303640">
              <a:lnSpc>
                <a:spcPct val="113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15.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УКАЖИТЕ ПОВЕДЕНИЕ ЭКСТРЕМИСТОВ И ТЕРРОРИСТОВ ВО ВРЕМЯ ФИНАНСОВЫХ ОПЕРАЦИЙ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720" indent="-2303640" algn="ctr">
              <a:lnSpc>
                <a:spcPct val="10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ПРИ ОТКРЫТИИ СЧЕТА У СФ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720" indent="-230364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300" spc="-1" strike="noStrike">
                <a:solidFill>
                  <a:srgbClr val="16cc52"/>
                </a:solidFill>
                <a:latin typeface="Calibri"/>
                <a:ea typeface="Calibri"/>
              </a:rPr>
              <a:t>•</a:t>
            </a:r>
            <a:r>
              <a:rPr b="0" lang="en-US" sz="1400" spc="-1" strike="noStrike">
                <a:solidFill>
                  <a:srgbClr val="16cc52"/>
                </a:solidFill>
                <a:latin typeface="Calibri"/>
                <a:ea typeface="Calibri"/>
              </a:rPr>
              <a:t>–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КЛИЕНТ ПЫТАЕТСЯ ДАТЬ КАК МОЖНО МЕНЬШЕ ИНФОРМАЦИИ О СЕБ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720" indent="-2303640" algn="ctr">
              <a:lnSpc>
                <a:spcPct val="120000"/>
              </a:lnSpc>
              <a:tabLst>
                <a:tab algn="l" pos="0"/>
              </a:tabLst>
            </a:pPr>
            <a:r>
              <a:rPr b="0" lang="en-US" sz="1300" spc="-1" strike="noStrike">
                <a:solidFill>
                  <a:srgbClr val="16cc52"/>
                </a:solidFill>
                <a:latin typeface="Calibri"/>
                <a:ea typeface="Calibri"/>
              </a:rPr>
              <a:t>•</a:t>
            </a:r>
            <a:r>
              <a:rPr b="0" lang="en-US" sz="1400" spc="-1" strike="noStrike">
                <a:solidFill>
                  <a:srgbClr val="16cc52"/>
                </a:solidFill>
                <a:latin typeface="Calibri"/>
                <a:ea typeface="Calibri"/>
              </a:rPr>
              <a:t>–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ПРЕДОСТАВЛЕННАЯ ИНФОРМАЦИЯ ОКАЗЫВАЕТСЯ ЛОЖНОЙ </a:t>
            </a:r>
            <a:r>
              <a:rPr b="0" lang="en-US" sz="1400" spc="-1" strike="noStrike">
                <a:solidFill>
                  <a:srgbClr val="16cc52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ЛИБО ТРУДНО ПРОВЕРЯЕМ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720" indent="-230364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300" spc="-1" strike="noStrike">
                <a:solidFill>
                  <a:srgbClr val="16cc52"/>
                </a:solidFill>
                <a:latin typeface="Calibri"/>
                <a:ea typeface="Calibri"/>
              </a:rPr>
              <a:t>•</a:t>
            </a:r>
            <a:r>
              <a:rPr b="0" lang="en-US" sz="1400" spc="-1" strike="noStrike">
                <a:solidFill>
                  <a:srgbClr val="16cc52"/>
                </a:solidFill>
                <a:latin typeface="Calibri"/>
                <a:ea typeface="Calibri"/>
              </a:rPr>
              <a:t>–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АДРЕС ЮРИДИЧЕСКОГО ЛИЦА ИЛИ ОРГАНИЗАЦИИ</a:t>
            </a:r>
            <a:r>
              <a:rPr b="0" lang="en-US" sz="1400" spc="-1" strike="noStrike">
                <a:solidFill>
                  <a:srgbClr val="16cc52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ОТКРЫВШЕЙ СЧЕТ</a:t>
            </a:r>
            <a:r>
              <a:rPr b="0" lang="en-US" sz="1400" spc="-1" strike="noStrike">
                <a:solidFill>
                  <a:srgbClr val="16cc52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СОВПАДАЕТ 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720" indent="-2303640" algn="ctr">
              <a:lnSpc>
                <a:spcPct val="111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АДРЕСАМИ ДРУГИХ ОРГАНИЗАЦИЙ</a:t>
            </a:r>
            <a:r>
              <a:rPr b="0" lang="en-US" sz="1400" spc="-1" strike="noStrike">
                <a:solidFill>
                  <a:srgbClr val="16cc52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ДЛЯ КОТОРЫХ</a:t>
            </a:r>
            <a:r>
              <a:rPr b="0" lang="en-US" sz="1400" spc="-1" strike="noStrike">
                <a:solidFill>
                  <a:srgbClr val="16cc52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ОДИН И ТОТ ЖЕ ЧЕЛОВЕК ИМЕЕТ ПРАВО ПОДПИСИ</a:t>
            </a:r>
            <a:r>
              <a:rPr b="0" lang="en-US" sz="1400" spc="-1" strike="noStrike">
                <a:solidFill>
                  <a:srgbClr val="16cc52"/>
                </a:solidFill>
                <a:latin typeface="Calibri"/>
                <a:ea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720" indent="-2303640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300" spc="-1" strike="noStrike">
                <a:solidFill>
                  <a:srgbClr val="16cc52"/>
                </a:solidFill>
                <a:latin typeface="Calibri"/>
                <a:ea typeface="Calibri"/>
              </a:rPr>
              <a:t>•</a:t>
            </a:r>
            <a:r>
              <a:rPr b="0" lang="en-US" sz="1400" spc="-1" strike="noStrike">
                <a:solidFill>
                  <a:srgbClr val="16cc52"/>
                </a:solidFill>
                <a:latin typeface="Calibri"/>
                <a:ea typeface="Calibri"/>
              </a:rPr>
              <a:t>–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СВОИМИ ДЕЙСТВИЯМИ ВЫЗЫВАЕТ ПОДОЗРИТЕЛЬНОСТЬ</a:t>
            </a:r>
            <a:r>
              <a:rPr b="0" lang="en-US" sz="1400" spc="-1" strike="noStrike">
                <a:solidFill>
                  <a:srgbClr val="16cc52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СКРЫТ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720" indent="-2303640" algn="ctr">
              <a:lnSpc>
                <a:spcPct val="120000"/>
              </a:lnSpc>
              <a:tabLst>
                <a:tab algn="l" pos="0"/>
              </a:tabLst>
            </a:pPr>
            <a:r>
              <a:rPr b="0" lang="en-US" sz="1300" spc="-1" strike="noStrike">
                <a:solidFill>
                  <a:srgbClr val="16cc52"/>
                </a:solidFill>
                <a:latin typeface="Calibri"/>
                <a:ea typeface="Calibri"/>
              </a:rPr>
              <a:t>•</a:t>
            </a:r>
            <a:r>
              <a:rPr b="0" lang="en-US" sz="1400" spc="-1" strike="noStrike">
                <a:solidFill>
                  <a:srgbClr val="16cc52"/>
                </a:solidFill>
                <a:latin typeface="Calibri"/>
                <a:ea typeface="Calibri"/>
              </a:rPr>
              <a:t>–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ПРИ ОТСУТСТВИИ СТАБИЛЬНОГО ЗАРАБОТКА ИМЕЕТ ИНОСТРАННЫЕ ВАЛЮТЫ</a:t>
            </a:r>
            <a:r>
              <a:rPr b="0" lang="en-US" sz="1400" spc="-1" strike="noStrike">
                <a:solidFill>
                  <a:srgbClr val="16cc52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РЕДКО ИСПОЛЬЗУЕМЫЕ НА ТЕРРИТОРИИ Р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720" indent="-2303640" algn="ctr">
              <a:lnSpc>
                <a:spcPct val="10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300" spc="-1" strike="noStrike">
                <a:solidFill>
                  <a:srgbClr val="16cc52"/>
                </a:solidFill>
                <a:latin typeface="Calibri"/>
                <a:ea typeface="Calibri"/>
              </a:rPr>
              <a:t>•</a:t>
            </a:r>
            <a:r>
              <a:rPr b="0" lang="en-US" sz="1400" spc="-1" strike="noStrike">
                <a:solidFill>
                  <a:srgbClr val="16cc52"/>
                </a:solidFill>
                <a:latin typeface="Calibri"/>
                <a:ea typeface="Calibri"/>
              </a:rPr>
              <a:t>–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КЛИЕНТ ПРОСИТ ПРОВЕСТИ ОПЕРАЦИЮ ОЧЕНЬ БЫСТРО БЕЗ ОБЪЯСНЕНИЯ ПРИЧИ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720" indent="-230364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3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СИСТЕМ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720" indent="-230364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300" spc="-1" strike="noStrike">
                <a:solidFill>
                  <a:srgbClr val="16cc52"/>
                </a:solidFill>
                <a:latin typeface="Calibri"/>
                <a:ea typeface="Calibri"/>
              </a:rPr>
              <a:t>•</a:t>
            </a:r>
            <a:r>
              <a:rPr b="0" lang="en-US" sz="1400" spc="-1" strike="noStrike">
                <a:solidFill>
                  <a:srgbClr val="16cc52"/>
                </a:solidFill>
                <a:latin typeface="Calibri"/>
                <a:ea typeface="Calibri"/>
              </a:rPr>
              <a:t>–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МНОГОЧИСЛЕННЫЕ СЕРИИ ЗАПУТАННЫХ ОПЕРАЦ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720" indent="-230364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300" spc="-1" strike="noStrike">
                <a:solidFill>
                  <a:srgbClr val="16cc52"/>
                </a:solidFill>
                <a:latin typeface="Calibri"/>
                <a:ea typeface="Calibri"/>
              </a:rPr>
              <a:t>•</a:t>
            </a:r>
            <a:r>
              <a:rPr b="0" lang="en-US" sz="1400" spc="-1" strike="noStrike">
                <a:solidFill>
                  <a:srgbClr val="16cc52"/>
                </a:solidFill>
                <a:latin typeface="Calibri"/>
                <a:ea typeface="Calibri"/>
              </a:rPr>
              <a:t>–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НЕОДНОКРАТНЫЕ ПЕРЕВОДЫ НЕБОЛЬШИХ СУМ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720" indent="-230364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300" spc="-1" strike="noStrike">
                <a:solidFill>
                  <a:srgbClr val="16cc52"/>
                </a:solidFill>
                <a:latin typeface="Calibri"/>
                <a:ea typeface="Calibri"/>
              </a:rPr>
              <a:t>•</a:t>
            </a:r>
            <a:r>
              <a:rPr b="0" lang="en-US" sz="1400" spc="-1" strike="noStrike">
                <a:solidFill>
                  <a:srgbClr val="16cc52"/>
                </a:solidFill>
                <a:latin typeface="Calibri"/>
                <a:ea typeface="Calibri"/>
              </a:rPr>
              <a:t>–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НЕВОЗМОЖНОСТЬ УСТАНОВИТЬ ИСТОЧНИКИ СРЕДСТ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720" indent="-230364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300" spc="-1" strike="noStrike">
                <a:solidFill>
                  <a:srgbClr val="16cc52"/>
                </a:solidFill>
                <a:latin typeface="Calibri"/>
                <a:ea typeface="Calibri"/>
              </a:rPr>
              <a:t>•</a:t>
            </a:r>
            <a:r>
              <a:rPr b="0" lang="en-US" sz="1400" spc="-1" strike="noStrike">
                <a:solidFill>
                  <a:srgbClr val="16cc52"/>
                </a:solidFill>
                <a:latin typeface="Calibri"/>
                <a:ea typeface="Calibri"/>
              </a:rPr>
              <a:t>–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ВКЛАДЫ ИЛИ СНЯТИЕ СУММ НЕМНОГО НИЖЕ ПОРОГА ИДЕНТИФИК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720" indent="-230364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300" spc="-1" strike="noStrike">
                <a:solidFill>
                  <a:srgbClr val="16cc52"/>
                </a:solidFill>
                <a:latin typeface="Calibri"/>
                <a:ea typeface="Calibri"/>
              </a:rPr>
              <a:t>•</a:t>
            </a:r>
            <a:r>
              <a:rPr b="0" lang="en-US" sz="1400" spc="-1" strike="noStrike">
                <a:solidFill>
                  <a:srgbClr val="16cc52"/>
                </a:solidFill>
                <a:latin typeface="Calibri"/>
                <a:ea typeface="Calibri"/>
              </a:rPr>
              <a:t>–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ПОСТОЯННЫЕ ПОЖЕРТВОВАНИЯ НА БЛАГОТВОРИТЕ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720" indent="-2303640" algn="ctr">
              <a:lnSpc>
                <a:spcPct val="120000"/>
              </a:lnSpc>
              <a:tabLst>
                <a:tab algn="l" pos="0"/>
              </a:tabLst>
            </a:pPr>
            <a:r>
              <a:rPr b="0" lang="en-US" sz="1300" spc="-1" strike="noStrike">
                <a:solidFill>
                  <a:srgbClr val="16cc52"/>
                </a:solidFill>
                <a:latin typeface="Calibri"/>
                <a:ea typeface="Calibri"/>
              </a:rPr>
              <a:t>•</a:t>
            </a:r>
            <a:r>
              <a:rPr b="0" lang="en-US" sz="1400" spc="-1" strike="noStrike">
                <a:solidFill>
                  <a:srgbClr val="16cc52"/>
                </a:solidFill>
                <a:latin typeface="Calibri"/>
                <a:ea typeface="Calibri"/>
              </a:rPr>
              <a:t>–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СРЕДСТВА ОТПРАВЛЕНЫ ИЛИ ПОЛУЧЕНЫ ИЗ СТРАН С ВЫСОКИМ УРОВНЕМ ТЕРРОРИСТИЧЕСКОЙ АКТИВНОСТЬ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720" indent="-2303640">
              <a:lnSpc>
                <a:spcPct val="135000"/>
              </a:lnSpc>
              <a:tabLst>
                <a:tab algn="l" pos="0"/>
              </a:tabLst>
            </a:pPr>
            <a:r>
              <a:rPr b="0" lang="en-US" sz="1300" spc="-1" strike="noStrike">
                <a:solidFill>
                  <a:srgbClr val="16cc52"/>
                </a:solidFill>
                <a:latin typeface="Calibri"/>
                <a:ea typeface="Calibri"/>
              </a:rPr>
              <a:t>•</a:t>
            </a:r>
            <a:r>
              <a:rPr b="0" lang="en-US" sz="1400" spc="-1" strike="noStrike">
                <a:solidFill>
                  <a:srgbClr val="16cc52"/>
                </a:solidFill>
                <a:latin typeface="Calibri"/>
                <a:ea typeface="Calibri"/>
              </a:rPr>
              <a:t>–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ОТПРАВИТЕЛИ ИЛИ ПОЛУЧАТЕЛИ ЯВЛЯЮТСЯ ГРАЖДАНАМИ СТРАН ЛИБО НАХОДЯТСЯ В СТРАНЕ</a:t>
            </a:r>
            <a:r>
              <a:rPr b="0" lang="en-US" sz="1400" spc="-1" strike="noStrike">
                <a:solidFill>
                  <a:srgbClr val="16cc52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ГДЕ АКТИВНО ДЕЙСТВУЮТ ТЕРРОРИСТЫ ИЛИ ГРУППЫ ПОДДЕРЖИВАЮЩИЕ ИХ</a:t>
            </a:r>
            <a:r>
              <a:rPr b="0" lang="en-US" sz="1400" spc="-1" strike="noStrike">
                <a:solidFill>
                  <a:srgbClr val="16cc52"/>
                </a:solidFill>
                <a:latin typeface="Calibri"/>
                <a:ea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720" indent="-2303640" algn="ctr">
              <a:lnSpc>
                <a:spcPct val="135000"/>
              </a:lnSpc>
              <a:tabLst>
                <a:tab algn="l" pos="0"/>
              </a:tabLst>
            </a:pPr>
            <a:r>
              <a:rPr b="0" lang="en-US" sz="1300" spc="-1" strike="noStrike">
                <a:solidFill>
                  <a:srgbClr val="16cc52"/>
                </a:solidFill>
                <a:latin typeface="Calibri"/>
                <a:ea typeface="Calibri"/>
              </a:rPr>
              <a:t>•</a:t>
            </a:r>
            <a:r>
              <a:rPr b="0" lang="en-US" sz="1400" spc="-1" strike="noStrike">
                <a:solidFill>
                  <a:srgbClr val="16cc52"/>
                </a:solidFill>
                <a:latin typeface="Calibri"/>
                <a:ea typeface="Calibri"/>
              </a:rPr>
              <a:t>–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ОБМЕН ИНОСТРАННОЙ ВАЛЮТЫ СРАЗУ ПОСЛЕ ПЕРЕВОДА ИЗ СТРАН С ВЫСОКИМ УРОВНЕМ РИСКА</a:t>
            </a:r>
            <a:r>
              <a:rPr b="0" lang="en-US" sz="1400" spc="-1" strike="noStrike">
                <a:solidFill>
                  <a:srgbClr val="16cc52"/>
                </a:solidFill>
                <a:latin typeface="Calibri"/>
                <a:ea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Google Shape;551;p89"/>
          <p:cNvSpPr/>
          <p:nvPr/>
        </p:nvSpPr>
        <p:spPr>
          <a:xfrm>
            <a:off x="-11160" y="561960"/>
            <a:ext cx="7561080" cy="10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852560" indent="-1353960">
              <a:lnSpc>
                <a:spcPct val="116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7.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ЧТО ОТНОСИТСЯ К КРИТЕРИЯМ ОПРЕДЕЛЕНИЯ ЧЕЛОВЕКА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ОТНОСЯЩЕГОСЯ К ДЕСТРУКТИВНЫМ РЕЛИГИОЗНЫМ ТЕЧЕНИЯМ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2560" indent="-135396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Cambria"/>
                <a:ea typeface="Cambria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ЕРВЫМ КРИТЕРИЕМ </a:t>
            </a:r>
            <a:r>
              <a:rPr b="0" i="1" lang="en-US" sz="1400" spc="-1" strike="noStrike">
                <a:solidFill>
                  <a:srgbClr val="16cc52"/>
                </a:solidFill>
                <a:latin typeface="Cambria"/>
                <a:ea typeface="Cambria"/>
              </a:rPr>
              <a:t>,</a:t>
            </a:r>
            <a:r>
              <a:rPr b="0" i="1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С ПОМОЩЬЮ КОТОРОГО МОЖНО ЗАПОДОЗРИТЬ ПРИВЕРЖЕННОСТЬ ЛИЦ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2560" indent="-135396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К ЭКСТРЕМИСТСКИМ ГРУППИРОВКАМ </a:t>
            </a:r>
            <a:r>
              <a:rPr b="0" i="1" lang="en-US" sz="1400" spc="-1" strike="noStrike">
                <a:solidFill>
                  <a:srgbClr val="16cc52"/>
                </a:solidFill>
                <a:latin typeface="Cambria"/>
                <a:ea typeface="Cambria"/>
              </a:rPr>
              <a:t>,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ЯВЛЯЕТСЯ ЕГО РЕЧ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2560" indent="-1353960" algn="ctr">
              <a:lnSpc>
                <a:spcPct val="115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16cc52"/>
                </a:solidFill>
                <a:latin typeface="Cambria"/>
                <a:ea typeface="Cambria"/>
              </a:rPr>
              <a:t>•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НАПРИМЕР </a:t>
            </a:r>
            <a:r>
              <a:rPr b="0" i="1" lang="en-US" sz="1400" spc="-1" strike="noStrike">
                <a:solidFill>
                  <a:srgbClr val="16cc52"/>
                </a:solidFill>
                <a:latin typeface="Cambria"/>
                <a:ea typeface="Cambria"/>
              </a:rPr>
              <a:t>«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ЕСЛИ ЧЕЛОВЕК УШЕЛ В РАДИКАЛЬНУЮ ИДЕОЛОГИЮ</a:t>
            </a:r>
            <a:r>
              <a:rPr b="0" i="1" lang="en-US" sz="1400" spc="-1" strike="noStrike">
                <a:solidFill>
                  <a:srgbClr val="16cc52"/>
                </a:solidFill>
                <a:latin typeface="Cambria"/>
                <a:ea typeface="Cambria"/>
              </a:rPr>
              <a:t>,</a:t>
            </a:r>
            <a:r>
              <a:rPr b="0" i="1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ТО В СВОЕЙ РЕЧИ ОН БУДЕТ УПОТРЕБЛЯТЬ ТАКИЕ СПЕЦИФИЧЕСКИЕ СЛОВА КАК </a:t>
            </a:r>
            <a:r>
              <a:rPr b="0" i="1" lang="en-US" sz="1400" spc="-1" strike="noStrike">
                <a:solidFill>
                  <a:srgbClr val="16cc52"/>
                </a:solidFill>
                <a:latin typeface="Cambria"/>
                <a:ea typeface="Cambria"/>
              </a:rPr>
              <a:t>«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КАФИРСКОЕ ГОСУДАРСТВО</a:t>
            </a:r>
            <a:r>
              <a:rPr b="0" i="1" lang="en-US" sz="1400" spc="-1" strike="noStrike">
                <a:solidFill>
                  <a:srgbClr val="16cc52"/>
                </a:solidFill>
                <a:latin typeface="Cambria"/>
                <a:ea typeface="Cambria"/>
              </a:rPr>
              <a:t>»,</a:t>
            </a:r>
            <a:r>
              <a:rPr b="0" i="1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16cc52"/>
                </a:solidFill>
                <a:latin typeface="Cambria"/>
                <a:ea typeface="Cambria"/>
              </a:rPr>
              <a:t>«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ГОСУДАРСТВО ТАГУТА</a:t>
            </a:r>
            <a:r>
              <a:rPr b="0" i="1" lang="en-US" sz="1400" spc="-1" strike="noStrike">
                <a:solidFill>
                  <a:srgbClr val="16cc52"/>
                </a:solidFill>
                <a:latin typeface="Cambria"/>
                <a:ea typeface="Cambria"/>
              </a:rPr>
              <a:t>»,</a:t>
            </a:r>
            <a:r>
              <a:rPr b="0" i="1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16cc52"/>
                </a:solidFill>
                <a:latin typeface="Cambria"/>
                <a:ea typeface="Cambria"/>
              </a:rPr>
              <a:t>«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НУЖНО УБИРАТЬ КАФИРОВ</a:t>
            </a:r>
            <a:r>
              <a:rPr b="0" i="1" lang="en-US" sz="1400" spc="-1" strike="noStrike">
                <a:solidFill>
                  <a:srgbClr val="16cc52"/>
                </a:solidFill>
                <a:latin typeface="Cambria"/>
                <a:ea typeface="Cambria"/>
              </a:rPr>
              <a:t>»</a:t>
            </a:r>
            <a:r>
              <a:rPr b="0" i="1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И Т Д</a:t>
            </a:r>
            <a:r>
              <a:rPr b="0" i="1" lang="en-US" sz="1400" spc="-1" strike="noStrike">
                <a:solidFill>
                  <a:srgbClr val="16cc52"/>
                </a:solidFill>
                <a:latin typeface="Cambria"/>
                <a:ea typeface="Cambri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2560" indent="-135396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16cc52"/>
                </a:solidFill>
                <a:latin typeface="Cambria"/>
                <a:ea typeface="Cambria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ТОРЫМ КРИТЕРИЕМ 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ЯВЛЯЕТСЯ ВНЕШНИЙ ВИД</a:t>
            </a:r>
            <a:r>
              <a:rPr b="0" i="1" lang="en-US" sz="1400" spc="-1" strike="noStrike">
                <a:solidFill>
                  <a:srgbClr val="16cc52"/>
                </a:solidFill>
                <a:latin typeface="Cambria"/>
                <a:ea typeface="Cambria"/>
              </a:rPr>
              <a:t>,</a:t>
            </a:r>
            <a:r>
              <a:rPr b="0" i="1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ОДНАКО У ТЕРРОРИСТОВ НЕТ СПЕЦИАЛЬНОЙ УНИФОРМЫ</a:t>
            </a:r>
            <a:r>
              <a:rPr b="0" i="1" lang="en-US" sz="1400" spc="-1" strike="noStrike">
                <a:solidFill>
                  <a:srgbClr val="16cc52"/>
                </a:solidFill>
                <a:latin typeface="Cambria"/>
                <a:ea typeface="Cambria"/>
              </a:rPr>
              <a:t>.</a:t>
            </a:r>
            <a:r>
              <a:rPr b="0" i="1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ТЕМ НЕ МЕНЕЕ </a:t>
            </a:r>
            <a:r>
              <a:rPr b="0" i="1" lang="en-US" sz="1400" spc="-1" strike="noStrike">
                <a:solidFill>
                  <a:srgbClr val="16cc52"/>
                </a:solidFill>
                <a:latin typeface="Cambria"/>
                <a:ea typeface="Cambria"/>
              </a:rPr>
              <a:t>,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НЕКОТОРЫЕ ВЫВОДЫ О РЕЛИГИОЗНЫХ ВЗГЛЯДАХ ЧЕЛОВЕКА МОЖНО УСТАНОВИТЬ ПО ЕГО ОДЕЖД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2560" indent="-135396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16cc52"/>
                </a:solidFill>
                <a:latin typeface="Cambria"/>
                <a:ea typeface="Cambria"/>
              </a:rPr>
              <a:t>•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НАПРИМЕР САЛАФИТОВ ЛЕГКО ОТЛИЧИТЬ ПО БОРОДАМ </a:t>
            </a:r>
            <a:r>
              <a:rPr b="0" i="1" lang="en-US" sz="1400" spc="-1" strike="noStrike">
                <a:solidFill>
                  <a:srgbClr val="16cc52"/>
                </a:solidFill>
                <a:latin typeface="Cambria"/>
                <a:ea typeface="Cambria"/>
              </a:rPr>
              <a:t>,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ДАЖЕ ДЛЯ ЧРЕЗМЕРНО ЮНОГО ВОЗРАСТА</a:t>
            </a:r>
            <a:r>
              <a:rPr b="0" i="1" lang="en-US" sz="1400" spc="-1" strike="noStrike">
                <a:solidFill>
                  <a:srgbClr val="16cc52"/>
                </a:solidFill>
                <a:latin typeface="Cambria"/>
                <a:ea typeface="Cambria"/>
              </a:rPr>
              <a:t>.</a:t>
            </a:r>
            <a:r>
              <a:rPr b="0" i="1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КОРОТКИЕ ШТАНЫ</a:t>
            </a:r>
            <a:r>
              <a:rPr b="0" i="1" lang="en-US" sz="1400" spc="-1" strike="noStrike">
                <a:solidFill>
                  <a:srgbClr val="16cc52"/>
                </a:solidFill>
                <a:latin typeface="Cambria"/>
                <a:ea typeface="Cambria"/>
              </a:rPr>
              <a:t>,</a:t>
            </a:r>
            <a:r>
              <a:rPr b="0" i="1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КАК ПРАВИЛО</a:t>
            </a:r>
            <a:r>
              <a:rPr b="0" i="1" lang="en-US" sz="1400" spc="-1" strike="noStrike">
                <a:solidFill>
                  <a:srgbClr val="16cc52"/>
                </a:solidFill>
                <a:latin typeface="Cambria"/>
                <a:ea typeface="Cambria"/>
              </a:rPr>
              <a:t>,</a:t>
            </a:r>
            <a:r>
              <a:rPr b="0" i="1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ЯВЛЯЮТСЯ ДОПОЛНЕНИ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2560" indent="-135396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Cambria"/>
                <a:ea typeface="Cambria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ТРЕТЬИМ ПРИЗНАКОМ 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ЯВЛЯЕТСЯ УЧАСТИЕ В ПОДОЗРИТЕЛЬНЫХ СБОРИЩАХ</a:t>
            </a:r>
            <a:r>
              <a:rPr b="0" i="1" lang="en-US" sz="1400" spc="-1" strike="noStrike">
                <a:solidFill>
                  <a:srgbClr val="16cc52"/>
                </a:solidFill>
                <a:latin typeface="Cambria"/>
                <a:ea typeface="Cambri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2560" indent="-135396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16cc52"/>
                </a:solidFill>
                <a:latin typeface="Cambria"/>
                <a:ea typeface="Cambria"/>
              </a:rPr>
              <a:t>•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НАПРИМЕР </a:t>
            </a:r>
            <a:r>
              <a:rPr b="0" i="1" lang="en-US" sz="1400" spc="-1" strike="noStrike">
                <a:solidFill>
                  <a:srgbClr val="16cc52"/>
                </a:solidFill>
                <a:latin typeface="Cambria"/>
                <a:ea typeface="Cambria"/>
              </a:rPr>
              <a:t>«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РАДИКАЛЬНЫЕ ГРУППЫ ИМЕЮТ МЕСТЬЮ</a:t>
            </a:r>
            <a:r>
              <a:rPr b="0" i="1" lang="en-US" sz="1400" spc="-1" strike="noStrike">
                <a:solidFill>
                  <a:srgbClr val="16cc52"/>
                </a:solidFill>
                <a:latin typeface="Cambria"/>
                <a:ea typeface="Cambria"/>
              </a:rPr>
              <a:t>,</a:t>
            </a:r>
            <a:r>
              <a:rPr b="0" i="1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ГДЕ СИСТЕМАТИЧЕСКИ СОБИРАЮТСЯ</a:t>
            </a:r>
            <a:r>
              <a:rPr b="0" i="1" lang="en-US" sz="1400" spc="-1" strike="noStrike">
                <a:solidFill>
                  <a:srgbClr val="16cc52"/>
                </a:solidFill>
                <a:latin typeface="Cambria"/>
                <a:ea typeface="Cambria"/>
              </a:rPr>
              <a:t>.</a:t>
            </a:r>
            <a:r>
              <a:rPr b="0" i="1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ЕСЛИ МЫ ВИДИМ </a:t>
            </a:r>
            <a:r>
              <a:rPr b="0" i="1" lang="en-US" sz="1400" spc="-1" strike="noStrike">
                <a:solidFill>
                  <a:srgbClr val="16cc52"/>
                </a:solidFill>
                <a:latin typeface="Cambria"/>
                <a:ea typeface="Cambria"/>
              </a:rPr>
              <a:t>,</a:t>
            </a:r>
            <a:r>
              <a:rPr b="0" i="1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ЧТО ОПРЕДЕЛЕННОЕ КОЛИЧЕСТВО СОБИРАЕТСЯ В ЖИЛОМ ИЛИ НЕЖИЛОМПОМЕЩЕНИИ</a:t>
            </a:r>
            <a:r>
              <a:rPr b="0" i="1" lang="en-US" sz="1400" spc="-1" strike="noStrike">
                <a:solidFill>
                  <a:srgbClr val="16cc52"/>
                </a:solidFill>
                <a:latin typeface="Cambria"/>
                <a:ea typeface="Cambria"/>
              </a:rPr>
              <a:t>,</a:t>
            </a:r>
            <a:r>
              <a:rPr b="0" i="1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ВЫГЛЯДЯТ ПРИ ЭТОМ СУРОВО НАПРЯЖЕННО </a:t>
            </a:r>
            <a:r>
              <a:rPr b="0" i="1" lang="en-US" sz="1400" spc="-1" strike="noStrike">
                <a:solidFill>
                  <a:srgbClr val="16cc52"/>
                </a:solidFill>
                <a:latin typeface="Cambria"/>
                <a:ea typeface="Cambria"/>
              </a:rPr>
              <a:t>,</a:t>
            </a:r>
            <a:r>
              <a:rPr b="0" i="1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И ЭТО СОВЕРШЕННО НЕ ПРОИЗВОДИТ ВПЕЧАТЛЕНИЕ ДЕЛОВОЙ ВСТРЕЧИ</a:t>
            </a:r>
            <a:r>
              <a:rPr b="0" i="1" lang="en-US" sz="1400" spc="-1" strike="noStrike">
                <a:solidFill>
                  <a:srgbClr val="16cc52"/>
                </a:solidFill>
                <a:latin typeface="Cambria"/>
                <a:ea typeface="Cambria"/>
              </a:rPr>
              <a:t>,</a:t>
            </a:r>
            <a:r>
              <a:rPr b="0" i="1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ТОЯ ИЛИ ДРУЖЕСКИХ ПОСИДЕЛОК</a:t>
            </a:r>
            <a:r>
              <a:rPr b="0" i="1" lang="en-US" sz="1400" spc="-1" strike="noStrike">
                <a:solidFill>
                  <a:srgbClr val="16cc52"/>
                </a:solidFill>
                <a:latin typeface="Cambria"/>
                <a:ea typeface="Cambri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2560" indent="-1353960" algn="ctr">
              <a:lnSpc>
                <a:spcPct val="114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16cc52"/>
                </a:solidFill>
                <a:latin typeface="Cambria"/>
                <a:ea typeface="Cambria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ЧЕТВЕРТЫМ ПРИЗНАКОМ 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ЯВЛЯЕТСЯ ПРОПАГАНДА РАДИКАЛЬНЫХ ИДЕЙ И УВЛЕЧЕНИЕ РЕЛИГИОЗНОЙ ЛИТЕРАТУРОЙ</a:t>
            </a:r>
            <a:r>
              <a:rPr b="0" i="1" lang="en-US" sz="1400" spc="-1" strike="noStrike">
                <a:solidFill>
                  <a:srgbClr val="16cc52"/>
                </a:solidFill>
                <a:latin typeface="Cambria"/>
                <a:ea typeface="Cambri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2560" indent="-135396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16cc52"/>
                </a:solidFill>
                <a:latin typeface="Cambria"/>
                <a:ea typeface="Cambria"/>
              </a:rPr>
              <a:t>•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НАПРИМЕР </a:t>
            </a:r>
            <a:r>
              <a:rPr b="0" i="1" lang="en-US" sz="1400" spc="-1" strike="noStrike">
                <a:solidFill>
                  <a:srgbClr val="16cc52"/>
                </a:solidFill>
                <a:latin typeface="Cambria"/>
                <a:ea typeface="Cambria"/>
              </a:rPr>
              <a:t>«</a:t>
            </a:r>
            <a:r>
              <a:rPr b="0" i="1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ВО МНОГИХ ТАКСИ ВМЕСТО ПРИВЫЧНОГО ШАНСОНА ЧАСТО ЗВУЧАТ АУДИ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2560" indent="-1353960" algn="ctr">
              <a:lnSpc>
                <a:spcPct val="115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ПРОПОВЕДИ НА ХОРОШЕМ ЯЗЫКЕ</a:t>
            </a:r>
            <a:r>
              <a:rPr b="0" i="1" lang="en-US" sz="1400" spc="-1" strike="noStrike">
                <a:solidFill>
                  <a:srgbClr val="16cc52"/>
                </a:solidFill>
                <a:latin typeface="Cambria"/>
                <a:ea typeface="Cambria"/>
              </a:rPr>
              <a:t>,</a:t>
            </a:r>
            <a:r>
              <a:rPr b="0" i="1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ОЧЕНЬ ВКРАДЧИВЫМ ГОЛОСОМ РАЗЪЯСНЯЮЩИЕ</a:t>
            </a:r>
            <a:r>
              <a:rPr b="0" i="1" lang="en-US" sz="1400" spc="-1" strike="noStrike">
                <a:solidFill>
                  <a:srgbClr val="16cc52"/>
                </a:solidFill>
                <a:latin typeface="Cambria"/>
                <a:ea typeface="Cambria"/>
              </a:rPr>
              <a:t>,</a:t>
            </a:r>
            <a:r>
              <a:rPr b="0" i="1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ПОРОЙ АККУРАТНО ПОДВОДЯЩИЕ У МЫСЛЯМ О СПРАВЕДЛИВОСТИ И НЕСПРАВЕДЛИВОСТИ В МИРЕ</a:t>
            </a:r>
            <a:r>
              <a:rPr b="0" i="1" lang="en-US" sz="1400" spc="-1" strike="noStrike">
                <a:solidFill>
                  <a:srgbClr val="16cc52"/>
                </a:solidFill>
                <a:latin typeface="Cambria"/>
                <a:ea typeface="Cambria"/>
              </a:rPr>
              <a:t>,</a:t>
            </a:r>
            <a:r>
              <a:rPr b="0" i="1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НЕОБХОДИМОСТИ БОРЬБЫ С НЕВЕРНЫМИ И Т</a:t>
            </a:r>
            <a:r>
              <a:rPr b="0" i="1" lang="en-US" sz="1400" spc="-1" strike="noStrike">
                <a:solidFill>
                  <a:srgbClr val="16cc52"/>
                </a:solidFill>
                <a:latin typeface="Cambria"/>
                <a:ea typeface="Cambria"/>
              </a:rPr>
              <a:t>.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2560" indent="-135396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16cc52"/>
                </a:solidFill>
                <a:latin typeface="Cambria"/>
                <a:ea typeface="Cambria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ЯТЫМ ПРИЗНАКОМ </a:t>
            </a:r>
            <a:r>
              <a:rPr b="0" i="1" lang="en-US" sz="1400" spc="-1" strike="noStrike">
                <a:solidFill>
                  <a:srgbClr val="16cc52"/>
                </a:solidFill>
                <a:latin typeface="Cambria"/>
                <a:ea typeface="Cambria"/>
              </a:rPr>
              <a:t>,</a:t>
            </a:r>
            <a:r>
              <a:rPr b="0" i="1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ЯВЛЯЕТСЯ ЕСЛИ ЧЕЛОВЕК </a:t>
            </a:r>
            <a:r>
              <a:rPr b="0" i="1" lang="en-US" sz="1400" spc="-1" strike="noStrike">
                <a:solidFill>
                  <a:srgbClr val="16cc52"/>
                </a:solidFill>
                <a:latin typeface="Cambria"/>
                <a:ea typeface="Cambria"/>
              </a:rPr>
              <a:t>,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ДАЖЕ ВАШ БЛИЗКИЙ РОДСТВЕННИК</a:t>
            </a:r>
            <a:r>
              <a:rPr b="0" i="1" lang="en-US" sz="1400" spc="-1" strike="noStrike">
                <a:solidFill>
                  <a:srgbClr val="16cc52"/>
                </a:solidFill>
                <a:latin typeface="Cambria"/>
                <a:ea typeface="Cambria"/>
              </a:rPr>
              <a:t>,</a:t>
            </a:r>
            <a:r>
              <a:rPr b="0" i="1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НАЧИНА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2560" indent="-1353960" algn="ctr">
              <a:lnSpc>
                <a:spcPct val="115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ВДРУГ МЕНЯТЬ ВЗГЛЯДЫ</a:t>
            </a:r>
            <a:r>
              <a:rPr b="0" i="1" lang="en-US" sz="1400" spc="-1" strike="noStrike">
                <a:solidFill>
                  <a:srgbClr val="16cc52"/>
                </a:solidFill>
                <a:latin typeface="Cambria"/>
                <a:ea typeface="Cambria"/>
              </a:rPr>
              <a:t>,</a:t>
            </a:r>
            <a:r>
              <a:rPr b="0" i="1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ПРОПОВЕДОВАТЬ РАДИКАЛЬНО</a:t>
            </a:r>
            <a:r>
              <a:rPr b="0" i="1" lang="en-US" sz="1400" spc="-1" strike="noStrike">
                <a:solidFill>
                  <a:srgbClr val="16cc52"/>
                </a:solidFill>
                <a:latin typeface="Cambria"/>
                <a:ea typeface="Cambria"/>
              </a:rPr>
              <a:t>-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ЭКСТРЕМИСТСКИЕ КОНЦЕПЦИИ</a:t>
            </a:r>
            <a:r>
              <a:rPr b="0" i="1" lang="en-US" sz="1400" spc="-1" strike="noStrike">
                <a:solidFill>
                  <a:srgbClr val="16cc52"/>
                </a:solidFill>
                <a:latin typeface="Cambria"/>
                <a:ea typeface="Cambria"/>
              </a:rPr>
              <a:t>,</a:t>
            </a:r>
            <a:r>
              <a:rPr b="0" i="1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ВЫСКАЗЫВАТЬСЯ О НЕОБХОДИМОСТИ БОРЬБЫ С НЕВЕРНЫМИ И Т</a:t>
            </a:r>
            <a:r>
              <a:rPr b="0" i="1" lang="en-US" sz="1400" spc="-1" strike="noStrike">
                <a:solidFill>
                  <a:srgbClr val="16cc52"/>
                </a:solidFill>
                <a:latin typeface="Cambria"/>
                <a:ea typeface="Cambria"/>
              </a:rPr>
              <a:t>.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2560" indent="-135396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16cc52"/>
                </a:solidFill>
                <a:latin typeface="Cambria"/>
                <a:ea typeface="Cambria"/>
              </a:rPr>
              <a:t>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2560" indent="-1353960"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2560" indent="-1353960">
              <a:lnSpc>
                <a:spcPct val="1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52560" indent="-1353960" algn="ctr">
              <a:lnSpc>
                <a:spcPct val="115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164e61"/>
                </a:solidFill>
                <a:latin typeface="Tahoma"/>
                <a:ea typeface="Tahoma"/>
              </a:rPr>
              <a:t>ЖЕЛАЕМ</a:t>
            </a:r>
            <a:r>
              <a:rPr b="1" lang="en-US" sz="2400" spc="-1" strike="noStrike">
                <a:solidFill>
                  <a:srgbClr val="164e61"/>
                </a:solidFill>
                <a:latin typeface="Tahoma"/>
                <a:ea typeface="Tahoma"/>
              </a:rPr>
              <a:t>	</a:t>
            </a:r>
            <a:r>
              <a:rPr b="1" lang="en-US" sz="2400" spc="-1" strike="noStrike">
                <a:solidFill>
                  <a:srgbClr val="164e61"/>
                </a:solidFill>
                <a:latin typeface="Tahoma"/>
                <a:ea typeface="Tahoma"/>
              </a:rPr>
              <a:t>ВАМ УСПЕШНОГО ПРОХОЖДЕНИЯ АТТЕСТ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Google Shape;110;p15"/>
          <p:cNvSpPr/>
          <p:nvPr/>
        </p:nvSpPr>
        <p:spPr>
          <a:xfrm>
            <a:off x="12600" y="390600"/>
            <a:ext cx="7527600" cy="9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60400" indent="-1428840">
              <a:lnSpc>
                <a:spcPct val="117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16.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ЧТО ОТНОСИТСЯ К КРИТЕРИЯМ ОПРЕДЕЛЕНИЯ ЧЕЛОВЕКА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НОСЯЩЕГОСЯ К ДЕСТРУКТИВНЫМ РЕЛИГИОЗНЫМ ТЕЧЕНИЯМ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0" indent="-1428840" algn="ctr">
              <a:lnSpc>
                <a:spcPct val="121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chemeClr val="dk1"/>
                </a:solidFill>
                <a:latin typeface="Arial"/>
                <a:ea typeface="Arial"/>
              </a:rPr>
              <a:t>ПЕРВЫМ КРИТЕРИЕМ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 ПОМОЩЬЮ КОТОРОГО МОЖНО ЗАПОДОЗРИТЬ ПРИВЕРЖЕН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0" indent="-142884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ЛИЦА К ЭКСТРЕМИСТСКИМ ГРУППИРОВКАМ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ЯВЛЯЕТСЯ ЕГО РЕЧЬ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НАПРИМЕР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: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«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ЕСЛИ ЧЕЛОВЕК УШЕЛ В РАДИКАЛЬНУЮ ИДЕОЛОГИЮ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ТО В СВОЕЙ РЕЧИ ОН БУДЕТ УПОТРЕБЛЯТЬ ТАКИЕ СПЕЦИФИЧЕСКИЕ СЛОВА КАК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«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КАФИРСКОЕ ГОСУДАРСТВО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»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«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ГОСУДАРСТВО ТУГАТА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»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«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НУЖНО УБИРАТЬ КАФИРОВ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»»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 Т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Д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0" indent="-142884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chemeClr val="dk1"/>
                </a:solidFill>
                <a:latin typeface="Arial"/>
                <a:ea typeface="Arial"/>
              </a:rPr>
              <a:t>ВТОРЫМ КРИТЕРИЕМ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ЯВЛЯЕТСЯ ВНЕШНИЙ ВИД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ДНАКО У ТЕРРОРИСТОВ НЕТ СПЕЦИАЛЬНОЙ УНИФОРМЫ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ТЕМ НЕ МЕНЕЕ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НЕКОТОРЫЕ ВЫВОДЫ О РЕЛИГИОЗНЫХ ВЗГЛЯДАХ ЧЕЛОВЕКА МОЖНО УСТАНОВИТЬ ПО ЕГО ОДЕЖДЕ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0" indent="-1428840">
              <a:lnSpc>
                <a:spcPct val="116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НАПРИМЕР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АЛАФИТОВ ЛЕГКО ОТЛИЧИТЬ ПО БОРОДАМ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ДАЖЕ ДЛЯ ЧРЕЗМЕРНО ЮНОГО ВОЗРАСТА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КОРОТКИЕ ШТАНЫ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КАК ПРАВИЛО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ЯВЛЯЮТСЯ ДОПОЛНЕНИЕМ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chemeClr val="dk1"/>
                </a:solidFill>
                <a:latin typeface="Arial"/>
                <a:ea typeface="Arial"/>
              </a:rPr>
              <a:t>ТРЕТЬИМ ПРИЗНАКОМ</a:t>
            </a:r>
            <a:r>
              <a:rPr b="0" i="1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ЯВЛЯЕТСЯ УЧАСТИЕ В ПОДОЗРИТЕЛЬНЫХ СБОРИЩАХ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0" indent="-1428840">
              <a:lnSpc>
                <a:spcPct val="117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НАПРИМЕР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РАДИКАЛЬНЫЕ ГРУППЫ ИМЕЮТ МЕСТО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ГДЕ СИСТЕМАТИЧЕСКИ СОБИРАЮТСЯ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ЕСЛИ МЫ ВИДИМ ЧТО ОПРЕДЕЛЕННОЕ КОЛИЧЕСТВО СОБИРАЕТСЯ В ЖИЛ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0" indent="-142884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ЛИ НЕ ЖИЛОМ ПОМЕЩЕНИ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ЫГЛЯДЯТ ПРИ ЭТОМ СУРОВО НАПРЯЖЕННЫМ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 ЭТО СОВЕРШЕННО НЕ ПРОИЗВОДИТ ВПЕЧАТЛЕНИЯ ДЕЛОВОЙ ВСТРЕЧИ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ТОЯ ИЛИ ДРУЖЕСКИХ ПОСИДЕЛОК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0" indent="-1428840" algn="ctr">
              <a:lnSpc>
                <a:spcPct val="142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chemeClr val="dk1"/>
                </a:solidFill>
                <a:latin typeface="Arial"/>
                <a:ea typeface="Arial"/>
              </a:rPr>
              <a:t>ЧЕТВЕРТЫМ ПРИЗНАКОМ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ЯВЛЯЕТСЯ ПРОПАГАНДА РАДИКАЛЬНЫХ ИДЕЙ И УВЛЕЧЕНИЕ РЕЛИГИОЗНОЙ ЛИТЕРАТУРОЙ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0" indent="-1428840">
              <a:lnSpc>
                <a:spcPct val="10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НАПРИМЕР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О МНОГИХ ТАКСИ ВМЕСТО ПРИВЫЧНОГО ШАНСОНА ЗВУЧАТ АУДИ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0" indent="-1428840">
              <a:lnSpc>
                <a:spcPct val="116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ОПОВЕДИ НА ХОРОШЕМ ЯЗЫКЕ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ЧЕНЬ ВКРАДЧИВЫМ ГОЛОСОМ РАЗЪЯСНЯЮЩИЕ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РОЙ АККУРАТНО ПОДВОДЯЩИЕ К МЫСЛЯМ О СПРАВЕДЛИВОСТИ И НЕСПРАВЕДЛИВОСТИ В МИРЕ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0" indent="-142884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НЕОБХОДИМОСТИ БОРЬБЫ С НЕВЕРНЫМИ И Т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Д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0" indent="-142884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chemeClr val="dk1"/>
                </a:solidFill>
                <a:latin typeface="Arial"/>
                <a:ea typeface="Arial"/>
              </a:rPr>
              <a:t>ПЯТЫМ ПРИЗНАКОМ</a:t>
            </a:r>
            <a:r>
              <a:rPr b="0" i="1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ЯВЛЯЕТСЯ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ЕСЛИ ЧЕЛОВЕК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ДАЖЕ ВАШ БЛИЗКИЙ РОДСТВЕННИК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НАЧИНАЕТ ВДРУГ МЕНЯТЬ ВЗГЛЯДЫ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ОПОВЕДОВАТЬ РАДИКАЛЬНО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ЭКСТРЕМИСТСК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0" indent="-142884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КОНЦЕПЦИ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ЫСКАЗЫВАТЬСЯ О НЕОБХОДИМОСТИ БОРЬБЫ С НЕВЕРНЫМИ И Т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Д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