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7556500" cy="10706100"/>
  <p:notesSz cx="7556500" cy="1070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4CCF-02AE-4BDD-858F-3E4C8891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69E-AF97-48CB-9E3D-A2A0233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9A25-7F6F-44C4-B0BC-1DF4A4C8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DC8-F7ED-4809-B105-3361E4B2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7E5C-F31F-45D6-8360-05B006A4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1D66-3467-409D-ACAF-52D871F6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FFE6-141F-4EE1-8377-0D87016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D65-DFE2-44F3-80E8-72401B8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907-99A4-4845-87ED-140879CB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E826-3ABB-45E5-B7D8-DBF5A548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4EDF-194F-4033-B6C9-DF80B7C0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0DD-5A89-4E70-A243-4E9A5581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F01-C92E-40E6-9681-206539B8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E770-F801-46E8-9812-FF4410E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B9576-4C74-43A5-91D1-A93A35C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FE16-FA06-470C-AD54-3BD14101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67696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76280" y="250488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7764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67696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976280" y="5748120"/>
            <a:ext cx="218952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1817-DAD7-4B69-B1D6-F1C4D382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CB38-E50A-4985-B7A5-7B29C829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6BF-9D59-4976-B002-76C95385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14F-F714-4331-81B2-02C019E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77640" y="426960"/>
            <a:ext cx="6800400" cy="82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1EF-001F-4EFD-9463-45543B7A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C19-5502-479B-92FF-E1CDB5C7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62440" y="574812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4FC-62A2-4DFA-B2EC-69B59622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76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62440" y="2504880"/>
            <a:ext cx="331848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7640" y="5748120"/>
            <a:ext cx="6800400" cy="296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118-0CFC-4C59-B558-1DDDEF3E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9586194-2C9A-43C8-89B1-2BEF0A951C7C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377640" y="426960"/>
            <a:ext cx="68004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77640" y="2504880"/>
            <a:ext cx="6800400" cy="62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Google Shape;6;p1"/>
          <p:cNvSpPr/>
          <p:nvPr/>
        </p:nvSpPr>
        <p:spPr>
          <a:xfrm>
            <a:off x="0" y="0"/>
            <a:ext cx="7556040" cy="10686600"/>
          </a:xfrm>
          <a:custGeom>
            <a:avLst/>
            <a:gdLst>
              <a:gd name="textAreaLeft" fmla="*/ 0 w 7556040"/>
              <a:gd name="textAreaRight" fmla="*/ 7556400 w 755604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56500" h="10687685">
                <a:moveTo>
                  <a:pt x="0" y="10687689"/>
                </a:moveTo>
                <a:lnTo>
                  <a:pt x="7555992" y="10687689"/>
                </a:lnTo>
                <a:lnTo>
                  <a:pt x="7555992" y="8"/>
                </a:lnTo>
                <a:lnTo>
                  <a:pt x="0" y="8"/>
                </a:lnTo>
                <a:lnTo>
                  <a:pt x="0" y="10687689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78000" y="2462040"/>
            <a:ext cx="680040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568600" y="9956880"/>
            <a:ext cx="241884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5"/>
          </p:nvPr>
        </p:nvSpPr>
        <p:spPr>
          <a:xfrm>
            <a:off x="37800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40320" y="9956880"/>
            <a:ext cx="1738080" cy="620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95A961A-7ADB-4833-952B-0374C19DCAAC}" type="slidenum">
              <a:rPr b="0" lang="en-US" sz="18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Google Shape;44;p7"/>
          <p:cNvSpPr/>
          <p:nvPr/>
        </p:nvSpPr>
        <p:spPr>
          <a:xfrm>
            <a:off x="531720" y="825480"/>
            <a:ext cx="638460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ебный цен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18000"/>
              </a:lnSpc>
              <a:tabLst>
                <a:tab algn="l" pos="0"/>
              </a:tabLst>
            </a:pP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FINEX</a:t>
            </a:r>
            <a:r>
              <a:rPr b="1" lang="en-US" sz="22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chemeClr val="dk1"/>
                </a:solidFill>
                <a:latin typeface="Cambria"/>
                <a:ea typeface="Cambria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0620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600" spc="-1" strike="noStrike">
                <a:solidFill>
                  <a:srgbClr val="202020"/>
                </a:solidFill>
                <a:latin typeface="Arial"/>
                <a:ea typeface="Arial"/>
              </a:rPr>
              <a:t>ТЕСТЫ С ОТВЕТАМИ ПО ПОД Ф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oogle Shape;45;p7"/>
          <p:cNvSpPr/>
          <p:nvPr/>
        </p:nvSpPr>
        <p:spPr>
          <a:xfrm>
            <a:off x="541440" y="3036960"/>
            <a:ext cx="6803640" cy="79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21160" algn="ctr">
              <a:lnSpc>
                <a:spcPct val="109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Т Е С Т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РА ЗД Е Л Е Н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БЛ О КА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ВО П РО С Ы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ЧЕ Н Ы ЧЕ Р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 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9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О Т ВЕ Т Ы  П О Д С ВЕ ЧЕ Н Ы КРА С Н ЫМ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ЦВЕ Т О М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Н Е БО Л ЬШИЕ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МЕ Т К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С У Т О ЧН Е Н ИЯ МИ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	</a:t>
            </a: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П О Д С ВЕ Т ИЛ И  ЗЕ Л Е Н ЫМ ЦВЕ Т О М  Д Л Я  ВА ШЕ Г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dk1"/>
                </a:solidFill>
                <a:latin typeface="Lucida Sans"/>
                <a:ea typeface="Lucida Sans"/>
              </a:rPr>
              <a:t>У Д О БС Т В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just">
              <a:lnSpc>
                <a:spcPct val="114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НА ПО МИНА Е М,  О Т О М ЧТ О НЕ  В С Е  Т Е С Т Ы ,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КО Т О Р Ы Е З ДЕ С Ь ИМЕ ЮТ С Я МО Г 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В А М ПО ПА С Т А Т Ь С Я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13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%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Т Е С Т О В МО Г УТ О Т ЛИЧА Т Ь С Я ПР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А Т Т Е С Т А 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1160">
              <a:lnSpc>
                <a:spcPct val="116000"/>
              </a:lnSpc>
              <a:tabLst>
                <a:tab algn="l" pos="0"/>
              </a:tabLst>
            </a:pPr>
            <a:r>
              <a:rPr b="1" lang="en-US" sz="1800" spc="-1" strike="noStrike" u="sng">
                <a:solidFill>
                  <a:schemeClr val="hlink"/>
                </a:solidFill>
                <a:uFillTx/>
                <a:latin typeface="Calibri"/>
                <a:ea typeface="Calibri"/>
                <a:hlinkClick r:id="rId1"/>
              </a:rPr>
              <a:t>www.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f i n e x s t . kz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8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775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401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3</a:t>
            </a:r>
            <a:r>
              <a:rPr b="1" lang="en-US" sz="18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chemeClr val="dk1"/>
                </a:solidFill>
                <a:latin typeface="Arial"/>
                <a:ea typeface="Arial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4120" y="192240"/>
            <a:ext cx="3908160" cy="17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ФИЛЬНЫЕТЕСТЫ</a:t>
            </a:r>
            <a:br>
              <a:rPr sz="3200"/>
            </a:br>
            <a:r>
              <a:rPr b="0" lang="en-US" sz="2300" spc="-1" strike="noStrike">
                <a:solidFill>
                  <a:srgbClr val="202020"/>
                </a:solidFill>
                <a:latin typeface="Trebuchet MS"/>
                <a:ea typeface="Trebuchet MS"/>
              </a:rPr>
              <a:t>4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oogle Shape;116;p16"/>
          <p:cNvSpPr/>
          <p:nvPr/>
        </p:nvSpPr>
        <p:spPr>
          <a:xfrm>
            <a:off x="158760" y="1440000"/>
            <a:ext cx="128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oogle Shape;117;p16"/>
          <p:cNvSpPr/>
          <p:nvPr/>
        </p:nvSpPr>
        <p:spPr>
          <a:xfrm>
            <a:off x="395280" y="1440000"/>
            <a:ext cx="673380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82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НЕ ОТНОСИТСЯ К МИКРОФИНАНСОВОЙ ДЕЯТЕЛЬНОСТ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0820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ИКРОФИНАНСОВЫМ ОРГАНИЗАЦИЯМ ЗАПРЕЩАЕТСЯ ОСУЩЕСТВЛЯТЬ ИНУЮ НЕ ПРЕДУСМОТРЕННУЮЗАКОНОМ О МФД ПРЕДПРИНИМАТЕЛЬСКУЮ ДЕЯТЕЛЬ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118;p16"/>
          <p:cNvSpPr/>
          <p:nvPr/>
        </p:nvSpPr>
        <p:spPr>
          <a:xfrm>
            <a:off x="6480" y="2533680"/>
            <a:ext cx="7543440" cy="82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0200" indent="-20016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2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КАЕТСЯ ЛИ УСТУПКА ПРАВ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ТРЕБОВАН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ДОГОВОРУ О ПРЕДОСТАВЛЕНИИ МИКРОКРЕДИТА В ОТНОШЕНИИ ОДНОГО ЗАЕМЩ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СКОЛЬКИМ ЛИЦА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ДОПУСКА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spcBef>
                <a:spcPts val="300"/>
              </a:spcBef>
              <a:buClr>
                <a:srgbClr val="202020"/>
              </a:buClr>
              <a:buFont typeface="Trebuchet MS"/>
              <a:buAutoNum type="arabicPeriod" startAt="3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И СКОЛЬКИХ ДНЕЙ МИКРОФИНАНСОВАЯ ОРГАНИЗАЦИЯ ОБЯЗАНА ПОСЛЕ ПОЛУЧЕНИЯ УВЕДОМЛЕНИЯ ГОСУДАРСТВЕННОГО ОРГАН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ЕГО ГОСУДАРСТВЕННОЕ РЕГУЛИРОВА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НТРОЛЬ И НАДЗОР ФИНАНСОВОГО РЫНКА И ФИНАНСОВЫХ ОРГАНИЗА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ИСКЛЮЧЕНИИ И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ЕСТРА МИКРОФИНАНСОВЫХ ОРГАНИЗАЦИЙ ПРОВЕСТИ ПРОЦЕДУРУ ПЕРЕРЕГИСТРАЦИИ ПУТЕМ ИСКЛЮЧЕНИЯ ИЗ СВОЕГО НАИМЕНОВАНИЯ С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ИКРОФИНАНСОВАЯ ОРГАНИЗАЦИ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ЕДИТНОЕ ТОВАРИЩЕСТВО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ОМБАРД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ИЗВОДНЫХ ОТ НИХ СЛОВ ИЛИ АББРЕВИАТУРЫ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ДПОЛАГАЮЩИ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АННОЕ ЮРИДИЧЕСКОЕ ЛИЦО ОСУЩЕСТВЛЯЕТ ДЕЯТЕЛЬНОСТЬ ПО ПРЕДОСТАВЛЕНИЮ МИКРОКРЕДИТ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БО ПРИНЯТЬ РЕШЕНИЕ О РЕОРГАНИЗАЦИИ ИЛИ ЛИКВИД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ИДЦАТЬ РАБОЧИХ ДНЕ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АТТЕСТАЦИИ СТОИ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ЛЕНДАРНЫ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00200" indent="-200160">
              <a:lnSpc>
                <a:spcPct val="112000"/>
              </a:lnSpc>
              <a:buClr>
                <a:srgbClr val="202020"/>
              </a:buClr>
              <a:buFont typeface="Trebuchet MS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МИКРОФИНАНСОВАЯ ОРГАНИЗАЦИЯ ОБЯЗАНА ОТКАЗЫВАТЬ В ПРЕДОСТАВЛЕНИИ МИКРОКРЕДИ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КАЗЫВАТЬ В ПРЕДОСТАВЛЕНИИ МИКРОКРЕДИТА В СЛУЧАЯ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00040" indent="200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Google Shape;119;p1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7475" h="340995">
                <a:moveTo>
                  <a:pt x="366855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706" y="0"/>
                </a:lnTo>
                <a:lnTo>
                  <a:pt x="366855" y="0"/>
                </a:lnTo>
              </a:path>
              <a:path w="1387475" h="340995">
                <a:moveTo>
                  <a:pt x="758643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5505" y="0"/>
                </a:lnTo>
                <a:lnTo>
                  <a:pt x="758643" y="0"/>
                </a:lnTo>
              </a:path>
              <a:path w="1387475" h="340995">
                <a:moveTo>
                  <a:pt x="1150441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7312" y="0"/>
                </a:lnTo>
                <a:lnTo>
                  <a:pt x="1150441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Google Shape;124;p17"/>
          <p:cNvSpPr/>
          <p:nvPr/>
        </p:nvSpPr>
        <p:spPr>
          <a:xfrm>
            <a:off x="14400" y="2532240"/>
            <a:ext cx="7494120" cy="51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3280" indent="-210960">
              <a:lnSpc>
                <a:spcPct val="100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ТО ОТНОСИТСЯ К ОРГАНИЗАЦИЯ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ЯЮЩИМ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ЕЯТЕЛЬНОСТЬ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00000"/>
              </a:lnSpc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КРЕДИТНЫХ ТОВАРИЩЕСТВ ПО ПРЕДОСТАВЛЕНИЮ МИКРОКРЕДИ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ОИМ УЧАСТНИКА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arenR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ЛОМБАРДОВ ПО ПРЕДОСТАВЛЕНИЮ МИКРОКРЕДИТОВ ФИЗИЧЕСКИМ ЛИЦАМ ПОД ЗАЛОГ ДВИЖИМ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НАЗНАЧЕННОГО ДЛЯ ЛИЧНОГО ПОЛЬ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ОДНОГО ГОДА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ВОСЬ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ЫСЯЧЕКРАТНОГО РАЗМЕРА 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95400">
              <a:lnSpc>
                <a:spcPct val="114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Ь МИКРОФИНАНСОВЫХ ОРГАНИЗАЦИЙ ПО ПРЕДОСТАВЛЕНИЮ МИКРОКРЕДИТОВ ФИЗИЧЕСКИМ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ЛИЦАМ С ОБЕСПЕЧЕНИЕМ ЛИБО БЕЗ ОБЕСПЕЧЕНИЯ В 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ДВАДЦАТИ ТЫСЯЧЕКРАТНОГО РАЗМЕ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3280" indent="-210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ЯЧНОГО РАСЧЕТНОГО ПОКАЗАТЕЛ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125;p17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Google Shape;130;p18"/>
          <p:cNvSpPr/>
          <p:nvPr/>
        </p:nvSpPr>
        <p:spPr>
          <a:xfrm>
            <a:off x="9360" y="946080"/>
            <a:ext cx="7522920" cy="11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3920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СУБЪЕКТЫ ФИНАНСОВОГО МОНИТОРИНГА СОГЛАСНО ЗАКОНА РЕСПУБЛИКИ КАЗАХСТАН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“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РАМКАХ ДИСТАНЦИОННО УСТАНОВЛЕННЫХ ДЕЛОВЫХ ОТНОШЕНИЙ С КЛИЕНТОМ ВПРАВЕ СОВЕРШАТЬ ОПЕРАЦИ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 ИСКЛЮЧЕНИЕМ ТРАНСГРАНИЧНЫХ ПЛАТЕЖ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З ПРИНЯТИЯ МЕР ПО ПРОВЕРКЕ ДОСТОВЕРНОСТИ СВЕДЕН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ОБХОДИМЫХ ДЛЯ ИДЕНТИФИКАЦИИ КЛИЕНТА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ЕГО ПРЕДСТАВИТЕЛ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ОГО СОБСТВЕННИК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УЩЕСТВЛЕНИЯ КЛИЕНТОМ ОПЕРАЦИЙ ПО УПЛАТЕ НАЛОГ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ЕНИ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ШТРАФОВ И ДРУГИХ ОБЯЗАТЕЛЬНЫХ ПЛАТЕЖЕЙ В БЮДЖЕТ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А ТАКЖЕ СТРАХОВЫХ ПРЕМИЙ ПО ДОГОВОР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ЯЗАТЕЛЬНОГО СТРАХОВАНИЯ И ЗАЧИСЛЕНИЯ ДЕНЕГ НА БАНКОВСКИЙ СЧЕТ КЛИЕНТ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ЗАКОНЕ УКАЗАНО СУБЪЕКТЫ УКАЗАННЫЕ В СТАТЬ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-5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ИЖЕ РАСШИФРОВКА ЭТИХ СУБЪЕК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АН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БАНК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ТДЕЛЬНЫЕ ВИДЫ БАНКОВСКИХ ОПЕРАЦ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ОПЕРАТОРА ИЛИ ОПЕРАЦИОННОГО ЦЕНТ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ЕЖБАНКОВСКОЙ СИСТЕМЫ ПЕРЕВОДОВ ДЕНЕ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ЮРИДИЧЕСКИХ ЛИЦ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СКЛЮЧИТЕЛЬНОЙ ДЕЯТЕЛЬНОСТЬЮ КОТОРЫХ ЯВЛЯЕТСЯ ИНКАССАЦИЯ БАНКНО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ОНЕТ И ЦЕННОСТЕ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БИРЖ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ТРАХОВЫЕ БРОКЕР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ЩЕСТВА ВЗАИМНОГО СТРАХО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ЕРЕСТРАХОВОЧН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ЛИАЛЫ СТРАХОВЫХ БРОКЕРОВ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ОВ РЕСПУБЛИКИ КАЗАХСТАН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ЕДИНЫЙ НАКОПИТЕЛЬНЫЙ ПЕНСИОННЫЙ ФОНД И ДОБРОВОЛЬНЫЕ НАКОПИТЕЛЬНЫЕ ПЕНСИОННЫЕ ФОНД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ФЕССИОНАЛЬНЫЕ УЧАСТНИКИ РЫНКА ЦЕННЫХ БУМАГ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ЦЕНТРАЛЬНЫЙ ДЕПОЗИТАРИ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МИКРОФИНАНСОВУЮ ДЕЯ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ЛАТЕЖНЫЕ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1440" indent="-39204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УСЛУГ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ОДУК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 ТАКЖЕ СПОСОБЫ ИХ ПРЕДОСТАВЛЕ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ДВЕРЖЕННЫЕ ВЫСОКОМУ РИСКУ ЛЕГАЛИЗАЦИИ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Я ТЕРРОРИЗМ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 НЕ ОГРАНИЧИВАЮТСЯ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ИСТАНЦИОННОЕ ОБСЛУЖИВАНИЕ КЛИЕН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ОБСЛУЖИВАНИЕ ПОСРЕДСТВОМ ПЕРСОНАЛЬНЫХ КОМПЬЮТЕР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ЛЕФОН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Х ТЕРМИНАЛ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ЫДАЧА ЗАЙМА НАЛИЧНЫМИ ДЕНЬГАМИ НА СУММУ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СУММУ В ИНОСТРАННОЙ ВАЛЮТ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УЮ ЭКВИВАЛЕНТ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000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НГ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357200" indent="-22068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ОВЫЕ ПРОДУКТЫ И ДЕЛОВЫЕ ПРАКТИК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ЮЧАЮЩИЕ МЕХАНИЗМЫ ПЕРЕДАЧИ ИНФОРМАЦИИ С ИСПОЛЬЗОВАНИЕМ НОВЫХ И РАЗВИВАЮЩИХСЯ ТЕХНОЛОГИЙ КАК ДЛЯ СУЩЕСТВУЮЩ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АК И Д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9400" indent="392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НЕДРЯЕМЫХ ПРОДУКТОВ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Google Shape;131;p1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Google Shape;136;p19"/>
          <p:cNvSpPr/>
          <p:nvPr/>
        </p:nvSpPr>
        <p:spPr>
          <a:xfrm>
            <a:off x="1955880" y="74520"/>
            <a:ext cx="41857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ПОЗАКОНУПОПОДФ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202020"/>
                </a:solidFill>
                <a:latin typeface="Trebuchet MS"/>
                <a:ea typeface="Trebuchet MS"/>
              </a:rPr>
              <a:t>5</a:t>
            </a:r>
            <a:r>
              <a:rPr b="0" lang="en-US" sz="20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Google Shape;137;p19"/>
          <p:cNvSpPr/>
          <p:nvPr/>
        </p:nvSpPr>
        <p:spPr>
          <a:xfrm>
            <a:off x="3240" y="1054080"/>
            <a:ext cx="7538760" cy="13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68680" indent="-349560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КЛИЕНТОВ ВКЛЮЧАЕТ 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КСИРОВАНИЕ СВЕД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ДЛЯ ИДЕНТИФИКАЦИ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Е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ЕГО ЛИЧНОСТ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Й ИДЕНТИФИКАЦИОННЫЙ НОМЕР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СЛУЧАЕ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ФИЗИЧЕСК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У НЕ ПРИСВОЕН ИНДИВИДУАЛЬНЫЙ ИДЕНТИФИКАЦИОННЫЙ НОМЕР В СООТВЕТСТВИИ С ЗАКОНОДАТЕЛЬСТВОМ 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Й АДРЕ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2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СЛУЧАЕ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ЕСЛИ БЕНЕФИЦИАРНЫЙ СОБСТВЕННИК КЛИЕНТА НЕ ВЫЯВЛЕН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ПУСКАЕТС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ЗНАНИЕ БЕНЕФИЦИАРНЫМ СОБСТВЕННИКОМ ЕДИНОЛИЧНОГО ИСПОЛНИТЕЛЬНОГО ОРГАНА ЛИБО РУКОВОДИТЕЛЯ КОЛЛЕГИАЛЬНОГО ИСПОЛНИТЕЛЬНОГО ОРГАНА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СОСТАВЛЯЕТ ПЕРЕЧЕНЬ 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СОСТАВЛЕНИЯ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КАК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МИ ОРГАН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РГАНИЗАЦИЯХ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Х ЛИЦАХ В УПОЛНОМОЧЕННЫЙ ОРГАН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МИ ВЫШЕПЕРЕЧИСЛЕННЫМИ ГОСОРГАНАМИ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ОСУЩЕСТВЛЯЕТСЯ УПОЛНОМОЧЕННЫМ ОРГАНОМ В ОТНОШЕНИИ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ИНФОРМАЦИ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МОЙГОСУДАРСТВЕННЫМИ ОРГАН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68680" indent="-3495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НО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Google Shape;138;p1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Google Shape;143;p20"/>
          <p:cNvSpPr/>
          <p:nvPr/>
        </p:nvSpPr>
        <p:spPr>
          <a:xfrm>
            <a:off x="-1440" y="204840"/>
            <a:ext cx="7503840" cy="13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00120" indent="2844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ВКЛЮЧЕНИЯ ОРГАНИЗАЦИИ ИЛИ ФИЗИЧЕСКОГОЛИЦА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28560" indent="-28440" algn="ctr">
              <a:lnSpc>
                <a:spcPct val="100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ТУПИВШЕЕ В ЗАКОННУЮ СИЛУ РЕШЕНИЕ СУДА РК О ЛИКВИДАЦИИ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ВЯЗИ С ОСУЩЕСТВЛЕНИЕМ ЕЮ ТЕРРОРИСТИЧЕСКОЙ ДЕЯТЕЛЬНОС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ЯВЛЯЕТСЯ ОСНОВАНИЕМ ДЛЯ ИСКЛЮЧЕНИЯ ОРГАНИЗАЦИИ И ФИЗИЧЕСКОГО ЛИЦА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ДОКУМЕНТАЛЬНО ПОДТВЕРЖДЕННЫХ ДАННЫХ О ПОГАШЕНИИ ИЛИ СНЯТ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ИМОСТИ С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ЖДЕННОГО ЗА СОВЕРШЕНИЕ ЭКСТРЕМИСТСКОГО 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ГО ПРЕСТУП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ССМАТРИВАЕТ ЗАЯВЛЕНИЕ ОБ ИСКЛЮЧЕНИИ ОРГАНИЗАЦИИ ИЛИ ФИЗИЧЕСКОГОЛИЦА 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1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НКТ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7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БЗАЦ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ПРЕДЕЛЯЕТСЯ ПОРЯДОК ВЫПЛАТЫ СРЕДСТВ ФИЗИЧЕСКОМУ ЛИЦ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10800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ФИЗИЧЕСКОЕ ЛИЦ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ОБРАТИТЬСЯ К СУБЪЕКТУ ФИНАНСОВОГО МОНИТОРИНГА ДЛЯ ОСУЩЕСТВЛЕНИЯОПЕРАЦИЙ С ДЕНЬГАМИ ИЛИ 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МИ В ВИДЕ ОПЛАТЫ ТРУДОВОГО ОТПУСКА ИЛИ ЗАРАБОТНОЙ ПЛАТЫ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Р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ПРЕВЫШАЮЩЕМ МИНИМАЛЬНОГО РАЗМЕРА ЗАРАБОТНОЙ ПЛА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ГО НА СООТВЕТСТВУЮЩИЙ ФИНАНСОВЫЙ ГОД ЗАКОНОМ О РЕСПУБЛИКАНСКОМ БЮДЖЕТ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КАЛЕНДАРНОГО МЕСЯЦА ИЗ РАСЧЕТА НА КАЖДОГО ЧЛЕНА СЕМЬ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 ОРГАНИЗАЦИИ И ФИЗИЧЕСКОГО ЛИЦА ИЗ ПЕРЕЧНЯ ЯВЛЯЕ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ОТМЕНЫ ПРИМЕНЕНИЯ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00120" indent="2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 ПРИНАДЛЕЖАЩИ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Google Shape;148;p21"/>
          <p:cNvSpPr/>
          <p:nvPr/>
        </p:nvSpPr>
        <p:spPr>
          <a:xfrm>
            <a:off x="63360" y="115920"/>
            <a:ext cx="74196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5680" indent="24444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АВА У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ОБРАТИТЬСЯ В УПОЛНОМОЧЕННЫЙ ОРГАН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5680" indent="2444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ЯВЛЕНИЕМ О ЧАСТИЧНОЙ ИЛИ ПОЛНОЙ ОТМЕНЕ ПРИМЕНЯЕМЫХ МЕР ПО ЗАМОРАЖИ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Google Shape;149;p21"/>
          <p:cNvSpPr/>
          <p:nvPr/>
        </p:nvSpPr>
        <p:spPr>
          <a:xfrm>
            <a:off x="-1440" y="2255760"/>
            <a:ext cx="7519680" cy="10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9960" indent="-954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ДОЛЖЕН ПРОИЗВЕСТИ УПОЛНОМОЧЕННЫЙ ОРГАН ПО ФИНАНСОВОМУ МОНИТОРИНГУ В СЛУЧАЕ ВЫЯВЛЕНИЯ ИМУЩЕСТВА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ПЕРЕДАЕТ ТАКИЕ СВЕДЕНИЯ В ГЕНЕРАЛЬНУЮ ПРОКУРАТУ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ПРИЗНАЮТ ПОД ЧЛЕНАМИ СЕМЬ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Т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УСЫНОВ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 ИЖДИВЕНИИ ИЛИ ПОД ОПЕ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 И РОДИТЕЛИ СУПРУГ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ЖДИВЕН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В ПРЕДЕЛАХ СВОЕЙ КОМПЕТЕНЦИИ ОСУЩЕСТВЛЯ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Ь ЗА СОБЛЮДЕНИЕМ СУБЪЕКТАМИ ФИНАНСОВОГО МОНИТОРИНГА ЗАК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ВХОДИТ В ОБЯЗАННОСТИ ГОСУДАРСТВЕННЫХ ОРГАНОВ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В ПРЕДЕЛАХ СВОЕЙ КОМПЕТЕНЦИИ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СОБЛЮДЕНИЕМ СУБЪЕКТАМИ ФИНАНСОВОГО МОНИТОРИНГА ЗАКОНОДАТЕЛЬСТВАРЕСПУБЛИКИ КАЗАХСТАН 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99960" indent="-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Google Shape;154;p22"/>
          <p:cNvSpPr/>
          <p:nvPr/>
        </p:nvSpPr>
        <p:spPr>
          <a:xfrm>
            <a:off x="12600" y="36360"/>
            <a:ext cx="7475040" cy="13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2800" indent="-412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Е ОРГАНЫ РЕСПУБЛИКИ КАЗАХСТАН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ЫШЕПЕРЕЧИСЛЕНН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ОМУ ОРГАНУ В СФЕРЕВНЕШНЕЙ РАЗВЕД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ЕТСЯ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ЕМЫМ СОВМЕСТНЫМ НОРМАТИВНЫМ ПРАВОВЫМ АК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 В СФЕРЕ ВНЕШНЕЙ РАЗВЕДК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ОЙ ПРОКУРАТУРЫ РЕСПУБЛИКИ КАЗАХСТАН 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ЕМ НЕ ЯВЛЯЕТСЯ ПЕРЕДАЧА СВЕДЕНИЯ И ИНФОРМАЦИИ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ОМ ЧИСЛЕ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ЕТСЯ РАЗГЛАШЕНИЕМ СЛУЖЕБН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ЛИ И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ХРАНЯЕМОЙ ЗАКОНОМ ТАЙ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ИЗ НИЖЕ ПЕРЕЧИСЛЕННЫХ ПЕРЕЧНЕЙ СОСТАВЛЯЕТСЯ УПОЛНОМОЧЕННЫМ ОРГАНОМ ПО ФИНАНСОВОМУ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Й И 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РАСПРОСТРАНЕНИЯ ОРУЖ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АССОВОГО УНИЧТОЖ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ДЕ РАЗМЕЩАЕТСЯ ПЕРЕЧЕНЬ ФИНАНСИРОВАНИЯ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МЕЩАЕТСЯ 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ЗАМЕДЛ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О НЕ ПОЗДНЕЕ ОДНОГО РАБОЧЕГО ДНЯ СО ДНЯ ПРИНЯТИЯ РЕШЕНИЯ ОБ ИСКЛЮЧЕНИИ ОРГАНИЗАЦИИ ИЛИФИЗИЧЕСКОГО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З ПЕРЕЧНЯ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ФИНАНСИРОВА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МЕЩАЕТ НА СВОЕ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ТАКОЕ РЕШЕНИЕ И НАПРАВЛЯЕТ ЕГОСООТВЕТСТВУЮЩИМ ГОСУДАРСТВЕННЫМ ОРГАНАМ И ОРГАНИЗ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0" indent="-41292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ИЗ НИЖЕПЕРЕЧИСЛЕННЫХ ВПРАВЕ ОБРАТИТЬСЯ В УПОЛНОМОЧЕННЫЙ ОРГАН ПО ФИНАНСОВОМУ МОНИТОРИНГУ С ПИСЬМЕННЫМ МОТИВИРОВАН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М ОБ ИХ ИСКЛЮЧЕНИИ ИЗ ПЕРЕЧНЯ ФИНАНСИРОВА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99880" indent="412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ШИБОЧНО ВКЛЮЧЕННЫЕ В ПЕРЕЧЕН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Google Shape;159;p23"/>
          <p:cNvSpPr/>
          <p:nvPr/>
        </p:nvSpPr>
        <p:spPr>
          <a:xfrm>
            <a:off x="-1440" y="25560"/>
            <a:ext cx="7519680" cy="13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8880" indent="-40968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Е ДЕЙСТВИЕ МОЖЕТ ПОСЛЕДОВАТЬ ПОСЛЕ РЕШЕНИЯ УПОЛНОМОЧЕННОГООРГАНА ПО ФИНАНСОВОМУ МОНИТОРИНГУ ПО ИСКЛЮЧЕНИЮ ИЗ ПЕРЕЧНЯ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ОЖЕТ БЫТЬ ОБЖАЛОВАНО ЗАЯВИТЕЛЕМ В СУ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ХОТЯ БЫ ОДНА ИЗ СТОРОН ОПЕРАЦИЙ ЯВЛЯЕТСЯ ЛИЦ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ФИНАНСИРОВАНИЯ ОРУЖИЯ МАС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ШЕНИЕ О ПРИОСТАНОВЛЕНИИ ПРОВЕДЕНИЯ ОПЕРАЦИИ ДОВОДИТСЯ Д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СУБЪЕКТА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СЛЕ ПРИНЯТИЯ РЕШЕНИЯ О ПРИОСТАНОВЛЕНИИ ПРОВЕДЕНИЯ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ИМАЕТ РЕШЕНИЕ О ПРОВЕДЕНИИ ОПЕРАЦИИ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КАЗЕ В ПРОВЕДЕНИИ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ЕПОЛУЧЕНИЯ СУБЪЕКТОМ ФИНАНСОВОГО МОНИТОРИНГА В ТЕЧЕНИЕ ДВАДЦАТИ ЧЕТЫРЕХ ЧАСОВ С МОМЕНТА СООБЩЕНИЯ ИНФОРМАЦИИ РЕШЕНИЯ УПОЛНОМОЧЕННОГО ОРГАНА О ПРИОСТАНОВЛЕНИИ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ОПЕРАЦИЯ ДОЛЖНА БЫТЬ ПРОВЕДЕ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АМИ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ЕРЕСЕЧЕНИИ ГОСУДАРСТВЕННОЙ ГРАНИЦЫ РЕСПУБЛИКИ КАЗАХСТАН ФИЗИЧЕСКИМИ ЛИЦ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И В ПЕРЕЧЕНЬ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 УВЕДОМЛЯЕТ КОМИТ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Б О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ЛАТЕЖИ И ПЕРЕВОДЫ ДЕНЕГ ПО ОБРАЩЕНИЮ ТРЕТЬИХ ЛИЦ ЛИБО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БСТВЕННОЙ ИНИЦИАТИВЕ ЧЕРЕЗ СУБЪЕКТОВ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8880" indent="-4096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ЛАГОТВОРИТЕЛЬНЫЕ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Е ОБЪЕДИН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ЩАЮЩИЕСЯ ЗА ДОБРОВОЛЬНЫМИ ПОЖЕРТВОВАНИЯМИ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ТЬ ПО ЗАПРОСУ ФИНАНСОВУЮ ОТЧЕТНОСТЬ О ПРОВЕДЕННЫХ ОПЕРАЦИЯ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19200" indent="409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И ИНФОРМАЦИЮ О ВЫЯВЛЕННЫХ РИСКАХ УПОЛНОМОЧЕННОМУ ОРГ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Google Shape;164;p24"/>
          <p:cNvSpPr/>
          <p:nvPr/>
        </p:nvSpPr>
        <p:spPr>
          <a:xfrm>
            <a:off x="73080" y="7920"/>
            <a:ext cx="7399080" cy="12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34272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31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БЛАГОТВОРИТЕЛЬНЫЕ ОРГАНИЗАЦИИ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А ТАКЖЕ РЕЛИГИОЗНЫЕ ОБЪЕДИНЕ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БРАЩАЮЩИЕСЯ ЗА ДОБРОВОЛЬНЫМИ ПОЖЕРТВОВАНИЯМИ ОБЯЗАНЫ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ХРАНИТЬ НЕ МЕНЕЕ ПЯТИ ЛЕТ ИНФОРМАЦИЮ О ПРОВЕДЕННЫХ ОПЕРАЦИЯХ С ДЕНЬГАМИ 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ЛЕЖАЩИМ ОБЯЗАТЕЛЬНОЙ ГОСУДАРСТВЕННОЙ РЕГИСТР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ОБ УЧРЕДИТЕЛЯХ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АХ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ЛИЧИЯ У БЛАГОТВОРИТЕЛЬН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РЕЛИГИОЗНЫХ ОБЪЕДИНЕНИЙ ПОДОЗРЕНИЯ ОБ ИХ ИСПОЛЬЗОВАНИИ В ЦЕЛ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НИ НАПРАВЛЯЮТ СООТВЕТСТВУЮЩУЮ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 РЕСУРСЕ УПОЛНОМОЧЕННОГО ОРГА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ФИНАНСИРОВАНИЯ РАСПРОСТРАНЕНИЯ ОРУЖИЯ МАССОВОГО УНИЧТОЖЕНИЯ РАЗМЕЩАЕ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 ИНТЕРНЕТ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УРСЕ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ЕНА ПРИГОВОРА СУДА РЕСПУБЛИКИ КАЗАХСТАН О ПРИЗНАНИИ ФИЗИЧЕСКОГО ЛИЦА ВИНОВНЫМ В СОВЕРШЕНИИ ЭКСТРЕМИСТСКОГО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СТИЧЕСКОГО ПРЕСТУПЛЕН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ЛИЦА ИЗ ПЕРЕЧ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ДОКУМЕНТАЛЬНО ПОДТВЕРЖДЕННЫХ ДАННЫХО СМЕРТИ ФИЗИЧЕСКОГО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МЕ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УДЕТ ЯВЛЯТЬ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ИСКЛЮЧЕНИЯ ИЗ ПРАВИ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ХОЖДЕНИЕ ОРГАНИЗАЦИИ ИЛИ ФИЗИЧЕСКОГО ЛИЦА В ПЕРЕЧНЕ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ТЕРРОРИСТИЧЕСКИМИ ОРГАНИЗАЦИЯМИ ИЛИ ТЕРРОРИСТ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СТАВЛЯЕМОМ МЕЖДУНАРОДНЫМИ ОРГАНИЗАЦИ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МИ ПРОТИВОДЕЙСТВИЕ ТЕРРОРИЗМ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И ИМИ ОРГАНАМИ В СООТВЕТСТВИИ С МЕЖДУНАРОДНЫМИ ДОГОВОРАМИ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ОСНОВАНИЕМ ДЛЯ ВКЛЮЧЕНИЯ ТАКОГО ЛИЦА В ПЕРЕЧЕНЬ ОРГАНИЗ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34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Google Shape;169;p25"/>
          <p:cNvSpPr/>
          <p:nvPr/>
        </p:nvSpPr>
        <p:spPr>
          <a:xfrm>
            <a:off x="1440" y="25560"/>
            <a:ext cx="7500600" cy="136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87600" indent="-1390680">
              <a:lnSpc>
                <a:spcPct val="119000"/>
              </a:lnSpc>
              <a:buClr>
                <a:srgbClr val="000000"/>
              </a:buClr>
              <a:buFont typeface="Trebuchet MS"/>
              <a:buAutoNum type="arabicPeriod" startAt="3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 ФИНАНСОВОГО МОНИТОРИНГА ЗАПРЕЩАЕТСЯ УСТАНАВЛИВАТЬ ДЕЛОВЫЕ ОТНОШЕНИЯ ДИСТАНЦИОН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21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ОМ МЕЖДУНАРОДНОГО ФИНАНСОВОГО ЦЕНТР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РЕГУЛИРОВАНИЮ ФИНАНСОВЫХ УСЛУГ ПО СОГЛАСОВАНИЮ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М ОРГАНОМ УСТАНАВЛИВАЕТ ДЛЯ СВОИХ УЧАСТ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РЕБОВАНИЯ К НАДЛЕЖАЩЕЙ ПРОВЕРКЕ КЛИЕНТОВ В СЛУЧАЕ ДИСТАНЦИО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СУБЪЕКТАМИ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НЕ ЯВЛЯЕТСЯ СУБЪЕКТО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3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ПРИНИМАЕТ РЕШЕНИЕ О НАЛОЖЕНИИ АРЕСТА НА ИМУЩЕСТВО В СЛУЧАЕ ВЫЯВЛЕНИЯ ЕГО У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 ОРГАНИЗАЦИИ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ЕНЕРАЛЬНАЯ ПРОКУРА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ТАКОЕ ПОДОЗРИТЕЛЬНАЯ ОПЕРАЦ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КЛЮЧАЯ ПОПЫТКУ СОВЕРШЕНИЯ ТАКОЙ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ДЯЩУЮСЯ В ПРОЦЕССЕ СОВЕРШЕНИЯ ИЛИ УЖЕ СОВЕРШЕННУЮ ОПЕР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КОТОРОЙ ВОЗНИКАЮТ ПОДОЗРЕНИЯ О Т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Е ДЛЯ ЕЕ СОВЕР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ХОДОМ ОТ ПРЕСТУПН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САМА ОПЕРАЦИЯ НАПРАВЛЕНА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Е ТЕРРОРИЗМА ЛИБО ИНУЮ ПРЕСТУПН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3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 ФИЗИЧЕСКИХ И ЮРИДИЧЕСКИХ ЛИЦ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ОМ НЕЗАВИСИМО ОТ ФОРМЫ И СПОСОБА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 УСТАНОВЛЕНИЕ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МЕНЕНИЕ ИЛИ ПРЕКРАЩЕНИЕ СВЯЗАННЫХ С НИМИ ГРАЖДАНСКИХ ПРАВ И ОБЯЗАН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Е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587600" indent="-139068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РИОСТАНОВЛЕНИЮ ПЕРЕДАЧ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ОБРАЗ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УЖДЕНИЯ ИЛИ ПЕРЕМЕЩЕНИЯ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Google Shape;50;p8"/>
          <p:cNvSpPr/>
          <p:nvPr/>
        </p:nvSpPr>
        <p:spPr>
          <a:xfrm>
            <a:off x="479520" y="569880"/>
            <a:ext cx="663048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ПЕРЕДАЧЕ СООБ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51;p8"/>
          <p:cNvSpPr/>
          <p:nvPr/>
        </p:nvSpPr>
        <p:spPr>
          <a:xfrm>
            <a:off x="100080" y="1065240"/>
            <a:ext cx="7327440" cy="10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300" spc="-1" strike="noStrike">
                <a:solidFill>
                  <a:srgbClr val="202020"/>
                </a:solidFill>
                <a:latin typeface="Calibri"/>
                <a:ea typeface="Calibri"/>
              </a:rPr>
              <a:t>1</a:t>
            </a:r>
            <a:r>
              <a:rPr b="0" lang="en-US" sz="23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1000"/>
              </a:lnSpc>
              <a:spcBef>
                <a:spcPts val="601"/>
              </a:spcBef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ВОЗНИКНОВЕНИЯ ОШИБОК ПРИ ОТ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УЮ ИНФОРМАЦИЮ НЕОБХОДИМО ПЕРЕДА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У ФИНАНСОВОГО МОНИТОРИНГА В ТЕХНИЧЕСКУЮ СЛУЖБУ ПОДДЕРЖК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УКАЗАНИЕМ НОМЕРА СООБ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7000"/>
              </a:lnSpc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НАПРАВЛЕНИИ СООБЩЕНИЯ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О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ЬЗОВАТЕЛЬ С КАКОЙ РОЛЬЮ МОЖЕТ ПОДПИСАТЬ И ОТПРАВИТЬ СООБЩЕНИЕ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00000"/>
              </a:lnSpc>
              <a:spcBef>
                <a:spcPts val="10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КОДИРОВКА СИМВОЛОВ ПРИМЕНЯТСЯ ДЛЯ ПРЕДОСТАВЛЕНИЯ ДАННЫХ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UTF-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>
              <a:lnSpc>
                <a:spcPct val="113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СОДЕРЖИТ В СЕБЕ ИЗВЕЩЕНИЕ О ПРИНЯТ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/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 ФОРМЫ ФМ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-1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indent="-95400" algn="ctr">
              <a:lnSpc>
                <a:spcPct val="113000"/>
              </a:lnSpc>
              <a:buClr>
                <a:srgbClr val="ff1515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ЧИНА НЕПРИНЯТ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КАЗЫВАЕТСЯ ТОЛЬКО В СЛУЧАЕ НЕПРИНЯТИЯ ФОРМЫ Ф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РАНИТЬ ПРИЧИНЫ НА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ОЙ В ИСКАЖЕННОМ ВИДЕ ИЛИ НЕПОЛНОМ ОБЪЕМ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ПОЛУЧЕНИЯ НАСТОЯЩЕГО ИЗВЕЩЕНИЯ ИСПРАВИТЬ НЕПРИНЯТ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БЩЕНИЕ ОБ ОПЕР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Ь ЕГО ПОВТОР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2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УСТИМЫЙ РАЗМЕР ФАЙЛА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Й ОТПРАВЛЯЕТСЯ СУБЪЕКТОМ ФИНАНСОВОГО МОНИТОРИНГА В ОТВЕТ НА ЗАПРОС ДОПОЛНИТЕЛЬ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 ИЛ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1360" indent="-3492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МАКСИМАЛЬНЫЙ ОБЪЕМ ТЕКСТОВОГО ПОЛЯ ОТВЕТА НА ЗАПРОС ДОПОЛНИТЕЛЬНОЙ ИНФОРМАЦИИ</a:t>
            </a:r>
            <a:r>
              <a:rPr b="0" lang="en-US" sz="15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КСТОВАЯ СТРОК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00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ИМВОЛ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52;p8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Google Shape;174;p26"/>
          <p:cNvSpPr/>
          <p:nvPr/>
        </p:nvSpPr>
        <p:spPr>
          <a:xfrm>
            <a:off x="1440" y="565200"/>
            <a:ext cx="7511760" cy="11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44480" indent="-5666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4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ТАКИЕ 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КУПЛ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ДАЖУ ДРАГОЦЕННЫХ МЕТАЛЛОВ И ДРАГОЦ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АМН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Х ИЗДЕЛИЙ ИЗ Н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РЕЛИГИОЗНЫХ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УЗЕЕВ И ОРГАНИЗ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ЮЩИХ ДРАГОЦЕННЫЕ МЕТАЛЛ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ИМИЧЕСКИЕ СОЕДИ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РАГОЦЕННЫЕ КАМНИ В МЕДИЦИНСКИХ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ИХ ЦЕЛЯХ ЛИБО В СОСТАВЕ ИНСТР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БОР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ОРУДОВАНИЯ И ИЗДЕЛИЙ ПРОИЗВОДСТВЕН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ХНИЧЕСКОГО НАЗНАЧ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ЕНЕФИЦИАРНЫЙ СОБСТВЕННИК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ОМУ ПРЯМО ИЛИ КОСВЕННО ПРИНАДЛЕЖАТ БОЛЕЕ ДВАДЦАТИ ПЯТИ ПРОЦЕНТОВ ДОЛЕЙ УЧАСТИЯ В УСТАВНОМ КАПИТАЛЕ ЛИБО РАЗМЕЩЕННЫХ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ВЫЧЕ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ВИЛЕГИРОВАННЫХ И ВЫКУПЛЕННЫХ ОБ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КЦИЙ КЛИЕНТА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ЕЕ КОНТРОЛЬ НАД КЛИЕНТОМ ИНЫМ ОБРАЗО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ИНТЕРЕСАХ КОТОРОГО КЛИЕНТОМ СОВЕРШАЮТСЯ ОПЕРАЦИИ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ЗАВИСИМЫЙ СПЕЦИАЛИСТ ПО ЮРИДИЧЕСКИМ ВОПРОСА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Е ЮРИДИЧЕСКИЕ УСЛУГИ КАК САМОСТОЯТЕЛЬН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А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14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В КАЧЕСТВЕ ПАРТНЕРА ИЛИ РАБОТНИКА НА ОСНОВАНИИ ТРУДОВОГО ДОГОВОРА С СУБЪЕКТОМ ПРЕДПРИНИМАТЕЛЬСТВ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ЫВАЮЩЕГО ЮРИДИЧЕСКУЮ ПОМОЩ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4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ЛИЕНТ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Е ИЛИ ЮРИДИЧЕСК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ЮЩЕЕ УСЛУГИ СУБЪЕК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4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РРЕСПОНДЕНТСКИЕ ОТНОШЕНИЯ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ГОВОРНЫЕ ОТНОШ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ПРИ ОТКРЫТИИ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М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ОТДЕЛЬНЫЕ ВИДЫ БАНКОВСКИХ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СКИХ СЧЕТОВ ДРУГИМ БАНКАМ С ЦЕЛЬЮ СОВЕРШЕНИЯ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44480" indent="-566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СУЩЕСТВЛЕНИЕМ БАНКОВСКОГО ОБСЛУЖИ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Google Shape;179;p27"/>
          <p:cNvSpPr/>
          <p:nvPr/>
        </p:nvSpPr>
        <p:spPr>
          <a:xfrm>
            <a:off x="-12600" y="301680"/>
            <a:ext cx="7538760" cy="14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Й НЕ ИМЕЕТ ФИЗИЧЕСКОГО ПРИСУТСТВИЯ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 В КАЧЕСТВЕ БАНКА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ИЛ ЛИЦЕНЗИЮ НА ОСУЩЕСТВЛЕНИЕ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ХОЖДЕНИЯ ТАКОГО БАНКА В ПРЯМОМ ИЛИ КОСВЕННОМ ВЛАДЕНИИ БАНКОВСКОГО ХОЛДИНГ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ГО КОНСОЛИДИРОВАННОМУ НАДЗОРУ В ГОСУДАРСТ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ОН ЗАРЕГИСТРИРОВ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Й МОНИТОРИНГ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ОКУПНОСТЬ МЕР ПО СБОР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У И ИСПОЛЬЗОВАНИЮ СВЕДЕНИЙ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МЫХ УПОЛНОМОЧЕННЫМ ОРГАНОМ ПО ФИНАНСОВОМУ МОНИТОРИНГУ И СУБЪЕКТОМ ФИНАНСОВОГО МОНИТОРИНГА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2328840" indent="-25884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88560">
              <a:lnSpc>
                <a:spcPct val="113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 ФИНАНСОВОГО МОНИТОРИНГА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НАЛИЧИВАНИЕ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ЙСТВ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АЕМЫЕ ФИЗИЧЕСКИМИ ИЛИ ЮРИДИЧЕСКИМИ ЛИЦАМИ С ЦЕЛЬ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Я НАЛИЧНЫХ ДЕНЕГ ПУТЕМ ИСПОЛЬЗОВАНИЯ ДОКУМЕНТОВ ПРИ СОВЕРШЕНИИ МНИМОЙ СДЕЛК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ОЙ НА ЛЕГАЛИЗАЦИЮ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indent="-9540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703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Google Shape;184;p28"/>
          <p:cNvSpPr/>
          <p:nvPr/>
        </p:nvSpPr>
        <p:spPr>
          <a:xfrm>
            <a:off x="-12600" y="298440"/>
            <a:ext cx="7538760" cy="155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540240" indent="-335448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5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ВЛЕЧЕНИЕ В ЗАКОННЫЙ ОБОРОТ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ОВЕРШЕНИЯ СДЕЛОК В ВИДЕ КОНВЕРСИИ ИЛИ ПЕРЕВОДА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ЮЩЕГО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ВЛАДЕНИЕ И ИСПОЛЬЗОВАНИЕ ТАК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КРЫТИЕ ИЛИ УТАИВАНИЕ ЕГО ПОДЛИ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ТОЧНИ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А НАХО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ПОСОБА РАСПОРЯЖ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МЕЩ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 НА ИМУЩЕСТВО ИЛИ ЕГО ПРИНАДЛЕЖ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ИЗВЕСТН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ТАКОЕ ИМУЩЕСТВО ПРЕДСТАВЛЯЕТ ДОХОДЫ ОТ УГОЛОВНЫХ ПРАВОНАРУ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РАВНО ПОСРЕДНИЧЕСТВО В ЛЕГАЛИЗАЦИИ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АЯ ПОЛИТИКА В СФЕРЕ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ЫЕ И ОРГАНИЗАЦИОННЫЕ МЕР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ПРАВЛЕННЫЕ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НИЖЕНИ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ИНЫЕ МЕРЫ В СООТВЕТСТВИИ С ЗАКОНОДАТЕЛЬСТВОМ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AutoNum type="arabicPeriod" startAt="5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ЦЕЛЕВЫЕ ФИНАНСОВЫЕ САНКЦИИ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РЫ ПО ЗАМОРАЖИВАНИЮ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540240" indent="-3354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ЕМЫЕ СУБЪЕКТАМИ ФИНАНСОВОГО МОНИТОРИНГА И ГОСУДАРСТВЕННЫМИ ОРГАНАМИ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РЕЗОЛЮЦИЯМИ СОВЕТА БЕЗОПАСНОСТИ ОРГАНИЗАЦИИ ОБЪЕДИНЕННЫХ Н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МИСЯ К ПРЕДУПРЕЖДЕНИЮ И ПРЕДОТВРАЩЕНИЮ ТЕРРОРИЗМА И ФИНАНСИРОВАНИЯ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ЕДУПРЕЖДЕ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СПРЕПЯТСТВОВАНИЮ И ПРЕКРАЩЕНИЮ РАСПРОСТРАНЕНИЯ ОРУЖИЯ МАССОВОГО УНИЧТОЖЕНИЯ И ЕГО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Google Shape;189;p29"/>
          <p:cNvSpPr/>
          <p:nvPr/>
        </p:nvSpPr>
        <p:spPr>
          <a:xfrm>
            <a:off x="-12600" y="31104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Google Shape;190;p29"/>
          <p:cNvSpPr/>
          <p:nvPr/>
        </p:nvSpPr>
        <p:spPr>
          <a:xfrm>
            <a:off x="2104920" y="301680"/>
            <a:ext cx="351108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 ТЕРРОРИЗМ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191;p29"/>
          <p:cNvSpPr/>
          <p:nvPr/>
        </p:nvSpPr>
        <p:spPr>
          <a:xfrm>
            <a:off x="31680" y="525600"/>
            <a:ext cx="7465680" cy="66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 indent="-8100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ЕНИЕ ИЛИ СБОР ДЕНЕГ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ГО ИМУЩЕ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А НА ИМУЩЕСТВО ИЛИ ВЫГОД ИМУЩЕСТВЕННОГО ХАРАКТЕ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ДАРЕНИ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ЖЕРТВО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ЛАГОТВОРИТЕЛЬНАЯ ПОМОЩЬ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ИЕ ИНФОРМАЦИОННЫХ И ИНОГО РОДА УСЛУГ ЛИБО ОКАЗАНИЕ ФИНАНСОВЫХ УСЛУГ ФИЗИЧЕСКОМУ ЛИЦУ ЛИБО ГРУППЕ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МУ ЛИЦ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НЫЕ ЛИЦ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ВЕДОМО ОСОЗНАВАВШИМ ТЕРРОРИСТИЧЕСКИЙ ХАРАКТЕР ИХ ДЕЯТЕЛЬНОСТИ ЛИБО Т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ПРЕДОСТАВЛЕН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КАЗАННЫЕ ИНФОРМАЦИО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ЫЕ И ИНОГО РОДА УСЛУГИ БУДУТ ИСПОЛЬЗОВАНЫ ДЛЯ ОСУЩЕСТВЛЕНИЯ ТЕРРОРИСТИЧЕСКОЙ ДЕЯТЕЛЬНОСТИ ЛИБО ОБЕСПЕЧЕНИЯ ТЕРРОРИСТИЧЕСКОЙ ГРУПП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СТИЧЕСК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КОННОГО ВОЕНИЗИРОВАННОГО ФОРМ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ОРГАН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ФИНАНСОВЫЙ МОНИТОРИН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Й ИНЫЕ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92160" indent="-81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РАСПРОСТРАНЕНИЯ ОРУЖИЯ МАССОВОГО УНИЧТОЖЕНИЯ В СООТВЕТСТВИИ С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Google Shape;192;p29"/>
          <p:cNvSpPr/>
          <p:nvPr/>
        </p:nvSpPr>
        <p:spPr>
          <a:xfrm>
            <a:off x="-12600" y="617076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Google Shape;193;p29"/>
          <p:cNvSpPr/>
          <p:nvPr/>
        </p:nvSpPr>
        <p:spPr>
          <a:xfrm>
            <a:off x="166680" y="6159600"/>
            <a:ext cx="7178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90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Е ПУБЛИЧНОЕ ДОЛЖНОСТНОЕ ЛИЦО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ЗНАЧАЕМОЕ ИЛИ ИЗБИРАЕМО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ДОЛЖНОСТЬ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ПОЛНИТЕЛЬ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ДМИНИСТРАТИВН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ДЕБНОМ ОРГАНАХ ИЛИ ВООРУЖЕННЫХ СИЛАХ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ЮБОЕ 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ПОЛНЯЮЩЕЕ КАКУ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УБЛИЧНУЮ ФУНКЦИЮ ДЛЯ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Ц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НИМАЮЩЕЕ РУКОВОДЯЩУЮ ДОЛЖНОСТЬ В ОРГАНИЗАЦ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9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ТРАНАМИ НА ОСНОВЕ СОГЛАШЕН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ТОРЫЕ ИМЕЮТ СТАТУС МЕЖДУНАРОДНЫХ ДОГОВО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Google Shape;194;p29"/>
          <p:cNvSpPr/>
          <p:nvPr/>
        </p:nvSpPr>
        <p:spPr>
          <a:xfrm>
            <a:off x="252360" y="8825040"/>
            <a:ext cx="7009920" cy="17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ПЕТЕНТНЫЙ ОРГАН ИНОСТРАННОГО ГОСУДАРСТВА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 ИНОСТРАННОГО ГОСУДАРСТВ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Й В СООТВЕТСТВИИ С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50880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ОМ СБО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НАЛИЗ И ИСПОЛЬЗОВАНИЕ СВЕДЕНИЙ И ИНФОРМАЦИИ ОБ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Google Shape;199;p30"/>
          <p:cNvSpPr/>
          <p:nvPr/>
        </p:nvSpPr>
        <p:spPr>
          <a:xfrm>
            <a:off x="-12600" y="301680"/>
            <a:ext cx="7499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ОЕ ПРИСУТСТВИЕ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МЕСТО ВЕДЕНИЯ ДЕЯТЕЛЬНОСТИ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СПОЛОЖЕННОЕ ПО ПОСТОЯННОМУ АДР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РОМЕ АДРЕСА ПОЧТОВОГО ЯЩИКА ИЛИ ЭЛЕКТРОННОГО АДРЕС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КОТОРОМ ИМЕ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Ы УПРАВЛЕНИЯ И ПЕРСОНАЛ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ЕДУТСЯ УЧЕТ И ХРАНЕНИЕ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СЯЩИХСЯ К БАНКОВСКО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ПРОВОДЯТСЯ ПРОВЕРКИ УПОЛНОМОЧЕННОГО ОРГАН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ДАВШЕГО БАНКУ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РЕЗИДЕНТУ ЛИЦЕНЗИЮ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БАНКОВСК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Ы ПОЛУЧЕННЫЕ ПРЕСТУПНЫМ ПУТЁМ ЭТ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ЬГ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ОЕ ИМУЩЕСТВ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Е В РЕЗУЛЬТАТЕ СОВЕР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ГОЛОВНОГО ПРАВОНАРУШ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oogle Shape;200;p30"/>
          <p:cNvSpPr/>
          <p:nvPr/>
        </p:nvSpPr>
        <p:spPr>
          <a:xfrm>
            <a:off x="-12600" y="3508200"/>
            <a:ext cx="1756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201;p30"/>
          <p:cNvSpPr/>
          <p:nvPr/>
        </p:nvSpPr>
        <p:spPr>
          <a:xfrm>
            <a:off x="2558880" y="3498840"/>
            <a:ext cx="2647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 ЭТО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Google Shape;202;p30"/>
          <p:cNvSpPr/>
          <p:nvPr/>
        </p:nvSpPr>
        <p:spPr>
          <a:xfrm>
            <a:off x="3240" y="3722760"/>
            <a:ext cx="7540200" cy="80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 ОСУЩЕСТВЛЕНИЯ СУБЪЕКТОМ ФИНАНСОВОГО МОНИТОРИНГА ПРОФЕССИОНАЛЬНОЙ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64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В КАКИХ СЛУЧАЯХ СУБЪЕКТЫ ФИНАНСОВОГО МОНИТОРИНГА ОБЯЗАНЫ ОТКАЗАТЬ ФИЗИЧЕСКОМУ ИЛИ ЮРИДИЧЕСКОМУ ЛИЦУ В УСТАНОВЛЕНИИ ДЕЛОВЫХ ОТНОШЕНИЙ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НЕВОЗМОЖНОСТИ ПРИНЯТИЯ МЕР НАДЛЕЖАЩЕЙ ПРОВЕРКИ СУБЪЕКТАМИ ФИНАНСОВОГО МОНИТОРИНГА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 algn="just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ПРАВЕ ОТКАЗАТЬ В ПРОВЕД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УСТАНОВЛЕНИИ ДЕЛОВЫХ ОТНОШЕНИЙ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Я ПОДОЗРЕНИЙ О ТО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ДЕЛОВЫЕ ОТНОШЕНИЯ ИСПОЛЬЗУЮТСЯ КЛИЕНТОМ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ЦЕЛЯХ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000" indent="-95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ПОДОЗРЕНИЙ О Т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ЛОВЫЕ ОТНОШЕНИЯ ИСПОЛЬЗУЮТСЯ КЛИЕНТОМ В ЦЕЛЯХ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ФИНАНСИРОВАНИЯ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КЛИЕНТУ В ПРОВЕДЕНИИ ОПЕРАЦИЙ С ДЕНЬГАМИ И 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АЗАТЬ В УСТАНОВЛЕНИИ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40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КРАТИТЬ ДЕЛОВЫЕ ОТНОШЕНИЯ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Google Shape;207;p31"/>
          <p:cNvSpPr/>
          <p:nvPr/>
        </p:nvSpPr>
        <p:spPr>
          <a:xfrm>
            <a:off x="-1440" y="298440"/>
            <a:ext cx="7536960" cy="122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АВЛИВАТЬ ИСПОЛНЕНИЕ УКАЗАНИЙ ПО ПЛАТЕЖУ ИЛИ ПЕРЕВОДУ ДЕНЕГ БЕЗ ИСПОЛЬЗОВАНИЯ БАНКОВСКОГО СЧЕТА ТАКИХ ОРГАНИЗАЦИЙ И ФИЗ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КАЗАНИЙ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ЛОКИРОВАТЬ ЦЕННЫЕ БУМАГИ В СИСТЕМЕ РЕЕСТРОВ ДЕРЖАТЕЛЕЙ ЦЕННЫХ БУМАГ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ИСТЕМЕ УЧЕТА НОМИНАЛЬНОГО ДЕРЖАНИЯ НА ЛИЦЕВЫХ СЧЕТАХ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НА ЛИЦЕВЫХ СЧЕТАХ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ОСТАНОВИТЬ РАСХОДНЫЕ ОПЕРАЦИИ ПО БАНКОВСКИМ СЧЕТАМ ТАКОЙ ОРГАНИЗАЦИИ ИЛИ ФИЗИЧЕСКОГО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160" indent="-187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ПО ЗАМОРАЖИВАНИЮ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БЯЗАНЫ ПРЕДПРИНЯТЬ СУБЪЕКТЫ ФИНАНСОВОГО МОНИТОРИНГА НЕ ПОЗДНЕЕ ОДНОГО РАБОЧЕГО ДНЯ СО ДНЯ РАЗМЕЩЕНИЯ НА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 ПО ФИНАНСОВОМУ МОНИТОРИНГУ СПИСКА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ЧАСТНЫХ К ТЕРРОРИСТИЧЕСКО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И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ИИ ОРГАНИЗАЦИИ ИЛИ ЛИЦА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В ПЕРЕЧЕНЬ ОРГАНИЗАЦИЙ И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РАСПРОСТРАНЕНИЯ ОРУЖИЯ МАССОВОГО УНИЧТОЖЕ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 РАСХОДНЫЕ ОПЕРАЦИИ ПО БАНКОВСКИМ СЧЕТАМ ТАК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ИЛИ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187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СКЛЮЧЕНИЕМ ОПЕРАЦ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ОБСЛУЖИВАНИЕМ БАНКОВСКИХ СЧЕТ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Google Shape;212;p32"/>
          <p:cNvSpPr/>
          <p:nvPr/>
        </p:nvSpPr>
        <p:spPr>
          <a:xfrm>
            <a:off x="-15840" y="307800"/>
            <a:ext cx="7549920" cy="11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8080" indent="-12384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69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ОБЯЗАНЫ ПРИ ПРИЗНАНИИ ОПЕРАЦИИ В КАЧЕСТВЕ ПОДОЗРИТЕЛЬНОЙ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6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08080" indent="-123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Google Shape;217;p33"/>
          <p:cNvSpPr/>
          <p:nvPr/>
        </p:nvSpPr>
        <p:spPr>
          <a:xfrm>
            <a:off x="-15840" y="25560"/>
            <a:ext cx="7549920" cy="12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0240" indent="-246240">
              <a:lnSpc>
                <a:spcPct val="123000"/>
              </a:lnSpc>
              <a:buClr>
                <a:srgbClr val="000000"/>
              </a:buClr>
              <a:buFont typeface="Trebuchet MS"/>
              <a:buAutoNum type="arabicPeriod" startAt="7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СУБЪЕКТЫ ФИНАНСОВОГО МОНИТОРИНГА В ЦЕЛЯХ ПРЕДУПРЕЖДЕНИЯ ФАК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ОБЯЗАНЫ НЕЗАМЕДЛИТЕЛЬНО СООБЩИТЬ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ПО ФИНАНСОВОМУ МОНИТОРИНГУ О ТАКОЙ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ЕЙСТВИЯ СУБЪЕКТЫ ФИНАНСОВОГО МОНИТОРИНГА ОБЯЗАН ПРЕДПРИНЯТЬ В ЦЕЛЯХ ПРЕДУПРЕЖДЕНИЯ ФАКТ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ЗАМЕДЛИТЕЛЬНО СООБЩИТЬ В УПОЛНОМОЧЕННЫЙ ОРГАН ПО ФИНАНСОВОМУ МОНИТОРИНГУ О ТАКОЙ ОПЕРАЦИИ ДО ЕЕ ПРОВЕД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ОСУЩЕСТВЛЯЕТСЯ НА 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ПУТЕМ ОСУЩЕСТВЛЯЕТСЯ 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ОСА И ОБМЕНА ИНФОРМАЦИ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>
              <a:lnSpc>
                <a:spcPct val="115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ДУНАРОДНОЕ СОТРУДНИЧЕСТВО УПОЛНОМОЧЕННОГО ОРГАНА ПО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Х ГОСУДАРСТВЕННЫХ ОРГАНОВ РЕСПУБЛИКИ КАЗАХСТАН С СООТВЕТСТВУЮЩИМИ ОРГАНАМИ ИНОСТРАННОГО ГОСУДАРСТВА В СФЕРЕ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ОСУЩЕСТВ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0240" indent="-24624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НЦИПАХ ВЗАИМНОСТИ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Google Shape;222;p34"/>
          <p:cNvSpPr/>
          <p:nvPr/>
        </p:nvSpPr>
        <p:spPr>
          <a:xfrm>
            <a:off x="123840" y="25560"/>
            <a:ext cx="7281360" cy="121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160200">
              <a:lnSpc>
                <a:spcPct val="118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ПРАВЕ ЗАПРАШИВАТЬ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У КОМПЕТЕНТ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ОВ ИНОСТРАННЫХ ГОСУДАР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ПРИ ПРОВЕДЕНИИ АНАЛИЗА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ОЙ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ВЕР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ИСПОЛЬЗОВАТЬ ПОЛУЧЕННЫЕ ПО ЗАПРОСУ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ИСКЛЮЧИТЕЛЬН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ЦЕЛЯХ УКАЗАННЫХ В ЗАПРО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-16020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 ОТКАЗАТЬ В УДОВЛЕТВОРЕНИИ ЗАПРОСА КОМПЕТЕНТНОМУ ОРГА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ОСТРАННОГО ГОСУДАРСТВА В СЛЕДУЮЩИХ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ЗАТРАГИВАЕТ КОНСТИТУЦИОННЫЕ ПРАВА И СВОБОДЫ ЧЕЛОВЕКА И ГРАЖДАНИН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НОСИТ УЩЕ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ТЕРЕСАМ НАЦИОНАЛЬНОЙ БЕЗОПАСНОСТИ РЕСПУБЛИКИ КАЗАХСТАН ПРЕДОСТАВЛЕНИЕ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 ПОВЛИЯЕТ НА Х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ГОЛОВНОГО СУДОПРОИЗВОДСТВА В РЕСПУБЛИКЕ КАЗАХСТАН ИМЕЮТСЯ ОСНОВАНИЯ ПОЛАГАТЬ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ЧТО КОМПЕТЕНТНЫЙ ОРГАН ИНОСТРАНН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35080" indent="16020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А НЕ МОЖЕТ ОБЕСПЕЧИТЬ ЗАЩИТУ ПРЕДОСТАВЛЯЕМЫХ ИНФОРМАЦ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Google Shape;227;p35"/>
          <p:cNvSpPr/>
          <p:nvPr/>
        </p:nvSpPr>
        <p:spPr>
          <a:xfrm>
            <a:off x="19080" y="339840"/>
            <a:ext cx="7536960" cy="56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2384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 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922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Google Shape;228;p35"/>
          <p:cNvSpPr/>
          <p:nvPr/>
        </p:nvSpPr>
        <p:spPr>
          <a:xfrm>
            <a:off x="196920" y="5130720"/>
            <a:ext cx="7143480" cy="49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160" indent="-2412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8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ИЛА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8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НОТАРИУС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НОТАРИАЛЬНЫЕ ДЕЙСТВИЯ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 ГОСУДАРСТВ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4160" indent="-24120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СТРАХОВ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СТРАХОВОЧ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БРОКЕР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ЩЕСТВА ВЗАИМНОГО СТРАХОВАНИЯ 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Ю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РРФР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Google Shape;57;p9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Google Shape;58;p9"/>
          <p:cNvSpPr/>
          <p:nvPr/>
        </p:nvSpPr>
        <p:spPr>
          <a:xfrm>
            <a:off x="-12600" y="114480"/>
            <a:ext cx="7562520" cy="9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160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	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1000</a:t>
            </a:r>
            <a:r>
              <a:rPr b="0" lang="en-US" sz="2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КАЗУ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(№6 </a:t>
            </a: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 </a:t>
            </a:r>
            <a:r>
              <a:rPr b="0" lang="en-US" sz="2400" spc="-1" strike="noStrike">
                <a:solidFill>
                  <a:srgbClr val="202020"/>
                </a:solidFill>
                <a:latin typeface="Calibri"/>
                <a:ea typeface="Calibri"/>
              </a:rPr>
              <a:t>09.08.20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202020"/>
                </a:solidFill>
                <a:latin typeface="Calibri"/>
                <a:ea typeface="Calibri"/>
              </a:rPr>
              <a:t>2</a:t>
            </a:r>
            <a:r>
              <a:rPr b="0" lang="en-US" sz="21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ФМ РК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09.08.2021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 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ПРИКАЗ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ЗНАНИЙ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В СООТВЕТСТВИИ С ТРЕБОВАН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82800" algn="just">
              <a:lnSpc>
                <a:spcPct val="115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ЭТО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НОРМАТИВНЫХ ПРАВОВЫХ АКТОВ РЕСПУБЛИКИ КАЗАХСТАН В ОБЛАСТИ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 И МЕЖДУНАРОДНЫХ СТАНДАРТОВ В СФЕРЕ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13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ПРАВИЛ ВНУТРЕННЕГО КОНТРОЛЯ И ПРОГРАММЫ ИХ ОСУЩЕСТВЛЕНИЯ ПРИ ИСПОЛНЕНИИ СУБЪЕКТАМИ СВОИХ СЛУЖЕБНЫХ ОБЯЗАННОСТЕ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М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just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ВЕТСТВЕННОСТИ ЗА НЕИСПОЛНЕНИЕ ТРЕБОВАНИЙ ЗАКОНОДАТЕЛЬСТВА РЕСПУБЛИКИ КАЗАХСТАН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СТАНОВЛЕННУЮ СТАТЬЕ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ДЕКСА РЕСПУБЛИКИ КАЗАХСТАН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 АДМИНИСТРАТИВНЫХ ПРАВОНАРУШЕНИЯХ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ЗУЧЕНИЕ ТИПОЛОГ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 И СПОСОБОВ ЛЕГАЛИЗАЦИ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604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СООТВЕТСТВИИ С ПУНКТОМ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5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КОНА О ПОД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/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ФТ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 ПРИЗНАКОВ ОПРЕДЕЛЕНИЯ ПОДОЗРИТЕЛЬНЫХ ОПЕРАЦИ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Google Shape;233;p36"/>
          <p:cNvSpPr/>
          <p:nvPr/>
        </p:nvSpPr>
        <p:spPr>
          <a:xfrm>
            <a:off x="27000" y="339840"/>
            <a:ext cx="7507080" cy="38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560" indent="10800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ПРАВИЛАМ ВНУТРЕННЕГО КОНТРОЛЯ ДЛЯ ИНДИВИДУАЛЬНЫХ ПРЕДПРИНИМАТЕЛЕЙ И ЮРИДИЧЕСКИХ ЛИЦ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ЛИЗИНГОВУЮ ДЕЯТЕЛЬНОСТЬ В КАЧЕСТВЕ ЛИЗИНГОДАТЕЛЯ БЕЗ ЛИЦЕНЗ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89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ГОСУДАРСТВЕННЫЕ ОРГАН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 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НАПРАВЛЯЮТСЯ УВЕДОМЛЕНИЯ В КОМИТЕТ О НАЧАЛЕ ИЛИ ПРЕКРАЩЕНИИ СВОЕЙ ДЕЯТЕЛЬНОСТ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ОБЯЗАТЕЛЬНОМ ПОРЯДК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НОМ 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560" indent="1080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ЯХ И УВЕДОМЛЕНИ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oogle Shape;234;p36"/>
          <p:cNvSpPr/>
          <p:nvPr/>
        </p:nvSpPr>
        <p:spPr>
          <a:xfrm>
            <a:off x="149400" y="3795840"/>
            <a:ext cx="7273440" cy="26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8680" indent="-4752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ДОКУМЕНТОМ ПРЕДУСМОТРЕНО ПРЕДОСТАВЛЕНИЕ В МИНИСТЕРСТВО ЮСТИЦИИ РЕСПУБЛИКИ КАЗАХСТАН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В ЦЕЛЯХ И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М РЕСПУБЛИКИ КАЗАХСТАН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8680" indent="-47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ОВЛЕН ТАКОЙ ПОРЯДО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oogle Shape;235;p36"/>
          <p:cNvSpPr/>
          <p:nvPr/>
        </p:nvSpPr>
        <p:spPr>
          <a:xfrm>
            <a:off x="-1440" y="5353200"/>
            <a:ext cx="85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Google Shape;236;p36"/>
          <p:cNvSpPr/>
          <p:nvPr/>
        </p:nvSpPr>
        <p:spPr>
          <a:xfrm>
            <a:off x="-1440" y="6410160"/>
            <a:ext cx="73720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6845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92"/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ЕМ УТВЕРЖДАЮТСЯ МЕРЫ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НАПРАВЛЕННЫЕ НА СНИЖЕНИЕ РИСКОВ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 И ФИНАНСИРОВАНИЯ ТЕРРОРИЗМА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93"/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ЦЕНКА РИСКОВ ОТМЫВАНИЯ ДОХОДОВ И ФИНАНСИРОВАНИЯ ТЕРРОРИЗМА ПРОИЗВОДИТСЯ В ЦЕЛЯХ</a:t>
            </a:r>
            <a:r>
              <a:rPr b="0" i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НИЖЕ ПЕРЕЧИСЛЕННЫЕ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УГРОЗ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Я ВОЗМОЖНОСТ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Я ТЕРРОРИЗМА В РЕСПУБЛИКЕ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ЯВЛЕНИЯ НЕДОСТАТКОВ РЕАЛИЗАЦИИ МЕР ПО ПРОТИВОДЕЙСТВИЮ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97120" indent="-2684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 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Google Shape;241;p37"/>
          <p:cNvSpPr/>
          <p:nvPr/>
        </p:nvSpPr>
        <p:spPr>
          <a:xfrm>
            <a:off x="30240" y="339840"/>
            <a:ext cx="7488000" cy="9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43000" indent="-155520" algn="just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МЕТОДОЛОГИЯ ПО СБОРУ ДАННЫХ ОТ ГОСУДАРСТВЕННЫХ ОРГАНОВ И СУБЪЕКТОВ ФИНАНСОВОГО МОНИТОРИНГА ДЛ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1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5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ОЖЕНИЕ И СОСТАВ МЕЖВЕДОМСТВЕННОГО СОВЕТА ПО ВОПРОСАМ ПРЕДУПРЕЖДЕНИЯ ЛЕГАЛИЗАЦИИ 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И ФИНАНСИРОВАНИЯ ТЕРРОРИЗМА УТВЕРЖДАЮТСЯ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 РАССМАТРИВАЕТ И ОДОБРЯ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Т ПО ОЦЕНКЕ РИСК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 И ДОКУМЕНТЫ ОБ ОПЕРАЦИЯ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98.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ВПРАВЕ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9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Я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43000" indent="-155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Google Shape;246;p38"/>
          <p:cNvSpPr/>
          <p:nvPr/>
        </p:nvSpPr>
        <p:spPr>
          <a:xfrm>
            <a:off x="30240" y="331920"/>
            <a:ext cx="7476840" cy="73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49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ПО ФИНАНСОВОМУ МОНИТОРИНГУ ОРГАН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СУБЪЕКТОВ ФИНАНСОВОГО МОНИТОРИНГА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А ТАКЖЕ У ГОСУДАРСТВЕННЫХ ОРГАНОВ РЕСПУБЛИКИ КАЗАХСТ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01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РАЗРАБАТЫВАТЬ ПРАВИЛА ВНУТРЕННЕГО КОНТРОЛЯ ДЛЯ СУБЪЕКТОВ ФИНАНСОВО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УЩЕСТВОМ В СЛУЧАЕ ОБНАРУЖЕНИЯ ПРИЗНАКОВ ПОДОЗРИТЕЛЬНОЙ ОПЕРАЦИИ НА СРОК ДО ПЯТИ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49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ЗАПРАШИВАТЬ НЕОБХОДИМЫЕ ИНФОРМАЦ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 И ДОКУМЕНТЫ ОБ ОПЕРАЦИЯХ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У ФИЗИЧЕСКИХ ЛИ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Google Shape;247;p38"/>
          <p:cNvSpPr/>
          <p:nvPr/>
        </p:nvSpPr>
        <p:spPr>
          <a:xfrm>
            <a:off x="123840" y="6676920"/>
            <a:ext cx="72972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2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Google Shape;252;p39"/>
          <p:cNvSpPr/>
          <p:nvPr/>
        </p:nvSpPr>
        <p:spPr>
          <a:xfrm>
            <a:off x="17640" y="331920"/>
            <a:ext cx="7524360" cy="12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3680" indent="-3477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3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О С ПРАВООХРАНИТЕЛЬНЫМИ И СПЕЦИАЛЬНЫМИ ГОСУДАРСТВЕНН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АМИ ОПРЕДЕЛЯТЬ ПОРЯДОК ВЗАИМОДЕЙСТВИЯ ПО ОБМЕНУ И ПЕРЕДАЧЕ СВЕДЕНИЙ 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ЛЕГАЛ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ЕМ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104</a:t>
            </a:r>
            <a:r>
              <a:rPr b="0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УПОЛНОМОЧЕННЫЙ ОРГАН ПО ФИНАНСОВОМУ МОНИТОРИНГУ ОБЯЗАН</a:t>
            </a:r>
            <a:r>
              <a:rPr b="0" i="1" lang="en-US" sz="15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ТЬ СООТВЕТСТВУЮЩИЙ РЕЖИМ ХРАНЕНИЯ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ЩИТЫ И СОХРАН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В ПРОЦЕССЕ СВОЕЙ ДЕЯТЕЛЬНОСТИ ИНФОРМАЦИИ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ВЕДЕНИЙ И ДОКУМЕНТОВ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ЮЩИХ СЛУЖЕБН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У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УЮ ИЛИ ИНУЮ ОХРАНЯЕМУЮ ЗАКОНОМ ТАЙН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47760"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БЯЗ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 ЗАПРОСУ ИЛИ САМОСТОЯТЕЛЬНО ОБМЕНИВАТЬСЯ ИНФОРМАЦИЕЙ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СВЕДЕНИЯМИ И ДОКУМЕНТАМИ С КОМПЕТЕНТНЫМ ОРГАНОМ ИНОСТРАННОГО ГОСУДАРСТВА В СФЕРЕ ПРОТИВОДЕЙСТВИЯ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ВЫНОСИТЬ РЕШЕНИЕ О ПРИОСТАНОВЛЕНИИ ОПЕРАЦИЙ С ДЕНЬГАМИ 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ЫМ ИМУЩЕСТВОМ В СЛУЧАЕ ОБНАРУЖЕНИЯ ПРИЗНАКОВ ПОДОЗРИТЕЛЬНОЙ ОПЕРАЦИИ НА СРОК ДО ТРЕ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4000"/>
              </a:lnSpc>
              <a:buClr>
                <a:srgbClr val="16cc52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АПРАВЛЯТЬ СООТВЕТСТВУЮЩИМ ГОСУДАРСТВЕННЫМ ОРГАНАМ УВЕДОМЛЕНИЕ О НАРУШЕНИИ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0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Н ЛИ УПОЛНОМОЧЕННЫЙ ОРГАН ПО ФИНАНСОВОМУ МОНИТОРИНГУ ПРИНИМАТЬ МЕРЫ ПО ПРОТИВОДЕЙСТВИЮ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3680" indent="-347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Google Shape;257;p40"/>
          <p:cNvSpPr/>
          <p:nvPr/>
        </p:nvSpPr>
        <p:spPr>
          <a:xfrm>
            <a:off x="6480" y="344520"/>
            <a:ext cx="7532280" cy="11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080" indent="-2811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0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БЯЗ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 algn="ctr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10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Ы ЛИ СУБЪЕКТЫ ФИНАНСОВОГО МОНИТОРИНГА ПРИНИМАТЬ МЕРЫ ПО НАДЛЕЖАЩЕЙ ПРОВЕРКЕ СВОИХ КЛИЕНТОВ И БЕНЕФИЦИАРНЫХ СОБСТВЕННИ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ЛЖ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Я ДЕЛОВЫХ ОТНОШЕНИЙ С КЛИЕНТ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ОСУЩЕСТВЛЯЮТ НАДЛЕЖАЩУЮ ПРОВЕРКУ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1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Е МЕРЫ ВКЛЮЧАЕТ В СЕБЯ 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БЕНЕФИЦИАРНЫХ СОБСТВЕННИК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РАЗРАБАТЫВАЮТСЯ ПРАВИЛА ВНУТРЕННЕГО КОНТРОЛ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ДЛЕЖАЩАЯ ПРОВЕРКА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КЛЮЧА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Е СЛЕДУЮЩИХ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ИЕ ПРЕДПОЛАГАЕМОЙ ЦЕЛИ И ХАРАКТЕРА ДЕЛОВЫ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28116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0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ЦЕЛЯХ ПРЕДОТВРАЩ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Я ТЕРРОРИЗМА РАЗРАБАТЫВАЮ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920" indent="2811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Google Shape;262;p41"/>
          <p:cNvSpPr/>
          <p:nvPr/>
        </p:nvSpPr>
        <p:spPr>
          <a:xfrm>
            <a:off x="15840" y="254160"/>
            <a:ext cx="7543440" cy="73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5800" indent="39852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НАДЛЕЖАЩЕЙ ПРОВЕРКЕ КЛИЕНТОВ В СЛУЧАЕ ДИСТАНЦИОННОГО УСТАНОВЛЕНИЯ ДЕЛОВЫХ ОТНОШЕНИЙ СУБЪЕК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ДЛЯ БАНК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ИРЖ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ТРАХОВЫХ ОРГАНИЗАЦИ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МИКРОФИНАНСОВ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ЯТЕЛЬНОСТЬУСТАНАВЛИВА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РЕГУЛИРОВАНИЮ</a:t>
            </a:r>
            <a:r>
              <a:rPr b="0" i="1" lang="en-US" sz="15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 И НАДЗОР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РЫНКА И ФИНАНСОВЫХ ОРГАНИЗАЦИЙ ПО СОГЛАСОВАНИЮ С КОМИТЕТ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19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18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....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РАЗУЕТ МЕЖВЕДОМСТВЕННЫЙ СОВЕТ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МИТ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ГЕНСТВО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ВХОДИТ В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ИТЕЛИ ПРАВООХРАНИТЕЛЬНЫХ И СПЕЦИАЛЬНЫХ ГОСУДАРСТВЕННЫХ ОРГАН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4320" indent="-398520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ЕТСЯ ПОЛОЖЕНИЕ И СОСТАВ МЕЖВЕДОМСТВЕННОГО СОВЕТА ПО ВОПРОСАМ ПРЕДУПРЕЖДЕН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Я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15800" indent="3985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Google Shape;263;p41"/>
          <p:cNvSpPr/>
          <p:nvPr/>
        </p:nvSpPr>
        <p:spPr>
          <a:xfrm>
            <a:off x="-1440" y="65944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Google Shape;264;p41"/>
          <p:cNvSpPr/>
          <p:nvPr/>
        </p:nvSpPr>
        <p:spPr>
          <a:xfrm>
            <a:off x="738360" y="6594480"/>
            <a:ext cx="64227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ЛА ПРОВЕДЕНИЯ ОЦЕНКИ РИСКОВ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Google Shape;265;p41"/>
          <p:cNvSpPr/>
          <p:nvPr/>
        </p:nvSpPr>
        <p:spPr>
          <a:xfrm>
            <a:off x="96840" y="7670880"/>
            <a:ext cx="735120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48080" indent="-2536920">
              <a:lnSpc>
                <a:spcPct val="111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2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АВИТЕЛЬСТВО РЕСПУБЛИКИ КАЗАХСТАН ПО ИТОГАМ ПРОВЕДЕНИЯ ОЦЕНКИ РИСКОВ УТВЕРЖД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 ОТВ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2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И ИХ РАБОТНИКИ НЕ ВПРАВ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ВЕЩАТЬ КЛИЕНТОВ И ИНЫХ ЛИЦ О ПРЕДОСТАВЛЕНИИ 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548080" indent="-2536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 ФИНАНСОВОМУ МОНИТОРИНГУ ИНФОРМ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Google Shape;270;p42"/>
          <p:cNvSpPr/>
          <p:nvPr/>
        </p:nvSpPr>
        <p:spPr>
          <a:xfrm>
            <a:off x="14400" y="339840"/>
            <a:ext cx="7527600" cy="127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00280" indent="-165420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4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ОВАНИЯ К СУБЪЕКТАМ ФИНАНСОВОГО МОНИТОРИНГА ПО ПОДГОТОВКЕ И ОБУЧЕНИЮ РАБОТНИКОВ УТВЕРЖДАЮ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 СООТВЕТСТВУЮЩИМИ ГОСУДАРСТВЕННЫМИ ОРГАН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ЗА ИСКЛЮЧЕНИЕМ ОПЕРАТОРА ИЛИ ОПЕРАЦИОННОГО ЦЕНТРА МЕЖБАНКОВСКОЙ СИСТЕМЫ ПЕРЕВОДОВ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2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 ЛИ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 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ПЕРАЦИИ С ДРАГОЦЕННЫМИ МЕТАЛЛАМИ И ДРАГОЦЕННЫМИ КАМНЯ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ВЕЛИРНЫМИ ИЗДЕЛИЯМИ ИЗ НИ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 ОТНОСИ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2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СУБЪЕКТЫ ФИНАНСОВОГО МОНИТОРИНГА ОБЯЗАНЫ НАПРАВЛЯТЬ УВЕДОМЛЕНИЕ О НАЧАЛЕ ИЛИ ПРЕКРАЩЕНИИ ДЕЯТЕЛЬ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 ПОРЯДК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АНОВЛЕННОМ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РАЗРЕШЕНИЯХ И УВЕДОМЛЕН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Е КОНСУЛЬТАНТЫ И ДРУГИЕ НЕЗАВИСИМЫЕ СПЕЦИАЛИСТЫ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М ВОПРОСАМ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СЛУЧАЯХ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ГДА ОНИ ОТ ИМЕНИ ИЛИ ПО ПОРУЧЕ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00280" indent="-1654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ЛИЕНТА УЧАСТВУЮТ В ОПЕРАЦИЯХ С ДЕНЬГАМИ 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ОТНОШЕНИИ СЛЕДУЮЩЕЙ ДЕЯТЕЛЬНОСТ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Е 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Google Shape;275;p43"/>
          <p:cNvSpPr/>
          <p:nvPr/>
        </p:nvSpPr>
        <p:spPr>
          <a:xfrm>
            <a:off x="39600" y="339840"/>
            <a:ext cx="7495920" cy="13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60680" indent="-1193760">
              <a:lnSpc>
                <a:spcPct val="111000"/>
              </a:lnSpc>
              <a:buClr>
                <a:srgbClr val="000000"/>
              </a:buClr>
              <a:buFont typeface="Trebuchet MS"/>
              <a:buAutoNum type="arabicPeriod" startAt="128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 ЛИ ГОСУДАРСТВЕННЫЕ ОРГАНЫ РЕСПУБЛИКИ КАЗАХСТАН СУБЪЕКТАМИ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ТС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rebuchet MS"/>
              <a:buAutoNum type="arabicPeriod" startAt="129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УЧАСТНИКИ МЕЖДУНАРОДНОГО ФИНАНСОВОГО ЦЕНТРА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НА ТЕРРИТОРИИ МЕЖДУНАРОДНОГО ФИНАНСОВОГО ЦЕН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СТАН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ЛЕЕ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МФЦ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ДЕЛЬНЫЕ ВИДЫ ДЕЯТЕЛЬНОСТИ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ПРЕДЕЛЯЕМЫЕ КОМИТЕТОМ МФЦА ПО РЕГУЛИРОВАНИЮ ФИНАНСОВЫХ УСЛУГ ПО СОГЛАСОВАНИЮ С УПОЛНОМОЧЕННЫМ ОРГАНОМ В СООТВЕТСТВИИ С РЕКОМЕНДАЦИЯМИ ГРУППЫ РАЗРАБОТКИ ФИНАНСОВЫХ МЕР БОРЬБЫ С ОТМЫВАНИЕМ ДЕНЕГ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ФАТФ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just">
              <a:lnSpc>
                <a:spcPct val="119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АДВОКА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Е КОНСУЛЬТАНТЫ И ДРУГИЕ НЕЗАВИСИМЫЕ СПЕЦИАЛИСТЫ ПО ЮРИДИЧЕСКИМ ВОПРОСА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ОНИ ОТ ИМЕНИ ИЛИ ПО ПОРУЧЕНИЮ КЛИЕНТА УЧАСТВУЮТ В ОПЕРАЦИЯХ С ДЕНЬГАМ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ОТНОСЯ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НЕ ОТНОСЯТС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ИЕ Л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ОНД СОЦИАЛЬНОГО МЕДИЦИНСКОГО СТРАХ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СУБЪЕКТАМ ФИНАНСОВОГО МОНИТОРИНГА ОТНОСЯ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Ы ИГОРНОГО БИЗНЕСА И ЛОТЕР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13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ТНОСИТСЯ К СУБЪЕКТАМ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 ЛИЗИНГОВУЮ ДЕЯТЕЛЬНОСТЬ В КАЧЕСТВЕ ЛИЗИНГОДАТЕЛЯ БЕЗ ЛИЦЕНЗИИ 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ПЕРАЦИИ С ДРАГОЦЕННЫМИ МЕТАЛЛАМИ И ДРАГОЦЕННЫМИ КАМНЯМ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ЮВЕЛИРНЫМИ ИЗДЕЛИЯМИ ИЗ НИ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ПРЕДПРИНИМАТЕЛИ И ЮРИДИЧЕСКИЕ 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КАЗЫВАЮЩ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ОСРЕДНИЧЕСКИЕ УСЛУГИ ПРИ ОСУЩЕСТВЛЕНИИ СДЕЛОК КУПЛ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ОДА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660680" indent="-1193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НЕДВИЖИМОГО ИМУЩЕ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Google Shape;280;p44"/>
          <p:cNvSpPr/>
          <p:nvPr/>
        </p:nvSpPr>
        <p:spPr>
          <a:xfrm>
            <a:off x="162000" y="295200"/>
            <a:ext cx="7252920" cy="81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35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35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 УСТАНАВЛИВАТЬ И НЕ ПОДДЕРЖИВАТЬ КОРРЕСПОНДЕНТСКИЕ ОТНОШЕНИЯ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Google Shape;285;p45"/>
          <p:cNvSpPr/>
          <p:nvPr/>
        </p:nvSpPr>
        <p:spPr>
          <a:xfrm>
            <a:off x="162000" y="328680"/>
            <a:ext cx="725292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ИТЬС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КАЗЫВАЕТ В ИСПОЛЬЗОВАНИИ СВОИХ СЧЕТОВ БАНК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ШИРМ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Google Shape;286;p45"/>
          <p:cNvSpPr/>
          <p:nvPr/>
        </p:nvSpPr>
        <p:spPr>
          <a:xfrm>
            <a:off x="162000" y="4321080"/>
            <a:ext cx="725292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АТЬ РАЗРЕШЕНИЕ РУКОВОДЯЩЕГО РАБОТНИКА ОРГАНИЗАЦИИ НА УСТАНОВЛЕНИЕ НОВЫХ КОРРЕСПОНДЕНТСКИХ ОТНО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Google Shape;63;p10"/>
          <p:cNvSpPr/>
          <p:nvPr/>
        </p:nvSpPr>
        <p:spPr>
          <a:xfrm>
            <a:off x="531720" y="85104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oogle Shape;64;p10"/>
          <p:cNvSpPr/>
          <p:nvPr/>
        </p:nvSpPr>
        <p:spPr>
          <a:xfrm>
            <a:off x="960480" y="847800"/>
            <a:ext cx="5906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oogle Shape;65;p10"/>
          <p:cNvSpPr/>
          <p:nvPr/>
        </p:nvSpPr>
        <p:spPr>
          <a:xfrm>
            <a:off x="512640" y="1096920"/>
            <a:ext cx="6513120" cy="50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2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Е ДЕЙСТВУЮЩИХ И ВСТУПЛЕНИИ В СИЛУ НОВЫХ НОРМАТИВ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ОВ РК В ОБЛАСТИ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ТВЕРЖДЕНИИ СУБЪЕКТОМ НОВЫХ ИЛИ ИЗМЕНЕНИИ ДЕЙСТВУЮЩИХ ПРАВИЛ ВНУТРЕННЕГО КОНТРОЛЯ В ЦЕЛЯХ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И ПРОГРАММА ИХ ОСУЩЕСТВЛ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2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 ИМИ ФУНК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 КАЗАХСТАН О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66;p10"/>
          <p:cNvSpPr/>
          <p:nvPr/>
        </p:nvSpPr>
        <p:spPr>
          <a:xfrm>
            <a:off x="-12600" y="5526000"/>
            <a:ext cx="134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oogle Shape;67;p10"/>
          <p:cNvSpPr/>
          <p:nvPr/>
        </p:nvSpPr>
        <p:spPr>
          <a:xfrm>
            <a:off x="946080" y="5516640"/>
            <a:ext cx="57132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ЛИЦ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ОТВЕТСТВУЮЩИЕ СЛЕДУЮЩИМ ТРЕБОВА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ЫСШЕГО ОБРАЗ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ТАЖА РАБОТЫ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ЛИЧИЕ СЕРТИФИКАТОВ О ПРОХОЖДЕНИИ ОБУЧЕНИЯ В СФЕРЕ ПО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oogle Shape;68;p10"/>
          <p:cNvSpPr/>
          <p:nvPr/>
        </p:nvSpPr>
        <p:spPr>
          <a:xfrm>
            <a:off x="595440" y="7029360"/>
            <a:ext cx="63590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9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ДОКУМЕНТОМ ПОДТВЕРЖДАЕТСЯ ПРОХОЖДЕНИЕ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ХОЖДЕНИЕ СУБЪЕКТОМ ТЕСТИРОВАНИЯ ПОДТВЕРЖДАЕТСЯ ДОКУМ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М ЦЕНТР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ЦИОНЕРНОЕ ОБЩЕСТВ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 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ГДЕ РАЗМЕЩАЕТСЯ ИНФОРМАЦИЯ О ПРОХОЖДЕНИИ СУБЪЕКТОМ ФИНАНСОВОГО МОНИТОРИНГА ТЕСТ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9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oogle Shape;69;p10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Google Shape;291;p46"/>
          <p:cNvSpPr/>
          <p:nvPr/>
        </p:nvSpPr>
        <p:spPr>
          <a:xfrm>
            <a:off x="25560" y="328680"/>
            <a:ext cx="7482960" cy="57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3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СБОР И ДОКУМЕНТАЛЬНО ФИКСИРОВАТЬ СВЕДЕНИЯ О РЕПУТАЦИИ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ХАРАКТЕРЕ ДЕЯТЕЛЬНОСТИ ИНОСТРАННОЙ ФИНАНСОВОЙ ОРГАНИЗАЦ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65280" indent="-104760"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ОМ ЧИСЛЕ ПРОВЕДЕНИИ В ОТНОШЕНИИ НЕГО РАССЛЕДОВАНИЯ И ПРИМЕНЕНИИ К НЕМУ САНКЦИЙ ЗА НАРУШЕНИЕ ЗАКОНОДАТЕЛЬСТВА СТРАНЫ ЕГО РЕГИСТРАЦИИ ПО ПРОТИВОДЕЙСТВИЮ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Google Shape;292;p46"/>
          <p:cNvSpPr/>
          <p:nvPr/>
        </p:nvSpPr>
        <p:spPr>
          <a:xfrm>
            <a:off x="162000" y="5383080"/>
            <a:ext cx="725292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2848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just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АЛЬНО ФИКСИРОВАТЬ ИНФОРМАЦИЮ О МЕРАХ ВНУТРЕННЕГО КОНТРОЛЯ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НИМАЕМЫХ ИНОСТРАННОЙ ФИНАНСОВОЙ ОРГАНИЗАЦИЕЙ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СПОНДЕНТОМ В СООТВЕТСТВИИ С ЗАКОНОМ СТРАНЫ ЕГО РЕГИСТРАЦИИ ПО ПРОТИВОДЕЙСТВИЮ ЛЕГАЛИЗАЦИИ 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 ТАКЖ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2848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ТЬ ОЦЕНКУ ЭФФЕКТИВНОСТИ ПРИНИМАЕМЫХ МЕР ВНУТРЕННЕГО КОНТРО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Google Shape;297;p47"/>
          <p:cNvSpPr/>
          <p:nvPr/>
        </p:nvSpPr>
        <p:spPr>
          <a:xfrm>
            <a:off x="3240" y="328680"/>
            <a:ext cx="752436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89040" indent="-10476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1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ПОДТВЕРЖДЕНИЕ ТОГО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ЧТО ИНОСТРАННАЯ ФИНАНСОВАЯ ОРГАНИЗАЦ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 ПРОВЕЛ НАДЛЕЖАЩУЮ ПРОВЕРКУ КЛИ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ЮЩЕГО ПРЯМОЙ ДОСТУП К СЧЕТАМ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ЧТО ОН ИМЕЕТ ВОЗМОЖНОСТЬ ПРЕДОСТАВЛЯ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89040" indent="-10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УЮ ИНФОРМАЦИЮ ПО НАДЛЕЖАЩЕЙ ПРОВЕРКЕ КЛИЕНТА ПО ЗАПРОСУ БАНК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РРЕСПОНД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oogle Shape;298;p47"/>
          <p:cNvSpPr/>
          <p:nvPr/>
        </p:nvSpPr>
        <p:spPr>
          <a:xfrm>
            <a:off x="81000" y="5119560"/>
            <a:ext cx="741168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7320" indent="-4140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42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ИЕ У ИНОСТРАННОЙ ФИНАНСОВОЙ ОРГАН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ОНДЕНТА КОРРЕСПОНДЕНТСКИХ ОТНОШЕНИЙ С БАНК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ШИРМАМИ ОПРЕДЕЛЯЕТСЯ 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Е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ИНОСТРАННОЙ ФИНАНСОВОЙ ОРГАНИЗАЦИЕЙ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СПОНДЕНТОМ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АЕМОЙ СУБЪЕКТОМ ФИНАНСОВОГО МОНИТОРИНГА ИЗ И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7320" indent="-4140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42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ОПЕРАТОРА ИЛИ ОПЕРАЦИОННОГО ЦЕНТРА МЕЖБАНКОВСКОЙ СИСТЕМЫ ПЕРЕВОДОВ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МИМО МЕР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ПО НАДЛЕЖАЩЕЙ ПРОВЕРКЕ СУБЪЕКТАМИ ФИНАНСОВОГО МОНИТОРИНГА СВОИХ КЛИЕНТОВ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Х ПРЕДСТАВИТЕЛЕ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БЕНЕФИЦИАРНЫХ СОБСТВЕННИКОВ 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УСТАНОВЛЕНИИ КОРРЕСПОНДЕНТСКИХ ОТНОШЕНИЙ С ИНОСТРАННЫМИ ФИНАНСОВЫМИ ОРГАНИЗАЦИЯМИ ДОПОЛНИТЕЛЬНО ОБЯЗА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5920" indent="414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Google Shape;303;p48"/>
          <p:cNvSpPr/>
          <p:nvPr/>
        </p:nvSpPr>
        <p:spPr>
          <a:xfrm>
            <a:off x="69840" y="3398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Google Shape;304;p48"/>
          <p:cNvSpPr/>
          <p:nvPr/>
        </p:nvSpPr>
        <p:spPr>
          <a:xfrm>
            <a:off x="419040" y="35712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Google Shape;305;p48"/>
          <p:cNvSpPr/>
          <p:nvPr/>
        </p:nvSpPr>
        <p:spPr>
          <a:xfrm>
            <a:off x="69840" y="140328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5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Google Shape;306;p48"/>
          <p:cNvSpPr/>
          <p:nvPr/>
        </p:nvSpPr>
        <p:spPr>
          <a:xfrm>
            <a:off x="419040" y="1420920"/>
            <a:ext cx="70606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Google Shape;307;p48"/>
          <p:cNvSpPr/>
          <p:nvPr/>
        </p:nvSpPr>
        <p:spPr>
          <a:xfrm>
            <a:off x="69840" y="246852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46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Google Shape;308;p48"/>
          <p:cNvSpPr/>
          <p:nvPr/>
        </p:nvSpPr>
        <p:spPr>
          <a:xfrm>
            <a:off x="419040" y="248616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Google Shape;309;p48"/>
          <p:cNvSpPr/>
          <p:nvPr/>
        </p:nvSpPr>
        <p:spPr>
          <a:xfrm>
            <a:off x="22320" y="2959200"/>
            <a:ext cx="7502040" cy="74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35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ЕАЛИЗАЦИЯ ЕДИНОЙ ГОСУДАРСТВЕННОЙ ПОЛИТИКИ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Е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Я РАБОТЫ ГОСУДАРСТВЕННЫХ ОРГАНОВ В ЭТОМ НАПРАВЛЕНИИ ДЕЯТЕЛЬНОСТ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3520" indent="-9540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ВЗАИМОДЕЙСТВИЯ И ИНФОРМАЦИОННОГО ОБМЕНА 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ТНЫМИ ОРГАНАМИ ИНОСТРАННЫХ ГОСУДАРСТВ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35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Google Shape;314;p49"/>
          <p:cNvSpPr/>
          <p:nvPr/>
        </p:nvSpPr>
        <p:spPr>
          <a:xfrm>
            <a:off x="69840" y="339840"/>
            <a:ext cx="741024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68720" indent="-3156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68720" indent="-3156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Google Shape;315;p49"/>
          <p:cNvSpPr/>
          <p:nvPr/>
        </p:nvSpPr>
        <p:spPr>
          <a:xfrm>
            <a:off x="69840" y="193356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Google Shape;316;p49"/>
          <p:cNvSpPr/>
          <p:nvPr/>
        </p:nvSpPr>
        <p:spPr>
          <a:xfrm>
            <a:off x="419040" y="1951200"/>
            <a:ext cx="706068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Google Shape;317;p49"/>
          <p:cNvSpPr/>
          <p:nvPr/>
        </p:nvSpPr>
        <p:spPr>
          <a:xfrm>
            <a:off x="69840" y="299880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Google Shape;318;p49"/>
          <p:cNvSpPr/>
          <p:nvPr/>
        </p:nvSpPr>
        <p:spPr>
          <a:xfrm>
            <a:off x="419040" y="3016080"/>
            <a:ext cx="706068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Google Shape;319;p49"/>
          <p:cNvSpPr/>
          <p:nvPr/>
        </p:nvSpPr>
        <p:spPr>
          <a:xfrm>
            <a:off x="69840" y="4064040"/>
            <a:ext cx="2538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Google Shape;320;p49"/>
          <p:cNvSpPr/>
          <p:nvPr/>
        </p:nvSpPr>
        <p:spPr>
          <a:xfrm>
            <a:off x="419040" y="4083120"/>
            <a:ext cx="70606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Google Shape;321;p49"/>
          <p:cNvSpPr/>
          <p:nvPr/>
        </p:nvSpPr>
        <p:spPr>
          <a:xfrm>
            <a:off x="14400" y="4554360"/>
            <a:ext cx="7509960" cy="67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49280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ЕДИНОЙ ИНФОРМАЦИОННОЙ СИСТЕМЫ И ВЕДЕНИЕ РЕСПУБЛИКАНСКОЙ БАЗЫ ДАННЫХ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4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ДАЧАМИ УПОЛНОМОЧЕННОГО ОРГАНА ПО ФИНАНСОВОМУ МОНИТОРИНГУ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ИНТЕРЕСОВ РЕСПУБЛИКИ КАЗАХСТАН В МЕЖДУНАРОД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Х ПО ВОПРОСАМ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>
              <a:lnSpc>
                <a:spcPct val="117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ВТОРОГО УРОВНЯ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 КОНТРОЛИРУЮ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Е В ПЛАТЕЖНОМ ДОКУМЕНТЕ ИНФОРМАЦИИ ПРИПОСТУПЛЕНИИ ПЛАТЕЖА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3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А ДЕНЕГ ОТ ИНОСТРАННОГО ФИНАНСОВОГО УЧРЕЖ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ФИКСИРУЮТ И ХРАНЯТ СВЕД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Е ДЛЯ ИДЕНТИФИКАЦИИ ПОЛУЧАТЕЛЯ ПО ПЕРЕВОД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ЕНЕГ БЕЗ ИСПОЛЬЗОВАНИЯ БАНКОВСКОГО СЧЕТА 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49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Google Shape;326;p50"/>
          <p:cNvSpPr/>
          <p:nvPr/>
        </p:nvSpPr>
        <p:spPr>
          <a:xfrm>
            <a:off x="23760" y="339840"/>
            <a:ext cx="7527600" cy="114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6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ПОЛНЫЕ ИЛИ СОКРАЩЕННЫЕ НАИМЕНОВАНИЯ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ЕСЛИ ПЕРЕВОД ДЕНЕГ ОСУЩЕСТВЛЕН БЕЗ ИСПОЛЬЗОВАНИЯ БАНКОВСКОГО СЧЕТА 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16cc52"/>
                </a:solidFill>
                <a:latin typeface="Arial"/>
                <a:ea typeface="Arial"/>
              </a:rPr>
              <a:t>ДЛЯ ФИЗИЧЕСКОГОЛИЦА</a:t>
            </a: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Google Shape;331;p51"/>
          <p:cNvSpPr/>
          <p:nvPr/>
        </p:nvSpPr>
        <p:spPr>
          <a:xfrm>
            <a:off x="33480" y="339840"/>
            <a:ext cx="7464240" cy="59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7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ФАМИЛ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МЕН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ЧЕСТВА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ЕГО НАЛИЧИ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ПОЛНЫЕ ИЛИ СОКРАЩ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АИМЕНОВАНИЯ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Google Shape;332;p51"/>
          <p:cNvSpPr/>
          <p:nvPr/>
        </p:nvSpPr>
        <p:spPr>
          <a:xfrm>
            <a:off x="3740040" y="561348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Google Shape;337;p52"/>
          <p:cNvSpPr/>
          <p:nvPr/>
        </p:nvSpPr>
        <p:spPr>
          <a:xfrm>
            <a:off x="23760" y="339840"/>
            <a:ext cx="7527600" cy="90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7200" indent="-168120">
              <a:lnSpc>
                <a:spcPct val="111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8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ПО УКАЗАНИЯМ КЛИЕНТОВ БЕЗНАЛИЧНЫХ ПЛАТЕЖЕЙ И ПЕРЕВОДОВ ДЕНЕГ В ПОЛЬЗУ ИНОСТРАННОЙ ФИНАНСОВОЙ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СКЛЮЧЕНИЕМ ПЛАТЕЖЕЙ И ПЕРЕВОДОВ ДЕНЕГ С ИСПОЛЬЗОВАНИЕМ ПЛАТЕЖНЫХ КАРТОЧЕК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СЛУЧАЕ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ЗАЧИСЛЕНИЮ ДЕНЕГ НА БАНКОВСКИЙ СЧЕТ ФИЗИЧЕСКОГО ЛИЦА ЛИБО ПРОВЕДЕНИЮ ПЛАТЕЖА В ПОЛЬЗУ ПОСТАВЩИКА УСЛУГ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Й ОПЕРАЦИИ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 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 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 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НДИВИДУАЛЬНЫЕ ИДЕНТИФИКАЦИОННЫЕ КОДЫ ОТПРАВИТЕЛЯ И ПОЛУЧАТЕЛЯ ДЕНЕ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 ПЕРЕВОД ДЕНЕГ ОСУЩЕСТВЛЕН С ИСПОЛЬЗОВАНИЕМ БАНКОВСКОГО СЧЕ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УКАЗАНИЯ ПО ПЛАТЕЖУ ИЛИ ПЕРЕВОДУ ДЕНЕГ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ЕС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87200" indent="-168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ЕРЕВОД ДЕНЕГ ОСУЩЕСТВЛЕН БЕЗ ИСПОЛЬЗОВАНИЯ БАНКОВСКОГО СЧ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Google Shape;338;p52"/>
          <p:cNvSpPr/>
          <p:nvPr/>
        </p:nvSpPr>
        <p:spPr>
          <a:xfrm>
            <a:off x="3740040" y="8539200"/>
            <a:ext cx="88560" cy="2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Google Shape;343;p53"/>
          <p:cNvSpPr/>
          <p:nvPr/>
        </p:nvSpPr>
        <p:spPr>
          <a:xfrm>
            <a:off x="33480" y="339840"/>
            <a:ext cx="7464240" cy="68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87480">
              <a:lnSpc>
                <a:spcPct val="114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5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БЕЗНАЛИЧНОГО ПЛАТЕЖА ИЛИ ПЕРЕВОДА ДЕНЕГ БЕЗ ИСПОЛЬЗОВАНИЯ БАНКОВСКОГО СЧЕ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ММА ТАКОГО ПЛАТЕЖА ИЛИ ПЕРЕВОДА ДЕНЕГ НЕ ПРЕВЫША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 ЛИБО СУММУ В ИНОСТРАННО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АЛЮТ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ЭКВИВАЛЕНТНУЮ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500000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НГ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СЛУЧАЕ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Я КЛИЕНТ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СУЩЕСТВЛЕНИИ КЛИЕНТОМ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ЗИЧЕСКИМ ЛИЦОМ ОПЕРАЦИИ ПО ОПЛАТЕ ЗАДОЛЖЕННОСТИ 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МКАХ ИСПОЛНИТЕЛЬНОГО ПРОИЗВОДСТВА В ПОЛЬЗУ ГОСУДАРСТВЕННЫХ ОРГАНОВ ПОСРЕДСТВОМ ОБОРУДОВАНИЯ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СТРОЙСТВ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НАЗНАЧЕННОГО ДЛЯ ПРИЕМА НАЛИЧНЫХ ДЕНЕГ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»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БАНКИ И ОРГАНИЗ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Е ОТДЕЛЬНЫЕ ВИДЫ БАНКОВСКИХ ОПЕРАЦИЙ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ВАЮТ НАЛИЧИЕ В ПЛАТЕЖНОМ ДОКУМЕНТЕ И ПЕРЕДАЧУ УЧАСТНИКУ ПЛАТЕЖ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ВОД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ЕГ РЕКВИЗИ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А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ДЕНТИФИКАЦИОННЫЙ НОМЕР ИЛИ АДРЕС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ИХ И ЮРИДИЧЕСКИХ ЛИЦ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ЛИБО НОМЕР ДОКУМЕНТ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ДОСТОВЕРЯЮЩЕГО ЛИЧНОСТЬ ОТПРАВИТЕЛЯ ДЕНЕГ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ЛЯ ФИЗИЧЕСКОГО ЛИЦ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tabLst>
                <a:tab algn="l" pos="0"/>
              </a:tabLst>
            </a:pP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160.</a:t>
            </a:r>
            <a:r>
              <a:rPr b="1" i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1" i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НЕ ОТНОСЯ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600" indent="8748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Е ОРГАНЫ Р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Google Shape;344;p53"/>
          <p:cNvSpPr/>
          <p:nvPr/>
        </p:nvSpPr>
        <p:spPr>
          <a:xfrm>
            <a:off x="407880" y="6410160"/>
            <a:ext cx="6854400" cy="37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1.</a:t>
            </a:r>
            <a:r>
              <a:rPr b="1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И ОСУЩЕСТВЛЯЮЩИЕ МИКРОФИНАНСОВУЮ ДЕЯТЕЛЬНОС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 algn="ctr">
              <a:lnSpc>
                <a:spcPct val="117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УХГАЛТЕРСКИЕ ОРГАНИЗАЦИИ И ПРОФЕССИОНАЛЬНЫЕ БУХГАЛТЕРЫ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УЩЕСТВЛЯЮЩИЕ ПРЕДПРИНИМАТЕЛЬСКУЮ ДЕЯТЕЛЬНОСТЬ В СФЕРЕ БУХГАЛТЕРСКОГО УЧЕТА</a:t>
            </a: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АУДИТОРСКИЕ ОРГАН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163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БИРЖ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4776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1" lang="en-US" sz="1500" spc="-1" strike="noStrike">
                <a:solidFill>
                  <a:schemeClr val="dk1"/>
                </a:solidFill>
                <a:latin typeface="Arial"/>
                <a:ea typeface="Arial"/>
              </a:rPr>
              <a:t>К СУБЪЕКТАМ ФИНАНСОВОГО МОНИТОРИНГА ОТНОСЯТСЯ</a:t>
            </a:r>
            <a:r>
              <a:rPr b="1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НЕ ВЕРНЫ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ЗИЧЕСКИЕ ЛИЦА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ГОСОРГАНЫ РК</a:t>
            </a:r>
            <a:r>
              <a:rPr b="0" lang="en-US" sz="15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5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16cc52"/>
                </a:solidFill>
                <a:latin typeface="Lucida Sans"/>
                <a:ea typeface="Lucida Sans"/>
              </a:rPr>
              <a:t>СУБЪЕКТЫ КВАЗИГОСУДАРСТВЕННОГО СЕКТ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65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.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ДИВИДУАЛЬНЫЕ ПРЕДПРИНИМАТЕЛИ И ЮРИДИЧЕСКИЕ ЛИЦ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Google Shape;345;p53"/>
          <p:cNvSpPr/>
          <p:nvPr/>
        </p:nvSpPr>
        <p:spPr>
          <a:xfrm>
            <a:off x="-1440" y="6696000"/>
            <a:ext cx="25992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Google Shape;346;p53"/>
          <p:cNvSpPr/>
          <p:nvPr/>
        </p:nvSpPr>
        <p:spPr>
          <a:xfrm>
            <a:off x="1440" y="9642600"/>
            <a:ext cx="754200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160" algn="ctr">
              <a:lnSpc>
                <a:spcPct val="11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ЫВАЮЩИЕ ПОСРЕДНИЧЕСКИЕ УСЛУГИ ПРИ ОСУЩЕСТВЛЕНИИ СДЕЛОК КУП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АЖИ НЕДВИЖИМОГО ИМУЩЕСТВА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1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Google Shape;351;p54"/>
          <p:cNvSpPr/>
          <p:nvPr/>
        </p:nvSpPr>
        <p:spPr>
          <a:xfrm>
            <a:off x="25560" y="339840"/>
            <a:ext cx="7511760" cy="11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7360" indent="-374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6"/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ЯЗАТЕЛЬНЫМИ ОСНОВАНИЯМИ ДЛЯ ИЗУЧЕНИЯ СУБЪЕКТОМ ФИНАНСОВОГО МОНИТОРИНГА СОВЕРШАЕМЫХ КЛИЕНТОМ ОПЕРАЦИЙ И ФИК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ОВ ТАКОГО ИЗУЧЕНИЯ В СООТВЕТСТВИИ С ЗАКОНОМ ЯВЛЯЮТС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ПРАВИЛЬ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2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 НЕЗАВИСИМО ОТ ФОРМЫ ИХ ОСУЩЕСТВЛЕНИЯ И СУММ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ОТОРУЮ ОНИ СОВЕРШЕНЫ ЛИ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ГУТ ИЛИ МОГЛИ БЫТЬ СОВЕРШЕН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ЫЕ ОПЕР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ПОДЛЕЖАТ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УТВЕРЖДАЮТСЯ ТИПОЛОГ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 И ДОВОДЯТСЯ ДО СУБЪЕКТОВ ФИНАНСОВОГО МОНИТОРИНГА ПУТЕМ РАЗМЕЩЕНИЯ НА ОФИЦИАЛЬНОМ ИНТЕРНЕТ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УРСЕ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8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ВИДОВ ОПЕРАЦИЙ С ДЕНЬГАМИ 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66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ПРЕДОСТАВЛЯЮТСЯ СВЕДЕНИЯ И ИНФОРМАЦИЯ ОБ ОПЕРАЦИ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ПОЛНОМОЧЕННЫЙ ОРГАН П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Е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 РАЗДЕЛ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ВОДНУ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 СУБЪЕКТЕ ФИНАНСОВОГО МОНИТОРИНГ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ОБ ОПЕРАЦИИ И УЧАСТНИКАХ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ПОЛНИТЕЛЬНУЮ ИНФОРМАЦИЮ ПО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НАЯ ФОРМА ОПРЕДЕЛЯЕТСЯ ПРАВИЛАМ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ЕМЫМИ ПРАВИТЕЛЬСТВОМ РЕСПУБЛИКИ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ОМ ФИНАНСОВОГО МОНИТОРИНГ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67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НЕ ПРЕДОСТАВЛЯЮТСЯ СВЕДЕНИЯ И ИНФОРМАЦИЯ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7360" indent="-37476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Google Shape;356;p55"/>
          <p:cNvSpPr/>
          <p:nvPr/>
        </p:nvSpPr>
        <p:spPr>
          <a:xfrm>
            <a:off x="63360" y="328680"/>
            <a:ext cx="7429320" cy="12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6440" indent="-123840">
              <a:lnSpc>
                <a:spcPct val="121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3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СУБЪЕКТ ФИНАНСОВОГО МОНИТОРИНГА ОБЯЗАН ПРЕДОСТАВИТЬ В УПОЛНОМОЧЕННЫЙ ОРГАН ПО ЕГО ЗАПРОСУ НЕОБХОДИМ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33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И ТРЁХ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ОРГАН СУБЪЕКТ ФИНАНСОВОГО МОНИТОРИНГА ОБЯЗАН ПРЕДОСТАВИТЬ ПО ЕГО ЗАПРОСУ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Ы В ТЕЧЕНИЕ ТРЕХ РАБОЧИХ ДНЕЙ СО ДНЯ ПОЛУЧЕНИЯ СООТВЕТСТВУЮЩЕГО ЗАПРОС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СКОЛЬКИХ ДНЕЙ ПО ЗАПРОСУ УПОЛНОМОЧЕННОГО ОРГАН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ОБЯЗАН ПРЕДОСТАВИТЬ НЕОБХОДИМЫЕ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ПОЗДНЕЕ РАБОЧЕГО ДНЯ СО ДНЯ ПОЛУЧЕНИЯ ЗАПРО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Й ОРГАН ВПРАВЕ ПО ПИСЬМЕННОМУ ОБРАЩЕНИЮ СУБЪЕКТА ФИНАНСОВОГО МОНИТОРИНГА ПРОДЛИТЬ В СЛУЧАЯХ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just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 КАЗАХСТАН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 ВПРАВ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74"/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КАКОЙ ОРГАН НЕСУТ РАСХОДЫ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СВЕДЕНИЙ ОБ ОПЕРАЦИИ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МУ МОНИТОРИНГУ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 ПРОВЕРКИ КЛИЕНТА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5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УПОЛНОМОЧЕННЫЙ ОРГА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6440" indent="-123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Google Shape;74;p11"/>
          <p:cNvSpPr/>
          <p:nvPr/>
        </p:nvSpPr>
        <p:spPr>
          <a:xfrm>
            <a:off x="0" y="0"/>
            <a:ext cx="5760720" cy="10537560"/>
          </a:xfrm>
          <a:custGeom>
            <a:avLst/>
            <a:gdLst>
              <a:gd name="textAreaLeft" fmla="*/ 0 w 5760720"/>
              <a:gd name="textAreaRight" fmla="*/ 5761080 w 5760720"/>
              <a:gd name="textAreaTop" fmla="*/ 0 h 10537560"/>
              <a:gd name="textAreaBottom" fmla="*/ 10537920 h 10537560"/>
            </a:gdLst>
            <a:ahLst/>
            <a:rect l="textAreaLeft" t="textAreaTop" r="textAreaRight" b="textAreaBottom"/>
            <a:pathLst>
              <a:path w="5761355" h="10537190">
                <a:moveTo>
                  <a:pt x="0" y="10537186"/>
                </a:moveTo>
                <a:lnTo>
                  <a:pt x="5761338" y="10537186"/>
                </a:lnTo>
                <a:lnTo>
                  <a:pt x="5761338" y="0"/>
                </a:lnTo>
                <a:lnTo>
                  <a:pt x="0" y="0"/>
                </a:lnTo>
                <a:lnTo>
                  <a:pt x="0" y="10537186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Google Shape;75;p11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299" y="0"/>
                </a:moveTo>
                <a:lnTo>
                  <a:pt x="0" y="340493"/>
                </a:lnTo>
                <a:lnTo>
                  <a:pt x="236850" y="340493"/>
                </a:lnTo>
                <a:lnTo>
                  <a:pt x="603150" y="0"/>
                </a:lnTo>
                <a:lnTo>
                  <a:pt x="366299" y="0"/>
                </a:lnTo>
              </a:path>
              <a:path w="1386840" h="340995">
                <a:moveTo>
                  <a:pt x="758086" y="0"/>
                </a:moveTo>
                <a:lnTo>
                  <a:pt x="391799" y="340493"/>
                </a:lnTo>
                <a:lnTo>
                  <a:pt x="628649" y="340493"/>
                </a:lnTo>
                <a:lnTo>
                  <a:pt x="994949" y="0"/>
                </a:lnTo>
                <a:lnTo>
                  <a:pt x="758086" y="0"/>
                </a:lnTo>
              </a:path>
              <a:path w="1386840" h="340995">
                <a:moveTo>
                  <a:pt x="1149885" y="0"/>
                </a:moveTo>
                <a:lnTo>
                  <a:pt x="783585" y="340493"/>
                </a:lnTo>
                <a:lnTo>
                  <a:pt x="1021079" y="340493"/>
                </a:lnTo>
                <a:lnTo>
                  <a:pt x="1386756" y="0"/>
                </a:lnTo>
                <a:lnTo>
                  <a:pt x="114988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Google Shape;76;p11"/>
          <p:cNvSpPr/>
          <p:nvPr/>
        </p:nvSpPr>
        <p:spPr>
          <a:xfrm>
            <a:off x="1262160" y="206280"/>
            <a:ext cx="566064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СТЫ ПО ТИПОЛОГИЯМ И СХЕМАМ </a:t>
            </a:r>
            <a:r>
              <a:rPr b="0" i="1" lang="en-US" sz="2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2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1515"/>
                </a:solidFill>
                <a:latin typeface="Arial"/>
                <a:ea typeface="Arial"/>
              </a:rPr>
              <a:t>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Google Shape;77;p11"/>
          <p:cNvSpPr/>
          <p:nvPr/>
        </p:nvSpPr>
        <p:spPr>
          <a:xfrm>
            <a:off x="-12600" y="573120"/>
            <a:ext cx="756900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1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РАЗМЕЩЕНИЯ НА 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Google Shape;78;p11"/>
          <p:cNvSpPr/>
          <p:nvPr/>
        </p:nvSpPr>
        <p:spPr>
          <a:xfrm>
            <a:off x="-1440" y="2639880"/>
            <a:ext cx="137880" cy="1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Google Shape;79;p11"/>
          <p:cNvSpPr/>
          <p:nvPr/>
        </p:nvSpPr>
        <p:spPr>
          <a:xfrm>
            <a:off x="846000" y="2630520"/>
            <a:ext cx="61084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80;p11"/>
          <p:cNvSpPr/>
          <p:nvPr/>
        </p:nvSpPr>
        <p:spPr>
          <a:xfrm>
            <a:off x="-12600" y="2887560"/>
            <a:ext cx="7563960" cy="87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 ФИНАНСИРОВАНИЯ ТЕРРОРИЗМА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ЦИФРА УКАЗЫВАЕТСЯ 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ЕЮЩИЕ ХАРАКТЕРИСТИ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Е ТИПОЛОГИЯ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АМ И СПОСОБ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Х ДОХОДОВ В ГРАФЕ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.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Е ДЛЯ ПОДАЧИ СООБЩЕНИ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УЖНОЕ ВЫБРАТЬ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*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indent="-88920">
              <a:lnSpc>
                <a:spcPct val="117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Ц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АЯ НЕЗАКОННУЮ ДЕЯТЕЛЬНОСТЬ ПО ИЗВЛЕ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УЩЕСТВЕННОЙ ВЫГО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ПРИВЛЕЧЕНИЯ ДЕНЕГ ИЛИ ИНОГО ИМУЩЕСТВА ЛИБО ПРАВА НА НЕГО ФИЗИЧЕСКИХ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ИХ ЛИЦ БЕЗ ИСПОЛЬ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НЫХ СРЕДСТВ НА ПРЕДПРИНИМАТЕЛЬСКУЮ ДЕЯТЕЛЬНОС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ЕСПЕЧИВАЮЩУЮ ПРИНЯТЫЕ ОБЯЗАТЕЛЬ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УТЕМ ПЕРЕРАСПРЕДЕЛЕНИЯ ДАННЫХ АКТИВОВ И ОБОГАЩЕНИЯ ОДНИХ УЧАСТНИКОВ ЗА СЧЕТ ВЗНОСОВ ДРУГ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17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Е И РУКОВОДСТВО ФИНАНСОВО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ВЕСТИЦИОНН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>
              <a:lnSpc>
                <a:spcPct val="112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ПОДОЗРИТЕЛЬНОСТИ УКАЗА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7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СТНАДЦАТ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Google Shape;361;p56"/>
          <p:cNvSpPr/>
          <p:nvPr/>
        </p:nvSpPr>
        <p:spPr>
          <a:xfrm>
            <a:off x="46080" y="331920"/>
            <a:ext cx="7472160" cy="87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09560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79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 О ТО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ОПЕРАЦИЯ С ДЕНЬГАМИ 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ЕРЕДАЕТ ИНФОРМАЦИЮ В ГЕНЕРАЛЬНУЮ ПРОКУРАТУРУ РЕСПУБЛИКИ КАЗАХСТАН ДЛЯ НАПРАВЛЕНИЯ В ПРАВООХРАНИТЕЛЬНЫЕ И СПЕЦИАЛЬНЫЕ ГОСУДАРСТВЕННЫЕ ОРГАНЫ В СООТВЕТСТВИИ С ИХ КОМПЕТЕНЦИЕЙ ДЛЯ ПРИНЯТИЯ ПРОЦЕССУАЛЬНОГО РЕШЕНИЯ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 ЗАКОНОМ РЕСПУБЛИКИ КАЗАХСТАН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УЧАСТВУЕТ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РГАНИЗУЕТ ФОРМИРОВАНИЕ И ВЕДЕНИЕ РЕСПУБЛИКАНСКОЙ БАЗЫ ДАННЫХ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ОБЕСПЕЧИВАЕТ МЕТОДОЛОГИЧЕСКОЕ ЕДИНСТВО И СОГЛАСОВАННОЕ ФУНКЦИОНИРОВАНИЕ ИНФОРМАЦИОННЫХ СИСТЕМ В СФЕРЕ ПРОТИВОДЕЙСТВИЯ ЛЕГАЛИЗАЦИИ 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 И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09560">
              <a:lnSpc>
                <a:spcPct val="10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7095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Google Shape;366;p57"/>
          <p:cNvSpPr/>
          <p:nvPr/>
        </p:nvSpPr>
        <p:spPr>
          <a:xfrm>
            <a:off x="-1440" y="328680"/>
            <a:ext cx="7552800" cy="12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85640" indent="-76320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180.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В ЦЕЛЯХ ПРОТИВОДЕЙСТВИЯ ЛЕГАЛИЗАЦИИ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СУЩЕСТВЛЯЕТ </a:t>
            </a:r>
            <a:r>
              <a:rPr b="0" lang="en-US" sz="15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85640" indent="-82800" algn="ctr">
              <a:lnSpc>
                <a:spcPct val="100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СБОР И ОБРАБОТКУ ИНФОРМАЦИИ ОБ ОПЕРАЦИЯХ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 СООТВЕТСТВИИ С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4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 УСТАНОВЛЕННОМ ПОРЯДКЕ АНАЛИЗ ПОЛУЧЕННОЙ ИНФОРМАЦИ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ДЕЯТЕЛЬНОСТЬ ГОСУДАРСТВЕННЫХ ОРГАНОВ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 ЗАПРОСУ СУДА ПО УГОЛОВНЫМ ДЕЛАМ НАПРАВЛЯЕТ НЕОБХОДИМУЮ ИНФОРМАЦИЮ ПО ОПЕРАЦИЯМ С ДЕНЬГАМИ 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РАЗРЕШЕНИЯ МАТЕРИАЛ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3680" indent="-50760">
              <a:lnSpc>
                <a:spcPct val="116000"/>
              </a:lnSpc>
              <a:buClr>
                <a:srgbClr val="16cc52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ВЗАИМОДЕЙСТВИЕ С ПРАВООХРАНИТЕЛЬНЫМИ И СПЕЦИАЛЬНЫМИ ГОСУДАРСТВЕННЫМИ ОРГАНАМИ ПО ПЕРЕДАННОЙ ИНФОРМАЦИИ В СООТВЕТСТВИИ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8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И УПОЛНОМОЧЕННОГО ОРГА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12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 И ФИНАНСИР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СУЩЕСТВЛЯЕТ ИНЫЕ ПОЛНОМОЧИЯ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УСМОТРЕННЫЕ ЗАКОНОМ РЕСПУБЛИКИ КАЗАХСТАН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ИНЫМИ ЗАКОНАМИ РЕСПУБЛИКИ КАЗАХСТАН</a:t>
            </a:r>
            <a:r>
              <a:rPr b="0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КТАМИ ПРЕЗИДЕНТА РЕСПУБЛИКИ КАЗАХСТА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85640" indent="-76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АВИТЕЛЬСТВА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Google Shape;371;p58"/>
          <p:cNvSpPr/>
          <p:nvPr/>
        </p:nvSpPr>
        <p:spPr>
          <a:xfrm>
            <a:off x="61920" y="325440"/>
            <a:ext cx="7446600" cy="121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6560" indent="-231840">
              <a:lnSpc>
                <a:spcPct val="115000"/>
              </a:lnSpc>
              <a:buClr>
                <a:srgbClr val="000000"/>
              </a:buClr>
              <a:buFont typeface="Trebuchet MS"/>
              <a:buAutoNum type="arabicPeriod" startAt="182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СУЩЕСТВЛЯЕТ ВЗАИМОДЕЙСТВИЕ С ПРАВООХРАНИТЕЛЬНЫМИ И СПЕЦИАЛЬНЫМИ ГОСУДАРСТВЕННЫМИ ОРГАНАМИ ПО ПЕРЕДАННОЙ ИНФОРМАЦИИ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ИИ С ЗАКОНОМ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84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ВЫИГРЫША ПО РЕЗУЛЬТАТАМ ПРОВЕДЕНИЯ ПАР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ЗАРТНОЙ ИГРЫ В ИГОРНЫХ ЗАВЕДЕНИЯХ И ЛОТЕРЕИ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 ТОМ ЧИСЛЕ В ЭЛЕКТРОННОЙ ФОРМ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КУПК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ДАЖА И ОБМЕН НАЛИЧНОЙ ИНОСТРАННОЙ ВАЛЮТЫ ЧЕРЕЗ ОБМЕННЫЕ ПУНКТЫ 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НЯТИЕ С БАНКОВСКОГО СЧЕТА ИЛИ ЗАЧИСЛЕНИЕ НА БАНКОВСКИЙ СЧЕТ КЛИЕНТА ДЕНЕГ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РАВНО ПРИЕМ ОТ КЛИЕНТА ЛИБО ВЫДАЧА КЛИЕНТУ НАЛИЧНЫХ 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ИЕ ДЕНЕГ ПО ЧЕКУ ИЛИ ВЕКС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РЕВОДЫ ДЕНЕГ ЗА ГРАНИЦУ НА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ВКЛАДЫ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ЫЕ НА АНОНИМНОГО ВЛАДЕЛЬЦ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ТУПЛЕНИЕ ДЕНЕГ ИЗ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ЗА ГРАНИЦЫ СО СЧЕТА 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КЛАДА</a:t>
            </a:r>
            <a:r>
              <a:rPr b="0" i="1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)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КРЫТОГО НА АНОНИМНОГО ВЛАДЕЛЬ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6560" indent="-2318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ОПЕРАЦИЯМ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М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СУДА ПО УГОЛОВНЫМ ДЕЛАМ НАПРАВЛЯЕТ НЕОБХОДИМУЮ ИНФОРМАЦИЮ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ЯМ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РАЗРЕШЕНИЯ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ХСЯ В ПРОИЗВОДСТ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8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УНКЦИЯ НЕ ОТНОСЯЩИЕСЯ К УПОЛНОМОЧЕННЫМ ОРГАН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СТАНОВИ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ХОДНЫЕ ОПЕРАЦИИ ПО БАНКОВСКИМ СЧЕТАМ ТАКОЙ ОРГАНИЗАЦИИ ИЛИ ФИЗИЧЕ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231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О БАНКОВСКИМ СЧЕТАМ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ЕНЕФИЦИАРНЫМ СОБСТВЕННИКОМ КОТОРОГО ЯВЛЯЕТСЯ ТАКОЕ ФИЗИЧЕСКОЕ ЛИЦ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oogle Shape;376;p59"/>
          <p:cNvSpPr/>
          <p:nvPr/>
        </p:nvSpPr>
        <p:spPr>
          <a:xfrm>
            <a:off x="9360" y="318960"/>
            <a:ext cx="7538760" cy="11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ОРМ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 ДОЛЖНА СОДЕРЖАТЬ СЛЕДУЮЩ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ДЕЛ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ЗАПРОС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,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ПРАВЕ ПО ПИСЬМЕННОМУ ОБРАЩЕНИЮ СУБЪЕКТА ФИНАНСОВОГО МОНИТОРИНГА 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НЕ ВПРАВЕ 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-212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88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 ТРЕБУЕТСЯ ДОПОЛНИТЕЛЬНОЕ ВРЕМ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ДЛИТЬ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БОЛЕЕ ЧЕМ НА ДЕСЯТЬ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ПИСЬМЕННОМУ ОБРАЩ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ПРАШИВАТЬ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НЫМ ДО ВВЕДЕНИЯ В ДЕЙСТВИЕ ЗАК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 ИСКЛЮЧЕНИЕМ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ПРЕДОСТАВЛЯЮТСЯ НА ОСНОВАНИИ МЕЖДУНАРОДНОГО ДОГОВОР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ТИФИЦИРОВАННОГО РЕСПУБЛИКОЙ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>
              <a:lnSpc>
                <a:spcPct val="116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9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СХО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Е С ПЕРЕДАЧЕЙ 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И ПРОВЕДЕНИИ НА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РКИ КЛИ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СУТ СУБЪЕКТЫ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5120" indent="212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Google Shape;381;p60"/>
          <p:cNvSpPr/>
          <p:nvPr/>
        </p:nvSpPr>
        <p:spPr>
          <a:xfrm>
            <a:off x="200160" y="184320"/>
            <a:ext cx="7410240" cy="113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ИТЬ В УПОЛНОМОЧЕННЫЙ ОРГАН ПО ЕГО ЗАПРОСУ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 ТЕЧЕНИЕ ТРЕХ РАБОЧИХ ДНЕЙ СО ДНЯ ПОЛУЧЕНИЯ СООТВЕТСТВУЮЩЕГО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9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ОБЯЗ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ТЬ МЕРЫ ПО ПРОТИВОДЕЙСТВИЮ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ВПРАВ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КАТЬ К РАБО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 ЧИСЛЕ НА ДОГОВОРНОЙ ОСНОВ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УЧНО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СЛЕДОВАТЕЛЬ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ДРУГИЕ ОРГАНИЗ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ТДЕЛЬНЫХ СПЕЦИАЛИСТОВ ДЛЯ ПРОВЕДЕНИЯ ЭКСПЕРТ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АБОТКИ ПРОГРАММ ОБУ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ТОДИЧЕСКИХ МАТЕРИАЛ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ГРАММНОГО И ИНФОРМАЦИОННОГО ОБЕСПЕЧЕ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ЗДАНИЯ ИНФОРМАЦИОННЫХ СИСТЕМ В СФЕРЕ ФИНАНСОВОГО МОНИТОРИНГА С СОБЛЮДЕНИЕМ ТРЕБОВАНИЙ ПО ЗАЩИТЕ ГОСУДАРСТВЕ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УЖЕБН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МЕРЧЕСКО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ОЙ И ИНОЙ ОХРАНЯЕМОЙ ЗАКОНОМ ТАЙ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ЕСПЕЧИТЬ СОБЛЮДЕНИЕ ПРАВ И ЗАКОННЫХ ИНТЕРЕСОВ ЧЕЛОВЕКА И ГРАЖДАНИН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ЮРИДИЧЕСКИХ ЛИЦ И ГОСУДАРСТВА В ПРОЦЕ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ЕНИЯ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НОСИТЬ РЕШЕНИЕ О ПРИОСТАНОВЛЕНИИ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В СЛУЧАЕ ОБНАРУЖЕНИЯ ПРИЗНАКОВ ПОДОЗРИТЕЛЬНОЙ ОПЕРАЦИИ НА СРОК ДО ТРЕХ РАБОЧИХ ДН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ПРА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ТО ОРГАНИЗУЕТ ФОРМИРОВАНИЕ И ВЕДЕНИЕ РЕСПУБЛИКАНСКОЙ БАЗЫ ДАННЫ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АКЖЕ ОБЕСПЕЧИВАЕТ МЕТОДОЛОГИЧЕСКОЕ ЕДИНСТВО И СОГЛАС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УНКЦИОНИРОВАНИЕ ИНФОРМАЦИОННЫХ СИСТЕМ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03040" indent="-88920" algn="just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19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ОЙ ОРГАН ПРЕДОСТАВЛЯЕТ В УСТАНОВЛЕННОМ ЗАКОНОДАТЕЛЬСТВОМ РЕСПУБЛИКИ КАЗАХСТАН ПОРЯДКЕ ПО ЗАПРОСАМ ПРАВООХРАНИТЕЛЬНЫХ И СПЕЦИАЛЬНЫХ ГОСУДАРСТВЕННЫХ ОРГАНОВ СВЕДЕНИЯ И ИНФОРМАЦИЮ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3040" indent="-79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Google Shape;386;p61"/>
          <p:cNvSpPr/>
          <p:nvPr/>
        </p:nvSpPr>
        <p:spPr>
          <a:xfrm>
            <a:off x="9360" y="318960"/>
            <a:ext cx="7538760" cy="10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НАЛИЧИИ ОСНОВАНИЙ ПОЛАГАТЬ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ДЕЯТЕЛЬНОСТЬ ФИЗИЧЕСКИХ И ЮРИДИЧЕСКИХ ЛИЦ СВЯЗАНА С ЛЕГАЛИЗАЦ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 ИНФОРМАЦИЮ В ПРАВООХРАНИТЕЛЬНЫЕ И СПЕЦИАЛЬНЫЕ ГОСУДАРСТВЕННЫЕ ОРГАНЫ В СООТВЕТСТВИИ С ИХ КОМПЕТЕНЦИЕ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ВУЕТ В УСТАНОВЛЕННОМ ПОРЯДКЕ В ДЕЯТЕЛЬНОСТИ МЕЖДУНАРОДНЫХ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ЪЕДИНЕНИЙ И ИНЫХ РАБОЧИХ ГРУПП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0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 ФИНАНСОВОГО МОНИТОРИНГА ОБЯЗАН ПРЕДОСТАВИТЬ 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НЕ ПОЗДНЕЕ РАБОЧЕГО ДНЯ СО ДНЯ ПОЛУЧЕНИЯ ЗАПРОС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ЗАПРОСУ УПОЛНОМОЧЕННОГО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ПРЕДОСТАВЛЯЮТСЯ АДВОКАТАМ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И СВЕДЕНИЯ И ИНФОРМАЦИЯ ПОЛУЧЕНЫ В СВЯЗИ С О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ЮРИДИЧЕСКОЙ ПОМОЩИ ПО ВОПРОСАМ ПРЕДСТАВИТЕЛЬСТВА И ЗАЩИТЫ ФИЗИЧЕСКИХ И ЮРИДИЧЕСКИХ ЛИЦ В ОРГАНАХ ДОЗН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ВАРИТЕЛЬНОГО СЛЕДСТВ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ДА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 ОКАЗАНИИ ИМИ ЮРИДИЧЕСКОЙ ПОМОЩИ В ВИДЕ КОНСУЛЬТАЦ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ЪЯСН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ТОВ И ПИСЬМЕННЫХ ЗАКЛЮЧЕНИЙ ПО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РЕШЕНИЕ КОТОРЫХ ТРЕБУЕТ ПРОФЕССИОНАЛЬНЫХ ЮРИДИЧЕСКИХ ЗНА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ЕНИЯ ИСКОВЫХ ЗАЯВЛЕНИЙ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ЖАЛОБ И ДРУГИХ ДОКУМЕНТОВ ПРАВОВ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6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ЧЕМ ОСНОВЫВАЕТСЯ ЗАКОН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СТИТУЦИЯ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 И ИНЫЕ НОРМАТИВНЫЕ ПРАВОВЫЕ 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93640" indent="-298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Google Shape;387;p61"/>
          <p:cNvSpPr/>
          <p:nvPr/>
        </p:nvSpPr>
        <p:spPr>
          <a:xfrm>
            <a:off x="57240" y="8985240"/>
            <a:ext cx="7443360" cy="16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0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МЕРЫ ОБЯЗАНЫ ОСУЩЕСТВЛЯТЬ СУБЪЕКТЫ ФИНАНСОВОГО МОНИТОРИНГ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ИНОСТРАННЫХ ПУБЛИЧНЫХ ДОЛЖНОСТ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Google Shape;392;p62"/>
          <p:cNvSpPr/>
          <p:nvPr/>
        </p:nvSpPr>
        <p:spPr>
          <a:xfrm>
            <a:off x="38160" y="336600"/>
            <a:ext cx="7500600" cy="12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65240" indent="-6080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8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ТЬ РАЗРЕШЕНИЕ РУКОВОДЯЩЕГО РАБОТНИКА ОРГАНИЗАЦИИ НА УСТАНОВЛ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ОЛЖЕНИЕ ДЕЛОВЫХ ОТНОШЕНИЙ С ТАКИМИ КЛИЕН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2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Ы ФИНАНСОВОГО МОНИТОРИНГА В ОТНОШЕНИИ ИНОСТРАННЫХ ПУБЛИЧНЫХ ДОЛЖНОСТНЫХ ЛИЦ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ЕДПРИНИМАТЬ ДОСТУПНЫЕ МЕРЫ ДЛЯ УСТАНОВЛЕНИЯ ИСТОЧНИКА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ОЦЕНКУ РЕПУТАЦИИ ДАННОГО ИНОСТРАННОГО ПУБЛИЧНОГО ДОЛЖНОСТНОГО ЛИЦА В 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ПРОВЕРКУ ПРИНАДЛЕЖНОСТ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ЧАСТНОСТИ КЛИЕНТА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МУ ПУБЛИЧНОМУ ДОЛЖНОСТНОМУ Л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ГО ЧЛЕНАМ СЕМЬИ И БЛИЗКИМ РОДСТВЕННИК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09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ДИН ИЗ МЕР В ОТНОШЕНИИ ИНОСТРАННЫХ ПУБЛИЧНЫХ ДОЛЖНОСТНЫХ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СУБЪЕКТЫ ФИНАНСОВОГО МОНИТОРИНГА ДОПОЛНИТЕЛЬНО ОБЯЗАН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ТЬ ОЦЕНКУ РЕПУТАЦИИ ИНОСТРАННОГО ПУБЛИЧНОГО ДОЛЖНОСТНОГО ЛИЦА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И ПРИЧАСТНОСТИ ЕГО К СЛУЧАЯМ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Я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1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2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ФИКСИРО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ХРАНЕНИЯ И ПРЕДОСТАВЛЕНИЯ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065240" indent="-6080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oogle Shape;397;p63"/>
          <p:cNvSpPr/>
          <p:nvPr/>
        </p:nvSpPr>
        <p:spPr>
          <a:xfrm>
            <a:off x="9360" y="336600"/>
            <a:ext cx="7535520" cy="11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13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Ю ТЕРРОРИЗМА В ЧАСТИ ПРИОСТАНОВЛЕНИЯ И ОТКАЗА ОТ ПРОВЕДЕНИЯ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ЕМ ОСУЩЕСТВЛЯЮТСЯ КОНТРОЛЬ ЗА ИСПОЛНЕНИЕМ СУБЪЕКТАМИ ФИНАНСОВОГО МОНИТОРИНГА ЗАКОНОДАТЕЛЬСТВА РЕСПУБЛИКИ КАЗАХСТАН О ПРОТИВОДЕЙСТВ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 В ЧАСТИ ЗАЩИТЫ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В ПРОЦЕССЕ СВОЕЙ ДЕЯ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МИ ГОСУДАРСТВЕННЫМИ ОРГАНАМИ В СООТВЕТСТВИИ С 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ПЕТЕНЦИЕЙ И В ПОРЯД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ЫЕ УСТАНОВЛЕНЫ ЗАКОНОДАТЕЛЬСТВОМ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13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ИЕ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КТОВ ОТКАЗА ФИЗИЧЕСКОМУ ЛИЦУ В УСТАНОВЛЕНИИ ДЕЛОВЫХ ОТНОШ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КРАЩЕНИЯ ДЕЛОВЫХ ОТНОШЕНИЙ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 В УПОЛНОМОЧЕННЫЙ ОРГ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ИЯ И РЕГЛАМЕНТЫ РАБОТЫ В АВТОМАТИЗИРОВАННЫХ ИНФОРМАЦИОННЫХ СИСТЕМАХ И ПРОГРАММНОМ ОБЕСПЕЧ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УЕМЫХ ДЛЯ ПЕРЕДАЧИ СВЕДЕ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 И ДОКУМЕНТОВ В 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23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Google Shape;402;p64"/>
          <p:cNvSpPr/>
          <p:nvPr/>
        </p:nvSpPr>
        <p:spPr>
          <a:xfrm>
            <a:off x="9360" y="336600"/>
            <a:ext cx="7535520" cy="14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Е СБОР И ОБРАБОТКУ ИНФОРМАЦИИ ОБ ОПЕРАЦИЯХ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19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АЦИЮ ДЕЯТЕЛЬНОСТИ ГОСУДАРСТВЕННЫХ ОРГАНОВ В СФЕРЕ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2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ВАРИАН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ПРОЦЕДУРЫ ВКЛЮЧАЕТ ПРОГРАММА ОРГАНИЗАЦИИ ВНУТРЕННЕГО КОНТРОЛЯ В ЦЕЛЯХ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ЧАСТИЕ В РАЗРАБОТКЕ И ОСУЩЕСТВЛЕНИИ ПРОГРАММ МЕЖДУНАРОДНОГО СОТРУДНИЧЕСТВА ПО ВОПРОСАМ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И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ФУНКЦИЯМ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222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ПРОВОДИТ МЕРОПРИЯТИЯ ПО ПРЕДУПРЕЖДЕНИЮ НАРУШЕНИЙ ЗАКОНОДАТЕЛЬСТВА РЕСПУБЛИКИ КАЗАХСТАН 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2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ОРДИНИРУЕТ РАБОТУ ПО РЕАЛИЗАЦИИ ОЦЕНКИ РИСКОВ В СФЕРЕ ПРОТИВОДЕЙСТВИЯ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МИТЕТ ПО ФИНАНСОВОМУ МОНИТОРИНГУ МИНИСТЕРСТВА ФИНАНСОВ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6560" indent="-29178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Google Shape;407;p65"/>
          <p:cNvSpPr/>
          <p:nvPr/>
        </p:nvSpPr>
        <p:spPr>
          <a:xfrm>
            <a:off x="30240" y="0"/>
            <a:ext cx="7525800" cy="10686600"/>
          </a:xfrm>
          <a:custGeom>
            <a:avLst/>
            <a:gdLst>
              <a:gd name="textAreaLeft" fmla="*/ 0 w 7525800"/>
              <a:gd name="textAreaRight" fmla="*/ 7526160 w 7525800"/>
              <a:gd name="textAreaTop" fmla="*/ 0 h 10686600"/>
              <a:gd name="textAreaBottom" fmla="*/ 10686960 h 10686600"/>
            </a:gdLst>
            <a:ahLst/>
            <a:rect l="textAreaLeft" t="textAreaTop" r="textAreaRight" b="textAreaBottom"/>
            <a:pathLst>
              <a:path w="7526020" h="10687685">
                <a:moveTo>
                  <a:pt x="0" y="10687681"/>
                </a:moveTo>
                <a:lnTo>
                  <a:pt x="7525512" y="10687681"/>
                </a:lnTo>
                <a:lnTo>
                  <a:pt x="7525512" y="0"/>
                </a:lnTo>
                <a:lnTo>
                  <a:pt x="0" y="0"/>
                </a:lnTo>
                <a:lnTo>
                  <a:pt x="0" y="10687681"/>
                </a:lnTo>
              </a:path>
            </a:pathLst>
          </a:custGeom>
          <a:solidFill>
            <a:srgbClr val="f0f0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408;p65"/>
          <p:cNvSpPr/>
          <p:nvPr/>
        </p:nvSpPr>
        <p:spPr>
          <a:xfrm>
            <a:off x="44280" y="328680"/>
            <a:ext cx="7462440" cy="129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…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ЗРАБАТЫВАЕТ И ВНОСИТ В ПРАВИТЕЛЬСТВО РЕСПУБЛИКИ КАЗАХСТАН НА УТВЕРЖДЕНИЕ ПРАВИЛА ПРОВЕДЕНИЯ ОЦЕНКИ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А ТАКЖЕ МЕР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ЕННЫЕ НА СНИЖЕНИЕ РИСКОВ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Т ПРАВИЛЬНОГО ОТ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КООРДИНИРУЕТ РАБОТУ ПО РЕАЛИЗАЦИИ ВНУТРЕННЮЮ ПОЛИТИКУ ГОСУДАРСТВЕННЫХ ОРГАН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ФЕРЕ ПРОТИВОДЕЙСТВИЯ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ОМ НЕ УСТАНОВЛЕ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20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ТУ ПО РЕАЛИЗАЦИИ ОЦЕНКИ РИСКОВ В СФЕРЕ ПРОТИВОДЕЙСТВИЯ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ОРДИНИР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ФУНКЦИИ ОСУЩЕСТВЛЯ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0760" indent="-193680" algn="ctr">
              <a:lnSpc>
                <a:spcPct val="114000"/>
              </a:lnSpc>
              <a:buClr>
                <a:srgbClr val="ff1515"/>
              </a:buClr>
              <a:buFont typeface="Trebuchet MS"/>
              <a:buAutoNum type="arabicPeriod" startAt="22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ОДИТ МЕРОПРИЯТИЯ ПО ПЕРЕПОДГОТОВКЕ И ПОВЫШЕНИЮ КВАЛИФИКАЦИИ КАДРОВ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ФЕРЕ ПРОТИВОДЕЙСТВИЯ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СУЩЕСТВЛЯЕТ СЛЕДУЮЩИЕ ФУНК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ЕТ ВЗАИМОДЕЙСТВИЕ С ПРАВООХРАНИТЕЛЬНЫМИ И СПЕЦИ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 ПО ПЕРЕДАННОЙ ИНФОРМАЦИИ В СООТВЕТСТВИИ СЗАКОНОМ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ЯЮТСЯ СУБЪЕКТАМИ ФИНАНСОВОГО МОНИТОРИНГА В УПОЛНОМОЧЕННЫЙ ОРГАН ПО ФИНАНСОВОМУ МОНИТОРИНГУ ПО ФОРМ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СОДЕРЖАТЬ СЛЕДУЮЩИЕ РАЗДЕЛЫ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06840" indent="-252720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7080" indent="1936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Google Shape;85;p12"/>
          <p:cNvSpPr/>
          <p:nvPr/>
        </p:nvSpPr>
        <p:spPr>
          <a:xfrm>
            <a:off x="82440" y="557280"/>
            <a:ext cx="738936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0040" indent="-1440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СХЕМ ПРИВЕДЕНЫ 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РИТЕРИ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Х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НА СЕГОДНЯШНИЙ ДЕНЬ СУЩЕСТВУЕТ 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ОСНОВНЫХ ВИДА ФИНАНСОВЫХ ПИРАМИД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НОГОУРОВНЕВ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СХЕМА ПОНЦИ В ФИНАНСОВЫХ ПИРАМИДАХ МАСКИРУЮЩАЯС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ff1515"/>
                </a:solidFill>
                <a:latin typeface="Lucida Sans"/>
                <a:ea typeface="Lucida Sans"/>
              </a:rPr>
              <a:t>МАТРИЧНАЯ ПИРАМИДА</a:t>
            </a:r>
            <a:r>
              <a:rPr b="0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НАЛОГОВ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144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oogle Shape;86;p12"/>
          <p:cNvSpPr/>
          <p:nvPr/>
        </p:nvSpPr>
        <p:spPr>
          <a:xfrm>
            <a:off x="-12600" y="469584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oogle Shape;87;p12"/>
          <p:cNvSpPr/>
          <p:nvPr/>
        </p:nvSpPr>
        <p:spPr>
          <a:xfrm>
            <a:off x="-12600" y="4695840"/>
            <a:ext cx="744012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70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ПРИВЛЕКАЛИСЬ К УГОЛОВНОЙ 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300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7000" indent="-8892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oogle Shape;88;p12"/>
          <p:cNvSpPr/>
          <p:nvPr/>
        </p:nvSpPr>
        <p:spPr>
          <a:xfrm>
            <a:off x="-12600" y="6237360"/>
            <a:ext cx="752436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oogle Shape;89;p12"/>
          <p:cNvSpPr/>
          <p:nvPr/>
        </p:nvSpPr>
        <p:spPr>
          <a:xfrm>
            <a:off x="-12600" y="6496200"/>
            <a:ext cx="12204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oogle Shape;90;p12"/>
          <p:cNvSpPr/>
          <p:nvPr/>
        </p:nvSpPr>
        <p:spPr>
          <a:xfrm>
            <a:off x="112680" y="6496200"/>
            <a:ext cx="73292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0796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О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6000"/>
              </a:lnSpc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1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ЫЕ СРЕДСТВА ПРОВОДЯТ НА 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4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Е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РЕКРАЩЕНЫ ДЕЛОВЫЕ ОТНОШЕНИИ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 indent="-88920">
              <a:lnSpc>
                <a:spcPct val="100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79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РАБОТКИ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oogle Shape;91;p12"/>
          <p:cNvSpPr/>
          <p:nvPr/>
        </p:nvSpPr>
        <p:spPr>
          <a:xfrm>
            <a:off x="-12600" y="9318600"/>
            <a:ext cx="74260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5240" indent="-152280">
              <a:lnSpc>
                <a:spcPct val="100000"/>
              </a:lnSpc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Ю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5240" indent="-152280">
              <a:lnSpc>
                <a:spcPct val="112000"/>
              </a:lnSpc>
              <a:spcBef>
                <a:spcPts val="99"/>
              </a:spcBef>
              <a:buClr>
                <a:srgbClr val="ff1515"/>
              </a:buClr>
              <a:buFont typeface="Trebuchet MS"/>
              <a:buAutoNum type="arabicPeriod" startAt="14"/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Е ПОДОЗРИТЕЛЬНЫХ ОПЕРАЦИИ ОПРЕДЕЛЕННЫХ ПРИКАЗОМ А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0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938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oogle Shape;92;p12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Google Shape;413;p66"/>
          <p:cNvSpPr/>
          <p:nvPr/>
        </p:nvSpPr>
        <p:spPr>
          <a:xfrm>
            <a:off x="20520" y="336600"/>
            <a:ext cx="7513200" cy="105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8200" indent="-8892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3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 ОПРЕДЕ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>
              <a:lnSpc>
                <a:spcPct val="114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И ОПРЕДЕЛЕНИЯ ПОДОЗРИТЕЛЬНОЙ ОПЕРАЦИИ ОПРЕДЕЛЯ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8920" algn="ctr">
              <a:lnSpc>
                <a:spcPct val="114000"/>
              </a:lnSpc>
              <a:buClr>
                <a:srgbClr val="ff1515"/>
              </a:buClr>
              <a:buFont typeface="Trebuchet MS"/>
              <a:buChar char="-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РЯДОК ПРЕДОСТАВЛЕНИЯ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ТВЕРЖДАЮ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8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C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КУМЕНТАЛЬНО ФИКСИРУЮТСЯ И ПРЕДОСТАВЛЯЮТСЯ В УПОЛНОМОЧЕННЫЙ ОРГАН ПО ФИНАНСОВОМУ МОНИТОРИНГУ СУ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ОГО МОНИТОРИНГ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.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ЗАХСКОМ ИЛИ РУССКОМ ЯЗЫК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 ПОСРЕДСТВОМ ВЫДЕЛЕННЫХ КАНАЛО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6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РОГОВ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Ё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 algn="just">
              <a:lnSpc>
                <a:spcPct val="116000"/>
              </a:lnSpc>
              <a:buClr>
                <a:srgbClr val="000000"/>
              </a:buClr>
              <a:buFont typeface="Calibri"/>
              <a:buAutoNum type="arabicPeriod" startAt="23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ИНФОРМАЦИЯ О ПОДОЗРИТЕЛЬНОЙ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БЪЕКТАМИ ФИНАНСОВОГО МОНИТОРИНГА ПРЕДОСТАВЛЯЮТСЯ В СЛЕДУЮЩИЕ СРОК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 ЕЁ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88920">
              <a:lnSpc>
                <a:spcPct val="115000"/>
              </a:lnSpc>
              <a:buClr>
                <a:srgbClr val="000000"/>
              </a:buClr>
              <a:buFont typeface="Calibri"/>
              <a:buAutoNum type="arabicPeriod" startAt="23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ПРОДЛЕВАЕТСЯ СРОК ПРЕДОСТАВЛЕНИЯ СУБЪЕКТАМИ ФИНАНСОВОГО МОНИТОРИНГА В УПОЛНОМОЧЕННЫЙ ОРГАН ПО ФИНАНСОВОМУ МОНИТОРИНГУ ОТВЕТА НА ЗАПРОС ДОПОЛН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ДЛЯ ОБРАБОТКИ ЗАПРОС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ГО С АНАЛИЗОМ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БУЕТСЯ ПОЛУЧЕНИЕ СВЕДЕНИЙ И ИНФОРМАЦИИ О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А СИСТЕМЫ ДЕНЕЖНЫХ ПЕРЕВОДОВ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8200" indent="-856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ДВА РАБОЧИХ Д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Google Shape;418;p67"/>
          <p:cNvSpPr/>
          <p:nvPr/>
        </p:nvSpPr>
        <p:spPr>
          <a:xfrm>
            <a:off x="46080" y="322200"/>
            <a:ext cx="7480080" cy="11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8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39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0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2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ЛОВЫЕ ОТНОШ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ЛОВЫЕ ОТНОШ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Я С КЛИ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НИКАЮЩИЕ В ПРОЦЕС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ЕНИЯ СУБЪЕКТОМ ФИНАНСОВОГО МОНИТОРИНГА ПРОФЕСС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Google Shape;423;p68"/>
          <p:cNvSpPr/>
          <p:nvPr/>
        </p:nvSpPr>
        <p:spPr>
          <a:xfrm>
            <a:off x="25560" y="325440"/>
            <a:ext cx="7517880" cy="121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688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3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ЙТЕ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Е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Е ФИНАНСОВОМУ МОНИТОРИНГУ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КЛИЕНТА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ОТНОШЕНИИ КОТОРЫХ В СООТВЕТСТВИИ С ЗАКОНОМ РК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 ФИНАНСОВ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6880" indent="-88920" algn="ctr">
              <a:lnSpc>
                <a:spcPct val="114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.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ОПЕРАЦИЯ СДЕЛКА С НЕДВИЖИМЫМ ИМУЩЕСТВОМ ОТНОСЯТСЯ К ОПЕРАЦИИ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СУММА ОПЕРАЦИИ РАВНА ИЛИ ПРЕВЫШАЕ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ЛИБО РАВНА СУММ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ОСТРАННОЙ ВАЛЮТ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ВИВАЛЕНТНО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00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НГЕ ИЛИ ПРЕВЫШАЮЩЕЙ ЕЕ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 ПО СВОЕМУ ХАРАКТЕРУ ДАННАЯ ОПЕРАЦИЯ ОТНОСИТСЯ К СДЕЛКЕ С НЕДВИЖИМЫМ ИМУЩЕСТВО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ЗУЛЬТАТОМ СОВЕРШЕНИЯ КОТОРОЙ ЯВЛЯЕТСЯ ПЕРЕХОД ПРАВА СОБСТВЕННОСТИ НА ТАКОЕ ИМУЩ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ЯЕМАЯ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А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68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УПОЛНОМОЧЕННЫЙ ОРГАН ЭЛЕКТРОННЫМ СПОСОБОМ В ФОРМА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ФОРМАТ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XML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ЛЯЕМОЙ ЭЛЕКТРОННЫМ СПОСОБОМ СУБЪЕКТАМИ ФИНАНСОВОГО МОНИТОРИНГ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ПРАВИЛАМ ПОСРЕДСТВОМ СЕТЕЙ ТЕЛЕКОММУНИКАЦИЙ РЕСПУБЛИКАНСКОГО ГОСУДАРСТВЕННОГО ПРЕДПРИЯТИЯ НА ПРАВЕ ХОЗЯЙСТВЕННОГО ВЕДЕНИ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К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Google Shape;428;p69"/>
          <p:cNvSpPr/>
          <p:nvPr/>
        </p:nvSpPr>
        <p:spPr>
          <a:xfrm>
            <a:off x="55440" y="325440"/>
            <a:ext cx="74340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960" indent="-2232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ОСТАВЛЕНИЕ СУБЪЕКТАМИ ФИНАНСОВОГО МОНИТОРИНГА СВЕДЕНИЙ И ИНФОРМАЦИИ ПО ОПЕРАЦ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М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БЪЕКТЫ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 ДОКУМЕНТАЛЬНО ФИКСИРУЮТ И ПРЕДСТАВЛЯЮТ В УПОЛНОМОЧЕННЫЙ ОРГАН СВЕДЕНИЯ И ИНФОРМАЦИЮ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 ФОРМЕ СВЕДЕНИЙ И ИНФОРМАЦИИ ОБ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ПРИЛОЖЕНИЮ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 МИНИСТРА ФИНАНСОВ РЕСПУБЛИКИ КАЗАХСТАН ОТ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3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02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№ 938.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22320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Google Shape;429;p69"/>
          <p:cNvSpPr/>
          <p:nvPr/>
        </p:nvSpPr>
        <p:spPr>
          <a:xfrm>
            <a:off x="52560" y="3541680"/>
            <a:ext cx="7470360" cy="10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181320" indent="-3016080">
              <a:lnSpc>
                <a:spcPct val="113000"/>
              </a:lnSpc>
              <a:buClr>
                <a:srgbClr val="000000"/>
              </a:buClr>
              <a:buFont typeface="Trebuchet MS"/>
              <a:buAutoNum type="arabicPeriod" startAt="247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ПРИЗНАЮТСЯ ПОДОЗРИТЕЛЬНЫМ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ООТВЕТСТВИИ С ПРОГРАММАМИ РЕАЛИЗАЦИИ ПРАВИЛ ВНУТРЕННЕГО КОНТРОЛЯ СУБЪ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ОВОГО МОНИТОРИНГА ИЛИ В РЕЗУЛЬТАТЕ ИЗУЧЕНИЯ ОПЕРАЦИЙ ПО ОСНОВАНИЯ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КАЗАННЫМ В ПУНКТЕ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ТЬ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КОНА РЕСПУБЛИКИ КАЗАХСТАН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"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СУБЪЕКТА ФИНАНСОВОГО МОНИТОРИНГА ИМЕЮТСЯ ОСНОВАНИЯ ПОЛАГАТЬ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ТО ОПЕРАЦИИ КЛИЕНТА СВЯЗАНЫ С ЛЕГАЛИЗАЦИЕЙ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>
              <a:lnSpc>
                <a:spcPct val="112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КАКИХ ФАКТАХ СУБЪЕКТЫ ФИНАНСОВОГО МОНИТОРИНГА ПРЕДОСТАВЛЯЮТ СООБЩЕНИЯ В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ВСЕХ ПЕРЕЧИСЛЕННЫХ ФАКТА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ПРЕКРАЩЕНИЯ ДЕЛОВЫХ ОТНОШЕНИЙ С КЛИЕН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В ПРОВЕДЕНИИ ОПЕРАЦИИ С ДЕНЬГАМИ И 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ЫМ ИМУЩЕСТВ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 ФАКТАХ ОТКАЗА ФИЗИЧЕСКОМУ ИЛИ ЮРИДИЧЕСКОМУ ЛИЦУ В УСТАНОВЛЕНИИ ДЕЛОВ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1320" indent="-30160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НО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Google Shape;434;p70"/>
          <p:cNvSpPr/>
          <p:nvPr/>
        </p:nvSpPr>
        <p:spPr>
          <a:xfrm>
            <a:off x="6480" y="325440"/>
            <a:ext cx="7546680" cy="131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РИЗНАНИИ ОПЕРАЦИИ В КАЧЕСТВЕ ПОДОЗРИТЕЛЬНОЙ ДО ЕЕ ПРОВЕДЕНИЯ В КАКОЙ СРОК СУБЪЕКТ ФИНАНСОВОГО МОНИТОРИНГА ДОЛЖЕН СООБЩИТЬ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 О ТАК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МЕДЛИ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АМИ ФИНАНСОВОГО МОНИТОРИНГА ПРЕДОСТАВЛЯЮТСЯ В УПОЛНОМОЧЕННЫЙ ОРГАН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БЩЕНИЯ О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БЫЛИ ПРИЗНАНЫ ПОДОЗРИТЕЛЬНЫМИ ПОСЛЕ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УПОЛНОМОЧЕННЫМ ОРГАНОМ ПО ФИНАНСОВОМУ МОНИТОРИНГУ ПРИНИМАЕТСЯ РЕШЕНИЕ ПО СООБЩЕНИЮ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А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ПОЛУЧЕНИЯ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6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 КАКОЙ СРОК УПОЛНОМОЧЕННЫМ ОРГАНОМ ПО ФИНАНСОВОМУ МОНИТОРИНГУ МОЖЕТ БЫТЬ ПРИНЯТО РЕШЕНИЕ О ПРИОСТАНОВЛЕНИИ ПР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ООБЩЕНИЕ О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СТАВЛЕННОЕ СУБЪЕКТОМ ФИНАНСОВОГО МОНИТОРИНГ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ЗУЛЬТАТАМ АНАЛИЗ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НОГО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НО ОБОСНОВАННЫ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ТРЁХ 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54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НЕПОЛУЧЕНИЯ СУБЪЕКТОМ ФИНАНСОВОГО МОНИТОРИНГА В ТЕЧЕНИЕ КАКОГО СРОКА С МОМЕНТА СООБЩЕНИЯ ИНФОРМАЦИИ ПО РЕШЕНИЮ УПОЛНОМОЧЕННОГО ОРГАНА ПО ФИНАНСОВОМУ МОНИТОРИНГУ О ПРИОСТАНОВЛЕНИИ ПОДОЗРИТЕЛЬНОЙ ОПЕРАЦИИ ЛИБО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ТСУТСТВИИ НЕОБХОДИМОСТИ В ПРИОСТАНОВЛЕНИИ ТАКОЙ ОПЕРАЦИИ ОПЕРАЦИЯ ДОЛЖНА БЫТЬ ПРОВЕДЕНА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ДВАДЦАТИ ЧЕТЫРЕХ ЧАСОВ С МОМЕНТА СООБЩ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НЕ ИМЕЮТСЯ ИНЫЕ ОСНОВАНИ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Е ЗАКОНОДАТЕЛЬНЫМИ АКТАМ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ПЯТСТВУЮЩИЕ ПРОВЕДЕНИЮ ДАН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55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ИСТЕЧЕНИЯ КАКОГО СРОКА ПОДОЗРИТЕЛЬНАЯ ОПЕР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ОЙ УПОЛНОМОЧЕННЫМ ОРГАНОМ ПО ФИНАНСОВОМУ МОНИТОРИНГУ ПРИНЯТО РЕШЕНИЕ О ПРИОСТАНОВЛЕНИИ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ЛЖНА БЫТЬ ПРОВЕДЕНА ПРИ ОТСУТСТВИИ 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НОВАН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ДУСМОТРЕННЫХ ЗАКОНОДАТЕЛЬНЫМИ АКТАМИ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ЕПЯТСТВУЮЩИХ ПРОВЕДЕНИЮ ТАК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720" indent="-40176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СЛЕ ИСТЕЧЕНИЯ СРОКА ПРИОСТАНОВЛЕНИЯ ПОДОЗРИТЕЛЬНОЙ ОПЕРАЦИИ ПО РЕШЕНИЮ УПОЛНОМОЧЕННОГО ОРГАНА ПО ФИНАНСОВОМУ МОНИТОР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Google Shape;439;p71"/>
          <p:cNvSpPr/>
          <p:nvPr/>
        </p:nvSpPr>
        <p:spPr>
          <a:xfrm>
            <a:off x="33480" y="325440"/>
            <a:ext cx="7482960" cy="123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6000"/>
              </a:lnSpc>
              <a:buClr>
                <a:srgbClr val="000000"/>
              </a:buClr>
              <a:buFont typeface="Trebuchet MS"/>
              <a:buAutoNum type="arabicPeriod" startAt="256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СРОКА СУБЪЕКТ ФИНАНСОВОГО МОНИТОРИНГА ОБЯЗАН ПРЕДОСТАВИТЬ В УПОЛНОМОЧЕННЫЙ ОРГАН ПО ФИНАНСОВОМУ МОНИТОРИНГУ 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ГО ЗАПРОС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ОМУ С АНАЛИЗОМ ПОДОЗРИТЕЛЬНОЙ ИНФОРМ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ОБХОДИМЫЕ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ДОЛЖНЫ БЫТЬ ПРЕДСТАВЛЕНЫ СООБЩЕНИЯ О СОВЕРШЕННЫХ ОПЕРАЦИЯХ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Е НЕ БЫЛИ ПРИЗНАНЫ ПОДОЗРИТЕЛЬНЫМИ ДО ИХ ПРО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ДВАДЦАТИ ЧЕТЫРЕХ ЧАСОВ ПОСЛЕ ПРИЗНАНИЯ ОПЕРАЦИИ ПОДОЗРИТЕЛЬ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92040" indent="-249120">
              <a:lnSpc>
                <a:spcPct val="113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УБЪЕКТАМИ ФИНАНСОВОГО МОНИТОРИНГА ПРЕДОСТАВЛЯЮТСЯ СВЕДЕНИЯ И ИНФОРМАЦИЯ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А ПО КОТОРЫМ РАВНА ИЛИ ПРЕВЫШАЕТ ПОРОГОВОЕ ЗНАЧЕНИЕ ДЛЯ ДАННОГО ВИДА ОПЕРАЦИИ СОГЛАСНО ПУНКТ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4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КОНА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 ПРОТИВОДЕЙСТВИИ ЛЕГАЛИЗАЦ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ОХОД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РАБОЧЕГО ДНЯ</a:t>
            </a:r>
            <a:r>
              <a:rPr b="0" i="1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ЛЕДУЮЩЕГО ЗА ДНЕМ СОВЕР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60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НА КАКОЙ СРОК УПОЛНОМОЧЕННЫМ ОРГАНОМ ПО ФИНАНСОВОМУ МОНИТОРИНГУ ВЫНОСИТСЯ РЕШЕНИЕ О ПРИОСТАНОВЛЕНИИ РАСХОДНЫХ ОПЕРАЦИЙ ПО БАНКОВСКИМ СЧ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ИЛИ ОПЕРАЦИЙ С ЭЛЕКТРОННЫМИ ДЕНЬГАМИ ЛИЦ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ВЛЯЮЩИХСЯ УЧАСТНИКАМИ ТА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 СЛУЧАЕ ПОЛУЧЕНИЯ ОТ ПРАВООХРАНИТЕЛЬНЫХ И СПЕЦИАЛЬНЫХ ГОСУДАРСТВЕННЫХ ОРГАНОВ РЕСПУБЛИКИ КАЗАХСТАН РЕШЕНИЯ О НЕОБХОДИМОСТИ ПРИОСТАНОВЛЕНИЯ ПОДОЗРИТЕЛЬНОЙ ОПЕРАЦИИ</a:t>
            </a:r>
            <a:r>
              <a:rPr b="0" i="1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СРОК ДО ПЯТНАДЦАТИ КАЛЕНДАРНЫ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61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ОЙ СРОК С МОМЕНТА ПОЛУЧЕНИЯ СООТВЕТСТВУЮЩЕГО ЗАПРОСА БАНКОВ И ОРГАНИЗ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УЩЕСТВЛЯЮЩИХ ОТДЕЛЬНЫЕ ВИДЫ БАНКОВСКИ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 algn="ctr">
              <a:lnSpc>
                <a:spcPct val="113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ТОРЫ СИСТЕМ ДЕНЕЖНЫХ ПЕРЕВОДОВ ОБЯЗАНЫ ПРЕДОСТАВИТЬ НЕОБХОДИМЫЕ ИНФОРМАЦИЮ И СВЕДЕ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2920" indent="24912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 ТЕЧЕНИЕ ДВУХ РАБОЧИХ ДНЕЙ СО ДНЯ ПОЛУЧЕНИЯ СООТВЕТСТВУЮЩЕГО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Google Shape;444;p72"/>
          <p:cNvSpPr/>
          <p:nvPr/>
        </p:nvSpPr>
        <p:spPr>
          <a:xfrm>
            <a:off x="-12600" y="103320"/>
            <a:ext cx="7562520" cy="11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01"/>
              </a:spcBef>
              <a:tabLst>
                <a:tab algn="l" pos="0"/>
              </a:tabLst>
            </a:pPr>
            <a:r>
              <a:rPr b="0" i="1" lang="en-US" sz="21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21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21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КТЯБРЯ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ТРЕБОВАНИЙ К СУБЪЕКТАМ ФИНАНСОВОГО МОНИТОРИНГА ПО ПОДГОТОВКЕ И ОБУЧЕНИЮ В СФЕРЕ ПРОТИВОДЕЙСТВИЯ ЛЕГАЛИЗАЦИИ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ГО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ИКАЗ ПРЕДСЕДАТЕЛЯ АГЕНТСТВА ФИНАНСОВОГО МОНИТОРИНГА РК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9.08.2021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РЕБОВАНИЯ К СУБЪЕКТАМ ФИНАНСОВОГО МОНИТОРИНГА ПО ПОДГОТОВКЕ И ОБУЧЕНИЮ В СФЕРЕ ПРОТИВОДЕЙСТВИЯ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СОГЛАСОВАНИЮ С ГОСУДАРСТВЕННЫМИ ОРГАНАМИ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 ГОСУДАРСТВЕННЫЙ КОНТРОЛЬ ЗА СОБЛЮДЕНИЯМИ СУБЪЕКТАМИ ФИНАНСОВОГО МОНИТОРИНГА ЗАОНОДАТЕЛЬСТВА РК О ПОД Ф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2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ЦЕЛЬЮ ПОДГОТОВКИ И ОБУЧЕНИЯ СУБЪЕКТОВ ФИНАНСОВОГО МОНИТОРИНГА ЯВЛЯЕТСЯ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ИЕ СУБЪЕКТАМИ ФИНАНСОВОГО МОНИТОРИНГА ЗНАНИЙ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В СООТВЕТСТВИИ С ТРЕБОВАНИЯМИ 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 ФИНАНСОВОГО МОНИТОРИНГА ПО ПОДГОТОВКЕ И ОБУЧЕНИЮ В СФЕРЕ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ЫХ ИМ ДЛЯ СОБЛЮДЕНИЯ 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Google Shape;445;p72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oogle Shape;450;p73"/>
          <p:cNvSpPr/>
          <p:nvPr/>
        </p:nvSpPr>
        <p:spPr>
          <a:xfrm>
            <a:off x="9360" y="576360"/>
            <a:ext cx="7542000" cy="11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РАЗРАБАТЫВАЕТСЯ ПРОГРАММА ПОДГОТОВКИ И ОБУЧЕНИЯ В СФЕ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2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2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УБЪЕКТАМИ ФИНАНСОВОГО МОНИТОРИНГА С УЧЕТОМ ТРЕБОВА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ЗАКОНОДАТЕЛЬСТВА РЕСПУБЛИКИ КАЗАХСТАН О ПРОТИВОДЕЙСТВИИ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ОСОБЕННОСТЕЙ ДЕЯТЕЛЬНОСТИ СУБЪЕКТОВ ФИНАНСОВОГО МОНИТОРИНГА И ИХ КЛИ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ДНА ИЗ ПРОГРАММ ПОДГОТОВКИ И ОБУЧЕНИЯ В СФЕРЕ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ЗУЧЕНИЕ ТИПОЛОГИЙ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СХЕМ И СПОСОБОВ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А ТАКЖЕ ПРИЗНАКОВ ОПРЕДЕЛЕНИЯ ПОДОЗРИТЕЛЬНЫХ ОПЕРАЦ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4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В КАКИХ СЛУЧАЯХ В СООТВЕТСТВИИ С ТРЕБОВАНИЯМИ К СУБЪЕКТАМ ФИНАНСОВОГО МОНИТОРИНГА ПО ПОДГОТОВКЕ И ОБУЧЕНИЮ В СФЕР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 ПРОВОДИТСЯ ДОПОЛНИТЕЛЬНО ОБУЧЕНИЕ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И ИЗМЕНЕНИИ ДЕЙСТВУЮЩИХ И ВСТУПЛЕНИИ В СИЛУ НОВЫХ НОРМАТИВ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РАВОВЫХ АКТОВ РЕСПУБЛИКИ КАЗАХСТАН В ОБЛАСТИ ПРОТИВОДЕЙСТВИЯ ЛЕГ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ТЕРРОРИЗМА И УТВЕРЖДЕНИИ СУБЪЕКТОМ ФИНАНСОВОГО МОНИТОРИНГА НОВЫХ ИЛИ ИЗМЕНЕНИИ ДЕЙСТВУЮЩИХ ПРАВИЛ ВНУТРЕННЕГО КОНТРОЛЯ В ЦЕЛЯХ ПРОТИВОДЕЙСТВИЯ ЛЕГАЛИЗАЦИИ 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5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ПРОГРАММ ИХ ОСУЩЕСТВЛЕНИЯ</a:t>
            </a:r>
            <a:r>
              <a:rPr b="0" i="1" lang="en-US" sz="15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-954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ЕТСЯ ПЕРЕЧЕНЬ ОТВЕТСТВЕННЫХ ЛИЦ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ТОРЫЕ ПРОХОДЯТ ОБУЧЕНИЕ В ЦЕЛЯХ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 НАЧАЛА ОСУЩЕСТ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И ФУНКЦИЙ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СОБЛЮДЕНИЕМ ЗАКОНОДАТЕЛЬСТВА РЕСПУБЛИ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ЗАХСТАН О ПРОТИВОДЕЙСТВИЯ ЛЕГАЛИЗАЦИИ 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Ю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ХОДОВ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ЛУЧЕННЫХ ПРЕСТУПНЫМ ПУТЕМ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5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202020"/>
                </a:solidFill>
                <a:latin typeface="Lucida Sans"/>
                <a:ea typeface="Lucida Sans"/>
              </a:rPr>
              <a:t>И ФИНАНСИРОВАНИЮ ТЕРРОРИЗМА</a:t>
            </a:r>
            <a:r>
              <a:rPr b="0" lang="en-US" sz="15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5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ЕМ СФ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Google Shape;455;p74"/>
          <p:cNvSpPr/>
          <p:nvPr/>
        </p:nvSpPr>
        <p:spPr>
          <a:xfrm>
            <a:off x="19080" y="576360"/>
            <a:ext cx="75178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24080" indent="-476280">
              <a:lnSpc>
                <a:spcPct val="114000"/>
              </a:lnSpc>
              <a:buClr>
                <a:srgbClr val="202020"/>
              </a:buClr>
              <a:buFont typeface="Trebuchet MS"/>
              <a:buAutoNum type="arabicPeriod" startAt="7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УЧЕНИЕ СУБЪЕКТОВ ФИНАНСОВОГО МОНИТОРИНГА ПРОВОДЯ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СЛЕДУЮЩИМ ТРЕБОВАНИЯМ УСТАНОВЛЕННЫХ УПОЛНОМОЧЕН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ОМПО ФИНАНСИРОВАНИЮ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8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СТАНАВЛИВАЕТСЯ ПОРЯДОК УЧЕТА ПРОХОЖДЕНИЯ СОТРУДНИКАМИ СУБЪЕКТА ФИНАНСОВОГО МОНИТОРИНГА ПРОГРАММЫ ОБУЧЕНИ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АВЛИВАЕТСЯ СУБЪЕКТОМ ФИНАНСОВОГО МОНИТОРИНГА САМОСТОЯ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2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9.</a:t>
            </a:r>
            <a:r>
              <a:rPr b="0" lang="en-US" sz="13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ХОЖДЕНИЕ СУБЪЕКТОМ ФИНАНСОВОГО МОНИТОРИНГА ТЕСТИРОВАНИЯ ПОДТВЕРЖДАЕТСЯ ДОКУМЕНТ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ДАВАЕМЫЙ АКЦИОНЕРНЫМ ОБЩЕСТВО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ЦИОНАЛЬНЫЙ ЦЕНТР ПО УПРАВЛ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СОНАЛОМ ГОСУДАРСТВЕННОЙ СЛУЖБ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ФОРМАЦИЯ О ПРОХОЖДЕНИИ СУБЪЕКТОМ ФИНАНСОВОГО МОНИТОРИНГА ТЕСТИРОВАНИЯ РАЗМЕЩАЕТСЯ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ЛИЧНОМ КАБИНЕТЕ СУБЪЕКТА КОТОРЫЙ РАЗМЕЩЁН В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Е УПОЛНОМОЧ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24080" indent="-476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Google Shape;460;p75"/>
          <p:cNvSpPr/>
          <p:nvPr/>
        </p:nvSpPr>
        <p:spPr>
          <a:xfrm>
            <a:off x="122400" y="103320"/>
            <a:ext cx="73101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КА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15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6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ВЫПЛАТЫ СРЕДСТВ ФИЗИЧЕСКОМУ ЛИЦ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МУ В ПЕРЕЧЕНЬ ОРГАНИЗАЦИЙ И ЛИЦ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ЛЯ ОБЕСПЕЧЕНИЯ СВОЕЙ ЖИЗНЕДЕЯТЕЛЬНОСТ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РОФИЛЬНЫЕ БА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oogle Shape;461;p75"/>
          <p:cNvSpPr/>
          <p:nvPr/>
        </p:nvSpPr>
        <p:spPr>
          <a:xfrm>
            <a:off x="36360" y="3778200"/>
            <a:ext cx="7419600" cy="79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71280" algn="just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БЫЛ УТВЕРЖДЕН ПРИКАЗ МИНИСТРА ФИНАНСОВ РЕСПУБЛИКИ КАЗАХСТАН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Б УТВЕРЖДЕНИИ ПРАВИЛ ВЫПЛАТЫ СРЕДСТВ ФИЗИЧЕСКОМУ ЛИЦ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КЛЮЧЕННОМУ В ПЕРЕЧЕНЬ ОРГАНИЗАЦИЙ И ЛИЦ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ЛЯ ОБЕСПЕЧЕНИЯ СВОЕЙ ЖИЗНЕДЕЯ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•04.12.2015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 ЗАЯВЛЕНИЯ О ЧАСТИЧНОЙ ИЛИ ПОЛНОЙ ОТМЕНЕ ПРИМЕНЯЕМЫХ МЕР ПО ЗАМОРАЖИВАНИЮ ОПЕРАЦИЙ С ДЕНЬГАМИ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МУЩЕСТВО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 ДОКУМЕНТЫ ПРЕДОСТАВЛЯЕТ ФИЗИЧЕСКОЕ ЛИЦ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КЛЮЧЕННОЕ В ПЕРЕЧЕНЬ ОРГАНИЗАЦИЙ И ЛИЦ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ЫПЛАТЫ ДЕНЕГ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ОЛУЧЕННЫХ В ВИДЕ ТРУДОВОГО ОТПУСКА И ЗАРАБОТНОЙ ПЛАТЫ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ДЛЯ ЧЛЕНОВ СЕМЬИ НЕ ИМЕЮЩИХ САМОСТОЯТЕЛЬНЫХ ИСТОЧНИКОВ ДОХОДА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 ОТВЕТЫ 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1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ОКУМЕНТ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УДОСТОВЕРЯЮЩИЙ ЛИЧНОСТЬ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А ТАКЖЕ СВИДЕТЕЛЬСТВО О РОЖДЕНИИ ДЛЯ ИДЕНТИФИКАЦИИ РОДСТВ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2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РИГИНАЛ СВИДЕТЕЛЬСТВА О БРАКЕ ИЛИ СПРАВКА РЕГИСТРАЦИИ АКТА ГРАЖД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ОСТОЯНИЯ НА СУПРУГУ 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УПРУГА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71280">
              <a:lnSpc>
                <a:spcPct val="114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3)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ПРАВКА О РЕГИСТРАЦИИ В КАЧЕСТВЕ БЕЗРАБОТНОГО НА КАЖДОГО ТРУДОСПОСОБНОГО СОВЕРШЕННОЛЕТНЕГО ЧЛЕНА СЕМЬИ</a:t>
            </a: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oogle Shape;462;p75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Google Shape;97;p13"/>
          <p:cNvSpPr/>
          <p:nvPr/>
        </p:nvSpPr>
        <p:spPr>
          <a:xfrm>
            <a:off x="82440" y="557280"/>
            <a:ext cx="7454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777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«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»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УММУ ОСОБО КРУПНОГО РАЗМЕРА ДЛЯ СТАТЬ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245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7776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Google Shape;98;p13"/>
          <p:cNvSpPr/>
          <p:nvPr/>
        </p:nvSpPr>
        <p:spPr>
          <a:xfrm>
            <a:off x="115920" y="2868480"/>
            <a:ext cx="730368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697120" indent="-2409840">
              <a:lnSpc>
                <a:spcPct val="117000"/>
              </a:lnSpc>
              <a:buClr>
                <a:srgbClr val="000000"/>
              </a:buClr>
              <a:buFont typeface="Trebuchet MS"/>
              <a:buAutoNum type="arabicPeriod" startAt="11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rebuchet MS"/>
              <a:buAutoNum type="arabicPeriod" startAt="12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М СПОСОБОМ МОГУТ ПЕРЕДАВАТЬСЯ ДЕНЕЖНЫЕ СРЕДСТВА ТЕРРОРИСТАМ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РОЧНО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–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ЛИЧНЫМИ ЧЕРЕЗ ГРАЖДАН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ЫЕЗЖАЮЩИХ В ТУР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>
              <a:lnSpc>
                <a:spcPct val="121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УТЕМ ПЕРЕЧИСЛЕНИЯ НА ПЛАСТИКОВЫЕ БАНКОВСКИЕ КАРТЫ БОЕВ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97120" indent="-2409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ИСТЕМЫ ДЕНЕЖНЫХ ПЕРЕВ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Google Shape;99;p13"/>
          <p:cNvSpPr/>
          <p:nvPr/>
        </p:nvSpPr>
        <p:spPr>
          <a:xfrm>
            <a:off x="27000" y="5438880"/>
            <a:ext cx="7499160" cy="59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28640" indent="-16160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ВЕД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ПАВШЕГО ПОД ВЛИЯНИЯ ДЕСТРУКТИВНЫХ РЕЛИГИОЗНЫХ ТЕЧЕНИЙ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ЕРБОВК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”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ЯВЛЯЕ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ПРИВЫЧ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НОГО ВРЕМЕНИ УДЕЛЯЕТ ЧТЕНИЮ РЕЛИГИОЗНЫХ КНИГ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ЛИТВЕННЫХ ТЕК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ИНТЕРЕС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Н МЕНЬШЕ ИНТЕРЕСУЕТСЯ СЕМЕЙНЫМИ ДЕЛ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ОВИТСЯ РАВНОДУШНЫМ К ОБЩЕНИЮ С РОДНЫМИ И ДРУЗЬ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 РАБОТЕ И УЧЕБ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ОСЬ ПОВЕД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АДЕКВАТНО ИЛИ АГРЕССИВНО РЕАГИРУЕТ НА ПОВСЕДНЕВНЫЕ ПРИВЫЧКИ И ВЕЩ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МОЦИОНАЛЬНО ИЛИ АГРЕССИВНО РЕАГИРУЕТ НА СУЖДЕНИЯ И МНЕНИЯ ОКРУЖАЮЩИХ ПО ТЕОЛОГИЧЕСКИМ ВОПРОС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РАЕТСЯ В КАЧЕСТВЕ ИСТИН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ЕРНОЙ НАВЯЗАТЬ СВОЮ ТОЧКУ ЗР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СЯ ОБРАЗ ЖИЗН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СМОТРЯ НА Ч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ЩЕНИЕ С ДРУЗЬЯМИ И КОЛЛЕГАМИ ПО РАБОТЕ ОГРАНИЧЕ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ЯВИЛОСЬ МНОЖЕСТВО ТЕЛЕФОННЫХ ЗВОН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ИС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УВЕЛИЧЕНИЕ КОЛИЧЕСТВА ВСТРЕЧ В НЕДЕЛЮ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БРАН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ЕМИНАРОВ Т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ЗМОЖНЫ ПОЕЗДКИ ПО СТРАНЕ И ЗА ГРАНИЦ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ВЯЗАННЫЕ С РАБОТ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28640" indent="-16160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МЕНИЛИСЬ ДЕНЕЖНЫЕ ТР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ИСХОДИТ НЕОПРАВДАННОЕ УВЕЛИЧЕНИЕ ДЕНЕЖНЫХ ТРА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РМАННЫХ РАСХОД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 ДЕТ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oogle Shape;100;p13"/>
          <p:cNvSpPr/>
          <p:nvPr/>
        </p:nvSpPr>
        <p:spPr>
          <a:xfrm>
            <a:off x="0" y="0"/>
            <a:ext cx="1398240" cy="352080"/>
          </a:xfrm>
          <a:custGeom>
            <a:avLst/>
            <a:gdLst>
              <a:gd name="textAreaLeft" fmla="*/ 0 w 1398240"/>
              <a:gd name="textAreaRight" fmla="*/ 1398600 w 1398240"/>
              <a:gd name="textAreaTop" fmla="*/ 0 h 352080"/>
              <a:gd name="textAreaBottom" fmla="*/ 352440 h 352080"/>
            </a:gdLst>
            <a:ahLst/>
            <a:rect l="textAreaLeft" t="textAreaTop" r="textAreaRight" b="textAreaBottom"/>
            <a:pathLst>
              <a:path w="1398905" h="352425">
                <a:moveTo>
                  <a:pt x="615314" y="0"/>
                </a:moveTo>
                <a:lnTo>
                  <a:pt x="378464" y="0"/>
                </a:lnTo>
                <a:lnTo>
                  <a:pt x="0" y="352409"/>
                </a:lnTo>
                <a:lnTo>
                  <a:pt x="236850" y="352409"/>
                </a:lnTo>
                <a:lnTo>
                  <a:pt x="615314" y="0"/>
                </a:lnTo>
                <a:close/>
              </a:path>
              <a:path w="1398905" h="352425">
                <a:moveTo>
                  <a:pt x="1007114" y="0"/>
                </a:moveTo>
                <a:lnTo>
                  <a:pt x="770250" y="0"/>
                </a:lnTo>
                <a:lnTo>
                  <a:pt x="391799" y="352409"/>
                </a:lnTo>
                <a:lnTo>
                  <a:pt x="628649" y="352409"/>
                </a:lnTo>
                <a:lnTo>
                  <a:pt x="1007114" y="0"/>
                </a:lnTo>
                <a:close/>
              </a:path>
              <a:path w="1398905" h="352425">
                <a:moveTo>
                  <a:pt x="1398900" y="0"/>
                </a:moveTo>
                <a:lnTo>
                  <a:pt x="1162049" y="0"/>
                </a:lnTo>
                <a:lnTo>
                  <a:pt x="783585" y="352409"/>
                </a:lnTo>
                <a:lnTo>
                  <a:pt x="1020449" y="352409"/>
                </a:lnTo>
                <a:lnTo>
                  <a:pt x="1398900" y="0"/>
                </a:lnTo>
                <a:close/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Google Shape;467;p76"/>
          <p:cNvSpPr/>
          <p:nvPr/>
        </p:nvSpPr>
        <p:spPr>
          <a:xfrm>
            <a:off x="-19080" y="154080"/>
            <a:ext cx="7578360" cy="12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 indent="-88920" algn="just">
              <a:lnSpc>
                <a:spcPct val="118000"/>
              </a:lnSpc>
              <a:buClr>
                <a:srgbClr val="000000"/>
              </a:buClr>
              <a:buFont typeface="Trebuchet MS"/>
              <a:buAutoNum type="arabicPeriod" startAt="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СО ДНЯ ПОЛУЧЕНИЯ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ПРАВЛЯЕТЕ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ЕСПУБЛИКИ КАЗАХСТАН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1000"/>
              </a:lnSpc>
              <a:buClr>
                <a:srgbClr val="202020"/>
              </a:buClr>
              <a:buFont typeface="Trebuchet MS"/>
              <a:buAutoNum type="arabicPeriod" startAt="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ПОЛНОМОЧЕННЫЙ ОРГАН ПО ФИНАНСОВОМУ МОНИТОРИНГУ ПРИНИМАЕТРЕШЕНИЕО ПРОВЕДЕНИИОПЕРАЦИИЛИБООТКАЗ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ЕЧЕНИЕДВАДЦАТИЧЕТЫРЕХ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ГО ИНФОРМИРУЕТ 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ПОЛУЧЕНИИОТМИНИСТЕРСТВАИНОСТРАННЫХДЕЛРЕСПУБЛИКИКАЗАХСТАНРЕШ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МИТЕТА СОВЕТА БЕЗОПАСНОСТИ ОРГАНИЗАЦИИ ОБЪЕДИНЕННЫХ НАЦИЙ ОБ УДОВЛЕТВОРЕНИИ ЗАЯВЛЕНИЯ О ЧАСТИЧНОЙ ИЛИ ПОЛНОЙ ОТМЕНЕ ПРИМЕНЯЕМЫХ 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ЗИЧЕСК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ОГО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ТЕРРОРИЗМАИ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ТАКЖЕСООТВЕТСТВУЮЩИЙСУБЪЕКТ 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7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КАКИЕОПЕРАЦИИС ДЕНЬГАМИИЛИИНЫМИМУЩЕСТВОМСУБЪЕКТФИНАНСОВОГО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РИНИМАЕТСАМОСТОЯТЕЛЬНО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СЕОТВЕТЫВЕР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ЕН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ТИПЕН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 О ЧАСТИЧНОЙ ИЛИПОЛНОЙ ОТМЕНЕ ПРИМЕНЯЕМЫХМЕР ПО ЗАМОРАЖИВАНИЮ ОПЕРАЦИЙ С ДЕНЬГАМИ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В ТЕЧЕНИ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3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ТРЕХ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АБОЧИХДНЕЙНАПРАВЛЯЕТ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ИНИСТЕРСТВОИНОСТРАННЫХДЕЛ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000" indent="-88920">
              <a:lnSpc>
                <a:spcPct val="122000"/>
              </a:lnSpc>
              <a:buClr>
                <a:srgbClr val="00000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ДОКУМЕНТЫ ПРЕДОСТАВЛЯЕТ ФИЗИЧЕСКОЕ ЛИЦ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Е В ПЕРЕЧЕНЬ 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 ОБРАЩЕНИЯХ В УПОЛНОМОЧЕННЫЙ ОРГАН ПО ФИНАНСОВОМУ МОНИТОРИНГУ С ЗАЯВЛЕНИЕМ О ЧАСТИЧНОЙИЛИ ПОЛНОЙОТМЕНЕПРИМЕНЯЕМЫХМЕР ПО ЗАМОРАЖИВАНИЮОПЕРАЦИЙ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ЕНЬГАМ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КОПИЯ 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ЛИЧНОСТЬФИЗИЧЕСКОГОЛИЦ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КЛЮЧЕННОГО В ПЕРЕЧЕНЬ ОРГАНИЗАЦИЙ И ЛИЦ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 КОПИЯДОКУМЕНТА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УДОСТОВЕРЯЮЩЕГОНАЛИЧИЕБАНКОВСКОГОСЧ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000" indent="-12600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РЕКВИЗИТ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СПОЛЬЗУЕМОГОДЛЯСНЯТИЯДЕНЕ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Google Shape;472;p77"/>
          <p:cNvSpPr/>
          <p:nvPr/>
        </p:nvSpPr>
        <p:spPr>
          <a:xfrm>
            <a:off x="63360" y="144360"/>
            <a:ext cx="7437240" cy="71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52560" indent="-2682720">
              <a:lnSpc>
                <a:spcPct val="125000"/>
              </a:lnSpc>
              <a:buClr>
                <a:srgbClr val="000000"/>
              </a:buClr>
              <a:buFont typeface="Trebuchet MS"/>
              <a:buAutoNum type="arabicPeriod" startAt="1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ИНИСТЕРСТВОИНОСТРАННЫХДЕЛР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ЯВЛЕНИЕО ЧАСТИЧНОЙИЛИПОЛНОЙОТМЕНЕ 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НАПРАВЛЯЕТВ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ЙКОМИТЕТСОВЕТБЕЗОПАСНОСТИОРГАНИЗАЦИИОБЪЕДИНЕННЫХН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 startAt="11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ЛЕНЫСЕМЬИ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МЕСТНЫЕ ИЛИ ОДНОГО ИЗ СУПРУГОВ НЕСОВЕРШЕННОЛЕТНИЕ ДЕТ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ИСЛЕУСЫНОВЛЕННЫ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ИЛИПОДОПЕК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ПЕЧИТЕЛЬСТВ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ОДИТЕЛИИРОДИТЕЛИСУПРУГ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ПРУГ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ХОДЯЩИЕСЯНАИЖДИВ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>
              <a:lnSpc>
                <a:spcPct val="124000"/>
              </a:lnSpc>
              <a:buClr>
                <a:srgbClr val="000000"/>
              </a:buClr>
              <a:buFont typeface="Trebuchet MS"/>
              <a:buAutoNum type="arabicPeriod" startAt="10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 КАКОГО 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 В ПЕРЕЧ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19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ЛУЧЕНИИ ОТ МИНИСТЕРСТВА ИНОСТРАННЫХ ДЕЛ РЕСПУБЛИКИ КАЗАХСТАН РЕШЕНИЯ КОМИТЕТА СОВЕТА БЕЗОПАСНОСТИ ОРГАНИЗАЦИИ ОБЪЕДИНЕННЫХ НАЦИЙ ОБ ОТКАЗЕ В УДОВЛЕТВОРЕНИИЗАЯВЛЕНИЯО ЧАСТИЧНОЙИЛИ ПОЛНОЙОТМЕНЕПРИМЕНЯЕМЫХМЕР ПО ЗАМОРАЖИВАНИЮОПЕРАЦИЙС ДЕНЬГАМИ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52560" indent="-26827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Google Shape;473;p77"/>
          <p:cNvSpPr/>
          <p:nvPr/>
        </p:nvSpPr>
        <p:spPr>
          <a:xfrm>
            <a:off x="-12600" y="4253040"/>
            <a:ext cx="18072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Google Shape;474;p77"/>
          <p:cNvSpPr/>
          <p:nvPr/>
        </p:nvSpPr>
        <p:spPr>
          <a:xfrm>
            <a:off x="1346040" y="4253040"/>
            <a:ext cx="505440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ЯВЛЯЕТСЯОСНОВАНИЕМДЛЯОТКАЗАВ ПОЛУЧЕНИИ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ВТОРНОЕПОЛУЧЕНИЕДЕНЕГВТЕЧЕНИЕКАЛЕНДАРНОГОМЕСЯ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Google Shape;475;p77"/>
          <p:cNvSpPr/>
          <p:nvPr/>
        </p:nvSpPr>
        <p:spPr>
          <a:xfrm>
            <a:off x="0" y="5022720"/>
            <a:ext cx="7516440" cy="70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 indent="-22320">
              <a:lnSpc>
                <a:spcPct val="100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ЭКСТРЕМИЗМАЭТО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ПИСОК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АВЛЯЕМЫЙИРАЗМЕЩАЕМЫЙУПОЛНОМОЧЕННЫМОРГАНОМНАИНТЕРН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СУРСЕКОМИТЕТАПО ФИНАНСОВОМУМОНИТОРИНГУМИНИСТЕРСТВАФИНАНСОВРЕСПУБЛИКИКАЗАХ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0000"/>
              </a:lnSpc>
              <a:buClr>
                <a:srgbClr val="000000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ВЫПЛАТЫДЕНЕГ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МОЖНОПРОИЗВОДИТЬСУБЪЕКТАМФИНАНСОВОГОМОНИТОРИНГА ФИЗИЧЕСКОМУЛИЦ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МУВ ПЕРЕЧЕНЬ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СЛЕ ПОЛУЧЕНИЯ РЕШЕНИЯ УПОЛНОМОЧЕННОГООРГАНАПОФИНАНСОВОМУ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ВЫПЛАТЫДЕНЕГВВИДЕТРУДОВОГООТПУСКАИЛИЗАРАБОТНОЙ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22320">
              <a:lnSpc>
                <a:spcPct val="121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ТЕЧЕНИЕКАКОГОВРЕМЕН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ОРГАН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ФОРМИРУЕТ ФИЗИЧЕСКОГО ЛИЦ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ОГО В ПЕРЕЧ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РГАНИЗАЦИЙИ ЛИЦ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С ФИНАНСИРОВАНИЕМТЕРРОРИЗМАИ ЭКСТРЕМИЗМА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ОТВЕТСТВУЮЩИЙ СУБЪЕКТ ФИНАНСОВОГО МОНИТОРИНГА ПРИ ПОЛУЧЕНИИ ОТ МИНИСТЕРСТВА ИНОСТРАННЫХ ДЕЛ РЕСПУБЛИКИ КАЗАХСТАН РЕШЕНИЯ КОМИТЕТА СОВЕТА БЕЗОПАСНОСТИОРГАНИЗАЦИИОБЪЕДИНЕННЫХНАЦИЙОБ УДОВЛЕТВОРЕНИИЗАЯВЛЕНИЯО ЧАСТИЧНОЙИЛИПОЛНОЙОТМЕНЕПРИМЕНЯЕМЫХМЕР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ЗАМОРАЖИВАНИЮ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7800" indent="2232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О ДНЯ ЕГО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Google Shape;480;p78"/>
          <p:cNvSpPr/>
          <p:nvPr/>
        </p:nvSpPr>
        <p:spPr>
          <a:xfrm>
            <a:off x="538200" y="103320"/>
            <a:ext cx="6467040" cy="26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 ПО ВЗАИМНОЙ ОЦЕ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СНОВНАЯ ЦЕЛЬ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r>
              <a:rPr b="0" i="1" lang="en-US" sz="13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ЦЕНКА УРОВНЯ ЭФФЕКТИВНОСТИ НАЦИОНАЛЬНОЙ СИСТЕМ ПРОТИВО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 И ФИНАНСИР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РОСТРАНЕНИЯ ОРУЖИЯ МАССОВОГО УНИЧТ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Google Shape;481;p78"/>
          <p:cNvSpPr/>
          <p:nvPr/>
        </p:nvSpPr>
        <p:spPr>
          <a:xfrm>
            <a:off x="600120" y="2552760"/>
            <a:ext cx="64306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АЯ ОРГАНИЗАЦИЯ ПРОВОДИТ ВЗАИМНУЮ ОЦЕНК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 РАЗРАБОТКИ ФИНАНСОВЫХ МЕР ПО БОРЬБЕ С ОТМЫВАНИЕМ ДЕНЕГ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АТФ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Google Shape;482;p78"/>
          <p:cNvSpPr/>
          <p:nvPr/>
        </p:nvSpPr>
        <p:spPr>
          <a:xfrm>
            <a:off x="-12600" y="2773440"/>
            <a:ext cx="1141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Google Shape;483;p78"/>
          <p:cNvSpPr/>
          <p:nvPr/>
        </p:nvSpPr>
        <p:spPr>
          <a:xfrm>
            <a:off x="-12600" y="3306600"/>
            <a:ext cx="1108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Google Shape;484;p78"/>
          <p:cNvSpPr/>
          <p:nvPr/>
        </p:nvSpPr>
        <p:spPr>
          <a:xfrm>
            <a:off x="90360" y="3295800"/>
            <a:ext cx="7359120" cy="40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ЗАИМНУЮ ОЦЕНКУ РЕСПУБЛИКИ КАЗАХСТАН ПРОВОДИТ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ВРАЗИЙСКАЯ ГРУППА ПО ПРОТИВОДЕЙСТВИЮ ЛЕГАЛИЗАЦИИ ПРЕСТУПНЫХ ДОХОДОВ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15000"/>
              </a:lnSpc>
              <a:spcBef>
                <a:spcPts val="201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 ПРОВЕДЕНИИ ВЗАИМНОЙ ОЦЕНКИ РЕСПУБЛИКИ КАЗАХСТАН БУДУТ ПРИНИМАТЬ УЧАСТИ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АВООХРАНИТЕЛЬНЫЕ И СПЕЦИАЛЬНЫЕ ГОСУДАРСТВЕННЫЕ 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УБЪЕКТЫ ФИНАНСОВОГО МОНИТОРИНГА И НАДЗ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4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ОРГАН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АМОРЕГУЛИРУЕМЫЕ ОРГАНИЗАЦИИ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ОДРАЗДЕЛЕНИЕ ФИНАНСОВОЙ РАЗВЕД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indent="-8892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Trebuchet MS"/>
              <a:buAutoNum type="arabicPeriod" startAt="4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 ИДЕНТИФИКАЦИОННЫМ ДАННЫМ СОГЛАСНО МЕТОДОЛОГИИ ОЦЕН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 algn="ctr">
              <a:lnSpc>
                <a:spcPct val="107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ХНИЧЕСКОГО СООТВЕТСТВИЯ РЕКОМЕНДАЦИЯМ ГРУППЫ РАЗРАБОТКИ ФИНАНСОВЫХ МЕР БОРЬБЫ С ОТМЫВАНИЕМ ДЕНЕГ ОТНОСЯ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35000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ОКУМЕНТЫ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ДАННЫЕ ИЛИ ИНФОРМАЦИЯ ИЗ НАДЕЖНОГО</a:t>
            </a:r>
            <a:r>
              <a:rPr b="0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НЕЗАВИСИМОГО ИСТОЧ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Google Shape;485;p78"/>
          <p:cNvSpPr/>
          <p:nvPr/>
        </p:nvSpPr>
        <p:spPr>
          <a:xfrm>
            <a:off x="101520" y="7008840"/>
            <a:ext cx="73353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4320" indent="-88920">
              <a:lnSpc>
                <a:spcPct val="114000"/>
              </a:lnSpc>
              <a:buClr>
                <a:srgbClr val="000000"/>
              </a:buClr>
              <a:buFont typeface="Trebuchet MS"/>
              <a:buAutoNum type="arabicPeriod" startAt="6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ФИНАНСОВЫЕ УЧРЕЖДЕНИЯ И УСТАНОВЛЕННЫЕ НЕФИНАНСОВЫЕ ПРОФЕССИИ И ПРЕДПРИЯТИЯ ОБЯЗАНЫ ПРИНИМАТЬ СООТВЕТСТВУЮЩИЕ МЕРЫ ПО ВЫЯВЛЕНИЮ И ОЦЕНКЕ СВОИХ РИСКОВ ОТМЫВАНИЯ ДЕНЕГ И ФИНАНСИРОВАНИЯ ТЕРРОРИЗМ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ТОРЫМ ОТНОСЯТС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ИРОВАНИЕ СВОИХ ОЦЕНОК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ЕНИЕ УРОВНЯ 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ИД СН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ИСК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ДЕРЖАНИЕ СВОИХ ОЦЕНОК В АКТУАЛЬНОМ СОСТОЯ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ТЬ МЕХАНИЗМЫ ДЛЯ ПРЕДОСТАВЛЕНИЯ ИНФОРМАЦИИ ОБ ОЦЕНКЕ РИСКОВ КОМПЕТЕНТНЫМ ОРГ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4320" indent="-88920">
              <a:lnSpc>
                <a:spcPct val="113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ВРАЗИЙСКАЯ ГРУППА ПО ПРОТИВОДЕЙСТВИЮ ОТМЫВАНИЯ ДЕНЕГ И ФИНАНСИРОВАНИЯ ТЕРРОРИЗМА ПРИЗНАЕТ РЕЗУЛЬТАТЫ ВЗАИМНЫХ ОЦЕНО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ОВЕДЕННЫ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ОЙ РАЗРАБОТКИ ФИНАНСОВЫХ МЕР БОРЬБЫ С ОТМЫВАНИЕМ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ИОНА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5400" indent="889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РУПП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ЖДУНАРОДНЫМ ВАЛЮТНЫМ ФОНД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СЕМИРНЫМ БА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Google Shape;486;p78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Google Shape;491;p79"/>
          <p:cNvSpPr/>
          <p:nvPr/>
        </p:nvSpPr>
        <p:spPr>
          <a:xfrm>
            <a:off x="15840" y="868320"/>
            <a:ext cx="75229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ЕЗУЛЬТАТЫ ВЗАИМНОЙ ОЦЕНКИ РЕСПУБЛИКИ КАЗАХСТАН УТВЕРЖДАЮТСЯ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indent="-8892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НАРНЫХ ЗАСЕДАНИЯХ ЕВРАЗИЙСКОЙ ГРУППЫ ПО ПРОТИВОДЕЙСТВИЮ ЛЕГ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НЫХ ДОХОДОВ И ФИНАНСИРОВАНИЮ ТЕРРОР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13000"/>
              </a:lnSpc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ИТОГАМ ОБСУЖДЕНИЯ И УТВЕРЖДЕНИЯ ОТЧЕТОВ О ВЗАИМНОЙ ОЦЕНКЕ ГОСУДАРСТВО МОЖЕТ ПОСТАВЛЕНО НА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ТАНДАРТНЫЙ МОНИТОРИН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ЕННЫЙ МОНИТОРИН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81160" indent="-1579680">
              <a:lnSpc>
                <a:spcPct val="100000"/>
              </a:lnSpc>
              <a:spcBef>
                <a:spcPts val="901"/>
              </a:spcBef>
              <a:buClr>
                <a:srgbClr val="202020"/>
              </a:buClr>
              <a:buFont typeface="Trebuchet MS"/>
              <a:buAutoNum type="arabicPeriod" startAt="9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ДАЧАМИ ОЦЕНКИ ЭФФЕКТИВНОСТИ ЯВЛЯЮТСЯ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ИЛИТЬ ОРИЕНТАЦИЮ ГРУППЫ РАЗРАБОТКИ ФИНАНСОВЫХ МЕР БОРЬБЫ С ОТМЫ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ЕНЕГ НА РЕЗУЛЬТАТ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ИТЬ СТЕПЕНЬ ДОСТИЖЕНИЯ НАЦИОНАЛЬНО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ТИВОДЕЙСТВИЯ ОТМЫВАНИЯ ДЕНЕГ И ФИНАНСИРОВАНИЯ ТЕРРОРИЗМА ЦЕЛЕЙ СТАНДАР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ОПРЕДЕЛИТЬ СЛАБЫЕ СТОРОНЫ СИСТ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ОСТАВИТЬ ВОЗМОЖНОСТЬ СТРА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012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РЕДЕЛЯТЬ ПРИОРИТЕТЫ МЕРОПРИЯТИЙ ПО СОВЕРШЕНСТВОВАНИЮ СВОЕЙ 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Google Shape;496;p80"/>
          <p:cNvSpPr/>
          <p:nvPr/>
        </p:nvSpPr>
        <p:spPr>
          <a:xfrm>
            <a:off x="4680" y="103320"/>
            <a:ext cx="754668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Trebuchet MS"/>
                <a:ea typeface="Trebuchet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7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К ПРИКАЗУ МИНИСТРА ФИНАНСОВ РЕСПУБЛИКИ КАЗАХСТАН 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СЕНТЯ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020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ОДА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№ 938«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Б УТВЕРЖДЕНИИ ПРАВИЛ ПРЕДСТАВЛЕНИЯ СУБЪЕКТАМИ ФИНАНСОВОГО МОНИТОРИНГА СВЕДЕНИЙ И ИНФОРМАЦИИ ОБ ОПЕРАЦИЯХ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ИХ ФИНАНСОВОМУ МОНИТОРИНГУ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И ПРИЗНАКОВ ОПРЕДЕЛЕНИЯ ПОДОЗРИТЕЛЬНОЙ ОПЕРАЦИИ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ДЕЙСТВУЕТ ПРИКАЗ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ОТ 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r>
              <a:rPr b="0" i="1" lang="en-US" sz="18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Google Shape;497;p80"/>
          <p:cNvSpPr/>
          <p:nvPr/>
        </p:nvSpPr>
        <p:spPr>
          <a:xfrm>
            <a:off x="19080" y="3879720"/>
            <a:ext cx="7502040" cy="86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54040" indent="-146160" algn="just">
              <a:lnSpc>
                <a:spcPct val="115000"/>
              </a:lnSpc>
              <a:buClr>
                <a:srgbClr val="202020"/>
              </a:buClr>
              <a:buFont typeface="Trebuchet MS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ПОСОБ НАПРАВЛЕНИЯ В УПОЛНОМОЧЕННЫЙ ОРГАН ПО ФИНАНСОВОМУ МОНИТОРИНГУ ИНФОРМАЦИИ ОБ ОПЕРАЦИЯХ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УБЪЕКТАМИ ФИНАНСОВОГО МОНИТОРИНГА СУБЪЕКТАМ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ЛЕКТРОННЫМ СПОСОБ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РЕДСТВОМ СЕТЕЙ ТЕЛЕКОММУНИКАЦИЙ РЕСПУБЛИКАНСК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П НА ПХ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СКИЙ ЦЕНТР МЕЖБАНКОВСКИХ РАСЧЕТОВ НАЦИОНАЛЬНОГО БАНКА РЕСПУБЛИКИ 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ЕБ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ТАЛА УПОЛНОМОЧЕННОГО ОРГАН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НАРУШЕНИЯ СРОКОВ ПРЕДОСТАВЛЕНИЯ ИНФОРМАЦИИ ПО ПРИЧИНЕ ВОЗНИКНОВЕНИЯ ТЕХНИЧЕСКИХ ОШИБОК В ПРОГРАММНОМ ОБЕСПЕЧЕНИИ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НАЛАХ СВЯЗ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ТВЕРЖДЕННЫХ УПОЛНОМОЧЕННЫМ ОРГАНОМ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Х СЛУЧАЯХ ИНФОРМАЦИЯ СЧИТАЕТСЯ НАПРАВЛЕННОЙ В УСТАНОВЛЕННЫЙ СРОК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ТАКАЯ ИНФОРМАЦИЯ БУДЕТ НАПРАВЛЕНА НЕ ПОЗДНЕЕ ОДНОГО РАБОЧЕГО ДНЯ ПОС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РАНЕНИЯ ТЕХНИЧЕСКИХ ОШИБ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54040" indent="-14616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УПОЛНОМОЧЕННЫЙ ОРГАН ПО ФИНАНСОВОМУ МОНИТОРИНГУ НАПРАВЛЯЕТ СУБЪЕКТУ ФИНАНСОВОГО МОНИТОРИНГА ИЗВЕЩЕНИЕ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НЯТИ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ЕПРИНЯТ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С МОМЕНТА ПОЛУ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ТЕЧЕНИЕ КАКОГО ВРЕМЕНИ СУБЪЕКТ ФИНАНСОВОГО МОНИТОРИНГА ПРИНИМАЕТ МЕРЫ ПО УСТРАНЕНИЮ ПРИЧИН ОТКАЗА В ПРИНЯТИИ ИНФОРМАЦ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КАЗАННЫХ В ИЗВЕЩЕНИ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НАПРАВЛЯЕТ В УПОЛНОМОЧЕННЫЙ ОРГАН ПО ФИНАНСОВОМУ МОНИТОРИНГУ ИСПРАВЛЕНН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ИНФОРМАЦИЮ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07880" indent="14616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ВАДЦАТИ ЧЕТЫРЕ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ВЫХОДНЫХ И ПРАЗДНИЧНЫХ ДН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Google Shape;498;p80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Google Shape;503;p81"/>
          <p:cNvSpPr/>
          <p:nvPr/>
        </p:nvSpPr>
        <p:spPr>
          <a:xfrm>
            <a:off x="9360" y="65160"/>
            <a:ext cx="7524360" cy="12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AutoNum type="arabicPeriod" startAt="5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ТЕЧЕНИЕ КАКОГО ВРЕМЕНИ СУБЪЕКТ ФИНАНСОВОГО МОНИТОРИНГА НАПРАВЛЯЕТ В УПОЛНОМОЧЕННЫЙ ОРГАН ПО ФИНАНСОВОМУ МОНИТОРИНГУ ИНФОРМАЦИЮ ВЗА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РАНЕЕ ПРЕДСТАВЛЕННОЙ И ПРИНЯТОЙ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НЕОБХОДИМОСТИ ВНЕСЕНИЯ ИЗМЕНЕНИЙ И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ОПОЛНЕНИЙ В НЕЕ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ПОЗД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ОГ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ЕГО ДНЯ С ДАТЫ ОБНАРУЖЕНИЯ ИНФОРМ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ЛЕЖА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МЕ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2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КАКИЕ СРОКИ НАПРАВЛЯЮТСЯ СУБЪЕКТАМИ ФИНАНСОВОГО МОНИТОРИНГА ДОПОЛНИТЕЛЬНО ЗАПРАШИВАЕМАЯ ИНФОРМАЦИЯ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Я И ДОКУМЕНТЫ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ПОЛНОМОЧЕННЫЙ ОРГАН ПО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ТЕЧЕНИЕ ТРЕХ РАБОЧИХ ДНЕЙ СО ДНЯ ПОЛУЧЕНИЯ ЗАПРО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7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 КАКОЙ МАКСИМАЛЬНЫЙ СРОК ПРОДЛЕВАЕТСЯ СРОК ПРЕДОСТАВЛЕНИЯ СУБЪЕКТАМИ ФИНАНСОВОГО МОНИТОРИНГА В УПОЛНОМОЧЕННЫЙ ОРГАН ОТВЕТА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ЗАПРОС ДОПОЛНИТЕЛЬНОЙ ИНФОРМ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ВЕДЕНИЙ И ДОКУМЕНТОВ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БОЛЕЕ ЧЕМ НА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ЧИХ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8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КОЛИЧЕСТВО РАЗДЕЛОВ 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4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ОЛИЧЕСТВО ОПЕРАЦИЙ И УЧАСТНИК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 КОТОРЫМ ФОРМА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ИТ ИНФОРМАЦИЮ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 ОПЕРАЦИЯ И НЕ БОЛЕЕ ДВУХ УЧАСТ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Trebuchet MS"/>
                <a:ea typeface="Trebuchet MS"/>
              </a:rPr>
              <a:t>10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ИД ДОКУМЕНТ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 ИНИЦИАТИВНОГО ВНЕСЕНИЯ СУБЪЕКТОМ ФИНАНСОВОГО МОНИТОРИНГА ИЗМЕН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 ДОПОЛНЕНИЙ В РАНЕЕ ПРЕДСТАВЛЕННУЮ И ПРИНЯТУЮ УПОЛНОМОЧЕННЫМ ОРГАНОМ ПО ФИНАНСОВОМУ МОНИТОРИНГУ ФОРМУ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ПРОС ЗАМЕНЫ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СТОЯНИЕ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 ФИНАНСОВОГО МОНИТОРИНГА НАПРАВЛЯЕТ СООБЩЕНИЕ О ПРИЗНА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И В КАЧЕСТВЕ ПОДОЗРИТЕЛЬНОЙ В УПОЛНОМОЧЕННЫЙ ОРГАН ПО ФИНАНСОВОМУ МОНИТОРИНГУ ДО ЕЕ ПРОВЕДЕНИ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00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РИНЯТИЯ РЕШ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732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2440" indent="-6984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НЫЕ КАКОГО ЛИЦА УКАЗЫВАЮ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.7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ВЕТСТВЕННЫЙ РАБОТНИК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73240" indent="-93600">
              <a:lnSpc>
                <a:spcPct val="114000"/>
              </a:lnSpc>
              <a:buClr>
                <a:srgbClr val="ff1515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ННЫЕ КОНТАКТНОГО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ГО ЗА СОБЛЮДЕНИЕ ПРАВИЛ ВНУТРЕНН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ТРО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13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ОЙ НОМЕР УКАЗЫВАЕТСЯ В РЕКВИЗИТЕ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.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ОМЕР ОПЕРАЦИИ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ОРМЫ ФМ</a:t>
            </a:r>
            <a:r>
              <a:rPr b="0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ОМЕР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РЕГИСТРИРОВАННЫЙ ВО ВНУТРЕННЕМ РЕЕСТРЕ СУБЪЕКТА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600" indent="69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Google Shape;508;p82"/>
          <p:cNvSpPr/>
          <p:nvPr/>
        </p:nvSpPr>
        <p:spPr>
          <a:xfrm>
            <a:off x="169920" y="438120"/>
            <a:ext cx="7202160" cy="70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2240" indent="-106200">
              <a:lnSpc>
                <a:spcPct val="119000"/>
              </a:lnSpc>
              <a:buClr>
                <a:srgbClr val="202020"/>
              </a:buClr>
              <a:buFont typeface="Calibri"/>
              <a:buAutoNum type="arabicPeriod" startAt="14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ВИД ДОКУМЕНТ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ЫЙ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 ПРИНЯТИЯ СУБЪЕКТОМ ФИНАНСОВОГО МОНИТОРИНГА МЕР ПО УСТРАНЕНИЮ УКАЗАННЫХ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ЗВЕЩЕНИИ ПРИЧИН НЕПРИНЯТИЯ СООБЩЕНИЯ УПОЛНОМОЧЕННЫМ ОРГАНОМ ПО ФИНАНСОВОМУ МОНИТОРИНГУ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РЕКТИРОВКА НЕПРИНЯТОГО СООБ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20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АЗОВИТЕ СОСТОЯНИЕ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ЕСЛИ СУБЪЕКТОМ ФИНАНСОВОГО МОНИТОРИНГА БЫЛО ПРИНЯТО РЕШЕНИЕ ОБ ОТКАЗЕ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ОВЕДЕНИИ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СОВЕРШЕН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АЗ В ПРОВЕД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just">
              <a:lnSpc>
                <a:spcPct val="118000"/>
              </a:lnSpc>
              <a:buClr>
                <a:srgbClr val="202020"/>
              </a:buClr>
              <a:buFont typeface="Calibri"/>
              <a:buAutoNum type="arabicPeriod" startAt="15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ОСНОВАНИЕ ДЛЯ ПОДАЧИ СООБЩЕ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ЗЫВАЕМОЕ В ФОРМЕ Ф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1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СЛУЧА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ЕСЛИ ОПЕРАЦИЯ КЛИЕНТА ПРИЗНАНА В КАЧЕСТВЕ ПОДОЗРИТЕЛЬНОЙ В СООТВЕТСТВИИ С ПРИЗНАКАМИ ОПРЕДЕЛЕНИЯ ПОДОЗРИТЕЛЬНОЙ ОПЕ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ДОЗРИТЕЛЬНАЯ ОПЕР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buClr>
                <a:srgbClr val="202020"/>
              </a:buClr>
              <a:buFont typeface="Trebuchet MS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СЛУЧАЕ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ЕСЛИ УЧАСТНИК ОПЕРАЦИИ ЮРИДИЧЕСКОЕ ЛИЦО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АННЫЕ ПО КАКИМ УЧРЕДИТЕЛЯМ УЧАСТНИКА УКАЗЫВАЮТСЯ В РЕКВИЗИТЕ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4.9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"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УЧРЕДИТЕЛИ УЧАСТНИКА 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ЮРИДИЧЕСКИХ ЛИЦ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)"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ФОРМЫ ФМ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-1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27080" indent="-936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Trebuchet MS"/>
              <a:buAutoNum type="arabicPeriod" startAt="15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ДОЛЕЙ УЧАСТИЯ НЕ МЕНЕ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ЦЕН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8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УСТАНОВЛЕННУЮ ФОРМУ СВЕДЕНИЙ И ИНФОРМАЦИИ ОБ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ЕЙ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2240" indent="-106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1*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Й ОТВЕТ ПРАВИЛЬНЫЙ У НИХ Ф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oogle Shape;509;p82"/>
          <p:cNvSpPr/>
          <p:nvPr/>
        </p:nvSpPr>
        <p:spPr>
          <a:xfrm>
            <a:off x="52560" y="6618240"/>
            <a:ext cx="7427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5160" indent="-52560">
              <a:lnSpc>
                <a:spcPct val="12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19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ДАТА ПРИНЯТИЯ ПРИКАЗА МИНИСТРА ФИНАНСОВ РЕСПУБЛИКИ КАЗАХСТАН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“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ЕДЕНИЙ И ИНФОРМАЦИИ 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0.09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160" indent="-52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ТА ПРИНЯТ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А 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22.02.22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510;p82"/>
          <p:cNvSpPr/>
          <p:nvPr/>
        </p:nvSpPr>
        <p:spPr>
          <a:xfrm>
            <a:off x="-12600" y="757080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Google Shape;511;p82"/>
          <p:cNvSpPr/>
          <p:nvPr/>
        </p:nvSpPr>
        <p:spPr>
          <a:xfrm>
            <a:off x="106200" y="8354880"/>
            <a:ext cx="7332480" cy="29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27160" indent="-1965240">
              <a:lnSpc>
                <a:spcPct val="113000"/>
              </a:lnSpc>
              <a:buClr>
                <a:srgbClr val="000000"/>
              </a:buClr>
              <a:buFont typeface="Calibri"/>
              <a:buAutoNum type="arabicPeriod" startAt="20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>
              <a:lnSpc>
                <a:spcPct val="114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1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27160" indent="-19652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ИЗ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БЕЖА ДЕНЕГ НА СЧЕТА НЕКОММЕРЧЕСКИХ ОРГАНИЗАЦИ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Google Shape;516;p83"/>
          <p:cNvSpPr/>
          <p:nvPr/>
        </p:nvSpPr>
        <p:spPr>
          <a:xfrm>
            <a:off x="-12600" y="399960"/>
            <a:ext cx="7563960" cy="13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8680" indent="-2412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23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ТИЧЕСКИЕ ПЕРЕВОДЫ КЛИЕНТОМ СОБСТВЕННЫХ СРЕДСТВ В КРУПНЫХ РАЗМЕРАХ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ОВСКИЙ СЧЕ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КРЫТЫЙ В ОФФШОРНОЙ ЗОН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AutoNum type="arabicPeriod" startAt="24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ВЕДЕНИЕ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ЛИЕНТОМ ПОД РУКОВОДСТВОМ ТРЕТЬЕГО ЛИЦА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СУТСТВУЮЩИХ ПРИ ОПЕР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202020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СТУПЛЕНИЕ НА СЧЕТ КЛИЕНТА КРУПНОЙ СУММЫ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ЭТОМ ПОЛУЧАТЕЛЬ ИМЕ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НАЧИТЕЛЬНЫЕ ОБОРОТЫ ПО ОПЕРАЦИ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С ДАТЫ ЕГО ГОСУДАРСТВЕННОЙ РЕГИСТРАЦИИ ПРОШЛО БОЛЕЕ ГОД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ИЗНАКОМ ПОДОЗРИТЕЛЬНОСТИ ОПЕРАЦИИ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27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В КАКОМ СЛУЧАЕ ПЕРЕЧИСЛЕНИЕ ДИВИДЕНДОВ ИЛИ ПРИБЫЛИ ПОДПАДАЕТ ПОД ПРИЗНА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ОДОЗРИТЕЛЬНОСТИ</a:t>
            </a: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42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СЛУЧАЕ СИСТЕМАТИЧЕСКОГО ПЕРЕЧИСЛЕНИЯ СО СЧЕТОВ ЮРИДИЧЕСКИХ ЛИЦ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ИНДИВИДУАЛЬНЫХ ПРЕДПРИНИМАТЕЛЕЙ В ПОЛЬЗУ ФИЗИЧЕСКИХ ЛИЦ ДЕНЕГ В КРУП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ЗМЕРЕ В КАЧЕСТВЕ ДИВИДЕНДОВ ИЛИ ПРИБЫЛ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6000"/>
              </a:lnSpc>
              <a:spcBef>
                <a:spcPts val="2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ЕНИЕ ОПЕРАЦИЙ С ДЕНЬГАМИ И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Л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НЫМ ИМУЩЕСТВОМ С КАКИМИ СТРАНАМИ ОТНОСИТСЯ 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 СТРАНАМИ С ВЫСОКИМ РИСКОМ ФИНАНСИРОВАНИЯ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buClr>
                <a:srgbClr val="00000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ДЕНЬГАМИ И ИНЫМ ИМУЩЕСТВОМ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 ОТНОСЯТСЯ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 ПРИЗНАКАМ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С КУПЛЕ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АЖЕЙ СРЕДСТВ СВЯЗ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ДУКТОВ ДЛИ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ХРАНЕНИ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ЭТО НЕ ОТНОСИТСЯ К ДЕЯТЕЛЬНОСТИ КЛИ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ИЕ ОПЕРАЦИИ С УЧАСТИЕМ НЕКОММЕРЧЕСКИХ ОРГАНИЗАЦИЙ НЕ ПОДПАДАЮТ ПОД ПРИЗНАКИ ПОДОЗРИТЕЛЬНОСТ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ЕРАЦИИ ПО РАСХОДОВАНИЮ ДЕНЕЖНЫХ СРЕДСТВ НЕКОММЕРЧЕСКИМИ ОРГАНИЗАЦИЯ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ОТВЕТСТВУЮЩИЕ ЦЕЛЯ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ОТРЕННЫМ ИХ УСТАВНЫМ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Ь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8680" indent="-24120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КУМЕНТ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Google Shape;521;p84"/>
          <p:cNvSpPr/>
          <p:nvPr/>
        </p:nvSpPr>
        <p:spPr>
          <a:xfrm>
            <a:off x="-7920" y="439560"/>
            <a:ext cx="7551360" cy="126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AutoNum type="arabicPeriod" startAt="30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ПАДАЮЩАЯ ПОД ПРИЗНАК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 УКАЗАНИИ РЕЗИДЕНТОМ ПО ЭКСПОРТ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ПОРТНОМУ КОНТРАКТУ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РОКА РЕПАТРИА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ЕГ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360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НЕ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ИСКЛЮЧЕНИЕМ КОНТРА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ДУСМАТРИВАЮЩИХ ОКАЗАНИЕ УСЛУГ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ВЫПОЛНЕНИЕ СТРОИТЕ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ОНТАЖНЫХ РАБОТ НА ТЕРРИТОРИИ 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ЗАХСТАН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spcBef>
                <a:spcPts val="9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РИЗНАКОМ ПОДОЗРИТЕЛЬНОСТИ ОПЕРАЦИИ НЕ ЯВЛЯЕТС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ЕГУЛЯРНЫЕ ПЕРЕВОДЫ ДЕНЕГ С ТЕКУЩЕГО СЧЕТА КЛИЕНТА НА ЕГО СЧЕТ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ЧЕ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ДРУГ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3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АНК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Х БАНК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СЛЕДУЮЩИМИ ОБРАТНЫМИ ПЕРЕВОДАМИ ДЕНЕГ В ОДИНАКОВЫХ 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ОХОЖИХ ПО ЗНАЧЕНИЮ СУММ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ОПЕРАЦИЮ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ДЕРЖАЩУЮ ПРИЗНАКИ 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 В ПОЛЬЗУ НЕРЕЗИДЕНТА РЕСПУБЛИКИ КАЗАХСТАН ПО ДОГОВОРУ НА ИМПОРТ 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ГЛАСНО КОТОРОГО ФАКТИЧЕСКОЕ ПОСТУПЛЕНИЕ ИЛИ ПЕРЕМЕЩЕНИЕ ТОВАРА ПО ТЕРРИТОРИИ РЕСПУБЛИКИ КАЗАХСТАН НЕ ПРОИЗВОДИ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Trebuchet MS"/>
                <a:ea typeface="Trebuchet MS"/>
              </a:rPr>
              <a:t>33.</a:t>
            </a:r>
            <a:r>
              <a:rPr b="0" i="1" lang="en-US" sz="1400" spc="-1" strike="noStrike">
                <a:solidFill>
                  <a:srgbClr val="202020"/>
                </a:solidFill>
                <a:latin typeface="Arial"/>
                <a:ea typeface="Arial"/>
              </a:rPr>
              <a:t>ПРИЗНАКОМ ПОДОЗРИТЕЛЬНОСТИ ОПЕРАЦИИ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 ЯВЛЯ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3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ЛАТЕЖИ И ПЕРЕВОДЫ ДЕНЕГ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МПОРТ ТОВАРО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ЛУ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ПОЛЬЗУ НЕРЕЗИДЕН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ЯВЛЯЮЩЕГОСЯ СТОРОНОЙ ПО ДОГОВОРУ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ГОВОР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4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ПЕРАЦИЯ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ДЕРЖАЩАЯ ПРИЗНАКИ ПОДОЗРИ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АСТОЕ ПОСТУПЛЕНИЕ В ПОЛЬЗУ КЛИЕНТА ПЛАТЕЖЕЙ ПО ТРАНСПОРТНЫМ УСЛУГАМ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СПОЛЬЗОВАНИЕМ ЭЛЕКТРОННЫХ ДЕНЕГ ОТ НЕ ИДЕНТИФИЦИРОВАННЫХ ВЛАДЕЛЬЦЕВ ЭЛЕКТРОННЫХ ДЕНЕГ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6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chemeClr val="dk1"/>
                </a:solidFill>
                <a:latin typeface="Calibri"/>
                <a:ea typeface="Calibri"/>
              </a:rPr>
              <a:t>35.</a:t>
            </a:r>
            <a:r>
              <a:rPr b="0" lang="en-US" sz="13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КАЯ ИЗ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ОВЕРШАЕМЫХ ЛИЦОМ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ВКЛЮЧЕННЫМ В ПЕРЕЧЕНЬ ОРГАНИЗАЦИЙ И ЛИЦ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ВЯЗАННЫХ С ФИНАНСИРОВАНИЕМ ТЕРРОРИЗМА И ЭКСТРЕМИЗМА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НЕ ОПРЕДЕЛЯЕТСЯ КАК ПОДОЗРИТЕЛЬНАЯ СОГЛАСНО ПРИЗНАКАМ ОПРЕДЕЛЕНИЯ ПОДОЗРИТЕЛЬН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ВЕРШЕНИЕ ОПЕРАЦИЙ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ДЕЛК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 ИНДИВИДУАЛЬНЫХ ПЕНСИОННЫХ СЧЕТАХ ПО УЧЕТ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5360" indent="-24300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ЯЗАТЕЛЬНЫХ ПЕНСИОННЫХ ВЗНОСОВ И ОБЯЗАТЕЛЬНЫХ ПРОФЕССИОНАЛЬНЫХ ПЕНСИОННЫХ ВЗНОСОВ ЛИЦ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КЛЮЧЕННЫМ В ПЕРЕЧЕНЬ ОРГАНИЗАЦИЙ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 ФИНАНСИРОВАНИЕМ ТЕРРОРИЗМА И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oogle Shape;526;p85"/>
          <p:cNvSpPr/>
          <p:nvPr/>
        </p:nvSpPr>
        <p:spPr>
          <a:xfrm>
            <a:off x="44280" y="446040"/>
            <a:ext cx="7470360" cy="31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20920" indent="-3014640">
              <a:lnSpc>
                <a:spcPct val="112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3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РГАНОМ ОПРЕДЕЛЯЮТСЯ ПРИЗНАКИ ОПРЕДЕЛЕНИЯ ПОДОЗРИТЕЛЬНОЙ ОПЕРАЦ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ОЛНОМОЧЕННЫМ ОРГАНОМ ПО ФИНАНСОВОМУ МОНИТОРИНГУ ПО СОГЛАСОВАНИЮ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МИ ОРГАНА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УЩЕСТВЛЯЮЩИМИ В ПРЕДЕЛАХ СВОЕЙ КОМПЕТ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0920" indent="-301464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ЕННЫЙ КОНТРОЛЬ ЗА СОБЛЮДЕНИЕМ СУБЪЕКТАМИ ФИНАНСОВОГО МОНИТОРИНГА ЗАКОНОДАТЕЛЬСТВА РЕСПУБЛИКИ КАЗАХСТАН О ПРОТИВОДЕЙСТВИИ ЛЕГАЛИЗАЦИ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МЫВАН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ОХОД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ЕННЫХ ПРЕСТУПНЫМ ПУТ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ФИНАНСИРОВАНИЮ ТЕРРОР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Google Shape;527;p85"/>
          <p:cNvSpPr/>
          <p:nvPr/>
        </p:nvSpPr>
        <p:spPr>
          <a:xfrm>
            <a:off x="461880" y="2919240"/>
            <a:ext cx="6675120" cy="27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9400" indent="-1364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7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КОЛЬКО ДЕЙСТВУЮЩИХ В НАСТОЯЩЕЕ ВРЕМЯ ПРИЗНАКОВ ОПРЕДЕЛЕНИЯ ПОДОЗРИТЕЛЬНЫХ ОПЕРАЦИЙ СОГЛАСНО ПРИКАЗУ МИНИСТРА ФИНАН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РЕСПУБЛ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18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КАЗАХСТАН ОТ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3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СЕНТЯБРЯ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2020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ГОДА 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№ 938 "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УТВЕРЖДЕНИИ ПРАВИЛ ПРЕДСТАВЛЕНИЯ СУБЪЕКТАМИ ФИНАНСОВОГО МОНИТОРИНГА СВЕДЕНИЙ И 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Б ОПЕРАЦИЯХ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ПОДЛЕЖАЩИХ ФИНАНСОВОМУ МОНИТОРИНГУ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И ПРИЗНАКОВ ОПРЕДЕЛЕНИЯ ПОДОЗРИТЕЛЬНОЙ ОПЕРАЦИИ</a:t>
            </a:r>
            <a:r>
              <a:rPr b="0" lang="en-US" sz="1400" spc="-1" strike="noStrike">
                <a:solidFill>
                  <a:schemeClr val="dk1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400" indent="-1364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3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КАЗ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Google Shape;528;p85"/>
          <p:cNvSpPr/>
          <p:nvPr/>
        </p:nvSpPr>
        <p:spPr>
          <a:xfrm>
            <a:off x="-12600" y="4853160"/>
            <a:ext cx="8208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Google Shape;105;p14"/>
          <p:cNvSpPr/>
          <p:nvPr/>
        </p:nvSpPr>
        <p:spPr>
          <a:xfrm>
            <a:off x="25560" y="220680"/>
            <a:ext cx="7503840" cy="126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8560" indent="-88920">
              <a:lnSpc>
                <a:spcPct val="112000"/>
              </a:lnSpc>
              <a:buClr>
                <a:srgbClr val="000000"/>
              </a:buClr>
              <a:buFont typeface="Trebuchet MS"/>
              <a:buAutoNum type="arabicPeriod" startAt="14"/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ТИПИЧНЫМ ХАРАКТЕРИСТИКАМ ЭКСТРЕМИСТОВ И ТЕРРОРИСТОВ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УЖЧИНЫ В ВОЗРАСТ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16-35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ЫХ РЕЛИГИОЗНЫХ ТЕЧЕНИЙ ДЕСТРУКТИВНЫХ И РАДИКАЛЬНОЙ НАПРАВЛ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ЕРЖЕНЦЫ НЕТРАДИЦИОННОГО РЕЛИГИОЗНОГО ТЕЧЕН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Р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З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МОЗАНЯТЫЕ 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ЖИВАЮЩИЕ В РЕГИОНАХ СТРАНЫ С БОЛЬШИМ УРОВНЕМ БЕЗРАБОТИ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РАНЕЕ ПРИВЛЕКАВШИЙСЯ К УГОЛОВНОЙ ОТВЕТСТВЕННОСТИ ЗА СОВЕР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СТУПЛЕНИЙ ПРОТИВ ЛИЧНОСТИ И СОБСТВ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42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АКТИВНО ПОСЕЩАЮЩИЕ ЭКСТРЕМИСТСКИЕ САЙТЫ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СТАВЛЯЮТ КОММЕНТАР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ЛУЧАЮТ КОНСУЛЬТАЦИИ ИДЕОЛОГОВ И НОСИТЕЛЕЙ ЭКСТРЕМИЗМ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ЩИЕСЯ БЛИЗКИМИ РОДСТВЕННИКАМИ ТЕРРОРИС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НИМ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НИМАВШИ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АСТИЕ В ЗОНАХ БОЕВЫХ КОНФЛИКТ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ПРИНИМАВШИХ ПОПЫТКИ ВЫЕЗДА В ЗОНЫ КОНФЛИК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ОСТОЯЩИМИ В ПЕРЕЧНЕ ОРГАНИЗАЦИИ И ЛИЦ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Х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ФИНАНСИРОВАНИЕМ ТЕРРОРИЗМА И ЭКСТРЕМ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БОЛЬШИНСТВ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 ИМЕЮЩИЕ ВЫСШЕ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АЛОГРАМОТНЫЕ В РЕЛИГИОЗНЫХ ТЕЧЕНИЯ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КЛОННЫЕ К РАДИКАЛЬНЫМ ВЗГЛЯ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ПИРАЮЩИЕСЯ НА ЗНАНИЯ ТОЛЬКО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ЗБРАННЫХ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ЕЙХОВ И ПРОПОВЕДН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indent="-88920">
              <a:lnSpc>
                <a:spcPct val="112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КРЫТИЕ СЧЕТА У СФ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ЫТАЕТСЯ ДАТЬ КАК МОЖНО МЕНЬШЕ ИНФОРМАЦИИ О СЕБ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ЕДСТАВЛЕННАЯ ИНФОРМАЦИЯ ЯВЛЯЕТСЯ ЛОЖНОЙ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ЛИБО ТРУДНО ПРОВЕРЯЕ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19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ДРЕС ЮРИДИЧЕСКОГО ЛИЦА ИЛИ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КРЫВШЕЙ СЧЕТ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ОВПАДАЕТ С АДРЕСАМИ ДРУГИХ ОРГАНИЗАЦИ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ДЛЯ КОТОРЫ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ДИН ТОТ ЖЕ ЧЕЛОВЕК ИМЕЕТ ПРАВО ПОДПИСИ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ВОИМИ ДЕЙСТВИЯМИ ВЫЗЫВАЕТ ПОДОЗРИТЕЛЬНОСТЬ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КРЫ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РИ ОТСУТСТВИИ СТАБИЛЬНОГО ЗАРАБОТКА ИМЕЕТ ИНОСТРАННЫЕ ВАЛЮТЫ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РЕДКО ИСПОЛЬЗУЕМЫЕ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ТЕРРИТОРИИ  Р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КЛИЕНТ ПРОСИТ ПРОВЕСТИ ОПЕРАЦИЮ БЫСТРО БЕЗ ОБЪЯСНЕНИЯ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ИСТЕМ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МНОГОЧИСЛЕННЫЕ СЕРИИ ЗАПУТАННЫХ ОП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ОДНОКРАТНЫЕ ПЕРЕВОДЫ НЕБОЛЬШИХ СУ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НЕВОЗМОЖНОСТЬ УСТАНОВИТЬ ИСТОЧНИК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ВКЛАДЫ ИЛИ СНЯТИЕ СУММ НЕМНОГО НИЖЕ ПОРОГА ИДЕНТ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ПОСТОЯННЫЕ ПОЖЕРТВОВАНИЯ НА БЛАГОТВОР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 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СРЕДСТВ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ЛЕННЫЕ ИЛИ ПОЛУЧЕННЫЕ ИЗ СТРАН С ВЫСОКИМ УРОВНЕМ ТЕРРОРИС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АКТИВ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>
              <a:lnSpc>
                <a:spcPct val="150000"/>
              </a:lnSpc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ТПРАВИТЕЛИ ИЛИ ПОЛУЧАТЕЛИ ЯВЛЯЮТСЯ ГРАЖДАНАМИ СТРАН ЛИБО НАХОДЯТСЯ В СТРАНЕ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ГДЕ АКТИВНО ДЕЙСТВУЮТ ТЕРРОРИСТЫ ИЛИ ГРУППЫ ПОДДЕРЖИВАЮЩИЕ ИХ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285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-</a:t>
            </a:r>
            <a:r>
              <a:rPr b="0" i="1" lang="en-US" sz="12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ff1515"/>
                </a:solidFill>
                <a:latin typeface="Arial"/>
                <a:ea typeface="Arial"/>
              </a:rPr>
              <a:t>ОБМЕН ИНОСТРАННОЙ ВАЛЮТЫ СРАЗУ ПОСЛЕ ПЕРЕВОДА ИХ СТРАН С ВЫСОКИМ УРОВНЕМ РИСКА</a:t>
            </a:r>
            <a:r>
              <a:rPr b="0" i="1" lang="en-US" sz="12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Google Shape;533;p86"/>
          <p:cNvSpPr/>
          <p:nvPr/>
        </p:nvSpPr>
        <p:spPr>
          <a:xfrm>
            <a:off x="1266840" y="103320"/>
            <a:ext cx="4973400" cy="17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ГОТОВКАКАТТЕСТА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202020"/>
                </a:solidFill>
                <a:latin typeface="Lucida Sans"/>
                <a:ea typeface="Lucida Sans"/>
              </a:rPr>
              <a:t>БЛОК</a:t>
            </a:r>
            <a:r>
              <a:rPr b="0" lang="en-US" sz="1600" spc="-1" strike="noStrike">
                <a:solidFill>
                  <a:srgbClr val="202020"/>
                </a:solidFill>
                <a:latin typeface="Calibri"/>
                <a:ea typeface="Calibri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3000"/>
              </a:lnSpc>
              <a:spcBef>
                <a:spcPts val="99"/>
              </a:spcBef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1515"/>
                </a:solidFill>
                <a:latin typeface="Arial"/>
                <a:ea typeface="Arial"/>
              </a:rPr>
              <a:t>ПО ТИПОЛОГИЯМ, СХЕМАМ И СПОСОБАМ ОДФТ (МОГУТ БЫТЬ, МОГУТ НЕ БЫ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oogle Shape;534;p86"/>
          <p:cNvSpPr/>
          <p:nvPr/>
        </p:nvSpPr>
        <p:spPr>
          <a:xfrm>
            <a:off x="-12600" y="2252520"/>
            <a:ext cx="7554600" cy="76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2240" indent="-809640">
              <a:lnSpc>
                <a:spcPct val="100000"/>
              </a:lnSpc>
              <a:buClr>
                <a:srgbClr val="202020"/>
              </a:buClr>
              <a:buFont typeface="Calibri"/>
              <a:buAutoNum type="arabicPeriod"/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ЕМ УТВЕРЖДАЮТСЯ ТИПОЛОГИ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И СПОСОБЫ ЛЕГАЛИЗАЦИ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МЫ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РЕСТУПНЫХ ДОХОДОВ И ФИНАНСИРОВАНИЯ ТЕРРОРИЗМ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А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799"/>
              </a:spcBef>
              <a:buClr>
                <a:srgbClr val="20202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АКИМ ОБРАЗОМ ТИПОЛОГИИ ДОВОДЯТСЯ ДО СУБЪЕКТОВ ФИНАНСОВ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МОНИТОР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РЕЗ ЛИЧНЫЙ КАБИ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ЙТ А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buClr>
                <a:srgbClr val="20202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ЙТЕ ОПРЕДЕЛЕ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Е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ОГЛАСНО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ИНАНСОВЫЕ 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РИ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4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ДОЗРИТЕЛЬНОСТИ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ХЕМЫ ФУНКЦИОН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ПРЕДЕЛЕНИЕ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ИСТЕМА ОБЕСПЕЧЕНИЯ ДОХОДА ОСНОВАТЕЛЮ И ЧЛЕНА СТРУК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ФУНКЦИЯ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ЛЯ ПОЛУЧЕНИЯ ДОХОДА ПЕРВОНАЧАЛЬНЫМ ВКЛАДЧИКАМ НЕТ НУЖДЫ ПРИВЛЕКАТЬ НОВИЧ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ОПРОХОДЦЫ ПОЛУЧАЮТ ДОХОД ЗА СЧЁТ СОБСТВЕННЫ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РГАНИЗАТОРА ЭТОЙ СХЕ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ВЛЕЧЕНИЕ НОВЫХ ВКЛАДЧИКОВ ОСНОВЫВАЕТСЯ НА РАСПРОСТРАНЕНИИ ИНФОРМАЦИИ ОБ УЛЬТРА СОВРЕМЕННОЙ СУПЕРДОХОДНОЙ ИНВЕСТИЦИОННОЙ РАЗРАБОТКЕ ОРГАНИЗАТОР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ТОРАЯ ПОДКРЕПЛЯЕТСЯ СЛОВАМИ ВКЛАДЧИК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ЖЕ ПОЛУЧИВШИХ ПРИБЫЛ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Trebuchet MS"/>
                <a:ea typeface="Trebuchet MS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ДОЗРИТЕЛЬНОСТЬ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–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ИЙ ДОХ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4.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О КАКОЙ СТАТЬЕ УГОЛОВНОГО КОДЕКСА РЕСПУБЛИКИ КАЗАХСТАН ПРЕДУСМОТРЕНА ОТВЕТСТВЕННОСТЬ ЗА СОЗДАНИЕ ФИНАНСОВО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)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ПИРАМИДЫ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•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ТАТЬЯ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217.</a:t>
            </a:r>
            <a:r>
              <a:rPr b="0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ОЗДАНИЕ И РУКОВОДСТВО ФИНАНСОВОЙ 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(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ИНВЕСТИЦИОННОЙ</a:t>
            </a:r>
            <a:r>
              <a:rPr b="0" lang="en-US" sz="1400" spc="-1" strike="noStrike">
                <a:solidFill>
                  <a:srgbClr val="ff1515"/>
                </a:solidFill>
                <a:latin typeface="Calibri"/>
                <a:ea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22240" indent="-8096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ИРАМИД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oogle Shape;535;p86"/>
          <p:cNvSpPr/>
          <p:nvPr/>
        </p:nvSpPr>
        <p:spPr>
          <a:xfrm>
            <a:off x="0" y="0"/>
            <a:ext cx="1387080" cy="340920"/>
          </a:xfrm>
          <a:custGeom>
            <a:avLst/>
            <a:gdLst>
              <a:gd name="textAreaLeft" fmla="*/ 0 w 1387080"/>
              <a:gd name="textAreaRight" fmla="*/ 1387440 w 138708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1386840" h="340995">
                <a:moveTo>
                  <a:pt x="366189" y="0"/>
                </a:moveTo>
                <a:lnTo>
                  <a:pt x="0" y="340980"/>
                </a:lnTo>
                <a:lnTo>
                  <a:pt x="236850" y="340980"/>
                </a:lnTo>
                <a:lnTo>
                  <a:pt x="603040" y="0"/>
                </a:lnTo>
                <a:lnTo>
                  <a:pt x="366189" y="0"/>
                </a:lnTo>
              </a:path>
              <a:path w="1386840" h="340995">
                <a:moveTo>
                  <a:pt x="757976" y="0"/>
                </a:moveTo>
                <a:lnTo>
                  <a:pt x="391799" y="340980"/>
                </a:lnTo>
                <a:lnTo>
                  <a:pt x="628649" y="340980"/>
                </a:lnTo>
                <a:lnTo>
                  <a:pt x="994839" y="0"/>
                </a:lnTo>
                <a:lnTo>
                  <a:pt x="757976" y="0"/>
                </a:lnTo>
              </a:path>
              <a:path w="1386840" h="340995">
                <a:moveTo>
                  <a:pt x="1149775" y="0"/>
                </a:moveTo>
                <a:lnTo>
                  <a:pt x="783585" y="340980"/>
                </a:lnTo>
                <a:lnTo>
                  <a:pt x="1021079" y="340980"/>
                </a:lnTo>
                <a:lnTo>
                  <a:pt x="1386647" y="0"/>
                </a:lnTo>
                <a:lnTo>
                  <a:pt x="1149775" y="0"/>
                </a:lnTo>
              </a:path>
            </a:pathLst>
          </a:custGeom>
          <a:solidFill>
            <a:srgbClr val="2020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Google Shape;540;p87"/>
          <p:cNvSpPr/>
          <p:nvPr/>
        </p:nvSpPr>
        <p:spPr>
          <a:xfrm>
            <a:off x="-17640" y="555480"/>
            <a:ext cx="7508520" cy="9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КОЛЬКО ИНДИКАТОРОВ РИСКОВ ПРЕДУСМОТРЕНО ПО ПОДОЗРИТЕЛЬНОСТИ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 algn="ctr">
              <a:lnSpc>
                <a:spcPct val="107000"/>
              </a:lnSpc>
              <a:tabLst>
                <a:tab algn="l" pos="0"/>
              </a:tabLst>
            </a:pPr>
            <a:r>
              <a:rPr b="1" i="1" lang="en-US" sz="1300" spc="-1" strike="noStrike">
                <a:solidFill>
                  <a:srgbClr val="ff1515"/>
                </a:solidFill>
                <a:latin typeface="Arial"/>
                <a:ea typeface="Arial"/>
              </a:rPr>
              <a:t>•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15</a:t>
            </a:r>
            <a:r>
              <a:rPr b="1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НДИКАТОРОВ Р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ПЛАТА ПО НАЛОГАМ МИНИМАЛЬНА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11000"/>
              </a:lnSpc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ШТАТ КОМПАНИИ НЕ СООТВЕТСТВУЕТ ОСУЩЕСТВЛЯЕМОЙ ДЕЯТЕЛЬ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РАБОТНИКИ ОТСУТСТВУЮ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НЯТ С УЧЕТА ПО НДС В СВЯЗИ С ОТСУТСТВИЕМ ПО МЕСТУ НАХОЖД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202020"/>
              </a:buClr>
              <a:buFont typeface="Calibri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.</a:t>
            </a:r>
            <a:r>
              <a:rPr b="0" i="1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УКОВОДИТЕЛ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И КОМПАНИЙ ПРИВЛЕКАЛИСЬ К УГОЛОВ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13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ВЕТСТВЕННОСТ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К АДМИНИСТРАТИВНОЙ ОТВЕТСТВЕННОСТИ ЗА АСОЦИАЛЬНОЕ ПОВЕДЕНИ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СПИТИЕ СПИРТНЫХ НАПИТКОВ И ДР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ЮЩИЕ ПРИЗНАКИ ПОДСТАВНЫХ ЛИЦ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ОКАЯ ДОЛЯ ОБНАЛИЧИВАНИЯ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ЫШЕ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80%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 ВСЕХ БАНКОВСКИХ ОПЕРАЦ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ГРУППА КОМПАНИИ ВЗАИМОРАСЧЕТЫ КОТОРЫХ ВЫЗЫВАЮТ СОМНЕНИ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ВЯЗАННЫЕ КОМПАНИИ ЗАРЕГИСТРИРОВАНЫ НА ОДНИХ И ТЕХ ЖЕ ЮРИДИЧЕСКИХ АДРЕСАХ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ff1515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ЗА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 ЗАРЕГИСТРИРОВАНЫ НЕСКОЛЬКО ФИР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35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9.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СТАНОВЛЕНА ВЗАИМОСВЯЗЬ ПО КОНТРАГЕНТАМ МЕЖДУ ИХ РУКОВО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/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УЧРЕДИТЕЛЯ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БОТНИКАМ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И И ТЕ ЖЕ ФИЗИЧЕСКИЕ ЛИЦА СО СЧЕТОВ РАЗЛИЧНЫХ КОМПАНИИ ОБНАЛИЧИВАЮТ ДЕНЕЖНЫЕ СРЕДСТВА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 КОРОТКИЙ ПЕРИОД ВРЕМЕНИ ПОСТУПИВШИЕ ДЕНЕЖНЬ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L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 СРЕДСТВА ПЕРЕВОДЯТСЯ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РУГИЕ СЧЕТА ИЛИ ОБНАЛИЧИВАЮТСЯ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МЕЕТСЯ ИНФОРМАЦИЯ ОБ ОТКАЗЕ В УСТАНОВЛЕНИИ ДЕЛОВЫХ ОТНОШЕНИИ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БО П ПРЕКРАЩЕНЫ ДЕЛОВЫЕ ОТНОШЕНИЯ СФМ С КЛИЕНТО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ИОД РЕГИСТРАЦИИ ЮРИДИЧЕСКОГО ЛИЦА НЕ ПРЕВЫШАЕТ ОДНОГО ГОДА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БОЛЬ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200" indent="36180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БОРОТЫ ПО СЧЕТАМ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ТСУТСТВУЕТ ПРИХОД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(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ИОБРЕТЕНИЕ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)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ВАРОВ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1360" indent="-361800">
              <a:lnSpc>
                <a:spcPct val="135000"/>
              </a:lnSpc>
              <a:buClr>
                <a:srgbClr val="000000"/>
              </a:buClr>
              <a:buFont typeface="Cambria"/>
              <a:buChar char="•"/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АКЖЕ ПРИ СОВПАДЕНИИ С ПРИЗНАКАМИ ОПРЕДЕЛЕНИЯ ПОДОЗРИТЕЛЬНЫХ ОПЕРАЦИИ ОПРЕДЕЛЕННЫХ ПРИКАЗОМ 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№ 9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Google Shape;545;p88"/>
          <p:cNvSpPr/>
          <p:nvPr/>
        </p:nvSpPr>
        <p:spPr>
          <a:xfrm>
            <a:off x="-3240" y="809640"/>
            <a:ext cx="756576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920" indent="9828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6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 УТВЕРЖДЁННОЙ ТИПОЛОГИЕЙ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ВЫЯВЛЕНИЕ КОМПАНИИ ОСУЩЕСТВЛЯЮЩИХ ВЫПИСКУ СЧЕ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-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ФАКТУР БЕЗ ФАКТИЧЕСКОГО ВЫПОЛНЕНИЯ РАБОТ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КАЗАНИЯ УСЛУГ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ГРУЗКИ ТОВАРОВ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ДАНО ОПРЕДЕЛЕНИЕ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«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СОБО КРУПНЫЙ РАЗМЕР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»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НАЗОВИТЕ СУММУ ОСОБО КРУПНОГО РАЗМЕРА ДЛЯ СТАТЬИ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245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ГОЛОВНОГО КОДЕКСА РЕСПУБЛИКИ КАЗАХСТАН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УММА НЕ ПОСТУПИВШИХ ПЛАТЕЖЕЙ В БЮДЖЕТ</a:t>
            </a: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ЕВЫШАЮЩАЯ СЕМЬДЕСЯТ ПЯТЬ ТЫСЯ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3920" indent="9828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МЕСЯЧНЫХ РАСЧЕТНЫХ ПОКАЗА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Google Shape;546;p88"/>
          <p:cNvSpPr/>
          <p:nvPr/>
        </p:nvSpPr>
        <p:spPr>
          <a:xfrm>
            <a:off x="20520" y="3033720"/>
            <a:ext cx="7492680" cy="82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4720" indent="-230364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КОГДА УТВЕРЖДЕНА ТИПОЛОГИЯ НА ТЕМУ 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ТЕРРОРИЗМ И ИСТОЧНИКИ ЕГО ФИНАНСИРОВАНИЯ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"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Cambria"/>
                <a:ea typeface="Cambria"/>
              </a:rPr>
              <a:t>30.09.2020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tabLst>
                <a:tab algn="l" pos="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13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15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УКАЖИТЕ ПОВЕДЕНИЕ ЭКСТРЕМИСТОВ И ТЕРРОРИСТОВ ВО ВРЕМЯ ФИНАНСОВЫХ ОПЕРАЦИЙ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ПРИ ОТКРЫТИИ СЧЕТА У СФ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ЫТАЕТСЯ ДАТЬ КАК МОЖНО МЕНЬШЕ ИНФОРМАЦИИ О СЕ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ЕДОСТАВЛЕННАЯ ИНФОРМАЦИЯ ОКАЗЫВАЕТСЯ ЛОЖНОЙ 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ЛИБО ТРУДНО ПРОВЕРЯ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 ЮРИДИЧЕСКОГО ЛИЦА ИЛИ ОРГАНИЗАЦИ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КРЫВШЕЙ СЧЕТ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ОВПАДАЕТ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11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АДРЕСАМИ ДРУГИХ ОРГАНИЗАЦИЙ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ДЛЯ КОТОРЫ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ДИН И ТОТ ЖЕ ЧЕЛОВЕК ИМЕЕТ ПРАВО ПОДПИСИ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ВОИМИ ДЕЙСТВИЯМИ ВЫЗЫВАЕТ ПОДОЗРИТЕЛЬНОСТЬ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КРЫТ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РИ ОТСУТСТВИИ СТАБИЛЬНОГО ЗАРАБОТКА ИМЕЕТ ИНОСТРАННЫЕ ВАЛЮТЫ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РЕДКО ИСПОЛЬЗУЕМЫЕ НА ТЕРРИТОРИИ Р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КЛИЕНТ ПРОСИТ ПРОВЕСТИ ОПЕРАЦИЮ ОЧЕНЬ БЫСТРО БЕЗ ОБЪЯСНЕНИЯ ПРИЧ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ff1515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ff1515"/>
                </a:solidFill>
                <a:latin typeface="Lucida Sans"/>
                <a:ea typeface="Lucida Sans"/>
              </a:rPr>
              <a:t>СИСТЕМ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МНОГОЧИСЛЕННЫЕ СЕРИИ ЗАПУТАННЫХ ОПЕ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ОДНОКРАТНЫЕ ПЕРЕВОДЫ НЕБОЛЬШИХ СУ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НЕВОЗМОЖНОСТЬ УСТАНОВИТЬ ИСТОЧНИКИ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ВКЛАДЫ ИЛИ СНЯТИЕ СУММ НЕМНОГО НИЖЕ ПОРОГА ИДЕНТИФ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ПОСТОЯННЫЕ ПОЖЕРТВОВАНИЯ НА БЛАГОТВОР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20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СРЕДСТВА ОТПРАВЛЕНЫ ИЛИ ПОЛУЧЕНЫ ИЗ СТРАН С ВЫСОКИМ УРОВНЕМ ТЕРРОРИСТИЧЕСКОЙ АКТИВН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ТПРАВИТЕЛИ ИЛИ ПОЛУЧАТЕЛИ ЯВЛЯЮТСЯ ГРАЖДАНАМИ СТРАН ЛИБО НАХОДЯТСЯ В СТРАНЕ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ГДЕ АКТИВНО ДЕЙСТВУЮТ ТЕРРОРИСТЫ ИЛИ ГРУППЫ ПОДДЕРЖИВАЮЩИЕ ИХ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720" indent="-2303640" algn="ctr">
              <a:lnSpc>
                <a:spcPct val="135000"/>
              </a:lnSpc>
              <a:tabLst>
                <a:tab algn="l" pos="0"/>
              </a:tabLst>
            </a:pPr>
            <a:r>
              <a:rPr b="0" lang="en-US" sz="1300" spc="-1" strike="noStrike">
                <a:solidFill>
                  <a:srgbClr val="16cc52"/>
                </a:solidFill>
                <a:latin typeface="Calibri"/>
                <a:ea typeface="Calibri"/>
              </a:rPr>
              <a:t>•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– </a:t>
            </a:r>
            <a:r>
              <a:rPr b="0" lang="en-US" sz="1400" spc="-1" strike="noStrike">
                <a:solidFill>
                  <a:srgbClr val="16cc52"/>
                </a:solidFill>
                <a:latin typeface="Lucida Sans"/>
                <a:ea typeface="Lucida Sans"/>
              </a:rPr>
              <a:t>ОБМЕН ИНОСТРАННОЙ ВАЛЮТЫ СРАЗУ ПОСЛЕ ПЕРЕВОДА ИЗ СТРАН С ВЫСОКИМ УРОВНЕМ РИСКА</a:t>
            </a:r>
            <a:r>
              <a:rPr b="0" lang="en-US" sz="1400" spc="-1" strike="noStrike">
                <a:solidFill>
                  <a:srgbClr val="16cc52"/>
                </a:solidFill>
                <a:latin typeface="Calibri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Google Shape;551;p89"/>
          <p:cNvSpPr/>
          <p:nvPr/>
        </p:nvSpPr>
        <p:spPr>
          <a:xfrm>
            <a:off x="-11160" y="561960"/>
            <a:ext cx="7561080" cy="10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852560" indent="-1353960">
              <a:lnSpc>
                <a:spcPct val="116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7.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,</a:t>
            </a:r>
            <a:r>
              <a:rPr b="0" lang="en-US" sz="1400" spc="-1" strike="noStrike">
                <a:solidFill>
                  <a:srgbClr val="20202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202020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rgbClr val="202020"/>
                </a:solidFill>
                <a:latin typeface="Calibri"/>
                <a:ea typeface="Calibri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ЕРВ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С ПОМОЩЬЮ КОТОРОГО МОЖНО ЗАПОДОЗРИТЬ ПРИВЕРЖЕННОСТЬ 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 ЭКСТРЕМИСТСКИМ ГРУППИРОВК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ГО РЕЧ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ОСУДАРСТВО ТАГУ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»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Т 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ТОРЫМ КРИТЕРИЕ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ЕМ НЕ МЕНЕЕ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САЛАФИТОВ ЛЕГКО ОТЛИЧИТЬ ПО БОРОДА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ЮТСЯ ДОПОЛН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ff1515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РЕТЬИ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РАДИКАЛЬНЫЕ ГРУППЫ ИМЕЮТ МЕСТЬЮ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ЕСЛИ МЫ ВИДИ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ЧТО ОПРЕДЕЛЕННОЕ КОЛИЧЕСТВО СОБИРАЕТСЯ В ЖИЛОМ ИЛИ НЕЖИЛОМПОМЕЩЕН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ГЛЯДЯТ ПРИ ЭТОМ СУРОВО НАПРЯЖЕННО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И ЭТО СОВЕРШЕННО НЕ ПРОИЗВОДИТ ВПЕЧАТЛЕНИЕ ДЕЛОВОЙ ВСТРЕЧ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4000"/>
              </a:lnSpc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ЧЕТВЕР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«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О МНОГИХ ТАКСИ ВМЕСТО ПРИВЫЧНОГО ШАНСОНА ЧАСТО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ОРОЙ АККУРАТНО ПОДВОДЯЩИЕ У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3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ЯТЫМ ПРИЗНАКОМ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ЯВЛЯЕТСЯ ЕСЛИ ЧЕЛОВЕК 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НАЧИН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ДРУГ МЕНЯТЬ ВЗГЛЯДЫ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-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ЭКСТРЕМИСТСКИЕ КОНЦЕПЦИИ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,</a:t>
            </a:r>
            <a:r>
              <a:rPr b="0" i="1" lang="en-US" sz="1400" spc="-1" strike="noStrike">
                <a:solidFill>
                  <a:srgbClr val="16cc52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.</a:t>
            </a:r>
            <a:r>
              <a:rPr b="0" i="1" lang="en-US" sz="1400" spc="-1" strike="noStrike">
                <a:solidFill>
                  <a:srgbClr val="16cc52"/>
                </a:solidFill>
                <a:latin typeface="Arial"/>
                <a:ea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16cc52"/>
                </a:solidFill>
                <a:latin typeface="Cambria"/>
                <a:ea typeface="Cambria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2560" indent="-1353960" algn="ctr">
              <a:lnSpc>
                <a:spcPct val="115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ЖЕЛАЕМ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	</a:t>
            </a:r>
            <a:r>
              <a:rPr b="1" lang="en-US" sz="2400" spc="-1" strike="noStrike">
                <a:solidFill>
                  <a:srgbClr val="164e61"/>
                </a:solidFill>
                <a:latin typeface="Tahoma"/>
                <a:ea typeface="Tahoma"/>
              </a:rPr>
              <a:t>ВАМ УСПЕШНОГО ПРОХОЖДЕНИЯ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Google Shape;110;p15"/>
          <p:cNvSpPr/>
          <p:nvPr/>
        </p:nvSpPr>
        <p:spPr>
          <a:xfrm>
            <a:off x="12600" y="390600"/>
            <a:ext cx="7527600" cy="9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16.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ЧТО ОТНОСИТСЯ К КРИТЕРИЯМ ОПРЕДЕЛЕНИЯ ЧЕЛОВЕКА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chemeClr val="dk1"/>
                </a:solidFill>
                <a:latin typeface="Lucida Sans"/>
                <a:ea typeface="Lucida Sans"/>
              </a:rPr>
              <a:t>ОТНОСЯЩЕГОСЯ К ДЕСТРУКТИВНЫМ РЕЛИГИОЗНЫМ ТЕЧЕНИЯМ</a:t>
            </a:r>
            <a:r>
              <a:rPr b="0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21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ЕРВ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 ПОМОЩЬЮ КОТОРОГО МОЖНО ЗАПОДОЗРИТЬ ПРИВЕРЖ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ЛИЦА К ЭКСТРЕМИСТСКИМ ГРУППИРОВКАМ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ЕГО РЕЧЬ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: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 УШЕЛ В РАДИКАЛЬНУЮ ИДЕОЛОГИЮ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 В СВОЕЙ РЕЧИ ОН БУДЕТ УПОТРЕБЛЯТЬ ТАКИЕ СПЕЦИФИЧЕСКИЕ СЛОВА КАК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ФИРСКОЕ ГОСУДАРСТВ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ОСУДАРСТВО ТУГА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«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УЖНО УБИРАТЬ КАФИРОВ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»»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ВТОРЫМ КРИТЕР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ВНЕШНИЙ ВИ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ДНАКО У ТЕРРОРИСТОВ НЕТ СПЕЦИАЛЬНОЙ УНИФОРМ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ЕМ НЕ МЕНЕ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КОТОРЫЕ ВЫВОДЫ О РЕЛИГИОЗНЫХ ВЗГЛЯДАХ ЧЕЛОВЕКА МОЖНО УСТАНОВИТЬ ПО ЕГО ОДЕЖД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САЛАФИТОВ ЛЕГКО ОТЛИЧИТЬ ПО БОРОДА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ДЛЯ ЧРЕЗМЕРНО ЮНОГО ВОЗРАСТА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РОТКИЕ ШТАН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АК ПРАВИЛ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ЮТСЯ ДОПОЛНЕНИЕ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ТРЕТЬИ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УЧАСТИЕ В ПОДОЗРИТЕЛЬНЫХ СБОРИЩАХ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7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РАДИКАЛЬНЫЕ ГРУППЫ ИМЕЮТ МЕСТ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ГДЕ СИСТЕМАТИЧЕСКИ СОБИРАЮ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МЫ ВИДИМ ЧТО ОПРЕДЕЛЕННОЕ КОЛИЧЕСТВО СОБИРАЕТСЯ В ЖИ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ЛИ НЕ ЖИЛОМ ПОМЕЩЕН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ГЛЯДЯТ ПРИ ЭТОМ СУРОВО НАПРЯЖЕННЫМ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И ЭТО СОВЕРШЕННО НЕ ПРОИЗВОДИТ ВПЕЧАТЛЕНИЯ ДЕЛОВОЙ ВСТРЕЧИ 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ТОЯ ИЛИ ДРУЖЕСКИХ ПОСИДЕЛО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42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ЧЕТВЕРТЫМ ПРИЗНАКОМ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 ПРОПАГАНДА РАДИКАЛЬНЫХ ИДЕЙ И УВЛЕЧЕНИЕ РЕЛИГИОЗНОЙ ЛИТЕРАТУРОЙ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00000"/>
              </a:lnSpc>
              <a:spcBef>
                <a:spcPts val="99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ПРИМЕР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О МНОГИХ ТАКСИ ВМЕСТО ПРИВЫЧНОГО ШАНСОНА ЗВУЧАТ АУДИ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И НА ХОРОШЕМ ЯЗЫК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ОЧЕНЬ ВКРАДЧИВЫМ ГОЛОСОМ РАЗЪЯСНЯЮЩИ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ОРОЙ АККУРАТНО ПОДВОДЯЩИЕ К МЫСЛЯМ О СПРАВЕДЛИВОСТИ И НЕСПРАВЕДЛИВОСТИ В МИРЕ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300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16000"/>
              </a:lnSpc>
              <a:tabLst>
                <a:tab algn="l" pos="0"/>
              </a:tabLst>
            </a:pPr>
            <a:r>
              <a:rPr b="0" i="1" lang="en-US" sz="1400" spc="-1" strike="noStrike">
                <a:solidFill>
                  <a:schemeClr val="dk1"/>
                </a:solidFill>
                <a:latin typeface="Arial"/>
                <a:ea typeface="Arial"/>
              </a:rPr>
              <a:t>ПЯТЫМ ПРИЗНАКОМ</a:t>
            </a:r>
            <a:r>
              <a:rPr b="0" i="1" lang="en-US" sz="1400" spc="-1" strike="noStrike">
                <a:solidFill>
                  <a:schemeClr val="dk1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chemeClr val="dk1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ЯВЛЯЕТСЯ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ЕСЛИ ЧЕЛОВЕ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АЖЕ ВАШ БЛИЗКИЙ РОДСТВЕННИК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НАЧИНАЕТ ВДРУГ МЕНЯТЬ ВЗГЛЯДЫ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ПРОПОВЕДОВАТЬ РАДИКАЛЬНО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-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ЭКСТРЕМИСТ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0" indent="-1428840" algn="ctr">
              <a:lnSpc>
                <a:spcPct val="100000"/>
              </a:lnSpc>
              <a:spcBef>
                <a:spcPts val="201"/>
              </a:spcBef>
              <a:tabLst>
                <a:tab algn="l" pos="0"/>
              </a:tabLst>
            </a:pP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КОНЦЕПЦИИ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,</a:t>
            </a:r>
            <a:r>
              <a:rPr b="0" i="1" lang="en-US" sz="14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ВЫСКАЗЫВАТЬСЯ О НЕОБХОДИМОСТИ БОРЬБЫ С НЕВЕРНЫМИ И Т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r>
              <a:rPr b="0" i="1" lang="en-US" sz="1400" spc="-1" strike="noStrike">
                <a:solidFill>
                  <a:srgbClr val="ff1515"/>
                </a:solidFill>
                <a:latin typeface="Arial"/>
                <a:ea typeface="Arial"/>
              </a:rPr>
              <a:t>Д</a:t>
            </a:r>
            <a:r>
              <a:rPr b="0" i="1" lang="en-US" sz="1400" spc="-1" strike="noStrike">
                <a:solidFill>
                  <a:srgbClr val="ff1515"/>
                </a:solidFill>
                <a:latin typeface="Trebuchet MS"/>
                <a:ea typeface="Trebuchet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