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7556500" cy="10706100"/>
  <p:notesSz cx="7556500" cy="10706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2F9-051D-4653-A43B-BF7CD26C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7640" y="574812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BD8-B942-43E7-9C51-D2EDD089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624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BEE-CD0C-4CEF-B7EB-45693C92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7696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7628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764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67696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97628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615-CAC9-45BE-8395-04F32781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0994-6892-40B6-9586-88151493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77640" y="2504880"/>
            <a:ext cx="680040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19F1-BC50-41A1-AC31-B6E46CE7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680040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B161-D90E-47F4-9BD1-D429BA56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A9BC-10E5-4A6D-8A4A-ACB7F768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7D1E-89C2-419E-854B-3F058791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77640" y="426960"/>
            <a:ext cx="6800400" cy="82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BA0A-6581-4554-8862-38CBBD22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666C-54A8-4761-B751-0B73E6CA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7640" y="2504880"/>
            <a:ext cx="680040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4E7-72FC-470B-9491-F83FE0D1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624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87C9-0D2C-45A7-9900-A58882D8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A931-952E-4BD7-B188-010F98A7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7640" y="574812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B697-871B-4ACC-96AC-83806D33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624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8DF6-033F-4D89-97B4-B3FA8775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7696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628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7764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7696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97628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82F5-F819-4244-9490-C4EAFA4F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680040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7C3-6852-4831-B684-B9A26F50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66D-7973-4B3B-A2C8-C6ECD7DE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C36-4BDD-4F4C-9178-F7E2F5BF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7640" y="426960"/>
            <a:ext cx="6800400" cy="82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69A-D16A-44AA-8172-941D0A11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2CA-5697-4C83-B910-FA86DEB7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624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272-E646-4FBF-B745-4DA296DD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7C3-E8E5-45A9-9CC6-F8ECC08E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oogle Shape;6;p1"/>
          <p:cNvSpPr/>
          <p:nvPr/>
        </p:nvSpPr>
        <p:spPr>
          <a:xfrm>
            <a:off x="0" y="0"/>
            <a:ext cx="7556040" cy="10686600"/>
          </a:xfrm>
          <a:custGeom>
            <a:avLst/>
            <a:gdLst>
              <a:gd name="textAreaLeft" fmla="*/ 0 w 7556040"/>
              <a:gd name="textAreaRight" fmla="*/ 7556400 w 7556040"/>
              <a:gd name="textAreaTop" fmla="*/ 0 h 10686600"/>
              <a:gd name="textAreaBottom" fmla="*/ 10686960 h 10686600"/>
            </a:gdLst>
            <a:ahLst/>
            <a:rect l="textAreaLeft" t="textAreaTop" r="textAreaRight" b="textAreaBottom"/>
            <a:pathLst>
              <a:path w="7556500" h="10687685">
                <a:moveTo>
                  <a:pt x="0" y="10687689"/>
                </a:moveTo>
                <a:lnTo>
                  <a:pt x="7555992" y="10687689"/>
                </a:lnTo>
                <a:lnTo>
                  <a:pt x="7555992" y="8"/>
                </a:lnTo>
                <a:lnTo>
                  <a:pt x="0" y="8"/>
                </a:lnTo>
                <a:lnTo>
                  <a:pt x="0" y="10687689"/>
                </a:lnTo>
              </a:path>
            </a:pathLst>
          </a:custGeom>
          <a:solidFill>
            <a:srgbClr val="f0f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2568600" y="9956880"/>
            <a:ext cx="241884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378000" y="9956880"/>
            <a:ext cx="173808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5440320" y="9956880"/>
            <a:ext cx="173808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52C3A97-CF36-4492-9D2F-3130E0CE2B21}" type="slidenum">
              <a:rPr b="0" lang="en-US" sz="18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77640" y="2504880"/>
            <a:ext cx="680040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Google Shape;6;p1"/>
          <p:cNvSpPr/>
          <p:nvPr/>
        </p:nvSpPr>
        <p:spPr>
          <a:xfrm>
            <a:off x="0" y="0"/>
            <a:ext cx="7556040" cy="10686600"/>
          </a:xfrm>
          <a:custGeom>
            <a:avLst/>
            <a:gdLst>
              <a:gd name="textAreaLeft" fmla="*/ 0 w 7556040"/>
              <a:gd name="textAreaRight" fmla="*/ 7556400 w 7556040"/>
              <a:gd name="textAreaTop" fmla="*/ 0 h 10686600"/>
              <a:gd name="textAreaBottom" fmla="*/ 10686960 h 10686600"/>
            </a:gdLst>
            <a:ahLst/>
            <a:rect l="textAreaLeft" t="textAreaTop" r="textAreaRight" b="textAreaBottom"/>
            <a:pathLst>
              <a:path w="7556500" h="10687685">
                <a:moveTo>
                  <a:pt x="0" y="10687689"/>
                </a:moveTo>
                <a:lnTo>
                  <a:pt x="7555992" y="10687689"/>
                </a:lnTo>
                <a:lnTo>
                  <a:pt x="7555992" y="8"/>
                </a:lnTo>
                <a:lnTo>
                  <a:pt x="0" y="8"/>
                </a:lnTo>
                <a:lnTo>
                  <a:pt x="0" y="10687689"/>
                </a:lnTo>
              </a:path>
            </a:pathLst>
          </a:custGeom>
          <a:solidFill>
            <a:srgbClr val="f0f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4120" y="192240"/>
            <a:ext cx="3908160" cy="17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78000" y="2462040"/>
            <a:ext cx="680040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568600" y="9956880"/>
            <a:ext cx="241884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>
            <a:off x="378000" y="9956880"/>
            <a:ext cx="173808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40320" y="9956880"/>
            <a:ext cx="173808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F88AB2C-E4A1-45A1-9B84-74C21ACE94A1}" type="slidenum">
              <a:rPr b="0" lang="en-US" sz="18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Google Shape;44;p7"/>
          <p:cNvSpPr/>
          <p:nvPr/>
        </p:nvSpPr>
        <p:spPr>
          <a:xfrm>
            <a:off x="531720" y="825480"/>
            <a:ext cx="6384600" cy="16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algn="ctr">
              <a:lnSpc>
                <a:spcPct val="118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dk1"/>
                </a:solidFill>
                <a:latin typeface="Lucida Sans"/>
                <a:ea typeface="Lucida Sans"/>
              </a:rPr>
              <a:t>Учебный цент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6200" algn="ctr">
              <a:lnSpc>
                <a:spcPct val="118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dk1"/>
                </a:solidFill>
                <a:latin typeface="Cambria"/>
                <a:ea typeface="Cambria"/>
              </a:rPr>
              <a:t>FINEX</a:t>
            </a:r>
            <a:r>
              <a:rPr b="1" lang="en-US" sz="22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chemeClr val="dk1"/>
                </a:solidFill>
                <a:latin typeface="Cambria"/>
                <a:ea typeface="Cambria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100000"/>
              </a:lnSpc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06200"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600" spc="-1" strike="noStrike">
                <a:solidFill>
                  <a:srgbClr val="202020"/>
                </a:solidFill>
                <a:latin typeface="Arial"/>
                <a:ea typeface="Arial"/>
              </a:rPr>
              <a:t>ТЕСТЫ С ОТВЕТАМИ ПО ПОД Ф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oogle Shape;45;p7"/>
          <p:cNvSpPr/>
          <p:nvPr/>
        </p:nvSpPr>
        <p:spPr>
          <a:xfrm>
            <a:off x="541440" y="3036960"/>
            <a:ext cx="6803640" cy="79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21160" algn="ctr">
              <a:lnSpc>
                <a:spcPct val="109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Т Е С Т Ы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РА ЗД Е Л Е Н Ы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П О БЛ О КА М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09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ВО П РО С Ы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П О Д С ВЕ ЧЕ Н Ы ЧЕ РН ЫМ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Ц ВЕ Т О М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09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О Т ВЕ Т Ы  П О Д С ВЕ ЧЕ Н Ы КРА С Н ЫМ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ЦВЕ Т О М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Н Е БО Л ЬШИЕ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П О МЕ Т КИ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С У Т О ЧН Е Н ИЯ МИ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П О Д С ВЕ Т ИЛ И  ЗЕ Л Е Н ЫМ ЦВЕ Т О М  Д Л Я  ВА ШЕ Г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У Д О БС Т ВА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just">
              <a:lnSpc>
                <a:spcPct val="114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НА ПО МИНА Е М,  О Т О М ЧТ О НЕ  В С Е  Т Е С Т Ы ,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КО Т О Р Ы Е З ДЕ С Ь ИМЕ ЮТ С Я МО Г 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В А М ПО ПА С Т А Т Ь С 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13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-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%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Т Е С Т О В МО Г УТ О Т ЛИЧА Т Ь С Я ПР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А Т Т Е С Т А 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>
              <a:lnSpc>
                <a:spcPct val="116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chemeClr val="hlink"/>
                </a:solidFill>
                <a:uFillTx/>
                <a:latin typeface="Calibri"/>
                <a:ea typeface="Calibri"/>
                <a:hlinkClick r:id="rId1"/>
              </a:rPr>
              <a:t>www.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f i n e x s t . kz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8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-775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-401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-33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4120" y="192240"/>
            <a:ext cx="3908160" cy="17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ФИЛЬНЫЕТЕСТЫ</a:t>
            </a:r>
            <a:br>
              <a:rPr sz="3200"/>
            </a:br>
            <a:r>
              <a:rPr b="0" lang="en-US" sz="2300" spc="-1" strike="noStrike">
                <a:solidFill>
                  <a:srgbClr val="202020"/>
                </a:solidFill>
                <a:latin typeface="Trebuchet MS"/>
                <a:ea typeface="Trebuchet MS"/>
              </a:rPr>
              <a:t>4</a:t>
            </a:r>
            <a:r>
              <a:rPr b="0" lang="en-US" sz="23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Google Shape;116;p16"/>
          <p:cNvSpPr/>
          <p:nvPr/>
        </p:nvSpPr>
        <p:spPr>
          <a:xfrm>
            <a:off x="158760" y="1440000"/>
            <a:ext cx="1281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Google Shape;117;p16"/>
          <p:cNvSpPr/>
          <p:nvPr/>
        </p:nvSpPr>
        <p:spPr>
          <a:xfrm>
            <a:off x="395280" y="1440000"/>
            <a:ext cx="6733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082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ЧТО НЕ ОТНОСИТСЯ К МИКРОФИНАНСОВОЙ ДЕЯТЕЛЬНОСТИ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08200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ИКРОФИНАНСОВЫМ ОРГАНИЗАЦИЯМ ЗАПРЕЩАЕТСЯ ОСУЩЕСТВЛЯТЬ ИНУЮ НЕ ПРЕДУСМОТРЕННУЮЗАКОНОМ О МФД ПРЕДПРИНИМАТЕЛЬСКУЮ ДЕЯТЕЛЬНОСТЬ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Google Shape;118;p16"/>
          <p:cNvSpPr/>
          <p:nvPr/>
        </p:nvSpPr>
        <p:spPr>
          <a:xfrm>
            <a:off x="6480" y="2533680"/>
            <a:ext cx="7543440" cy="82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00200" indent="-200160">
              <a:lnSpc>
                <a:spcPct val="121000"/>
              </a:lnSpc>
              <a:buClr>
                <a:srgbClr val="202020"/>
              </a:buClr>
              <a:buFont typeface="Trebuchet MS"/>
              <a:buAutoNum type="arabicPeriod" startAt="2"/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ПУСКАЕТСЯ ЛИ УСТУПКА ПРАВА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ТРЕБОВАНИЯ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 ДОГОВОРУ О ПРЕДОСТАВЛЕНИИ МИКРОКРЕДИТА В ОТНОШЕНИИ ОДНОГО ЗАЕМЩИ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НЕСКОЛЬКИМ ЛИЦА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ДОПУСКАЕ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00200" indent="-200160">
              <a:lnSpc>
                <a:spcPct val="112000"/>
              </a:lnSpc>
              <a:spcBef>
                <a:spcPts val="300"/>
              </a:spcBef>
              <a:buClr>
                <a:srgbClr val="202020"/>
              </a:buClr>
              <a:buFont typeface="Trebuchet MS"/>
              <a:buAutoNum type="arabicPeriod" startAt="3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ТЕЧЕНИИ СКОЛЬКИХ ДНЕЙ МИКРОФИНАНСОВАЯ ОРГАНИЗАЦИЯ ОБЯЗАНА ПОСЛЕ ПОЛУЧЕНИЯ УВЕДОМЛЕНИЯ ГОСУДАРСТВЕННОГО ОРГАН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СУЩЕСТВЛЯЮЩЕГО ГОСУДАРСТВЕННОЕ РЕГУЛИРОВАНИЕ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НТРОЛЬ И НАДЗОР ФИНАНСОВОГО РЫНКА И ФИНАНСОВЫХ ОРГАНИЗАЦИЙ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Б ИСКЛЮЧЕНИИ ИЗ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РЕЕСТРА МИКРОФИНАНСОВЫХ ОРГАНИЗАЦИЙ ПРОВЕСТИ ПРОЦЕДУРУ ПЕРЕРЕГИСТРАЦИИ ПУТЕМ ИСКЛЮЧЕНИЯ ИЗ СВОЕГО НАИМЕНОВАНИЯ СЛ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МИКРОФИНАНСОВАЯ ОРГАНИЗАЦИЯ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РЕДИТНОЕ ТОВАРИЩЕСТВО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ЛОМБАРД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»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ИЗВОДНЫХ ОТ НИХ СЛОВ ИЛИ АББРЕВИАТУРЫ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ЕДПОЛАГАЮЩИХ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ЧТ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14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УКАЗАННОЕ ЮРИДИЧЕСКОЕ ЛИЦО ОСУЩЕСТВЛЯЕТ ДЕЯТЕЛЬНОСТЬ ПО ПРЕДОСТАВЛЕНИЮ МИКРОКРЕДИТ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ЛИБО ПРИНЯТЬ РЕШЕНИЕ О РЕОРГАНИЗАЦИИ ИЛИ ЛИКВИДАЦИИ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РИДЦАТЬ РАБОЧИХ ДНЕ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АТТЕСТАЦИИ СТОИТ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АЛЕНДАРНЫ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00200" indent="-200160">
              <a:lnSpc>
                <a:spcPct val="112000"/>
              </a:lnSpc>
              <a:buClr>
                <a:srgbClr val="202020"/>
              </a:buClr>
              <a:buFont typeface="Trebuchet MS"/>
              <a:buAutoNum type="arabicPeriod" startAt="2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КАКИХ СЛУЧАЯХ МИКРОФИНАНСОВАЯ ОРГАНИЗАЦИЯ ОБЯЗАНА ОТКАЗЫВАТЬ В ПРЕДОСТАВЛЕНИИ МИКРОКРЕДИТ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КАЗЫВАТЬ В ПРЕДОСТАВЛЕНИИ МИКРОКРЕДИТА В СЛУЧАЯХ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РЕДУСМОТРЕННЫХ ЗАКОНОМ РЕСПУБЛИКИ КАЗАХСТАН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 ПРОТИВОДЕЙСТВИИ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ФИНАНСИРОВАНИЮ ТЕРРОРИЗМ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Google Shape;119;p16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7475" h="340995">
                <a:moveTo>
                  <a:pt x="366855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706" y="0"/>
                </a:lnTo>
                <a:lnTo>
                  <a:pt x="366855" y="0"/>
                </a:lnTo>
              </a:path>
              <a:path w="1387475" h="340995">
                <a:moveTo>
                  <a:pt x="758643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5505" y="0"/>
                </a:lnTo>
                <a:lnTo>
                  <a:pt x="758643" y="0"/>
                </a:lnTo>
              </a:path>
              <a:path w="1387475" h="340995">
                <a:moveTo>
                  <a:pt x="1150441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7312" y="0"/>
                </a:lnTo>
                <a:lnTo>
                  <a:pt x="1150441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Google Shape;124;p17"/>
          <p:cNvSpPr/>
          <p:nvPr/>
        </p:nvSpPr>
        <p:spPr>
          <a:xfrm>
            <a:off x="14400" y="2532240"/>
            <a:ext cx="7494120" cy="51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3280" indent="-210960">
              <a:lnSpc>
                <a:spcPct val="100000"/>
              </a:lnSpc>
              <a:buClr>
                <a:srgbClr val="202020"/>
              </a:buClr>
              <a:buFont typeface="Trebuchet MS"/>
              <a:buAutoNum type="arabicPeriod" startAt="5"/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ТО ОТНОСИТСЯ К ОРГАНИЗАЦИЯ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СУЩЕСТВЛЯЮЩИМ МИКРОФИНАНСОВУ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3280" indent="-210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ЕЯТЕЛЬНОСТЬ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95400">
              <a:lnSpc>
                <a:spcPct val="100000"/>
              </a:lnSpc>
              <a:buClr>
                <a:srgbClr val="ff1515"/>
              </a:buClr>
              <a:buFont typeface="Trebuchet MS"/>
              <a:buAutoNum type="arabicParenR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ЯТЕЛЬНОСТЬ КРЕДИТНЫХ ТОВАРИЩЕСТВ ПО ПРЕДОСТАВЛЕНИЮ МИКРОКРЕДИ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3280" indent="-210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ОИМ УЧАСТНИКА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95400">
              <a:lnSpc>
                <a:spcPct val="114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AutoNum type="arabicParenR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ЯТЕЛЬНОСТЬ ЛОМБАРДОВ ПО ПРЕДОСТАВЛЕНИЮ МИКРОКРЕДИТОВ ФИЗИЧЕСКИМ ЛИЦАМ ПОД ЗАЛОГ ДВИЖИМОГО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НАЗНАЧЕННОГО ДЛЯ ЛИЧНОГО ПОЛЬЗОВА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 СРОК ДО ОДНОГО ГОДА В РАЗМЕР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ПРЕВЫШАЮЩЕМ ВОСЬ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3280" indent="-21096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ЫСЯЧЕКРАТНОГО РАЗМЕРА МЕСЯЧНОГО РАСЧЕТНОГО ПОКАЗАТЕЛ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НОГО НА СООТВЕТСТВУЮЩИЙ ФИНАНСОВЫЙ ГОД ЗАКОНОМ О РЕСПУБЛИКАНСКОМ БЮДЖЕТ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95400">
              <a:lnSpc>
                <a:spcPct val="114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ЯТЕЛЬНОСТЬ МИКРОФИНАНСОВЫХ ОРГАНИЗАЦИЙ ПО ПРЕДОСТАВЛЕНИЮ МИКРОКРЕДИТОВ ФИЗИЧЕСКИМ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ИМ ЛИЦАМ С ОБЕСПЕЧЕНИЕМ ЛИБО БЕЗ ОБЕСПЕЧЕНИЯ В РАЗМЕР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ПРЕВЫШАЮЩЕМ ДВАДЦАТИ ТЫСЯЧЕКРАТНОГО РАЗМЕ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3280" indent="-210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СЯЧНОГО РАСЧЕТНОГО ПОКАЗАТЕЛ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НОГО НА СООТВЕТСТВУЮЩИЙ ФИНАНСОВЫЙ ГОД ЗАКОНОМ О РЕСПУБЛИКАНСКОМ БЮДЖЕТ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Google Shape;125;p17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Google Shape;130;p18"/>
          <p:cNvSpPr/>
          <p:nvPr/>
        </p:nvSpPr>
        <p:spPr>
          <a:xfrm>
            <a:off x="9360" y="946080"/>
            <a:ext cx="7522920" cy="11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9400" indent="392040"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6.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ИЕ СУБЪЕКТЫ ФИНАНСОВОГО МОНИТОРИНГА СОГЛАСНО ЗАКОНА РЕСПУБЛИКИ КАЗАХСТАН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“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”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РАМКАХ ДИСТАНЦИОННО УСТАНОВЛЕННЫХ ДЕЛОВЫХ ОТНОШЕНИЙ С КЛИЕНТОМ ВПРАВЕ СОВЕРШАТЬ ОПЕРАЦИИ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ЗА ИСКЛЮЧЕНИЕМ ТРАНСГРАНИЧНЫХ ПЛАТЕЖЕЙ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БЕЗ ПРИНЯТИЯ МЕР ПО ПРОВЕРКЕ ДОСТОВЕРНОСТИ СВЕДЕНИЙ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НЕОБХОДИМЫХ ДЛЯ ИДЕНТИФИКАЦИИ КЛИЕНТА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ЕГО ПРЕДСТАВИТЕЛЯ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БЕНЕФИЦИАРНОГО СОБСТВЕННИК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СУЩЕСТВЛЕНИЯ КЛИЕНТОМ ОПЕРАЦИЙ ПО УПЛАТЕ НАЛОГ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ЕНИ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ШТРАФОВ И ДРУГИХ ОБЯЗАТЕЛЬНЫХ ПЛАТЕЖЕЙ В БЮДЖЕТ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А ТАКЖЕ СТРАХОВЫХ ПРЕМИЙ ПО ДОГОВОРА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БЯЗАТЕЛЬНОГО СТРАХОВАНИЯ И ЗАЧИСЛЕНИЯ ДЕНЕГ НА БАНКОВСКИЙ СЧЕТ КЛИЕНТ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ЗАКОНЕ УКАЗАНО СУБЪЕКТЫ УКАЗАННЫЕ В СТАТЬЕ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УНКТ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1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ДПУНКТ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1-5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11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12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ИЖЕ РАСШИФРОВКА ЭТИХ СУБЪЕКТ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14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БАНК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ФИЛИАЛЫ БАНКОВ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ЕРЕЗИДЕНТОВ РЕСПУБЛИКИ КАЗАХСТАН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Е ОТДЕЛЬНЫЕ ВИДЫ БАНКОВСКИХ ОПЕРАЦИЙ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 ОПЕРАТОРА ИЛИ ОПЕРАЦИОННОГО ЦЕН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33000"/>
              </a:lnSpc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МЕЖБАНКОВСКОЙ СИСТЕМЫ ПЕРЕВОДОВ ДЕНЕГ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А ТАКЖЕ ЮРИДИЧЕСКИХ ЛИЦ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ИСКЛЮЧИТЕЛЬНОЙ ДЕЯТЕЛЬНОСТЬЮ КОТОРЫХ ЯВЛЯЕТСЯ ИНКАССАЦИЯ БАНКНОТ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МОНЕТ И ЦЕННОСТЕЙ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00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БИРЖ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13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ТРАХОВЫЕ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ЕРЕСТРАХОВОЧНЫЕ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ТРАХОВЫЕ БРОКЕРЫ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БЩЕСТВА ВЗАИМНОГО СТРАХОВАНИЯ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ФИЛИАЛЫ СТРАХОВЫХ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ЕРЕСТРАХОВОЧНЫХ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Й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ЕРЕЗИДЕНТОВ РЕСПУБЛ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ФИЛИАЛЫ СТРАХОВЫХ БРОКЕРОВ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ЕРЕЗИДЕНТОВ РЕСПУБЛИКИ КАЗАХСТАН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ЕДИНЫЙ НАКОПИТЕЛЬНЫЙ ПЕНСИОННЫЙ ФОНД И ДОБРОВОЛЬНЫЕ НАКОПИТЕЛЬНЫЕ ПЕНСИОННЫЕ ФОНДЫ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ОФЕССИОНАЛЬНЫЕ УЧАСТНИКИ РЫНКА ЦЕННЫХ БУМАГ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ЦЕНТРАЛЬНЫЙ ДЕПОЗИТАРИЙ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22068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Е МИКРОФИНАНСОВУЮ ДЕЯТЕЛЬНОСТЬ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22068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ЛАТЕЖНЫЕ 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14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УСЛУГИ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ОДУКТЫ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А ТАКЖЕ СПОСОБЫ ИХ ПРЕДОСТАВЛЕНИЯ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ОДВЕРЖЕННЫЕ ВЫСОКОМУ РИСКУ ЛЕГАЛИЗАЦИИ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Я ТЕРРОРИЗМА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КЛЮЧАЮТ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О НЕ ОГРАНИЧИВАЮТСЯ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220680">
              <a:lnSpc>
                <a:spcPct val="113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ДИСТАНЦИОННОЕ ОБСЛУЖИВАНИЕ КЛИЕНТ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КЛЮЧАЯ ОБСЛУЖИВАНИЕ ПОСРЕДСТВОМ ПЕРСОНАЛЬНЫХ КОМПЬЮТЕР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ТЕЛЕФОН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ЭЛЕКТРОННЫХ ТЕРМИНАЛ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220680">
              <a:lnSpc>
                <a:spcPct val="114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ЫДАЧА ЗАЙМА НАЛИЧНЫМИ ДЕНЬГАМИ НА СУММУ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ЕВЫШАЮЩУЮ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000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000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ТЕНГЕ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ЛИБО СУММУ В ИНОСТРАННОЙ ВАЛЮТЕ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ЕВЫШАЮЩУЮ ЭКВИВАЛЕНТ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000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000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ТЕНГЕ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220680">
              <a:lnSpc>
                <a:spcPct val="114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ОВЫЕ ПРОДУКТЫ И ДЕЛОВЫЕ ПРАКТИК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КЛЮЧАЮЩИЕ МЕХАНИЗМЫ ПЕРЕДАЧИ ИНФОРМАЦИИ С ИСПОЛЬЗОВАНИЕМ НОВЫХ И РАЗВИВАЮЩИХСЯ ТЕХНОЛОГИЙ КАК ДЛЯ СУЩЕСТВУЮЩИХ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ТАК И Д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НЕДРЯЕМЫХ ПРОДУКТ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Google Shape;131;p18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Google Shape;136;p19"/>
          <p:cNvSpPr/>
          <p:nvPr/>
        </p:nvSpPr>
        <p:spPr>
          <a:xfrm>
            <a:off x="1955880" y="74520"/>
            <a:ext cx="41857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СТЫПОЗАКОНУПОПОДФ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202020"/>
                </a:solidFill>
                <a:latin typeface="Trebuchet MS"/>
                <a:ea typeface="Trebuchet MS"/>
              </a:rPr>
              <a:t>5</a:t>
            </a:r>
            <a:r>
              <a:rPr b="0" lang="en-US" sz="20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Google Shape;137;p19"/>
          <p:cNvSpPr/>
          <p:nvPr/>
        </p:nvSpPr>
        <p:spPr>
          <a:xfrm>
            <a:off x="3240" y="1054080"/>
            <a:ext cx="7538760" cy="134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68680" indent="-3495600"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ДЛЕЖАЩАЯ ПРОВЕРКА КЛИЕНТОВ ВКЛЮЧАЕТ ОСУЩЕСТВЛЕНИЕ СЛЕДУЮЩИХ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КСИРОВАНИЕ СВЕДЕН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ЫХ ДЛЯ ИДЕНТИФИКАЦИИ ФИЗ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АННЫЕ ДОКУМ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ДОСТОВЕРЯЮЩЕГО ЕГО ЛИЧНОСТЬ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ДИВИДУАЛЬНЫЙ ИДЕНТИФИКАЦИОННЫЙ НОМЕР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 СЛУЧАЕ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ГДА ФИЗИЧЕСКОМ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ЦУ НЕ ПРИСВОЕН ИНДИВИДУАЛЬНЫЙ ИДЕНТИФИКАЦИОННЫЙ НОМЕР В СООТВЕТСТВИИ С ЗАКОНОДАТЕЛЬСТВОМ РЕСПУБЛИКИ КАЗАХСТАН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ИЙ АДРЕ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2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В СЛУЧАЕ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ЕСЛИ БЕНЕФИЦИАРНЫЙ СОБСТВЕННИК КЛИЕНТА НЕ ВЫЯВЛЕН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ДОПУСКАЕТСЯ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ЗНАНИЕ БЕНЕФИЦИАРНЫМ СОБСТВЕННИКОМ ЕДИНОЛИЧНОГО ИСПОЛНИТЕЛЬНОГО ОРГАНА ЛИБО РУКОВОДИТЕЛЯ КОЛЛЕГИАЛЬНОГО ИСПОЛНИТЕЛЬНОГО ОРГАНА КЛИЕНТ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ОГО ЛИЦ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Й ИЗ НИЖЕ ПЕРЕЧИСЛЕННЫХ ПЕРЕЧНЕЙ СОСТАВЛЯЕТСЯ УПОЛНОМОЧЕННЫМ ОРГАНОМ ПО ФИНАНСОВОМУ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 СОСТАВЛЯЕТ ПЕРЕЧЕНЬ ОРГАНИЗАЦИЙ И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ЕМ ТЕРРОРИЗМА И ЭКСТРЕМ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2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ЛЯ СОСТАВЛЕНИЯ ПЕРЕЧНЯ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 КАКИ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ОСУДАРСТВЕННЫМИ ОРГАНАМИ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ПРАВЛЯЮ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ОБ ОРГАНИЗАЦИЯХ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Х ЛИЦАХ В УПОЛНОМОЧЕННЫЙ ОРГАН ПО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МИ ВЫШЕПЕРЕЧИСЛЕННЫМИ ГОСОРГАНАМИ РЕСПУБЛИКИ КАЗАХ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Е ДЕЙСТВИЕ ОСУЩЕСТВЛЯЕТСЯ УПОЛНОМОЧЕННЫМ ОРГАНОМ В ОТНОШЕНИИПЕРЕЧНЯ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ЗМА И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ИНФОРМАЦИ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ЯЕМОЙГОСУДАРСТВЕННЫМИ ОРГАНА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НОВЛЯЕ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Google Shape;138;p19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Google Shape;143;p20"/>
          <p:cNvSpPr/>
          <p:nvPr/>
        </p:nvSpPr>
        <p:spPr>
          <a:xfrm>
            <a:off x="-1440" y="204840"/>
            <a:ext cx="7503840" cy="13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00120" indent="28440"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6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ЯВЛЯЕТСЯ ОСНОВАНИЕМ ДЛЯ ВКЛЮЧЕНИЯ ОРГАНИЗАЦИИ ИЛИ ФИЗИЧЕСКОГОЛИЦА В 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28560" indent="-28440" algn="ctr">
              <a:lnSpc>
                <a:spcPct val="100000"/>
              </a:lnSpc>
              <a:buClr>
                <a:srgbClr val="ff1515"/>
              </a:buClr>
              <a:buFont typeface="Trebuchet MS"/>
              <a:buChar char="-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ТУПИВШЕЕ В ЗАКОННУЮ СИЛУ РЕШЕНИЕ СУДА РК О ЛИКВИДАЦИИ ОРГАН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ВЯЗИ С ОСУЩЕСТВЛЕНИЕМ ЕЮ ТЕРРОРИСТИЧЕСКОЙ ДЕЯТЕЛЬНОСТ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ЭКСТРЕМ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10800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ЯВЛЯЕТСЯ ОСНОВАНИЕМ ДЛЯ ИСКЛЮЧЕНИЯ ОРГАНИЗАЦИИ И ФИЗИЧЕСКОГО ЛИЦАИЗ ПЕРЕЧНЯ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 ТЕРРОРИЗМА И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ЛИЧИЕ ДОКУМЕНТАЛЬНО ПОДТВЕРЖДЕННЫХ ДАННЫХ О ПОГАШЕНИИ ИЛИ СНЯТ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ДИМОСТИ С ФИЗ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ЖДЕННОГО ЗА СОВЕРШЕНИЕ ЭКСТРЕМИСТСКОГО 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ОРИСТИЧЕСКОГО ПРЕСТУП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10800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РАССМАТРИВАЕТ ЗАЯВЛЕНИЕ ОБ ИСКЛЮЧЕНИИ ОРГАНИЗАЦИИ ИЛИ ФИЗИЧЕСКОГОЛИЦА ИЗ ПЕРЕЧНЯ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 ПО ФИНАНСОВОМУ МОНИТОРИНГ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Т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12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УНКТ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7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БЗАЦ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10800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ОПРЕДЕЛЯЕТСЯ ПОРЯДОК ВЫПЛАТЫ СРЕДСТВ ФИЗИЧЕСКОМУ ЛИЦ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МУ В ПЕРЕЧЕНЬ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ЛЯ ОБЕСПЕЧЕНИЯ СВОЕЙ ЖИЗНЕДЕЯТЕЛЬНОСТ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108000">
              <a:lnSpc>
                <a:spcPct val="117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ИХ СЛУЧАЯХ ФИЗИЧЕСКОЕ ЛИЦ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Е В ПЕРЕЧЕНЬ ОРГАНИЗАЦИЙ И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ПРАВЕОБРАТИТЬСЯ К СУБЪЕКТУ ФИНАНСОВОГО МОНИТОРИНГА ДЛЯ ОСУЩЕСТВЛЕНИЯОПЕРАЦИЙ С ДЕНЬГАМИ ИЛИ ИНЫМ ИМУЩЕСТВ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МИ В ВИДЕ ОПЛАТЫ ТРУДОВОГО ОТПУСКА ИЛИ ЗАРАБОТНОЙ ПЛАТЫ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АЗМЕР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ПРЕВЫШАЮЩЕМ МИНИМАЛЬНОГО РАЗМЕРА ЗАРАБОТНОЙ ПЛАТ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НОГО НА СООТВЕТСТВУЮЩИЙ ФИНАНСОВЫЙ ГОД ЗАКОНОМ О РЕСПУБЛИКАНСКОМ БЮДЖЕТ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КАЛЕНДАРНОГО МЕСЯЦА ИЗ РАСЧЕТА НА КАЖДОГО ЧЛЕНА СЕМЬ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 ОРГАНИЗАЦИИ И ФИЗИЧЕСКОГО ЛИЦА ИЗ ПЕРЕЧНЯ ЯВЛЯЕТС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ОСНОВАНИЕМ ДЛЯ ОТМЕНЫ ПРИМЕНЕНИЯ МЕР ПО ЗАМОРАЖИ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 ПРИНАДЛЕЖАЩИ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Google Shape;148;p21"/>
          <p:cNvSpPr/>
          <p:nvPr/>
        </p:nvSpPr>
        <p:spPr>
          <a:xfrm>
            <a:off x="63360" y="115920"/>
            <a:ext cx="741960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244440">
              <a:lnSpc>
                <a:spcPct val="117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2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АВА У ФИЗИЧЕСКОГО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 ОРГАНИЗАЦИИ И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5680" indent="2444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5680" indent="2444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ПРАВЕ ОБРАТИТЬСЯ В УПОЛНОМОЧЕННЫЙ ОРГАН С ПИСЬМЕННЫМ МОТИВИРОВАН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5680" indent="24444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ЯВЛЕНИЕМ О ЧАСТИЧНОЙ ИЛИ ПОЛНОЙ ОТМЕНЕ ПРИМЕНЯЕМЫХ МЕР ПО ЗАМОРАЖИ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Google Shape;149;p21"/>
          <p:cNvSpPr/>
          <p:nvPr/>
        </p:nvSpPr>
        <p:spPr>
          <a:xfrm>
            <a:off x="-1440" y="2255760"/>
            <a:ext cx="7519680" cy="10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9960" indent="-9540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13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ДЕЙСТВИЯ ДОЛЖЕН ПРОИЗВЕСТИ УПОЛНОМОЧЕННЫЙ ОРГАН ПО ФИНАНСОВОМУ МОНИТОРИНГУ В СЛУЧАЕ ВЫЯВЛЕНИЯ ИМУЩЕСТВА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ФИНАНСИРОВАНИЕМ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ЗАМЕДЛИТЕЛЬНО ПЕРЕДАЕТ ТАКИЕ СВЕДЕНИЯ В ГЕНЕРАЛЬНУЮ ПРОКУРАТУР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УБЛИКИ КАЗАХСТАН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954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О ПРИЗНАЮТ ПОД ЧЛЕНАМИ СЕМЬИ ФИЗИЧЕСКОГО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2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ПРУГ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ПРУГ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ВМЕСТНЫЕ ИЛИ ОДНОГО ИЗ СУПРУГОВ НЕСОВЕРШЕННОЛЕТ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Т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ТОМ ЧИСЛЕ УСЫНОВЛЕННЫ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ХОДЯЩИЕСЯ НА ИЖДИВЕНИИ ИЛИ ПОД ОПЕК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ПЕЧИТЕЛЬСТВ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ОДИТЕЛИ И РОДИТЕЛИ СУПРУГ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ПРУГ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ХОДЯЩИЕС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ЖДИВЕН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9540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ОСУДАРСТВЕННЫЕ ОРГАНЫ РЕСПУБЛИКИ КАЗАХСТАН В ПРЕДЕЛАХ СВОЕЙ КОМПЕТЕНЦИИ ОСУЩЕСТВЛЯЮ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НТРОЛЬ ЗА СОБЛЮДЕНИЕМ СУБЪЕКТАМИ ФИНАНСОВОГО МОНИТОРИНГА ЗАК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6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ВХОДИТ В ОБЯЗАННОСТИ ГОСУДАРСТВЕННЫХ ОРГАНОВ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В ПРЕДЕЛАХ СВОЕЙ КОМПЕТЕНЦИИ КОНТРОЛ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СОБЛЮДЕНИЕМ СУБЪЕКТАМИ ФИНАНСОВОГО МОНИТОРИНГА ЗАКОНОДАТЕЛЬСТВАРЕСПУБЛИКИ КАЗАХСТАН 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ТЬ ИНФОРМАЦ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ЕДЕНИЯ И ДОКУМЕНТ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ОМУ ОРГАН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Google Shape;154;p22"/>
          <p:cNvSpPr/>
          <p:nvPr/>
        </p:nvSpPr>
        <p:spPr>
          <a:xfrm>
            <a:off x="12600" y="36360"/>
            <a:ext cx="7475040" cy="13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12800" indent="-41292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7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ОСУДАРСТВЕННЫЕ ОРГАНЫ РЕСПУБЛИКИ КАЗАХСТАН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ВЫШЕПЕРЕЧИСЛЕННО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Б ОПЕРАЦИ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ОМУ ОРГАНУ В СФЕРЕВНЕШНЕЙ РАЗВЕД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ЯЕТСЯ В ПОРЯДК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ПРЕДЕЛЯЕМЫМ СОВМЕСТНЫМ НОРМАТИВНЫМ ПРАВОВЫМ АК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ОГО ОРГАНА В СФЕРЕ ВНЕШНЕЙ РАЗВЕДК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ЕНЕРАЛЬНОЙ ПРОКУРАТУРЫ РЕСПУБЛИКИ КАЗАХСТАН И УПОЛНОМОЧЕННОГО ОРГАН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ЕМ НЕ ЯВЛЯЕТСЯ ПЕРЕДАЧА СВЕДЕНИЯ И ИНФОРМАЦИИ ОБ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ОМ ЧИСЛЕ 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ОЗРИТЕЛЬНОЙ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ЯВЛЯЕТСЯ РАЗГЛАШЕНИЕМ СЛУЖЕБНО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ММЕРЧЕСКО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АНКОВСКОЙ ИЛИ И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ХРАНЯЕМОЙ ЗАКОНОМ ТАЙНЫ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1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Й ИЗ НИЖЕ ПЕРЕЧИСЛЕННЫХ ПЕРЕЧНЕЙ СОСТАВЛЯЕТСЯ УПОЛНОМОЧЕННЫМ ОРГАНОМ ПО ФИНАНСОВОМУ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Й И ЛИЦ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РАСПРОСТРАНЕНИЯ ОРУЖ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АССОВОГО УНИЧТОЖ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ДЕ РАЗМЕЩАЕТСЯ ПЕРЕЧЕНЬ ФИНАНСИРОВАНИЯ РАСПРОСТРАНЕНИЯ 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АЗМЕЩАЕТСЯ НА ИНТЕРНЕТ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УРСЕ УПОЛНОМОЧЕННОГО ОРГАНА ПО ФИНАНСОВОМ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21000"/>
              </a:lnSpc>
              <a:buClr>
                <a:srgbClr val="000000"/>
              </a:buClr>
              <a:buFont typeface="Trebuchet MS"/>
              <a:buAutoNum type="arabicPeriod" startAt="1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НЕЗАМЕДЛИТЕЛЬН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О НЕ ПОЗДНЕЕ ОДНОГО РАБОЧЕГО ДНЯ СО ДНЯ ПРИНЯТИЯ РЕШЕНИЯ ОБ ИСКЛЮЧЕНИИ ОРГАНИЗАЦИИ ИЛИФИЗИЧЕСКОГО ЛИЦ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З ПЕРЕЧНЯ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ФИНАНСИРОВАНИ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АСПРОСТРАНЕНИЯ 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ЗМЕЩАЕТ НА СВОЕМ ИНТЕРНЕ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УРСЕ ТАКОЕ РЕШЕНИЕ И НАПРАВЛЯЕТ ЕГОСООТВЕТСТВУЮЩИМ ГОСУДАРСТВЕННЫМ ОРГАНАМ И ОРГАНИЗАЦИЯ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ИЗ НИЖЕПЕРЕЧИСЛЕННЫХ ВПРАВЕ ОБРАТИТЬСЯ В УПОЛНОМОЧЕННЫЙ ОРГАН ПО ФИНАНСОВОМУ МОНИТОРИНГУ С ПИСЬМЕННЫМ МОТИВИРОВАН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ЯВЛЕНИЕМ ОБ ИХ ИСКЛЮЧЕНИИ ИЗ ПЕРЕЧНЯ ФИНАНСИРОВАНИЯ 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 ИЛИ ФИЗИЧЕСКИЕ ЛИЦ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ШИБОЧНО ВКЛЮЧЕННЫЕ В ПЕРЕЧЕН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Google Shape;159;p23"/>
          <p:cNvSpPr/>
          <p:nvPr/>
        </p:nvSpPr>
        <p:spPr>
          <a:xfrm>
            <a:off x="-1440" y="25560"/>
            <a:ext cx="7519680" cy="13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8880" indent="-409680">
              <a:lnSpc>
                <a:spcPct val="120000"/>
              </a:lnSpc>
              <a:buClr>
                <a:srgbClr val="000000"/>
              </a:buClr>
              <a:buFont typeface="Trebuchet MS"/>
              <a:buAutoNum type="arabicPeriod" startAt="24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Е ДЕЙСТВИЕ МОЖЕТ ПОСЛЕДОВАТЬ ПОСЛЕ РЕШЕНИЯ УПОЛНОМОЧЕННОГООРГАНА ПО ФИНАНСОВОМУ МОНИТОРИНГУ ПО ИСКЛЮЧЕНИЮ ИЗ ПЕРЕЧНЯФИНАНСИРОВАНИЯ ОРУЖИЯ МАССОВО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ОЖЕТ БЫТЬ ОБЖАЛОВАНО ЗАЯВИТЕЛЕМ В СУД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>
              <a:lnSpc>
                <a:spcPct val="121000"/>
              </a:lnSpc>
              <a:buClr>
                <a:srgbClr val="000000"/>
              </a:buClr>
              <a:buFont typeface="Trebuchet MS"/>
              <a:buAutoNum type="arabicPeriod" startAt="2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ХОТЯ БЫ ОДНА ИЗ СТОРОН ОПЕРАЦИЙ ЯВЛЯЕТСЯ ЛИЦ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ЫМ В ПЕРЕЧЕНЬ ФИНАНСИРОВАНИЯ ОРУЖИЯ МАССОВО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3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ШЕНИЕ О ПРИОСТАНОВЛЕНИИ ПРОВЕДЕНИЯ ОПЕРАЦИИ ДОВОДИТСЯ Д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 СУБЪЕКТА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СЛЕ ПРИНЯТИЯ РЕШЕНИЯ О ПРИОСТАНОВЛЕНИИ ПРОВЕДЕНИЯ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НИМАЕТ РЕШЕНИЕ О ПРОВЕДЕНИИ ОПЕРАЦИИ ЛИБ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КАЗЕ В ПРОВЕДЕНИИ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РЕ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 algn="just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 НЕПОЛУЧЕНИЯ СУБЪЕКТОМ ФИНАНСОВОГО МОНИТОРИНГА В ТЕЧЕНИЕ ДВАДЦАТИ ЧЕТЫРЕХ ЧАСОВ С МОМЕНТА СООБЩЕНИЯ ИНФОРМАЦИИ РЕШЕНИЯ УПОЛНОМОЧЕННОГО ОРГАНА О ПРИОСТАНОВЛЕНИИ ПРОВЕ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 ОПЕРАЦИЯ ДОЛЖНА БЫТЬ ПРОВЕДЕН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 НЕ ИМЕЮТСЯ ИНЫЕ ОСНОВА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УСМОТРЕННЫЕ ЗАКОНАМИ РЕСПУБЛИ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ПЯТСТВУЮЩИЕ ПРОВЕДЕНИЮ ТАКОЙ 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ЕРЕСЕЧЕНИИ ГОСУДАРСТВЕННОЙ ГРАНИЦЫ РЕСПУБЛИКИ КАЗАХСТАН ФИЗИЧЕСКИМИ ЛИЦА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ЫМИ В ПЕРЕЧЕНЬ ФИНАН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 ПО ФИНАНСОВОМУ МОНИТОРИНГУ УВЕДОМЛЯЕТ КОМИТ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Б О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2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ЛАГОТВОРИТЕЛЬНЫЕ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РЕЛИГИОЗНЫЕ ОБЪЕДИН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РАЩАЮЩИЕСЯ ЗА ДОБРОВОЛЬНЫМИ ПОЖЕРТВОВАНИЯМИ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ТЬ ПЛАТЕЖИ И ПЕРЕВОДЫ ДЕНЕГ ПО ОБРАЩЕНИЮ ТРЕТЬИХ ЛИЦ ЛИБО П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БСТВЕННОЙ ИНИЦИАТИВЕ ЧЕРЕЗ СУБЪЕКТОВ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ЛАГОТВОРИТЕЛЬНЫЕ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РЕЛИГИОЗНЫЕ ОБЪЕДИН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РАЩАЮЩИЕСЯ ЗА ДОБРОВОЛЬНЫМИ ПОЖЕРТВОВАНИЯМИ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ТЬ ПО ЗАПРОСУ ФИНАНСОВУЮ ОТЧЕТНОСТЬ О ПРОВЕДЕННЫХ ОПЕРАЦИЯХ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 И ИНФОРМАЦИЮ О ВЫЯВЛЕННЫХ РИСКАХ УПОЛНОМОЧЕННОМУ ОРГ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Google Shape;164;p24"/>
          <p:cNvSpPr/>
          <p:nvPr/>
        </p:nvSpPr>
        <p:spPr>
          <a:xfrm>
            <a:off x="73080" y="7920"/>
            <a:ext cx="7399080" cy="12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5280" indent="-342720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31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БЛАГОТВОРИТЕЛЬНЫЕ ОРГАНИЗАЦИИ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А ТАКЖЕ РЕЛИГИОЗНЫЕ ОБЪЕДИНЕНИЯ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ОБРАЩАЮЩИЕСЯ ЗА ДОБРОВОЛЬНЫМИ ПОЖЕРТВОВАНИЯМИ ОБЯЗАНЫ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4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ХРАНИТЬ НЕ МЕНЕЕ ПЯТИ ЛЕТ ИНФОРМАЦИЮ О ПРОВЕДЕННЫХ ОПЕРАЦИЯХ С ДЕНЬГАМИ И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ДЛЕЖАЩИМ ОБЯЗАТЕЛЬНОЙ ГОСУДАРСТВЕННОЙ РЕГИСТРАЦИИ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А ТАКЖЕ ОБ УЧРЕДИТЕЛЯХ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УЧАСТНИКАХ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2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 НАЛИЧИЯ У БЛАГОТВОРИТЕЛЬНОЙ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РЕЛИГИОЗНЫХ ОБЪЕДИНЕНИЙ ПОДОЗРЕНИЯ ОБ ИХ ИСПОЛЬЗОВАНИИ В ЦЕЛ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Я ТЕРРОРИЗМА ОНИ НАПРАВЛЯЮТ СООТВЕТСТВУЮЩУЮ 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7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 РАЗМЕЩАЕ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 ИНТЕРНЕТ РЕСУРСЕ УПОЛНОМОЧЕННОГО ОРГА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ЧЕНЬ ФИНАНСИРОВАНИЯ РАСПРОСТРАНЕНИЯ ОРУЖИЯ МАССОВОГО УНИЧТОЖЕНИЯ РАЗМЕЩАЕ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 ИНТЕРНЕТ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УРСЕ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ЕНА ПРИГОВОРА СУДА РЕСПУБЛИКИ КАЗАХСТАН О ПРИЗНАНИИ ФИЗИЧЕСКОГО ЛИЦА ВИНОВНЫМ В СОВЕРШЕНИИ ЭКСТРЕМИСТСКОГО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СТИЧЕСКОГО ПРЕСТУПЛЕН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ОСНОВАНИЕМ ДЛЯ ИСКЛЮЧЕНИЯ ЛИЦА ИЗ ПЕРЕЧН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ЛИЧИЕ ДОКУМЕНТАЛЬНО ПОДТВЕРЖДЕННЫХ ДАННЫХО СМЕРТИ ФИЗИЧЕСКОГО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МЕ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УДЕТ ЯВЛЯТЬ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ОСНОВАНИЕМ ДЛЯ ИСКЛЮЧЕНИЯ ИЗ ПРАВИ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4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ХОЖДЕНИЕ ОРГАНИЗАЦИИ ИЛИ ФИЗИЧЕСКОГО ЛИЦА В ПЕРЕЧНЕ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ТЕРРОРИСТИЧЕСКИМИ ОРГАНИЗАЦИЯМИ ИЛИ ТЕРРОРИСТА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ОСТАВЛЯЕМОМ МЕЖДУНАРОДНЫМИ ОРГАНИЗАЦИЯ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МИ ПРОТИВОДЕЙСТВИЕ ТЕРРОРИЗМ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МИ ИМИ ОРГАНАМИ В СООТВЕТСТВИИ С МЕЖДУНАРОДНЫМИ ДОГОВОРАМИ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ОСНОВАНИЕМ ДЛЯ ВКЛЮЧЕНИЯ ТАКОГО ЛИЦА В ПЕРЕЧЕНЬ ОРГАНИЗАЦИИ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Ц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Google Shape;169;p25"/>
          <p:cNvSpPr/>
          <p:nvPr/>
        </p:nvSpPr>
        <p:spPr>
          <a:xfrm>
            <a:off x="1440" y="25560"/>
            <a:ext cx="7500600" cy="136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87600" indent="-1390680">
              <a:lnSpc>
                <a:spcPct val="119000"/>
              </a:lnSpc>
              <a:buClr>
                <a:srgbClr val="000000"/>
              </a:buClr>
              <a:buFont typeface="Trebuchet MS"/>
              <a:buAutoNum type="arabicPeriod" startAt="38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М ФИНАНСОВОГО МОНИТОРИНГА ЗАПРЕЩАЕТСЯ УСТАНАВЛИВАТЬ ДЕЛОВЫЕ ОТНОШЕНИЯ ДИСТАНЦИОНН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21000"/>
              </a:lnSpc>
              <a:buClr>
                <a:srgbClr val="000000"/>
              </a:buClr>
              <a:buFont typeface="Trebuchet MS"/>
              <a:buAutoNum type="arabicPeriod" startAt="3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МИТЕТОМ МЕЖДУНАРОДНОГО ФИНАНСОВОГО ЦЕНТР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СТАН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 РЕГУЛИРОВАНИЮ ФИНАНСОВЫХ УСЛУГ ПО СОГЛАСОВАНИЮ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М ОРГАНОМ УСТАНАВЛИВАЕТ ДЛЯ СВОИХ УЧАСТНИК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РЕБОВАНИЯ К НАДЛЕЖАЩЕЙ ПРОВЕРКЕ КЛИЕНТОВ В СЛУЧАЕ ДИСТАНЦИОННО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ИЯ ДЕЛОВЫХ ОТНОШЕНИЙ С СУБЪЕКТАМИ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 startAt="3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НЕ ЯВЛЯЕТСЯ СУБЪЕКТО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Е ОРГА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3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ПРИНИМАЕТ РЕШЕНИЕ О НАЛОЖЕНИИ АРЕСТА НА ИМУЩЕСТВО В СЛУЧАЕ ВЫЯВЛЕНИЯ ЕГО У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ЕНЕРАЛЬНАЯ ПРОКУРАТУ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3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ТАКОЕ ПОДОЗРИТЕЛЬНАЯ ОПЕРАЦИЯ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ПЕРАЦИЯ КЛИЕНТА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КЛЮЧАЯ ПОПЫТКУ СОВЕРШЕНИЯ ТАКОЙ ОПЕРАЦИ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ПЕРАЦ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ХОДЯЩУЮСЯ В ПРОЦЕССЕ СОВЕРШЕНИЯ ИЛИ УЖЕ СОВЕРШЕННУЮ ОПЕРАЦ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И КОТОРОЙ ВОЗНИКАЮТ ПОДОЗРЕНИЯ О ТО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ДЕНЬГИ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Е ИМУЩЕСТВ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ПОЛЬЗУЕМЫЕ ДЛЯ ЕЕ СОВЕРШЕ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ЯВЛЯЮТСЯ ДОХОДОМ ОТ ПРЕСТУПНОЙ ДЕЯТЕЛЬНОСТ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САМА ОПЕРАЦИЯ НАПРАВЛЕНА НА ЛЕГАЛИЗАЦИЮ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Е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 ФИНАНСИРОВАНИЕ ТЕРРОРИЗМА ЛИБО ИНУЮ ПРЕСТУПНУЮ ДЕЯТЕЛЬ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 startAt="3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ЙСТВИЯ ФИЗИЧЕСКИХ И ЮРИДИЧЕСКИХ ЛИЦ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УЩЕСТВОМ НЕЗАВИСИМО ОТ ФОРМЫ И СПОСОБА ИХ ОСУЩЕСТВЛЕ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ПРАВЛЕННЫЕ НА УСТАНОВЛЕНИЕ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ЗМЕНЕНИЕ ИЛИ ПРЕКРАЩЕНИЕ СВЯЗАННЫХ С НИМИ ГРАЖДАНСКИХ ПРАВ И ОБЯЗАННОСТ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МОРАЖИВАНИЕ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РЫ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НИМАЕМЫЕ СУБЪЕКТАМИ ФИНАНСОВОГО МОНИТОРИНГА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МИ ОРГАНАМИ ПО ПРИОСТАНОВЛЕНИЮ ПЕРЕДАЧ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ОБРАЗОВА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ЧУЖДЕНИЯ ИЛИ ПЕРЕМЕЩЕНИЯ ДЕНЕГ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ГО ИМУЩЕ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Google Shape;50;p8"/>
          <p:cNvSpPr/>
          <p:nvPr/>
        </p:nvSpPr>
        <p:spPr>
          <a:xfrm>
            <a:off x="479520" y="569880"/>
            <a:ext cx="663048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СТЫ ПО ПЕРЕДАЧЕ 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Google Shape;51;p8"/>
          <p:cNvSpPr/>
          <p:nvPr/>
        </p:nvSpPr>
        <p:spPr>
          <a:xfrm>
            <a:off x="100080" y="1065240"/>
            <a:ext cx="7327440" cy="10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300" spc="-1" strike="noStrike">
                <a:solidFill>
                  <a:srgbClr val="202020"/>
                </a:solidFill>
                <a:latin typeface="Calibri"/>
                <a:ea typeface="Calibri"/>
              </a:rPr>
              <a:t>1</a:t>
            </a:r>
            <a:r>
              <a:rPr b="0" lang="en-US" sz="23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5680" indent="-95400">
              <a:lnSpc>
                <a:spcPct val="111000"/>
              </a:lnSpc>
              <a:spcBef>
                <a:spcPts val="601"/>
              </a:spcBef>
              <a:buClr>
                <a:srgbClr val="20202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СЛУЧАЕ ВОЗНИКНОВЕНИЯ ОШИБОК ПРИ ОТПРАВЛЕНИИ СООБЩЕНИЯ ФОРМЫ ФМ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-1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УЮ ИНФОРМАЦИЮ НЕОБХОДИМО ПЕРЕДА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СУБЪЕКТУ ФИНАНСОВОГО МОНИТОРИНГА В ТЕХНИЧЕСКУЮ СЛУЖБУ ПОДДЕРЖКИ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ПРОС ЗАМЕНЫ СООБЩЕН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 УКАЗАНИЕМ НОМЕРА СООБЩ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95400">
              <a:lnSpc>
                <a:spcPct val="117000"/>
              </a:lnSpc>
              <a:buClr>
                <a:srgbClr val="202020"/>
              </a:buClr>
              <a:buFont typeface="Calibri"/>
              <a:buAutoNum type="arabicPeriod" startAt="2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 НАПРАВЛЕНИИ СООБЩЕНИЯ ФОРМЫ ФМ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-1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СУБЪЕКТОМ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ЬЗОВАТЕЛЬ С КАКОЙ РОЛЬЮ МОЖЕТ ПОДПИСАТЬ И ОТПРАВИТЬ СООБЩЕНИЕ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ВЕТСТВЕННОЕ ЛИЦ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95400">
              <a:lnSpc>
                <a:spcPct val="100000"/>
              </a:lnSpc>
              <a:spcBef>
                <a:spcPts val="1001"/>
              </a:spcBef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АЯ КОДИРОВКА СИМВОЛОВ ПРИМЕНЯТСЯ ДЛЯ ПРЕДОСТАВЛЕНИЯ ДАННЫХ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UTF-1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95400">
              <a:lnSpc>
                <a:spcPct val="113000"/>
              </a:lnSpc>
              <a:spcBef>
                <a:spcPts val="901"/>
              </a:spcBef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ЧТО СОДЕРЖИТ В СЕБЕ ИЗВЕЩЕНИЕ О ПРИНЯТИИ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/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НЕПРИНЯТИИ ФОРМЫ ФМ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-1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95400" algn="ctr">
              <a:lnSpc>
                <a:spcPct val="113000"/>
              </a:lnSpc>
              <a:buClr>
                <a:srgbClr val="ff1515"/>
              </a:buClr>
              <a:buFont typeface="Trebuchet MS"/>
              <a:buAutoNum type="arabicPeriod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ЧИНА НЕПРИНЯТ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КАЗЫВАЕТСЯ ТОЛЬКО В СЛУЧАЕ НЕПРИНЯТИЯ ФОРМЫ Ф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1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РАНИТЬ ПРИЧИНЫ НА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ЕННОЙ В ИСКАЖЕННОМ ВИДЕ ИЛИ НЕПОЛНОМ ОБЪЕМ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1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АБОЧЕГО ДНЯ СО ДНЯ ПОЛУЧЕНИЯ НАСТОЯЩЕГО ИЗВЕЩЕНИЯ ИСПРАВИТЬ НЕПРИНЯТО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ОБЩЕНИЕ ОБ ОПЕРАЦ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 ФИНАНСОВОМУ МОНИТОРИНГ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ИТЬ ЕГО ПОВТОР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34920">
              <a:lnSpc>
                <a:spcPct val="121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ПУСТИМЫЙ РАЗМЕР ФАЙЛА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ТОРЫЙ ОТПРАВЛЯЕТСЯ СУБЪЕКТОМ ФИНАНСОВОГО МОНИТОРИНГА В ОТВЕТ НА ЗАПРОС ДОПОЛНИТЕЛЬ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2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НФОРМАЦИИ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КСТОВАЯ СТРОК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00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ИМВОЛОВ ИЛ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34920">
              <a:lnSpc>
                <a:spcPct val="111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МАКСИМАЛЬНЫЙ ОБЪЕМ ТЕКСТОВОГО ПОЛЯ ОТВЕТА НА ЗАПРОС ДОПОЛНИТЕЛЬНОЙ ИНФОРМАЦИИ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КСТОВАЯ СТРОК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00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ИМВОЛ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Google Shape;52;p8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Google Shape;174;p26"/>
          <p:cNvSpPr/>
          <p:nvPr/>
        </p:nvSpPr>
        <p:spPr>
          <a:xfrm>
            <a:off x="1440" y="565200"/>
            <a:ext cx="7511760" cy="11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44480" indent="-5666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45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ТАКИЕ ИНДИВИДУАЛЬНЫЕ ПРЕДПРИНИМАТЕЛИ И ЮРИДИЧЕСКИЕ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ПЕРАЦИИ С ДРАГОЦЕННЫМИ МЕТАЛЛАМИ И ДРАГОЦЕННЫМИ КАМНЯ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ЮВЕЛИРНЫМИ ИЗДЕЛИЯМИ ИЗ НИ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Ц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Е КУПЛ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ОДАЖУ ДРАГОЦЕННЫХ МЕТАЛЛОВ И ДРАГОЦ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АМНЕ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ВЕЛИРНЫХ ИЗДЕЛИЙ ИЗ НИХ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 РЕЛИГИОЗНЫХ ОРГАНИЗАЦИ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УЗЕЕВ И ОРГАНИЗАЦИ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ПОЛЬЗУЮЩИХ ДРАГОЦЕННЫЕ МЕТАЛЛЫ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ХИМИЧЕСКИЕ СОЕДИНЕ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РАГОЦЕННЫЕ КАМНИ В МЕДИЦИНСКИХ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УЧН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СЛЕДОВАТЕЛЬСКИХ ЦЕЛЯХ ЛИБО В СОСТАВЕ ИНСТРУМЕНТ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БОР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ОРУДОВАНИЯ И ИЗДЕЛИЙ ПРОИЗВОДСТВЕНН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ХНИЧЕСКОГО НАЗНАЧ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ЕНЕФИЦИАРНЫЙ СОБСТВЕННИК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ОЕ ЛИЦ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ТОРОМУ ПРЯМО ИЛИ КОСВЕННО ПРИНАДЛЕЖАТ БОЛЕЕ ДВАДЦАТИ ПЯТИ ПРОЦЕНТОВ ДОЛЕЙ УЧАСТИЯ В УСТАВНОМ КАПИТАЛЕ ЛИБО РАЗМЕЩЕННЫХ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 ВЫЧЕ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ВИЛЕГИРОВАННЫХ И ВЫКУПЛЕННЫХ ОБЩЕСТВО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КЦИЙ КЛИЕНТА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ЕЕ КОНТРОЛЬ НАД КЛИЕНТОМ ИНЫМ ОБРАЗО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ИНТЕРЕСАХ КОТОРОГО КЛИЕНТОМ СОВЕРШАЮТСЯ ОПЕРАЦИИ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 startAt="4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ЕЗАВИСИМЫЙ СПЕЦИАЛИСТ ПО ЮРИДИЧЕСКИМ ВОПРОСАМ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ОЕ ЛИЦ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КАЗЫВАЮЩЕЕ ЮРИДИЧЕСКИЕ УСЛУГИ КАК САМОСТОЯТЕЛЬН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А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14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В КАЧЕСТВЕ ПАРТНЕРА ИЛИ РАБОТНИКА НА ОСНОВАНИИ ТРУДОВОГО ДОГОВОРА С СУБЪЕКТОМ ПРЕДПРИНИМАТЕЛЬСТВ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КАЗЫВАЮЩЕГО ЮРИДИЧЕСКУЮ ПОМОЩ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4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ЛИЕНТ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ОЕ ИЛИ ЮРИДИЧЕСКОЕ ЛИЦ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АЮЩЕЕ УСЛУГИ СУБЪЕК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4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РРЕСПОНДЕНТСКИЕ ОТНОШЕНИЯ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ГОВОРНЫЕ ОТНОШЕ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ОЗНИКАЮЩИЕ ПРИ ОТКРЫТИИ БАНКАМ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ЯМ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МИ ОТДЕЛЬНЫЕ ВИДЫ БАНКОВСКИХ ОПЕРАЦИ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РРЕСПОНДЕНТСКИХ СЧЕТОВ ДРУГИМ БАНКАМ С ЦЕЛЬЮ СОВЕРШЕНИЯ ОПЕРАЦИ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ОСУЩЕСТВЛЕНИЕМ БАНКОВСКОГО ОБСЛУЖИ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Google Shape;179;p27"/>
          <p:cNvSpPr/>
          <p:nvPr/>
        </p:nvSpPr>
        <p:spPr>
          <a:xfrm>
            <a:off x="-12600" y="301680"/>
            <a:ext cx="7538760" cy="146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03600">
              <a:lnSpc>
                <a:spcPct val="11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ШИР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indent="-88560">
              <a:lnSpc>
                <a:spcPct val="113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АНК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РЕЗИДЕНТ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ТОРЫЙ НЕ ИМЕЕТ ФИЗИЧЕСКОГО ПРИСУТСТВИЯ В ГОСУДАРСТВ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ИТОР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КОТОРОМ ОН ЗАРЕГИСТРИРОВАН В КАЧЕСТВЕ БАНКА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ИЛ ЛИЦЕНЗИЮ НА ОСУЩЕСТВЛЕНИЕ БАНКОВСКОЙ ДЕЯТЕЛЬНОСТ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ХОЖДЕНИЯ ТАКОГО БАНКА В ПРЯМОМ ИЛИ КОСВЕННОМ ВЛАДЕНИИ БАНКОВСКОГО ХОЛДИНГ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ГО КОНСОЛИДИРОВАННОМУ НАДЗОРУ В ГОСУДАРСТВ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ИТОР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КОТОРОМ ОН ЗАРЕГИСТРИРОВ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28840" indent="-258840">
              <a:lnSpc>
                <a:spcPct val="113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ЫЙ МОНИТОРИНГ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ВОКУПНОСТЬ МЕР ПО СБОР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РАБОТК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НАЛИЗУ И ИСПОЛЬЗОВАНИЮ СВЕДЕНИЙ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 ОБ ОПЕРАЦИЯХ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ЕМЫХ УПОЛНОМОЧЕННЫМ ОРГАНОМ ПО ФИНАНСОВОМУ МОНИТОРИНГУ И СУБЪЕКТОМ ФИНАНСОВОГО МОНИТОРИНГА В СООТВЕТСТВИИ С 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28840" indent="-258840">
              <a:lnSpc>
                <a:spcPct val="11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Е ФИНАНСОВОМУ МОНИТОРИНГУ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indent="-88560">
              <a:lnSpc>
                <a:spcPct val="113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КЛИЕНТА СУБЪЕКТА ФИНАНСОВОГО МОНИТОРИНГА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ОТНОШЕНИИ КОТОРЫХ В СООТВЕТСТВИИ С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 ФИНАНСОВЫЙ МОНИТОРИН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indent="-95400">
              <a:lnSpc>
                <a:spcPct val="113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НАЛИЧИВАНИЕ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ЙСТВ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ВЕРШАЕМЫЕ ФИЗИЧЕСКИМИ ИЛИ ЮРИДИЧЕСКИМИ ЛИЦАМИ С ЦЕЛЬ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ИЯ НАЛИЧНЫХ ДЕНЕГ ПУТЕМ ИСПОЛЬЗОВАНИЯ ДОКУМЕНТОВ ПРИ СОВЕРШЕНИИ МНИМОЙ СДЕЛК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ПРАВЛЕННОЙ НА ЛЕГАЛИЗАЦИЮ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indent="-95400">
              <a:lnSpc>
                <a:spcPct val="11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Ы ПОЛУЧЕННЫЕ ПРЕСТУПНЫМ ПУТЁМ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НЬГ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Е ИМУЩЕСТВ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Е В РЕЗУЛЬТАТЕ СОВЕРШ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ГОЛОВНОГО ПРАВОНАРУШ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Google Shape;184;p28"/>
          <p:cNvSpPr/>
          <p:nvPr/>
        </p:nvSpPr>
        <p:spPr>
          <a:xfrm>
            <a:off x="-12600" y="298440"/>
            <a:ext cx="7538760" cy="155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40240" indent="-335448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55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ОВЛЕЧЕНИЕ В ЗАКОННЫЙ ОБОРОТ ДЕНЕГ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ГО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СРЕДСТВОМ СОВЕРШЕНИЯ СДЕЛОК В ВИДЕ КОНВЕРСИИ ИЛИ ПЕРЕВОДА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ЯЮЩЕГО ДОХОДЫ ОТ УГОЛОВНЫХ ПРАВОНАРУШЕН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ВЛАДЕНИЕ И ИСПОЛЬЗОВАНИЕ ТАКОГО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КРЫТИЕ ИЛИ УТАИВАНИЕ ЕГО ПОДЛИННОГО ХАРАКТЕ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ТОЧНИК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СТА НАХОЖД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ПОСОБА РАСПОРЯЖ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ЕРЕМЕЩ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АВ НА ИМУЩЕСТВО ИЛИ ЕГО ПРИНАДЛЕЖНОСТ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 ИЗВЕСТН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ТАКОЕ ИМУЩЕСТВО ПРЕДСТАВЛЯЕТ ДОХОДЫ ОТ УГОЛОВНЫХ ПРАВОНАРУШЕН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РАВНО ПОСРЕДНИЧЕСТВО В ЛЕГАЛИЗАЦИИ ДЕНЕГ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ГО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 startAt="5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ОСУДАРСТВЕННАЯ ПОЛИТИКА В СФЕРЕ ПРОТИВОДЕЙСТВИЯ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АВОВЫ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ДМИНИСТРАТИВНЫЕ И ОРГАНИЗАЦИОННЫЕ МЕР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ПРАВЛЕННЫЕ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НИЖЕНИЕ РИСКОВ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Я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ИНЫЕ МЕРЫ В СООТВЕТСТВИИ С ЗАКОНОДАТЕЛЬСТВОМ 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>
              <a:lnSpc>
                <a:spcPct val="11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 startAt="5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ЦЕЛЕВЫЕ ФИНАНСОВЫЕ САНКЦИИ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РЫ ПО ЗАМОРАЖИВАНИЮ ОПЕРАЦИЙ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НИМАЕМЫЕ СУБЪЕКТАМИ ФИНАНСОВОГО МОНИТОРИНГА И ГОСУДАРСТВЕННЫМИ ОРГАНАМИ В СООТВЕТСТВИИ С 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РЕЗОЛЮЦИЯМИ СОВЕТА БЕЗОПАСНОСТИ ОРГАНИЗАЦИИ ОБЪЕДИНЕННЫХ НАЦ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НОСЯЩИМИСЯ К ПРЕДУПРЕЖДЕНИЮ И ПРЕДОТВРАЩЕНИЮ ТЕРРОРИЗМА И ФИНАНСИРОВАНИЯ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ПРЕДУПРЕЖДЕ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ОСПРЕПЯТСТВОВАНИЮ И ПРЕКРАЩЕНИЮ РАСПРОСТРАНЕНИЯ ОРУЖИЯ МАССОВОГО УНИЧТОЖЕНИЯ И ЕГО ФИНАН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Google Shape;189;p29"/>
          <p:cNvSpPr/>
          <p:nvPr/>
        </p:nvSpPr>
        <p:spPr>
          <a:xfrm>
            <a:off x="-12600" y="311040"/>
            <a:ext cx="1756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5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Google Shape;190;p29"/>
          <p:cNvSpPr/>
          <p:nvPr/>
        </p:nvSpPr>
        <p:spPr>
          <a:xfrm>
            <a:off x="2104920" y="301680"/>
            <a:ext cx="35110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 ТЕРРОРИЗМА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Google Shape;191;p29"/>
          <p:cNvSpPr/>
          <p:nvPr/>
        </p:nvSpPr>
        <p:spPr>
          <a:xfrm>
            <a:off x="31680" y="525600"/>
            <a:ext cx="7465680" cy="66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8100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ЕНИЕ ИЛИ СБОР ДЕНЕГ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ГО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АВА НА ИМУЩЕСТВО ИЛИ ВЫГОД ИМУЩЕСТВЕННОГО ХАРАКТЕ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ДАРЕНИ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Н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ЖЕРТВОВА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ЛАГОТВОРИТЕЛЬНАЯ ПОМОЩЬ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КАЗАНИЕ ИНФОРМАЦИОННЫХ И ИНОГО РОДА УСЛУГ ЛИБО ОКАЗАНИЕ ФИНАНСОВЫХ УСЛУГ ФИЗИЧЕСКОМУ ЛИЦУ ЛИБО ГРУППЕ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ОМУ ЛИЦ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ВЕРШЕННЫЕ ЛИЦ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ВЕДОМО ОСОЗНАВАВШИМ ТЕРРОРИСТИЧЕСКИЙ ХАРАКТЕР ИХ ДЕЯТЕЛЬНОСТИ ЛИБО Т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ПРЕДОСТАВЛЕННОЕ ИМУЩЕСТВ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КАЗАННЫЕ ИНФОРМАЦИОННЫ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ЫЕ И ИНОГО РОДА УСЛУГИ БУДУТ ИСПОЛЬЗОВАНЫ ДЛЯ ОСУЩЕСТВЛЕНИЯ ТЕРРОРИСТИЧЕСКОЙ ДЕЯТЕЛЬНОСТИ ЛИБО ОБЕСПЕЧЕНИЯ ТЕРРОРИСТИЧЕСКОЙ ГРУПП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ОРИСТИЧЕСКОЙ ОРГАНИЗАЦ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ЗАКОННОГО ВОЕНИЗИРОВАННОГО ФОРМ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>
              <a:lnSpc>
                <a:spcPct val="113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Й ОРГАН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Й ФИНАНСОВЫЙ МОНИТОРИНГ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НИМАЮЩИЙ ИНЫЕ МЕРЫ ПО ПРОТИВОДЕЙСТВИЮ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РАСПРОСТРАНЕНИЯ ОРУЖИЯ МАССОВОГО УНИЧТОЖЕНИЯ В СООТВЕТСТВИИ С 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Google Shape;192;p29"/>
          <p:cNvSpPr/>
          <p:nvPr/>
        </p:nvSpPr>
        <p:spPr>
          <a:xfrm>
            <a:off x="-12600" y="6170760"/>
            <a:ext cx="1756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Google Shape;193;p29"/>
          <p:cNvSpPr/>
          <p:nvPr/>
        </p:nvSpPr>
        <p:spPr>
          <a:xfrm>
            <a:off x="166680" y="6159600"/>
            <a:ext cx="71784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9000"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ОСТРАННОЕ ПУБЛИЧНОЕ ДОЛЖНОСТНОЕ ЛИЦО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Ц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ЗНАЧАЕМОЕ ИЛИ ИЗБИРАЕМО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НИМАЮЩЕЕ КАКУ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ДОЛЖНОСТЬ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00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КОНОДАТЕЛЬН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ПОЛНИТЕЛЬН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ДМИНИСТРАТИВН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ДЕБНОМ ОРГАНАХ ИЛИ ВООРУЖЕННЫХ СИЛАХ ИНОСТРАННОГО ГОСУДАР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00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ЮБОЕ ЛИЦ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ЫПОЛНЯЮЩЕЕ КАКУ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ПУБЛИЧНУЮ ФУНКЦИЮ ДЛЯ ИНОСТРАННОГО ГОСУДАР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0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Ц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НИМАЮЩЕЕ РУКОВОДЯЩУЮ ДОЛЖНОСТЬ В ОРГАНИЗАЦИЯХ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ЗДА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00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ТРАНАМИ НА ОСНОВЕ СОГЛАШЕН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ТОРЫЕ ИМЕЮТ СТАТУС МЕЖДУНАРОДНЫХ ДОГОВОР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Google Shape;194;p29"/>
          <p:cNvSpPr/>
          <p:nvPr/>
        </p:nvSpPr>
        <p:spPr>
          <a:xfrm>
            <a:off x="252360" y="8825040"/>
            <a:ext cx="700992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50880">
              <a:lnSpc>
                <a:spcPct val="11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61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МПЕТЕНТНЫЙ ОРГАН ИНОСТРАННОГО ГОСУДАРСТВА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5088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 ИНОСТРАННОГО ГОСУДАР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Й В СООТВЕТСТВИИ С Е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50880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КОНОДАТЕЛЬСТВОМ СБОР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РАБОТК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НАЛИЗ И ИСПОЛЬЗОВАНИЕ СВЕДЕНИЙ И ИНФОРМАЦИИ ОБ ОПЕРАЦИЯХ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Google Shape;199;p30"/>
          <p:cNvSpPr/>
          <p:nvPr/>
        </p:nvSpPr>
        <p:spPr>
          <a:xfrm>
            <a:off x="-12600" y="301680"/>
            <a:ext cx="7499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6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ОЕ ПРИСУТСТВИЕ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	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СТО ВЕДЕНИЯ ДЕЯТЕЛЬНОСТИ БАНК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АСПОЛОЖЕННОЕ ПО ПОСТОЯННОМУ АДРЕС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РОМЕ АДРЕСА ПОЧТОВОГО ЯЩИКА ИЛИ ЭЛЕКТРОННОГО АДРЕС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КОТОРОМ ИМЕЮ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Ы УПРАВЛЕНИЯ И ПЕРСОНАЛ БАНК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ЕДУТСЯ УЧЕТ И ХРАНЕНИЕ ДОКУМЕНТ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НОСЯЩИХСЯ К БАНКОВСКОЙ ДЕЯТЕЛЬНОСТ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ПРОВОДЯТСЯ ПРОВЕРКИ УПОЛНОМОЧЕННОГО ОРГАН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ЫДАВШЕГО БАНК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РЕЗИДЕНТУ ЛИЦЕНЗИЮ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ЕНИЕ БАНКОВСКОЙ ДЕЯТЕЛЬ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3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62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Ы ПОЛУЧЕННЫЕ ПРЕСТУПНЫМ ПУТЁМ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НЬГ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Е ИМУЩЕСТВ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Е В РЕЗУЛЬТАТЕ СОВЕРШ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ГОЛОВНОГО ПРАВОНАРУШ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Google Shape;200;p30"/>
          <p:cNvSpPr/>
          <p:nvPr/>
        </p:nvSpPr>
        <p:spPr>
          <a:xfrm>
            <a:off x="-12600" y="3508200"/>
            <a:ext cx="1756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6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Google Shape;201;p30"/>
          <p:cNvSpPr/>
          <p:nvPr/>
        </p:nvSpPr>
        <p:spPr>
          <a:xfrm>
            <a:off x="2558880" y="3498840"/>
            <a:ext cx="26474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ЛОВЫЕ ОТНОШЕНИЯ ЭТО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Google Shape;202;p30"/>
          <p:cNvSpPr/>
          <p:nvPr/>
        </p:nvSpPr>
        <p:spPr>
          <a:xfrm>
            <a:off x="3240" y="3722760"/>
            <a:ext cx="7540200" cy="80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400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Я С КЛИЕНТАМ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ОЗНИКАЮЩИЕ В ПРОЦЕССЕ ОСУЩЕСТВЛЕНИЯ СУБЪЕКТОМ ФИНАНСОВОГО МОНИТОРИНГА ПРОФЕССИОНАЛЬНОЙ ДЕЯТЕЛЬ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12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64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В КАКИХ СЛУЧАЯХ СУБЪЕКТЫ ФИНАНСОВОГО МОНИТОРИНГА ОБЯЗАНЫ ОТКАЗАТЬ ФИЗИЧЕСКОМУ ИЛИ ЮРИДИЧЕСКОМУ ЛИЦУ В УСТАНОВЛЕНИИ ДЕЛОВЫХ ОТНОШЕНИЙ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СЛУЧАЕ НЕВОЗМОЖНОСТИ ПРИНЯТИЯ МЕР НАДЛЕЖАЩЕЙ ПРОВЕРКИ СУБЪЕКТАМИ ФИНАНСОВОГО МОНИТОРИНГА КЛИЕН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000" indent="-95400" algn="just">
              <a:lnSpc>
                <a:spcPct val="114000"/>
              </a:lnSpc>
              <a:buClr>
                <a:srgbClr val="000000"/>
              </a:buClr>
              <a:buFont typeface="Trebuchet MS"/>
              <a:buAutoNum type="arabicPeriod" startAt="6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ПРАВЕ ОТКАЗАТЬ В ПРОВЕДЕНИИ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В УСТАНОВЛЕНИИ ДЕЛОВЫХ ОТНОШЕНИЙ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КРАТИТЬ ДЕЛОВЫЕ ОТНОШЕНИЯ С КЛИЕН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ЛИЧИЯ ПОДОЗРЕНИЙ О Т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ДЕЛОВЫЕ ОТНОШЕНИЯ ИСПОЛЬЗУЮТСЯ КЛИЕНТОМ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ЦЕЛЯХ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 ФИНАНСИРОВАНИЯ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9540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6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НАЛИЧИИ ПОДОЗРЕНИЙ О Т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ДЕЛОВЫЕ ОТНОШЕНИЯ ИСПОЛЬЗУЮТСЯ КЛИЕНТОМ В ЦЕЛЯХ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 ФИНАНСИРОВАНИЯ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 ФИНАНСОВОГО МОНИТОРИНГА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21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КАЗАТЬ КЛИЕНТУ В ПРОВЕДЕНИИ ОПЕРАЦИЙ С ДЕНЬГАМИ И </a:t>
            </a:r>
            <a:r>
              <a:rPr b="0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КАЗАТЬ В УСТАНОВЛЕНИИ ДЕЛОВЫХ ОТНОШЕНИЙ С КЛИЕН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ЕКРАТИТЬ ДЕЛОВЫЕ ОТНОШЕНИЯ С КЛИЕН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Google Shape;207;p31"/>
          <p:cNvSpPr/>
          <p:nvPr/>
        </p:nvSpPr>
        <p:spPr>
          <a:xfrm>
            <a:off x="-1440" y="298440"/>
            <a:ext cx="7536960" cy="12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0160" indent="-1872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67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МЕРЫ ПО ЗАМОРАЖИВАНИЮ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ОБЯЗАНЫ ПРЕДПРИНЯТЬ СУБЪЕКТЫ ФИНАНСОВОГО МОНИТОРИНГА НЕ ПОЗДНЕЕ ОДНОГО РАБОЧЕГО ДНЯ СО ДНЯ РАЗМЕЩЕНИЯ НА ИНТЕРНЕ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УРСЕ УПОЛНОМОЧЕННОГО ОРГАНА ПО ФИНАНСОВОМУ МОНИТОРИНГУ СПИСКА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ЧАСТНЫХ К ТЕРРОРИСТИЧЕСКОЙ ДЕЯТЕЛЬНОСТ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АЦИИ 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ИИ ОРГАНИЗАЦИИ ИЛИ ЛИЦА В ПЕРЕЧЕНЬ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В ПЕРЕЧЕНЬ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РАСПРОСТРАНЕНИЯ 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РИОСТАНАВЛИВАТЬ ИСПОЛНЕНИЕ УКАЗАНИЙ ПО ПЛАТЕЖУ ИЛИ ПЕРЕВОДУ ДЕНЕГ БЕЗ ИСПОЛЬЗОВАНИЯ БАНКОВСКОГО СЧЕТА ТАКИХ ОРГАНИЗАЦИЙ И ФИЗИЧЕСКИХ ЛИЦ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А ТАКЖЕ УКАЗАНИЙ КЛИЕНТ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ЕНЕФИЦИАРНЫМ СОБСТВЕННИКОМ КОТОРОГО ЯВЛЯЕ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ТАКОЕ ФИЗИЧЕСКОЕ ЛИЦ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ЛОКИРОВАТЬ ЦЕННЫЕ БУМАГИ В СИСТЕМЕ РЕЕСТРОВ ДЕРЖАТЕЛЕЙ ЦЕННЫХ БУМАГ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ИСТЕМЕ УЧЕТА НОМИНАЛЬНОГО ДЕРЖАНИЯ НА ЛИЦЕВЫХ СЧЕТАХ ТАКОЙ ОРГАНИЗАЦИИ ИЛИ ФИЗИЧЕСКОГО 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А ТАКЖЕ НА ЛИЦЕВЫХ СЧЕТАХ КЛИЕНТ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ЕНЕФИЦИАРНЫМ СОБСТВЕННИКОМ КОТОРОГО ЯВЛЯЕТСЯ ТАКОЕ ФИЗИЧЕСКОЕ ЛИЦ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>
              <a:lnSpc>
                <a:spcPct val="13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РИОСТАНОВИТЬ РАСХОДНЫЕ ОПЕРАЦИИ ПО БАНКОВСКИМ СЧЕТАМ ТАКОЙ ОРГАНИЗАЦИИ ИЛИ ФИЗИЧЕСКОГО 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А ТАКЖЕ ПО БАНКОВСКИМ СЧЕТАМ КЛИЕНТ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ЕНЕФИЦИАРНЫМ СОБСТВЕННИКОМ КОТОРОГО ЯВЛЯЕТСЯ ТАКОЕ ФИЗИЧЕСКОЕ ЛИЦО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СКЛЮЧЕНИЕМ ОПЕРАЦИЙ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ЯЗАННЫХ С ОБСЛУЖИВАНИЕМ БАНКОВСКИХ СЧЕТ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160" indent="-1872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6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МЕРЫ ПО ЗАМОРАЖИВАНИЮ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ОБЯЗАНЫ ПРЕДПРИНЯТЬ СУБЪЕКТЫ ФИНАНСОВОГО МОНИТОРИНГА НЕ ПОЗДНЕЕ ОДНОГО РАБОЧЕГО ДНЯ СО ДНЯ РАЗМЕЩЕНИЯ НА ИНТЕРНЕ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УРСЕ УПОЛНОМОЧЕННОГО ОРГАНА ПО ФИНАНСОВОМУ МОНИТОРИНГУ СПИСКА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ЧАСТНЫХ К ТЕРРОРИСТИЧЕСКОЙ ДЕЯТЕЛЬНОСТ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АЦИИ 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ИИ ОРГАНИЗАЦИИ ИЛИ ЛИЦА В ПЕРЕЧЕНЬ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В ПЕРЕЧЕНЬ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РАСПРОСТРАНЕНИЯ 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ОСТАНОВИТЬ РАСХОДНЫЕ ОПЕРАЦИИ ПО БАНКОВСКИМ СЧЕТАМ ТАК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 ИЛИ ФИЗ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ПО БАНКОВСКИМ СЧЕТАМ КЛИ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НЫМ СОБСТВЕННИКОМ КОТОРОГО ЯВЛЯЕТСЯ ТАКОЕ ФИЗИЧЕСКОЕ ЛИЦО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КЛЮЧЕНИЕМ ОПЕРАЦ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ОБСЛУЖИВАНИЕМ БАНКОВСКИХ СЧЕТ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Google Shape;212;p32"/>
          <p:cNvSpPr/>
          <p:nvPr/>
        </p:nvSpPr>
        <p:spPr>
          <a:xfrm>
            <a:off x="-15840" y="307800"/>
            <a:ext cx="7549920" cy="11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8080" indent="-12384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69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Я ТЕРРОРИЗМА ОБЯЗАНЫ ПРИ ПРИЗНАНИИ ОПЕРАЦИИ В КАЧЕСТВЕ ПОДОЗРИТЕЛЬНОЙ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ПО ФИНАНСОВОМУ МОНИТОРИНГУ О ТАКОЙ 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 ЕЕ ПРОВЕ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6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Я ТЕРРОРИЗМА ОБЯЗАНЫ ПРИ ПРИЗНАНИИ ОПЕРАЦИИ В КАЧЕСТВЕ ПОДОЗРИТЕЛЬНОЙ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6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 ОБЯЗА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СУБЪЕКТЫ ФИНАНСОВОГО МОНИТОРИНГА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6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 ОБЯЗА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СУБЪЕКТЫ ФИНАНСОВОГО МОНИТОРИНГА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ПО ФИНАНСОВОМУ МОНИТОРИНГУ О ТАКОЙ 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 ЕЕ ПРОВЕ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14000"/>
              </a:lnSpc>
              <a:buClr>
                <a:srgbClr val="000000"/>
              </a:buClr>
              <a:buFont typeface="Trebuchet MS"/>
              <a:buAutoNum type="arabicPeriod" startAt="6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ДЕЙСТВИЯ СУБЪЕКТЫ ФИНАНСОВОГО МОНИТОРИНГА ОБЯЗАН ПРЕДПРИНЯТЬ 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6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СУБЪЕКТЫ ФИНАНСОВОГО МОНИТОРИНГА В ЦЕЛЯХ ПРЕДУПРЕЖДЕНИЯ ФАК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4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 ОБЯЗАНЫ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Google Shape;217;p33"/>
          <p:cNvSpPr/>
          <p:nvPr/>
        </p:nvSpPr>
        <p:spPr>
          <a:xfrm>
            <a:off x="-15840" y="25560"/>
            <a:ext cx="7549920" cy="12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0240" indent="-246240">
              <a:lnSpc>
                <a:spcPct val="123000"/>
              </a:lnSpc>
              <a:buClr>
                <a:srgbClr val="000000"/>
              </a:buClr>
              <a:buFont typeface="Trebuchet MS"/>
              <a:buAutoNum type="arabicPeriod" startAt="75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СУБЪЕКТЫ ФИНАНСОВОГО МОНИТОРИНГА В ЦЕЛЯХ ПРЕДУПРЕЖДЕНИЯ ФАК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3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 ОБЯЗАНЫ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0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ПО ФИНАНСОВОМУ МОНИТОРИНГУ О ТАКОЙ 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 ЕЕ ПРОВЕ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14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ДЕЙСТВИЯ СУБЪЕКТЫ ФИНАНСОВОГО МОНИТОРИНГА ОБЯЗАН ПРЕДПРИНЯТЬ 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1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ЗАМЕДЛИТЕЛЬНО СООБЩИТЬ В УПОЛНОМОЧЕННЫЙ ОРГАН ПО ФИНАНСОВОМУ МОНИТОРИНГУ О ТАКОЙ ОПЕРАЦИИ ДО ЕЕ ПРОВЕ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2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МЕЖДУНАРОДНОЕ СОТРУДНИЧЕСТВО УПОЛНОМОЧЕННОГО ОРГАН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Х ГОСУДАРСТВЕННЫХ ОРГАНОВ РЕСПУБЛИКИ КАЗАХСТАН С СООТВЕТСТВУЮЩИ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АМИ ИНОСТРАННОГО ГОСУДАРСТВА В СФЕРЕ ПРОТИВОДЕЙСТВ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Ю ТЕРРОРИЗМА ОСУЩЕСТВЛЯЕТСЯ НА ПРИНЦИПАХ ВЗАИМНОСТИ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ПРОСА И ОБМЕНА ИНФОРМАЦИ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ПУТЕМ ОСУЩЕСТВЛЯЕТСЯ МЕЖДУНАРОДНОЕ СОТРУДНИЧЕСТВО УПОЛНОМОЧЕННОГО ОРГАНА ПО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ОСУДАРСТВЕННЫХ ОРГАНОВ РЕСПУБЛИКИ КАЗАХСТАН С СООТВЕТСТВУЮЩИМИ ОРГАНАМИ ИНОСТРАННОГО ГОСУДАРСТВА В СФЕРЕ ПРОТИВОДЕЙСТВ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ПРОСА И ОБМЕНА ИНФОРМАЦИ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15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МЕЖДУНАРОДНОЕ СОТРУДНИЧЕСТВО УПОЛНОМОЧЕННОГО ОРГАНА ПО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Х ГОСУДАРСТВЕННЫХ ОРГАНОВ РЕСПУБЛИКИ КАЗАХСТАН С СООТВЕТСТВУЮЩИМИ ОРГАНАМИ ИНОСТРАННОГО ГОСУДАРСТВА В СФЕРЕ ПРОТИВОДЕЙСТВ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 ОСУЩЕСТВЛЯЕТС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4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НЦИПАХ ВЗАИМНОСТИ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Google Shape;222;p34"/>
          <p:cNvSpPr/>
          <p:nvPr/>
        </p:nvSpPr>
        <p:spPr>
          <a:xfrm>
            <a:off x="123840" y="25560"/>
            <a:ext cx="7281360" cy="121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160200">
              <a:lnSpc>
                <a:spcPct val="118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8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ПРИ ПРОВЕДЕНИИ АНАЛИЗА ИНФОРМ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ОЙ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ЦЕЛЯХ ПРОТИВОДЕЙСТВИЯ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ПРАВЕ ЗАПРАШИВАТЬ ИНФОРМАЦ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ЕДЕНИЯ И ДОКУМЕНТЫ У КОМПЕТЕНТ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ОВ ИНОСТРАННЫХ ГОСУДАРСТ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8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ПРИ ПРОВЕДЕНИИ АНАЛИЗА ИНФОРМ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ОЙ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ЦЕЛЯХ ПРОТИВОДЕЙСТВ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5280" indent="-16020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 ИСПОЛЬЗОВАТЬ ПОЛУЧЕННЫЕ ПО ЗАПРОСУ 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КУМЕНТЫ ИСКЛЮЧИТЕЛЬН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ЦЕЛЯХ УКАЗАННЫХ В ЗАПРО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-16020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 ОТКАЗАТЬ В УДОВЛЕТВОРЕНИИ ЗАПРОСА КОМПЕТЕНТНОМУ ОРГАН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ОСТРАННОГО ГОСУДАРСТВА В СЛЕДУЮЩИХ СЛУЧА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РЕДОСТАВЛЕНИЕ ИНФОРМАЦИ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Й И ДОКУМЕНТОВ ЗАТРАГИВАЕТ КОНСТИТУЦИОННЫЕ ПРАВА И СВОБОДЫ ЧЕЛОВЕКА И ГРАЖДАНИН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НАНОСИТ УЩЕР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12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ТЕРЕСАМ НАЦИОНАЛЬНОЙ БЕЗОПАСНОСТИ РЕСПУБЛИКИ КАЗАХСТАН ПРЕДОСТАВЛЕНИЕ ИНФОРМАЦИ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Й И ДОКУМЕНТОВ ПОВЛИЯЕТ НА Х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УГОЛОВНОГО СУДОПРОИЗВОДСТВА В РЕСПУБЛИКЕ КАЗАХСТАН ИМЕЮТСЯ ОСНОВАНИЯ ПОЛАГАТЬ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ЧТО КОМПЕТЕНТНЫЙ ОРГАН ИНОСТРАННО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ГОСУДАРСТВА НЕ МОЖЕТ ОБЕСПЕЧИТЬ ЗАЩИТУ ПРЕДОСТАВЛЯЕМЫХ ИНФОРМАЦИ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Й И ДОКУМЕН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Google Shape;227;p35"/>
          <p:cNvSpPr/>
          <p:nvPr/>
        </p:nvSpPr>
        <p:spPr>
          <a:xfrm>
            <a:off x="19080" y="339840"/>
            <a:ext cx="7536960" cy="56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2384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84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ПО УКАЗАНИЯМ КЛИЕНТОВ БЕЗНАЛИЧНЫХ ПЛАТЕЖЕЙ И ПЕРЕВОДОВ ДЕНЕГ В ПОЛЬЗУ ИНОСТРАННОЙ ФИНАНСОВОЙ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2240" indent="-12384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ПЛАТЕЖЕЙ И ПЕРЕВОДОВ ДЕНЕГ С ИСПОЛЬЗОВАНИЕМ ПЛАТЕЖНЫХ КАРТОЧЕК БАНК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ВАЮТ НАЛИЧИЕ В ПЛАТЕЖНОМ ДОКУМЕНТЕ И ПЕРЕДАЧУ УЧАСТНИКУ ПЛАТЕЖ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ВОД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ЕГ РЕКВИЗИ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ДА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А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2240" indent="-12384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АМИЛ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ЕН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ЧЕСТВ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 ЕГО НАЛИЧ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ПОЛНЫЕ ИЛИ СОКРАЩЕН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224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ИМЕНОВАН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ЮРИДИЧЕСКИХ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ПРАВИТЕЛЯ И ПОЛУЧАТЕЛЯ 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2240" indent="-123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ДИВИДУАЛЬНЫЕ ИДЕНТИФИКАЦИОННЫЕ КОДЫ ОТПРАВИТЕЛЯ И ПОЛУЧА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 ПЕРЕВОД ДЕНЕГ ОСУЩЕСТВЛЕН С ИСПОЛЬЗОВАНИЕМ БАНКОВСКОГО СЧЕ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НОМЕР УКАЗАНИЯ ПО ПЛАТЕЖУ ИЛИ ПЕРЕВОДУ ДЕНЕГ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 ПЕРЕВОД ДЕНЕГ ОСУЩЕСТВЛЕН БЕЗ ИСПОЛЬЗОВАНИЯ БАНКОВСКОГО СЧЕ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ДЕНТИФИКАЦИОННЫЙ НОМЕР ИЛИ АДРЕС ОТПРАВИ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ФИЗИЧЕСКИХ И ЮРИДИЧЕСКИХ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НОМЕР ДОКУМ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ДОСТОВЕРЯЮЩЕГО ЛИЧНОСТЬ ОТПРАВИ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ФИЗ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Google Shape;228;p35"/>
          <p:cNvSpPr/>
          <p:nvPr/>
        </p:nvSpPr>
        <p:spPr>
          <a:xfrm>
            <a:off x="196920" y="5130720"/>
            <a:ext cx="714348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4120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85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ЦЕЛЯХ ПРЕДОТВРАЩ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Я ТЕРРОРИЗМА РАЗРАБАТЫВАЮ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АВИЛА ВНУТРЕННЕГО КОНТРОЛ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412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8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ОВАНИЯ К ПРАВИЛАМ ВНУТРЕННЕГО КОНТРОЛЯ ДЛЯ НОТАРИУС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НОТАРИАЛЬНЫЕ ДЕЙСТВИЯ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МУЩЕСТВОМ УСТАНАВЛИВА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М ГОСУДАРСТВЕННЫМ ОРГАН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4160" indent="-241200"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ОВАНИЯ К ПРАВИЛАМ ВНУТРЕННЕГО КОНТРОЛЯ ДЛЯ СТРАХОВ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17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СТРАХОВОЧНЫ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ТРАХОВЫХ БРОКЕР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ЩЕСТВА ВЗАИМНОГО СТРАХОВАНИЯ УСТАНАВЛИВА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РЕГУЛИРО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НТРОЛЮ И НАДЗОР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РЫНКА И ФИНАНСОВЫХ ОРГАН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РРФР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Google Shape;57;p9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Google Shape;58;p9"/>
          <p:cNvSpPr/>
          <p:nvPr/>
        </p:nvSpPr>
        <p:spPr>
          <a:xfrm>
            <a:off x="-12600" y="114480"/>
            <a:ext cx="7562520" cy="9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1604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СТЫ</a:t>
            </a: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	</a:t>
            </a: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 </a:t>
            </a:r>
            <a:r>
              <a:rPr b="0" lang="en-US" sz="2400" spc="-1" strike="noStrike">
                <a:solidFill>
                  <a:srgbClr val="202020"/>
                </a:solidFill>
                <a:latin typeface="Calibri"/>
                <a:ea typeface="Calibri"/>
              </a:rPr>
              <a:t>1000</a:t>
            </a:r>
            <a:r>
              <a:rPr b="0" lang="en-US" sz="2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КАЗУ </a:t>
            </a:r>
            <a:r>
              <a:rPr b="0" lang="en-US" sz="2400" spc="-1" strike="noStrike">
                <a:solidFill>
                  <a:srgbClr val="202020"/>
                </a:solidFill>
                <a:latin typeface="Calibri"/>
                <a:ea typeface="Calibri"/>
              </a:rPr>
              <a:t>(№6 </a:t>
            </a: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 </a:t>
            </a:r>
            <a:r>
              <a:rPr b="0" lang="en-US" sz="2400" spc="-1" strike="noStrike">
                <a:solidFill>
                  <a:srgbClr val="202020"/>
                </a:solidFill>
                <a:latin typeface="Calibri"/>
                <a:ea typeface="Calibri"/>
              </a:rPr>
              <a:t>09.08.20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2100" spc="-1" strike="noStrike">
                <a:solidFill>
                  <a:srgbClr val="202020"/>
                </a:solidFill>
                <a:latin typeface="Calibri"/>
                <a:ea typeface="Calibri"/>
              </a:rPr>
              <a:t>2</a:t>
            </a:r>
            <a:r>
              <a:rPr b="0" lang="en-US" sz="21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1.</a:t>
            </a:r>
            <a:r>
              <a:rPr b="0" lang="en-US" sz="13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ТВЕРЖДАЮТСЯ ТРЕБОВАНИЯ К СУБЪЕКТАМ ФИНАНСОВОГО МОНИТОРИНГА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Е И ОБУЧЕНИЮ В СФЕРЕ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ПРЕДСЕДАТЕЛЯ АФМ РК ОТ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09.08.2021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6 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НЕЕ ПРИКАЗ МИНИСТРА ФИНАН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СПУБЛИКИ КАЗАХСТАН ОТ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3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КТЯБР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 1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just">
              <a:lnSpc>
                <a:spcPct val="112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2.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ЦЕЛЬЮ ПОДГОТОВКИ И ОБУЧЕНИЯ СУБЪЕКТОВ ФИНАНСОВОГО МОНИТОРИНГА ЯВЛЯЕТС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indent="-88920" algn="ctr">
              <a:lnSpc>
                <a:spcPct val="114000"/>
              </a:lnSpc>
              <a:buClr>
                <a:srgbClr val="ff1515"/>
              </a:buClr>
              <a:buFont typeface="Trebuchet MS"/>
              <a:buChar char="-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ИЕ СУБЪЕКТАМИ ЗНАНИЙ В СФЕРЕ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 В СООТВЕТСТВИИ С ТРЕБОВАНИ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ЫХ ИМ ДЛЯ СОБЛЮДЕНИЯ ЗАКОНОДАТЕЛЬСТВА РЕСПУБЛИКИ КАЗАХСТАН О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82800">
              <a:lnSpc>
                <a:spcPct val="115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РАЗРАБАТЫВАЕТСЯ ПРОГРАММА ПОДГОТОВКИ И ОБУЧЕНИЯ В СФЕРЕ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БЪЕКТОМ ФИНАНСОВОГО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82800" algn="just">
              <a:lnSpc>
                <a:spcPct val="115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ДНА ИЗ ПРОГРАММ ПОДГОТОВКИ И ОБУЧЕНИЯ В СФЕРЕ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 ЭТО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indent="-88920">
              <a:lnSpc>
                <a:spcPct val="112000"/>
              </a:lnSpc>
              <a:spcBef>
                <a:spcPts val="99"/>
              </a:spcBef>
              <a:buClr>
                <a:srgbClr val="ff1515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ЗУЧЕНИЕ НОРМАТИВНЫХ ПРАВОВЫХ АКТОВ РЕСПУБЛИКИ КАЗАХСТАН В ОБЛАСТИ ПОД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/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ФТ И МЕЖДУНАРОДНЫХ СТАНДАРТОВ В СФЕРЕ ПОД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/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ФТ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indent="-88920">
              <a:lnSpc>
                <a:spcPct val="113000"/>
              </a:lnSpc>
              <a:spcBef>
                <a:spcPts val="99"/>
              </a:spcBef>
              <a:buClr>
                <a:srgbClr val="ff1515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ЗУЧЕНИЕ ПРАВИЛ ВНУТРЕННЕГО КОНТРОЛЯ И ПРОГРАММЫ ИХ ОСУЩЕСТВЛЕНИЯ ПРИ ИСПОЛНЕНИИ СУБЪЕКТАМИ СВОИХ СЛУЖЕБНЫХ ОБЯЗАННОСТЕЙ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А ТАКЖЕ МЕ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just">
              <a:lnSpc>
                <a:spcPct val="11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ВЕТСТВЕННОСТИ ЗА НЕИСПОЛНЕНИЕ ТРЕБОВАНИЙ ЗАКОНОДАТЕЛЬСТВА РЕСПУБЛИКИ КАЗАХСТАН О ПОД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/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ФТ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УСТАНОВЛЕННУЮ СТАТЬЕЙ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14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КОДЕКСА РЕСПУБЛИКИ КАЗАХСТАН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"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ОБ АДМИНИСТРАТИВНЫХ ПРАВОНАРУШЕНИЯХ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indent="-88920">
              <a:lnSpc>
                <a:spcPct val="100000"/>
              </a:lnSpc>
              <a:spcBef>
                <a:spcPts val="99"/>
              </a:spcBef>
              <a:buClr>
                <a:srgbClr val="ff1515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ЗУЧЕНИЕ ТИПОЛОГИЙ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ХЕМ И СПОСОБОВ ЛЕГАЛИЗАЦИИ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В СООТВЕТСТВИИ С ПУНКТОМ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5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ТАТЬИ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4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ЗАКОНА О ПОД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/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ФТ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А ТАКЖЕ ПРИЗНАКОВ ОПРЕДЕЛЕНИЯ ПОДОЗРИТЕЛЬНЫХ ОПЕРАЦИЙ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33;p36"/>
          <p:cNvSpPr/>
          <p:nvPr/>
        </p:nvSpPr>
        <p:spPr>
          <a:xfrm>
            <a:off x="27000" y="339840"/>
            <a:ext cx="750708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 indent="108000" algn="just">
              <a:lnSpc>
                <a:spcPct val="114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88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ОВАНИЯ К ПРАВИЛАМ ВНУТРЕННЕГО КОНТРОЛЯ ДЛЯ ИНДИВИДУАЛЬНЫХ ПРЕДПРИНИМАТЕЛЕЙ И ЮРИДИЧЕСКИХ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Х ЛИЗИНГОВУЮ ДЕЯТЕЛЬНОСТЬ В КАЧЕСТВЕ ЛИЗИНГОДАТЕЛЯ БЕЗ ЛИЦЕНЗ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АНАВЛИВА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89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ГОСУДАРСТВЕННЫЕ ОРГАНЫ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ЯВЛЯЮТСЯ СУБЪЕКТОМ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9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МИ ФИНАНСОВОГО МОНИТОРИНГА НАПРАВЛЯЮТСЯ УВЕДОМЛЕНИЯ В КОМИТЕТ О НАЧАЛЕ ИЛИ ПРЕКРАЩЕНИИ СВОЕЙ ДЕЯТЕЛЬНОСТ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ОБЯЗАТЕЛЬНОМ ПОРЯДК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НОМ 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АЗРЕШЕНИЯХ И УВЕДОМЛЕНИЯХ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34;p36"/>
          <p:cNvSpPr/>
          <p:nvPr/>
        </p:nvSpPr>
        <p:spPr>
          <a:xfrm>
            <a:off x="149400" y="3795840"/>
            <a:ext cx="7273440" cy="26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 indent="-47520"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91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ДОКУМЕНТОМ ПРЕДУСМОТРЕНО ПРЕДОСТАВЛЕНИЕ В МИНИСТЕРСТВО ЮСТИЦИИ РЕСПУБЛИКИ КАЗАХСТАНИНФОРМ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ДОКУМЕН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8680" indent="-475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МИ ФИНАНСОВОГО МОНИТОРИНГА В ЦЕЛЯХ И ПОРЯДК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8680" indent="-475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8680" indent="-4752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8680" indent="-475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УСТАНОВЛЕН ТАКОЙ ПОРЯДО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Google Shape;235;p36"/>
          <p:cNvSpPr/>
          <p:nvPr/>
        </p:nvSpPr>
        <p:spPr>
          <a:xfrm>
            <a:off x="-1440" y="5353200"/>
            <a:ext cx="85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Google Shape;236;p36"/>
          <p:cNvSpPr/>
          <p:nvPr/>
        </p:nvSpPr>
        <p:spPr>
          <a:xfrm>
            <a:off x="-1440" y="6410160"/>
            <a:ext cx="73720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97120" indent="-268452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92"/>
            </a:pP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ЕМ УТВЕРЖДАЮТСЯ МЕРЫ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НАПРАВЛЕННЫЕ НА СНИЖЕНИЕ РИСКОВ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ДОХОДОВ И ФИНАНСИРОВАНИЯ ТЕРРОРИЗМА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93"/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ОЦЕНКА РИСКОВ ОТМЫВАНИЯ ДОХОДОВ И ФИНАНСИРОВАНИЯ ТЕРРОРИЗМА ПРОИЗВОДИТСЯ В ЦЕЛЯХ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НИЖЕ ПЕРЕЧИСЛЕННЫ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ПРЕДЕЛЕНИЯ УГРОЗ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 И ФИНАНСИРОВАНИЯ ТЕРРОРИЗМА В РЕСПУБЛИКЕ КАЗАХ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ПРЕДЕЛЕНИЯ ВОЗМОЖНОСТИ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ФИНАНСИРОВАНИЯ ТЕРРОРИЗМА В РЕСПУБЛИКЕ КАЗАХ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ВЫЯВЛЕНИЯ НЕДОСТАТКОВ РЕАЛИЗАЦИИ МЕР ПО ПРОТИВОДЕЙСТВИЮ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 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Google Shape;241;p37"/>
          <p:cNvSpPr/>
          <p:nvPr/>
        </p:nvSpPr>
        <p:spPr>
          <a:xfrm>
            <a:off x="30240" y="339840"/>
            <a:ext cx="7488000" cy="9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43000" indent="-155520" algn="just">
              <a:lnSpc>
                <a:spcPct val="114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94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УТВЕРЖДАЕТСЯ МЕТОДОЛОГИЯ ПО СБОРУ ДАННЫХ ОТ ГОСУДАРСТВЕННЫХ ОРГАНОВ И СУБЪЕКТОВ ФИНАНСОВОГО МОНИТОРИНГА ДЛЯ ОЦЕНКИ РИСК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 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11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95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ПОЛОЖЕНИЕ И СОСТАВ МЕЖВЕДОМСТВЕННОГО СОВЕТА ПО ВОПРОСАМ ПРЕДУПРЕЖДЕНИЯ ЛЕГАЛИЗАЦИИ 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ПОЛУЧЕННЫХ ПРЕСТУП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ПУТЕМ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И ФИНАНСИРОВАНИЯ ТЕРРОРИЗМА УТВЕРЖДАЮТСЯ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14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МЕЖВЕДОМСТВЕННЫЙ СОВЕТ ПО ВОПРОСАМ ПРЕДУПРЕЖД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 РАССМАТРИВАЕТ И ОДОБРЯЕ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ЧЕТ ПО ОЦЕНКЕ РИСКОВ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 И ФИНАН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ПРАШИВАТЬ НЕОБХОДИМЫЕ ИНФОРМАЦ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ЕДЕНИЯ И ДОКУМЕНТЫ ОБ ОПЕРАЦИ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 У СУБЪЕКТОВ ФИНАНСОВОГО МОНИТОРИНГ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У ГОСУДАРСТВЕННЫХ ОРГАНОВ РЕСПУБЛИКИ КАЗАХ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98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УПОЛНОМОЧЕННЫЙ ОРГАН ПО ФИНАНСОВОМУ МОНИТОРИНГУ ВПРАВЕ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ЫНОСИТЬ РЕШЕНИЕ О ПРИОСТАНОВЛЕНИИ ОПЕРАЦИЙ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 В СЛУЧАЕ ОБНАРУЖЕНИЯ ПРИЗНАКОВ ПОДОЗРИТЕЛЬНОЙ ОПЕРАЦИИ НА СРОК ДО ТРЕ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9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 ЗАПРОСУ ИЛИ САМОСТОЯТЕЛЬНО ОБМЕНИВАТЬСЯ ИНФОРМАЦИЕ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ЕДЕНИЯМИ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КУМЕНТАМИ С КОМПЕТЕНТНЫМ ОРГАНОМ ИНОСТРАННОГО ГОСУДАРСТВА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Google Shape;246;p38"/>
          <p:cNvSpPr/>
          <p:nvPr/>
        </p:nvSpPr>
        <p:spPr>
          <a:xfrm>
            <a:off x="30240" y="331920"/>
            <a:ext cx="7476840" cy="73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496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0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ПО ФИНАНСОВОМУ МОНИТОРИНГУ ОРГАН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ВЫНОСИТЬ РЕШЕНИЕ О ПРИОСТАНОВЛЕНИИ ОПЕРАЦИЙ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 ИМУЩЕСТВОМ В СЛУЧАЕ ОБНАРУЖЕНИЯ ПРИЗНАКОВ ПОДОЗРИТЕЛЬНОЙ ОПЕРАЦИИ НА СРОК ДО ТРЕ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ЗАПРАШИВАТЬ НЕОБХОДИМЫЕ ИНФОРМАЦ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Я И ДОКУМЕНТЫ ОБ ОПЕРАЦИЯХ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 ИМУЩЕСТВОМ У СУБЪЕКТОВ ФИНАНСОВОГО МОНИТОРИНГА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А ТАКЖЕ У ГОСУДАРСТВЕННЫХ ОРГАНОВ РЕСПУБЛИКИ КАЗАХ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just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НАПРАВЛЯТЬ СООТВЕТСТВУЮЩИМ ГОСУДАРСТВЕННЫМ ОРГАНАМ УВЕДОМЛЕНИЕ О НАРУШЕНИИ ЗАКОНОДАТЕЛЬСТВА РЕСПУБЛИКИ КАЗАХСТАН О ПРОТИВОДЕЙСТВИИ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1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101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УПОЛНОМОЧЕННЫЙ ОРГАН ПО ФИНАНСОВОМУ МОНИТОРИНГУ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РАЗРАБАТЫВАТЬ ПРАВИЛА ВНУТРЕННЕГО КОНТРОЛЯ ДЛЯ СУБЪЕКТОВ ФИНАНСОВО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ВЫНОСИТЬ РЕШЕНИЕ О ПРИОСТАНОВЛЕНИИ ОПЕРАЦИЙ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МУЩЕСТВОМ В СЛУЧАЕ ОБНАРУЖЕНИЯ ПРИЗНАКОВ ПОДОЗРИТЕЛЬНОЙ ОПЕРАЦИИ НА СРОК ДО ПЯТИ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ЗАПРАШИВАТЬ НЕОБХОДИМЫЕ ИНФОРМАЦ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Я И ДОКУМЕНТЫ ОБ ОПЕРАЦИЯХ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 ИМУЩЕСТВОМ У ФИЗИЧЕСКИХ ЛИ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Google Shape;247;p38"/>
          <p:cNvSpPr/>
          <p:nvPr/>
        </p:nvSpPr>
        <p:spPr>
          <a:xfrm>
            <a:off x="123840" y="6676920"/>
            <a:ext cx="72972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02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НАПРАВЛЯТЬ СООТВЕТСТВУЮЩИМ ГОСУДАРСТВЕННЫМ ОРГАНАМ УВЕДОМЛЕНИЕ О НАРУШЕНИИ ЗАКОНОДАТЕЛЬСТВА РЕСПУБЛИКИ КАЗАХСТАН О ПРОТИВОДЕЙСТВИИ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 ЗАПРОСУ ИЛИ САМОСТОЯТЕЛЬНО ОБМЕНИВАТЬСЯ ИНФОРМАЦИЕЙ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ЯМИ И ДОКУМЕНТАМИ С КОМПЕТЕНТНЫМ ОРГАНОМ ИНОСТРАННОГО ГОСУДАРСТВА В СФЕРЕ ПРОТИВОДЕЙСТВИЯ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ВЫНОСИТЬ РЕШЕНИЕ О ПРИОСТАНОВЛЕНИИ ОПЕРАЦИЙ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 ИМУЩЕСТВОМ В СЛУЧАЕ ОБНАРУЖЕНИЯ ПРИЗНАКОВ ПОДОЗРИТЕЛЬНОЙ ОПЕРАЦИИ НА СРОК ДО ТРЕ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Google Shape;252;p39"/>
          <p:cNvSpPr/>
          <p:nvPr/>
        </p:nvSpPr>
        <p:spPr>
          <a:xfrm>
            <a:off x="17640" y="331920"/>
            <a:ext cx="7524360" cy="12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3680" indent="-34776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03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ВМЕСТНО С ПРАВООХРАНИТЕЛЬНЫМИ И СПЕЦИАЛЬНЫМИ ГОСУДАРСТВЕННЫ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3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АМИ ОПРЕДЕЛЯТЬ ПОРЯДОК ВЗАИМОДЕЙСТВИЯ ПО ОБМЕНУ И ПЕРЕДАЧЕ СВЕДЕНИЙ И ИНФОРМАЦИ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ЛЕГАЛИЗАЦИЕЙ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Е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ЕМ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104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УПОЛНОМОЧЕННЫЙ ОРГАН ПО ФИНАНСОВОМУ МОНИТОРИНГУ ОБЯЗАН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НИМАТЬ МЕРЫ ПО ПРОТИВОДЕЙСТВИЮ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77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ОБЯЗ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ЕСПЕЧИВАТЬ СООТВЕТСТВУЮЩИЙ РЕЖИМ ХРАНЕ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ЩИТЫ И СОХРАН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В ПРОЦЕССЕ СВОЕЙ ДЕЯТЕЛЬНОСТИ ИНФОРМАЦИ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ЕДЕНИЙ И ДОКУМЕНТ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СТАВЛЯЮЩИХ СЛУЖЕБНУ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ММЕРЧЕСКУ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АНКОВСКУЮ ИЛИ ИНУЮ ОХРАНЯЕМУЮ ЗАКОНОМ ТАЙН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776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НИТОРИНГУ ОБЯЗ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 ЗАПРОСУ ИЛИ САМОСТОЯТЕЛЬНО ОБМЕНИВАТЬСЯ ИНФОРМАЦИЕЙ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ЯМИ И ДОКУМЕНТАМИ С КОМПЕТЕНТНЫМ ОРГАНОМ ИНОСТРАННОГО ГОСУДАРСТВА В СФЕРЕ ПРОТИВОДЕЙСТВИЯ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ВЫНОСИТЬ РЕШЕНИЕ О ПРИОСТАНОВЛЕНИИ ОПЕРАЦИЙ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 ИМУЩЕСТВОМ В СЛУЧАЕ ОБНАРУЖЕНИЯ ПРИЗНАКОВ ПОДОЗРИТЕЛЬНОЙ ОПЕРАЦИИ НА СРОК ДО ТРЕ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14000"/>
              </a:lnSpc>
              <a:buClr>
                <a:srgbClr val="16cc52"/>
              </a:buClr>
              <a:buFont typeface="Calibri"/>
              <a:buChar char="•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НАПРАВЛЯТЬ СООТВЕТСТВУЮЩИМ ГОСУДАРСТВЕННЫМ ОРГАНАМ УВЕДОМЛЕНИЕ О НАРУШЕНИИ ЗАКОНОДАТЕЛЬСТВА РЕСПУБЛИКИ КАЗАХСТАН О ПРОТИВОДЕЙСТВИИ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07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ЯЗАН ЛИ УПОЛНОМОЧЕННЫЙ ОРГАН ПО ФИНАНСОВОМУ МОНИТОРИНГУ ПРИНИМАТЬ МЕРЫ ПО ПРОТИВОДЕЙСТВИЮ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ЯЗ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Google Shape;257;p40"/>
          <p:cNvSpPr/>
          <p:nvPr/>
        </p:nvSpPr>
        <p:spPr>
          <a:xfrm>
            <a:off x="6480" y="344520"/>
            <a:ext cx="7532280" cy="11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6080" indent="-281160">
              <a:lnSpc>
                <a:spcPct val="113000"/>
              </a:lnSpc>
              <a:buClr>
                <a:srgbClr val="000000"/>
              </a:buClr>
              <a:buFont typeface="Trebuchet MS"/>
              <a:buAutoNum type="arabicPeriod" startAt="108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ОБЯЗ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 algn="ctr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0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ЫНОСИТЬ РЕШЕНИЕ О ПРИОСТАНОВЛЕНИИ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11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В СЛУЧАЕ ОБНАРУЖЕНИЯ ПРИЗНАКОВ ПОДОЗРИТЕЛЬНОЙ ОПЕРАЦИИ НА СРОК ДО ТРЕХ РАБОЧИХ ДНЕЙ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Ф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2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AutoNum type="arabicPeriod" startAt="110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ЛЖНЫ ЛИ СУБЪЕКТЫ ФИНАНСОВОГО МОНИТОРИНГА ПРИНИМАТЬ МЕРЫ ПО НАДЛЕЖАЩЕЙ ПРОВЕРКЕ СВОИХ КЛИЕНТОВ И БЕНЕФИЦИАРНЫХ СОБСТВЕННИК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ЛЖ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ОСУЩЕСТВЛЯЮТ НАДЛЕЖАЩУЮ ПРОВЕРКУ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ИЯ ДЕЛОВЫХ ОТНОШЕНИЙ С КЛИЕН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ОСУЩЕСТВЛЯЮТ НАДЛЕЖАЩУЮ ПРОВЕРКУ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1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ИЕ МЕРЫ ВКЛЮЧАЕТ В СЕБЯ НАДЛЕЖАЩАЯ ПРОВЕРКА СУБЪЕКТАМИ ФИНАНСОВОГО МОНИТОРИНГА СВОИХ КЛИЕНТОВ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БЕНЕФИЦИАРНЫХ СОБСТВЕННИК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0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РАЗРАБАТЫВАЮТСЯ ПРАВИЛА ВНУТРЕННЕГО КОНТРОЛ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БЪЕКТОМ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ДЛЕЖАЩАЯ ПРОВЕРКА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КЛЮЧА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ЕНИЕ СЛЕДУЮЩИХ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ИЕ ПРЕДПОЛАГАЕМОЙ ЦЕЛИ И ХАРАКТЕРА ДЕЛОВЫХ ОТНОШ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0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ЦЕЛЯХ ПРЕДОТВРАЩ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13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Я ТЕРРОРИЗМА РАЗРАБАТЫВАЮ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Google Shape;262;p41"/>
          <p:cNvSpPr/>
          <p:nvPr/>
        </p:nvSpPr>
        <p:spPr>
          <a:xfrm>
            <a:off x="15840" y="254160"/>
            <a:ext cx="7543440" cy="73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5800" indent="398520">
              <a:lnSpc>
                <a:spcPct val="117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17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ОВАНИЯ К НАДЛЕЖАЩЕЙ ПРОВЕРКЕ КЛИЕНТОВ В СЛУЧАЕ ДИСТАНЦИОННОГО УСТАНОВЛЕНИЯ ДЕЛОВЫХ ОТНОШЕНИЙ СУБЪЕКТ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3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ОГО МОНИТОРИНГА ДЛЯ БАНК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ИРЖ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ТРАХОВЫХ ОРГАНИЗАЦИ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МИКРОФИНАНСОВУ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ЯТЕЛЬНОСТЬУСТАНАВЛИВА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РЕГУЛИРОВАН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НТРОЛЯ И НАДЗОР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РЫНКА И ФИНАНСОВЫХ ОРГАНИЗАЦИЙ ПО СОГЛАСОВАНИЮ С КОМИТЕТ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19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18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....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РАЗУЕТ МЕЖВЕДОМСТВЕННЫЙ СОВЕТ ПО ВОПРОСАМ ПРЕДУПРЕЖД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КОМИТ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ГЕНСТВ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14320" indent="-39852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ВХОДИТ В СОСТАВ МЕЖВЕДОМСТВЕННОГО СОВЕТА ПО ВОПРОСАМ ПРЕДУПРЕЖД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ИТЕЛИ ПРАВООХРАНИТЕЛЬНЫХ И СПЕЦИАЛЬНЫХ ГОСУДАРСТВЕННЫХ ОРГАН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4320" indent="-398520">
              <a:lnSpc>
                <a:spcPct val="114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УТВЕРЖДАЕТСЯ ПОЛОЖЕНИЕ И СОСТАВ МЕЖВЕДОМСТВЕННОГО СОВЕТА ПО ВОПРОСАМ ПРЕДУПРЕЖД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Google Shape;263;p41"/>
          <p:cNvSpPr/>
          <p:nvPr/>
        </p:nvSpPr>
        <p:spPr>
          <a:xfrm>
            <a:off x="-1440" y="659448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2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Google Shape;264;p41"/>
          <p:cNvSpPr/>
          <p:nvPr/>
        </p:nvSpPr>
        <p:spPr>
          <a:xfrm>
            <a:off x="738360" y="6594480"/>
            <a:ext cx="64227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АВИЛА ПРОВЕДЕНИЯ ОЦЕНКИ РИСК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 И ФИНАНСИРОВАНИЯ ТЕРРОРИЗМА УТВЕРЖДАЮТС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Google Shape;265;p41"/>
          <p:cNvSpPr/>
          <p:nvPr/>
        </p:nvSpPr>
        <p:spPr>
          <a:xfrm>
            <a:off x="96840" y="7670880"/>
            <a:ext cx="735120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8080" indent="-2536920">
              <a:lnSpc>
                <a:spcPct val="111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22.</a:t>
            </a:r>
            <a:r>
              <a:rPr b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АВИТЕЛЬСТВО РЕСПУБЛИКИ КАЗАХСТАН ПО ИТОГАМ ПРОВЕДЕНИЯ ОЦЕНКИ РИСКОВ УТВЕРЖД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8080" indent="-2536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8080" indent="-253692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8080" indent="-253692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23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И ИХ РАБОТНИКИ НЕ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8080" indent="-2536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ЗВЕЩАТЬ КЛИЕНТОВ И ИНЫХ ЛИЦ О ПРЕДОСТАВЛЕНИИ В УПОЛНОМОЧЕННЫЙ ОРГ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8080" indent="-25369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 ФИНАНСОВОМУ МОНИТОРИНГУ ИНФОРМ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Google Shape;270;p42"/>
          <p:cNvSpPr/>
          <p:nvPr/>
        </p:nvSpPr>
        <p:spPr>
          <a:xfrm>
            <a:off x="14400" y="339840"/>
            <a:ext cx="7527600" cy="127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00280" indent="-165420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124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ОВАНИЯ К СУБЪЕКТАМ ФИНАНСОВОГО МОНИТОРИНГА ПО ПОДГОТОВКЕ И ОБУЧЕНИЮ РАБОТНИКОВ УТВЕРЖДАЮТС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 ПО СОГЛАСО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 СООТВЕТСТВУЮЩИМИ ГОСУДАРСТВЕННЫМИ ОРГАН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2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 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СУБЪЕКТА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НОСЯ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ЗА ИСКЛЮЧЕНИЕМ ОПЕРАТОРА ИЛИ ОПЕРАЦИОННОГО ЦЕНТРА МЕЖБАНКОВСКОЙ СИСТЕМЫ ПЕРЕВОДОВ 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2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НОСЯТСЯ ЛИ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 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СУБЪЕКТА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ДИВИДУАЛЬНЫЕ ПРЕДПРИНИМАТЕЛИ И ЮРИДИЧЕСКИЕ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ПЕРАЦИИ С ДРАГОЦЕННЫМИ МЕТАЛЛАМИ И ДРАГОЦЕННЫМИ КАМНЯ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ЮВЕЛИРНЫМИ ИЗДЕЛИЯМИ ИЗ НИ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А ОТНОСИ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2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СУБЪЕКТЫ ФИНАНСОВОГО МОНИТОРИНГА ОБЯЗАНЫ НАПРАВЛЯТЬ УВЕДОМЛЕНИЕ О НАЧАЛЕ ИЛИ ПРЕКРАЩЕНИИ ДЕЯТЕЛЬНОСТИ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4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В ПОРЯДК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АНОВЛЕННОМ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РАЗРЕШЕНИЯХ И УВЕДОМЛЕНИ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ИЕ КОНСУЛЬТАНТЫ И ДРУГИЕ НЕЗАВИСИМЫЕ СПЕЦИАЛИСТЫ П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ИМ ВОПРОСАМ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СЛУЧАЯХ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ГДА ОНИ ОТ ИМЕНИ ИЛИ ПО ПОРУЧЕ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ЛИЕНТА УЧАСТВУЮТ В ОПЕРАЦИЯХ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 В ОТНОШЕНИИ СЛЕДУЮЩЕЙ ДЕЯТЕЛЬНОСТ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ДИВИДУАЛЬНЫЕ ПРЕДПРИНИМАТЕЛИ И ЮРИДИЧЕСКИЕ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Е ЛИЗИНГОВУЮ ДЕЯТЕЛЬНОСТЬ В КАЧЕСТВЕ ЛИЗИНГОДАТЕЛЯ БЕЗ ЛИЦЕНЗ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ДИВИДУАЛЬНЫЕ ПРЕДПРИНИМАТЕЛИ И ЮРИДИЧЕСКИЕ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Е ОПЕРАЦИИ С ДРАГОЦЕННЫМИ МЕТАЛЛАМИ И ДРАГОЦЕННЫМИ КАМНЯМ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ВЕЛИРНЫМИ ИЗДЕЛИЯМИ ИЗ НИ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Google Shape;275;p43"/>
          <p:cNvSpPr/>
          <p:nvPr/>
        </p:nvSpPr>
        <p:spPr>
          <a:xfrm>
            <a:off x="39600" y="339840"/>
            <a:ext cx="7495920" cy="13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60680" indent="-119376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128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 ЛИ ГОСУДАРСТВЕННЫЕ ОРГАНЫ РЕСПУБЛИКИ КАЗАХСТАН СУБЪЕКТАМИ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ЯВЛЯЮ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AutoNum type="arabicPeriod" startAt="12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ОТНОСИТСЯ К СУБЪЕКТА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УЧАСТНИКИ МЕЖДУНАРОДНОГО ФИНАНСОВОГО ЦЕНТРА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АСТАН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СУЩЕСТВЛЯЮЩИЕ НА ТЕРРИТОРИИ МЕЖДУНАРОДНОГО ФИНАНСОВОГО ЦЕНТ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АСТАН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ДАЛЕЕ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МФЦ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ДЕЛЬНЫЕ ВИДЫ ДЕЯТЕЛЬНОСТИ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ПРЕДЕЛЯЕМЫЕ КОМИТЕТОМ МФЦА ПО РЕГУЛИРОВАНИЮ ФИНАНСОВЫХ УСЛУГ ПО СОГЛАСОВАНИЮ С УПОЛНОМОЧЕННЫМ ОРГАНОМ В СООТВЕТСТВИИ С РЕКОМЕНДАЦИЯМИ ГРУППЫ РАЗРАБОТКИ ФИНАНСОВЫХ МЕР БОРЬБЫ С ОТМЫВАНИЕМ ДЕНЕГ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ФАТФ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just">
              <a:lnSpc>
                <a:spcPct val="119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ИХ СЛУЧАЯХ АДВОКАТ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ЮРИДИЧЕСКИЕ КОНСУЛЬТАНТЫ И ДРУГИЕ НЕЗАВИСИМЫЕ СПЕЦИАЛИСТЫ ПО ЮРИДИЧЕСКИМ ВОПРОСА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ОНИ ОТ ИМЕНИ ИЛИ ПО ПОРУЧЕНИЮ КЛИЕНТА УЧАСТВУЮТ В ОПЕРАЦИЯХ С ДЕНЬГАМИ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4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ОТНОСЯТСЯ К СУБЪЕКТА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СУБЪЕКТАМ ФИНАНСОВОГО МОНИТОРИНГА НЕ ОТНОСЯТС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ИЕ ЛИЦ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СУБЪЕКТАМ ФИНАНСОВОГО МОНИТОРИНГА ОТНОСЯ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ОНД СОЦИАЛЬНОГО МЕДИЦИНСКОГО СТРАХ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13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СУБЪЕКТАМ ФИНАНСОВОГО МОНИТОРИНГА ОТНОСЯ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ТОРЫ ИГОРНОГО БИЗНЕСА И ЛОТЕР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1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ОТНОСИТСЯ К СУБЪЕКТА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ДИВИДУАЛЬНЫЕ ПРЕДПРИНИМАТЕЛИ И ЮРИДИЧЕСКИЕ 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СУЩЕСТВЛЯЮЩИЕ ЛИЗИНГОВУЮ ДЕЯТЕЛЬНОСТЬ В КАЧЕСТВЕ ЛИЗИНГОДАТЕЛЯ БЕЗ ЛИЦЕНЗИИ ИНДИВИДУАЛЬНЫЕ ПРЕДПРИНИМАТЕЛИ И ЮРИДИЧЕСКИЕ 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СУЩЕСТВЛЯЮЩ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ПЕРАЦИИ С ДРАГОЦЕННЫМИ МЕТАЛЛАМИ И ДРАГОЦЕННЫМИ КАМНЯМ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ЮВЕЛИРНЫМИ ИЗДЕЛИЯМИ ИЗ НИ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ДИВИДУАЛЬНЫЕ ПРЕДПРИНИМАТЕЛИ И ЮРИДИЧЕСКИЕ 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КАЗЫВАЮЩ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СРЕДНИЧЕСКИЕ УСЛУГИ ПРИ ОСУЩЕСТВЛЕНИИ СДЕЛОК КУПЛ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РОДАЖ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НЕДВИЖИМОГО ИМУЩЕ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Google Shape;280;p44"/>
          <p:cNvSpPr/>
          <p:nvPr/>
        </p:nvSpPr>
        <p:spPr>
          <a:xfrm>
            <a:off x="162000" y="295200"/>
            <a:ext cx="7252920" cy="81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8480" indent="-104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35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3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УСТАНАВЛИВАТЬ И НЕ ПОДДЕРЖИВАТЬ КОРРЕСПОНДЕНТСКИЕ ОТНОШЕНИЯ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АНКАМ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ШИРМ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Google Shape;285;p45"/>
          <p:cNvSpPr/>
          <p:nvPr/>
        </p:nvSpPr>
        <p:spPr>
          <a:xfrm>
            <a:off x="162000" y="328680"/>
            <a:ext cx="725292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8480" indent="-104760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37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ДОСТОВЕРИТЬС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ИНОСТРАННАЯ ФИНАНСОВАЯ ОРГАНИЗАЦ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ОНДЕН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КАЗЫВАЕТ В ИСПОЛЬЗОВАНИИ СВОИХ СЧЕТОВ БАНКАМ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ШИРМ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Google Shape;286;p45"/>
          <p:cNvSpPr/>
          <p:nvPr/>
        </p:nvSpPr>
        <p:spPr>
          <a:xfrm>
            <a:off x="162000" y="4321080"/>
            <a:ext cx="7252920" cy="42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8480" indent="-104760">
              <a:lnSpc>
                <a:spcPct val="117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38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ЛУЧАТЬ РАЗРЕШЕНИЕ РУКОВОДЯЩЕГО РАБОТНИКА ОРГАНИЗАЦИИ НА УСТАНОВЛЕНИЕ НОВЫХ КОРРЕСПОНДЕНТСКИХ ОТНОШ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Google Shape;63;p10"/>
          <p:cNvSpPr/>
          <p:nvPr/>
        </p:nvSpPr>
        <p:spPr>
          <a:xfrm>
            <a:off x="531720" y="851040"/>
            <a:ext cx="134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5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Google Shape;64;p10"/>
          <p:cNvSpPr/>
          <p:nvPr/>
        </p:nvSpPr>
        <p:spPr>
          <a:xfrm>
            <a:off x="960480" y="847800"/>
            <a:ext cx="59068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КАКИХ СЛУЧАЯХ В СООТВЕТСТВИИ С ТРЕБОВАНИЯМИ К СУБЪЕК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Google Shape;65;p10"/>
          <p:cNvSpPr/>
          <p:nvPr/>
        </p:nvSpPr>
        <p:spPr>
          <a:xfrm>
            <a:off x="512640" y="1096920"/>
            <a:ext cx="6513120" cy="50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0240">
              <a:lnSpc>
                <a:spcPct val="11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ИНАНСОВОГО МОНИТОРИНГА ПО ПОДГОТОВКЕ И ОБУЧЕНИЮ В СФЕРЕ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 ПРОВОДИТСЯ ДОПОЛНИТЕЛЬНО ОБУЧЕНИЕ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240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 ИЗМЕНЕНИЕ ДЕЙСТВУЮЩИХ И ВСТУПЛЕНИИ В СИЛУ НОВЫХ НОРМАТИВ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2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КТОВ РК В ОБЛАСТИ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24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 УТВЕРЖДЕНИИ СУБЪЕКТОМ НОВЫХ ИЛИ ИЗМЕНЕНИИ ДЕЙСТВУЮЩИХ ПРАВИЛ ВНУТРЕННЕГО КОНТРОЛЯ В ЦЕЛЯХ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 И ПРОГРАММА ИХ ОСУЩЕСТВЛ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2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24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6.</a:t>
            </a:r>
            <a:r>
              <a:rPr b="0" lang="en-US" sz="13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ТВЕРЖДАЕТСЯ ПЕРЕЧЕНЬ ОТВЕТСТВЕННЫХ ЛИЦ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ТОРЫЕ ПРОХОДЯТ ОБУЧЕНИЕ В ЦЕЛЯХ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 НАЧАЛА ОСУЩЕСТВЛЕНИЯ ИМИ ФУНКЦИЙ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ВЯЗАННЫХ С СОБЛЮДЕНИЕМ ЗАКОНОДАТЕЛЬСТВА РЕСПУБЛИКИ КАЗАХСТАН О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2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УКОВОДИТЕЛЕМ С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Google Shape;66;p10"/>
          <p:cNvSpPr/>
          <p:nvPr/>
        </p:nvSpPr>
        <p:spPr>
          <a:xfrm>
            <a:off x="-12600" y="5526000"/>
            <a:ext cx="134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7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Google Shape;67;p10"/>
          <p:cNvSpPr/>
          <p:nvPr/>
        </p:nvSpPr>
        <p:spPr>
          <a:xfrm>
            <a:off x="946080" y="5516640"/>
            <a:ext cx="571320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16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БУЧЕНИЕ СУБЪЕКТОВ ФИНАНСОВОГО МОНИТОРИНГА ПРОВОДЯТ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ЛИЦ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ООТВЕТСТВУЮЩИЕ СЛЕДУЮЩИМ ТРЕБОВАНИЯ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ЛИЧИЕ ВЫСШЕГО ОБРАЗОВА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ЛИЧИЕ СТАЖА РАБОТЫ В СФЕРЕ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 НЕ МЕ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5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ЛИЧИЕ СЕРТИФИКАТОВ О ПРОХОЖДЕНИИ ОБУЧЕНИЯ В СФЕРЕ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Google Shape;68;p10"/>
          <p:cNvSpPr/>
          <p:nvPr/>
        </p:nvSpPr>
        <p:spPr>
          <a:xfrm>
            <a:off x="595440" y="7029360"/>
            <a:ext cx="63590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8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УСТАНАВЛИВАЕТСЯ ПОРЯДОК УЧЕТА ПРОХОЖДЕНИЯ СОТРУДНИКАМИ СУБЪЕКТА ФИНАНСОВОГО МОНИТОРИНГА ПРОГРАММЫ ОБУЧЕ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БЪЕК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9.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ИМ ДОКУМЕНТОМ ПОДТВЕРЖДАЕТСЯ ПРОХОЖДЕНИЕ СУБЪЕКТОМ ФИНАНСОВОГО МОНИТОРИНГА ТЕСТИРОВА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ХОЖДЕНИЕ СУБЪЕКТОМ ТЕСТИРОВАНИЯ ПОДТВЕРЖДАЕТСЯ ДОКУМЕНТ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ДАВАЕМЫМ ЦЕНТРО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КЦИОНЕРНОЕ ОБЩЕСТВО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ЦИОНАЛЬНЫЙ ЦЕНТР ПО УПРАВЛЕНИЮ ПЕРСОНАЛОМ ГОСУДАРСТВЕННОЙ СЛУЖБ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10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ГДЕ РАЗМЕЩАЕТСЯ ИНФОРМАЦИЯ О ПРОХОЖДЕНИИ СУБЪЕКТОМ ФИНАНСОВОГО МОНИТОРИНГА ТЕСТИРОВА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9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ЛИЧНОМ КАБИНЕТЕ С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Google Shape;69;p10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Google Shape;291;p46"/>
          <p:cNvSpPr/>
          <p:nvPr/>
        </p:nvSpPr>
        <p:spPr>
          <a:xfrm>
            <a:off x="25560" y="328680"/>
            <a:ext cx="7482960" cy="57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5280" indent="-104760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3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104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104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ТЬ СБОР И ДОКУМЕНТАЛЬНО ФИКСИРОВАТЬ СВЕДЕНИЯ О РЕПУТАЦИИ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10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ХАРАКТЕРЕ ДЕЯТЕЛЬНОСТИ ИНОСТРАННОЙ ФИНАНСОВОЙ ОРГАНИЗАЦ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ОНД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10476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ОМ ЧИСЛЕ ПРОВЕДЕНИИ В ОТНОШЕНИИ НЕГО РАССЛЕДОВАНИЯ И ПРИМЕНЕНИИ К НЕМУ САНКЦИЙ ЗА НАРУШЕНИЕ ЗАКОНОДАТЕЛЬСТВА СТРАНЫ ЕГО РЕГИСТРАЦИИ ПО ПРОТИВОДЕЙСТВИЮ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Google Shape;292;p46"/>
          <p:cNvSpPr/>
          <p:nvPr/>
        </p:nvSpPr>
        <p:spPr>
          <a:xfrm>
            <a:off x="162000" y="5383080"/>
            <a:ext cx="725292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8480" indent="-104760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4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just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ДОКУМЕНТАЛЬНО ФИКСИРОВАТЬ ИНФОРМАЦИЮ О МЕРАХ ВНУТРЕННЕГО КОНТРОЛЯ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РИНИМАЕМЫХ ИНОСТРАННОЙ ФИНАНСОВОЙ ОРГАНИЗАЦИЕЙ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РЕСПОНДЕНТОМ В СООТВЕТСТВИИ С ЗАКОНОМ СТРАНЫ ЕГО РЕГИСТРАЦИИ ПО ПРОТИВОДЕЙСТВИЮ ЛЕГАЛИЗАЦИИ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А ТАКЖ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СУЩЕСТВЛЯТЬ ОЦЕНКУ ЭФФЕКТИВНОСТИ ПРИНИМАЕМЫХ МЕР ВНУТРЕННЕГО КОНТРОЛ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Google Shape;297;p47"/>
          <p:cNvSpPr/>
          <p:nvPr/>
        </p:nvSpPr>
        <p:spPr>
          <a:xfrm>
            <a:off x="3240" y="328680"/>
            <a:ext cx="752436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89040" indent="-104760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41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89040" indent="-104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89040" indent="-104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АТЬ ПОДТВЕРЖДЕНИЕ ТОГ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ИНОСТРАННАЯ ФИНАНСОВАЯ ОРГАНИЗАЦ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89040" indent="-10476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ОНДЕНТ ПРОВЕЛ НАДЛЕЖАЩУЮ ПРОВЕРКУ КЛИ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ЕЮЩЕГО ПРЯМОЙ ДОСТУП К СЧЕТАМ БАНК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РРЕСПОНД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ЧТО ОН ИМЕЕТ ВОЗМОЖНОСТЬ ПРЕДОСТАВЛЯ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89040" indent="-104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УЮ ИНФОРМАЦИЮ ПО НАДЛЕЖАЩЕЙ ПРОВЕРКЕ КЛИЕНТА ПО ЗАПРОСУ БАНК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РРЕСПОНДЕН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Google Shape;298;p47"/>
          <p:cNvSpPr/>
          <p:nvPr/>
        </p:nvSpPr>
        <p:spPr>
          <a:xfrm>
            <a:off x="81000" y="5119560"/>
            <a:ext cx="7411680" cy="58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7320" indent="-414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42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ЛИЧИЕ У ИНОСТРАННОЙ ФИНАНСОВОЙ ОРГАН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ПОНДЕНТА КОРРЕСПОНДЕНТСКИХ ОТНОШЕНИЙ С БАНКА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ШИРМАМИ ОПРЕДЕЛЯЕТС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НОВЕ ИНФОРМ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ЕМОЙ ИНОСТРАННОЙ ФИНАНСОВОЙ ОРГАНИЗАЦИЕЙ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ОНДЕНТОМ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АЕМОЙ СУБЪЕКТОМ ФИНАНСОВОГО МОНИТОРИНГА ИЗ ИНЫХ ИСТОЧ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7320" indent="-4140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42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Google Shape;303;p48"/>
          <p:cNvSpPr/>
          <p:nvPr/>
        </p:nvSpPr>
        <p:spPr>
          <a:xfrm>
            <a:off x="69840" y="33984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4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Google Shape;304;p48"/>
          <p:cNvSpPr/>
          <p:nvPr/>
        </p:nvSpPr>
        <p:spPr>
          <a:xfrm>
            <a:off x="419040" y="357120"/>
            <a:ext cx="70606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Google Shape;305;p48"/>
          <p:cNvSpPr/>
          <p:nvPr/>
        </p:nvSpPr>
        <p:spPr>
          <a:xfrm>
            <a:off x="69840" y="140328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45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Google Shape;306;p48"/>
          <p:cNvSpPr/>
          <p:nvPr/>
        </p:nvSpPr>
        <p:spPr>
          <a:xfrm>
            <a:off x="419040" y="1420920"/>
            <a:ext cx="706068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Google Shape;307;p48"/>
          <p:cNvSpPr/>
          <p:nvPr/>
        </p:nvSpPr>
        <p:spPr>
          <a:xfrm>
            <a:off x="69840" y="246852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46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Google Shape;308;p48"/>
          <p:cNvSpPr/>
          <p:nvPr/>
        </p:nvSpPr>
        <p:spPr>
          <a:xfrm>
            <a:off x="419040" y="2486160"/>
            <a:ext cx="70606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Google Shape;309;p48"/>
          <p:cNvSpPr/>
          <p:nvPr/>
        </p:nvSpPr>
        <p:spPr>
          <a:xfrm>
            <a:off x="22320" y="2959200"/>
            <a:ext cx="7502040" cy="74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35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АЛИЗАЦИЯ ЕДИНОЙ ГОСУДАРСТВЕННОЙ ПОЛИТИКИ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9540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4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ОТИВОДЕЙСТВИЕ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ОРДИНАЦИЯ РАБОТЫ ГОСУДАРСТВЕННЫХ ОРГАНОВ В ЭТОМ НАПРАВЛЕНИИ ДЕЯТЕЛЬ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95400">
              <a:lnSpc>
                <a:spcPct val="11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ЗДАНИЕ ЕДИНОЙ ИНФОРМАЦИОННОЙ СИСТЕМЫ И ВЕДЕНИЕ РЕСПУБЛИКАНСКОЙ БАЗ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АННЫХ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9540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ЕНИЕ ВЗАИМОДЕЙСТВИЯ И ИНФОРМАЦИОННОГО ОБМЕНА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МПЕТЕНТНЫМИ ОРГАНАМИ ИНОСТРАННЫХ ГОСУДАРСТВ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Google Shape;314;p49"/>
          <p:cNvSpPr/>
          <p:nvPr/>
        </p:nvSpPr>
        <p:spPr>
          <a:xfrm>
            <a:off x="69840" y="339840"/>
            <a:ext cx="741024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68720" indent="-315612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68720" indent="-315612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ЕНИЕ ИНТЕРЕСОВ РЕСПУБЛИКИ КАЗАХСТАН В МЕЖДУНАРОД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68720" indent="-315612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ЯХ ПО ВОПРОСАМ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68720" indent="-315612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Google Shape;315;p49"/>
          <p:cNvSpPr/>
          <p:nvPr/>
        </p:nvSpPr>
        <p:spPr>
          <a:xfrm>
            <a:off x="69840" y="193356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Google Shape;316;p49"/>
          <p:cNvSpPr/>
          <p:nvPr/>
        </p:nvSpPr>
        <p:spPr>
          <a:xfrm>
            <a:off x="419040" y="1951200"/>
            <a:ext cx="70606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Google Shape;317;p49"/>
          <p:cNvSpPr/>
          <p:nvPr/>
        </p:nvSpPr>
        <p:spPr>
          <a:xfrm>
            <a:off x="69840" y="299880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2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Google Shape;318;p49"/>
          <p:cNvSpPr/>
          <p:nvPr/>
        </p:nvSpPr>
        <p:spPr>
          <a:xfrm>
            <a:off x="419040" y="3016080"/>
            <a:ext cx="70606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2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Google Shape;319;p49"/>
          <p:cNvSpPr/>
          <p:nvPr/>
        </p:nvSpPr>
        <p:spPr>
          <a:xfrm>
            <a:off x="69840" y="406404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Google Shape;320;p49"/>
          <p:cNvSpPr/>
          <p:nvPr/>
        </p:nvSpPr>
        <p:spPr>
          <a:xfrm>
            <a:off x="419040" y="4083120"/>
            <a:ext cx="70606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Google Shape;321;p49"/>
          <p:cNvSpPr/>
          <p:nvPr/>
        </p:nvSpPr>
        <p:spPr>
          <a:xfrm>
            <a:off x="14400" y="4554360"/>
            <a:ext cx="7509960" cy="67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49280">
              <a:lnSpc>
                <a:spcPct val="11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ЗДАНИЕ ЕДИНОЙ ИНФОРМАЦИОННОЙ СИСТЕМЫ И ВЕДЕНИЕ РЕСПУБЛИКАНСКОЙ БАЗЫ ДАННЫХ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4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ЕНИЕ ИНТЕРЕСОВ РЕСПУБЛИКИ КАЗАХСТАН В МЕЖДУНАРОД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ЯХ ПО ВОПРОСАМ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>
              <a:lnSpc>
                <a:spcPct val="117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5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 ВТОРОГО УРОВНЯ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 КОНТРОЛИРУЮ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ЛИЧИЕ В ПЛАТЕЖНОМ ДОКУМЕНТЕ ИНФОРМАЦИИ ПРИПОСТУПЛЕНИИ ПЛАТЕЖА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3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ЕРЕВОДА ДЕНЕГ ОТ ИНОСТРАННОГО ФИНАНСОВОГО УЧРЕЖД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ФИКСИРУЮТ И ХРАНЯТ СВЕД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ЫЕ ДЛЯ ИДЕНТИФИКАЦИИ ПОЛУЧАТЕЛЯ ПО ПЕРЕВОД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НЕГ БЕЗ ИСПОЛЬЗОВАНИЯ БАНКОВСКОГО СЧЕТА ФАМИЛ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ЕН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ЧЕСТВ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 Е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ЛИЧ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ПОЛНЫЕ ИЛИ СОКРАЩЕННЫЕ НАИМЕНОВАН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ЮРИДИЧЕСКИХ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ПРАВИТЕЛЯ И ПОЛУЧА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Google Shape;326;p50"/>
          <p:cNvSpPr/>
          <p:nvPr/>
        </p:nvSpPr>
        <p:spPr>
          <a:xfrm>
            <a:off x="23760" y="339840"/>
            <a:ext cx="7527600" cy="11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7200" indent="-16812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6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ПО УКАЗАНИЯМ КЛИЕНТОВ БЕЗНАЛИЧНЫХ ПЛАТЕЖЕЙ И ПЕРЕВОДОВ ДЕНЕГ В ПОЛЬЗУ ИНОСТРАННОЙ ФИНАНСОВОЙ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ПЛАТЕЖЕЙ И ПЕРЕВОДОВ ДЕНЕГ С ИСПОЛЬЗОВАНИЕМ ПЛАТЕЖНЫХ КАРТОЧЕК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СЛУЧАЕ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ЗАЧИСЛЕНИЮ ДЕНЕГ НА БАНКОВСКИЙ СЧЕТ ФИЗИЧЕСКОГО ЛИЦА ЛИБО ПРОВЕДЕНИЮ ПЛАТЕЖА В ПОЛЬЗУ ПОСТАВЩИКА УСЛУГ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Й ОПЕРАЦИИ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 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БЕЗНАЛИЧНОГО ПЛАТЕЖА ИЛИ ПЕРЕВОДА ДЕНЕГ БЕЗ ИСПОЛЬЗОВАНИЯ БАНКОВСКОГО СЧЕТ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ГО ПЛАТЕЖА ИЛИ ПЕРЕВОДА ДЕНЕГ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 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СЛУЧАЕВ СОВЕРШЕНИЯ КЛИЕНТОМ ПОДОЗРИТЕЛЬНОЙ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ОПЛАТЕ ЗАДОЛЖЕННОСТИ В РАМКАХ ИСПОЛНИТЕЛЬНОГО ПРОИЗВОДСТВА В ПОЛЬЗУ ГОСУДАРСТВЕННЫХ ОРГАНОВ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ВАЮТ НАЛИЧИЕ В ПЛАТЕЖНОМ ДОКУМЕНТЕ И ПЕРЕДАЧУ УЧАСТНИКУ ПЛАТЕЖ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ВОД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ЕГ РЕКВИЗИ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КОНОДА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А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ФАМИЛИ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МЕН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ЧЕСТВА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РИ ЕГО НАЛИЧИ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ЛИБО ПОЛНЫЕ ИЛИ СОКРАЩЕННЫЕ НАИМЕНОВАНИЯ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ЛЯ ЮРИДИЧЕСКИХ ЛИЦ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ПРАВИТЕЛЯ И ПОЛУЧАТЕЛЯ 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ДИВИДУАЛЬНЫЕ ИДЕНТИФИКАЦИОННЫЕ КОДЫ ОТПРАВИТЕЛЯ И ПОЛУЧАТЕЛЯ ДЕНЕГ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ЕСЛИ ПЕРЕВОД ДЕНЕГ ОСУЩЕСТВЛЕН С ИСПОЛЬЗОВАНИЕМ БАНКОВСКОГО СЧЕТ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ЛИБО НОМЕР УКАЗАНИЯ ПО ПЛАТЕЖУ ИЛИ ПЕРЕВОДУ ДЕНЕГ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ЕСЛИ ПЕРЕВОД ДЕНЕГ ОСУЩЕСТВЛЕН БЕЗ ИСПОЛЬЗОВАНИЯ БАНКОВСКОГО СЧЕТА ИДЕНТИФИКАЦИОННЫЙ НОМЕР ИЛИ АДРЕС ОТПРАВИТЕЛЯ ДЕНЕГ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ЛЯ ФИЗИЧЕСКИХ И ЮРИДИЧЕСКИХ ЛИЦ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ЛИБО НОМЕР ДОКУМЕНТ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УДОСТОВЕРЯЮЩЕГО ЛИЧНОСТЬ ОТПРАВИТЕЛЯ ДЕНЕГ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ЛЯ ФИЗИЧЕСКОГО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Google Shape;331;p51"/>
          <p:cNvSpPr/>
          <p:nvPr/>
        </p:nvSpPr>
        <p:spPr>
          <a:xfrm>
            <a:off x="33480" y="339840"/>
            <a:ext cx="746424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87480">
              <a:lnSpc>
                <a:spcPct val="114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7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БЕЗНАЛИЧНОГО ПЛАТЕЖА ИЛИ ПЕРЕВОДА ДЕНЕГ БЕЗ ИСПОЛЬЗОВАНИЯ БАНКОВСКОГО СЧЕТ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ГО ПЛАТЕЖА ИЛИ ПЕРЕВОДА ДЕНЕГ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СЛУЧА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ИЯ КЛИЕНТОМ ПОДОЗРИТЕЛЬНОЙ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ОПЛАТЕ ЗАДОЛЖЕННОСТИ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МКАХ ИСПОЛНИТЕЛЬНОГО ПРОИЗВОДСТВА В ПОЛЬЗУ ГОСУДАРСТВЕННЫХ ОРГАНОВ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ВАЮТ НАЛИЧИЕ В ПЛАТЕЖНОМ ДОКУМЕНТЕ И ПЕРЕДАЧУ УЧАСТНИКУ ПЛАТЕЖ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ВОД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ЕГ РЕКВИЗИ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ДА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А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АМИЛ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ЕН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ЧЕСТВ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 ЕГО НАЛИЧ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ПОЛНЫЕ ИЛИ СОКРАЩЕН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ИМЕНОВАН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ЮРИДИЧЕСКИХ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ПРАВИТЕЛЯ И ПОЛУЧАТЕЛЯ 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Google Shape;332;p51"/>
          <p:cNvSpPr/>
          <p:nvPr/>
        </p:nvSpPr>
        <p:spPr>
          <a:xfrm>
            <a:off x="3740040" y="5613480"/>
            <a:ext cx="885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Google Shape;337;p52"/>
          <p:cNvSpPr/>
          <p:nvPr/>
        </p:nvSpPr>
        <p:spPr>
          <a:xfrm>
            <a:off x="23760" y="339840"/>
            <a:ext cx="752760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7200" indent="-16812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8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ПО УКАЗАНИЯМ КЛИЕНТОВ БЕЗНАЛИЧНЫХ ПЛАТЕЖЕЙ И ПЕРЕВОДОВ ДЕНЕГ В ПОЛЬЗУ ИНОСТРАННОЙ ФИНАНСОВОЙ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ПЛАТЕЖЕЙ И ПЕРЕВОДОВ ДЕНЕГ С ИСПОЛЬЗОВАНИЕМ ПЛАТЕЖНЫХ КАРТОЧЕК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СЛУЧАЕ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ЗАЧИСЛЕНИЮ ДЕНЕГ НА БАНКОВСКИЙ СЧЕТ ФИЗИЧЕСКОГО ЛИЦА ЛИБО ПРОВЕДЕНИЮ ПЛАТЕЖА В ПОЛЬЗУ ПОСТАВЩИКА УСЛУГ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Й ОПЕРАЦИИ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 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БЕЗНАЛИЧНОГО ПЛАТЕЖА ИЛИ ПЕРЕВОДА ДЕНЕГ БЕЗ ИСПОЛЬЗОВАНИЯ БАНКОВСКОГО СЧЕТ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ГО ПЛАТЕЖА ИЛИ ПЕРЕВОДА ДЕНЕГ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 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СЛУЧАЕВ СОВЕРШЕНИЯ КЛИЕНТОМ ПОДОЗРИТЕЛЬНОЙ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ОПЛАТЕ ЗАДОЛЖЕННОСТИ В РАМКАХ ИСПОЛНИТЕЛЬНОГО ПРОИЗВОДСТВА В ПОЛЬЗУ ГОСУДАРСТВЕННЫХ ОРГАНОВ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ВАЮТ НАЛИЧИЕ В ПЛАТЕЖНОМ ДОКУМЕНТЕ И ПЕРЕДАЧУ УЧАСТНИКУ ПЛАТЕЖ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ВОД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ЕГ РЕКВИЗИ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ДА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А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ДИВИДУАЛЬНЫЕ ИДЕНТИФИКАЦИОННЫЕ КОДЫ ОТПРАВИТЕЛЯ И ПОЛУЧАТЕЛЯ 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 ПЕРЕВОД ДЕНЕГ ОСУЩЕСТВЛЕН С ИСПОЛЬЗОВАНИЕМ БАНКОВСКОГО СЧЕ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НОМЕР УКАЗАНИЯ ПО ПЛАТЕЖУ ИЛИ ПЕРЕВОДУ ДЕНЕГ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ЕРЕВОД ДЕНЕГ ОСУЩЕСТВЛЕН БЕЗ ИСПОЛЬЗОВАНИЯ БАНКОВСКОГО СЧ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Google Shape;338;p52"/>
          <p:cNvSpPr/>
          <p:nvPr/>
        </p:nvSpPr>
        <p:spPr>
          <a:xfrm>
            <a:off x="3740040" y="8539200"/>
            <a:ext cx="885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Google Shape;343;p53"/>
          <p:cNvSpPr/>
          <p:nvPr/>
        </p:nvSpPr>
        <p:spPr>
          <a:xfrm>
            <a:off x="33480" y="339840"/>
            <a:ext cx="7464240" cy="68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87480">
              <a:lnSpc>
                <a:spcPct val="114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БЕЗНАЛИЧНОГО ПЛАТЕЖА ИЛИ ПЕРЕВОДА ДЕНЕГ БЕЗ ИСПОЛЬЗОВАНИЯ БАНКОВСКОГО СЧЕТ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ГО ПЛАТЕЖА ИЛИ ПЕРЕВОДА ДЕНЕГ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СЛУЧА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ИЯ КЛИЕНТОМ ПОДОЗРИТЕЛЬНОЙ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ОПЛАТЕ ЗАДОЛЖЕННОСТИ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МКАХ ИСПОЛНИТЕЛЬНОГО ПРОИЗВОДСТВА В ПОЛЬЗУ ГОСУДАРСТВЕННЫХ ОРГАНОВ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ВАЮТ НАЛИЧИЕ В ПЛАТЕЖНОМ ДОКУМЕНТЕ И ПЕРЕДАЧУ УЧАСТНИКУ ПЛАТЕЖ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ВОД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ЕГ РЕКВИЗИ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ДА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А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ДЕНТИФИКАЦИОННЫЙ НОМЕР ИЛИ АДРЕС ОТПРАВИ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ФИЗИЧЕСКИХ И ЮРИДИЧЕСКИХ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НОМЕР ДОКУМ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ДОСТОВЕРЯЮЩЕГО ЛИЧНОСТЬ ОТПРАВИ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ФИЗ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>
              <a:lnSpc>
                <a:spcPct val="100000"/>
              </a:lnSpc>
              <a:tabLst>
                <a:tab algn="l" pos="0"/>
              </a:tabLst>
            </a:pPr>
            <a:r>
              <a:rPr b="1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160.</a:t>
            </a:r>
            <a:r>
              <a:rPr b="1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 СУБЪЕКТАМ ФИНАНСОВОГО МОНИТОРИНГА НЕ ОТНОСЯТС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Е ОРГАНЫ Р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Google Shape;344;p53"/>
          <p:cNvSpPr/>
          <p:nvPr/>
        </p:nvSpPr>
        <p:spPr>
          <a:xfrm>
            <a:off x="407880" y="6410160"/>
            <a:ext cx="6854400" cy="37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61.</a:t>
            </a:r>
            <a:r>
              <a:rPr b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 СУБЪЕКТАМ ФИНАНСОВОГО МОНИТОРИНГА ОТНОСЯТСЯ</a:t>
            </a: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 ОСУЩЕСТВЛЯЮЩИЕ МИКРОФИНАНСОВУЮ ДЕЯТЕЛЬ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 СУБЪЕКТАМ ФИНАНСОВОГО МОНИТОРИНГА ОТНОСЯТСЯ</a:t>
            </a: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95400" algn="ctr">
              <a:lnSpc>
                <a:spcPct val="117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Char char="-"/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БУХГАЛТЕРСКИЕ ОРГАНИЗАЦИИ И ПРОФЕССИОНАЛЬНЫЕ БУХГАЛТЕРЫ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СУЩЕСТВЛЯЮЩИЕ ПРЕДПРИНИМАТЕЛЬСКУЮ ДЕЯТЕЛЬНОСТЬ В СФЕРЕ БУХГАЛТЕРСКОГО УЧЕТ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АУДИТОРСКИЕ ОРГАН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47760">
              <a:lnSpc>
                <a:spcPct val="113000"/>
              </a:lnSpc>
              <a:buClr>
                <a:srgbClr val="000000"/>
              </a:buClr>
              <a:buFont typeface="Trebuchet MS"/>
              <a:buAutoNum type="arabicPeriod" startAt="163"/>
              <a:tabLst>
                <a:tab algn="l" pos="0"/>
              </a:tabLst>
            </a:pPr>
            <a:r>
              <a:rPr b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 СУБЪЕКТАМ ФИНАНСОВОГО МОНИТОРИНГА ОТНОСЯТСЯ</a:t>
            </a: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3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БИРЖ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47760">
              <a:lnSpc>
                <a:spcPct val="113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 СУБЪЕКТАМ ФИНАНСОВОГО МОНИТОРИНГА ОТНОСЯТСЯ</a:t>
            </a: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1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ВСЕ ОТВЕТЫ НЕ ВЕРНЫ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ФИЗИЧЕСКИЕ ЛИЦА</a:t>
            </a:r>
            <a:r>
              <a:rPr b="0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ГОСОРГАНЫ РК</a:t>
            </a:r>
            <a:r>
              <a:rPr b="0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СУБЪЕКТЫ КВАЗИГОСУДАРСТВЕННОГО СЕКТО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65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..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ДИВИДУАЛЬНЫЕ ПРЕДПРИНИМАТЕЛИ И ЮРИДИЧЕСКИЕ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Google Shape;345;p53"/>
          <p:cNvSpPr/>
          <p:nvPr/>
        </p:nvSpPr>
        <p:spPr>
          <a:xfrm>
            <a:off x="-1440" y="6696000"/>
            <a:ext cx="2599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6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Google Shape;346;p53"/>
          <p:cNvSpPr/>
          <p:nvPr/>
        </p:nvSpPr>
        <p:spPr>
          <a:xfrm>
            <a:off x="1440" y="9642600"/>
            <a:ext cx="754200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160" algn="ctr">
              <a:lnSpc>
                <a:spcPct val="11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КАЗЫВАЮЩИЕ ПОСРЕДНИЧЕСКИЕ УСЛУГИ ПРИ ОСУЩЕСТВЛЕНИИ СДЕЛОК КУП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ОДАЖИ НЕДВИЖИМОГО ИМУЩЕСТВ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1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БЪЕКТАМ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Google Shape;351;p54"/>
          <p:cNvSpPr/>
          <p:nvPr/>
        </p:nvSpPr>
        <p:spPr>
          <a:xfrm>
            <a:off x="25560" y="339840"/>
            <a:ext cx="7511760" cy="113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7360" indent="-374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66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ЯЗАТЕЛЬНЫМИ ОСНОВАНИЯМИ ДЛЯ ИЗУЧЕНИЯ СУБЪЕКТОМ ФИНАНСОВОГО МОНИТОРИНГА СОВЕРШАЕМЫХ КЛИЕНТОМ ОПЕРАЦИЙ И ФИК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ЗУЛЬТАТОВ ТАКОГО ИЗУЧЕНИЯ В СООТВЕТСТВИИ С ЗАКОНОМ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ПРАВИЛЬ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12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AutoNum type="arabicPeriod" startAt="16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ОПЕРАЦИИ ПОДЛЕЖАТ ФИНАНСОВОМУ МОНИТОРИНГУ НЕЗАВИСИМО ОТ ФОРМЫ ИХ ОСУЩЕСТВЛЕНИЯ И СУММ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КОТОРУЮ ОНИ СОВЕРШЕНЫ ЛИБ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ГУТ ИЛИ МОГЛИ БЫТЬ СОВЕРШЕ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ДОЗРИТЕЛЬНЫЕ 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just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6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ОПЕРАЦИИ ПОДЛЕЖАТ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МЕЮЩИЕ ХАРАКТЕРИСТИ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ТВЕТСТВУЮЩИЕ ТИПОЛОГИЯ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АМ И СПОСОБАМ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Х ДОХОДОВ И ФИНАН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КЛИЕН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17000"/>
              </a:lnSpc>
              <a:spcBef>
                <a:spcPts val="201"/>
              </a:spcBef>
              <a:buClr>
                <a:srgbClr val="000000"/>
              </a:buClr>
              <a:buFont typeface="Trebuchet MS"/>
              <a:buAutoNum type="arabicPeriod" startAt="16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ОРГАНОМ УТВЕРЖДАЮТСЯ ТИПОЛОГ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Ы И СПОСОБЫ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Х ДОХОДОВ И ФИНАН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14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ЗМА И ДОВОДЯТСЯ ДО СУБЪЕКТОВ ФИНАНСОВОГО МОНИТОРИНГА ПУТЕМ РАЗМЕЩЕНИЯ НА ОФИЦИАЛЬНОМ ИНТЕРНЕ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УРСЕ УПОЛНОМОЧЕННОГО ОРГАН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6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КОЛЬКО ВИДОВ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М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22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17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AutoNum type="arabicPeriod" startAt="166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ПРЕДОСТАВЛЯЮТСЯ СВЕДЕНИЯ И ИНФОРМАЦИЯ ОБ ОПЕРАЦИ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УПОЛНОМОЧЕННЫЙ ОРГАН П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ОРМ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АЯ ДОЛЖНА СОДЕРЖАТЬ СЛЕДУЮЩИЕ РАЗДЕЛ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ВОДНУ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О СУБЪЕКТЕ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ОБ ОПЕРАЦИИ И УЧАСТНИКАХ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ПОЛНИТЕЛЬНУЮ ИНФОРМАЦИЮ ПО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ННАЯ ФОРМА ОПРЕДЕЛЯЕТСЯ ПРАВИЛА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ТВЕРЖДАЕМЫМИ ПРАВИ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БЪЕКТОМ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6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НЕ ПРЕДОСТАВЛЯЮТСЯ СВЕДЕНИЯ И ИНФОРМАЦИЯ ОБ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Google Shape;356;p55"/>
          <p:cNvSpPr/>
          <p:nvPr/>
        </p:nvSpPr>
        <p:spPr>
          <a:xfrm>
            <a:off x="63360" y="328680"/>
            <a:ext cx="7429320" cy="12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6440" indent="-123840">
              <a:lnSpc>
                <a:spcPct val="121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73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СКОЛЬКИХ ДНЕЙ СУБЪЕКТ ФИНАНСОВОГО МОНИТОРИНГА ОБЯЗАН ПРЕДОСТАВИТЬ В УПОЛНОМОЧЕННЫЙ ОРГАН ПО ЕГО ЗАПРОСУ НЕОБХОДИМ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3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СО ДНЯ ПОЛУЧЕНИЯ СООТВЕТСТВУЮЩЕГО ЗАПРОС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И ТРЁ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7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ОЙ ОРГАН СУБЪЕКТ ФИНАНСОВОГО МОНИТОРИНГА ОБЯЗАН ПРЕДОСТАВИТЬ ПО ЕГО ЗАПРОСУ НЕОБХОДИМЫЕ 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КУМЕНТЫ В ТЕЧЕНИЕ ТРЕХ РАБОЧИХ ДНЕЙ СО ДНЯ ПОЛУЧЕНИЯ СООТВЕТСТВУЮЩЕГО ЗАПРОС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17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СКОЛЬКИХ ДНЕЙ ПО ЗАПРОСУ УПОЛНОМОЧЕННОГО ОРГАН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МУ С АНАЛИЗОМ ПОДОЗРИТЕЛЬНОЙ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ОГО МОНИТОРИНГА ОБЯЗАН ПРЕДОСТАВИТЬ НЕОБХОДИМЫЕ 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 ПОЗДНЕЕ РАБОЧЕГО ДНЯ СО ДНЯ ПОЛУЧЕНИЯ ЗАПРОС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КАКОЙ СРОК УПОЛНОМОЧЕННЫЙ ОРГАН ВПРАВЕ ПО ПИСЬМЕННОМУ ОБРАЩЕНИЮ СУБЪЕКТА ФИНАНСОВОГО МОНИТОРИНГА ПРОДЛИТЬ В СЛУЧА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ДЛЯ ОБРАБОТКИ ЗАПРОСА ТРЕБУЕТСЯ ДОПОЛНИТЕЛЬНОЕ ВРЕМ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 БОЛЕЕ ЧЕМ НА ДЕСЯТЬ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just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ПРАШИВАТЬ 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ПО ОПЕРАЦИЯ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НЫМ ДО ВВЕДЕНИЯ В ДЕЙСТВИЕ ЗАКОНА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ИНФОРМ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ДОКУМЕН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ПРЕДОСТАВЛЯЮТСЯ НА ОСНОВАНИИ МЕЖДУНАРОДНОГО ДОГОВОР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АТИФИЦИРОВАННОГО РЕСПУБЛИКОЙ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 ВПРАВ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7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КАКОЙ ОРГАН НЕСУТ РАСХОД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Е С ПЕРЕДАЧЕЙ СВЕДЕНИЙ ОБ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И ПРОВЕДЕНИИ НАДЛЕЖАЩЕЙ ПРОВЕРКИ КЛИЕНТ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В УПОЛНОМОЧЕННЫЙ ОРГ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Google Shape;74;p11"/>
          <p:cNvSpPr/>
          <p:nvPr/>
        </p:nvSpPr>
        <p:spPr>
          <a:xfrm>
            <a:off x="0" y="0"/>
            <a:ext cx="5760720" cy="10537560"/>
          </a:xfrm>
          <a:custGeom>
            <a:avLst/>
            <a:gdLst>
              <a:gd name="textAreaLeft" fmla="*/ 0 w 5760720"/>
              <a:gd name="textAreaRight" fmla="*/ 5761080 w 5760720"/>
              <a:gd name="textAreaTop" fmla="*/ 0 h 10537560"/>
              <a:gd name="textAreaBottom" fmla="*/ 10537920 h 10537560"/>
            </a:gdLst>
            <a:ahLst/>
            <a:rect l="textAreaLeft" t="textAreaTop" r="textAreaRight" b="textAreaBottom"/>
            <a:pathLst>
              <a:path w="5761355" h="10537190">
                <a:moveTo>
                  <a:pt x="0" y="10537186"/>
                </a:moveTo>
                <a:lnTo>
                  <a:pt x="5761338" y="10537186"/>
                </a:lnTo>
                <a:lnTo>
                  <a:pt x="5761338" y="0"/>
                </a:lnTo>
                <a:lnTo>
                  <a:pt x="0" y="0"/>
                </a:lnTo>
                <a:lnTo>
                  <a:pt x="0" y="10537186"/>
                </a:lnTo>
              </a:path>
            </a:pathLst>
          </a:custGeom>
          <a:solidFill>
            <a:srgbClr val="f0f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Google Shape;75;p11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299" y="0"/>
                </a:moveTo>
                <a:lnTo>
                  <a:pt x="0" y="340493"/>
                </a:lnTo>
                <a:lnTo>
                  <a:pt x="236850" y="340493"/>
                </a:lnTo>
                <a:lnTo>
                  <a:pt x="603150" y="0"/>
                </a:lnTo>
                <a:lnTo>
                  <a:pt x="366299" y="0"/>
                </a:lnTo>
              </a:path>
              <a:path w="1386840" h="340995">
                <a:moveTo>
                  <a:pt x="758086" y="0"/>
                </a:moveTo>
                <a:lnTo>
                  <a:pt x="391799" y="340493"/>
                </a:lnTo>
                <a:lnTo>
                  <a:pt x="628649" y="340493"/>
                </a:lnTo>
                <a:lnTo>
                  <a:pt x="994949" y="0"/>
                </a:lnTo>
                <a:lnTo>
                  <a:pt x="758086" y="0"/>
                </a:lnTo>
              </a:path>
              <a:path w="1386840" h="340995">
                <a:moveTo>
                  <a:pt x="1149885" y="0"/>
                </a:moveTo>
                <a:lnTo>
                  <a:pt x="783585" y="340493"/>
                </a:lnTo>
                <a:lnTo>
                  <a:pt x="1021079" y="340493"/>
                </a:lnTo>
                <a:lnTo>
                  <a:pt x="1386756" y="0"/>
                </a:lnTo>
                <a:lnTo>
                  <a:pt x="114988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Google Shape;76;p11"/>
          <p:cNvSpPr/>
          <p:nvPr/>
        </p:nvSpPr>
        <p:spPr>
          <a:xfrm>
            <a:off x="1262160" y="206280"/>
            <a:ext cx="566064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СТЫ ПО ТИПОЛОГИЯМ И СХЕМАМ </a:t>
            </a:r>
            <a:r>
              <a:rPr b="0" i="1" lang="en-US" sz="2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2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1515"/>
                </a:solidFill>
                <a:latin typeface="Arial"/>
                <a:ea typeface="Arial"/>
              </a:rPr>
              <a:t>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Google Shape;77;p11"/>
          <p:cNvSpPr/>
          <p:nvPr/>
        </p:nvSpPr>
        <p:spPr>
          <a:xfrm>
            <a:off x="-12600" y="573120"/>
            <a:ext cx="756900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1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УТВЕРЖДАЮТСЯ ТИПОЛОГ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Ы И СПОСОБЫ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Х ДОХОДОВ И ФИНАНСИРОВАНИЯ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Ф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ОБРАЗОМ ТИПОЛОГИИ ДОВОДЯТСЯ ДО СУБЪЕКТОВ ФИНАНСОВОГО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УТЕМ РАЗМЕЩЕНИЯ НА ИНТЕРНЕ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СУРСЕ А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Google Shape;78;p11"/>
          <p:cNvSpPr/>
          <p:nvPr/>
        </p:nvSpPr>
        <p:spPr>
          <a:xfrm>
            <a:off x="-1440" y="2639880"/>
            <a:ext cx="13788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3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Google Shape;79;p11"/>
          <p:cNvSpPr/>
          <p:nvPr/>
        </p:nvSpPr>
        <p:spPr>
          <a:xfrm>
            <a:off x="846000" y="2630520"/>
            <a:ext cx="61084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АЯ ЦИФРА УКАЗЫВАЕТСЯ В СЛУЧА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МЕ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Google Shape;80;p11"/>
          <p:cNvSpPr/>
          <p:nvPr/>
        </p:nvSpPr>
        <p:spPr>
          <a:xfrm>
            <a:off x="-12600" y="2887560"/>
            <a:ext cx="7563960" cy="87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76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ХАРАКТЕРИСТИК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ТВЕТСТВУЮЩИЕ ТИПОЛОГИЯ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АМ И СПОСОБАМ ФИНАНСИРОВАНИЯ ТЕРРОРИЗМА В ГРАФЕ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1.5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НОВАНИЕ ДЛЯ ПОДАЧИ СООБЩЕНИЯ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УЖНОЕ ВЫБРАТЬ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*»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ОРМЫ Ф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60" indent="-88920">
              <a:lnSpc>
                <a:spcPct val="116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АЯ ЦИФРА УКАЗЫВАЕТСЯ В СЛУЧА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МЕЮЩИЕ ХАРАКТЕРИСТИК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ТВЕТСТВУЮЩИЕ ТИПОЛОГИЯ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АМ И СПОСОБ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Х ДОХОДОВ В ГРАФЕ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1.5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НОВАНИЕ ДЛЯ ПОДАЧИ СООБЩЕНИЯ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УЖНОЕ ВЫБРАТЬ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*»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ОРМЫ Ф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60" indent="-88920">
              <a:lnSpc>
                <a:spcPct val="117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ЙТЕ ОПРЕДЕЛЕНИЕ ФИНАНСОВОЙ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ВЕСТИЦИОННО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ИРАМИД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ГЛАСНО УТВЕРЖДЁННОЙ ТИПОЛОГИЕЙ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ЫЕ ПИРАМИД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РИ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Ы ФУНКЦИОНИРО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АЯ НЕЗАКОННУЮ ДЕЯТЕЛЬНОСТЬ ПО ИЗВЛЕЧ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А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УЩЕСТВЕННОЙ ВЫГОД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 ПРИВЛЕЧЕНИЯ ДЕНЕГ ИЛИ ИНОГО ИМУЩЕСТВА ЛИБО ПРАВА НА НЕГО ФИЗИЧЕСКИХ 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ИХ ЛИЦ БЕЗ ИСПОЛЬ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ВЛЕЧЕННЫХ СРЕДСТВ НА ПРЕДПРИНИМАТЕЛЬСКУЮ ДЕЯТЕЛЬНОСТЬ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ЕСПЕЧИВАЮЩУЮ ПРИНЯТЫЕ ОБЯЗАТЕЛЬСТВ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УТЕМ ПЕРЕРАСПРЕДЕЛЕНИЯ ДАННЫХ АКТИВОВ И ОБОГАЩЕНИЯ ОДНИХ УЧАСТНИКОВ ЗА СЧЕТ ВЗНОСОВ ДРУГИ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1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6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 КАКОЙ СТАТЬЕ УГОЛОВНОГО КОДЕКСА РЕСПУБЛИКИ КАЗАХСТАН ПРЕДУСМОТРЕНА ОТВЕТСТВЕННОСТЬ ЗА СОЗДАНИЕ ФИНАНСОВОЙ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ВЕСТИЦИОННО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ИРАМИД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ТАТЬ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17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ЗДАНИЕ И РУКОВОДСТВО ФИНАНСОВОЙ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ВЕСТИЦИОННО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ИРАМИ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12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7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КОЛЬКО ИНДИКАТОРОВ ПОДОЗРИТЕЛЬНОСТИ УКАЗАНЫ В УТВЕРЖДЁННОЙ ТИПОЛОГИЕЙ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ЫЕ ПИРАМИД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РИТЕРИИ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УНКЦИОНИРО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6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ШЕСТНАДЦАТЬ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Google Shape;361;p56"/>
          <p:cNvSpPr/>
          <p:nvPr/>
        </p:nvSpPr>
        <p:spPr>
          <a:xfrm>
            <a:off x="46080" y="331920"/>
            <a:ext cx="7472160" cy="87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0956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7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ФУНКЦИИ ОСУЩЕСТВЛЯЕТ УПОЛНОМОЧЕННЫЙ ОРГ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0956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095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0956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СБОР И ОБРАБОТКУ ИНФОРМАЦИИ ОБ ОПЕРАЦИЯХ С ДЕНЬГАМИ 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"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В УСТАНОВЛЕННОМ ПОРЯДКЕ АНАЛИЗ ПОЛУЧЕННОЙ ИНФОРМАЦИ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КООРДИНИРУЕТ ДЕЯТЕЛЬНОСТЬ ГОСУДАРСТВЕННЫХ ОРГАНОВ В СФЕРЕ ПРОТИВОДЕЙСТВИЯ ЛЕГАЛИЗАЦИ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 ЗАПРОСУ СУДА ПО УГОЛОВНЫМ ДЕЛАМ НАПРАВЛЯЕТ НЕОБХОДИМУЮ ИНФОРМАЦИЮ ПО ОПЕРАЦИЯМ С ДЕНЬГАМИ 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ДЛЕЖАЩИМ ФИНАНСОВОМУ МОНИТОРИНГУ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ЛЯ РАЗРЕШЕНИЯ МАТЕРИАЛ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НАХОДЯЩИХСЯ В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0956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И НАЛИЧИИ ОСНОВАНИЙ ПОЛАГАТЬ О ТО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ЧТО ОПЕРАЦИЯ С ДЕНЬГАМИ 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 СВЯЗАНА С ЛЕГАЛИЗАЦИЕЙ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ФИНАНСИРОВАНИЕМ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ЕРЕДАЕТ ИНФОРМАЦИЮ В ГЕНЕРАЛЬНУЮ ПРОКУРАТУРУ РЕСПУБЛИКИ КАЗАХСТАН ДЛЯ НАПРАВЛЕНИЯ В ПРАВООХРАНИТЕЛЬНЫЕ И СПЕЦИАЛЬНЫЕ ГОСУДАРСТВЕННЫЕ ОРГАНЫ В СООТВЕТСТВИИ С ИХ КОМПЕТЕНЦИЕЙ ДЛЯ ПРИНЯТИЯ ПРОЦЕССУАЛЬНОГО РЕШЕНИЯ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И НАЛИЧИИ ОСНОВАНИЙ ПОЛАГАТЬ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ЧТО ДЕЯТЕЛЬНОСТЬ ФИЗИЧЕСКИХ И ЮРИДИЧЕСКИХ ЛИЦ СВЯЗАНА С ЛЕГАЛИЗАЦИЕЙ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ФИНАНСИРОВАНИЕМ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НАПРАВЛЯЕТ ИНФОРМАЦИЮ В ПРАВООХРАНИТЕЛЬНЫЕ И СПЕЦИАЛЬНЫЕ ГОСУДАРСТВЕННЫЕ ОРГАНЫ В СООТВЕТСТВИИ С ИХ КОМПЕТЕНЦИЕЙ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ВЗАИМОДЕЙСТВИЕ С ПРАВООХРАНИТЕЛЬНЫМИ И СПЕЦИАЛЬНЫМИ ГОСУДАРСТВЕННЫМИ ОРГАНАМИ ПО ПЕРЕДАННОЙ ИНФОРМАЦИИ В СООТВЕТСТВИИ С ЗАКОНОМ РЕСПУБЛИКИ КАЗАХСТАН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0956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УЧАСТВУЕТ В РАЗРАБОТКЕ И ОСУЩЕСТВЛЕНИИ ПРОГРАММ МЕЖДУНАРОДНОГО СОТРУДНИЧЕСТВА ПО ВОПРОСАМ ПРОТИВОДЕЙСТВИЯ ЛЕГАЛИЗАЦИ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РГАНИЗУЕТ ФОРМИРОВАНИЕ И ВЕДЕНИЕ РЕСПУБЛИКАНСКОЙ БАЗЫ ДАННЫХ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А ТАКЖЕ ОБЕСПЕЧИВАЕТ МЕТОДОЛОГИЧЕСКОЕ ЕДИНСТВО И СОГЛАСОВАННОЕ ФУНКЦИОНИРОВАНИЕ ИНФОРМАЦИОННЫХ СИСТЕМ В СФЕРЕ ПРОТИВОДЕЙСТВИЯ ЛЕГАЛИЗАЦИ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 И ДРУГ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0956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09560">
              <a:lnSpc>
                <a:spcPct val="100000"/>
              </a:lnSpc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7095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Google Shape;366;p57"/>
          <p:cNvSpPr/>
          <p:nvPr/>
        </p:nvSpPr>
        <p:spPr>
          <a:xfrm>
            <a:off x="-1440" y="328680"/>
            <a:ext cx="7552800" cy="12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85640" indent="-76320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8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ЦЕЛЯХ ПРОТИВОДЕЙСТВ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ОСУЩЕСТВЛЯ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5640" indent="-82800" algn="ctr">
              <a:lnSpc>
                <a:spcPct val="100000"/>
              </a:lnSpc>
              <a:buClr>
                <a:srgbClr val="16cc52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СБОР И ОБРАБОТКУ ИНФОРМАЦИИ ОБ ОПЕРАЦИЯХ С ДЕНЬГАМИ 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42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В УСТАНОВЛЕННОМ ПОРЯДКЕ АНАЛИЗ ПОЛУЧЕННОЙ ИНФОРМАЦИИ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КООРДИНИРУЕТ ДЕЯТЕЛЬНОСТЬ ГОСУДАРСТВЕННЫХ ОРГАНОВ В СФЕ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ОТИВОДЕЙСТВИЯ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 ЗАПРОСУ СУДА ПО УГОЛОВНЫМ ДЕЛАМ НАПРАВЛЯЕТ НЕОБХОДИМУЮ ИНФОРМАЦИЮ ПО ОПЕРАЦИЯМ С ДЕНЬГАМИ 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ДЛЕЖАЩИМ ФИНАНСОВОМУ МОНИТОРИНГУ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ЛЯ РАЗРЕШЕНИЯ МАТЕРИАЛ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АХОДЯЩИХСЯ В ПРОИЗВОД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50760">
              <a:lnSpc>
                <a:spcPct val="116000"/>
              </a:lnSpc>
              <a:buClr>
                <a:srgbClr val="16cc52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ВЗАИМОДЕЙСТВИЕ С ПРАВООХРАНИТЕЛЬНЫМИ И СПЕЦИАЛЬНЫМИ ГОСУДАРСТВЕННЫМИ ОРГАНАМИ ПО ПЕРЕДАННОЙ ИНФОРМАЦИИ В СООТВЕТСТВИИ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ЗАКОНОМ РЕСПУБЛИКИ КАЗАХСТАН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8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УНКЦИИ УПОЛНОМОЧЕННОГО ОРГАН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13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КООРДИНИРУЕТ РАБОТУ ПО РЕАЛИЗАЦИИ ОЦЕНКИ РИСКОВ В СФЕРЕ ПРОТИВОДЕЙСТВИЯ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12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РАЗРАБАТЫВАЕТ И ВНОСИТ В ПРАВИТЕЛЬСТВО РЕСПУБЛИКИ КАЗАХСТАН НА УТВЕРЖДЕНИЕ ПРАВИЛА ПРОВЕДЕНИЯ ОЦЕНКИ РИСКОВ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 И ФИНАНСИРОВАНИЯ ТЕРРОРИЗМА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А ТАКЖЕ МЕРЫ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АПРАВЛЕННЫЕ НА СНИЖЕНИЕ РИСКОВ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 И ФИНАНС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35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ИНЫЕ ПОЛНОМОЧИЯ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ЕДУСМОТРЕННЫЕ ЗАКОНОМ РЕСПУБЛИКИ КАЗАХСТАН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И ЗАКОНАМИ РЕСПУБЛИКИ КАЗАХСТАН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АКТАМИ ПРЕЗИДЕНТА РЕСПУБЛИКИ КАЗАХСТАН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АВИТЕЛЬСТВА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Google Shape;371;p58"/>
          <p:cNvSpPr/>
          <p:nvPr/>
        </p:nvSpPr>
        <p:spPr>
          <a:xfrm>
            <a:off x="61920" y="325440"/>
            <a:ext cx="7446600" cy="12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6560" indent="-231840">
              <a:lnSpc>
                <a:spcPct val="115000"/>
              </a:lnSpc>
              <a:buClr>
                <a:srgbClr val="000000"/>
              </a:buClr>
              <a:buFont typeface="Trebuchet MS"/>
              <a:buAutoNum type="arabicPeriod" startAt="182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РАЗРАБАТЫВАЕТ И ПРОВОДИТ МЕРОПРИЯТИЯ ПО ПРЕДУПРЕЖДЕНИЮ НАРУШЕНИЙ ЗАКОНОДАТЕЛЬСТВА РЕСПУБЛИКИ КАЗАХСТАН 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318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8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ОСУЩЕСТВЛЯЕТ ВЗАИМОДЕЙСТВИЕ С ПРАВООХРАНИТЕЛЬНЫМИ И СПЕЦИАЛЬНЫМИ ГОСУДАРСТВЕННЫМИ ОРГАНАМИ ПО ПЕРЕДАННОЙ ИНФОРМАЦИИ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ТВЕТСТВИИ С ЗАКОНОМ РЕСПУБЛИКИ 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Trebuchet MS"/>
                <a:ea typeface="Trebuchet MS"/>
              </a:rPr>
              <a:t>184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Е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ЛУЧЕНИЕ ВЫИГРЫША ПО РЕЗУЛЬТАТАМ ПРОВЕДЕНИЯ ПАРИ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АЗАРТНОЙ ИГРЫ В ИГОРНЫХ ЗАВЕДЕНИЯХ И ЛОТЕРЕИ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 ТОМ ЧИСЛЕ В ЭЛЕКТРОННОЙ ФО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КУПКА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РОДАЖА И ОБМЕН НАЛИЧНОЙ ИНОСТРАННОЙ ВАЛЮТЫ ЧЕРЕЗ ОБМЕННЫЕ ПУНКТЫ ПОЛУЧЕНИЕ ДЕНЕГ ПО ЧЕКУ ИЛИ ВЕКС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6560" indent="-2318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8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 ОПЕРАЦИЯМ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М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НОСЯТС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НЯТИЕ С БАНКОВСКОГО СЧЕТА ИЛИ ЗАЧИСЛЕНИЕ НА БАНКОВСКИЙ СЧЕТ КЛИЕНТА ДЕНЕГ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А РАВНО ПРИЕМ ОТ КЛИЕНТА ЛИБО ВЫДАЧА КЛИЕНТУ НАЛИЧНЫХ ДЕ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ЛУЧЕНИЕ ДЕНЕГ ПО ЧЕКУ ИЛИ ВЕКС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ЕРЕВОДЫ ДЕНЕГ ЗА ГРАНИЦУ НА СЧЕТА 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О ВКЛАДЫ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)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ТКРЫТЫЕ НА АНОНИМНОГО ВЛАДЕЛЬЦА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СТУПЛЕНИЕ ДЕНЕГ ИЗ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ЗА ГРАНИЦЫ СО СЧЕТА 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КЛАДА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),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ТКРЫТОГО НА АНОНИМНОГО ВЛАДЕЛЬ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3184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 ОПЕРАЦИЯМ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М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 ОТНОСЯТС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ЗАПРОСУ СУДА ПО УГОЛОВНЫМ ДЕЛАМ НАПРАВЛЯЕТ НЕОБХОДИМУЮ ИНФОРМАЦИЮ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ЯМ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М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ЛЯ РАЗРЕШЕНИЯ МАТЕРИАЛ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ХОДЯЩИХСЯ В ПРОИЗВОД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187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УНКЦИЯ НЕ ОТНОСЯЩИЕСЯ К УПОЛНОМОЧЕННЫМ ОРГАНА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ОСТАНОВ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СХОДНЫЕ ОПЕРАЦИИ ПО БАНКОВСКИМ СЧЕТАМ ТАКОЙ ОРГАНИЗАЦИИ ИЛИ ФИЗИЧЕ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Ц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 ТАКЖЕ ПО БАНКОВСКИМ СЧЕТАМ КЛИЕНТ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НЫМ СОБСТВЕННИКОМ КОТОРОГО ЯВЛЯЕТСЯ ТАКОЕ ФИЗИЧЕСКОЕ ЛИЦ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Google Shape;376;p59"/>
          <p:cNvSpPr/>
          <p:nvPr/>
        </p:nvSpPr>
        <p:spPr>
          <a:xfrm>
            <a:off x="9360" y="318960"/>
            <a:ext cx="7538760" cy="11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7880" indent="-212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88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ЯЮТСЯ СУБЪЕКТАМИ ФИНАНСОВОГО МОНИТОРИНГА В УПОЛНОМОЧЕННЫЙ ОРГАН ПО ФОРМ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АЯ ДОЛЖНА СОДЕРЖАТЬ СЛЕДУ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ЗДЕЛЫ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-212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88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 ЗАПРОСУ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,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МУ С АНАЛИЗОМ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 ФИНАНСОВОГО МОНИТОРИНГА ОБЯЗАН ПРЕДОСТАВИТЬ НЕОБХОДИМЫЕ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НЕ ПОЗДНЕЕ РАБОЧЕГО ДНЯ СО ДНЯ ПОЛУЧЕНИЯ ЗАПРОС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ОГО 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-2127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AutoNum type="arabicPeriod" startAt="188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ДЛЯ ОБРАБОТКИ ЗАПРОСА ТРЕБУЕТСЯ ДОПОЛНИТЕЛЬНОЕ ВРЕМ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ПРАВЕ ПО ПИСЬМЕННОМУ ОБРАЩЕНИЮ СУБЪЕКТА ФИНАНСОВОГО МОНИТОРИНГА ПРОДЛИТЬ СРОК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 БОЛЕЕ ЧЕМ НА ДЕСЯТЬ РАБОЧИХ ДНЕ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ОГО 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-212760">
              <a:lnSpc>
                <a:spcPct val="116000"/>
              </a:lnSpc>
              <a:spcBef>
                <a:spcPts val="2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Й ОРГАН НЕ ВПРАВЕ ЗАПРАШИВАТЬ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ПО ОПЕРАЦИЯ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НЫМ ДО ВВЕДЕНИЯ В ДЕЙСТВИЕ ЗАКОНА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ИНФОРМ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ДОКУМЕНТ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ПРЕДОСТАВЛЯЮТСЯ НА ОСНОВАНИИ МЕЖДУНАРОДНОГО ДОГОВОР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ТИФИЦИРОВАННОГО РЕСПУБЛИКОЙ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-212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88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ДЛЯ ОБРАБОТКИ ЗАПРОСА ТРЕБУЕТСЯ ДОПОЛНИТЕЛЬНОЕ ВРЕМ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ВПРАВ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 ФИНАНСОВОГО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ОДЛИТЬ СРОК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 БОЛЕЕ ЧЕМ НА ДЕСЯТЬ РАБОЧИХ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ПИСЬМЕННОМУ ОБРАЩ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93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ПРАШИВАТЬ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ПО ОПЕРАЦИЯ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НЫМ ДО ВВЕДЕНИЯ В ДЕЙСТВИЕ ЗАК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ПУБЛИКИ 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ИНФОРМ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ДОКУМЕНТ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ПРЕДОСТАВЛЯЮТСЯ НА ОСНОВАНИИ МЕЖДУНАРОДНОГО ДОГОВОР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ТИФИЦИРОВАННОГО РЕСПУБЛИКОЙ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ВПРА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94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СХОДЫ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Е С ПЕРЕДАЧЕЙ 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ОБ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И ПРОВЕДЕНИИ НАДЛЕЖА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ОВЕРКИ КЛИЕНТ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СУТ СУБЪЕКТЫ ФИНАНСОВОГО МОНИТОРИНГ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Google Shape;381;p60"/>
          <p:cNvSpPr/>
          <p:nvPr/>
        </p:nvSpPr>
        <p:spPr>
          <a:xfrm>
            <a:off x="200160" y="184320"/>
            <a:ext cx="7410240" cy="11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3040" indent="-8892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95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 ФИНАНСОВОГО МОНИТОРИНГА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ИТЬ В УПОЛНОМОЧЕННЫЙ ОРГАН ПО ЕГО ЗАПРОСУ НЕОБХОДИМЫЕ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В ТЕЧЕНИЕ ТРЕХ РАБОЧИХ ДНЕЙ СО ДНЯ ПОЛУЧЕНИЯ СООТВЕТСТВУЮЩЕГО ЗАПРОС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ОБЯЗ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96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ОБЯЗ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НИМАТЬ МЕРЫ ПО ПРОТИВОДЕЙСТВИЮ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ВПРАВ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ВЛЕКАТЬ К РАБОТЕ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ОМ ЧИСЛЕ НА ДОГОВОРНОЙ ОСНОВЕ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УЧНО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ССЛЕДОВАТЕЛЬ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ДРУГИЕ ОРГАНИЗ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 ТАКЖЕ ОТДЕЛЬНЫХ СПЕЦИАЛИСТОВ ДЛЯ ПРОВЕДЕНИЯ ЭКСПЕРТ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ЗРАБОТКИ ПРОГРАММ ОБУЧЕН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ЕТОДИЧЕСКИХ МАТЕРИАЛ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ГРАММНОГО И ИНФОРМАЦИОННОГО ОБЕСПЕЧЕН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ЗДАНИЯ ИНФОРМАЦИОННЫХ СИСТЕМ В СФЕРЕ ФИНАНСОВОГО МОНИТОРИНГА С СОБЛЮДЕНИЕМ ТРЕБОВАНИЙ ПО ЗАЩИТЕ ГОСУДАРСТВЕ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ЛУЖЕБНО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МЕРЧЕСКО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АНКОВСКОЙ И ИНОЙ ОХРАНЯЕМОЙ ЗАКОНОМ ТАЙ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ТЬ СОБЛЮДЕНИЕ ПРАВ И ЗАКОННЫХ ИНТЕРЕСОВ ЧЕЛОВЕКА И ГРАЖДАНИН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ЮРИДИЧЕСКИХ ЛИЦ И ГОСУДАРСТВА В ПРОЦ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ЕНИЯ ФИНАНСОВОГО МОНИТОРИНГ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ЯЗ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 algn="just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95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ЫНОСИТЬ РЕШЕНИЕ О ПРИОСТАНОВЛЕНИИ ОПЕРАЦИЙ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В СЛУЧАЕ ОБНАРУЖЕНИЯ ПРИЗНАКОВ ПОДОЗРИТЕЛЬНОЙ ОПЕРАЦИИ НА СРОК ДО ТРЕХ РАБОЧИХ ДНЕ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ПРА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ОРГАНИЗУЕТ ФОРМИРОВАНИЕ И ВЕДЕНИЕ РЕСПУБЛИКАНСКОЙ БАЗЫ ДАННЫ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ТАКЖЕ ОБЕСПЕЧИВАЕТ МЕТОДОЛОГИЧЕСКОЕ ЕДИНСТВО И СОГЛАС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УНКЦИОНИРОВАНИЕ ИНФОРМАЦИОННЫХ СИСТЕМ В СФЕРЕ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–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 algn="just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95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Й ОРГАН ПРЕДОСТАВЛЯЕТ В УСТАНОВЛЕННОМ ЗАКОНОДАТЕЛЬСТВОМ РЕСПУБЛИКИ КАЗАХСТАН ПОРЯДКЕ ПО ЗАПРОСАМ ПРАВООХРАНИТЕЛЬНЫХ И СПЕЦИАЛЬНЫХ ГОСУДАРСТВЕННЫХ ОРГАНОВ СВЕДЕНИЯ И ИНФОРМАЦИЮ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Google Shape;386;p61"/>
          <p:cNvSpPr/>
          <p:nvPr/>
        </p:nvSpPr>
        <p:spPr>
          <a:xfrm>
            <a:off x="9360" y="318960"/>
            <a:ext cx="7538760" cy="10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93640" indent="-2984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02"/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НАЛИЧИИ ОСНОВАНИЙ ПОЛАГАТЬ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ДЕЯТЕЛЬНОСТЬ ФИЗИЧЕСКИХ И ЮРИДИЧЕСКИХ ЛИЦ СВЯЗАНА С ЛЕГАЛИЗАЦИЕЙ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ПРАВЛЯЕТ ИНФОРМАЦИЮ В ПРАВООХРАНИТЕЛЬНЫЕ И СПЕЦИАЛЬНЫЕ ГОСУДАРСТВЕННЫЕ ОРГАНЫ В СООТВЕТСТВИИ С ИХ КОМПЕТЕНЦИЕ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0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ЧАСТВУЕТ В УСТАНОВЛЕННОМ ПОРЯДКЕ В ДЕЯТЕЛЬНОСТИ МЕЖДУНАРОДНЫХ ОРГАНИЗАЦИ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ЪЕДИНЕНИЙ И ИНЫХ РАБОЧИХ ГРУПП В СФЕРЕ ПРОТИВО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0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МУ С АНАЛИЗОМ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 ФИНАНСОВОГО МОНИТОРИНГА ОБЯЗАН ПРЕДОСТАВИТЬ НЕОБХОДИМЫЕ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НЕ ПОЗДНЕЕ РАБОЧЕГО ДНЯ СО ДНЯ ПОЛУЧЕНИЯ ЗАПРОС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ЗАПРОСУ УПОЛНОМОЧЕННОГО 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Б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 ПРЕДОСТАВЛЯЮТСЯ АДВОКАТАМ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СЛУЧАЕ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ЭТИ СВЕДЕНИЯ И ИНФОРМАЦИЯ ПОЛУЧЕНЫ В СВЯЗИ С ОКАЗ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ОЙ ПОМОЩИ ПО ВОПРОСАМ ПРЕДСТАВИТЕЛЬСТВА И ЗАЩИТЫ ФИЗИЧЕСКИХ И ЮРИДИЧЕСКИХ ЛИЦ В ОРГАНАХ ДОЗНАН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ВАРИТЕЛЬНОГО СЛЕДСТВ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ДАХ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 ТАКЖЕ ПРИ ОКАЗАНИИ ИМИ ЮРИДИЧЕСКОЙ ПОМОЩИ В ВИДЕ КОНСУЛЬТАЦИ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ЗЪЯСНЕНИ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ВЕТОВ И ПИСЬМЕННЫХ ЗАКЛЮЧЕНИЙ ПО ВОПРОСА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ЗРЕШЕНИЕ КОТОРЫХ ТРЕБУЕТ ПРОФЕССИОНАЛЬНЫХ ЮРИДИЧЕСКИХ ЗНАНИ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СТАВЛЕНИЯ ИСКОВЫХ ЗАЯВЛЕНИ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ЖАЛОБ И ДРУГИХ ДОКУМЕНТОВ ПРАВОВОГО ХАРАКТ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06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ЧЕМ ОСНОВЫВАЕТСЯ ЗАКОН РЕСПУБЛИКИ 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НСТИТУЦИЯ РЕСПУБЛИКИ 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КОН И ИНЫЕ НОРМАТИВНЫЕ ПРАВОВЫЕ А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Google Shape;387;p61"/>
          <p:cNvSpPr/>
          <p:nvPr/>
        </p:nvSpPr>
        <p:spPr>
          <a:xfrm>
            <a:off x="57240" y="8985240"/>
            <a:ext cx="7443360" cy="16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07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МЕРЫ ОБЯЗАНЫ ОСУЩЕСТВЛЯТЬ СУБЪЕКТЫ ФИНАНСОВОГО МОНИТОРИНГА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И ИНОСТРАННЫХ ПУБЛИЧНЫХ ДОЛЖНОСТНЫХ ЛИЦ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ТЬ ПРОВЕРКУ ПРИНАДЛЕЖНОСТ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ЧАСТНОСТИ КЛИЕНТА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ОСТРАННОМУ ПУБЛИЧНОМУ ДОЛЖНОСТНОМУ ЛИЦ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ГО ЧЛЕНАМ СЕМЬИ И БЛИЗКИМ РОДСТВЕННИК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Google Shape;392;p62"/>
          <p:cNvSpPr/>
          <p:nvPr/>
        </p:nvSpPr>
        <p:spPr>
          <a:xfrm>
            <a:off x="38160" y="336600"/>
            <a:ext cx="7500600" cy="12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5240" indent="-608040">
              <a:lnSpc>
                <a:spcPct val="113000"/>
              </a:lnSpc>
              <a:buClr>
                <a:srgbClr val="000000"/>
              </a:buClr>
              <a:buFont typeface="Calibri"/>
              <a:buAutoNum type="arabicPeriod" startAt="208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ОТНОШЕНИИ ИНОСТРАННЫХ ПУБЛИЧНЫХ ДОЛЖНОСТНЫХ ЛИЦ ДОПОЛНИТЕЛЬНО ОБЯЗАН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АТЬ РАЗРЕШЕНИЕ РУКОВОДЯЩЕГО РАБОТНИКА ОРГАНИЗАЦИИ НА УСТАНОВЛЕНИ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ДОЛЖЕНИЕ ДЕЛОВЫХ ОТНОШЕНИЙ С ТАКИМИ КЛИЕН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12000"/>
              </a:lnSpc>
              <a:buClr>
                <a:srgbClr val="000000"/>
              </a:buClr>
              <a:buFont typeface="Calibri"/>
              <a:buAutoNum type="arabicPeriod" startAt="209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ОТНОШЕНИИ ИНОСТРАННЫХ ПУБЛИЧНЫХ ДОЛЖНОСТНЫХ ЛИЦ ДОПОЛНИТЕЛЬНО ОБЯЗАН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РЕДПРИНИМАТЬ ДОСТУПНЫЕ МЕРЫ ДЛЯ УСТАНОВЛЕНИЯ ИСТОЧНИКА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СУЩЕСТВЛЯТЬ ОЦЕНКУ РЕПУТАЦИИ ДАННОГО ИНОСТРАННОГО ПУБЛИЧНОГО ДОЛЖНОСТНОГО ЛИЦА В ОТНОШЕНИИ ПРИЧАСТНОСТИ ЕГО К СЛУЧАЯМ ЛЕГАЛИЗАЦИИ 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Я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И ФИНАНСИРОВАНИЯ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СУЩЕСТВЛЯТЬ ПРОВЕРКУ ПРИНАДЛЕЖНОСТИ И 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РИЧАСТНОСТИ КЛИЕНТА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ИНОСТРАННОМУ ПУБЛИЧНОМУ ДОЛЖНОСТНОМУ ЛИЦУ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ЕГО ЧЛЕНАМ СЕМЬИ И БЛИЗКИМ РОДСТВЕННИК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09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ДИН ИЗ МЕР В ОТНОШЕНИИ ИНОСТРАННЫХ ПУБЛИЧНЫХ ДОЛЖНОСТНЫХ ЛИЦ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СУБЪЕКТЫ ФИНАНСОВОГО МОНИТОРИНГА ДОПОЛНИТЕЛЬНО ОБЯЗАН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ТЬ ПРОВЕРКУ ПРИНАДЛЕЖНОСТИ 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ЧАСТНОСТИ КЛИЕНТА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ОСТРАННОМУ ПУБЛИЧНОМУ ДОЛЖНОСТНОМУ ЛИЦУ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ГО ЧЛЕНАМ СЕМЬИ И БЛИЗКИМ РОДСТВЕННИК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09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ДИН ИЗ МЕР В ОТНОШЕНИИ ИНОСТРАННЫХ ПУБЛИЧНЫХ ДОЛЖНОСТНЫХ ЛИЦ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СУБЪЕКТЫ ФИНАНСОВОГО МОНИТОРИНГА ДОПОЛНИТЕЛЬНО ОБЯЗАН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ТЬ ОЦЕНКУ РЕПУТАЦИИ ИНОСТРАННОГО ПУБЛИЧНОГО ДОЛЖНОСТНОГО ЛИЦА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И ПРИЧАСТНОСТИ ЕГО К СЛУЧАЯМ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Я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1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12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ОСУЩЕСТВЛЯЮТСЯ КОНТРОЛЬ ЗА ИСПОЛНЕНИЕМ СУБЪЕКТАМИ ФИНАНСОВОГО МОНИТОРИНГА ЗАКОНА РЕСПУБЛИКИ КАЗАХСТАН 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 В ЧАСТИ ФИКСИРО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ХРАНЕНИЯ И ПРЕДОСТАВЛЕНИЯ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 ОПЕРАЦИЯХ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МИ ГОСУДАРСТВЕННЫМИ ОРГАНАМИ В СООТВЕТСТВИИ С 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ПЕТЕНЦИЕЙ И В ПОРЯДК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ТОРЫЕ УСТАНОВЛЕНЫ ЗАКОНОДАТЕЛЬСТВОМ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Google Shape;397;p63"/>
          <p:cNvSpPr/>
          <p:nvPr/>
        </p:nvSpPr>
        <p:spPr>
          <a:xfrm>
            <a:off x="9360" y="336600"/>
            <a:ext cx="7535520" cy="11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23840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13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ОСУЩЕСТВЛЯЮТСЯ КОНТРОЛЬ ЗА ИСПОЛНЕНИЕМ СУБЪЕКТАМИ ФИНАНСОВОГО МОНИТОРИНГА ЗАКОНОДАТЕЛЬСТВА РЕСПУБЛИКИ КАЗАХСТАН О ПРОТИВОДЕЙСТВ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Ю ТЕРРОРИЗМА В ЧАСТИ ПРИОСТАНОВЛЕНИЯ И ОТКАЗА ОТ ПРОВЕДЕНИЯ ОПЕРАЦИ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МИ ГОСУДАРСТВЕННЫМИ ОРГАНАМИ В СООТВЕТСТВИИ С 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ПЕТЕНЦИЕЙ И В ПОРЯДК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ТОРЫЕ УСТАНОВЛЕНЫ ЗАКОНОДАТЕЛЬСТВОМ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6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ОСУЩЕСТВЛЯЮТСЯ КОНТРОЛЬ ЗА ИСПОЛНЕНИЕМ СУБЪЕКТАМИ ФИНАНСОВОГО МОНИТОРИНГА ЗАКОНОДАТЕЛЬСТВА РЕСПУБЛИКИ КАЗАХСТАН О ПРОТИВОДЕЙСТВ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 В ЧАСТИ ЗАЩИТЫ ДОКУМЕНТ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В ПРОЦЕССЕ СВОЕЙ ДЕЯ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07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МИ ГОСУДАРСТВЕННЫМИ ОРГАНАМИ В СООТВЕТСТВИИ С 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ПЕТЕНЦИЕЙ И В ПОРЯДК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ТОРЫЕ УСТАНОВЛЕНЫ ЗАКОНОДАТЕЛЬСТВОМ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2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ОЦЕДУРЫ ВКЛЮЧАЕТ ПРОГРАММА ОРГАНИЗАЦИИ ВНУТРЕННЕГО КОНТРОЛЯ В ЦЕЛЯХ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3000"/>
              </a:lnSpc>
              <a:buClr>
                <a:srgbClr val="000000"/>
              </a:buClr>
              <a:buFont typeface="Calibri"/>
              <a:buAutoNum type="arabicPeriod" startAt="213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ОЦЕДУРЫ ВКЛЮЧАЕТ ПРОГРАММА ОРГАНИЗАЦИИ ВНУТРЕННЕГО КОНТРОЛЯ В ЦЕЛЯХ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ЕНИЕ СВЕДЕНИЙ И ИНФОРМАЦИИ ОБ ОПЕРАЦИЯ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Х ФИНАНСОВ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АКТОВ ОТКАЗА ФИЗИЧЕСКОМУ ЛИЦУ В УСТАНОВЛЕНИИ ДЕЛОВЫХ ОТНОШЕНИ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КРАЩЕНИЯ ДЕЛОВЫХ ОТНОШЕНИЙ С КЛИЕНТ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КАЗА В ПРОВЕДЕНИИ ОПЕРАЦИИ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 В УПОЛНОМОЧЕННЫЙ ОРГАН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КЛЮЧ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КАЗАНИЯ И РЕГЛАМЕНТЫ РАБОТЫ В АВТОМАТИЗИРОВАННЫХ ИНФОРМАЦИОННЫХ СИСТЕМАХ И ПРОГРАММНОМ ОБЕСПЕЧЕН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СПОЛЬЗУЕМЫХ ДЛЯ ПЕРЕДАЧИ СВЕДЕНИ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 И ДОКУМЕНТОВ В 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17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ОЦЕДУРЫ ВКЛЮЧАЕТ ПРОГРАММА ОРГАНИЗАЦИИ ВНУТРЕННЕГО КОНТРОЛЯ В ЦЕЛЯХ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Google Shape;402;p64"/>
          <p:cNvSpPr/>
          <p:nvPr/>
        </p:nvSpPr>
        <p:spPr>
          <a:xfrm>
            <a:off x="9360" y="336600"/>
            <a:ext cx="7535520" cy="14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076560" indent="-291780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18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ФУНКЦИИ ОСУЩЕСТВЛЯЕТ 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ЕНИЕ СБОР И ОБРАБОТКУ ИНФОРМАЦИИ ОБ ОПЕРАЦИЯХ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Х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СООТВЕТСТВИИ С ЗАКОНОМ РЕСПУБЛИКИ КАЗАХСТАН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3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219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ОСУЩЕСТВЛЯЕТ СЛЕДУЮЩИЕ ФУНК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ОРДИНАЦИЮ ДЕЯТЕЛЬНОСТИ ГОСУДАРСТВЕННЫХ ОРГАНОВ В СФЕРЕ ПРОТИВО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2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ОЦЕДУРЫ ВКЛЮЧАЕТ ПРОГРАММА ОРГАНИЗАЦИИ ВНУТРЕННЕГО КОНТРОЛЯ В ЦЕЛЯХ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3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ОЦЕДУРЫ ВКЛЮЧАЕТ ПРОГРАММА ОРГАНИЗАЦИИ ВНУТРЕННЕГО КОНТРОЛЯ В ЦЕЛЯХ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 ПО ФИНАНСОВОМУ 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2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ЧАСТИЕ В РАЗРАБОТКЕ И ОСУЩЕСТВЛЕНИИ ПРОГРАММ МЕЖДУНАРОДНОГО СОТРУДНИЧЕСТВА ПО ВОПРОСАМ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НОСИ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 ФУНКЦИЯМ УПОЛНОМОЧЕННОГО ОРГАНА ПО ФИНАНСОВОМУ 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222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ЗРАБАТЫВАЕТ И ПРОВОДИТ МЕРОПРИЯТИЯ ПО ПРЕДУПРЕЖДЕНИЮ НАРУШЕНИЙ ЗАКОНОДАТЕЛЬСТВА РЕСПУБЛИКИ КАЗАХСТАН 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ИТЕТ ПО ФИНАНСОВОМУ МОНИТОРИНГУ МИНИСТЕРСТВА ФИНАНСОВ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23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ОРДИНИРУЕТ РАБОТУ ПО РЕАЛИЗАЦИИ ОЦЕНКИ РИСКОВ В СФЕРЕ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ИТЕТ ПО ФИНАНСОВОМУ МОНИТОРИНГУ МИНИСТЕРСТВА ФИНАНСОВ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Google Shape;407;p65"/>
          <p:cNvSpPr/>
          <p:nvPr/>
        </p:nvSpPr>
        <p:spPr>
          <a:xfrm>
            <a:off x="30240" y="0"/>
            <a:ext cx="7525800" cy="10686600"/>
          </a:xfrm>
          <a:custGeom>
            <a:avLst/>
            <a:gdLst>
              <a:gd name="textAreaLeft" fmla="*/ 0 w 7525800"/>
              <a:gd name="textAreaRight" fmla="*/ 7526160 w 7525800"/>
              <a:gd name="textAreaTop" fmla="*/ 0 h 10686600"/>
              <a:gd name="textAreaBottom" fmla="*/ 10686960 h 10686600"/>
            </a:gdLst>
            <a:ahLst/>
            <a:rect l="textAreaLeft" t="textAreaTop" r="textAreaRight" b="textAreaBottom"/>
            <a:pathLst>
              <a:path w="7526020" h="10687685">
                <a:moveTo>
                  <a:pt x="0" y="10687681"/>
                </a:moveTo>
                <a:lnTo>
                  <a:pt x="7525512" y="10687681"/>
                </a:lnTo>
                <a:lnTo>
                  <a:pt x="7525512" y="0"/>
                </a:lnTo>
                <a:lnTo>
                  <a:pt x="0" y="0"/>
                </a:lnTo>
                <a:lnTo>
                  <a:pt x="0" y="10687681"/>
                </a:lnTo>
              </a:path>
            </a:pathLst>
          </a:custGeom>
          <a:solidFill>
            <a:srgbClr val="f0f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Google Shape;408;p65"/>
          <p:cNvSpPr/>
          <p:nvPr/>
        </p:nvSpPr>
        <p:spPr>
          <a:xfrm>
            <a:off x="44280" y="328680"/>
            <a:ext cx="7462440" cy="12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0760" indent="-193680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24"/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ЗРАБАТЫВАЕТ И ВНОСИТ В ПРАВИТЕЛЬСТВО РЕСПУБЛИКИ КАЗАХСТАН НА УТВЕРЖДЕНИЕ ПРАВИЛА ПРОВЕДЕНИЯ ОЦЕНКИ РИСКОВ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 И ФИНАНСИРОВАНИЯ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МЕР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ПРАВЛЕННЫЕ НА СНИЖЕНИЕ РИСКОВ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 И ФИНАНСИРОВАНИЯ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ГО ОТ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193680">
              <a:lnSpc>
                <a:spcPct val="116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КООРДИНИРУЕТ РАБОТУ ПО РЕАЛИЗАЦИИ ВНУТРЕННЮЮ ПОЛИТИКУ ГОСУДАРСТВЕННЫХ ОРГАНОВ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ФЕРЕ ПРОТИВОДЕЙСТВИЯ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КОНОМ НЕ УСТАНОВЛ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19368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..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БОТУ ПО РЕАЛИЗАЦИИ ОЦЕНКИ РИСКОВ В СФЕРЕ ПРОТИВОДЕЙСТВИЯ ЛЕГ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ОРДИНИРУ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193680">
              <a:lnSpc>
                <a:spcPct val="113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ФУНКЦИИ ОСУЩЕСТВЛЯЕТ 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193680" algn="ctr">
              <a:lnSpc>
                <a:spcPct val="114000"/>
              </a:lnSpc>
              <a:buClr>
                <a:srgbClr val="ff1515"/>
              </a:buClr>
              <a:buFont typeface="Trebuchet MS"/>
              <a:buAutoNum type="arabicPeriod" startAt="224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ВОДИТ МЕРОПРИЯТИЯ ПО ПЕРЕПОДГОТОВКЕ И ПОВЫШЕНИЮ КВАЛИФИКАЦИИ КАДРОВ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ФЕРЕ ПРОТИВОДЕЙСТВИЯ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6840" indent="-2527200">
              <a:lnSpc>
                <a:spcPct val="113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ОСУЩЕСТВЛЯЕТ СЛЕДУЮЩИЕ ФУНК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ЕТ ВЗАИМОДЕЙСТВИЕ С ПРАВООХРАНИТЕЛЬНЫМИ И СПЕЦИАЛЬ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МИ ОРГАНАМИ ПО ПЕРЕДАННОЙ ИНФОРМАЦИИ В СООТВЕТСТВИИ СЗАКОНОМ РЕСПУБЛИКИ КАЗАХСТАН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706840" indent="-2527200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2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ЯЮТСЯ СУБЪЕКТАМИ ФИНАНСОВОГО МОНИТОРИНГА В УПОЛНОМОЧЕННЫЙ ОРГАН ПО ФИНАНСОВОМУ МОНИТОРИНГУ ПО ФОРМ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ЛЖНА СОДЕРЖАТЬ СЛЕДУЮЩИЕ РАЗДЕЛ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706840" indent="-2527200">
              <a:lnSpc>
                <a:spcPct val="113000"/>
              </a:lnSpc>
              <a:buClr>
                <a:srgbClr val="000000"/>
              </a:buClr>
              <a:buFont typeface="Calibri"/>
              <a:buAutoNum type="arabicPeriod" startAt="22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РЯДОК ПРЕДОСТАВЛЕНИЯ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НИТОРИНГУ УТВЕРЖДАЮ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Google Shape;85;p12"/>
          <p:cNvSpPr/>
          <p:nvPr/>
        </p:nvSpPr>
        <p:spPr>
          <a:xfrm>
            <a:off x="82440" y="557280"/>
            <a:ext cx="738936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1440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8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КОЛЬКО СХЕМ ПРИВЕДЕНЫ В УТВЕРЖДЁННОЙ ТИПОЛОГИЕЙ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ЫЕ ПИРАМИДЫ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РИТЕРИИ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Ы ФУНКЦИОНИРОВА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ЕТЫР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Х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16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1515"/>
                </a:solidFill>
                <a:latin typeface="Lucida Sans"/>
                <a:ea typeface="Lucida Sans"/>
              </a:rPr>
              <a:t>НА СЕГОДНЯШНИЙ ДЕНЬ СУЩЕСТВУЕТ </a:t>
            </a:r>
            <a:r>
              <a:rPr b="0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4</a:t>
            </a:r>
            <a:r>
              <a:rPr b="0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1515"/>
                </a:solidFill>
                <a:latin typeface="Lucida Sans"/>
                <a:ea typeface="Lucida Sans"/>
              </a:rPr>
              <a:t>ОСНОВНЫХ ВИДА ФИНАНСОВЫХ ПИРАМИД</a:t>
            </a:r>
            <a:r>
              <a:rPr b="0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r>
              <a:rPr b="0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1515"/>
                </a:solidFill>
                <a:latin typeface="Lucida Sans"/>
                <a:ea typeface="Lucida Sans"/>
              </a:rPr>
              <a:t>МНОГОУРОВНЕВАЯ ПИРАМИДА</a:t>
            </a:r>
            <a:r>
              <a:rPr b="0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1515"/>
                </a:solidFill>
                <a:latin typeface="Lucida Sans"/>
                <a:ea typeface="Lucida Sans"/>
              </a:rPr>
              <a:t>СХЕМА ПОНЦИ В ФИНАНСОВЫХ ПИРАМИДАХ МАСКИРУЮЩАЯСЯ ПИРАМИДА</a:t>
            </a:r>
            <a:r>
              <a:rPr b="0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1515"/>
                </a:solidFill>
                <a:latin typeface="Lucida Sans"/>
                <a:ea typeface="Lucida Sans"/>
              </a:rPr>
              <a:t>МАТРИЧНАЯ ПИРАМИДА</a:t>
            </a:r>
            <a:r>
              <a:rPr b="0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>
              <a:lnSpc>
                <a:spcPct val="11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9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КОЛЬКО ИНДИКАТОРОВ РИСКОВ ПРЕДУСМОТРЕНО ПО ПОДОЗРИТЕЛЬНОСТИ УТВЕРЖДЁННОЙ ТИПОЛОГИЕЙ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ЫЯВЛЕНИЕ КОМПАНИИ ОСУЩЕСТВЛЯ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ЫПИСКУ СЧЕТ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АКТУР БЕЗ ФАКТИЧЕСКОГО ВЫПОЛНЕНИЯ РАБОТ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КАЗАНИЯ УСЛУГ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ГРУЗКИ ТОВАР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5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ДИКАТОРОВ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.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ЛАТА НАЛОГОВ МИНИМАЛЬНА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>
              <a:lnSpc>
                <a:spcPct val="14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ШТАТ КОМПАНИИ НЕ СООТВЕТСТВУЕТ ОСУЩЕСТВЛЯЕМОЙ ДЕЯТЕЛЬНОСТ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РАБОТНИКИ ОТСУТСТВУЮ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oogle Shape;86;p12"/>
          <p:cNvSpPr/>
          <p:nvPr/>
        </p:nvSpPr>
        <p:spPr>
          <a:xfrm>
            <a:off x="-12600" y="4695840"/>
            <a:ext cx="12204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oogle Shape;87;p12"/>
          <p:cNvSpPr/>
          <p:nvPr/>
        </p:nvSpPr>
        <p:spPr>
          <a:xfrm>
            <a:off x="-12600" y="4695840"/>
            <a:ext cx="744012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70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НЯТ С УЧЕТА ПО НДС В СВЯЗИ С ОТСУТСТВИЕМ ПО МЕСТУ НАХОЖД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7000" indent="-88920">
              <a:lnSpc>
                <a:spcPct val="116000"/>
              </a:lnSpc>
              <a:buClr>
                <a:srgbClr val="ff1515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УКОВОДИТЕ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И ПРИВЛЕКАЛИСЬ К УГОЛОВНОЙ ОТВЕТСТВЕННОСТ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К АДМИНИСТРАТИВНОЙ ОТВЕТСТВЕННОСТИ ЗА АСОЦИАЛЬНОЕ ПОВЕДЕНИ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СПИТИЕ СПИРТНЫХ НАПИТКОВ И ДР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ЕЮЩИЕ ПРИЗНАКИ ПОДСТАВНЫХ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7000" indent="-88920">
              <a:lnSpc>
                <a:spcPct val="100000"/>
              </a:lnSpc>
              <a:spcBef>
                <a:spcPts val="300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СОКАЯ ДОЛЯ ОБНАЛИЧИВАНИ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ЫШ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80%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 ВСЕХ БАНКОВСКИХ ОПЕРАЦИЯ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7000" indent="-8892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А ГРУППА КОМПАНИИ ВЗАИМОРАСЧЕТЫ КОТОРЫХ ВЫЗЫВАЮТ СОМН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oogle Shape;88;p12"/>
          <p:cNvSpPr/>
          <p:nvPr/>
        </p:nvSpPr>
        <p:spPr>
          <a:xfrm>
            <a:off x="-12600" y="6237360"/>
            <a:ext cx="752436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7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Е КОМПАНИИ ЗАРЕГИСТРИРОВАНЫ НА ОДНИХ И ТЕХ ЖЕ ЮРИДИЧЕСКИХ АДРЕСА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oogle Shape;89;p12"/>
          <p:cNvSpPr/>
          <p:nvPr/>
        </p:nvSpPr>
        <p:spPr>
          <a:xfrm>
            <a:off x="-12600" y="6496200"/>
            <a:ext cx="12204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oogle Shape;90;p12"/>
          <p:cNvSpPr/>
          <p:nvPr/>
        </p:nvSpPr>
        <p:spPr>
          <a:xfrm>
            <a:off x="112680" y="6496200"/>
            <a:ext cx="732924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079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 РУКОВО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ЯМИ ЗАРЕГИСТРИРОВАНО НЕСКОЛЬКО ФИР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 indent="-88920">
              <a:lnSpc>
                <a:spcPct val="116000"/>
              </a:lnSpc>
              <a:buClr>
                <a:srgbClr val="ff1515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А ВЗАИМОСВЯЗЬ ПО КОНТРАГЕНТАМ МЕЖДУ ИХ РУКОВО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ТНИК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 indent="-88920">
              <a:lnSpc>
                <a:spcPct val="111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И И ТЕ ЖЕ ФИЗИЧЕСКИЕ ЛИЦА СО СЧЕТОВ РАЗЛИЧНЫХ КОМПАНИИ ОБНАЛИЧИВАЮТ ДЕНЕЖНЫЕ СРЕДСТВ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 indent="-88920">
              <a:lnSpc>
                <a:spcPct val="112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КОРОТКИЙ ПЕРИОД ВРЕМЕНИ ПОСТУПИВШИЕ ДЕНЕЖНЫЕ СРЕДСТВА ПРОВОДЯТ НА ДРУГИЕ СЧЕТА ИЛИ ОБНАЛИЧИВАЮТС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 indent="-88920">
              <a:lnSpc>
                <a:spcPct val="142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ЕЕТСЯ ИНФОРМАЦИЯ ОБ ОТКАЗЕ В УСТАНОВЛЕНИЕ ДЕЛОВЫХ ОТНОШЕН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ПРЕКРАЩЕНЫ ДЕЛОВЫЕ ОТНОШЕНИИ СФМ С КЛИЕНТ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 indent="-88920">
              <a:lnSpc>
                <a:spcPct val="100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ИОД РЕГИСТРАЦИИ ЮРИДИЧЕСКОГО ЛИЦА НЕ ПРЕВЫШАЕТ ОДНОГО ГОД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ОЛЬ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РАБОТКИ ПО СЧЕТ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oogle Shape;91;p12"/>
          <p:cNvSpPr/>
          <p:nvPr/>
        </p:nvSpPr>
        <p:spPr>
          <a:xfrm>
            <a:off x="-12600" y="9318600"/>
            <a:ext cx="74260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5240" indent="-152280">
              <a:lnSpc>
                <a:spcPct val="100000"/>
              </a:lnSpc>
              <a:buClr>
                <a:srgbClr val="ff1515"/>
              </a:buClr>
              <a:buFont typeface="Trebuchet MS"/>
              <a:buAutoNum type="arabicPeriod" startAt="14"/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СУТСТВУЮТ ПРИХОД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ОБРЕТЕНИ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ОВАР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5240" indent="-152280">
              <a:lnSpc>
                <a:spcPct val="112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AutoNum type="arabicPeriod" startAt="14"/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АКЖЕ ПРИ СОВПАДЕНИИ С ПРИЗНАКАМИ ОПРЕДЕЛЕНИЕ ПОДОЗРИТЕЛЬНЫХ ОПЕРАЦИИ ОПРЕДЕЛЕННЫХ ПРИКАЗОМ АФ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 13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2.02.2022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938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.09.2020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Google Shape;92;p12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Google Shape;413;p66"/>
          <p:cNvSpPr/>
          <p:nvPr/>
        </p:nvSpPr>
        <p:spPr>
          <a:xfrm>
            <a:off x="20520" y="336600"/>
            <a:ext cx="7513200" cy="105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8200" indent="-88920">
              <a:lnSpc>
                <a:spcPct val="113000"/>
              </a:lnSpc>
              <a:buClr>
                <a:srgbClr val="000000"/>
              </a:buClr>
              <a:buFont typeface="Calibri"/>
              <a:buAutoNum type="arabicPeriod" startAt="231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РЯДОК ПРЕДОСТАВЛЕНИЯ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НИТОРИНГУ ОПРЕДЕЛЯЕ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8920">
              <a:lnSpc>
                <a:spcPct val="114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23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ЗНАКИ ОПРЕДЕЛЕНИЯ ПОДОЗРИТЕЛЬНОЙ ОПЕРАЦИИ ОПРЕДЕЛЯЮ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8920" algn="ctr">
              <a:lnSpc>
                <a:spcPct val="114000"/>
              </a:lnSpc>
              <a:buClr>
                <a:srgbClr val="ff1515"/>
              </a:buClr>
              <a:buFont typeface="Trebuchet MS"/>
              <a:buChar char="-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 ПО СОГЛАСОВАНИЮ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МИ ОРГАН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МИ В ПРЕДЕЛАХ СВОЕЙ КОМПЕТЕНЦИИ ГОСУДАРСТВЕННЫЙ КОНТРОЛЬ ЗА СУБЪЕКТАМИ ФИНАНСОВОГО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88920" algn="just">
              <a:lnSpc>
                <a:spcPct val="115000"/>
              </a:lnSpc>
              <a:buClr>
                <a:srgbClr val="000000"/>
              </a:buClr>
              <a:buFont typeface="Calibri"/>
              <a:buAutoNum type="arabicPeriod" startAt="231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РЯДОК ПРЕДОСТАВЛЕНИЯ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ПРИЗНАКИ ОПРЕДЕЛЕНИЯ ПОДОЗРИТЕЛЬН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ТВЕРЖДАЮ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88920">
              <a:lnSpc>
                <a:spcPct val="118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C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ЕДЕНИЯ И ИНФОРМАЦИЯ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КУМЕНТАЛЬНО ФИКСИРУЮТСЯ И ПРЕДОСТАВЛЯЮТСЯ В УПОЛНОМОЧЕННЫЙ ОРГАН ПО ФИНАНСОВОМУ МОНИТОРИНГУ СУБЪЕК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ОГО МОНИТОРИНГА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..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КАЗАХСКОМ ИЛИ РУССКОМ ЯЗЫК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ЭЛЕКТРОННЫМ СПОСОБОМ ПОСРЕДСТВОМ ВЫДЕЛЕННЫХ КАНАЛОВ СВЯЗ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88920">
              <a:lnSpc>
                <a:spcPct val="116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 ПОРОГОВОЙ ОПЕРАЦИ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МИ ФИНАНСОВОГО МОНИТОРИНГА ПРЕДОСТАВЛЯЮТСЯ В СЛЕДУЮЩИЕ СРОК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РАБОЧЕГО ДН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ЛЕДУЮЩЕГО ЗА ДНЁМ СОВЕР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88920" algn="just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3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 ПОДОЗРИТЕЛЬНОЙ ОПЕРАЦИ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МИ ФИНАНСОВОГО МОНИТОРИНГА ПРЕДОСТАВЛЯЮТСЯ В СЛЕДУЮЩИЕ СРОК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 ЕЁ ПР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88920">
              <a:lnSpc>
                <a:spcPct val="115000"/>
              </a:lnSpc>
              <a:buClr>
                <a:srgbClr val="000000"/>
              </a:buClr>
              <a:buFont typeface="Calibri"/>
              <a:buAutoNum type="arabicPeriod" startAt="231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КАКОЙ СРОК ПРОДЛЕВАЕТСЯ СРОК ПРЕДОСТАВЛЕНИЯ СУБЪЕКТАМИ ФИНАНСОВОГО МОНИТОРИНГА В УПОЛНОМОЧЕННЫЙ ОРГАН ПО ФИНАНСОВОМУ МОНИТОРИНГУ ОТВЕТА НА ЗАПРОС ДОПОЛНИТЕЛЬНОЙ ИНФОРМ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ДОКУМЕНТ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ДЛЯ ОБРАБОТКИ ЗАПРОС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ГО С АНАЛИЗОМ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УЕТСЯ ПОЛУЧЕНИЕ СВЕДЕНИЙ И ИНФОРМАЦИИ 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ТОРА СИСТЕМЫ ДЕНЕЖНЫХ ПЕРЕВ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БОЛЕЕ ЧЕМ НА ДВА РАБОЧИХ 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Google Shape;418;p67"/>
          <p:cNvSpPr/>
          <p:nvPr/>
        </p:nvSpPr>
        <p:spPr>
          <a:xfrm>
            <a:off x="46080" y="322200"/>
            <a:ext cx="7480080" cy="11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38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ЙТЕ ОПРЕДЕЛЕНИЕ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Е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Е ФИНАНСОВОМУ МОНИТОРИНГУ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КЛИЕНТА СУБЪ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МОНИТОРИНГА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ОТНОШЕНИИ КОТОРЫХ В СООТВЕТСТВИИ С ЗАКОНОМ РК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 ФИНАНСОВЫЙ МОНИТОРИНГ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39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ЕНИЕ СУБЪЕКТАМИ ФИНАНСОВОГО МОНИТОРИНГА СВЕДЕНИЙ И ИНФОРМАЦИИ ПО ОПЕРАЦИЯ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ОПЕРАЦИЯ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М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БЪЕКТЫ 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А ДОКУМЕНТАЛЬНО ФИКСИРУЮТ И ПРЕДСТАВЛЯЮТ В УПОЛНОМОЧЕННЫЙ ОРГАН СВЕДЕНИЯ И ИНФОРМАЦИЮ ОБ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ФОРМЕ СВЕДЕНИЙ И ИНФОРМАЦИИ ОБ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 ФИНАНСОВ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ПРИЛОЖЕНИЮ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1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МИНИСТРА ФИНАНСОВ РЕСПУБЛИКИ КАЗАХСТАН О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3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№ 938.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 УТВЕРЖДЕНИИ ПРАВИЛ ПРЕДСТАВЛЕНИЯ СУБЪЕКТАМИ ФИНАНСОВОГО МОНИТОРИНГА СВЕДЕНИЙ И ИНФОРМАЦИИ ОБ ОПЕРАЦИЯХ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Х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ПРИЗНАКОВ ОПРЕДЕЛЕНИЯ ПОДОЗРИТЕЛЬН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0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ЙТЕ ОПРЕДЕЛЕНИЕ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ЛОВЫЕ ОТНОШ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ЕЛОВЫЕ ОТНОШЕНИ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Я С КЛИЕНТАМ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ОЗНИКАЮЩИЕ В ПРОЦЕ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ЕНИЯ СУБЪЕКТОМ ФИНАНСОВОГО МОНИТОРИНГА ПРОФЕССИОНА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1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ЕНИЕ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ЯЕМАЯ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А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ЭЛЕКТРОННЫМ СПОСОБОМ В ФОРМАТЕ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ФОРМЕ ФОРМАТ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ЕМОЙ ЭЛЕКТРОННЫМ СПОСОБОМ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ПРИЛОЖЕНИЮ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 ПРАВИЛАМ ПОСРЕДСТВОМ СЕТЕЙ ТЕЛЕКОММУНИКАЦИЙ РЕСПУБЛИКАНСКОГО ГОСУДАРСТВЕННОГО ПРЕДПРИЯТИЯ НА ПРАВЕ ХОЗЯЙСТВЕННОГО ВЕДЕНИ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СКИЙ ЦЕНТР МЕЖБАНКОВСКИХ РАСЧЕТОВ НАЦИОНАЛЬНОГО БАНКА РЕСПУБЛИКИ 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ВЕБ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ТАЛА УПОЛНОМОЧЕННОГО ОРГАН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МИНИСТРА ФИНАНСОВ РК О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3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№ 93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2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ЙТЕ ОПРЕДЕЛЕНИЕ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ЛОВЫЕ ОТНОШ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ЕЛОВЫЕ ОТНОШЕНИ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Я С КЛИЕНТАМ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ОЗНИКАЮЩИЕ В ПРОЦЕ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ЕНИЯ СУБЪЕКТОМ ФИНАНСОВОГО МОНИТОРИНГА ПРОФЕССИОНА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Google Shape;423;p68"/>
          <p:cNvSpPr/>
          <p:nvPr/>
        </p:nvSpPr>
        <p:spPr>
          <a:xfrm>
            <a:off x="25560" y="325440"/>
            <a:ext cx="7517880" cy="121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6880"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3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ЕНИЕ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ЯЕМАЯ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А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ЭЛЕКТРОННЫМ СПОСОБОМ В ФОРМАТЕ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ФОРМЕ ФОРМАТ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ЕМОЙ ЭЛЕКТРОННЫМ СПОСОБОМ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ПРИЛОЖЕНИЮ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 ПРАВИЛАМ ПОСРЕДСТВОМ СЕТЕЙ ТЕЛЕКОММУНИКАЦИЙ РЕСПУБЛИКАНСКОГО ГОСУДАРСТВЕННОГО ПРЕДПРИЯТИЯ НА ПРАВЕ ХОЗЯЙСТВЕННОГО ВЕДЕНИ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СКИЙ ЦЕНТР МЕЖБАНКОВСКИХ РАСЧЕТОВ НАЦИОНАЛЬНОГО БАНКА РЕСПУБЛИКИ 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ВЕБ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ТАЛА УПОЛНОМОЧЕННОГО ОРГАН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МИНИСТРА ФИНАНСОВ РК О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3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№ 93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6880" indent="-88920"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ЙТЕ ОПРЕДЕЛЕНИЕ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Е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Е ФИНАНСОВОМУ МОНИТОРИНГУ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КЛИЕНТА СУБЪ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МОНИТОРИНГА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ОТНОШЕНИИ КОТОРЫХ В СООТВЕТСТВИИ С ЗАКОНОМ РК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 ФИНАНСОВЫЙ МОНИТОРИ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6880" indent="-88920" algn="ctr">
              <a:lnSpc>
                <a:spcPct val="114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ИХ СЛУЧАЯХ ОПЕРАЦИЯ СДЕЛКА С НЕДВИЖИМЫМ ИМУЩЕСТВОМ ОТНОСЯТСЯ К ОПЕРАЦИИ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СУММА ОПЕРАЦИИ РАВНА ИЛИ ПРЕВЫШАЕ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0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0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ЕНГЕ ЛИБО РАВНА СУММЕ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ОСТРАННОЙ ВАЛЮТЕ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ЭКВИВАЛЕНТНОЙ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0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0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ЕНГЕ ИЛИ ПРЕВЫШАЮЩЕЙ ЕЕ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 ПО СВОЕМУ ХАРАКТЕРУ ДАННАЯ ОПЕРАЦИЯ ОТНОСИТСЯ К СДЕЛКЕ С НЕДВИЖИМЫМ ИМУЩЕСТВО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ЗУЛЬТАТОМ СОВЕРШЕНИЯ КОТОРОЙ ЯВЛЯЕТСЯ ПЕРЕХОД ПРАВА СОБСТВЕННОСТИ НА ТАКОЕ ИМУЩ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ЕНИЕ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ЯЕМАЯ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А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ЭЛЕКТРОННЫМ СПОСОБОМ В ФОРМАТЕ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ФОРМЕ ФОРМАТ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ЕМОЙ ЭЛЕКТРОННЫМ СПОСОБОМ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ПРИЛОЖЕНИЮ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 ПРАВИЛАМ ПОСРЕДСТВОМ СЕТЕЙ ТЕЛЕКОММУНИКАЦИЙ РЕСПУБЛИКАНСКОГО ГОСУДАРСТВЕННОГО ПРЕДПРИЯТИЯ НА ПРАВЕ ХОЗЯЙСТВЕННОГО ВЕДЕНИ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СКИЙ ЦЕНТР МЕЖБАНКОВСКИХ РАСЧЕТОВ НАЦИОНАЛЬНОГО БАНКА РЕСПУБЛИКИ 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ВЕБ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ТАЛА УПОЛНОМОЧЕННОГО ОРГАН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МИНИСТРА ФИНАНСОВ РК О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3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№ 93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Google Shape;428;p69"/>
          <p:cNvSpPr/>
          <p:nvPr/>
        </p:nvSpPr>
        <p:spPr>
          <a:xfrm>
            <a:off x="55440" y="325440"/>
            <a:ext cx="7434000" cy="36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8960" indent="-2232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6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ЕНИЕ СУБЪЕКТАМИ ФИНАНСОВОГО МОНИТОРИНГА СВЕДЕНИЙ И ИНФОРМАЦИИ ПО ОПЕРАЦИЯ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2232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ОПЕРАЦИЯ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М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БЪЕКТЫ 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2232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А ДОКУМЕНТАЛЬНО ФИКСИРУЮТ И ПРЕДСТАВЛЯЮТ В УПОЛНОМОЧЕННЫЙ ОРГАН СВЕДЕНИЯ И ИНФОРМАЦИЮ ОБ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ФОРМЕ СВЕДЕНИЙ И ИНФОРМАЦИИ ОБ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ПРИЛОЖЕНИЮ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1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МИНИСТРА ФИНАНСОВ РЕСПУБЛИКИ КАЗАХСТАН О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3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№ 938.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 УТВЕРЖДЕНИИ ПРАВИЛ ПРЕДСТАВЛЕНИЯ СУБЪЕКТАМИ ФИНАНСОВОГО МОНИТОРИНГА СВЕДЕНИЙ И ИНФОРМАЦИИ ОБ ОПЕРАЦИЯХ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22320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Х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ПРИЗНАКОВ ОПРЕДЕЛЕНИЯ ПОДОЗРИТЕЛЬН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Google Shape;429;p69"/>
          <p:cNvSpPr/>
          <p:nvPr/>
        </p:nvSpPr>
        <p:spPr>
          <a:xfrm>
            <a:off x="52560" y="3541680"/>
            <a:ext cx="7470360" cy="10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81320" indent="-3016080">
              <a:lnSpc>
                <a:spcPct val="113000"/>
              </a:lnSpc>
              <a:buClr>
                <a:srgbClr val="000000"/>
              </a:buClr>
              <a:buFont typeface="Trebuchet MS"/>
              <a:buAutoNum type="arabicPeriod" startAt="247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ОРГАНОМ ОПРЕДЕЛЯЮТСЯ ПРИЗНАКИ ОПРЕДЕЛЕНИЯ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 ПО СОГЛАСОВАНИЮ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МИ ОРГАНАМ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МИ В ПРЕДЕЛАХ СВОЕЙ КОМПЕТ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Й КОНТРОЛЬ ЗА СОБЛЮДЕНИЕМ СУБЪЕКТАМИ ФИНАНСОВОГО МОНИТОРИНГА ЗАКОНА РЕСПУБЛИКИ КАЗАХСТАН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 ПРИЗНАЮТСЯ ПОДОЗРИТЕЛЬНЫМ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СООТВЕТСТВИИ С ПРОГРАММАМИ РЕАЛИЗАЦИИ ПРАВИЛ ВНУТРЕННЕГО КОНТРОЛЯ СУБЪ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МОНИТОРИНГА ИЛИ В РЕЗУЛЬТАТЕ ИЗУЧЕНИЯ ОПЕРАЦИЙ ПО ОСНОВАНИЯ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КАЗАННЫМ В ПУНКТЕ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ТАТЬ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КОНА РЕСПУБЛИКИ КАЗАХСТАН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"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 СУБЪЕКТА ФИНАНСОВОГО МОНИТОРИНГА ИМЕЮТСЯ ОСНОВАНИЯ ПОЛАГАТЬ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ТО ОПЕРАЦИИ КЛИЕНТА СВЯЗАНЫ С ЛЕГАЛИЗАЦИЕЙ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ЕМ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КАКИХ ФАКТАХ СУБЪЕКТЫ ФИНАНСОВОГО МОНИТОРИНГА ПРЕДОСТАВЛЯЮТ СООБЩЕНИЯ В 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1300" spc="-1" strike="noStrike">
                <a:solidFill>
                  <a:srgbClr val="ff1515"/>
                </a:solidFill>
                <a:latin typeface="Arial"/>
                <a:ea typeface="Arial"/>
              </a:rPr>
              <a:t>•</a:t>
            </a:r>
            <a:r>
              <a:rPr b="1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ВСЕХ ПЕРЕЧИСЛЕННЫХ ФАКТА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ФАКТАХ ПРЕКРАЩЕНИЯ ДЕЛОВЫХ ОТНОШЕНИЙ С КЛИЕ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ФАКТАХ ОТКАЗА В ПРОВЕДЕНИИ ОПЕРАЦИИ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ФАКТАХ ОТКАЗА ФИЗИЧЕСКОМУ ИЛИ ЮРИДИЧЕСКОМУ ЛИЦУ В УСТАНОВЛЕНИИ ДЕЛОВ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Google Shape;434;p70"/>
          <p:cNvSpPr/>
          <p:nvPr/>
        </p:nvSpPr>
        <p:spPr>
          <a:xfrm>
            <a:off x="6480" y="325440"/>
            <a:ext cx="7546680" cy="13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1720" indent="-401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50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ДО ЕЕ ПРОВЕДЕНИЯ В КАКОЙ СРОК СУБЪЕКТ ФИНАНСОВОГО МОНИТОРИНГА ДОЛЖЕН СООБЩИТЬ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О ТАК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ЗАМЕДЛИ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51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СРОКА СУБЪЕКТАМИ ФИНАНСОВОГО МОНИТОРИНГА ПРЕДОСТАВЛЯЮТСЯ В УПОЛНОМОЧЕННЫЙ ОРГАН ПО ФИНАНСОВОМУ 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БЩЕНИЯ О О СОВЕРШЕННЫХ ОПЕРАЦИЯХ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БЫЛИ ПРИЗНАНЫ ПОДОЗРИТЕЛЬНЫМИ ПОСЛЕ ИХ ПРОВЕД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ДВАДЦАТИ ЧЕТЫРЕХ ЧАСОВ ПОСЛЕ ПРИЗНАНИЯ ОПЕРАЦИИ ПОДОЗРИТЕ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СРОКА УПОЛНОМОЧЕННЫМ ОРГАНОМ ПО ФИНАНСОВОМУ МОНИТОРИНГУ ПРИНИМАЕТСЯ РЕШЕНИЕ ПО СООБЩЕНИЮ СУБЪЕКТА 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НИТОРИНГА О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ДВАДЦАТИ ЧЕТЫРЕХ ЧАСОВ С МОМЕНТА ПОЛУЧЕНИЯ СООБЩ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КАКОЙ СРОК УПОЛНОМОЧЕННЫМ ОРГАНОМ ПО ФИНАНСОВОМУ МОНИТОРИНГУ МОЖЕТ БЫТЬ ПРИНЯТО РЕШЕНИЕ О ПРИОСТАНОВЛЕНИИ ПР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ООБЩЕНИЕ О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СТАВЛЕННОЕ СУБЪЕКТОМ ФИНАНСОВОГО МОНИТОРИНГ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ЕЗУЛЬТАТАМ АНАЛИЗ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ОВЕДЕННОГО УПОЛНОМОЧЕННЫМ ОРГАНОМ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ЗНАНО ОБОСНОВАННЫ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 СРОК ДО ТРЁХ РАБОЧИХ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54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 СЛУЧАЕ НЕПОЛУЧЕНИЯ СУБЪЕКТОМ ФИНАНСОВОГО МОНИТОРИНГА В ТЕЧЕНИЕ КАКОГО СРОКА С МОМЕНТА СООБЩЕНИЯ ИНФОРМАЦИИ ПО РЕШЕНИЮ УПОЛНОМОЧЕННОГО ОРГАНА ПО ФИНАНСОВОМУ МОНИТОРИНГУ О ПРИОСТАНОВЛЕНИИ ПОДОЗРИТЕЛЬНОЙ ОПЕРАЦИИ ЛИБО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ОТСУТСТВИИ НЕОБХОДИМОСТИ В ПРИОСТАНОВЛЕНИИ ТАКОЙ ОПЕРАЦИИ ОПЕРАЦИЯ ДОЛЖНА БЫТЬ ПРОВЕДЕНА</a:t>
            </a: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1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ДВАДЦАТИ ЧЕТЫРЕХ ЧАСОВ С МОМЕНТА СООБЩЕНИЯ ИНФОРМ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НЕ ИМЕЮТСЯ ИНЫЕ ОСНОВАН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УСМОТРЕННЫЕ ЗАКОНОДАТЕЛЬНЫМИ АКТАМИ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ПЯТСТВУЮЩИЕ ПРОВЕДЕНИЮ ДАНН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just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55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СЛЕ ИСТЕЧЕНИЯ КАКОГО СРОКА ПОДОЗРИТЕЛЬНАЯ ОПЕРАЦ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 КОТОРОЙ УПОЛНОМОЧЕННЫМ ОРГАНОМ ПО ФИНАНСОВОМУ МОНИТОРИНГУ ПРИНЯТО РЕШЕНИЕ О ПРИОСТАНОВЛЕНИИ ПРОВЕД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ЛЖНА БЫТЬ ПРОВЕДЕНА ПРИ ОТСУТСТВИИ И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НОВАНИ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ДАТЕЛЬНЫМИ АКТАМИ РЕСПУБЛИКИ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ПЯТСТВУЮЩИХ ПРОВЕДЕНИЮ ТАК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35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СЛЕ ИСТЕЧЕНИЯ СРОКА ПРИОСТАНОВЛЕНИЯ ПОДОЗРИТЕЛЬНОЙ ОПЕРАЦИИ ПО РЕШЕНИЮ УПОЛНОМОЧЕННОГО ОРГАНА ПО ФИНАНСОВОМУ 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Google Shape;439;p71"/>
          <p:cNvSpPr/>
          <p:nvPr/>
        </p:nvSpPr>
        <p:spPr>
          <a:xfrm>
            <a:off x="33480" y="325440"/>
            <a:ext cx="7482960" cy="123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2040" indent="-24912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56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СРОКА СУБЪЕКТ ФИНАНСОВОГО МОНИТОРИНГА ОБЯЗАН ПРЕДОСТАВИТЬ В УПОЛНОМОЧЕННЫЙ ОРГАН ПО ФИНАНСОВОМУ МОНИТОРИНГУ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ГО ЗАПРОС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МУ С АНАЛИЗОМ ПОДОЗРИТЕЛЬНОЙ ИНФОРМ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ОБХОДИМЫЕ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РАБОЧЕГО ДНЯ СО ДНЯ ПОЛУЧЕНИЯ ЗАПР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2040" indent="-24912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56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СРОКА СУБЪЕКТ ФИНАНСОВОГО МОНИТОРИНГА ОБЯЗАН ПРЕДОСТАВИТЬ В УПОЛНОМОЧЕННЫЙ ОРГАН ПО ФИНАНСОВОМУ МОНИТОРИНГУ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ГО ЗАПРОС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МУ С АНАЛИЗОМ ПОДОЗРИТЕЛЬНОЙ ИНФОРМ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ОБХОДИМЫЕ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РАБОЧЕГО ДНЯ СО ДНЯ ПОЛУЧЕНИЯ ЗАПР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2040" indent="-249120">
              <a:lnSpc>
                <a:spcPct val="113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ОЙ СРОК СУБЪЕКТАМИ ФИНАНСОВОГО МОНИТОРИНГА ДОЛЖНЫ БЫТЬ ПРЕДСТАВЛЕНЫ СООБЩЕНИЯ О СОВЕРШЕННЫХ ОПЕРАЦИЯХ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НЕ БЫЛИ ПРИЗНАНЫ ПОДОЗРИТЕЛЬНЫМИ ДО ИХ ПРОВЕД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ДВАДЦАТИ ЧЕТЫРЕХ ЧАСОВ ПОСЛЕ ПРИЗНАНИЯ ОПЕРАЦИИ ПОДОЗРИТЕ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2040" indent="-249120">
              <a:lnSpc>
                <a:spcPct val="113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ОЙ СРОК СУБЪЕКТАМИ ФИНАНСОВОГО МОНИТОРИНГА ПРЕДОСТАВЛЯЮТСЯ СВЕДЕНИЯ И ИНФОРМАЦИЯ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ММА ПО КОТОРЫМ РАВНА ИЛИ ПРЕВЫШАЕТ ПОРОГОВОЕ ЗНАЧЕНИЕ ДЛЯ ДАННОГО ВИДА ОПЕРАЦИИ СОГЛАСНО ПУНКТУ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ТАТЬ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4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КОНА РЕСПУБЛИКИ 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РАБОЧЕГО ДН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ЛЕДУЮЩЕГО ЗА ДНЕМ СОВЕР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1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60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НА КАКОЙ СРОК УПОЛНОМОЧЕННЫМ ОРГАНОМ ПО ФИНАНСОВОМУ МОНИТОРИНГУ ВЫНОСИТСЯ РЕШЕНИЕ О ПРИОСТАНОВЛЕНИИ РАСХОДНЫХ ОПЕРАЦИЙ ПО БАНКОВСКИМ СЧЕ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ИЛИ ОПЕРАЦИЙ С ЭЛЕКТРОННЫМИ ДЕНЬГАМИ ЛИЦ</a:t>
            </a: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ЯВЛЯЮЩИХСЯ УЧАСТНИКАМИ ТА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ОПЕРАЦИИ</a:t>
            </a: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 СЛУЧАЕ ПОЛУЧЕНИЯ ОТ ПРАВООХРАНИТЕЛЬНЫХ И СПЕЦИАЛЬНЫХ ГОСУДАРСТВЕННЫХ ОРГАНОВ РЕСПУБЛИКИ КАЗАХСТАН РЕШЕНИЯ О НЕОБХОДИМОСТИ ПРИОСТАНОВЛЕНИЯ ПОДОЗРИТЕЛЬНОЙ ОПЕРАЦИИ</a:t>
            </a: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 СРОК ДО ПЯТНАДЦАТИ КАЛЕНДАРНЫХ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1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6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ОЙ СРОК С МОМЕНТА ПОЛУЧЕНИЯ СООТВЕТСТВУЮЩЕГО ЗАПРОСА БАНКОВ И ОРГАНИЗАЦИ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Х ОТДЕЛЬНЫЕ ВИДЫ БАНКОВСКИХ ОПЕРАЦИ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ТОРЫ СИСТЕМ ДЕНЕЖНЫХ ПЕРЕВОДОВ ОБЯЗАНЫ ПРЕДОСТАВИТЬ НЕОБХОДИМЫЕ ИНФОРМАЦИЮ И СВЕД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В ТЕЧЕНИЕ ДВУХ РАБОЧИХ ДНЕЙ СО ДНЯ ПОЛУЧЕНИЯ СООТВЕТСТВУЮЩЕГО ЗАПР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Google Shape;444;p72"/>
          <p:cNvSpPr/>
          <p:nvPr/>
        </p:nvSpPr>
        <p:spPr>
          <a:xfrm>
            <a:off x="-12600" y="103320"/>
            <a:ext cx="7562520" cy="11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АКАТТЕСТ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r>
              <a:rPr b="0" lang="en-US" sz="1600" spc="-1" strike="noStrike">
                <a:solidFill>
                  <a:srgbClr val="202020"/>
                </a:solidFill>
                <a:latin typeface="Trebuchet MS"/>
                <a:ea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</a:tabLst>
            </a:pPr>
            <a:r>
              <a:rPr b="0" i="1" lang="en-US" sz="21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</a:t>
            </a:r>
            <a:r>
              <a:rPr b="0" i="1" lang="en-US" sz="21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2100" spc="-1" strike="noStrike">
                <a:solidFill>
                  <a:srgbClr val="ff1515"/>
                </a:solidFill>
                <a:latin typeface="Arial"/>
                <a:ea typeface="Arial"/>
              </a:rPr>
              <a:t>ВОПРОС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КМИНИСТРА ФИНАНСОВ РЕСПУБЛИКИ КАЗАХСТАН ОТ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13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КТЯБРЯ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2020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Б УТВЕРЖДЕНИИ ТРЕБОВАНИЙ К СУБЪЕКТАМ ФИНАНСОВОГО МОНИТОРИНГА ПО ПОДГОТОВКЕ И ОБУЧЕНИЮ В СФЕРЕ ПРОТИВОДЕЙСТВИЯ ЛЕГАЛИЗАЦИИ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СЕГО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ПРИКАЗ ПРЕДСЕДАТЕЛЯ АГЕНТСТВА ФИНАНСОВОГО МОНИТОРИНГА РК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Т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9.08.2021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1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ТВЕРЖДАЮТСЯ ТРЕБОВАНИЯ К СУБЪЕКТАМ ФИНАНСОВОГО МОНИТОРИНГА ПО ПОДГОТОВКЕ И ОБУЧЕНИЮ В СФЕРЕ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СОГЛАСОВАНИЮ С ГОСУДАРСТВЕННЫМИ ОРГАНАМ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МИ В ПРЕДЕЛАХ СВОЕЙ КОМПЕТЕНЦИИ ГОСУДАРСТВЕННЫЙ КОНТРОЛЬ ЗА СОБЛЮДЕНИЯМИ СУБЪЕКТАМИ ФИНАНСОВОГО МОНИТОРИНГА ЗАОНОДАТЕЛЬСТВА РК О ПОД Ф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2.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ЦЕЛЬЮ ПОДГОТОВКИ И ОБУЧЕНИЯ СУБЪЕКТОВ ФИНАНСОВОГО МОНИТОРИНГА ЯВЛЯЕТСЯ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ИЕ СУБЪЕКТАМИ ФИНАНСОВОГО МОНИТОРИНГА ЗНАНИЙ В СФЕР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 В СООТВЕТСТВИИ С ТРЕБОВАНИЯМИ 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БЪЕКТАМ ФИНАНСОВОГО МОНИТОРИНГА ПО ПОДГОТОВКЕ И ОБУЧЕНИЮ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ЫХ ИМ ДЛЯ СОБЛЮДЕНИЯ ЗАКОНОДАТЕЛЬСТВА РЕСПУБЛИКИ КАЗАХСТАН 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Google Shape;445;p72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Google Shape;450;p73"/>
          <p:cNvSpPr/>
          <p:nvPr/>
        </p:nvSpPr>
        <p:spPr>
          <a:xfrm>
            <a:off x="9360" y="576360"/>
            <a:ext cx="7542000" cy="11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3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РАЗРАБАТЫВАЕТСЯ ПРОГРАММА ПОДГОТОВКИ И ОБУЧЕНИЯ В СФЕ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ТИВОДЕЙСТВИЯ ЛЕГАЛИЗАЦИИ 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БЪЕКТАМИ ФИНАНСОВОГО МОНИТОРИНГА С УЧЕТОМ ТРЕБОВА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КОНОДАТЕЛЬСТВА РЕСПУБЛИКИ КАЗАХСТАН 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ОСОБЕННОСТЕЙ ДЕЯТЕЛЬНОСТИ СУБЪЕКТОВ ФИНАНСОВОГО МОНИТОРИНГА И ИХ КЛИЕН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-95400">
              <a:lnSpc>
                <a:spcPct val="112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ДНА ИЗ ПРОГРАММ ПОДГОТОВКИ И ОБУЧЕНИЯ В СФЕРЕ ПРОТИВОДЕЙСТВИЯ ЛЕГАЛИЗАЦИИ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ФИНАНСИРОВАНИЮ ТЕРРОРИЗМ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ЗУЧЕНИЕ ТИПОЛОГ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ХЕМ И СПОСОБОВ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ПРИЗНАКОВ ОПРЕДЕЛЕНИЯ ПОДОЗРИТЕЛЬНЫХ ОПЕРАЦ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95400">
              <a:lnSpc>
                <a:spcPct val="146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КАКИХ СЛУЧАЯХ В СООТВЕТСТВИИ С ТРЕБОВАНИЯМИ К СУБЪЕКТАМ ФИНАНСОВОГО МОНИТОРИНГА ПО ПОДГОТОВКЕ И ОБУЧЕНИЮ В СФЕР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ТИВОДЕЙСТВИЯ ЛЕГАЛИЗАЦИИ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 ПРОВОДИТСЯ ДОПОЛНИТЕЛЬНО ОБУЧЕНИЕ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 ИЗМЕНЕНИИ ДЕЙСТВУЮЩИХ И ВСТУПЛЕНИИ В СИЛУ НОВЫХ НОРМАТИВ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АВОВЫХ АКТОВ РЕСПУБЛИКИ КАЗАХСТАН В ОБЛАСТИ ПРОТИВОДЕЙСТВИЯ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ОРИЗМА И УТВЕРЖДЕНИИ СУБЪЕКТОМ ФИНАНСОВОГО МОНИТОРИНГА НОВЫХ ИЛИ ИЗМЕНЕНИИ ДЕЙСТВУЮЩИХ ПРАВИЛ ВНУТРЕННЕГО КОНТРОЛЯ В ЦЕЛЯХ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 И ПРОГРАММ ИХ ОСУЩЕСТВЛ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-95400">
              <a:lnSpc>
                <a:spcPct val="116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ТВЕРЖДАЕТСЯ ПЕРЕЧЕНЬ ОТВЕТСТВЕННЫХ ЛИЦ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ТОРЫЕ ПРОХОДЯТ ОБУЧЕНИЕ В ЦЕЛЯХ ПРОТИВОДЕЙСТВИЯ ЛЕГАЛИЗАЦИИ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 НАЧАЛА ОСУЩЕСТ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МИ ФУНКЦИЙ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СВЯЗАННЫХ С СОБЛЮДЕНИЕМ ЗАКОНОДАТЕЛЬСТВА РЕСПУБЛИ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ЗАХСТАН О ПРОТИВОДЕЙСТВИЯ ЛЕГАЛИЗАЦИИ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УКОВОДИТЕЛЕМ СФ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Google Shape;455;p74"/>
          <p:cNvSpPr/>
          <p:nvPr/>
        </p:nvSpPr>
        <p:spPr>
          <a:xfrm>
            <a:off x="19080" y="576360"/>
            <a:ext cx="751788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24080" indent="-476280">
              <a:lnSpc>
                <a:spcPct val="114000"/>
              </a:lnSpc>
              <a:buClr>
                <a:srgbClr val="202020"/>
              </a:buClr>
              <a:buFont typeface="Trebuchet MS"/>
              <a:buAutoNum type="arabicPeriod" startAt="7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БУЧЕНИЕ СУБЪЕКТОВ ФИНАНСОВОГО МОНИТОРИНГА ПРОВОДЯТ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Е СЛЕДУЮЩИМ ТРЕБОВАНИЯМ УСТАНОВЛЕННЫХ УПОЛНОМОЧЕН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РГАНОМПО ФИНАНСИРОВАНИЮ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13000"/>
              </a:lnSpc>
              <a:buClr>
                <a:srgbClr val="202020"/>
              </a:buClr>
              <a:buFont typeface="Trebuchet MS"/>
              <a:buAutoNum type="arabicPeriod" startAt="8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СТАНАВЛИВАЕТСЯ ПОРЯДОК УЧЕТА ПРОХОЖДЕНИЯ СОТРУДНИКАМИ СУБЪЕКТА ФИНАНСОВОГО МОНИТОРИНГА ПРОГРАММЫ ОБУЧЕНИЯ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АВЛИВАЕТСЯ СУБЪЕКТОМ ФИНАНСОВОГО МОНИТОРИНГА САМОСТОЯ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12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Trebuchet MS"/>
                <a:ea typeface="Trebuchet MS"/>
              </a:rPr>
              <a:t>9.</a:t>
            </a:r>
            <a:r>
              <a:rPr b="0" lang="en-US" sz="13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ХОЖДЕНИЕ СУБЪЕКТОМ ФИНАНСОВОГО МОНИТОРИНГА ТЕСТИРОВАНИЯ ПОДТВЕРЖДАЕТСЯ ДОКУМЕНТОМ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ДАВАЕМЫЙ АКЦИОНЕРНЫМ ОБЩЕСТВО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ЦИОНАЛЬНЫЙ ЦЕНТР ПО УПРАВЛ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СОНАЛОМ ГОСУДАРСТВЕННОЙ СЛУЖБ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10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НФОРМАЦИЯ О ПРОХОЖДЕНИИ СУБЪЕКТОМ ФИНАНСОВОГО МОНИТОРИНГА ТЕСТИРОВАНИЯ РАЗМЕЩАЕТСЯ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ЛИЧНОМ КАБИНЕТЕ СУБЪЕКТА КОТОРЫЙ РАЗМЕЩЁН В ВЕБ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ТАЛЕ УПОЛНОМОЧЕН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Google Shape;460;p75"/>
          <p:cNvSpPr/>
          <p:nvPr/>
        </p:nvSpPr>
        <p:spPr>
          <a:xfrm>
            <a:off x="122400" y="103320"/>
            <a:ext cx="731016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АКАТТЕСТ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r>
              <a:rPr b="0" lang="en-US" sz="1600" spc="-1" strike="noStrike">
                <a:solidFill>
                  <a:srgbClr val="202020"/>
                </a:solidFill>
                <a:latin typeface="Trebuchet MS"/>
                <a:ea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16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К ПРИКАЗУ МИНИСТРА ФИНАНСОВ РЕСПУБЛИКИ КАЗАХСТАН ОТ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4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ДЕКАБ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2015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 6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Б УТВЕРЖДЕНИИ ПРАВИЛ ВЫПЛАТЫ СРЕДСТВ ФИЗИЧЕСКОМУ ЛИЦУ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ВКЛЮЧЕННОМУ В ПЕРЕЧЕНЬ ОРГАНИЗАЦИЙ И ЛИЦ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ДЛЯ ОБЕСПЕЧЕНИЯ СВОЕЙ ЖИЗНЕДЕЯТЕЛЬНОСТИ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ПРОФИЛЬНЫЕ БА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oogle Shape;461;p75"/>
          <p:cNvSpPr/>
          <p:nvPr/>
        </p:nvSpPr>
        <p:spPr>
          <a:xfrm>
            <a:off x="36360" y="3778200"/>
            <a:ext cx="7419600" cy="79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9400" indent="-71280" algn="just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1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ГДА БЫЛ УТВЕРЖДЕН ПРИКАЗ МИНИСТРА ФИНАНСОВ РЕСПУБЛИКИ КАЗАХСТАН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Б УТВЕРЖДЕНИИ ПРАВИЛ ВЫПЛАТЫ СРЕДСТВ ФИЗИЧЕСКОМУ ЛИЦУ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КЛЮЧЕННОМУ В ПЕРЕЧЕНЬ ОРГАНИЗАЦИЙ И ЛИЦ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ВЯЗАННЫХ С ФИНАНСИРОВАНИЕМ ТЕРРОРИЗМА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ЭКСТРЕМИЗМА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ЛЯ ОБЕСПЕЧЕНИЯ СВОЕЙ ЖИЗНЕДЕЯТЕЛЬНОСТ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”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•04.12.2015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2.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ГО ИНФОРМИРУЕТ УПОЛНОМОЧЕННЫЙ ОРГАН ПО ФИНАНСОВОМУ МОНИТОРИНГУ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 ПОЛУЧЕНИИ ОТ МИНИСТЕРСТВА ИНОСТРАННЫХ ДЕЛ РЕСПУБЛИКИ КАЗАХСТАН РЕШЕНИЯ КОМИТЕТА СОВЕТА БЕЗОПАСНОСТИ ОРГАНИЗАЦИИ ОБЪЕДИНЕННЫХ НАЦИЙ ОБ ОТКАЗЕ В УДОВЛЕТВОРЕНИИ ЗАЯВЛЕНИЯ О ЧАСТИЧНОЙ ИЛИ ПОЛНОЙ ОТМЕНЕ ПРИМЕНЯЕМЫХ МЕР ПО ЗАМОРАЖИВАНИЮ ОПЕРАЦИЙ С ДЕНЬГАМИ И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МУЩЕСТВОМ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ОГО 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КЛЮЧЕННОГО В ПЕРЕЧЕНЬ ОРГАНИЗАЦИЙ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ЕМ ТЕРРОРИЗМА И ЭКСТРЕМ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3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КАКИЕ ДОКУМЕНТЫ ПРЕДОСТАВЛЯЕТ ФИЗИЧЕСКОЕ ЛИЦО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КЛЮЧЕННОЕ В ПЕРЕЧЕНЬ ОРГАНИЗАЦИЙ И ЛИЦ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ЫПЛАТЫ ДЕНЕГ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ПОЛУЧЕННЫХ В ВИДЕ ТРУДОВОГО ОТПУСКА И ЗАРАБОТНОЙ ПЛАТЫ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ДЛЯ ЧЛЕНОВ СЕМЬИ НЕ ИМЕЮЩИХ САМОСТОЯТЕЛЬНЫХ ИСТОЧНИКОВ ДОХОДА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35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1)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ОКУМЕНТ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УДОСТОВЕРЯЮЩИЙ ЛИЧНОСТЬ ЧЛЕНА СЕМЬИ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А ТАКЖЕ СВИДЕТЕЛЬСТВО О РОЖДЕНИИ ДЛЯ ИДЕНТИФИКАЦИИ РОДСТВА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2)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РИГИНАЛ СВИДЕТЕЛЬСТВА О БРАКЕ ИЛИ СПРАВКА РЕГИСТРАЦИИ АКТА ГРАЖДАН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ОСТОЯНИЯ НА СУПРУГУ 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УПРУГА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14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3)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ПРАВКА О РЕГИСТРАЦИИ В КАЧЕСТВЕ БЕЗРАБОТНОГО НА КАЖДОГО ТРУДОСПОСОБНОГО СОВЕРШЕННОЛЕТНЕГО ЧЛЕНА СЕМЬИ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Google Shape;462;p75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Google Shape;97;p13"/>
          <p:cNvSpPr/>
          <p:nvPr/>
        </p:nvSpPr>
        <p:spPr>
          <a:xfrm>
            <a:off x="82440" y="557280"/>
            <a:ext cx="7454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7776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0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УТВЕРЖДЁННОЙ ТИПОЛОГИЕЙ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ЫЯВЛЕНИЕ КОМПАНИИ ОСУЩЕСТВЛЯЮЩИХ ВЫПИСКУ СЧЕТ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АКТУР БЕЗ ФАКТИЧЕСКОГО ВЫПОЛНЕНИЯ РАБОТ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КАЗАНИЯ УСЛУГ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ГРУЗКИ ТОВАР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НО ОПРЕДЕЛЕНИЕ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ОБО КРУПНЫЙ РАЗМЕР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ЗОВ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7776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ММУ ОСОБО КРУПНОГО РАЗМЕРА ДЛЯ СТАТЬ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5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ГОЛОВНОГО КОДЕКСА РЕСПУБЛИКИ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77760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ММА НЕ ПОСТУПИВШИХ ПЛАТЕЖЕЙ В БЮДЖЕ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ВЫШАЮЩАЯ СЕМЬДЕСЯТ ПЯТЬ ТЫСЯ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7776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ЕСЯЧНЫХ РАСЧЕТНЫХ ПОКАЗАТЕЛЕ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Google Shape;98;p13"/>
          <p:cNvSpPr/>
          <p:nvPr/>
        </p:nvSpPr>
        <p:spPr>
          <a:xfrm>
            <a:off x="115920" y="2868480"/>
            <a:ext cx="730368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97120" indent="-240984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1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УТВЕРЖДЕНА ТИПОЛОГИЯ НА ТЕМУ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ЗМ И ИСТОЧНИКИ ЕГО ФИНАНСИРОВА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.09.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 startAt="1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СПОСОБОМ МОГУТ ПЕРЕДАВАТЬСЯ ДЕНЕЖНЫЕ СРЕДСТВА ТЕРРОРИСТАМ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РОЧНО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ЛИЧНЫМИ ЧЕРЕЗ ГРАЖДАН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ЫЕЗЖАЮЩИХ В ТУР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>
              <a:lnSpc>
                <a:spcPct val="121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УТЕМ ПЕРЕЧИСЛЕНИЯ НА ПЛАСТИКОВЫЕ БАНКОВСКИЕ КАРТЫ БОЕВИК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СРЕДСТВОМ СИСТЕМЫ ДЕНЕЖНЫХ ПЕРЕВ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Google Shape;99;p13"/>
          <p:cNvSpPr/>
          <p:nvPr/>
        </p:nvSpPr>
        <p:spPr>
          <a:xfrm>
            <a:off x="27000" y="5438880"/>
            <a:ext cx="7499160" cy="59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28640" indent="-161604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3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ЗНАКОМ ПОВЕДЕНИЯ ЧЕЛОВЕК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ПАВШЕГО ПОД ВЛИЯНИЯ ДЕСТРУКТИВНЫХ РЕЛИГИОЗНЫХ ТЕЧЕНИЙ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“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ЕРБОВК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”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ЕТС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ИСЬ ПРИВЫЧК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НОГО ВРЕМЕНИ УДЕЛЯЕТ ЧТЕНИЮ РЕЛИГИОЗНЫХ КНИГ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ЛИТВЕННЫХ ТЕКС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ИСЬ ИНТЕРЕС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Н МЕНЬШЕ ИНТЕРЕСУЕТСЯ СЕМЕЙНЫМИ ДЕЛ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ТАНОВИТСЯ РАВНОДУШНЫМ К ОБЩЕНИЮ С РОДНЫМИ И ДРУЗЬ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 РАБОТЕ И УЧЕБ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4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ОСЬ ПОВЕДЕНИ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АДЕКВАТНО ИЛИ АГРЕССИВНО РЕАГИРУЕТ НА ПОВСЕДНЕВНЫЕ ПРИВЫЧКИ И ВЕЩ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ИСЬ ВЗГЛЯД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ЭМОЦИОНАЛЬНО ИЛИ АГРЕССИВНО РЕАГИРУЕТ НА СУЖДЕНИЯ И МНЕНИЯ ОКРУЖАЮЩИХ ПО ТЕОЛОГИЧЕСКИМ ВОПРОС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ТАРАЕТСЯ В КАЧЕСТВЕ ИСТИ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ЕРНОЙ НАВЯЗАТЬ СВОЮ ТОЧКУ ЗР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СЯ ОБРАЗ ЖИЗН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СМОТРЯ НА ЧТ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ЩЕНИЕ С ДРУЗЬЯМИ И КОЛЛЕГАМИ ПО РАБОТЕ ОГРАНИЧЕН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ЯВИЛОСЬ МНОЖЕСТВО ТЕЛЕФОННЫХ ЗВОНК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ИС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ИСХОДИТ УВЕЛИЧЕНИЕ КОЛИЧЕСТВА ВСТРЕЧ В НЕДЕЛЮ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БРАНИ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МИНАРОВ Т 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ОЗМОЖНЫ ПОЕЗДКИ ПО СТРАНЕ И ЗА ГРАНИЦУ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СВЯЗАННЫЕ С РАБОТО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ИСЬ ДЕНЕЖНЫЕ ТРАТ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ИСХОДИТ НЕОПРАВДАННОЕ УВЕЛИЧЕНИЕ ДЕНЕЖНЫХ ТРА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РМАННЫХ РАСХОДОВ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 ДЕТЕ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Google Shape;100;p13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Google Shape;467;p76"/>
          <p:cNvSpPr/>
          <p:nvPr/>
        </p:nvSpPr>
        <p:spPr>
          <a:xfrm>
            <a:off x="-19080" y="154080"/>
            <a:ext cx="7578360" cy="12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4000" indent="-88920" algn="just">
              <a:lnSpc>
                <a:spcPct val="118000"/>
              </a:lnSpc>
              <a:buClr>
                <a:srgbClr val="000000"/>
              </a:buClr>
              <a:buFont typeface="Trebuchet MS"/>
              <a:buAutoNum type="arabicPeriod" startAt="4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ВРЕМЕНИ УПОЛНОМОЧЕННЫЙ ОРГАН ПО ФИНАНСОВОМУ МОНИТОРИНГУ СО ДНЯ ПОЛУЧЕНИЯ ЗАЯВЛЕНИЯ О ЧАСТИЧНОЙ ИЛИ ПОЛНОЙ ОТМЕНЕ ПРИМЕНЯЕМЫХ МЕР ПО ЗАМОРАЖИВАНИЮОПЕРАЦИЙС ДЕНЬГАМ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ПРАВЛЯЕТЕ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ИНИСТЕРСТВОИНОСТРАННЫХДЕЛРЕСПУБЛИКИ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ТЕЧЕНИ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ЧИХ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 indent="-88920">
              <a:lnSpc>
                <a:spcPct val="121000"/>
              </a:lnSpc>
              <a:buClr>
                <a:srgbClr val="202020"/>
              </a:buClr>
              <a:buFont typeface="Trebuchet MS"/>
              <a:buAutoNum type="arabicPeriod" startAt="5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ТЕЧЕНИЕ КАКОГО ВРЕМЕН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ПОЛНОМОЧЕННЫЙ ОРГАН ПО ФИНАНСОВОМУ МОНИТОРИНГУ ПРИНИМАЕТРЕШЕНИЕО ПРОВЕДЕНИИОПЕРАЦИИЛИБООТКАЗЕ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ТЕЧЕНИЕДВАДЦАТИЧЕТЫРЕХЧА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000" indent="-88920">
              <a:lnSpc>
                <a:spcPct val="124000"/>
              </a:lnSpc>
              <a:buClr>
                <a:srgbClr val="000000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О ИНФОРМИРУЕТ 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ОЛУЧЕНИИОТМИНИСТЕРСТВАИНОСТРАННЫХДЕЛРЕСПУБЛИКИКАЗАХСТАН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18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МИТЕТА СОВЕТА БЕЗОПАСНОСТИ ОРГАНИЗАЦИИ ОБЪЕДИНЕННЫХ НАЦИЙ ОБ УДОВЛЕТВОРЕНИИ ЗАЯВЛЕНИЯ О ЧАСТИЧНОЙ ИЛИ ПОЛНОЙ ОТМЕНЕ ПРИМЕНЯЕМЫХ МЕР ПО ЗАМОРАЖИВАНИЮОПЕРАЦИЙС ДЕНЬГАМ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ОГО 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КЛЮЧЕННОГО В ПЕРЕЧЕНЬ ОРГАНИЗАЦИЙ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ЕМТЕРРОРИЗМАИЭКСТРЕМ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ТАКЖЕСООТВЕТСТВУЮЩИЙСУБЪЕКТ ФИНАНСОВОГО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7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КАКИЕОПЕРАЦИИС ДЕНЬГАМИИЛИИНЫМИМУЩЕСТВОМСУБЪЕКТФИНАНСОВОГО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ПРИНИМАЕТСАМОСТОЯТЕЛЬНО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СЕОТВЕТЫ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СОБ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ЕН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ТИПЕНД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000" indent="-88920">
              <a:lnSpc>
                <a:spcPct val="125000"/>
              </a:lnSpc>
              <a:buClr>
                <a:srgbClr val="000000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ЯВЛЕНИЕ О ЧАСТИЧНОЙ ИЛИПОЛНОЙ ОТМЕНЕ ПРИМЕНЯЕМЫХМЕР ПО ЗАМОРАЖИВАНИЮ ОПЕРАЦИЙ С ДЕНЬГАМИ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ИМУЩЕСТВОМВ ТЕЧЕНИ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3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БОЧИХДНЕЙНАПРАВЛЯЕТ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ИНИСТЕРСТВОИНОСТРАННЫХДЕЛРЕСПУБЛИКИ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000" indent="-88920">
              <a:lnSpc>
                <a:spcPct val="122000"/>
              </a:lnSpc>
              <a:buClr>
                <a:srgbClr val="000000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ДОКУМЕНТЫ ПРЕДОСТАВЛЯЕТ ФИЗИЧЕСКОЕ ЛИЦО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Е В ПЕРЕЧЕНЬ ОРГАНИЗАЦИЙИ ЛИЦ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С ФИНАНСИРОВАНИЕМТЕРРОРИЗМАИ ЭКСТРЕМ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БРАЩЕНИЯХ В УПОЛНОМОЧЕННЫЙ ОРГАН ПО ФИНАНСОВОМУ МОНИТОРИНГУ С ЗАЯВЛЕНИЕМ О ЧАСТИЧНОЙИЛИ ПОЛНОЙОТМЕНЕПРИМЕНЯЕМЫХМЕР ПО ЗАМОРАЖИВАНИЮОПЕРАЦИЙ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ЬГАМ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КОПИЯ ДОКУМЕНТА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УДОСТОВЕРЯЮЩЕГОЛИЧНОСТЬФИЗИЧЕСКОГОЛИЦА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ВКЛЮЧЕННОГО В ПЕРЕЧЕНЬ ОРГАНИЗАЦИЙ И ЛИЦ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ВЯЗАННЫХ С ФИНАНСИРОВАНИЕМ ТЕРРОРИЗМА И ЭКСТРЕМИЗМА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 КОПИЯДОКУМЕНТА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УДОСТОВЕРЯЮЩЕГОНАЛИЧИЕБАНКОВСКОГОСЧ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РЕКВИЗИТ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СПОЛЬЗУЕМОГОДЛЯСНЯТИЯДЕ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Google Shape;472;p77"/>
          <p:cNvSpPr/>
          <p:nvPr/>
        </p:nvSpPr>
        <p:spPr>
          <a:xfrm>
            <a:off x="63360" y="144360"/>
            <a:ext cx="7437240" cy="71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52560" indent="-2682720">
              <a:lnSpc>
                <a:spcPct val="125000"/>
              </a:lnSpc>
              <a:buClr>
                <a:srgbClr val="000000"/>
              </a:buClr>
              <a:buFont typeface="Trebuchet MS"/>
              <a:buAutoNum type="arabicPeriod" startAt="10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ИНИСТЕРСТВОИНОСТРАННЫХДЕЛРК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ЯВЛЕНИЕО ЧАСТИЧНОЙИЛИПОЛНОЙОТМЕНЕ ПРИМЕНЯЕМЫХМЕР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МОРАЖИВАНИЮОПЕРАЦИЙ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НАПРАВЛЯЕТВ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ЙКОМИТЕТСОВЕТБЕЗОПАСНОСТИОРГАНИЗАЦИИОБЪЕДИНЕННЫХН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11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ЧЛЕНЫСЕМЬИЭТО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ПРУГА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ПРУ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ВМЕСТНЫЕ ИЛИ ОДНОГО ИЗ СУПРУГОВ НЕСОВЕРШЕННОЛЕТНИЕ ДЕТ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4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ИСЛЕУСЫНОВЛЕННЫ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ХОДЯЩИЕСЯНАИЖДИВЕНИИИЛИПОДОПЕКО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ПЕЧИТЕЛЬСТВ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ОДИТЕЛИИРОДИТЕЛИСУПРУГ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ПРУГ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ХОДЯЩИЕСЯНАИЖДИВЕН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>
              <a:lnSpc>
                <a:spcPct val="124000"/>
              </a:lnSpc>
              <a:buClr>
                <a:srgbClr val="000000"/>
              </a:buClr>
              <a:buFont typeface="Trebuchet MS"/>
              <a:buAutoNum type="arabicPeriod" startAt="10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ВРЕМЕН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ИРУЕТ ФИЗИЧЕСКОГО ЛИЦ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МУ В ПЕРЕЧ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ЙИ ЛИЦ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С ФИНАНСИРОВАНИЕМТЕРРОРИЗМАИ ЭКСТРЕМ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19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ИИ ОТ МИНИСТЕРСТВА ИНОСТРАННЫХ ДЕЛ РЕСПУБЛИКИ КАЗАХСТАН РЕШЕНИЯ КОМИТЕТА СОВЕТА БЕЗОПАСНОСТИ ОРГАНИЗАЦИИ ОБЪЕДИНЕННЫХ НАЦИЙ ОБ ОТКАЗЕ В УДОВЛЕТВОРЕНИИЗАЯВЛЕНИЯО ЧАСТИЧНОЙИЛИ ПОЛНОЙОТМЕНЕПРИМЕНЯЕМЫХМЕР ПО ЗАМОРАЖИВАНИЮОПЕРАЦИЙС ДЕНЬГАМ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ОГ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ЧЕГО ДНЯ СО ДНЯ ЕГО ПОЛ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Google Shape;473;p77"/>
          <p:cNvSpPr/>
          <p:nvPr/>
        </p:nvSpPr>
        <p:spPr>
          <a:xfrm>
            <a:off x="-12600" y="4253040"/>
            <a:ext cx="18072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Google Shape;474;p77"/>
          <p:cNvSpPr/>
          <p:nvPr/>
        </p:nvSpPr>
        <p:spPr>
          <a:xfrm>
            <a:off x="1346040" y="4253040"/>
            <a:ext cx="50544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ЯВЛЯЕТСЯОСНОВАНИЕМДЛЯОТКАЗАВ ПОЛУЧЕНИИДЕНЕГ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ВТОРНОЕПОЛУЧЕНИЕДЕНЕГВТЕЧЕНИЕКАЛЕНДАРНОГОМЕСЯ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Google Shape;475;p77"/>
          <p:cNvSpPr/>
          <p:nvPr/>
        </p:nvSpPr>
        <p:spPr>
          <a:xfrm>
            <a:off x="0" y="5022720"/>
            <a:ext cx="7516440" cy="70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 indent="-2232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4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ЧЕНЬ ОРГАНИЗАЦИЙ И ЛИЦ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ЭКСТРЕМИЗМАЭТО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ПИСОК ОРГАНИЗАЦИЙ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СТАВЛЯЕМЫЙИРАЗМЕЩАЕМЫЙУПОЛНОМОЧЕННЫМОРГАНОМНАИНТЕРНЕ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СУРСЕКОМИТЕТАПО ФИНАНСОВОМУМОНИТОРИНГУМИНИСТЕРСТВАФИНАНСОВРЕСПУБЛИКИ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-22320">
              <a:lnSpc>
                <a:spcPct val="120000"/>
              </a:lnSpc>
              <a:buClr>
                <a:srgbClr val="000000"/>
              </a:buClr>
              <a:buFont typeface="Trebuchet MS"/>
              <a:buAutoNum type="arabicPeriod" startAt="15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ВЫПЛАТЫДЕНЕГ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ЖНОПРОИЗВОДИТЬСУБЪЕКТАМФИНАНСОВОГОМОНИТОРИНГА ФИЗИЧЕСКОМУЛИЦ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МУВ ПЕРЕЧЕНЬОРГАНИЗАЦИЙИ ЛИЦ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 ТЕРРОРИЗМА И ЭКСТРЕМ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СЛЕ ПОЛУЧЕНИЯ РЕШЕНИЯ УПОЛНОМОЧЕННОГООРГАНАПОФИНАНСОВОМУ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ВЫПЛАТЫДЕНЕГВВИДЕТРУДОВОГООТПУСКАИЛИЗАРАБОТНОЙ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indent="-22320">
              <a:lnSpc>
                <a:spcPct val="12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КАКОГОВРЕМЕН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ОРГАН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ИРУЕТ ФИЗИЧЕСКОГО ЛИЦ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ЙИ ЛИЦ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С ФИНАНСИРОВАНИЕМТЕРРОРИЗМАИ ЭКСТРЕМИЗМА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ТВЕТСТВУЮЩИЙ СУБЪЕКТ ФИНАНСОВОГО МОНИТОРИНГА ПРИ ПОЛУЧЕНИИ ОТ МИНИСТЕРСТВА ИНОСТРАННЫХ ДЕЛ РЕСПУБЛИКИ КАЗАХСТАН РЕШЕНИЯ КОМИТЕТА СОВЕТА БЕЗОПАСНОСТИОРГАНИЗАЦИИОБЪЕДИНЕННЫХНАЦИЙОБ УДОВЛЕТВОРЕНИИЗАЯВЛЕНИЯО ЧАСТИЧНОЙИЛИПОЛНОЙОТМЕНЕПРИМЕНЯЕМЫХМЕР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МОРАЖИВАНИЮОПЕРАЦИЙ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ОГ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ЧЕГО ДНЯ СО ДНЯ ЕГО ПОЛ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Google Shape;480;p78"/>
          <p:cNvSpPr/>
          <p:nvPr/>
        </p:nvSpPr>
        <p:spPr>
          <a:xfrm>
            <a:off x="538200" y="103320"/>
            <a:ext cx="6467040" cy="26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АКАТТЕСТ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r>
              <a:rPr b="0" lang="en-US" sz="1600" spc="-1" strike="noStrike">
                <a:solidFill>
                  <a:srgbClr val="202020"/>
                </a:solidFill>
                <a:latin typeface="Trebuchet MS"/>
                <a:ea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ВОПРОСОВ ПО ВЗАИМНОЙ ОЦЕ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1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АЯ ОСНОВНАЯ ЦЕЛЬ ВЗАИМНЫХ ОЦЕНОК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1.</a:t>
            </a:r>
            <a:r>
              <a:rPr b="0" i="1" lang="en-US" sz="13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ЦЕНКА УРОВНЯ ЭФФЕКТИВНОСТИ НАЦИОНАЛЬНОЙ СИСТЕМ ПРОТИВО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 ДЕНЕ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 И ФИНАНСИР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СПРОСТРАНЕНИЯ ОРУЖИЯ МАССОВОГО УНИЧТ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Google Shape;481;p78"/>
          <p:cNvSpPr/>
          <p:nvPr/>
        </p:nvSpPr>
        <p:spPr>
          <a:xfrm>
            <a:off x="600120" y="2552760"/>
            <a:ext cx="64306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23960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2.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АЯ ОРГАНИЗАЦИЯ ПРОВОДИТ ВЗАИМНУЮ ОЦЕНКУ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РУППА РАЗРАБОТКИ ФИНАНСОВЫХ МЕР ПО БОРЬБЕ С ОТМЫВАНИЕМ ДЕНЕГ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АТФ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Google Shape;482;p78"/>
          <p:cNvSpPr/>
          <p:nvPr/>
        </p:nvSpPr>
        <p:spPr>
          <a:xfrm>
            <a:off x="-12600" y="2773440"/>
            <a:ext cx="1141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Google Shape;483;p78"/>
          <p:cNvSpPr/>
          <p:nvPr/>
        </p:nvSpPr>
        <p:spPr>
          <a:xfrm>
            <a:off x="-12600" y="3306600"/>
            <a:ext cx="11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Trebuchet MS"/>
                <a:ea typeface="Trebuchet MS"/>
              </a:rPr>
              <a:t>3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Google Shape;484;p78"/>
          <p:cNvSpPr/>
          <p:nvPr/>
        </p:nvSpPr>
        <p:spPr>
          <a:xfrm>
            <a:off x="90360" y="3295800"/>
            <a:ext cx="7359120" cy="40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500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ЗАИМНУЮ ОЦЕНКУ РЕСПУБЛИКИ КАЗАХСТАН ПРОВОДИТ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: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ВРАЗИЙСКАЯ ГРУППА ПО ПРОТИВОДЕЙСТВИЮ ЛЕГАЛИЗАЦИИ ПРЕСТУПНЫХ ДОХОДОВ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indent="-88920">
              <a:lnSpc>
                <a:spcPct val="115000"/>
              </a:lnSpc>
              <a:spcBef>
                <a:spcPts val="201"/>
              </a:spcBef>
              <a:buClr>
                <a:srgbClr val="202020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 ПРОВЕДЕНИИ ВЗАИМНОЙ ОЦЕНКИ РЕСПУБЛИКИ КАЗАХСТАН БУДУТ ПРИНИМАТЬ УЧАСТИЕ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ГОСУДАРСТВЕННЫЕ ОРГАНЫ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РАВООХРАНИТЕЛЬНЫЕ И СПЕЦИАЛЬНЫЕ ГОСУДАРСТВЕННЫЕ ОРГАНЫ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УБЪЕКТЫ ФИНАНСОВОГО МОНИТОРИНГА И НАДЗ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algn="ctr">
              <a:lnSpc>
                <a:spcPct val="14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ОРГАНЫ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АМОРЕГУЛИРУЕМЫЕ ОРГАНИЗАЦИИ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ДРАЗДЕЛЕНИЕ ФИНАНСОВОЙ РАЗВЕД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indent="-88920">
              <a:lnSpc>
                <a:spcPct val="100000"/>
              </a:lnSpc>
              <a:spcBef>
                <a:spcPts val="99"/>
              </a:spcBef>
              <a:buClr>
                <a:srgbClr val="202020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 ИДЕНТИФИКАЦИОННЫМ ДАННЫМ СОГЛАСНО МЕТОДОЛОГИИ ОЦЕ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algn="ctr">
              <a:lnSpc>
                <a:spcPct val="107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ХНИЧЕСКОГО СООТВЕТСТВИЯ РЕКОМЕНДАЦИЯМ ГРУППЫ РАЗРАБОТКИ ФИНАНСОВЫХ МЕР БОРЬБЫ С ОТМЫВАНИЕМ ДЕНЕГ ОТНОСЯТСЯ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>
              <a:lnSpc>
                <a:spcPct val="14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ДОКУМЕНТЫ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ДАННЫЕ ИЛИ ИНФОРМАЦИЯ ИЗ НАДЕЖНОГО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ЗАВИСИМОГО ИСТОЧ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Google Shape;485;p78"/>
          <p:cNvSpPr/>
          <p:nvPr/>
        </p:nvSpPr>
        <p:spPr>
          <a:xfrm>
            <a:off x="101520" y="7008840"/>
            <a:ext cx="733536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4320" indent="-88920">
              <a:lnSpc>
                <a:spcPct val="114000"/>
              </a:lnSpc>
              <a:buClr>
                <a:srgbClr val="000000"/>
              </a:buClr>
              <a:buFont typeface="Trebuchet MS"/>
              <a:buAutoNum type="arabicPeriod" startAt="6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ЫЕ УЧРЕЖДЕНИЯ И УСТАНОВЛЕННЫЕ НЕФИНАНСОВЫЕ ПРОФЕССИИ И ПРЕДПРИЯТИЯ ОБЯЗАНЫ ПРИНИМАТЬ СООТВЕТСТВУЮЩИЕ МЕРЫ ПО ВЫЯВЛЕНИЮ И ОЦЕНКЕ СВОИХ РИСКОВ ОТМЫВАНИЯ ДЕНЕГ И ФИНАНСИРОВАНИЯ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М ОТНОСЯТС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КУМЕНТИРОВАНИЕ СВОИХ ОЦЕНОК РИСК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РЕДЕЛЕНИЕ УРОВНЯ РИСК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ИД СН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ИСК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ДЕРЖАНИЕ СВОИХ ОЦЕНОК В АКТУАЛЬНОМ СОСТОЯН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ЕТЬ МЕХАНИЗМЫ ДЛЯ ПРЕДОСТАВЛЕНИЯ ИНФОРМАЦИИ ОБ ОЦЕНКЕ РИСКОВ КОМПЕТЕНТНЫМ ОРГАН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4320" indent="-88920">
              <a:lnSpc>
                <a:spcPct val="113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ЕВРАЗИЙСКАЯ ГРУППА ПО ПРОТИВОДЕЙСТВИЮ ОТМЫВАНИЯ ДЕНЕГ И ФИНАНСИРОВАНИЯ ТЕРРОРИЗМА ПРИЗНАЕТ РЕЗУЛЬТАТЫ ВЗАИМНЫХ ОЦЕНОК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ВЕДЕННЫХ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РУППОЙ РАЗРАБОТКИ ФИНАНСОВЫХ МЕР БОРЬБЫ С ОТМЫВАНИЕМ ДЕНЕ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ГИОНАЛЬ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РУПП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ЕЖДУНАРОДНЫМ ВАЛЮТНЫМ ФОНД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МИРНЫМ БА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Google Shape;486;p78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Google Shape;491;p79"/>
          <p:cNvSpPr/>
          <p:nvPr/>
        </p:nvSpPr>
        <p:spPr>
          <a:xfrm>
            <a:off x="15840" y="868320"/>
            <a:ext cx="75229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8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РЕЗУЛЬТАТЫ ВЗАИМНОЙ ОЦЕНКИ РЕСПУБЛИКИ КАЗАХСТАН УТВЕРЖДАЮТСЯ НА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indent="-88920">
              <a:lnSpc>
                <a:spcPct val="100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ЛАНАРНЫХ ЗАСЕДАНИЯХ ЕВРАЗИЙСКОЙ ГРУППЫ ПО ПРОТИВОДЕЙСТВИЮ ЛЕГ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СТУПНЫХ ДОХОДОВ И 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81160" indent="-1579680">
              <a:lnSpc>
                <a:spcPct val="113000"/>
              </a:lnSpc>
              <a:buClr>
                <a:srgbClr val="202020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 ИТОГАМ ОБСУЖДЕНИЯ И УТВЕРЖДЕНИЯ ОТЧЕТОВ О ВЗАИМНОЙ ОЦЕНКЕ ГОСУДАРСТВО МОЖЕТ ПОСТАВЛЕНО НА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ТАНДАРТНЫЙ МОНИТОРИН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ИЛЕННЫЙ МОНИТОРИ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81160" indent="-1579680">
              <a:lnSpc>
                <a:spcPct val="100000"/>
              </a:lnSpc>
              <a:spcBef>
                <a:spcPts val="901"/>
              </a:spcBef>
              <a:buClr>
                <a:srgbClr val="202020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ЗАДАЧАМИ ОЦЕНКИ ЭФФЕКТИВНОСТИ ЯВЛЯЮТСЯ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ИЛИТЬ ОРИЕНТАЦИЮ ГРУППЫ РАЗРАБОТКИ ФИНАНСОВЫХ МЕР БОРЬБЫ С ОТМЫВ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ЕНЕГ НА РЕЗУЛЬТАТ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ИТЬ СТЕПЕНЬ ДОСТИЖЕНИЯ НАЦИОНАЛЬНОЙ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ТИВОДЕЙСТВИЯ ОТМЫВАНИЯ ДЕНЕГ И ФИНАНСИРОВАНИЯ ТЕРРОРИЗМА ЦЕЛЕЙ СТАНДАР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ОПРЕДЕЛИТЬ СЛАБЫЕ СТОРОНЫ СИСТЕМ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ИТЬ ВОЗМОЖНОСТЬ СТРАН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РЕДЕЛЯТЬ ПРИОРИТЕТЫ МЕРОПРИЯТИЙ ПО СОВЕРШЕНСТВОВАНИЮ СВОЕЙ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Google Shape;496;p80"/>
          <p:cNvSpPr/>
          <p:nvPr/>
        </p:nvSpPr>
        <p:spPr>
          <a:xfrm>
            <a:off x="4680" y="103320"/>
            <a:ext cx="754668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АКАТТЕСТ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r>
              <a:rPr b="0" lang="en-US" sz="1600" spc="-1" strike="noStrike">
                <a:solidFill>
                  <a:srgbClr val="202020"/>
                </a:solidFill>
                <a:latin typeface="Trebuchet MS"/>
                <a:ea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37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К ПРИКАЗУ МИНИСТРА ФИНАНСОВ РЕСПУБЛИКИ КАЗАХСТАН ОТ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2020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 938«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Б УТВЕРЖДЕНИИ ПРАВИЛ ПРЕДСТАВЛЕНИЯ СУБЪЕКТАМИ ФИНАНСОВОГО МОНИТОРИНГА СВЕДЕНИЙ И ИНФОРМАЦИИ ОБ ОПЕРАЦИЯХ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Х ФИНАНСОВОМУ МОНИТОРИНГУ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И ПРИЗНАКОВ ОПРЕДЕЛЕНИЯ ПОДОЗРИТЕЛЬНОЙ ОПЕРАЦИИ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ДЕЙСТВУЕТ ПРИКАЗ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13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Т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22.02.22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Google Shape;497;p80"/>
          <p:cNvSpPr/>
          <p:nvPr/>
        </p:nvSpPr>
        <p:spPr>
          <a:xfrm>
            <a:off x="19080" y="3879720"/>
            <a:ext cx="7502040" cy="86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54040" indent="-146160" algn="just">
              <a:lnSpc>
                <a:spcPct val="115000"/>
              </a:lnSpc>
              <a:buClr>
                <a:srgbClr val="202020"/>
              </a:buClr>
              <a:buFont typeface="Trebuchet MS"/>
              <a:buAutoNum type="arabicPeriod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ПОСОБ НАПРАВЛЕНИЯ В УПОЛНОМОЧЕННЫЙ ОРГАН ПО ФИНАНСОВОМУ МОНИТОРИНГУ ИНФОРМАЦИИ ОБ ОПЕРАЦИЯХ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УБЪЕКТАМИ ФИНАНСОВОГО МОНИТОРИНГА СУБЪЕКТАМ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ЭЛЕКТРОННЫМ СПОСОБ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СРЕДСТВОМ СЕТЕЙ ТЕЛЕКОММУНИКАЦИЙ РЕСПУБЛИКАН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П НА ПХВ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СКИЙ ЦЕНТР МЕЖБАНКОВСКИХ РАСЧЕТОВ НАЦИОНАЛЬНОГО БАНКА РЕСПУБЛИКИ 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ВЕБ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ТАЛА УПОЛНОМОЧЕННОГО ОРГАН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146160">
              <a:lnSpc>
                <a:spcPct val="116000"/>
              </a:lnSpc>
              <a:buClr>
                <a:srgbClr val="202020"/>
              </a:buClr>
              <a:buFont typeface="Trebuchet MS"/>
              <a:buAutoNum type="arabicPeriod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 НАРУШЕНИЯ СРОКОВ ПРЕДОСТАВЛЕНИЯ ИНФОРМАЦИИ ПО ПРИЧИНЕ ВОЗНИКНОВЕНИЯ ТЕХНИЧЕСКИХ ОШИБОК В ПРОГРАММНОМ ОБЕСПЕЧЕНИИ 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НАЛАХ СВЯЗ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ТВЕРЖДЕННЫХ УПОЛНОМОЧЕННЫМ ОРГАНОМ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ИХ СЛУЧАЯХ ИНФОРМАЦИЯ СЧИТАЕТСЯ НАПРАВЛЕННОЙ В УСТАНОВЛЕННЫЙ СРОК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ТАКАЯ ИНФОРМАЦИЯ БУДЕТ НАПРАВЛЕНА НЕ ПОЗДНЕЕ ОДНОГО РАБОЧЕГО ДНЯ ПОС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РАНЕНИЯ ТЕХНИЧЕСКИХ ОШИБОК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54040" indent="-146160">
              <a:lnSpc>
                <a:spcPct val="116000"/>
              </a:lnSpc>
              <a:buClr>
                <a:srgbClr val="202020"/>
              </a:buClr>
              <a:buFont typeface="Trebuchet MS"/>
              <a:buAutoNum type="arabicPeriod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ТЕЧЕНИЕ КАКОГО ВРЕМЕНИ УПОЛНОМОЧЕННЫЙ ОРГАН ПО ФИНАНСОВОМУ МОНИТОРИНГУ НАПРАВЛЯЕТ СУБЪЕКТУ ФИНАНСОВОГО МОНИТОРИНГА ИЗВЕЩЕНИЕ 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НЯТИИ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ЕПРИНЯТИ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ОРМЫ ФМ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ЕТЫРЕ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АСОВ С МОМЕНТА ПОЛ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1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4.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В ТЕЧЕНИЕ КАКОГО ВРЕМЕНИ СУБЪЕКТ ФИНАНСОВОГО МОНИТОРИНГА ПРИНИМАЕТ МЕРЫ ПО УСТРАНЕНИЮ ПРИЧИН ОТКАЗА В ПРИНЯТИИ ИНФОРМАЦИИ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УКАЗАННЫХ В ИЗВЕЩЕНИИ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НАПРАВЛЯЕТ В УПОЛНОМОЧЕННЫЙ ОРГАН ПО ФИНАНСОВОМУ МОНИТОРИНГУ ИСПРАВЛЕНН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ИНФОРМАЦИЮ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ВАДЦАТИ ЧЕТЫРЕ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АСОВ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 ВЫХОДНЫХ И ПРАЗДНИЧНЫХ ДНЕ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Google Shape;498;p80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Google Shape;503;p81"/>
          <p:cNvSpPr/>
          <p:nvPr/>
        </p:nvSpPr>
        <p:spPr>
          <a:xfrm>
            <a:off x="9360" y="65160"/>
            <a:ext cx="7524360" cy="12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 indent="-69840">
              <a:lnSpc>
                <a:spcPct val="116000"/>
              </a:lnSpc>
              <a:buClr>
                <a:srgbClr val="202020"/>
              </a:buClr>
              <a:buFont typeface="Trebuchet MS"/>
              <a:buAutoNum type="arabicPeriod" startAt="5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ТЕЧЕНИЕ КАКОГО ВРЕМЕНИ СУБЪЕКТ ФИНАНСОВОГО МОНИТОРИНГА НАПРАВЛЯЕТ В УПОЛНОМОЧЕННЫЙ ОРГАН ПО ФИНАНСОВОМУ МОНИТОРИНГУ ИНФОРМАЦИЮ ВЗАМ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РАНЕЕ ПРЕДСТАВЛЕННОЙ И ПРИНЯТОЙ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СЛУЧАЕ НЕОБХОДИМОСТИ ВНЕСЕНИЯ ИЗМЕНЕНИЙ И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ПОЛНЕНИЙ В НЕЕ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ОГ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ЧЕГО ДНЯ С ДАТЫ ОБНАРУЖЕНИЯ ИНФОРМАЦ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МЕ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-69840">
              <a:lnSpc>
                <a:spcPct val="112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ИЕ СРОКИ НАПРАВЛЯЮТСЯ СУБЪЕКТАМИ ФИНАНСОВОГО МОНИТОРИНГА ДОПОЛНИТЕЛЬНО ЗАПРАШИВАЕМАЯ ИНФОРМАЦ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ТРЕХ РАБОЧИХ ДНЕЙ СО ДНЯ ПОЛУЧЕНИЯ ЗАПР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2440" indent="-69840">
              <a:lnSpc>
                <a:spcPct val="117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А КАКОЙ МАКСИМАЛЬНЫЙ СРОК ПРОДЛЕВАЕТСЯ СРОК ПРЕДОСТАВЛЕНИЯ СУБЪЕКТАМИ ФИНАНСОВОГО МОНИТОРИНГА В УПОЛНОМОЧЕННЫЙ ОРГАН ОТВЕТА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ЗАПРОС ДОПОЛНИТЕЛЬНОЙ ИНФОРМАЦИ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ВЕДЕНИЙ И ДОКУМЕНТОВ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БОЛЕЕ ЧЕМ НА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ЧИХ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8.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КОЛИЧЕСТВО РАЗДЕЛОВ ФОРМЫ ФМ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З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9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ЛИЧЕСТВО ОПЕРАЦИЙ И УЧАСТНИК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 КОТОРЫМ ФОРМА Ф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1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ДЕРЖИТ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А ОПЕРАЦИЯ И НЕ БОЛЕЕ ДВУХ УЧА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2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Trebuchet MS"/>
                <a:ea typeface="Trebuchet MS"/>
              </a:rPr>
              <a:t>10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ИД ДОКУМЕНТ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КАЗЫВАЕМЫЙ В ФОРМЕ Ф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1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 ИНИЦИАТИВНОГО ВНЕСЕНИЯ СУБЪЕКТОМ ФИНАНСОВОГО МОНИТОРИНГА ИЗМЕН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 ДОПОЛНЕНИЙ В РАНЕЕ ПРЕДСТАВЛЕННУЮ И ПРИНЯТУЮ УПОЛНОМОЧЕННЫМ ОРГАНОМ ПО ФИНАНСОВОМУ МОНИТОРИНГУ ФОРМУ Ф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ПРОС ЗАМЕНЫ СООБЩ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-69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ЗОВИТЕ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СОСТОЯНИЕ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КАЗЫВАЕМОЕ В ФОРМЕ Ф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1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БЪЕКТ ФИНАНСОВОГО МОНИТОРИНГА НАПРАВЛЯЕТ СООБЩЕНИЕ О ПРИЗН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 В КАЧЕСТВЕ ПОДОЗРИТЕЛЬНОЙ В УПОЛНОМОЧЕННЫЙ ОРГАН ПО ФИНАНСОВОМУ МОНИТОРИНГУ ДО ЕЕ ПРОВЕДЕНИ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73240" indent="-93600">
              <a:lnSpc>
                <a:spcPct val="100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СОВЕРШЕНО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ЛЯ ПРИНЯТИЯ РЕШ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732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2440" indent="-69840">
              <a:lnSpc>
                <a:spcPct val="116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АННЫЕ КАКОГО ЛИЦА УКАЗЫВАЮТСЯ В РЕКВИЗИТЕ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2.7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ВЕТСТВЕННЫЙ РАБОТНИК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ОРМЫ ФМ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73240" indent="-93600">
              <a:lnSpc>
                <a:spcPct val="114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АННЫЕ КОНТАКТНОГО 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ВЕТСТВЕННОГО ЗА СОБЛЮДЕНИЕ ПРАВИЛ ВНУТРЕНН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14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13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ОЙ НОМЕР УКАЗЫВАЕТСЯ В РЕКВИЗИТЕ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3.1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ОМЕР ОПЕРАЦИ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ОРМЫ ФМ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ОМЕР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РЕГИСТРИРОВАННЫЙ ВО ВНУТРЕННЕМ РЕЕСТРЕ СУБЪЕКТА 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Google Shape;508;p82"/>
          <p:cNvSpPr/>
          <p:nvPr/>
        </p:nvSpPr>
        <p:spPr>
          <a:xfrm>
            <a:off x="169920" y="438120"/>
            <a:ext cx="7202160" cy="70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06200">
              <a:lnSpc>
                <a:spcPct val="119000"/>
              </a:lnSpc>
              <a:buClr>
                <a:srgbClr val="202020"/>
              </a:buClr>
              <a:buFont typeface="Calibri"/>
              <a:buAutoNum type="arabicPeriod" startAt="14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АЗОВИТЕ ВИД ДОКУМЕНТ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КАЗЫВАЕМЫЙ В ФОРМЕ Ф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-1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СЛУЧАЕ ПРИНЯТИЯ СУБЪЕКТОМ ФИНАНСОВОГО МОНИТОРИНГА МЕР ПО УСТРАНЕНИЮ УКАЗАННЫХ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ЗВЕЩЕНИИ ПРИЧИН НЕПРИНЯТИЯ СООБЩЕНИЯ УПОЛНОМОЧЕННЫМ ОРГАНОМ ПО ФИНАНСОВОМУ МОНИТОРИНГУ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РРЕКТИРОВКА НЕПРИНЯТОГО СООБЩ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20000"/>
              </a:lnSpc>
              <a:buClr>
                <a:srgbClr val="202020"/>
              </a:buClr>
              <a:buFont typeface="Calibri"/>
              <a:buAutoNum type="arabicPeriod" startAt="15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ЗОВИТЕ СОСТОЯНИЕ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КАЗЫВАЕМОЕ В ФОРМЕ Ф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-1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БЪЕКТОМ ФИНАНСОВОГО МОНИТОРИНГА БЫЛО ПРИНЯТО РЕШЕНИЕ ОБ ОТКАЗЕ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ОВЕДЕНИИ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СОВЕРШЕНО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КАЗ В ПРОВЕД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just">
              <a:lnSpc>
                <a:spcPct val="118000"/>
              </a:lnSpc>
              <a:buClr>
                <a:srgbClr val="202020"/>
              </a:buClr>
              <a:buFont typeface="Calibri"/>
              <a:buAutoNum type="arabicPeriod" startAt="15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КАЖИТЕ ОСНОВАНИЕ ДЛЯ ПОДАЧИ СООБЩЕ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КАЗЫВАЕМОЕ В ФОРМЕ Ф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-1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СЛУЧАЕ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ЕСЛИ ОПЕРАЦИЯ КЛИЕНТА ПРИЗНАНА В КАЧЕСТВЕ ПОДОЗРИТЕЛЬНОЙ В СООТВЕТСТВИИ С ПРИЗНАКАМИ ОПРЕДЕЛЕНИЯ ПОДОЗРИТЕЛЬН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ОЗРИТЕЛЬНАЯ ОПЕР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16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В СЛУЧАЕ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ЕСЛИ УЧАСТНИК ОПЕРАЦИИ ЮРИДИЧЕСКОЕ ЛИЦО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ДАННЫЕ ПО КАКИМ УЧРЕДИТЕЛЯМ УЧАСТНИКА УКАЗЫВАЮТСЯ В РЕКВИЗИТЕ 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4.9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УЧРЕДИТЕЛИ УЧАСТНИКА 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ЮРИДИЧЕСКИХ ЛИЦ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)"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ФОРМЫ ФМ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27080" indent="-9360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AutoNum type="arabicPeriod" startAt="15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 ДОЛЕЙ УЧАСТИЯ НЕ МЕ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ЦЕН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18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КАЖИТЕ УСТАНОВЛЕННУЮ ФОРМУ СВЕДЕНИЙ И ИНФОРМАЦИИ ОБ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1*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ВЫЙ ОТВЕТ ПРАВИЛЬНЫЙ У НИХ Ф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oogle Shape;509;p82"/>
          <p:cNvSpPr/>
          <p:nvPr/>
        </p:nvSpPr>
        <p:spPr>
          <a:xfrm>
            <a:off x="52560" y="6618240"/>
            <a:ext cx="74275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5160" indent="-52560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19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ТА ПРИНЯТИЯ ПРИКАЗА МИНИСТРА ФИНАНСОВ РЕСПУБЛИКИ 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№ 938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“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 УТВЕРЖДЕНИИ ПРАВИЛ ПРЕДСТАВЛЕНИЯ СУБЪЕКТАМИ ФИНАНСОВОГО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5160" indent="-5256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ПРИЗНАКОВ ОПРЕДЕЛЕНИЯ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5160" indent="-5256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.09.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5160" indent="-52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АТА ПРИНЯТИ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3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А О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2.02.22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Google Shape;510;p82"/>
          <p:cNvSpPr/>
          <p:nvPr/>
        </p:nvSpPr>
        <p:spPr>
          <a:xfrm>
            <a:off x="-12600" y="7570800"/>
            <a:ext cx="8208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Google Shape;511;p82"/>
          <p:cNvSpPr/>
          <p:nvPr/>
        </p:nvSpPr>
        <p:spPr>
          <a:xfrm>
            <a:off x="106200" y="8354880"/>
            <a:ext cx="733248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27160" indent="-1965240">
              <a:lnSpc>
                <a:spcPct val="113000"/>
              </a:lnSpc>
              <a:buClr>
                <a:srgbClr val="000000"/>
              </a:buClr>
              <a:buFont typeface="Calibri"/>
              <a:buAutoNum type="arabicPeriod" startAt="20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ОПЕРАЦИИ С УЧАСТИЕМ НЕКОММЕРЧЕСКИХ ОРГАНИЗАЦИЙ НЕ ПОДПАДАЮТ ПОД ПРИЗНАКИ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ПО РАСХОДОВАНИЮ ДЕНЕЖНЫХ СРЕДСТВ НЕКОММЕРЧЕСКИМИ ОРГАНИЗАЦИ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Е ЦЕЛЯ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УСМОТРЕННЫМ ИХ УСТАВНЫМ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ЬНЫ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КУМЕНТ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>
              <a:lnSpc>
                <a:spcPct val="114000"/>
              </a:lnSpc>
              <a:spcBef>
                <a:spcPts val="799"/>
              </a:spcBef>
              <a:buClr>
                <a:srgbClr val="202020"/>
              </a:buClr>
              <a:buFont typeface="Calibri"/>
              <a:buAutoNum type="arabicPeriod" startAt="21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ЗНАКОМ ПОДОЗРИТЕЛЬНОСТИ ОПЕРАЦИИ ЯВЛЯЕТС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СТУПЛЕНИЕ ИЗ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 РУБЕЖА ДЕНЕГ НА СЧЕТА НЕКОММЕРЧЕСКИХ ОРГАНИЗАЦИ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Google Shape;516;p83"/>
          <p:cNvSpPr/>
          <p:nvPr/>
        </p:nvSpPr>
        <p:spPr>
          <a:xfrm>
            <a:off x="-12600" y="399960"/>
            <a:ext cx="7563960" cy="132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98680" indent="-241200">
              <a:lnSpc>
                <a:spcPct val="114000"/>
              </a:lnSpc>
              <a:buClr>
                <a:srgbClr val="202020"/>
              </a:buClr>
              <a:buFont typeface="Calibri"/>
              <a:buAutoNum type="arabicPeriod" startAt="23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ЗНАКОМ ПОДОЗРИТЕЛЬНОСТИ ОПЕРАЦИИ Я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ИСТЕМАТИЧЕСКИЕ ПЕРЕВОДЫ КЛИЕНТОМ СОБСТВЕННЫХ СРЕДСТВ В КРУПНЫХ РАЗМЕРАХ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АНКОВСКИЙ СЧЕ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КРЫТЫЙ В ОФФШОРНОЙ ЗОН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4000"/>
              </a:lnSpc>
              <a:spcBef>
                <a:spcPts val="901"/>
              </a:spcBef>
              <a:buClr>
                <a:srgbClr val="202020"/>
              </a:buClr>
              <a:buFont typeface="Calibri"/>
              <a:buAutoNum type="arabicPeriod" startAt="2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ЗНАКОМ ПОДОЗРИТЕЛЬНОСТИ ОПЕРАЦИИ Я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ВЕДЕНИЕ ОПЕР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ДЕЛК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ЛИЕНТОМ ПОД РУКОВОДСТВОМ ТРЕТЬЕГО ЛИЦА 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СУТСТВУЮЩИХ ПРИ ОПЕР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ДЕЛК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25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ЗНАКОМ ПОДОЗРИТЕЛЬНОСТИ ОПЕРАЦИИ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Е Я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СТУПЛЕНИЕ НА СЧЕТ КЛИЕНТА КРУПНОЙ СУММЫ ДЕНЕ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 ЭТОМ ПОЛУЧАТЕЛЬ ИМЕ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НАЧИТЕЛЬНЫЕ ОБОРОТЫ ПО ОПЕРАЦИЯ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С ДАТЫ ЕГО ГОСУДАРСТВЕННОЙ РЕГИСТРАЦИИ ПРОШЛО БОЛЕЕ ГОД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26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ЗНАКОМ ПОДОЗРИТЕЛЬНОСТИ ОПЕРАЦИИ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Е Я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ВЕРШЕНИЕ ОПЕРАЦИЙ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ДЕЛК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 ИНДИВИДУАЛЬНЫХ ПЕНСИОННЫХ СЧЕТАХ ПО УЧ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ЯЗАТЕЛЬНЫХ ПЕНСИОННЫХ ВЗНОСОВ И ОБЯЗАТЕЛЬНЫХ ПРОФЕССИОНАЛЬНЫХ ПЕНСИОННЫХ ВЗНОСОВ ЛИЦ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КЛЮЧЕННЫМ В ПЕРЕЧЕНЬ ОРГАНИЗАЦИЙ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27.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В КАКОМ СЛУЧАЕ ПЕРЕЧИСЛЕНИЕ ДИВИДЕНДОВ ИЛИ ПРИБЫЛИ ПОДПАДАЕТ ПОД ПРИЗНА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ПОДОЗРИТЕЛЬНОСТИ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42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СЛУЧАЕ СИСТЕМАТИЧЕСКОГО ПЕРЕЧИСЛЕНИЯ СО СЧЕТОВ ЮРИДИЧЕСКИХ ЛИЦ 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ИНДИВИДУАЛЬНЫХ ПРЕДПРИНИМАТЕЛЕЙ В ПОЛЬЗУ ФИЗИЧЕСКИХ ЛИЦ ДЕНЕГ В КРУП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ЗМЕРЕ В КАЧЕСТВЕ ДИВИДЕНДОВ ИЛИ ПРИБЫ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6000"/>
              </a:lnSpc>
              <a:spcBef>
                <a:spcPts val="2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ИЕ ОПЕРАЦИЙ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С КАКИМИ СТРАНАМИ ОТНОСИТСЯ К ПРИЗНАКАМ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 СТРАНАМИ С ВЫСОКИМ РИСКОМ ФИНАНСИРОВАНИЯ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3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ОПЕРАЦИИ С ДЕНЬГАМИ И ИНЫМ ИМУЩЕСТВОМ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Е ОТНОСЯТСЯ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 ПРИЗНАКАМ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Е С КУПЛЕ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ДАЖЕЙ СРЕДСТВ СВЯЗ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ДУКТОВ ДЛИТЕ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ХРАН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ЭТО НЕ ОТНОСИТСЯ К ДЕЯТЕЛЬНОСТИ КЛИЕН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0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ОПЕРАЦИИ С УЧАСТИЕМ НЕКОММЕРЧЕСКИХ ОРГАНИЗАЦИЙ НЕ ПОДПАДАЮТ ПОД ПРИЗНАКИ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ПО РАСХОДОВАНИЮ ДЕНЕЖНЫХ СРЕДСТВ НЕКОММЕРЧЕСКИМИ ОРГАНИЗАЦИ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Е ЦЕЛЯ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УСМОТРЕННЫМ ИХ УСТАВНЫМ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ЬНЫ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КУМЕНТ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Google Shape;521;p84"/>
          <p:cNvSpPr/>
          <p:nvPr/>
        </p:nvSpPr>
        <p:spPr>
          <a:xfrm>
            <a:off x="-7920" y="439560"/>
            <a:ext cx="7551360" cy="126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5360" indent="-243000">
              <a:lnSpc>
                <a:spcPct val="114000"/>
              </a:lnSpc>
              <a:buClr>
                <a:srgbClr val="202020"/>
              </a:buClr>
              <a:buFont typeface="Calibri"/>
              <a:buAutoNum type="arabicPeriod" startAt="30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ПЕРАЦ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ПАДАЮЩАЯ ПОД ПРИЗНАК ПОДОЗР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 УКАЗАНИИ РЕЗИДЕНТОМ ПО ЭКСПОРТН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ПОРТНОМУ КОНТРАКТУ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РОКА РЕПАТРИАЦ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ВЫШАЮЩЕГО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6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НЕЙ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 КОНТРАК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УСМАТРИВАЮЩИХ ОКАЗАНИЕ УСЛУГ 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ВЫПОЛНЕНИЕ СТРОИТЕЛЬН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ТАЖНЫХ РАБОТ НА ТЕРРИТОРИИ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4000"/>
              </a:lnSpc>
              <a:spcBef>
                <a:spcPts val="901"/>
              </a:spcBef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ЗНАКОМ ПОДОЗРИТЕЛЬНОСТИ ОПЕРАЦИИ НЕ ЯВЛЯЕ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ГУЛЯРНЫЕ ПЕРЕВОДЫ ДЕНЕГ С ТЕКУЩЕГО СЧЕТА КЛИЕНТА НА ЕГО СЧЕТ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ЧЕ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ДРУГ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АНК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РУГИХ БАНКА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 ПОСЛЕДУЮЩИМИ ОБРАТНЫМИ ПЕРЕВОДАМИ ДЕНЕГ В ОДИНАКОВЫХ 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ПОХОЖИХ ПО ЗНАЧЕНИЮ СУММА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4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АЗОВИТЕ ОПЕРАЦ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ОДЕРЖАЩУЮ ПРИЗНАКИ ПОДОЗРИТЕЛЬНОСТИ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ЛАТЕЖ В ПОЛЬЗУ НЕРЕЗИДЕНТА РЕСПУБЛИКИ КАЗАХСТАН ПО ДОГОВОРУ НА ИМПОРТ ТОВАР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КОТОРОГО ФАКТИЧЕСКОЕ ПОСТУПЛЕНИЕ ИЛИ ПЕРЕМЕЩЕНИЕ ТОВАРА ПО ТЕРРИТОРИИ РЕСПУБЛИКИ КАЗАХСТАН НЕ ПРОИЗВОДИТС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33.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ПРИЗНАКОМ ПОДОЗРИТЕЛЬНОСТИ ОПЕРАЦИИ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Е Я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35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ЛАТЕЖИ И ПЕРЕВОДЫ ДЕНЕГ ПО ДОГОВОРУ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ГОВОР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 ИМПОРТ ТОВАРОВ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ЛУ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ПОЛЬЗУ НЕРЕЗИДЕН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ЯВЛЯЮЩЕГОСЯ СТОРОНОЙ ПО ДОГОВОРУ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ГОВОР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34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ДЕРЖАЩАЯ ПРИЗНАКИ ПОДОЗР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АСТОЕ ПОСТУПЛЕНИЕ В ПОЛЬЗУ КЛИЕНТА ПЛАТЕЖЕЙ ПО ТРАНСПОРТНЫМ УСЛУГАМ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СПОЛЬЗОВАНИЕМ ЭЛЕКТРОННЫХ ДЕНЕГ ОТ НЕ ИДЕНТИФИЦИРОВАННЫХ ВЛАДЕЛЬЦЕВ ЭЛЕКТРОННЫХ ДЕНЕ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34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ДЕРЖАЩАЯ ПРИЗНАКИ ПОДОЗР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АСТОЕ ПОСТУПЛЕНИЕ В ПОЛЬЗУ КЛИЕНТА ПЛАТЕЖЕЙ ПО ТРАНСПОРТНЫМ УСЛУГАМ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СПОЛЬЗОВАНИЕМ ЭЛЕКТРОННЫХ ДЕНЕГ ОТ НЕ ИДЕНТИФИЦИРОВАННЫХ ВЛАДЕЛЬЦЕВ ЭЛЕКТРОННЫХ ДЕНЕ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35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АЯ ИЗ ОПЕРАЦИ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АЕМЫХ ЛИЦО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ЫМ В ПЕРЕЧЕНЬ ОРГАНИЗАЦИЙ И ЛИЦ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 ОПРЕДЕЛЯЕТСЯ КАК ПОДОЗРИТЕЛЬНАЯ СОГЛАСНО ПРИЗНАКАМ ОПРЕДЕЛЕНИЯ ПОДОЗРИТЕЛЬНЫХ ОПЕРАЦИ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ВЕРШЕНИЕ ОПЕРАЦИЙ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ДЕЛК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 ИНДИВИДУАЛЬНЫХ ПЕНСИОННЫХ СЧЕТАХ ПО УЧ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ЯЗАТЕЛЬНЫХ ПЕНСИОННЫХ ВЗНОСОВ И ОБЯЗАТЕЛЬНЫХ ПРОФЕССИОНАЛЬНЫХ ПЕНСИОННЫХ ВЗНОСОВ ЛИЦ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КЛЮЧЕННЫМ В ПЕРЕЧЕНЬ ОРГАНИЗАЦИЙ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Google Shape;526;p85"/>
          <p:cNvSpPr/>
          <p:nvPr/>
        </p:nvSpPr>
        <p:spPr>
          <a:xfrm>
            <a:off x="44280" y="446040"/>
            <a:ext cx="7470360" cy="31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20920" indent="-3014640">
              <a:lnSpc>
                <a:spcPct val="11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36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ИМ ОРГАНОМ ОПРЕДЕЛЯЮТСЯ ПРИЗНАКИ ОПРЕДЕЛЕНИЯ ПОДОЗРИТЕЛЬНОЙ ОПЕРАЦИИ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0920" indent="-30146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 ПО СОГЛАСОВАНИЮ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0920" indent="-3014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МИ ОРГАН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МИ В ПРЕДЕЛАХ СВОЕЙ КОМПЕТ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0920" indent="-301464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Й КОНТРОЛЬ ЗА СОБЛЮДЕНИЕМ СУБЪЕКТАМИ ФИНАНСОВОГО МОНИТОРИНГА ЗАКОНОДАТЕЛЬСТВА РЕСПУБЛИКИ КАЗАХСТАН 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Google Shape;527;p85"/>
          <p:cNvSpPr/>
          <p:nvPr/>
        </p:nvSpPr>
        <p:spPr>
          <a:xfrm>
            <a:off x="461880" y="2919240"/>
            <a:ext cx="667512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9400" indent="-13644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37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КОЛЬКО ДЕЙСТВУЮЩИХ В НАСТОЯЩЕЕ ВРЕМЯ ПРИЗНАКОВ ОПРЕДЕЛЕНИЯ ПОДОЗРИТЕЛЬНЫХ ОПЕРАЦИЙ СОГЛАСНО ПРИКАЗУ МИНИСТРА ФИНАН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1364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136440" algn="ctr">
              <a:lnSpc>
                <a:spcPct val="118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ЗАХСТАН ОТ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30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ЕНТЯБРЯ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020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ГОДА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№ 938 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 УТВЕРЖДЕНИИ ПРАВИЛ ПРЕДСТАВЛЕНИЯ СУБЪЕКТАМИ ФИНАНСОВОГО МОНИТОРИНГА СВЕДЕНИЙ И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13644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ПРИЗНАКОВ ОПРЕДЕЛЕНИЯ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13644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136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3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Google Shape;528;p85"/>
          <p:cNvSpPr/>
          <p:nvPr/>
        </p:nvSpPr>
        <p:spPr>
          <a:xfrm>
            <a:off x="-12600" y="4853160"/>
            <a:ext cx="8208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05;p14"/>
          <p:cNvSpPr/>
          <p:nvPr/>
        </p:nvSpPr>
        <p:spPr>
          <a:xfrm>
            <a:off x="25560" y="220680"/>
            <a:ext cx="7503840" cy="12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28560" indent="-8892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4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ОТНОСИТСЯ К ТИПИЧНЫМ ХАРАКТЕРИСТИКАМ ЭКСТРЕМИСТОВ И ТЕРРОРИСТ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УЖЧИНЫ В ВОЗРАСТ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6-35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ВЕРЖЕНЦЫ НЕТРАДИЦИОННЫХ РЕЛИГИОЗНЫХ ТЕЧЕНИЙ ДЕСТРУКТИВНЫХ И РАДИКАЛЬНОЙ НАПРАВЛ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ВЕРЖЕНЦЫ НЕТРАДИЦИОННОГО РЕЛИГИОЗНОГО ТЕЧЕНИ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Р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И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АЛАФИЗ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МОЗАНЯТЫЕ 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ЖИВАЮЩИЕ В РЕГИОНАХ СТРАНЫ С БОЛЬШИМ УРОВНЕМ БЕЗРАБОТИ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ЦА РАНЕЕ ПРИВЛЕКАВШИЙСЯ К УГОЛОВНОЙ ОТВЕТСТВЕННОСТИ ЗА СОВЕР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СТУПЛЕНИЙ ПРОТИВ ЛИЧНОСТИ И СОБ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КТИВНО ПОСЕЩАЮЩИЕ ЭКСТРЕМИСТСКИЕ САЙТЫ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ТАВЛЯЮТ КОММЕНТАР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АЮТ КОНСУЛЬТАЦИИ ИДЕОЛОГОВ И НОСИТЕЛЕЙ ЭКСТРЕМ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ЮЩИЕСЯ БЛИЗКИМИ РОДСТВЕННИКАМИ ТЕРРОРИС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НИМА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НИМАВШИ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АСТИЕ В ЗОНАХ БОЕВЫХ КОНФЛИК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ПРИНИМАВШИХ ПОПЫТКИ ВЫЕЗДА В ЗОНЫ КОНФЛИК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СТОЯЩИМИ В ПЕРЕЧНЕ ОРГАНИЗАЦИИ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ЕМ ТЕРРОРИЗМА И ЭКСТРЕМ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БОЛЬШИНСТВ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ИМЕЮЩИЕ ВЫСШ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АЛОГРАМОТНЫЕ В РЕЛИГИОЗНЫХ ТЕЧЕНИЯ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КЛОННЫЕ К РАДИКАЛЬНЫМ ВЗГЛЯД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ИРАЮЩИЕСЯ НА ЗНАНИЯ ТОЛЬКО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БРАННЫХ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ШЕЙХОВ И ПРОПОВЕДНИК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indent="-8892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КАЖИТЕ ПОВЕДЕНИЕ ЭКСТРЕМИСТОВ И ТЕРРОРИСТОВ ВО ВРЕМЯ ФИНАНСОВЫХ ОПЕРАЦИ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И ОТКРЫТИЕ СЧЕТА У СФ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КЛИЕНТ ПЫТАЕТСЯ ДАТЬ КАК МОЖНО МЕНЬШЕ ИНФОРМАЦИИ О СЕ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ЕННАЯ ИНФОРМАЦИЯ ЯВЛЯЕТСЯ ЛОЖНОЙ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ЛИБО ТРУДНО ПРОВЕРЯЕМ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>
              <a:lnSpc>
                <a:spcPct val="119000"/>
              </a:lnSpc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АДРЕС ЮРИДИЧЕСКОГО ЛИЦА ИЛИ 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ТКРЫВШЕЙ СЧЕТ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ОВПАДАЕТ С АДРЕСАМИ ДРУГИХ 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ДЛЯ КОТОРЫХ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ДИН ТОТ ЖЕ ЧЕЛОВЕК ИМЕЕТ ПРАВО ПОДПИС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ВОИМИ ДЕЙСТВИЯМИ ВЫЗЫВАЕТ ПОДОЗРИТЕЛЬНОСТЬ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КРЫ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И ОТСУТСТВИИ СТАБИЛЬНОГО ЗАРАБОТКА ИМЕЕТ ИНОСТРАННЫЕ ВАЛЮТЫ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РЕДКО ИСПОЛЬЗУЕМЫЕ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ТЕРРИТОРИИ  Р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КЛИЕНТ ПРОСИТ ПРОВЕСТИ ОПЕРАЦИЮ БЫСТРО БЕЗ ОБЪЯСНЕНИЯ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ИСТЕМ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МНОГОЧИСЛЕННЫЕ СЕРИИ ЗАПУТАННЫХ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ЕОДНОКРАТНЫЕ ПЕРЕВОДЫ НЕБОЛЬШИ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ЕВОЗМОЖНОСТЬ УСТАНОВИТЬ ИСТОЧНИК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КЛАДЫ ИЛИ СНЯТИЕ СУММ НЕМНОГО НИЖЕ ПОРОГА ИДЕНТ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ОСТОЯННЫЕ ПОЖЕРТВОВАНИЯ НА БЛАГОТВОР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 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РЕДСТВА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ТПРАВЛЕННЫЕ ИЛИ ПОЛУЧЕННЫЕ ИЗ СТРАН С ВЫСОКИМ УРОВНЕМ ТЕРРОРИСТ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АКТИВ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>
              <a:lnSpc>
                <a:spcPct val="150000"/>
              </a:lnSpc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ТПРАВИТЕЛИ ИЛИ ПОЛУЧАТЕЛИ ЯВЛЯЮТСЯ ГРАЖДАНАМИ СТРАН ЛИБО НАХОДЯТСЯ В СТРАНЕ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ГДЕ АКТИВНО ДЕЙСТВУЮТ ТЕРРОРИСТЫ ИЛИ ГРУППЫ ПОДДЕРЖИВАЮЩИЕ ИХ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БМЕН ИНОСТРАННОЙ ВАЛЮТЫ СРАЗУ ПОСЛЕ ПЕРЕВОДА ИХ СТРАН С ВЫСОКИМ УРОВНЕМ РИСКА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Google Shape;533;p86"/>
          <p:cNvSpPr/>
          <p:nvPr/>
        </p:nvSpPr>
        <p:spPr>
          <a:xfrm>
            <a:off x="1266840" y="103320"/>
            <a:ext cx="497340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АКАТТЕСТ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r>
              <a:rPr b="0" lang="en-US" sz="1600" spc="-1" strike="noStrike">
                <a:solidFill>
                  <a:srgbClr val="202020"/>
                </a:solidFill>
                <a:latin typeface="Calibri"/>
                <a:ea typeface="Calibri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</a:tabLst>
            </a:pPr>
            <a:r>
              <a:rPr b="1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3000"/>
              </a:lnSpc>
              <a:spcBef>
                <a:spcPts val="99"/>
              </a:spcBef>
              <a:tabLst>
                <a:tab algn="l" pos="0"/>
              </a:tabLst>
            </a:pPr>
            <a:r>
              <a:rPr b="1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ПО ТИПОЛОГИЯМ, СХЕМАМ И СПОСОБАМ ОДФТ (МОГУТ БЫТЬ, МОГУТ НЕ БЫ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oogle Shape;534;p86"/>
          <p:cNvSpPr/>
          <p:nvPr/>
        </p:nvSpPr>
        <p:spPr>
          <a:xfrm>
            <a:off x="-12600" y="2252520"/>
            <a:ext cx="7554600" cy="76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2240" indent="-809640">
              <a:lnSpc>
                <a:spcPct val="100000"/>
              </a:lnSpc>
              <a:buClr>
                <a:srgbClr val="20202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ТВЕРЖДАЮТСЯ ТИПОЛОГИИ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ХЕМЫ И СПОСОБЫ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ЕСТУПНЫХ ДОХОДОВ И ФИНАНСИРОВАНИЯ ТЕРРОР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А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spcBef>
                <a:spcPts val="799"/>
              </a:spcBef>
              <a:buClr>
                <a:srgbClr val="202020"/>
              </a:buClr>
              <a:buFont typeface="Calibri"/>
              <a:buAutoNum type="arabicPeriod" startAt="2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ИМ ОБРАЗОМ ТИПОЛОГИИ ДОВОДЯТСЯ ДО СУБЪЕКТОВ 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ЕРЕЗ ЛИЧНЫЙ КАБИ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АЙТ А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16000"/>
              </a:lnSpc>
              <a:buClr>
                <a:srgbClr val="20202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АЙТЕ ОПРЕДЕЛЕНИЕ ФИНАНСОВОЙ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НВЕСТИЦИОННОЙ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ИРАМИДЕ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ОГЛАСНО УТВЕРЖДЁННОЙ ТИПОЛОГИЕЙ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ИНАНСОВЫЕ ПИРАМИДЫ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РИ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ОЗРИТЕЛЬНОСТИ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ХЕМЫ ФУНКЦИОНИРОВА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ПРЕДЕЛЕНИ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ИСТЕМА ОБЕСПЕЧЕНИЯ ДОХОДА ОСНОВАТЕЛЮ И ЧЛЕНА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ФУНКЦИ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ЛЯ ПОЛУЧЕНИЯ ДОХОДА ПЕРВОНАЧАЛЬНЫМ ВКЛАДЧИКАМ НЕТ НУЖДЫ ПРИВЛЕКАТЬ НОВИЧК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ВОПРОХОДЦЫ ПОЛУЧАЮТ ДОХОД ЗА СЧЁТ СОБСТВЕН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ТОРА ЭТОЙ СХЕМ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ВЛЕЧЕНИЕ НОВЫХ ВКЛАДЧИКОВ ОСНОВЫВАЕТСЯ НА РАСПРОСТРАНЕНИИ ИНФОРМАЦИИ ОБ УЛЬТРА СОВРЕМЕННОЙ СУПЕРДОХОДНОЙ ИНВЕСТИЦИОННОЙ РАЗРАБОТКЕ ОРГАНИЗАТОР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ТОРАЯ ПОДКРЕПЛЯЕТСЯ СЛОВАМИ ВКЛАДЧИК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ЖЕ ПОЛУЧИВШИХ ПРИБЫЛЬ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ДОЗРИТЕЛЬНОСТЬ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СОКИЙ ДО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4.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 КАКОЙ СТАТЬЕ УГОЛОВНОГО КОДЕКСА РЕСПУБЛИКИ КАЗАХСТАН ПРЕДУСМОТРЕНА ОТВЕТСТВЕННОСТЬ ЗА СОЗДАНИЕ ФИНАНСОВОЙ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НВЕСТИЦИОННОЙ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ИРАМИДЫ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ТАТЬЯ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17.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ОЗДАНИЕ И РУКОВОДСТВО ФИНАНСОВОЙ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НВЕСТИЦИОННОЙ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ИРАМИ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oogle Shape;535;p86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Google Shape;540;p87"/>
          <p:cNvSpPr/>
          <p:nvPr/>
        </p:nvSpPr>
        <p:spPr>
          <a:xfrm>
            <a:off x="-17640" y="555480"/>
            <a:ext cx="7508520" cy="9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9200" indent="36180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5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КОЛЬКО ИНДИКАТОРОВ РИСКОВ ПРЕДУСМОТРЕНО ПО ПОДОЗРИТЕЛЬНОСТИ УТВЕРЖДЁННОЙ ТИПОЛОГИЕЙ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ЫЯВЛЕНИЕ КОМПАНИИ ОСУЩЕСТВЛЯЮЩИХ ВЫПИС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ЧЕТ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-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АКТУР БЕЗ ФАКТИЧЕСКОГО ВЫПОЛНЕНИЯ РАБОТ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КАЗАНИЯ УСЛУГ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ГРУЗКИ ТОВАР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 algn="ctr">
              <a:lnSpc>
                <a:spcPct val="107000"/>
              </a:lnSpc>
              <a:tabLst>
                <a:tab algn="l" pos="0"/>
              </a:tabLst>
            </a:pPr>
            <a:r>
              <a:rPr b="1" i="1" lang="en-US" sz="1300" spc="-1" strike="noStrike">
                <a:solidFill>
                  <a:srgbClr val="ff1515"/>
                </a:solidFill>
                <a:latin typeface="Arial"/>
                <a:ea typeface="Arial"/>
              </a:rPr>
              <a:t>•</a:t>
            </a:r>
            <a:r>
              <a:rPr b="1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15</a:t>
            </a:r>
            <a:r>
              <a:rPr b="1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ДИКАТОРОВ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1.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ЛАТА ПО НАЛОГАМ МИНИМАЛЬНАЯ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11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ШТАТ КОМПАНИИ НЕ СООТВЕТСТВУЕТ ОСУЩЕСТВЛЯЕМОЙ ДЕЯТЕЛЬНОСТ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РАБОТНИКИ ОТСУТСТВУЮТ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НЯТ С УЧЕТА ПО НДС В СВЯЗИ С ОТСУТСТВИЕМ ПО МЕСТУ НАХОЖДЕНИЯ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99"/>
              </a:spcBef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УКОВОДИТЕЛ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И КОМПАНИЙ ПРИВЛЕКАЛИСЬ К УГОЛОВ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ВЕТСТВЕННОСТ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К АДМИНИСТРАТИВНОЙ ОТВЕТСТВЕННОСТИ ЗА АСОЦИАЛЬНОЕ ПОВЕДЕНИЕ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СПИТИЕ СПИРТНЫХ НАПИТКОВ И ДР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ЕЮЩИЕ ПРИЗНАКИ ПОДСТАВНЫХ ЛИЦ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СОКАЯ ДОЛЯ ОБНАЛИЧИВАНИЯ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ЫШЕ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80%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 ВСЕХ БАНКОВСКИХ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А ГРУППА КОМПАНИИ ВЗАИМОРАСЧЕТЫ КОТОРЫХ ВЫЗЫВАЮТ СОМНЕНИЯ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Е КОМПАНИИ ЗАРЕГИСТРИРОВАНЫ НА ОДНИХ И ТЕХ ЖЕ ЮРИДИЧЕСКИХ АДРЕСАХ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 РУКОВО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ЯМИ ЗАРЕГИСТРИРОВАНЫ НЕСКОЛЬКО ФИРМ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9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А ВЗАИМОСВЯЗЬ ПО КОНТРАГЕНТАМ МЕЖДУ ИХ РУКОВО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ТНИКАМ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35000"/>
              </a:lnSpc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И И ТЕ ЖЕ ФИЗИЧЕСКИЕ ЛИЦА СО СЧЕТОВ РАЗЛИЧНЫХ КОМПАНИИ ОБНАЛИЧИВАЮТ ДЕНЕЖНЫЕ СРЕДСТВА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КОРОТКИЙ ПЕРИОД ВРЕМЕНИ ПОСТУПИВШИЕ ДЕНЕЖНЬ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L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 СРЕДСТВА ПЕРЕВОДЯТСЯ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РУГИЕ СЧЕТА ИЛИ ОБНАЛИЧИВАЮТСЯ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35000"/>
              </a:lnSpc>
              <a:spcBef>
                <a:spcPts val="99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ЕЕТСЯ ИНФОРМАЦИЯ ОБ ОТКАЗЕ В УСТАНОВЛЕНИИ ДЕЛОВЫХ ОТНОШЕНИ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П ПРЕКРАЩЕНЫ ДЕЛОВЫЕ ОТНОШЕНИЯ СФМ С КЛИЕНТОМ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ИОД РЕГИСТРАЦИИ ЮРИДИЧЕСКОГО ЛИЦА НЕ ПРЕВЫШАЕТ ОДНОГО ГОДА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ОЛЬ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ОРОТЫ ПО СЧЕТАМ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СУТСТВУЕТ ПРИХОД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ОБРЕТЕНИЕ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ОВАРОВ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35000"/>
              </a:lnSpc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АКЖЕ ПРИ СОВПАДЕНИИ С ПРИЗНАКАМИ ОПРЕДЕЛЕНИЯ ПОДОЗРИТЕЛЬНЫХ ОПЕРАЦИИ ОПРЕДЕЛЕННЫХ ПРИКАЗОМ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№ 9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Google Shape;545;p88"/>
          <p:cNvSpPr/>
          <p:nvPr/>
        </p:nvSpPr>
        <p:spPr>
          <a:xfrm>
            <a:off x="-3240" y="809640"/>
            <a:ext cx="756576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920" indent="9828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6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УТВЕРЖДЁННОЙ ТИПОЛОГИЕЙ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ЫЯВЛЕНИЕ КОМПАНИИ ОСУЩЕСТВЛЯЮЩИХ ВЫПИСКУ СЧЕТ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-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АКТУР БЕЗ ФАКТИЧЕСКОГО ВЫПОЛНЕНИЯ РАБОТ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КАЗАНИЯ УСЛУГ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9828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ГРУЗКИ ТОВАР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»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АНО ОПРЕДЕЛЕНИЕ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СОБО КРУПНЫЙ РАЗМЕР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»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АЗОВИТЕ СУММУ ОСОБО КРУПНОГО РАЗМЕРА ДЛЯ СТАТЬ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245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ГОЛОВНОГО КОДЕКСА РЕСПУБЛИКИ КАЗАХСТАН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982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ММА НЕ ПОСТУПИВШИХ ПЛАТЕЖЕЙ В БЮДЖЕТ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ВЫШАЮЩАЯ СЕМЬДЕСЯТ ПЯТЬ ТЫСЯ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98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ЕСЯЧНЫХ РАСЧЕТНЫХ ПОКАЗ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Google Shape;546;p88"/>
          <p:cNvSpPr/>
          <p:nvPr/>
        </p:nvSpPr>
        <p:spPr>
          <a:xfrm>
            <a:off x="20520" y="3033720"/>
            <a:ext cx="7492680" cy="82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44720" indent="-230364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7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ГДА УТВЕРЖДЕНА ТИПОЛОГИЯ НА ТЕМУ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РРОРИЗМ И ИСТОЧНИКИ ЕГО ФИНАНСИРОВА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30.09.2020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15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КАЖИТЕ ПОВЕДЕНИЕ ЭКСТРЕМИСТОВ И ТЕРРОРИСТОВ ВО ВРЕМЯ ФИНАНСОВЫХ ОПЕРАЦИЙ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РИ ОТКРЫТИИ СЧЕТА У С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КЛИЕНТ ПЫТАЕТСЯ ДАТЬ КАК МОЖНО МЕНЬШЕ ИНФОРМАЦИИ О СЕБ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ЕДОСТАВЛЕННАЯ ИНФОРМАЦИЯ ОКАЗЫВАЕТСЯ ЛОЖНОЙ 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ЛИБО ТРУДНО ПРОВЕРЯЕ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АДРЕС ЮРИДИЧЕСКОГО ЛИЦА ИЛИ ОРГАНИЗАЦИИ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КРЫВШЕЙ СЧЕТ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СОВПАДАЕТ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АДРЕСАМИ ДРУГИХ ОРГАНИЗАЦИЙ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ЛЯ КОТОРЫХ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ДИН И ТОТ ЖЕ ЧЕЛОВЕК ИМЕЕТ ПРАВО ПОДПИСИ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СВОИМИ ДЕЙСТВИЯМИ ВЫЗЫВАЕТ ПОДОЗРИТЕЛЬНОСТЬ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СКРЫ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И ОТСУТСТВИИ СТАБИЛЬНОГО ЗАРАБОТКА ИМЕЕТ ИНОСТРАННЫЕ ВАЛЮТЫ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РЕДКО ИСПОЛЬЗУЕМЫЕ НА ТЕРРИТОРИИ Р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КЛИЕНТ ПРОСИТ ПРОВЕСТИ ОПЕРАЦИЮ ОЧЕНЬ БЫСТРО БЕЗ ОБЪЯСНЕНИЯ ПРИЧ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ИСТЕМ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МНОГОЧИСЛЕННЫЕ СЕРИИ ЗАПУТАННЫХ ОПЕ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ЕОДНОКРАТНЫЕ ПЕРЕВОДЫ НЕБОЛЬШИХ СУ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ЕВОЗМОЖНОСТЬ УСТАНОВИТЬ ИСТОЧНИКИ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ВКЛАДЫ ИЛИ СНЯТИЕ СУММ НЕМНОГО НИЖЕ ПОРОГА ИДЕНТИФ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СТОЯННЫЕ ПОЖЕРТВОВАНИЯ НА БЛАГОТВОР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СРЕДСТВА ОТПРАВЛЕНЫ ИЛИ ПОЛУЧЕНЫ ИЗ СТРАН С ВЫСОКИМ УРОВНЕМ ТЕРРОРИСТИЧЕСКОЙ АКТИВНОСТ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>
              <a:lnSpc>
                <a:spcPct val="135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ПРАВИТЕЛИ ИЛИ ПОЛУЧАТЕЛИ ЯВЛЯЮТСЯ ГРАЖДАНАМИ СТРАН ЛИБО НАХОДЯТСЯ В СТРАНЕ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ГДЕ АКТИВНО ДЕЙСТВУЮТ ТЕРРОРИСТЫ ИЛИ ГРУППЫ ПОДДЕРЖИВАЮЩИЕ ИХ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БМЕН ИНОСТРАННОЙ ВАЛЮТЫ СРАЗУ ПОСЛЕ ПЕРЕВОДА ИЗ СТРАН С ВЫСОКИМ УРОВНЕМ РИСКА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Google Shape;551;p89"/>
          <p:cNvSpPr/>
          <p:nvPr/>
        </p:nvSpPr>
        <p:spPr>
          <a:xfrm>
            <a:off x="-11160" y="561960"/>
            <a:ext cx="7561080" cy="10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2560" indent="-135396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7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ЧТО ОТНОСИТСЯ К КРИТЕРИЯМ ОПРЕДЕЛЕНИЯ ЧЕЛОВЕК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НОСЯЩЕГОСЯ К ДЕСТРУКТИВНЫМ РЕЛИГИОЗНЫМ ТЕЧЕНИЯ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ВЫМ КРИТЕРИЕМ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 ПОМОЩЬЮ КОТОРОГО МОЖНО ЗАПОДОЗРИТЬ ПРИВЕРЖЕННОСТЬ 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К ЭКСТРЕМИСТСКИМ ГРУППИРОВКАМ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ЕТСЯ ЕГО РЕЧ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АПРИМЕР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ЕСЛИ ЧЕЛОВЕК УШЕЛ В РАДИКАЛЬНУЮ ИДЕОЛОГИЮ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ТО В СВОЕЙ РЕЧИ ОН БУДЕТ УПОТРЕБЛЯТЬ ТАКИЕ СПЕЦИФИЧЕСКИЕ СЛОВА КАК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КАФИРСКОЕ ГОСУДАРСТВО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»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ГОСУДАРСТВО ТАГУТА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»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УЖНО УБИРАТЬ КАФИРОВ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»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И Т Д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ТОРЫМ КРИТЕРИЕМ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ЕТСЯ ВНЕШНИЙ ВИД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ДНАКО У ТЕРРОРИСТОВ НЕТ СПЕЦИАЛЬНОЙ УНИФОРМЫ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ТЕМ НЕ МЕНЕЕ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ЕКОТОРЫЕ ВЫВОДЫ О РЕЛИГИОЗНЫХ ВЗГЛЯДАХ ЧЕЛОВЕКА МОЖНО УСТАНОВИТЬ ПО ЕГО ОДЕЖ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АПРИМЕР САЛАФИТОВ ЛЕГКО ОТЛИЧИТЬ ПО БОРОДАМ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АЖЕ ДЛЯ ЧРЕЗМЕРНО ЮНОГО ВОЗРАСТА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КОРОТКИЕ ШТАНЫ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КАК ПРАВИЛО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ЮТСЯ ДОПОЛН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РЕТЬИМ ПРИЗНАКОМ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ЕТСЯ УЧАСТИЕ В ПОДОЗРИТЕЛЬНЫХ СБОРИЩАХ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АПРИМЕР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РАДИКАЛЬНЫЕ ГРУППЫ ИМЕЮТ МЕСТЬЮ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ГДЕ СИСТЕМАТИЧЕСКИ СОБИРАЮТСЯ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ЕСЛИ МЫ ВИДИМ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ЧТО ОПРЕДЕЛЕННОЕ КОЛИЧЕСТВО СОБИРАЕТСЯ В ЖИЛОМ ИЛИ НЕЖИЛОМПОМЕЩЕНИИ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ЫГЛЯДЯТ ПРИ ЭТОМ СУРОВО НАПРЯЖЕННО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И ЭТО СОВЕРШЕННО НЕ ПРОИЗВОДИТ ВПЕЧАТЛЕНИЕ ДЕЛОВОЙ ВСТРЕЧИ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ТОЯ ИЛИ ДРУЖЕСКИХ ПОСИДЕЛОК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ЕТВЕРТЫМ ПРИЗНАКОМ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ЕТСЯ ПРОПАГАНДА РАДИКАЛЬНЫХ ИДЕЙ И УВЛЕЧЕНИЕ РЕЛИГИОЗНОЙ ЛИТЕРАТУРОЙ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АПРИМЕР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О МНОГИХ ТАКСИ ВМЕСТО ПРИВЫЧНОГО ШАНСОНА ЧАСТО ЗВУЧАТ АУДИ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РОПОВЕДИ НА ХОРОШЕМ ЯЗЫКЕ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ЧЕНЬ ВКРАДЧИВЫМ ГОЛОСОМ РАЗЪЯСНЯЮЩИЕ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РОЙ АККУРАТНО ПОДВОДЯЩИЕ У МЫСЛЯМ О СПРАВЕДЛИВОСТИ И НЕСПРАВЕДЛИВОСТИ В МИРЕ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ЕОБХОДИМОСТИ БОРЬБЫ С НЕВЕРНЫМИ И Т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ЯТЫМ ПРИЗНАКОМ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ЕТСЯ ЕСЛИ ЧЕЛОВЕК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АЖЕ ВАШ БЛИЗКИЙ РОДСТВЕННИК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АЧИН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ДРУГ МЕНЯТЬ ВЗГЛЯДЫ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РОПОВЕДОВАТЬ РАДИКАЛЬНО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-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ЭКСТРЕМИСТСКИЕ КОНЦЕПЦИИ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ЫСКАЗЫВАТЬСЯ О НЕОБХОДИМОСТИ БОРЬБЫ С НЕВЕРНЫМИ И Т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5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164e61"/>
                </a:solidFill>
                <a:latin typeface="Tahoma"/>
                <a:ea typeface="Tahoma"/>
              </a:rPr>
              <a:t>ЖЕЛАЕМ</a:t>
            </a:r>
            <a:r>
              <a:rPr b="1" lang="en-US" sz="2400" spc="-1" strike="noStrike">
                <a:solidFill>
                  <a:srgbClr val="164e61"/>
                </a:solidFill>
                <a:latin typeface="Tahoma"/>
                <a:ea typeface="Tahoma"/>
              </a:rPr>
              <a:t>	</a:t>
            </a:r>
            <a:r>
              <a:rPr b="1" lang="en-US" sz="2400" spc="-1" strike="noStrike">
                <a:solidFill>
                  <a:srgbClr val="164e61"/>
                </a:solidFill>
                <a:latin typeface="Tahoma"/>
                <a:ea typeface="Tahoma"/>
              </a:rPr>
              <a:t>ВАМ УСПЕШНОГО ПРОХОЖДЕНИЯ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Google Shape;110;p15"/>
          <p:cNvSpPr/>
          <p:nvPr/>
        </p:nvSpPr>
        <p:spPr>
          <a:xfrm>
            <a:off x="12600" y="390600"/>
            <a:ext cx="7527600" cy="9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0" indent="-142884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6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ОТНОСИТСЯ К КРИТЕРИЯМ ОПРЕДЕЛЕНИЯ ЧЕЛОВЕК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НОСЯЩЕГОСЯ К ДЕСТРУКТИВНЫМ РЕЛИГИОЗНЫМ ТЕЧЕНИЯ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ПЕРВЫМ КРИТЕРИ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 ПОМОЩЬЮ КОТОРОГО МОЖНО ЗАПОДОЗРИТЬ ПРИВЕРЖ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ЦА К ЭКСТРЕМИСТСКИМ ГРУППИРОВКА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ЕГО РЕЧЬ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ИМЕР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ЧЕЛОВЕК УШЕЛ В РАДИКАЛЬНУЮ ИДЕОЛОГ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О В СВОЕЙ РЕЧИ ОН БУДЕТ УПОТРЕБЛЯТЬ ТАКИЕ СПЕЦИФИЧЕСКИЕ СЛОВА КАК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ФИРСКОЕ ГОСУДАРСТВ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О ТУГА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УЖНО УБИРАТЬ КАФИР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ТОРЫМ КРИТЕРИ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ВНЕШНИЙ ВИ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АКО У ТЕРРОРИСТОВ НЕТ СПЕЦИАЛЬНОЙ УНИФОРМ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ЕМ НЕ МЕНЕ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КОТОРЫЕ ВЫВОДЫ О РЕЛИГИОЗНЫХ ВЗГЛЯДАХ ЧЕЛОВЕКА МОЖНО УСТАНОВИТЬ ПО ЕГО ОДЕЖД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ИМЕР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АЛАФИТОВ ЛЕГКО ОТЛИЧИТЬ ПО БОРОД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АЖЕ ДЛЯ ЧРЕЗМЕРНО ЮНОГО ВОЗРАС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РОТКИЕ ШТАН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К ПРАВИЛ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ЮТСЯ ДОПОЛНЕНИ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ТРЕТЬИМ ПРИЗНАКОМ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УЧАСТИЕ В ПОДОЗРИТЕЛЬНЫХ СБОРИЩА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>
              <a:lnSpc>
                <a:spcPct val="11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ИМЕР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ДИКАЛЬНЫЕ ГРУППЫ ИМЕЮТ МЕСТ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ДЕ СИСТЕМАТИЧЕСКИ СОБИРАЮТС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МЫ ВИДИМ ЧТО ОПРЕДЕЛЕННОЕ КОЛИЧЕСТВО СОБИРАЕТСЯ В ЖИ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НЕ ЖИЛОМ ПОМЕЩЕН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ГЛЯДЯТ ПРИ ЭТОМ СУРОВО НАПРЯЖЕННЫ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ЭТО СОВЕРШЕННО НЕ ПРОИЗВОДИТ ВПЕЧАТЛЕНИЯ ДЕЛОВОЙ ВСТРЕЧ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ОЯ ИЛИ ДРУЖЕСКИХ ПОСИДЕЛОК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4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ЧЕТВЕРТЫМ ПРИЗНАК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ПРОПАГАНДА РАДИКАЛЬНЫХ ИДЕЙ И УВЛЕЧЕНИЕ РЕЛИГИОЗНОЙ ЛИТЕРАТУРО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ИМЕР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О МНОГИХ ТАКСИ ВМЕСТО ПРИВЫЧНОГО ШАНСОНА ЗВУЧАТ АУДИ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ПОВЕДИ НА ХОРОШЕМ ЯЗЫК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ЧЕНЬ ВКРАДЧИВЫМ ГОЛОСОМ РАЗЪЯСНЯЮЩИ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ОЙ АККУРАТНО ПОДВОДЯЩИЕ К МЫСЛЯМ О СПРАВЕДЛИВОСТИ И НЕСПРАВЕДЛИВОСТИ В МИР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ОСТИ БОРЬБЫ С НЕВЕРНЫМИ И 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ПЯТЫМ ПРИЗНАКОМ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ЧЕЛОВЕК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АЖЕ ВАШ БЛИЗКИЙ РОДСТВЕННИК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ЧИНАЕТ ВДРУГ МЕНЯТЬ ВЗГЛЯД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ПОВЕДОВАТЬ РАДИКАЛЬН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ЭКСТРЕМИСТ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НЦЕПЦ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СКАЗЫВАТЬСЯ О НЕОБХОДИМОСТИ БОРЬБЫ С НЕВЕРНЫМИ И 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