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8BCEB0-9176-46B0-B84F-C985231B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BCA578-7A42-4EB5-A0C0-5496C22D265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DA2-1852-4A1D-992F-674A790B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F54-0749-4CBD-9968-7A8C607D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152-C192-483F-BC32-27C46B09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1E9-439A-4C58-B771-B4F30EC9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E809-EA74-47B9-97E6-F7307A45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67EB-4747-40A6-AB75-E30259E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AB02-0AC5-47DB-A78C-9577371A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9722-3EFA-4BFF-9909-26B3EEF6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AD66-1C91-4755-B183-B85D8078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50A5-F2FD-44BD-BFB7-96CEB6EC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F0B5-6EE5-4D6D-BD69-748FA265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762-0785-497E-BAA8-1A1E426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E96F-37E4-4B53-BA53-653F4AA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6BFF-5770-4AE1-8F3B-E1DFC27A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FD931-FDB6-43ED-BD36-E2DC92C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AB76-5829-414D-AF42-8450A578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A89F-A7C7-4E3C-868B-917BDF51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D34-97B1-499C-8F49-32C0F716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CBD-2CBE-4D58-880D-358B1DC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F72-CE0B-4F73-B949-FD1D7282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090-CE0C-4268-BE6E-FF199E4C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B35-D8DF-4BBC-A838-4EC5E7B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A45-D2B0-4422-A37A-BD2E7781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E56-7997-4F31-94CF-B45D7AE4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89784B-BBA8-4D21-A242-891E33C374C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233C26-D79D-45C2-B937-A130F1997CC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1108800" y="1508400"/>
            <a:ext cx="101142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bliged t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prohibited to, not to be allow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must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2"/>
          <p:cNvSpPr/>
          <p:nvPr/>
        </p:nvSpPr>
        <p:spPr>
          <a:xfrm>
            <a:off x="1665000" y="1593360"/>
            <a:ext cx="97876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should be stop smo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Таблица 6"/>
          <p:cNvGraphicFramePr/>
          <p:nvPr/>
        </p:nvGraphicFramePr>
        <p:xfrm>
          <a:off x="1665000" y="3265920"/>
          <a:ext cx="8127720" cy="135936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4708080" y="669960"/>
            <a:ext cx="2454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b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253520" y="1593360"/>
            <a:ext cx="92847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слабого приказа или команды, долж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384440" y="2879640"/>
            <a:ext cx="310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To 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1082160" y="3582360"/>
            <a:ext cx="9033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to 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5160600" y="474120"/>
            <a:ext cx="1549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Sh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1074600" y="1155600"/>
            <a:ext cx="9886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угрозы или предостережения, а также просьбы об указ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5280480" y="1871280"/>
            <a:ext cx="1310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i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74600" y="2616480"/>
            <a:ext cx="9555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употребляется для выражения вежливых просьб, разрешений,  готовности/нежелания дей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4911840" y="3325680"/>
            <a:ext cx="2048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Wou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1074600" y="4116960"/>
            <a:ext cx="98866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значально употреблялся как прошедшая форма глагола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will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поэтому и сохранил большинство его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также употребляется для выражения вежливых просьб, разрешений, готовности/нежелания действовать, а также для выражения повторяющихся действий в прош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168520" y="3162960"/>
            <a:ext cx="1534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D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1211760" y="397044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переводится как иметь смелость что-то сделать. В отрицательном значении – как не иметь смелость что-либо сделать. Он имеет две формы – настоящ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ошедшую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4827600" y="706680"/>
            <a:ext cx="219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80680" y="703080"/>
            <a:ext cx="109868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приме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рисова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могу играть на гита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Я должен ид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Мне нужно отдохну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Тебе необходимо повторить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have to, to be to, tbe abl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Не имеют неличных форм глагола (инфинитива, причастия, герунд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571680" y="570600"/>
            <a:ext cx="109609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три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, may, must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could, to be able to, might, to be allowed to, to have to, to be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ногофункциональные глаголы, выполняющие функцию модальных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shall, should, will, would, need, dare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1499400" y="4620600"/>
            <a:ext cx="923508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приме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can swim. I can run f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allowed to, to be (un)likel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2" name="Прямоугольник 6"/>
          <p:cNvSpPr/>
          <p:nvPr/>
        </p:nvSpPr>
        <p:spPr>
          <a:xfrm>
            <a:off x="1757520" y="4554720"/>
            <a:ext cx="748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come 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y I open the wind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  <Words>561</Words>
  <Paragraphs>13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pansh</cp:lastModifiedBy>
  <dcterms:modified xsi:type="dcterms:W3CDTF">2020-05-14T07:27:05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