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DC0CA-CE35-4C41-B8F2-9B353AEF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0658D-8FA9-4817-8D8F-6B45E26505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76C-E7DC-4100-A5D8-8098C8B6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66-77E7-4CFB-A3FC-0E47AEB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894-BC9D-468E-817E-2DDE7844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AC4-EA45-4AF5-92DA-666A5FFD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E03-B8F8-4BFD-8E03-045EEABC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7748-EDC2-4107-9E02-A570D015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1D8-FC48-4178-94D7-9DB8D01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7D9-F360-42AD-8D56-38B3404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CA2-4B2C-421E-8CD2-EBC3FC4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4DB-17DA-4934-A066-CC76469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477-C632-4164-8FB7-7FC4BAB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43A-A960-4A9C-93E8-6F4F6CF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075-172E-48B7-8885-7B64E6E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CBB6-1E5A-40DB-89AE-9522843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069B-A993-4990-B253-BAF1AF8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D13-B90B-4997-B675-865FC899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D03-0895-49F2-A3B8-F82021A4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650-804D-45DA-9C97-DEEA29C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B2E-2101-4CE1-8B2C-CB4FAC4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859-80EE-492D-9E86-C95A505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9AC-0830-4EA7-9477-217F034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B1E-1281-4E89-BCEF-FB435DC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6A5-F7D6-4204-8D47-B446A84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E51-7B4B-4A76-9355-A81F592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E54C7-FD94-4F5E-9F0C-E519691D34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8A887-931B-494F-921A-A36C94E97E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108800" y="1508400"/>
            <a:ext cx="101142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bliged t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prohibited to, not to be allow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ust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665000" y="1593360"/>
            <a:ext cx="97876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be stop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Таблица 6"/>
          <p:cNvGraphicFramePr/>
          <p:nvPr/>
        </p:nvGraphicFramePr>
        <p:xfrm>
          <a:off x="1665000" y="3265920"/>
          <a:ext cx="8127720" cy="135936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4708080" y="669960"/>
            <a:ext cx="245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b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253520" y="1593360"/>
            <a:ext cx="9284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слабого приказа или команды, долж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384440" y="2879640"/>
            <a:ext cx="310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082160" y="3582360"/>
            <a:ext cx="903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160600" y="474120"/>
            <a:ext cx="1549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Sh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074600" y="1155600"/>
            <a:ext cx="9886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угрозы или предостережения, а также просьбы об указ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5280480" y="1871280"/>
            <a:ext cx="1310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74600" y="2616480"/>
            <a:ext cx="9555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вежливых просьб, разрешений,  готовности/нежелания дей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4911840" y="3325680"/>
            <a:ext cx="204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074600" y="4116960"/>
            <a:ext cx="9886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значально употреблялся как прошедшая форма глагола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will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оэтому и сохранил большинство его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также употребляется для выражения вежливых просьб, разрешений, готовности/нежелания действовать, а также для выражения повторяющихся действий в прош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168520" y="3162960"/>
            <a:ext cx="1534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D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211760" y="397044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переводится как иметь смелость что-то сделать. В отрицательном значении – как не иметь смелость что-либо сделать. Он имеет две формы – настоящ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ошедш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827600" y="706680"/>
            <a:ext cx="219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80680" y="703080"/>
            <a:ext cx="109868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прим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рисов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играть на гит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должен ид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не нужно отдохну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ебе необходимо повторить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have to, to be to, tbe abl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Не имеют неличных форм глагола (инфинитива, причастия, герунд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570600"/>
            <a:ext cx="109609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три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, may, must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could, to be able to, might, to be allowed to, to have to, to be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ногофункциональные глаголы, выполняющие функцию модальных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shall, should, will, would, need, dare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1499400" y="4620600"/>
            <a:ext cx="9235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can swim. I can run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llowed to, to be (un)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2" name="Прямоугольник 6"/>
          <p:cNvSpPr/>
          <p:nvPr/>
        </p:nvSpPr>
        <p:spPr>
          <a:xfrm>
            <a:off x="1757520" y="4554720"/>
            <a:ext cx="748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come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open th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  <Words>561</Words>
  <Paragraphs>13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pansh</cp:lastModifiedBy>
  <dcterms:modified xsi:type="dcterms:W3CDTF">2020-05-14T07:27:05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