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3A95BE-9A40-47F7-A23C-0ED6FF6C4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28BF4B-9658-4423-8975-58593FEFD5F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5682-62AE-4402-B96D-95BF1B49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FE30-D193-4F9E-9D6D-972763B5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8CC3-ABBD-4117-BF61-0E8773B9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0132-B915-4CEF-B281-9D0D2E8F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679A-A16D-4075-A86F-F8E271AA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0E58-C2A5-4490-86A7-9AD63F29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8488-E75E-4FD2-BCB5-D71EADC1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7839-2BAE-4BB6-9D2F-5974E133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4407-325A-40D8-AB7B-E5658317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C758-D094-41ED-B11E-C4DD7F76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22B7-F1CC-4EFC-AED4-FFB3104F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EE6-C660-441F-AD47-81C045DB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001E-8F6E-448B-AC58-91EDFADD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63FB-25BD-418B-AB5A-CE0E04F6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D492-EEAA-441C-9D60-125327F8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D190-A8F6-4768-A6FE-A4CAC8FA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92C1-667A-49FD-980D-47472CB4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9A18-2689-4ECD-81D3-0971B320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04C-2D4A-4F63-BBF1-5E3AB579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E97-F30C-4A07-8E4B-0B1F9FC9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16CE-42D2-4F4C-A24A-97BDC28D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E0C-7DEB-4C63-8F1D-647DDA4F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2DEF-E768-4005-BCE5-FBD772A3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F9D-4090-4604-983B-842048CD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053786-78A0-4AC1-9A86-5D27457BB22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0ACCBE-8C75-4E88-A194-5B4EC877AD4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7800" y="4008600"/>
            <a:ext cx="43538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/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1164960" y="752040"/>
            <a:ext cx="97455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soft">
                <a:rot lat="0" lon="0" rev="15600000"/>
              </a:lightRig>
            </a:scene3d>
            <a:sp3d extrusionH="57150" prstMaterial="softEdge">
              <a:bevelT w="25400" h="38100"/>
            </a:sp3d>
          </a:bodyPr>
          <a:p>
            <a:pPr algn="ctr">
              <a:lnSpc>
                <a:spcPct val="100000"/>
              </a:lnSpc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ffff00"/>
                </a:solidFill>
                <a:latin typeface="Arial Black"/>
              </a:rPr>
              <a:t>Modal verb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br>
              <a:rPr sz="6600"/>
            </a:br>
            <a:r>
              <a:rPr b="1" lang="ru-RU" sz="6600" spc="-1" strike="noStrike">
                <a:solidFill>
                  <a:srgbClr val="ffff00"/>
                </a:solidFill>
                <a:latin typeface="Arial Black"/>
              </a:rPr>
              <a:t>(Модальные глаголы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4"/>
          <p:cNvSpPr/>
          <p:nvPr/>
        </p:nvSpPr>
        <p:spPr>
          <a:xfrm>
            <a:off x="5099040" y="669960"/>
            <a:ext cx="16502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Mu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1108800" y="1508400"/>
            <a:ext cx="1011420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ен, на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ражает необходимость, обязанность, настоятельный со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виваленты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obliged t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prohibited to, not to be allow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must 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to 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Таблица 6"/>
          <p:cNvGraphicFramePr/>
          <p:nvPr/>
        </p:nvGraphicFramePr>
        <p:xfrm>
          <a:off x="1757520" y="3362400"/>
          <a:ext cx="8127720" cy="107208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m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ha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will have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4"/>
          <p:cNvSpPr/>
          <p:nvPr/>
        </p:nvSpPr>
        <p:spPr>
          <a:xfrm>
            <a:off x="4590000" y="669960"/>
            <a:ext cx="2691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Ought 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1665000" y="1593360"/>
            <a:ext cx="97876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ен, след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ражает моральный долг, желательность, настоятельный со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виваленты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should be stop smo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Таблица 6"/>
          <p:cNvGraphicFramePr/>
          <p:nvPr/>
        </p:nvGraphicFramePr>
        <p:xfrm>
          <a:off x="1665000" y="3265920"/>
          <a:ext cx="8127720" cy="135936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Ought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Sh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5"/>
          <p:cNvSpPr/>
          <p:nvPr/>
        </p:nvSpPr>
        <p:spPr>
          <a:xfrm>
            <a:off x="4708080" y="669960"/>
            <a:ext cx="2454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To be 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1253520" y="1593360"/>
            <a:ext cx="92847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ен, обяз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потребляется для выражения слабого приказа или команды, должен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4384440" y="2879640"/>
            <a:ext cx="3102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To have 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1082160" y="3582360"/>
            <a:ext cx="9033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нужден, обяз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потребляется для выражения долженствования и необходимости в зависимости от обстоятель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have to 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5160600" y="474120"/>
            <a:ext cx="1549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Sh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1074600" y="1155600"/>
            <a:ext cx="98866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модальный глагол употребляется для выражения угрозы или предостережения, а также просьбы об указ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5280480" y="1871280"/>
            <a:ext cx="1310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Wi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1074600" y="2616480"/>
            <a:ext cx="95551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модальный глагол употребляется для выражения вежливых просьб, разрешений,  готовности/нежелания действ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4911840" y="3325680"/>
            <a:ext cx="2048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Wou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1074600" y="4116960"/>
            <a:ext cx="98866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модальный глагол изначально употреблялся как прошедшая форма глагола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will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поэтому и сохранил большинство его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также употребляется для выражения вежливых просьб, разрешений, готовности/нежелания действовать, а также для выражения повторяющихся действий в прош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5090040" y="474120"/>
            <a:ext cx="1691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Ne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1074600" y="1155600"/>
            <a:ext cx="9886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5168520" y="3162960"/>
            <a:ext cx="1534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Da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1211760" y="1294200"/>
            <a:ext cx="9966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модальный глагол имеет только одну форму – настоящую. В утвердительном предложение он употребляется для выражения необходимости выполнения какого-либо действия, в то время, как в отрицательном предложении – отсутствия необход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1211760" y="3970440"/>
            <a:ext cx="9966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модальный глагол переводится как иметь смелость что-то сделать. В отрицательном значении – как не иметь смелость что-либо сделать. Он имеет две формы – настоящую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dare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рошедшую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d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548640" y="1351440"/>
            <a:ext cx="106408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ut the verb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an, may, mus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____ we see on this map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 you speak Spanish? — No, unfortunately I ____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what time ____ you come to colle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 I come i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____ not smoke 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 take your book? — I am afraid not: I need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have very little time: I ____ 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____ not go to the cinema today because they are bu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____ read this text: it is easy en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4827600" y="706680"/>
            <a:ext cx="2192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soft">
                <a:rot lat="0" lon="0" rev="15600000"/>
              </a:lightRig>
            </a:scene3d>
            <a:sp3d extrusionH="57150" prstMaterial="softEdge">
              <a:bevelT w="25400" h="38100"/>
            </a:sp3d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4"/>
                </a:solidFill>
                <a:latin typeface="Arial"/>
              </a:rPr>
              <a:t>Exerci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580680" y="703080"/>
            <a:ext cx="10986840" cy="52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Модальные глаголы – это глаголы, которые не выражают действия или состояния, а устанавливают  отношение между подлежащим и действием или состоянием, выраженным инфинитивом другого глаго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580680" y="703080"/>
            <a:ext cx="1098684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пример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Я могу рисова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Я могу играть на гитар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Я должен идт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Мне нужно отдохну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Тебе необходимо повторить сло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725760" y="522360"/>
            <a:ext cx="10827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обенности модальных глагол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английском язы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725760" y="2220480"/>
            <a:ext cx="1095804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ой глагол после модального пишется без частицы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"/>
              </a:rPr>
              <a:t>sw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имеют окончан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/-es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третьем лице, единственном числе настоящего времени (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ом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эквивалентов модальных глаголов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have to, to be to, tbe able to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ce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s 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wake up early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595080" y="1877760"/>
            <a:ext cx="1097172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просительная и отрицательная формы  образуются без вспомогательных глаголов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I help you?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'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dance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Не все модальные глаголы имеют формы будущего и прошедшего времён, и при их выражении заменяются на эквивалент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Не имеют неличных форм глагола (инфинитива, причастия, герунд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595080" y="398520"/>
            <a:ext cx="10667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обенности модальных глагол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английском язы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571680" y="570600"/>
            <a:ext cx="1096092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Georgia1"/>
              </a:rPr>
              <a:t>Модальные глаголы можно разделить на три категор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. </a:t>
            </a: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Модальные глаголы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can, may, must, ought to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2. </a:t>
            </a: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Эквиваленты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– could, to be able to, might, to be allowed to, to have to, to be to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3. </a:t>
            </a: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Многофункциональные глаголы, выполняющие функцию модальных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– shall, should, will, would, need, dare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Овал 1"/>
          <p:cNvSpPr/>
          <p:nvPr/>
        </p:nvSpPr>
        <p:spPr>
          <a:xfrm>
            <a:off x="3360600" y="2030040"/>
            <a:ext cx="1165680" cy="673920"/>
          </a:xfrm>
          <a:prstGeom prst="ellipse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2"/>
          <p:cNvSpPr/>
          <p:nvPr/>
        </p:nvSpPr>
        <p:spPr>
          <a:xfrm>
            <a:off x="3360600" y="3588840"/>
            <a:ext cx="1165680" cy="673920"/>
          </a:xfrm>
          <a:prstGeom prst="ellipse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3"/>
          <p:cNvSpPr/>
          <p:nvPr/>
        </p:nvSpPr>
        <p:spPr>
          <a:xfrm>
            <a:off x="1843920" y="5010120"/>
            <a:ext cx="1165680" cy="673920"/>
          </a:xfrm>
          <a:prstGeom prst="ellipse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люс 4"/>
          <p:cNvSpPr/>
          <p:nvPr/>
        </p:nvSpPr>
        <p:spPr>
          <a:xfrm>
            <a:off x="960120" y="1725840"/>
            <a:ext cx="719640" cy="696960"/>
          </a:xfrm>
          <a:prstGeom prst="mathPlus">
            <a:avLst>
              <a:gd name="adj1" fmla="val 2352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Минус 5"/>
          <p:cNvSpPr/>
          <p:nvPr/>
        </p:nvSpPr>
        <p:spPr>
          <a:xfrm>
            <a:off x="1604160" y="3873600"/>
            <a:ext cx="1645560" cy="319680"/>
          </a:xfrm>
          <a:prstGeom prst="mathMinus">
            <a:avLst>
              <a:gd name="adj1" fmla="val 2352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Равно 6"/>
          <p:cNvSpPr/>
          <p:nvPr/>
        </p:nvSpPr>
        <p:spPr>
          <a:xfrm>
            <a:off x="4526640" y="2453760"/>
            <a:ext cx="1988640" cy="182520"/>
          </a:xfrm>
          <a:prstGeom prst="mathEqual">
            <a:avLst>
              <a:gd name="adj1" fmla="val 23520"/>
              <a:gd name="adj2" fmla="val 1176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инус 7"/>
          <p:cNvSpPr/>
          <p:nvPr/>
        </p:nvSpPr>
        <p:spPr>
          <a:xfrm>
            <a:off x="1641960" y="2357280"/>
            <a:ext cx="1645560" cy="319680"/>
          </a:xfrm>
          <a:prstGeom prst="mathMinus">
            <a:avLst>
              <a:gd name="adj1" fmla="val 2352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Минус 8"/>
          <p:cNvSpPr/>
          <p:nvPr/>
        </p:nvSpPr>
        <p:spPr>
          <a:xfrm>
            <a:off x="3238560" y="5356800"/>
            <a:ext cx="1645560" cy="319680"/>
          </a:xfrm>
          <a:prstGeom prst="mathMinus">
            <a:avLst>
              <a:gd name="adj1" fmla="val 2352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Равно 9"/>
          <p:cNvSpPr/>
          <p:nvPr/>
        </p:nvSpPr>
        <p:spPr>
          <a:xfrm>
            <a:off x="5793840" y="4004280"/>
            <a:ext cx="1988640" cy="182520"/>
          </a:xfrm>
          <a:prstGeom prst="mathEqual">
            <a:avLst>
              <a:gd name="adj1" fmla="val 23520"/>
              <a:gd name="adj2" fmla="val 1176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Равно 10"/>
          <p:cNvSpPr/>
          <p:nvPr/>
        </p:nvSpPr>
        <p:spPr>
          <a:xfrm>
            <a:off x="4964040" y="5425560"/>
            <a:ext cx="1988640" cy="182520"/>
          </a:xfrm>
          <a:prstGeom prst="mathEqual">
            <a:avLst>
              <a:gd name="adj1" fmla="val 23520"/>
              <a:gd name="adj2" fmla="val 1176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инус 11"/>
          <p:cNvSpPr/>
          <p:nvPr/>
        </p:nvSpPr>
        <p:spPr>
          <a:xfrm>
            <a:off x="880200" y="3173760"/>
            <a:ext cx="799920" cy="683640"/>
          </a:xfrm>
          <a:prstGeom prst="mathMinus">
            <a:avLst>
              <a:gd name="adj1" fmla="val 2352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Прямоугольник 12"/>
          <p:cNvSpPr/>
          <p:nvPr/>
        </p:nvSpPr>
        <p:spPr>
          <a:xfrm>
            <a:off x="943200" y="4793040"/>
            <a:ext cx="53748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4662720" y="3411720"/>
            <a:ext cx="11350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chemeClr val="accent1"/>
                </a:solidFill>
                <a:latin typeface="Calibri"/>
              </a:rPr>
              <a:t>n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6912000" y="4793040"/>
            <a:ext cx="53748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99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3045960" y="522000"/>
            <a:ext cx="68821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ВИДЫ ПРЕДЛОЖЕ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6"/>
          <p:cNvSpPr/>
          <p:nvPr/>
        </p:nvSpPr>
        <p:spPr>
          <a:xfrm>
            <a:off x="6966720" y="2038320"/>
            <a:ext cx="270324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 can sw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8"/>
          <p:cNvSpPr/>
          <p:nvPr/>
        </p:nvSpPr>
        <p:spPr>
          <a:xfrm>
            <a:off x="7813080" y="3633120"/>
            <a:ext cx="36039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 can not sw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9"/>
          <p:cNvSpPr/>
          <p:nvPr/>
        </p:nvSpPr>
        <p:spPr>
          <a:xfrm>
            <a:off x="7469280" y="5387400"/>
            <a:ext cx="3581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n you swi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3"/>
          <p:cNvSpPr/>
          <p:nvPr/>
        </p:nvSpPr>
        <p:spPr>
          <a:xfrm>
            <a:off x="5206680" y="635760"/>
            <a:ext cx="12524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soft">
                <a:rot lat="0" lon="0" rev="15600000"/>
              </a:lightRig>
            </a:scene3d>
            <a:sp3d extrusionH="57150" prstMaterial="softEdge">
              <a:bevelT w="25400" h="38100"/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4"/>
                </a:solidFill>
                <a:latin typeface="Calibri"/>
              </a:rPr>
              <a:t>C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499400" y="1676520"/>
            <a:ext cx="100954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гу, ум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физическая или умственная способность, возможность совершать 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вивалент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abl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Таблица 6"/>
          <p:cNvGraphicFramePr/>
          <p:nvPr/>
        </p:nvGraphicFramePr>
        <p:xfrm>
          <a:off x="1769040" y="3291480"/>
          <a:ext cx="8127720" cy="91512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will be able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  <p:sp>
        <p:nvSpPr>
          <p:cNvPr id="118" name="Прямоугольник 7"/>
          <p:cNvSpPr/>
          <p:nvPr/>
        </p:nvSpPr>
        <p:spPr>
          <a:xfrm>
            <a:off x="1499400" y="4620600"/>
            <a:ext cx="923508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-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вежливая просьба (не могли бы вы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прим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 can swim. I can run f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5209200" y="669960"/>
            <a:ext cx="143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M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1402200" y="1593360"/>
            <a:ext cx="10141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жно, разреш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азрешение, просьба, возможность или предположение, выражает фактическую, разовую возмож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виваленты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allowed to, to be (un)likel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Таблица 5"/>
          <p:cNvGraphicFramePr/>
          <p:nvPr/>
        </p:nvGraphicFramePr>
        <p:xfrm>
          <a:off x="1438200" y="3401640"/>
          <a:ext cx="8127720" cy="91512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m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m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will be allowe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  <p:sp>
        <p:nvSpPr>
          <p:cNvPr id="122" name="Прямоугольник 6"/>
          <p:cNvSpPr/>
          <p:nvPr/>
        </p:nvSpPr>
        <p:spPr>
          <a:xfrm>
            <a:off x="1757520" y="4554720"/>
            <a:ext cx="748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ght 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казатель вероятности того, что что-то произойдёт, но с ещё большей неуверенностью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y I come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y I open the wind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  <Words>561</Words>
  <Paragraphs>132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17:32:03Z</dcterms:created>
  <dc:creator>Марина</dc:creator>
  <dc:description/>
  <dc:language>en-US</dc:language>
  <cp:lastModifiedBy>pansh</cp:lastModifiedBy>
  <dcterms:modified xsi:type="dcterms:W3CDTF">2020-05-14T07:27:05Z</dcterms:modified>
  <cp:revision>3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Произвольный</vt:lpwstr>
  </property>
  <property fmtid="{D5CDD505-2E9C-101B-9397-08002B2CF9AE}" pid="4" name="Slides">
    <vt:r8>15</vt:r8>
  </property>
</Properties>
</file>