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ru-RU" sz="1400" spc="-1" strike="noStrike">
                <a:solidFill>
                  <a:srgbClr val="01002e"/>
                </a:solidFill>
                <a:latin typeface="Calibri"/>
              </a:defRPr>
            </a:pPr>
            <a:r>
              <a:rPr b="0" lang="ru-RU" sz="1400" spc="-1" strike="noStrike">
                <a:solidFill>
                  <a:srgbClr val="01002e"/>
                </a:solidFill>
                <a:latin typeface="Calibri"/>
              </a:rPr>
              <a:t>В опросе участвовало 17 учеников 8-11 лет</a:t>
            </a:r>
          </a:p>
        </c:rich>
      </c:tx>
      <c:layout>
        <c:manualLayout>
          <c:xMode val="edge"/>
          <c:yMode val="edge"/>
          <c:x val="0.297462817147857"/>
          <c:y val="0.0758033725739739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674540682414698"/>
          <c:y val="0.196706967865097"/>
          <c:w val="0.897331583552056"/>
          <c:h val="0.67833280305440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респондентов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07f09"/>
              </a:solidFill>
              <a:ln w="2556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9f2936"/>
              </a:solidFill>
              <a:ln w="2556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1b587c"/>
              </a:solidFill>
              <a:ln w="2556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900" spc="-1" strike="noStrike">
                      <a:solidFill>
                        <a:srgbClr val="0d0d0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fld id="{EE87FBDA-5721-4CA7-BE4D-75CFC4D2332D}" type="VALUE"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4</a:t>
                    </a:fld>
                    <a:r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 респондента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900" spc="-1" strike="noStrike">
                      <a:solidFill>
                        <a:srgbClr val="0d0d0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fld id="{C195C47F-1ECF-457C-AB7A-789C04F143EB}" type="VALUE"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9</a:t>
                    </a:fld>
                    <a:r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 респондентов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900" spc="-1" strike="noStrike">
                      <a:solidFill>
                        <a:srgbClr val="0d0d0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fld id="{B692F88B-3341-4434-8B36-CD47A11AFBCE}" type="VALUE"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4</a:t>
                    </a:fld>
                    <a:r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 респондента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900" spc="-1" strike="noStrike">
                    <a:solidFill>
                      <a:srgbClr val="0d0d0d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12-14 баллов</c:v>
                </c:pt>
                <c:pt idx="1">
                  <c:v>15-18 баллов</c:v>
                </c:pt>
                <c:pt idx="2">
                  <c:v>19-22 балл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4</c:v>
                </c:pt>
                <c:pt idx="1">
                  <c:v>9</c:v>
                </c:pt>
                <c:pt idx="2">
                  <c:v>4</c:v>
                </c:pt>
              </c:numCache>
            </c:numRef>
          </c:val>
        </c:ser>
      </c:pie3DChart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900" spc="-1" strike="noStrike">
              <a:solidFill>
                <a:srgbClr val="01002e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0C52-BC81-4B99-90E6-2875E683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86D1-88D4-41B6-9099-935181C6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3E36-13B0-40A7-88A4-DE56DEB9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B8EC-9AF1-4FCC-B0F4-E8BB36F6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8D93B-6A57-43E7-BE82-309315AC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83153-A907-4C13-B011-7D65F6C4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643E-9882-4F86-8EBA-AD5C916CE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2C8E-92D7-4669-9D9C-D34D7A9D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378A-9013-4FBB-B344-15080797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E594-F502-42D1-A662-AE52FAD4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CC30F-7303-44EE-AF63-33092BC2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A70E-AD7C-455C-A4B4-8C2E8E79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21F32-058E-4A34-9137-4491BB37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23D08-4B0E-46D5-A3EA-0D6D050B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9030F-E6EE-481F-8E7C-08892DC0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061D-21A0-4610-BA4F-FC1FC224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3EC94-2886-47C6-ACFE-A5D68B98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34B-3E5E-43F1-90D3-3DA9E2A90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D820-B150-4B33-B70E-685FAD63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7E52-8F31-4AE3-8428-B3A4A261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55CE-2F52-4B0E-AFDA-2E8ED242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9EA-6448-4812-A107-75C74F72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1966-90E8-4C18-ADD7-940BFCBC5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A15-0623-4295-AB8E-313BA0B7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640" y="4653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D36BD5-7751-49B2-9BC3-48F52910A4B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E2A1BA-C43F-48A7-808C-EA9DCC5852B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6.wmf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013000"/>
            <a:ext cx="9013680" cy="142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" sz="2000" spc="-1" strike="noStrike">
                <a:solidFill>
                  <a:srgbClr val="0d0d0d"/>
                </a:solidFill>
                <a:latin typeface="Calibri"/>
              </a:rPr>
              <a:t>Проектная работа Гавриловой Елизаветы на тему:</a:t>
            </a:r>
            <a:br>
              <a:rPr sz="2000"/>
            </a:br>
            <a:r>
              <a:rPr b="1" lang="ru" sz="3200" spc="77" strike="noStrike">
                <a:solidFill>
                  <a:srgbClr val="002200"/>
                </a:solidFill>
                <a:latin typeface="Calibri"/>
              </a:rPr>
              <a:t>«Правильное питание –</a:t>
            </a:r>
            <a:br>
              <a:rPr sz="3200"/>
            </a:br>
            <a:r>
              <a:rPr b="1" lang="ru" sz="3200" spc="77" strike="noStrike">
                <a:solidFill>
                  <a:srgbClr val="002200"/>
                </a:solidFill>
                <a:latin typeface="Calibri"/>
              </a:rPr>
              <a:t> залог крепкого здоровья»</a:t>
            </a:r>
            <a:br>
              <a:rPr sz="28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12000" y="1845000"/>
            <a:ext cx="6400440" cy="11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Советы великих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7640" y="1845000"/>
            <a:ext cx="61203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50000"/>
              </a:lnSpc>
              <a:spcBef>
                <a:spcPts val="641"/>
              </a:spcBef>
              <a:spcAft>
                <a:spcPts val="799"/>
              </a:spcAft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Мы живем не для того, чтобы есть, а едим для того, чтобы жить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50000"/>
              </a:lnSpc>
              <a:spcBef>
                <a:spcPts val="641"/>
              </a:spcBef>
              <a:spcAft>
                <a:spcPts val="799"/>
              </a:spcAft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кра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rcRect l="6413" t="17316" r="58950" b="28433"/>
          <a:stretch/>
        </p:blipFill>
        <p:spPr>
          <a:xfrm>
            <a:off x="1691640" y="3213000"/>
            <a:ext cx="2302200" cy="27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200"/>
                </a:solidFill>
                <a:latin typeface="Calibri"/>
              </a:rPr>
              <a:t>Вопрос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5200" y="2136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2c0902"/>
                </a:solidFill>
                <a:latin typeface="Calibri"/>
              </a:rPr>
              <a:t>Что такое правильное питание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971640" y="3141000"/>
            <a:ext cx="7416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авильное пит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это не контроль калорий и бесконечные диеты, это полноценный рацион, в котором должны присутствовать все необходимые продукты: мясо, злаки, молочные продукты, фрукты, овощи, оре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Гипоте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2c0902"/>
                </a:solidFill>
                <a:latin typeface="Calibri"/>
                <a:ea typeface="Calibri"/>
              </a:rPr>
              <a:t>Я предполагаю, что, если правильно питаться, то мы будем меньше болеть, будем более сильными, бодрыми с хорошим позитивным настроением и даже лучше успевать в учеб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анкетирования школьник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Объект 3"/>
          <p:cNvGraphicFramePr/>
          <p:nvPr/>
        </p:nvGraphicFramePr>
        <p:xfrm>
          <a:off x="457200" y="1782720"/>
          <a:ext cx="8229240" cy="4525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400" y="-54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spcAft>
                <a:spcPts val="1800"/>
              </a:spcAft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2200"/>
                </a:solidFill>
                <a:uFillTx/>
                <a:latin typeface="Calibri"/>
                <a:ea typeface="Times New Roman"/>
              </a:rPr>
              <a:t>Мои рекомендации по правильному рациону питания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23"/>
          <p:cNvSpPr/>
          <p:nvPr/>
        </p:nvSpPr>
        <p:spPr>
          <a:xfrm>
            <a:off x="0" y="2622600"/>
            <a:ext cx="8435520" cy="4311360"/>
          </a:xfrm>
          <a:custGeom>
            <a:avLst/>
            <a:gdLst>
              <a:gd name="textAreaLeft" fmla="*/ 0 w 8435520"/>
              <a:gd name="textAreaRight" fmla="*/ 8435880 w 8435520"/>
              <a:gd name="textAreaTop" fmla="*/ 0 h 4311360"/>
              <a:gd name="textAreaBottom" fmla="*/ 4311720 h 4311360"/>
            </a:gdLst>
            <a:ahLst/>
            <a:rect l="textAreaLeft" t="textAreaTop" r="textAreaRight" b="textAreaBottom"/>
            <a:pathLst>
              <a:path w="5218" h="2716">
                <a:moveTo>
                  <a:pt x="0" y="2387"/>
                </a:moveTo>
                <a:cubicBezTo>
                  <a:pt x="0" y="2527"/>
                  <a:pt x="0" y="2668"/>
                  <a:pt x="0" y="2668"/>
                </a:cubicBezTo>
                <a:cubicBezTo>
                  <a:pt x="2256" y="2716"/>
                  <a:pt x="4539" y="1996"/>
                  <a:pt x="5218" y="220"/>
                </a:cubicBezTo>
                <a:lnTo>
                  <a:pt x="4011" y="0"/>
                </a:lnTo>
                <a:cubicBezTo>
                  <a:pt x="3333" y="2003"/>
                  <a:pt x="638" y="2311"/>
                  <a:pt x="0" y="2387"/>
                </a:cubicBezTo>
                <a:close/>
              </a:path>
            </a:pathLst>
          </a:custGeom>
          <a:solidFill>
            <a:schemeClr val="tx1">
              <a:alpha val="2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124"/>
          <p:cNvGrpSpPr/>
          <p:nvPr/>
        </p:nvGrpSpPr>
        <p:grpSpPr>
          <a:xfrm>
            <a:off x="1746360" y="5823000"/>
            <a:ext cx="764640" cy="799560"/>
            <a:chOff x="1746360" y="5823000"/>
            <a:chExt cx="764640" cy="799560"/>
          </a:xfrm>
        </p:grpSpPr>
        <p:grpSp>
          <p:nvGrpSpPr>
            <p:cNvPr id="97" name="Group 125"/>
            <p:cNvGrpSpPr/>
            <p:nvPr/>
          </p:nvGrpSpPr>
          <p:grpSpPr>
            <a:xfrm>
              <a:off x="1746360" y="5823000"/>
              <a:ext cx="764640" cy="799560"/>
              <a:chOff x="1746360" y="5823000"/>
              <a:chExt cx="764640" cy="799560"/>
            </a:xfrm>
          </p:grpSpPr>
          <p:pic>
            <p:nvPicPr>
              <p:cNvPr id="98" name="Picture 12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819080" y="6450120"/>
                <a:ext cx="62964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2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Oval 128"/>
              <p:cNvSpPr/>
              <p:nvPr/>
            </p:nvSpPr>
            <p:spPr>
              <a:xfrm>
                <a:off x="1746360" y="5823000"/>
                <a:ext cx="759600" cy="739440"/>
              </a:xfrm>
              <a:prstGeom prst="ellipse">
                <a:avLst/>
              </a:prstGeom>
              <a:gradFill rotWithShape="0">
                <a:gsLst>
                  <a:gs pos="0">
                    <a:srgbClr val="b26b02">
                      <a:alpha val="55294"/>
                    </a:srgbClr>
                  </a:gs>
                  <a:gs pos="50000">
                    <a:srgbClr val="523100">
                      <a:alpha val="90196"/>
                    </a:srgbClr>
                  </a:gs>
                  <a:gs pos="100000">
                    <a:srgbClr val="b26b02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1" name="Picture 129" descr="Picture2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480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130"/>
          <p:cNvGrpSpPr/>
          <p:nvPr/>
        </p:nvGrpSpPr>
        <p:grpSpPr>
          <a:xfrm>
            <a:off x="3263760" y="5213520"/>
            <a:ext cx="1079280" cy="1079280"/>
            <a:chOff x="3263760" y="5213520"/>
            <a:chExt cx="1079280" cy="1079280"/>
          </a:xfrm>
        </p:grpSpPr>
        <p:grpSp>
          <p:nvGrpSpPr>
            <p:cNvPr id="103" name="Group 131"/>
            <p:cNvGrpSpPr/>
            <p:nvPr/>
          </p:nvGrpSpPr>
          <p:grpSpPr>
            <a:xfrm>
              <a:off x="3263760" y="5213520"/>
              <a:ext cx="1079280" cy="1079280"/>
              <a:chOff x="3263760" y="5213520"/>
              <a:chExt cx="1079280" cy="1079280"/>
            </a:xfrm>
          </p:grpSpPr>
          <p:pic>
            <p:nvPicPr>
              <p:cNvPr id="104" name="Picture 13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3366360" y="6059880"/>
                <a:ext cx="88848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13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263760" y="5213520"/>
                <a:ext cx="1079280" cy="99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Oval 134"/>
              <p:cNvSpPr/>
              <p:nvPr/>
            </p:nvSpPr>
            <p:spPr>
              <a:xfrm>
                <a:off x="3263760" y="5213520"/>
                <a:ext cx="1071720" cy="997920"/>
              </a:xfrm>
              <a:prstGeom prst="ellipse">
                <a:avLst/>
              </a:prstGeom>
              <a:gradFill rotWithShape="0">
                <a:gsLst>
                  <a:gs pos="0">
                    <a:srgbClr val="9f2936">
                      <a:alpha val="55294"/>
                    </a:srgbClr>
                  </a:gs>
                  <a:gs pos="50000">
                    <a:srgbClr val="491218">
                      <a:alpha val="90196"/>
                    </a:srgbClr>
                  </a:gs>
                  <a:gs pos="100000">
                    <a:srgbClr val="9f2936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7" name="Picture 135" descr="Picture2"/>
            <p:cNvPicPr/>
            <p:nvPr/>
          </p:nvPicPr>
          <p:blipFill>
            <a:blip r:embed="rId6"/>
            <a:stretch/>
          </p:blipFill>
          <p:spPr>
            <a:xfrm>
              <a:off x="3371040" y="5223600"/>
              <a:ext cx="853200" cy="35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36"/>
          <p:cNvGrpSpPr/>
          <p:nvPr/>
        </p:nvGrpSpPr>
        <p:grpSpPr>
          <a:xfrm>
            <a:off x="4876920" y="3994200"/>
            <a:ext cx="1561680" cy="1599840"/>
            <a:chOff x="4876920" y="3994200"/>
            <a:chExt cx="1561680" cy="1599840"/>
          </a:xfrm>
        </p:grpSpPr>
        <p:grpSp>
          <p:nvGrpSpPr>
            <p:cNvPr id="109" name="Group 137"/>
            <p:cNvGrpSpPr/>
            <p:nvPr/>
          </p:nvGrpSpPr>
          <p:grpSpPr>
            <a:xfrm>
              <a:off x="4876920" y="3994200"/>
              <a:ext cx="1561680" cy="1599840"/>
              <a:chOff x="4876920" y="3994200"/>
              <a:chExt cx="1561680" cy="1599840"/>
            </a:xfrm>
          </p:grpSpPr>
          <p:pic>
            <p:nvPicPr>
              <p:cNvPr id="110" name="Picture 138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5025240" y="5248800"/>
                <a:ext cx="1285920" cy="34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39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3994200"/>
                <a:ext cx="1561680" cy="14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Oval 140"/>
              <p:cNvSpPr/>
              <p:nvPr/>
            </p:nvSpPr>
            <p:spPr>
              <a:xfrm>
                <a:off x="4876920" y="3994200"/>
                <a:ext cx="1551240" cy="1479240"/>
              </a:xfrm>
              <a:prstGeom prst="ellipse">
                <a:avLst/>
              </a:prstGeom>
              <a:gradFill rotWithShape="0">
                <a:gsLst>
                  <a:gs pos="0">
                    <a:srgbClr val="f07f09">
                      <a:alpha val="55294"/>
                    </a:srgbClr>
                  </a:gs>
                  <a:gs pos="50000">
                    <a:srgbClr val="6f3a04">
                      <a:alpha val="90196"/>
                    </a:srgbClr>
                  </a:gs>
                  <a:gs pos="100000">
                    <a:srgbClr val="f07f09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3" name="Picture 141" descr="Picture2"/>
            <p:cNvPicPr/>
            <p:nvPr/>
          </p:nvPicPr>
          <p:blipFill>
            <a:blip r:embed="rId9"/>
            <a:stretch/>
          </p:blipFill>
          <p:spPr>
            <a:xfrm>
              <a:off x="5031720" y="4009680"/>
              <a:ext cx="1234800" cy="52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142"/>
          <p:cNvGrpSpPr/>
          <p:nvPr/>
        </p:nvGrpSpPr>
        <p:grpSpPr>
          <a:xfrm>
            <a:off x="6324480" y="1631880"/>
            <a:ext cx="2279160" cy="2361960"/>
            <a:chOff x="6324480" y="1631880"/>
            <a:chExt cx="2279160" cy="2361960"/>
          </a:xfrm>
        </p:grpSpPr>
        <p:grpSp>
          <p:nvGrpSpPr>
            <p:cNvPr id="115" name="Group 143"/>
            <p:cNvGrpSpPr/>
            <p:nvPr/>
          </p:nvGrpSpPr>
          <p:grpSpPr>
            <a:xfrm>
              <a:off x="6324480" y="1631880"/>
              <a:ext cx="2279160" cy="2361960"/>
              <a:chOff x="6324480" y="1631880"/>
              <a:chExt cx="2279160" cy="2361960"/>
            </a:xfrm>
          </p:grpSpPr>
          <p:pic>
            <p:nvPicPr>
              <p:cNvPr id="116" name="Picture 144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6541200" y="3484080"/>
                <a:ext cx="1876680" cy="509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17" name="Picture 145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324480" y="1631880"/>
                <a:ext cx="2279160" cy="217764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18" name="Oval 146"/>
              <p:cNvSpPr/>
              <p:nvPr/>
            </p:nvSpPr>
            <p:spPr>
              <a:xfrm>
                <a:off x="6324480" y="1631880"/>
                <a:ext cx="2264040" cy="2183760"/>
              </a:xfrm>
              <a:prstGeom prst="ellipse">
                <a:avLst/>
              </a:prstGeom>
              <a:gradFill rotWithShape="0">
                <a:gsLst>
                  <a:gs pos="0">
                    <a:srgbClr val="6b9f25">
                      <a:alpha val="55294"/>
                    </a:srgbClr>
                  </a:gs>
                  <a:gs pos="50000">
                    <a:srgbClr val="314911">
                      <a:alpha val="90196"/>
                    </a:srgbClr>
                  </a:gs>
                  <a:gs pos="100000">
                    <a:srgbClr val="6b9f25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9" name="Picture 147" descr="Picture2"/>
            <p:cNvPicPr/>
            <p:nvPr/>
          </p:nvPicPr>
          <p:blipFill>
            <a:blip r:embed="rId12"/>
            <a:stretch/>
          </p:blipFill>
          <p:spPr>
            <a:xfrm>
              <a:off x="6550560" y="1654920"/>
              <a:ext cx="1802160" cy="7704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20" name="AutoShape 148"/>
          <p:cNvSpPr/>
          <p:nvPr/>
        </p:nvSpPr>
        <p:spPr>
          <a:xfrm rot="4618800">
            <a:off x="2774880" y="5987880"/>
            <a:ext cx="231480" cy="202680"/>
          </a:xfrm>
          <a:prstGeom prst="triangle">
            <a:avLst>
              <a:gd name="adj" fmla="val 50000"/>
            </a:avLst>
          </a:prstGeom>
          <a:solidFill>
            <a:schemeClr val="tx2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chemeClr val="tx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149"/>
          <p:cNvSpPr/>
          <p:nvPr/>
        </p:nvSpPr>
        <p:spPr>
          <a:xfrm rot="3499800">
            <a:off x="4430880" y="5306760"/>
            <a:ext cx="301320" cy="263160"/>
          </a:xfrm>
          <a:prstGeom prst="triangle">
            <a:avLst>
              <a:gd name="adj" fmla="val 50000"/>
            </a:avLst>
          </a:prstGeom>
          <a:solidFill>
            <a:schemeClr val="tx2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chemeClr val="tx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150"/>
          <p:cNvSpPr/>
          <p:nvPr/>
        </p:nvSpPr>
        <p:spPr>
          <a:xfrm rot="2284800">
            <a:off x="6351840" y="3795480"/>
            <a:ext cx="399600" cy="348840"/>
          </a:xfrm>
          <a:prstGeom prst="triangle">
            <a:avLst>
              <a:gd name="adj" fmla="val 50000"/>
            </a:avLst>
          </a:prstGeom>
          <a:solidFill>
            <a:schemeClr val="tx2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chemeClr val="tx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531440" y="6040440"/>
            <a:ext cx="118260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</a:pPr>
            <a:r>
              <a:rPr b="1" lang="ru-RU" sz="1000" spc="-1" strike="noStrike">
                <a:solidFill>
                  <a:srgbClr val="feffff"/>
                </a:solidFill>
                <a:latin typeface="Calibri"/>
              </a:rPr>
              <a:t>Субпроду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276000" y="5518080"/>
            <a:ext cx="1007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effff"/>
                </a:solidFill>
                <a:latin typeface="Calibri"/>
              </a:rPr>
              <a:t>Яй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5109120" y="4483080"/>
            <a:ext cx="1118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effff"/>
                </a:solidFill>
                <a:latin typeface="Calibri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6858000" y="2405160"/>
            <a:ext cx="1170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effff"/>
                </a:solidFill>
                <a:latin typeface="Calibri"/>
              </a:rPr>
              <a:t>Мя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42880" y="2325960"/>
            <a:ext cx="487656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ланс важен во все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ланс важен и в нашем питании. Сбалансированный рацион – это прежде всег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нообраз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цион. Стиль жизни вегетарианцев имеет место быть, однако по-настоящему здоровое меню должно содержать мясо и рыбу, суб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50000"/>
              </a:lnSpc>
              <a:spcBef>
                <a:spcPts val="2999"/>
              </a:spcBef>
              <a:spcAft>
                <a:spcPts val="1500"/>
              </a:spcAft>
              <a:buNone/>
            </a:pPr>
            <a:r>
              <a:rPr b="1" lang="ru-RU" sz="2800" spc="-1" strike="noStrike" u="sng">
                <a:solidFill>
                  <a:srgbClr val="002200"/>
                </a:solidFill>
                <a:uFillTx/>
                <a:latin typeface="Calibri"/>
                <a:ea typeface="Times New Roman"/>
              </a:rPr>
              <a:t>Что необходимо употреблять регулярно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040" y="1917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хлеб цельнозерновой в объеме 2-3 подсушенных ломтиков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фрукты и ягоды неограниченно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вощи и огородная зелень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рупы (коричневый рис, овсянка, гречка, пшенка)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артофель, батат, макароны (из твердых сортов пшеницы)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олочные, а лучше кисломолочные продукты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ясо птицы, красное мясо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орская рыба и морепродукты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упы (овощные, молочные, перетертые и мясные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уриные яйца – 3-4 в неделю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убпродукты (куриная печень, сердечки, желудочки)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99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атуральные десерты и домашняя выпечк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4572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356000" y="2169000"/>
            <a:ext cx="4593960" cy="40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49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72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9640" y="3378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тайтесь правильно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здоровы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HyperlinkBase>http://presentation-creation.ru/powerpoint-presentation.html</HyperlinkBase>
  <AppVersion>15.0000</AppVersion>
  <Words>279</Words>
  <Paragraphs>36</Paragraphs>
  <Company>http://presentation-creation.ru/powerpoint-presentation.htm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18:01:27Z</dcterms:created>
  <dc:creator>obstinate</dc:creator>
  <dc:description/>
  <dc:language>en-US</dc:language>
  <cp:lastModifiedBy>Анастасия Васильева</cp:lastModifiedBy>
  <dcterms:modified xsi:type="dcterms:W3CDTF">2023-05-16T11:08:15Z</dcterms:modified>
  <cp:revision>8</cp:revision>
  <dc:subject/>
  <dc:title>Шаблон презентации Спелые витами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