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0" lang="ru-RU" sz="1400" spc="-1" strike="noStrike">
                <a:solidFill>
                  <a:srgbClr val="01002e"/>
                </a:solidFill>
                <a:latin typeface="Calibri"/>
              </a:defRPr>
            </a:pPr>
            <a:r>
              <a:rPr b="0" lang="ru-RU" sz="1400" spc="-1" strike="noStrike">
                <a:solidFill>
                  <a:srgbClr val="01002e"/>
                </a:solidFill>
                <a:latin typeface="Calibri"/>
              </a:rPr>
              <a:t>В опросе участвовало 17 учеников 8-11 лет</a:t>
            </a:r>
          </a:p>
        </c:rich>
      </c:tx>
      <c:layout>
        <c:manualLayout>
          <c:xMode val="edge"/>
          <c:yMode val="edge"/>
          <c:x val="0.297462817147857"/>
          <c:y val="0.0758033725739739"/>
        </c:manualLayout>
      </c:layout>
      <c:overlay val="0"/>
      <c:spPr>
        <a:noFill/>
        <a:ln w="0">
          <a:noFill/>
        </a:ln>
      </c:spPr>
    </c:title>
    <c:autoTitleDeleted val="0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74540682414698"/>
          <c:y val="0.196706967865097"/>
          <c:w val="0.897331583552056"/>
          <c:h val="0.678332803054407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Кол-во респондентов</c:v>
                </c:pt>
              </c:strCache>
            </c:strRef>
          </c:tx>
          <c:spPr>
            <a:solidFill>
              <a:srgbClr val="f07f09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f07f09"/>
              </a:solidFill>
              <a:ln w="25560">
                <a:solidFill>
                  <a:srgbClr val="ffffff"/>
                </a:solidFill>
                <a:round/>
              </a:ln>
            </c:spPr>
          </c:dPt>
          <c:dPt>
            <c:idx val="1"/>
            <c:spPr>
              <a:solidFill>
                <a:srgbClr val="9f2936"/>
              </a:solidFill>
              <a:ln w="25560">
                <a:solidFill>
                  <a:srgbClr val="ffffff"/>
                </a:solidFill>
                <a:round/>
              </a:ln>
            </c:spPr>
          </c:dPt>
          <c:dPt>
            <c:idx val="2"/>
            <c:spPr>
              <a:solidFill>
                <a:srgbClr val="1b587c"/>
              </a:solidFill>
              <a:ln w="25560">
                <a:solidFill>
                  <a:srgbClr val="ffffff"/>
                </a:solidFill>
                <a:round/>
              </a:ln>
            </c:spPr>
          </c:dPt>
          <c:dLbls>
            <c:numFmt formatCode="General" sourceLinked="0"/>
            <c:dLbl>
              <c:idx val="0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EE87FBDA-5721-4CA7-BE4D-75CFC4D2332D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4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а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C195C47F-1ECF-457C-AB7A-789C04F143EB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9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ов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General" sourceLinked="0"/>
              <c:txPr>
                <a:bodyPr wrap="square"/>
                <a:lstStyle/>
                <a:p>
                  <a:pPr>
                    <a:defRPr b="0" sz="900" spc="-1" strike="noStrike">
                      <a:solidFill>
                        <a:srgbClr val="0d0d0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fld id="{B692F88B-3341-4434-8B36-CD47A11AFBCE}" type="VALUE"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4</a:t>
                    </a:fld>
                    <a:r>
                      <a:rPr b="0" lang="ru-RU" sz="900" spc="-1" strike="noStrike">
                        <a:solidFill>
                          <a:srgbClr val="0d0d0d"/>
                        </a:solidFill>
                        <a:latin typeface="Calibri"/>
                      </a:rPr>
                      <a:t> респондента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900" spc="-1" strike="noStrike">
                    <a:solidFill>
                      <a:srgbClr val="0d0d0d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2-14 баллов</c:v>
                </c:pt>
                <c:pt idx="1">
                  <c:v>15-18 баллов</c:v>
                </c:pt>
                <c:pt idx="2">
                  <c:v>19-22 баллов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</c:v>
                </c:pt>
                <c:pt idx="1">
                  <c:v>9</c:v>
                </c:pt>
                <c:pt idx="2">
                  <c:v>4</c:v>
                </c:pt>
              </c:numCache>
            </c:numRef>
          </c:val>
        </c:ser>
      </c:pie3DChart>
    </c:plotArea>
    <c:legend>
      <c:legendPos val="b"/>
      <c:overlay val="0"/>
      <c:spPr>
        <a:noFill/>
        <a:ln w="0">
          <a:noFill/>
        </a:ln>
      </c:spPr>
      <c:txPr>
        <a:bodyPr/>
        <a:lstStyle/>
        <a:p>
          <a:pPr>
            <a:defRPr b="0" sz="900" spc="-1" strike="noStrike">
              <a:solidFill>
                <a:srgbClr val="01002e"/>
              </a:solidFill>
              <a:latin typeface="Calibri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959E-EDF8-42DA-92F3-B50727531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31B-F5C0-4DF6-8C4C-128F39CDA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A410-05F5-4094-9036-DEDC0EA9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44C54-3040-4F8E-B148-4F8B5EF7E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F19B4-D486-47F1-BC9A-E602C0B2F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E7E05-4BD7-4741-A8EC-E5F903E7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E2AB2-8AB0-41B6-A145-14C8E03D4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E533-CD76-4118-B0D4-29590E180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30F8E-13B2-429F-960E-16D64720B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10B46-140E-488D-B7A4-918FD3FD0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E811F-016A-422D-B785-D906693F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6BA-AC63-41A4-88B3-4BD4F4F44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9BD53-5A34-4CF2-8317-F24999AC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9AC7-F54D-444F-A75A-E816651E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BC822-1AD0-4F2F-BF21-AC117871D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7A8B-35E4-4E57-B511-98B2B46ED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7834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475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5052-28F7-4346-BB02-B546016CA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A356-B026-4F00-9433-5753CA616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19A01-E365-478C-BE4F-941334A5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2A05-7ADE-48BF-BD47-C799F2237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88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D0D8-0CB4-4C9A-BA4B-D10572AD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03F6-5F82-4FD3-8CB8-F57B9C624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75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132-D288-427C-B90F-4310E3FE6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834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756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B2A3-7C86-4B45-8348-5188B7F9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1640" y="4653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F9590EA-F7F8-4830-BDCE-150D3AC0D1EA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78344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9BDA02E-D207-4B6D-AEAE-BE77F952B4C1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6.wmf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6.wmf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5013000"/>
            <a:ext cx="9013680" cy="142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" sz="2000" spc="-1" strike="noStrike">
                <a:solidFill>
                  <a:srgbClr val="0d0d0d"/>
                </a:solidFill>
                <a:latin typeface="Calibri"/>
              </a:rPr>
              <a:t>Проектная работа Гавриловой Елизаветы на тему:</a:t>
            </a:r>
            <a:br>
              <a:rPr sz="2000"/>
            </a:br>
            <a:r>
              <a:rPr b="1" lang="ru" sz="3200" spc="77" strike="noStrike">
                <a:solidFill>
                  <a:srgbClr val="002200"/>
                </a:solidFill>
                <a:latin typeface="Calibri"/>
              </a:rPr>
              <a:t>«Правильное питание –</a:t>
            </a:r>
            <a:br>
              <a:rPr sz="3200"/>
            </a:br>
            <a:r>
              <a:rPr b="1" lang="ru" sz="3200" spc="77" strike="noStrike">
                <a:solidFill>
                  <a:srgbClr val="002200"/>
                </a:solidFill>
                <a:latin typeface="Calibri"/>
              </a:rPr>
              <a:t> залог крепкого здоровья»</a:t>
            </a:r>
            <a:br>
              <a:rPr sz="2800"/>
            </a:b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212000" y="1845000"/>
            <a:ext cx="6400440" cy="110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8b8b8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solidFill>
                  <a:srgbClr val="003300"/>
                </a:solidFill>
                <a:latin typeface="Calibri"/>
              </a:rPr>
              <a:t>Советы великих: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07640" y="1845000"/>
            <a:ext cx="612036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r">
              <a:lnSpc>
                <a:spcPct val="150000"/>
              </a:lnSpc>
              <a:spcBef>
                <a:spcPts val="64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«Мы живем не для того, чтобы есть, а едим для того, чтобы жить»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r">
              <a:lnSpc>
                <a:spcPct val="150000"/>
              </a:lnSpc>
              <a:spcBef>
                <a:spcPts val="641"/>
              </a:spcBef>
              <a:spcAft>
                <a:spcPts val="799"/>
              </a:spcAft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  <a:ea typeface="Calibri"/>
              </a:rPr>
              <a:t>Сократ.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Рисунок 3" descr=""/>
          <p:cNvPicPr/>
          <p:nvPr/>
        </p:nvPicPr>
        <p:blipFill>
          <a:blip r:embed="rId1"/>
          <a:srcRect l="6413" t="17316" r="58950" b="28433"/>
          <a:stretch/>
        </p:blipFill>
        <p:spPr>
          <a:xfrm>
            <a:off x="1691640" y="3213000"/>
            <a:ext cx="2302200" cy="270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2200"/>
                </a:solidFill>
                <a:latin typeface="Calibri"/>
              </a:rPr>
              <a:t>Вопрос: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5200" y="2136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1" lang="ru-RU" sz="4000" spc="-1" strike="noStrike">
                <a:solidFill>
                  <a:srgbClr val="2c0902"/>
                </a:solidFill>
                <a:latin typeface="Calibri"/>
              </a:rPr>
              <a:t>Что такое правильное питание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6"/>
          <p:cNvSpPr/>
          <p:nvPr/>
        </p:nvSpPr>
        <p:spPr>
          <a:xfrm>
            <a:off x="971640" y="3141000"/>
            <a:ext cx="741636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Правильное питание 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– это не контроль калорий и бесконечные диеты, это полноценный рацион, в котором должны присутствовать все необходимые продукты: мясо, злаки, молочные продукты, фрукты, овощи, орех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solidFill>
                  <a:srgbClr val="003300"/>
                </a:solidFill>
                <a:latin typeface="Calibri"/>
              </a:rPr>
              <a:t>Гипотез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i="1" lang="ru-RU" sz="3200" spc="-1" strike="noStrike">
                <a:solidFill>
                  <a:srgbClr val="2c0902"/>
                </a:solidFill>
                <a:latin typeface="Calibri"/>
                <a:ea typeface="Calibri"/>
              </a:rPr>
              <a:t>Я предполагаю, что, если правильно питаться, то мы будем меньше болеть, будем более сильными, бодрыми с хорошим позитивным настроением и даже лучше успевать в учебе.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езультаты анкетирования школьников: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3" name="Объект 3"/>
          <p:cNvGraphicFramePr/>
          <p:nvPr/>
        </p:nvGraphicFramePr>
        <p:xfrm>
          <a:off x="457200" y="1782720"/>
          <a:ext cx="8229240" cy="452556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5400" y="-543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50000"/>
              </a:lnSpc>
              <a:spcAft>
                <a:spcPts val="1800"/>
              </a:spcAft>
              <a:buNone/>
              <a:tabLst>
                <a:tab algn="l" pos="0"/>
              </a:tabLst>
            </a:pPr>
            <a:r>
              <a:rPr b="1" lang="ru-RU" sz="2400" spc="-1" strike="noStrike" u="sng">
                <a:solidFill>
                  <a:srgbClr val="002200"/>
                </a:solidFill>
                <a:uFillTx/>
                <a:latin typeface="Calibri"/>
                <a:ea typeface="Times New Roman"/>
              </a:rPr>
              <a:t>Мои рекомендации по правильному рациону питания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Freeform 123"/>
          <p:cNvSpPr/>
          <p:nvPr/>
        </p:nvSpPr>
        <p:spPr>
          <a:xfrm>
            <a:off x="0" y="2622600"/>
            <a:ext cx="8435520" cy="4311360"/>
          </a:xfrm>
          <a:custGeom>
            <a:avLst/>
            <a:gdLst>
              <a:gd name="textAreaLeft" fmla="*/ 0 w 8435520"/>
              <a:gd name="textAreaRight" fmla="*/ 8435880 w 8435520"/>
              <a:gd name="textAreaTop" fmla="*/ 0 h 4311360"/>
              <a:gd name="textAreaBottom" fmla="*/ 4311720 h 4311360"/>
            </a:gdLst>
            <a:ahLst/>
            <a:rect l="textAreaLeft" t="textAreaTop" r="textAreaRight" b="textAreaBottom"/>
            <a:pathLst>
              <a:path w="5218" h="2716">
                <a:moveTo>
                  <a:pt x="0" y="2387"/>
                </a:moveTo>
                <a:cubicBezTo>
                  <a:pt x="0" y="2527"/>
                  <a:pt x="0" y="2668"/>
                  <a:pt x="0" y="2668"/>
                </a:cubicBezTo>
                <a:cubicBezTo>
                  <a:pt x="2256" y="2716"/>
                  <a:pt x="4539" y="1996"/>
                  <a:pt x="5218" y="220"/>
                </a:cubicBezTo>
                <a:lnTo>
                  <a:pt x="4011" y="0"/>
                </a:lnTo>
                <a:cubicBezTo>
                  <a:pt x="3333" y="2003"/>
                  <a:pt x="638" y="2311"/>
                  <a:pt x="0" y="2387"/>
                </a:cubicBezTo>
                <a:close/>
              </a:path>
            </a:pathLst>
          </a:custGeom>
          <a:solidFill>
            <a:schemeClr val="tx1">
              <a:alpha val="20000"/>
            </a:schemeClr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6" name="Group 124"/>
          <p:cNvGrpSpPr/>
          <p:nvPr/>
        </p:nvGrpSpPr>
        <p:grpSpPr>
          <a:xfrm>
            <a:off x="1746360" y="5823000"/>
            <a:ext cx="764640" cy="799560"/>
            <a:chOff x="1746360" y="5823000"/>
            <a:chExt cx="764640" cy="799560"/>
          </a:xfrm>
        </p:grpSpPr>
        <p:grpSp>
          <p:nvGrpSpPr>
            <p:cNvPr id="97" name="Group 125"/>
            <p:cNvGrpSpPr/>
            <p:nvPr/>
          </p:nvGrpSpPr>
          <p:grpSpPr>
            <a:xfrm>
              <a:off x="1746360" y="5823000"/>
              <a:ext cx="764640" cy="799560"/>
              <a:chOff x="1746360" y="5823000"/>
              <a:chExt cx="764640" cy="799560"/>
            </a:xfrm>
          </p:grpSpPr>
          <p:pic>
            <p:nvPicPr>
              <p:cNvPr id="98" name="Picture 126" descr="light_shadow"/>
              <p:cNvPicPr/>
              <p:nvPr/>
            </p:nvPicPr>
            <p:blipFill>
              <a:blip r:embed="rId1"/>
              <a:stretch/>
            </p:blipFill>
            <p:spPr>
              <a:xfrm>
                <a:off x="1819080" y="6450120"/>
                <a:ext cx="629640" cy="172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9" name="Picture 127" descr="circuler_1"/>
              <p:cNvPicPr/>
              <p:nvPr/>
            </p:nvPicPr>
            <p:blipFill>
              <a:blip r:embed="rId2"/>
              <a:stretch/>
            </p:blipFill>
            <p:spPr>
              <a:xfrm>
                <a:off x="1746360" y="5823000"/>
                <a:ext cx="76464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Oval 128"/>
              <p:cNvSpPr/>
              <p:nvPr/>
            </p:nvSpPr>
            <p:spPr>
              <a:xfrm>
                <a:off x="1746360" y="5823000"/>
                <a:ext cx="759600" cy="739440"/>
              </a:xfrm>
              <a:prstGeom prst="ellipse">
                <a:avLst/>
              </a:prstGeom>
              <a:gradFill rotWithShape="0">
                <a:gsLst>
                  <a:gs pos="0">
                    <a:srgbClr val="b26b02">
                      <a:alpha val="55294"/>
                    </a:srgbClr>
                  </a:gs>
                  <a:gs pos="50000">
                    <a:srgbClr val="523100">
                      <a:alpha val="90196"/>
                    </a:srgbClr>
                  </a:gs>
                  <a:gs pos="100000">
                    <a:srgbClr val="b26b02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1" name="Picture 129" descr="Picture2"/>
            <p:cNvPicPr/>
            <p:nvPr/>
          </p:nvPicPr>
          <p:blipFill>
            <a:blip r:embed="rId3"/>
            <a:stretch/>
          </p:blipFill>
          <p:spPr>
            <a:xfrm>
              <a:off x="1821960" y="5830560"/>
              <a:ext cx="604800" cy="260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" name="Group 130"/>
          <p:cNvGrpSpPr/>
          <p:nvPr/>
        </p:nvGrpSpPr>
        <p:grpSpPr>
          <a:xfrm>
            <a:off x="3263760" y="5213520"/>
            <a:ext cx="1079280" cy="1079280"/>
            <a:chOff x="3263760" y="5213520"/>
            <a:chExt cx="1079280" cy="1079280"/>
          </a:xfrm>
        </p:grpSpPr>
        <p:grpSp>
          <p:nvGrpSpPr>
            <p:cNvPr id="103" name="Group 131"/>
            <p:cNvGrpSpPr/>
            <p:nvPr/>
          </p:nvGrpSpPr>
          <p:grpSpPr>
            <a:xfrm>
              <a:off x="3263760" y="5213520"/>
              <a:ext cx="1079280" cy="1079280"/>
              <a:chOff x="3263760" y="5213520"/>
              <a:chExt cx="1079280" cy="1079280"/>
            </a:xfrm>
          </p:grpSpPr>
          <p:pic>
            <p:nvPicPr>
              <p:cNvPr id="104" name="Picture 132" descr="light_shadow"/>
              <p:cNvPicPr/>
              <p:nvPr/>
            </p:nvPicPr>
            <p:blipFill>
              <a:blip r:embed="rId4"/>
              <a:stretch/>
            </p:blipFill>
            <p:spPr>
              <a:xfrm>
                <a:off x="3366360" y="6059880"/>
                <a:ext cx="888480" cy="232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" name="Picture 133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263760" y="5213520"/>
                <a:ext cx="1079280" cy="99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Oval 134"/>
              <p:cNvSpPr/>
              <p:nvPr/>
            </p:nvSpPr>
            <p:spPr>
              <a:xfrm>
                <a:off x="3263760" y="5213520"/>
                <a:ext cx="1071720" cy="997920"/>
              </a:xfrm>
              <a:prstGeom prst="ellipse">
                <a:avLst/>
              </a:prstGeom>
              <a:gradFill rotWithShape="0">
                <a:gsLst>
                  <a:gs pos="0">
                    <a:srgbClr val="9f2936">
                      <a:alpha val="55294"/>
                    </a:srgbClr>
                  </a:gs>
                  <a:gs pos="50000">
                    <a:srgbClr val="491218">
                      <a:alpha val="90196"/>
                    </a:srgbClr>
                  </a:gs>
                  <a:gs pos="100000">
                    <a:srgbClr val="9f2936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07" name="Picture 135" descr="Picture2"/>
            <p:cNvPicPr/>
            <p:nvPr/>
          </p:nvPicPr>
          <p:blipFill>
            <a:blip r:embed="rId6"/>
            <a:stretch/>
          </p:blipFill>
          <p:spPr>
            <a:xfrm>
              <a:off x="3371040" y="5223600"/>
              <a:ext cx="853200" cy="351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8" name="Group 136"/>
          <p:cNvGrpSpPr/>
          <p:nvPr/>
        </p:nvGrpSpPr>
        <p:grpSpPr>
          <a:xfrm>
            <a:off x="4876920" y="3994200"/>
            <a:ext cx="1561680" cy="1599840"/>
            <a:chOff x="4876920" y="3994200"/>
            <a:chExt cx="1561680" cy="1599840"/>
          </a:xfrm>
        </p:grpSpPr>
        <p:grpSp>
          <p:nvGrpSpPr>
            <p:cNvPr id="109" name="Group 137"/>
            <p:cNvGrpSpPr/>
            <p:nvPr/>
          </p:nvGrpSpPr>
          <p:grpSpPr>
            <a:xfrm>
              <a:off x="4876920" y="3994200"/>
              <a:ext cx="1561680" cy="1599840"/>
              <a:chOff x="4876920" y="3994200"/>
              <a:chExt cx="1561680" cy="1599840"/>
            </a:xfrm>
          </p:grpSpPr>
          <p:pic>
            <p:nvPicPr>
              <p:cNvPr id="110" name="Picture 138" descr="light_shadow"/>
              <p:cNvPicPr/>
              <p:nvPr/>
            </p:nvPicPr>
            <p:blipFill>
              <a:blip r:embed="rId7"/>
              <a:stretch/>
            </p:blipFill>
            <p:spPr>
              <a:xfrm>
                <a:off x="5025240" y="5248800"/>
                <a:ext cx="1285920" cy="345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1" name="Picture 139" descr="circuler_1"/>
              <p:cNvPicPr/>
              <p:nvPr/>
            </p:nvPicPr>
            <p:blipFill>
              <a:blip r:embed="rId8"/>
              <a:stretch/>
            </p:blipFill>
            <p:spPr>
              <a:xfrm>
                <a:off x="4876920" y="3994200"/>
                <a:ext cx="1561680" cy="147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2" name="Oval 140"/>
              <p:cNvSpPr/>
              <p:nvPr/>
            </p:nvSpPr>
            <p:spPr>
              <a:xfrm>
                <a:off x="4876920" y="3994200"/>
                <a:ext cx="1551240" cy="1479240"/>
              </a:xfrm>
              <a:prstGeom prst="ellipse">
                <a:avLst/>
              </a:prstGeom>
              <a:gradFill rotWithShape="0">
                <a:gsLst>
                  <a:gs pos="0">
                    <a:srgbClr val="f07f09">
                      <a:alpha val="55294"/>
                    </a:srgbClr>
                  </a:gs>
                  <a:gs pos="50000">
                    <a:srgbClr val="6f3a04">
                      <a:alpha val="90196"/>
                    </a:srgbClr>
                  </a:gs>
                  <a:gs pos="100000">
                    <a:srgbClr val="f07f09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3" name="Picture 141" descr="Picture2"/>
            <p:cNvPicPr/>
            <p:nvPr/>
          </p:nvPicPr>
          <p:blipFill>
            <a:blip r:embed="rId9"/>
            <a:stretch/>
          </p:blipFill>
          <p:spPr>
            <a:xfrm>
              <a:off x="5031720" y="4009680"/>
              <a:ext cx="1234800" cy="521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142"/>
          <p:cNvGrpSpPr/>
          <p:nvPr/>
        </p:nvGrpSpPr>
        <p:grpSpPr>
          <a:xfrm>
            <a:off x="6324480" y="1631880"/>
            <a:ext cx="2279160" cy="2361960"/>
            <a:chOff x="6324480" y="1631880"/>
            <a:chExt cx="2279160" cy="2361960"/>
          </a:xfrm>
        </p:grpSpPr>
        <p:grpSp>
          <p:nvGrpSpPr>
            <p:cNvPr id="115" name="Group 143"/>
            <p:cNvGrpSpPr/>
            <p:nvPr/>
          </p:nvGrpSpPr>
          <p:grpSpPr>
            <a:xfrm>
              <a:off x="6324480" y="1631880"/>
              <a:ext cx="2279160" cy="2361960"/>
              <a:chOff x="6324480" y="1631880"/>
              <a:chExt cx="2279160" cy="2361960"/>
            </a:xfrm>
          </p:grpSpPr>
          <p:pic>
            <p:nvPicPr>
              <p:cNvPr id="116" name="Picture 144" descr="light_shadow"/>
              <p:cNvPicPr/>
              <p:nvPr/>
            </p:nvPicPr>
            <p:blipFill>
              <a:blip r:embed="rId10"/>
              <a:stretch/>
            </p:blipFill>
            <p:spPr>
              <a:xfrm>
                <a:off x="6541200" y="3484080"/>
                <a:ext cx="1876680" cy="509760"/>
              </a:xfrm>
              <a:prstGeom prst="rect">
                <a:avLst/>
              </a:prstGeom>
              <a:ln w="9525">
                <a:noFill/>
              </a:ln>
            </p:spPr>
          </p:pic>
          <p:pic>
            <p:nvPicPr>
              <p:cNvPr id="117" name="Picture 145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6324480" y="1631880"/>
                <a:ext cx="2279160" cy="2177640"/>
              </a:xfrm>
              <a:prstGeom prst="rect">
                <a:avLst/>
              </a:prstGeom>
              <a:ln w="9525">
                <a:noFill/>
              </a:ln>
            </p:spPr>
          </p:pic>
          <p:sp>
            <p:nvSpPr>
              <p:cNvPr id="118" name="Oval 146"/>
              <p:cNvSpPr/>
              <p:nvPr/>
            </p:nvSpPr>
            <p:spPr>
              <a:xfrm>
                <a:off x="6324480" y="1631880"/>
                <a:ext cx="2264040" cy="2183760"/>
              </a:xfrm>
              <a:prstGeom prst="ellipse">
                <a:avLst/>
              </a:prstGeom>
              <a:gradFill rotWithShape="0">
                <a:gsLst>
                  <a:gs pos="0">
                    <a:srgbClr val="6b9f25">
                      <a:alpha val="55294"/>
                    </a:srgbClr>
                  </a:gs>
                  <a:gs pos="50000">
                    <a:srgbClr val="314911">
                      <a:alpha val="90196"/>
                    </a:srgbClr>
                  </a:gs>
                  <a:gs pos="100000">
                    <a:srgbClr val="6b9f25">
                      <a:alpha val="55294"/>
                    </a:srgbClr>
                  </a:gs>
                </a:gsLst>
                <a:lin ang="5400000"/>
              </a:gradFill>
              <a:ln w="9525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pPr>
                  <a:lnSpc>
                    <a:spcPct val="100000"/>
                  </a:lnSpc>
                </a:pPr>
                <a:endParaRPr b="0" lang="ru-RU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119" name="Picture 147" descr="Picture2"/>
            <p:cNvPicPr/>
            <p:nvPr/>
          </p:nvPicPr>
          <p:blipFill>
            <a:blip r:embed="rId12"/>
            <a:stretch/>
          </p:blipFill>
          <p:spPr>
            <a:xfrm>
              <a:off x="6550560" y="1654920"/>
              <a:ext cx="1802160" cy="770400"/>
            </a:xfrm>
            <a:prstGeom prst="rect">
              <a:avLst/>
            </a:prstGeom>
            <a:ln w="9525">
              <a:noFill/>
            </a:ln>
          </p:spPr>
        </p:pic>
      </p:grpSp>
      <p:sp>
        <p:nvSpPr>
          <p:cNvPr id="120" name="AutoShape 148"/>
          <p:cNvSpPr/>
          <p:nvPr/>
        </p:nvSpPr>
        <p:spPr>
          <a:xfrm rot="4618800">
            <a:off x="2774880" y="5987880"/>
            <a:ext cx="231480" cy="20268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AutoShape 149"/>
          <p:cNvSpPr/>
          <p:nvPr/>
        </p:nvSpPr>
        <p:spPr>
          <a:xfrm rot="3499800">
            <a:off x="4430880" y="5306760"/>
            <a:ext cx="301320" cy="26316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AutoShape 150"/>
          <p:cNvSpPr/>
          <p:nvPr/>
        </p:nvSpPr>
        <p:spPr>
          <a:xfrm rot="2284800">
            <a:off x="6351840" y="3795480"/>
            <a:ext cx="399600" cy="348840"/>
          </a:xfrm>
          <a:prstGeom prst="triangle">
            <a:avLst>
              <a:gd name="adj" fmla="val 50000"/>
            </a:avLst>
          </a:prstGeom>
          <a:solidFill>
            <a:schemeClr val="tx2"/>
          </a:solidFill>
          <a:ln w="9525">
            <a:noFill/>
          </a:ln>
          <a:scene3d>
            <a:camera prst="legacyPerspectiveBottomLeft"/>
            <a:lightRig dir="b" rig="legacyFlat3"/>
          </a:scene3d>
          <a:sp3d extrusionH="36500" prstMaterial="legacyMatte">
            <a:bevelT prst="angle" w="13500" h="13500"/>
            <a:bevelB prst="angle" w="13500" h="13500"/>
            <a:extrusionClr>
              <a:schemeClr val="tx2"/>
            </a:extrusionClr>
          </a:sp3d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1531440" y="6040440"/>
            <a:ext cx="1182600" cy="241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</a:pPr>
            <a:r>
              <a:rPr b="1" lang="ru-RU" sz="1000" spc="-1" strike="noStrike">
                <a:solidFill>
                  <a:srgbClr val="feffff"/>
                </a:solidFill>
                <a:latin typeface="Calibri"/>
              </a:rPr>
              <a:t>Субпродук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8"/>
          <p:cNvSpPr/>
          <p:nvPr/>
        </p:nvSpPr>
        <p:spPr>
          <a:xfrm>
            <a:off x="3276000" y="5518080"/>
            <a:ext cx="1007640" cy="4554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ru-RU" sz="2400" spc="-1" strike="noStrike">
                <a:solidFill>
                  <a:srgbClr val="feffff"/>
                </a:solidFill>
                <a:latin typeface="Calibri"/>
              </a:rPr>
              <a:t>Яй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8"/>
          <p:cNvSpPr/>
          <p:nvPr/>
        </p:nvSpPr>
        <p:spPr>
          <a:xfrm>
            <a:off x="5109120" y="4483080"/>
            <a:ext cx="1118160" cy="5162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400"/>
              </a:spcBef>
            </a:pPr>
            <a:r>
              <a:rPr b="1" lang="ru-RU" sz="2800" spc="-1" strike="noStrike">
                <a:solidFill>
                  <a:srgbClr val="feffff"/>
                </a:solidFill>
                <a:latin typeface="Calibri"/>
              </a:rPr>
              <a:t>Ры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8"/>
          <p:cNvSpPr/>
          <p:nvPr/>
        </p:nvSpPr>
        <p:spPr>
          <a:xfrm>
            <a:off x="6858000" y="2405160"/>
            <a:ext cx="1170000" cy="577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1599"/>
              </a:spcBef>
            </a:pPr>
            <a:r>
              <a:rPr b="1" lang="ru-RU" sz="3200" spc="-1" strike="noStrike">
                <a:solidFill>
                  <a:srgbClr val="feffff"/>
                </a:solidFill>
                <a:latin typeface="Calibri"/>
              </a:rPr>
              <a:t>Мя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542880" y="2325960"/>
            <a:ext cx="4876560" cy="2529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анс важен во всем!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Баланс важен и в нашем питании. Сбалансированный рацион – это прежде всего </a:t>
            </a:r>
            <a:r>
              <a:rPr b="1" i="1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разнообразный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рацион. Стиль жизни вегетарианцев имеет место быть, однако по-настоящему здоровое меню должно содержать мясо и рыбу, субпродук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0" algn="ctr">
              <a:lnSpc>
                <a:spcPct val="150000"/>
              </a:lnSpc>
              <a:spcBef>
                <a:spcPts val="2999"/>
              </a:spcBef>
              <a:spcAft>
                <a:spcPts val="1500"/>
              </a:spcAft>
              <a:buNone/>
            </a:pPr>
            <a:r>
              <a:rPr b="1" lang="ru-RU" sz="2800" spc="-1" strike="noStrike" u="sng">
                <a:solidFill>
                  <a:srgbClr val="002200"/>
                </a:solidFill>
                <a:uFillTx/>
                <a:latin typeface="Calibri"/>
                <a:ea typeface="Times New Roman"/>
              </a:rPr>
              <a:t>Что необходимо употреблять регулярно: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040" y="19170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хлеб цельнозерновой в объеме 2-3 подсушенных ломтиков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фрукты и ягоды неограниченно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овощи и огородная зелень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рупы (коричневый рис, овсянка, гречка, пшенка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артофель, батат, макароны (из твердых сортов пшеницы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олочные, а лучше кисломолочные продукты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ясо птицы, красное мясо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морская рыба и морепродукты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упы (овощные, молочные, перетертые и мясные)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куриные яйца – 3-4 в неделю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80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субпродукты (куриная печень, сердечки, желудочки) 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marL="353880" indent="-353880" algn="just">
              <a:lnSpc>
                <a:spcPct val="120000"/>
              </a:lnSpc>
              <a:spcBef>
                <a:spcPts val="360"/>
              </a:spcBef>
              <a:spcAft>
                <a:spcPts val="799"/>
              </a:spcAft>
              <a:buClr>
                <a:srgbClr val="000000"/>
              </a:buClr>
              <a:buFont typeface="Symbol"/>
              <a:buChar char=""/>
              <a:tabLst>
                <a:tab algn="l" pos="4572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Calibri"/>
              </a:rPr>
              <a:t>натуральные десерты и домашняя выпечка.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457200"/>
              </a:tabLst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4356000" y="2169000"/>
            <a:ext cx="4593960" cy="402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49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72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699640" y="33786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итайтесь правильно 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будьте здоровы!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Аспект">
      <a:dk1>
        <a:srgbClr val="000000"/>
      </a:dk1>
      <a:lt1>
        <a:srgbClr val="ffffff"/>
      </a:lt1>
      <a:dk2>
        <a:srgbClr val="323232"/>
      </a:dk2>
      <a:lt2>
        <a:srgbClr val="e3ded1"/>
      </a:lt2>
      <a:accent1>
        <a:srgbClr val="f07f09"/>
      </a:accent1>
      <a:accent2>
        <a:srgbClr val="9f2936"/>
      </a:accent2>
      <a:accent3>
        <a:srgbClr val="1b587c"/>
      </a:accent3>
      <a:accent4>
        <a:srgbClr val="4e8542"/>
      </a:accent4>
      <a:accent5>
        <a:srgbClr val="604878"/>
      </a:accent5>
      <a:accent6>
        <a:srgbClr val="c19859"/>
      </a:accent6>
      <a:hlink>
        <a:srgbClr val="6b9f25"/>
      </a:hlink>
      <a:folHlink>
        <a:srgbClr val="b26b0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HyperlinkBase>http://presentation-creation.ru/powerpoint-presentation.html</HyperlinkBase>
  <AppVersion>15.0000</AppVersion>
  <Words>279</Words>
  <Paragraphs>36</Paragraphs>
  <Company>http://presentation-creation.ru/powerpoint-presentation.html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0-22T18:01:27Z</dcterms:created>
  <dc:creator>obstinate</dc:creator>
  <dc:description/>
  <dc:language>en-US</dc:language>
  <cp:lastModifiedBy>Анастасия Васильева</cp:lastModifiedBy>
  <dcterms:modified xsi:type="dcterms:W3CDTF">2023-05-16T11:08:15Z</dcterms:modified>
  <cp:revision>8</cp:revision>
  <dc:subject/>
  <dc:title>Шаблон презентации Спелые витамин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8</vt:r8>
  </property>
</Properties>
</file>