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4655-1B0C-41AB-9AF0-A527449A4C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E199-BB63-4A84-827A-A40BCA1E39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E67A-C944-40D4-AE5E-CFA6D489A48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B7E8-F665-4F99-87BD-96B1F751DD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B669-7D6E-4315-A8DD-C937D1A342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9A50-AA46-4059-A323-2FA22AA6AD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0A6E-D15A-4E76-A73F-77649655EC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9E36-37B5-4D68-9F93-091839D4E6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516A-5F61-456E-B2FB-E4B590E8A3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CDDC-3E5F-49BE-9A67-C7B567FF86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47F9-C944-43D8-9407-3C32C8C293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5545-C62F-4607-A529-D6FDC5AE0D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D8B1-A18B-4FFC-94A0-2830199A07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EA3C-9131-4795-B52C-2F2A856A40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FCF3-C3E0-402F-92FD-C1A272DB43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4971-B2A5-4AF2-8E23-C828004766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AEE6-26FE-4410-AB5F-640C6E2C4E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BCE3-E191-4839-BEAF-55DF2D345A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FBDB-B2CC-4037-B544-45D760671D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A44F-B09A-449D-85A1-11B10A51B4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C109-3AB9-4F5F-B9E2-899A96ED8C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B7AD-C262-49D4-8594-CBCD5CCC55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A529-1327-4772-AA8F-613E67E515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DCBC-6E3D-4B5D-88E1-75AAA20AA2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DC65-9B10-456D-9C3E-B592E62BF3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FCEA-081C-4A5C-9E29-57C985447D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F673-95C2-4B9F-A192-5E8FA79C13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EABE-7EA8-41C0-A5B7-E9A9A81971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BC34-41D0-43F1-A6BC-4B8F12B074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2AD3-1105-4C43-9222-342C9B3D09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1A54-3AA2-4C5F-9DFA-2D4CFF4D01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7D89-53AD-4489-BF3A-69B77AC72F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8C3E-ED7E-4DD3-9921-190F87CF3B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98DE-E211-447E-9685-4C34B241EF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7BF1-E1E1-4C8E-8D04-93ED05B9E8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C0E2-49A7-4C79-A67C-F5A956B366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095F-E374-4C41-92C4-203B54A4E9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10D0-1583-46DD-BB5E-BBAE5FBAA6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A387-2F53-4C61-AEEC-027CFDD7CE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0B16-2232-48F1-9FE5-95F75DCFEC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6C25-99A9-49AE-BE03-2044404D62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5880-E55A-4C44-87D5-25DB23BA7E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89EA-5422-4BAE-B29C-E4B8951C4D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69D1-A013-4B09-A9DC-FF9509C0F9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FA1A-C184-4660-B4CB-087BDD9FD3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6B6B-D0EA-4589-9755-16034C63B5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3833-DFA1-4837-9EB0-B3D6D909CC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AA90-7F50-42E9-B016-2045C91E78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66B1-3F2E-4898-B4C7-F38A786EF7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C432-759C-498B-B9B1-28FD708984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7E6D-69A4-4E76-A8EB-694BB2A2E2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86D5-D0CA-470E-A914-A098E86DD6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383A-EA4C-466D-8813-778F9F5DB7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9A69-1206-48F3-8D0A-3C1C03672C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61A0-A7A5-4CDA-8260-0E2F2FEF93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2D00-2BB2-4B7A-A716-FAB9F54B4C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A66C-5A8E-45BC-9260-F64C766475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032-6894-4BDE-BA34-576146CE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8C78-008D-4AF1-9373-81C4982B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4D2-4F55-43C7-83EE-7231B63F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D6A-18E2-4DE0-88D8-B1D1EC4C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CB06-0DDA-42C7-8BE9-56BE88BA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19EF-CDCE-497D-86C7-27AF67D8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7312-0907-4882-9C91-EB41E279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ECE7-D3D4-4EC5-AFA5-4BF1D0C9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9E9E-1449-409C-8F42-9779A0CE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4D19-77D4-4400-A7D7-2A90124F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F7ED-283B-4A0D-A997-B7B9C333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B26-5DE0-4DAE-8A4E-1162D4C0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13E9-D813-4134-BCEE-497C6139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182D-80C0-487D-BC05-2657CB46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458A-BCA9-43AD-AE95-BF071B83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3407-C6E8-4BAF-B3AE-753F7E4A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3F77-98DF-4F1B-811C-5D57575E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9D1A-0942-4AD7-BCB7-DBCB66E1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D0B-1DED-4CDC-951E-740A0E5E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C135-8028-45B5-8030-7FB7BD51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C2E0-62A0-4027-8691-0FEE1C81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C09-FE27-4A73-8F84-FA2B62E9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70B-7CEC-409D-BEC9-BDCFCA80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0F5E-FC4E-43FF-B175-7AD7FDDD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a2"/>
                </a:gs>
                <a:gs pos="100000">
                  <a:srgbClr val="0000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6F88-6E7B-4C91-88B5-F91C29240B3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1027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92"/>
                </a:gs>
                <a:gs pos="100000">
                  <a:srgbClr val="0000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1028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AB05-B12B-4653-A5E3-7F6BCCD81B3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571320"/>
            <a:ext cx="822960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 Black"/>
              </a:rPr>
              <a:t>ОПИСТОРХО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Проворова В. 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Другие трематодозы: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85920"/>
            <a:ext cx="8400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viverrin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— страны Восточно-Азиатского региона (Китай, Таиланд, Южная Корея, Лаос, Вьетнам и др.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0 % жителей Таиланда инвазирован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verrin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lonorchis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inensis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матода со сходным с описторхисом циклом развития и патогенезом)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—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пония, Китай и Вьетнам, на Дальнем Востоке в бассейне Амур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По данным ВОЗ, описторхозом и клонорхозом поражено 17 млн. человек, а риску заражения подвержено около 350 млн человек, проживающих в 13 странах и территориях Европы, Юго-Восточ. Азии и западной части Тихого океа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чаги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арагонимо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— Япония, Китай, Дальний Восток. Дополнительный хозяин парагонимусов — пресноводные крабы, половозрелые гельминты паразитируют в просвете бронхов плотоядных животных и челове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чаги меторхоза (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ethorchis conjunctu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—Канада, Гренланд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ВОЗБУДИТЕЛЬ ОПИСТОРХОЗА</a:t>
            </a:r>
            <a:br>
              <a:rPr sz="1800"/>
            </a:b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71432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72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Класс</a:t>
            </a:r>
            <a:r>
              <a:rPr b="1" i="1" lang="ru-RU" sz="2800" spc="-1" strike="noStrike">
                <a:solidFill>
                  <a:srgbClr val="ccffff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ffff"/>
                </a:solidFill>
                <a:latin typeface="Arial"/>
              </a:rPr>
              <a:t>—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MATODA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(сосальщики; плоские черв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4572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Семейство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—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ISTHORCHIDA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4572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Ро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isthorch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4572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Вид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pisthorchi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lineus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син: кошачья двуустка,  сибирская двууст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500040" y="1643040"/>
            <a:ext cx="82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21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0" y="550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 Black"/>
              </a:rPr>
              <a:t>OPISTHORCHIS  FELINEU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rcRect l="25718" t="0" r="20711" b="0"/>
          <a:stretch/>
        </p:blipFill>
        <p:spPr>
          <a:xfrm>
            <a:off x="684360" y="1052640"/>
            <a:ext cx="1800000" cy="5040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30" name="AutoShape 4"/>
          <p:cNvSpPr/>
          <p:nvPr/>
        </p:nvSpPr>
        <p:spPr>
          <a:xfrm>
            <a:off x="1835280" y="1268280"/>
            <a:ext cx="1512720" cy="73080"/>
          </a:xfrm>
          <a:prstGeom prst="leftArrow">
            <a:avLst>
              <a:gd name="adj1" fmla="val 50000"/>
              <a:gd name="adj2" fmla="val 517488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492360" y="1052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товая присо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1763640" y="2349360"/>
            <a:ext cx="1584360" cy="71640"/>
          </a:xfrm>
          <a:prstGeom prst="leftArrow">
            <a:avLst>
              <a:gd name="adj1" fmla="val 50000"/>
              <a:gd name="adj2" fmla="val 552889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492360" y="2205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рюшна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со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1908000" y="1916280"/>
            <a:ext cx="1440000" cy="72720"/>
          </a:xfrm>
          <a:prstGeom prst="leftArrow">
            <a:avLst>
              <a:gd name="adj1" fmla="val 50000"/>
              <a:gd name="adj2" fmla="val 495050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492360" y="1700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тви кишеч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564000" y="335772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елточн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2050920" y="3573360"/>
            <a:ext cx="1297080" cy="73080"/>
          </a:xfrm>
          <a:prstGeom prst="leftArrow">
            <a:avLst>
              <a:gd name="adj1" fmla="val 50000"/>
              <a:gd name="adj2" fmla="val 443719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3564000" y="2781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т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1692360" y="2997360"/>
            <a:ext cx="1655640" cy="71280"/>
          </a:xfrm>
          <a:prstGeom prst="leftArrow">
            <a:avLst>
              <a:gd name="adj1" fmla="val 50000"/>
              <a:gd name="adj2" fmla="val 580682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3564000" y="4724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мяприемни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1692360" y="4869000"/>
            <a:ext cx="1655640" cy="71280"/>
          </a:xfrm>
          <a:prstGeom prst="leftArrow">
            <a:avLst>
              <a:gd name="adj1" fmla="val 50000"/>
              <a:gd name="adj2" fmla="val 580682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3565800" y="51577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мен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1763640" y="5373720"/>
            <a:ext cx="1656000" cy="71280"/>
          </a:xfrm>
          <a:prstGeom prst="leftArrow">
            <a:avLst>
              <a:gd name="adj1" fmla="val 50000"/>
              <a:gd name="adj2" fmla="val 580808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3566880" y="558864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делительный кан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19"/>
          <p:cNvSpPr/>
          <p:nvPr/>
        </p:nvSpPr>
        <p:spPr>
          <a:xfrm>
            <a:off x="1692360" y="5805360"/>
            <a:ext cx="1655640" cy="71640"/>
          </a:xfrm>
          <a:prstGeom prst="leftArrow">
            <a:avLst>
              <a:gd name="adj1" fmla="val 50000"/>
              <a:gd name="adj2" fmla="val 577764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3566520" y="421992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ични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21"/>
          <p:cNvSpPr/>
          <p:nvPr/>
        </p:nvSpPr>
        <p:spPr>
          <a:xfrm>
            <a:off x="1763640" y="4508640"/>
            <a:ext cx="1656000" cy="71280"/>
          </a:xfrm>
          <a:prstGeom prst="leftArrow">
            <a:avLst>
              <a:gd name="adj1" fmla="val 50000"/>
              <a:gd name="adj2" fmla="val 580808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22" descr=""/>
          <p:cNvPicPr/>
          <p:nvPr/>
        </p:nvPicPr>
        <p:blipFill>
          <a:blip r:embed="rId2"/>
          <a:srcRect l="17439" t="0" r="16359" b="0"/>
          <a:stretch/>
        </p:blipFill>
        <p:spPr>
          <a:xfrm>
            <a:off x="7164360" y="3500280"/>
            <a:ext cx="1368360" cy="19051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3"/>
          <p:cNvSpPr/>
          <p:nvPr/>
        </p:nvSpPr>
        <p:spPr>
          <a:xfrm>
            <a:off x="7164360" y="5157720"/>
            <a:ext cx="1408320" cy="459720"/>
          </a:xfrm>
          <a:prstGeom prst="rect">
            <a:avLst/>
          </a:prstGeom>
          <a:solidFill>
            <a:srgbClr val="000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Яйцо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bdff"/>
            </a:gs>
            <a:gs pos="100000">
              <a:srgbClr val="da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1351080" cy="1440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2916360" y="333360"/>
            <a:ext cx="1722240" cy="218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4643280" y="1197000"/>
            <a:ext cx="911520" cy="1241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0" y="2838600"/>
          <a:ext cx="2095560" cy="118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838600"/>
                    <a:ext cx="209556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9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Object 10"/>
          <p:cNvGraphicFramePr/>
          <p:nvPr/>
        </p:nvGraphicFramePr>
        <p:xfrm>
          <a:off x="0" y="2838600"/>
          <a:ext cx="2095560" cy="1180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2838600"/>
                    <a:ext cx="209556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1"/>
          <p:cNvGraphicFramePr/>
          <p:nvPr/>
        </p:nvGraphicFramePr>
        <p:xfrm>
          <a:off x="5508720" y="1341360"/>
          <a:ext cx="869760" cy="1054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0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08720" y="1341360"/>
                    <a:ext cx="86976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12" descr=""/>
          <p:cNvPicPr/>
          <p:nvPr/>
        </p:nvPicPr>
        <p:blipFill>
          <a:blip r:embed="rId10">
            <a:lum contrast="6000"/>
          </a:blip>
          <a:stretch/>
        </p:blipFill>
        <p:spPr>
          <a:xfrm>
            <a:off x="7236000" y="404640"/>
            <a:ext cx="1180800" cy="1257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"/>
          <p:cNvPicPr/>
          <p:nvPr/>
        </p:nvPicPr>
        <p:blipFill>
          <a:blip r:embed="rId11"/>
          <a:stretch/>
        </p:blipFill>
        <p:spPr>
          <a:xfrm>
            <a:off x="7236000" y="4365720"/>
            <a:ext cx="1298520" cy="1272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"/>
          <p:cNvPicPr/>
          <p:nvPr/>
        </p:nvPicPr>
        <p:blipFill>
          <a:blip r:embed="rId12"/>
          <a:stretch/>
        </p:blipFill>
        <p:spPr>
          <a:xfrm>
            <a:off x="3809880" y="4191120"/>
            <a:ext cx="2514600" cy="2590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"/>
          <p:cNvPicPr/>
          <p:nvPr/>
        </p:nvPicPr>
        <p:blipFill>
          <a:blip r:embed="rId13"/>
          <a:stretch/>
        </p:blipFill>
        <p:spPr>
          <a:xfrm>
            <a:off x="762120" y="4114800"/>
            <a:ext cx="2286000" cy="2251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6" descr=""/>
          <p:cNvPicPr/>
          <p:nvPr/>
        </p:nvPicPr>
        <p:blipFill>
          <a:blip r:embed="rId14">
            <a:biLevel thresh="50000"/>
          </a:blip>
          <a:stretch/>
        </p:blipFill>
        <p:spPr>
          <a:xfrm>
            <a:off x="900000" y="2852640"/>
            <a:ext cx="1714680" cy="9669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7"/>
          <p:cNvSpPr/>
          <p:nvPr/>
        </p:nvSpPr>
        <p:spPr>
          <a:xfrm>
            <a:off x="2050920" y="1341360"/>
            <a:ext cx="936720" cy="287280"/>
          </a:xfrm>
          <a:custGeom>
            <a:avLst/>
            <a:gdLst>
              <a:gd name="textAreaLeft" fmla="*/ 146160 w 936720"/>
              <a:gd name="textAreaRight" fmla="*/ 819720 w 93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18"/>
          <p:cNvSpPr/>
          <p:nvPr/>
        </p:nvSpPr>
        <p:spPr>
          <a:xfrm flipV="1">
            <a:off x="4716360" y="836640"/>
            <a:ext cx="25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19"/>
          <p:cNvSpPr/>
          <p:nvPr/>
        </p:nvSpPr>
        <p:spPr>
          <a:xfrm flipV="1">
            <a:off x="5219640" y="1052280"/>
            <a:ext cx="194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20"/>
          <p:cNvSpPr/>
          <p:nvPr/>
        </p:nvSpPr>
        <p:spPr>
          <a:xfrm flipV="1">
            <a:off x="6300720" y="1197000"/>
            <a:ext cx="935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21"/>
          <p:cNvSpPr/>
          <p:nvPr/>
        </p:nvSpPr>
        <p:spPr>
          <a:xfrm>
            <a:off x="8172360" y="1484280"/>
            <a:ext cx="647640" cy="1944720"/>
          </a:xfrm>
          <a:custGeom>
            <a:avLst/>
            <a:gdLst>
              <a:gd name="textAreaLeft" fmla="*/ 86760 w 647640"/>
              <a:gd name="textAreaRight" fmla="*/ 560880 w 647640"/>
              <a:gd name="textAreaTop" fmla="*/ 391320 h 1944720"/>
              <a:gd name="textAreaBottom" fmla="*/ 140256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93" stAng="-5400000" swAng="5400000"/>
                <a:lnTo>
                  <a:pt x="21600" y="11232"/>
                </a:lnTo>
                <a:arcTo wR="21600" hR="8693" stAng="0" swAng="1192987"/>
                <a:lnTo>
                  <a:pt x="16066" y="18717"/>
                </a:lnTo>
                <a:lnTo>
                  <a:pt x="0" y="18656"/>
                </a:lnTo>
                <a:lnTo>
                  <a:pt x="16066" y="12828"/>
                </a:lnTo>
                <a:lnTo>
                  <a:pt x="16066" y="14503"/>
                </a:lnTo>
                <a:arcTo wR="21600" hR="8693" stAng="1192987" swAng="-988990"/>
                <a:lnTo>
                  <a:pt x="21368" y="9963"/>
                </a:lnTo>
                <a:arcTo wR="21600" hR="8693" stAng="-203997" swAng="-5196003"/>
                <a:close/>
              </a:path>
              <a:path fill="darkenLess" w="21600" h="21600">
                <a:moveTo>
                  <a:pt x="0" y="0"/>
                </a:moveTo>
                <a:arcTo wR="21600" hR="8693" stAng="-5400000" swAng="5400000"/>
                <a:lnTo>
                  <a:pt x="21600" y="11232"/>
                </a:lnTo>
                <a:arcTo wR="21600" hR="8693" stAng="0" swAng="-203997"/>
                <a:lnTo>
                  <a:pt x="21368" y="9963"/>
                </a:lnTo>
                <a:arcTo wR="21600" hR="8693" stAng="-203997" swAng="-5196003"/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7380360" y="3860640"/>
            <a:ext cx="50472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23"/>
          <p:cNvSpPr/>
          <p:nvPr/>
        </p:nvSpPr>
        <p:spPr>
          <a:xfrm flipH="1" rot="21150600">
            <a:off x="5867280" y="5300280"/>
            <a:ext cx="1368720" cy="360360"/>
          </a:xfrm>
          <a:custGeom>
            <a:avLst/>
            <a:gdLst>
              <a:gd name="textAreaLeft" fmla="*/ 171000 w 1368720"/>
              <a:gd name="textAreaRight" fmla="*/ 1197720 w 1368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24"/>
          <p:cNvSpPr/>
          <p:nvPr/>
        </p:nvSpPr>
        <p:spPr>
          <a:xfrm flipH="1" flipV="1">
            <a:off x="2916000" y="5516280"/>
            <a:ext cx="1655640" cy="122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utoShape 25"/>
          <p:cNvSpPr/>
          <p:nvPr/>
        </p:nvSpPr>
        <p:spPr>
          <a:xfrm>
            <a:off x="1600200" y="3581280"/>
            <a:ext cx="289080" cy="792360"/>
          </a:xfrm>
          <a:prstGeom prst="upArrow">
            <a:avLst>
              <a:gd name="adj1" fmla="val 50000"/>
              <a:gd name="adj2" fmla="val 68524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26"/>
          <p:cNvSpPr/>
          <p:nvPr/>
        </p:nvSpPr>
        <p:spPr>
          <a:xfrm flipH="1" flipV="1">
            <a:off x="1331640" y="1916280"/>
            <a:ext cx="431640" cy="107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27"/>
          <p:cNvSpPr/>
          <p:nvPr/>
        </p:nvSpPr>
        <p:spPr>
          <a:xfrm>
            <a:off x="152280" y="632376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СХЕМА БИОЛОГИЧЕСКОГО  ЦИКЛА РАЗВИТИЯ ОПИСТОРХИСА (4 - 4,5 мес.)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28"/>
          <p:cNvSpPr/>
          <p:nvPr/>
        </p:nvSpPr>
        <p:spPr>
          <a:xfrm>
            <a:off x="539640" y="2637000"/>
            <a:ext cx="8353440" cy="0"/>
          </a:xfrm>
          <a:prstGeom prst="line">
            <a:avLst/>
          </a:prstGeom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29"/>
          <p:cNvSpPr/>
          <p:nvPr/>
        </p:nvSpPr>
        <p:spPr>
          <a:xfrm>
            <a:off x="3429000" y="5791320"/>
            <a:ext cx="3657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Моллюск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diell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nflat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diella tracchell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омежуточный хозяи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30"/>
          <p:cNvSpPr/>
          <p:nvPr/>
        </p:nvSpPr>
        <p:spPr>
          <a:xfrm>
            <a:off x="6400800" y="22860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Половозрелая особь ( марит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в печен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31"/>
          <p:cNvSpPr/>
          <p:nvPr/>
        </p:nvSpPr>
        <p:spPr>
          <a:xfrm>
            <a:off x="4572000" y="45720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Достижение половозрелости ≈4 не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32" descr=""/>
          <p:cNvPicPr/>
          <p:nvPr/>
        </p:nvPicPr>
        <p:blipFill>
          <a:blip r:embed="rId15"/>
          <a:srcRect l="17439" t="0" r="16359" b="0"/>
          <a:stretch/>
        </p:blipFill>
        <p:spPr>
          <a:xfrm>
            <a:off x="7238880" y="2971800"/>
            <a:ext cx="822600" cy="1143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3"/>
          <p:cNvSpPr/>
          <p:nvPr/>
        </p:nvSpPr>
        <p:spPr>
          <a:xfrm>
            <a:off x="8077320" y="34290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яйц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34"/>
          <p:cNvSpPr/>
          <p:nvPr/>
        </p:nvSpPr>
        <p:spPr>
          <a:xfrm>
            <a:off x="7391520" y="54864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Яйцо с мирацидие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36"/>
          <p:cNvSpPr/>
          <p:nvPr/>
        </p:nvSpPr>
        <p:spPr>
          <a:xfrm>
            <a:off x="990720" y="5943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спороцис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37"/>
          <p:cNvSpPr/>
          <p:nvPr/>
        </p:nvSpPr>
        <p:spPr>
          <a:xfrm>
            <a:off x="2286000" y="57150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ред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38"/>
          <p:cNvSpPr/>
          <p:nvPr/>
        </p:nvSpPr>
        <p:spPr>
          <a:xfrm>
            <a:off x="1981080" y="41148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церкар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39"/>
          <p:cNvSpPr/>
          <p:nvPr/>
        </p:nvSpPr>
        <p:spPr>
          <a:xfrm>
            <a:off x="533520" y="15228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Сохранение метацеркариев в рыбе до 9 л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40"/>
          <p:cNvSpPr/>
          <p:nvPr/>
        </p:nvSpPr>
        <p:spPr>
          <a:xfrm>
            <a:off x="152280" y="190512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Созреван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≈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6 не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41"/>
          <p:cNvSpPr/>
          <p:nvPr/>
        </p:nvSpPr>
        <p:spPr>
          <a:xfrm>
            <a:off x="2895480" y="28195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Окончательные хозяева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o.feline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42"/>
          <p:cNvSpPr/>
          <p:nvPr/>
        </p:nvSpPr>
        <p:spPr>
          <a:xfrm>
            <a:off x="2133720" y="34290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рыбы сем.карповы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Дополнительный хозя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43"/>
          <p:cNvSpPr/>
          <p:nvPr/>
        </p:nvSpPr>
        <p:spPr>
          <a:xfrm>
            <a:off x="4724280" y="39625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озрев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≈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1-1,5 мес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44"/>
          <p:cNvSpPr/>
          <p:nvPr/>
        </p:nvSpPr>
        <p:spPr>
          <a:xfrm>
            <a:off x="1981080" y="434340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(не более 2 суток в воде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45"/>
          <p:cNvSpPr/>
          <p:nvPr/>
        </p:nvSpPr>
        <p:spPr>
          <a:xfrm>
            <a:off x="6629400" y="46483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До 70-100 суток в в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44"/>
          <p:cNvSpPr/>
          <p:nvPr/>
        </p:nvSpPr>
        <p:spPr>
          <a:xfrm flipH="1" rot="10800000">
            <a:off x="375120" y="3580920"/>
            <a:ext cx="910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56"/>
                </a:solidFill>
                <a:latin typeface="Tahoma"/>
              </a:rPr>
              <a:t>Активное внедрение в толщу мышц рыб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Рыба  семейства карповых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00040" y="1000080"/>
            <a:ext cx="8043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3 вида рыб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з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щ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п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бак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лец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н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асноперк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зан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скарь и д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ась — личинки описторхисов находятся в спинном плавнике, жабрах и язык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Метацеркарий </a:t>
            </a:r>
            <a:r>
              <a:rPr b="0" i="1" lang="en-US" sz="2400" spc="-1" strike="noStrike">
                <a:solidFill>
                  <a:srgbClr val="ccffff"/>
                </a:solidFill>
                <a:latin typeface="Tahoma"/>
              </a:rPr>
              <a:t>Opisthorchis felineus 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в мышечной ткани рыбы (плотва). Ув. 30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2" descr="http://www.rosmedlib.ru/cgi-bin/mb4?usr_data=gd-image(doc,ISBN9785970428771-0006,pic_0182.jpg,-1,,00000000,)&amp;hide_Cookie=yes"/>
          <p:cNvPicPr/>
          <p:nvPr/>
        </p:nvPicPr>
        <p:blipFill>
          <a:blip r:embed="rId1"/>
          <a:stretch/>
        </p:blipFill>
        <p:spPr>
          <a:xfrm>
            <a:off x="500040" y="1428840"/>
            <a:ext cx="78580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Животные – окончательные хозяева </a:t>
            </a:r>
            <a:r>
              <a:rPr b="1" lang="en-US" sz="3200" spc="-1" strike="noStrike">
                <a:solidFill>
                  <a:srgbClr val="ffc000"/>
                </a:solidFill>
                <a:latin typeface="Arial Black"/>
              </a:rPr>
              <a:t>O.</a:t>
            </a: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c000"/>
                </a:solidFill>
                <a:latin typeface="Arial Black"/>
              </a:rPr>
              <a:t>felineus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(34 вида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800600" y="1999800"/>
            <a:ext cx="365760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ба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вин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42920" y="1928880"/>
            <a:ext cx="427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ис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л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се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рс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урый медвед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орноста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бо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осомах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ор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обр и д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286160" y="135720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Домашние плотоядны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0" y="135720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Дикие плотоядны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Патогенез описторхоза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13840" y="1600200"/>
            <a:ext cx="8472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Скругленный прямоугольник 3"/>
          <p:cNvSpPr/>
          <p:nvPr/>
        </p:nvSpPr>
        <p:spPr>
          <a:xfrm>
            <a:off x="285840" y="2571840"/>
            <a:ext cx="3500280" cy="100008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Ранняя фаза ил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острый описторхоз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(4–8 и более недель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Скругленный прямоугольник 4"/>
          <p:cNvSpPr/>
          <p:nvPr/>
        </p:nvSpPr>
        <p:spPr>
          <a:xfrm>
            <a:off x="4643280" y="2571840"/>
            <a:ext cx="3429000" cy="100008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Поздняя фаза или хронический описторхоз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(много ле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Выгнутая вправо стрелка 6"/>
          <p:cNvSpPr/>
          <p:nvPr/>
        </p:nvSpPr>
        <p:spPr>
          <a:xfrm>
            <a:off x="2071800" y="1143000"/>
            <a:ext cx="2160360" cy="1573200"/>
          </a:xfrm>
          <a:custGeom>
            <a:avLst/>
            <a:gdLst>
              <a:gd name="textAreaLeft" fmla="*/ 289440 w 2160360"/>
              <a:gd name="textAreaRight" fmla="*/ 1870920 w 2160360"/>
              <a:gd name="textAreaTop" fmla="*/ 245520 h 1573200"/>
              <a:gd name="textAreaBottom" fmla="*/ 1130760 h 15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61407"/>
                <a:lnTo>
                  <a:pt x="3932" y="21487"/>
                </a:lnTo>
                <a:lnTo>
                  <a:pt x="0" y="16200"/>
                </a:lnTo>
                <a:lnTo>
                  <a:pt x="3932" y="10687"/>
                </a:lnTo>
                <a:lnTo>
                  <a:pt x="3932" y="13387"/>
                </a:lnTo>
                <a:arcTo wR="21600" hR="6750" stAng="3561407" swAng="-3095421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Выгнутая влево стрелка 7"/>
          <p:cNvSpPr/>
          <p:nvPr/>
        </p:nvSpPr>
        <p:spPr>
          <a:xfrm>
            <a:off x="4214880" y="1143000"/>
            <a:ext cx="2214360" cy="1643040"/>
          </a:xfrm>
          <a:custGeom>
            <a:avLst/>
            <a:gdLst>
              <a:gd name="textAreaLeft" fmla="*/ 296640 w 2214360"/>
              <a:gd name="textAreaRight" fmla="*/ 1917720 w 2214360"/>
              <a:gd name="textAreaTop" fmla="*/ 259560 h 1643040"/>
              <a:gd name="textAreaBottom" fmla="*/ 1189800 h 16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828" stAng="-5400000" swAng="-5400000"/>
                <a:lnTo>
                  <a:pt x="0" y="12228"/>
                </a:lnTo>
                <a:arcTo wR="21600" hR="6828" stAng="10800000" swAng="-3549505"/>
                <a:lnTo>
                  <a:pt x="17594" y="21482"/>
                </a:lnTo>
                <a:lnTo>
                  <a:pt x="21600" y="16355"/>
                </a:lnTo>
                <a:lnTo>
                  <a:pt x="17594" y="10992"/>
                </a:lnTo>
                <a:lnTo>
                  <a:pt x="17594" y="13537"/>
                </a:lnTo>
                <a:arcTo wR="21600" hR="6828" stAng="7250495" swAng="3084505"/>
                <a:lnTo>
                  <a:pt x="1761" y="9528"/>
                </a:lnTo>
                <a:arcTo wR="21600" hR="6828" stAng="-10335000" swAng="4935000"/>
                <a:close/>
              </a:path>
              <a:path fill="darkenLess" w="21600" h="21600">
                <a:moveTo>
                  <a:pt x="21600" y="0"/>
                </a:moveTo>
                <a:arcTo wR="21600" hR="6828" stAng="-5400000" swAng="-5400000"/>
                <a:lnTo>
                  <a:pt x="0" y="6828"/>
                </a:lnTo>
                <a:arcTo wR="21600" hR="6828" stAng="10800000" swAng="-465000"/>
                <a:lnTo>
                  <a:pt x="1761" y="9528"/>
                </a:lnTo>
                <a:arcTo wR="21600" hR="6828" stAng="-10335000" swAng="4935000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Скругленный прямоугольник 8"/>
          <p:cNvSpPr/>
          <p:nvPr/>
        </p:nvSpPr>
        <p:spPr>
          <a:xfrm>
            <a:off x="285840" y="3643200"/>
            <a:ext cx="7715160" cy="307188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Основные механизмы патогенеза описторхоз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3"/>
                </a:solidFill>
                <a:latin typeface="Tahoma"/>
              </a:rPr>
              <a:t>механическое воздействие на ткани хозя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3"/>
                </a:solidFill>
                <a:latin typeface="Tahoma"/>
              </a:rPr>
              <a:t>рефлекторный механиз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3"/>
                </a:solidFill>
                <a:latin typeface="Tahoma"/>
              </a:rPr>
              <a:t>иммунологические и иммунопатологические реак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3"/>
                </a:solidFill>
                <a:latin typeface="Tahoma"/>
              </a:rPr>
              <a:t>токсическое воздействие  продуктов метаболизма описторхи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3"/>
                </a:solidFill>
                <a:latin typeface="Tahoma"/>
              </a:rPr>
              <a:t>вторично-инфекционный</a:t>
            </a:r>
            <a:r>
              <a:rPr b="0" lang="ru-RU" sz="2000" spc="-1" strike="noStrike">
                <a:solidFill>
                  <a:srgbClr val="00004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43"/>
                </a:solidFill>
                <a:latin typeface="Tahoma"/>
              </a:rPr>
              <a:t>факто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 Black"/>
              </a:rPr>
              <a:t>Механическое воздействие паразита на ткани хозяина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600200"/>
            <a:ext cx="9001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реждение эпителия желчных и панкреатических протоков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перпластическая реакция эпителия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ие пролиферативного холангита и каналикулита поджелудочной железы             фиброз этих орган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ханическое раздражение стенок желчных протоков печени и панкреатических протоков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ие патологических висцеро-висцеральных рефлексов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ушение моторной и секреторной функции органов  ЖК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Стрелка вправо 4"/>
          <p:cNvSpPr/>
          <p:nvPr/>
        </p:nvSpPr>
        <p:spPr>
          <a:xfrm>
            <a:off x="2000160" y="2357280"/>
            <a:ext cx="500040" cy="142920"/>
          </a:xfrm>
          <a:prstGeom prst="rightArrow">
            <a:avLst>
              <a:gd name="adj1" fmla="val 50000"/>
              <a:gd name="adj2" fmla="val 53826"/>
            </a:avLst>
          </a:prstGeom>
          <a:solidFill>
            <a:srgbClr val="ffc000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Стрелка вправо 5"/>
          <p:cNvSpPr/>
          <p:nvPr/>
        </p:nvSpPr>
        <p:spPr>
          <a:xfrm>
            <a:off x="6000840" y="271476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Стрелка вправо 6"/>
          <p:cNvSpPr/>
          <p:nvPr/>
        </p:nvSpPr>
        <p:spPr>
          <a:xfrm>
            <a:off x="4214880" y="3429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Стрелка вправо 8"/>
          <p:cNvSpPr/>
          <p:nvPr/>
        </p:nvSpPr>
        <p:spPr>
          <a:xfrm>
            <a:off x="5786280" y="4429080"/>
            <a:ext cx="57168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Стрелка вправо 9"/>
          <p:cNvSpPr/>
          <p:nvPr/>
        </p:nvSpPr>
        <p:spPr>
          <a:xfrm>
            <a:off x="2214720" y="5072040"/>
            <a:ext cx="571320" cy="142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814720" y="1571760"/>
            <a:ext cx="3328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- 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Opisthorchis felineus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Rivolta,1884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 - 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Metorchis bilis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Braun, 1890) на гистологическом срезе в просвете внутрипеченочных желчных протоков. Окраска гематоксилином и эозином. Ув. 1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2" descr="http://www.rosmedlib.ru/cgi-bin/mb4?usr_data=gd-image(doc,ISBN9785970428771-0006,pic_0183.jpg,-1,,00000000,)&amp;hide_Cookie=yes"/>
          <p:cNvPicPr/>
          <p:nvPr/>
        </p:nvPicPr>
        <p:blipFill>
          <a:blip r:embed="rId1"/>
          <a:stretch/>
        </p:blipFill>
        <p:spPr>
          <a:xfrm>
            <a:off x="65160" y="1285920"/>
            <a:ext cx="550692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Описторхоз –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br>
              <a:rPr sz="5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1285560"/>
            <a:ext cx="900108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некишечный природно-очаговый биогельминтоз, вызываемый трематодами из семейства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pisthorchida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характеризующийся полиморфизмом клинических проявлений, обусловленных паразитированием этих гельминтов в желчных протоках печени и протоках поджелудочной железы и длительным, пожизненным течени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507204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еноматозные разрастания эпителия внутрипеченочного желчного протока у человека с инвазией описторхов. Частичная десквамация однослойного цилиндрического эпителия, контактирующего с гельминтом. Ув. 37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2" descr="http://www.rosmedlib.ru/cgi-bin/mb4?usr_data=gd-image(doc,ISBN9785970428771-0006,pic_0184.jpg,-1,,00000000,)&amp;hide_Cookie=yes"/>
          <p:cNvPicPr/>
          <p:nvPr/>
        </p:nvPicPr>
        <p:blipFill>
          <a:blip r:embed="rId1"/>
          <a:stretch/>
        </p:blipFill>
        <p:spPr>
          <a:xfrm>
            <a:off x="214200" y="214200"/>
            <a:ext cx="671508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пителиальные пролифераты регистрируются и в тех  мелких протоках, которые не содержат паразитов. Такие же изменения выявляются и в органах, не являющихся местом даже временного обитания гельминтов (н-р, в желудк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Вторично-инфекционный фактор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2920" y="1214280"/>
            <a:ext cx="88581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лиферативные процессы в желчных протоках, механическая закупорка желчных ходов гельминтами, слущенным эпителием, слизь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чная гипертензия, ДЖВП, стаз желч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агоприятные условия для развития вторичной инфекции (кишечная палочка, стафилококки, дрожжеподобные грибки, микробные ассоциаци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Стрелка вниз 3"/>
          <p:cNvSpPr/>
          <p:nvPr/>
        </p:nvSpPr>
        <p:spPr>
          <a:xfrm>
            <a:off x="4143240" y="264312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Стрелка вниз 4"/>
          <p:cNvSpPr/>
          <p:nvPr/>
        </p:nvSpPr>
        <p:spPr>
          <a:xfrm>
            <a:off x="4143240" y="3714840"/>
            <a:ext cx="484200" cy="85716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39640" y="1197000"/>
            <a:ext cx="822960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Токсическое воздействие продуктов метаболи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(секреторно-экскреторные антигены описторхи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Э антигены описторхисов преодолевают эпителиальный барьер </a:t>
            </a:r>
            <a:r>
              <a:rPr b="1" lang="ru-RU" sz="2800" spc="-1" strike="noStrike">
                <a:solidFill>
                  <a:srgbClr val="ffc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ступают в кровеносное русло </a:t>
            </a:r>
            <a:r>
              <a:rPr b="1" lang="ru-RU" sz="2800" spc="-1" strike="noStrike">
                <a:solidFill>
                  <a:srgbClr val="ffc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оксическое воздействие на организм, альтеративные изменения в органах локализации паразита и др. орган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Ведущая роль иммунологических и иммунопатологических реакций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42920" y="1600200"/>
            <a:ext cx="885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357120" y="1714680"/>
            <a:ext cx="87868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которые вовлекаются все системы организм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ни все в совокупности и взаимообусловленности определяют характер гельминтоза в виде острой и хронической фаз заболевания с различными проявлениями боле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т уровня и характера формирования иммунного ответа на инвазию зависит степень патологических изменений в организме челове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Ведущая роль иммунологических и иммунопатологических реакций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2920" y="1600200"/>
            <a:ext cx="885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Прямоугольник 6"/>
          <p:cNvSpPr/>
          <p:nvPr/>
        </p:nvSpPr>
        <p:spPr>
          <a:xfrm>
            <a:off x="0" y="1857240"/>
            <a:ext cx="91440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тупление антигенов        синтез антител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g </a:t>
            </a: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M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)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зование  комплексов а/ген + а/тело                  дегрануляция тучных клеток, базофи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деление медиаторов аллерг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ушение функций органов и систем организ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линические проявле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гиперэозинофилия, экзантемы, лихорадка, гепатит, гастрит, миокардит, системные ваксулиты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Стрелка вправо 4"/>
          <p:cNvSpPr/>
          <p:nvPr/>
        </p:nvSpPr>
        <p:spPr>
          <a:xfrm>
            <a:off x="3500280" y="2000160"/>
            <a:ext cx="42876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Стрелка вправо 5"/>
          <p:cNvSpPr/>
          <p:nvPr/>
        </p:nvSpPr>
        <p:spPr>
          <a:xfrm>
            <a:off x="8143920" y="2000160"/>
            <a:ext cx="42876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Стрелка вправо 7"/>
          <p:cNvSpPr/>
          <p:nvPr/>
        </p:nvSpPr>
        <p:spPr>
          <a:xfrm>
            <a:off x="607212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Стрелка вправо 8"/>
          <p:cNvSpPr/>
          <p:nvPr/>
        </p:nvSpPr>
        <p:spPr>
          <a:xfrm>
            <a:off x="6072120" y="2643120"/>
            <a:ext cx="57168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Стрелка вправо 9"/>
          <p:cNvSpPr/>
          <p:nvPr/>
        </p:nvSpPr>
        <p:spPr>
          <a:xfrm>
            <a:off x="485784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Ведущая роль иммунологических и иммунопатологических реакций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2920" y="1600200"/>
            <a:ext cx="885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Прямоугольник 6"/>
          <p:cNvSpPr/>
          <p:nvPr/>
        </p:nvSpPr>
        <p:spPr>
          <a:xfrm>
            <a:off x="0" y="1857240"/>
            <a:ext cx="9144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Прямоугольник 10"/>
          <p:cNvSpPr/>
          <p:nvPr/>
        </p:nvSpPr>
        <p:spPr>
          <a:xfrm>
            <a:off x="214200" y="1500120"/>
            <a:ext cx="8715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азвитие реакций замедленного тип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нсибилизация антигенами описторхис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-лимфоцит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едующее взаимодействие антигенов с сенсибилизированными рецепторами лимфоцитов       повреждение  Т-лимфоцитов, нарушение процессов дифференцировки и коопер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ение активности иммунного отв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Стрелка вправо 11"/>
          <p:cNvSpPr/>
          <p:nvPr/>
        </p:nvSpPr>
        <p:spPr>
          <a:xfrm>
            <a:off x="8715240" y="385776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Стрелка вправо 12"/>
          <p:cNvSpPr/>
          <p:nvPr/>
        </p:nvSpPr>
        <p:spPr>
          <a:xfrm>
            <a:off x="7643880" y="4643280"/>
            <a:ext cx="571320" cy="214560"/>
          </a:xfrm>
          <a:prstGeom prst="rightArrow">
            <a:avLst>
              <a:gd name="adj1" fmla="val 50000"/>
              <a:gd name="adj2" fmla="val 49927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85840" y="213840"/>
            <a:ext cx="88581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000"/>
                </a:solidFill>
                <a:uFillTx/>
                <a:latin typeface="Tahoma"/>
              </a:rPr>
              <a:t>Гранулематозное воспаление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обая форма хронического воспаления, возникающего в ответ на действие персистирующего, чаще иммунного раздражи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ff00"/>
                </a:solidFill>
                <a:uFillTx/>
                <a:latin typeface="Tahoma"/>
              </a:rPr>
              <a:t>2 типа гранулем при описторхозе :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нулемы, индуцированные яйцами описторхисов  (2/3 гранулем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нулемы, индуцированные метаболитами парази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ff00"/>
                </a:solidFill>
                <a:uFillTx/>
                <a:latin typeface="Tahoma"/>
              </a:rPr>
              <a:t>Локализация</a:t>
            </a: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ечень, стенки желчных протоков,  желчный пузырь, поджелудочная желез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2-перстная киш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Фазы развития гранулемы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142884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С цикличностью течения гранулематозного воспаления связано рецидивирующее течение воспаления при описторхозе, с периодическим поступлением антигенного материала (секреторно-экскреторных антигенов, яиц, некротизированной ткан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Скругленный прямоугольник 3"/>
          <p:cNvSpPr/>
          <p:nvPr/>
        </p:nvSpPr>
        <p:spPr>
          <a:xfrm>
            <a:off x="1857240" y="1500120"/>
            <a:ext cx="5429520" cy="164304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фаза иници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фаза активной грануле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фаза увяд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0" y="-3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Ярко выраженный иммунологический и иммунопатологический характер заболе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Значительная роль в патогенезе сенсибилизации метаболитными антигенами описторхи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Относительная независимость</a:t>
            </a: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поражений внутренних органов от их непосредственного контакта с паразит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 Black"/>
              </a:rPr>
              <a:t>История открытия </a:t>
            </a:r>
            <a:r>
              <a:rPr b="0" lang="en-US" sz="3600" spc="-1" strike="noStrike">
                <a:solidFill>
                  <a:srgbClr val="ffc000"/>
                </a:solidFill>
                <a:latin typeface="Arial Black"/>
              </a:rPr>
              <a:t>Opisthorchis</a:t>
            </a:r>
            <a:r>
              <a:rPr b="0" lang="ru-RU" sz="36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c000"/>
                </a:solidFill>
                <a:latin typeface="Arial Black"/>
              </a:rPr>
              <a:t>felineus 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volt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1884) обнаружил у кошек —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isthorchi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omu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lineu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описторхис кошачьий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.Н.Виноградов (1891) при вскрытии трупа обнаружил новую трематоду и назвал ее сибирской двуусткой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omum sibiricu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— возбудитель «обской болезн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94 г. Браун доказал идентичность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omum felineu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volt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1884) из кошек и собак с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omum sibiricu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Виноградов, 1891) из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929 г. – сообщение о 100 больных (за 6 мес.) в Тобольске, организация гельминтологических экспедиций, обнаружение Обь-Иртышского оча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438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 Black"/>
              </a:rPr>
              <a:t>Иммунитет при описторхозе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2920" y="785880"/>
            <a:ext cx="88581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титела против соматических антигенов не вырабатываются, т. к. кутикула (оболочка) живых гельминтов непроходима для соматических антиген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титела в организме хозяина вырабатываются только против СЭ антиге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мунитет при гельминтозах не предотвращает ре- и суперинвазию,  ограничивает возможность развития паразита и вызывает задержку развития паразитов на стадии личин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. о. особенность иммунитета при описторхозе — сохранение возбудителя в иммунном организ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Клиника  описторхоз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Острый описторх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аппарантна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инически выраженная фор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Хронический описторх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атентн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Клинически выраж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фор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Line 4"/>
          <p:cNvSpPr/>
          <p:nvPr/>
        </p:nvSpPr>
        <p:spPr>
          <a:xfrm flipH="1">
            <a:off x="2133360" y="2133720"/>
            <a:ext cx="236196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4495680" y="2133720"/>
            <a:ext cx="213372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Line 8"/>
          <p:cNvSpPr/>
          <p:nvPr/>
        </p:nvSpPr>
        <p:spPr>
          <a:xfrm>
            <a:off x="4286160" y="4643280"/>
            <a:ext cx="2286000" cy="6908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Line 12"/>
          <p:cNvSpPr/>
          <p:nvPr/>
        </p:nvSpPr>
        <p:spPr>
          <a:xfrm flipH="1">
            <a:off x="1785600" y="4643280"/>
            <a:ext cx="2514600" cy="762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Почему в эндемичных очагах у коренных жителей чаще не выявляется клинически выраженная острая фаза болезни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</a:rPr>
              <a:t>?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150012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аборигенов (иммунное население) формируется иммунологическая толерантность супрессорного типа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мунологическая толерантность к описторхозному а/г формируется в связи с поступлением описторхозного а/г  на ранних стадиях эмбриогенеза (секреторно-экскреторные а/гены обнаруживаются в пуповинной крови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рождения уже зрелый организм воспринимает этот а/ген как «свое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Заболеваемость описторхозом населения</a:t>
            </a:r>
            <a:br>
              <a:rPr sz="2400"/>
            </a:b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НСО</a:t>
            </a:r>
            <a:br>
              <a:rPr sz="2400"/>
            </a:b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ccffff"/>
                </a:solidFill>
                <a:latin typeface="Tahoma"/>
              </a:rPr>
              <a:t>(абс.значения по данным городского центра сан.эпид.надзора)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64" name="Рисунок 1" descr=""/>
          <p:cNvPicPr/>
          <p:nvPr/>
        </p:nvPicPr>
        <p:blipFill>
          <a:blip r:embed="rId1"/>
          <a:stretch/>
        </p:blipFill>
        <p:spPr>
          <a:xfrm>
            <a:off x="493560" y="1844640"/>
            <a:ext cx="8193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 Black"/>
              </a:rPr>
              <a:t>Инаппарантная (субклиническая) форма</a:t>
            </a:r>
            <a:r>
              <a:rPr b="0" lang="ru-RU" sz="3600" spc="-1" strike="noStrike">
                <a:solidFill>
                  <a:srgbClr val="ffc000"/>
                </a:solidFill>
                <a:latin typeface="Arial Black"/>
              </a:rPr>
              <a:t> острого описторхоза 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150012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яется случайн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очувствие больных  хорошее, жалоб не предъявля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исследовании периферической крови выявляется большая эозинофил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 Black"/>
              </a:rPr>
              <a:t>Острая фаза описторхоза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14264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кубационный период — 2–3 не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й — </a:t>
            </a: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токсико-аллергический синдром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воздействие метаболитов, выделяемых личинками при миграции и созревани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Основные проявления клинически выраженной острой фаз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600200"/>
            <a:ext cx="91440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ихорад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(от 3-4 дн. до нескольких недель)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тоянная, ремиттирующая,  интермиттирующ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токсикационный синдром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ртралг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иалги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кзантем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мелкоточечная, розеолезная. розеолезно-петехиальная, макулопапулезная, уртикар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99ff99"/>
                </a:solidFill>
                <a:latin typeface="Tahoma"/>
              </a:rPr>
              <a:t>Локализац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туловище (грудь, живот, спина), верхние конеч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99ff99"/>
                </a:solidFill>
                <a:latin typeface="Tahoma"/>
              </a:rPr>
              <a:t>Сроки появлен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1-ую нед, сохраняется 3-10 дн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толщенный, с отпечатками зубов язы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0" y="21420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Гепатобилиарный синдром: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и в правом подреберь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мптомы диспепсического характера (тошнота, рвота, изжога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туха (от субиктеричности до интенсивной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жный зуд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патомегал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ожительные пузырные симпто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ие уровня билирубина (больше за счет прямого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ие активности трансаминаз – АЛТ и А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ие активности ГГТП и Щ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 Black"/>
              </a:rPr>
              <a:t>Гастроэнтероколитический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Arial Black"/>
              </a:rPr>
              <a:t>синдром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21428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блюдается редко и преимущественно у де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вышение температуры до 37,5–38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7-8 дн.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меренно выраженный интоксикационный синд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обладание симптомов поражения ЖК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и в эпигастри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жог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шнот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вота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стый жидкий стул иногда с примесью слиз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здутие живота, урчан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ективно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ложенный белым налетом язык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величение печен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езненность при пальпации толстой кишки, умбиликальной обла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6840" y="333000"/>
            <a:ext cx="85438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Бронхолегочный синдро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таральные проявления со стороны верхних дыхательных путей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стматоидный бронхит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озинофильные инфильтраты в легких (на 2-14 день болезни, чаще в прикорневых зонах, склонность к появлению в других отделах легких, исчезают через 6-10 дней; в  мокроте — до 20-30 % эозинофило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ссудативные плевриты (в эксудате — в большом количестве эозинофилы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Из 89 административных территорий РФ </a:t>
            </a:r>
            <a:br>
              <a:rPr sz="2800"/>
            </a:b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на 23 (25,8%) </a:t>
            </a: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регистрируются случаи описторхоза: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Алтайский кра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Новосибир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Ом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Том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Тюмен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Ханты-Мансийский автономный округ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Ямало-Ненецкий авт. округ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Кемеров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. Иркут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. Курган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1. Оренбург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. Перм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3. Киров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4. Свердлов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. Челябин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6. Республика Удмурт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7. Республика Башкортоста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8. Республика Татарста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9. Ростов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. Воронеж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1. Астрахан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2. Волгоград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3. Самар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Гастродуоденальный синдром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и в эпигастрии, пилородуоденальной зо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рыж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жо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в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ФГДС- от катаральных до эрозивных и язвенных изменений слизистой оболочки желудка и двенадцатиперстной киш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Поражение сердечно-сосудистой системы: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хикард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и в области серд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пото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ЭКГ-диффузные дистрофические изменения миокар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Поражение нервной системы: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 </a:t>
            </a:r>
            <a:br>
              <a:rPr sz="2800"/>
            </a:b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влечение в патологический процесс всех отделов      нервной системы в результата токсического угнетения коры головного моз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обладание тонуса парасимпатических отделов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бледность кожных покров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гипергидро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яркий красный дермографиз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68360" y="333000"/>
            <a:ext cx="82296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Тяжелые токсико-аллергические проявления острой фазы описторхоза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e701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рый эпидермальный некролиз (синдром Лайела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e701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ндром Стивена-Джонс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e701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рый миокард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e701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к Квинк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e701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апивниц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68360" y="333000"/>
            <a:ext cx="82296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ОАК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йкоцитоз до 20-60 ты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еренно повышенная СО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ahoma"/>
              </a:rPr>
              <a:t>эозинофил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— 20–40 %, иногда до 90 %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конца 1-ой — начала 2-ой недели,  максимум — конец 2-ой — начало 3-ей недел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ным уровень эозинофилов бывает в течение 2-4 ме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жет быть запаздывание эозинофильной реакции до 120 дн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0" y="0"/>
          <a:ext cx="9144000" cy="7505640"/>
        </p:xfrm>
        <a:graphic>
          <a:graphicData uri="http://schemas.openxmlformats.org/drawingml/2006/table">
            <a:tbl>
              <a:tblPr/>
              <a:tblGrid>
                <a:gridCol w="2700360"/>
                <a:gridCol w="3006720"/>
                <a:gridCol w="3436920"/>
              </a:tblGrid>
              <a:tr h="21348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Брюшной ти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Острый описторхо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пид анамне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пид. данные, указывающие на возможность заражения брюшным тиф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отребление в пищу рыбы семейства карповых (Обь-Иртышского бассейна), чаще приезжие в природный оча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чало заболе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епенно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начальный пери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 разга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 реконвалесценции (ранней, поздней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тр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знобы и по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характер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аю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хорад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 – постоянный, ремитирующий в период разга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 – постоянный, ремитирующий в период разга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ндром экзанте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ранее 8-10 ДБ,  единичные элементы розеоленые элементы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3- , на животе, груд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ще появляется ранее 8 ДБ, на 3-4 ДБ, розеолезная, пятнисто-папулезная, может быть на туловище, конечностях, возможно оби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зы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улигинозный язы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колько увеличен в размерах, с отпечатками зубов, обложен на корне спинке б-ж налет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Гепатоспленомегал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птом Падал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птом Филлипович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жет бы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Сту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о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стойчивый характер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может быть запор, сменяющийся диареей, без патологических примесей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ъиктеричность скл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характер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ый призна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ий анализ кров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В период разгара –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склонность к Лейкопении, лимфоцитоз, некоторое ускорение СОЭ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3-5 ДБ, в течение острого периода – выраженный лейкоцитоз, эозинофилия до 50-60 %, до лейкемоидной реак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. посев крови, мочи, кала на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lm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iph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ожит результ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ицат результ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ФА с описторхозным антиген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ицат результ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       1 : 4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: 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0" y="0"/>
          <a:ext cx="9144000" cy="6881760"/>
        </p:xfrm>
        <a:graphic>
          <a:graphicData uri="http://schemas.openxmlformats.org/drawingml/2006/table">
            <a:tbl>
              <a:tblPr/>
              <a:tblGrid>
                <a:gridCol w="2319480"/>
                <a:gridCol w="3582720"/>
                <a:gridCol w="3241800"/>
              </a:tblGrid>
              <a:tr h="44280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зна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страя фаза описторхо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ирусный гепатит 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20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пид. анамне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отребление в пищу рыбы семейства карповых (Обь-Иртышского бассейна), чаще приезжие в природный оча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пид. данные, указывающие на возможность заражения вирусным гепатитом 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хорад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правило выраженная и длите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ается в преджелтушном периоде и нормализуется  к 3-5 дню желтушного перио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намика симптомов интоксик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храняется длитель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появлением желтухи интоксикация уменьшается (при наличии легких и средних по степени тяжести форм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евой синдр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ражен при наличии гепатохолангитической фор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правило отсутствует или выражен нерез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птомы Ортнера, Ке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аю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правило, отсутствую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20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ий анализ кров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озинофилия  достигающая 30-90%, лейкоцитоз, умеренно ускоренная СО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йкопения, относительный или абсолютный лимфоцитоз, анэозинофилия, нормальная СО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ность АЛ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жет быть повышена ( у 50% больны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ышена у всех больны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ность А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измен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ыш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-360" y="-360"/>
            <a:ext cx="86979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ольная Б-ва Н.П., 28 лет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болевание началось остро, с повышения температуры до 38-39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6 дней). К врачу не обращалась, принимала ампициллин. Отсутствие эффекта заставило больную обратиться к врачу. Была заподозрена пневмония: сделан ОАК, рентгеноскопия грудной  клетки. Изменений в ОАК и в легких не обнаружили, и диагноз пневмонии был исключен. Но у больной сохранялась лихорадка и ей назначили ципрофлоксаци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12-й день заболевания температура нормализовалась, антибиотикотерапия была прекраще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рез 4 дня – вновь подъем температуры до 39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появилась зудящая сыпь и сухой кашель. Осмотрена дерматологом, который назначил какие-то мази. Эффекта от лечения не был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23-й день болезни в тяжелом состоянии, с температурой 39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ыпью, сильным зудом, сухим кашлем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тупила в больницу. При осмотре - в зеве разлитая гиперемия, язык малиновый, сосочковый. Лицо, ладони, подошвы ярко гиперемированы, отечны. На коже туловища, конечностей - обильная пятнисто-папулезная сыпь с тенденцией к слиянию и следы расчесов. Выявлялась системная лимфоаденопатия с преимущественным увеличением заднешейных лимфоузлов. Печень пальпировалась на 1 см из-под реберной дуг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АК — нормоцитоз, нейтропения с палочкоядерным сдвигом до 10%, относительный лимфоцитоз, увеличение СОЭ до 22 мм/час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-360" y="-360"/>
            <a:ext cx="86979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ная принята в стационар с диагнозом псевдотуберкулез, генерализованная форма (лихорадка, интоксикация, лимфоаденопатия, экзантема, сосочковый язык, гиперемия в зеве, гепатомегалия). Назначена десенсибилизирующая терапия и гентамици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3-ий день пребывания в стационаре (26 день болезни) состояние ухудшилось: усилилась гиперемия кожных покровов, которые приобрели малиновый цвет. Появился выраженный отек век типа Квинке. На коже туловища, конечностей усилилось высыпание пятнисто-папуллезной экзантемы, сливающейся местами в обширные эритематозные поля. В местах расчесов сыпь носила петехиальный характер. На слизистой щек появились участки некроза с десквамацией эпителия, усилились проявления гингивита, наросла разлитая гиперемия зева, ротовой полости. Температура при этом нормализовалас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АК нарос лейкоцитоз до 9х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9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/л, палочкоядерный сдвиг до 20%, сохранялись относительный лимфоцитоз и увеличенное СОЭ до 26 мм/ч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тщательном сборе эпиданамнеза выяснилось, что больная часто бывала у родителей в Ордынском районе, но употребление рыбы семейства карповых категорически отрицала. Однако подозрение на острый описторхоз  было, назначено овоскопическое исследование кала и дуоденального содержимого и ИФА с описторхозным антигеном (результат – отрицательный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Дифференциальный диагноз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инфекционный мононуклеоз (длительная лихорадка, увеличение заднешейных лимфоузлов, сохраняющийся лимфоцитоз, а аллергическая сыпь могла появиться  на фоне терапии ампициллин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связи с выраженным токсико-аллергическим синдромом больной назначили ГКС в инфузиях, энтеросорбенты, антибиотики отменил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рез сутки состояние улучшилось: сыпь стала угасат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вторно провели овоскопическое исследование кала и дуоденального содержимого —  яйца описторхисов не выявлялись,  реакция ИФА с описторхозным антигеном была отрицательной. Температура оставалась нормальной в течение 5 дн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рез месяц от начала заболевания (11 день пребывания в стационаре) – 3-я волна лихорадки гектического характера. На коже туловища, конечностей появилась полиморфно-экссудативная эритема с выраженным геморрагическим пропитыванием. Отдельные элементы сыпи на туловище носили уртикарный характер. Вновь усилились отечность лица и век. Больной был выставлен диагноз: лекарственная болезнь, токсико-аллергический дерматит Стивенса-Джонсона. Увеличены дозы гормонов, назначена экстракорпоральная детоксикация методом плазмафереза, что дало положительный эффект и через 4 дня лихорадка купировалась, сыпь стала угасать, на месте угасающей сыпи появилось пластинчатое шелуш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1428840"/>
            <a:ext cx="91440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лучаи заболевания описторхоз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естного или привозного происхождения зарегистрирован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на 87,6 %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административных территориях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фоне купирования токсикоаллергоза в крови стал нарастать лейкоцитоз с выраженной эозинофилией, которая колебалась от 44 % до 54 %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дуоденальном содержимом на 49 день от начала болезни  были обнаружены в небольшом количестве яица описторхис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Таким образом, течение острой фазы описторхоза у больной потребовало исключения </a:t>
            </a: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ОРВИ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, </a:t>
            </a: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пневмонии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, </a:t>
            </a: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инфекционного мононуклеоза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, </a:t>
            </a: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псевдотуберкулеза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 , </a:t>
            </a: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лекарственной болезни</a:t>
            </a:r>
            <a:r>
              <a:rPr b="0" i="1" lang="ru-RU" sz="2000" spc="-1" strike="noStrike">
                <a:solidFill>
                  <a:srgbClr val="ffc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Особенностью этого случая является  то, что эозинофильная реакция появилась в поздние сро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 Black"/>
              </a:rPr>
              <a:t>Хронический описторхоз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50012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торхоз — гельминтоз длительного течени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трая фаза всегда переходит в хроническу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роническая стадия описторхоза связана с жизнедеятельностью, персистенцией паразитов в желчных протоках печени и протоках поджелудочной желез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переходом в хроническую фазу симптоматика заболевания существенно изменяетс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чезновение лихорадки, улучшение самочувствия, нормализация ОА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части больных заболевание приобретает латентное теч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 Black"/>
              </a:rPr>
              <a:t>Латентная форма (10-12 %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50012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ще у коренного населения в очагах инвази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редко у лиц молодого возраста, инвазированных описторхис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обследовании этих лиц часто обнаруживают симптомы заболевания (увеличение печени, функциональные изменения печени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Синдром холангита, холецистит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увство тяжести или боли различного характера в правом подреберь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трыж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ошно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вота после грубых нарушений дие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епатомегал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ложительные пузырные симптомы  при обостр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стенический синдром: слабость, головные боли, утомляемость, раздражительность, затруднение перехода от сна к бодрствова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Характер жалоб определяется типом ДЖВ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-360" y="260280"/>
            <a:ext cx="90010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Гепати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стенический синдр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оли в правом подреберь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ошнота,  рво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трыж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лохая переносимость жирной пищ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ртралг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жный зу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епатомегал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желтуха при обострении болезни (от субиктеричности до умеренно выраженной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ЛТ и АСТ, ЩФ, ГГТП; диспротеинемия (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альбуминов,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обулинов), при развитии желтухи -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билируб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-360" y="333000"/>
            <a:ext cx="90010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 Black"/>
              </a:rPr>
              <a:t>Синдром панкреати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ханизм развития: внутрипротоковая гипертензия, обусловленная пребыванием описторхисов в протоках поджелудочной железы, развитие ДЖВП и двенадцатиперстной кишки +  сенсибилизация организма паразитарными антиген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лнообразное теч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боль в эпигастрии, левом или правом подреберье, реже — опоясывающ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испепсические расстройства (тошнота, рвота, отрыжка, вздутие живота, диаре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ухость кожных покровов, симптом «красных капелек» (симптом Тужилина), болезненность в эпигастрии, левом подреберье, положительный левосторонний френикус-феноме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ктивность амилазы повышена в течение 2-10 ч с момента обострения, с последующим быстрым возвратом к исходному уровню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0" y="333000"/>
            <a:ext cx="8686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Редкие формы панкреатит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ронический псевдоопухолевый панкреатит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— опухолевидное поражение поджелудочной железы, преимущественно головки при недостаточной проходимости главного протока поджелудочной желез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писторхозные кисты поджелудочной желез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— ретенционного характера, морфологически проявляются в виде одиночных больших кист тела и хвоста железы или в виде множественных мелких кист, чаще в области хвоста желе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Поражение желудка и двенадцатиперстной киш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астриты, дуодениты (от катаральных до эрозивных и язвенных)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собенности течения гастродуоденальной патологии у больных описторхозо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—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тсутствие сезонности обострений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—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ратковременность эффекта  при лечении блокаторами Н2-рецепторов и блокаторами протонной пом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0" y="40428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Поражение кишеч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теориз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апоры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но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ередование поносов и запо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оли в области пупка и внизу живо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переносимость молока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исбактерио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404280"/>
            <a:ext cx="85075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Поражение сердечно-сосудистой системы</a:t>
            </a: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хикард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и в области серд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клонность к гипото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ффузные дистрофические изменении миокар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9647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Заболеваемость описторхозом на 100 тыс. населения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5" name="Picture 1027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569440" cy="52516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28"/>
          <p:cNvSpPr/>
          <p:nvPr/>
        </p:nvSpPr>
        <p:spPr>
          <a:xfrm>
            <a:off x="611280" y="6490440"/>
            <a:ext cx="82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матер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иалам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Российского информационно- аналитического центра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комитета санитарно-эпидемиологического надзор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1030"/>
          <p:cNvSpPr/>
          <p:nvPr/>
        </p:nvSpPr>
        <p:spPr>
          <a:xfrm>
            <a:off x="4861080" y="559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1032"/>
          <p:cNvSpPr/>
          <p:nvPr/>
        </p:nvSpPr>
        <p:spPr>
          <a:xfrm>
            <a:off x="4343400" y="5715000"/>
            <a:ext cx="914400" cy="763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1033"/>
          <p:cNvSpPr/>
          <p:nvPr/>
        </p:nvSpPr>
        <p:spPr>
          <a:xfrm>
            <a:off x="4495680" y="44197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овосибирс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035"/>
          <p:cNvSpPr/>
          <p:nvPr/>
        </p:nvSpPr>
        <p:spPr>
          <a:xfrm>
            <a:off x="4648320" y="44197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1036"/>
          <p:cNvSpPr/>
          <p:nvPr/>
        </p:nvSpPr>
        <p:spPr>
          <a:xfrm>
            <a:off x="4419720" y="5638680"/>
            <a:ext cx="22860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0" y="404640"/>
            <a:ext cx="91440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Поражение нервной систем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астено-вегетативный синдро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дражительнос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аксив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охой и тревожный сон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ижение работоспособности, утомляем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гето-сосудистые криз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энцефальные криз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ервно-психические нарушен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похондрически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прессивны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сихопатическ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сихоастенический синдром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 Black"/>
              </a:rPr>
              <a:t>Осложнения описторхоза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39640" y="1915920"/>
            <a:ext cx="822960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749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ицирование желчевыводящих пу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749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бсцесс печ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749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лчный перитон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Arial Black"/>
              </a:rPr>
              <a:t>Роль описторхоза в канцерогенез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раженные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ролиферативные процессы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рганах локализации паразитов (промоторный процесс) 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мутаци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ммуносупрессорное действие описторхисов   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канцерогене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к поджелудочной желе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к печ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к желчного пузыря и прото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к БД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Стрелка вправо 3"/>
          <p:cNvSpPr/>
          <p:nvPr/>
        </p:nvSpPr>
        <p:spPr>
          <a:xfrm>
            <a:off x="7000920" y="2500200"/>
            <a:ext cx="97776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Стрелка вправо 4"/>
          <p:cNvSpPr/>
          <p:nvPr/>
        </p:nvSpPr>
        <p:spPr>
          <a:xfrm>
            <a:off x="3571920" y="3286080"/>
            <a:ext cx="97776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 Black"/>
              </a:rPr>
              <a:t>«Рецидивные» формы описторхоза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928440"/>
            <a:ext cx="9001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обенность иммунитета при гельминтозах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предотвращает возможности суперинвазии и повторного заражения после устранения бывшей инваз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мунитет при гельминтозах может задерживать развитие гельминта в организме иммунного хозяина, и в его организме могут одновременно паразитировать и зрелые формы, и т. н. 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дремлющие формы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овторных заражениях некоторые паразиты могут останавливаться в своем развитии на уровне личинки. Устранение антигельминтными препаратами половозрелых форм обеспечивает личинкам возможность продолжать развитие — 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рецидивные форм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болезн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цидив описторхоза может проявляться развитием состояния, напоминающего острую фазу описторхо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9"/>
          <p:cNvSpPr/>
          <p:nvPr/>
        </p:nvSpPr>
        <p:spPr>
          <a:xfrm>
            <a:off x="395280" y="1809360"/>
            <a:ext cx="85694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Б. Исследование фекал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Качественные методы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:                                                       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Количественные методы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142920" y="1055880"/>
            <a:ext cx="10121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. </a:t>
            </a:r>
            <a:r>
              <a:rPr b="1" lang="ru-RU" sz="20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Паразитологические (гельминтоовоскопические</a:t>
            </a:r>
            <a:r>
              <a:rPr b="0" lang="ru-RU" sz="18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. Исследование дуоденального содержим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Методы лабораторной диагностики описторхоза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0" name="Прямоугольник 11"/>
          <p:cNvSpPr/>
          <p:nvPr/>
        </p:nvSpPr>
        <p:spPr>
          <a:xfrm>
            <a:off x="500040" y="2714760"/>
            <a:ext cx="3000240" cy="12859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метод нативного маз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метод Като и Миу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метод Калантаря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метод Горяче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Прямоугольник 12"/>
          <p:cNvSpPr/>
          <p:nvPr/>
        </p:nvSpPr>
        <p:spPr>
          <a:xfrm>
            <a:off x="4857840" y="2714760"/>
            <a:ext cx="4143240" cy="107136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модифицированный метод Като-Катц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эфир-уксусный мет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эфир-формалиновый мет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Прямоугольник 13"/>
          <p:cNvSpPr/>
          <p:nvPr/>
        </p:nvSpPr>
        <p:spPr>
          <a:xfrm>
            <a:off x="2643120" y="4071960"/>
            <a:ext cx="379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II</a:t>
            </a:r>
            <a:r>
              <a:rPr b="1" lang="ru-RU" sz="20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. Иммунодиагнос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Прямоугольник 16"/>
          <p:cNvSpPr/>
          <p:nvPr/>
        </p:nvSpPr>
        <p:spPr>
          <a:xfrm>
            <a:off x="500040" y="4429080"/>
            <a:ext cx="8286840" cy="19861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Выявление противоописторхозных антител  в реакции ИФА с описторхозным антиген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В острую фазу описторхоза более чем у 90 % больных ИФА положительный (титр а/тел 1:400-1:80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В хроническую фазу титры а/тел  ниже, и реакция может быть отрицатель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314" name="Прямая со стрелкой 18"/>
          <p:cNvCxnSpPr/>
          <p:nvPr/>
        </p:nvCxnSpPr>
        <p:spPr>
          <a:xfrm flipH="1">
            <a:off x="1999440" y="2070720"/>
            <a:ext cx="2358360" cy="286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5" name="Прямая со стрелкой 20"/>
          <p:cNvCxnSpPr/>
          <p:nvPr/>
        </p:nvCxnSpPr>
        <p:spPr>
          <a:xfrm>
            <a:off x="4357440" y="2071440"/>
            <a:ext cx="2143800" cy="286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Tahoma"/>
              </a:rPr>
              <a:t>метод Като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28556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йца гельминтов обнаруживают в толстом мазке кала, просветленном глицерином и подкрашенном малахитовым зеле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проведения исследования используют такие реактив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месь Като: 6 мл 3 % водного раствора малахитового зеленого, 500 г глицерина, 500 мл 6 % раствора фенола (стабильна при хранении в закрытой посуде при комнатной температуре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ллофановые покровные пластинки по Като. Для приготовления пластинок гидрофильный целлофан разрезают на полоски размером 20x40 мм и погружают в смесь Като таким образом, чтобы они прилегали друг к другу (3—5 мл раствора Като на 100 пластинок). Через 24 ч пластинки готовы к употреблению, хранят их в растворе Като в хорошо закрытой посуде при комнатной температу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Мазок оставляют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омнатной температуре для осветления, после чего просматривают под микроскопом. Время осветления мазка зависит от температуры в помещении, но даже в прохладном помещении не должно превышать 1 ч; в жаркое время года во избежание пересушивания мазок исследуют через 30—40 ми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Tahoma"/>
              </a:rPr>
              <a:t>Уксусно - эфирный метод (седиментация)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од исследования: - В центрифужные градуированные пробирки налить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5 мл 5%-ного раствора уксусной кислоты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Добавить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1 г фекалий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количество фекалий, чтобы раствор в пробирке поднялся до 6 мл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Фекалии тщательно смешать с уксусной кислотой при помощи палочки (индивидуальной для каждого обследуемого), закрыть пробирку резиновой пробкой и интенсивно встряхнуть до образования однородной смеси и дать постоять 1 мин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Процедить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через воронку с металлическим ситечком или двухслойным бинтом в другую центрифужную пробирку (чтобы в новой пробирке процеженного раствора снова было 6 мл, если меньше, то дополнительно можно сполоснуть 5%-ным раствором уксусной кислоты воронку с бинтом, через который процеживали суспензию фекалий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Добавить в эту пробирку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4 мл эфир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т.е. до метки 10 мл, закрыть пробкой и энергично встряхивать в течение 30 с, держа при этом пробирку в горизонтальном положении (встряхивать в вытяжном шкафу, придерживая пробку), до получения эмульгированной смес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месь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центрифугируют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 3000 об/мин в течение 1 мин или в течение 2 мин при 1500 об/ми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Осадок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как правило, небольшой, бесцветный) нанести на предметные стекла пипеткой или непосредственно из пробирки, капли должны быть небольшими, по 2 капли на одном предметном стекле и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микроскопирова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Фармакокинетика и фармакодинамика  празиквантеля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ышение проницаемости клеточных мембран паразитов для ионов Са, сокращение мускулатуры паразитов, переходящее в спастический паралич; вызывает структурные нарушения кишечника, паренхимы, репродуктивных органов, нарушается углеводный обмен и блокируется синтез белка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парат быстро всасывается при приеме внутрь. Пик концентрации в плазме - через 1-2 ч. Выводится почками  преимущественно в виде метаболитов в течение 4 сут (90 % от введенной дозы выводится в первые 24 ч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Схема лечения больных описторхозом празиквантелем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8360" y="1483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зиквантель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Praziguantel,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ин.: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Biltricide, Azinox, Cesol, Cisticid, Pyguiton, Dronci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- назначается в  дозе 50,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6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75 мг на 1 кг массы тела в 3 приема с интервалами 4-6 ч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Arial Black"/>
              </a:rPr>
              <a:t>Противопоказания к приему препаратов празиквантел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рые интеркурентные заболев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ремен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Побочные действия: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ловная бол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ловокруж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е температур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шно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оли в правом подреберье и эпигастрии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бочные реакции обусловлены, главным образом, иммунологическими сдвигами, спровоцированными изменением метаболизма и гибелью паразитов с высвобождением паразитарных антигенов и токсическим действием празиквантел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Очаг Обь-Иртышского бассейн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1285560"/>
            <a:ext cx="9001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П</a:t>
            </a:r>
            <a:r>
              <a:rPr b="0" i="1" lang="ru-RU" sz="2400" spc="-1" strike="noStrike">
                <a:solidFill>
                  <a:srgbClr val="ffffff"/>
                </a:solidFill>
                <a:latin typeface="Arial Black"/>
              </a:rPr>
              <a:t>риродные предпосылки, обеспечивающие высокую зараженность рыб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обенности ландшафта (Западно-Сибирская низменность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обенности гидрологического режима Оби и Иртыша —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равномерное таяние льдов от верховий к низовья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ительный паводок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ирокая пойм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лгое стояние воды вне русл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роший ее прогрев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илие рыбы в рационе населения и отсутствие знаний о правилах обработки рыб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5715000" y="3786120"/>
            <a:ext cx="3214800" cy="12859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оптимальные условия для размножения моллюсков  Codiella , рыб семейства карпов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Стрелка вправо 4"/>
          <p:cNvSpPr/>
          <p:nvPr/>
        </p:nvSpPr>
        <p:spPr>
          <a:xfrm>
            <a:off x="4857840" y="4071960"/>
            <a:ext cx="785880" cy="57132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Этапы лечения больных: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1125360"/>
            <a:ext cx="9001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ahoma"/>
              </a:rPr>
              <a:t>I этап - подготовительная патогенетическая терапия (1-3 нед)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мплекс препаратов в соответствии с клинической картиной и тяжестью теч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лавными задачами этого этапа являются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Купирование аллергического, интоксикационного  синдромов – при остром описторхозе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Обеспечение должного оттока из желчевыводящих путей и протоков поджелудочной желез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Восстановление моторно–кинетической функции желчевыделительной систем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Назначение препаратов патогенетической терапии, направленных на регуляцию других синдромов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Этапы лечения больных: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ahoma"/>
              </a:rPr>
              <a:t>I этап </a:t>
            </a: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(продолжени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иета № 5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епатопротектор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пазмолитик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желчегонны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ерментные препарат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нтигистаминные средств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юбажи с минеральной водой через ден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 показаниям дезинтоксикационная терап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 Black"/>
              </a:rPr>
              <a:t>Классификация желчегонных препаратов: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Препараты, стимулирующие желчеобразовательную функцию печени – истинные желчегонные (холеретики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параты, содержащие желчные кисл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нтетические препараты (гидроксиметилникотинамид, оксафенамид, холонертон, циквалон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бинированные холерики (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аллох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дигестал, фестал, холензим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параты растительного происхождения (галстена, куренар, фламин, фуметерре, холагогум, холагол, холосас, холафлукс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параты, увеличивающие секрецию желчи за счет ее водного компонента (гидрохолеретики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 Black"/>
              </a:rPr>
              <a:t>Классификация желчегонных препаратов: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II. Препараты, стимулирующие желчевыведен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лекинетики, повышающие тонус желчного пузыря и снижающие тонус желчных путей (берберина биосульфита, ксилит, магния сульфат, сорбит, циквалон, олиметин, холагол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леспазмолитики, вызывающие расслабление тонуса желчных путей (атропина сульфат, платифиллин, теофиллин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Tahoma"/>
              </a:rPr>
              <a:t>ТЮБАЖ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тощак утром выпить 100-150 мл теплой (40-45 градусов) минеральной воды, в которой предварительно разводится 1 ст. л. Сульфата магния или карловарской соли, сорбита, ксилита, и сразу запить второй порцией минеральной воды в количестве 100-150 мл. В качестве другого желчегонного средства можно использовать 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/2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кана желчегонных трав. После того как выпита жидкость, лечь на правый бок с теплой грелкой на область печени, и лежать 1-1,5 часа. Далее встать, сделать 10-15 глубоких вдоха или 5-10 приседаний, позавтрак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Спазмолитики: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1214280"/>
            <a:ext cx="90010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о-шпа, папаверина гидрохлорид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мебеверина гидрохлорид (дюспаталин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ксимально эффективен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лективность в отношении ЖКТ и отсутствие побочных эффекто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ойной механизм действия (снижает тонус и уменьшает сократительную активность гладкой мускулатуры, при этом не оказывая влияния на нормальную перистальтику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сокая тропность к сфинктеру Одди (в 20–40 раз выше, чем у папаверина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ременная лекарственная форма, содержащая микросферы с постепенным высвобождением действующего веществ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-360" y="214200"/>
            <a:ext cx="9001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явлениях холестаз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параты урсодезоксихолевой кислот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показаниям применяются прокинетики, ферментные препараты, пре- и пробиотики, ноотропы, средства эрадикационной терап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изиолечение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кроволновая терапия, электрофорез с сернокислой магнези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nodeType="clickEffect" fill="hold">
                      <p:stCondLst>
                        <p:cond delay="indefinite"/>
                      </p:stCondLst>
                      <p:childTnLst>
                        <p:par>
                          <p:cTn id="1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Этапы лечения больных: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I I этап 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антигельминтная терапия (проводится только в период клинико-лабораторной ремиссии)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разиквантель (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Praziguantel,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ин.: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Biltricide, Azinox, Cesol, Cisticid, Pyguiton, Droncit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Этапы лечения больных: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I I I этап -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менее 1-2 мес. продолжается </a:t>
            </a: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патогенетическая терапи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м. I  этап), направленная на максимальное выведение продуктов жизнедеятельности и распада паразитов (желчегонная терапия, адекватная типу ДЖВП, сорбенты, для восстановления биоценоза кишечника – эубиотики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Диспансерное наблюдение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дится в течение 1 года (через 1, 3, 6, 9 и 12 мес. после лечения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льминтоовоскопические исследования фекалий не менее 3 раз в каждый из указанных сроков и исследование дуоденального содержим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Резидуальный описторхоз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и наличии резидуальных явлений (от англ. residual – остаток, остаточный) — клиническая реабилитация, т. к. устранение инвазии не всегда способствует полному клиническому выздоровлени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группе больных, пролеченных в острую фазу описторхоз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езидуальные явления зарегистрированы в 9,1% случае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хроническую – в 52,6%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nodeType="clickEffect" fill="hold">
                      <p:stCondLst>
                        <p:cond delay="indefinite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Очаг Обь-Иртышского бассейна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285920"/>
            <a:ext cx="8400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изовьях Иртыша и среднего течения Оби пораженность местного населения достигает 70-90 %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юменской обл. около 90 % коренного населения инвазировано описторхис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овосибирске в последние годы — от 124,1 до 145,8 больных на 100 тыс. жите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йствительные показатели выше: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не менее 30%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ителей Новосибирска страдают описторхоз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Профилактика описторхоза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еззараживание рыбы гарантируют следующие способы её обработк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Варка рыбы в течение 15-20 мин с момента закипа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Жаренье рыбы небольшими кусками, в распластанном виде, под крышкой, с добавлением большого количества жира в течение 15-20 ми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Приготовление котлет, тефтелей и др. из рыбы 15-20 м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Выпекание пирога с рыбой не менее 60 ми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Посол рыбы не менее 2 нед из расчета 2 кг соли на 10 кг рыб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9" dur="indefinite" restart="never" nodeType="tmRoot">
          <p:childTnLst>
            <p:seq>
              <p:cTn id="1510" dur="indefinite" nodeType="mainSeq">
                <p:childTnLst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nodeType="clickEffect" fill="hold">
                      <p:stCondLst>
                        <p:cond delay="indefinite"/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Профилактика описторхоза </a:t>
            </a:r>
            <a:r>
              <a:rPr b="0" i="1" lang="ru-RU" sz="2400" spc="-1" strike="noStrike">
                <a:solidFill>
                  <a:srgbClr val="ffc000"/>
                </a:solidFill>
                <a:latin typeface="Arial Black"/>
              </a:rPr>
              <a:t>(продолжение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еззараживание рыбы гарантируют следующие способы её обработк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 Вяление: а) посол в течение 2 нед из расчета 2 кг соли на 10 кг рыбы, вымачивание и вяление по вкусу; б) посол из расчета 2 кг соли на 10 кг рыбы, но в течение 3 дней, а затем, не вымачивая, вяление в течение 3 не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. Замораживание рыбы весом до 1 кг при температуре –28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в течение 40 ч, при температуре – 35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–10 ч. В бытовом холодильнике метацеркарии сохраняют жизнеспособность более месяц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. Перед холодным копчением рыбу предварительно обеззараживают путем посола (в течение 2 нед из расчета 2 кг соли на 10 кг рыбы) или замораживания (при температуре –28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в течение 40 ч, при температуре – 35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– 10 ч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9. Горячее копчение при температуре +70-80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в течение 2-2,5 ч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3" dur="indefinite" restart="never" nodeType="tmRoot">
          <p:childTnLst>
            <p:seq>
              <p:cTn id="1554" dur="indefinite" nodeType="mainSeq">
                <p:childTnLst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nodeType="clickEffect" fill="hold">
                      <p:stCondLst>
                        <p:cond delay="indefinite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ктуальность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760" y="7138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исло обращений за мед. помощью по многим группам заболеваний среди больных описторхозом — в 3-6 раз выше, чем среди неинвазирован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2 раза чаще патология беременности и слабость родовой деятельности у инвазирован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торхоз — патогенетический фактор формирования хр. брюшнотифозного  носительства ( в 12 раз чащ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3 раза чаще — тяжелое течение бронхиальной астм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4 раза чаще встречается сахарный диабет у инвазирован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чительно увеличивается риск первичного рака печени 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ncre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7:17:19Z</dcterms:created>
  <dc:creator>Вика</dc:creator>
  <dc:description/>
  <dc:language>en-US</dc:language>
  <cp:lastModifiedBy>Вика</cp:lastModifiedBy>
  <dcterms:modified xsi:type="dcterms:W3CDTF">2022-01-29T13:07:54Z</dcterms:modified>
  <cp:revision>185</cp:revision>
  <dc:subject/>
  <dc:title>Слайд 1</dc:title>
</cp:coreProperties>
</file>