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E2DE-05F3-4B34-A2BD-E7D3EBAD81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AB3F-9CD9-4597-8A7C-E4D677C2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488E-F200-4492-AE79-62419B2C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5B43-80D7-49B4-8DA9-555767EB61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FC71-9598-4D96-8953-2C3479E1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0BD0-504D-4E05-B827-BE5A9734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2A2A-51B1-4AEA-8269-45D75EB6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30BD-B1DC-4157-A48E-AABE2966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AC60-AE2A-4F42-A45B-55038F75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AB67-1EB9-47B6-A3C2-470AAF80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D500-DE50-4A66-8A63-66FA8458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81400-1954-4EFD-A43A-F669D5F6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AEBFA2-6F76-41F9-9B10-0A689B2BB3F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78588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Человек и природа в рассказе В.П. Астафьева «Зачем я убил коростеля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Задания группы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1143000"/>
            <a:ext cx="857232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 Найдите описание птицы. О каких эмоциях рассказчика говорят нам восклицательные предложения: "Явился бродяга! Добрался-таки! Дергач скрипит!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Какую роль в описании птицы играют олицетворения "коростель подает мне голос", "коростель прощает несмышленого мальчишку"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3. Почему рассказчик так ждет прилета коростелей? Что для него значит это событие? Каково отношение рассказчика к птиц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6400" y="571680"/>
            <a:ext cx="5191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5840" y="1285920"/>
            <a:ext cx="85723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 Сочинение-отзыв: Что я возьму в жизнь после прочтения рассказа В.П. Астафьева "Зачем я убил коростеля"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Что сближает рассказ В.П. Астафьева и стихотворение А. Яшина «Покормите птиц зимой»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</a:t>
            </a:r>
            <a:r>
              <a:rPr b="0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Красивый жёлтый цветок, который растёт в вод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Название одного из видов кос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3. Канавка на поверхности почвы, проведенная плугом или иным рыхлящим орудие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00080" y="64296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Задания кроссвор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4.Распространенное в Сибири название возвышенности, хол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5. Название многолетней тра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6. Заросли кустарниковой и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7. Как по-другому называется птица корост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8. Часть удочки, длинная гибкая палка, к которой прикреплена лес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71840" y="600084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924 - 2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4680" y="0"/>
            <a:ext cx="4459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5840" y="1143000"/>
            <a:ext cx="4071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Виктор Петрович Астафь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1 мая 1924 —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29 ноября 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78588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Человек и природа в рассказе В.П. Астафьева «Зачем я убил коростеля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Задания группы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285920"/>
            <a:ext cx="85154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  Какую роль в описании птицы играют глаголы? С какой целью  автор использует именно этот художественный пр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Опишите эмоциональное состояние рассказчика в момент описания п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3. Почему мальчик совершил такой поступ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Задания группы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420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 Описание мертвой птицы составляет почти 1/3 рассказа. Как вы думаете, почему автор так подробно описывает коросте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Какую роль в описании птицы играют эпитеты, сравнения, уменьшительно-ласкательные суффик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3. Опишите эмоциональное состояние рассказчика в момент описания п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4:17:29Z</dcterms:created>
  <dc:creator>Elena</dc:creator>
  <dc:description/>
  <dc:language>en-US</dc:language>
  <cp:lastModifiedBy>Elena</cp:lastModifiedBy>
  <dcterms:modified xsi:type="dcterms:W3CDTF">2014-05-06T18:32:57Z</dcterms:modified>
  <cp:revision>20</cp:revision>
  <dc:subject/>
  <dc:title>Человек и природа в рассказе В.П. Астафьева «Зачем я убил коростеля?»</dc:title>
</cp:coreProperties>
</file>