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62B5-9F9C-4696-9807-0A922C2C68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C791F-CCD7-4DCD-8E1A-460F03E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5694-8BA4-495F-A0AA-C28C840F9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D467C-5921-46D9-B903-F2A9BEE857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BF69-8E62-4C18-93BB-9358D0B2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6F681-54D7-43FF-980A-87A6A687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3008-862C-4EEB-A1CE-15DA142C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FCD4E-5BE1-4036-B3DE-C48929C6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6FB8-E198-4E3D-9044-C08E6B39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DE00E-B8D3-4589-B0F7-03F99E5F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FE56-1D28-4B3F-8E0E-27FA9A45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4E22A-20EF-49B3-A64E-8CCD6583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26DAB4-4A41-4B78-9584-C30EF7D5FC4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78588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Человек и природа в рассказе В.П. Астафьева «Зачем я убил коростеля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Задания группы №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1143000"/>
            <a:ext cx="857232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Найдите описание птицы. О каких эмоциях рассказчика говорят нам восклицательные предложения: "Явился бродяга! Добрался-таки! Дергач скрипит!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Какую роль в описании птицы играют олицетворения "коростель подает мне голос", "коростель прощает несмышленого мальчишку"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Почему рассказчик так ждет прилета коростелей? Что для него значит это событие? Каково отношение рассказчика к птиц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6400" y="571680"/>
            <a:ext cx="5191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5840" y="1285920"/>
            <a:ext cx="85723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Сочинение-отзыв: Что я возьму в жизнь после прочтения рассказа В.П. Астафьева "Зачем я убил коростеля"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Что сближает рассказ В.П. Астафьева и стихотворение А. Яшина «Покормите птиц зимой»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1643040"/>
            <a:ext cx="8229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</a:t>
            </a:r>
            <a:r>
              <a:rPr b="0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 </a:t>
            </a: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Красивый жёлтый цветок, который растёт в воде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Название одного из видов косы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Канавка на поверхности почвы, проведенная плугом или иным рыхлящим орудие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00080" y="64296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Задания кроссвор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4.Распространенное в Сибири название возвышенности, хол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5. Название многолетней тра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6. Заросли кустарниковой и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7. Как по-другому называется птица коросте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  <a:ea typeface="Microsoft YaHei"/>
              </a:rPr>
              <a:t>8. Часть удочки, длинная гибкая палка, к которой прикреплена лес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71840" y="600084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924 - 2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468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5840" y="1143000"/>
            <a:ext cx="4071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Виктор Петрович Астафье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1 мая 1924 —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9 ноября 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78588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Человек и природа в рассказе В.П. Астафьева «Зачем я убил коростеля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Задания группы №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1285920"/>
            <a:ext cx="851544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 Какую роль в описании птицы играют глаголы? С какой целью  автор использует именно этот художественный при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Опишите эмоциональное состояние рассказчика в момент описания п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Почему мальчик совершил такой поступ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  <a:ea typeface="Microsoft YaHei"/>
              </a:rPr>
              <a:t>Задания группы №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420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1. Описание мертвой птицы составляет почти 1/3 рассказа. Как вы думаете, почему автор так подробно описывает коросте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2. Какую роль в описании птицы играют эпитеты, сравнения, уменьшительно-ласкательные суффик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  <a:ea typeface="Microsoft YaHei"/>
              </a:rPr>
              <a:t>3. Опишите эмоциональное состояние рассказчика в момент описания птиц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6T14:17:29Z</dcterms:created>
  <dc:creator>Elena</dc:creator>
  <dc:description/>
  <dc:language>en-US</dc:language>
  <cp:lastModifiedBy>Elena</cp:lastModifiedBy>
  <dcterms:modified xsi:type="dcterms:W3CDTF">2014-05-06T18:32:57Z</dcterms:modified>
  <cp:revision>20</cp:revision>
  <dc:subject/>
  <dc:title>Человек и природа в рассказе В.П. Астафьева «Зачем я убил коростеля?»</dc:title>
</cp:coreProperties>
</file>