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89D8-0493-486B-BBA6-5AC5D16D22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E6E5-1E06-420E-9FFE-F4BBF1F9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84AAE-C602-4139-810A-7C78F95D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057B-4649-4D0C-841E-B7B6FCAA39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8071E-841C-412B-A3B6-53AD9B8A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2EBB8-7C00-4BD0-8EAB-5E478945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9C97-743F-456D-A728-F18039EB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0ED63-6C9B-49EF-A6A2-0206A781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7BE7E-9809-4B3F-92A8-1054156F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619F2-3BED-42B7-A80D-810B1A00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FCD40-6193-4C54-BBDF-EAD89227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937C9-8DF2-4B78-A023-08031067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4EB198-EBC0-480D-A262-BBCECA85CA6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78588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Человек и природа в рассказе В.П. Астафьева «Зачем я убил коростеля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Задания группы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5840" y="1143000"/>
            <a:ext cx="857232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1. Найдите описание птицы. О каких эмоциях рассказчика говорят нам восклицательные предложения: "Явился бродяга! Добрался-таки! Дергач скрипит!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2. Какую роль в описании птицы играют олицетворения "коростель подает мне голос", "коростель прощает несмышленого мальчишку"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3. Почему рассказчик так ждет прилета коростелей? Что для него значит это событие? Каково отношение рассказчика к птиц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6400" y="571680"/>
            <a:ext cx="5191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5840" y="1285920"/>
            <a:ext cx="85723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1. Сочинение-отзыв: Что я возьму в жизнь после прочтения рассказа В.П. Астафьева "Зачем я убил коростеля"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2. Что сближает рассказ В.П. Астафьева и стихотворение А. Яшина «Покормите птиц зимой»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164304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1.</a:t>
            </a:r>
            <a:r>
              <a:rPr b="0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Красивый жёлтый цветок, который растёт в вод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2. Название одного из видов косы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3. Канавка на поверхности почвы, проведенная плугом или иным рыхлящим орудием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00080" y="642960"/>
            <a:ext cx="671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Задания кроссвор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4.Распространенное в Сибири название возвышенности, хол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5. Название многолетней трав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6. Заросли кустарниковой ив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7. Как по-другому называется птица корост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8. Часть удочки, длинная гибкая палка, к которой прикреплена лес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71840" y="600084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924 - 2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4680" y="0"/>
            <a:ext cx="4459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5840" y="1143000"/>
            <a:ext cx="4071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Виктор Петрович Астафье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1 мая 1924 —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29 ноября 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78588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Человек и природа в рассказе В.П. Астафьева «Зачем я убил коростеля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Задания группы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285920"/>
            <a:ext cx="85154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Microsoft YaHei"/>
              </a:rPr>
              <a:t>1.  Какую роль в описании птицы играют глаголы? С какой целью  автор использует именно этот художественный пр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Microsoft YaHei"/>
              </a:rPr>
              <a:t>2. Опишите эмоциональное состояние рассказчика в момент описания п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Microsoft YaHei"/>
              </a:rPr>
              <a:t>3. Почему мальчик совершил такой поступ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Задания группы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420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Microsoft YaHei"/>
              </a:rPr>
              <a:t>1. Описание мертвой птицы составляет почти 1/3 рассказа. Как вы думаете, почему автор так подробно описывает коросте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Microsoft YaHei"/>
              </a:rPr>
              <a:t>2. Какую роль в описании птицы играют эпитеты, сравнения, уменьшительно-ласкательные суффик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Microsoft YaHei"/>
              </a:rPr>
              <a:t>3. Опишите эмоциональное состояние рассказчика в момент описания п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14:17:29Z</dcterms:created>
  <dc:creator>Elena</dc:creator>
  <dc:description/>
  <dc:language>en-US</dc:language>
  <cp:lastModifiedBy>Elena</cp:lastModifiedBy>
  <dcterms:modified xsi:type="dcterms:W3CDTF">2014-05-06T18:32:57Z</dcterms:modified>
  <cp:revision>20</cp:revision>
  <dc:subject/>
  <dc:title>Человек и природа в рассказе В.П. Астафьева «Зачем я убил коростеля?»</dc:title>
</cp:coreProperties>
</file>