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DDA3-005C-44FD-A43E-E1C0206D09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47FD-8FE3-4E83-9D10-267FF975BA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1D58-32E4-443C-866E-1380EE1531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ADFA-AB0F-407F-A80B-854B95DA73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9B771-B683-4666-B037-1F6DCDA9E5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B6D0-292F-4384-B7E7-556034C104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EA68-599B-4035-A29E-D15B5AF5E2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82300-4629-407F-8C98-328A66DB22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EAEA-A3A1-4225-A994-F8EE0B919B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92438-B432-4BB7-8BA6-BE30609FA8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95B2C-527C-45BA-AEB5-21ACD372CA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2495-A329-45FF-98B8-2F1FB9EAAB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6668-8284-48C8-9E05-EADA115F36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453A-9D99-4C1C-8BF0-CF5809C4C8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E513-0F07-48A9-B7DE-164DE1F7A2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9E34-2ACA-4FA7-A901-F2AEC193A2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C8D2-6142-4FFE-88B9-205F5F9453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C81CC-4BDC-460F-8A8B-631D7E5613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FEFE-D0C7-485E-BF09-B6648A26DB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0B82-DC2B-48C9-8C3B-17888EF79E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789E-C198-48D2-A66B-57447C2466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A788-82CC-467F-B350-EA805003B1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A375-F53D-47F2-8751-E2C076E057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E6CC-E57E-4F45-91FA-4BD675777F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C64A-3F47-4818-94AA-4820F591F3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B4751-9344-47C4-8F17-CE89A9AE42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F6F9-53C5-44D5-A8FA-7EF3CE6822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3643-E377-4993-AA7C-C3441C938A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A27A-AF9C-44E1-89F6-230B9A6EF2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1F28-4576-4B6C-ADBA-B4C8691083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CC16-0B4C-4B79-8510-265E19EE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4D5F-FE53-486B-8A44-A5EF8D46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C13-6E97-4678-BC5B-EFB250C7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7BFB-E9DF-4F2F-AAE6-93C5EC4A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6EEB5-7E23-45BD-BDFB-3F74FB2E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3BDB-432F-43AC-993E-82092039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160F-DA6E-4BB9-A497-D526663B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C1BD-EF74-468D-856B-D3011767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E4C9-4E72-4398-B9B8-15F278A7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4688-4695-4465-ACD8-85514C4C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25D5-29F2-4F24-87B5-98052187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68AB-DAA5-423D-82E0-CDA9D7507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A1C4-A6FB-4B4E-AA56-21417164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8D866-6137-4E86-B48E-086739DD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EF5D-5D66-4CAD-9ACB-5BEED326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B0020-C599-44C9-AF5E-3FE55AA7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F2ED-F092-4CF2-B459-DCBDF61B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0254A-B76D-454D-AA65-54675ECFF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106A9-D5A3-4B28-A65D-B9460382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35F16-6B41-4915-A4D7-C8DDB880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6E17E-3885-4277-8BA2-00E45D04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563C4-6B6A-4B57-AA8B-E9B7CCC7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2FD-A458-46D3-A6CF-CE73EA4B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3BCF3-7749-496D-9A97-BFC31EB5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F2A93-2571-4519-A9BB-5CC6C2BEE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6B840-C422-4FB5-9DAB-A1DE6666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7B60E-D690-4BD0-9166-E6E87F35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34343-3E17-4A04-B4D7-8E932677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A0AEA-66DD-44CD-86F8-3038C906D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5CC67-DA6D-4B42-B200-B8866A9F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99FF4-2E43-418B-9AE6-A7D0319F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79DE2-6EE2-4397-A2CA-F27EA96F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45BA5-8BFA-454C-AC4D-CD1EEADB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047C-7D28-4EE1-86F3-11422D30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8999D-712D-42C1-9D95-E8ACF12BD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D0E61-0645-419E-AE3C-8CFEE06B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C8D71-6D20-4359-AB88-1458391B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5957F-5008-4F10-8BC8-43EAFE92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437DE-DC12-4590-A39A-07E320EA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D79AD-78D2-4241-9455-7D33D2C1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7639B-4BE0-44C8-9698-4D781F35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300BEF-4C69-4708-87A8-BE8938EB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BB12A-50F0-406A-932E-1C5B3B30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8016B-276A-430E-BDAA-E61D4163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D7C5-419A-419B-A4F5-86D8CD5F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3470B-EDDB-40EB-93A0-32B51FE6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06BE1-F289-40E6-86EA-CFB34BDDE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B583E-E158-4F30-A6A1-AE62613E4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24BFF-DE8E-4204-BFDD-ADF9B929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996B2-CC69-41F1-A495-86BD324A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B15D3-68E9-4946-BE4B-09BFBD40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A14BB-1A89-4A7A-918E-D183B560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D2DEB-ABC0-43C2-8B05-5F3E5642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D77FC-A963-4855-BC01-DDB76BD1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769C1-F22F-4AE3-83A8-832D558F3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60E5-3F2D-4FA1-83CE-1478DCEF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01AEA-E3E9-4FE7-9826-9D019CF40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AEF27E-79F2-4CB3-93D9-5F8AB9B9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916C3-F006-47BF-945B-934EE795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DE9DA6-E99A-4046-A40B-F94304B2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5DF2B-10A8-42BF-94C3-D3B0E02C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881E7-DA98-40B1-BBCC-FD92B77C0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98F17-E3DB-41BD-8D34-E98C1082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6D6D3-60D3-4B72-ABCB-604CE340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899477-C7A7-4372-906C-5737675D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A0FB6-1A07-4B82-A108-B73CA623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A9E3-8DFD-47EF-8428-011A4CE3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DB127-3444-4FBD-8F46-F0A4C9F3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59AB9-3A13-450A-AD7C-ED356437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C3824-C174-4508-A483-0126EFBE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E970B-B243-4A85-A9DA-EDE8BDA15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19A25-AEDF-44E6-9882-13C67C3E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66C65-1DC7-4543-BA78-42E1CA37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96D19-E8A7-4A23-B0C1-B32E3FC1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214AB-1166-4FDB-8340-0F511F90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5E91A3-0C21-47BF-A495-EBDF94C0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6D54E-04C2-4EF3-880D-C14DC734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5E2-CE27-4CCF-A4F0-F2B403DC1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8A11C-252F-4DDD-A9BA-C2DADFDB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350D4-3042-446C-ADDE-31A8ABF9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8BE86-7E58-4460-AC7A-2261F7BF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8AFBC-D095-4516-BEAD-E67891F4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55651-BB04-476F-A8F9-AC3154574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BF4-935A-4378-8F70-CF7FC472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4DB77-C1AA-4027-AC1B-88A7EBC11A5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DC56-13E1-4119-A9DC-B1149B48314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AEDC6-3E4F-4EAA-9E9D-2211E0F5BDC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0C97-3362-4968-BB56-71D36B439AB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C000-FC6B-41B7-AD34-B93FF9F1F82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66A4-BD82-4947-9D82-5E099EBA323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3E17-081F-45F2-9F23-3E0122329CD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86920" y="907920"/>
            <a:ext cx="7269480" cy="54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 населения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угрозы террористических воздействий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составитель Тевдорошвили М.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Заместитель директора по БЖ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МКОУ детский дом «Ласточкино гнездышко»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476360" y="5877000"/>
            <a:ext cx="640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250920" y="2060280"/>
            <a:ext cx="8642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Candar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ористический ак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вершение взрыва, поджога или иных действий, связанных с устрашением населения и создающих опасность гибели человека, причинение значительного имущественного ущерба либо наступление экологической катастрофы или иных тяжких последствий, в целях противоправного воздействия на принятие решения органами государственной власти, органами местного самоуправления или международными организациями, а также угроза совершения указанных действий в тех же целях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0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250920" y="1773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66"/>
                </a:solidFill>
                <a:latin typeface="Candara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действие терроризму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деятельность органов государственной власти и органов местного самоуправления по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едупреждению терроризма, в том числе по выявлению и последующему устранению причин и условий, способствующих совершению ТА (профилактика терроризма)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ыявлению, предупреждению, пресечению, раскрытию и расследованию ТА (борьба с терроризмом)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инимизации и (или) ликвидации последствий проявления терроризм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онтртеррористическая операция – комплекс специальных, оперативно-боевых, войсковых и иных мероприятий с применением боевой техники, оружия и специальных средств по пресечению ТА, обезвреживанию террористов, обеспечению безопасности физических лиц, организаций и учреждений, а также по минимизации последствий 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r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35-ФЗ, 200</a:t>
            </a:r>
            <a:r>
              <a:rPr b="0" i="1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6 </a:t>
            </a:r>
            <a:r>
              <a:rPr b="1" i="1" lang="ru-RU" sz="1700" spc="-1" strike="noStrike">
                <a:solidFill>
                  <a:srgbClr val="003300"/>
                </a:solidFill>
                <a:latin typeface="Candara"/>
              </a:rPr>
              <a:t>г.)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6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36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250920" y="2060640"/>
            <a:ext cx="86421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еспечение и защита основных прав и свобод человека и гражданин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законность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иоритет защиты прав и законных интересов лиц, подвергающихся террористической опасности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еотвратимость наказания за осуществление террористической деятельности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истемность и комплексное использование политических, информационно-пропагандистских, социально-экономических, правовых, специальных и иных мер противодействия терроризму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трудничество государства с общественными и религиозными объединениями, международными и иными организациями, гражданами в противодействии терроризму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иоритет мер предупреждения терроризм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единоначалие в руководстве привлекаемыми силами и средствами при проведении контртеррористических операций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четание гласных и негласных методов противодействия терроризму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онфиденциальность сведений о специальных средствах, технических приемах, тактике осуществления мероприятий по борьбе с терроризмом, а также о составе их участников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едопустимость политических уступок террористам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инимизация и (или) ликвидация последствий проявлений терроризм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размерность мер противодействия терроризму степени террористической опасности</a:t>
            </a:r>
            <a:r>
              <a:rPr b="0" lang="ru-RU" sz="1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35-ФЗ, 2006 г.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ротиводействия терроризму в Российской Федерации:</a:t>
            </a:r>
            <a:br>
              <a:rPr sz="3100"/>
            </a:br>
            <a:endParaRPr b="0" lang="en-US" sz="31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6"/>
          <p:cNvSpPr/>
          <p:nvPr/>
        </p:nvSpPr>
        <p:spPr>
          <a:xfrm>
            <a:off x="684360" y="476280"/>
            <a:ext cx="813564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3276720" y="228600"/>
            <a:ext cx="259056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дельные     государства или     группа государ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6400800" y="1066680"/>
            <a:ext cx="236232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лигиозные общества (сообще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324000" y="1066680"/>
            <a:ext cx="2438280" cy="1087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ористически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3200400" y="5486400"/>
            <a:ext cx="274320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дельные лица или  сговор группы лиц (организац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6362640" y="4343400"/>
            <a:ext cx="2438640" cy="1087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стремистские группир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343080" y="4343400"/>
            <a:ext cx="2438280" cy="1087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минальные струк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8"/>
          <p:cNvSpPr/>
          <p:nvPr/>
        </p:nvSpPr>
        <p:spPr>
          <a:xfrm>
            <a:off x="2971800" y="2209680"/>
            <a:ext cx="3200400" cy="2286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00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2895480" y="2743200"/>
            <a:ext cx="3429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сител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еррориз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6153120" y="2057400"/>
            <a:ext cx="1981080" cy="1066680"/>
          </a:xfrm>
          <a:custGeom>
            <a:avLst/>
            <a:gdLst>
              <a:gd name="textAreaLeft" fmla="*/ 0 w 1981080"/>
              <a:gd name="textAreaRight" fmla="*/ 1501920 w 1981080"/>
              <a:gd name="textAreaTop" fmla="*/ 94392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5657"/>
                </a:lnTo>
                <a:lnTo>
                  <a:pt x="14484" y="5657"/>
                </a:lnTo>
                <a:lnTo>
                  <a:pt x="14484" y="19108"/>
                </a:lnTo>
                <a:lnTo>
                  <a:pt x="0" y="19108"/>
                </a:lnTo>
                <a:lnTo>
                  <a:pt x="0" y="21600"/>
                </a:lnTo>
                <a:lnTo>
                  <a:pt x="16373" y="21600"/>
                </a:lnTo>
                <a:lnTo>
                  <a:pt x="16373" y="5657"/>
                </a:lnTo>
                <a:lnTo>
                  <a:pt x="21600" y="5657"/>
                </a:lnTo>
                <a:lnTo>
                  <a:pt x="15429" y="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1"/>
          <p:cNvSpPr/>
          <p:nvPr/>
        </p:nvSpPr>
        <p:spPr>
          <a:xfrm flipV="1">
            <a:off x="6172200" y="3276000"/>
            <a:ext cx="1981080" cy="1066680"/>
          </a:xfrm>
          <a:custGeom>
            <a:avLst/>
            <a:gdLst>
              <a:gd name="textAreaLeft" fmla="*/ 0 w 1981080"/>
              <a:gd name="textAreaRight" fmla="*/ 1500120 w 1981080"/>
              <a:gd name="textAreaTop" fmla="*/ 945720 h 1066680"/>
              <a:gd name="textAreaBottom" fmla="*/ 106668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428"/>
                </a:lnTo>
                <a:lnTo>
                  <a:pt x="14502" y="6428"/>
                </a:lnTo>
                <a:lnTo>
                  <a:pt x="14502" y="19153"/>
                </a:lnTo>
                <a:lnTo>
                  <a:pt x="0" y="19153"/>
                </a:lnTo>
                <a:lnTo>
                  <a:pt x="0" y="21600"/>
                </a:lnTo>
                <a:lnTo>
                  <a:pt x="16355" y="21600"/>
                </a:lnTo>
                <a:lnTo>
                  <a:pt x="16355" y="6428"/>
                </a:lnTo>
                <a:lnTo>
                  <a:pt x="21600" y="6428"/>
                </a:lnTo>
                <a:lnTo>
                  <a:pt x="15429" y="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/>
          <p:cNvSpPr/>
          <p:nvPr/>
        </p:nvSpPr>
        <p:spPr>
          <a:xfrm flipH="1">
            <a:off x="1028160" y="2057400"/>
            <a:ext cx="1981080" cy="1066680"/>
          </a:xfrm>
          <a:custGeom>
            <a:avLst/>
            <a:gdLst>
              <a:gd name="textAreaLeft" fmla="*/ -360 w 1981080"/>
              <a:gd name="textAreaRight" fmla="*/ 1503000 w 1981080"/>
              <a:gd name="textAreaTop" fmla="*/ 9417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5978"/>
                </a:lnTo>
                <a:lnTo>
                  <a:pt x="14467" y="5978"/>
                </a:lnTo>
                <a:lnTo>
                  <a:pt x="14467" y="19066"/>
                </a:lnTo>
                <a:lnTo>
                  <a:pt x="0" y="19066"/>
                </a:lnTo>
                <a:lnTo>
                  <a:pt x="0" y="21600"/>
                </a:lnTo>
                <a:lnTo>
                  <a:pt x="16390" y="21600"/>
                </a:lnTo>
                <a:lnTo>
                  <a:pt x="16390" y="5978"/>
                </a:lnTo>
                <a:lnTo>
                  <a:pt x="21600" y="5978"/>
                </a:lnTo>
                <a:lnTo>
                  <a:pt x="15429" y="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3"/>
          <p:cNvSpPr/>
          <p:nvPr/>
        </p:nvSpPr>
        <p:spPr>
          <a:xfrm flipH="1" flipV="1">
            <a:off x="990000" y="3276000"/>
            <a:ext cx="1981080" cy="1066680"/>
          </a:xfrm>
          <a:custGeom>
            <a:avLst/>
            <a:gdLst>
              <a:gd name="textAreaLeft" fmla="*/ -360 w 1981080"/>
              <a:gd name="textAreaRight" fmla="*/ 1503000 w 1981080"/>
              <a:gd name="textAreaTop" fmla="*/ 941400 h 1066680"/>
              <a:gd name="textAreaBottom" fmla="*/ 106668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042"/>
                </a:lnTo>
                <a:lnTo>
                  <a:pt x="14467" y="6042"/>
                </a:lnTo>
                <a:lnTo>
                  <a:pt x="14467" y="19066"/>
                </a:lnTo>
                <a:lnTo>
                  <a:pt x="0" y="19066"/>
                </a:lnTo>
                <a:lnTo>
                  <a:pt x="0" y="21600"/>
                </a:lnTo>
                <a:lnTo>
                  <a:pt x="16390" y="21600"/>
                </a:lnTo>
                <a:lnTo>
                  <a:pt x="16390" y="6042"/>
                </a:lnTo>
                <a:lnTo>
                  <a:pt x="21600" y="6042"/>
                </a:lnTo>
                <a:lnTo>
                  <a:pt x="15429" y="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4"/>
          <p:cNvSpPr/>
          <p:nvPr/>
        </p:nvSpPr>
        <p:spPr>
          <a:xfrm>
            <a:off x="4419720" y="1219320"/>
            <a:ext cx="380880" cy="990360"/>
          </a:xfrm>
          <a:prstGeom prst="upArrow">
            <a:avLst>
              <a:gd name="adj1" fmla="val 50000"/>
              <a:gd name="adj2" fmla="val 44998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5"/>
          <p:cNvSpPr/>
          <p:nvPr/>
        </p:nvSpPr>
        <p:spPr>
          <a:xfrm flipV="1">
            <a:off x="4419720" y="4495680"/>
            <a:ext cx="380880" cy="990720"/>
          </a:xfrm>
          <a:prstGeom prst="upArrow">
            <a:avLst>
              <a:gd name="adj1" fmla="val 50000"/>
              <a:gd name="adj2" fmla="val 65028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4"/>
          <p:cNvSpPr/>
          <p:nvPr/>
        </p:nvSpPr>
        <p:spPr>
          <a:xfrm>
            <a:off x="611280" y="476280"/>
            <a:ext cx="820872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"/>
          <p:cNvSpPr/>
          <p:nvPr/>
        </p:nvSpPr>
        <p:spPr>
          <a:xfrm>
            <a:off x="2000160" y="190440"/>
            <a:ext cx="5334120" cy="838440"/>
          </a:xfrm>
          <a:custGeom>
            <a:avLst/>
            <a:gdLst>
              <a:gd name="textAreaLeft" fmla="*/ 1333440 w 5334120"/>
              <a:gd name="textAreaRight" fmla="*/ 4000680 w 5334120"/>
              <a:gd name="textAreaTop" fmla="*/ 10476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Arial"/>
              </a:rPr>
              <a:t>Цели терр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"/>
          <p:cNvSpPr/>
          <p:nvPr/>
        </p:nvSpPr>
        <p:spPr>
          <a:xfrm>
            <a:off x="304920" y="1752480"/>
            <a:ext cx="3047760" cy="76212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5"/>
          <p:cNvSpPr/>
          <p:nvPr/>
        </p:nvSpPr>
        <p:spPr>
          <a:xfrm>
            <a:off x="5486400" y="1752480"/>
            <a:ext cx="3352680" cy="762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ально-психолог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действие на нас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304920" y="2819520"/>
            <a:ext cx="304776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окация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7"/>
          <p:cNvSpPr/>
          <p:nvPr/>
        </p:nvSpPr>
        <p:spPr>
          <a:xfrm>
            <a:off x="5562720" y="2819520"/>
            <a:ext cx="327636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ранение сопер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8"/>
          <p:cNvSpPr/>
          <p:nvPr/>
        </p:nvSpPr>
        <p:spPr>
          <a:xfrm>
            <a:off x="304920" y="3733920"/>
            <a:ext cx="3047760" cy="761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нес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ономического ущер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9"/>
          <p:cNvSpPr/>
          <p:nvPr/>
        </p:nvSpPr>
        <p:spPr>
          <a:xfrm>
            <a:off x="5562720" y="3733920"/>
            <a:ext cx="3276360" cy="761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сть за какую-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304920" y="1752480"/>
            <a:ext cx="304776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действие на органы государственной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1"/>
          <p:cNvSpPr/>
          <p:nvPr/>
        </p:nvSpPr>
        <p:spPr>
          <a:xfrm>
            <a:off x="1066680" y="4800600"/>
            <a:ext cx="274320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могатель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2"/>
          <p:cNvSpPr/>
          <p:nvPr/>
        </p:nvSpPr>
        <p:spPr>
          <a:xfrm>
            <a:off x="5334120" y="4800600"/>
            <a:ext cx="297180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ругие ц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3"/>
          <p:cNvSpPr/>
          <p:nvPr/>
        </p:nvSpPr>
        <p:spPr>
          <a:xfrm>
            <a:off x="3200400" y="57913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минал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4"/>
          <p:cNvSpPr/>
          <p:nvPr/>
        </p:nvSpPr>
        <p:spPr>
          <a:xfrm>
            <a:off x="4076640" y="1047600"/>
            <a:ext cx="9907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5"/>
          <p:cNvSpPr/>
          <p:nvPr/>
        </p:nvSpPr>
        <p:spPr>
          <a:xfrm flipH="1">
            <a:off x="3352320" y="15238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6"/>
          <p:cNvSpPr/>
          <p:nvPr/>
        </p:nvSpPr>
        <p:spPr>
          <a:xfrm>
            <a:off x="4572000" y="1523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7"/>
          <p:cNvSpPr/>
          <p:nvPr/>
        </p:nvSpPr>
        <p:spPr>
          <a:xfrm flipH="1">
            <a:off x="3352320" y="1523880"/>
            <a:ext cx="121932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8"/>
          <p:cNvSpPr/>
          <p:nvPr/>
        </p:nvSpPr>
        <p:spPr>
          <a:xfrm>
            <a:off x="4572000" y="1523880"/>
            <a:ext cx="99072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9"/>
          <p:cNvSpPr/>
          <p:nvPr/>
        </p:nvSpPr>
        <p:spPr>
          <a:xfrm flipH="1">
            <a:off x="3352320" y="1523880"/>
            <a:ext cx="121932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0"/>
          <p:cNvSpPr/>
          <p:nvPr/>
        </p:nvSpPr>
        <p:spPr>
          <a:xfrm>
            <a:off x="4572000" y="1600200"/>
            <a:ext cx="990720" cy="2666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1"/>
          <p:cNvSpPr/>
          <p:nvPr/>
        </p:nvSpPr>
        <p:spPr>
          <a:xfrm>
            <a:off x="4572000" y="1600200"/>
            <a:ext cx="0" cy="4191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2"/>
          <p:cNvSpPr/>
          <p:nvPr/>
        </p:nvSpPr>
        <p:spPr>
          <a:xfrm flipH="1">
            <a:off x="3809520" y="4267080"/>
            <a:ext cx="7621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3"/>
          <p:cNvSpPr/>
          <p:nvPr/>
        </p:nvSpPr>
        <p:spPr>
          <a:xfrm>
            <a:off x="4572000" y="4267080"/>
            <a:ext cx="7621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1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7"/>
          <p:cNvSpPr/>
          <p:nvPr/>
        </p:nvSpPr>
        <p:spPr>
          <a:xfrm>
            <a:off x="611280" y="476280"/>
            <a:ext cx="820872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 flipV="1">
            <a:off x="5257800" y="1371240"/>
            <a:ext cx="4572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6"/>
          <p:cNvSpPr/>
          <p:nvPr/>
        </p:nvSpPr>
        <p:spPr>
          <a:xfrm flipV="1">
            <a:off x="5257800" y="1371240"/>
            <a:ext cx="26668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7"/>
          <p:cNvSpPr/>
          <p:nvPr/>
        </p:nvSpPr>
        <p:spPr>
          <a:xfrm flipV="1">
            <a:off x="6095880" y="20574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8"/>
          <p:cNvSpPr/>
          <p:nvPr/>
        </p:nvSpPr>
        <p:spPr>
          <a:xfrm>
            <a:off x="6095880" y="29718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9"/>
          <p:cNvSpPr/>
          <p:nvPr/>
        </p:nvSpPr>
        <p:spPr>
          <a:xfrm>
            <a:off x="5791320" y="3733920"/>
            <a:ext cx="15238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0"/>
          <p:cNvSpPr/>
          <p:nvPr/>
        </p:nvSpPr>
        <p:spPr>
          <a:xfrm flipH="1">
            <a:off x="3352320" y="4419720"/>
            <a:ext cx="3049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1"/>
          <p:cNvSpPr/>
          <p:nvPr/>
        </p:nvSpPr>
        <p:spPr>
          <a:xfrm>
            <a:off x="5486400" y="4419720"/>
            <a:ext cx="3049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2"/>
          <p:cNvSpPr/>
          <p:nvPr/>
        </p:nvSpPr>
        <p:spPr>
          <a:xfrm flipH="1" flipV="1">
            <a:off x="3429000" y="1371240"/>
            <a:ext cx="3808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3"/>
          <p:cNvSpPr/>
          <p:nvPr/>
        </p:nvSpPr>
        <p:spPr>
          <a:xfrm flipH="1" flipV="1">
            <a:off x="1066320" y="1371240"/>
            <a:ext cx="26672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4"/>
          <p:cNvSpPr/>
          <p:nvPr/>
        </p:nvSpPr>
        <p:spPr>
          <a:xfrm flipH="1" flipV="1">
            <a:off x="2133720" y="20574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5"/>
          <p:cNvSpPr/>
          <p:nvPr/>
        </p:nvSpPr>
        <p:spPr>
          <a:xfrm flipH="1">
            <a:off x="2133720" y="29718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6"/>
          <p:cNvSpPr/>
          <p:nvPr/>
        </p:nvSpPr>
        <p:spPr>
          <a:xfrm flipH="1">
            <a:off x="1828440" y="3733920"/>
            <a:ext cx="15238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"/>
          <p:cNvSpPr/>
          <p:nvPr/>
        </p:nvSpPr>
        <p:spPr>
          <a:xfrm>
            <a:off x="3048120" y="2057400"/>
            <a:ext cx="3047760" cy="2362320"/>
          </a:xfrm>
          <a:prstGeom prst="pentagon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Е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РАК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380880" y="457200"/>
            <a:ext cx="1752840" cy="91692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хват транспорт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2438280" y="457200"/>
            <a:ext cx="1905120" cy="105984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рывы зданий и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4648320" y="457200"/>
            <a:ext cx="2057400" cy="105984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рывы в местах скопления лю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7010280" y="457200"/>
            <a:ext cx="1752840" cy="105984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хищение лю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380880" y="2036880"/>
            <a:ext cx="1752840" cy="123336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ятие в залож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380880" y="3637080"/>
            <a:ext cx="1752840" cy="105012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би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380880" y="5257800"/>
            <a:ext cx="1752840" cy="95904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а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7010280" y="5257800"/>
            <a:ext cx="1752840" cy="88560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ругие при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7010280" y="3637080"/>
            <a:ext cx="1752840" cy="105012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7010280" y="2036880"/>
            <a:ext cx="1752840" cy="91692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ничтожение материаль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2514600" y="5257800"/>
            <a:ext cx="1752480" cy="95904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4876920" y="5257800"/>
            <a:ext cx="1752480" cy="95904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ра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2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3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0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7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04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1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9"/>
          <p:cNvSpPr/>
          <p:nvPr/>
        </p:nvSpPr>
        <p:spPr>
          <a:xfrm>
            <a:off x="611280" y="476280"/>
            <a:ext cx="820872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"/>
          <p:cNvSpPr/>
          <p:nvPr/>
        </p:nvSpPr>
        <p:spPr>
          <a:xfrm rot="3115200">
            <a:off x="5039280" y="767520"/>
            <a:ext cx="243000" cy="1574640"/>
          </a:xfrm>
          <a:prstGeom prst="upArrow">
            <a:avLst>
              <a:gd name="adj1" fmla="val 50000"/>
              <a:gd name="adj2" fmla="val 1620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3"/>
          <p:cNvSpPr/>
          <p:nvPr/>
        </p:nvSpPr>
        <p:spPr>
          <a:xfrm rot="18504000">
            <a:off x="3872160" y="707400"/>
            <a:ext cx="228600" cy="1612800"/>
          </a:xfrm>
          <a:prstGeom prst="upArrow">
            <a:avLst>
              <a:gd name="adj1" fmla="val 50000"/>
              <a:gd name="adj2" fmla="val 176378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4"/>
          <p:cNvSpPr/>
          <p:nvPr/>
        </p:nvSpPr>
        <p:spPr>
          <a:xfrm flipH="1" rot="18179400">
            <a:off x="5417280" y="2873160"/>
            <a:ext cx="225360" cy="2197080"/>
          </a:xfrm>
          <a:prstGeom prst="downArrow">
            <a:avLst>
              <a:gd name="adj1" fmla="val 50000"/>
              <a:gd name="adj2" fmla="val 24373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5"/>
          <p:cNvSpPr/>
          <p:nvPr/>
        </p:nvSpPr>
        <p:spPr>
          <a:xfrm rot="3420600">
            <a:off x="3498480" y="2863440"/>
            <a:ext cx="230040" cy="2220840"/>
          </a:xfrm>
          <a:prstGeom prst="downArrow">
            <a:avLst>
              <a:gd name="adj1" fmla="val 50000"/>
              <a:gd name="adj2" fmla="val 241354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533520" y="457200"/>
            <a:ext cx="2819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990720" y="380880"/>
            <a:ext cx="2361960" cy="13341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согласованность действий ветвей в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5791320" y="380880"/>
            <a:ext cx="2286000" cy="11912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явление теневых лидеров и структур (олигархов и монополис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304920" y="3809880"/>
            <a:ext cx="2361960" cy="11912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емление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к переделу собственности          и нажи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0"/>
          <p:cNvSpPr/>
          <p:nvPr/>
        </p:nvSpPr>
        <p:spPr>
          <a:xfrm>
            <a:off x="3276720" y="2057400"/>
            <a:ext cx="2590560" cy="1295280"/>
          </a:xfrm>
          <a:prstGeom prst="flowChartTermina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едпосылк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еррориз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6553080" y="2133720"/>
            <a:ext cx="2286000" cy="13341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менение понятия справедливости      и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304920" y="2133720"/>
            <a:ext cx="2361960" cy="11912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способность обеспечить уровень защищенности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6477120" y="3809880"/>
            <a:ext cx="2361960" cy="11912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ознание общностями людей своей социальной униж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4"/>
          <p:cNvSpPr/>
          <p:nvPr/>
        </p:nvSpPr>
        <p:spPr>
          <a:xfrm flipV="1">
            <a:off x="2743200" y="4724280"/>
            <a:ext cx="3657600" cy="1371600"/>
          </a:xfrm>
          <a:custGeom>
            <a:avLst/>
            <a:gdLst>
              <a:gd name="textAreaLeft" fmla="*/ 761760 w 3657600"/>
              <a:gd name="textAreaRight" fmla="*/ 2895840 w 3657600"/>
              <a:gd name="textAreaTop" fmla="*/ 285480 h 1371600"/>
              <a:gd name="textAreaBottom" fmla="*/ 10861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5"/>
          <p:cNvSpPr/>
          <p:nvPr/>
        </p:nvSpPr>
        <p:spPr>
          <a:xfrm>
            <a:off x="3200400" y="49528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зведение культа  силы и оружия            для решения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6"/>
          <p:cNvSpPr/>
          <p:nvPr/>
        </p:nvSpPr>
        <p:spPr>
          <a:xfrm>
            <a:off x="5867280" y="25909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7"/>
          <p:cNvSpPr/>
          <p:nvPr/>
        </p:nvSpPr>
        <p:spPr>
          <a:xfrm flipH="1">
            <a:off x="2666880" y="25909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8"/>
          <p:cNvSpPr/>
          <p:nvPr/>
        </p:nvSpPr>
        <p:spPr>
          <a:xfrm>
            <a:off x="4457880" y="3352680"/>
            <a:ext cx="228600" cy="1371600"/>
          </a:xfrm>
          <a:prstGeom prst="downArrow">
            <a:avLst>
              <a:gd name="adj1" fmla="val 50000"/>
              <a:gd name="adj2" fmla="val 1500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9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3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0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8"/>
          <p:cNvSpPr/>
          <p:nvPr/>
        </p:nvSpPr>
        <p:spPr>
          <a:xfrm>
            <a:off x="611280" y="476280"/>
            <a:ext cx="820872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553440" cy="9144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c6e7f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ndara"/>
              </a:rPr>
              <a:t>Причины, порождающие рост терроризма</a:t>
            </a:r>
            <a:endParaRPr b="0" lang="en-US" sz="2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343080" y="1295280"/>
            <a:ext cx="3504960" cy="8240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решенность  социальных,            в т.ч. национальных                                    и религиозных пробл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5181480" y="1295280"/>
            <a:ext cx="3581640" cy="8240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йны и военные конфликты, в рамках которых теракты становятся их составной ча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343080" y="2438280"/>
            <a:ext cx="3504960" cy="1194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слоение общества по уровню материального состояния,культуре и кредитоспособ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343080" y="3819600"/>
            <a:ext cx="3504960" cy="1194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абость законодательной базы и нежелание правоохранительных органов следовать букве зак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343080" y="5219640"/>
            <a:ext cx="3504960" cy="13107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уществование обществ и организаций (религиозных, сектантских), ведущих борьбу за справедливость своего учения по спасению челове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5181480" y="2438280"/>
            <a:ext cx="3581640" cy="1067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справедливость решения экономических и финансовых вопросов при разделе государственной собств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5181480" y="3819600"/>
            <a:ext cx="3581640" cy="1067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ганизованная преступность и криминализация ряда государственных и коммерческих струк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0"/>
          <p:cNvSpPr/>
          <p:nvPr/>
        </p:nvSpPr>
        <p:spPr>
          <a:xfrm>
            <a:off x="4495680" y="1066680"/>
            <a:ext cx="0" cy="4876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1"/>
          <p:cNvSpPr/>
          <p:nvPr/>
        </p:nvSpPr>
        <p:spPr>
          <a:xfrm>
            <a:off x="4495680" y="28954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>
            <a:off x="4495680" y="1600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449568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4"/>
          <p:cNvSpPr/>
          <p:nvPr/>
        </p:nvSpPr>
        <p:spPr>
          <a:xfrm flipH="1">
            <a:off x="3809160" y="5791320"/>
            <a:ext cx="690840" cy="228600"/>
          </a:xfrm>
          <a:prstGeom prst="rightArrow">
            <a:avLst>
              <a:gd name="adj1" fmla="val 50000"/>
              <a:gd name="adj2" fmla="val 7555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5"/>
          <p:cNvSpPr/>
          <p:nvPr/>
        </p:nvSpPr>
        <p:spPr>
          <a:xfrm flipH="1">
            <a:off x="3809160" y="28954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6"/>
          <p:cNvSpPr/>
          <p:nvPr/>
        </p:nvSpPr>
        <p:spPr>
          <a:xfrm flipH="1">
            <a:off x="380916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7"/>
          <p:cNvSpPr/>
          <p:nvPr/>
        </p:nvSpPr>
        <p:spPr>
          <a:xfrm flipH="1">
            <a:off x="3809160" y="16048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250920" y="1988640"/>
            <a:ext cx="86421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дпитка молодежью (националистические, исламские террористические организации существуют десятилетиями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ущественное расширение ареала исламского фундаментализма и связанного с ним терроризма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еррористические организации не ограничиваются рамками терактов, а придают большое значение политической стратегии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енденция перехода от конкретных целей (захват авиалайнеров) к беспорядочным убийствам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Линия раздела между террористическими организациями различных толков стала менее отчетливой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еррористы-смертники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овые виды оружия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й терроризм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ерроризм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612720" y="19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спользуемым мет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612720" y="270828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еследуем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оциальным цел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612720" y="42814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ровню воз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612720" y="5373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знаку используем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4284720" y="1700280"/>
            <a:ext cx="4114800" cy="100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Организационного характ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Физического воз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Материального воз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сихологического воз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4284720" y="2852640"/>
            <a:ext cx="4114800" cy="100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Демонстратив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плачива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ровокацио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4284720" y="4076640"/>
            <a:ext cx="4114800" cy="86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Государств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Международ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Внутрен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4284720" y="5157720"/>
            <a:ext cx="4114800" cy="574920"/>
          </a:xfrm>
          <a:prstGeom prst="rect">
            <a:avLst/>
          </a:prstGeom>
          <a:gradFill rotWithShape="0">
            <a:gsLst>
              <a:gs pos="0">
                <a:srgbClr val="a98765"/>
              </a:gs>
              <a:gs pos="50000">
                <a:srgbClr val="ffcc99"/>
              </a:gs>
              <a:gs pos="100000">
                <a:srgbClr val="a987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радиционный (огнестрельное оружие, ВВ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4500720" y="5764320"/>
            <a:ext cx="3892320" cy="863640"/>
          </a:xfrm>
          <a:prstGeom prst="rect">
            <a:avLst/>
          </a:prstGeom>
          <a:gradFill rotWithShape="0">
            <a:gsLst>
              <a:gs pos="0">
                <a:srgbClr val="a98765"/>
              </a:gs>
              <a:gs pos="50000">
                <a:srgbClr val="ffcc99"/>
              </a:gs>
              <a:gs pos="100000">
                <a:srgbClr val="a987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ехнологический        -                    ядер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химическ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биологическ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ибертерроризм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23640" y="2565360"/>
            <a:ext cx="85690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едупреждение террористических акций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Ликвидация последствий террористических акций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вопрос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50920" y="191628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7436"/>
                </a:solidFill>
                <a:latin typeface="Times New Roman"/>
              </a:rPr>
              <a:t>гидротехнические сооружения (плотины, шлюзы, водозаборы, водохранилища, гидроузлы, насосные станции и т. д.)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7436"/>
                </a:solidFill>
                <a:latin typeface="Times New Roman"/>
              </a:rPr>
              <a:t>объекты энергетики (ГЭС, ГРЭС, АЭС, ТЭС, ТЭЦ, силовые и трансформаторные подстанции, крупные высоковольтные линии)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7436"/>
                </a:solidFill>
                <a:latin typeface="Times New Roman"/>
              </a:rPr>
              <a:t>промышленные предприятия по производству продуктов питания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7436"/>
                </a:solidFill>
                <a:latin typeface="Times New Roman"/>
              </a:rPr>
              <a:t>склады и базы (арсеналы, склады взрывчатых и ядовитых веществ, горючего, техники, лекарств, наркотиков, сырья и готовой продукции, базы мобрезерва)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особо важных государственных объектов и объектов жизнеобеспечения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50920" y="907560"/>
            <a:ext cx="86421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ъекты хранения и переработки нефтепродуктов (нефти и газохранилища, магистральные нефтепродуктопроводы)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ъекты с хранением и применением ядовитых, взрывчатых и бактериологически опасных веществ (химические заводы, объекты пищевой, лёгкой, тяжёлой, микро-биологической промышленности, технические холодильники с хлором и аммиаком)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тличительная особенность этих объектов заключается в том, что возникновение на них чрезвычайных обстоятельств, вызванных террористическими актами, приводит, как правило, к большим разрушениям, человеческим жертвам и загрязнению окружающей среды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250920" y="2060280"/>
            <a:ext cx="8642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идеологическое, информационное и административное противодействие формированию у граждан террористических намерений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авовое и оперативное противодействие возникновению террористических групп и организаций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здание эффективной системы контроля за оборотом оружия, взрывчатых веществ, расщепляющихся материалов, химически и биологически опасных рецептур и других средств, используемых для совершения террористических актов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формирование агентурной сети по предупреждению и пресечению террористических действий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217436"/>
                </a:solidFill>
                <a:uFillTx/>
                <a:latin typeface="Times New Roman"/>
                <a:ea typeface="Times New Roman"/>
              </a:rPr>
              <a:t>формирование системы мероприятий по защите и повышению устойчивости функционирования критически важных объектов инфраструктуры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я борьбы с терроризмом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следующие направления:</a:t>
            </a:r>
            <a:br>
              <a:rPr sz="2700"/>
            </a:br>
            <a:endParaRPr b="0" lang="en-US" sz="23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250560" y="836640"/>
            <a:ext cx="8713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пределения системы профилактических мер, вида и способа охраны объекта, а также моделирования возможных террористических акций рекомендуется разработать на критически важных объектах следующие документы с рекомендациями по их разработке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лан мероприятий по усилению безопасности функционирования объект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аспорт антитеррористической защищенности объект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аспорт безопасности опасного объект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ехнологическая карта ликвидации последствий террористического акта с использованием   опасных химических и отравляющих веществ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лан охраны и обороны объект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перативные документы, по организации охраны объектов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Должностные инструкции руководящему составу, дежурно-диспетчерскому персоналу, личному составу подразделений охраны, уполномоченному по делам ГОЧС, членам КЧС, командирам аварийно-спасательных формирований объекта и всему персоналу объекта по организации антитеррористической безопасности на объекте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496000" cy="338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антитеррористической защищенности объекта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а) сведения о разработчиках</a:t>
            </a:r>
            <a:r>
              <a:rPr b="1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аспорт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б) источники информаци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) дата завершения разработки паспорта или обновления включенных в</a:t>
            </a:r>
            <a:r>
              <a:rPr b="1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его сведен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отации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250920" y="1989000"/>
            <a:ext cx="86421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1. Профиль опасности объекта (химически опасный, взрывопожароопасный, опасный гидродинамический и др.), объект жизнеобеспечен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2. Полное и сокращенное наименования объект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3. Почтовый адрес, телефон, факс, телетайп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4. Ведомственная принадлежность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5. Вышестоящая (головная) организац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6. Форма собственност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7. Должностные лица объекта с указанием фамилии, имени, отчества, рабочих и домашних телефонов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8. Размещение объекта по отношению к транспортным коммуникациям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1. Общие сведения об объекте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250920" y="1916280"/>
            <a:ext cx="8642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1. Угроза взрыва (поджога) или</a:t>
            </a:r>
            <a:r>
              <a:rPr b="1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зрыв (поджог) критических установок или сооружений объект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2. Прекращение жизнеобеспечения критических установок объекта или объекта в целом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3. Вывод из строя или несанкционированное вмешательство в работу автоматизированных систем управления технологическими процессами (АСУ ТП), информационных и телекоммуникационных систем и сетей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4. Захват центрального диспетчерского пункта (ЦДЛ) объекта (взятие в заложники его персонала) и/или вывод его из стро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5. Иные аварийные ситуации в результате диверсионно-террористических акци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2. Возможные аварийные ситуации на объекте в результате теракта</a:t>
            </a:r>
            <a:br>
              <a:rPr sz="3100"/>
            </a:br>
            <a:endParaRPr b="0" lang="en-US" sz="27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250920" y="1628280"/>
            <a:ext cx="8642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3.1. Численность сотруднико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3.2. Средняя заработная плат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3.3</a:t>
            </a:r>
            <a:r>
              <a:rPr b="1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. 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оличество сотрудников, состоящих на учете в наркодиспансере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3.4. Количество сотрудников, состоящих на учет в психоневродиспансере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3.5. Национальный состав и гражданство сотрудников объект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3. Персонал объекта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178920" y="159984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1. Параметры охраняемой территори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2. Инженерные загражден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3. Силы охраны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4. Средства охраны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5. Организация связ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6. Наличие на объекте добровольной народной дружины, ее численность, функциональные  обязанности по охране объект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7. Зафиксированные диверсионно-террористические проявления в отношении объекта, их краткая характеристик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8. Оценка надежности охраны объекта и способности противостоять попыткам проникновения на него диверсионно-террористической группы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4. Силы и средства охраны объекта</a:t>
            </a:r>
            <a:br>
              <a:rPr sz="3100"/>
            </a:br>
            <a:endParaRPr b="0" lang="en-US" sz="31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50920" y="1988640"/>
            <a:ext cx="86421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Федеральный закон от 6 марта 2006 г. N 35-ФЗ «О противодействии терроризму» (с изм. и доп. от 27 июля 2006 г.)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Федеральный закон от 27 июля 2006 г. N 153-ФЗ «О внесении изменений в отдельные законодательные акты Российской Федерации в связи с принятием Федерального закона «О ратификации Конвенции Совета Европы о предупреждении терроризма» и Федерального закона «О противодействии терроризму» (с изм. и доп. от 5 июня 2007 г.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становление Правительства РФ от 6 июня 2007 г. N 352 «О мерах по реализации Федерального закона «О противодействии терроризму»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становление Совета Федерации Федерального Собрания РФ от 1 марта 2006 г. N 58-СФ «О Федеральном законе «О противодействии терроризму»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становление Государственной Думы Федерального Собрания РФ от 26 февраля 2006 г. N 2846-IV ГД «О Федеральном законе «О противодействии терроризму» (проект N 115259-4)»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арлухина Е.О., Рождествина А.А. Комментарий к Федеральному закону от 26 февраля 2006 года N 35-ФЗ «О противодействии терроризму». - Система ГАРАНТ, 2007 г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апрыкин С.Ю. Новый закон о противодействии терроризму: комментарий к Федеральному закону от 6 марта 2006 г. N 35-ФЗ. – «ГроссМедиа», 2006 г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50920" y="2204640"/>
            <a:ext cx="8642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5.1. Первоочередные, неотложные мероприяти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5.2. Долгосрочные мероприятия, требующие длительного времени и значительных финансовых затра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5. Осуществляемые (планируемые) мероприятия по усилению антитеррористической защиты и снижения уязвимости объекта</a:t>
            </a:r>
            <a:br>
              <a:rPr sz="2300"/>
            </a:br>
            <a:endParaRPr b="0" lang="en-US" sz="23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178920" y="2276280"/>
            <a:ext cx="87138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6.1. Наличие на объекте режимно-секретного органа, его численнос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6.2. Наличие объектового перечня сведений, составляющих государственную тайну, его реквизит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6.3. Наличие на объекте сотрудников, допущенных к работе с документами и материалами, их количество по 1, 2,  3 формам допуск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6.4. Меры по обеспечению режима секретности и сохранности секретных сведений в условиях ЧС на объект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6. Обеспечение режима секретности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ые планы должны содержать обозначения: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участков и установок объекта, критичных в отношении диверсионно-террористических акций, возможные подходы к ним, в т.ч.</a:t>
            </a:r>
            <a:r>
              <a:rPr b="1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 скрытым и подземным коммуникациям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размещения инженерных сооружений охраны объекта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расположения постов охраны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еста скрытного сосредоточения групп быстрого реагирования и маршрутов выдвижения групп быстрого реагирования к элементам инженерных сооружений и к уязвимым элементам объекта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еста расположения штаба операции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дходящих инженерных коммуникаций (теплотрасс, проходных тоннелей с коммуникациями, канализации, водоподводящих каналов и др.)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едполагаемых маршрутов продвижения диверсионно-террористических групп к уязвимым элементам объекта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зон возможного поражения с указанием численности людей</a:t>
            </a:r>
            <a:r>
              <a:rPr b="1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 этих зонах и времени достижения поражающих факторов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екторов и участков объекта, на которых нельзя применять</a:t>
            </a:r>
            <a:r>
              <a:rPr b="1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гнестрельное</a:t>
            </a:r>
            <a:r>
              <a:rPr b="1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ружие, взрывчатые и специальные средства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мещений и сооружений объекта, в которых затруднено или невозможно использование УКВ- радиосвязи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7. Ситуационные планы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23640" y="2060280"/>
            <a:ext cx="856908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илы и средства охраны объект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 Параметры охраняемой территор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 Инженерные загражде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3. Силы охран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 Средства охран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5. Организация связ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6. Наличие на объекте добровольной народной дружины, ее численность, функциональные обязанности по охране объект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безопасности функционирования предприятия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250920" y="1989000"/>
            <a:ext cx="86421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Частичная предсказуемость факта ТА и возможностей решения связанных с этим пробле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Частичная предсказуемость мест возникновения и сценариев развития 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лабая предсказуемость масштаба и времени возникновения 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епредсказуемость ряда неблагоприятных событий и ситуаций, обусловленных возникновением и развитием ЧС (наличие стратегических неожиданностей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условий функционирования органов планирования и управления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250920" y="1989000"/>
            <a:ext cx="86421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огноз последствий ЧС/ТА путем формирования сценариев развития ситуаци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Формирование целей и критериев управления ликвидацией последствий ЧС/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тратегическое (долгосрочное) планирование превентивных мероприят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актическое (текущее) планирование альтернативных ответных действий на возникающие угрозы ЧС/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тратегическое и оперативное управление в условиях ЧС/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 планирования и управления ликвидацией последствий ЧС/ТА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50920" y="1557360"/>
            <a:ext cx="8920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для управления комплексами мероприятий в режиме повседневной деятельност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является долгосрочным целевым планом (программой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ставляется раздельно по основным направлениям деятельност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пределяет объемы мероприятий и необходимые средств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действий при угрозе ТА (режим повышенной готовности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лан защиты населения (персонала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лан изменений режимов работы предприятия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лан приведения в готовность сил и средств проведения АСДНР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лан привлечения дополнительных материально-технических ресурсов,      размещенных в безопасных местах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действий при возникновении ЧС/Т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является опорным вариантом для последующей оперативной корректировки, детализации и формирования конкретного стратегического плана действий органов управления при возникновении ЧС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тивные (стратегические) планы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611280" y="2276640"/>
            <a:ext cx="85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73e87"/>
                </a:solidFill>
                <a:latin typeface="Candara"/>
              </a:rPr>
              <a:t>1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. Экстренное оповещение и связь (своевременное оповещение населения, проверка всех служб связи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 Регулярное информирование населения (для ориентирования на разумные защитные действия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3. Эвакуация (помощь людям, выходящим в относительно безопасные районы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 Обеспечение жизнедеятельности людей в условиях ЧС (предоставление убежища, жилья, пищи, одежды, санитарного обеспечения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5. Медицинское обеспечение в условиях ЧС/ТА (оказание экстренной медицинской помощи пораженным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6. Обеспечение безопасности (защита жизни людей и материальных ценностей; контроль за перемещением работников и технических средств. Необходимых для противодействия и ликвидации ЧС/ТА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7. Борьба с огнем и экстренное спасение людей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8. Радиационная защита (разведка и оценка радиационной обстановки для защиты населения и лиц, занятых в ликвидации ЧС/ТА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9. Ремонт коммунальных служб и хозяйств (срочный ремонт пораженных жизненно важных коммунальных систем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0. Анализ и оценка ЧС/ТА (мониторинг и анализ характеристик ЧС; оценка физических потерь; сбор информации о результатах противодействия ЧС; выбор направлений ликвидации ее последствий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1. Материально-техническое снабжение (контроль за транспортировкой материально-технических ресурсов; привлечение дополнительных поставок ресурсов для выполнения чрезвычайных функций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2. Управление и контроль (руководство реализацией функций 1 – 11)           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й при возникновении ЧС/ТА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611280" y="1628640"/>
            <a:ext cx="8532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73e87"/>
                </a:solidFill>
                <a:latin typeface="Candara"/>
              </a:rPr>
              <a:t>1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АДМИНИСТРАТИВНО-ТЕРРИТОРИАЛЬНОЙ ЕДИНИЦЫ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щие сведения о территории (общая численность населения, количество НП с объектами ОВ и 1 категории и др.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характеристика природных условий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циально-демографическая характеристика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ранспортная освоенность территории (количество автомобильных и железнодорожных мостов, количество портов, пристаней, шлюзов, протяженность магистральных продуктопроводов и др.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характеристика отраслей социальной сферы (количество жилых и административных зданий, лечебно-профилактических учреждений, объектов связи и жизнеобеспечения населения; </a:t>
            </a:r>
            <a:r>
              <a:rPr b="0" i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еста возможного массового скопления людей 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– автостоянки, остановки общественного транспорта, культовые, ритуальные и культурно-спортивные учреждения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ОПАСНОСТИ ВОЗНИКНОВЕНИЯ НА ТЕРРИТОРИИ ЧРЕЗВЫЧАЙНЫХ СИТУАЦИЙ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оличество ПОО на территории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оличество населения, проживающего в непосредственной близости от ПОО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щий объем используемых, производимых и хранимых аварийно опасных химических, радиоактивных веществ и биологических поражающих агентов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ъем возможных аварийных выбросов химически, биологически и радиактивно опасных веществ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оличество потенциально опасных мест захоронения промышленных отходов и могильников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 ИСХОДНЫЕ  ДАННЫ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ланирования мероприятий по предупреждению ТА и смягчению их последствий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611280" y="1915920"/>
            <a:ext cx="8532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buClr>
                <a:srgbClr val="2174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Эти задачи решаются действиями сил и средств специализированных государственных организаций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жарных,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пасателей МЧС и ПСС,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едиков,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илиции,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 широким участием СМИ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Успешное решение задачи зависит от слаженности действий и комплексного подхода участников; учета особенностей возможных их видов; разнообразия последствий и необходимых мер противодействия и т.д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иболее уязвимыми объектами обеспечения информирования населения об опасности и выработки необходимых рекомендаций по защите от возникшей опасности являются сбор и обработка необходимой и достоверной информации о ЧС и ходе ее развития. Зачастую оповещение населения осуществляются с опозданием, в искаженном виде. В роли информаторов зачастую выступают люди или не обладающие достоверной информацией, или те, кто ею обладая, доводит ее до населения недостаточно своевременно, профессионально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84596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озникновении ЧС возникает потребность в немедленном оповещении об опасности и информировании населения о действиях и мерах спасателей по оказанию помощи пострадавшим.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250560" y="1915920"/>
            <a:ext cx="87138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овое законодательство о противодействии терроризму (М.Н. Косарев, «Российская юстиция», N 10, октябрь 2006 г.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овое законодательство о противодействии терроризму и ограничения прав и свобод граждан (С.В. Пчелинцев, «Журнал российского права», N 5, май 2006 г.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становление Совета Министров Союзного государства от 21 апреля 2005 г. N 15 «О Совместных мероприятиях по противодействию терроризму на территории Союзного государства»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Указ Президента РФ от 15 февраля 2006 г. N 116 «О мерах по противодействию терроризму» (с изм. и доп. от 2 августа 2006 г.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исьмо Главного управления исполнения наказаний Минюста РФ от 8 ноября 2001 г. N 18/29-394 «О мерах по обеспечению противодействия биологическому и химическому терроризму»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становление Правительства РФ от 14 июля 2006 г. N 425 «О внесении изменений в некоторые акты Правительства Российской Федерации по вопросам противодействия терроризму»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78920" y="1844640"/>
            <a:ext cx="87138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ужесточение пропускного режима при входе и въезде на территорию объекта, установка систем сигнализации, аудио-  видеозаписи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ежедневные обходы территории предприятия и осмотр мест сосредоточения опасных веществ на предмет своевременного выявления взрывных устройств или подозрительных предметов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ериодическая комиссионная проверка складских помещений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щательный подбор и проверка кадров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рганизация и проведение совместно с сотрудниками правоохранительных органов инструктажей и практических занятий по действиям при чрезвычайных происшествиях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и заключении договоров на сдачу складских помещений в аренду в обязательном порядке включать пункты, дающие право администрации предприятия при необходимости осуществлять проверку сдаваемых помещений по своему усмотрению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 случае обнаружения подозрительных предметов – незамедлительно сообщить в в территориальные подразделения ФСБ и МВД; дать указание сотрудникам находиться на безопасном расстоянии; при необходимости приступить к эвакуации людей в соответствии с планом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Ю ОРГАНИЗАЦИИ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0" y="6172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 ВСЕХ СЛУЧАЯХ ДАТЬ УКАЗАНИЕ НЕ ПРИБЛИЖА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ТРОГАТЬ, НЕ СКРЫВАТЬ И НЕ ПЕРЕМЕЩАТЬ НАХОД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250560" y="2276640"/>
            <a:ext cx="871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усиление охраны, пропускного режима, сокращение доступа работников объекта и исключение несанкционированного доступа посторонних лиц  к  местам сосредоточения опасных веществ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еспечение контроля за состоянием антитеррористической защищенности и безопасности образовательных учреждений  со стороны соответствующих силовых структур и надзорных органов в пределах своей компетенции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еспечение готовности органов управления сил и средств к действиям в условиях возникновения ЧС, что достигается за счет подготовки руководителей образовательных учреждений и органов местного самоуправления и другого персонала этих учреждений, функционирования систем оповещения в том числе и локальных, корректировки схем оповещения дежурных служб управлений ГОЧС, ОВД, УВД, руководящего состава и специалистов аварийно-спасательных служб учреждении образования, качественного проведения учений и тренировок по отработке взаимодействия в данных обстоятельствах и ситуациях и т.п.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ними из направлений противодействия актам терроризма в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х образования, здравоохранения   и социальной защиты населения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вляется: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250560" y="2060640"/>
            <a:ext cx="87138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оведение комплексных совместных и самостоятельных проверок образовательных учреждений соответствующими надзорными и контрольными органами, органами ФСБ и МВД, в пределах своей компетенции, готовности к действиям, в условиях чрезвычайных обстоятельств и чрезвычайных ситуаций проверок, сил и средств, определенных соответствующими планами, на проведение антитеррористической операции и ликвидации последствий ЧС  в случае их возникновен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оведения корректировки планов эвакуации дошкольных, школьных учебных заведений из зон возможных ЧС;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активизации задействования средств массовой информации для доведения до населения вопросов проявления бдительности, а также порядка действий при угрозе проведения  и осуществлении терактов в образовательных учреждениях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й противодействия актам терроризма (продолжение)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250920" y="1915920"/>
            <a:ext cx="86421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в учреждении </a:t>
            </a: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аспорта безопасности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антитеррористической защищённости) объекта: согласование, учётный номер, отсутствие ксерокопированных дополнительных экземпляров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</a:t>
            </a: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заместителя руководителя по безопасности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приказ директора ОУ, должностная инструкция, ознакомление с ними под роспись, знание обязанностей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Документы по антитерроризму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приказ директора ОУ о создании антитеррористической группы (АТГ), положение об АТГ, план работы ОУ по противодействию терроризму, протоколы совещаний антитеррористической группы с принятыми решениями, акты проверок по антитерроризму, планы практических занятий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знакомление коллектива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с приказами и инструкциями по обеспечению антитеррористической защищённости объекта под роспись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</a:t>
            </a: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хемы оповещения, связи и порядка вызова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сотрудников в экстренных случаях (в различных ЧС, для оповещения оперативных служб, сотрудников ОУ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</a:t>
            </a: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омеров телефонов служб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УФСБ, УГОЧС, ОВД, отделов Госпожнадзора и аварийных служб в доступном для сотрудников месте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Инструкция по организации прогулок учащихся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для детских учреждений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Инструкция по обеспечению антитеррористической защищённости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объекта, противодействию террористическим актам или угрозам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охраны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, вид охранной деятельности (ЧОП, сторож, ОВО, наименование охранного предприятия, режим работы, количество постов и охранников, знание ими своих действий в различных ЧС, наличие у охранников средств индивидуальной защиты и средств обнаружения металла (ручной, арочный металлоискатель)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Ы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рки образовательного учреждения по безопасности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нтитеррористической защищённости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250920" y="2133360"/>
            <a:ext cx="8642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у охранников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удостоверения частного охранника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только для объектов, охраняемых ЧОП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у охраны учреждения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: журнала о допуске на объект, журнала проверки здания и территории учреждения, учета автотранспорта, проверки должностными лицами по вопросам безопасности и охраны, папка (стенд) с разрешительными документами ЧОП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на объекте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нопки тревожной сигнализации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и её работоспособность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на объекте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истемы видеонаблюдения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, количество камер, возможность просмотра в инфракрасном режиме (в ночное время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на объекте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истемы громкоговорящей связи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оповещения) и её работоспособность, практическая проверка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графика дежурства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ответственных сотрудников по ОУ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стояние всех дверей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, ведущих в здание, доступ в подвальные и чердачные помещения, отдельно стоящие здания (гаражи, складские помещения и др.), а также опечатывание этих помещений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арендных организаций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в учреждении (название, срок сдачи помещении в аренду, наличие и состояние охраны в сдаваемых в аренду помещениях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стояние территории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наличие ограждения территории, освещение территории в ночное время, парковка посторонних автомобилей по периметру территории (на территории), наличие вблизи территории брошенных автомобилей, наличие вблизи территории гаражей и «ракушек»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в учреждении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омиссии по чрезвычайным ситуациям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номер приказа руководителя ОУ, план работы, отчетные документы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тчётные документы по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актической отработке действий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при проведении (угрозе проведения) террористического акта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Ы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рки образовательного учреждения по безопасности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нтитеррористической защищённости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169992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видация последствий террористической акции</a:t>
            </a:r>
            <a:endParaRPr b="0" lang="en-US" sz="7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250920" y="2060640"/>
            <a:ext cx="86421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1250"/>
              </a:spcBef>
              <a:buClr>
                <a:srgbClr val="2174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 случае обнаружения подозрительных предметов – незамедлительно сообщить в в территориальные подразделения ФСБ и МВД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1250"/>
              </a:spcBef>
              <a:buClr>
                <a:srgbClr val="2174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дать указание сотрудникам находиться на безопасном расстояни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1250"/>
              </a:spcBef>
              <a:buClr>
                <a:srgbClr val="2174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и необходимости приступить к эвакуации людей в соответствии с планом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1250"/>
              </a:spcBef>
              <a:buClr>
                <a:srgbClr val="2174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еспечить возможность беспрепятственного подъезда спецавтомобилей (правоохранительных органов, скорой медицинской помощи, пожарной охраны, МЧС, служб эксплуатации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1250"/>
              </a:spcBef>
              <a:buClr>
                <a:srgbClr val="2174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 случае </a:t>
            </a:r>
            <a:r>
              <a:rPr b="0" lang="ru-RU" sz="2000" spc="-1" strike="noStrike" u="sng">
                <a:solidFill>
                  <a:srgbClr val="217436"/>
                </a:solidFill>
                <a:uFillTx/>
                <a:latin typeface="Times New Roman"/>
                <a:ea typeface="Times New Roman"/>
              </a:rPr>
              <a:t>крайней необходимости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приступить к ликвидации ЧС, оказанию помощи пострадавшим собственными силам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1250"/>
              </a:spcBef>
              <a:buClr>
                <a:srgbClr val="2174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и прибытии представителей спецслужб координировать с ними свою работу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озникновении Ч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250920" y="1988640"/>
            <a:ext cx="86421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иболее вероятными местами их проведения могут быть закрытые и открытые помещения с большим количеством люде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еобходима 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химическая разведк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именение СИЗ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для личного состава сил ликвидации ЧС, органов охраны правопорядка и обслуживающего персонал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эвакуация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людей из зоны заражения, включая эвакуацию пострадавших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цепление зоны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силами органов охраны правопорядк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еззараживание 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(дегазация) - независимо от типа ОХВ (ОВ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вершении терактов 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применением опасных химических веществ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ХВ) необходимо учитывать: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250560" y="1988640"/>
            <a:ext cx="87138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ценка обстановки в зоне террористической акции и принятие решения о привлекаемых силах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повещение пассажиров, зрителей, участников различных мероприятий о наличии в воздухе ОХВ (ОВ) и порядке действий при эвакуаци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оведение химической разведки и контроля с целью определения группы и идентификации примененного террористами ОХВ (ОВ)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оведение эвакуационных мероприятий, включая эвакуацию пострадавших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стреча прибывающих подразделений сил гражданской обороны, уточнение стоящих перед ними задач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868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вершении террористической акции с применением опасных химических вещест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 режиме ЧС)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250920" y="2276640"/>
            <a:ext cx="864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рудность обнаружения агента после применения в воздухе, воде, на различных объектах внешней среды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ложность и длительность лабораторного определения вида агент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рудность быстрой диагностики возбудителя заболеван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пособность инфекции к широкому эпидемическому распространению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тсутствие или недостаточная эффективность имеющихся в данное время средств иммунно- и экстренной профилактики заболевани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ористические акции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биологических поражающих агентов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ПА)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особенности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нения БПА при террористических акциях: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50920" y="2133360"/>
            <a:ext cx="8642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Указ Президента РФ от 27 декабря 2004 г. N 1615 «О внесении изменений в Указ Президента Российской Федерации от 22 января 2001 г. N 61 «О мерах по борьбе с терроризмом на территории Северо-Кавказского региона Российской Федерации» и в состав межведомственной рабочей группы, утвержденный распоряжением Президента Российской Федерации от 5 июля 2004 г. N 301-рп «О межведомственной рабочей группе по разработке концепции национальной стратегии противодействия легализации преступных доходов и финансированию терроризма» (с изм. и доп. от 2 августа 2006 г.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Распоряжение Президента РФ от 5 июля 2004 г. N 301-рп «О межведомственной рабочей группе по разработке концепции национальной стратегии противодействия легализации преступных доходов и финансированию терроризма» (с изм. и доп. от 27 декабря 2004 г., 31 августа 2005 г.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становлении Правительства Российской Федерации от 10.12.02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№ 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880 «Об утверждении положения о Федеральной антитеррористической комиссии»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именение сил и средств гражданской обороны при предупреждении и ликвидации последствий возможных крупномасштабных террористических акций на территории Российской Федерации. Методические рекомендации. Москва, 2003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250920" y="2133360"/>
            <a:ext cx="8642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 форме угрозы применения БПА, либо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 форме непосредственного заражения окружающей среды возбудителями инфекционных болезней и токсинам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й терроризм может быть осуществлен: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1012680" y="3933720"/>
            <a:ext cx="759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ЙСТВИЯ ТЕРРОРИСТОВ МОГУТ БЫТЬ ДЕМОНСТРАТИВНЫМИ ИЛИ СКРЫТ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1197000"/>
            <a:ext cx="783432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населения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грозе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ористических актов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2420640"/>
            <a:ext cx="856908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вышенный интерес посторонних лиц к техническому состоянию, планировке здания (объекта), его коммуникациям и охран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Активные попытки посторонних лиц проникнуть в место расположения газотрубопроводов, подвальные помещения, в здания (на объект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арковка возле дома загруженных автомобилей на длительный сро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192240"/>
            <a:ext cx="7772400" cy="14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ЫЕ ПРИЗНАКИ ПОДГОТОВКИ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ОРИСТИЧЕСКИХ АКТОВ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250560" y="2491920"/>
            <a:ext cx="87138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21743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НАРУЖЕНИЕ  ПРЕДМЕТОВ ДОМАШНЕГО ОБИХОДА (ЧАЩЕ ДОРОГОСТОЯЩИХ), ЯКОБЫ УТЕРЯННЫХ ИЛИ ЗАБЫТЫХ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21743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НА ОБНАРУЖЕННОМ ПРЕДМЕТЕ ПРОВОДОВ, ИЗОЛЕНТЫ, ВЕРЕВО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21743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ДОЗРИТЕЛЬНЫЕ ЗВУКИ (ЩЕЛЧКИ, ТИКАНЬЕ ЧАСОВ И Т.П.) ИЗДАВАЕМЫЕ ПРЕДМЕТО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21743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Т ПРЕДМЕТА ИСХОДИТ  НЕОБЫЧНЫЙ ЗАПАХ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,  КОТОРЫЕ МОГУТ УКАЗЫВАТЬ НА НАЛИЧИЕ ВЗРЫВНОГО УСТРОЙСТВА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250560" y="1915920"/>
            <a:ext cx="889308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Если Вы обнаружили предмет, который по Вашему мнению не должен находиться </a:t>
            </a:r>
            <a:r>
              <a:rPr b="0" i="1" lang="ru-RU" sz="2400" spc="-1" strike="noStrike" u="sng">
                <a:solidFill>
                  <a:srgbClr val="217436"/>
                </a:solidFill>
                <a:uFillTx/>
                <a:latin typeface="Times New Roman"/>
                <a:ea typeface="Times New Roman"/>
              </a:rPr>
              <a:t>«в этом месте и в это время»,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не оставляйте этот факт без внимания!!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Бесхозная или забытая вещь обнаружена Вами в транспорте: опросите находящихся рядом людей и, если хозяин не установлен, НЕМЕДЛЕННО сообщите водителю (машинисту)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дозрительный предмет обнаружен в подъезде Вашего дома. Опросите соседей, возможно, он принадлежит им. Если владелец не установлен – НЕМЕДЛЕННО сообщите в отделение милиции!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Если подозрительный предмет обнаружен в учреждении, НЕМЕДЛЕННО сообщите о находке администрации!!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82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НАСЕЛЕНИЯ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НАРУЖЕНИИ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ЗРИТЕЛЬНОГО ПРЕДМЕТА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9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2"/>
          <p:cNvSpPr/>
          <p:nvPr/>
        </p:nvSpPr>
        <p:spPr>
          <a:xfrm>
            <a:off x="3276720" y="1347840"/>
            <a:ext cx="5757840" cy="1604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 Black"/>
              </a:rPr>
              <a:t>МОСК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гибли       -  206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457200" y="2867040"/>
            <a:ext cx="6500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ВОЛГОДОН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гибли      -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1905120" y="4479840"/>
            <a:ext cx="7238880" cy="126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 Black"/>
              </a:rPr>
              <a:t>МОСКВА, Пушкинская п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гибли       -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страдали     - 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152280" y="6095880"/>
            <a:ext cx="871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108000" y="595008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ff5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Беслан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–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1-3 сентября 200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324000" y="260280"/>
            <a:ext cx="5580000" cy="887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БУЙНАК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гибли - 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 rot="20892600">
            <a:off x="914040" y="1981080"/>
            <a:ext cx="7539120" cy="2737080"/>
          </a:xfrm>
          <a:prstGeom prst="rect">
            <a:avLst/>
          </a:prstGeom>
          <a:solidFill>
            <a:srgbClr val="000000">
              <a:alpha val="68000"/>
            </a:srgbClr>
          </a:solidFill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43"/>
                </a:solidFill>
                <a:latin typeface="Arial"/>
              </a:rPr>
              <a:t>ЗАХВАТ ЗАЛОЖНИКОВ В ДК ГП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43"/>
                </a:solidFill>
                <a:latin typeface="Arial"/>
              </a:rPr>
              <a:t>(ул. МЕЛЬНИКОВА,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43"/>
                </a:solidFill>
                <a:latin typeface="Arial Black"/>
              </a:rPr>
              <a:t>ОСВОБОЖДЕНО        БОЛЕЕ 750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43"/>
                </a:solidFill>
                <a:latin typeface="Arial Black"/>
              </a:rPr>
              <a:t>ПОГИБЛО                   ОКОЛО 120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4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23640" y="2060280"/>
            <a:ext cx="85690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andara"/>
              </a:rPr>
              <a:t>	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andara"/>
              </a:rPr>
              <a:t>	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andara"/>
              </a:rPr>
              <a:t>	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7.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Возмещение вреда, причиненного в результате террористической акции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0.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Возмещение вреда лицам, участвующим в борьбе с терроризмом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2.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Льготное исчисление выслуги лет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8.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Приведение нормативных правовых актов в соответствие с настоящим Федеральным законом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9.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Вступление настоящего Федерального закона в силу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полном объеме 130-ФЗ утрачивает силу с 01.01.2007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5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ведением в действие ФЗ от 06.03.06 № 35-ФЗ  «О противодействии терроризму» (с момента официального опубликования) утрачивает силу ФЗ от 25.07.98 № 130-ФЗ «О борьбе с терроризмом», за исключением статей: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23640" y="2781000"/>
            <a:ext cx="85690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оризм</a:t>
            </a:r>
            <a:r>
              <a:rPr b="1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идеология насилия и практика воздействия на принятие решения органами государственной власти, органами местного самоуправления или международными организациями, связанные с устрашением населения и (или) иными формами противоправных насильственных действ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оризм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250920" y="198900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рганизацию, планирование, подготовку, финансирование и реализацию террористического акта (ТА)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дстрекательство к Т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рганизацию незаконного вооруженного формирования, преступного сообщества (преступной организации), организованной группы для реализации ТА, а равно участие в такой структуре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ербовку, вооружение, обучение и использование террористов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информационное или иное пособничество в планировании, подготовке или реализации Т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опаганду идей терроризма, распространение материалов или информации, призывающих к осуществлению террористической деятельности либо обосновывающих или оправдывающих необходимость осуществления такой деятельност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andara"/>
              </a:rPr>
              <a:t>ФЗ РФ «О противодействии терроризму» (35-ФЗ, 2006 г.)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395280" y="277920"/>
            <a:ext cx="82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Террористическая деятельность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– деятельность, включающая в себ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3:40:02Z</dcterms:created>
  <dc:creator>Star</dc:creator>
  <dc:description/>
  <dc:language>en-US</dc:language>
  <cp:lastModifiedBy>Star</cp:lastModifiedBy>
  <dcterms:modified xsi:type="dcterms:W3CDTF">2013-09-20T02:24:36Z</dcterms:modified>
  <cp:revision>33</cp:revision>
  <dc:subject/>
  <dc:title>Тема: Защита от угрозы террористических воздействий</dc:title>
</cp:coreProperties>
</file>