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4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CACB-B760-41B3-A9CD-541BDAEB1E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557E1-0E33-4299-967C-AD4E2DBB1C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379FC-F1B2-4688-A633-EABD28F918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679D0-99A1-4133-867B-A45591BC3F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3F0F2-0FA7-4478-9F1F-3E788678F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107F-6BFE-4C15-B492-4B44E3CEE08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43C7-D71E-41B7-9532-BF3BD8A83C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C22C-BD0F-4ECC-83FA-85BC72CE80E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AE9-D266-4CC7-B544-2B74E7DE50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4722-F8CE-4125-AD69-57EA44193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F4F9-BAE2-4DF2-9F77-067AD659B84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D64AE-E3A3-434F-BFA6-BF737E9146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3CD61-950D-4C22-BD0B-1BA7514C82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B9B0-D612-49F1-B8CB-6FFE5D8F12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5BEEE-A664-4A52-A25A-2A65146DB10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3E081-453E-47B0-AFEB-DF29679A1C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01094-7776-4B98-88F8-E35FD543A4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B30AB-0462-408D-B58F-A5C5468F51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5680C-F071-4D79-80A2-B4EBF93FBD4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27E92-6369-4B9E-B04B-D43CF9911BB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3BC-3FDF-4D23-937C-FCF1939499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74F6-4D92-4BEE-82A5-0D1D3B4C2C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C720B-536E-45CA-8079-024B4A94CD3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0E3-91DD-419E-9C48-E0F67542280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37B51-18CD-414E-88B1-159EAC213F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FBF-9D7E-4D9F-992A-57C3ED4B5A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C1CF9-327B-467C-92EF-7233FB98D7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B1A8F-09E2-494A-B3C7-4A664A4B41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2FD-2578-4848-B00F-1E23AF2392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C74A-EC93-4D27-BDBC-A0E71559274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E29-8753-43EB-9CD4-09AA26E41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80EF-473B-40CD-8CA7-B219DD30A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80FA7-D0AB-4981-9E6C-D27049B8C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1589-2980-4AF8-9A5C-3A0292100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91525-EF89-4D16-A6E1-89368C2A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08C16-20A5-41F8-8B32-D518A4F79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1173-AB35-4B8C-B0C3-C9667BCB2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4E50-80DC-4C80-B698-86AB3789D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EA9B7-A8FE-4902-BCD9-6EC0BB0BB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9B02-D435-4650-8378-3C860D0E3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9FEB8-A1C4-4871-AEF8-67C9F152C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25BF0-5977-4CB4-BF19-4A650CF7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F803D-75D3-4B54-BE30-2B5B9728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7F7E4-3911-452B-9BFE-26B083A5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7349-8BF1-47C0-9261-CB0976EF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98510-572D-4F21-A533-465491467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A5B45-8C32-49A4-BC97-E91051499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03BB7-2A38-4C4E-8092-539580102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54CEA-EAB1-4C96-AECC-DBF3E73C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44400-4888-4F9F-9419-BB6E4BCE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7BFEB8-FB17-4771-99C8-425272C9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0716C-C3BA-4089-B1DD-038AC437B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8225-1436-4FE1-9956-C7BE10BC7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041178-C144-4E68-BBD3-F7ED5EE27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2832D3-8DCF-469F-8EE2-69400024C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3BA94-9F33-4F98-B093-1213E03DB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55E97-98DC-457E-B62B-614736F8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4F1D3-20C6-45EE-875A-3CB99535A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FF597C-493C-448F-9032-96CEBAAE3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77054-0DAC-4157-9627-D9EF4C76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CB52-4432-43D1-92DE-D919EFA1C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807C76-F0EF-45B0-BD8D-17EBD891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066B9-FF1E-4EDF-9F11-5374DCD7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A93EE-E300-4CBE-A4EB-8D49736F4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C1D00-3117-476F-9256-F60AC55FB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FE88D-E012-4B17-8036-0CAAD8B00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803E6-E806-42FA-B26D-B09695EBB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76890-CD72-4207-A22A-208885E09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643F3-4CFB-4B6C-8AAE-63771E02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E64CF-02B4-4430-A8B7-A52EF65C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127F8-F1D8-4F09-BD52-D5EF7EE0D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41FFE1-CAF4-4E6A-9169-181B8544C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AF5E6-8B49-411E-8DC1-7B8C0F510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7E900-B00F-499F-BFA9-AD4E455DA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07C1-1F68-4B9C-A19C-C43D1009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53952-DEDD-49C6-BCC3-24490C75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85D5B6-FA6D-4F07-A6AD-B98A3C2D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347C-E258-4B4F-9467-A2AE1A614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455B2E-A078-42A4-8794-C2B3B238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9C67F-E5C0-4846-ACEB-EA3505D4D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FD8B6-CACA-4A2A-8FD4-1EBD4ED3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20912-9E84-48F0-BB99-B687F450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FB59C-9CF3-4F15-9E6D-FA99D4A1B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FC1AA-F5A2-492C-9CCC-E3146C4D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201C2-8DEE-474D-9BF1-7D681F7A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F642-CA3F-4C84-998E-979F252C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571D82-59F5-43DA-8403-6A4C21EDF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108C0-DDF3-4CF1-AB4C-C439EE7D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9390A-6F2C-4BFD-B188-F4E517E14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071B80-1D90-4A30-A4BB-0C17E62D5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4AE84-BB34-4743-9043-557AAF2FF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D4B61D-5AAE-46BC-BF38-C7C1D22A1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9AED1-FC99-4602-9431-B0AE43923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AF80AA-AF68-40D9-902D-BC2C95D5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61D5F5-4A58-4105-8EA0-B30C38355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85ADB8-C62A-470F-A470-765BD3E5C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E331-4B52-480E-9D7F-3AFA2106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89AEF3-5F27-4362-B88A-C27F1C4B0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305AE-17DE-421B-8DE8-465C5830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07E078-F199-4B8E-A1B4-1C4502451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9AF7B-58E2-4E23-888E-A558DB72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326DDC-FB8C-4AD9-9059-EF5C74E65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1353AA-791A-429A-AFDF-BB29CC66A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7AC07C-1F0B-463F-B5FD-51A2DADD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6B891D-9E56-4179-A447-62ACDD567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C875D8-A6BE-4FF3-8D0D-0BD4F2DD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BB8358-272B-4CF1-A306-4557DD9FB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AC72-B8D2-4CAC-8D30-2E386DAA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02C32C-6678-4467-9264-C0D74C5C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1401FF-F58F-441E-954E-9245F1633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E89EA7-7BED-4D12-9442-1B862446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CF2A7-B8F1-4995-81C2-F8D8EF6D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F5303F-8EC1-403C-B0FE-1C30DAB84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B47B-04C5-4C7B-8D7E-FE37380EF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D1975-414E-4BEC-9FD2-915959DF3CA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BA0D-148B-416D-B189-25F22A9A8671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66095-BF57-4D37-810E-661D4F7B1FF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BFADC-0695-40FE-BBFE-864BEA91D36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02452-5B92-4139-99E9-9871EC55201A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B6AD5-464E-4C96-9D0F-C84B94A57054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65E7A-7274-4005-9663-6EC526CB878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86920" y="907920"/>
            <a:ext cx="7269480" cy="540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щита  населения </a:t>
            </a: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угрозы террористических воздействий</a:t>
            </a:r>
            <a:br>
              <a:rPr sz="4800"/>
            </a:br>
            <a:br>
              <a:rPr sz="4800"/>
            </a:br>
            <a:r>
              <a:rPr b="1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втор составитель Тевдорошвили М.С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Заместитель директора по БЖ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МКОУ детский дом «Ласточкино гнездышко»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Rectangle 3"/>
          <p:cNvSpPr/>
          <p:nvPr/>
        </p:nvSpPr>
        <p:spPr>
          <a:xfrm>
            <a:off x="1476360" y="5877000"/>
            <a:ext cx="640872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250920" y="2060280"/>
            <a:ext cx="86421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й ак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вершение взрыва, поджога или иных действий, связанных с устрашением населения и создающих опасность гибели человека, причинение значительного имущественного ущерба либо наступление экологической катастрофы или иных тяжких последствий, в целях противоправного воздействия на принятие решения органами государственной власти, органами местного самоуправления или международными организациями, а также угроза совершения указанных действий в тех же целях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0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250920" y="1773000"/>
            <a:ext cx="864216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66"/>
                </a:solidFill>
                <a:latin typeface="Candara"/>
              </a:rPr>
              <a:t>	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действие терроризму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еятельность органов государственной власти и органов местного самоуправления по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ю терроризма, в том числе по выявлению и последующему устранению причин и условий, способствующих совершению ТА (профилактика терроризма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ыявлению, предупреждению, пресечению, раскрытию и расследованию ТА (борьба с терроризмом)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и и (или) ликвидации последствий проявления терроризм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тртеррористическая операция – комплекс специальных, оперативно-боевых, войсковых и иных мероприятий с применением боевой техники, оружия и специальных средств по пресечению ТА, обезвреживанию террористов, обеспечению безопасности физических лиц, организаций и учреждений, а также по минимизации последствий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 algn="r">
              <a:lnSpc>
                <a:spcPct val="8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</a:t>
            </a:r>
            <a:r>
              <a:rPr b="0" i="1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6 </a:t>
            </a:r>
            <a:r>
              <a:rPr b="1" i="1" lang="ru-RU" sz="1700" spc="-1" strike="noStrike">
                <a:solidFill>
                  <a:srgbClr val="003300"/>
                </a:solidFill>
                <a:latin typeface="Candara"/>
              </a:rPr>
              <a:t>г.)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70000" indent="-270000">
              <a:lnSpc>
                <a:spcPct val="6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-367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и защита основных прав и свобод человека и гражданин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конность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защиты прав и законных интересов лиц, подвергающихся террористической опас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твратимость наказания за осуществление террористической деятельности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ность и комплексное использование политических, информационно-пропагандистских, социально-экономических, правовых, специальных и иных мер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трудничество государства с общественными и религиозными объединениями, международными и иными организациями, гражданами в противодействии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оритет мер предупреждения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диноначалие в руководстве привлекаемыми силами и средствами при проведении контртеррористических операций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четание гласных и негласных методов противодействия терроризму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нфиденциальность сведений о специальных средствах, технических приемах, тактике осуществления мероприятий по борьбе с терроризмом, а также о составе их участник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допустимость политических уступок террористам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нимизация и (или) ликвидация последствий проявлений терроризм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размерность мер противодействия терроризму степени террористической опасности</a:t>
            </a:r>
            <a:r>
              <a:rPr b="0" lang="ru-RU" sz="16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35-ФЗ, 2006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принципы противодействия терроризму в Российской Федерации: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16"/>
          <p:cNvSpPr/>
          <p:nvPr/>
        </p:nvSpPr>
        <p:spPr>
          <a:xfrm>
            <a:off x="684360" y="476280"/>
            <a:ext cx="813564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"/>
          <p:cNvSpPr/>
          <p:nvPr/>
        </p:nvSpPr>
        <p:spPr>
          <a:xfrm>
            <a:off x="3276720" y="228600"/>
            <a:ext cx="259056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    государства или     группа государст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3"/>
          <p:cNvSpPr/>
          <p:nvPr/>
        </p:nvSpPr>
        <p:spPr>
          <a:xfrm>
            <a:off x="6400800" y="1066680"/>
            <a:ext cx="236232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Религиозные общества (сообщест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324000" y="106668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еррористические орган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5"/>
          <p:cNvSpPr/>
          <p:nvPr/>
        </p:nvSpPr>
        <p:spPr>
          <a:xfrm>
            <a:off x="3200400" y="5486400"/>
            <a:ext cx="2743200" cy="1008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тдельные лица или  сговор группы лиц (организац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Box 6"/>
          <p:cNvSpPr/>
          <p:nvPr/>
        </p:nvSpPr>
        <p:spPr>
          <a:xfrm>
            <a:off x="6362640" y="4343400"/>
            <a:ext cx="243864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стремистские группиров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7"/>
          <p:cNvSpPr/>
          <p:nvPr/>
        </p:nvSpPr>
        <p:spPr>
          <a:xfrm>
            <a:off x="343080" y="4343400"/>
            <a:ext cx="2438280" cy="1087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ьные структу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8"/>
          <p:cNvSpPr/>
          <p:nvPr/>
        </p:nvSpPr>
        <p:spPr>
          <a:xfrm>
            <a:off x="2971800" y="2209680"/>
            <a:ext cx="3200400" cy="2286000"/>
          </a:xfrm>
          <a:prstGeom prst="ellipse">
            <a:avLst/>
          </a:prstGeom>
          <a:gradFill rotWithShape="0">
            <a:gsLst>
              <a:gs pos="0">
                <a:srgbClr val="ffff99"/>
              </a:gs>
              <a:gs pos="100000">
                <a:srgbClr val="00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9"/>
          <p:cNvSpPr/>
          <p:nvPr/>
        </p:nvSpPr>
        <p:spPr>
          <a:xfrm>
            <a:off x="2895480" y="2743200"/>
            <a:ext cx="3429000" cy="12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Носител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10"/>
          <p:cNvSpPr/>
          <p:nvPr/>
        </p:nvSpPr>
        <p:spPr>
          <a:xfrm>
            <a:off x="6153120" y="2057400"/>
            <a:ext cx="1981080" cy="1066680"/>
          </a:xfrm>
          <a:custGeom>
            <a:avLst/>
            <a:gdLst>
              <a:gd name="textAreaLeft" fmla="*/ 0 w 1981080"/>
              <a:gd name="textAreaRight" fmla="*/ 1501920 w 1981080"/>
              <a:gd name="textAreaTop" fmla="*/ 94392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657"/>
                </a:lnTo>
                <a:lnTo>
                  <a:pt x="14484" y="5657"/>
                </a:lnTo>
                <a:lnTo>
                  <a:pt x="14484" y="19108"/>
                </a:lnTo>
                <a:lnTo>
                  <a:pt x="0" y="19108"/>
                </a:lnTo>
                <a:lnTo>
                  <a:pt x="0" y="21600"/>
                </a:lnTo>
                <a:lnTo>
                  <a:pt x="16373" y="21600"/>
                </a:lnTo>
                <a:lnTo>
                  <a:pt x="16373" y="5657"/>
                </a:lnTo>
                <a:lnTo>
                  <a:pt x="21600" y="5657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11"/>
          <p:cNvSpPr/>
          <p:nvPr/>
        </p:nvSpPr>
        <p:spPr>
          <a:xfrm flipV="1">
            <a:off x="6172200" y="3276000"/>
            <a:ext cx="1981080" cy="1066680"/>
          </a:xfrm>
          <a:custGeom>
            <a:avLst/>
            <a:gdLst>
              <a:gd name="textAreaLeft" fmla="*/ 0 w 1981080"/>
              <a:gd name="textAreaRight" fmla="*/ 1500120 w 1981080"/>
              <a:gd name="textAreaTop" fmla="*/ 94572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428"/>
                </a:lnTo>
                <a:lnTo>
                  <a:pt x="14502" y="6428"/>
                </a:lnTo>
                <a:lnTo>
                  <a:pt x="14502" y="19153"/>
                </a:lnTo>
                <a:lnTo>
                  <a:pt x="0" y="19153"/>
                </a:lnTo>
                <a:lnTo>
                  <a:pt x="0" y="21600"/>
                </a:lnTo>
                <a:lnTo>
                  <a:pt x="16355" y="21600"/>
                </a:lnTo>
                <a:lnTo>
                  <a:pt x="16355" y="6428"/>
                </a:lnTo>
                <a:lnTo>
                  <a:pt x="21600" y="642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12"/>
          <p:cNvSpPr/>
          <p:nvPr/>
        </p:nvSpPr>
        <p:spPr>
          <a:xfrm flipH="1">
            <a:off x="1028160" y="20574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76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5978"/>
                </a:lnTo>
                <a:lnTo>
                  <a:pt x="14467" y="5978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5978"/>
                </a:lnTo>
                <a:lnTo>
                  <a:pt x="21600" y="5978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13"/>
          <p:cNvSpPr/>
          <p:nvPr/>
        </p:nvSpPr>
        <p:spPr>
          <a:xfrm flipH="1" flipV="1">
            <a:off x="990000" y="3276000"/>
            <a:ext cx="1981080" cy="1066680"/>
          </a:xfrm>
          <a:custGeom>
            <a:avLst/>
            <a:gdLst>
              <a:gd name="textAreaLeft" fmla="*/ -360 w 1981080"/>
              <a:gd name="textAreaRight" fmla="*/ 1503000 w 1981080"/>
              <a:gd name="textAreaTop" fmla="*/ 941400 h 1066680"/>
              <a:gd name="textAreaBottom" fmla="*/ 1066680 h 1066680"/>
            </a:gdLst>
            <a:ahLst/>
            <a:rect l="textAreaLeft" t="textAreaTop" r="textAreaRight" b="textAreaBottom"/>
            <a:pathLst>
              <a:path w="21600" h="21600">
                <a:moveTo>
                  <a:pt x="15429" y="0"/>
                </a:moveTo>
                <a:lnTo>
                  <a:pt x="9257" y="6042"/>
                </a:lnTo>
                <a:lnTo>
                  <a:pt x="14467" y="6042"/>
                </a:lnTo>
                <a:lnTo>
                  <a:pt x="14467" y="19066"/>
                </a:lnTo>
                <a:lnTo>
                  <a:pt x="0" y="19066"/>
                </a:lnTo>
                <a:lnTo>
                  <a:pt x="0" y="21600"/>
                </a:lnTo>
                <a:lnTo>
                  <a:pt x="16390" y="21600"/>
                </a:lnTo>
                <a:lnTo>
                  <a:pt x="16390" y="6042"/>
                </a:lnTo>
                <a:lnTo>
                  <a:pt x="21600" y="6042"/>
                </a:lnTo>
                <a:lnTo>
                  <a:pt x="15429" y="0"/>
                </a:lnTo>
                <a:close/>
              </a:path>
            </a:pathLst>
          </a:cu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4"/>
          <p:cNvSpPr/>
          <p:nvPr/>
        </p:nvSpPr>
        <p:spPr>
          <a:xfrm>
            <a:off x="4419720" y="1219320"/>
            <a:ext cx="380880" cy="990360"/>
          </a:xfrm>
          <a:prstGeom prst="upArrow">
            <a:avLst>
              <a:gd name="adj1" fmla="val 50000"/>
              <a:gd name="adj2" fmla="val 4499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15"/>
          <p:cNvSpPr/>
          <p:nvPr/>
        </p:nvSpPr>
        <p:spPr>
          <a:xfrm flipV="1">
            <a:off x="4419720" y="4495680"/>
            <a:ext cx="380880" cy="990720"/>
          </a:xfrm>
          <a:prstGeom prst="upArrow">
            <a:avLst>
              <a:gd name="adj1" fmla="val 50000"/>
              <a:gd name="adj2" fmla="val 65028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0" nodeType="after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24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2"/>
          <p:cNvSpPr/>
          <p:nvPr/>
        </p:nvSpPr>
        <p:spPr>
          <a:xfrm>
            <a:off x="2000160" y="190440"/>
            <a:ext cx="5334120" cy="838440"/>
          </a:xfrm>
          <a:custGeom>
            <a:avLst/>
            <a:gdLst>
              <a:gd name="textAreaLeft" fmla="*/ 1333440 w 5334120"/>
              <a:gd name="textAreaRight" fmla="*/ 4000680 w 5334120"/>
              <a:gd name="textAreaTop" fmla="*/ 104760 h 838440"/>
              <a:gd name="textAreaBottom" fmla="*/ 8388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73e87"/>
                </a:solidFill>
                <a:latin typeface="Arial"/>
              </a:rPr>
              <a:t>Цели терр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4"/>
          <p:cNvSpPr/>
          <p:nvPr/>
        </p:nvSpPr>
        <p:spPr>
          <a:xfrm>
            <a:off x="304920" y="1752480"/>
            <a:ext cx="3047760" cy="762120"/>
          </a:xfrm>
          <a:prstGeom prst="roundRect">
            <a:avLst>
              <a:gd name="adj" fmla="val 16667"/>
            </a:avLst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5"/>
          <p:cNvSpPr/>
          <p:nvPr/>
        </p:nvSpPr>
        <p:spPr>
          <a:xfrm>
            <a:off x="5486400" y="1752480"/>
            <a:ext cx="3352680" cy="7621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рально-психологическ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насел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6"/>
          <p:cNvSpPr/>
          <p:nvPr/>
        </p:nvSpPr>
        <p:spPr>
          <a:xfrm>
            <a:off x="304920" y="2819520"/>
            <a:ext cx="30477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овокация вой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7"/>
          <p:cNvSpPr/>
          <p:nvPr/>
        </p:nvSpPr>
        <p:spPr>
          <a:xfrm>
            <a:off x="5562720" y="2819520"/>
            <a:ext cx="327636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странение сопер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8"/>
          <p:cNvSpPr/>
          <p:nvPr/>
        </p:nvSpPr>
        <p:spPr>
          <a:xfrm>
            <a:off x="304920" y="3733920"/>
            <a:ext cx="30477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Нанес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экономического ущерб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9"/>
          <p:cNvSpPr/>
          <p:nvPr/>
        </p:nvSpPr>
        <p:spPr>
          <a:xfrm>
            <a:off x="5562720" y="3733920"/>
            <a:ext cx="3276360" cy="7617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есть за какую-т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еятель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0"/>
          <p:cNvSpPr/>
          <p:nvPr/>
        </p:nvSpPr>
        <p:spPr>
          <a:xfrm>
            <a:off x="304920" y="1752480"/>
            <a:ext cx="3047760" cy="703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на органы государственной в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11"/>
          <p:cNvSpPr/>
          <p:nvPr/>
        </p:nvSpPr>
        <p:spPr>
          <a:xfrm>
            <a:off x="1066680" y="4800600"/>
            <a:ext cx="27432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ымогательст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12"/>
          <p:cNvSpPr/>
          <p:nvPr/>
        </p:nvSpPr>
        <p:spPr>
          <a:xfrm>
            <a:off x="5334120" y="4800600"/>
            <a:ext cx="2971800" cy="6094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6e7f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ругие це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utoShape 13"/>
          <p:cNvSpPr/>
          <p:nvPr/>
        </p:nvSpPr>
        <p:spPr>
          <a:xfrm>
            <a:off x="3200400" y="5791320"/>
            <a:ext cx="2743200" cy="685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Криминализа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общ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4"/>
          <p:cNvSpPr/>
          <p:nvPr/>
        </p:nvSpPr>
        <p:spPr>
          <a:xfrm>
            <a:off x="4076640" y="1047600"/>
            <a:ext cx="990720" cy="5335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15"/>
          <p:cNvSpPr/>
          <p:nvPr/>
        </p:nvSpPr>
        <p:spPr>
          <a:xfrm flipH="1">
            <a:off x="3352320" y="1523880"/>
            <a:ext cx="129564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16"/>
          <p:cNvSpPr/>
          <p:nvPr/>
        </p:nvSpPr>
        <p:spPr>
          <a:xfrm>
            <a:off x="4572000" y="1523880"/>
            <a:ext cx="9144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17"/>
          <p:cNvSpPr/>
          <p:nvPr/>
        </p:nvSpPr>
        <p:spPr>
          <a:xfrm flipH="1">
            <a:off x="3352320" y="1523880"/>
            <a:ext cx="12193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18"/>
          <p:cNvSpPr/>
          <p:nvPr/>
        </p:nvSpPr>
        <p:spPr>
          <a:xfrm>
            <a:off x="4572000" y="1523880"/>
            <a:ext cx="990720" cy="1676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9"/>
          <p:cNvSpPr/>
          <p:nvPr/>
        </p:nvSpPr>
        <p:spPr>
          <a:xfrm flipH="1">
            <a:off x="3352320" y="1523880"/>
            <a:ext cx="1219320" cy="2743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20"/>
          <p:cNvSpPr/>
          <p:nvPr/>
        </p:nvSpPr>
        <p:spPr>
          <a:xfrm>
            <a:off x="4572000" y="1600200"/>
            <a:ext cx="990720" cy="2666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Line 21"/>
          <p:cNvSpPr/>
          <p:nvPr/>
        </p:nvSpPr>
        <p:spPr>
          <a:xfrm>
            <a:off x="4572000" y="1600200"/>
            <a:ext cx="0" cy="4191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Line 22"/>
          <p:cNvSpPr/>
          <p:nvPr/>
        </p:nvSpPr>
        <p:spPr>
          <a:xfrm flipH="1">
            <a:off x="380952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23"/>
          <p:cNvSpPr/>
          <p:nvPr/>
        </p:nvSpPr>
        <p:spPr>
          <a:xfrm>
            <a:off x="4572000" y="4267080"/>
            <a:ext cx="76212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6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03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1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124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13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7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5"/>
          <p:cNvSpPr/>
          <p:nvPr/>
        </p:nvSpPr>
        <p:spPr>
          <a:xfrm flipV="1">
            <a:off x="5257800" y="1371240"/>
            <a:ext cx="45720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16"/>
          <p:cNvSpPr/>
          <p:nvPr/>
        </p:nvSpPr>
        <p:spPr>
          <a:xfrm flipV="1">
            <a:off x="5257800" y="1371240"/>
            <a:ext cx="2666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17"/>
          <p:cNvSpPr/>
          <p:nvPr/>
        </p:nvSpPr>
        <p:spPr>
          <a:xfrm flipV="1">
            <a:off x="609588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8"/>
          <p:cNvSpPr/>
          <p:nvPr/>
        </p:nvSpPr>
        <p:spPr>
          <a:xfrm>
            <a:off x="609588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9"/>
          <p:cNvSpPr/>
          <p:nvPr/>
        </p:nvSpPr>
        <p:spPr>
          <a:xfrm>
            <a:off x="579132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20"/>
          <p:cNvSpPr/>
          <p:nvPr/>
        </p:nvSpPr>
        <p:spPr>
          <a:xfrm flipH="1">
            <a:off x="335232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21"/>
          <p:cNvSpPr/>
          <p:nvPr/>
        </p:nvSpPr>
        <p:spPr>
          <a:xfrm>
            <a:off x="5486400" y="4419720"/>
            <a:ext cx="304920" cy="838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22"/>
          <p:cNvSpPr/>
          <p:nvPr/>
        </p:nvSpPr>
        <p:spPr>
          <a:xfrm flipH="1" flipV="1">
            <a:off x="3429000" y="1371240"/>
            <a:ext cx="38088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23"/>
          <p:cNvSpPr/>
          <p:nvPr/>
        </p:nvSpPr>
        <p:spPr>
          <a:xfrm flipH="1" flipV="1">
            <a:off x="1066320" y="1371240"/>
            <a:ext cx="266724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24"/>
          <p:cNvSpPr/>
          <p:nvPr/>
        </p:nvSpPr>
        <p:spPr>
          <a:xfrm flipH="1" flipV="1">
            <a:off x="2133720" y="20574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25"/>
          <p:cNvSpPr/>
          <p:nvPr/>
        </p:nvSpPr>
        <p:spPr>
          <a:xfrm flipH="1">
            <a:off x="2133720" y="2971800"/>
            <a:ext cx="91440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26"/>
          <p:cNvSpPr/>
          <p:nvPr/>
        </p:nvSpPr>
        <p:spPr>
          <a:xfrm flipH="1">
            <a:off x="1828440" y="3733920"/>
            <a:ext cx="1523880" cy="1523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utoShape 2"/>
          <p:cNvSpPr/>
          <p:nvPr/>
        </p:nvSpPr>
        <p:spPr>
          <a:xfrm>
            <a:off x="3048120" y="2057400"/>
            <a:ext cx="3047760" cy="2362320"/>
          </a:xfrm>
          <a:prstGeom prst="pentagon">
            <a:avLst/>
          </a:prstGeom>
          <a:solidFill>
            <a:srgbClr val="31b6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РИЕМ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МЕТОД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ТЕРАКТОВ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3"/>
          <p:cNvSpPr/>
          <p:nvPr/>
        </p:nvSpPr>
        <p:spPr>
          <a:xfrm>
            <a:off x="380880" y="45720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хват транспорт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4"/>
          <p:cNvSpPr/>
          <p:nvPr/>
        </p:nvSpPr>
        <p:spPr>
          <a:xfrm>
            <a:off x="2438280" y="457200"/>
            <a:ext cx="190512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зданий и сооруж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5"/>
          <p:cNvSpPr/>
          <p:nvPr/>
        </p:nvSpPr>
        <p:spPr>
          <a:xfrm>
            <a:off x="4648320" y="457200"/>
            <a:ext cx="205740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рывы в местах скопления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6"/>
          <p:cNvSpPr/>
          <p:nvPr/>
        </p:nvSpPr>
        <p:spPr>
          <a:xfrm>
            <a:off x="7010280" y="457200"/>
            <a:ext cx="1752840" cy="10598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хищение люд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7"/>
          <p:cNvSpPr/>
          <p:nvPr/>
        </p:nvSpPr>
        <p:spPr>
          <a:xfrm>
            <a:off x="380880" y="2036880"/>
            <a:ext cx="1752840" cy="123336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зятие в зало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8"/>
          <p:cNvSpPr/>
          <p:nvPr/>
        </p:nvSpPr>
        <p:spPr>
          <a:xfrm>
            <a:off x="3808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би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9"/>
          <p:cNvSpPr/>
          <p:nvPr/>
        </p:nvSpPr>
        <p:spPr>
          <a:xfrm>
            <a:off x="380880" y="5257800"/>
            <a:ext cx="175284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апа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0"/>
          <p:cNvSpPr/>
          <p:nvPr/>
        </p:nvSpPr>
        <p:spPr>
          <a:xfrm>
            <a:off x="7010280" y="5257800"/>
            <a:ext cx="1752840" cy="88560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ругие прием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7010280" y="3637080"/>
            <a:ext cx="1752840" cy="10501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12"/>
          <p:cNvSpPr/>
          <p:nvPr/>
        </p:nvSpPr>
        <p:spPr>
          <a:xfrm>
            <a:off x="7010280" y="2036880"/>
            <a:ext cx="1752840" cy="91692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Уничтожение материальн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13"/>
          <p:cNvSpPr/>
          <p:nvPr/>
        </p:nvSpPr>
        <p:spPr>
          <a:xfrm>
            <a:off x="251460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т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14"/>
          <p:cNvSpPr/>
          <p:nvPr/>
        </p:nvSpPr>
        <p:spPr>
          <a:xfrm>
            <a:off x="4876920" y="5257800"/>
            <a:ext cx="1752480" cy="959040"/>
          </a:xfrm>
          <a:prstGeom prst="rect">
            <a:avLst/>
          </a:prstGeom>
          <a:solidFill>
            <a:srgbClr val="4fff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Зараж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76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183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190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197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22500"/>
                            </p:stCondLst>
                            <p:childTnLst>
                              <p:par>
                                <p:cTn id="204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25000"/>
                            </p:stCondLst>
                            <p:childTnLst>
                              <p:par>
                                <p:cTn id="211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218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19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"/>
          <p:cNvSpPr/>
          <p:nvPr/>
        </p:nvSpPr>
        <p:spPr>
          <a:xfrm rot="3115200">
            <a:off x="5039280" y="767520"/>
            <a:ext cx="243000" cy="1574640"/>
          </a:xfrm>
          <a:prstGeom prst="upArrow">
            <a:avLst>
              <a:gd name="adj1" fmla="val 50000"/>
              <a:gd name="adj2" fmla="val 162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3"/>
          <p:cNvSpPr/>
          <p:nvPr/>
        </p:nvSpPr>
        <p:spPr>
          <a:xfrm rot="18504000">
            <a:off x="3872160" y="707400"/>
            <a:ext cx="228600" cy="1612800"/>
          </a:xfrm>
          <a:prstGeom prst="upArrow">
            <a:avLst>
              <a:gd name="adj1" fmla="val 50000"/>
              <a:gd name="adj2" fmla="val 176378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4"/>
          <p:cNvSpPr/>
          <p:nvPr/>
        </p:nvSpPr>
        <p:spPr>
          <a:xfrm flipH="1" rot="18179400">
            <a:off x="5417280" y="2873160"/>
            <a:ext cx="225360" cy="2197080"/>
          </a:xfrm>
          <a:prstGeom prst="downArrow">
            <a:avLst>
              <a:gd name="adj1" fmla="val 50000"/>
              <a:gd name="adj2" fmla="val 24373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5"/>
          <p:cNvSpPr/>
          <p:nvPr/>
        </p:nvSpPr>
        <p:spPr>
          <a:xfrm rot="3420600">
            <a:off x="3498480" y="2863440"/>
            <a:ext cx="230040" cy="2220840"/>
          </a:xfrm>
          <a:prstGeom prst="downArrow">
            <a:avLst>
              <a:gd name="adj1" fmla="val 50000"/>
              <a:gd name="adj2" fmla="val 241354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6"/>
          <p:cNvSpPr/>
          <p:nvPr/>
        </p:nvSpPr>
        <p:spPr>
          <a:xfrm>
            <a:off x="533520" y="457200"/>
            <a:ext cx="2819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7"/>
          <p:cNvSpPr/>
          <p:nvPr/>
        </p:nvSpPr>
        <p:spPr>
          <a:xfrm>
            <a:off x="990720" y="380880"/>
            <a:ext cx="236196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ссогласованность действий ветвей в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8"/>
          <p:cNvSpPr/>
          <p:nvPr/>
        </p:nvSpPr>
        <p:spPr>
          <a:xfrm>
            <a:off x="5791320" y="380880"/>
            <a:ext cx="228600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явление теневых лидеров и структур (олигархов и монополист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9"/>
          <p:cNvSpPr/>
          <p:nvPr/>
        </p:nvSpPr>
        <p:spPr>
          <a:xfrm>
            <a:off x="3049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тремление         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к переделу собственности          и наж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10"/>
          <p:cNvSpPr/>
          <p:nvPr/>
        </p:nvSpPr>
        <p:spPr>
          <a:xfrm>
            <a:off x="3276720" y="2057400"/>
            <a:ext cx="2590560" cy="1295280"/>
          </a:xfrm>
          <a:prstGeom prst="flowChartTerminator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едпосыл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терроризм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1"/>
          <p:cNvSpPr/>
          <p:nvPr/>
        </p:nvSpPr>
        <p:spPr>
          <a:xfrm>
            <a:off x="6553080" y="2133720"/>
            <a:ext cx="2286000" cy="13341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Изменение понятия справедливости      и поряд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12"/>
          <p:cNvSpPr/>
          <p:nvPr/>
        </p:nvSpPr>
        <p:spPr>
          <a:xfrm>
            <a:off x="304920" y="213372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Неспособность обеспечить уровень защищенности насе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13"/>
          <p:cNvSpPr/>
          <p:nvPr/>
        </p:nvSpPr>
        <p:spPr>
          <a:xfrm>
            <a:off x="6477120" y="3809880"/>
            <a:ext cx="2361960" cy="11912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сознание общностями людей своей социальной унижен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14"/>
          <p:cNvSpPr/>
          <p:nvPr/>
        </p:nvSpPr>
        <p:spPr>
          <a:xfrm flipV="1">
            <a:off x="2743200" y="4724280"/>
            <a:ext cx="3657600" cy="1371600"/>
          </a:xfrm>
          <a:custGeom>
            <a:avLst/>
            <a:gdLst>
              <a:gd name="textAreaLeft" fmla="*/ 761760 w 3657600"/>
              <a:gd name="textAreaRight" fmla="*/ 2895840 w 3657600"/>
              <a:gd name="textAreaTop" fmla="*/ 285480 h 1371600"/>
              <a:gd name="textAreaBottom" fmla="*/ 10861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5"/>
          <p:cNvSpPr/>
          <p:nvPr/>
        </p:nvSpPr>
        <p:spPr>
          <a:xfrm>
            <a:off x="3200400" y="495288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зведение культа  силы и оружия            для решения пробл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16"/>
          <p:cNvSpPr/>
          <p:nvPr/>
        </p:nvSpPr>
        <p:spPr>
          <a:xfrm>
            <a:off x="5867280" y="259092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17"/>
          <p:cNvSpPr/>
          <p:nvPr/>
        </p:nvSpPr>
        <p:spPr>
          <a:xfrm flipH="1">
            <a:off x="2666880" y="25909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18"/>
          <p:cNvSpPr/>
          <p:nvPr/>
        </p:nvSpPr>
        <p:spPr>
          <a:xfrm>
            <a:off x="4457880" y="3352680"/>
            <a:ext cx="228600" cy="1371600"/>
          </a:xfrm>
          <a:prstGeom prst="downArrow">
            <a:avLst>
              <a:gd name="adj1" fmla="val 50000"/>
              <a:gd name="adj2" fmla="val 150000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35" nodeType="afterEffect" fill="hold" presetClass="entr" presetID="1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42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49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6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63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70" nodeType="afterEffect" fill="hold" presetClass="entr" presetID="17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18"/>
          <p:cNvSpPr/>
          <p:nvPr/>
        </p:nvSpPr>
        <p:spPr>
          <a:xfrm>
            <a:off x="611280" y="476280"/>
            <a:ext cx="8208720" cy="18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95280" y="152280"/>
            <a:ext cx="6553440" cy="914400"/>
          </a:xfrm>
          <a:prstGeom prst="rect">
            <a:avLst/>
          </a:prstGeom>
          <a:solidFill>
            <a:srgbClr val="00ff00"/>
          </a:solidFill>
          <a:ln w="19080">
            <a:solidFill>
              <a:srgbClr val="000000"/>
            </a:solidFill>
            <a:miter/>
          </a:ln>
          <a:effectLst>
            <a:outerShdw dist="107932" dir="13500000" blurRad="0" rotWithShape="0">
              <a:srgbClr val="c6e7fc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Candara"/>
              </a:rPr>
              <a:t>Причины, порождающие рост терроризма</a:t>
            </a: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56" name="Text Box 3"/>
          <p:cNvSpPr/>
          <p:nvPr/>
        </p:nvSpPr>
        <p:spPr>
          <a:xfrm>
            <a:off x="343080" y="1295280"/>
            <a:ext cx="350496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решенность  социальных,            в т.ч. национальных                                    и религиозных пробле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4"/>
          <p:cNvSpPr/>
          <p:nvPr/>
        </p:nvSpPr>
        <p:spPr>
          <a:xfrm>
            <a:off x="5181480" y="1295280"/>
            <a:ext cx="3581640" cy="82404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ойны и военные конфликты, в рамках которых теракты становятся их составной часть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5"/>
          <p:cNvSpPr/>
          <p:nvPr/>
        </p:nvSpPr>
        <p:spPr>
          <a:xfrm>
            <a:off x="343080" y="243828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асслоение общества по уровню материального состояния,культуре и кредитоспособност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6"/>
          <p:cNvSpPr/>
          <p:nvPr/>
        </p:nvSpPr>
        <p:spPr>
          <a:xfrm>
            <a:off x="343080" y="3819600"/>
            <a:ext cx="3504960" cy="11944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лабость законодательной базы и нежелание правоохранительных органов следовать букве зак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7"/>
          <p:cNvSpPr/>
          <p:nvPr/>
        </p:nvSpPr>
        <p:spPr>
          <a:xfrm>
            <a:off x="343080" y="5219640"/>
            <a:ext cx="3504960" cy="13107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уществование обществ и организаций (религиозных, сектантских), ведущих борьбу за справедливость своего учения по спасению человечест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8"/>
          <p:cNvSpPr/>
          <p:nvPr/>
        </p:nvSpPr>
        <p:spPr>
          <a:xfrm>
            <a:off x="5181480" y="243828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Несправедливость решения экономических и финансовых вопросов при разделе государственной собствен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9"/>
          <p:cNvSpPr/>
          <p:nvPr/>
        </p:nvSpPr>
        <p:spPr>
          <a:xfrm>
            <a:off x="5181480" y="3819600"/>
            <a:ext cx="3581640" cy="10674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рганизованная преступность и криминализация ряда государственных и коммерческих структу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0"/>
          <p:cNvSpPr/>
          <p:nvPr/>
        </p:nvSpPr>
        <p:spPr>
          <a:xfrm>
            <a:off x="4495680" y="1066680"/>
            <a:ext cx="0" cy="4876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AutoShape 11"/>
          <p:cNvSpPr/>
          <p:nvPr/>
        </p:nvSpPr>
        <p:spPr>
          <a:xfrm>
            <a:off x="449568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>
            <a:off x="4495680" y="1600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>
            <a:off x="449568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AutoShape 14"/>
          <p:cNvSpPr/>
          <p:nvPr/>
        </p:nvSpPr>
        <p:spPr>
          <a:xfrm flipH="1">
            <a:off x="3809160" y="5791320"/>
            <a:ext cx="690840" cy="228600"/>
          </a:xfrm>
          <a:prstGeom prst="rightArrow">
            <a:avLst>
              <a:gd name="adj1" fmla="val 50000"/>
              <a:gd name="adj2" fmla="val 7555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utoShape 15"/>
          <p:cNvSpPr/>
          <p:nvPr/>
        </p:nvSpPr>
        <p:spPr>
          <a:xfrm flipH="1">
            <a:off x="3809160" y="28954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AutoShape 16"/>
          <p:cNvSpPr/>
          <p:nvPr/>
        </p:nvSpPr>
        <p:spPr>
          <a:xfrm flipH="1">
            <a:off x="380916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utoShape 17"/>
          <p:cNvSpPr/>
          <p:nvPr/>
        </p:nvSpPr>
        <p:spPr>
          <a:xfrm flipH="1">
            <a:off x="3809160" y="16048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0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8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9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питка молодежью (националистические, исламские террористические организации существуют десятилетиями)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ущественное расширение ареала исламского фундаментализма и связанного с ним терроризма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ические организации не ограничиваются рамками терактов, а придают большое значение политической стратеги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нденция перехода от конкретных целей (захват авиалайнеров) к беспорядочным убийства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ния раздела между террористическими организациями различных толков стала менее отчетливо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ррористы-смертник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ые виды оружия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ременный 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 терроризм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74" name="Text Box 4"/>
          <p:cNvSpPr/>
          <p:nvPr/>
        </p:nvSpPr>
        <p:spPr>
          <a:xfrm>
            <a:off x="612720" y="19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используемым метод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5"/>
          <p:cNvSpPr/>
          <p:nvPr/>
        </p:nvSpPr>
        <p:spPr>
          <a:xfrm>
            <a:off x="612720" y="2708280"/>
            <a:ext cx="388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еследуемы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ческ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циальным целя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6"/>
          <p:cNvSpPr/>
          <p:nvPr/>
        </p:nvSpPr>
        <p:spPr>
          <a:xfrm>
            <a:off x="612720" y="428148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уровню воз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7"/>
          <p:cNvSpPr/>
          <p:nvPr/>
        </p:nvSpPr>
        <p:spPr>
          <a:xfrm>
            <a:off x="612720" y="5373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признаку используемых средст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8"/>
          <p:cNvSpPr/>
          <p:nvPr/>
        </p:nvSpPr>
        <p:spPr>
          <a:xfrm>
            <a:off x="4284720" y="170028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Организационного характер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Физ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атериальн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сихологического воздейств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9"/>
          <p:cNvSpPr/>
          <p:nvPr/>
        </p:nvSpPr>
        <p:spPr>
          <a:xfrm>
            <a:off x="4284720" y="2852640"/>
            <a:ext cx="4114800" cy="1008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Демонстратив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Сплачивающ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Провокацио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10"/>
          <p:cNvSpPr/>
          <p:nvPr/>
        </p:nvSpPr>
        <p:spPr>
          <a:xfrm>
            <a:off x="4284720" y="4076640"/>
            <a:ext cx="4114800" cy="863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Государствен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Международны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66"/>
                </a:solidFill>
                <a:latin typeface="Times New Roman"/>
                <a:ea typeface="Times New Roman"/>
              </a:rPr>
              <a:t>Внутренний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ectangle 11"/>
          <p:cNvSpPr/>
          <p:nvPr/>
        </p:nvSpPr>
        <p:spPr>
          <a:xfrm>
            <a:off x="4284720" y="5157720"/>
            <a:ext cx="4114800" cy="57492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Традиционный (огнестрельное оружие, ВВ и др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ectangle 12"/>
          <p:cNvSpPr/>
          <p:nvPr/>
        </p:nvSpPr>
        <p:spPr>
          <a:xfrm>
            <a:off x="4500720" y="5764320"/>
            <a:ext cx="3892320" cy="863640"/>
          </a:xfrm>
          <a:prstGeom prst="rect">
            <a:avLst/>
          </a:prstGeom>
          <a:gradFill rotWithShape="0">
            <a:gsLst>
              <a:gs pos="0">
                <a:srgbClr val="a98765"/>
              </a:gs>
              <a:gs pos="50000">
                <a:srgbClr val="ffcc99"/>
              </a:gs>
              <a:gs pos="100000">
                <a:srgbClr val="a9876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Технологический        -                    ядерны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химический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биологический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ибертерроризм и др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323640" y="2565360"/>
            <a:ext cx="856908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упреждение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100000"/>
              </a:lnSpc>
              <a:spcBef>
                <a:spcPts val="799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Ликвидация последствий террористических акций.</a:t>
            </a:r>
            <a:endParaRPr b="0" lang="en-US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ебные вопросы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250920" y="1916280"/>
            <a:ext cx="864216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гидротехнические сооружения (плотины, шлюзы, водозаборы, водохранилища, гидроузлы, насосные станции и т. д.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объекты энергетики (ГЭС, ГРЭС, АЭС, ТЭС, ТЭЦ, силовые и трансформаторные подстанции, крупные высоковольтные линии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промышленные предприятия по производству продуктов питания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</a:rPr>
              <a:t>склады и базы (арсеналы, склады взрывчатых и ядовитых веществ, горючего, техники, лекарств, наркотиков, сырья и готовой продукции, базы мобрезерва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особо важных государственных объектов и объектов жизнеобеспечения</a:t>
            </a:r>
            <a:br>
              <a:rPr sz="27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"/>
          <p:cNvSpPr txBox="1"/>
          <p:nvPr/>
        </p:nvSpPr>
        <p:spPr>
          <a:xfrm>
            <a:off x="250920" y="907560"/>
            <a:ext cx="86421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хранения и переработки нефтепродуктов (нефти и газохранилища, магистральные нефтепродуктопроводы);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кты с хранением и применением ядовитых, взрывчатых и бактериологически опасных веществ (химические заводы, объекты пищевой, лёгкой, тяжёлой, микро-биологической промышленности, технические холодильники с хлором и аммиаком). 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   </a:t>
            </a:r>
            <a:r>
              <a:rPr b="0" lang="ru-RU" sz="2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личительная особенность этих объектов заключается в том, что возникновение на них чрезвычайных обстоятельств, вызванных террористическими актами, приводит, как правило, к большим разрушениям, человеческим жертвам и загрязнению окружающей среды.</a:t>
            </a: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70000"/>
              </a:lnSpc>
              <a:spcBef>
                <a:spcPts val="6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250920" y="2060280"/>
            <a:ext cx="864216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ческое, информационное и административное противодействие формированию у граждан террористических намерен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вовое и оперативное противодействие возникновению террористических групп и организац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здание эффективной системы контроля за оборотом оружия, взрывчатых веществ, расщепляющихся материалов, химически и биологически опасных рецептур и других средств, используемых для совершения террористических акт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агентурной сети по предупреждению и пресечению террористических действий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формирование системы мероприятий по защите и повышению устойчивости функционирования критически важных объектов инфраструктуры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я борьбы с терроризмом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ает в себя следующие направления:</a:t>
            </a:r>
            <a:br>
              <a:rPr sz="27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 txBox="1"/>
          <p:nvPr/>
        </p:nvSpPr>
        <p:spPr>
          <a:xfrm>
            <a:off x="250560" y="836640"/>
            <a:ext cx="871380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пределения системы профилактических мер, вида и способа охраны объекта, а также моделирования возможных террористических акций рекомендуется разработать на критически важных объектах следующие документы с рекомендациями по их разработке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мероприятий по усилению безопасности функционирования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антитеррористической защищенности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 безопасности опасного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ехнологическая карта ликвидации последствий террористического акта с использованием   опасных химических и отравляющих вещест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охраны и обороны объекта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еративные документы, по организации охраны объектов;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лжностные инструкции руководящему составу, дежурно-диспетчерскому персоналу, личному составу подразделений охраны, уполномоченному по делам ГОЧС, членам КЧС, командирам аварийно-спасательных формирований объекта и всему персоналу объекта по организации антитеррористической безопасности на объекте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634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24000" y="1125360"/>
            <a:ext cx="8496000" cy="3383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порт антитеррористической защищенности объекта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 txBox="1"/>
          <p:nvPr/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) сведения о разработчиках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) источники информации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) дата завершения разработки паспорта или обновления включенных в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го сведен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нотации</a:t>
            </a: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1. Профиль опасности объекта (химически опасный, взрывопожароопасный, опасный гидродинамический и др.), объект жизнеобеспеч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2. Полное и сокращенное наименования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3. Почтовый адрес, телефон, факс, телетайп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4. Ведомственная принадлежность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5. Вышестоящая (головная) организац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6. Форма собственност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7. Должностные лица объекта с указанием фамилии, имени, отчества, рабочих и домашних телефон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8. Размещение объекта по отношению к транспортным коммуникациям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1. Общие сведения об объекте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 txBox="1"/>
          <p:nvPr/>
        </p:nvSpPr>
        <p:spPr>
          <a:xfrm>
            <a:off x="250920" y="1916280"/>
            <a:ext cx="864216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1. Угроза взрыва (поджога) или</a:t>
            </a: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зрыв (поджог) критических установок или сооружений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2. Прекращение жизнеобеспечения критических установок объекта или объекта в целом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3. Вывод из строя или несанкционированное вмешательство в работу автоматизированных систем управления технологическими процессами (АСУ ТП), информационных и телекоммуникационных систем и сетей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4. Захват центрального диспетчерского пункта (ЦДЛ) объекта (взятие в заложники его персонала) и/или вывод его из стро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5. Иные аварийные ситуации в результате диверсионно-террористических акц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2. Возможные аварийные ситуации на объекте в результате теракта</a:t>
            </a:r>
            <a:br>
              <a:rPr sz="3100"/>
            </a:br>
            <a:endParaRPr b="0" lang="en-US" sz="27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250920" y="1628280"/>
            <a:ext cx="864216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1. Численность сотрудников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2. Средняя заработная плата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3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сотрудников, состоящих на учете в нарк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4. Количество сотрудников, состоящих на учет в психоневродиспансере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5. Национальный состав и гражданство сотрудников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3. Персонал объекта</a:t>
            </a:r>
            <a:br>
              <a:rPr sz="3400"/>
            </a:br>
            <a:endParaRPr b="0" lang="en-US" sz="3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 txBox="1"/>
          <p:nvPr/>
        </p:nvSpPr>
        <p:spPr>
          <a:xfrm>
            <a:off x="178920" y="1599840"/>
            <a:ext cx="871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1. Параметры охраняемой территор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2. Инженерные загражд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3. Силы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4. Средства охран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5. Организация связ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6. Наличие на объекте добровольной народной дружины, ее численность, функциональные  обязанности по охране объек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7. Зафиксированные диверсионно-террористические проявления в отношении объекта, их краткая характеристик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8. Оценка надежности охраны объекта и способности противостоять попыткам проникновения на него диверсионно-террористической групп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4. Силы и средства охраны объекта</a:t>
            </a:r>
            <a:br>
              <a:rPr sz="3100"/>
            </a:br>
            <a:endParaRPr b="0" lang="en-US" sz="31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6 марта 2006 г. N 35-ФЗ «О противодействии терроризму» (с изм. и доп. от 27 июля 2006 г.)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едеральный закон от 27 июля 2006 г. N 153-ФЗ «О внесении изменений в отдельные законодательные акты Российской Федерации в связи с принятием Федерального закона «О ратификации Конвенции Совета Европы о предупреждении терроризма» и Федерального закона «О противодействии терроризму» (с изм. и доп. от 5 июня 2007 г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6 июня 2007 г. N 352 «О мерах по реализации Федерального закона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Федерации Федерального Собрания РФ от 1 марта 2006 г. N 58-СФ «О Федеральном законе «О противодействии терроризму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Государственной Думы Федерального Собрания РФ от 26 февраля 2006 г. N 2846-IV ГД «О Федеральном законе «О противодействии терроризму» (проект N 115259-4)»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арлухина Е.О., Рождествина А.А. Комментарий к Федеральному закону от 26 февраля 2006 года N 35-ФЗ «О противодействии терроризму». - Система ГАРАНТ, 2007 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апрыкин С.Ю. Новый закон о противодействии терроризму: комментарий к Федеральному закону от 6 марта 2006 г. N 35-ФЗ. – «ГроссМедиа», 2006 г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50920" y="2204640"/>
            <a:ext cx="8642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1. Первоочередные, неотложные мероприятия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2. Долгосрочные мероприятия, требующие длительного времени и значительных финансовых затрат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5. Осуществляемые (планируемые) мероприятия по усилению антитеррористической защиты и снижения уязвимости объекта</a:t>
            </a:r>
            <a:br>
              <a:rPr sz="2300"/>
            </a:br>
            <a:endParaRPr b="0" lang="en-US" sz="23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178920" y="2276280"/>
            <a:ext cx="87138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1. Наличие на объекте режимно-секретного органа, его численность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2. Наличие объектового перечня сведений, составляющих государственную тайну, его реквизит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3. Наличие на объекте сотрудников, допущенных к работе с документами и материалами, их количество по 1, 2,  3 формам допуск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4. Меры по обеспечению режима секретности и сохранности секретных сведений в условиях ЧС на объект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6. Обеспечение режима секретност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 txBox="1"/>
          <p:nvPr/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туационные планы должны содержать обозначения: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частков и установок объекта, критичных в отношении диверсионно-террористических акций, возможные подходы к ним, в т.ч.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 скрытым и подземным коммуникациям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змещения инженерных сооружений охраны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ложения постов охраны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скрытного сосредоточения групп быстрого реагирования и маршрутов выдвижения групп быстрого реагирования к элементам инженерных сооружений и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расположения штаба опера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ходящих инженерных коммуникаций (теплотрасс, проходных тоннелей с коммуникациями, канализации, водоподводящих каналов и др.)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едполагаемых маршрутов продвижения диверсионно-террористических групп к уязвимым элементам объект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он возможного поражения с указанием численности людей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этих зонах и времени достижения поражающих факторо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екторов и участков объекта, на которых нельзя применять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гнестрельное</a:t>
            </a:r>
            <a:r>
              <a:rPr b="1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ужие, взрывчатые и специальные средства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мещений и сооружений объекта, в которых затруднено или невозможно использование УКВ- радиосвяз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дел 7. Ситуационные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 txBox="1"/>
          <p:nvPr/>
        </p:nvSpPr>
        <p:spPr>
          <a:xfrm>
            <a:off x="323640" y="2060280"/>
            <a:ext cx="856908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лы и средства охраны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. Параметры охраняемой территори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Инженерные заграждения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Силы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Средства охраны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Организация связ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Наличие на объекте добровольной народной дружины, ее численность, функциональные обязанности по охране объект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безопасности функционирования предприят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факта ТА и возможностей решения связанных с этим пробле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Частичная предсказуемость мест возникновения и сценариев развит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абая предсказуемость масштаба и времени возникновения 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предсказуемость ряда неблагоприятных событий и ситуаций, обусловленных возникновением и развитием ЧС (наличие стратегических неожиданностей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бенности условий функционирования органов планирования и управления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250920" y="1989000"/>
            <a:ext cx="864216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гноз последствий ЧС/ТА путем формирования сценариев развития ситуации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Формирование целей и критериев управления ликвидацией последствий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(долгосрочное) планирование превентивных мероприят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актическое (текущее) планирование альтернативных ответных действий на возникающие угрозы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тратегическое и оперативное управление в условиях ЧС/ТА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планирования и управления ликвидацией последствий ЧС/Т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250920" y="1557360"/>
            <a:ext cx="8920080" cy="53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ля управления комплексами мероприятий в режиме повседневн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долгосрочным целевым планом (программой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авляется раздельно по основным направлениям деятельности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ределяет объемы мероприятий и необходимые средств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угрозе ТА (режим повышенной готовност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защиты населения (персонала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изменений режимов работы предприяти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едения в готовность сил и средств проведения АСДНР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лан привлечения дополнительных материально-технических ресурсов,      размещенных в безопасных местах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действий при возникновении ЧС/Т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является опорным вариантом для последующей оперативной корректировки, детализации и формирования конкретного стратегического плана действий органов управления при возникновении ЧС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вентивные (стратегические) планы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611280" y="2276640"/>
            <a:ext cx="853272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. Экстренное оповещение и связь (своевременное оповещение населения, проверка всех служб связи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Регулярное информирование населения (для ориентирования на разумные защитные действ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3. Эвакуация (помощь людям, выходящим в относительно безопасные районы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4. Обеспечение жизнедеятельности людей в условиях ЧС (предоставление убежища, жилья, пищи, одежды, санитарного обеспеч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5. Медицинское обеспечение в условиях ЧС/ТА (оказание экстренной медицинской помощи пораженны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6. Обеспечение безопасности (защита жизни людей и материальных ценностей; контроль за перемещением работников и технических средств. Необходимых для противодействия и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7. Борьба с огнем и экстренное спасение люде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. Радиационная защита (разведка и оценка радиационной обстановки для защиты населения и лиц, занятых в ликвидации ЧС/ТА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9. Ремонт коммунальных служб и хозяйств (срочный ремонт пораженных жизненно важных коммунальных систем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0. Анализ и оценка ЧС/ТА (мониторинг и анализ характеристик ЧС; оценка физических потерь; сбор информации о результатах противодействия ЧС; выбор направлений ликвидации ее последств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1. Материально-техническое снабжение (контроль за транспортировкой материально-технических ресурсов; привлечение дополнительных поставок ресурсов для выполнения чрезвычайных функций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12. Управление и контроль (руководство реализацией функций 1 – 11)            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Н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й при возникновении ЧС/Т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611280" y="1628640"/>
            <a:ext cx="853272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73e87"/>
                </a:solidFill>
                <a:latin typeface="Candara"/>
              </a:rPr>
              <a:t>1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АЯ ХАРАКТЕРИСТИКА АДМИНИСТРАТИВНО-ТЕРРИТОРИАЛЬНОЙ ЕДИНИЦЫ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е сведения о территории (общая численность населения, количество НП с объектами ОВ и 1 категории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природных условий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циально-демографическая характеристика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анспортная освоенность территории (количество автомобильных и железнодорожных мостов, количество портов, пристаней, шлюзов, протяженность магистральных продуктопроводов и др.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арактеристика отраслей социальной сферы (количество жилых и административных зданий, лечебно-профилактических учреждений, объектов связи и жизнеобеспечения населения; </a:t>
            </a:r>
            <a:r>
              <a:rPr b="0" i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ста возможного массового скопления людей 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– автостоянки, остановки общественного транспорта, культовые, ритуальные и культурно-спортивные учреждения)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2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ИСТИКА ОПАСНОСТИ ВОЗНИКНОВЕНИЯ НА ТЕРРИТОРИИ ЧРЕЗВЫЧАЙНЫХ СИТУАЦИЙ: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О на территории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населения, проживающего в непосредственной близости от ПОО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щий объем используемых, производимых и хранимых аварийно опасных химических, радиоактивных веществ и биологических поражающих агент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ъем возможных аварийных выбросов химически, биологически и радиактивно опасных вещест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личество потенциально опасных мест захоронения промышленных отходов и могильников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 ИСХОДНЫЕ  ДАННЫ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ланирования мероприятий по предупреждению ТА и смягчению их последствий</a:t>
            </a:r>
            <a:endParaRPr b="0" lang="en-US" sz="2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 txBox="1"/>
          <p:nvPr/>
        </p:nvSpPr>
        <p:spPr>
          <a:xfrm>
            <a:off x="611280" y="1915920"/>
            <a:ext cx="853272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ти задачи решаются действиями сил и средств специализированных государственных организаций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жарных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асателей МЧС и ПСС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едиков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милиции,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 широким участием СМИ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пешное решение задачи зависит от слаженности действий и комплексного подхода участников; учета особенностей возможных их видов; разнообразия последствий и необходимых мер противодействия и т.д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уязвимыми объектами обеспечения информирования населения об опасности и выработки необходимых рекомендаций по защите от возникшей опасности являются сбор и обработка необходимой и достоверной информации о ЧС и ходе ее развития. Зачастую оповещение населения осуществляются с опозданием, в искаженном виде. В роли информаторов зачастую выступают люди или не обладающие достоверной информацией, или те, кто ею обладая, доводит ее до населения недостаточно своевременно, профессионально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4000" y="115920"/>
            <a:ext cx="84596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 возникает потребность в немедленном оповещении об опасности и информировании населения о действиях и мерах спасателей по оказанию помощи пострадавшим.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250560" y="1915920"/>
            <a:ext cx="87138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(М.Н. Косарев, «Российская юстиция», N 10, октябрь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вое законодательство о противодействии терроризму и ограничения прав и свобод граждан (С.В. Пчелинцев, «Журнал российского права», N 5, май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Совета Министров Союзного государства от 21 апреля 2005 г. N 15 «О Совместных мероприятиях по противодействию терроризму на территории Союзного государства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15 февраля 2006 г. N 116 «О мерах по противодействию терроризму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исьмо Главного управления исполнения наказаний Минюста РФ от 8 ноября 2001 г. N 18/29-394 «О мерах по обеспечению противодействия биологическому и химическому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е Правительства РФ от 14 июля 2006 г. N 425 «О внесении изменений в некоторые акты Правительства Российской Федерации по вопросам противодействия терроризму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 txBox="1"/>
          <p:nvPr/>
        </p:nvSpPr>
        <p:spPr>
          <a:xfrm>
            <a:off x="178920" y="1844640"/>
            <a:ext cx="8713800" cy="50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жесточение пропускного режима при входе и въезде на территорию объекта, установка систем сигнализации, аудио-  видеозапис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жедневные обходы территории предприятия и осмотр мест сосредоточения опасных веществ на предмет своевременного выявления взрывных устройств или подозрительных предмет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ериодическая комиссионная проверка складских помещений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щательный подбор и проверка кадров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я и проведение совместно с сотрудниками правоохранительных органов инструктажей и практических занятий по действиям при чрезвычайных происшествиях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заключении договоров на сдачу складских помещений в аренду в обязательном порядке включать пункты, дающие право администрации предприятия при необходимости осуществлять проверку сдаваемых помещений по своему усмотрению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; дать указание сотрудникам находиться на безопасном расстоянии; при необходимости приступить к эвакуации людей в соответствии с планом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КОВОДИТЕЛЮ ОРГАНИЗАЦИИ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24" name="Rectangle 4"/>
          <p:cNvSpPr/>
          <p:nvPr/>
        </p:nvSpPr>
        <p:spPr>
          <a:xfrm>
            <a:off x="0" y="61722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 ВСЕХ СЛУЧАЯХ ДАТЬ УКАЗАНИЕ НЕ ПРИБЛИЖА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Е ТРОГАТЬ, НЕ СКРЫВАТЬ И НЕ ПЕРЕМЕЩАТЬ НАХОД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 txBox="1"/>
          <p:nvPr/>
        </p:nvSpPr>
        <p:spPr>
          <a:xfrm>
            <a:off x="250560" y="2276640"/>
            <a:ext cx="87138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силение охраны, пропускного режима, сокращение доступа работников объекта и исключение несанкционированного доступа посторонних лиц  к  местам сосредоточения опасных веществ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контроля за состоянием антитеррористической защищенности и безопасности образовательных учреждений  со стороны соответствующих силовых структур и надзорных органов в пределах своей компетенции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ение готовности органов управления сил и средств к действиям в условиях возникновения ЧС, что достигается за счет подготовки руководителей образовательных учреждений и органов местного самоуправления и другого персонала этих учреждений, функционирования систем оповещения в том числе и локальных, корректировки схем оповещения дежурных служб управлений ГОЧС, ОВД, УВД, руководящего состава и специалистов аварийно-спасательных служб учреждении образования, качественного проведения учений и тренировок по отработке взаимодействия в данных обстоятельствах и ситуациях и т.п.;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ними из направлений противодействия актам терроризма в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реждениях образования, здравоохранения   и социальной защиты населения </a:t>
            </a:r>
            <a:r>
              <a:rPr b="1" i="1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является:</a:t>
            </a:r>
            <a:br>
              <a:rPr sz="2200"/>
            </a:b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 txBox="1"/>
          <p:nvPr/>
        </p:nvSpPr>
        <p:spPr>
          <a:xfrm>
            <a:off x="250560" y="2060640"/>
            <a:ext cx="871380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комплексных совместных и самостоятельных проверок образовательных учреждений соответствующими надзорными и контрольными органами, органами ФСБ и МВД, в пределах своей компетенции, готовности к действиям, в условиях чрезвычайных обстоятельств и чрезвычайных ситуаций проверок, сил и средств, определенных соответствующими планами, на проведение антитеррористической операции и ликвидации последствий ЧС  в случае их возникнове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я корректировки планов эвакуации дошкольных, школьных учебных заведений из зон возможных ЧС;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изации задействования средств массовой информации для доведения до населения вопросов проявления бдительности, а также порядка действий при угрозе проведения  и осуществлении терактов в образовательных учреждени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й противодействия актам терроризма (продолжение)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250920" y="1915920"/>
            <a:ext cx="864216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спорта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антитеррористической защищённости) объекта: согласование, учётный номер, отсутствие ксерокопированных дополнительных экземпляров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заместителя руководителя по безопас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, должностная инструкция, ознакомление с ними под роспись, знание обязанносте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окументы по антитерроризму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приказ директора ОУ о создании антитеррористической группы (АТГ), положение об АТГ, план работы ОУ по противодействию терроризму, протоколы совещаний антитеррористической группы с принятыми решениями, акты проверок по антитерроризму, планы практических занят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знакомление коллекти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 приказами и инструкциями по обеспечению антитеррористической защищённости объекта под роспись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хемы оповещения, связи и порядка вызова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отрудников в экстренных случаях (в различных ЧС, для оповещения оперативных служб, сотрудников ОУ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омеров телефонов служб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УФСБ, УГОЧС, ОВД, отделов Госпожнадзора и аварийных служб в доступном для сотрудников месте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рганизации прогулок учащихся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для детских учреждений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струкция по обеспечению антитеррористической защищённости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бъекта, противодействию террористическим актам или угрозам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охраны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ид охранной деятельности (ЧОП, сторож, ОВО, наименование охранного предприятия, режим работы, количество постов и охранников, знание ими своих действий в различных ЧС, наличие у охранников средств индивидуальной защиты и средств обнаружения металла (ручной, арочный металлоискатель))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532720" cy="142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ников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достоверения частного охранник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только для объектов, охраняемых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у охраны учреж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: журнала о допуске на объект, журнала проверки здания и территории учреждения, учета автотранспорта, проверки должностными лицами по вопросам безопасности и охраны, папка (стенд) с разрешительными документами ЧОП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нопки тревожной сигнализац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и её работоспособность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видеонаблюдения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количество камер, возможность просмотра в инфракрасном режиме (в ночное время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ъект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истемы громкоговорящей связ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оповещения) и её работоспособность, практическая проверк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графика дежурства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ответственных сотрудников по ОУ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всех двере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, ведущих в здание, доступ в подвальные и чердачные помещения, отдельно стоящие здания (гаражи, складские помещения и др.), а также опечатывание этих помещений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рендных организац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в учреждении (название, срок сдачи помещении в аренду, наличие и состояние охраны в сдаваемых в аренду помещениях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остояние территории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аличие ограждения территории, освещение территории в ночное время, парковка посторонних автомобилей по периметру территории (на территории), наличие вблизи территории брошенных автомобилей, наличие вблизи территории гаражей и «ракушек»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в учреждении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комиссии по чрезвычайным ситуациям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(номер приказа руководителя ОУ, план работы, отчетные документы)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34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чётные документы по </a:t>
            </a:r>
            <a:r>
              <a:rPr b="1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актической отработке действий</a:t>
            </a:r>
            <a:r>
              <a:rPr b="0" lang="ru-RU" sz="1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 проведении (угрозе проведения) террористического акта.</a:t>
            </a:r>
            <a:endParaRPr b="0" lang="en-US" sz="1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26028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ПРОСЫ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рки образовательного учреждения по безопасности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антитеррористической защищённости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900000" y="1699920"/>
            <a:ext cx="777240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квидация последствий террористической акции</a:t>
            </a:r>
            <a:endParaRPr b="0" lang="en-US" sz="7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250920" y="2060640"/>
            <a:ext cx="8642160" cy="47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обнаружения подозрительных предметов – незамедлительно сообщить в в территориальные подразделения ФСБ и МВД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дать указание сотрудникам находиться на безопасном расстояни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необходимости приступить к эвакуации людей в соответствии с пла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9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спечить возможность беспрепятственного подъезда спецавтомобилей (правоохранительных органов, скорой медицинской помощи, пожарной охраны, МЧС, служб эксплуатации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случае </a:t>
            </a:r>
            <a:r>
              <a:rPr b="0" lang="ru-RU" sz="20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крайней необходимости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приступить к ликвидации ЧС, оказанию помощи пострадавшим собственными силам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 algn="just">
              <a:lnSpc>
                <a:spcPct val="100000"/>
              </a:lnSpc>
              <a:spcBef>
                <a:spcPts val="1250"/>
              </a:spcBef>
              <a:buClr>
                <a:srgbClr val="21743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 прибытии представителей спецслужб координировать с ними свою работу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озникновении ЧС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 txBox="1"/>
          <p:nvPr/>
        </p:nvSpPr>
        <p:spPr>
          <a:xfrm>
            <a:off x="250920" y="1988640"/>
            <a:ext cx="864216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иболее вероятными местами их проведения могут быть закрытые и открытые помещения с большим количеством люде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еобходима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химическая разве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З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для личного состава сил ликвидации ЧС, органов охраны правопорядка и обслуживающего персонал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эвакуация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людей из зоны заражения, включая эвакуацию пострадавши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пление зоны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силами органов охраны правопоряд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еззараживание </a:t>
            </a: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(дегазация) - независимо от типа ОХВ (ОВ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актов </a:t>
            </a:r>
            <a:r>
              <a:rPr b="1" lang="ru-RU" sz="2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 применением опасных химических веществ</a:t>
            </a: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ХВ) необходимо учитывать:</a:t>
            </a:r>
            <a:br>
              <a:rPr sz="2500"/>
            </a:b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 txBox="1"/>
          <p:nvPr/>
        </p:nvSpPr>
        <p:spPr>
          <a:xfrm>
            <a:off x="250560" y="1988640"/>
            <a:ext cx="8713800" cy="48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ценка обстановки в зоне террористической акции и принятие решения о привлекаемых сила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повещение пассажиров, зрителей, участников различных мероприятий о наличии в воздухе ОХВ (ОВ) и порядке действий при эвакуации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химической разведки и контроля с целью определения группы и идентификации примененного террористами ОХВ (ОВ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ведение эвакуационных мероприятий, включая эвакуацию пострадавших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стреча прибывающих подразделений сил гражданской обороны, уточнение стоящих перед ними задач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86800" cy="18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совершении террористической акции с применением опасных химических веществ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в режиме ЧС):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 txBox="1"/>
          <p:nvPr/>
        </p:nvSpPr>
        <p:spPr>
          <a:xfrm>
            <a:off x="250920" y="2276640"/>
            <a:ext cx="8642160" cy="45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обнаружения агента после применения в воздухе, воде, на различных объектах внешней среды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ложность и длительность лабораторного определения вида агент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трудность быстрой диагностики возбудителя заболевания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способность инфекции к широкому эпидемическому распространению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сутствие или недостаточная эффективность имеющихся в данное время средств иммунно- и экстренной профилактики заболевани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1280" y="0"/>
            <a:ext cx="8532720" cy="155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е акции </a:t>
            </a:r>
            <a:r>
              <a:rPr b="1" i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применением биологических поражающих агентов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БПА) </a:t>
            </a: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сновные особенности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менения БПА при террористических акциях:</a:t>
            </a:r>
            <a:endParaRPr b="0" lang="en-US" sz="26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250920" y="2133360"/>
            <a:ext cx="8642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Указ Президента РФ от 27 декабря 2004 г. N 1615 «О внесении изменений в Указ Президента Российской Федерации от 22 января 2001 г. N 61 «О мерах по борьбе с терроризмом на территории Северо-Кавказского региона Российской Федерации» и в состав межведомственной рабочей группы, утвержденный распоряжением Президента Российской Федерации от 5 июля 2004 г. 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 августа 2006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Распоряжение Президента РФ от 5 июля 2004 г. N 301-рп «О межведомственной рабочей группе по разработке концепции национальной стратегии противодействия легализации преступных доходов и финансированию терроризма» (с изм. и доп. от 27 декабря 2004 г., 31 августа 2005 г.)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становлении Правительства Российской Федерации от 10.12.02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	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№ </a:t>
            </a: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880 «Об утверждении положения о Федеральной антитеррористической комиссии»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именение сил и средств гражданской обороны при предупреждении и ликвидации последствий возможных крупномасштабных террористических акций на территории Российской Федерации. Методические рекомендации. Москва, 2003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80000"/>
              </a:lnSpc>
              <a:spcBef>
                <a:spcPts val="4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а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 txBox="1"/>
          <p:nvPr/>
        </p:nvSpPr>
        <p:spPr>
          <a:xfrm>
            <a:off x="250920" y="2133360"/>
            <a:ext cx="8642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угрозы применения БПА, либо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 форме непосредственного заражения окружающей среды возбудителями инфекционных болезней и токсинами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гический терроризм может быть осуществлен:</a:t>
            </a:r>
            <a:endParaRPr b="0" lang="en-US" sz="38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44" name="Rectangle 4"/>
          <p:cNvSpPr/>
          <p:nvPr/>
        </p:nvSpPr>
        <p:spPr>
          <a:xfrm>
            <a:off x="1012680" y="3933720"/>
            <a:ext cx="7591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ЕЙСТВИЯ ТЕРРОРИСТОВ МОГУТ БЫТЬ ДЕМОНСТРАТИВНЫМИ ИЛИ СКРЫТНЫМ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914400" y="1197000"/>
            <a:ext cx="7834320" cy="41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грозе </a:t>
            </a:r>
            <a:br>
              <a:rPr sz="6000"/>
            </a:b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6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 txBox="1"/>
          <p:nvPr/>
        </p:nvSpPr>
        <p:spPr>
          <a:xfrm>
            <a:off x="323640" y="2420640"/>
            <a:ext cx="8569080" cy="44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вышенный интерес посторонних лиц к техническому состоянию, планировке здания (объекта), его коммуникациям и охране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Активные попытки посторонних лиц проникнуть в место расположения газотрубопроводов, подвальные помещения, в здания (на объект)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арковка возле дома загруженных автомобилей на длительный ср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914400" y="192240"/>
            <a:ext cx="7772400" cy="143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РАКТЕРНЫЕ ПРИЗНАКИ ПОДГОТОВКИ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СТИЧЕСКИХ АКТОВ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 txBox="1"/>
          <p:nvPr/>
        </p:nvSpPr>
        <p:spPr>
          <a:xfrm>
            <a:off x="250560" y="2491920"/>
            <a:ext cx="8713800" cy="43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БНАРУЖЕНИЕ  ПРЕДМЕТОВ ДОМАШНЕГО ОБИХОДА (ЧАЩЕ ДОРОГОСТОЯЩИХ), ЯКОБЫ УТЕРЯННЫХ ИЛИ ЗАБЫТЫ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НАЛИЧИЕ НА ОБНАРУЖЕННОМ ПРЕДМЕТЕ ПРОВОДОВ, ИЗОЛЕНТЫ, ВЕРЕВОК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Е ЗВУКИ (ЩЕЛЧКИ, ТИКАНЬЕ ЧАСОВ И Т.П.) ИЗДАВАЕМЫЕ ПРЕДМЕТОМ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21743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Т ПРЕДМЕТА ИСХОДИТ  НЕОБЫЧНЫЙ ЗАПАХ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,  КОТОРЫЕ МОГУТ УКАЗЫВАТЬ НА НАЛИЧИЕ ВЗРЫВНОГО УСТРОЙСТВА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 txBox="1"/>
          <p:nvPr/>
        </p:nvSpPr>
        <p:spPr>
          <a:xfrm>
            <a:off x="250560" y="1915920"/>
            <a:ext cx="889308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Вы обнаружили предмет, который по Вашему мнению не должен находиться </a:t>
            </a:r>
            <a:r>
              <a:rPr b="0" i="1" lang="ru-RU" sz="2400" spc="-1" strike="noStrike" u="sng">
                <a:solidFill>
                  <a:srgbClr val="217436"/>
                </a:solidFill>
                <a:uFillTx/>
                <a:latin typeface="Times New Roman"/>
                <a:ea typeface="Times New Roman"/>
              </a:rPr>
              <a:t>«в этом месте и в это время»,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не оставляйте этот факт без внимания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Бесхозная или забытая вещь обнаружена Вами в транспорте: опросите находящихся рядом людей и, если хозяин не установлен, НЕМЕДЛЕННО сообщите водителю (машинисту)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озрительный предмет обнаружен в подъезде Вашего дома. Опросите соседей, возможно, он принадлежит им. Если владелец не установлен – НЕМЕДЛЕННО сообщите в отделение милиции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Если подозрительный предмет обнаружен в учреждении, НЕМЕДЛЕННО сообщите о находке администрации!!!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440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НАСЕЛЕНИЯ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БНАРУЖЕНИИ </a:t>
            </a:r>
            <a:br>
              <a:rPr sz="2500"/>
            </a:b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ОЗРИТЕЛЬНОГО ПРЕДМЕТА</a:t>
            </a:r>
            <a:endParaRPr b="0" lang="en-US" sz="25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9" descr="Рисунок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3" name="Text Box 2"/>
          <p:cNvSpPr/>
          <p:nvPr/>
        </p:nvSpPr>
        <p:spPr>
          <a:xfrm>
            <a:off x="3276720" y="1347840"/>
            <a:ext cx="5757840" cy="1604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 206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457200" y="2867040"/>
            <a:ext cx="6500880" cy="1409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ВОЛГОДОНС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- 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4"/>
          <p:cNvSpPr/>
          <p:nvPr/>
        </p:nvSpPr>
        <p:spPr>
          <a:xfrm>
            <a:off x="1905120" y="4479840"/>
            <a:ext cx="7238880" cy="126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 Black"/>
              </a:rPr>
              <a:t>МОСКВА, Пушкинская п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 Black"/>
              </a:rPr>
              <a:t>   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гибли       - 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                   </a:t>
            </a:r>
            <a:r>
              <a:rPr b="1" lang="ru-RU" sz="3200" spc="-1" strike="noStrike">
                <a:solidFill>
                  <a:srgbClr val="ffffff"/>
                </a:solidFill>
                <a:latin typeface="Arial Black"/>
              </a:rPr>
              <a:t>пострадали     - 1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152280" y="6095880"/>
            <a:ext cx="871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6"/>
          <p:cNvSpPr/>
          <p:nvPr/>
        </p:nvSpPr>
        <p:spPr>
          <a:xfrm>
            <a:off x="108000" y="5950080"/>
            <a:ext cx="9144000" cy="581400"/>
          </a:xfrm>
          <a:prstGeom prst="rect">
            <a:avLst/>
          </a:prstGeom>
          <a:noFill/>
          <a:ln w="0">
            <a:noFill/>
          </a:ln>
          <a:effectLst>
            <a:outerShdw dist="63504" dir="2216091" blurRad="0" rotWithShape="0">
              <a:srgbClr val="ff505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Беслан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–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1-3 сентября 2004 г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7"/>
          <p:cNvSpPr/>
          <p:nvPr/>
        </p:nvSpPr>
        <p:spPr>
          <a:xfrm>
            <a:off x="324000" y="260280"/>
            <a:ext cx="5580000" cy="887760"/>
          </a:xfrm>
          <a:prstGeom prst="rect">
            <a:avLst/>
          </a:prstGeom>
          <a:noFill/>
          <a:ln w="0">
            <a:noFill/>
          </a:ln>
          <a:effectLst>
            <a:outerShdw dist="71785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БУЙНАКС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                  </a:t>
            </a:r>
            <a:r>
              <a:rPr b="1" lang="ru-RU" sz="2800" spc="-1" strike="noStrike">
                <a:solidFill>
                  <a:srgbClr val="ffffff"/>
                </a:solidFill>
                <a:latin typeface="Arial Black"/>
              </a:rPr>
              <a:t>погибли - 6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8"/>
          <p:cNvSpPr/>
          <p:nvPr/>
        </p:nvSpPr>
        <p:spPr>
          <a:xfrm rot="20892600">
            <a:off x="914040" y="1981080"/>
            <a:ext cx="7539120" cy="2737080"/>
          </a:xfrm>
          <a:prstGeom prst="rect">
            <a:avLst/>
          </a:prstGeom>
          <a:solidFill>
            <a:srgbClr val="000000">
              <a:alpha val="68000"/>
            </a:srgbClr>
          </a:solidFill>
          <a:ln w="28440">
            <a:solidFill>
              <a:srgbClr val="ff0000"/>
            </a:solidFill>
            <a:miter/>
          </a:ln>
          <a:effectLst>
            <a:outerShdw dist="17819" dir="2700000" blurRad="0" rotWithShape="0">
              <a:srgbClr val="ff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ЗАХВАТ ЗАЛОЖНИКОВ В ДК ГП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(ул. МЕЛЬНИКОВА, 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ОСВОБОЖДЕНО        БОЛЕЕ 75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43"/>
                </a:solidFill>
                <a:latin typeface="Arial Black"/>
              </a:rPr>
              <a:t>ПОГИБЛО                   ОКОЛО 120 ЧЕЛОВ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4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7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1" nodeType="afterEffect" fill="hold" presetClass="entr" presetID="21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323640" y="2060280"/>
            <a:ext cx="8569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Candara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17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, причиненного в результате террористической акции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0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озмещение вреда лицам, участвующим в борьбе с терроризмом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2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Льготное исчисление выслуги лет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8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Приведение нормативных правовых актов в соответствие с настоящим Федеральным законом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1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29.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Вступление настоящего Федерального закона в силу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полном объеме 130-ФЗ утрачивает силу с 01.01.2007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533520" indent="-53352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578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введением в действие ФЗ от 06.03.06 № 35-ФЗ  «О противодействии терроризму» (с момента официального опубликования) утрачивает силу ФЗ от 25.07.98 № 130-ФЗ «О борьбе с терроризмом», за исключением статей:</a:t>
            </a:r>
            <a:endParaRPr b="0" lang="en-US" sz="2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323640" y="2781000"/>
            <a:ext cx="8569080" cy="33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3e87"/>
                </a:solidFill>
                <a:latin typeface="Candara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r>
              <a:rPr b="1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 - </a:t>
            </a:r>
            <a:r>
              <a:rPr b="0" lang="ru-RU" sz="24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деология насилия и практика воздействия на принятие решения органами государственной власти, органами местного самоуправления или международными организациями, связанные с устрашением населения и (или) иными формами противоправных насильственных действий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оризм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 txBox="1"/>
          <p:nvPr/>
        </p:nvSpPr>
        <p:spPr>
          <a:xfrm>
            <a:off x="250920" y="1989000"/>
            <a:ext cx="86421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, планирование, подготовку, финансирование и реализацию террористического акта (ТА)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одстрекательство к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организацию незаконного вооруженного формирования, преступного сообщества (преступной организации), организованной группы для реализации ТА, а равно участие в такой структуре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вербовку, вооружение, обучение и использование террористов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информационное или иное пособничество в планировании, подготовке или реализации ТА;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17436"/>
                </a:solidFill>
                <a:latin typeface="Times New Roman"/>
                <a:ea typeface="Times New Roman"/>
              </a:rPr>
              <a:t>пропаганду идей терроризма, распространение материалов или информации, призывающих к осуществлению террористической деятельности либо обосновывающих или оправдывающих необходимость осуществления такой деятельности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2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ffffff"/>
                </a:solidFill>
                <a:latin typeface="Candara"/>
              </a:rPr>
              <a:t>ФЗ РФ «О противодействии терроризму» (35-ФЗ, 2006 г.)</a:t>
            </a:r>
            <a:br>
              <a:rPr sz="1300"/>
            </a:br>
            <a:endParaRPr b="0" lang="en-US" sz="13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ctangle 4"/>
          <p:cNvSpPr/>
          <p:nvPr/>
        </p:nvSpPr>
        <p:spPr>
          <a:xfrm>
            <a:off x="395280" y="277920"/>
            <a:ext cx="8291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Times New Roman"/>
              </a:rPr>
              <a:t>Террористическая деятельность</a:t>
            </a:r>
            <a:r>
              <a:rPr b="1" lang="ru-RU" sz="2600" spc="-1" strike="noStrike">
                <a:solidFill>
                  <a:srgbClr val="000000"/>
                </a:solidFill>
                <a:latin typeface="Times New Roman"/>
              </a:rPr>
              <a:t> – деятельность, включающая в себя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3:40:02Z</dcterms:created>
  <dc:creator>Star</dc:creator>
  <dc:description/>
  <dc:language>en-US</dc:language>
  <cp:lastModifiedBy>Star</cp:lastModifiedBy>
  <dcterms:modified xsi:type="dcterms:W3CDTF">2013-09-20T02:24:36Z</dcterms:modified>
  <cp:revision>33</cp:revision>
  <dc:subject/>
  <dc:title>Тема: Защита от угрозы террористических воздействий</dc:title>
</cp:coreProperties>
</file>