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8DD-1EC5-4051-BC99-DAE6A34D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04F-23B8-45E4-ADBF-B9208D0E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22E-A4DB-4890-A642-0E6B27A2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C17-0756-4C4B-9F5A-31747302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807F-EDD0-442E-9EDA-42584530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63EC-C786-4427-A561-8FD9D94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738A-917F-4405-A89D-86C38E58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2EF5-1DD6-4211-9AED-F9967CD9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B9D7-954A-4BC5-9B5E-8E553D03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35C0-6F05-41BB-9B8D-D32994DC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96DD-252D-4941-BADD-04679069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F08-35DA-45E5-98BD-CC9A6FCC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38F7-E3E7-4239-8F07-A80737CC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778F-6EE0-4211-B540-F00A6F9C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C8C5-A999-4D9B-8DF3-228AF4B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3A67-B424-4AC0-8AD5-FFDAC9D0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8B0F-33BC-4B19-A21F-6C1F1DFF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3DF1-73EE-4E4D-B252-97FEB74D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E42-32FE-4010-AD4D-08821DD6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F4E-4AB5-4691-8175-09EDCD8F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D40-625E-4B2E-A7AA-8BB11882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752-4851-43B7-A9B5-7827B4DD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AA0-CD68-4492-BFE2-3FCB7ED0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862-E9CA-4AAF-8AC0-8844B212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7E81-B1A1-457A-A70F-CC0B598E66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D4F0-F312-48A0-8296-4E588D6707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Литературна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орьб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20-х год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ль рухнула, и пошатнулось врем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 скорости стал пяткою на т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ликих гор и повредил пото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равленным в земле лежало сем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равленным бежал по стеблям с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дское мощно вымирало плем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А.Ахмат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Литературная борьба второй половины 20х годо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лены РАППа перешли от дискуссий к прямым доносам в ЦК РКП(б) и нашли там поддерж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ась травля М.Булгакова, Б.Пильняка, Е.Замятина, А.Платон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На литературном посту» проводит «следствие» и выносит пригов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Блоку – за «отсутствие осознанной связи с коллективом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Маяковскому – как обманувшего довери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Федину – за идеологическую недооценку изображаемых явл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тоги борьбы (конец 20-х годов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29 год. Пятидесятилетие Сталина. Споры и дискуссии сменились политическими репресси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30 г. «Перевал» объявлен троцкистской организацией, а его деятельность – контрреволюционной диверсией в литерату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32 г. Группа «Перевал» самораспалась, судьбы большинства ее членов(впрочем, как и их оппонентов) была траги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5080" y="1989000"/>
            <a:ext cx="4075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Из статьи литературоведа и критика Е.Книпович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Когда меня спрашивают сейчас, как я, человек, переживший Октябрьскую революцию и двадцатые годы в сознательном возрасте, могу кратко определить ощущение того времени, я отвечаю: «Холодные, мокрые ноги и восторг». Ноги мокрые от прохудившихся подметок, восторг от того, что впервые в жизни стало видимо кругом во всю ширину свет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ирепые споры Маяковского с Есениным, молодых «серапионов» между собой, все это – знак времени, это знак творческих возможностей тех поднятых революционных сил, которые хотели себя осуществить, утвердить свои взгляды, свое понимание строящейся советской культуры…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олеткульт</a:t>
            </a:r>
            <a:br>
              <a:rPr sz="4000"/>
            </a:b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(пролетарская культур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кусство – просто ремесло высокого класса, которым вполне может овладеть любой способный человек, следовательно, пролетарская культура может и должна создаваться только пролетариатом и только для пролетариа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основе искусства – классовая борьба, т.е. революционный классовый антагонизм пролетариата и эксплуататорских клас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 искусства не художественное постижение действительности, а выражение идейно-политических интересов, взглядов и действий трудя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 традициями, с прошлым, иначе говоря,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 культурой дворянской и буржуазной пролеткультовцы призывали решительно рвать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о власти мятежного, страстного хме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кричат нам: «Вы палачи красоты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 имя нашего завтра – сегодня сожжем Рафаэл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ушим музеи, растопчем искусства цв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В. Кириллов (История русской советской               литературы 1917-194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редставители Пролеткульта 20-х годов 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Однако творческая деятельность этих крупных писателей и поэтов далеко выходила за рамки установок Пролеткульта.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ная группа«Леф»: В.Маяковский, Н.Асеев, Б.Пастернак, С.Кирсан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динение «Кузница»: Ф.Гладков, А.Новиков-При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Серапионовы братья»: К.Федин, В.Каверин, Н.Тихонов, М.Зощен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Перевал»</a:t>
            </a:r>
            <a:br>
              <a:rPr sz="40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группировался вокруг журнала «Красная новь»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кусство – это способ познания жизни, воссоздание ее во всей сложности многообразия на основе изучения и глубокого анали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ория классовой борьбы не может быть основой для искусства: изображение вражды, ненависти, взаимоуничтожения делает искусство антигуманистичес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 искусства – «живой, осязаемый, видимый» человек, его внутренний мир, психология, мировоззрение, мотивы действий и поступ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удожник свободен в выборе тем, в поисках формы, в создании своего стиля, более соответствующего, по его мнению, своей эпох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редставители «Перевала» утверждали гуманистическую позицию, свободу и независимость художника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.Пришвин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.Багрицки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.Светл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.Кедр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54514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з резолюции ЦК РКП(б)</a:t>
            </a:r>
            <a:br>
              <a:rPr sz="44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июнь 1925 год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должает оставаться задача создания настоящей художественной литера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бходимо бережное и тактичное отношение к так называемым «попутчикам», чтобы обеспечить «все условия для возможно быстрого их перехода на сторону марксистской идеолог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может быть пренебрежительного отношения к культурному наслед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итературная критика должна «изгнать из своего обихода тон литературной команд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РАПП –Российская ассоциация пролетарских писателей(январь 1925 г.)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История соз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20 г. По инициативе литературной группы «Кузница»(Пролеткульт) создана Всероссийская ассоциация пролетарских писателей(ВАПП). Ее журналы («На посту»1923, «На литературном посту» 1924) были печатными органами Пролеткуль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25 году они перешли к РАПП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кларируя приверженность резолюции ЦК ВКП(б) рапповцы проводили политику «казарменного» дикт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07:38:35Z</dcterms:created>
  <dc:creator>www.PHILka.RU</dc:creator>
  <dc:description/>
  <dc:language>en-US</dc:language>
  <cp:lastModifiedBy>www.PHILka.RU</cp:lastModifiedBy>
  <dcterms:modified xsi:type="dcterms:W3CDTF">2008-08-19T09:45:52Z</dcterms:modified>
  <cp:revision>4</cp:revision>
  <dc:subject/>
  <dc:title>Слайд 1</dc:title>
</cp:coreProperties>
</file>