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416-6FE7-418B-955E-AEB61A13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264-78FE-4961-834C-FB3563B5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E1A-EFE9-41AD-93ED-1398E456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423-C2FA-4725-8F7E-7179C02B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299-0B42-4526-9D70-FAD1CC5F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9403-2BB6-4C60-9E54-4DB989B5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00BC-BDB0-4519-AB88-A2AC3977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DB82-2543-4D86-BEEF-9260C245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E101-EC63-4184-85F2-18082D34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0B4-2821-4B85-8D05-7E6348B7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5D84-A923-4A69-87AB-FE5F1DA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CCD0-A2E0-4303-B0E5-60D831F8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46CA-AD35-44E9-844E-11F5C0CC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E688-D79B-4F81-AB76-B776E4E8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51E5-DC65-4C18-8EC7-8F42BD1D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9DD-5D4B-424B-BC5D-49EAE1E6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D936-2B3C-4A7A-8C47-CCE1B9DD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BD64-9FF9-41E0-A46F-CDB70DAC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A9EF-8A2A-4911-B72A-67C7861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B7EF-40ED-472D-8136-246A068A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DD8-F29A-4436-8B21-F7FBCF6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24D-A9D3-45AB-97F0-6746EE0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941-4DF2-45CE-B1B9-6227D15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DF8-C651-4111-8EBF-CA93B91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5E4E-465A-4594-8779-A8A8CAF9D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FA88-D41C-4F5A-A2CF-E00C6AF1D6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борьба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20-х год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ль рухнула, и пошатнулось врем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с скорости стал пяткою на т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еликих гор и повредил поток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в земле лежало сем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равленным бежал по стеблям с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Людское мощно вымирало племя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А.Ахмат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Литературная борьба второй половины 20х годов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лены РАППа перешли от дискуссий к прямым доносам в ЦК РКП(б) и нашли там поддержк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чалась травля М.Булгакова, Б.Пильняка, Е.Замятина, А.Плато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урнал «На литературном посту» проводит «следствие» и выносит пригово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.Блоку – за «отсутствие осознанной связи с коллективом»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.Маяковскому – как обманувшего довери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Федину – за идеологическую недооценку изображаемых явлен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Итоги борьбы (конец 20-х годов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29 год. Пятидесятилетие Сталина. Споры и дискуссии сменились политическими репресси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0 г. «Перевал» объявлен троцкистской организацией, а его деятельность – контрреволюционной диверсией в литера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32 г. Группа «Перевал» самораспалась, судьбы большинства ее членов(впрочем, как и их оппонентов) была трагич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5080" y="1989000"/>
            <a:ext cx="4075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Из статьи литературоведа и критика Е.Книпович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Когда меня спрашивают сейчас, как я, человек, переживший Октябрьскую революцию и двадцатые годы в сознательном возрасте, могу кратко определить ощущение того времени, я отвечаю: «Холодные, мокрые ноги и восторг». Ноги мокрые от прохудившихся подметок, восторг от того, что впервые в жизни стало видимо кругом во всю ширину свет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ирепые споры Маяковского с Есениным, молодых «серапионов» между собой, все это – знак времени, это знак творческих возможностей тех поднятых революционных сил, которые хотели себя осуществить, утвердить свои взгляды, свое понимание строящейся советской культуры…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ролеткульт</a:t>
            </a:r>
            <a:br>
              <a:rPr sz="4000"/>
            </a:br>
            <a:r>
              <a:rPr b="0" i="1" lang="en-US" sz="4000" spc="-1" strike="noStrike">
                <a:solidFill>
                  <a:srgbClr val="e5ffff"/>
                </a:solidFill>
                <a:latin typeface="Tahoma"/>
              </a:rPr>
              <a:t>(пролетарская культур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просто ремесло высокого класса, которым вполне может овладеть любой способный человек, следовательно, пролетарская культура может и должна создаваться только пролетариатом и только для пролетариат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основе искусства – классовая борьба, т.е. революционный классовый антагонизм пролетариата и эксплуататорских класс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не художественное постижение действительности, а выражение идейно-политических интересов, взглядов и действий трудя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традициями, с прошлым, иначе говоря, 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 культурой дворянской и буржуазной пролеткультовцы призывали решительно рвать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ы во власти мятежного, страстного хмел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сть кричат нам: «Вы палачи красоты!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 имя нашего завтра – сегодня сожжем Рафаэл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рушим музеи, растопчем искусства цве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В. Кириллов (История русской советской               литературы 1917-194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редставители Пролеткульта 20-х годов 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Однако творческая деятельность этих крупных писателей и поэтов далеко выходила за рамки установок Пролеткульта. 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ая группа«Леф»: В.Маяковский, Н.Асеев, Б.Пастернак, С.Кирсанов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ъединение «Кузница»: Ф.Гладков, А.Новиков-Приб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Серапионовы братья»: К.Федин, В.Каверин, Н.Тихонов, М.Зощен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«Перевал»</a:t>
            </a:r>
            <a:br>
              <a:rPr sz="40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группировался вокруг журнала «Красная новь»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скусство – это способ познания жизни, воссоздание ее во всей сложности многообразия на основе изучения и глубокого анализ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ория классовой борьбы не может быть основой для искусства: изображение вражды, ненависти, взаимоуничтожения делает искусство антигуманистически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Цель искусства – «живой, осязаемый, видимый» человек, его внутренний мир, психология, мировоззрение, мотивы действий и поступк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удожник свободен в выборе тем, в поисках формы, в создании своего стиля, более соответствующего, по его мнению, своей эпох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Представители «Перевала» утверждали гуманистическую позицию, свободу и независимость художника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Пришвин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.Багрицки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.Светлов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.Кедр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03640" y="1916280"/>
            <a:ext cx="54514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з резолюции ЦК РКП(б)</a:t>
            </a:r>
            <a:br>
              <a:rPr sz="44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июнь 1925 год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должает оставаться задача создания настоящей художественной литератур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обходимо бережное и тактичное отношение к так называемым «попутчикам», чтобы обеспечить «все условия для возможно быстрого их перехода на сторону марксистской идеологии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е может быть пренебрежительного отношения к культурному наслед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итературная критика должна «изгнать из своего обихода тон литературной команд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РАПП –Российская ассоциация пролетарских писателей(январь 1925 г.)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История соз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20 г. По инициативе литературной группы «Кузница»(Пролеткульт) создана Всероссийская ассоциация пролетарских писателей(ВАПП). Ее журналы («На посту»1923, «На литературном посту» 1924) были печатными органами Пролеткуль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25 году они перешли к РАПП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кларируя приверженность резолюции ЦК ВКП(б) рапповцы проводили политику «казарменного» дикта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07:38:35Z</dcterms:created>
  <dc:creator>www.PHILka.RU</dc:creator>
  <dc:description/>
  <dc:language>en-US</dc:language>
  <cp:lastModifiedBy>www.PHILka.RU</cp:lastModifiedBy>
  <dcterms:modified xsi:type="dcterms:W3CDTF">2008-08-19T09:45:52Z</dcterms:modified>
  <cp:revision>4</cp:revision>
  <dc:subject/>
  <dc:title>Слайд 1</dc:title>
</cp:coreProperties>
</file>