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2B3-2DBF-4D7E-AB46-86021C87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C55-C577-4102-A356-7F91E58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D6F-8A12-4CB7-8926-467C22F5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CB5-7340-48FB-BD76-CE6BAE4F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974A-0DB7-4FC9-BDD8-22599268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9271-A7DE-4B2B-A45B-833DBEB3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3A77-ED7A-4E03-BB82-88DC40B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66D9-0C04-48A3-A172-8251F333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A630-F6E9-4721-8DCC-DD8FF93A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4FA-E20E-436E-89B1-B42C029B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5842-7B6F-4F61-976B-CC13FDA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ECB-96B9-4647-8B9C-1635DFB6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E9B8-65D5-4609-A0E0-928DCFC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27E1-6E69-484B-B2B6-8DD2396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212D-0B92-40FB-9FAB-73AAB4B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6A65-F895-4D5F-8AB6-9233D371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F72E-E6F0-482F-9749-D289441B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341-DE60-4399-AB28-296EC21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2BD-B89C-488E-8EAC-CD38184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559-6204-4946-800B-BC29E5BC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7E1-7D8B-433E-8EBE-BCBBF53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3B6-B044-4176-9115-DAF37318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E49-BAFA-4AB0-9307-CBDA12D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733-1BC4-47E8-B761-FA50CB5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AA7B-A557-43AF-B022-A80F568BE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3DCB-509F-4E6F-A158-B7129B3E6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итературна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орьб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20-х год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ль рухнула, и пошатнулось врем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 скорости стал пяткою на т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ких гор и повредил по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вленным в земле лежало сем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вленным бежал по стеблям с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дское мощно вымирало плем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А.Ахмат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итературная борьба второй половины 20х год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лены РАППа перешли от дискуссий к прямым доносам в ЦК РКП(б) и нашли там поддерж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ась травля М.Булгакова, Б.Пильняка, Е.Замятина, А.Плато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На литературном посту» проводит «следствие» и выносит пригов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Блоку – за «отсутствие осознанной связи с коллективом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Маяковскому – как обманувшего довери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Федину – за идеологическую недооценку изображаемых явл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борьбы (конец 20-х годов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29 год. Пятидесятилетие Сталина. Споры и дискуссии сменились политическими репресс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30 г. «Перевал» объявлен троцкистской организацией, а его деятельность – контрреволюционной диверсией в литерату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32 г. Группа «Перевал» самораспалась, судьбы большинства ее членов(впрочем, как и их оппонентов) была траги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5080" y="1989000"/>
            <a:ext cx="4075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 статьи литературоведа и критика Е.Книпович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огда меня спрашивают сейчас, как я, человек, переживший Октябрьскую революцию и двадцатые годы в сознательном возрасте, могу кратко определить ощущение того времени, я отвечаю: «Холодные, мокрые ноги и восторг». Ноги мокрые от прохудившихся подметок, восторг от того, что впервые в жизни стало видимо кругом во всю ширину свет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репые споры Маяковского с Есениным, молодых «серапионов» между собой, все это – знак времени, это знак творческих возможностей тех поднятых революционных сил, которые хотели себя осуществить, утвердить свои взгляды, свое понимание строящейся советской культуры…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леткульт</a:t>
            </a:r>
            <a:br>
              <a:rPr sz="4000"/>
            </a:b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(пролетарская культур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усство – просто ремесло высокого класса, которым вполне может овладеть любой способный человек, следовательно, пролетарская культура может и должна создаваться только пролетариатом и только для пролетариа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основе искусства – классовая борьба, т.е. революционный классовый антагонизм пролетариата и эксплуататорских клас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 искусства не художественное постижение действительности, а выражение идейно-политических интересов, взглядов и действий трудя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 традициями, с прошлым, иначе говоря,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 культурой дворянской и буржуазной пролеткультовцы призывали решительно рвать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о власти мятежного, страстного хме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кричат нам: «Вы палачи красоты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имя нашего завтра – сегодня сожжем Рафаэл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ушим музеи, растопчем искусства цв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В. Кириллов (История русской советской               литературы 1917-194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редставители Пролеткульта 20-х годов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днако творческая деятельность этих крупных писателей и поэтов далеко выходила за рамки установок Пролеткульта.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ная группа«Леф»: В.Маяковский, Н.Асеев, Б.Пастернак, С.Кирсан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динение «Кузница»: Ф.Гладков, А.Новиков-При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ерапионовы братья»: К.Федин, В.Каверин, Н.Тихонов, М.Зощен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Перевал»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группировался вокруг журнала «Красная новь»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усство – это способ познания жизни, воссоздание ее во всей сложности многообразия на основе изучения и глубокого анали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ория классовой борьбы не может быть основой для искусства: изображение вражды, ненависти, взаимоуничтожения делает искусство антигуманистичес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 искусства – «живой, осязаемый, видимый» человек, его внутренний мир, психология, мировоззрение, мотивы действий и поступ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ник свободен в выборе тем, в поисках формы, в создании своего стиля, более соответствующего, по его мнению, своей эпох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едставители «Перевала» утверждали гуманистическую позицию, свободу и независимость художник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Пришви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.Багрицк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Светл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Кед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4514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з резолюции ЦК РКП(б)</a:t>
            </a:r>
            <a:br>
              <a:rPr sz="44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юнь 1925 год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должает оставаться задача создания настоящей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бережное и тактичное отношение к так называемым «попутчикам», чтобы обеспечить «все условия для возможно быстрого их перехода на сторону марксистской идеолог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может быть пренебрежительного отношения к культурному наслед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тературная критика должна «изгнать из своего обихода тон литературной коман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ПП –Российская ассоциация пролетарских писателей(январь 1925 г.)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тория соз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20 г. По инициативе литературной группы «Кузница»(Пролеткульт) создана Всероссийская ассоциация пролетарских писателей(ВАПП). Ее журналы («На посту»1923, «На литературном посту» 1924) были печатными органами Пролеткуль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25 году они перешли к РАПП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ируя приверженность резолюции ЦК ВКП(б) рапповцы проводили политику «казарменного» дикт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7:38:35Z</dcterms:created>
  <dc:creator>www.PHILka.RU</dc:creator>
  <dc:description/>
  <dc:language>en-US</dc:language>
  <cp:lastModifiedBy>www.PHILka.RU</cp:lastModifiedBy>
  <dcterms:modified xsi:type="dcterms:W3CDTF">2008-08-19T09:45:52Z</dcterms:modified>
  <cp:revision>4</cp:revision>
  <dc:subject/>
  <dc:title>Слайд 1</dc:title>
</cp:coreProperties>
</file>