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2B6-B0A8-46FF-AD17-9FC19313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70B-5F01-4F0A-A9AE-FE94FD9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CCC-9005-4C1C-9FE9-F64A165A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904-29BC-4479-BE1E-2A5B1C0D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C3ED-AE9C-4152-A141-85B1247E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252-0F3E-4BDC-AE68-BC2157CA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3813-5C86-407A-A1B1-8AFF3C9A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DC14-A98C-4F41-9861-A3E02416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361A-7A19-469F-886C-82F03973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2C68-633C-4C2D-B444-0C7C8E86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521A-3EC8-4166-966F-04E0F733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812-267A-45D7-BE4D-443A7D40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5AC2-EE3A-4967-A8F6-E5E6E18C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9E65-F536-4F82-BFC3-ED60E346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2E9F-592B-48EF-B948-FEF0D53B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8B1B-6117-4B6A-B51F-D686418C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CF12-7144-481F-A4FE-05F6FB6C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5097-8BC3-437A-8FAE-8E7390A0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8F1F-F1B4-4E08-BEA6-89B703DA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7285-938D-4ED3-A603-5D239671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AFDF-D73C-40F9-980E-EF50F4EA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1BD4-F400-423B-B4E7-4F324E57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33E-EA62-403C-995E-FFB67C9D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CBF4-3DC4-4E45-A015-32E9189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814AE-7831-4977-B79F-EF9E6747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059E-8B8D-4410-A86B-DA269A44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9079-D462-4AF5-8AB2-C2E28F35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B2F1-67F4-409A-A5E5-96356BF8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7AEA-1502-4FBD-B7E5-53655137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DF82-ABEF-4D76-B363-FA5D6C3B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508BB-2154-40A9-ABF6-2827BA6D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E23CB-36B8-40A6-85B4-35835309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9E2D1-26A8-434C-9AC1-A28B474C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CE2-CE1A-42C4-B5B0-4D327282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13F7-2D3C-4899-85DF-A8AA9DDD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EA54-3B7C-4E25-A576-70414B78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8160-40D0-45E2-A92A-66987013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7CF1-90A2-497A-98AF-8051264C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2B3C3-D2FC-4EFD-9B1B-38FDDA2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5490-040A-4937-A1A8-81D45B0D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3FB3-AEF2-4E0A-B996-516A0B69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854E-1409-4DC6-BC66-E19715C5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0EC6B-780C-4A4F-9634-9D30D6C3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99A5A-6C37-4081-AEEA-0C803378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24F-37BA-4C21-A1C6-01F8D850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82603-EAB2-4CD1-BF9D-3F80F942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CFB95-944B-4753-BA70-57F2FFE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B6E5-A86C-4719-893C-84A02777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D599A-A82A-4745-BD53-EB15E70F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49A0-81E0-422A-A700-9CD56AA9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B280-02CC-426A-BC71-43DAA0A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B614-51CE-4050-995A-669E7ED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73D6-7EF8-4983-861C-7542061B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84728-3725-45E4-95AE-6ED7E02B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EB845-5F17-4C8F-94B4-BF941224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5434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85A-46EC-4911-A024-703462A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AD5C8-7525-4C0A-BCDF-66D79158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E80-7A84-40D6-8E69-DFA586DC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475-90BE-4511-B645-9BD51FC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808-884D-40E7-A6DE-527E6FD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77240" y="0"/>
            <a:ext cx="7543440" cy="304776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032AE2-6035-4DEB-8DA3-B5A326CA801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2C9DD9-4A09-42BF-9270-AED8FF8ACE43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431E96-B48C-4992-AE62-058A1DCA0B9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2120" y="609480"/>
            <a:ext cx="365724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648320" y="609480"/>
            <a:ext cx="365724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C148AF-A79D-4108-908B-18A3505D3F9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96AEF4-01F4-4C9F-AB13-2D5E27B8AC0F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640" y="1600200"/>
            <a:ext cx="835272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1000"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История Русской Православной Церкви в ХХ веке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атриаршии местоблюстители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тефан (Яворский) и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Феофан (Прокопович)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Объект 4" descr=""/>
          <p:cNvPicPr/>
          <p:nvPr/>
        </p:nvPicPr>
        <p:blipFill>
          <a:blip r:embed="rId1"/>
          <a:stretch/>
        </p:blipFill>
        <p:spPr>
          <a:xfrm>
            <a:off x="1189080" y="609480"/>
            <a:ext cx="2802960" cy="376668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5" descr=""/>
          <p:cNvPicPr/>
          <p:nvPr/>
        </p:nvPicPr>
        <p:blipFill>
          <a:blip r:embed="rId2"/>
          <a:stretch/>
        </p:blipFill>
        <p:spPr>
          <a:xfrm>
            <a:off x="4917240" y="609480"/>
            <a:ext cx="3119040" cy="37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одвижники Петровской эпохи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Митрофан Воронежский и Димитрий Ростовский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Объект 4" descr=""/>
          <p:cNvPicPr/>
          <p:nvPr/>
        </p:nvPicPr>
        <p:blipFill>
          <a:blip r:embed="rId1"/>
          <a:stretch/>
        </p:blipFill>
        <p:spPr>
          <a:xfrm>
            <a:off x="1185480" y="609480"/>
            <a:ext cx="2685240" cy="35996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5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07908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6781320" cy="115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18 веке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543440" cy="43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Фактическое прекращение прославления святых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ь при Елизавете Петровне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ные мероприятия Екатерины Второй. Секуляризация церковных земель. Реформа монастырей. «Дело» Арсения (Мацеевича).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Ксения Петербургская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анонизации 18 ве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447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3200" spc="-1" strike="noStrike">
                <a:solidFill>
                  <a:srgbClr val="303030"/>
                </a:solidFill>
                <a:latin typeface="Times New Roman"/>
              </a:rPr>
              <a:t>Дмитрий Ростовский, 1763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3200" spc="-1" strike="noStrike">
                <a:solidFill>
                  <a:srgbClr val="303030"/>
                </a:solidFill>
                <a:latin typeface="Times New Roman"/>
              </a:rPr>
              <a:t>Феодосий Тотемский 1798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ннокентий Иркутский, 1804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Митрофан Воронежский, 1832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Тихон Задонский, 1861 год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Феодосий Черниговский, 1896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Серафим Саровский, 1903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Анна Кашинская, 1909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оасаф Белгородский, 1911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Ермоген Московский, 1913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Питирим Тамбовский,1914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оанн Тобольский , 1915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«Дело» митрополита Арсения (Мацеевича)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Рисунок 4" descr=""/>
          <p:cNvPicPr/>
          <p:nvPr/>
        </p:nvPicPr>
        <p:blipFill>
          <a:blip r:embed="rId1"/>
          <a:stretch/>
        </p:blipFill>
        <p:spPr>
          <a:xfrm>
            <a:off x="4788000" y="752400"/>
            <a:ext cx="2873520" cy="35996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" descr=""/>
          <p:cNvPicPr/>
          <p:nvPr/>
        </p:nvPicPr>
        <p:blipFill>
          <a:blip r:embed="rId2"/>
          <a:stretch/>
        </p:blipFill>
        <p:spPr>
          <a:xfrm>
            <a:off x="1361880" y="764640"/>
            <a:ext cx="2705760" cy="3599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Блаженная Ксения Петербургская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Объект 3" descr=""/>
          <p:cNvPicPr/>
          <p:nvPr/>
        </p:nvPicPr>
        <p:blipFill>
          <a:blip r:embed="rId1"/>
          <a:stretch/>
        </p:blipFill>
        <p:spPr>
          <a:xfrm>
            <a:off x="5366160" y="1137240"/>
            <a:ext cx="287784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6781320" cy="115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</a:t>
            </a: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XIX</a:t>
            </a: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 веке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ь и крепостное право.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Деятельность мит. Филарета (Дроздова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Серафим Саровский и Оптинские старцы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К.П. Победоносцев и его эпох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Архимандрит Игнатий (Брянчанинов)</a:t>
            </a:r>
            <a:br>
              <a:rPr sz="3600"/>
            </a:b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Дело помещика Страхова, 1852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Объект 4" descr=""/>
          <p:cNvPicPr/>
          <p:nvPr/>
        </p:nvPicPr>
        <p:blipFill>
          <a:blip r:embed="rId1"/>
          <a:stretch/>
        </p:blipFill>
        <p:spPr>
          <a:xfrm>
            <a:off x="3392640" y="1196640"/>
            <a:ext cx="4923360" cy="32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Митрополит Филарет (Дроздов)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Объект 3" descr=""/>
          <p:cNvPicPr/>
          <p:nvPr/>
        </p:nvPicPr>
        <p:blipFill>
          <a:blip r:embed="rId1"/>
          <a:stretch/>
        </p:blipFill>
        <p:spPr>
          <a:xfrm>
            <a:off x="5148000" y="692640"/>
            <a:ext cx="31618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8280" y="46008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Преподобный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ерафим Саровский и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Оптинские старцы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Объект 3" descr=""/>
          <p:cNvPicPr/>
          <p:nvPr/>
        </p:nvPicPr>
        <p:blipFill>
          <a:blip r:embed="rId1"/>
          <a:stretch/>
        </p:blipFill>
        <p:spPr>
          <a:xfrm>
            <a:off x="1331640" y="532800"/>
            <a:ext cx="2884680" cy="38858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"/>
          <p:cNvPicPr/>
          <p:nvPr/>
        </p:nvPicPr>
        <p:blipFill>
          <a:blip r:embed="rId2"/>
          <a:stretch/>
        </p:blipFill>
        <p:spPr>
          <a:xfrm>
            <a:off x="4428000" y="2817360"/>
            <a:ext cx="4454640" cy="35636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/>
          <p:cNvPicPr/>
          <p:nvPr/>
        </p:nvPicPr>
        <p:blipFill>
          <a:blip r:embed="rId3"/>
          <a:stretch/>
        </p:blipFill>
        <p:spPr>
          <a:xfrm>
            <a:off x="6300360" y="153000"/>
            <a:ext cx="2419560" cy="28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Значение церковной истории для истории Отечества ХХ ве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К.П. Победоносцев,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Обер-прокурор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Святейшего Синода (1880-1905)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Объект 3" descr=""/>
          <p:cNvPicPr/>
          <p:nvPr/>
        </p:nvPicPr>
        <p:blipFill>
          <a:blip r:embed="rId1"/>
          <a:stretch/>
        </p:blipFill>
        <p:spPr>
          <a:xfrm>
            <a:off x="4622040" y="685800"/>
            <a:ext cx="3549960" cy="38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76360" cy="13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эпоху последнего царствования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917000"/>
            <a:ext cx="7543440" cy="41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Личность Николая Второго в церковной истории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Состояние церковных дел в империи в начале ХХ век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Правовое положение Церкви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Митрополит Антоний (Вадковский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Отлучение Льва Толстого (1901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Саровские торжества (1903)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45880" indent="-2458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Церковь в 1905-1917 годах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Николай Александрович, </a:t>
            </a:r>
            <a:r>
              <a:rPr b="0" lang="ru-RU" sz="3600" spc="-1" strike="noStrike">
                <a:solidFill>
                  <a:srgbClr val="262626"/>
                </a:solidFill>
                <a:latin typeface="Impact"/>
              </a:rPr>
              <a:t>Государь император Всероссийский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tretch/>
        </p:blipFill>
        <p:spPr>
          <a:xfrm>
            <a:off x="2267640" y="1052640"/>
            <a:ext cx="6044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502200" y="692640"/>
            <a:ext cx="8136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Русская Православная церковь в начале ХХ ве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ерующих – 105 миллион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пархий – 6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пископов – около 1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вященников - 50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Храмов - 60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онастырей - 1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онашествующих – 30000 (с послушниками – 950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Академий – 4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еминарий – 57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уховных училищ – 18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Церковно-приходских школ – 40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Impact"/>
              </a:rPr>
              <a:t>Семья последнего российского императора. </a:t>
            </a:r>
            <a:br>
              <a:rPr sz="2800"/>
            </a:br>
            <a:r>
              <a:rPr b="0" i="1" lang="ru-RU" sz="2000" spc="-1" strike="noStrike">
                <a:solidFill>
                  <a:srgbClr val="262626"/>
                </a:solidFill>
                <a:latin typeface="Times New Roman"/>
              </a:rPr>
              <a:t>Прославлена в лике святых РПЦЗ в 1981, РПЦ МП в 2000</a:t>
            </a:r>
            <a:r>
              <a:rPr b="0" i="1" lang="ru-RU" sz="18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Объект 3" descr=""/>
          <p:cNvPicPr/>
          <p:nvPr/>
        </p:nvPicPr>
        <p:blipFill>
          <a:blip r:embed="rId1"/>
          <a:stretch/>
        </p:blipFill>
        <p:spPr>
          <a:xfrm>
            <a:off x="2862720" y="476640"/>
            <a:ext cx="3341880" cy="38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878040" y="1700640"/>
            <a:ext cx="741636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Император Всероссийский есть верховный хранитель и защитник догматов господствующей веры. В управлении церковном самодержавная власть действует посредством Святейшего Правительствующего Синода, ею учрежденного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Из Основных законов российской империи, 18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640" y="4581000"/>
            <a:ext cx="81367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Митрополит Санкт-Петербургский, Первенствующий член Святейшего Синода Антоний (Вадковский)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2639520" y="738360"/>
            <a:ext cx="5676480" cy="37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221000"/>
            <a:ext cx="678132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«То, что я отрекся от церкви, называющей себя православной, это совершенно справедливо.»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Impact"/>
              </a:rPr>
              <a:t>         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Л.Н.Толстой 4 апреля 1901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Объект 3" descr=""/>
          <p:cNvPicPr/>
          <p:nvPr/>
        </p:nvPicPr>
        <p:blipFill>
          <a:blip r:embed="rId1"/>
          <a:stretch/>
        </p:blipFill>
        <p:spPr>
          <a:xfrm>
            <a:off x="3516480" y="476640"/>
            <a:ext cx="479952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3737520" cy="46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262626"/>
                </a:solidFill>
                <a:latin typeface="Impact"/>
              </a:rPr>
              <a:t>Прославление преподобного Серафима Саровского, 1903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Объект 3" descr=""/>
          <p:cNvPicPr/>
          <p:nvPr/>
        </p:nvPicPr>
        <p:blipFill>
          <a:blip r:embed="rId1"/>
          <a:stretch/>
        </p:blipFill>
        <p:spPr>
          <a:xfrm>
            <a:off x="4604400" y="685800"/>
            <a:ext cx="3956760" cy="53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792036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Канонизации при Николае </a:t>
            </a: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II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543440" cy="447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Дмитрий Ростовский, 1763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Феодосий Тотемский 1798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Иннокентий Иркутский, 1804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Митрофан Воронежский, 1832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rgbClr val="303030"/>
                </a:solidFill>
                <a:latin typeface="Times New Roman"/>
              </a:rPr>
              <a:t>Тихон Задонский, 1861 год</a:t>
            </a:r>
            <a:endParaRPr b="0" lang="ru-RU" sz="16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Феодосий Черниговский, 1896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Серафим Саровский, 1903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Анна Кашинская, 1909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Иоасаф Белгородский, 1911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Ермоген Московский, 1913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Питирим Тамбовский,1914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</a:rPr>
              <a:t>Иоанн Тобольский , 1915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683640" y="1268640"/>
            <a:ext cx="7776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 правосла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оссии (СССР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9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89 миллионов (из 129 млн – данные без Польши и Финлянд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1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05 миллионов (из 178 млн – данные по всей импер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00 миллионов (из 290 м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70 миллионов (из 145 м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99640" y="4725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Государственная Дума в России. 1906-1917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Объект 3" descr=""/>
          <p:cNvPicPr/>
          <p:nvPr/>
        </p:nvPicPr>
        <p:blipFill>
          <a:blip r:embed="rId1"/>
          <a:stretch/>
        </p:blipFill>
        <p:spPr>
          <a:xfrm>
            <a:off x="611640" y="404640"/>
            <a:ext cx="5096880" cy="28796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"/>
          <p:cNvPicPr/>
          <p:nvPr/>
        </p:nvPicPr>
        <p:blipFill>
          <a:blip r:embed="rId2"/>
          <a:stretch/>
        </p:blipFill>
        <p:spPr>
          <a:xfrm>
            <a:off x="4203720" y="1989000"/>
            <a:ext cx="4400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Impact"/>
              </a:rPr>
              <a:t>Свершилась воля Божия: Россия вступила на путь новой государственной жизни. Да благословит Господь нашу великую Родину счастьем и славой на новом ее пути.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303030"/>
                </a:solidFill>
                <a:latin typeface="Times New Roman"/>
              </a:rPr>
              <a:t>Из обращения Святейшего Синода ко всем чадам Русской православной церкви от 9 марта 1917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827640" y="836640"/>
            <a:ext cx="7488360" cy="42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енности статистического отображения православи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ременной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идентификация – около 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при этом численность верующих других конфессий подсчитывается аналогично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есение себя к Русской Православной церкви – 41-4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улярная церковная жизнь – 7-12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сновы представлений о Церкв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251640" y="335880"/>
            <a:ext cx="85687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 чем же состоит существо Церкви, которое можно назвать парадокса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, что Церковь в своем социологическом качестве, то есть как сообщество христиан, не отделена от общества в целом и является его частью, так как ее составляют полноправные члены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 то же время Церковь — это не общественная организация, а нечто неизмеримо большее: это человеческая общность, членом и Возглавителем которой является Богочеловек и Господь Иисус Христос, поныне пребывающий посреди верных.  Это собрание верных, которое в Таинстве Евхаристии — через Причастие животворящему Телу и Крови Спасителя — само претворяется в Тело Христово, так что главой Церкви является Богочеловек и Господь наш Иисус Христос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итрополит Минский и Слуцкий Фила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3640" y="5949360"/>
            <a:ext cx="6859800" cy="22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6000"/>
          </a:bodyPr>
          <a:p>
            <a:pPr indent="0">
              <a:buNone/>
            </a:pPr>
            <a:endParaRPr b="0" lang="ru-RU" sz="54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6" name="Объект 4" descr=""/>
          <p:cNvPicPr/>
          <p:nvPr/>
        </p:nvPicPr>
        <p:blipFill>
          <a:blip r:embed="rId1"/>
          <a:stretch/>
        </p:blipFill>
        <p:spPr>
          <a:xfrm>
            <a:off x="611640" y="260640"/>
            <a:ext cx="4764240" cy="3239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640" y="3717000"/>
            <a:ext cx="777636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Вселенская Церковь; Церковь Земная и Небесная, Воинствующая и Торжествующая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Поместные церкви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Клир и миряне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Духовенство белое и черное, церковная иерархия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marL="278280" indent="-27828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Апостольское преемство.</a:t>
            </a: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ь в Импери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6781320" cy="115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Церковные реформы Петра Первого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Ликвидация патриаршеств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Учреждение Сената и должности Обер-Прокурор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«Духовный регламент»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Реформа богословской науки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Ограничения для монашеств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Font typeface="Wingdings" charset="2"/>
              <a:buChar char=""/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</a:rPr>
              <a:t>Календарная реформа</a:t>
            </a: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ewsprint</Template>
  <TotalTime>483</TotalTime>
  <Application>LibreOffice/7.4.7.2$Linux_X86_64 LibreOffice_project/40$Build-2</Application>
  <AppVersion>15.0000</AppVersion>
  <Words>581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09:37:35Z</dcterms:created>
  <dc:creator>Александр</dc:creator>
  <dc:description/>
  <dc:language>en-US</dc:language>
  <cp:lastModifiedBy>Александр</cp:lastModifiedBy>
  <dcterms:modified xsi:type="dcterms:W3CDTF">2016-11-25T15:39:07Z</dcterms:modified>
  <cp:revision>23</cp:revision>
  <dc:subject/>
  <dc:title>История Русской Православной Церкви в ХХ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1</vt:r8>
  </property>
</Properties>
</file>