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8C4-05EB-4214-B853-A446232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A5A-2A5F-49D9-ACE2-FD78F84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4B7-E98C-471F-A621-BEDB676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9D9-E0A6-44F0-90CA-2FF7ABFF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1AB9-A3E6-4BBA-8D33-BD4C08B2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E164-AF17-4024-B525-1D945A5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BDC-24CC-409E-B0BA-DABC4E8F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4CEE-61B7-4C10-9188-930CB3BC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31E-DE23-48B1-BE3C-A31AC61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87C5-2448-4D8A-8F52-DF204929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53C1-9B38-485D-B0AE-642D3AD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B15-71ED-454C-B053-6B901AAC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CE0-278B-4A19-A216-DC33F94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2E3A-67FF-4D6C-948F-3D325B2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A36-F329-47C1-96AA-BC3DF358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786-7A00-4177-AEB7-B1528385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7F57-AD52-4C18-BE74-A6B7604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4209-7000-4CA5-A0FE-A4408F7D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E7C4-97DB-4B6A-A9F9-CA0D345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37F5-2E73-4C77-B24A-CD21417E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9B98-FB28-4F3E-9B09-B7A9A74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A2C52-10B5-4C7F-A3B5-33C8CB75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BDD-3AFC-41CE-AC4C-0BA118CA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0264-BA4A-48BC-A8BA-A8D1A388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0E55-C94E-4CBC-98DC-776A5CB3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55B9-EA60-4CC2-AAF7-B3FCB3D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3462-7C34-450C-818D-5F19C57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7B6E-A53F-463A-B660-F94B0C3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ABFE-C749-417C-A4C3-E5D2062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9D15-E2F7-4221-97EB-48475405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52F2-5183-4C7C-8B6E-DF7E923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DF5F-CE94-47D2-B4E6-06F52D45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998B-BDC4-40B8-A188-525E59C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EAC-C4F9-4D4E-86E5-D56C1048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8868-8A0A-4199-9BDA-A4344E8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F9B1-1FB4-4960-AE00-EF98BA3E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9F7A-89AD-4AF7-8952-CE2B691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EA66-1256-4FB1-B4C3-256D3A2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D83E-852E-420C-AF95-B045895F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A114-4442-4185-9E64-F90C2BF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CDEA-FC17-4CC3-ADA1-F7B2340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D71A-5AE0-4592-838B-1828EBCC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93D5-EDAF-45C3-964D-15C8E9D6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AA4CA-093A-44DA-9C6A-13145164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AB3-9E99-4E60-BD09-C8C64428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AC84-4CC2-42CE-A010-39AF34A4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91BD-197F-4AB1-8C9A-455E23A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7612-ED90-494B-AB2C-25764FC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4573-D864-4148-8A03-377F89E1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4EEF-F1E3-4752-BC6B-9CC128E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EC84-0EE5-4CDC-9A3C-4D22CDAB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9929-D7D4-40FB-932D-BBF20BB7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785D-36D1-4964-9D83-C53C9BC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133C-AC03-42A9-B7E6-A40AED9C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1956-DE00-460F-9AD3-1E68A117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467-F886-4694-8691-6CD8ADC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C600-9D3F-4309-A773-C061C6E7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5D0-C2CE-404A-AC8A-01E769F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132-B993-4516-B20B-8C53255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8B9-DD6D-4BFC-9B17-9273B9D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010C2E-B1D0-4DD3-9C82-D6956673EFFA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7C21B8-E36E-4DDF-8838-E867B29240F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307A23-CC15-4FAC-91A1-F16555167D8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21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3E4223-D504-457A-A373-C70085C4828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DB9C57-2B97-41FB-A303-B61D3093847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640" y="1600200"/>
            <a:ext cx="835272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История Русской Православной Церкви в ХХ веке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атриаршии местоблюстител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тефан (Яворский)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Феофан (Прокопович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tretch/>
        </p:blipFill>
        <p:spPr>
          <a:xfrm>
            <a:off x="1189080" y="609480"/>
            <a:ext cx="2802960" cy="376668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4917240" y="609480"/>
            <a:ext cx="3119040" cy="37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одвижники Петровской эпох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Митрофан Воронежский и Димитрий Ростов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1185480" y="609480"/>
            <a:ext cx="2685240" cy="35996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07908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18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543440" cy="43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Фактическое прекращение прославления святы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при Елизавете Петровне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ные мероприятия Екатерины Второй. Секуляризация церковных земель. Реформа монастырей. «Дело» Арсения (Мацеевича)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сения Петербургская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18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«Дело» митрополита Арсения (Мацеевича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"/>
          <p:cNvPicPr/>
          <p:nvPr/>
        </p:nvPicPr>
        <p:blipFill>
          <a:blip r:embed="rId1"/>
          <a:stretch/>
        </p:blipFill>
        <p:spPr>
          <a:xfrm>
            <a:off x="4788000" y="752400"/>
            <a:ext cx="2873520" cy="3599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"/>
          <p:cNvPicPr/>
          <p:nvPr/>
        </p:nvPicPr>
        <p:blipFill>
          <a:blip r:embed="rId2"/>
          <a:stretch/>
        </p:blipFill>
        <p:spPr>
          <a:xfrm>
            <a:off x="1361880" y="764640"/>
            <a:ext cx="2705760" cy="3599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Блаженная Ксения Петербургская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5366160" y="1137240"/>
            <a:ext cx="287784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XIX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и крепостное право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Деятельность мит. Филарета (Дроздова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ерафим Саровский и Оптинские старцы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.П. Победоносцев и его эпох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Архимандрит Игнатий (Брянчанинов)</a:t>
            </a:r>
            <a:br>
              <a:rPr sz="3600"/>
            </a:b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Дело помещика Страхова, 1852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Объект 4" descr=""/>
          <p:cNvPicPr/>
          <p:nvPr/>
        </p:nvPicPr>
        <p:blipFill>
          <a:blip r:embed="rId1"/>
          <a:stretch/>
        </p:blipFill>
        <p:spPr>
          <a:xfrm>
            <a:off x="3392640" y="1196640"/>
            <a:ext cx="4923360" cy="32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Митрополит Филарет (Дроздов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5148000" y="692640"/>
            <a:ext cx="31618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8280" y="46008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реподобный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ерафим Саровский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птинские старцы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1"/>
          <a:stretch/>
        </p:blipFill>
        <p:spPr>
          <a:xfrm>
            <a:off x="1331640" y="532800"/>
            <a:ext cx="2884680" cy="38858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4428000" y="2817360"/>
            <a:ext cx="4454640" cy="35636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6300360" y="153000"/>
            <a:ext cx="2419560" cy="28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Значение церковной истории для истории Отечества ХХ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К.П. Победоносцев,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бер-прокурор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вятейшего Синода (1880-1905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4622040" y="685800"/>
            <a:ext cx="354996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6360" cy="13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эпоху последнего царствования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917000"/>
            <a:ext cx="7543440" cy="41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чность Николая Второго в церковной истори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остояние церковных дел в империи в начале ХХ век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Правовое положение Церкв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Митрополит Антоний (Вадковский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тлучение Льва Толстого (1901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аровские торжества (1903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в 1905-1917 года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Николай Александрович, </a:t>
            </a: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Государь император Всероссий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2267640" y="1052640"/>
            <a:ext cx="604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502200" y="692640"/>
            <a:ext cx="813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Русская Православная церковь в начале ХХ ве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рующих – 105 миллио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архий – 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ископов – около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ященников - 5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Храмов - 6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стырей -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шествующих – 30000 (с послушниками – 950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кадемий – 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еминарий – 5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уховных училищ – 1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рковно-приходских школ – 4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Семья последнего российского императора. </a:t>
            </a:r>
            <a:br>
              <a:rPr sz="2800"/>
            </a:br>
            <a:r>
              <a:rPr b="0" i="1" lang="ru-RU" sz="2000" spc="-1" strike="noStrike">
                <a:solidFill>
                  <a:srgbClr val="262626"/>
                </a:solidFill>
                <a:latin typeface="Times New Roman"/>
              </a:rPr>
              <a:t>Прославлена в лике святых РПЦЗ в 1981, РПЦ МП в 2000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862720" y="476640"/>
            <a:ext cx="334188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878040" y="1700640"/>
            <a:ext cx="741636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мператор Всероссийский есть верховный хранитель и защитник догматов господствующей веры. В управлении церковном самодержавная власть действует посредством Святейшего Правительствующего Синода, ею учрежденного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Из Основных законов российской империи, 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640" y="4581000"/>
            <a:ext cx="81367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Митрополит Санкт-Петербургский, Первенствующий член Святейшего Синода Антоний (Вадковский)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2639520" y="738360"/>
            <a:ext cx="567648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221000"/>
            <a:ext cx="678132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«То, что я отрекся от церкви, называющей себя православной, это совершенно справедливо.»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Л.Н.Толстой 4 апреля 1901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Объект 3" descr=""/>
          <p:cNvPicPr/>
          <p:nvPr/>
        </p:nvPicPr>
        <p:blipFill>
          <a:blip r:embed="rId1"/>
          <a:stretch/>
        </p:blipFill>
        <p:spPr>
          <a:xfrm>
            <a:off x="3516480" y="476640"/>
            <a:ext cx="47995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3737520" cy="46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Impact"/>
              </a:rPr>
              <a:t>Прославление преподобного Серафима Саровского, 1903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4604400" y="685800"/>
            <a:ext cx="3956760" cy="53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792036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при Николае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II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683640" y="126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 правосла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оссии (СССР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9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89 миллионов (из 129 млн – данные без Польши и Финлянд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5 миллионов (из 178 млн – данные по всей импер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0 миллионов (из 290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70 миллионов (из 145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9640" y="4725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Государственная Дума в России. 1906-1917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611640" y="404640"/>
            <a:ext cx="5096880" cy="2879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"/>
          <p:cNvPicPr/>
          <p:nvPr/>
        </p:nvPicPr>
        <p:blipFill>
          <a:blip r:embed="rId2"/>
          <a:stretch/>
        </p:blipFill>
        <p:spPr>
          <a:xfrm>
            <a:off x="4203720" y="1989000"/>
            <a:ext cx="4400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вершилась воля Божия: Россия вступила на путь новой государственной жизни. Да благословит Господь нашу великую Родину счастьем и славой на новом ее пути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Из обращения Святейшего Синода ко всем чадам Русской православной церкви от 9 марта 191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827640" y="836640"/>
            <a:ext cx="748836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статистического отображения православ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идентификация – около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и этом численность верующих других конфессий подсчитывается аналогично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есение себя к Русской Православной церкви – 41-4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рная церковная жизнь – 7-1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сновы представлений о Церкв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51640" y="335880"/>
            <a:ext cx="8568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 чем же состоит существо Церкви, которое можно назвать парадок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, что Церковь в своем социологическом качестве, то есть как сообщество христиан, не отделена от общества в целом и является его частью, так как ее составляют полноправные члены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то же время Церковь — это не общественная организация, а нечто неизмеримо большее: это человеческая общность, членом и Возглавителем которой является Богочеловек и Господь Иисус Христос, поныне пребывающий посреди верных.  Это собрание верных, которое в Таинстве Евхаристии — через Причастие животворящему Телу и Крови Спасителя — само претворяется в Тело Христово, так что главой Церкви является Богочеловек и Господь наш Иисус Христос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трополит Минский и Слуцкий Фила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3640" y="5949360"/>
            <a:ext cx="6859800" cy="2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6000"/>
          </a:bodyPr>
          <a:p>
            <a:pPr indent="0">
              <a:buNone/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1"/>
          <a:stretch/>
        </p:blipFill>
        <p:spPr>
          <a:xfrm>
            <a:off x="611640" y="260640"/>
            <a:ext cx="4764240" cy="3239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640" y="3717000"/>
            <a:ext cx="777636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селенская Церковь; Церковь Земная и Небесная, Воинствующая и Торжествующа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местные церкви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лир и миряне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уховенство белое и черное, церковная иерархи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постольское преемство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Импери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ные реформы Петра Первого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квидация патриар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Учреждение Сената и должности Обер-Прокурор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«Духовный регламент»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Реформа богословской наук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граничения для мона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алендарная реформ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483</TotalTime>
  <Application>LibreOffice/7.4.7.2$Linux_X86_64 LibreOffice_project/40$Build-2</Application>
  <AppVersion>15.0000</AppVersion>
  <Words>581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7:35Z</dcterms:created>
  <dc:creator>Александр</dc:creator>
  <dc:description/>
  <dc:language>en-US</dc:language>
  <cp:lastModifiedBy>Александр</cp:lastModifiedBy>
  <dcterms:modified xsi:type="dcterms:W3CDTF">2016-11-25T15:39:07Z</dcterms:modified>
  <cp:revision>23</cp:revision>
  <dc:subject/>
  <dc:title>История Русской Православной Церкви в ХХ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1</vt:r8>
  </property>
</Properties>
</file>