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63C-D700-4614-A4B0-D3A1A7CB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118-BEFD-49BF-8A34-0BE79495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AD1-9D6D-45A3-B83C-C6D0BBED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E81-A978-43AC-A92E-B3755DBE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4B6B-08BC-4252-8281-D5A5FD7F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9AC1-8F99-406B-BF15-4CB5B231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3343-EF52-42BC-894F-FBB5958C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C40A-6DAD-4032-8F48-EC02056D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38DD-E0A7-4531-AB61-726FDF49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5C6B-FEA5-4326-A626-F7D68460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633F-5A58-4341-A8C9-DA8BEC9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594-D8F4-4ECA-ABD1-AFFC99E1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EBB1-A3D9-4B99-AE28-A376A705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8E96-9746-45F6-9C1E-66CCE1C6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FF8D-03F0-423E-8764-9FDDC38E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03BB-FA1C-4052-B78A-03ADD4AA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8AE8-CFBC-4F35-804D-71335A62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6D82-5377-48E2-A055-DC722073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DF6A-61E4-44D5-8F70-13A29AD5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AA29-7B14-4EEE-919A-91440E36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A5EF-7DEA-4954-A3C7-C7B21D81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A59A-DA7D-4BD8-BA67-518933CB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419-BB68-428F-8C9C-60266B9D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DF24-0CFA-44CD-AD57-8A534C15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4312-F66F-43C2-BE0E-B6533215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7833-8255-4CB9-A6D1-86F04BB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A312-C796-473E-BCED-DAD22CC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B50F-A505-4678-B91E-FB673BF4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B0A1-0B6D-4AA2-BE58-0781FB0F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F6D7-B9C0-4715-96BB-AC986F9F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4025B-240E-4E25-B1BA-B375D4B9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AE9CF-E79D-4E45-9C94-4B870553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5A22-7014-4F12-AAE6-A34B1D0B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08E-725C-4A80-ADAA-0C7AF98F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11DF-571B-425D-9215-AA1C9E20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3350-A8C0-46AF-A096-ED636224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7279-A864-47E3-9AED-A0D39F91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450A-C113-433C-AE76-AC5761A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9C62-76D2-4FC5-A209-C8E7B2E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9737-11BC-40EA-9D2E-1177C0F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94832-0B14-4C51-8714-99F8C30B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823CF-659E-41D2-8F38-BB4526E8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A019B-16F3-449C-92DD-01155569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4411-9F28-418D-B001-2B5EF1E8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4B2-4068-4D3F-9246-5F5CE8A0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CD3C-7E69-4281-9F9D-D63E0966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0D57-1C45-41F9-8403-01EB58CA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594D2-A7FA-4026-AB04-9AA6E340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D5E7C-BAE6-4DA9-98C5-9E4D86C3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42C1B-F065-48C4-BCCE-C0F2DA68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C43E-39D0-4C64-923C-F4911A8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CA624-4209-4871-8C91-FD8E397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0D4B-B124-49D8-8F6D-8D728AA8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57481-5F9E-451B-9548-5F807255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D23A-066C-42F1-8AC3-88A7F398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8BC-9D34-46ED-A18F-788A610A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B36B0-CEB3-4591-82BD-C829BA59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4A2-3DB8-48D5-9A60-4F899DEF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27F-9818-408F-8071-ABB60EB6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F3E-40BC-4C29-951B-04949BE5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77240" y="0"/>
            <a:ext cx="7543440" cy="304776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A94939-912A-49A3-A8E6-7F708940868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263A0E-9A5C-49C3-AA8B-8A143779DEB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9AA0BC-8C54-4332-ADBB-816326A4FCB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2120" y="609480"/>
            <a:ext cx="365724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648320" y="609480"/>
            <a:ext cx="365724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7A2CE5-162B-4151-BDF6-0D51A829978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DB63AE-429B-4523-8F17-201DCD23A0AC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640" y="1600200"/>
            <a:ext cx="835272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1000"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История Русской Православной Церкви в ХХ веке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атриаршии местоблюстители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тефан (Яворский) и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Феофан (Прокопович)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Объект 4" descr=""/>
          <p:cNvPicPr/>
          <p:nvPr/>
        </p:nvPicPr>
        <p:blipFill>
          <a:blip r:embed="rId1"/>
          <a:stretch/>
        </p:blipFill>
        <p:spPr>
          <a:xfrm>
            <a:off x="1189080" y="609480"/>
            <a:ext cx="2802960" cy="376668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5" descr=""/>
          <p:cNvPicPr/>
          <p:nvPr/>
        </p:nvPicPr>
        <p:blipFill>
          <a:blip r:embed="rId2"/>
          <a:stretch/>
        </p:blipFill>
        <p:spPr>
          <a:xfrm>
            <a:off x="4917240" y="609480"/>
            <a:ext cx="3119040" cy="37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одвижники Петровской эпохи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Митрофан Воронежский и Димитрий Ростовский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Объект 4" descr=""/>
          <p:cNvPicPr/>
          <p:nvPr/>
        </p:nvPicPr>
        <p:blipFill>
          <a:blip r:embed="rId1"/>
          <a:stretch/>
        </p:blipFill>
        <p:spPr>
          <a:xfrm>
            <a:off x="1185480" y="609480"/>
            <a:ext cx="2685240" cy="35996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5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07908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6781320" cy="115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18 веке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543440" cy="43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Фактическое прекращение прославления святых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ь при Елизавете Петровне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ные мероприятия Екатерины Второй. Секуляризация церковных земель. Реформа монастырей. «Дело» Арсения (Мацеевича).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Ксения Петербургская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анонизации 18 ве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447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3200" spc="-1" strike="noStrike">
                <a:solidFill>
                  <a:srgbClr val="303030"/>
                </a:solidFill>
                <a:latin typeface="Times New Roman"/>
              </a:rPr>
              <a:t>Дмитрий Ростовский, 1763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3200" spc="-1" strike="noStrike">
                <a:solidFill>
                  <a:srgbClr val="303030"/>
                </a:solidFill>
                <a:latin typeface="Times New Roman"/>
              </a:rPr>
              <a:t>Феодосий Тотемский 1798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ннокентий Иркутский, 1804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Митрофан Воронежский, 1832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Тихон Задонский, 1861 год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Феодосий Черниговский, 1896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Серафим Саровский, 1903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Анна Кашинская, 1909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оасаф Белгородский, 1911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Ермоген Московский, 1913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Питирим Тамбовский,1914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оанн Тобольский , 1915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«Дело» митрополита Арсения (Мацеевича)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Рисунок 4" descr=""/>
          <p:cNvPicPr/>
          <p:nvPr/>
        </p:nvPicPr>
        <p:blipFill>
          <a:blip r:embed="rId1"/>
          <a:stretch/>
        </p:blipFill>
        <p:spPr>
          <a:xfrm>
            <a:off x="4788000" y="752400"/>
            <a:ext cx="2873520" cy="35996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" descr=""/>
          <p:cNvPicPr/>
          <p:nvPr/>
        </p:nvPicPr>
        <p:blipFill>
          <a:blip r:embed="rId2"/>
          <a:stretch/>
        </p:blipFill>
        <p:spPr>
          <a:xfrm>
            <a:off x="1361880" y="764640"/>
            <a:ext cx="2705760" cy="3599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Блаженная Ксения Петербургская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Объект 3" descr=""/>
          <p:cNvPicPr/>
          <p:nvPr/>
        </p:nvPicPr>
        <p:blipFill>
          <a:blip r:embed="rId1"/>
          <a:stretch/>
        </p:blipFill>
        <p:spPr>
          <a:xfrm>
            <a:off x="5366160" y="1137240"/>
            <a:ext cx="287784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6781320" cy="115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</a:t>
            </a: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XIX</a:t>
            </a: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 веке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ь и крепостное право.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Деятельность мит. Филарета (Дроздова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Серафим Саровский и Оптинские старцы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К.П. Победоносцев и его эпох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Архимандрит Игнатий (Брянчанинов)</a:t>
            </a:r>
            <a:br>
              <a:rPr sz="3600"/>
            </a:b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Дело помещика Страхова, 1852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Объект 4" descr=""/>
          <p:cNvPicPr/>
          <p:nvPr/>
        </p:nvPicPr>
        <p:blipFill>
          <a:blip r:embed="rId1"/>
          <a:stretch/>
        </p:blipFill>
        <p:spPr>
          <a:xfrm>
            <a:off x="3392640" y="1196640"/>
            <a:ext cx="4923360" cy="32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Митрополит Филарет (Дроздов)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5148000" y="692640"/>
            <a:ext cx="31618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8280" y="46008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реподобный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ерафим Саровский и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Оптинские старцы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Объект 3" descr=""/>
          <p:cNvPicPr/>
          <p:nvPr/>
        </p:nvPicPr>
        <p:blipFill>
          <a:blip r:embed="rId1"/>
          <a:stretch/>
        </p:blipFill>
        <p:spPr>
          <a:xfrm>
            <a:off x="1331640" y="532800"/>
            <a:ext cx="2884680" cy="38858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"/>
          <p:cNvPicPr/>
          <p:nvPr/>
        </p:nvPicPr>
        <p:blipFill>
          <a:blip r:embed="rId2"/>
          <a:stretch/>
        </p:blipFill>
        <p:spPr>
          <a:xfrm>
            <a:off x="4428000" y="2817360"/>
            <a:ext cx="4454640" cy="35636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3"/>
          <a:stretch/>
        </p:blipFill>
        <p:spPr>
          <a:xfrm>
            <a:off x="6300360" y="153000"/>
            <a:ext cx="2419560" cy="28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Значение церковной истории для истории Отечества ХХ ве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К.П. Победоносцев,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Обер-прокурор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вятейшего Синода (1880-1905)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Объект 3" descr=""/>
          <p:cNvPicPr/>
          <p:nvPr/>
        </p:nvPicPr>
        <p:blipFill>
          <a:blip r:embed="rId1"/>
          <a:stretch/>
        </p:blipFill>
        <p:spPr>
          <a:xfrm>
            <a:off x="4622040" y="685800"/>
            <a:ext cx="3549960" cy="38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76360" cy="13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эпоху последнего царствования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917000"/>
            <a:ext cx="7543440" cy="41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Личность Николая Второго в церковной истории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Состояние церковных дел в империи в начале ХХ век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Правовое положение Церкви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Митрополит Антоний (Вадковский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Отлучение Льва Толстого (1901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Саровские торжества (1903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ь в 1905-1917 годах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Николай Александрович, </a:t>
            </a: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Государь император Всероссийский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tretch/>
        </p:blipFill>
        <p:spPr>
          <a:xfrm>
            <a:off x="2267640" y="1052640"/>
            <a:ext cx="6044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502200" y="692640"/>
            <a:ext cx="8136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Русская Православная церковь в начале ХХ ве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ерующих – 105 миллион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пархий – 6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пископов – около 1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вященников - 50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Храмов - 60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онастырей - 1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онашествующих – 30000 (с послушниками – 950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Академий – 4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еминарий – 57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уховных училищ – 18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рковно-приходских школ – 40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Семья последнего российского императора. </a:t>
            </a:r>
            <a:br>
              <a:rPr sz="2800"/>
            </a:br>
            <a:r>
              <a:rPr b="0" i="1" lang="ru-RU" sz="2000" spc="-1" strike="noStrike">
                <a:solidFill>
                  <a:srgbClr val="262626"/>
                </a:solidFill>
                <a:latin typeface="Times New Roman"/>
              </a:rPr>
              <a:t>Прославлена в лике святых РПЦЗ в 1981, РПЦ МП в 2000</a:t>
            </a:r>
            <a:r>
              <a:rPr b="0" i="1" lang="ru-RU" sz="18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Объект 3" descr=""/>
          <p:cNvPicPr/>
          <p:nvPr/>
        </p:nvPicPr>
        <p:blipFill>
          <a:blip r:embed="rId1"/>
          <a:stretch/>
        </p:blipFill>
        <p:spPr>
          <a:xfrm>
            <a:off x="2862720" y="476640"/>
            <a:ext cx="3341880" cy="38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878040" y="1700640"/>
            <a:ext cx="741636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мператор Всероссийский есть верховный хранитель и защитник догматов господствующей веры. В управлении церковном самодержавная власть действует посредством Святейшего Правительствующего Синода, ею учрежденного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Из Основных законов российской империи, 18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640" y="4581000"/>
            <a:ext cx="81367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Митрополит Санкт-Петербургский, Первенствующий член Святейшего Синода Антоний (Вадковский)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2639520" y="738360"/>
            <a:ext cx="5676480" cy="37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221000"/>
            <a:ext cx="678132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«То, что я отрекся от церкви, называющей себя православной, это совершенно справедливо.»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         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Л.Н.Толстой 4 апреля 1901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Объект 3" descr=""/>
          <p:cNvPicPr/>
          <p:nvPr/>
        </p:nvPicPr>
        <p:blipFill>
          <a:blip r:embed="rId1"/>
          <a:stretch/>
        </p:blipFill>
        <p:spPr>
          <a:xfrm>
            <a:off x="3516480" y="476640"/>
            <a:ext cx="479952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3737520" cy="46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Impact"/>
              </a:rPr>
              <a:t>Прославление преподобного Серафима Саровского, 1903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Объект 3" descr=""/>
          <p:cNvPicPr/>
          <p:nvPr/>
        </p:nvPicPr>
        <p:blipFill>
          <a:blip r:embed="rId1"/>
          <a:stretch/>
        </p:blipFill>
        <p:spPr>
          <a:xfrm>
            <a:off x="4604400" y="685800"/>
            <a:ext cx="3956760" cy="53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792036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анонизации при Николае </a:t>
            </a: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II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447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Дмитрий Ростовский, 1763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Феодосий Тотемский 1798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ннокентий Иркутский, 1804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Митрофан Воронежский, 1832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Тихон Задонский, 1861 год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Феодосий Черниговский, 1896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Серафим Саровский, 1903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Анна Кашинская, 1909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Иоасаф Белгородский, 1911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Ермоген Московский, 1913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Питирим Тамбовский,1914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Иоанн Тобольский , 1915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683640" y="1268640"/>
            <a:ext cx="7776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 правосла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оссии (СССР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9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89 миллионов (из 129 млн – данные без Польши и Финлянд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1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05 миллионов (из 178 млн – данные по всей импер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00 миллионов (из 290 м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70 миллионов (из 145 м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99640" y="4725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Государственная Дума в России. 1906-1917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Объект 3" descr=""/>
          <p:cNvPicPr/>
          <p:nvPr/>
        </p:nvPicPr>
        <p:blipFill>
          <a:blip r:embed="rId1"/>
          <a:stretch/>
        </p:blipFill>
        <p:spPr>
          <a:xfrm>
            <a:off x="611640" y="404640"/>
            <a:ext cx="5096880" cy="28796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"/>
          <p:cNvPicPr/>
          <p:nvPr/>
        </p:nvPicPr>
        <p:blipFill>
          <a:blip r:embed="rId2"/>
          <a:stretch/>
        </p:blipFill>
        <p:spPr>
          <a:xfrm>
            <a:off x="4203720" y="1989000"/>
            <a:ext cx="4400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Свершилась воля Божия: Россия вступила на путь новой государственной жизни. Да благословит Господь нашу великую Родину счастьем и славой на новом ее пути.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Из обращения Святейшего Синода ко всем чадам Русской православной церкви от 9 марта 1917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827640" y="836640"/>
            <a:ext cx="7488360" cy="42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енности статистического отображения православи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ременной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идентификация – около 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и этом численность верующих других конфессий подсчитывается аналогично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есение себя к Русской Православной церкви – 41-4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улярная церковная жизнь – 7-12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сновы представлений о Церкв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51640" y="335880"/>
            <a:ext cx="85687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 чем же состоит существо Церкви, которое можно назвать парадокса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, что Церковь в своем социологическом качестве, то есть как сообщество христиан, не отделена от общества в целом и является его частью, так как ее составляют полноправные члены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 то же время Церковь — это не общественная организация, а нечто неизмеримо большее: это человеческая общность, членом и Возглавителем которой является Богочеловек и Господь Иисус Христос, поныне пребывающий посреди верных.  Это собрание верных, которое в Таинстве Евхаристии — через Причастие животворящему Телу и Крови Спасителя — само претворяется в Тело Христово, так что главой Церкви является Богочеловек и Господь наш Иисус Христос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итрополит Минский и Слуцкий Фила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3640" y="5949360"/>
            <a:ext cx="6859800" cy="22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6000"/>
          </a:bodyPr>
          <a:p>
            <a:pPr indent="0">
              <a:buNone/>
            </a:pPr>
            <a:endParaRPr b="0" lang="ru-RU" sz="54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6" name="Объект 4" descr=""/>
          <p:cNvPicPr/>
          <p:nvPr/>
        </p:nvPicPr>
        <p:blipFill>
          <a:blip r:embed="rId1"/>
          <a:stretch/>
        </p:blipFill>
        <p:spPr>
          <a:xfrm>
            <a:off x="611640" y="260640"/>
            <a:ext cx="4764240" cy="3239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640" y="3717000"/>
            <a:ext cx="777636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селенская Церковь; Церковь Земная и Небесная, Воинствующая и Торжествующая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местные церкви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лир и миряне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уховенство белое и черное, церковная иерархия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постольское преемство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Импери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6781320" cy="115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ные реформы Петра Первого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Ликвидация патриаршеств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Учреждение Сената и должности Обер-Прокурор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«Духовный регламент»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Реформа богословской науки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Ограничения для монашеств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Календарная реформ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ewsprint</Template>
  <TotalTime>483</TotalTime>
  <Application>LibreOffice/7.4.7.2$Linux_X86_64 LibreOffice_project/40$Build-2</Application>
  <AppVersion>15.0000</AppVersion>
  <Words>581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7:35Z</dcterms:created>
  <dc:creator>Александр</dc:creator>
  <dc:description/>
  <dc:language>en-US</dc:language>
  <cp:lastModifiedBy>Александр</cp:lastModifiedBy>
  <dcterms:modified xsi:type="dcterms:W3CDTF">2016-11-25T15:39:07Z</dcterms:modified>
  <cp:revision>23</cp:revision>
  <dc:subject/>
  <dc:title>История Русской Православной Церкви в ХХ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1</vt:r8>
  </property>
</Properties>
</file>