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D81-9071-4EE5-A63A-0137DF09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14352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395-3E9E-41AE-9521-36390F82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8C8-2019-4D49-81D6-0C01C2F3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93B-FAFE-4585-909E-5E979A81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E63D-C287-4F94-A250-91F2FD9B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655B-C1C7-4058-97A7-370F93CE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1302-F73E-4076-B763-5B050ED0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3FA1-AE29-4978-9016-989A0F4F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D298-FF1E-42A0-86FD-C45DB73E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43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FE40-E74A-4BCB-9F9B-E53F63FC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3546-B0A9-4334-9E97-2A6879F9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DCE-311B-40B1-A6E2-5EC59F06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D957-CCDC-4603-A1EB-63FD996C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1761-4D49-4DAE-803F-9FA521C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14352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8133-86D6-40FF-94D2-5808B356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D407-A8C2-49BD-A832-A5F3C3D4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128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143520"/>
            <a:ext cx="26496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C325-1858-4A6B-8216-B0D048EC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E22-C48D-48D4-9C69-08FD62C2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007-EFCC-4D72-A306-FEC86F5D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D69-0B7E-4696-B603-A431FC96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43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7E9-1040-40B9-9942-79184F07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944-2B78-488A-9D21-3910C677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14352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6BF-07E6-43A5-8409-51F569D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1280"/>
            <a:ext cx="401580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143520"/>
            <a:ext cx="8229240" cy="16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5CE-3C8E-4B5A-AF9D-2BADB138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6d2"/>
            </a:gs>
            <a:gs pos="100000">
              <a:srgbClr val="353a47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 hidden="1"/>
          <p:cNvSpPr/>
          <p:nvPr/>
        </p:nvSpPr>
        <p:spPr>
          <a:xfrm>
            <a:off x="0" y="1076760"/>
            <a:ext cx="9143640" cy="338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outerShdw algn="tl" blurRad="31680" dir="5400000" dist="10080" rotWithShape="0">
              <a:srgbClr val="000000">
                <a:alpha val="60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Прямоугольник 6" hidden="1"/>
          <p:cNvSpPr/>
          <p:nvPr/>
        </p:nvSpPr>
        <p:spPr>
          <a:xfrm>
            <a:off x="0" y="0"/>
            <a:ext cx="9143640" cy="107496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0" y="0"/>
            <a:ext cx="9143640" cy="385128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516760"/>
            <a:ext cx="8076960" cy="12546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chemeClr val="accent1"/>
                </a:solidFill>
                <a:latin typeface="Corbel"/>
              </a:rPr>
              <a:t>Образец заголовка</a:t>
            </a:r>
            <a:endParaRPr b="0" lang="uk-UA" sz="4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7200" y="4857840"/>
            <a:ext cx="2133360" cy="20556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640600" y="4857840"/>
            <a:ext cx="5507280" cy="20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04400" y="4857840"/>
            <a:ext cx="73368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80D1BA-38D9-4D55-B210-2FD187106205}" type="slidenum">
              <a:rPr b="0" lang="uk-U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0" y="3846240"/>
            <a:ext cx="9143640" cy="338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outerShdw algn="tl" blurRad="31680" dir="5400000" dist="10080" rotWithShape="0">
              <a:srgbClr val="000000">
                <a:alpha val="60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uk-UA" sz="3200" spc="-1" strike="noStrike">
              <a:solidFill>
                <a:srgbClr val="ffffff"/>
              </a:solidFill>
              <a:latin typeface="Corbel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uk-UA" sz="2400" spc="-1" strike="noStrike">
              <a:solidFill>
                <a:srgbClr val="ffffff"/>
              </a:solidFill>
              <a:latin typeface="Corbel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uk-UA" sz="2000" spc="-1" strike="noStrike">
              <a:solidFill>
                <a:srgbClr val="ffffff"/>
              </a:solidFill>
              <a:latin typeface="Corbel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9"/>
          <p:cNvSpPr/>
          <p:nvPr/>
        </p:nvSpPr>
        <p:spPr>
          <a:xfrm>
            <a:off x="0" y="1076760"/>
            <a:ext cx="9143640" cy="338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outerShdw algn="tl" blurRad="31680" dir="5400000" dist="10080" rotWithShape="0">
              <a:srgbClr val="000000">
                <a:alpha val="60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0" y="0"/>
            <a:ext cx="9143640" cy="107496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chemeClr val="accent1"/>
                </a:solidFill>
                <a:latin typeface="Corbel"/>
              </a:rPr>
              <a:t>Образец заголовка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ец текста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lvl="1" marL="731520" indent="-274320">
              <a:lnSpc>
                <a:spcPct val="100000"/>
              </a:lnSpc>
              <a:spcBef>
                <a:spcPts val="561"/>
              </a:spcBef>
              <a:buClr>
                <a:srgbClr val="60b5cc"/>
              </a:buClr>
              <a:buSzPct val="90000"/>
              <a:buFont typeface="Wingdings" charset="2"/>
              <a:buChar char=""/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торой уровень</a:t>
            </a:r>
            <a:endParaRPr b="0" lang="uk-UA" sz="2800" spc="-1" strike="noStrike">
              <a:solidFill>
                <a:srgbClr val="000000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66c7d"/>
              </a:buClr>
              <a:buFont typeface="Arial"/>
              <a:buChar char="▪"/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ретий уровень</a:t>
            </a:r>
            <a:endParaRPr b="0" lang="uk-UA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880">
              <a:lnSpc>
                <a:spcPct val="100000"/>
              </a:lnSpc>
              <a:spcBef>
                <a:spcPts val="400"/>
              </a:spcBef>
              <a:buClr>
                <a:srgbClr val="6bb76d"/>
              </a:buClr>
              <a:buFont typeface="Arial"/>
              <a:buChar char="▪"/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4" marL="1426320" indent="-182880">
              <a:lnSpc>
                <a:spcPct val="100000"/>
              </a:lnSpc>
              <a:spcBef>
                <a:spcPts val="400"/>
              </a:spcBef>
              <a:buClr>
                <a:srgbClr val="e88651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4857840"/>
            <a:ext cx="2133360" cy="20556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uk-UA" sz="1200" spc="-1" strike="noStrike">
                <a:solidFill>
                  <a:srgbClr val="45454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45454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40600" y="4857840"/>
            <a:ext cx="5507280" cy="20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400" y="4857840"/>
            <a:ext cx="73368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45454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8983AE-D196-4D51-9819-5102ABB86B6E}" type="slidenum">
              <a:rPr b="0" lang="uk-UA" sz="1200" spc="-1" strike="noStrike">
                <a:solidFill>
                  <a:srgbClr val="45454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07480"/>
            <a:ext cx="8076960" cy="20638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700" spc="-1" strike="noStrike">
                <a:solidFill>
                  <a:schemeClr val="accent1"/>
                </a:solidFill>
                <a:latin typeface="Corbel"/>
              </a:rPr>
              <a:t>Траєкторія руху.</a:t>
            </a:r>
            <a:br>
              <a:rPr sz="4700"/>
            </a:br>
            <a:r>
              <a:rPr b="1" lang="uk-UA" sz="4700" spc="-1" strike="noStrike">
                <a:solidFill>
                  <a:schemeClr val="accent1"/>
                </a:solidFill>
                <a:latin typeface="Corbel"/>
              </a:rPr>
              <a:t>Шлях. Переміщення.</a:t>
            </a:r>
            <a:endParaRPr b="0" lang="uk-UA" sz="4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607200"/>
            <a:ext cx="8076960" cy="1124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Фізика 7 к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рок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Дайте відповідь на запита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640" y="1203480"/>
            <a:ext cx="8784720" cy="3939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 fontScale="70000"/>
          </a:bodyPr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Дайте означення траєкторії руху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Дайте означення шляху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Назвіть одиницю шляху в СІ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ому, знаючи тільки шлях, не можна визначити кінцеве положення тіла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Дайте означення переміщення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переміщення позначають на кресленнях? 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У якому випадку модуль  переміщення  дорівнює  подоланому  шляху? 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464400">
              <a:lnSpc>
                <a:spcPct val="100000"/>
              </a:lnSpc>
              <a:buClr>
                <a:srgbClr val="f0ad00"/>
              </a:buClr>
              <a:buSzPct val="80000"/>
              <a:buFont typeface="Corbel"/>
              <a:buAutoNum type="arabicPeriod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  залежать траєкторія руху тіла, шлях і переміщення від вибору системи відліку? Наведіть приклади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Розв</a:t>
            </a:r>
            <a:r>
              <a:rPr b="1" lang="en-US" sz="4500" spc="-1" strike="noStrike">
                <a:solidFill>
                  <a:schemeClr val="accent1"/>
                </a:solidFill>
                <a:latin typeface="Corbel"/>
              </a:rPr>
              <a:t>’</a:t>
            </a: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язування задач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640" y="1331280"/>
            <a:ext cx="871272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Гелікоптер  піднімається  вертикально  вгору. Зобразіть  траєкторію  руху точок А і В, розташованих на лопатях гвинта гелікоптера: 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81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а)  відносно  пілота; 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8143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б)  відносно Землі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364000" y="2927160"/>
            <a:ext cx="2782440" cy="2216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Розв</a:t>
            </a:r>
            <a:r>
              <a:rPr b="1" lang="en-US" sz="4500" spc="-1" strike="noStrike">
                <a:solidFill>
                  <a:schemeClr val="accent1"/>
                </a:solidFill>
                <a:latin typeface="Corbel"/>
              </a:rPr>
              <a:t>’</a:t>
            </a: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язок: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18040" y="1131480"/>
            <a:ext cx="8170560" cy="3801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Розв’язування задач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640" y="1275480"/>
            <a:ext cx="4680000" cy="3867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 fontScale="54000"/>
          </a:bodyPr>
          <a:p>
            <a:pPr marL="379080" indent="-2761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У початковий момент часу тіло перебувало в точці А з координатами х</a:t>
            </a:r>
            <a:r>
              <a:rPr b="0" i="1" lang="uk-UA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= 4 м, у</a:t>
            </a:r>
            <a:r>
              <a:rPr b="0" i="1" lang="uk-UA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= –3 м. Через певний інтервал часу тіло перемістилося в точку B з координатами х = – 4 м, у = 3 м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379080" indent="-2761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Накресліть у зошиті систему координат, зазначте точки А і B, зобразіть вектор переміщення та визначте його модуль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379080" indent="-2761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 можна, використавши дані задачі, визначити шлях, подоланий тілом?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766760" y="1131480"/>
            <a:ext cx="4376880" cy="401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Розв’язування задач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тоцикліст,  рухаючись  ареною  цирку,  проїжджає  коло  радіуса 13 м за 8 с. Визначте шлях і модуль переміщення мотоцикліста: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) за 4 с руху;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б) за 8 с руху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7" name="Picture 2" descr="Рок на байке - МК Владивосток"/>
          <p:cNvPicPr/>
          <p:nvPr/>
        </p:nvPicPr>
        <p:blipFill>
          <a:blip r:embed="rId1"/>
          <a:stretch/>
        </p:blipFill>
        <p:spPr>
          <a:xfrm>
            <a:off x="4644000" y="3047040"/>
            <a:ext cx="3096000" cy="2096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Домашнє завда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12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вчити: § 7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пр. 7 (1) – усно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пр. 7 (3) – письмово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</a:pP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Перевірка домашнього завда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31480"/>
            <a:ext cx="8229240" cy="401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 fontScale="87000"/>
          </a:bodyPr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Дайте означення механічного руху. Наведіть приклади.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Що таке тіло відліку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Як задають систему координат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Які об’єкти утворюють систему відліку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У яких випадках тіло, що рухається, можна розглядати як матеріальну точку? 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Як ви розумієте вираз «механічний рух є відносним»?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Перевірка домашнього завда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640" y="1131480"/>
            <a:ext cx="5040360" cy="3744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1" i="1" lang="uk-UA" sz="2800" spc="-1" strike="noStrike">
                <a:solidFill>
                  <a:srgbClr val="000000"/>
                </a:solidFill>
                <a:latin typeface="Corbel"/>
              </a:rPr>
              <a:t>Чи можна вважати космічний корабель матеріальною точкою, коли він:  </a:t>
            </a:r>
            <a:endParaRPr b="0" lang="uk-UA" sz="2800" spc="-1" strike="noStrike">
              <a:solidFill>
                <a:srgbClr val="000000"/>
              </a:solidFill>
              <a:latin typeface="Corbel"/>
            </a:endParaRPr>
          </a:p>
          <a:p>
            <a:pPr lvl="1" marL="731520" indent="-274320">
              <a:lnSpc>
                <a:spcPct val="100000"/>
              </a:lnSpc>
              <a:spcBef>
                <a:spcPts val="479"/>
              </a:spcBef>
              <a:buClr>
                <a:srgbClr val="60b5cc"/>
              </a:buClr>
              <a:buSzPct val="90000"/>
              <a:buFont typeface="Wingdings" charset="2"/>
              <a:buChar char=""/>
            </a:pPr>
            <a:r>
              <a:rPr b="0" i="1" lang="uk-UA" sz="2400" spc="-1" strike="noStrike">
                <a:solidFill>
                  <a:srgbClr val="000000"/>
                </a:solidFill>
                <a:latin typeface="Corbel"/>
              </a:rPr>
              <a:t>здійснює  переліт  Земля  —  Марс?  </a:t>
            </a:r>
            <a:endParaRPr b="0" lang="uk-UA" sz="2400" spc="-1" strike="noStrike">
              <a:solidFill>
                <a:srgbClr val="000000"/>
              </a:solidFill>
              <a:latin typeface="Corbel"/>
            </a:endParaRPr>
          </a:p>
          <a:p>
            <a:pPr lvl="1" marL="731520" indent="-274320">
              <a:lnSpc>
                <a:spcPct val="100000"/>
              </a:lnSpc>
              <a:spcBef>
                <a:spcPts val="479"/>
              </a:spcBef>
              <a:buClr>
                <a:srgbClr val="60b5cc"/>
              </a:buClr>
              <a:buSzPct val="90000"/>
              <a:buFont typeface="Wingdings" charset="2"/>
              <a:buChar char=""/>
            </a:pPr>
            <a:r>
              <a:rPr b="0" i="1" lang="uk-UA" sz="2400" spc="-1" strike="noStrike">
                <a:solidFill>
                  <a:srgbClr val="000000"/>
                </a:solidFill>
                <a:latin typeface="Corbel"/>
              </a:rPr>
              <a:t>здійснює  посадку  на поверхню Марса?</a:t>
            </a:r>
            <a:endParaRPr b="0" lang="uk-UA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4" name="Picture 2" descr="Марсохід Perseverance сів на Марс | Новини - актуальні повідомлення про  події в світі | DW | 18.02.2021"/>
          <p:cNvPicPr/>
          <p:nvPr/>
        </p:nvPicPr>
        <p:blipFill>
          <a:blip r:embed="rId1">
            <a:lum contrast="10000"/>
          </a:blip>
          <a:srcRect l="24201" t="0" r="22006" b="0"/>
          <a:stretch/>
        </p:blipFill>
        <p:spPr>
          <a:xfrm>
            <a:off x="5310360" y="1131480"/>
            <a:ext cx="38332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Траєкторія руху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7640" y="1131480"/>
            <a:ext cx="8229240" cy="3468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1" lang="uk-UA" sz="3200" spc="-1" strike="noStrike">
                <a:solidFill>
                  <a:srgbClr val="ff0000"/>
                </a:solidFill>
                <a:latin typeface="Corbel"/>
              </a:rPr>
              <a:t>Траєкторія  руху </a:t>
            </a:r>
            <a:r>
              <a:rPr b="1" lang="uk-UA" sz="3200" spc="-1" strike="noStrike">
                <a:solidFill>
                  <a:srgbClr val="002060"/>
                </a:solidFill>
                <a:latin typeface="Corbel"/>
              </a:rPr>
              <a:t>— це уявна лінія, яку описує в просторі точка, що рухається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71640" y="2354040"/>
            <a:ext cx="3600000" cy="278892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0" t="14497" r="0" b="0"/>
          <a:stretch/>
        </p:blipFill>
        <p:spPr>
          <a:xfrm>
            <a:off x="4860000" y="2211840"/>
            <a:ext cx="3447720" cy="293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Види траєкторії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5640" y="1131480"/>
            <a:ext cx="8424720" cy="3970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51480"/>
            <a:ext cx="864072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000" spc="-1" strike="noStrike">
                <a:solidFill>
                  <a:schemeClr val="accent1"/>
                </a:solidFill>
                <a:latin typeface="Corbel"/>
              </a:rPr>
              <a:t>Залежність траєкторії від вибору системи відліку</a:t>
            </a:r>
            <a:endParaRPr b="0" lang="uk-UA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3640" y="1203480"/>
            <a:ext cx="4392000" cy="381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 fontScale="87000"/>
          </a:bodyPr>
          <a:p>
            <a:pPr marL="412200" indent="-300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Траєкторія руху яблука для пасажирів автобуса — короткий відрізок прямої (на схемі — </a:t>
            </a:r>
            <a:r>
              <a:rPr b="0" i="1" lang="uk-UA" sz="3200" spc="-1" strike="noStrike">
                <a:solidFill>
                  <a:srgbClr val="00b050"/>
                </a:solidFill>
                <a:latin typeface="Corbel"/>
              </a:rPr>
              <a:t>лінія 1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), для людини на узбіччі дороги — крива лінія (на схемі — </a:t>
            </a:r>
            <a:r>
              <a:rPr b="0" i="1" lang="uk-UA" sz="3200" spc="-1" strike="noStrike">
                <a:solidFill>
                  <a:srgbClr val="ff0000"/>
                </a:solidFill>
                <a:latin typeface="Corbel"/>
              </a:rPr>
              <a:t>лінія 2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0" b="27912"/>
          <a:stretch/>
        </p:blipFill>
        <p:spPr>
          <a:xfrm>
            <a:off x="5652000" y="1059480"/>
            <a:ext cx="3491640" cy="4083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Шлях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640" y="1131480"/>
            <a:ext cx="8784720" cy="1456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rm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1" lang="uk-UA" sz="3600" spc="-1" strike="noStrike">
                <a:solidFill>
                  <a:srgbClr val="ff0000"/>
                </a:solidFill>
                <a:latin typeface="Corbel"/>
              </a:rPr>
              <a:t>Шлях</a:t>
            </a:r>
            <a:r>
              <a:rPr b="1" lang="uk-UA" sz="3600" spc="-1" strike="noStrike">
                <a:solidFill>
                  <a:srgbClr val="002060"/>
                </a:solidFill>
                <a:latin typeface="Corbel"/>
              </a:rPr>
              <a:t> — це фізична величина, яка дорівнює довжині траєкторії.</a:t>
            </a:r>
            <a:endParaRPr b="0" lang="uk-UA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724000" y="2335320"/>
            <a:ext cx="3011400" cy="2808000"/>
          </a:xfrm>
          <a:prstGeom prst="rect">
            <a:avLst/>
          </a:prstGeom>
          <a:ln w="9525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611640" y="2283840"/>
            <a:ext cx="48963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Шлях позначають символом 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диниця шляху в СІ — мет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>
            <a:lum contrast="20000"/>
          </a:blip>
          <a:srcRect l="10824" t="57672" r="56170" b="20374"/>
          <a:stretch/>
        </p:blipFill>
        <p:spPr>
          <a:xfrm>
            <a:off x="1043640" y="3703320"/>
            <a:ext cx="3851640" cy="1439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500" spc="-1" strike="noStrike">
                <a:solidFill>
                  <a:schemeClr val="accent1"/>
                </a:solidFill>
                <a:latin typeface="Corbel"/>
              </a:rPr>
              <a:t>Переміщення</a:t>
            </a:r>
            <a:endParaRPr b="0" lang="uk-UA" sz="4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640" y="1131480"/>
            <a:ext cx="8229240" cy="1728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5000" anchor="t">
            <a:noAutofit/>
          </a:bodyPr>
          <a:p>
            <a:pPr marL="438840" indent="-3200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</a:pPr>
            <a:r>
              <a:rPr b="1" lang="uk-UA" sz="3200" spc="-1" strike="noStrike">
                <a:solidFill>
                  <a:srgbClr val="002060"/>
                </a:solidFill>
                <a:latin typeface="Corbel"/>
              </a:rPr>
              <a:t>Напрямлений відрізок прямої, який з’єднує початкове та кінцеве положення тіла, називають </a:t>
            </a:r>
            <a:r>
              <a:rPr b="1" lang="uk-UA" sz="3200" spc="-1" strike="noStrike">
                <a:solidFill>
                  <a:srgbClr val="ff0000"/>
                </a:solidFill>
                <a:latin typeface="Corbel"/>
              </a:rPr>
              <a:t>переміщенням.</a:t>
            </a:r>
            <a:endParaRPr b="0" lang="uk-UA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61369" t="36201" r="12714" b="42938"/>
          <a:stretch/>
        </p:blipFill>
        <p:spPr>
          <a:xfrm>
            <a:off x="4189320" y="2787840"/>
            <a:ext cx="4775040" cy="2160000"/>
          </a:xfrm>
          <a:prstGeom prst="rect">
            <a:avLst/>
          </a:prstGeom>
          <a:ln w="9525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179640" y="2859840"/>
            <a:ext cx="3960000" cy="25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Переміщення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 показує, в якому напрямку та на яку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uk-UA" sz="2200" spc="-1" strike="noStrike">
                <a:solidFill>
                  <a:srgbClr val="000000"/>
                </a:solidFill>
                <a:latin typeface="Corbel"/>
              </a:rPr>
              <a:t>відстань перемістилося тіло  за певний інтервал ча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[ </a:t>
            </a: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 ] = </a:t>
            </a: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640" y="123480"/>
            <a:ext cx="8784720" cy="939240"/>
          </a:xfrm>
          <a:prstGeom prst="rect">
            <a:avLst/>
          </a:prstGeom>
          <a:noFill/>
          <a:ln w="0">
            <a:noFill/>
          </a:ln>
        </p:spPr>
        <p:txBody>
          <a:bodyPr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800" spc="-1" strike="noStrike">
                <a:solidFill>
                  <a:schemeClr val="accent1"/>
                </a:solidFill>
                <a:latin typeface="Corbel"/>
              </a:rPr>
              <a:t>Порівняння шляху (</a:t>
            </a:r>
            <a:r>
              <a:rPr b="1" i="1" lang="en-US" sz="3800" spc="-1" strike="noStrike">
                <a:solidFill>
                  <a:schemeClr val="accent1"/>
                </a:solidFill>
                <a:latin typeface="Corbel"/>
              </a:rPr>
              <a:t>l</a:t>
            </a:r>
            <a:r>
              <a:rPr b="1" lang="en-US" sz="3800" spc="-1" strike="noStrike">
                <a:solidFill>
                  <a:schemeClr val="accent1"/>
                </a:solidFill>
                <a:latin typeface="Corbel"/>
              </a:rPr>
              <a:t>)</a:t>
            </a:r>
            <a:r>
              <a:rPr b="1" lang="uk-UA" sz="3800" spc="-1" strike="noStrike">
                <a:solidFill>
                  <a:schemeClr val="accent1"/>
                </a:solidFill>
                <a:latin typeface="Corbel"/>
              </a:rPr>
              <a:t> і переміщення</a:t>
            </a:r>
            <a:r>
              <a:rPr b="1" lang="en-US" sz="3800" spc="-1" strike="noStrike">
                <a:solidFill>
                  <a:schemeClr val="accent1"/>
                </a:solidFill>
                <a:latin typeface="Corbel"/>
              </a:rPr>
              <a:t> (</a:t>
            </a:r>
            <a:r>
              <a:rPr b="1" i="1" lang="en-US" sz="3800" spc="-1" strike="noStrike">
                <a:solidFill>
                  <a:schemeClr val="accent1"/>
                </a:solidFill>
                <a:latin typeface="Corbel"/>
              </a:rPr>
              <a:t>S</a:t>
            </a:r>
            <a:r>
              <a:rPr b="1" lang="en-US" sz="3800" spc="-1" strike="noStrike">
                <a:solidFill>
                  <a:schemeClr val="accent1"/>
                </a:solidFill>
                <a:latin typeface="Corbel"/>
              </a:rPr>
              <a:t>)</a:t>
            </a:r>
            <a:endParaRPr b="0" lang="uk-UA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rcRect l="23125" t="27116" r="18881" b="19114"/>
          <a:stretch/>
        </p:blipFill>
        <p:spPr>
          <a:xfrm>
            <a:off x="467640" y="1131480"/>
            <a:ext cx="8208720" cy="401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Модульная">
  <a:themeElements>
    <a:clrScheme name="Модульная">
      <a:dk1>
        <a:srgbClr val="000000"/>
      </a:dk1>
      <a:lt1>
        <a:srgbClr val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одульная">
  <a:themeElements>
    <a:clrScheme name="Модульная">
      <a:dk1>
        <a:srgbClr val="000000"/>
      </a:dk1>
      <a:lt1>
        <a:srgbClr val="ffffff"/>
      </a:lt1>
      <a:dk2>
        <a:srgbClr val="5a6378"/>
      </a:dk2>
      <a:lt2>
        <a:srgbClr val="d4d4d6"/>
      </a:lt2>
      <a:accent1>
        <a:srgbClr val="f0ad00"/>
      </a:accent1>
      <a:accent2>
        <a:srgbClr val="60b5cc"/>
      </a:accent2>
      <a:accent3>
        <a:srgbClr val="e66c7d"/>
      </a:accent3>
      <a:accent4>
        <a:srgbClr val="6bb76d"/>
      </a:accent4>
      <a:accent5>
        <a:srgbClr val="e88651"/>
      </a:accent5>
      <a:accent6>
        <a:srgbClr val="c64847"/>
      </a:accent6>
      <a:hlink>
        <a:srgbClr val="168bba"/>
      </a:hlink>
      <a:folHlink>
        <a:srgbClr val="68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odule</Template>
  <TotalTime>96</TotalTime>
  <Application>LibreOffice/7.4.7.2$Linux_X86_64 LibreOffice_project/40$Build-2</Application>
  <AppVersion>15.0000</AppVersion>
  <Words>463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6T10:27:28Z</dcterms:created>
  <dc:creator>User</dc:creator>
  <dc:description/>
  <dc:language>en-US</dc:language>
  <cp:lastModifiedBy>User</cp:lastModifiedBy>
  <dcterms:modified xsi:type="dcterms:W3CDTF">2021-09-27T17:25:35Z</dcterms:modified>
  <cp:revision>11</cp:revision>
  <dc:subject/>
  <dc:title>Траєкторія руху. Шлях. Переміщенн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16:9)</vt:lpwstr>
  </property>
  <property fmtid="{D5CDD505-2E9C-101B-9397-08002B2CF9AE}" pid="3" name="Slides">
    <vt:r8>15</vt:r8>
  </property>
</Properties>
</file>