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D45-3ADC-46B6-8C5F-75AA2399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14352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346-5DA0-46C2-8408-BD36DDC4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80B-2D5D-4A1E-ACF7-6E981BF8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EA3-BB03-46F2-8803-829A315B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BD91-7498-41E1-A275-A76524FC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35B5-5887-4AD6-A850-BBD280A6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09C7-0F2F-45F4-82B1-12788253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73D9-EB84-41A0-93E5-E194DEEA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9EC1-77F8-4582-A749-2AEAE3B8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43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8EB4-8028-4F27-83EA-FE8B5FF7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3D14-1F61-4DAA-B170-A7433FA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DA9-7834-41B3-9D21-8FF2DBFF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4CAC-1EC8-4B49-82B7-37CD260D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E99C-A03E-4881-9028-F47A4E3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14352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573E-767C-4B90-8B6B-94958B9F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555C-74D6-49EB-A6C5-12849CC1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E06A-D972-47F9-B983-38EF758C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C72-5EEE-4B5B-9526-9C4881B6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C95-BDDF-473E-9FB8-71252B72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2F8-D3BE-4879-9D00-95AC2233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43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4FD-73B5-4F86-8425-B4D6F64D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E7B-55BD-48A6-BF38-8F3C02CD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C74-165D-4A7B-8BEE-9E749D5E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8E1-1B5D-43E8-93B4-82E86201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6d2"/>
            </a:gs>
            <a:gs pos="100000">
              <a:srgbClr val="353a47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 hidden="1"/>
          <p:cNvSpPr/>
          <p:nvPr/>
        </p:nvSpPr>
        <p:spPr>
          <a:xfrm>
            <a:off x="0" y="1076760"/>
            <a:ext cx="9143640" cy="338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outerShdw algn="tl" blurRad="31680" dir="5400000" dist="10080" rotWithShape="0">
              <a:srgbClr val="000000">
                <a:alpha val="60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Прямоугольник 6" hidden="1"/>
          <p:cNvSpPr/>
          <p:nvPr/>
        </p:nvSpPr>
        <p:spPr>
          <a:xfrm>
            <a:off x="0" y="0"/>
            <a:ext cx="9143640" cy="107496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0" y="0"/>
            <a:ext cx="9143640" cy="385128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516760"/>
            <a:ext cx="8076960" cy="12546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chemeClr val="accent1"/>
                </a:solidFill>
                <a:latin typeface="Corbel"/>
              </a:rPr>
              <a:t>Образец заголовка</a:t>
            </a:r>
            <a:endParaRPr b="0" lang="uk-UA" sz="4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7200" y="4857840"/>
            <a:ext cx="2133360" cy="20556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640600" y="4857840"/>
            <a:ext cx="5507280" cy="20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04400" y="4857840"/>
            <a:ext cx="73368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8A1EBB-8A74-438E-8DEA-4B609E5501D1}" type="slidenum">
              <a:rPr b="0" lang="uk-U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0" y="3846240"/>
            <a:ext cx="9143640" cy="338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outerShdw algn="tl" blurRad="31680" dir="5400000" dist="10080" rotWithShape="0">
              <a:srgbClr val="000000">
                <a:alpha val="60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uk-UA" sz="32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uk-UA" sz="2400" spc="-1" strike="noStrike">
              <a:solidFill>
                <a:srgbClr val="ffffff"/>
              </a:solidFill>
              <a:latin typeface="Corbel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uk-UA" sz="2000" spc="-1" strike="noStrike">
              <a:solidFill>
                <a:srgbClr val="ffffff"/>
              </a:solidFill>
              <a:latin typeface="Corbel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9"/>
          <p:cNvSpPr/>
          <p:nvPr/>
        </p:nvSpPr>
        <p:spPr>
          <a:xfrm>
            <a:off x="0" y="1076760"/>
            <a:ext cx="9143640" cy="338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outerShdw algn="tl" blurRad="31680" dir="5400000" dist="10080" rotWithShape="0">
              <a:srgbClr val="000000">
                <a:alpha val="60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0" y="0"/>
            <a:ext cx="9143640" cy="107496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chemeClr val="accent1"/>
                </a:solidFill>
                <a:latin typeface="Corbel"/>
              </a:rPr>
              <a:t>Образец заголовка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ец текста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lvl="1" marL="731520" indent="-274320">
              <a:lnSpc>
                <a:spcPct val="100000"/>
              </a:lnSpc>
              <a:spcBef>
                <a:spcPts val="561"/>
              </a:spcBef>
              <a:buClr>
                <a:srgbClr val="60b5cc"/>
              </a:buClr>
              <a:buSzPct val="90000"/>
              <a:buFont typeface="Wingdings" charset="2"/>
              <a:buChar char=""/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торой уровень</a:t>
            </a:r>
            <a:endParaRPr b="0" lang="uk-UA" sz="2800" spc="-1" strike="noStrike">
              <a:solidFill>
                <a:srgbClr val="000000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66c7d"/>
              </a:buClr>
              <a:buFont typeface="Arial"/>
              <a:buChar char="▪"/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ретий уровень</a:t>
            </a:r>
            <a:endParaRPr b="0" lang="uk-UA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880">
              <a:lnSpc>
                <a:spcPct val="100000"/>
              </a:lnSpc>
              <a:spcBef>
                <a:spcPts val="400"/>
              </a:spcBef>
              <a:buClr>
                <a:srgbClr val="6bb76d"/>
              </a:buClr>
              <a:buFont typeface="Arial"/>
              <a:buChar char="▪"/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4" marL="1426320" indent="-182880">
              <a:lnSpc>
                <a:spcPct val="100000"/>
              </a:lnSpc>
              <a:spcBef>
                <a:spcPts val="400"/>
              </a:spcBef>
              <a:buClr>
                <a:srgbClr val="e88651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4857840"/>
            <a:ext cx="2133360" cy="20556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45454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45454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40600" y="4857840"/>
            <a:ext cx="5507280" cy="20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400" y="4857840"/>
            <a:ext cx="73368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45454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03316C-44A7-4E60-8388-9E594C4A4408}" type="slidenum">
              <a:rPr b="0" lang="uk-UA" sz="1200" spc="-1" strike="noStrike">
                <a:solidFill>
                  <a:srgbClr val="45454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07480"/>
            <a:ext cx="8076960" cy="20638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700" spc="-1" strike="noStrike">
                <a:solidFill>
                  <a:schemeClr val="accent1"/>
                </a:solidFill>
                <a:latin typeface="Corbel"/>
              </a:rPr>
              <a:t>Траєкторія руху.</a:t>
            </a:r>
            <a:br>
              <a:rPr sz="4700"/>
            </a:br>
            <a:r>
              <a:rPr b="1" lang="uk-UA" sz="4700" spc="-1" strike="noStrike">
                <a:solidFill>
                  <a:schemeClr val="accent1"/>
                </a:solidFill>
                <a:latin typeface="Corbel"/>
              </a:rPr>
              <a:t>Шлях. Переміщення.</a:t>
            </a:r>
            <a:endParaRPr b="0" lang="uk-UA" sz="4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607200"/>
            <a:ext cx="8076960" cy="1124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Фізика 7 к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рок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Дайте відповідь на запита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640" y="1203480"/>
            <a:ext cx="8784720" cy="3939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 fontScale="70000"/>
          </a:bodyPr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Дайте означення траєкторії руху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Дайте означення шляху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Назвіть одиницю шляху в СІ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ому, знаючи тільки шлях, не можна визначити кінцеве положення тіла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Дайте означення переміщення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переміщення позначають на кресленнях? 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У якому випадку модуль  переміщення  дорівнює  подоланому  шляху? 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  залежать траєкторія руху тіла, шлях і переміщення від вибору системи відліку? Наведіть приклади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Розв</a:t>
            </a:r>
            <a:r>
              <a:rPr b="1" lang="en-US" sz="4500" spc="-1" strike="noStrike">
                <a:solidFill>
                  <a:schemeClr val="accent1"/>
                </a:solidFill>
                <a:latin typeface="Corbel"/>
              </a:rPr>
              <a:t>’</a:t>
            </a: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язування задач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640" y="1331280"/>
            <a:ext cx="871272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Гелікоптер  піднімається  вертикально  вгору. Зобразіть  траєкторію  руху точок А і В, розташованих на лопатях гвинта гелікоптера: 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81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а)  відносно  пілота; 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81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б)  відносно Землі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364000" y="2927160"/>
            <a:ext cx="2782440" cy="2216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Розв</a:t>
            </a:r>
            <a:r>
              <a:rPr b="1" lang="en-US" sz="4500" spc="-1" strike="noStrike">
                <a:solidFill>
                  <a:schemeClr val="accent1"/>
                </a:solidFill>
                <a:latin typeface="Corbel"/>
              </a:rPr>
              <a:t>’</a:t>
            </a: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язок: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18040" y="1131480"/>
            <a:ext cx="8170560" cy="3801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Розв’язування задач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640" y="1275480"/>
            <a:ext cx="4680000" cy="3867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 fontScale="54000"/>
          </a:bodyPr>
          <a:p>
            <a:pPr marL="379080" indent="-2761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У початковий момент часу тіло перебувало в точці А з координатами х</a:t>
            </a:r>
            <a:r>
              <a:rPr b="0" i="1" lang="uk-UA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= 4 м, у</a:t>
            </a:r>
            <a:r>
              <a:rPr b="0" i="1" lang="uk-UA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= –3 м. Через певний інтервал часу тіло перемістилося в точку B з координатами х = – 4 м, у = 3 м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379080" indent="-2761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Накресліть у зошиті систему координат, зазначте точки А і B, зобразіть вектор переміщення та визначте його модуль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379080" indent="-2761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 можна, використавши дані задачі, визначити шлях, подоланий тілом?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766760" y="1131480"/>
            <a:ext cx="4376880" cy="401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Розв’язування задач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тоцикліст,  рухаючись  ареною  цирку,  проїжджає  коло  радіуса 13 м за 8 с. Визначте шлях і модуль переміщення мотоцикліста: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) за 4 с руху;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б) за 8 с руху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7" name="Picture 2" descr="Рок на байке - МК Владивосток"/>
          <p:cNvPicPr/>
          <p:nvPr/>
        </p:nvPicPr>
        <p:blipFill>
          <a:blip r:embed="rId1"/>
          <a:stretch/>
        </p:blipFill>
        <p:spPr>
          <a:xfrm>
            <a:off x="4644000" y="3047040"/>
            <a:ext cx="3096000" cy="2096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Домашнє завда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вчити: § 7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пр. 7 (1) – усно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пр. 7 (3) – письмово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Перевірка домашнього завда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31480"/>
            <a:ext cx="8229240" cy="401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 fontScale="87000"/>
          </a:bodyPr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Дайте означення механічного руху. Наведіть приклади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Що таке тіло відліку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Як задають систему координат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Які об’єкти утворюють систему відліку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У яких випадках тіло, що рухається, можна розглядати як матеріальну точку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Як ви розумієте вираз «механічний рух є відносним»?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Перевірка домашнього завда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640" y="1131480"/>
            <a:ext cx="5040360" cy="3744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1" i="1" lang="uk-UA" sz="2800" spc="-1" strike="noStrike">
                <a:solidFill>
                  <a:srgbClr val="000000"/>
                </a:solidFill>
                <a:latin typeface="Corbel"/>
              </a:rPr>
              <a:t>Чи можна вважати космічний корабель матеріальною точкою, коли він:  </a:t>
            </a:r>
            <a:endParaRPr b="0" lang="uk-UA" sz="2800" spc="-1" strike="noStrike">
              <a:solidFill>
                <a:srgbClr val="000000"/>
              </a:solidFill>
              <a:latin typeface="Corbel"/>
            </a:endParaRPr>
          </a:p>
          <a:p>
            <a:pPr lvl="1" marL="731520" indent="-274320">
              <a:lnSpc>
                <a:spcPct val="100000"/>
              </a:lnSpc>
              <a:spcBef>
                <a:spcPts val="479"/>
              </a:spcBef>
              <a:buClr>
                <a:srgbClr val="60b5cc"/>
              </a:buClr>
              <a:buSzPct val="90000"/>
              <a:buFont typeface="Wingdings" charset="2"/>
              <a:buChar char=""/>
            </a:pPr>
            <a:r>
              <a:rPr b="0" i="1" lang="uk-UA" sz="2400" spc="-1" strike="noStrike">
                <a:solidFill>
                  <a:srgbClr val="000000"/>
                </a:solidFill>
                <a:latin typeface="Corbel"/>
              </a:rPr>
              <a:t>здійснює  переліт  Земля  —  Марс?  </a:t>
            </a:r>
            <a:endParaRPr b="0" lang="uk-UA" sz="2400" spc="-1" strike="noStrike">
              <a:solidFill>
                <a:srgbClr val="000000"/>
              </a:solidFill>
              <a:latin typeface="Corbel"/>
            </a:endParaRPr>
          </a:p>
          <a:p>
            <a:pPr lvl="1" marL="731520" indent="-274320">
              <a:lnSpc>
                <a:spcPct val="100000"/>
              </a:lnSpc>
              <a:spcBef>
                <a:spcPts val="479"/>
              </a:spcBef>
              <a:buClr>
                <a:srgbClr val="60b5cc"/>
              </a:buClr>
              <a:buSzPct val="90000"/>
              <a:buFont typeface="Wingdings" charset="2"/>
              <a:buChar char=""/>
            </a:pPr>
            <a:r>
              <a:rPr b="0" i="1" lang="uk-UA" sz="2400" spc="-1" strike="noStrike">
                <a:solidFill>
                  <a:srgbClr val="000000"/>
                </a:solidFill>
                <a:latin typeface="Corbel"/>
              </a:rPr>
              <a:t>здійснює  посадку  на поверхню Марса?</a:t>
            </a:r>
            <a:endParaRPr b="0" lang="uk-UA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4" name="Picture 2" descr="Марсохід Perseverance сів на Марс | Новини - актуальні повідомлення про  події в світі | DW | 18.02.2021"/>
          <p:cNvPicPr/>
          <p:nvPr/>
        </p:nvPicPr>
        <p:blipFill>
          <a:blip r:embed="rId1">
            <a:lum contrast="10000"/>
          </a:blip>
          <a:srcRect l="24201" t="0" r="22006" b="0"/>
          <a:stretch/>
        </p:blipFill>
        <p:spPr>
          <a:xfrm>
            <a:off x="5310360" y="1131480"/>
            <a:ext cx="38332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Траєкторія руху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7640" y="11314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1" lang="uk-UA" sz="3200" spc="-1" strike="noStrike">
                <a:solidFill>
                  <a:srgbClr val="ff0000"/>
                </a:solidFill>
                <a:latin typeface="Corbel"/>
              </a:rPr>
              <a:t>Траєкторія  руху </a:t>
            </a:r>
            <a:r>
              <a:rPr b="1" lang="uk-UA" sz="3200" spc="-1" strike="noStrike">
                <a:solidFill>
                  <a:srgbClr val="002060"/>
                </a:solidFill>
                <a:latin typeface="Corbel"/>
              </a:rPr>
              <a:t>— це уявна лінія, яку описує в просторі точка, що рухається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71640" y="2354040"/>
            <a:ext cx="3600000" cy="278892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0" t="14497" r="0" b="0"/>
          <a:stretch/>
        </p:blipFill>
        <p:spPr>
          <a:xfrm>
            <a:off x="4860000" y="2211840"/>
            <a:ext cx="3447720" cy="293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Види траєкторії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5640" y="1131480"/>
            <a:ext cx="8424720" cy="3970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51480"/>
            <a:ext cx="864072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000" spc="-1" strike="noStrike">
                <a:solidFill>
                  <a:schemeClr val="accent1"/>
                </a:solidFill>
                <a:latin typeface="Corbel"/>
              </a:rPr>
              <a:t>Залежність траєкторії від вибору системи відліку</a:t>
            </a:r>
            <a:endParaRPr b="0" lang="uk-UA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3640" y="1203480"/>
            <a:ext cx="4392000" cy="381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 fontScale="87000"/>
          </a:bodyPr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Траєкторія руху яблука для пасажирів автобуса — короткий відрізок прямої (на схемі — </a:t>
            </a:r>
            <a:r>
              <a:rPr b="0" i="1" lang="uk-UA" sz="3200" spc="-1" strike="noStrike">
                <a:solidFill>
                  <a:srgbClr val="00b050"/>
                </a:solidFill>
                <a:latin typeface="Corbel"/>
              </a:rPr>
              <a:t>лінія 1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), для людини на узбіччі дороги — крива лінія (на схемі — </a:t>
            </a:r>
            <a:r>
              <a:rPr b="0" i="1" lang="uk-UA" sz="3200" spc="-1" strike="noStrike">
                <a:solidFill>
                  <a:srgbClr val="ff0000"/>
                </a:solidFill>
                <a:latin typeface="Corbel"/>
              </a:rPr>
              <a:t>лінія 2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0" b="27912"/>
          <a:stretch/>
        </p:blipFill>
        <p:spPr>
          <a:xfrm>
            <a:off x="5652000" y="1059480"/>
            <a:ext cx="3491640" cy="4083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Шлях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640" y="1131480"/>
            <a:ext cx="8784720" cy="1456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1" lang="uk-UA" sz="3600" spc="-1" strike="noStrike">
                <a:solidFill>
                  <a:srgbClr val="ff0000"/>
                </a:solidFill>
                <a:latin typeface="Corbel"/>
              </a:rPr>
              <a:t>Шлях</a:t>
            </a: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 — це фізична величина, яка дорівнює довжині траєкторії.</a:t>
            </a:r>
            <a:endParaRPr b="0" lang="uk-UA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724000" y="2335320"/>
            <a:ext cx="3011400" cy="2808000"/>
          </a:xfrm>
          <a:prstGeom prst="rect">
            <a:avLst/>
          </a:prstGeom>
          <a:ln w="9525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611640" y="2283840"/>
            <a:ext cx="48963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Шлях позначають символом 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диниця шляху в СІ — мет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>
            <a:lum contrast="20000"/>
          </a:blip>
          <a:srcRect l="10824" t="57672" r="56170" b="20374"/>
          <a:stretch/>
        </p:blipFill>
        <p:spPr>
          <a:xfrm>
            <a:off x="1043640" y="3703320"/>
            <a:ext cx="3851640" cy="1439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Переміще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640" y="1131480"/>
            <a:ext cx="8229240" cy="1728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1" lang="uk-UA" sz="3200" spc="-1" strike="noStrike">
                <a:solidFill>
                  <a:srgbClr val="002060"/>
                </a:solidFill>
                <a:latin typeface="Corbel"/>
              </a:rPr>
              <a:t>Напрямлений відрізок прямої, який з’єднує початкове та кінцеве положення тіла, називають </a:t>
            </a:r>
            <a:r>
              <a:rPr b="1" lang="uk-UA" sz="3200" spc="-1" strike="noStrike">
                <a:solidFill>
                  <a:srgbClr val="ff0000"/>
                </a:solidFill>
                <a:latin typeface="Corbel"/>
              </a:rPr>
              <a:t>переміщенням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61369" t="36201" r="12714" b="42938"/>
          <a:stretch/>
        </p:blipFill>
        <p:spPr>
          <a:xfrm>
            <a:off x="4189320" y="2787840"/>
            <a:ext cx="4775040" cy="2160000"/>
          </a:xfrm>
          <a:prstGeom prst="rect">
            <a:avLst/>
          </a:prstGeom>
          <a:ln w="9525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179640" y="2859840"/>
            <a:ext cx="3960000" cy="25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Переміщення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 показує, в якому напрямку та на яку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відстань перемістилося тіло  за певний інтервал ча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[ </a:t>
            </a: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 ] = </a:t>
            </a: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640" y="123480"/>
            <a:ext cx="878472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800" spc="-1" strike="noStrike">
                <a:solidFill>
                  <a:schemeClr val="accent1"/>
                </a:solidFill>
                <a:latin typeface="Corbel"/>
              </a:rPr>
              <a:t>Порівняння шляху (</a:t>
            </a:r>
            <a:r>
              <a:rPr b="1" i="1" lang="en-US" sz="3800" spc="-1" strike="noStrike">
                <a:solidFill>
                  <a:schemeClr val="accent1"/>
                </a:solidFill>
                <a:latin typeface="Corbel"/>
              </a:rPr>
              <a:t>l</a:t>
            </a:r>
            <a:r>
              <a:rPr b="1" lang="en-US" sz="3800" spc="-1" strike="noStrike">
                <a:solidFill>
                  <a:schemeClr val="accent1"/>
                </a:solidFill>
                <a:latin typeface="Corbel"/>
              </a:rPr>
              <a:t>)</a:t>
            </a:r>
            <a:r>
              <a:rPr b="1" lang="uk-UA" sz="3800" spc="-1" strike="noStrike">
                <a:solidFill>
                  <a:schemeClr val="accent1"/>
                </a:solidFill>
                <a:latin typeface="Corbel"/>
              </a:rPr>
              <a:t> і переміщення</a:t>
            </a:r>
            <a:r>
              <a:rPr b="1" lang="en-US" sz="3800" spc="-1" strike="noStrike">
                <a:solidFill>
                  <a:schemeClr val="accent1"/>
                </a:solidFill>
                <a:latin typeface="Corbel"/>
              </a:rPr>
              <a:t> (</a:t>
            </a:r>
            <a:r>
              <a:rPr b="1" i="1" lang="en-US" sz="3800" spc="-1" strike="noStrike">
                <a:solidFill>
                  <a:schemeClr val="accent1"/>
                </a:solidFill>
                <a:latin typeface="Corbel"/>
              </a:rPr>
              <a:t>S</a:t>
            </a:r>
            <a:r>
              <a:rPr b="1" lang="en-US" sz="3800" spc="-1" strike="noStrike">
                <a:solidFill>
                  <a:schemeClr val="accent1"/>
                </a:solidFill>
                <a:latin typeface="Corbel"/>
              </a:rPr>
              <a:t>)</a:t>
            </a:r>
            <a:endParaRPr b="0" lang="uk-UA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rcRect l="23125" t="27116" r="18881" b="19114"/>
          <a:stretch/>
        </p:blipFill>
        <p:spPr>
          <a:xfrm>
            <a:off x="467640" y="1131480"/>
            <a:ext cx="8208720" cy="401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Модульная">
  <a:themeElements>
    <a:clrScheme name="Модульная">
      <a:dk1>
        <a:srgbClr val="000000"/>
      </a:dk1>
      <a:lt1>
        <a:srgbClr val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одульная">
  <a:themeElements>
    <a:clrScheme name="Модульная">
      <a:dk1>
        <a:srgbClr val="000000"/>
      </a:dk1>
      <a:lt1>
        <a:srgbClr val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odule</Template>
  <TotalTime>96</TotalTime>
  <Application>LibreOffice/7.4.7.2$Linux_X86_64 LibreOffice_project/40$Build-2</Application>
  <AppVersion>15.0000</AppVersion>
  <Words>463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6T10:27:28Z</dcterms:created>
  <dc:creator>User</dc:creator>
  <dc:description/>
  <dc:language>en-US</dc:language>
  <cp:lastModifiedBy>User</cp:lastModifiedBy>
  <dcterms:modified xsi:type="dcterms:W3CDTF">2021-09-27T17:25:35Z</dcterms:modified>
  <cp:revision>11</cp:revision>
  <dc:subject/>
  <dc:title>Траєкторія руху. Шлях. Переміщенн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16:9)</vt:lpwstr>
  </property>
  <property fmtid="{D5CDD505-2E9C-101B-9397-08002B2CF9AE}" pid="3" name="Slides">
    <vt:r8>15</vt:r8>
  </property>
</Properties>
</file>