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2C92-222B-4B22-9256-81067060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6876-8EFB-4863-B89E-E3D903B4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3F30-5625-4A0F-A644-5310FCDE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2B18-6D44-49A6-93D6-46C962A7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8FC7-1936-434D-A847-6FD877D9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0DCA-F69F-4E98-9FF9-2D8C8F21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0586-C2F5-44E5-B405-EFC3E84B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103F-8C24-40D5-90F2-3E4906A3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45B7-9CF3-4E6F-8466-140D5EBE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3BCA-F92F-4555-A985-35086093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69DF-43C2-4E5C-A21F-E40AFEB7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0F46-00F2-4B72-B0E9-CD70FDE6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7FCF-546F-486B-9EEB-63CC1EA4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3FB4-D323-4E8C-9F60-F841CAAF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E614-A4A9-4026-9438-ABB31801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DF26-526B-4DA6-96F2-0EA63C17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49B6-4FCF-4E38-AFA2-C1DEA4B9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CBAC7-8136-4A64-9DD9-9282EE0D7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527DC-5758-4708-86F7-488F5D55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DB7A7-41D5-473C-89D0-298B3287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EA779-855F-4F53-AEA8-9A376AD0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DF674-B45A-4EBF-BF1E-F8D16EAF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4FF9-D2F3-4B70-B522-E51AB473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2EA14-16E0-486B-A7E1-8B4EAB15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984FF-0C07-4C67-B4B1-8D16A097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DD8DE-D12A-482C-9FCA-157F0248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B09D2-8FD1-47A1-B85D-ED3F35DB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1B44B-91F4-4AED-8AC7-A41A4DD0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842F7-9D92-4570-A223-FA61EA0C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2C919-4C9D-4C1C-A702-EA4B4812E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EE90-1FDF-4CA2-BBDD-DCBE2A16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5169-5456-4559-A444-40A22CC9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F2C3-FB01-42FC-BCA3-B097F9F9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09A6-6DA3-4DE1-8F39-015A076F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C1E3-360C-40BE-8192-BE58CF23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E32C-8AD6-42CF-8529-2DEF076E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AD1C-3337-48EB-BD67-C2E7517A9CB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866E-67D1-4533-A86C-406631DF3A2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3D52-D7F6-40CC-B6B9-8AB15CCC9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Коррозия металлов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зентация по хим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ля 9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ррозия на контакте двух метал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/C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 -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ē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у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мед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ē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2920" y="1628280"/>
            <a:ext cx="3529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n/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n -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ē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уше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желез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Н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ē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24360" y="170028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3860640"/>
            <a:ext cx="31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00720" y="393372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Защита от корроз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щитное покрытие ( лак, масло, краска, покрытие некорродирующим металлом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, Sn, Z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ржавеющие ста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гибиторы корроз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текторная защи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0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щитное покры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2229120" cy="24098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796000" y="1700280"/>
            <a:ext cx="2442960" cy="1873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132000" y="3860640"/>
            <a:ext cx="316728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443640" y="3500280"/>
            <a:ext cx="2381400" cy="3191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924360" y="1413000"/>
            <a:ext cx="3384360" cy="1774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116000" y="33336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ржавеющая ста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3924360" y="4221000"/>
            <a:ext cx="1441440" cy="12938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468360" y="2060640"/>
            <a:ext cx="2879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отекторная защит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462924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опрос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373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такое корроз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ие виды коррозии существуют? Дайте опреде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чему не корродируют чистые металл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ой металл будет разрушаться при контакте во влажной среде: меди и цинка, алюминия и магния? Почем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зовите основные способы защиты от корроз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71640" y="549360"/>
            <a:ext cx="75610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омашнее задание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, выучить определения, упр.4,6 стр.51(устно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87280" y="692280"/>
            <a:ext cx="6769440" cy="60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1803"/>
                </a:solidFill>
                <a:latin typeface="Tahoma"/>
              </a:rPr>
              <a:t>Спасибо за работу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1803"/>
                </a:solidFill>
                <a:latin typeface="Tahoma"/>
              </a:rPr>
              <a:t>Молодцы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843280" y="2924280"/>
            <a:ext cx="3581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оррозия –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т лат.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rrodere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-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разъедать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03280" y="2205000"/>
            <a:ext cx="2808360" cy="3809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435640" y="2133720"/>
            <a:ext cx="2881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4360" y="981000"/>
            <a:ext cx="3311280" cy="42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Ежегодн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1/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сего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изведен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e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еряется из-за корроз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067280" y="1916280"/>
            <a:ext cx="43686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611280" y="549360"/>
            <a:ext cx="7597080" cy="5484600"/>
            <a:chOff x="611280" y="549360"/>
            <a:chExt cx="7597080" cy="5484600"/>
          </a:xfrm>
        </p:grpSpPr>
        <p:cxnSp>
          <p:nvCxnSpPr>
            <p:cNvPr id="137" name="_s37902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4883760" y="2268360"/>
              <a:ext cx="1097640" cy="2045520"/>
            </a:xfrm>
            <a:prstGeom prst="bentConnector3">
              <a:avLst>
                <a:gd name="adj1" fmla="val 127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0" name="_s37900"/>
            <p:cNvCxnSpPr>
              <a:stCxn id="141" idx="0"/>
              <a:endCxn id="139" idx="2"/>
            </p:cNvCxnSpPr>
            <p:nvPr/>
          </p:nvCxnSpPr>
          <p:spPr>
            <a:xfrm flipH="1" flipV="1" rot="5400000">
              <a:off x="2838600" y="2268360"/>
              <a:ext cx="1097640" cy="2046240"/>
            </a:xfrm>
            <a:prstGeom prst="bentConnector3">
              <a:avLst>
                <a:gd name="adj1" fmla="val 127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39" name="_s37896"/>
            <p:cNvSpPr/>
            <p:nvPr/>
          </p:nvSpPr>
          <p:spPr>
            <a:xfrm>
              <a:off x="2656800" y="549360"/>
              <a:ext cx="3506400" cy="219384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Виды коррозии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37897"/>
            <p:cNvSpPr/>
            <p:nvPr/>
          </p:nvSpPr>
          <p:spPr>
            <a:xfrm>
              <a:off x="611280" y="3840120"/>
              <a:ext cx="3506400" cy="219384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 u="sng">
                  <a:solidFill>
                    <a:srgbClr val="ffffff"/>
                  </a:solidFill>
                  <a:uFillTx/>
                  <a:latin typeface="Tahoma"/>
                </a:rPr>
                <a:t>Химическая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Под действием сухих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газов  </a:t>
              </a:r>
              <a:r>
                <a:rPr b="0" lang="ru-RU" sz="3000" spc="-1" strike="noStrike">
                  <a:solidFill>
                    <a:srgbClr val="ffffff"/>
                  </a:solidFill>
                  <a:latin typeface="Tahoma"/>
                </a:rPr>
                <a:t>С</a:t>
              </a:r>
              <a:r>
                <a:rPr b="0" lang="en-US" sz="30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2, </a:t>
              </a: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O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2, </a:t>
              </a: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SO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ru-RU" sz="1800" spc="-1" strike="noStrike">
                  <a:solidFill>
                    <a:srgbClr val="ffffff"/>
                  </a:solidFill>
                  <a:latin typeface="Tahoma"/>
                </a:rPr>
                <a:t>,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неэлектролитов 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_s37899"/>
            <p:cNvSpPr/>
            <p:nvPr/>
          </p:nvSpPr>
          <p:spPr>
            <a:xfrm>
              <a:off x="4701960" y="3840120"/>
              <a:ext cx="3506400" cy="219384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 u="sng">
                  <a:solidFill>
                    <a:srgbClr val="ffffff"/>
                  </a:solidFill>
                  <a:uFillTx/>
                  <a:latin typeface="Tahoma"/>
                </a:rPr>
                <a:t>Электрохимическая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на контакте Ме, </a:t>
              </a: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ahoma"/>
                </a:rPr>
                <a:t>H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Tahoma"/>
                </a:rPr>
                <a:t>2</a:t>
              </a: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Tahoma"/>
                </a:rPr>
                <a:t>O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-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гальванический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элемен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4360" y="692280"/>
            <a:ext cx="424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Химически чистое железо не ржавеет, т.к. не содержит примесе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724360" y="476280"/>
            <a:ext cx="2260800" cy="4781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284720" y="5734080"/>
            <a:ext cx="44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ндия, Новый Дели, Железный столб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 в н.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26920" y="476280"/>
            <a:ext cx="75614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римеры химической коррози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Fe  +  O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Fe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Fe +   Cl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FeCl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uO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медленно)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uS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расн.    черный                 зеле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00000" y="620640"/>
            <a:ext cx="37432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813 г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Гемфри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ев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ткры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лектрохимическую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ррозию металлов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003640" y="1197000"/>
            <a:ext cx="28400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42920" y="620640"/>
            <a:ext cx="734544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лектрохимическая коррозия желе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e + 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+ 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Fe(OH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213372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авить электронный баланс,указать окислитель и восстановитель, расставить коэффицие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67932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3:36:57Z</dcterms:created>
  <dc:creator>User</dc:creator>
  <dc:description/>
  <dc:language>en-US</dc:language>
  <cp:lastModifiedBy>Customer</cp:lastModifiedBy>
  <dcterms:modified xsi:type="dcterms:W3CDTF">2008-04-09T13:24:16Z</dcterms:modified>
  <cp:revision>6</cp:revision>
  <dc:subject/>
  <dc:title>Коррозия металлов</dc:title>
</cp:coreProperties>
</file>