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236-8A36-410E-B1AF-C90E8082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76A-D24B-472F-AB7D-04CB745B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C1F-45EC-46BC-ABE5-47979219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BC2-9111-4BDD-996D-0BFCD749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052F-B5C3-4142-912B-6A86C572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6CA2-3214-4706-A898-A19C61F7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35B7-6562-4E43-81FA-560B32D5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08E0-C42B-44FE-ACA8-678BC58B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B593-77D3-4DC5-A1B7-07EDD14D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96F6-9B08-4337-89AD-A25F8859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C7BA-4498-4A45-AA95-EE6BBA90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CD4-76C5-49DE-89F6-6B312840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CBAE-24C6-4B87-A9F4-3BE4591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102C-70E7-43BF-9BBB-5CAF1DE0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2F6F-8CF1-4FAA-8725-5B77416A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D6ED-6003-4079-974D-626F414D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59FE-7E84-49F2-8B5F-23E9DD9D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3A22-7E55-42FE-B521-EDC4F816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1AABA-BD49-4C41-A6AB-F738CBCD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7EF63-46B7-4A78-B11B-C9B4453B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3895-9CDF-47C1-90B2-DD9BC996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5EAD-A317-4FAA-B0F0-55508086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EC7-0FB7-4AF1-BB59-2936C149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BB56A-B433-4839-B961-FAF6EED1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75C2-FD32-4BE2-B4D3-F7E75023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63553-9CDB-49F2-8B74-4C1BFAD6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4BFD1-3558-40C8-AA3E-A4CE9603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5F052-80B4-4D9E-AC48-FF4A5791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7E97D-E185-4649-8BEF-F93141EB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2670A-DC44-454B-9A22-B7167F49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1A4-CC5B-402A-80BB-0DF8FB8A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480-1863-4A36-8593-463D0E4F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728-DF4E-4A69-9E76-D976B705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655-D3DC-4735-89D2-1D300A30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939-DD02-4EE8-9830-E13B6D3B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CAE-7B41-44E3-954C-62324395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6361-3D91-4101-A364-8FEF89CFC79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BEFA-D2D6-4461-A218-5EF71BCDD4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BCAD-4C01-4C9E-AB2B-092B6E44E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Коррозия металлов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 по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9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ррозия на контакте двух мет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/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 -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ме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2920" y="1628280"/>
            <a:ext cx="3529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/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n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уш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желез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386064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3933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щита от корроз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тное покрытие ( лак, масло, краска, покрытие некорродирующим металлом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, Sn, Z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ржавеющие ста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гибиторы корроз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екторная защ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0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щитное покр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229120" cy="2409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2442960" cy="1873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132000" y="3860640"/>
            <a:ext cx="316728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381400" cy="3191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3384360" cy="1774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16000" y="333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ржавеющая ст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924360" y="4221000"/>
            <a:ext cx="1441440" cy="1293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68360" y="2060640"/>
            <a:ext cx="287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текторная защи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62924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опро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373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корроз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виды коррозии существуют? Дайте опред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не корродируют чистые металл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й металл будет разрушаться при контакте во влажной среде: меди и цинка, алюминия и магния? 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основные способы защиты от корро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71640" y="549360"/>
            <a:ext cx="7561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машнее задани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, выучить определения, упр.4,6 стр.51(устно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87280" y="692280"/>
            <a:ext cx="676944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1803"/>
                </a:solidFill>
                <a:latin typeface="Tahoma"/>
              </a:rPr>
              <a:t>Спасибо за работу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1803"/>
                </a:solidFill>
                <a:latin typeface="Tahoma"/>
              </a:rPr>
              <a:t>Молод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43280" y="2924280"/>
            <a:ext cx="3581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ррозия –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лат.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rrodere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разъедат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2808360" cy="380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2881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981000"/>
            <a:ext cx="331128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Ежегодн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сего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извед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ряется из-за корро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067280" y="1916280"/>
            <a:ext cx="4368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611280" y="549360"/>
            <a:ext cx="7597080" cy="5484600"/>
            <a:chOff x="611280" y="549360"/>
            <a:chExt cx="7597080" cy="5484600"/>
          </a:xfrm>
        </p:grpSpPr>
        <p:cxnSp>
          <p:nvCxnSpPr>
            <p:cNvPr id="137" name="_s37902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4883760" y="2268360"/>
              <a:ext cx="1097640" cy="204552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37900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2838600" y="2268360"/>
              <a:ext cx="1097640" cy="204624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9" name="_s37896"/>
            <p:cNvSpPr/>
            <p:nvPr/>
          </p:nvSpPr>
          <p:spPr>
            <a:xfrm>
              <a:off x="2656800" y="54936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Виды коррози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37897"/>
            <p:cNvSpPr/>
            <p:nvPr/>
          </p:nvSpPr>
          <p:spPr>
            <a:xfrm>
              <a:off x="611280" y="384012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 u="sng">
                  <a:solidFill>
                    <a:srgbClr val="ffffff"/>
                  </a:solidFill>
                  <a:uFillTx/>
                  <a:latin typeface="Tahoma"/>
                </a:rPr>
                <a:t>Химическа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од действием сухих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газов  </a:t>
              </a:r>
              <a:r>
                <a:rPr b="0" lang="ru-RU" sz="30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,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O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,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SO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неэлектролитов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37899"/>
            <p:cNvSpPr/>
            <p:nvPr/>
          </p:nvSpPr>
          <p:spPr>
            <a:xfrm>
              <a:off x="4701960" y="384012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 u="sng">
                  <a:solidFill>
                    <a:srgbClr val="ffffff"/>
                  </a:solidFill>
                  <a:uFillTx/>
                  <a:latin typeface="Tahoma"/>
                </a:rPr>
                <a:t>Электрохимическая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на контакте Ме, 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H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Tahoma"/>
                </a:rPr>
                <a:t>2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O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гальванически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элемен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69228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Химически чистое железо не ржавеет, т.к. не содержит примес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24360" y="476280"/>
            <a:ext cx="2260800" cy="4781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284720" y="573408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дия, Новый Дели, Железный стол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в н.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26920" y="476280"/>
            <a:ext cx="756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меры химической корроз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e  +  O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Fe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e +   Cl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FeCl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uO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едленно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uS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асн.    черный                 зеле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00000" y="620640"/>
            <a:ext cx="3743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813 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емфри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в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кры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ктрохимическую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ррозию металл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03640" y="1197000"/>
            <a:ext cx="2840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42920" y="620640"/>
            <a:ext cx="734544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химическая коррозия жел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e + 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e(OH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2133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ить электронный баланс,указать окислитель и восстановитель, расставить коэффици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793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3:36:57Z</dcterms:created>
  <dc:creator>User</dc:creator>
  <dc:description/>
  <dc:language>en-US</dc:language>
  <cp:lastModifiedBy>Customer</cp:lastModifiedBy>
  <dcterms:modified xsi:type="dcterms:W3CDTF">2008-04-09T13:24:16Z</dcterms:modified>
  <cp:revision>6</cp:revision>
  <dc:subject/>
  <dc:title>Коррозия металлов</dc:title>
</cp:coreProperties>
</file>