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78B-5276-40DD-8BEF-6221549C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0F6-8493-494C-AFE9-0895C6A6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73B-64DF-4797-832F-5A5072E6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87F-624D-4C7D-AEFC-FE2F2A69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FC10-D4D9-445D-9C9E-590BAAFB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638B-FD93-4898-8931-C5005DB1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D60A-D5B9-4570-A772-6B512D9E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24E1-23E8-4827-8DD2-BAC34186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88FE-42C7-4C21-B4D5-12D5A0F0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ED81-5A10-4269-B5CC-EF6A8236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DCF3-801B-45BA-A97D-657D24E9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35B9-95A3-4D42-87C4-C195E861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5751-0C82-427B-AB8D-76B149D8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EE6B-C129-41DC-A258-1FECC1A8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9EF8-CD1D-48BF-9628-464321B0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1BE4-B36A-479A-BD0C-2445514B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E50F-E2BB-4E60-914F-99CEE724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F829-F397-43B2-9A3E-39783BE7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1A645-8202-4601-8189-F9E75B13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D112-8FFC-4456-B6AE-41A4E7B9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971FE-31CF-492A-BC48-7DEA88C3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3FCB5-F3D2-417C-9F55-C16B409A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A58-EBCE-454A-B820-851192A1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AA2BB-3450-4C1F-826E-C41237BD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A6078-97B2-4CDA-97A7-346FEF4C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DBB8C-9F71-4DF2-8B80-02A2AA33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DF3A-FE74-488B-B091-67934C30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0DBE2-46B2-42F6-8CD1-131BCC4D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06F4F-C408-4AE8-9F4A-9A3D57FE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D41AC-E92E-4722-9BE6-F3374415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A0C-3893-40D8-9C4C-12229826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A41-C69F-4EB9-8A02-E895FF59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C68-94C7-49A4-97D5-894CD481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F36-9AD3-41EF-9150-A6CBE3B9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38A-0F2A-4D7C-B2D2-30432D3B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81E9-16ED-47A5-A480-DCD57E8C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E653-1398-4359-96AB-411DFA5186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B9C9-930B-4B11-9A3E-3C33074C39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2D44-2933-4B29-8812-77DF68928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Коррозия металлов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ентация по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9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ррозия на контакте двух мет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/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 -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ē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мед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2920" y="1628280"/>
            <a:ext cx="3529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/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n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ē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уш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желез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170028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386064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3933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щита от корроз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тное покрытие ( лак, масло, краска, покрытие некорродирующим металлом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, Sn, Z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ржавеющие ста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гибиторы корроз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екторная защ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0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щитное покр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229120" cy="2409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2442960" cy="1873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132000" y="3860640"/>
            <a:ext cx="316728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381400" cy="3191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3384360" cy="1774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16000" y="3333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ржавеющая ста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924360" y="4221000"/>
            <a:ext cx="1441440" cy="1293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68360" y="2060640"/>
            <a:ext cx="2879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текторная защи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62924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опро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373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корроз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е виды коррозии существуют? Дайте опред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не корродируют чистые металл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й металл будет разрушаться при контакте во влажной среде: меди и цинка, алюминия и магния? 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основные способы защиты от корро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71640" y="549360"/>
            <a:ext cx="7561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машнее задание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, выучить определения, упр.4,6 стр.51(устно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87280" y="692280"/>
            <a:ext cx="676944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1803"/>
                </a:solidFill>
                <a:latin typeface="Tahoma"/>
              </a:rPr>
              <a:t>Спасибо за работу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1803"/>
                </a:solidFill>
                <a:latin typeface="Tahoma"/>
              </a:rPr>
              <a:t>Молодцы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843280" y="2924280"/>
            <a:ext cx="3581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ррозия –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лат.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rrodere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разъедат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2808360" cy="3809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435640" y="2133720"/>
            <a:ext cx="2881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981000"/>
            <a:ext cx="331128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Ежегодн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/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сего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извед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ряется из-за корро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067280" y="1916280"/>
            <a:ext cx="4368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611280" y="549360"/>
            <a:ext cx="7597080" cy="5484600"/>
            <a:chOff x="611280" y="549360"/>
            <a:chExt cx="7597080" cy="5484600"/>
          </a:xfrm>
        </p:grpSpPr>
        <p:cxnSp>
          <p:nvCxnSpPr>
            <p:cNvPr id="137" name="_s37902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4883760" y="2268360"/>
              <a:ext cx="1097640" cy="204552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37900"/>
            <p:cNvCxnSpPr>
              <a:stCxn id="141" idx="0"/>
              <a:endCxn id="139" idx="2"/>
            </p:cNvCxnSpPr>
            <p:nvPr/>
          </p:nvCxnSpPr>
          <p:spPr>
            <a:xfrm flipH="1" flipV="1" rot="5400000">
              <a:off x="2838600" y="2268360"/>
              <a:ext cx="1097640" cy="204624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9" name="_s37896"/>
            <p:cNvSpPr/>
            <p:nvPr/>
          </p:nvSpPr>
          <p:spPr>
            <a:xfrm>
              <a:off x="2656800" y="54936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Виды коррози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37897"/>
            <p:cNvSpPr/>
            <p:nvPr/>
          </p:nvSpPr>
          <p:spPr>
            <a:xfrm>
              <a:off x="611280" y="384012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 u="sng">
                  <a:solidFill>
                    <a:srgbClr val="ffffff"/>
                  </a:solidFill>
                  <a:uFillTx/>
                  <a:latin typeface="Tahoma"/>
                </a:rPr>
                <a:t>Химическа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Под действием сухих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газов  </a:t>
              </a:r>
              <a:r>
                <a:rPr b="0" lang="ru-RU" sz="3000" spc="-1" strike="noStrike">
                  <a:solidFill>
                    <a:srgbClr val="ffffff"/>
                  </a:solidFill>
                  <a:latin typeface="Tahoma"/>
                </a:rPr>
                <a:t>С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,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O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,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SO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неэлектролитов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37899"/>
            <p:cNvSpPr/>
            <p:nvPr/>
          </p:nvSpPr>
          <p:spPr>
            <a:xfrm>
              <a:off x="4701960" y="384012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 u="sng">
                  <a:solidFill>
                    <a:srgbClr val="ffffff"/>
                  </a:solidFill>
                  <a:uFillTx/>
                  <a:latin typeface="Tahoma"/>
                </a:rPr>
                <a:t>Электрохимическая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на контакте Ме, 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H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Tahoma"/>
                </a:rPr>
                <a:t>2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O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гальванически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элемен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692280"/>
            <a:ext cx="424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Химически чистое железо не ржавеет, т.к. не содержит примес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24360" y="476280"/>
            <a:ext cx="2260800" cy="4781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284720" y="573408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дия, Новый Дели, Железный стол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в н.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26920" y="476280"/>
            <a:ext cx="7561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меры химической корроз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e  +  O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Fe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e +   Cl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FeCl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uO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медленно)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uS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асн.    черный                 зеле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00000" y="620640"/>
            <a:ext cx="3743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813 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Гемфри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в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кры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ктрохимическую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ррозию металл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03640" y="1197000"/>
            <a:ext cx="2840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42920" y="620640"/>
            <a:ext cx="734544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химическая коррозия жел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e + 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Fe(OH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2133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ить электронный баланс,указать окислитель и восстановитель, расставить коэффици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6793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3:36:57Z</dcterms:created>
  <dc:creator>User</dc:creator>
  <dc:description/>
  <dc:language>en-US</dc:language>
  <cp:lastModifiedBy>Customer</cp:lastModifiedBy>
  <dcterms:modified xsi:type="dcterms:W3CDTF">2008-04-09T13:24:16Z</dcterms:modified>
  <cp:revision>6</cp:revision>
  <dc:subject/>
  <dc:title>Коррозия металлов</dc:title>
</cp:coreProperties>
</file>