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A7F-8289-4064-A217-6F867D46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CD9-5300-457F-A34C-7E9E8440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84C-3B05-4779-8B2F-3AD30B4E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C63-07C1-42C1-9D11-144B4963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9E6-BD78-4635-958C-D47CD93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5DA0-70AD-4DD7-9FCE-94E5A24E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EC6D-F5DE-4BD3-B772-0AEE6EE1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777F-E5BA-4F16-966D-AB21E76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F9A-09EC-4E56-8383-439305C5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2B9-8B87-4205-874D-797599AC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8AA-D5CA-45E8-B47B-72E3D2C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AA2-9420-45DF-8028-F831D65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8D64-D3B2-4798-9A01-AFE616D4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73D2-C7F0-432C-B8B0-72B1018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20EC-B881-41C2-88CF-EE54DCA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AC13-63AD-4A7B-A3A4-40787745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691-755C-4C37-9742-D66E7EC2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5FC-16FB-4D3C-A5EE-6318E37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C5A-650F-4B4D-8631-A9F11B8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F0C-EED5-488B-A001-631A9D7A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855-A6E9-4E24-AD34-824EDC9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61C-49A2-4BFE-B452-35EBDD9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B2D-FD61-4614-85F8-A3FA2C4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DED-EDAC-4226-AF17-3641A53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29506C-E852-48D9-AAE5-66DCB52AA15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6C237D-97F1-45D9-918F-5A073ED7C1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74960" y="434772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3200" spc="-1" strike="noStrike">
                <a:solidFill>
                  <a:srgbClr val="e61968"/>
                </a:solidFill>
                <a:latin typeface="Gerbera Medium"/>
              </a:rPr>
              <a:t>СОЦИАЛЬНО-ПЕДАГОГИЧЕСКОЕ СОПРОВОЖДЕНИЕ ДЕТЕЙ И ПОДРОСТКОВ, ИСПЫТЫВАЮЩИХ ТРУДНОСТИ В СОЦИАЛЬНОЙ ИНКЛЮЗ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574960" y="5415480"/>
            <a:ext cx="62431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rbera Medium"/>
              </a:rPr>
              <a:t>Зубкова Дарья Андрее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rbera Light"/>
              </a:rPr>
              <a:t>ЭБ-2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93240" y="512640"/>
            <a:ext cx="646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АЛ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85640" y="1191240"/>
            <a:ext cx="803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 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чины могут включ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клюзивных педагогических подходов, неподготовленность педагогов или отсутствие поддержки со стороны администрации. Для преодоления этих пробл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содейств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учению педагогов в области инклюзивного образования, разработке индивидуальных образовательных планов и созданию поддерживающей образовате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е взаимодейств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то может быть вызв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аличием особых потребнос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предубеждениями со стороны окружающих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Важно созд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поддерживающую и дружественную обстановку, проводить тренинги по социальным навыкам и т.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2120" y="1190160"/>
            <a:ext cx="81547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ая доступность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ранич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физическая доступность к общественным зданиям, транспорту, ресурсам и услугам может осложнять полноценное участие детей и подростков в общественной жизни. Для их преодол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работ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над созданием доступной физической среды, внедрением технологий поддержки и адаптацией услуг для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скриминация: Это может создав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ую изоля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граничи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возможности участия и негативно влиять на самооценку. Для преодоления данной проблем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провод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бразовательные кампании, информировать общественность о важности инклюзии и бороться с негативными стереотипами и предрассуд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92120" y="1170720"/>
            <a:ext cx="81187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ое благополучие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ка эмоционального благополучия и ментального здоровья должна стать приоритетом в социально-педагогическом сопровождении. Необходимо обеспечить доступ к психологической поддержке, проводить тренинги по управлению эмоциями и создавать безопасные пространства для выражения своих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ежным способом преодоления данных трудностей является комплексный подход, включающий сотрудничество между различными специалистами и организациями, адаптацию образовательной среды, повышение осведомленности и просвещение общества о принципах социальной инклю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317160" y="512640"/>
            <a:ext cx="2636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92120" y="1199880"/>
            <a:ext cx="8106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можно отметить следующи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-педагогическое сопровождение играет важную роль в поддержке детей и подростков, которые сталкиваются с трудностями в социальной инклюзи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ь социально-педагогического сопровождения - создание условий для полноценного участия в общественной жизни, развития потенциала и самореализации молодых люде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ля успешного достижения социальной инклюзии необходимо сотрудничество между различными профессионалами, создание инклюзивных образовательных и социальных сред, а также оказание социально-педагогической помощи и консуль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6120" y="342864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4800" spc="-1" strike="noStrike">
                <a:solidFill>
                  <a:srgbClr val="e61968"/>
                </a:solidFill>
                <a:latin typeface="Gerbera Medium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89240" y="512640"/>
            <a:ext cx="138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640" y="1719360"/>
            <a:ext cx="78688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5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 и подходы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6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7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71880" y="512640"/>
            <a:ext cx="2018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84560" y="1528200"/>
            <a:ext cx="85093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контексте социальной инклюзии дети и подростки, испытывающие трудности, могут оказаться на определенном расстоянии от возможностей, доступных большинству. И здесь на помощь приход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о-педагогическое сопровожд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оторое имеет решающее значение в поддержке и создании условий для полноценного развития каждого ребенка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84560" y="1410120"/>
            <a:ext cx="80928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— это процесс создани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авных возможност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, доступности и участия в общественной жизни для всех людей, включая детей и подростков, независимо от их возраста, пола, расы, этнической принадлежности, инвалидности и т.д. Она направлена на то, чтобы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ждый член обще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 имел право на полноценное и активное участие в различных сфер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важна тем, чт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4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 обеспечивает равные возможности для личностного развития, адаптации и самореализации молодых люд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5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озданию разнообразной и толерантной сре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36320" y="993600"/>
            <a:ext cx="9292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ТРУДНОСТИ, КОТОРЫЕ ВКЛЮЧАЕТ В СЕБЯ СОЦИАЛЬНАЯ ИНКЛЮ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85640" y="1666440"/>
            <a:ext cx="889236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утствие информации и понимания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ах и предубеждение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достаток поддержки и рес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циальные и структурные барь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Для преодоления этих трудностей необходимо усиливать информированность общества, создавать инклюзивные образовательные среды, формировать политики и программы, способствующие социальной инклюзии, а также обеспечивать доступность ресурсов и поддержки для всех детей и подрост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573840" y="491760"/>
            <a:ext cx="10771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28120" y="1994760"/>
            <a:ext cx="83296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ое сопровождение играет важную роль в поддержке детей и подростков, испытывающих трудности в социальной инклюзии. Его цель заключается в оказании помощи и создании условий для полноценного участия этих молодых людей в образовательной и общественной среде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-244440" y="512640"/>
            <a:ext cx="1044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  <a:ea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89240" y="1110240"/>
            <a:ext cx="8753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ФУНКЦИИ И ЗАДАЧИ СОЦ.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81040" y="2005200"/>
            <a:ext cx="6708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дентификация и оценка потребносте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индивидуальных программ и стратеги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держка и 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условий для включения и учас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6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трудничество с другими профессиона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7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тический мониторинг и оц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85640" y="1666440"/>
            <a:ext cx="8142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ый подход  -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 учитывает индивидуальные потребности и особенности каждого ребенка или подростка и создает персонализированную программу сопров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ка индивидуальных программ - на основе анализа и оценки потребностей ребенка или подростка социальный педагог разрабатывает индивидуальные программы социально-педагогического сопровождения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здание условий для включения и участия - это может включать адаптацию учебного процесса, организацию совместных мероприятий, участие в социальных группах или команд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85640" y="1719360"/>
            <a:ext cx="8223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ая помощь и консультирование - педагог предоставляет ребенку или подростку свою поддержку и помощь в решении проблем, связанных с социальной инклю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упповая работа - педагоги организуют групповую работу, направленную на развитие социальных навыков, коммуникации, сотрудничества и укрепления самооценки у детей и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трудничество с другими специалистами - педагоги тесно сотрудничают с другими профессионалами, такими как психологи, социальные работники, специалисты по специальному образованию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  <Words>14</Words>
  <Paragraphs>1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4T03:59:06Z</dcterms:created>
  <dc:creator>Admin</dc:creator>
  <dc:description/>
  <dc:language>en-US</dc:language>
  <cp:lastModifiedBy>Admin</cp:lastModifiedBy>
  <dcterms:modified xsi:type="dcterms:W3CDTF">2023-11-14T07:07:12Z</dcterms:modified>
  <cp:revision>302</cp:revision>
  <dc:subject/>
  <dc:title>ОБНОВЛЕННЫЙ БРЕНДБ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