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7F4-7C4B-4E33-9117-C2316DB6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D0E-B5FC-4863-AD29-6EDCE573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D69-DA21-4BDB-91DB-8876E544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D2C-9ECE-451A-8496-A36E301C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0C0-20B6-431D-9337-0464C7D3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8BF1-3BCE-476B-9FC9-F8DCC2BE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4E7-D38B-4701-9BAB-60E696EF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87E9-A6B4-4CFB-A881-C2324FD2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38A4-AA98-433C-A246-48F44A79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0342-9442-410B-BD30-1A5B9B3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C45-BDC2-425A-83EF-9DD59E57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678-8525-4973-B148-CD903AB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BFD1-EDB6-48DC-9DBC-A697328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D928-EFF1-48DD-9AE9-BAA86E3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321-060A-4C97-98FE-9C0CBA9C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0A61-1714-48C6-88AC-70E34FB0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1835-04A0-4B2C-A219-0511C6B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8A7-E569-473D-96F2-CB7D774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920-CA9A-4127-AF3A-3C326C86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F00-6097-468F-853D-AC225652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3D4-8B93-4711-A248-9D94D993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F34-E718-4BDD-9FA3-C1BBEB25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2EC-9BE6-47E7-9D26-CCDF8E69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0C2-E80D-40DB-A638-822C434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8BC89A-0F85-480E-A779-FCA2D213A7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C34AE9-CE9B-41AD-80AD-D07FC8B0CAE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74960" y="4347720"/>
            <a:ext cx="62431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3676680"/>
              </a:tabLst>
            </a:pPr>
            <a:r>
              <a:rPr b="0" lang="ru-RU" sz="3200" spc="-1" strike="noStrike">
                <a:solidFill>
                  <a:srgbClr val="e61968"/>
                </a:solidFill>
                <a:latin typeface="Gerbera Medium"/>
              </a:rPr>
              <a:t>СОЦИАЛЬНО-ПЕДАГОГИЧЕСКОЕ СОПРОВОЖДЕНИЕ ДЕТЕЙ И ПОДРОСТКОВ, ИСПЫТЫВАЮЩИХ ТРУДНОСТИ В СОЦИАЛЬНОЙ ИНКЛЮЗ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574960" y="5415480"/>
            <a:ext cx="62431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rbera Medium"/>
              </a:rPr>
              <a:t>Зубкова Дарья Андрее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rbera Light"/>
              </a:rPr>
              <a:t>ЭБ-2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93240" y="512640"/>
            <a:ext cx="646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АЛ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85640" y="1191240"/>
            <a:ext cx="803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 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чины могут включ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клюзивных педагогических подходов, неподготовленность педагогов или отсутствие поддержки со стороны администрации. Для преодоления этих пробле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содейств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учению педагогов в области инклюзивного образования, разработке индивидуальных образовательных планов и созданию поддерживающей образовате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ые взаимодейств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то может быть вызв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аличием особых потребност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предубеждениями со стороны окружающих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Важно созд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поддерживающую и дружественную обстановку, проводить тренинги по социальным навыкам и т.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88920" y="512640"/>
            <a:ext cx="6465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2120" y="1190160"/>
            <a:ext cx="815472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ая доступность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ранич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физическая доступность к общественным зданиям, транспорту, ресурсам и услугам может осложнять полноценное участие детей и подростков в общественной жизни. Для их преодол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обходимо работ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над созданием доступной физической среды, внедрением технологий поддержки и адаптацией услуг для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скриминация: Это может создав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оциальную изоляц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граничи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возможности участия и негативно влиять на самооценку. Для преодоления данной проблем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обходимо провод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образовательные кампании, информировать общественность о важности инклюзии и бороться с негативными стереотипами и предрассуд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88920" y="512640"/>
            <a:ext cx="6465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92120" y="1170720"/>
            <a:ext cx="81187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ое благополучие: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ка эмоционального благополучия и ментального здоровья должна стать приоритетом в социально-педагогическом сопровождении. Необходимо обеспечить доступ к психологической поддержке, проводить тренинги по управлению эмоциями и создавать безопасные пространства для выражения своих чув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ежным способом преодоления данных трудностей является комплексный подход, включающий сотрудничество между различными специалистами и организациями, адаптацию образовательной среды, повышение осведомленности и просвещение общества о принципах социальной инклю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317160" y="512640"/>
            <a:ext cx="2636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92120" y="1199880"/>
            <a:ext cx="8106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можно отметить следующие мо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-педагогическое сопровождение играет важную роль в поддержке детей и подростков, которые сталкиваются с трудностями в социальной инклюзи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ь социально-педагогического сопровождения - создание условий для полноценного участия в общественной жизни, развития потенциала и самореализации молодых люде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ля успешного достижения социальной инклюзии необходимо сотрудничество между различными профессионалами, создание инклюзивных образовательных и социальных сред, а также оказание социально-педагогической помощи и консульт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6120" y="3428640"/>
            <a:ext cx="62431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3676680"/>
              </a:tabLst>
            </a:pPr>
            <a:r>
              <a:rPr b="0" lang="ru-RU" sz="4800" spc="-1" strike="noStrike">
                <a:solidFill>
                  <a:srgbClr val="e61968"/>
                </a:solidFill>
                <a:latin typeface="Gerbera Medium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89240" y="512640"/>
            <a:ext cx="138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640" y="1719360"/>
            <a:ext cx="78688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4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5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 и подходы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6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7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71880" y="512640"/>
            <a:ext cx="2018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484560" y="1528200"/>
            <a:ext cx="85093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контексте социальной инклюзии дети и подростки, испытывающие трудности, могут оказаться на определенном расстоянии от возможностей, доступных большинству. И здесь на помощь приход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оциально-педагогическое сопровожд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оторое имеет решающее значение в поддержке и создании условий для полноценного развития каждого ребенка 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-144720" y="512640"/>
            <a:ext cx="907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84560" y="1410120"/>
            <a:ext cx="809280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ая инклюзия — это процесс создани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авных возможност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, доступности и участия в общественной жизни для всех людей, включая детей и подростков, независимо от их возраста, пола, расы, этнической принадлежности, инвалидности и т.д. Она направлена на то, чтобы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ждый член обще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 имел право на полноценное и активное участие в различных сфер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ая инклюзия важна тем, чт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0000"/>
              <a:buBlip>
                <a:blip r:embed="rId4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она обеспечивает равные возможности для личностного развития, адаптации и самореализации молодых люд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0000"/>
              <a:buBlip>
                <a:blip r:embed="rId5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она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ует созданию разнообразной и толерантной сре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-144720" y="512640"/>
            <a:ext cx="907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36320" y="993600"/>
            <a:ext cx="9292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ТРУДНОСТИ, КОТОРЫЕ ВКЛЮЧАЕТ В СЕБЯ СОЦИАЛЬНАЯ ИНКЛЮ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85640" y="1666440"/>
            <a:ext cx="889236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утствие информации и понимания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3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ах и предубеждение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4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достаток поддержки и рес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5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циальные и структурные барь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Для преодоления этих трудностей необходимо усиливать информированность общества, создавать инклюзивные образовательные среды, формировать политики и программы, способствующие социальной инклюзии, а также обеспечивать доступность ресурсов и поддержки для всех детей и подрост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573840" y="491760"/>
            <a:ext cx="10771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28120" y="1994760"/>
            <a:ext cx="83296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едагогическое сопровождение играет важную роль в поддержке детей и подростков, испытывающих трудности в социальной инклюзии. Его цель заключается в оказании помощи и создании условий для полноценного участия этих молодых людей в образовательной и общественной среде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-244440" y="512640"/>
            <a:ext cx="1044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  <a:ea typeface="Calibri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89240" y="1110240"/>
            <a:ext cx="87530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ФУНКЦИИ И ЗАДАЧИ СОЦ.-ПЕДАГОГИЧЕСКОГО СОПРОВ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81040" y="2005200"/>
            <a:ext cx="6708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дентификация и оценка потребностей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3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индивидуальных программ и стратегий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4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держка и консуль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5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условий для включения и учас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6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трудничество с другими профессиона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7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тический мониторинг и оц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281880" y="512640"/>
            <a:ext cx="396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МЕТОДЫ И ПОД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89240" y="1036080"/>
            <a:ext cx="7641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СОЦИАЛЬНО-ПЕДАГОГИЧЕСКОГО СОПРОВОЖДЕНИ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85640" y="1666440"/>
            <a:ext cx="8142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ьный подход  -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 учитывает индивидуальные потребности и особенности каждого ребенка или подростка и создает персонализированную программу сопров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ка индивидуальных программ - на основе анализа и оценки потребностей ребенка или подростка социальный педагог разрабатывает индивидуальные программы социально-педагогического сопровождения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здание условий для включения и участия - это может включать адаптацию учебного процесса, организацию совместных мероприятий, участие в социальных группах или командных про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281880" y="512640"/>
            <a:ext cx="396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МЕТОДЫ И ПОД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9240" y="1036080"/>
            <a:ext cx="7641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СОЦИАЛЬНО-ПЕДАГОГИЧЕСКОГО СОПРОВ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85640" y="1719360"/>
            <a:ext cx="8223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едагогическая помощь и консультирование - педагог предоставляет ребенку или подростку свою поддержку и помощь в решении проблем, связанных с социальной инклю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упповая работа - педагоги организуют групповую работу, направленную на развитие социальных навыков, коммуникации, сотрудничества и укрепления самооценки у детей и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трудничество с другими специалистами - педагоги тесно сотрудничают с другими профессионалами, такими как психологи, социальные работники, специалисты по специальному образованию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  <Words>14</Words>
  <Paragraphs>1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4T03:59:06Z</dcterms:created>
  <dc:creator>Admin</dc:creator>
  <dc:description/>
  <dc:language>en-US</dc:language>
  <cp:lastModifiedBy>Admin</cp:lastModifiedBy>
  <dcterms:modified xsi:type="dcterms:W3CDTF">2023-11-14T07:07:12Z</dcterms:modified>
  <cp:revision>302</cp:revision>
  <dc:subject/>
  <dc:title>ОБНОВЛЕННЫЙ БРЕНДБУ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