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3931-BBDF-4D6E-B47C-B077156A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5735-26D7-4A88-BBD0-1AE3440A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4F90-4D5E-4CE4-ACF4-5067A08F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79E-8940-483F-951F-FAF541D3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B1B6-05EA-4C2D-9010-E4A75670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4EBF-C8EF-4563-A905-D0AA30B1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BBAA-BD91-49F5-B6EE-BF0609A5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BF68-17FC-4033-ABDE-E68F6E9C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91A6-C7D5-4B6A-B5DE-AD4529F0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B076-81C8-4419-8104-3B70A6BB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0CD5-0067-48E6-AE13-3770E747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91E-003B-4C72-91E5-9F6AC38D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A901-BE0C-491E-AC7A-6570D9C4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DAEB-66FB-4DD2-B0F7-E42D1B20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58B5-857A-41AB-89DF-10228EFD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A08E-ED3E-4FB0-AC06-45B9FA9F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6500-6270-4BD1-8028-76223032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7647-C8D4-4D5C-BB23-E763563C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DDB-73AB-427A-9F2D-2B1AB909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F755-9E1F-498C-9E42-B1294193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A9C-28A6-48C0-B719-F0321CD2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2C8-58BD-4D68-A544-FA57C12A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8311-3F23-43AA-8CC7-50D74A52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34D-B976-4FFD-8FE5-E5B30AE5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1808E3-67FD-44E2-BFA9-FAD1B7564C1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646B82-0C21-4179-B82E-873FC9B3171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574960" y="4347720"/>
            <a:ext cx="624312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3676680"/>
              </a:tabLst>
            </a:pPr>
            <a:r>
              <a:rPr b="0" lang="ru-RU" sz="3200" spc="-1" strike="noStrike">
                <a:solidFill>
                  <a:srgbClr val="e61968"/>
                </a:solidFill>
                <a:latin typeface="Gerbera Medium"/>
              </a:rPr>
              <a:t>СОЦИАЛЬНО-ПЕДАГОГИЧЕСКОЕ СОПРОВОЖДЕНИЕ ДЕТЕЙ И ПОДРОСТКОВ, ИСПЫТЫВАЮЩИХ ТРУДНОСТИ В СОЦИАЛЬНОЙ ИНКЛЮЗ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одзаголовок 2"/>
          <p:cNvSpPr/>
          <p:nvPr/>
        </p:nvSpPr>
        <p:spPr>
          <a:xfrm>
            <a:off x="5574960" y="5415480"/>
            <a:ext cx="62431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rbera Medium"/>
              </a:rPr>
              <a:t>Зубкова Дарья Андреевна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rbera Light"/>
              </a:rPr>
              <a:t>ЭБ-22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3"/>
          <p:cNvSpPr/>
          <p:nvPr/>
        </p:nvSpPr>
        <p:spPr>
          <a:xfrm>
            <a:off x="93240" y="512640"/>
            <a:ext cx="64630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ПРОБЛЕМНЫЕ ОБАЛСТИ И ВЫЗ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85640" y="1191240"/>
            <a:ext cx="8036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ование: 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ичины могут включа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едостато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нклюзивных педагогических подходов, неподготовленность педагогов или отсутствие поддержки со стороны администрации. Для преодоления этих проблем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необходимо содействов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учению педагогов в области инклюзивного образования, разработке индивидуальных образовательных планов и созданию поддерживающей образователь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циальные взаимодействия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это может быть вызван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наличием особых потребносте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или предубеждениями со стороны окружающих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Важно созд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поддерживающую и дружественную обстановку, проводить тренинги по социальным навыкам и т.д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88920" y="512640"/>
            <a:ext cx="6465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ПРОБЛЕМНЫЕ ОБЛАСТИ И ВЫЗ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92120" y="1190160"/>
            <a:ext cx="815472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зическая доступность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граничен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физическая доступность к общественным зданиям, транспорту, ресурсам и услугам может осложнять полноценное участие детей и подростков в общественной жизни. Для их преодолен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необходимо работ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над созданием доступной физической среды, внедрением технологий поддержки и адаптацией услуг для вс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искриминация: Это может создават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социальную изоляци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ограничив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возможности участия и негативно влиять на самооценку. Для преодоления данной проблемы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необходимо проводи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образовательные кампании, информировать общественность о важности инклюзии и бороться с негативными стереотипами и предрассуд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88920" y="512640"/>
            <a:ext cx="6465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ПРОБЛЕМНЫЕ ОБЛАСТИ И ВЫЗ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492120" y="1170720"/>
            <a:ext cx="811872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моциональное благополучие: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держка эмоционального благополучия и ментального здоровья должна стать приоритетом в социально-педагогическом сопровождении. Необходимо обеспечить доступ к психологической поддержке, проводить тренинги по управлению эмоциями и создавать безопасные пространства для выражения своих чув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дежным способом преодоления данных трудностей является комплексный подход, включающий сотрудничество между различными специалистами и организациями, адаптацию образовательной среды, повышение осведомленности и просвещение общества о принципах социальной инклю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317160" y="512640"/>
            <a:ext cx="2636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492120" y="1199880"/>
            <a:ext cx="81061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заключении можно отметить следующие момен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циально-педагогическое сопровождение играет важную роль в поддержке детей и подростков, которые сталкиваются с трудностями в социальной инклюзии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Цель социально-педагогического сопровождения - создание условий для полноценного участия в общественной жизни, развития потенциала и самореализации молодых людей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4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ля успешного достижения социальной инклюзии необходимо сотрудничество между различными профессионалами, создание инклюзивных образовательных и социальных сред, а также оказание социально-педагогической помощи и консульт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6120" y="3428640"/>
            <a:ext cx="624312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3676680"/>
              </a:tabLst>
            </a:pPr>
            <a:r>
              <a:rPr b="0" lang="ru-RU" sz="4800" spc="-1" strike="noStrike">
                <a:solidFill>
                  <a:srgbClr val="e61968"/>
                </a:solidFill>
                <a:latin typeface="Gerbera Medium"/>
              </a:rPr>
              <a:t>СПАСИБО ЗА ВНИМАНИЕ!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489240" y="512640"/>
            <a:ext cx="13878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485640" y="1719360"/>
            <a:ext cx="7868880" cy="38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58"/>
              <a:buBlip>
                <a:blip r:embed="rId2"/>
              </a:buBlip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58"/>
              <a:buBlip>
                <a:blip r:embed="rId3"/>
              </a:buBlip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нятие и значение социальной инклю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58"/>
              <a:buBlip>
                <a:blip r:embed="rId4"/>
              </a:buBlip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ль социально-педагогического сопров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58"/>
              <a:buBlip>
                <a:blip r:embed="rId5"/>
              </a:buBlip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ы и подходы социально-педагогического сопров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58"/>
              <a:buBlip>
                <a:blip r:embed="rId6"/>
              </a:buBlip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блемные области и вызо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58"/>
              <a:buBlip>
                <a:blip r:embed="rId7"/>
              </a:buBlip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371880" y="512640"/>
            <a:ext cx="2018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484560" y="1528200"/>
            <a:ext cx="850932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58"/>
              <a:buBlip>
                <a:blip r:embed="rId2"/>
              </a:buBlip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 контексте социальной инклюзии дети и подростки, испытывающие трудности, могут оказаться на определенном расстоянии от возможностей, доступных большинству. И здесь на помощь приходит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социально-педагогическое сопровожден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которое имеет решающее значение в поддержке и создании условий для полноценного развития каждого ребенка и подрос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-144720" y="512640"/>
            <a:ext cx="90705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ПОНЯТИЕ И ЗНАЧЕНИЕ СОЦИАЛЬНОЙ ИНКЛЮ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484560" y="1410120"/>
            <a:ext cx="8092800" cy="50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00"/>
              <a:buBlip>
                <a:blip r:embed="rId2"/>
              </a:buBlip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Социальная инклюзия — это процесс создания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равных возможностей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, доступности и участия в общественной жизни для всех людей, включая детей и подростков, независимо от их возраста, пола, расы, этнической принадлежности, инвалидности и т.д. Она направлена на то, чтобы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каждый член обществ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 имел право на полноценное и активное участие в различных сфера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00"/>
              <a:buBlip>
                <a:blip r:embed="rId3"/>
              </a:buBlip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Социальная инклюзия важна тем, что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SzPct val="100000"/>
              <a:buBlip>
                <a:blip r:embed="rId4"/>
              </a:buBlip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она обеспечивает равные возможности для личностного развития, адаптации и самореализации молодых люд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SzPct val="100000"/>
              <a:buBlip>
                <a:blip r:embed="rId5"/>
              </a:buBlip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она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способствует созданию разнообразной и толерантной сред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-144720" y="512640"/>
            <a:ext cx="90705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ПОНЯТИЕ И ЗНАЧЕНИЕ СОЦИАЛЬНОЙ ИНКЛЮ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436320" y="993600"/>
            <a:ext cx="929268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21589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rbera Light"/>
              </a:rPr>
              <a:t>ТРУДНОСТИ, КОТОРЫЕ ВКЛЮЧАЕТ В СЕБЯ СОЦИАЛЬНАЯ ИНКЛЮ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485640" y="1666440"/>
            <a:ext cx="8892360" cy="55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6"/>
              <a:buBlip>
                <a:blip r:embed="rId2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сутствие информации и понимания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3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рах и предубеждение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4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достаток поддержки и ресур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5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циальные и структурные барье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Для преодоления этих трудностей необходимо усиливать информированность общества, создавать инклюзивные образовательные среды, формировать политики и программы, способствующие социальной инклюзии, а также обеспечивать доступность ресурсов и поддержки для всех детей и подростк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573840" y="491760"/>
            <a:ext cx="10771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РОЛЬ СОЦИАЛЬНО-ПЕДАГОГИЧЕСКОГО СОПРОВ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528120" y="1994760"/>
            <a:ext cx="832968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6"/>
              <a:buBlip>
                <a:blip r:embed="rId2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Социально-педагогическое сопровождение играет важную роль в поддержке детей и подростков, испытывающих трудности в социальной инклюзии. Его цель заключается в оказании помощи и создании условий для полноценного участия этих молодых людей в образовательной и общественной среде.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3"/>
          <p:cNvSpPr/>
          <p:nvPr/>
        </p:nvSpPr>
        <p:spPr>
          <a:xfrm>
            <a:off x="-244440" y="512640"/>
            <a:ext cx="104436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  <a:ea typeface="Calibri"/>
              </a:rPr>
              <a:t>РОЛЬ СОЦИАЛЬНО-ПЕДАГОГИЧЕСКОГО СОПРОВ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489240" y="1110240"/>
            <a:ext cx="875304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21589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rbera Light"/>
              </a:rPr>
              <a:t>ФУНКЦИИ И ЗАДАЧИ СОЦ.-ПЕДАГОГИЧЕСКОГО СОПРОВ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581040" y="2005200"/>
            <a:ext cx="670824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6"/>
              <a:buBlip>
                <a:blip r:embed="rId2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дентификация и оценка потребностей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3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работка индивидуальных программ и стратегий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4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ддержка и консультирова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5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здание условий для включения и участ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6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трудничество с другими профессионал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6"/>
              <a:buBlip>
                <a:blip r:embed="rId7"/>
              </a:buBlip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истематический мониторинг и оцен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281880" y="512640"/>
            <a:ext cx="3966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МЕТОДЫ И ПОД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489240" y="1036080"/>
            <a:ext cx="76417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21589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rbera Light"/>
              </a:rPr>
              <a:t>СОЦИАЛЬНО-ПЕДАГОГИЧЕСКОГО СОПРОВОЖДЕНИЯ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485640" y="1666440"/>
            <a:ext cx="81424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дивидуальный подход  -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едагог учитывает индивидуальные потребности и особенности каждого ребенка или подростка и создает персонализированную программу сопрово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зработка индивидуальных программ - на основе анализа и оценки потребностей ребенка или подростка социальный педагог разрабатывает индивидуальные программы социально-педагогического сопровождения;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4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оздание условий для включения и участия - это может включать адаптацию учебного процесса, организацию совместных мероприятий, участие в социальных группах или командных прое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"/>
          <p:cNvSpPr/>
          <p:nvPr/>
        </p:nvSpPr>
        <p:spPr>
          <a:xfrm>
            <a:off x="281880" y="512640"/>
            <a:ext cx="3966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2e4694"/>
                </a:solidFill>
                <a:latin typeface="Gerbera"/>
              </a:rPr>
              <a:t>МЕТОДЫ И ПОД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489240" y="1036080"/>
            <a:ext cx="7641720" cy="3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21589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rbera Light"/>
              </a:rPr>
              <a:t>СОЦИАЛЬНО-ПЕДАГОГИЧЕСКОГО СОПРОВ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485640" y="1719360"/>
            <a:ext cx="822384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оциально-педагогическая помощь и консультирование - педагог предоставляет ребенку или подростку свою поддержку и помощь в решении проблем, связанных с социальной инклюз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Групповая работа - педагоги организуют групповую работу, направленную на развитие социальных навыков, коммуникации, сотрудничества и укрепления самооценки у детей и подрос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0017"/>
              <a:buBlip>
                <a:blip r:embed="rId4"/>
              </a:buBlip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отрудничество с другими специалистами - педагоги тесно сотрудничают с другими профессионалами, такими как психологи, социальные работники, специалисты по специальному образованию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  <Words>14</Words>
  <Paragraphs>10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2-04T03:59:06Z</dcterms:created>
  <dc:creator>Admin</dc:creator>
  <dc:description/>
  <dc:language>en-US</dc:language>
  <cp:lastModifiedBy>Admin</cp:lastModifiedBy>
  <dcterms:modified xsi:type="dcterms:W3CDTF">2023-11-14T07:07:12Z</dcterms:modified>
  <cp:revision>302</cp:revision>
  <dc:subject/>
  <dc:title>ОБНОВЛЕННЫЙ БРЕНДБУ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4</vt:r8>
  </property>
</Properties>
</file>