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A22-25FB-44D0-8803-08A72819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BE3-FD08-4554-B177-410004BC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4F9-DC6D-4021-83E0-F3D24F85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2A9-23BC-46B1-9A47-DF7AEF11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97B1-C3B9-4C58-902B-5154D8AE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B0E5-D8F6-4342-A68C-77C413E0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30A3-F7F0-4035-BE10-CB4793EC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46BB-5025-4386-8A28-1FEED619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86E5-BEF5-4223-AB43-8BBC6E6D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4409-FFB9-4E1D-B4D4-14425E42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4B8D-593F-4EEC-97D9-4C0EB073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B74-43A7-4139-B0EE-D7627AE2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8F4-26DE-4858-81DC-A5664B8B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9C47-B078-470F-B352-7F6483B3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2BBC-85F5-42D4-9278-84DF22F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EF25-B7DD-4837-82F5-A54C49E7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71F1-7FEA-464D-A811-5D30C368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9661-C58A-4377-8002-3B2D45AA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7F51-D290-46A8-9E1C-7E1D36B3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DA108-F970-43F4-9D97-22A2D415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6311-A366-4FC0-9A92-CDA46506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4E2F-FA85-4590-8D51-0BEA36A5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DD7-8C54-4FB9-81EF-3413705A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1220-87FC-4FC7-B3E8-71C1D505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4136-4B04-4C36-9987-A6585D24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9C6F-F92C-4581-BEFE-1188907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B0B5-0BAE-4BD8-A7AD-28C71938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CE4E-1D39-45D5-BED6-36404F69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9344-6739-450E-BB23-BF502259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1C90-EAE7-4CA5-95E3-889B5FC4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378E-6FF8-4DD6-939B-72118378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9B713-7B2E-49A8-9502-50C6CCDF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879C5-C1E0-412C-9FB2-86D684B6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FF8-7C8F-4E04-B798-9F4451DF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84D8-7FEA-4624-936F-4206836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23595-721A-40BE-B898-6B9C9E0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C96A7-A5A6-48C9-AD37-FDFC4D01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76920-E890-4C06-9217-5AFE7B2E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5B3F-17B5-4660-9962-F8E7B866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F4EB-C764-4B61-956C-CFCD2D4E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EA49-F81B-4C3C-980D-D9368923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C2A39-7B9E-4560-AE5D-29B197A1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8A60-51ED-486C-9741-D34A0AEF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E45-6419-45B1-8BE3-A4F8939A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80D-FC25-4041-963A-9F3512EF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535-3137-467F-8950-6AEFEEAC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2DB-4FED-4279-8D08-2B2AD637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D5D-9ACF-43E0-A5B2-38FAFB2A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1498A0-0EDA-4BA3-9C57-50392D52564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22F4A4-672F-4F36-BF98-AD805955188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C7B13C-A28D-42C3-A1FF-C4EE4DEC0FE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D744E9-0728-42E1-AB87-49442404FD4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§ 17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исать химические свойства воды со стр. 148 (дополнить пункт про реакции гидратации:  гидратация алкен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еть схему 4 (стр. 144), занести ее в тетрадь и дополнить примера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нования – электролиты, которые диссоциируют с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разованием __________ и __________ 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ли - электролиты, которые диссоциируют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 образованием  _________и _________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Na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авьте недостающие слова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Все вещества по их способности проводить электрический ток в растворах делятся на ______________ и ________________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роцесс распада электролита на ионы называется __________________ ______________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В растворах электролиты диссоциируют на _______________ и ______________ ион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По степени электролитической диссоциации электролиты делятся на _________ и _______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берите из списка вещества, не проводящие электрический т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сциллированная во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хар (тв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твор саха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еральная во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яная кисло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трат натрия (р-р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ковая во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сид калия (р-р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8880" indent="-488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бонат кальция (тв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пишите уравнения диссоциации для следующих вещест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(ОН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отнесит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Электролит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Неэлектролит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Кислот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Оксид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Простые веще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Сол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Основан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оль воды в химических реакциях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ще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285840" y="1571760"/>
            <a:ext cx="2714400" cy="1827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Растворимые – в 100г воды растворяется более 1 г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43760" y="1571760"/>
            <a:ext cx="2757240" cy="3978720"/>
          </a:xfrm>
          <a:prstGeom prst="rect">
            <a:avLst/>
          </a:prstGeom>
          <a:solidFill>
            <a:schemeClr val="lt1"/>
          </a:solidFill>
          <a:ln w="255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Нерастворимые – 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100г вод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Растворяетс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менее 1г веществ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214800" y="2571840"/>
            <a:ext cx="2714400" cy="21927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Малорастворимые – в 100г воды растворяется от 0,01 до 1г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750240" y="5572080"/>
            <a:ext cx="7459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! Выпишите примеры веществ из учебника стр. 143-1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10"/>
          <p:cNvCxnSpPr/>
          <p:nvPr/>
        </p:nvCxnSpPr>
        <p:spPr>
          <a:xfrm flipH="1">
            <a:off x="1785600" y="1142640"/>
            <a:ext cx="1643400" cy="2149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178" name="Прямая со стрелкой 12"/>
          <p:cNvCxnSpPr/>
          <p:nvPr/>
        </p:nvCxnSpPr>
        <p:spPr>
          <a:xfrm>
            <a:off x="5429160" y="1142640"/>
            <a:ext cx="1643400" cy="2149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179" name="Прямая со стрелкой 15"/>
          <p:cNvCxnSpPr/>
          <p:nvPr/>
        </p:nvCxnSpPr>
        <p:spPr>
          <a:xfrm flipH="1">
            <a:off x="4570200" y="1357920"/>
            <a:ext cx="2160" cy="107208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одные растворы – гомогенные системы, состоящие из молекул воды, частиц растворенного вещества и продуктов их взаимодейств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идратация – процесс взаимодействия воды с молекулами растворенного ве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3" descr="220px-Na+H2O.gif"/>
          <p:cNvPicPr/>
          <p:nvPr/>
        </p:nvPicPr>
        <p:blipFill>
          <a:blip r:embed="rId1"/>
          <a:stretch/>
        </p:blipFill>
        <p:spPr>
          <a:xfrm>
            <a:off x="2786040" y="2928960"/>
            <a:ext cx="3571560" cy="36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лектролиты – растворы и расплавы которых могут проводить электрический т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К электролитам относятся вещества 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ионной и ковалентной полярной связью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- растворимые со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- кисло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- растворимые осно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он - электрически заряженная частица, образующаяся при отрыве ил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соединении одного или несколько электро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Рисунок 3" descr="p-08a-2.gif"/>
          <p:cNvPicPr/>
          <p:nvPr/>
        </p:nvPicPr>
        <p:blipFill>
          <a:blip r:embed="rId1"/>
          <a:stretch/>
        </p:blipFill>
        <p:spPr>
          <a:xfrm>
            <a:off x="3286080" y="3857760"/>
            <a:ext cx="2928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епень электролитической диссоциации – отношение числа молей вещества, распавшегося на ионы к общему количеству  растворенного вещества (α)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льные электролит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&gt; 30%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43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авнение диссоциаци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исывается как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ратимый процес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ильным электролитам относятся: щелочи, все растворимые соли и некоторые кислоты (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абые электролит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&lt; 3%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43280" y="2286000"/>
            <a:ext cx="404136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авнение диссоциаци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исывается как обратимы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лабым электролитам относятся: почти все органические вещества, в т.ч. кислоты, и многие неорганические кислоты (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од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5" name="Прямая со стрелкой 7"/>
          <p:cNvCxnSpPr/>
          <p:nvPr/>
        </p:nvCxnSpPr>
        <p:spPr>
          <a:xfrm>
            <a:off x="6215040" y="3786120"/>
            <a:ext cx="42876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6" name="Прямая со стрелкой 8"/>
          <p:cNvCxnSpPr/>
          <p:nvPr/>
        </p:nvCxnSpPr>
        <p:spPr>
          <a:xfrm flipH="1" flipV="1">
            <a:off x="6215040" y="3927240"/>
            <a:ext cx="42876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7" name="Прямая со стрелкой 9"/>
          <p:cNvCxnSpPr/>
          <p:nvPr/>
        </p:nvCxnSpPr>
        <p:spPr>
          <a:xfrm>
            <a:off x="2071440" y="3571560"/>
            <a:ext cx="429120" cy="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ислоты – электролиты, которые диссоциируют с образованием катионов водорода и анионов кислотного остат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→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  <Words>494</Words>
  <Paragraphs>8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0T18:31:59Z</dcterms:created>
  <dc:creator>Тоня</dc:creator>
  <dc:description/>
  <dc:language>en-US</dc:language>
  <cp:lastModifiedBy>Гимназия № 628</cp:lastModifiedBy>
  <dcterms:modified xsi:type="dcterms:W3CDTF">2017-01-19T09:58:34Z</dcterms:modified>
  <cp:revision>6</cp:revision>
  <dc:subject/>
  <dc:title>Роль воды в химических реакция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