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22F-2318-42EA-8D23-8DF34844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4C9-2724-4E0E-B632-E117E738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33D-E5D6-4A76-B903-A616D8BD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0E1-BC8B-4CC1-99B5-64C0DB59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789E-AA23-44D3-9D43-48CBA81C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EFA6-6E0A-48EB-963D-DBF8A8E8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D94D-4D5E-4826-94DE-EE6AA8A7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D501-D6ED-44F9-BAF8-A89ADFE1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C152-209A-4B7A-A410-3FC35377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451B-2ADC-4D8B-9724-481E1690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15A7-0741-4729-891A-4990B290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3D5-177D-4CAC-96C2-0C7E5467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D408-8A60-4E46-80A6-F1A6564E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ABC3-692E-4914-AF80-9A4C55A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628A-AA1E-45D8-9281-D5F8BD09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4ED9-0A5A-43F0-857F-6AEB35F4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704A-0920-4522-AAA7-394DE870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64C4-1D47-4460-87AA-783C293B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3758-9152-4E0C-9AFC-35C5ABCB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6D68-AB17-4113-B191-F2C81FF6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7622-03C0-4C69-9896-861D8D2A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67A4-1FBA-49DD-8702-1C074F62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E69-46DE-4616-AB81-93D396BD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7B53-EF2B-4CBF-AC2C-85B0D232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070B-88CE-40F8-B242-8D751D9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81B1-2CE1-482E-A35C-FF4D1DC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8AB8-281B-4D36-A97F-39925E22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BEAE-6382-45FA-9EDC-7418F667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5E51-CACB-4A0E-83EE-B13D1F4D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7050D-76DD-4E7A-8D26-D2AC1BBA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AC7BD-C2A8-4694-AE0C-5CDA3F9A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A7D2-A757-47C6-8F9D-24C71657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D701-3756-409F-9AB3-A696BA35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487-292E-418B-BE56-A7777AE9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06724-6103-4F0E-BD63-20338DF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B41F9-620D-44F1-8CD3-20188FC4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EB64-E9B6-43D0-B1CD-798D310F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B3EA-7934-4CEA-9487-F3CBE4DF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305F-71E7-4AED-8DDC-A2F6DCD8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0438A-392F-4A63-A1E8-BF67669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CC4F5-2E9E-47D5-B504-00475570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2CA2-1114-4744-A3C7-E4F0C8D9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211E-7D2D-476E-AEBE-10DF351C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A7D-304B-412F-94C9-81F6053C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10D-C317-4DCC-AEC3-D6DDC10D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FB2-2826-4913-B0FD-DB94AFD1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873-CB85-4A92-9F8C-A0902303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786-3368-43E6-8B32-C8CF18B0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90D7AE-D1FA-4888-8112-B7A77E84B04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6D40CA-109C-415E-A75C-35FC14195D5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803336-148E-4C8B-85EF-3AF36715A02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438384-51C9-4699-B454-BB0984C4A48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§ 17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исать химические свойства воды со стр. 148 (дополнить пункт про реакции гидратации:  гидратация алкен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еть схему 4 (стр. 144), занести ее в тетрадь и дополнить примера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нования – электролиты, которые диссоциируют с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разованием __________ и __________ 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ли - электролиты, которые диссоциируют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 образованием  _________и _________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Na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авьте недостающие слова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Все вещества по их способности проводить электрический ток в растворах делятся на ______________ и ________________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роцесс распада электролита на ионы называется __________________ ______________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В растворах электролиты диссоциируют на _______________ и ______________ ион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По степени электролитической диссоциации электролиты делятся на _________ и _______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ерите из списка вещества, не проводящие электрический т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сциллированная во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хар (тв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твор саха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еральная во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яная кисло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трат натрия (р-р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ковая во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сид калия (р-р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бонат кальция (тв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пишите уравнения диссоциации для следующих вещест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(ОН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отнесит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Электролит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Неэлектролит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Кислот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Оксид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Простые веще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Сол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Основан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оль воды в химических реакциях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ще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285840" y="1571760"/>
            <a:ext cx="2714400" cy="1827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Растворимые – в 100г воды растворяется более 1 г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43760" y="1571760"/>
            <a:ext cx="2757240" cy="3978720"/>
          </a:xfrm>
          <a:prstGeom prst="rect">
            <a:avLst/>
          </a:prstGeom>
          <a:solidFill>
            <a:schemeClr val="lt1"/>
          </a:solidFill>
          <a:ln w="255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Нерастворимые – 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100г вод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Растворяетс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менее 1г веществ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214800" y="2571840"/>
            <a:ext cx="2714400" cy="21927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Малорастворимые – в 100г воды растворяется от 0,01 до 1г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750240" y="5572080"/>
            <a:ext cx="7459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! Выпишите примеры веществ из учебника стр. 143-1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10"/>
          <p:cNvCxnSpPr/>
          <p:nvPr/>
        </p:nvCxnSpPr>
        <p:spPr>
          <a:xfrm flipH="1">
            <a:off x="1785600" y="1142640"/>
            <a:ext cx="1643400" cy="2149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178" name="Прямая со стрелкой 12"/>
          <p:cNvCxnSpPr/>
          <p:nvPr/>
        </p:nvCxnSpPr>
        <p:spPr>
          <a:xfrm>
            <a:off x="5429160" y="1142640"/>
            <a:ext cx="1643400" cy="2149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179" name="Прямая со стрелкой 15"/>
          <p:cNvCxnSpPr/>
          <p:nvPr/>
        </p:nvCxnSpPr>
        <p:spPr>
          <a:xfrm flipH="1">
            <a:off x="4570200" y="1357920"/>
            <a:ext cx="2160" cy="107208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одные растворы – гомогенные системы, состоящие из молекул воды, частиц растворенного вещества и продуктов их взаимодейств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идратация – процесс взаимодействия воды с молекулами растворенного ве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3" descr="220px-Na+H2O.gif"/>
          <p:cNvPicPr/>
          <p:nvPr/>
        </p:nvPicPr>
        <p:blipFill>
          <a:blip r:embed="rId1"/>
          <a:stretch/>
        </p:blipFill>
        <p:spPr>
          <a:xfrm>
            <a:off x="2786040" y="2928960"/>
            <a:ext cx="3571560" cy="36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лектролиты – растворы и расплавы которых могут проводить электрический т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К электролитам относятся вещества 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ионной и ковалентной полярной связью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- растворимые со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- кисло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- растворимые осно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он - электрически заряженная частица, образующаяся при отрыве ил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соединении одного или несколько электро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Рисунок 3" descr="p-08a-2.gif"/>
          <p:cNvPicPr/>
          <p:nvPr/>
        </p:nvPicPr>
        <p:blipFill>
          <a:blip r:embed="rId1"/>
          <a:stretch/>
        </p:blipFill>
        <p:spPr>
          <a:xfrm>
            <a:off x="3286080" y="3857760"/>
            <a:ext cx="2928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епень электролитической диссоциации – отношение числа молей вещества, распавшегося на ионы к общему количеству  растворенного вещества (α)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льные электролит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&gt; 30%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43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авнение диссоциаци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исывается как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ратимый процес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ильным электролитам относятся: щелочи, все растворимые соли и некоторые кислоты (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абые электролит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&lt; 3%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43280" y="2286000"/>
            <a:ext cx="404136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авнение диссоциаци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исывается как обратимы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лабым электролитам относятся: почти все органические вещества, в т.ч. кислоты, и многие неорганические кислоты (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од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5" name="Прямая со стрелкой 7"/>
          <p:cNvCxnSpPr/>
          <p:nvPr/>
        </p:nvCxnSpPr>
        <p:spPr>
          <a:xfrm>
            <a:off x="6215040" y="3786120"/>
            <a:ext cx="4287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6" name="Прямая со стрелкой 8"/>
          <p:cNvCxnSpPr/>
          <p:nvPr/>
        </p:nvCxnSpPr>
        <p:spPr>
          <a:xfrm flipH="1" flipV="1">
            <a:off x="6215040" y="3927240"/>
            <a:ext cx="42876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7" name="Прямая со стрелкой 9"/>
          <p:cNvCxnSpPr/>
          <p:nvPr/>
        </p:nvCxnSpPr>
        <p:spPr>
          <a:xfrm>
            <a:off x="2071440" y="3571560"/>
            <a:ext cx="4291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ислоты – электролиты, которые диссоциируют с образованием катионов водорода и анионов кислотного остат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→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  <Words>494</Words>
  <Paragraphs>8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0T18:31:59Z</dcterms:created>
  <dc:creator>Тоня</dc:creator>
  <dc:description/>
  <dc:language>en-US</dc:language>
  <cp:lastModifiedBy>Гимназия № 628</cp:lastModifiedBy>
  <dcterms:modified xsi:type="dcterms:W3CDTF">2017-01-19T09:58:34Z</dcterms:modified>
  <cp:revision>6</cp:revision>
  <dc:subject/>
  <dc:title>Роль воды в химических реакция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