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CBB-E4DC-41E4-9BFE-23047E31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454-6E31-4F67-B0AA-07C6D607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855-5B00-448E-BE53-DB7980F3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74C-391D-4F08-86E1-C7A0D1F1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512B-1C5D-4521-BB82-EB1CF95E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A56A-2AD7-4714-A7FC-557D17C1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A23A-D878-4755-8385-B89A0443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8540-FD0F-4320-9725-9C4B24E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198F-494B-4094-9374-0BC7AB41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62C-BC83-4C13-96BF-30A7996F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A73-6B9A-431C-B32C-035AF24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5DE-53DF-42EA-9968-9D1E641B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3B6-C78D-4082-8E2F-11959295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41A5-E4E5-4D42-A94C-CA2D441C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A838-9D6D-4DD6-B8E9-E62F78AA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A729-4AE9-465E-8226-D1BAA700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B0A9-C611-4E5A-B934-F662D449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F858-C0D4-4E05-8D47-8E4825A6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E280-09AC-47DF-B92D-89B6B83B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1445-FCA6-4EDB-9757-C7C138B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F2D4-F094-4AEF-8581-222711BC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A603-8D69-47C8-AF3A-3BB33A7B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8E9-79E1-49C1-AD70-659C9971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C09B-E84B-4EC2-8BFC-2DEE81C2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6B4C-C487-4F82-A5BB-A0BDCC7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D383-855F-4434-AD70-3EE8AD09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D3AC-824E-4891-BFF1-276AC0D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8DBC-9C1E-4049-8AE4-2DFFAAF5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EDBB-B55F-4473-9083-88FFC357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B538-2E0A-464C-9593-99B72CA0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6A5-3537-4F31-BF0E-19AA10A9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413-6E52-4494-A613-2EA57BD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A20-3691-48C4-A6C9-B8C160AE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791-F80C-4078-B82C-EF7CBBD0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B45-2FAC-4A03-98A8-CD32459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483-2C02-4F89-A9F5-E08A0545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1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4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cxnSp>
          <p:nvCxnSpPr>
            <p:cNvPr id="12" name="Straight Connector 16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" name="Straight Connector 17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4" name="Freeform 18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7"/>
            <p:cNvSpPr/>
            <p:nvPr/>
          </p:nvSpPr>
          <p:spPr>
            <a:xfrm>
              <a:off x="-8640" y="-864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760" y="2404440"/>
            <a:ext cx="58262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541B1B-AD2D-4DB3-8ED2-F00B61D9F7F1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64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66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67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F74D15-8BA8-4F92-938E-2883AF06C146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8640" y="-8640"/>
            <a:ext cx="9169560" cy="6874920"/>
            <a:chOff x="-8640" y="-8640"/>
            <a:chExt cx="9169560" cy="6874920"/>
          </a:xfrm>
        </p:grpSpPr>
        <p:sp>
          <p:nvSpPr>
            <p:cNvPr id="116" name="Freeform 6"/>
            <p:cNvSpPr/>
            <p:nvPr/>
          </p:nvSpPr>
          <p:spPr>
            <a:xfrm>
              <a:off x="-8640" y="4013280"/>
              <a:ext cx="456840" cy="28530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853000"/>
                <a:gd name="textAreaBottom" fmla="*/ 2853360 h 2853000"/>
              </a:gdLst>
              <a:ahLst/>
              <a:rect l="textAreaLeft" t="textAreaTop" r="textAreaRight" b="textAreaBottom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Straight Connector 7"/>
            <p:cNvCxnSpPr/>
            <p:nvPr/>
          </p:nvCxnSpPr>
          <p:spPr>
            <a:xfrm flipV="1">
              <a:off x="5130720" y="4175280"/>
              <a:ext cx="4022640" cy="268308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18" name="Straight Connector 8"/>
            <p:cNvCxnSpPr/>
            <p:nvPr/>
          </p:nvCxnSpPr>
          <p:spPr>
            <a:xfrm>
              <a:off x="7042680" y="0"/>
              <a:ext cx="121932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119" name="Freeform 9"/>
            <p:cNvSpPr/>
            <p:nvPr/>
          </p:nvSpPr>
          <p:spPr>
            <a:xfrm>
              <a:off x="6891840" y="0"/>
              <a:ext cx="2269080" cy="6866280"/>
            </a:xfrm>
            <a:custGeom>
              <a:avLst/>
              <a:gdLst>
                <a:gd name="textAreaLeft" fmla="*/ 0 w 2269080"/>
                <a:gd name="textAreaRight" fmla="*/ 2269440 w 2269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040" y="-8640"/>
              <a:ext cx="1947960" cy="686628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040" y="3920040"/>
              <a:ext cx="2513160" cy="2937600"/>
            </a:xfrm>
            <a:custGeom>
              <a:avLst/>
              <a:gdLst>
                <a:gd name="textAreaLeft" fmla="*/ 0 w 2513160"/>
                <a:gd name="textAreaRight" fmla="*/ 2513520 w 2513160"/>
                <a:gd name="textAreaTop" fmla="*/ 0 h 2937600"/>
                <a:gd name="textAreaBottom" fmla="*/ 2937960 h 2937600"/>
              </a:gdLst>
              <a:ahLst/>
              <a:rect l="textAreaLeft" t="textAreaTop" r="textAreaRight" b="textAreaBottom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280" y="-8640"/>
              <a:ext cx="2142360" cy="6866280"/>
            </a:xfrm>
            <a:custGeom>
              <a:avLst/>
              <a:gdLst>
                <a:gd name="textAreaLeft" fmla="*/ 0 w 2142360"/>
                <a:gd name="textAreaRight" fmla="*/ 2142720 w 21423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5840" y="-8640"/>
              <a:ext cx="857160" cy="68662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8640"/>
              <a:ext cx="1066320" cy="68662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400" y="4893840"/>
              <a:ext cx="1093680" cy="1963800"/>
            </a:xfrm>
            <a:custGeom>
              <a:avLst/>
              <a:gdLst>
                <a:gd name="textAreaLeft" fmla="*/ 0 w 1093680"/>
                <a:gd name="textAreaRight" fmla="*/ 1094040 w 1093680"/>
                <a:gd name="textAreaTop" fmla="*/ 0 h 1963800"/>
                <a:gd name="textAreaBottom" fmla="*/ 1964160 h 1963800"/>
              </a:gdLst>
              <a:ahLst/>
              <a:rect l="textAreaLeft" t="textAreaTop" r="textAreaRight" b="textAreaBottom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5405400" y="6041520"/>
            <a:ext cx="68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8"/>
          </p:nvPr>
        </p:nvSpPr>
        <p:spPr>
          <a:xfrm>
            <a:off x="609480" y="6041520"/>
            <a:ext cx="4622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2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B8CE49-FBAE-47D6-BAEF-E90E58AAA0F8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5638320" cy="5638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600200" y="0"/>
            <a:ext cx="6095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ЛЕГКАЯ АТЛ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976200" y="5486400"/>
            <a:ext cx="5181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ИТЕЛЬ ФИЗИЧЕСКОЙ КУЛЬТУРЫ МАОУ ГИМНАЗИИ №40 им. Ю.А.Гаг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ШВЕЦОВА НАТАЛЬЯ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3"/>
          <p:cNvSpPr/>
          <p:nvPr/>
        </p:nvSpPr>
        <p:spPr>
          <a:xfrm>
            <a:off x="152280" y="152280"/>
            <a:ext cx="342864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– способ преодоления препятствий: вертикальных; горизонталь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состав лёгкой атлетики входят четыре вида прыжков: в высоту, в длину, тройной, прыжок с шес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480" indent="-384120">
              <a:lnSpc>
                <a:spcPct val="90000"/>
              </a:lnSpc>
              <a:buClr>
                <a:srgbClr val="2a501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остижения в прыжках измеряются в метрах и сантиметр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5105520" y="1295280"/>
            <a:ext cx="33523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7819"/>
              </a:buClr>
              <a:buFont typeface="Wingdings" charset="2"/>
              <a:buChar char=""/>
            </a:pPr>
            <a:r>
              <a:rPr b="1" lang="ru-RU" sz="2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Метания – упражнения в толкании и бросании специальных снарядов на даль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7819"/>
              </a:buClr>
              <a:buFont typeface="Wingdings" charset="2"/>
              <a:buChar char=""/>
            </a:pPr>
            <a:r>
              <a:rPr b="1" lang="ru-RU" sz="2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Соревнования проводятся по толканию ядра, метанию копья, диска, моло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4"/>
          <p:cNvSpPr/>
          <p:nvPr/>
        </p:nvSpPr>
        <p:spPr>
          <a:xfrm>
            <a:off x="228600" y="152280"/>
            <a:ext cx="8686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Требования ТЕХНИКИ БЕЗОПАСНОСТИ во время занятий ЛЕГКОЙ АТЛЕТ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0" y="1447200"/>
            <a:ext cx="80769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групповом старте на короткие дистанции бежать только по своей дор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о избежание столкновений исключить резкие остановки во время бе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выполнять прыжки на неровном, рыхлом и скользком грунте, не приземляться при прыжках на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еред выполнением метаний посмотреть, нет ли людей в секторе для м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производить метания без разрешения учителя, не оставлять без присмотра снаряды для м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стоять справа от метающего, не находиться в зоне броска, не подбирать снаряды для метания без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е подавать друг другу снаряд для метения брос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2a501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плохом самочувствии прекратить занятия и сообщить об этом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3276720" y="38862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380880" y="533520"/>
            <a:ext cx="723852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Trebuchet MS"/>
              </a:rPr>
              <a:t>ПРАВИЛА СОРЕВНОВАНИЙ ПО ЛЕГКОЙ АТЛЕТИК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304920" y="685800"/>
            <a:ext cx="70862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е по бегу проводятся по беговой дорожке, состоящей из двух прямых и двух поворотов, в направлении против часовой стре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 беговой дорожке размечаются линиями место старта и финиша. Каждая дорожка имеет свой ном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 старте бега, проводимого по раздельным дорожкам, используются стартовые колод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астник стартующий раньше команды (фальстарт), получает предупреждение, после второго предупреждения дисквалифицир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забегах на средние и длинные дистанции участники стартуют группой с высокого старта. Каждый спортсмен должен бежать не мешая другим участникам и не сокращая дистан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0" y="304920"/>
            <a:ext cx="739116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ЭСТАФЕТНЫЙ 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эстафетном беге на каждом этапе размечаются зоны длинной 20 м для передачи эстафетной палоч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сли передача эстафеты происходит вне зоны, то команда дисквалифицир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и падении эстафетной палочки поднять её должен тот, кто урон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ый участник команды в эстафетном беге имеет право бежать только один этап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3" descr=""/>
          <p:cNvPicPr/>
          <p:nvPr/>
        </p:nvPicPr>
        <p:blipFill>
          <a:blip r:embed="rId1"/>
          <a:stretch/>
        </p:blipFill>
        <p:spPr>
          <a:xfrm>
            <a:off x="0" y="3048120"/>
            <a:ext cx="859428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152280" y="228600"/>
            <a:ext cx="739116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я разбега используется дорожка длинной около 30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ому участнику даётся 3 попытки. Засчитывается лучший результат. Участник не имеет право совершать прыжки без вызова суд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талкиваясь от бруска, участник соревнований не должен за него заступать. При заступе результат не засчитыв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2" descr=""/>
          <p:cNvPicPr/>
          <p:nvPr/>
        </p:nvPicPr>
        <p:blipFill>
          <a:blip r:embed="rId1"/>
          <a:stretch/>
        </p:blipFill>
        <p:spPr>
          <a:xfrm>
            <a:off x="0" y="3187800"/>
            <a:ext cx="7845840" cy="36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152280" y="228600"/>
            <a:ext cx="4419360" cy="67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в высоту проводятся в специальном сек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я преодоления каждой высоты участникам предоставляется по 3 попытки, которые они выполняют поочерё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ок не засчитывается, если участник отталкивается от земли двумя ногами, сбивает планку любой частью тела или пробегает под н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ысоту измеряют от верхнего края планки до поверхности сект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285840">
              <a:lnSpc>
                <a:spcPct val="9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прыжковых видах судейская коллегия состоит из старшего судьи, двух судей-измерителей и секретар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2" descr=""/>
          <p:cNvPicPr/>
          <p:nvPr/>
        </p:nvPicPr>
        <p:blipFill>
          <a:blip r:embed="rId1"/>
          <a:stretch/>
        </p:blipFill>
        <p:spPr>
          <a:xfrm>
            <a:off x="4986000" y="2035800"/>
            <a:ext cx="4157640" cy="48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28600" y="76320"/>
            <a:ext cx="5028840" cy="73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по метанию мяча проводятся от контрольной линии в поле, в специально размеченном коридоре шириной 10 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аждому участнику даётся по3 попытки. Засчитывается лучший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е мяча выполняется с места или с разбега. Лучший результат измеряется от места приземления рулеткой в метрах и сантиметрах до контрольной ли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Участник не имеет права: приступать к метанию без вызова судьи, находиться в секторе метания для приземления мяча без разрешения суд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Результат не засчитывается, если участник заступил за контрольную линию или мяч при метании приземлился вне корид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2" descr=""/>
          <p:cNvPicPr/>
          <p:nvPr/>
        </p:nvPicPr>
        <p:blipFill>
          <a:blip r:embed="rId1"/>
          <a:stretch/>
        </p:blipFill>
        <p:spPr>
          <a:xfrm>
            <a:off x="5961600" y="2840400"/>
            <a:ext cx="3182040" cy="401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457200" y="304920"/>
            <a:ext cx="68576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ВИГАЙТЕСЬ БОЛЬШ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ВИЖЕНИЕ – ЖИЗНЬ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2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Термин «</a:t>
            </a:r>
            <a:r>
              <a:rPr b="1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гимнастика</a:t>
            </a: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» впервые появляется у древних греков в период расцвета древнегреческой культуры в 8 веке до н. ... Гимнастические упражнения входили в систему физического воспитания в Древней Греции, служили средством подготовки юношей к участию в Олимпийских игр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ще в глубокой древности человеку было необходимо уметь быстро бегать, ловко преодолевать различные препятствия, метать разного рода снаряды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18240" indent="-3182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 умения человека догнать и метко поразить добычу, от способности быть стойким и закаленным в борьбе с таинственными силами природы зависела его охотничья удача, а значит — и жизнь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240" cy="56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ревнейшим состязанием атлетов, несомненно, является бег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776  г. до н. э. в Олимпии, победитель был один, так как атлеты соревновались на тех играх только в беге на один стадий (примерно 192 м) — отсюда слово «стадион». Победителя звали Кореб, он был поваром из города-полиса Элиды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лись древние и в метании диска. Диски делали из дерева, камня, железа, бронзы, нередко украшались резьбой, изображениями птиц, животных или сценами спортивных соревнований. Вес диска был от 1,25 до 6,63 к г. (Сегодня диск весит 2 кг для мужчин и 1 кг для женщин.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240" cy="60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временная легкая атлетика раньше, чем в других странах получила распространение в Англи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ще в 1837 здесь состоялись первые соревнования по бегу на дистанцию около 2 км. Участниками этого соревнования были учащиеся колледжа города Регб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-3225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Чуть позже в программу соревнований был включен бег на короткие дистанции, бег с препятствиями и метание тяжести, с 1851 — прыжки в длину и в высоту с разбега, а с 1864 — метание молота и толкание яд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1880 г. в Англии была основана любительская легкоатлетическая ассоциация, получившая права высшего органа по легкой атлетике в пределах Британской империи, а также в ее колония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США первый атлетический клуб появился в 1868 г. в Нью-Йорке. Но, пожалуй, центрами развития легкой атлетики в Америке в те годы становятся университет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94920" indent="-361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восьмидесятые-девяностые годы прошлого века легкая атлетика, как самостоятельный вид спорта начинает культивироваться почти во всех странах Европ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5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38152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озрождение в 1896 Олимпийских игр современности оказало большое влияние на развитие легкой атлетики.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  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 программу Игр I Олимпиады в Афинах (1896) были включены 12 видов легкоатлетических соревнований. Почти все медали на этих Играх завоевали американские легкоатлеты.</a:t>
            </a: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для женщин появились на олимпийских играх в 1928, на Играх 1996 женщины соревновались в 20 видах легкой атлетике, а уже на летнем чемпионате мира (1999) и Олимпиаде в Сиднее (2000) женщины смогли состязаться в прыжках с шестом и метании молота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Отечественная лёгкая атлетика возникла в 1888 году, когда под Петербургом был создан первый кружок любителей бега.   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Начиная с первых Олимпийских игр нашего времени (1896) легкая атлетика занимает главное место в их программе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ния для женщин появились на олимпийских играх в 1928году.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lnSpc>
                <a:spcPct val="12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 </a:t>
            </a:r>
            <a:r>
              <a:rPr b="0" lang="ru-RU" sz="80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1912 году команда легкоатлетов России приняла участие в Олимпийских играх в Стокгольме.  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Основой легкой атлетики являются естественные движения человек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Занятия легкой атлетикой способствуют всестороннему физическому развитию, укреплению здоровья люд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20480" indent="-3841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"/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Популярность и массовость легкой атлетики объясняются общедоступностью и большим разнообразием легкоатлетических упражнений, простотой техники выполнения, возможностью варьировать нагрузку и проводить занятия в любое время года не только на спортивных площадках, но и в естественных условия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ИДЫ ЛЕГКОЙ АТЛЕТИ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634752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Ходьб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Прыжки – в длину, в высоту, прыжок тройной, с шесто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Метания – диск, копьё, молот и толкание ядр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Легкоатлетические многоборь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3"/>
          <p:cNvSpPr/>
          <p:nvPr/>
        </p:nvSpPr>
        <p:spPr>
          <a:xfrm>
            <a:off x="380880" y="609480"/>
            <a:ext cx="38858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Ходьба 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– самый распространенный способ пере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В соревнованиях применяется особый вид ходьбы – </a:t>
            </a:r>
            <a:r>
              <a:rPr b="0" i="1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портивная ходьба</a:t>
            </a:r>
            <a:r>
              <a:rPr b="0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. Соревнования по ходьбе проводятся на дорожках стадиона и на обычных дорогах на дистанциях 3,5,10,20,5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42120" cy="46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228600" y="304920"/>
            <a:ext cx="7772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1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 – </a:t>
            </a: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естественный способ ускоренного передвиж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 легкой атлетике различают гладкий бег, бег с препятствиями, эстафетный и кроссовый бе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242280" y="2438280"/>
            <a:ext cx="318636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ИДЫ Б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Гладкий бег проводится на беговой дорожке по кругу на дистанции от 30 м до 3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Бег с препятст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Эстафетный б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россовый бег – бег в естественных условиях по пересеченной местности на различных дистанциях до 1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Выносливость – основное физическое качество, необходимое для успеха в этом виде лёгкой атле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3429000" y="1560240"/>
            <a:ext cx="457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ОРЕВНОВАТЕЛЬНЫЕ ДИ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Короткие – 60м, 100,200, 4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редние – 800, 15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Длинные – 5000, 10000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a5010"/>
              </a:buClr>
              <a:buFont typeface="Arial"/>
              <a:buChar char="•"/>
            </a:pPr>
            <a:r>
              <a:rPr b="0" i="1" lang="ru-RU" sz="1800" spc="-1" strike="noStrike">
                <a:solidFill>
                  <a:schemeClr val="accent2">
                    <a:lumMod val="50000"/>
                  </a:schemeClr>
                </a:solidFill>
                <a:latin typeface="Trebuchet MS"/>
              </a:rPr>
              <a:t>Сверхдлинные – более 10км, в том числе марафон (42км 195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3774600" y="3314880"/>
            <a:ext cx="28407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27</TotalTime>
  <Application>LibreOffice/7.4.7.2$Linux_X86_64 LibreOffice_project/40$Build-2</Application>
  <AppVersion>15.0000</AppVersion>
  <Words>849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User</dc:creator>
  <dc:description/>
  <dc:language>en-US</dc:language>
  <cp:lastModifiedBy>Пользователь Windows</cp:lastModifiedBy>
  <cp:lastPrinted>1601-01-01T00:00:00Z</cp:lastPrinted>
  <dcterms:modified xsi:type="dcterms:W3CDTF">2021-02-10T10:21:0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  <property fmtid="{D5CDD505-2E9C-101B-9397-08002B2CF9AE}" pid="4" name="Version">
    <vt:r8>1</vt:r8>
  </property>
</Properties>
</file>