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244-9B26-4F98-8620-24166141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47A-CDA1-4506-9238-469CB9EE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1EF-C1A6-4033-930E-D3F564C0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610-0F24-4B8F-9462-38E10A0E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6BFF-4616-4CD0-9052-828E708A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6B60-556F-4295-99D2-FF95168C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55DF-D468-45DA-8AE8-B9227C4A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08B8-71F1-4586-BD67-65F1CBCA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103A-6C04-4179-BCD6-B7DC4793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EC23-DD00-4530-90CF-C9EF6144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49B3-87E3-467A-A553-08247DAA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2C0-1691-432A-8A2F-D916EC85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28A1-EC87-4C76-85C6-2D47B872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67A0-A123-458C-AC87-92E52C14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2244-68B1-431C-A366-DF18AE78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305B-5745-4A60-B6ED-530C435D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F17D-9A27-4523-B7DA-4E289746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D32DA-3F30-4413-A70C-DF74EE58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284CA-5D4A-4682-9C28-6435602D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DEB19-6D8F-401B-8DA6-170CAC32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2F5E0-FC91-42EE-8202-20B9D452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2830-DC60-4DB9-8FE4-54323498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113-3B15-4905-88B3-24C71F8A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93B83-34DA-4645-9089-BE21BF8D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0E786-4E80-47CA-B815-C1C1E512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7BECB-CFA6-4B39-88EA-0EA08164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913C-CD51-4F0C-B861-390805CA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0FDB5-314C-42C5-B203-BD3A34D4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36D46-2D56-460C-B332-7FB11AC7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70E00-DD7A-4BC1-9889-86DC68A3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0EF-8A6D-4CB9-8585-83ADCEE2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9459-DC87-46BB-8D3F-E5A2E932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895-6D0D-40B8-A393-215C4794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D5B-7FAE-4E9E-BAF5-E3AEE38F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A67-78D9-480B-A7F3-3A364D97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3F5-395D-4E5A-BFBD-AF413971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sp>
          <p:nvSpPr>
            <p:cNvPr id="1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3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4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cxnSp>
          <p:nvCxnSpPr>
            <p:cNvPr id="12" name="Straight Connector 16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3" name="Straight Connector 17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14" name="Freeform 18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2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3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4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7"/>
            <p:cNvSpPr/>
            <p:nvPr/>
          </p:nvSpPr>
          <p:spPr>
            <a:xfrm>
              <a:off x="-8640" y="-8640"/>
              <a:ext cx="863280" cy="5697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697720"/>
                <a:gd name="textAreaBottom" fmla="*/ 5698080 h 5697720"/>
              </a:gdLst>
              <a:ahLst/>
              <a:rect l="textAreaLeft" t="textAreaTop" r="textAreaRight" b="textAreaBottom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0760" y="2404440"/>
            <a:ext cx="58262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259D23-C90A-423F-B9F3-B0118E8024D6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sp>
          <p:nvSpPr>
            <p:cNvPr id="64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66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67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C78293-891B-48D8-8AC8-4925887BCEEB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sp>
          <p:nvSpPr>
            <p:cNvPr id="116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18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119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7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8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BA5CA5-55F6-4EAC-AA70-11FAF8715E39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5638320" cy="56383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1600200" y="0"/>
            <a:ext cx="6095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ЛЕГКАЯ АТЛ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976200" y="5486400"/>
            <a:ext cx="5181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</a:t>
            </a:r>
            <a:r>
              <a:rPr b="1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УЧИТЕЛЬ ФИЗИЧЕСКОЙ КУЛЬТУРЫ МАОУ ГИМНАЗИИ №40 им. Ю.А.Гаг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ШВЕЦОВА НАТАЛЬЯ АНДР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3"/>
          <p:cNvSpPr/>
          <p:nvPr/>
        </p:nvSpPr>
        <p:spPr>
          <a:xfrm>
            <a:off x="152280" y="152280"/>
            <a:ext cx="342864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20480" indent="-384120">
              <a:lnSpc>
                <a:spcPct val="90000"/>
              </a:lnSpc>
              <a:buClr>
                <a:srgbClr val="2a5010"/>
              </a:buClr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ыжки – способ преодоления препятствий: вертикальных; горизонталь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84120">
              <a:lnSpc>
                <a:spcPct val="90000"/>
              </a:lnSpc>
              <a:buClr>
                <a:srgbClr val="2a5010"/>
              </a:buClr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 состав лёгкой атлетики входят четыре вида прыжков: в высоту, в длину, тройной, прыжок с шес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84120">
              <a:lnSpc>
                <a:spcPct val="90000"/>
              </a:lnSpc>
              <a:buClr>
                <a:srgbClr val="2a5010"/>
              </a:buClr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остижения в прыжках измеряются в метрах и сантиметр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5105520" y="1295280"/>
            <a:ext cx="33523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7819"/>
              </a:buClr>
              <a:buFont typeface="Wingdings" charset="2"/>
              <a:buChar char=""/>
            </a:pPr>
            <a:r>
              <a:rPr b="1" lang="ru-RU" sz="2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Метания – упражнения в толкании и бросании специальных снарядов на дальн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7819"/>
              </a:buClr>
              <a:buFont typeface="Wingdings" charset="2"/>
              <a:buChar char=""/>
            </a:pPr>
            <a:r>
              <a:rPr b="1" lang="ru-RU" sz="2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Соревнования проводятся по толканию ядра, метанию копья, диска, моло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4"/>
          <p:cNvSpPr/>
          <p:nvPr/>
        </p:nvSpPr>
        <p:spPr>
          <a:xfrm>
            <a:off x="228600" y="152280"/>
            <a:ext cx="8686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Требования ТЕХНИКИ БЕЗОПАСНОСТИ во время занятий ЛЕГКОЙ АТЛЕТ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0" y="1447200"/>
            <a:ext cx="807696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и групповом старте на короткие дистанции бежать только по своей дорож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о избежание столкновений исключить резкие остановки во время б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е выполнять прыжки на неровном, рыхлом и скользком грунте, не приземляться при прыжках на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еред выполнением метаний посмотреть, нет ли людей в секторе для ме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е производить метания без разрешения учителя, не оставлять без присмотра снаряды для ме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е стоять справа от метающего, не находиться в зоне броска, не подбирать снаряды для метания без разрешени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е подавать друг другу снаряд для метения брос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и плохом самочувствии прекратить занятия и сообщить об этом уч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3276720" y="38862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380880" y="533520"/>
            <a:ext cx="723852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66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ПРАВИЛА СОРЕВНОВАНИЙ ПО ЛЕГКОЙ АТЛЕТИК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2"/>
          <p:cNvSpPr/>
          <p:nvPr/>
        </p:nvSpPr>
        <p:spPr>
          <a:xfrm>
            <a:off x="304920" y="685800"/>
            <a:ext cx="70862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ru-RU" sz="2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Б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ние по бегу проводятся по беговой дорожке, состоящей из двух прямых и двух поворотов, в направлении против часовой стрел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а беговой дорожке размечаются линиями место старта и финиша. Каждая дорожка имеет свой ном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а старте бега, проводимого по раздельным дорожкам, используются стартовые колод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Участник стартующий раньше команды (фальстарт), получает предупреждение, после второго предупреждения дисквалифициру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и забегах на средние и длинные дистанции участники стартуют группой с высокого старта. Каждый спортсмен должен бежать не мешая другим участникам и не сокращая дистанц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0" y="304920"/>
            <a:ext cx="739116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ЭСТАФЕТНЫЙ 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 эстафетном беге на каждом этапе размечаются зоны длинной 20 м для передачи эстафетной палоч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Если передача эстафеты происходит вне зоны, то команда дисквалифициру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и падении эстафетной палочки поднять её должен тот, кто урони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Каждый участник команды в эстафетном беге имеет право бежать только один этап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3" descr=""/>
          <p:cNvPicPr/>
          <p:nvPr/>
        </p:nvPicPr>
        <p:blipFill>
          <a:blip r:embed="rId1"/>
          <a:stretch/>
        </p:blipFill>
        <p:spPr>
          <a:xfrm>
            <a:off x="0" y="3048120"/>
            <a:ext cx="859428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152280" y="228600"/>
            <a:ext cx="739116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Ы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ля разбега используется дорожка длинной около 30 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Каждому участнику даётся 3 попытки. Засчитывается лучший результат. Участник не имеет право совершать прыжки без вызова судь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Отталкиваясь от бруска, участник соревнований не должен за него заступать. При заступе результат не засчитыва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2" descr=""/>
          <p:cNvPicPr/>
          <p:nvPr/>
        </p:nvPicPr>
        <p:blipFill>
          <a:blip r:embed="rId1"/>
          <a:stretch/>
        </p:blipFill>
        <p:spPr>
          <a:xfrm>
            <a:off x="0" y="3187800"/>
            <a:ext cx="7845840" cy="36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152280" y="228600"/>
            <a:ext cx="4419360" cy="67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2220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ыжки в высоту проводятся в специальном секто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ля преодоления каждой высоты участникам предоставляется по 3 попытки, которые они выполняют поочерёд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ыжок не засчитывается, если участник отталкивается от земли двумя ногами, сбивает планку любой частью тела или пробегает под н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ысоту измеряют от верхнего края планки до поверхности сект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 прыжковых видах судейская коллегия состоит из старшего судьи, двух судей-измерителей и секретар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2" descr=""/>
          <p:cNvPicPr/>
          <p:nvPr/>
        </p:nvPicPr>
        <p:blipFill>
          <a:blip r:embed="rId1"/>
          <a:stretch/>
        </p:blipFill>
        <p:spPr>
          <a:xfrm>
            <a:off x="4986000" y="2035800"/>
            <a:ext cx="4157640" cy="482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228600" y="76320"/>
            <a:ext cx="5028840" cy="73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МЕ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ния по метанию мяча проводятся от контрольной линии в поле, в специально размеченном коридоре шириной 10 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Каждому участнику даётся по3 попытки. Засчитывается лучший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Метание мяча выполняется с места или с разбега. Лучший результат измеряется от места приземления рулеткой в метрах и сантиметрах до контрольной ли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Участник не имеет права: приступать к метанию без вызова судьи, находиться в секторе метания для приземления мяча без разрешения судь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Результат не засчитывается, если участник заступил за контрольную линию или мяч при метании приземлился вне корид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2" descr=""/>
          <p:cNvPicPr/>
          <p:nvPr/>
        </p:nvPicPr>
        <p:blipFill>
          <a:blip r:embed="rId1"/>
          <a:stretch/>
        </p:blipFill>
        <p:spPr>
          <a:xfrm>
            <a:off x="5961600" y="2840400"/>
            <a:ext cx="3182040" cy="401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457200" y="304920"/>
            <a:ext cx="685764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ВИГАЙТЕСЬ БОЛЬШ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ВИЖЕНИЕ – ЖИЗНЬ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2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8240" indent="-3182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Термин «</a:t>
            </a:r>
            <a:r>
              <a:rPr b="1" lang="ru-RU" sz="2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гимнастика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» впервые появляется у древних греков в период расцвета древнегреческой культуры в 8 веке до н. ... Гимнастические упражнения входили в систему физического воспитания в Древней Греции, служили средством подготовки юношей к участию в Олимпийских игра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8240" indent="-3182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Еще в глубокой древности человеку было необходимо уметь быстро бегать, ловко преодолевать различные препятствия, метать разного рода снаряды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8240" indent="-3182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От умения человека догнать и метко поразить добычу, от способности быть стойким и закаленным в борьбе с таинственными силами природы зависела его охотничья удача, а значит — и жизнь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240" cy="56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ревнейшим состязанием атлетов, несомненно, является бег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 776  г. до н. э. в Олимпии, победитель был один, так как атлеты соревновались на тех играх только в беге на один стадий (примерно 192 м) — отсюда слово «стадион». Победителя звали Кореб, он был поваром из города-полиса Элид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лись древние и в метании диска. Диски делали из дерева, камня, железа, бронзы, нередко украшались резьбой, изображениями птиц, животных или сценами спортивных соревнований. Вес диска был от 1,25 до 6,63 к г. (Сегодня диск весит 2 кг для мужчин и 1 кг для женщин.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240" cy="60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-3225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временная легкая атлетика раньше, чем в других странах получила распространение в Англи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2560" indent="-3225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Еще в 1837 здесь состоялись первые соревнования по бегу на дистанцию около 2 км. Участниками этого соревнования были учащиеся колледжа города Регб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2560" indent="-3225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Чуть позже в программу соревнований был включен бег на короткие дистанции, бег с препятствиями и метание тяжести, с 1851 — прыжки в длину и в высоту с разбега, а с 1864 — метание молота и толкание ядр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94920" indent="-361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 1880 г. в Англии была основана любительская легкоатлетическая ассоциация, получившая права высшего органа по легкой атлетике в пределах Британской империи, а также в ее колония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94920" indent="-361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 США первый атлетический клуб появился в 1868 г. в Нью-Йорке. Но, пожалуй, центрами развития легкой атлетики в Америке в те годы становятся университеты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94920" indent="-361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 восьмидесятые-девяностые годы прошлого века легкая атлетика, как самостоятельный вид спорта начинает культивироваться почти во всех странах Европ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5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38152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озрождение в 1896 Олимпийских игр современности оказало большое влияние на развитие легкой атлетики. 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0">
              <a:lnSpc>
                <a:spcPct val="120000"/>
              </a:lnSpc>
              <a:buNone/>
              <a:tabLst>
                <a:tab algn="l" pos="0"/>
              </a:tabLst>
            </a:pP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   </a:t>
            </a: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 программу Игр I Олимпиады в Афинах (1896) были включены 12 видов легкоатлетических соревнований. Почти все медали на этих Играх завоевали американские легкоатлеты.</a:t>
            </a:r>
            <a:br>
              <a:rPr sz="8000"/>
            </a:br>
            <a:br>
              <a:rPr sz="8000"/>
            </a:b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ния для женщин появились на олимпийских играх в 1928, на Играх 1996 женщины соревновались в 20 видах легкой атлетике, а уже на летнем чемпионате мира (1999) и Олимпиаде в Сиднее (2000) женщины смогли состязаться в прыжках с шестом и метании молота.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</a:t>
            </a: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Отечественная лёгкая атлетика возникла в 1888 году, когда под Петербургом был создан первый кружок любителей бега.    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 </a:t>
            </a: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ачиная с первых Олимпийских игр нашего времени (1896) легкая атлетика занимает главное место в их программе.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ния для женщин появились на олимпийских играх в 1928году.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</a:t>
            </a: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 1912 году команда легкоатлетов России приняла участие в Олимпийских играх в Стокгольме.  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24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0480" indent="-3841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Основой легкой атлетики являются естественные движения человек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0480" indent="-3841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Занятия легкой атлетикой способствуют всестороннему физическому развитию, укреплению здоровья люде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0480" indent="-3841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Популярность и массовость легкой атлетики объясняются общедоступностью и большим разнообразием легкоатлетических упражнений, простотой техники выполнения, возможностью варьировать нагрузку и проводить занятия в любое время года не только на спортивных площадках, но и в естественных условиях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ИДЫ ЛЕГКОЙ АТЛЕТИК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Ходьб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Бег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ыжки – в длину, в высоту, прыжок тройной, с шесто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Метания – диск, копьё, молот и толкание ядра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Легкоатлетические многоборь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3"/>
          <p:cNvSpPr/>
          <p:nvPr/>
        </p:nvSpPr>
        <p:spPr>
          <a:xfrm>
            <a:off x="380880" y="609480"/>
            <a:ext cx="38858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Ходьба </a:t>
            </a: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– самый распространенный способ пере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В соревнованиях применяется особый вид ходьбы – </a:t>
            </a:r>
            <a:r>
              <a:rPr b="0" i="1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спортивная ходьба</a:t>
            </a: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. Соревнования по ходьбе проводятся на дорожках стадиона и на обычных дорогах на дистанциях 3,5,10,20,5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2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42120" cy="46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228600" y="304920"/>
            <a:ext cx="77720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1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Бег – </a:t>
            </a: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естественный способ ускоренного передвиж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 легкой атлетике различают гладкий бег, бег с препятствиями, эстафетный и кроссовый бе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242280" y="2438280"/>
            <a:ext cx="318636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ИДЫ Б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Гладкий бег проводится на беговой дорожке по кругу на дистанции от 30 м до 3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Бег с препятств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Эстафетный бе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Кроссовый бег – бег в естественных условиях по пересеченной местности на различных дистанциях до 1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ыносливость – основное физическое качество, необходимое для успеха в этом виде лёгкой атле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6"/>
          <p:cNvSpPr/>
          <p:nvPr/>
        </p:nvSpPr>
        <p:spPr>
          <a:xfrm>
            <a:off x="3429000" y="1560240"/>
            <a:ext cx="4571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ТЕЛЬНЫЕ ДИ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Короткие – 60м, 100,200, 400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редние – 800, 1500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линные – 5000, 10000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верхдлинные – более 10км, в том числе марафон (42км 195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3774600" y="3314880"/>
            <a:ext cx="28407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127</TotalTime>
  <Application>LibreOffice/7.4.7.2$Linux_X86_64 LibreOffice_project/40$Build-2</Application>
  <AppVersion>15.0000</AppVersion>
  <Words>849</Words>
  <Paragraphs>10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User</dc:creator>
  <dc:description/>
  <dc:language>en-US</dc:language>
  <cp:lastModifiedBy>Пользователь Windows</cp:lastModifiedBy>
  <cp:lastPrinted>1601-01-01T00:00:00Z</cp:lastPrinted>
  <dcterms:modified xsi:type="dcterms:W3CDTF">2021-02-10T10:21:0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  <property fmtid="{D5CDD505-2E9C-101B-9397-08002B2CF9AE}" pid="4" name="Version">
    <vt:r8>1</vt:r8>
  </property>
</Properties>
</file>