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01DF-7AEE-4923-ABC7-81107E44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084-936A-42F3-94EB-20F0C6D2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7BE-A201-4FCE-862D-78EA1688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28B-007D-4E9E-B9B6-2D77719B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02D0-B82A-40EE-810E-3F02F109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752E-1C8F-4E15-AD57-BD54925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B4E5-C613-42BE-87B6-2F4F8FFF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9C6F-4522-4B7C-ABD6-3F01AAD4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E6C-804C-4F70-9E52-53AB767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49CC-60E6-4B5E-94BA-3EA64E38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699C-5427-48FC-B3BA-D083370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A59-F7F9-4B1A-8F0E-14FC9DBD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D5DB-3918-4BA0-AB20-64A5CDE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FFAA-EBBA-4DBB-B9E5-9E5357B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A9A8-4E14-40ED-AB96-A6030F88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862B-2416-41C1-813B-D4C40E6B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2334-C7BB-4576-AD7A-0D7D3388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493-0A6A-4235-B465-A3DF286D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F65-C63C-44F5-83F7-6986B9D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7DB-4953-44A2-811D-7054306D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8F6-2B79-41F4-A2A4-7710A0F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FE7-BDC0-454D-AC0A-F1F8B27F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127-F3F2-4B11-AC35-7849DC4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EEC-749E-4F83-891E-1C838A8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2888-B13B-4608-9B10-E975938AD3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224F-D625-4564-BC80-8264393B7DF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21272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Garamond"/>
              </a:rPr>
              <a:t>MODAL VERB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85920" y="3142800"/>
            <a:ext cx="6400800" cy="221004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 rot="20301000">
            <a:off x="756000" y="105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5"/>
          <p:cNvSpPr/>
          <p:nvPr/>
        </p:nvSpPr>
        <p:spPr>
          <a:xfrm rot="20443200">
            <a:off x="6109200" y="46414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43080" y="1214280"/>
            <a:ext cx="13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 rot="21391200">
            <a:off x="4013280" y="1123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143760" y="3857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9"/>
          <p:cNvSpPr/>
          <p:nvPr/>
        </p:nvSpPr>
        <p:spPr>
          <a:xfrm rot="20928600">
            <a:off x="1743120" y="4092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0"/>
          <p:cNvSpPr/>
          <p:nvPr/>
        </p:nvSpPr>
        <p:spPr>
          <a:xfrm rot="1352400">
            <a:off x="5998320" y="1432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11"/>
          <p:cNvSpPr/>
          <p:nvPr/>
        </p:nvSpPr>
        <p:spPr>
          <a:xfrm rot="21340800">
            <a:off x="3522600" y="3466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ULDN’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3017520" y="464328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ght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857760" y="414324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NEED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ужно, над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 имеет только форму настоящего неопределенного времен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. е. форм прошедшего и будущего неопределенного времени не имее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We need talk of this no more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м больше не нужно об этом говор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6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NE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отличие от других модальных глаголов вопросительная и отрицательная формы модального глагола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nee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могут образовываться также и при помощ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вспомогательного глагола to do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оответствующей форме, причем смысловой глагол в этом случае употребляется с частицей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Need we answer this letter?</a:t>
            </a:r>
            <a:br>
              <a:rPr sz="2800"/>
            </a:br>
            <a:r>
              <a:rPr b="1" lang="en-US" sz="2800" spc="-1" strike="noStrike">
                <a:solidFill>
                  <a:srgbClr val="4d6600"/>
                </a:solidFill>
                <a:latin typeface="Verdana"/>
              </a:rPr>
              <a:t>Do we need to answer this letter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 нужно ответить на это письм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sh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совет, субъективную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необходимость совершения 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1" lang="ru-RU" sz="2800" spc="-1" strike="noStrike">
                <a:solidFill>
                  <a:srgbClr val="737300"/>
                </a:solidFill>
                <a:latin typeface="Verdana"/>
              </a:rPr>
              <a:t>должен, следуе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одну форму shou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9900"/>
                </a:solidFill>
                <a:latin typeface="Verdana"/>
              </a:rPr>
              <a:t>The instructions should be written in clear language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нужно писать (должны писать) ясным языко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глаголы, обозначающие не само действие, а отношение к нему говорящ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-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Ж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ULD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ЕДУ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j0353654"/>
          <p:cNvPicPr/>
          <p:nvPr/>
        </p:nvPicPr>
        <p:blipFill>
          <a:blip r:embed="rId1"/>
          <a:stretch/>
        </p:blipFill>
        <p:spPr>
          <a:xfrm>
            <a:off x="539640" y="1484280"/>
            <a:ext cx="2021040" cy="131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j0360820"/>
          <p:cNvPicPr/>
          <p:nvPr/>
        </p:nvPicPr>
        <p:blipFill>
          <a:blip r:embed="rId2"/>
          <a:stretch/>
        </p:blipFill>
        <p:spPr>
          <a:xfrm>
            <a:off x="611280" y="2781360"/>
            <a:ext cx="1689120" cy="181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j0430792"/>
          <p:cNvPicPr/>
          <p:nvPr/>
        </p:nvPicPr>
        <p:blipFill>
          <a:blip r:embed="rId3"/>
          <a:stretch/>
        </p:blipFill>
        <p:spPr>
          <a:xfrm>
            <a:off x="324000" y="4508640"/>
            <a:ext cx="2160360" cy="2087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2627280" y="191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CAN SWIM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484360" y="3357720"/>
            <a:ext cx="25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MUST STUD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771640" y="5229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SHOULD KEEP F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МОДАЛЬНЫЕ ГЛАГОЛЫ -ЭТО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не имеют формы инфинитива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частия, герунд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которые  не принимают окончание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s,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es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в 3-ем лице единственного числа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Present Indefinite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лаголы ,после которых инфинитив другого глагола употребляется без частицы </a:t>
            </a:r>
            <a:r>
              <a:rPr b="1" lang="ru-RU" sz="1800" spc="-1" strike="noStrike">
                <a:solidFill>
                  <a:srgbClr val="660033"/>
                </a:solidFill>
                <a:latin typeface="Verdana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ни образуют вопросительную и отрицательную формы без вспомогательного глагол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57360"/>
            <a:ext cx="40384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ust-  to must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can- She cans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e 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y should to study we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hould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ry can drive a c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_______he drive a ca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 ______ not drive a pl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940360" y="155736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7"/>
          <p:cNvSpPr/>
          <p:nvPr/>
        </p:nvSpPr>
        <p:spPr>
          <a:xfrm flipH="1">
            <a:off x="6012000" y="148428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6443640" y="256536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6372000" y="256536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6588000" y="3357720"/>
            <a:ext cx="792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H="1">
            <a:off x="6732360" y="342900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76720" y="479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651640" y="51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1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6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0,102)"/>
                                      </p:to>
                                    </p:set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5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233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4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Can / could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тот модальный глагол имеет две формы: can - для настоящего времени, could - для прошедшего. Употребляется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возможности или способности совершения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умения в прошл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разрешения 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выражения запрет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вершить действ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6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nglish well but s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writ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it at al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Bill and Jenny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ouldn't come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to the party last week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w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m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?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es, you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can g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n't speak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t the lesson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8" descr="unit025a"/>
          <p:cNvPicPr/>
          <p:nvPr/>
        </p:nvPicPr>
        <p:blipFill>
          <a:blip r:embed="rId1"/>
          <a:stretch/>
        </p:blipFill>
        <p:spPr>
          <a:xfrm>
            <a:off x="395280" y="1052640"/>
            <a:ext cx="813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C A 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аn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возможность или способность совершить действие. На русский язык обычно переводится словами </a:t>
            </a:r>
            <a:r>
              <a:rPr b="1" lang="ru-RU" sz="2800" spc="-1" strike="noStrike">
                <a:solidFill>
                  <a:srgbClr val="003399"/>
                </a:solidFill>
                <a:latin typeface="Verdana"/>
              </a:rPr>
              <a:t>могу, умею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coul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формы будущего неопределенног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саn употребляется также для выражения реальной или предполагаемой возмо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4d4d00"/>
                </a:solidFill>
                <a:latin typeface="Verdana"/>
              </a:rPr>
              <a:t>This work could be done at once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у работу можно было сделать сраз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Must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/must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83760"/>
            <a:ext cx="4495680" cy="55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us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употребля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необходимости произвести действие в настоящем или будущ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соблюдения прав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обозначения настоятельного сов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ля выражения запрещ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udy these 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 g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must be home by 10p.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ome and see my new fla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You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mustn't do it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7" descr="unit027a"/>
          <p:cNvPicPr/>
          <p:nvPr/>
        </p:nvPicPr>
        <p:blipFill>
          <a:blip r:embed="rId1"/>
          <a:stretch/>
        </p:blipFill>
        <p:spPr>
          <a:xfrm>
            <a:off x="324000" y="1484280"/>
            <a:ext cx="4752720" cy="504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unit027b"/>
          <p:cNvPicPr/>
          <p:nvPr/>
        </p:nvPicPr>
        <p:blipFill>
          <a:blip r:embed="rId2"/>
          <a:stretch/>
        </p:blipFill>
        <p:spPr>
          <a:xfrm>
            <a:off x="5219640" y="1413000"/>
            <a:ext cx="39243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SHOULD/ SHOULDN’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отребляетс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ть сов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советовать, что не следует дела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разить совет мож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…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udy these examp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Tom should go to bed earli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because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he's always tired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You work all the time. You shouldn't work so har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y don’t you go to bed earli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think it’s a good idea to see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 don’t think it’s a good idea to  cross the street h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7" descr="unit028a"/>
          <p:cNvPicPr/>
          <p:nvPr/>
        </p:nvPicPr>
        <p:blipFill>
          <a:blip r:embed="rId1"/>
          <a:stretch/>
        </p:blipFill>
        <p:spPr>
          <a:xfrm>
            <a:off x="395280" y="1484280"/>
            <a:ext cx="4753080" cy="453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unit028b"/>
          <p:cNvPicPr/>
          <p:nvPr/>
        </p:nvPicPr>
        <p:blipFill>
          <a:blip r:embed="rId2"/>
          <a:stretch/>
        </p:blipFill>
        <p:spPr>
          <a:xfrm>
            <a:off x="5148360" y="1557360"/>
            <a:ext cx="35510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M A 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5480" y="11426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a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336699"/>
                </a:solidFill>
                <a:latin typeface="Verdana"/>
              </a:rPr>
              <a:t>разрешение или возможность совершить действ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На русский язык обычно переводится словами </a:t>
            </a:r>
            <a:r>
              <a:rPr b="0" lang="ru-RU" sz="2800" spc="-1" strike="noStrike">
                <a:solidFill>
                  <a:srgbClr val="3366cc"/>
                </a:solidFill>
                <a:latin typeface="Verdana"/>
              </a:rPr>
              <a:t>могу, можн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В прошедшем неопределенном времени он имеет форм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i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Формы будущего неопределенного времени не име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may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потребляется также для выражения предположения (с оттенком сомнени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3990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739900"/>
                </a:solidFill>
                <a:latin typeface="Verdana"/>
              </a:rPr>
              <a:t>Не</a:t>
            </a:r>
            <a:r>
              <a:rPr b="1" lang="en-US" sz="2800" spc="-1" strike="noStrike">
                <a:solidFill>
                  <a:srgbClr val="739900"/>
                </a:solidFill>
                <a:latin typeface="Verdana"/>
              </a:rPr>
              <a:t> may not know about it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н может и не знать об этом. (Возможно, он не знает об этом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ught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357200"/>
            <a:ext cx="8229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альный глагол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ou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ражает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моральную необходимость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вершения действия. На русский язык обычно переводится словами </a:t>
            </a:r>
            <a:r>
              <a:rPr b="1" lang="ru-RU" sz="2800" spc="-1" strike="noStrike">
                <a:solidFill>
                  <a:srgbClr val="002060"/>
                </a:solidFill>
                <a:latin typeface="Verdana"/>
              </a:rPr>
              <a:t>должен, должен бы, следует, следовало б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Имеет только форму настоящего неопределенного времен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ought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т. е. форм прошедшего и будущего неопределенного времени не име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модального глагола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ought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ысловой глагол в неопределенной форме употребляется с частицей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21:11Z</dcterms:created>
  <dc:creator>Владимир</dc:creator>
  <dc:description/>
  <dc:language>en-US</dc:language>
  <cp:lastModifiedBy>ППС № 1087</cp:lastModifiedBy>
  <dcterms:modified xsi:type="dcterms:W3CDTF">2010-12-20T17:31:57Z</dcterms:modified>
  <cp:revision>8</cp:revision>
  <dc:subject/>
  <dc:title>Слайд 1</dc:title>
</cp:coreProperties>
</file>