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8AE-C6F0-41D2-8415-038AE9DC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84D-E829-4065-B7DC-E887D249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D40-6A32-4BC3-AC28-BC481779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90D-EFB5-4F11-AE01-41886145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B0F1-8239-4746-AE7D-5967D5F8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0F13-EC57-4677-BBFB-6DD0CDAF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EEB4-1DCF-44DF-94E9-7F57FE2E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4743-CB0E-4EFA-840A-1529DD86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A298-1B7B-4DD7-A919-0DB8AE8C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27B1-0536-447D-A60F-97C3BD7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DB09-49E6-4899-8292-F9958F9F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F1E-46D7-4AF4-AB37-290DAF5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546D-C6D8-4E3C-9C0D-A8FBFD2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D449-FCC7-48DF-9BEC-E17BB0A1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3614-3DF9-4AC6-B66D-E8F20ED1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6169-6346-4939-91E0-C2C7127F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96E-C53B-4A6C-8078-4D1AC54D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6CA-B493-4A80-BDE7-4DEE5D42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8B2-710A-4B21-81D1-35F2E1F8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A49-C2DC-4ADC-92E2-E1087B28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21F-745D-4252-91DB-9479C020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B91-0583-4E9B-8BBA-4EF98ECD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3F0-5198-42EA-96DC-2FD41556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781-452B-4ED1-A074-BDD59296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EDC6-B1AF-4E72-832D-D0FD1B1D28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7DD2-1178-4000-8EF3-4F951918D1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2127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Garamond"/>
              </a:rPr>
              <a:t>MODAL VERB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85920" y="3142800"/>
            <a:ext cx="6400800" cy="22100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 rot="20301000">
            <a:off x="756000" y="105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 rot="20443200">
            <a:off x="6109200" y="4641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43080" y="121428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 rot="21391200">
            <a:off x="4013280" y="1123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143760" y="38577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9"/>
          <p:cNvSpPr/>
          <p:nvPr/>
        </p:nvSpPr>
        <p:spPr>
          <a:xfrm rot="20928600">
            <a:off x="1743120" y="4092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0"/>
          <p:cNvSpPr/>
          <p:nvPr/>
        </p:nvSpPr>
        <p:spPr>
          <a:xfrm rot="1352400">
            <a:off x="5998320" y="1432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1"/>
          <p:cNvSpPr/>
          <p:nvPr/>
        </p:nvSpPr>
        <p:spPr>
          <a:xfrm rot="21340800">
            <a:off x="3522600" y="3466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017520" y="46432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gh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3857760" y="414324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NEED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обходимость совершения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нужно, над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 имеет только форму настоящего неопределенного времен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т. е. форм прошедшего и будущего неопределенного времени не име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4d6600"/>
                </a:solidFill>
                <a:latin typeface="Verdana"/>
              </a:rPr>
              <a:t>We need talk of this no more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ам больше не нужно об этом говор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NE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отличие от других модальных глаголов вопросительная и отрицательная формы модального глагола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огут образовываться также и при помощи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спомогательного глагола to do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ответствующей форме, причем смысловой глагол в этом случае употребляется с частицей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6600"/>
                </a:solidFill>
                <a:latin typeface="Verdana"/>
              </a:rPr>
              <a:t>Need we answer this letter?</a:t>
            </a:r>
            <a:br>
              <a:rPr sz="2800"/>
            </a:br>
            <a:r>
              <a:rPr b="1" lang="en-US" sz="2800" spc="-1" strike="noStrike">
                <a:solidFill>
                  <a:srgbClr val="4d6600"/>
                </a:solidFill>
                <a:latin typeface="Verdana"/>
              </a:rPr>
              <a:t>Do we need to answer this letter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 нужно ответить на это письм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sh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совет, субъективную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необходимость совершения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1" lang="ru-RU" sz="2800" spc="-1" strike="noStrike">
                <a:solidFill>
                  <a:srgbClr val="737300"/>
                </a:solidFill>
                <a:latin typeface="Verdana"/>
              </a:rPr>
              <a:t>должен, следу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Имеет только одну форму shou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9900"/>
                </a:solidFill>
                <a:latin typeface="Verdana"/>
              </a:rPr>
              <a:t>The instructions should be written in clear language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нужно писать (должны писать) ясным язы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глаголы, обозначающие не само действие, а отношение к нему говорящ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-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Ж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ЕДУ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j0353654"/>
          <p:cNvPicPr/>
          <p:nvPr/>
        </p:nvPicPr>
        <p:blipFill>
          <a:blip r:embed="rId1"/>
          <a:stretch/>
        </p:blipFill>
        <p:spPr>
          <a:xfrm>
            <a:off x="539640" y="1484280"/>
            <a:ext cx="2021040" cy="131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j0360820"/>
          <p:cNvPicPr/>
          <p:nvPr/>
        </p:nvPicPr>
        <p:blipFill>
          <a:blip r:embed="rId2"/>
          <a:stretch/>
        </p:blipFill>
        <p:spPr>
          <a:xfrm>
            <a:off x="611280" y="2781360"/>
            <a:ext cx="1689120" cy="181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430792"/>
          <p:cNvPicPr/>
          <p:nvPr/>
        </p:nvPicPr>
        <p:blipFill>
          <a:blip r:embed="rId3"/>
          <a:stretch/>
        </p:blipFill>
        <p:spPr>
          <a:xfrm>
            <a:off x="324000" y="4508640"/>
            <a:ext cx="2160360" cy="2087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2627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AN SWIM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484360" y="335772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MUST STUD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771640" y="5229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SHOULD KEEP 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которые не имеют формы инфинитива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частия, герунд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которые  не принимают окончание -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s,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es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 3-ем лице единственного числа 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Present Indefinite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после которых инфинитив другого глагола употребляется без частицы 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и образуют вопросительную и отрицательную формы без вспомогательного глагол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st-  to must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can- She cans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he 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y should to study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hould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ry can drive a c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_______he drive a ca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 ______ not drive a pl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0360" y="1557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7"/>
          <p:cNvSpPr/>
          <p:nvPr/>
        </p:nvSpPr>
        <p:spPr>
          <a:xfrm flipH="1">
            <a:off x="6012000" y="148428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6443640" y="256536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>
            <a:off x="6372000" y="2565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6588000" y="335772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6732360" y="3429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7672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65164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5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6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5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4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Can / could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т модальный глагол имеет две формы: can - для настоящего времени, could - для прошедшего. Употребляется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возможности или способности совершения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умения в прош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разрешения 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запре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6000" y="836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nglish well but 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writ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t at a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Bill and Jenny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ouldn't com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to the party last wee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w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?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es, you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an g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t the lesson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8" descr="unit025a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C A 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аn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возможность или способность совершить действие. На русский язык обычно переводится словами </a:t>
            </a:r>
            <a:r>
              <a:rPr b="1" lang="ru-RU" sz="2800" spc="-1" strike="noStrike">
                <a:solidFill>
                  <a:srgbClr val="003399"/>
                </a:solidFill>
                <a:latin typeface="Verdana"/>
              </a:rPr>
              <a:t>могу, умею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 прошедшем неопределенном времени он имеет форм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c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формы будущего неопределенног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саn употребляется также для выражения реальной или предполагаемой возмо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4d4d00"/>
                </a:solidFill>
                <a:latin typeface="Verdana"/>
              </a:rPr>
              <a:t>This work could be done at once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у работу можно было сделать сраз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Must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/must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83760"/>
            <a:ext cx="449568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употребляе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необходимости произвести действие в настоящем или будущ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соблюдения прав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обозначения настоятельного сов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выражения запрещ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ust g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must be home by 10p.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ome and see my new fla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mustn't do it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7" descr="unit027a"/>
          <p:cNvPicPr/>
          <p:nvPr/>
        </p:nvPicPr>
        <p:blipFill>
          <a:blip r:embed="rId1"/>
          <a:stretch/>
        </p:blipFill>
        <p:spPr>
          <a:xfrm>
            <a:off x="324000" y="1484280"/>
            <a:ext cx="4752720" cy="504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unit027b"/>
          <p:cNvPicPr/>
          <p:nvPr/>
        </p:nvPicPr>
        <p:blipFill>
          <a:blip r:embed="rId2"/>
          <a:stretch/>
        </p:blipFill>
        <p:spPr>
          <a:xfrm>
            <a:off x="5219640" y="1413000"/>
            <a:ext cx="3924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/ SHOULD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отребляетс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ть со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оветовать, что не следует дел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разить совет мож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…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Tom should go to bed earli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becaus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he's always tired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ou work all the time. You shouldn't work so ha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 go to bed earli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 it’s a good idea to  cross the street h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7" descr="unit028a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unit028b"/>
          <p:cNvPicPr/>
          <p:nvPr/>
        </p:nvPicPr>
        <p:blipFill>
          <a:blip r:embed="rId2"/>
          <a:stretch/>
        </p:blipFill>
        <p:spPr>
          <a:xfrm>
            <a:off x="5148360" y="1557360"/>
            <a:ext cx="3551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 A 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5480" y="114264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may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</a:t>
            </a: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разрешение или возможность совершить дей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могу, можн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 прошедшем неопределенном времени он имеет форм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migh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Формы будущего неопределенного времени не име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may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потребляется также для выражения предположения (с оттенком сомнени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99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739900"/>
                </a:solidFill>
                <a:latin typeface="Verdana"/>
              </a:rPr>
              <a:t>Не</a:t>
            </a:r>
            <a:r>
              <a:rPr b="1" lang="en-US" sz="2800" spc="-1" strike="noStrike">
                <a:solidFill>
                  <a:srgbClr val="739900"/>
                </a:solidFill>
                <a:latin typeface="Verdana"/>
              </a:rPr>
              <a:t> may not know about it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н может и не знать об этом. (Возможно, он не знает об этом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ught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ough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моральную необходимость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ия действия. На русский язык обычно переводится словами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должен, должен бы, следует, следовало б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Имеет только форму настоящего неопределенного времен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ough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т. е. форм прошедшего и будущего неопределенного времени не име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модального глагола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ought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ысловой глагол в неопределенной форме употребляется с частицей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5:21:11Z</dcterms:created>
  <dc:creator>Владимир</dc:creator>
  <dc:description/>
  <dc:language>en-US</dc:language>
  <cp:lastModifiedBy>ППС № 1087</cp:lastModifiedBy>
  <dcterms:modified xsi:type="dcterms:W3CDTF">2010-12-20T17:31:57Z</dcterms:modified>
  <cp:revision>8</cp:revision>
  <dc:subject/>
  <dc:title>Слайд 1</dc:title>
</cp:coreProperties>
</file>