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8788-EA50-474C-95FB-9158CAF8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86C-D379-4E0F-9E00-BB9E85F4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472-C931-4D02-B792-07953CC4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562-5C20-422C-8742-91518B61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F9FC-47AD-4770-8778-C4ECE6F2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C34F-2910-4E7A-AA93-922F6ED7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3226-23E5-4A9F-9E8D-0F9BE4D0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C73D-DA9B-4CBE-ACEF-AD7CF1B3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046D-7FAB-4D8E-B505-83291734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D3FF-8D3C-4EF7-9539-9220E2AE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2962-A64E-4650-BE94-1D32DA38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CA43-3E71-4D73-9777-DAFF1E5D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05E1-4512-4278-A7F1-54D2FB4A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40DC-5EE3-4471-B0A3-12ADC0A8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3C8D-3FA5-4692-804B-EA5E90E9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4957-DCD8-449B-B4DD-BF67DBC1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891A-FEBA-4A96-BF1F-447C0538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AB7-3601-423B-A577-1CCF70A4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ADF-C0AD-47FA-A159-2BE758F6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C92E-2972-4C01-BC7F-4F0346B6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D456-0D0F-4AE1-B081-74BFF2E0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BEF-BFE3-4E67-BA7C-A1007C1F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F0A5-10C0-49A3-9B37-35E1391E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3967-679E-45EA-A6E8-D8471629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6E43-356B-4E15-8C0B-A3BC41A3C2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EDA3-902A-4DC2-9BA1-8C791CD0D2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2127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Garamond"/>
              </a:rPr>
              <a:t>MODAL VERB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85920" y="3142800"/>
            <a:ext cx="6400800" cy="221004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 rot="20301000">
            <a:off x="756000" y="1052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5"/>
          <p:cNvSpPr/>
          <p:nvPr/>
        </p:nvSpPr>
        <p:spPr>
          <a:xfrm rot="20443200">
            <a:off x="6109200" y="46414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U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143080" y="1214280"/>
            <a:ext cx="13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7"/>
          <p:cNvSpPr/>
          <p:nvPr/>
        </p:nvSpPr>
        <p:spPr>
          <a:xfrm rot="21391200">
            <a:off x="4013280" y="1123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143760" y="38577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9"/>
          <p:cNvSpPr/>
          <p:nvPr/>
        </p:nvSpPr>
        <p:spPr>
          <a:xfrm rot="20928600">
            <a:off x="1743120" y="4092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0"/>
          <p:cNvSpPr/>
          <p:nvPr/>
        </p:nvSpPr>
        <p:spPr>
          <a:xfrm rot="1352400">
            <a:off x="5998320" y="14320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11"/>
          <p:cNvSpPr/>
          <p:nvPr/>
        </p:nvSpPr>
        <p:spPr>
          <a:xfrm rot="21340800">
            <a:off x="3522600" y="34668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ULD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3017520" y="464328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ught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3857760" y="414324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NEED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альный 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nee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ражает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обходимость совершения действ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На русский язык обычно переводится словами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нужно, над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н имеет только форму настоящего неопределенного времени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nee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т. е. форм прошедшего и будущего неопределенного времени не имее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4d6600"/>
                </a:solidFill>
                <a:latin typeface="Verdana"/>
              </a:rPr>
              <a:t>We need talk of this no more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Нам больше не нужно об этом говор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6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8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8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8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NE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отличие от других модальных глаголов вопросительная и отрицательная формы модального глагола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nee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могут образовываться также и при помощи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вспомогательного глагола to do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оответствующей форме, причем смысловой глагол в этом случае употребляется с частицей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6600"/>
                </a:solidFill>
                <a:latin typeface="Verdana"/>
              </a:rPr>
              <a:t>Need we answer this letter?</a:t>
            </a:r>
            <a:br>
              <a:rPr sz="2800"/>
            </a:br>
            <a:r>
              <a:rPr b="1" lang="en-US" sz="2800" spc="-1" strike="noStrike">
                <a:solidFill>
                  <a:srgbClr val="4d6600"/>
                </a:solidFill>
                <a:latin typeface="Verdana"/>
              </a:rPr>
              <a:t>Do we need to answer this letter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 нужно ответить на это письм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5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SHOUL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shoul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ражает совет, субъективную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необходимость совершения действ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На русский язык обычно переводится словами </a:t>
            </a:r>
            <a:r>
              <a:rPr b="1" lang="ru-RU" sz="2800" spc="-1" strike="noStrike">
                <a:solidFill>
                  <a:srgbClr val="737300"/>
                </a:solidFill>
                <a:latin typeface="Verdana"/>
              </a:rPr>
              <a:t>должен, следуе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Имеет только одну форму shou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9900"/>
                </a:solidFill>
                <a:latin typeface="Verdana"/>
              </a:rPr>
              <a:t>The instructions should be written in clear language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нужно писать (должны писать) ясным язык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МОДАЛЬНЫЕ ГЛАГОЛЫ -ЭТ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то глаголы, обозначающие не само действие, а отношение к нему говоряще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-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-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ЖЕ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-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ЕДУ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6" descr="j0353654"/>
          <p:cNvPicPr/>
          <p:nvPr/>
        </p:nvPicPr>
        <p:blipFill>
          <a:blip r:embed="rId1"/>
          <a:stretch/>
        </p:blipFill>
        <p:spPr>
          <a:xfrm>
            <a:off x="539640" y="1484280"/>
            <a:ext cx="2021040" cy="1311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j0360820"/>
          <p:cNvPicPr/>
          <p:nvPr/>
        </p:nvPicPr>
        <p:blipFill>
          <a:blip r:embed="rId2"/>
          <a:stretch/>
        </p:blipFill>
        <p:spPr>
          <a:xfrm>
            <a:off x="611280" y="2781360"/>
            <a:ext cx="1689120" cy="1812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j0430792"/>
          <p:cNvPicPr/>
          <p:nvPr/>
        </p:nvPicPr>
        <p:blipFill>
          <a:blip r:embed="rId3"/>
          <a:stretch/>
        </p:blipFill>
        <p:spPr>
          <a:xfrm>
            <a:off x="324000" y="4508640"/>
            <a:ext cx="2160360" cy="2087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"/>
          <p:cNvSpPr/>
          <p:nvPr/>
        </p:nvSpPr>
        <p:spPr>
          <a:xfrm>
            <a:off x="2627280" y="1916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CAN SWIM WE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2484360" y="3357720"/>
            <a:ext cx="25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MUST STUD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SCHO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2771640" y="5229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SHOULD KEEP F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МОДАЛЬНЫЕ ГЛАГОЛЫ -ЭТ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лаголы ,которые не имеют формы инфинитива,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частия, герунд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лаголы ,которые  не принимают окончание -</a:t>
            </a:r>
            <a:r>
              <a:rPr b="1" lang="ru-RU" sz="1800" spc="-1" strike="noStrike">
                <a:solidFill>
                  <a:srgbClr val="660033"/>
                </a:solidFill>
                <a:latin typeface="Verdana"/>
              </a:rPr>
              <a:t>s,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1" lang="ru-RU" sz="1800" spc="-1" strike="noStrike">
                <a:solidFill>
                  <a:srgbClr val="660033"/>
                </a:solidFill>
                <a:latin typeface="Verdana"/>
              </a:rPr>
              <a:t>es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в 3-ем лице единственного числа </a:t>
            </a:r>
            <a:r>
              <a:rPr b="1" lang="ru-RU" sz="1800" spc="-1" strike="noStrike">
                <a:solidFill>
                  <a:srgbClr val="660033"/>
                </a:solidFill>
                <a:latin typeface="Verdana"/>
              </a:rPr>
              <a:t>Present Indefinite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лаголы ,после которых инфинитив другого глагола употребляется без частицы </a:t>
            </a:r>
            <a:r>
              <a:rPr b="1" lang="ru-RU" sz="1800" spc="-1" strike="noStrike">
                <a:solidFill>
                  <a:srgbClr val="660033"/>
                </a:solidFill>
                <a:latin typeface="Verdana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ни образуют вопросительную и отрицательную формы без вспомогательного глагол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ust-  to must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u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can- She cans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he c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y should to study we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hould stu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ry can drive a c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_______he drive a ca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e ______ not drive a pla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5940360" y="155736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7"/>
          <p:cNvSpPr/>
          <p:nvPr/>
        </p:nvSpPr>
        <p:spPr>
          <a:xfrm flipH="1">
            <a:off x="6012000" y="1484280"/>
            <a:ext cx="720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6443640" y="256536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9"/>
          <p:cNvSpPr/>
          <p:nvPr/>
        </p:nvSpPr>
        <p:spPr>
          <a:xfrm flipH="1">
            <a:off x="6372000" y="256536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6588000" y="335772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1"/>
          <p:cNvSpPr/>
          <p:nvPr/>
        </p:nvSpPr>
        <p:spPr>
          <a:xfrm flipH="1">
            <a:off x="6732360" y="342900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076720" y="47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651640" y="51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0,102)"/>
                                      </p:to>
                                    </p:set>
                                    <p:set>
                                      <p:cBhvr>
                                        <p:cTn id="2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0,102)"/>
                                      </p:to>
                                    </p:set>
                                    <p:set>
                                      <p:cBhvr>
                                        <p:cTn id="2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5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19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0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0,102)"/>
                                      </p:to>
                                    </p:set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0,102)"/>
                                      </p:to>
                                    </p:set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5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37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8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Can / could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4956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тот модальный глагол имеет две формы: can - для настоящего времени, could - для прошедшего. Употребляется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возможности или способности совершения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умения в прошл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разрешения совершить действ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запрет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вершить действ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6000" y="836640"/>
            <a:ext cx="4038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y these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 speak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English well but s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't writ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it at al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Bill and Jenny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couldn't com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to the party last wee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w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g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m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?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Yes, you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can g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't speak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t the lesson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8" descr="unit025a"/>
          <p:cNvPicPr/>
          <p:nvPr/>
        </p:nvPicPr>
        <p:blipFill>
          <a:blip r:embed="rId1"/>
          <a:stretch/>
        </p:blipFill>
        <p:spPr>
          <a:xfrm>
            <a:off x="395280" y="1052640"/>
            <a:ext cx="8136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C A N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альный 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аn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ражает возможность или способность совершить действие. На русский язык обычно переводится словами </a:t>
            </a:r>
            <a:r>
              <a:rPr b="1" lang="ru-RU" sz="2800" spc="-1" strike="noStrike">
                <a:solidFill>
                  <a:srgbClr val="003399"/>
                </a:solidFill>
                <a:latin typeface="Verdana"/>
              </a:rPr>
              <a:t>могу, умею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В прошедшем неопределенном времени он имеет форму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coul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ет формы будущего неопределенног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лагол саn употребляется также для выражения реальной или предполагаемой возмож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4d4d00"/>
                </a:solidFill>
                <a:latin typeface="Verdana"/>
              </a:rPr>
              <a:t>This work could be done at once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у работу можно было сделать сраз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Must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/mustn’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83760"/>
            <a:ext cx="449568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агол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must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употребляетс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необходимости произвести действие в настоящем или будущ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 соблюдения прав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 обозначения настоятельного сов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 выражения запрещ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495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udy these ex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ust go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You must be home by 10p.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come and see my new fla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mustn't do it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7" descr="unit027a"/>
          <p:cNvPicPr/>
          <p:nvPr/>
        </p:nvPicPr>
        <p:blipFill>
          <a:blip r:embed="rId1"/>
          <a:stretch/>
        </p:blipFill>
        <p:spPr>
          <a:xfrm>
            <a:off x="324000" y="1484280"/>
            <a:ext cx="4752720" cy="504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unit027b"/>
          <p:cNvPicPr/>
          <p:nvPr/>
        </p:nvPicPr>
        <p:blipFill>
          <a:blip r:embed="rId2"/>
          <a:stretch/>
        </p:blipFill>
        <p:spPr>
          <a:xfrm>
            <a:off x="5219640" y="1413000"/>
            <a:ext cx="392436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SHOULD/ SHOULDN’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отребляетс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тобы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ть со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советовать, что не следует дел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разить совет мож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y don’t you…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think it’s a good id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don’t think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udy these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Tom should go to bed earli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,because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he's always tired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You work all the time. You shouldn't work so har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y don’t you go to bed earli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think it’s a good idea to see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don’t think it’s a good idea to  cross the street he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7" descr="unit028a"/>
          <p:cNvPicPr/>
          <p:nvPr/>
        </p:nvPicPr>
        <p:blipFill>
          <a:blip r:embed="rId1"/>
          <a:stretch/>
        </p:blipFill>
        <p:spPr>
          <a:xfrm>
            <a:off x="395280" y="1484280"/>
            <a:ext cx="4753080" cy="453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unit028b"/>
          <p:cNvPicPr/>
          <p:nvPr/>
        </p:nvPicPr>
        <p:blipFill>
          <a:blip r:embed="rId2"/>
          <a:stretch/>
        </p:blipFill>
        <p:spPr>
          <a:xfrm>
            <a:off x="5148360" y="1557360"/>
            <a:ext cx="35510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M A 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85480" y="114264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альный 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may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ражает </a:t>
            </a:r>
            <a:r>
              <a:rPr b="1" lang="ru-RU" sz="2800" spc="-1" strike="noStrike">
                <a:solidFill>
                  <a:srgbClr val="336699"/>
                </a:solidFill>
                <a:latin typeface="Verdana"/>
              </a:rPr>
              <a:t>разрешение или возможность совершить действ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На русский язык обычно переводится словами </a:t>
            </a:r>
            <a:r>
              <a:rPr b="0" lang="ru-RU" sz="2800" spc="-1" strike="noStrike">
                <a:solidFill>
                  <a:srgbClr val="3366cc"/>
                </a:solidFill>
                <a:latin typeface="Verdana"/>
              </a:rPr>
              <a:t>могу, можн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В прошедшем неопределенном времени он имеет форму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migh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Формы будущего неопределенного времени не име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may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употребляется также для выражения предположения (с оттенком сомнения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39900"/>
                </a:solidFill>
                <a:latin typeface="Verdana"/>
              </a:rPr>
              <a:t>      </a:t>
            </a:r>
            <a:r>
              <a:rPr b="1" lang="ru-RU" sz="2800" spc="-1" strike="noStrike">
                <a:solidFill>
                  <a:srgbClr val="739900"/>
                </a:solidFill>
                <a:latin typeface="Verdana"/>
              </a:rPr>
              <a:t>Не</a:t>
            </a:r>
            <a:r>
              <a:rPr b="1" lang="en-US" sz="2800" spc="-1" strike="noStrike">
                <a:solidFill>
                  <a:srgbClr val="739900"/>
                </a:solidFill>
                <a:latin typeface="Verdana"/>
              </a:rPr>
              <a:t> may not know about it.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н может и не знать об этом. (Возможно, он не знает об этом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Garamond"/>
              </a:rPr>
              <a:t>O</a:t>
            </a: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ught</a:t>
            </a:r>
            <a:endParaRPr b="0" lang="en-US" sz="6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35720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альный 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ough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ражает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моральную необходимость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ершения действия. На русский язык обычно переводится словами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должен, должен бы, следует, следовало б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Имеет только форму настоящего неопределенного времени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ough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т. е. форм прошедшего и будущего неопределенного времени не име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модального глагола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ought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ысловой глагол в неопределенной форме употребляется с частицей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5:21:11Z</dcterms:created>
  <dc:creator>Владимир</dc:creator>
  <dc:description/>
  <dc:language>en-US</dc:language>
  <cp:lastModifiedBy>ППС № 1087</cp:lastModifiedBy>
  <dcterms:modified xsi:type="dcterms:W3CDTF">2010-12-20T17:31:57Z</dcterms:modified>
  <cp:revision>8</cp:revision>
  <dc:subject/>
  <dc:title>Слайд 1</dc:title>
</cp:coreProperties>
</file>