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720000" y="900000"/>
            <a:ext cx="6120000" cy="3441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dt" idx="3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3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 type="sldNum" idx="3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9608D4-3A87-465C-8160-8DA2FF7CC09E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738E5FC9-3FC7-4E5C-97BB-91C920B566A4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6B894C6A-7BB6-482E-88FF-5235BCA1D2CB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DFC14EF6-ABE6-4871-A76A-EE45ADCFD057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F98259B7-555B-4770-8EDE-CDB3FDDC7994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4B6825BD-32FA-42EB-8E5D-CBB3AFCA14E7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32CFAFC0-3CD0-4702-9181-42CBC769F9CD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F55DDB30-9145-4845-B40F-8ADC7026AD65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BBB663AD-2B8F-43D1-A114-44124B8D0C35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9C51CF92-6ED0-4368-BDEE-262E3290139B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03F20F49-9692-4A5A-B54E-DF03CE0CFA5A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0B36F8DF-6377-4DCF-9D6C-AD897EEF74D3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A01215B2-DA5B-406B-AC59-FBACF96963A4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F3A7-2A62-4612-990D-811261C4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03FB-7665-4A45-B335-81057E54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93F12-B58A-4A2B-BDE9-0559429F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E7A8E-124F-4462-AF7F-15CCB472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45DB0-F25D-4AD4-AFBF-CAD941AB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43BAB-1427-479C-BC08-E466BA81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7D611-C371-473E-8378-612B90DB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5ADC8-1E9E-499C-810F-F07C8382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C0833-2DC1-4F47-9E63-753A6CA0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F576F-9502-4EA2-868A-A340FF65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07862-AA82-44C7-9211-1010779A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774A7-ABBE-4FFC-92F5-AB735854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C7C9-228A-4FF8-BAB5-577139D8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A1D45-355E-4165-8EA4-20877B97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AFA72-7AE7-4558-9DEA-621469C1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2B722-E8A2-4F0C-B3C7-09D62059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B16A1-A849-471D-B81D-D9269650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95CA9-DD42-46DF-920E-8CD1C9B1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A94C3-3818-4451-A5E7-BD723C5B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948B4-4325-47EC-898E-036B1A4A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C7923-0F6B-4061-BDB0-3AFDE433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C9254-C569-40E2-913C-29EB342C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4F83E-DC9A-4CEC-BFBD-FD7BEEEB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B538-736A-40BE-A95C-735B6794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57D0D-0BB4-4784-97D1-FAAB0D27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12CC5-8FDA-4D24-BF84-8F827A5F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79983-C717-4765-AEAA-EA6B9D58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2912D-6811-4B49-8629-958CC1C4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BF545-EC98-4DB8-984A-58FEE1A0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675C9-253F-43EB-B5D7-2C039D03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6E546-11A5-4444-8492-868474FA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CCBF7-58B4-43A1-B20F-068B9975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FD0BF-45DF-41B1-BBA6-BF86AD41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FB5CD-CE71-4336-8D30-DF37B8EF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DD36-122B-41AD-8E42-1F4703D1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7F81C-93B3-4B88-BD50-8EB2DD27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904C1-4841-4113-88EB-574FF04F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8F212-D2BB-408E-91F5-34F1BB92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8BA45-F018-4ED7-B673-EF465FA7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44581-D322-4447-B0B1-E0ABD7D6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5BD61-7D8C-4E93-A855-5407287A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B5FA0-BCCE-4DFF-9935-93FA3938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4E681-40F2-410C-9A23-36FC56AE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5F58B-1EE3-495D-907C-48BD1FA1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CE0D4-8BA0-40E2-B5D2-6DB97DB1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8166-A328-4E05-98B7-E19C472E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5266C-12B6-4AD5-9DAE-7FD1C832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63F7F-842B-4CE4-BA41-D4C9291E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729386-9E08-4789-96A4-616CACAF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2528B-D997-4A1E-BB0B-87474704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D8213-A2B7-4C30-BE3F-DFC82E81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57F1-5BE9-47CA-97CC-CB5545D5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4FB5-70BB-4890-9168-A4871F6A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E155-DF40-4F57-ABDE-27D1F52A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C6BF-2D6C-4356-ACDB-E2C34DB5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82EA-61BD-4413-B1A5-2E9FFD11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9308-06A6-4E8C-A9B6-7A1A6F76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07B6-E647-42BE-AC30-6A4088A3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FE48-199A-4151-A992-54B00A01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6534-F971-470C-9B4F-1F92D5D7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2E96-D0E4-455D-B91D-99000646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AAC1-953E-4468-9DA6-B3206C06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CDFDC-B4FC-481E-9D55-129AD02A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B0BE4-396C-4CD7-9FDA-C7AA21BB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C2E7C-F972-43FB-A1C6-A593D404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04F41-78DA-49BD-BEF6-70B98205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E2A94-102E-41D6-9187-0BFB4EFD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ABDD-C613-4F17-9837-F60B7E08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608ED-2C7A-4700-AB8E-398FD216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CD9BB-5234-4011-8009-41944032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3D8AF-DC89-4775-81B6-66B75F05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F76CC-B435-4AF4-950E-045D790A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A4E59-1409-4DE0-B167-B22D5372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4B629-1595-45B0-AE88-50E43EA1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D3CF1-D2EF-4CEA-A23A-D721D6B2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82B14-00C0-4F24-96C2-79E400706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A3299-BA58-4300-BAFE-10ADE7AC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0DC3F-4871-49F9-8872-58FBCD2C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399F-9446-4FD0-BAFC-DB476590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C89A3-1E19-42D5-908D-6C596F71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58CF0-0751-4EF4-B1DF-AE71365B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0AEB9-8A63-4615-A761-8A7687C0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A52CF-55E2-446D-B21A-647E5393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A7EF9-658C-4F90-A1E9-48834045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8A710-BE23-40A4-A946-361BAEDD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6A2D2-C82D-4B91-AA4E-451B4DA9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62415-A7E5-4BAB-A472-EC1BE071E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7495E-8267-4B03-956D-8943D06F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626FD-0D75-4F9C-88CB-3196FB5E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719B-0C1E-4E9C-A841-0FB6D07A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A492C-CE17-4BF4-91DD-354CB7AF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899D1-1323-4F06-B814-0416CD49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4C081-1DBB-4FF4-B69B-B75045B4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34E11-E995-448F-8604-D0A7B73C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C478A-B12A-40A5-B306-ACC23723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DE7CD-36EA-4926-8955-FC277BBC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66334-04AA-4BAF-A16A-B976B97D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2BC83-9E13-4AC5-B8E5-2E10722A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0BB2E-0980-4F7A-ABE0-EA077747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9BCF4-02CA-4D5B-B2C4-EF9A5CDF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70E4-F7A0-492C-BD22-872F1732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0A516-DA2C-47FB-9297-68A064FD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C718E-4A33-413A-90BE-D6588DFE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06009-7AE8-41B0-8849-E8BA2984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F1413-0B56-44EB-864C-CF52F981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D7A0A-61BC-4D47-B6EC-E6990D7F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1209C-4A14-49A9-A4E6-0D62C9F5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D3E8B-C61A-4BD0-99E9-E5859E13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D0F51-44A6-4B42-9A5D-7BF6A7A4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43397-3BDE-4B7D-A63B-C8EBB01F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AE77B-6236-4C52-879B-EA8D3789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8546-7411-4FE3-AAC0-7B91A76B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E577E-1769-4429-829D-8216E5DA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D61A6-38C2-4E51-9188-E2B251EB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E93BB-AA21-47F6-973C-F23021A2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F11C2-B4FF-4F01-BDAA-E017ECEF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10BA7-E0C6-4EF8-A730-0B769875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479B2-F891-4D72-B047-6A2D9AA0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78003-4F0E-404F-B77E-EECC909D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D2BDD-088C-4E9B-BD96-0D31FD40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A0BA2-913C-40C3-9AEC-28436CD0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DAC5B-4DA2-4FD6-B8EC-364B9EBC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56E-0CC3-47A4-A404-EB5C3C03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2AE7F-FCA8-45BF-9329-CE7AE645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8CAB7-BE0C-4AF4-8A7B-3F815041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D990B-50D6-4B1D-88F2-FC330795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F7E74-E0DB-400D-8F05-925D4452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AA77A-D830-4F87-BDFC-1050C3D7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E9449-50E8-40E4-BF53-E39DD212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7D2E4-FC28-4880-8962-CB86F887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305FD-41CF-4EDE-9F62-4379E0E7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6B4C0-D110-4D47-A81D-871A5E33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F77A2-8A63-467D-AB26-E00C4A76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A7A0-20DD-45F4-ABD4-5055EDA7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34E79-D202-4933-ABF5-93B63C76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16943-07F3-454D-86A9-689B5992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91AD2-A465-466D-ADA3-A7C47AEE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C2F5E-4485-46EE-8A9D-0097E2C0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69ADE-4BDC-4ECE-BBBE-E2F3A392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FC2E2-7D68-4544-981A-2461E905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234F3-CA65-40D2-8054-1084D647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C383B-C2C1-4F69-9718-7CFFF5BA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772DA-C510-4F79-82E5-88BD2E11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6FD55-8A06-4946-98CB-60602192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76000" y="216000"/>
            <a:ext cx="5328000" cy="72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4000" y="1368000"/>
            <a:ext cx="9072000" cy="379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00000"/>
              </a:lnSpc>
              <a:spcAft>
                <a:spcPts val="106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A38CA7-9D44-4A3D-9922-A793F590CC10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93720" y="378000"/>
            <a:ext cx="3251160" cy="13240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b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4286160" y="816120"/>
            <a:ext cx="5102280" cy="403056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body"/>
          </p:nvPr>
        </p:nvSpPr>
        <p:spPr>
          <a:xfrm>
            <a:off x="693720" y="1701720"/>
            <a:ext cx="3251160" cy="31510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00000"/>
              </a:lnSpc>
              <a:spcAft>
                <a:spcPts val="106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dt" idx="28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ftr" idx="29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 type="sldNum" idx="30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8208AE-3463-4231-80D0-D04C50D3250A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76000" y="216000"/>
            <a:ext cx="5328000" cy="72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504000" y="1368000"/>
            <a:ext cx="9072000" cy="379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vert="eaVert">
            <a:normAutofit/>
          </a:bodyPr>
          <a:p>
            <a:pPr marL="432000" indent="-324000">
              <a:lnSpc>
                <a:spcPct val="100000"/>
              </a:lnSpc>
              <a:spcAft>
                <a:spcPts val="106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31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32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3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26BB25-F89D-480D-ADCD-DF4071FE50B1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308720" y="216000"/>
            <a:ext cx="2266920" cy="495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 vert="eaVer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503280" y="216000"/>
            <a:ext cx="6653160" cy="495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vert="eaVert">
            <a:normAutofit/>
          </a:bodyPr>
          <a:p>
            <a:pPr marL="432000" indent="-324000">
              <a:lnSpc>
                <a:spcPct val="100000"/>
              </a:lnSpc>
              <a:spcAft>
                <a:spcPts val="106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222CC8-ED6B-4380-9AE2-2FCC01508AE2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0360" y="928800"/>
            <a:ext cx="7559640" cy="197316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b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639857-EA5F-418C-AE80-328D96F34096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76000" y="216000"/>
            <a:ext cx="5328000" cy="72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504000" y="1368000"/>
            <a:ext cx="9072000" cy="379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Aft>
                <a:spcPts val="1060"/>
              </a:spcAft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780774-905A-44C8-A2B0-797DE4528F6D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7240" y="1414440"/>
            <a:ext cx="8694720" cy="235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b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7240" y="3794040"/>
            <a:ext cx="8694720" cy="1241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00000"/>
              </a:lnSpc>
              <a:spcAft>
                <a:spcPts val="106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898989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2FBC55-9B47-43A9-9990-1ECB7CFA7E80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76000" y="216000"/>
            <a:ext cx="5328000" cy="72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503280" y="1368360"/>
            <a:ext cx="4459320" cy="379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Aft>
                <a:spcPts val="1060"/>
              </a:spcAft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title"/>
          </p:nvPr>
        </p:nvSpPr>
        <p:spPr>
          <a:xfrm>
            <a:off x="5114880" y="1368360"/>
            <a:ext cx="4460760" cy="379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Aft>
                <a:spcPts val="1060"/>
              </a:spcAft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3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16A885-9A87-4E36-B170-7FD9AE5CD6C4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9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93720" y="301680"/>
            <a:ext cx="8694720" cy="10969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93720" y="1390680"/>
            <a:ext cx="4265640" cy="681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b">
            <a:normAutofit/>
          </a:bodyPr>
          <a:p>
            <a:pPr marL="432000" indent="-324000">
              <a:lnSpc>
                <a:spcPct val="100000"/>
              </a:lnSpc>
              <a:spcAft>
                <a:spcPts val="106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title"/>
          </p:nvPr>
        </p:nvSpPr>
        <p:spPr>
          <a:xfrm>
            <a:off x="693720" y="2071800"/>
            <a:ext cx="4265640" cy="30463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00000"/>
              </a:lnSpc>
              <a:spcAft>
                <a:spcPts val="1060"/>
              </a:spcAft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5103720" y="1390680"/>
            <a:ext cx="4284720" cy="681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100000"/>
              </a:lnSpc>
              <a:spcAft>
                <a:spcPts val="1060"/>
              </a:spcAf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title"/>
          </p:nvPr>
        </p:nvSpPr>
        <p:spPr>
          <a:xfrm>
            <a:off x="5103720" y="2071800"/>
            <a:ext cx="4284720" cy="30463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00000"/>
              </a:lnSpc>
              <a:spcAft>
                <a:spcPts val="1060"/>
              </a:spcAft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dt" idx="16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 type="ftr" idx="17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8"/>
          <p:cNvSpPr>
            <a:spLocks noGrp="1"/>
          </p:cNvSpPr>
          <p:nvPr>
            <p:ph type="sldNum" idx="18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8BF477-9F9B-4485-BCA3-29BC95D77685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5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76000" y="216000"/>
            <a:ext cx="5328000" cy="72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9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20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21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1034FF-9B7C-418B-9D74-13F10F6A16DF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dt" idx="22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ftr" idx="23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24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B50B7E-549B-46B8-90D1-5DB1BF833571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93720" y="378000"/>
            <a:ext cx="3251160" cy="13240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b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4286160" y="816120"/>
            <a:ext cx="5102280" cy="403056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Aft>
                <a:spcPts val="1060"/>
              </a:spcAft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body"/>
          </p:nvPr>
        </p:nvSpPr>
        <p:spPr>
          <a:xfrm>
            <a:off x="693720" y="1701720"/>
            <a:ext cx="3251160" cy="31510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00000"/>
              </a:lnSpc>
              <a:spcAft>
                <a:spcPts val="106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dt" idx="25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ftr" idx="26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 type="sldNum" idx="27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88DDFA-0AD0-4446-B639-0AA75ABBAF10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376000" y="108000"/>
            <a:ext cx="5328000" cy="93636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PARTS OF THE SENTENC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504000" y="1368000"/>
            <a:ext cx="9072000" cy="379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Aft>
                <a:spcPts val="1060"/>
              </a:spcAft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Aft>
                <a:spcPts val="1060"/>
              </a:spcAft>
              <a:buNone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al parts (subject, predic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Aft>
                <a:spcPts val="1060"/>
              </a:spcAft>
              <a:buNone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ary parts (object, attribute, adverbial modif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Aft>
                <a:spcPts val="1060"/>
              </a:spcAft>
              <a:buNone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ependent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376000" y="108000"/>
            <a:ext cx="5328000" cy="93636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 compound verbal modal pre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4000" y="818640"/>
            <a:ext cx="9072000" cy="43466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a)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a modal verb {can, may, must, should, would, ought, dare, need} and an infinitive — You may visit me tomorr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dal expressions {to be, to have} and an infinitive -1 have to 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verb with a modal meaning {to hope, to expect, to intend, to attempt, to try, to long, to wish, to want, to desire} and an infinitive or a gerund - / hope seeing him tomorr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dal expressions {to be able, to be obliged, to be bound, to be willing, to be anxious, to be capable, to be going} and an infinitive -I'm not able to do it n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376000" y="-23400"/>
            <a:ext cx="5328000" cy="457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 fontScale="9000"/>
          </a:bodyPr>
          <a:p>
            <a:pPr indent="0" algn="ctr">
              <a:lnSpc>
                <a:spcPct val="150000"/>
              </a:lnSpc>
              <a:buNone/>
            </a:pP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A compound verbal aspect predic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4000" y="318960"/>
            <a:ext cx="9072000" cy="50328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verb of beginning {to begin, to start, to commence, to set about, to take to, to fall to, to come} and an infinitive -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She began to cry from the first moment of our mee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verb of duration {to go on, to keep, to proceed, to continue} and an infinitive or a gerund -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He kept smil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verb of repetition {would, used to} and an infinitive -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I used to visit my uncle every week-e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verb of cessation {to stop, to finish, to cease, to give up, to leave off} and an infinitive or a gerund. -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He gave up smoking two years a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76000" y="108000"/>
            <a:ext cx="5328000" cy="93636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300" spc="-1" strike="noStrike" u="sng">
                <a:solidFill>
                  <a:srgbClr val="ffffff"/>
                </a:solidFill>
                <a:uFillTx/>
                <a:latin typeface="Arial"/>
              </a:rPr>
              <a:t>Mixed types of compound predicates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4000" y="1368000"/>
            <a:ext cx="9072000" cy="379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Aft>
                <a:spcPts val="1060"/>
              </a:spcAft>
              <a:buNone/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und modal nominal predicate -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 can not be unk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und aspect nominal predicate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 continued to be hap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und modal aspect predicate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 ought to stop cry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376000" y="216000"/>
            <a:ext cx="5328000" cy="72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THE SUBJEC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4000" y="936000"/>
            <a:ext cx="9072000" cy="4229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Aft>
                <a:spcPts val="1060"/>
              </a:spcAf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Ways of expressing the sub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1060"/>
              </a:spcAft>
            </a:pPr>
            <a:r>
              <a:rPr b="0" lang="en-US" sz="1700" spc="-1" strike="noStrike" u="sng">
                <a:solidFill>
                  <a:srgbClr val="ffffff"/>
                </a:solidFill>
                <a:uFillTx/>
                <a:latin typeface="Arial"/>
              </a:rPr>
              <a:t>A noun in the common case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The wind was strong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1700" spc="-1" strike="noStrike" u="sng">
                <a:solidFill>
                  <a:srgbClr val="ffffff"/>
                </a:solidFill>
                <a:uFillTx/>
                <a:latin typeface="Arial"/>
              </a:rPr>
              <a:t>A pronoun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(personal, demonstrative, defining, indefinite, negative, pos-interrogative) </a:t>
            </a: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He was running very fas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1700" spc="-1" strike="noStrike" u="sng">
                <a:solidFill>
                  <a:srgbClr val="ffffff"/>
                </a:solidFill>
                <a:uFillTx/>
                <a:latin typeface="Arial"/>
              </a:rPr>
              <a:t>adjective or participle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The wounded were taken care of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1700" spc="-1" strike="noStrike" u="sng">
                <a:solidFill>
                  <a:srgbClr val="ffffff"/>
                </a:solidFill>
                <a:uFillTx/>
                <a:latin typeface="Arial"/>
              </a:rPr>
              <a:t>A numeral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(cardinal or ordinal) </a:t>
            </a: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The first wanted to spea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1700" spc="-1" strike="noStrike" u="sng">
                <a:solidFill>
                  <a:srgbClr val="ffffff"/>
                </a:solidFill>
                <a:uFillTx/>
                <a:latin typeface="Arial"/>
              </a:rPr>
              <a:t>An infinitive, an infinitive phrase or construction </a:t>
            </a: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To see her was terribl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1700" spc="-1" strike="noStrike" u="sng">
                <a:solidFill>
                  <a:srgbClr val="ffffff"/>
                </a:solidFill>
                <a:uFillTx/>
                <a:latin typeface="Arial"/>
              </a:rPr>
              <a:t>A gerund, a gerundial phrase or construction </a:t>
            </a: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Smoking is harmful for your health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1700" spc="-1" strike="noStrike" u="sng">
                <a:solidFill>
                  <a:srgbClr val="ffffff"/>
                </a:solidFill>
                <a:uFillTx/>
                <a:latin typeface="Arial"/>
              </a:rPr>
              <a:t>A quotation </a:t>
            </a: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No is his usual repl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1700" spc="-1" strike="noStrike" u="sng">
                <a:solidFill>
                  <a:srgbClr val="ffffff"/>
                </a:solidFill>
                <a:uFillTx/>
                <a:latin typeface="Arial"/>
              </a:rPr>
              <a:t>A syntactically indivisible group of words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The needle and the thread is los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76000" y="108000"/>
            <a:ext cx="5328000" cy="93636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4000" y="1368000"/>
            <a:ext cx="9072000" cy="379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Aft>
                <a:spcPts val="1060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uctural types of the sub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 simple subjec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xpressed by a single word)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dinner was served i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 phrasal su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expressed by a phrase)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New Year party was wond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 clausal su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expressed by a clause)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hat has been done is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376000" y="108000"/>
            <a:ext cx="5328000" cy="93636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Grammatical types of the subject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4000" y="1368000"/>
            <a:ext cx="9072000" cy="379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 Notional su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students passed their ex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rmal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ersonal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t s sp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or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t  was useless to come there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 emphatic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t was Anna who went up to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376000" y="216000"/>
            <a:ext cx="5328000" cy="72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 fontScale="95000"/>
          </a:bodyPr>
          <a:p>
            <a:pPr indent="0" algn="ctr">
              <a:lnSpc>
                <a:spcPct val="150000"/>
              </a:lnSpc>
              <a:buNone/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THE PREDICAT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04000" y="936000"/>
            <a:ext cx="9072000" cy="46018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Simple predic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2.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ompound nominal predic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3. Compound verbal predic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Mixed types of compound predica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ound modal nominal predic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Aft>
                <a:spcPts val="1060"/>
              </a:spcAft>
              <a:buClr>
                <a:srgbClr val="000000"/>
              </a:buClr>
              <a:buFont typeface="StarSymbol"/>
              <a:buAutoNum type="arabicPeriod" startAt="2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ound aspect nominal predic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ound modal aspect predic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376000" y="216000"/>
            <a:ext cx="5328000" cy="72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 fontScale="95000"/>
          </a:bodyPr>
          <a:p>
            <a:pPr indent="0" algn="ctr">
              <a:lnSpc>
                <a:spcPct val="150000"/>
              </a:lnSpc>
              <a:buNone/>
            </a:pPr>
            <a:r>
              <a:rPr b="1" lang="en-US" sz="3300" spc="-1" strike="noStrike" u="sng">
                <a:solidFill>
                  <a:srgbClr val="ffffff"/>
                </a:solidFill>
                <a:uFillTx/>
                <a:latin typeface="Arial"/>
              </a:rPr>
              <a:t>Simple predicat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4000" y="936000"/>
            <a:ext cx="9072000" cy="4229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finite verb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and a nou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formed from a verb used with the indefinite artic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to have a smoke, to have a swim, to have a run, to give a laugh, to g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a push, to take a look, to make a move. He gave a c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finite verb and an abstract nou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used without any artic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to get rid, to get hold, to make use, to take care, to lose sight, to make fun, to pay attention, to take part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We were making fun toge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376000" y="-126000"/>
            <a:ext cx="5328000" cy="140436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lnSpc>
                <a:spcPct val="150000"/>
              </a:lnSpc>
              <a:buNone/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Compound nominal predi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4000" y="833400"/>
            <a:ext cx="9072000" cy="47120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spcAft>
                <a:spcPts val="1060"/>
              </a:spcAf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ording to their meaning link verbs can be divided into two grou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Aft>
                <a:spcPts val="1060"/>
              </a:spcAf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link verbs of being and remai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to be, to remain, to keep, to continu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Aft>
                <a:spcPts val="1060"/>
              </a:spcAf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smell, to stand, to sit, to lie, to shine, to seem, to prove, to app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Aft>
                <a:spcPts val="1060"/>
              </a:spcAf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 remained si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Aft>
                <a:spcPts val="1060"/>
              </a:spcAf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link verbs of becom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to become, to get, to grow, to come, to 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Aft>
                <a:spcPts val="1060"/>
              </a:spcAf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leave, to run, to turn, to m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Aft>
                <a:spcPts val="1060"/>
              </a:spcAf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became c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Aft>
                <a:spcPts val="1060"/>
              </a:spcAf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utumn the leaves turn yel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376000" y="214920"/>
            <a:ext cx="5328000" cy="72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predicate can be expressed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4000" y="934920"/>
            <a:ext cx="9072000" cy="423036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noun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- My father is a do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adjective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- She is too you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ronoun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- This book is m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word of category of state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- I was afr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numeral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- He was th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repositional phrase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- The things were outside 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infinitive, infinitive phrase, infinitive construction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- His first thought was to go a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erund, gerundial phrase, gerundial construction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- My favorite sport is swimm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iple II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- He was surpri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adverb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- It was enough for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100" spc="-1" strike="noStrike">
                <a:solidFill>
                  <a:srgbClr val="ffffff"/>
                </a:solidFill>
                <a:latin typeface="Arial"/>
              </a:rPr>
              <a:t>11.</a:t>
            </a:r>
            <a:r>
              <a:rPr b="0" i="1" lang="en-US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edicative clause</a:t>
            </a:r>
            <a:r>
              <a:rPr b="0" i="1" lang="en-US" sz="1100" spc="-1" strike="noStrike">
                <a:solidFill>
                  <a:srgbClr val="ffffff"/>
                </a:solidFill>
                <a:latin typeface="Arial"/>
              </a:rPr>
              <a:t> —He looked as if he had been living there for ag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376000" y="215640"/>
            <a:ext cx="5328000" cy="72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lnSpc>
                <a:spcPct val="150000"/>
              </a:lnSpc>
              <a:buNone/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. Compound verbal pred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4000" y="1368000"/>
            <a:ext cx="9072000" cy="379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und verbal modal pred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und verbal aspect pred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  <Words>1070</Words>
  <Paragraphs>9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4T22:37:55Z</dcterms:created>
  <dc:creator/>
  <dc:description/>
  <dc:language>en-US</dc:language>
  <cp:lastModifiedBy>Teacher</cp:lastModifiedBy>
  <dcterms:modified xsi:type="dcterms:W3CDTF">2022-06-02T06:41:05Z</dcterms:modified>
  <cp:revision>6</cp:revision>
  <dc:subject/>
  <dc:title>Metropolis</dc:title>
</cp:coreProperties>
</file>