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720000" y="900000"/>
            <a:ext cx="6120000" cy="3441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20000" y="4680000"/>
            <a:ext cx="6120000" cy="504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dt" idx="3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ftr" idx="3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 type="sldNum" idx="3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B17EEE-879D-4940-ACE9-075B3B794CFA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Номер слайда 6"/>
          <p:cNvSpPr txBox="1"/>
          <p:nvPr/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</a:pPr>
            <a:fld id="{4A0EAFB6-4628-4CF8-85E5-AAA9E2451157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6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720000" y="4680000"/>
            <a:ext cx="6120000" cy="504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Номер слайда 6"/>
          <p:cNvSpPr txBox="1"/>
          <p:nvPr/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</a:pPr>
            <a:fld id="{F6175460-B352-4C4D-A975-4362E5748317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6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720000" y="4680000"/>
            <a:ext cx="6120000" cy="504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Номер слайда 6"/>
          <p:cNvSpPr txBox="1"/>
          <p:nvPr/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</a:pPr>
            <a:fld id="{C02D573A-2A59-4289-BA41-F8A36097ED19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6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720000" y="4680000"/>
            <a:ext cx="6120000" cy="504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Номер слайда 6"/>
          <p:cNvSpPr txBox="1"/>
          <p:nvPr/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</a:pPr>
            <a:fld id="{C4A3592F-47D8-4DEF-A8EB-F0894820303E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6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720000" y="4680000"/>
            <a:ext cx="6120000" cy="504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Номер слайда 6"/>
          <p:cNvSpPr txBox="1"/>
          <p:nvPr/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</a:pPr>
            <a:fld id="{11FA074B-84AA-45D2-8989-2CDB01D3A732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6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720000" y="4680000"/>
            <a:ext cx="6120000" cy="504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Номер слайда 6"/>
          <p:cNvSpPr txBox="1"/>
          <p:nvPr/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</a:pPr>
            <a:fld id="{74BA1373-0812-49D2-9DE5-4A36F7D9C753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6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720000" y="4680000"/>
            <a:ext cx="6120000" cy="504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Номер слайда 6"/>
          <p:cNvSpPr txBox="1"/>
          <p:nvPr/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</a:pPr>
            <a:fld id="{718CBA52-BDBC-4851-8C59-C186254857BA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6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720000" y="4680000"/>
            <a:ext cx="6120000" cy="504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Номер слайда 6"/>
          <p:cNvSpPr txBox="1"/>
          <p:nvPr/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</a:pPr>
            <a:fld id="{139911AC-1BC5-4D51-AFCD-2EE130162C10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6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720000" y="4680000"/>
            <a:ext cx="6120000" cy="504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Номер слайда 6"/>
          <p:cNvSpPr txBox="1"/>
          <p:nvPr/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</a:pPr>
            <a:fld id="{6037EEC3-33D2-480E-BCD6-8A6476580DB8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6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20000" y="4680000"/>
            <a:ext cx="6120000" cy="504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Номер слайда 6"/>
          <p:cNvSpPr txBox="1"/>
          <p:nvPr/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</a:pPr>
            <a:fld id="{BC2FEE20-0BEC-401A-AE95-7E04DC378B8D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6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720000" y="4680000"/>
            <a:ext cx="6120000" cy="504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Номер слайда 6"/>
          <p:cNvSpPr txBox="1"/>
          <p:nvPr/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</a:pPr>
            <a:fld id="{CDF27C7E-0F8C-4043-8AB6-32EE5D39FB66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6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20000" y="4680000"/>
            <a:ext cx="6120000" cy="504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Номер слайда 6"/>
          <p:cNvSpPr txBox="1"/>
          <p:nvPr/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</a:pPr>
            <a:fld id="{111A60A8-ACBD-4112-9232-5121754A0FAE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6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20000" y="4680000"/>
            <a:ext cx="6120000" cy="504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4CE1-2A12-4C99-BC5E-C1CB37F3A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27B9-6ACA-481A-8B70-BF36C2C0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9A395-AD81-4837-8DA0-8E366CB4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9762F-68DE-4F14-B2BD-7A786D5B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504000" y="226080"/>
            <a:ext cx="9072000" cy="43884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AE911-4D9E-464A-A671-10D7DC44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95999-5749-41DB-9263-A34EE96C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8A481-7C2B-4C6F-819E-B31ED54D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F243B-0DB7-40D4-9FE8-8E5431B9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D1A4F-D8C0-43E1-9BF3-55AE831B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858E2-278B-48EA-8197-1404FFDF7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7156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63912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0400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7156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63912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2F7DB-955C-49D1-9C97-AAD96CE2E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FA5C33-E7FC-47D5-8AE5-53FDB73AB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C186-A0FC-419D-9158-8965A3EE8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4B8AC-67E0-45A9-B48B-03580F42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AFBF23-1887-4701-824D-DD5800B2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8FE06C-F793-495B-AACF-6E3D4B51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EE838-64EE-44CD-A136-675C2BCE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04000" y="226080"/>
            <a:ext cx="9072000" cy="43884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11838-8B5B-449B-898B-D68D9072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003C4-B453-4051-816D-212728D2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18892-EE9F-480F-AB83-4E52655E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94351-6C09-49EB-92FC-5CA5340C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024F3-F14C-425C-B1A5-A2551A18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F0A8B8-4878-4A26-84D6-664D11709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156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912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00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156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912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C807-D90F-4471-B39B-10BE6AE8C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57156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63912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50400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57156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63912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FE116-2072-4116-B764-662100232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28440-7743-4B11-958D-A8D392691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8BC8C-C5BF-4342-902B-09B75212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2C597-B526-4501-A42A-CC73C4A7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45C88-BF15-4325-8427-7D3440DB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E11FD-BA32-4BD4-938C-32CADC6C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504000" y="226080"/>
            <a:ext cx="9072000" cy="43884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D9865-0730-484C-933E-20A71DFE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63723-1389-44D2-95A2-2BAB202D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4B514-E298-4448-935F-A96B5A7E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7C7F3-D2EE-4571-BB2D-433AE3F0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D71B-5C5B-4D4B-A29E-AB06DC3B9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D4580-D31B-4B8F-BF0F-EAA35186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0572D-706A-4880-9BC1-89E6B695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57156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63912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50400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57156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63912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02D43-BA63-43AC-BB23-53EC9E7B8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F94C3-32F2-4DA0-90D8-617A135BB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33673B-C517-4734-B3ED-0D83F64C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816E61-C493-4942-8998-A3C36332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983D58-B593-4BBC-B4A2-268EE66B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55067B-CF1A-4459-974A-80523030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504000" y="226080"/>
            <a:ext cx="9072000" cy="43884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6DF742-0040-4895-9407-D55CDED8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4E565-640E-4E8C-B59E-717596B3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06B5-9185-4C59-B4BB-3131DE50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D2E09A-B1D3-4BEB-890C-59509EAB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DCDA9-3647-41E7-8A49-FC420BA9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8F9F6C-9DBB-42BF-B764-2BCB2520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0D7A7-2118-4C09-95E9-71EF8A2F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7156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63912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50400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7156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63912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F11C87-B6C2-4E8F-8D24-C849B1ECB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3DE2-524A-48CC-93AD-690473FE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99A4-2E49-4B4C-ACFE-FFB83676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B403-A81A-48E1-8EEF-F83953D1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4000" y="226080"/>
            <a:ext cx="9072000" cy="43884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69B7-79BD-48FA-8019-5AAB852C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EAE3-7850-45A0-9B3C-EE058A5F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D294-5EDB-4C29-9FF5-0359B096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FCC8-21FA-4F9A-A103-16C724FC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271D-B5B1-45E7-9AAA-A952CFA6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08AD-99E3-40DA-B2B4-8509833F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45A1-936F-4A57-B1C0-EB313FA4D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7156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912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00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7156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912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4715-53BE-4AEE-9FDF-C99C9033A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F509E-910C-45B6-B62E-86B236F9D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44618-0E61-4642-BC67-AB1B5560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5C17B-25EF-480E-8D2D-F93E07CF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C574A-99FE-484C-9BBA-78C088E2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69EB9-87E4-4805-BD21-376E7794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E851-621F-479D-ACEA-909D2D63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04000" y="226080"/>
            <a:ext cx="9072000" cy="43884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8697B-381C-44F8-AD4D-92E302AB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163A1-D181-47FA-BE68-42C47AFD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1DEBE-706A-432C-8511-F2A83CDA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DFD26-B458-4FA7-BFA0-9F50EF1D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9A302-3207-4789-8256-1D3EAFEE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79915-008B-4A52-9A7C-8E091C3C0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7156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63912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400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7156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63912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AD3C5-2558-48A5-9351-D2DAB22A5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DC870-8162-4B75-91F6-A654729B5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D69CB-1260-4748-B05E-AA1B4D22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54355-33F5-4CD7-B21A-B776E96D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B3AA-A2B1-49E7-942F-795BBC2E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C92EE-76F4-43E4-92E1-530AA318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2EE4A-C3D9-41D3-86D9-6015DC4A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4000" y="226080"/>
            <a:ext cx="9072000" cy="43884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32674-8438-4967-B58E-743C0268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14B0B-978E-427E-ACA0-C89C450C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80D27-267B-40EA-9C00-F0CBACA4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86121-18CF-4B3C-A21C-0EBDCA96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2714F-38F9-4FD1-83CD-D2CFE57C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76308-ADD7-4569-8DD5-74F3EFA28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7156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63912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400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7156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63912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ED568-CF36-4269-A106-C2A384151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1D16B-B3B0-4E5E-B9EF-CD68499F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D532-6BAC-43B8-8212-F3C1E585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AF8E4-A0F2-428E-8F7D-0B5810BF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0B86D-F526-4D07-B081-6D142880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1DA41-5384-4182-AFD0-ED9AD18E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477F8-CE8C-4DE5-B55B-062D3E8D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4000" y="226080"/>
            <a:ext cx="9072000" cy="43884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A95DA-5524-4EFF-9933-DCCC2DB7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57F84-648B-4E62-AF82-C0662029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7643A-DA9A-40B6-BBAE-0743E1B4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EC91D-A981-494E-B458-46087EC0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60431-5C73-4102-B195-AB60D9FD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B6D04-54E9-456B-8050-F9AB7AC0D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4000" y="226080"/>
            <a:ext cx="9072000" cy="43884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E2C7-B20C-4156-98CE-4C46CA84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57156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63912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400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57156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63912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D03D8-80C0-423B-AD22-43C53C52B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6DDAA-4026-46DD-BF6C-AA89E7932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7E24C-0D80-46CA-9023-210C3621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6A2DC-039B-42BC-AF4A-CEFE539A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A1243-F235-46E9-B105-E70659AB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118D8-41B4-4807-8052-F7876701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04000" y="226080"/>
            <a:ext cx="9072000" cy="43884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5068F-A382-4F50-B4E0-0EEBAABB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01EF5-700F-4B65-AC63-E33CD4EC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50105-4B91-450B-AA28-09037E2B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0A222-981A-4846-B034-1839E805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9653-F0BC-43F9-BD72-8B7922CF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CF951-5CC6-4340-AE2D-4AB4C506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15E5A-8679-4A4A-B0E1-AF1999264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57156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63912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400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57156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63912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91217-53AD-470E-B1E9-1B066858F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FB8D0-155F-493B-8A60-4075BD384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5558D-A3C3-4DD3-9B1B-49488FAA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6B7FD-5AEB-410F-94CB-714BA590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8AD2D-4E79-4563-B638-9477C03A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95E71-A31A-4E15-B481-FBDFEBAF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504000" y="226080"/>
            <a:ext cx="9072000" cy="43884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7BACA-38CD-4F9D-89E1-F408B4E3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C7B4E-A212-48AB-BCDD-3A118BD0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99E5-F990-4882-B5C2-094C8F1B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45FA5-74A1-4414-A1AB-D254332B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F22A8-2694-43DF-81D7-B695A5C1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C5EFA-2AD7-47C8-A4A6-79CCDAC6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6A35F-BC4D-4D62-995A-F958AD787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57156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63912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50400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57156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63912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9EF47-A55C-4F1A-B542-7E2572858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56AF3-A120-47E6-8311-EDCBCF040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6C5EA-2D7C-43C5-A10A-5DE5AF8A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60EC2-EA7D-4C0A-BDE9-0A7EBBCE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5A9ED-C4A0-42B7-95DA-9F954823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3CC39-7F74-4C38-A48E-69CFBCD9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92A5-C9DE-4F56-B759-98A53A2C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504000" y="226080"/>
            <a:ext cx="9072000" cy="43884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1739E-3504-4E0E-980D-53D040CA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E78B7-AFA6-4B44-A119-616E4787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A4B8A-CEE9-466F-B518-48126B5C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2E617-1044-49AA-9615-B436C6A8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1DCE5-4782-4DC6-B2FD-C0117CE2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A0133-DEE4-4615-B2B9-F668F5D68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57156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63912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0400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57156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63912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EB08C-C700-421C-953F-8264C872A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6525C-44F4-4BF1-A6C5-3E2BCA433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D51B9F-6580-4BA5-94FB-33816F11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4634E-AB6F-474B-8C8E-EE907BF8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000" cy="5670000"/>
          </a:xfrm>
          <a:prstGeom prst="rect">
            <a:avLst/>
          </a:prstGeom>
          <a:ln w="1260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76000" y="216000"/>
            <a:ext cx="5328000" cy="72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4000" y="1368000"/>
            <a:ext cx="9072000" cy="379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00000"/>
              </a:lnSpc>
              <a:spcAft>
                <a:spcPts val="1060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400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47360" y="5328000"/>
            <a:ext cx="319500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736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7B6426-A374-4DAA-B0BB-5BB4DC10C3AC}" type="slidenum">
              <a:rPr b="0" lang="ru-RU" sz="1400" spc="-1" strike="noStrike">
                <a:solidFill>
                  <a:srgbClr val="ffffff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10080000" cy="5670000"/>
          </a:xfrm>
          <a:prstGeom prst="rect">
            <a:avLst/>
          </a:prstGeom>
          <a:ln w="1260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93720" y="378000"/>
            <a:ext cx="3251160" cy="13240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b" anchorCtr="1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4286160" y="816120"/>
            <a:ext cx="5102280" cy="403056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body"/>
          </p:nvPr>
        </p:nvSpPr>
        <p:spPr>
          <a:xfrm>
            <a:off x="693720" y="1701720"/>
            <a:ext cx="3251160" cy="31510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00000"/>
              </a:lnSpc>
              <a:spcAft>
                <a:spcPts val="1060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dt" idx="28"/>
          </p:nvPr>
        </p:nvSpPr>
        <p:spPr>
          <a:xfrm>
            <a:off x="50400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ftr" idx="29"/>
          </p:nvPr>
        </p:nvSpPr>
        <p:spPr>
          <a:xfrm>
            <a:off x="3447360" y="5328000"/>
            <a:ext cx="319500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 type="sldNum" idx="30"/>
          </p:nvPr>
        </p:nvSpPr>
        <p:spPr>
          <a:xfrm>
            <a:off x="722736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CA2940-1E69-4EAF-9DC4-6947C367AFE1}" type="slidenum">
              <a:rPr b="0" lang="ru-RU" sz="1400" spc="-1" strike="noStrike">
                <a:solidFill>
                  <a:srgbClr val="ffffff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10080000" cy="5670000"/>
          </a:xfrm>
          <a:prstGeom prst="rect">
            <a:avLst/>
          </a:prstGeom>
          <a:ln w="1260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376000" y="216000"/>
            <a:ext cx="5328000" cy="72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504000" y="1368000"/>
            <a:ext cx="9072000" cy="379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 vert="eaVert">
            <a:normAutofit/>
          </a:bodyPr>
          <a:p>
            <a:pPr marL="432000" indent="-324000">
              <a:lnSpc>
                <a:spcPct val="100000"/>
              </a:lnSpc>
              <a:spcAft>
                <a:spcPts val="1060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31"/>
          </p:nvPr>
        </p:nvSpPr>
        <p:spPr>
          <a:xfrm>
            <a:off x="50400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32"/>
          </p:nvPr>
        </p:nvSpPr>
        <p:spPr>
          <a:xfrm>
            <a:off x="3447360" y="5328000"/>
            <a:ext cx="319500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33"/>
          </p:nvPr>
        </p:nvSpPr>
        <p:spPr>
          <a:xfrm>
            <a:off x="722736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D355BB6-A840-405D-A9AA-76AC63D8FF8B}" type="slidenum">
              <a:rPr b="0" lang="ru-RU" sz="1400" spc="-1" strike="noStrike">
                <a:solidFill>
                  <a:srgbClr val="ffffff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10080000" cy="5670000"/>
          </a:xfrm>
          <a:prstGeom prst="rect">
            <a:avLst/>
          </a:prstGeom>
          <a:ln w="1260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308720" y="216000"/>
            <a:ext cx="2266920" cy="495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 vert="eaVer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503280" y="216000"/>
            <a:ext cx="6653160" cy="495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 vert="eaVert">
            <a:normAutofit/>
          </a:bodyPr>
          <a:p>
            <a:pPr marL="432000" indent="-324000">
              <a:lnSpc>
                <a:spcPct val="100000"/>
              </a:lnSpc>
              <a:spcAft>
                <a:spcPts val="1060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50400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47360" y="5328000"/>
            <a:ext cx="319500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722736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4DF0EE-8C1B-4532-88A8-F1F94F0345D1}" type="slidenum">
              <a:rPr b="0" lang="ru-RU" sz="1400" spc="-1" strike="noStrike">
                <a:solidFill>
                  <a:srgbClr val="ffffff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10080000" cy="5670000"/>
          </a:xfrm>
          <a:prstGeom prst="rect">
            <a:avLst/>
          </a:prstGeom>
          <a:ln w="1260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0360" y="928800"/>
            <a:ext cx="7559640" cy="197316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b" anchorCtr="1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0400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447360" y="5328000"/>
            <a:ext cx="319500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22736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1A8917-D58C-429A-9319-91EAA1EF00E1}" type="slidenum">
              <a:rPr b="0" lang="ru-RU" sz="1400" spc="-1" strike="noStrike">
                <a:solidFill>
                  <a:srgbClr val="ffffff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10080000" cy="5670000"/>
          </a:xfrm>
          <a:prstGeom prst="rect">
            <a:avLst/>
          </a:prstGeom>
          <a:ln w="1260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76000" y="216000"/>
            <a:ext cx="5328000" cy="72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504000" y="1368000"/>
            <a:ext cx="9072000" cy="379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spcAft>
                <a:spcPts val="1060"/>
              </a:spcAft>
              <a:buNone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0400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447360" y="5328000"/>
            <a:ext cx="319500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22736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C748B6-F08A-48EB-99CD-59DFF3D1D5D1}" type="slidenum">
              <a:rPr b="0" lang="ru-RU" sz="1400" spc="-1" strike="noStrike">
                <a:solidFill>
                  <a:srgbClr val="ffffff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10080000" cy="5670000"/>
          </a:xfrm>
          <a:prstGeom prst="rect">
            <a:avLst/>
          </a:prstGeom>
          <a:ln w="1260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7240" y="1414440"/>
            <a:ext cx="8694720" cy="235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b" anchorCtr="1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7240" y="3794040"/>
            <a:ext cx="8694720" cy="1241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00000"/>
              </a:lnSpc>
              <a:spcAft>
                <a:spcPts val="1060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898989"/>
                </a:solidFill>
                <a:latin typeface="Arial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0400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447360" y="5328000"/>
            <a:ext cx="319500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22736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0FEF40-93A5-4126-BBE6-E518C96C9272}" type="slidenum">
              <a:rPr b="0" lang="ru-RU" sz="1400" spc="-1" strike="noStrike">
                <a:solidFill>
                  <a:srgbClr val="ffffff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10080000" cy="5670000"/>
          </a:xfrm>
          <a:prstGeom prst="rect">
            <a:avLst/>
          </a:prstGeom>
          <a:ln w="1260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76000" y="216000"/>
            <a:ext cx="5328000" cy="72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503280" y="1368360"/>
            <a:ext cx="4459320" cy="379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spcAft>
                <a:spcPts val="1060"/>
              </a:spcAft>
              <a:buNone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title"/>
          </p:nvPr>
        </p:nvSpPr>
        <p:spPr>
          <a:xfrm>
            <a:off x="5114880" y="1368360"/>
            <a:ext cx="4460760" cy="379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spcAft>
                <a:spcPts val="1060"/>
              </a:spcAft>
              <a:buNone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13"/>
          </p:nvPr>
        </p:nvSpPr>
        <p:spPr>
          <a:xfrm>
            <a:off x="50400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4"/>
          </p:nvPr>
        </p:nvSpPr>
        <p:spPr>
          <a:xfrm>
            <a:off x="3447360" y="5328000"/>
            <a:ext cx="319500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5"/>
          </p:nvPr>
        </p:nvSpPr>
        <p:spPr>
          <a:xfrm>
            <a:off x="722736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4D70ED-624B-43BA-BF5A-0557D5CBE6D8}" type="slidenum">
              <a:rPr b="0" lang="ru-RU" sz="1400" spc="-1" strike="noStrike">
                <a:solidFill>
                  <a:srgbClr val="ffffff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Рисунок 9" descr=""/>
          <p:cNvPicPr/>
          <p:nvPr/>
        </p:nvPicPr>
        <p:blipFill>
          <a:blip r:embed="rId2"/>
          <a:stretch/>
        </p:blipFill>
        <p:spPr>
          <a:xfrm>
            <a:off x="0" y="0"/>
            <a:ext cx="10080000" cy="5670000"/>
          </a:xfrm>
          <a:prstGeom prst="rect">
            <a:avLst/>
          </a:prstGeom>
          <a:ln w="1260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93720" y="301680"/>
            <a:ext cx="8694720" cy="10969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93720" y="1390680"/>
            <a:ext cx="4265640" cy="681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b">
            <a:normAutofit/>
          </a:bodyPr>
          <a:p>
            <a:pPr marL="432000" indent="-324000">
              <a:lnSpc>
                <a:spcPct val="100000"/>
              </a:lnSpc>
              <a:spcAft>
                <a:spcPts val="1060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title"/>
          </p:nvPr>
        </p:nvSpPr>
        <p:spPr>
          <a:xfrm>
            <a:off x="693720" y="2071800"/>
            <a:ext cx="4265640" cy="30463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100000"/>
              </a:lnSpc>
              <a:spcAft>
                <a:spcPts val="1060"/>
              </a:spcAft>
              <a:buNone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5103720" y="1390680"/>
            <a:ext cx="4284720" cy="681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100000"/>
              </a:lnSpc>
              <a:spcAft>
                <a:spcPts val="1060"/>
              </a:spcAf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title"/>
          </p:nvPr>
        </p:nvSpPr>
        <p:spPr>
          <a:xfrm>
            <a:off x="5103720" y="2071800"/>
            <a:ext cx="4284720" cy="30463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100000"/>
              </a:lnSpc>
              <a:spcAft>
                <a:spcPts val="1060"/>
              </a:spcAft>
              <a:buNone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dt" idx="16"/>
          </p:nvPr>
        </p:nvSpPr>
        <p:spPr>
          <a:xfrm>
            <a:off x="50400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 type="ftr" idx="17"/>
          </p:nvPr>
        </p:nvSpPr>
        <p:spPr>
          <a:xfrm>
            <a:off x="3447360" y="5328000"/>
            <a:ext cx="319500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8"/>
          <p:cNvSpPr>
            <a:spLocks noGrp="1"/>
          </p:cNvSpPr>
          <p:nvPr>
            <p:ph type="sldNum" idx="18"/>
          </p:nvPr>
        </p:nvSpPr>
        <p:spPr>
          <a:xfrm>
            <a:off x="722736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0FC1CF-6D1E-4CFC-A01B-23AA5CC7648F}" type="slidenum">
              <a:rPr b="0" lang="ru-RU" sz="1400" spc="-1" strike="noStrike">
                <a:solidFill>
                  <a:srgbClr val="ffffff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Рисунок 5" descr=""/>
          <p:cNvPicPr/>
          <p:nvPr/>
        </p:nvPicPr>
        <p:blipFill>
          <a:blip r:embed="rId2"/>
          <a:stretch/>
        </p:blipFill>
        <p:spPr>
          <a:xfrm>
            <a:off x="0" y="0"/>
            <a:ext cx="10080000" cy="5670000"/>
          </a:xfrm>
          <a:prstGeom prst="rect">
            <a:avLst/>
          </a:prstGeom>
          <a:ln w="1260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376000" y="216000"/>
            <a:ext cx="5328000" cy="72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9"/>
          </p:nvPr>
        </p:nvSpPr>
        <p:spPr>
          <a:xfrm>
            <a:off x="50400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ftr" idx="20"/>
          </p:nvPr>
        </p:nvSpPr>
        <p:spPr>
          <a:xfrm>
            <a:off x="3447360" y="5328000"/>
            <a:ext cx="319500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21"/>
          </p:nvPr>
        </p:nvSpPr>
        <p:spPr>
          <a:xfrm>
            <a:off x="722736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4151F9-2DA1-4531-947F-FD4F51A7C7D8}" type="slidenum">
              <a:rPr b="0" lang="ru-RU" sz="1400" spc="-1" strike="noStrike">
                <a:solidFill>
                  <a:srgbClr val="ffffff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Рисунок 4" descr=""/>
          <p:cNvPicPr/>
          <p:nvPr/>
        </p:nvPicPr>
        <p:blipFill>
          <a:blip r:embed="rId2"/>
          <a:stretch/>
        </p:blipFill>
        <p:spPr>
          <a:xfrm>
            <a:off x="0" y="0"/>
            <a:ext cx="10080000" cy="5670000"/>
          </a:xfrm>
          <a:prstGeom prst="rect">
            <a:avLst/>
          </a:prstGeom>
          <a:ln w="1260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dt" idx="22"/>
          </p:nvPr>
        </p:nvSpPr>
        <p:spPr>
          <a:xfrm>
            <a:off x="50400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ftr" idx="23"/>
          </p:nvPr>
        </p:nvSpPr>
        <p:spPr>
          <a:xfrm>
            <a:off x="3447360" y="5328000"/>
            <a:ext cx="319500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24"/>
          </p:nvPr>
        </p:nvSpPr>
        <p:spPr>
          <a:xfrm>
            <a:off x="722736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D225A9C-6E1C-4877-94CF-CD3685712120}" type="slidenum">
              <a:rPr b="0" lang="ru-RU" sz="1400" spc="-1" strike="noStrike">
                <a:solidFill>
                  <a:srgbClr val="ffffff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10080000" cy="5670000"/>
          </a:xfrm>
          <a:prstGeom prst="rect">
            <a:avLst/>
          </a:prstGeom>
          <a:ln w="1260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93720" y="378000"/>
            <a:ext cx="3251160" cy="13240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b" anchorCtr="1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4286160" y="816120"/>
            <a:ext cx="5102280" cy="403056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spcAft>
                <a:spcPts val="1060"/>
              </a:spcAft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body"/>
          </p:nvPr>
        </p:nvSpPr>
        <p:spPr>
          <a:xfrm>
            <a:off x="693720" y="1701720"/>
            <a:ext cx="3251160" cy="31510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00000"/>
              </a:lnSpc>
              <a:spcAft>
                <a:spcPts val="1060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dt" idx="25"/>
          </p:nvPr>
        </p:nvSpPr>
        <p:spPr>
          <a:xfrm>
            <a:off x="50400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ftr" idx="26"/>
          </p:nvPr>
        </p:nvSpPr>
        <p:spPr>
          <a:xfrm>
            <a:off x="3447360" y="5328000"/>
            <a:ext cx="319500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 type="sldNum" idx="27"/>
          </p:nvPr>
        </p:nvSpPr>
        <p:spPr>
          <a:xfrm>
            <a:off x="722736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61C674-C694-46BE-86B9-52552D5EBF1D}" type="slidenum">
              <a:rPr b="0" lang="ru-RU" sz="1400" spc="-1" strike="noStrike">
                <a:solidFill>
                  <a:srgbClr val="ffffff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376000" y="108000"/>
            <a:ext cx="5328000" cy="93636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 fontScale="9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PARTS OF THE SENTENC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504000" y="1368000"/>
            <a:ext cx="9072000" cy="379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Aft>
                <a:spcPts val="1060"/>
              </a:spcAft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Aft>
                <a:spcPts val="1060"/>
              </a:spcAft>
              <a:buNone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ncipal parts (subject, predic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Aft>
                <a:spcPts val="1060"/>
              </a:spcAft>
              <a:buNone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ary parts (object, attribute, adverbial modifi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Aft>
                <a:spcPts val="1060"/>
              </a:spcAft>
              <a:buNone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dependent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376000" y="108000"/>
            <a:ext cx="5328000" cy="93636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 compound verbal modal pre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4000" y="818640"/>
            <a:ext cx="9072000" cy="43466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a)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a modal verb {can, may, must, should, would, ought, dare, need} and an infinitive — You may visit me tomorro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dal expressions {to be, to have} and an infinitive -1 have to 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verb with a modal meaning {to hope, to expect, to intend, to attempt, to try, to long, to wish, to want, to desire} and an infinitive or a gerund - / hope seeing him tomorro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dal expressions {to be able, to be obliged, to be bound, to be willing, to be anxious, to be capable, to be going} and an infinitive -I'm not able to do it no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376000" y="-23400"/>
            <a:ext cx="5328000" cy="457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 fontScale="9000"/>
          </a:bodyPr>
          <a:p>
            <a:pPr indent="0" algn="ctr">
              <a:lnSpc>
                <a:spcPct val="150000"/>
              </a:lnSpc>
              <a:buNone/>
            </a:pPr>
            <a:r>
              <a:rPr b="0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A compound verbal aspect predica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04000" y="318960"/>
            <a:ext cx="9072000" cy="50328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verb of beginning {to begin, to start, to commence, to set about, to take to, to fall to, to come} and an infinitive -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She began to cry from the first moment of our mee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verb of duration {to go on, to keep, to proceed, to continue} and an infinitive or a gerund -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He kept smil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verb of repetition {would, used to} and an infinitive -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I used to visit my uncle every week-e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verb of cessation {to stop, to finish, to cease, to give up, to leave off} and an infinitive or a gerund. -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He gave up smoking two years a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376000" y="108000"/>
            <a:ext cx="5328000" cy="93636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300" spc="-1" strike="noStrike" u="sng">
                <a:solidFill>
                  <a:srgbClr val="ffffff"/>
                </a:solidFill>
                <a:uFillTx/>
                <a:latin typeface="Arial"/>
              </a:rPr>
              <a:t>Mixed types of compound predicates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04000" y="1368000"/>
            <a:ext cx="9072000" cy="379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Aft>
                <a:spcPts val="1060"/>
              </a:spcAft>
              <a:buNone/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und modal nominal predicate -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 can not be unk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und aspect nominal predicate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 continued to be hap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und modal aspect predicate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 ought to stop cry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376000" y="216000"/>
            <a:ext cx="5328000" cy="72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THE SUBJEC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4000" y="936000"/>
            <a:ext cx="9072000" cy="4229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Aft>
                <a:spcPts val="1060"/>
              </a:spcAf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Ways of expressing the sub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1060"/>
              </a:spcAft>
            </a:pPr>
            <a:r>
              <a:rPr b="0" lang="en-US" sz="1700" spc="-1" strike="noStrike" u="sng">
                <a:solidFill>
                  <a:srgbClr val="ffffff"/>
                </a:solidFill>
                <a:uFillTx/>
                <a:latin typeface="Arial"/>
              </a:rPr>
              <a:t>A noun in the common case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The wind was strong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lang="en-US" sz="1700" spc="-1" strike="noStrike" u="sng">
                <a:solidFill>
                  <a:srgbClr val="ffffff"/>
                </a:solidFill>
                <a:uFillTx/>
                <a:latin typeface="Arial"/>
              </a:rPr>
              <a:t>A pronoun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(personal, demonstrative, defining, indefinite, negative, pos-interrogative) </a:t>
            </a: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He was running very fas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lang="en-US" sz="1700" spc="-1" strike="noStrike" u="sng">
                <a:solidFill>
                  <a:srgbClr val="ffffff"/>
                </a:solidFill>
                <a:uFillTx/>
                <a:latin typeface="Arial"/>
              </a:rPr>
              <a:t>adjective or participle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The wounded were taken care of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lang="en-US" sz="1700" spc="-1" strike="noStrike" u="sng">
                <a:solidFill>
                  <a:srgbClr val="ffffff"/>
                </a:solidFill>
                <a:uFillTx/>
                <a:latin typeface="Arial"/>
              </a:rPr>
              <a:t>A numeral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(cardinal or ordinal) </a:t>
            </a: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The first wanted to speak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lang="en-US" sz="1700" spc="-1" strike="noStrike" u="sng">
                <a:solidFill>
                  <a:srgbClr val="ffffff"/>
                </a:solidFill>
                <a:uFillTx/>
                <a:latin typeface="Arial"/>
              </a:rPr>
              <a:t>An infinitive, an infinitive phrase or construction </a:t>
            </a: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To see her was terribl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lang="en-US" sz="1700" spc="-1" strike="noStrike" u="sng">
                <a:solidFill>
                  <a:srgbClr val="ffffff"/>
                </a:solidFill>
                <a:uFillTx/>
                <a:latin typeface="Arial"/>
              </a:rPr>
              <a:t>A gerund, a gerundial phrase or construction </a:t>
            </a: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Smoking is harmful for your health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lang="en-US" sz="1700" spc="-1" strike="noStrike" u="sng">
                <a:solidFill>
                  <a:srgbClr val="ffffff"/>
                </a:solidFill>
                <a:uFillTx/>
                <a:latin typeface="Arial"/>
              </a:rPr>
              <a:t>A quotation </a:t>
            </a: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No is his usual repl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lang="en-US" sz="1700" spc="-1" strike="noStrike" u="sng">
                <a:solidFill>
                  <a:srgbClr val="ffffff"/>
                </a:solidFill>
                <a:uFillTx/>
                <a:latin typeface="Arial"/>
              </a:rPr>
              <a:t>A syntactically indivisible group of words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The needle and the thread is los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376000" y="108000"/>
            <a:ext cx="5328000" cy="93636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04000" y="1368000"/>
            <a:ext cx="9072000" cy="379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Aft>
                <a:spcPts val="1060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uctural types of the subj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060"/>
              </a:spcAf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he simple subjec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xpressed by a single word)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dinner was served in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he phrasal su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expressed by a phrase)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New Year party was wond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he clausal su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expressed by a clause)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hat has been done is 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376000" y="108000"/>
            <a:ext cx="5328000" cy="93636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Grammatical types of the subject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4000" y="1368000"/>
            <a:ext cx="9072000" cy="379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 Notional su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students passed their ex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ormal 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ersonal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t s sp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ory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t  was useless to come there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  emphatic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t was Anna who went up to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376000" y="216000"/>
            <a:ext cx="5328000" cy="72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 fontScale="95000"/>
          </a:bodyPr>
          <a:p>
            <a:pPr indent="0" algn="ctr">
              <a:lnSpc>
                <a:spcPct val="150000"/>
              </a:lnSpc>
              <a:buNone/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THE PREDICAT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04000" y="936000"/>
            <a:ext cx="9072000" cy="46018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Simple predic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2.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Compound nominal predic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3. Compound verbal predic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Mixed types of compound predicat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mpound modal nominal predic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Aft>
                <a:spcPts val="1060"/>
              </a:spcAft>
              <a:buClr>
                <a:srgbClr val="000000"/>
              </a:buClr>
              <a:buFont typeface="StarSymbol"/>
              <a:buAutoNum type="arabicPeriod" startAt="2"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mpound aspect nominal predic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mpound modal aspect predic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376000" y="216000"/>
            <a:ext cx="5328000" cy="72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 fontScale="95000"/>
          </a:bodyPr>
          <a:p>
            <a:pPr indent="0" algn="ctr">
              <a:lnSpc>
                <a:spcPct val="150000"/>
              </a:lnSpc>
              <a:buNone/>
            </a:pPr>
            <a:r>
              <a:rPr b="1" lang="en-US" sz="3300" spc="-1" strike="noStrike" u="sng">
                <a:solidFill>
                  <a:srgbClr val="ffffff"/>
                </a:solidFill>
                <a:uFillTx/>
                <a:latin typeface="Arial"/>
              </a:rPr>
              <a:t>Simple predicat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4000" y="936000"/>
            <a:ext cx="9072000" cy="4229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finite verb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and a nou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formed from a verb used with the indefinite artic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to have a smoke, to have a swim, to have a run, to give a laugh, to g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a push, to take a look, to make a move. He gave a c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finite verb and an abstract nou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used without any artic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to get rid, to get hold, to make use, to take care, to lose sight, to make fun, to pay attention, to take part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We were making fun togeth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376000" y="-126000"/>
            <a:ext cx="5328000" cy="140436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/>
          </a:bodyPr>
          <a:p>
            <a:pPr indent="0" algn="ctr">
              <a:lnSpc>
                <a:spcPct val="150000"/>
              </a:lnSpc>
              <a:buNone/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Compound nominal predi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4000" y="833400"/>
            <a:ext cx="9072000" cy="47120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spcAft>
                <a:spcPts val="1060"/>
              </a:spcAf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cording to their meaning link verbs can be divided into two grou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Aft>
                <a:spcPts val="1060"/>
              </a:spcAf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link verbs of being and remain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to be, to remain, to keep, to continu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Aft>
                <a:spcPts val="1060"/>
              </a:spcAf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smell, to stand, to sit, to lie, to shine, to seem, to prove, to app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Aft>
                <a:spcPts val="1060"/>
              </a:spcAf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e remained si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Aft>
                <a:spcPts val="1060"/>
              </a:spcAf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link verbs of becom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to become, to get, to grow, to come, to g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Aft>
                <a:spcPts val="1060"/>
              </a:spcAf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leave, to run, to turn, to m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Aft>
                <a:spcPts val="1060"/>
              </a:spcAf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became c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Aft>
                <a:spcPts val="1060"/>
              </a:spcAf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utumn the leaves turn yel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376000" y="214920"/>
            <a:ext cx="5328000" cy="72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predicate can be expressed 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4000" y="934920"/>
            <a:ext cx="9072000" cy="423036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noun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- My father is a do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adjective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- She is too you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ronoun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- This book is m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word of category of state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- I was afr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numeral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- He was th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repositional phrase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- The things were outside 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infinitive, infinitive phrase, infinitive construction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- His first thought was to go a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gerund, gerundial phrase, gerundial construction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- My favorite sport is swimm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iple II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- He was surpri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10.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adverb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- It was enough for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i="1" lang="en-US" sz="1100" spc="-1" strike="noStrike">
                <a:solidFill>
                  <a:srgbClr val="ffffff"/>
                </a:solidFill>
                <a:latin typeface="Arial"/>
              </a:rPr>
              <a:t>11.</a:t>
            </a:r>
            <a:r>
              <a:rPr b="0" i="1" lang="en-US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edicative clause</a:t>
            </a:r>
            <a:r>
              <a:rPr b="0" i="1" lang="en-US" sz="1100" spc="-1" strike="noStrike">
                <a:solidFill>
                  <a:srgbClr val="ffffff"/>
                </a:solidFill>
                <a:latin typeface="Arial"/>
              </a:rPr>
              <a:t> —He looked as if he had been living there for ag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376000" y="215640"/>
            <a:ext cx="5328000" cy="72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/>
          </a:bodyPr>
          <a:p>
            <a:pPr indent="0" algn="ctr">
              <a:lnSpc>
                <a:spcPct val="150000"/>
              </a:lnSpc>
              <a:buNone/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3. Compound verbal pred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4000" y="1368000"/>
            <a:ext cx="9072000" cy="379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und verbal modal pred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und verbal aspect pred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  <Words>1070</Words>
  <Paragraphs>9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04T22:37:55Z</dcterms:created>
  <dc:creator/>
  <dc:description/>
  <dc:language>en-US</dc:language>
  <cp:lastModifiedBy>Teacher</cp:lastModifiedBy>
  <dcterms:modified xsi:type="dcterms:W3CDTF">2022-06-02T06:41:05Z</dcterms:modified>
  <cp:revision>6</cp:revision>
  <dc:subject/>
  <dc:title>Metropolis</dc:title>
</cp:coreProperties>
</file>