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720000" y="900000"/>
            <a:ext cx="6120000" cy="3441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dt" idx="3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3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41B23A-0C1D-495A-A957-42283F82FCA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FBE64786-EFFB-481D-8CE9-212E3AEBFC5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C64DC835-E663-4547-B888-6F5AC3CA24F3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7BF4314A-48A6-412C-8FB5-9749786FC903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E78AE8FE-69EF-4C4D-B7AB-EE1C4599123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71D0E85E-C1E0-4686-A00C-8542F51847B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4B93EAD5-13E6-415F-8912-49BC102C5D5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D49DEB78-8CD5-4122-A996-021C60485F0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057058D9-5F33-46B3-BB2F-264D48C74E5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5B8ED854-DD0A-41A3-B338-A314C5EA7E6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BC411694-FAC1-4030-938F-25D20264ED8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DDA3E930-E51B-4189-AB8A-B2E7BE43A61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Номер слайда 6"/>
          <p:cNvSpPr txBox="1"/>
          <p:nvPr/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</a:pPr>
            <a:fld id="{F8378CAB-D5E1-4212-B311-E44F60C1B21B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6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20000" y="4680000"/>
            <a:ext cx="6120000" cy="504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A27-FEB7-4406-BC64-732CEAB2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DF4-7C2C-48A9-9857-1B8A89D5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5EF94-C264-41EE-81CE-85A002BC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D56EB-7117-406B-813D-29935F9C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30FFE-9B4B-401F-8A7C-D466E150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8864E-5960-4427-B80D-590E7222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5D1FB-068E-4EE2-A087-35F5004D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2C62F-4AC7-4A92-84C2-535F4EB6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E39AD-9F00-461D-995E-33D3BA6D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0501C-0CE4-48B7-B3C6-83D28F1D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3F614-0282-4328-92B6-5CB8363A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5CAD3-45FB-46E2-A9F6-505CAA81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10F-AC01-4DC5-89B2-5090A7A8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A1C9D-CBFF-46E8-9EF7-4E6396C3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03AB4-5FB5-4D17-BFA2-38E303D0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D8D61-2B6C-4584-968C-FADE8191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9501B-E8E4-4EF5-8636-4BD95989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6CFDD-A44D-42C3-8D43-EC963572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1780C-7CA9-4C8A-9177-767A05D6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27AAD-34FF-4770-9CD0-70B6D7C7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66D4B-1F09-4E6D-9180-D76C1DC3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85545-873F-4B97-9CA2-0BB018E3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1D0D3-24C3-4B3D-89E2-5DA88D8F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FD5-A331-4FAF-90A9-91F2A529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2CF40-B4BC-42E1-9104-203A9649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93731-B9EF-4132-9951-7B464D5E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B0832-EAAF-452A-B838-3AC3BC60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3F779-D686-4316-9606-534A4227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7685D-B053-4AD6-A92F-EE049A5E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A9391-0B31-4197-A299-C5F2A4A0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83DDE-AF4C-44E2-8276-5739DABD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40258-D1B4-44E2-84EA-8FAAF94A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D46D0-ACF4-4AB6-828B-56FBF3AA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0898C-5904-41AB-BF02-8E5B106B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AAF9-C6B0-4794-A442-5E343777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36619-2C6B-4B94-B10F-D421503B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4795F-441B-4803-8D86-6C9AFD31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C9BF4-B27C-4438-86FE-822AB892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9B9FF-A0EB-416C-9032-FF469333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23DCF-89D1-449A-9696-5479FCDB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F71CD-94BB-4FC7-B4FA-5349FD1A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CE15D-443E-4D46-9151-DC27D8C4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A5CBC-12A0-4A4B-9CBD-B0F999E7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A8378-24C1-411F-BB99-9637334F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67B8C-8DDB-4672-8E83-FDEC21FD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43AC-3200-47F6-BCC9-E0C7819B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E75F7-2DFB-47A8-8444-458F9A47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5BD01-FF50-4F29-B41E-48462203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AF335-B931-42D4-8ED9-804C1B55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54457-0CD9-4733-B9E2-0E414263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BE02C-899A-44A2-92AC-AF2A3C6B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C613-512D-4907-A90C-6AB3B3C3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FB92-9E09-42C9-8845-9825DE6C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1889-AB26-4433-AFB5-0C35F950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ADEC-B526-47C9-B0C1-9ECA6D61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3E36-569E-4C3E-8B94-5E151540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B7D-54D3-4147-8CFC-5354ADEC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F60A8-5133-487C-85E0-17096B17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166A-ED5D-471D-B7F3-64807454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44F8-8CDA-454D-950E-32C46537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300F-DBCF-4D75-A516-4783B9AD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1AE2-1DF4-4AD0-914E-AC460335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19967-BFA8-410F-A40A-DADADC91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4967D-D9F9-4D78-8747-F159A606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BA07D-3D85-4CDA-A387-8FE36204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CF364-C97F-4393-96AC-73A47BB1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5700-B0CE-4AB5-A38A-015A79D7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B80-C0A1-48FF-A6EC-92C7AC44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801E1-C3DB-479B-9377-C05106A3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A770D-61BA-4666-AF14-6EE42161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9A61F-E8FE-4DE2-8EE7-F57861D7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D18A-F0FD-4C86-91F6-4CBBF8C8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307B7-19F3-4B69-BDD6-9F1141DF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5A25A-D84A-4330-9B41-564012EE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AAB9A-26E6-44EF-A609-39CCBF81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3FE7E-0474-4999-A78D-8FB861DB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15DE9-BD9D-481D-82BF-88DFE518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2C866-197D-4CF5-A547-19780CBA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F05-E767-4644-98EF-AFEFA600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948F5-D9D6-484D-AA21-9CA58A57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163C2-4FF5-4171-8239-F3A435EF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11398-3927-44C3-BC0C-3A9598F7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0FDDA-D71A-4448-B8F0-8266AAAD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A8F08-7853-4765-9BF2-5C9D2A8E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C50C4-BE85-4480-8EC6-35E55592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14732-EC33-4069-8D90-EEB40126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D5F54-3800-4574-AEFC-033D5A0D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8A7B4-3870-4DC3-AA96-71DED7C1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3528A-CAE1-4F89-A723-347A7C7E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838-13E5-46BB-86EB-16F58555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5A480-2534-4477-AE2A-857E6C5C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0691A-0415-458E-B1F3-6BF69DC0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EEB48-0B9B-40A2-84C4-CBDB18B3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D3B4F-1438-4EA8-BD62-7E9984F9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0A89D-5A40-44E7-B3C2-D4CA428D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88872-4B93-4277-BB0F-49472369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CB564-8950-4BF3-BD73-D718FCEC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E8CBD-DC59-4889-B8A6-AADCC166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B621C-FAD0-4224-9975-80F4AC8C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F4375-31EA-4FA7-8992-73111713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360-8EBF-40D5-8CF5-809025E8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A92B2-08C1-440C-967D-E020673F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66AE9-C478-4282-8B47-04EB78E8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A6C02-CF9B-46CC-90A2-A31DAB72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C15AB-499E-4DDE-8654-638C5510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D0DAF-BD60-420F-A841-F2E023D9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E045A-41D9-47EB-9A66-511A18C2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4D6CF-7014-4689-935B-5A8CE6A2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4A067-BBF1-406B-9DE5-4A229961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1C8E4-5E22-430A-8CED-C2DA9569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1B90C-0053-4D2F-95E2-53892FA5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FD0-678A-4C9C-8BC8-EFEB5982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26107-3906-4144-919D-C46EC610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233A2-8F37-4F08-9CA6-BD9D85F9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FD94E-258A-464B-B333-155899E5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C8394-6F55-4EC3-A38C-A8E106AA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48687-9B6B-4EC6-AE96-45850059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5BF62-4BDA-44E8-9338-B357C840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733BF-CC59-4F1D-B6CC-DDF918C9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68046-0541-428A-9390-2B6075B0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62A7A-F99B-4E98-A564-0085921E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42B9B-A5BB-47BE-BDB4-EB9B7058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4BAA-80AB-41DA-9725-7C4F2B50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6907E-49AF-43EE-8523-8BDF5307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062A2-3372-4F72-B282-24C6FF1F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C1F59-F5C6-484E-BF53-A0166408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BCF96-1EDD-4B2F-8410-7ACA4807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EAA77-5EBB-444A-B521-1378D970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452CB-9DD8-4C62-9B3C-128F95F3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6AA79-33C3-4554-A926-B320E8F4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BA93F-5E21-47C0-80F8-47498ED7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5C6CE-8D37-4A64-9191-AF0F964B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C0E13-672D-4966-9651-995BCB57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6FD-5605-4575-BCAD-31D19940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2000" cy="43884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7DAB1-337A-44C2-8C19-840E00B4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93934-0BD2-42EA-AC86-71DDA990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6992E-639A-441F-9ABD-4D446D78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8139A-D9D2-4EDA-ADFB-F1E1EFE2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4000" y="3044520"/>
            <a:ext cx="907200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60A39-973E-4AA5-8A2C-FD040AC0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400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152680" y="3044520"/>
            <a:ext cx="442692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13DB8-6A80-466A-9A3A-335AA99F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57156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639120" y="132660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0400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57156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639120" y="3044520"/>
            <a:ext cx="2921040" cy="15685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60607-4821-456E-AE87-BCDDF508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B1A2C-282B-4896-AB9A-2466CD66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0B708-452C-4094-9CD8-6672F409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3A9FB-4F13-43FB-B68F-186DE086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52450A-5E5E-4AD8-9F41-4061F0F64C8D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93720" y="378000"/>
            <a:ext cx="3251160" cy="13240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286160" y="816120"/>
            <a:ext cx="5102280" cy="40305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body"/>
          </p:nvPr>
        </p:nvSpPr>
        <p:spPr>
          <a:xfrm>
            <a:off x="693720" y="1701720"/>
            <a:ext cx="3251160" cy="31510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dt" idx="28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29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 type="sldNum" idx="30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A2EA81-78F1-44AD-B7C0-C888F127F5DA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vert="eaVer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3279D0-BAA1-483D-9E4B-86C5DB564A2E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308720" y="216000"/>
            <a:ext cx="2266920" cy="495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 vert="eaVer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03280" y="216000"/>
            <a:ext cx="6653160" cy="495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vert="eaVer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ACCF44-0D0E-4CD7-9EDE-31F18F8BD796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0360" y="928800"/>
            <a:ext cx="7559640" cy="19731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23FEE3-FC48-4AAE-BA1F-3AC24B4F97C9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CFBC31-6304-4CAE-BFA5-C875E0C62938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7240" y="1414440"/>
            <a:ext cx="8694720" cy="235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7240" y="3794040"/>
            <a:ext cx="8694720" cy="1241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898989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221D2C-F578-4F85-A374-9D3392968F4B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503280" y="1368360"/>
            <a:ext cx="445932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title"/>
          </p:nvPr>
        </p:nvSpPr>
        <p:spPr>
          <a:xfrm>
            <a:off x="5114880" y="1368360"/>
            <a:ext cx="446076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13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A6DF93-2003-4FE3-AFFA-3B0D03AB4856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9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93720" y="301680"/>
            <a:ext cx="8694720" cy="10969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3720" y="1390680"/>
            <a:ext cx="4265640" cy="681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title"/>
          </p:nvPr>
        </p:nvSpPr>
        <p:spPr>
          <a:xfrm>
            <a:off x="693720" y="2071800"/>
            <a:ext cx="4265640" cy="30463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5103720" y="1390680"/>
            <a:ext cx="4284720" cy="6811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100000"/>
              </a:lnSpc>
              <a:spcAft>
                <a:spcPts val="1060"/>
              </a:spcAf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title"/>
          </p:nvPr>
        </p:nvSpPr>
        <p:spPr>
          <a:xfrm>
            <a:off x="5103720" y="2071800"/>
            <a:ext cx="4284720" cy="30463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dt" idx="16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 type="ftr" idx="17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8"/>
          <p:cNvSpPr>
            <a:spLocks noGrp="1"/>
          </p:cNvSpPr>
          <p:nvPr>
            <p:ph type="sldNum" idx="18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07A341-9B73-412B-857C-FBA2CF099945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5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20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21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4D16A5-3A6D-44CD-9947-7255144268DD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dt" idx="22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23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24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488DEC-7B02-49B3-A11D-7E9530ABCCF4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2000" cy="9464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2000" cy="32886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0080000" cy="5670000"/>
          </a:xfrm>
          <a:prstGeom prst="rect">
            <a:avLst/>
          </a:prstGeom>
          <a:ln w="1260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93720" y="378000"/>
            <a:ext cx="3251160" cy="13240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b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4286160" y="816120"/>
            <a:ext cx="5102280" cy="40305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body"/>
          </p:nvPr>
        </p:nvSpPr>
        <p:spPr>
          <a:xfrm>
            <a:off x="693720" y="1701720"/>
            <a:ext cx="3251160" cy="31510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00000"/>
              </a:lnSpc>
              <a:spcAft>
                <a:spcPts val="106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dt" idx="25"/>
          </p:nvPr>
        </p:nvSpPr>
        <p:spPr>
          <a:xfrm>
            <a:off x="50400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6"/>
          </p:nvPr>
        </p:nvSpPr>
        <p:spPr>
          <a:xfrm>
            <a:off x="3447360" y="5328000"/>
            <a:ext cx="319500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 anchorCtr="1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7"/>
          </p:nvPr>
        </p:nvSpPr>
        <p:spPr>
          <a:xfrm>
            <a:off x="7227360" y="5328000"/>
            <a:ext cx="2348280" cy="2282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DD002D-7F65-4370-9BE5-ABEABA69193E}" type="slidenum">
              <a:rPr b="0" lang="ru-RU" sz="14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376000" y="108000"/>
            <a:ext cx="5328000" cy="936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PARTS OF THE SENTENC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Aft>
                <a:spcPts val="1060"/>
              </a:spcAft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Aft>
                <a:spcPts val="1060"/>
              </a:spcAft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al parts (subject, predic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Aft>
                <a:spcPts val="1060"/>
              </a:spcAft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ary parts (object, attribute, adverbial modif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Aft>
                <a:spcPts val="1060"/>
              </a:spcAft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ependent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76000" y="108000"/>
            <a:ext cx="5328000" cy="936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 compound verbal modal pre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4000" y="818640"/>
            <a:ext cx="9072000" cy="43466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)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 modal verb {can, may, must, should, would, ought, dare, need} and an infinitive — You may visit me tomor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dal expressions {to be, to have} and an infinitive -1 have to 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verb with a modal meaning {to hope, to expect, to intend, to attempt, to try, to long, to wish, to want, to desire} and an infinitive or a gerund - / hope seeing him tomorr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dal expressions {to be able, to be obliged, to be bound, to be willing, to be anxious, to be capable, to be going} and an infinitive -I'm not able to do it n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76000" y="-23400"/>
            <a:ext cx="5328000" cy="4572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000"/>
          </a:bodyPr>
          <a:p>
            <a:pPr indent="0" algn="ctr">
              <a:lnSpc>
                <a:spcPct val="150000"/>
              </a:lnSpc>
              <a:buNone/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A compound verbal aspect predic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4000" y="318960"/>
            <a:ext cx="9072000" cy="50328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verb of beginning {to begin, to start, to commence, to set about, to take to, to fall to, to come} and an infinitive -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She began to cry from the first moment of our mee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verb of duration {to go on, to keep, to proceed, to continue} and an infinitive or a gerund -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e kept smil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verb of repetition {would, used to} and an infinitive -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I used to visit my uncle every week-e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verb of cessation {to stop, to finish, to cease, to give up, to leave off} and an infinitive or a gerund. -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e gave up smoking two years a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76000" y="108000"/>
            <a:ext cx="5328000" cy="936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300" spc="-1" strike="noStrike" u="sng">
                <a:solidFill>
                  <a:srgbClr val="ffffff"/>
                </a:solidFill>
                <a:uFillTx/>
                <a:latin typeface="Arial"/>
              </a:rPr>
              <a:t>Mixed types of compound predicate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Aft>
                <a:spcPts val="1060"/>
              </a:spcAft>
              <a:buNone/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modal nominal predicate 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 can not be unk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aspect nominal predicate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 continued to be hap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modal aspect predicate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 ought to stop cr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HE SUBJEC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4000" y="936000"/>
            <a:ext cx="9072000" cy="4229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Aft>
                <a:spcPts val="1060"/>
              </a:spcAf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Ways of expressing the sub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noun in the common case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he wind was stron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pronoun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(personal, demonstrative, defining, indefinite, negative, pos-interrogative)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He was running very fas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djective or participle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he wounded were taken care of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numeral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(cardinal or ordinal)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he first wanted to spea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n infinitive, an infinitive phrase or construction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o see her was terribl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gerund, a gerundial phrase or construction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Smoking is harmful for your heal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quotation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No is his usual rep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1700" spc="-1" strike="noStrike" u="sng">
                <a:solidFill>
                  <a:srgbClr val="ffffff"/>
                </a:solidFill>
                <a:uFillTx/>
                <a:latin typeface="Arial"/>
              </a:rPr>
              <a:t>A syntactically indivisible group of words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The needle and the thread is los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76000" y="108000"/>
            <a:ext cx="5328000" cy="936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Aft>
                <a:spcPts val="1060"/>
              </a:spcAf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uctural types of the subj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simple subjec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xpressed by a single word)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dinner was served i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phrasal su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xpressed by a phrase)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New Year party was wond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clausal su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xpressed by a clause)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hat has been done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376000" y="108000"/>
            <a:ext cx="5328000" cy="936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Grammatical types of the subject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 Notional su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students passed their ex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al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ersonal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t s sp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or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t  was useless to come there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 emphatic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t was Anna who went up to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5000"/>
          </a:bodyPr>
          <a:p>
            <a:pPr indent="0" algn="ctr">
              <a:lnSpc>
                <a:spcPct val="150000"/>
              </a:lnSpc>
              <a:buNone/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THE PREDICA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4000" y="936000"/>
            <a:ext cx="9072000" cy="46018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imple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2.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ompound nominal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3. Compound verbal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Mixed types of compound predic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und modal nominal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Aft>
                <a:spcPts val="1060"/>
              </a:spcAft>
              <a:buClr>
                <a:srgbClr val="000000"/>
              </a:buClr>
              <a:buFont typeface="StarSymbol"/>
              <a:buAutoNum type="arabicPeriod" startAt="2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und aspect nominal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und modal aspect predic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376000" y="21600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 fontScale="95000"/>
          </a:bodyPr>
          <a:p>
            <a:pPr indent="0" algn="ctr">
              <a:lnSpc>
                <a:spcPct val="150000"/>
              </a:lnSpc>
              <a:buNone/>
            </a:pPr>
            <a:r>
              <a:rPr b="1" lang="en-US" sz="3300" spc="-1" strike="noStrike" u="sng">
                <a:solidFill>
                  <a:srgbClr val="ffffff"/>
                </a:solidFill>
                <a:uFillTx/>
                <a:latin typeface="Arial"/>
              </a:rPr>
              <a:t>Simple predicat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4000" y="936000"/>
            <a:ext cx="9072000" cy="4229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inite verb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nd a nou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formed from a verb used with the indefinite artic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to have a smoke, to have a swim, to have a run, to give a laugh, to g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a push, to take a look, to make a move. He gave a c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finite verb and an abstract nou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used without any artic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to get rid, to get hold, to make use, to take care, to lose sight, to make fun, to pay attention, to take part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We were making fun toge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376000" y="-126000"/>
            <a:ext cx="5328000" cy="1404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50000"/>
              </a:lnSpc>
              <a:buNone/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Compound nominal pred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4000" y="833400"/>
            <a:ext cx="9072000" cy="471204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ording to their meaning link verbs can be divided into two grou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ink verbs of being and remai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to be, to remain, to keep, to contin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smell, to stand, to sit, to lie, to shine, to seem, to prove, to app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 remained si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link verbs of becom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to become, to get, to grow, to come, to 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leave, to run, to turn, to 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became c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Aft>
                <a:spcPts val="1060"/>
              </a:spcAf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utumn the leaves turn yel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376000" y="21492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edicate can be express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4000" y="934920"/>
            <a:ext cx="9072000" cy="423036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oun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My father is a do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djective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She is too yo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onoun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This book is m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word of category of state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I was afr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umeral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He was th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epositional phrase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The things were outside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finitive, infinitive phrase, infinitive construction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His first thought was to go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erund, gerundial phrase, gerundial construction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My favorite sport is swim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iple II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He was surpri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dverb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- It was enough for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Aft>
                <a:spcPts val="1060"/>
              </a:spcAf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edicative clause</a:t>
            </a: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 —He looked as if he had been living there for ag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376000" y="215640"/>
            <a:ext cx="5328000" cy="72000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ctr" anchorCtr="1">
            <a:normAutofit/>
          </a:bodyPr>
          <a:p>
            <a:pPr indent="0" algn="ctr">
              <a:lnSpc>
                <a:spcPct val="150000"/>
              </a:lnSpc>
              <a:buNone/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. Compound verbal pr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4000" y="1368000"/>
            <a:ext cx="9072000" cy="3797280"/>
          </a:xfrm>
          <a:prstGeom prst="rect">
            <a:avLst/>
          </a:prstGeom>
          <a:noFill/>
          <a:ln w="1260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verbal modal pre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Aft>
                <a:spcPts val="1060"/>
              </a:spcAf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 verbal aspect pred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  <Words>1070</Words>
  <Paragraphs>9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4T22:37:55Z</dcterms:created>
  <dc:creator/>
  <dc:description/>
  <dc:language>en-US</dc:language>
  <cp:lastModifiedBy>Teacher</cp:lastModifiedBy>
  <dcterms:modified xsi:type="dcterms:W3CDTF">2022-06-02T06:41:05Z</dcterms:modified>
  <cp:revision>6</cp:revision>
  <dc:subject/>
  <dc:title>Metropolis</dc:title>
</cp:coreProperties>
</file>