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7E4E-8C20-4E04-A752-98F7E38E5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33ED-787F-4A8C-9168-AB7A199C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11B1-1A0A-40C6-BA08-D8C7EC6B8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033A-F13B-4D8F-A3AD-26C49454A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6955-9FAD-40C7-A1FA-3DBA0F1A4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1FB5-0116-47A9-AF6C-F669A62A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A43F-DD24-44CC-9C9D-9C197C4E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9DC7-80C4-42A5-9C40-14520855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80B2-8D33-44D5-ABE4-5F7AEC63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73EE-6390-40B9-A44D-F4F4EDA5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EB54-72D4-4FD4-B27B-5F4D9096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D343-90EC-49DF-8658-8315EAE8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5CEF-5D09-4388-9A48-1B04F0FE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EB8C-99A2-4C81-8A16-D8537331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5994-AACC-4998-A57C-8110CBCE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A8C1-8379-4897-8599-737ACB951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14CD-1E0C-431D-8A6A-4902DDCA0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27F19-42FE-42A0-9013-E4115A923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879D7-6778-434C-ACAA-E8C8ED5F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7BEF6-57F6-414B-A794-D46FFD6B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7CDE0-3AA6-42A1-B8DD-34D63BB5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5DBBF-BD1E-46C6-AB79-24389DED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BBF2-EDA4-4954-85A3-D7377C23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1FD9C-5A14-4CB5-A84A-76A26FBF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E0930-46C9-4CA5-B7F2-6784CAC1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18C5D-5509-4847-9E59-C7903C90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240B0-281F-494B-AE1A-15BE7B62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6C400-EDEA-4160-96F5-4E28DA90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38228-5DFB-41E4-BE37-ACF949A3C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7DFF2-E82A-4BB5-AAA6-AAA5D59EC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2E65-863B-4A34-ADD3-7F831723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11EA-A62F-46F3-88F3-6240AEF2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7453-9D3F-428F-8F9E-CB503C67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4803-EB54-4DC5-A03A-1A8E543D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D854-1FD9-4719-A41F-6506C280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C02D-D407-4F12-89DB-9BCE59AF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A23238-6280-418C-B2F6-43DFC1D9AF8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100CDF-B3AA-418C-A927-A6938774046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4FEBD45-DACE-4768-A6CB-DB715FA42F3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68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7000"/>
          </a:bodyPr>
          <a:p>
            <a:pPr indent="0" algn="ctr">
              <a:lnSpc>
                <a:spcPct val="100000"/>
              </a:lnSpc>
              <a:buNone/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600"/>
            </a:br>
            <a:br>
              <a:rPr sz="1600"/>
            </a:br>
            <a:r>
              <a:rPr b="0" lang="ru-RU" sz="2000" spc="-1" strike="noStrike">
                <a:solidFill>
                  <a:srgbClr val="10243e"/>
                </a:solidFill>
                <a:latin typeface="Times New Roman"/>
              </a:rPr>
              <a:t>МИНИСТЕРСТВО СПОРТА РОССИЙСКОЙ ФЕДЕРАЦИИ</a:t>
            </a:r>
            <a:br>
              <a:rPr sz="2000"/>
            </a:br>
            <a:r>
              <a:rPr b="0" lang="ru-RU" sz="2000" spc="-1" strike="noStrike">
                <a:solidFill>
                  <a:srgbClr val="10243e"/>
                </a:solidFill>
                <a:latin typeface="Times New Roman"/>
              </a:rPr>
              <a:t>Федеральное государственное бюджетное 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10243e"/>
                </a:solidFill>
                <a:latin typeface="Times New Roman"/>
              </a:rPr>
              <a:t>высшего образования</a:t>
            </a:r>
            <a:br>
              <a:rPr sz="2000"/>
            </a:br>
            <a:r>
              <a:rPr b="0" lang="ru-RU" sz="2000" spc="-1" strike="noStrike">
                <a:solidFill>
                  <a:srgbClr val="10243e"/>
                </a:solidFill>
                <a:latin typeface="Times New Roman"/>
              </a:rPr>
              <a:t>«Сибирский государственный университет физической культуры и спорта»</a:t>
            </a:r>
            <a:br>
              <a:rPr sz="2000"/>
            </a:br>
            <a:r>
              <a:rPr b="0" lang="ru-RU" sz="2000" spc="-1" strike="noStrike">
                <a:solidFill>
                  <a:srgbClr val="10243e"/>
                </a:solidFill>
                <a:latin typeface="Times New Roman"/>
              </a:rPr>
              <a:t>Кафедра ТиМ ВВС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600"/>
            </a:br>
            <a:r>
              <a:rPr b="1" lang="ru-RU" sz="3100" spc="-1" strike="noStrike">
                <a:solidFill>
                  <a:srgbClr val="17375e"/>
                </a:solidFill>
                <a:latin typeface="Times New Roman"/>
              </a:rPr>
              <a:t>Семёнова Оксана Игоревна</a:t>
            </a:r>
            <a:br>
              <a:rPr sz="31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600"/>
            </a:br>
            <a:r>
              <a:rPr b="1" lang="ru-RU" sz="3100" spc="-1" strike="noStrike">
                <a:solidFill>
                  <a:srgbClr val="17375e"/>
                </a:solidFill>
                <a:latin typeface="Times New Roman"/>
              </a:rPr>
              <a:t>ОСОБЕННОСТИ СПЕЦИАЛЬНОЙ СИЛОВОЙ ПОДГОТОВКИ ПЛОВЦОВ</a:t>
            </a:r>
            <a:br>
              <a:rPr sz="3100"/>
            </a:b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Руководитель курсовой работы:</a:t>
            </a:r>
            <a:br>
              <a:rPr sz="2000"/>
            </a:b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                                                                                        кандидат педагогических наук, </a:t>
            </a:r>
            <a:br>
              <a:rPr sz="2000"/>
            </a:b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                                                                                           доцент Жукова Елена Сергеевна </a:t>
            </a:r>
            <a:br>
              <a:rPr sz="2000"/>
            </a:br>
            <a:br>
              <a:rPr sz="20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6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мск – 2019</a:t>
            </a:r>
            <a:br>
              <a:rPr sz="1800"/>
            </a:b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7640" y="62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</a:rPr>
              <a:t>Изометрический</a:t>
            </a:r>
            <a:br>
              <a:rPr sz="4400"/>
            </a:br>
            <a:r>
              <a:rPr b="1" lang="ru-RU" sz="4400" spc="-1" strike="noStrike">
                <a:solidFill>
                  <a:srgbClr val="558ed5"/>
                </a:solidFill>
                <a:latin typeface="Times New Roman"/>
              </a:rPr>
              <a:t>(статический) режим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ldNum" idx="1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6046C0-E0FF-4A58-9176-83F72C5C4995}" type="slidenum">
              <a:rPr b="0" lang="ru-RU" sz="2000" spc="-1" strike="noStrike">
                <a:solidFill>
                  <a:srgbClr val="000000"/>
                </a:solidFill>
                <a:latin typeface="Calibri"/>
              </a:rPr>
              <a:t>10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8" descr="https://titan-race.ru/media/storage/00/43/0043fa44a55fdf1be5ee29a7686ff9e0.JPG"/>
          <p:cNvPicPr/>
          <p:nvPr/>
        </p:nvPicPr>
        <p:blipFill>
          <a:blip r:embed="rId1"/>
          <a:srcRect l="7626" t="0" r="6028" b="42608"/>
          <a:stretch/>
        </p:blipFill>
        <p:spPr>
          <a:xfrm>
            <a:off x="3852000" y="2456280"/>
            <a:ext cx="4536000" cy="253548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3" descr="E:\СибГУФК\Pictures\image004.jpg"/>
          <p:cNvPicPr/>
          <p:nvPr/>
        </p:nvPicPr>
        <p:blipFill>
          <a:blip r:embed="rId2"/>
          <a:srcRect l="13802" t="38558" r="60220" b="4297"/>
          <a:stretch/>
        </p:blipFill>
        <p:spPr>
          <a:xfrm>
            <a:off x="1361520" y="2493000"/>
            <a:ext cx="2100240" cy="2498760"/>
          </a:xfrm>
          <a:prstGeom prst="rect">
            <a:avLst/>
          </a:prstGeom>
          <a:ln w="0">
            <a:solidFill>
              <a:srgbClr val="4f81bd"/>
            </a:solidFill>
          </a:ln>
        </p:spPr>
      </p:pic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83640" y="551736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10243e"/>
                </a:solidFill>
                <a:latin typeface="Times New Roman"/>
              </a:rPr>
              <a:t>Изометрические</a:t>
            </a:r>
            <a:r>
              <a:rPr b="0" lang="ru-RU" sz="2000" spc="-1" strike="noStrike">
                <a:solidFill>
                  <a:srgbClr val="10243e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0243e"/>
                </a:solidFill>
                <a:latin typeface="Times New Roman"/>
              </a:rPr>
              <a:t>упражнения</a:t>
            </a:r>
            <a:r>
              <a:rPr b="0" lang="ru-RU" sz="2000" spc="-1" strike="noStrike">
                <a:solidFill>
                  <a:srgbClr val="10243e"/>
                </a:solidFill>
                <a:latin typeface="Times New Roman"/>
              </a:rPr>
              <a:t> – это силовая нагрузка, при которой мышечное напряжение достигается без движения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</a:rPr>
              <a:t>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Num" idx="18"/>
          </p:nvPr>
        </p:nvSpPr>
        <p:spPr>
          <a:xfrm>
            <a:off x="6588360" y="6373800"/>
            <a:ext cx="2133360" cy="48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BE12F5-A7EE-405D-B838-434604B618E1}" type="slidenum">
              <a:rPr b="0" lang="ru-RU" sz="2000" spc="-1" strike="noStrike">
                <a:solidFill>
                  <a:srgbClr val="000000"/>
                </a:solidFill>
                <a:latin typeface="Calibri"/>
              </a:rPr>
              <a:t>10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2" descr="https://svart.ua/upload/seo_text_images/medball/medball-medicine-ball.jpeg"/>
          <p:cNvPicPr/>
          <p:nvPr/>
        </p:nvPicPr>
        <p:blipFill>
          <a:blip r:embed="rId1"/>
          <a:stretch/>
        </p:blipFill>
        <p:spPr>
          <a:xfrm>
            <a:off x="3502800" y="4826160"/>
            <a:ext cx="2753640" cy="1671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https://static-eu.insales.ru/images/products/1/7831/125288087/import_files_53_536dcba3-7b3e-11e7-ab3c-001e582bf58c_02945f60-8282-11e7-a809-001e582bf58c.png"/>
          <p:cNvPicPr/>
          <p:nvPr/>
        </p:nvPicPr>
        <p:blipFill>
          <a:blip r:embed="rId2"/>
          <a:stretch/>
        </p:blipFill>
        <p:spPr>
          <a:xfrm>
            <a:off x="2041920" y="4924440"/>
            <a:ext cx="1238040" cy="1650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https://rffit.ru/d/mb-barmw-c325-1000x1000.png"/>
          <p:cNvPicPr/>
          <p:nvPr/>
        </p:nvPicPr>
        <p:blipFill>
          <a:blip r:embed="rId3"/>
          <a:stretch/>
        </p:blipFill>
        <p:spPr>
          <a:xfrm>
            <a:off x="0" y="3003480"/>
            <a:ext cx="3666600" cy="4889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https://fitzdrav.com/wp-content/uploads/2018/07/negativnye-otzhimani9-813x1024.jpg"/>
          <p:cNvPicPr/>
          <p:nvPr/>
        </p:nvPicPr>
        <p:blipFill>
          <a:blip r:embed="rId4"/>
          <a:srcRect l="22226" t="0" r="3519" b="0"/>
          <a:stretch/>
        </p:blipFill>
        <p:spPr>
          <a:xfrm>
            <a:off x="6469920" y="617400"/>
            <a:ext cx="2599920" cy="58798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07640" y="47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</a:rPr>
              <a:t>Изотонический</a:t>
            </a:r>
            <a:br>
              <a:rPr sz="4400"/>
            </a:br>
            <a:r>
              <a:rPr b="1" lang="ru-RU" sz="4400" spc="-1" strike="noStrike">
                <a:solidFill>
                  <a:srgbClr val="558ed5"/>
                </a:solidFill>
                <a:latin typeface="Times New Roman"/>
              </a:rPr>
              <a:t>(динамический) </a:t>
            </a:r>
            <a:br>
              <a:rPr sz="4400"/>
            </a:br>
            <a:r>
              <a:rPr b="1" lang="ru-RU" sz="4400" spc="-1" strike="noStrike">
                <a:solidFill>
                  <a:srgbClr val="558ed5"/>
                </a:solidFill>
                <a:latin typeface="Times New Roman"/>
              </a:rPr>
              <a:t>режим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оугольник 1"/>
          <p:cNvSpPr/>
          <p:nvPr/>
        </p:nvSpPr>
        <p:spPr>
          <a:xfrm>
            <a:off x="251640" y="2136240"/>
            <a:ext cx="669636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отоническ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пражн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ключают упражнения в преодолевающем и уступающем режимах. Изотонические упражнения – это все силовые упражнения с применением отягощений, с преодолением веса собственного тела, связанные с возвратно-поступательными движен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Num" idx="1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E7C9FF-441A-4561-A3A6-BE3BDE23C490}" type="slidenum">
              <a:rPr b="0" lang="ru-RU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2" descr="https://vasatrainer.com/wp-content/uploads/2016/04/erg_swim_coach_0165_rev2.jpg"/>
          <p:cNvPicPr/>
          <p:nvPr/>
        </p:nvPicPr>
        <p:blipFill>
          <a:blip r:embed="rId1"/>
          <a:srcRect l="0" t="9439" r="0" b="22054"/>
          <a:stretch/>
        </p:blipFill>
        <p:spPr>
          <a:xfrm>
            <a:off x="-32760" y="1556640"/>
            <a:ext cx="5043240" cy="4606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</a:rPr>
              <a:t>Изокинетический </a:t>
            </a:r>
            <a:br>
              <a:rPr sz="4400"/>
            </a:br>
            <a:r>
              <a:rPr b="1" lang="ru-RU" sz="4400" spc="-1" strike="noStrike">
                <a:solidFill>
                  <a:srgbClr val="558ed5"/>
                </a:solidFill>
                <a:latin typeface="Times New Roman"/>
              </a:rPr>
              <a:t>режим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1"/>
          <p:cNvSpPr/>
          <p:nvPr/>
        </p:nvSpPr>
        <p:spPr>
          <a:xfrm>
            <a:off x="5004000" y="1700640"/>
            <a:ext cx="3923640" cy="365580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</a:rPr>
              <a:t>Положительные чер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</a:rPr>
              <a:t>изокинетического режи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можность проявления максимальных усилий в любой части движ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сокая скорость выполнения упражн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ногообразие упражнений локального и общего воздейств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изкий уровень травматиз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значительный прирост мышечной ма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Num" idx="20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4B6A1D-0122-415E-9405-F4B5904569AE}" type="slidenum">
              <a:rPr b="0" lang="ru-RU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2" descr="https://i.pinimg.com/originals/9e/8b/ab/9e8bab8ad504a54ba3d1f4203f84e3b8.jpg"/>
          <p:cNvPicPr/>
          <p:nvPr/>
        </p:nvPicPr>
        <p:blipFill>
          <a:blip r:embed="rId1"/>
          <a:stretch/>
        </p:blipFill>
        <p:spPr>
          <a:xfrm>
            <a:off x="422640" y="682920"/>
            <a:ext cx="4483440" cy="59781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611640" y="120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</a:rPr>
              <a:t>Режим переменных сопротивлений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ямоугольник 1"/>
          <p:cNvSpPr/>
          <p:nvPr/>
        </p:nvSpPr>
        <p:spPr>
          <a:xfrm>
            <a:off x="4428000" y="2540520"/>
            <a:ext cx="4571640" cy="243576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10000"/>
              </a:lnSpc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Режим переменных сопротивлени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язан с использованием тренажеров, конструктивные особенности которых позволяют изменять величину отягощений в разных частях движения, с учетом реальных возможностей вовлеченных в работу мыш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4"/>
          <p:cNvSpPr/>
          <p:nvPr/>
        </p:nvSpPr>
        <p:spPr>
          <a:xfrm>
            <a:off x="672120" y="1772640"/>
            <a:ext cx="777636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Повторный метод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выполнение плавательных силовых  упражнения с высоким уровнем интенсивности движений, близким к соревновательному и длительными (до субъективного восстановления) паузами отды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Интервальный метод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усматривает регламентированное число повторений в режиме максимальной и субмаксимальной интенсивности с ограниченным отдыхом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5"/>
          <p:cNvSpPr/>
          <p:nvPr/>
        </p:nvSpPr>
        <p:spPr>
          <a:xfrm>
            <a:off x="803160" y="476640"/>
            <a:ext cx="751428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558ed5"/>
                </a:solidFill>
                <a:latin typeface="Times New Roman"/>
              </a:rPr>
              <a:t>Методы, применяемые в процес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558ed5"/>
                </a:solidFill>
                <a:latin typeface="Times New Roman"/>
              </a:rPr>
              <a:t>специальной силовой подготовки в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FC75-C6CF-4CBE-9534-80067F2A43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640" y="-171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558ed5"/>
                </a:solidFill>
                <a:latin typeface="Calibri"/>
              </a:rPr>
              <a:t>Современные направления в методике специальной силовой подготовки пловцов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5" name="Таблица 4"/>
          <p:cNvGraphicFramePr/>
          <p:nvPr/>
        </p:nvGraphicFramePr>
        <p:xfrm>
          <a:off x="534960" y="980640"/>
          <a:ext cx="8280720" cy="3918600"/>
        </p:xfrm>
        <a:graphic>
          <a:graphicData uri="http://schemas.openxmlformats.org/drawingml/2006/table">
            <a:tbl>
              <a:tblPr/>
              <a:tblGrid>
                <a:gridCol w="2812680"/>
                <a:gridCol w="2520000"/>
                <a:gridCol w="2947680"/>
              </a:tblGrid>
              <a:tr h="1296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Times New Roman"/>
                        </a:rPr>
                        <a:t>Применение средств специальной силовой подготов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Times New Roman"/>
                        </a:rPr>
                        <a:t>в условиях водной сре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Times New Roman"/>
                        </a:rPr>
                        <a:t>Направлен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Times New Roman"/>
                        </a:rPr>
                        <a:t>на реализацию силового потенци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Times New Roman"/>
                        </a:rPr>
                        <a:t>Планирование силовой подготовки с учетом возраста, квалификации, специализации плов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495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Включение в тренировку специальных упражнений, включая плавание с сопротивлениями,  в лопатках, с резиновыми амортизаторами, с дозировкой и интенсивностью, соответствующими возрасту пловц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Использование для контроля специальных показателей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- КИС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- К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- КС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Подбор упражнений с учетом траекторий движений руками и ногами в каждом способе плавания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с учетом длины дистанции, на которой специализируется пловец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186" name="Picture 6" descr="http://evolutionary.narod.ru/trenirovka-myshc/3_files/3-2.jpg"/>
          <p:cNvPicPr/>
          <p:nvPr/>
        </p:nvPicPr>
        <p:blipFill>
          <a:blip r:embed="rId1"/>
          <a:stretch/>
        </p:blipFill>
        <p:spPr>
          <a:xfrm>
            <a:off x="5652360" y="5229360"/>
            <a:ext cx="3168000" cy="13665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https://www.proball.ru/upload/images/34814296/1f5bb361d3fc71c1cf2daa4af185b2c5_1000_1000.jpg"/>
          <p:cNvPicPr/>
          <p:nvPr/>
        </p:nvPicPr>
        <p:blipFill>
          <a:blip r:embed="rId2"/>
          <a:srcRect l="0" t="24923" r="0" b="24356"/>
          <a:stretch/>
        </p:blipFill>
        <p:spPr>
          <a:xfrm>
            <a:off x="683640" y="5163480"/>
            <a:ext cx="2304000" cy="1557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http://www.atlant-sport.ru/uploads/main_product_149803570953883900.jpg"/>
          <p:cNvPicPr/>
          <p:nvPr/>
        </p:nvPicPr>
        <p:blipFill>
          <a:blip r:embed="rId3"/>
          <a:srcRect l="6179" t="0" r="6534" b="39075"/>
          <a:stretch/>
        </p:blipFill>
        <p:spPr>
          <a:xfrm>
            <a:off x="3274560" y="5229360"/>
            <a:ext cx="2643480" cy="143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6211-6367-49A4-9FC3-B2DDF00536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Num" idx="2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CB7C4E-506D-49DF-A937-8EBC1044580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585720" y="353880"/>
            <a:ext cx="7986240" cy="63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На основании анализа и обобщения научно-методической литературы в процессе изучения особенностей силовой подготовки пловцов выявлено, что современная силовая подготовка основывается на рациональном сочетании средств общей и специальной подготовки. Силовая подготовка включает развитие различных видов силовых качеств, предполагая совершенствование максимальной силы, силовой выносливости и взрывной силы пловцов. Для развития силовых качеств используются четыре основных метода: изометрический, изотонический, изокинетический, переменных сопротивл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Анализ и обобщение данных о средствах и методах специальной силовой подготовки позволили выявить, что специальная силовая подготовка пловцов предполагает применение средств, приближающихся по воздействию к характеру плавательных движений. К средствам специальной силовой подготовки относят: плавание в лопатках, с сопротивлениями, с тормозными устройствами, с резиновым амортизатором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Num" idx="2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39FD52-E20A-43E7-8A74-66DDDC7F49C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Прямоугольник 3"/>
          <p:cNvSpPr/>
          <p:nvPr/>
        </p:nvSpPr>
        <p:spPr>
          <a:xfrm>
            <a:off x="251640" y="692640"/>
            <a:ext cx="8712720" cy="65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В качестве методов силовой подготовки выделяют: метод повторных непредельных усили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метод изокинетических усили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 динамических усили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 круговой тренировк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гровой метод. Особенностью специальной силовой подготовки является применение повторного и интервального метода. При использовании повторного метода пловцы  выполняют упражнения с интенсивностью, близкой к соревновательной и длительным отдыхом. Интервальный метод предусматривает регламентированное число повторений в режиме максимальной и субмаксимальной интенсивности с ограниченным отдых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Важной составляющей современной силовой подготовки является направленность на реализацию силового потенциала в условиях водной среды, что обеспечивается применением средств специальной силовой подготовки в процессе выполнения плавательных упражн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оценки реализации силовых возможностей в условиях водной среды и оценки согласования усилий, развиваемых руками и ногами,  существуют специальные расчетные показатели, включающие коэффициент использования силовых возможностей (КИСВ) и коэффициент координации (КК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"/>
          <p:cNvSpPr/>
          <p:nvPr/>
        </p:nvSpPr>
        <p:spPr>
          <a:xfrm>
            <a:off x="710640" y="236880"/>
            <a:ext cx="3572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воды  (продол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Num" idx="2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767624-63BB-47BC-8684-416F7886B250}" type="slidenum">
              <a:rPr b="0" lang="ru-RU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Прямоугольник 3"/>
          <p:cNvSpPr/>
          <p:nvPr/>
        </p:nvSpPr>
        <p:spPr>
          <a:xfrm>
            <a:off x="251640" y="692640"/>
            <a:ext cx="8712720" cy="29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Прогресс современного спортивного плавания предъявляет особые требования к специальной силовой подготовке пловцов, которая должна строиться с учетом возраста, квалификации и конкретной специализации пловца. Упражнения специальной силовой подготовки необходимо подбирать с учетом траекторий движений руками и ногами в каждом способе плавания, а методика выполнения упражнений должна учитывать дистанцию, на которой специализируется пловец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"/>
          <p:cNvSpPr/>
          <p:nvPr/>
        </p:nvSpPr>
        <p:spPr>
          <a:xfrm>
            <a:off x="710640" y="236880"/>
            <a:ext cx="3572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воды  (продол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Num" idx="24"/>
          </p:nvPr>
        </p:nvSpPr>
        <p:spPr>
          <a:xfrm>
            <a:off x="6876360" y="63813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BF7E09-CF89-4EC8-A838-7C419FFDF010}" type="slidenum">
              <a:rPr b="0" lang="ru-RU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Прямоугольник 4"/>
          <p:cNvSpPr/>
          <p:nvPr/>
        </p:nvSpPr>
        <p:spPr>
          <a:xfrm>
            <a:off x="251640" y="541800"/>
            <a:ext cx="88200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При развитии специальных силовых способностей пловцов  необходимо формировать у спортсменов возможность реализации силового  потенциала с помощью применения  различных тренировочных сред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качестве средств специальной силовой подготовки в воде могут служи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плавание  в максимальном темпе с полной координацией движений, с помощью движений одних ног или одних ру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лавание в максимальном темпе с использованием лопаточе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лавание с различными видами дополнительных отягощений или сопротивл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лавание в парах «тачка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лавание, подтягиваясь за дорож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лавание с резиновым кругом на ног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лавание на ногах с вертикальным положением дос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лавание в больших лопатках в сочетании с лас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539640" y="-162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6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Практические рекомендации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Прямоугольник 6"/>
          <p:cNvSpPr/>
          <p:nvPr/>
        </p:nvSpPr>
        <p:spPr>
          <a:xfrm>
            <a:off x="251640" y="5013000"/>
            <a:ext cx="828072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Контролировать реализацию силового потенциала у пловцов рекомендуется на основе таких показателей, как: коэффициент силовой выносливости (КСВ), коэффициент использования силовых возможностей (КИСВ), коэффициент координации (КК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640" y="-243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</a:rPr>
              <a:t>Актуальность исследова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5520" y="881280"/>
            <a:ext cx="8988120" cy="59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2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овые способности, характеризующие возможность спортсмена к проявлению рабочих усилий для преодоления значительных внешних сопротивлений, определяют и максимальные скоростные способности пловцов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жное значение имеет соответствие между силовой подготовленностью, достигнутой на суше, и степенью ее реализации во время плавания в соревновательных условиях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307800" y="7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460440" y="16020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7" descr="E:\СибГУФК\Pictures\гребок под водой 470x0_VCUdgQTPTQupNyK8KbwhTg3a4jo8VeV6___jpg____4_900d8bd5.jpg"/>
          <p:cNvPicPr/>
          <p:nvPr/>
        </p:nvPicPr>
        <p:blipFill>
          <a:blip r:embed="rId1"/>
          <a:srcRect l="0" t="14322" r="24572" b="15834"/>
          <a:stretch/>
        </p:blipFill>
        <p:spPr>
          <a:xfrm>
            <a:off x="129960" y="2803320"/>
            <a:ext cx="4064400" cy="239004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9"/>
          <p:cNvSpPr/>
          <p:nvPr/>
        </p:nvSpPr>
        <p:spPr>
          <a:xfrm>
            <a:off x="633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10" descr="E:\СибГУФК\Pictures\kak-pravilno-plavat-krolem-poleznie-soveti_4.jpg"/>
          <p:cNvPicPr/>
          <p:nvPr/>
        </p:nvPicPr>
        <p:blipFill>
          <a:blip r:embed="rId2"/>
          <a:srcRect l="0" t="27168" r="7720" b="6532"/>
          <a:stretch/>
        </p:blipFill>
        <p:spPr>
          <a:xfrm>
            <a:off x="4330080" y="2781000"/>
            <a:ext cx="4680720" cy="23900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3"/>
          <p:cNvSpPr>
            <a:spLocks noGrp="1"/>
          </p:cNvSpPr>
          <p:nvPr>
            <p:ph type="sldNum" idx="10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F4676E-A4C3-4C69-8838-5AD335C2F513}" type="slidenum">
              <a:rPr b="0" lang="ru-RU" sz="2000" spc="-1" strike="noStrike">
                <a:solidFill>
                  <a:srgbClr val="000000"/>
                </a:solidFill>
                <a:latin typeface="Calibri"/>
              </a:rPr>
              <a:t>1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Num" idx="2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858756-D4F1-4924-B020-08930A107710}" type="slidenum">
              <a:rPr b="0" lang="ru-RU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Заголовок 1"/>
          <p:cNvSpPr/>
          <p:nvPr/>
        </p:nvSpPr>
        <p:spPr>
          <a:xfrm>
            <a:off x="659520" y="62064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1" lang="ru-RU" sz="26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Практические рекоменд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6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(продолжени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5"/>
          <p:cNvSpPr/>
          <p:nvPr/>
        </p:nvSpPr>
        <p:spPr>
          <a:xfrm>
            <a:off x="441720" y="2421000"/>
            <a:ext cx="842472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Если в тренировочном занятии стоит задача повышения специальных силовых способностей, то рекомендуется включать в программу упражнения «силового плавания» или упражнения с элементами силовой направленности в объеме 70 % от всех тренировочных зад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 Целенаправленный подбор упражнений специальной силовой подготовки способствует повышению уровня силовых показателей и положительно влияет на реализацию силовых возможностей у пловц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27640" y="476640"/>
            <a:ext cx="8875800" cy="63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302400" indent="0" algn="just">
              <a:lnSpc>
                <a:spcPct val="120000"/>
              </a:lnSpc>
              <a:buNone/>
              <a:tabLst>
                <a:tab algn="l" pos="0"/>
              </a:tabLst>
            </a:pPr>
            <a:r>
              <a:rPr b="1" lang="ru-RU" sz="6400" spc="-1" strike="noStrike">
                <a:solidFill>
                  <a:srgbClr val="558ed5"/>
                </a:solidFill>
                <a:latin typeface="Times New Roman"/>
              </a:rPr>
              <a:t>Объект исследования </a:t>
            </a:r>
            <a:r>
              <a:rPr b="1" lang="ru-RU" sz="56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-</a:t>
            </a:r>
            <a:endParaRPr b="0" lang="ru-RU" sz="5600" spc="-1" strike="noStrike">
              <a:solidFill>
                <a:srgbClr val="000000"/>
              </a:solidFill>
              <a:latin typeface="Calibri"/>
            </a:endParaRPr>
          </a:p>
          <a:p>
            <a:pPr marL="302400" indent="0" algn="just">
              <a:lnSpc>
                <a:spcPct val="120000"/>
              </a:lnSpc>
              <a:buNone/>
              <a:tabLst>
                <a:tab algn="l" pos="0"/>
              </a:tabLst>
            </a:pPr>
            <a:r>
              <a:rPr b="1" lang="ru-RU" sz="56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процесс развития силовых</a:t>
            </a:r>
            <a:endParaRPr b="0" lang="ru-RU" sz="5600" spc="-1" strike="noStrike">
              <a:solidFill>
                <a:srgbClr val="000000"/>
              </a:solidFill>
              <a:latin typeface="Calibri"/>
            </a:endParaRPr>
          </a:p>
          <a:p>
            <a:pPr marL="302400" indent="0" algn="just">
              <a:lnSpc>
                <a:spcPct val="120000"/>
              </a:lnSpc>
              <a:buNone/>
              <a:tabLst>
                <a:tab algn="l" pos="0"/>
              </a:tabLst>
            </a:pPr>
            <a:r>
              <a:rPr b="1" lang="ru-RU" sz="56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способностей пловцов</a:t>
            </a:r>
            <a:endParaRPr b="0" lang="ru-RU" sz="5600" spc="-1" strike="noStrike">
              <a:solidFill>
                <a:srgbClr val="000000"/>
              </a:solidFill>
              <a:latin typeface="Calibri"/>
            </a:endParaRPr>
          </a:p>
          <a:p>
            <a:pPr marL="302400" indent="0">
              <a:lnSpc>
                <a:spcPct val="120000"/>
              </a:lnSpc>
              <a:buNone/>
              <a:tabLst>
                <a:tab algn="l" pos="0"/>
              </a:tabLst>
            </a:pPr>
            <a:endParaRPr b="0" lang="ru-RU" sz="5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</a:tabLst>
            </a:pPr>
            <a:r>
              <a:rPr b="1" lang="ru-RU" sz="5600" spc="-1" strike="noStrike">
                <a:solidFill>
                  <a:srgbClr val="558ed5"/>
                </a:solidFill>
                <a:latin typeface="Times New Roman"/>
              </a:rPr>
              <a:t>Предмет исследования </a:t>
            </a:r>
            <a:r>
              <a:rPr b="1" lang="ru-RU" sz="56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-   </a:t>
            </a:r>
            <a:r>
              <a:rPr b="1" lang="ru-RU" sz="5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методические особенности специальной силовой подготовки в плавании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  <a:p>
            <a:pPr marL="302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Num" idx="1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13C14D-8B71-48D9-A9C2-4A34320E3187}" type="slidenum">
              <a:rPr b="0" lang="ru-RU" sz="2000" spc="-1" strike="noStrike">
                <a:solidFill>
                  <a:srgbClr val="8b8b8b"/>
                </a:solidFill>
                <a:latin typeface="Calibri"/>
              </a:rPr>
              <a:t>3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</a:rPr>
              <a:t>Гипотеза исследова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7640" y="1484640"/>
            <a:ext cx="87847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едположение о том, что в результате изучения особенностей силовой подготовки пловцов, обобщения и систематизации данных о средствах и методах специальной силовой подготовки в плавании, будут выявлены современные направления развития специальных силовых способностей пловцов.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2C478B-B7ED-400E-8641-E69FA1EE5657}" type="slidenum">
              <a:rPr b="0" lang="ru-RU" sz="2000" spc="-1" strike="noStrike">
                <a:solidFill>
                  <a:srgbClr val="000000"/>
                </a:solidFill>
                <a:latin typeface="Calibri"/>
              </a:rPr>
              <a:t>4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7640" y="62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</a:rPr>
              <a:t>Цель исследова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108360" y="2052360"/>
            <a:ext cx="91447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на основании анализа и обобщения научно-методической литературы систематизировать данные об особенностях специальной силовой подготовки пловцов и выявить современные направления развития специальных силовых способностей пловцов. 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Num" idx="1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3DC62D-40A1-4CDB-A69C-D852E46B59AB}" type="slidenum">
              <a:rPr b="0" lang="ru-RU" sz="2000" spc="-1" strike="noStrike">
                <a:solidFill>
                  <a:srgbClr val="000000"/>
                </a:solidFill>
                <a:latin typeface="Calibri"/>
              </a:rPr>
              <a:t>5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908640"/>
            <a:ext cx="8229240" cy="7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</a:rPr>
              <a:t>Задачи исследования: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3640" y="1700640"/>
            <a:ext cx="8686440" cy="52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1. Изучить особенности силовой подготовки пловцов.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2. Выявить средства и методы специальной силовой подготовки пловцов.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3. Систематизировать данные и выявить современные направления развития специальных силовых способностей пловцов. 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1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FB5455-6C28-4A25-8EF5-3D8139A324B2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Виды силовых способностей</a:t>
            </a:r>
            <a:br>
              <a:rPr sz="4000"/>
            </a:br>
            <a:r>
              <a:rPr b="0" lang="ru-RU" sz="40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(по данным анализа литературы)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5577A4C-865A-441F-82D3-A0381718A602}" type="slidenum">
              <a:rPr b="0" lang="ru-RU" sz="2000" spc="-1" strike="noStrike">
                <a:solidFill>
                  <a:srgbClr val="000000"/>
                </a:solidFill>
                <a:latin typeface="Calibri"/>
              </a:rPr>
              <a:t>7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Таблица 4"/>
          <p:cNvGraphicFramePr/>
          <p:nvPr/>
        </p:nvGraphicFramePr>
        <p:xfrm>
          <a:off x="208800" y="1700640"/>
          <a:ext cx="8784720" cy="3657600"/>
        </p:xfrm>
        <a:graphic>
          <a:graphicData uri="http://schemas.openxmlformats.org/drawingml/2006/table">
            <a:tbl>
              <a:tblPr/>
              <a:tblGrid>
                <a:gridCol w="1440000"/>
                <a:gridCol w="2376000"/>
                <a:gridCol w="2592000"/>
                <a:gridCol w="2376000"/>
              </a:tblGrid>
              <a:tr h="159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ловых способ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- Максимальная с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- Абсолютная с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- Относительная с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376092"/>
                        </a:buClr>
                        <a:buFont typeface="StarSymbol"/>
                        <a:buChar char="-"/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Собственно силовые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способ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-    Взрывная сил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376092"/>
                        </a:buClr>
                        <a:buFont typeface="StarSymbol"/>
                        <a:buChar char="-"/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Скоростно-силов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способ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376092"/>
                        </a:buClr>
                        <a:buFont typeface="StarSymbol"/>
                        <a:buChar char="-"/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Силов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вынослив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-    Динамическая с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-    Статическая сил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- Максимальная сил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-  Взрывная с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-  Силов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chemeClr val="accent1">
                              <a:lumMod val="75000"/>
                            </a:schemeClr>
                          </a:solidFill>
                          <a:latin typeface="Calibri"/>
                        </a:rPr>
                        <a:t>вынослив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495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В.М.Зациор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А.С.Барабошк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В.А.Андре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Ю.В.Верхошан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В.В.Бобров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Т.В.Каплан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В.Н.Платонов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Н.Ж.Булгак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С.М.Вайцехов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Дж. Каунсилм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9"/>
          <p:cNvSpPr/>
          <p:nvPr/>
        </p:nvSpPr>
        <p:spPr>
          <a:xfrm>
            <a:off x="6012000" y="1484640"/>
            <a:ext cx="1944360" cy="86328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8" name="Прямоугольник 8"/>
          <p:cNvSpPr/>
          <p:nvPr/>
        </p:nvSpPr>
        <p:spPr>
          <a:xfrm>
            <a:off x="3708360" y="1484640"/>
            <a:ext cx="1942920" cy="86328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9" name="Прямоугольник 2"/>
          <p:cNvSpPr/>
          <p:nvPr/>
        </p:nvSpPr>
        <p:spPr>
          <a:xfrm>
            <a:off x="1236600" y="1484640"/>
            <a:ext cx="1944360" cy="86328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36680" y="16920"/>
            <a:ext cx="8229240" cy="15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Классификация средств силовой подготовки: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Заголовок 1"/>
          <p:cNvSpPr/>
          <p:nvPr/>
        </p:nvSpPr>
        <p:spPr>
          <a:xfrm>
            <a:off x="436680" y="1116360"/>
            <a:ext cx="822924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ОСП                      ВСП                ССП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трелка вниз 5"/>
          <p:cNvSpPr/>
          <p:nvPr/>
        </p:nvSpPr>
        <p:spPr>
          <a:xfrm rot="3064800">
            <a:off x="2108160" y="849600"/>
            <a:ext cx="336240" cy="618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3" name="Стрелка вниз 11"/>
          <p:cNvSpPr/>
          <p:nvPr/>
        </p:nvSpPr>
        <p:spPr>
          <a:xfrm>
            <a:off x="4383000" y="833760"/>
            <a:ext cx="336240" cy="618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4" name="Стрелка вниз 12"/>
          <p:cNvSpPr/>
          <p:nvPr/>
        </p:nvSpPr>
        <p:spPr>
          <a:xfrm rot="18870000">
            <a:off x="6529320" y="808200"/>
            <a:ext cx="336240" cy="618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aphicFrame>
        <p:nvGraphicFramePr>
          <p:cNvPr id="155" name="Таблица 3"/>
          <p:cNvGraphicFramePr/>
          <p:nvPr/>
        </p:nvGraphicFramePr>
        <p:xfrm>
          <a:off x="611640" y="2493000"/>
          <a:ext cx="7848360" cy="371016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1548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ая силовая подгото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помогательная  силовая подгото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ециаль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ловая подгото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5480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упражнения со штангой, эспандерами, набивными мячами, блочными устройствами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 партнеро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упражнения на специальных тренажерах, с учетом техники способов пла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лавание в лопатках,      с сопротивлениями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тягощениями, плавание с растягиванием резинового амортизатора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лавание с тормозными устройств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Num" idx="1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625718-CEF5-4320-8455-54C02EBB1B8C}" type="slidenum">
              <a:rPr b="0" lang="ru-RU" sz="2000" spc="-1" strike="noStrike">
                <a:solidFill>
                  <a:srgbClr val="000000"/>
                </a:solidFill>
                <a:latin typeface="Calibri"/>
              </a:rPr>
              <a:t>7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оугольник 1"/>
          <p:cNvSpPr/>
          <p:nvPr/>
        </p:nvSpPr>
        <p:spPr>
          <a:xfrm>
            <a:off x="488880" y="1484640"/>
            <a:ext cx="8064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научно-методической литературе по плаванию методы развития силовых качеств авторы связывают с режимами  выполнения силовых упражн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"/>
          <p:cNvSpPr/>
          <p:nvPr/>
        </p:nvSpPr>
        <p:spPr>
          <a:xfrm>
            <a:off x="1331640" y="3429000"/>
            <a:ext cx="7632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50000"/>
              </a:lnSpc>
              <a:buClr>
                <a:srgbClr val="10243e"/>
              </a:buClr>
              <a:buFont typeface="Wingdings" charset="2"/>
              <a:buChar char=""/>
            </a:pPr>
            <a:r>
              <a:rPr b="1" lang="ru-RU" sz="3200" spc="-1" strike="noStrike">
                <a:solidFill>
                  <a:srgbClr val="10243e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0243e"/>
                </a:solidFill>
                <a:latin typeface="Times New Roman"/>
              </a:rPr>
              <a:t>Изометрический режи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10243e"/>
              </a:buClr>
              <a:buFont typeface="Wingdings" charset="2"/>
              <a:buChar char=""/>
            </a:pPr>
            <a:r>
              <a:rPr b="1" lang="ru-RU" sz="3200" spc="-1" strike="noStrike">
                <a:solidFill>
                  <a:srgbClr val="10243e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0243e"/>
                </a:solidFill>
                <a:latin typeface="Times New Roman"/>
              </a:rPr>
              <a:t>Изотонический реж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10243e"/>
              </a:buClr>
              <a:buFont typeface="Wingdings" charset="2"/>
              <a:buChar char=""/>
            </a:pPr>
            <a:r>
              <a:rPr b="1" lang="ru-RU" sz="3200" spc="-1" strike="noStrike">
                <a:solidFill>
                  <a:srgbClr val="10243e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0243e"/>
                </a:solidFill>
                <a:latin typeface="Times New Roman"/>
              </a:rPr>
              <a:t>Изокинетический реж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10243e"/>
              </a:buClr>
              <a:buFont typeface="Wingdings" charset="2"/>
              <a:buChar char=""/>
            </a:pPr>
            <a:r>
              <a:rPr b="1" lang="ru-RU" sz="3200" spc="-1" strike="noStrike">
                <a:solidFill>
                  <a:srgbClr val="10243e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0243e"/>
                </a:solidFill>
                <a:latin typeface="Times New Roman"/>
              </a:rPr>
              <a:t>Режим переменных сопротивле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88880" y="764640"/>
            <a:ext cx="8229240" cy="7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558ed5"/>
                </a:solidFill>
                <a:latin typeface="Times New Roman"/>
              </a:rPr>
              <a:t>Методы развития силовых способностей</a:t>
            </a:r>
            <a:br>
              <a:rPr sz="4400"/>
            </a:b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4"/>
          <p:cNvSpPr/>
          <p:nvPr/>
        </p:nvSpPr>
        <p:spPr>
          <a:xfrm>
            <a:off x="664920" y="2847960"/>
            <a:ext cx="8280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558ed5"/>
                </a:solidFill>
                <a:latin typeface="Times New Roman"/>
              </a:rPr>
              <a:t>Режимы выполнения силовых упражне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  <Words>1172</Words>
  <Paragraphs>15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6:23:49Z</dcterms:created>
  <dc:creator>Oksana</dc:creator>
  <dc:description/>
  <dc:language>en-US</dc:language>
  <cp:lastModifiedBy>Петрова Людмила Ивановна</cp:lastModifiedBy>
  <dcterms:modified xsi:type="dcterms:W3CDTF">2023-12-05T08:54:48Z</dcterms:modified>
  <cp:revision>3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0</vt:r8>
  </property>
</Properties>
</file>