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3E1-C22B-4CD8-9837-2EDCB401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2F5-B7C0-4CD4-872A-8C923B80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A6A-935D-4B71-BC1D-B122FF97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041-99F1-4C18-AE7A-EA973B56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B7D8-0EE4-472C-97A4-543F7C96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83C1-5B9D-429B-9BD7-A95100D0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3795-676D-4097-A1F9-6E94217E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A312-EF55-4F0A-8BC1-44EF1561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F8F2-E0E2-4490-98D5-0EB05525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9B12-8C41-45AC-B241-B9BFB99C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F794-2744-4650-8A65-51C3FE9F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E6F-C74C-458E-A707-B1F0EC05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0984-BD64-4225-B57A-816B220C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D10C-BA63-43BA-8880-7E2C0E90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4C8B-7AF4-437B-A3A7-AE5BCC4A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67C4-5E08-4797-B713-50644DBE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BEE1-7394-495C-8D61-311EC32A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10230-EFB6-4724-AB46-7750A6CF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32BF4-C99D-4754-B264-4757C9D9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AE08-5A12-4E41-A1B3-BB254CA7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BF6F2-9552-49B0-8C58-BD972362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FFC1-A347-41E6-AE14-50A313E0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403-A149-413C-A14F-1B3662F2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F139A-59E9-4F07-A79B-13617F8F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0074B-A60A-4CA7-AF2E-C965E1B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5301-5467-4E98-8B32-760F9C20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EBB5-72E6-4CE5-93B8-85CC4CF3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6FD3-B0EF-4AFE-BE52-1C70326D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ECA2E-0653-4A25-BA91-CBB9652B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AD988-9CA4-4E55-AC01-EBEFD7DF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9B9-4784-41D6-B099-0BDE037B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895-615A-47D7-9D43-70447CEC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DE9-8E04-4A8E-93ED-FC943AB9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AED-BC3B-46A3-A448-E41659E6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086-2AE1-41A0-9442-2B233768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316-3F88-4475-92D7-8787604C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001E70-D7B2-4745-90D0-0ACEF6EEC3B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07EDAD-30A6-4547-94BD-1F13847F2F3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645089-2BAE-4A45-AD40-2B705A9AD38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7000"/>
          </a:bodyPr>
          <a:p>
            <a:pPr indent="0" algn="ctr">
              <a:lnSpc>
                <a:spcPct val="100000"/>
              </a:lnSpc>
              <a:buNone/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МИНИСТЕРСТВО СПОРТА РОССИЙСКОЙ ФЕДЕРАЦИИ</a:t>
            </a:r>
            <a:br>
              <a:rPr sz="20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Федеральное государственное бюджет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высшего образования</a:t>
            </a:r>
            <a:br>
              <a:rPr sz="20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«Сибирский государственный университет физической культуры и спорта»</a:t>
            </a:r>
            <a:br>
              <a:rPr sz="20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Кафедра ТиМ ВВС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1" lang="ru-RU" sz="3100" spc="-1" strike="noStrike">
                <a:solidFill>
                  <a:srgbClr val="17375e"/>
                </a:solidFill>
                <a:latin typeface="Times New Roman"/>
              </a:rPr>
              <a:t>Семёнова Оксана Игоревна</a:t>
            </a:r>
            <a:br>
              <a:rPr sz="31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1" lang="ru-RU" sz="3100" spc="-1" strike="noStrike">
                <a:solidFill>
                  <a:srgbClr val="17375e"/>
                </a:solidFill>
                <a:latin typeface="Times New Roman"/>
              </a:rPr>
              <a:t>ОСОБЕННОСТИ СПЕЦИАЛЬНОЙ СИЛОВОЙ ПОДГОТОВКИ ПЛОВЦОВ</a:t>
            </a:r>
            <a:br>
              <a:rPr sz="3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Руководитель курсовой работы: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                                                                                        кандидат педагогических наук,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                                                                                           доцент Жукова Елена Сергеевна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мск – 2019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Изометрический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(статический) режи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259A4E-F673-4189-94CD-356263A1E774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https://titan-race.ru/media/storage/00/43/0043fa44a55fdf1be5ee29a7686ff9e0.JPG"/>
          <p:cNvPicPr/>
          <p:nvPr/>
        </p:nvPicPr>
        <p:blipFill>
          <a:blip r:embed="rId1"/>
          <a:srcRect l="7626" t="0" r="6028" b="42608"/>
          <a:stretch/>
        </p:blipFill>
        <p:spPr>
          <a:xfrm>
            <a:off x="3852000" y="2456280"/>
            <a:ext cx="4536000" cy="25354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E:\СибГУФК\Pictures\image004.jpg"/>
          <p:cNvPicPr/>
          <p:nvPr/>
        </p:nvPicPr>
        <p:blipFill>
          <a:blip r:embed="rId2"/>
          <a:srcRect l="13802" t="38558" r="60220" b="4297"/>
          <a:stretch/>
        </p:blipFill>
        <p:spPr>
          <a:xfrm>
            <a:off x="1361520" y="2493000"/>
            <a:ext cx="2100240" cy="249876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3640" y="55173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10243e"/>
                </a:solidFill>
                <a:latin typeface="Times New Roman"/>
              </a:rPr>
              <a:t>Изометрические</a:t>
            </a: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0243e"/>
                </a:solidFill>
                <a:latin typeface="Times New Roman"/>
              </a:rPr>
              <a:t>упражнения</a:t>
            </a: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 – это силовая нагрузка, при которой мышечное напряжение достигается без движения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Num" idx="18"/>
          </p:nvPr>
        </p:nvSpPr>
        <p:spPr>
          <a:xfrm>
            <a:off x="6588360" y="6373800"/>
            <a:ext cx="2133360" cy="48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644FD5-9077-466D-A310-01BD69CE44F9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https://svart.ua/upload/seo_text_images/medball/medball-medicine-ball.jpeg"/>
          <p:cNvPicPr/>
          <p:nvPr/>
        </p:nvPicPr>
        <p:blipFill>
          <a:blip r:embed="rId1"/>
          <a:stretch/>
        </p:blipFill>
        <p:spPr>
          <a:xfrm>
            <a:off x="3502800" y="4826160"/>
            <a:ext cx="2753640" cy="1671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s://static-eu.insales.ru/images/products/1/7831/125288087/import_files_53_536dcba3-7b3e-11e7-ab3c-001e582bf58c_02945f60-8282-11e7-a809-001e582bf58c.png"/>
          <p:cNvPicPr/>
          <p:nvPr/>
        </p:nvPicPr>
        <p:blipFill>
          <a:blip r:embed="rId2"/>
          <a:stretch/>
        </p:blipFill>
        <p:spPr>
          <a:xfrm>
            <a:off x="2041920" y="4924440"/>
            <a:ext cx="1238040" cy="165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s://rffit.ru/d/mb-barmw-c325-1000x1000.png"/>
          <p:cNvPicPr/>
          <p:nvPr/>
        </p:nvPicPr>
        <p:blipFill>
          <a:blip r:embed="rId3"/>
          <a:stretch/>
        </p:blipFill>
        <p:spPr>
          <a:xfrm>
            <a:off x="0" y="3003480"/>
            <a:ext cx="3666600" cy="488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https://fitzdrav.com/wp-content/uploads/2018/07/negativnye-otzhimani9-813x1024.jpg"/>
          <p:cNvPicPr/>
          <p:nvPr/>
        </p:nvPicPr>
        <p:blipFill>
          <a:blip r:embed="rId4"/>
          <a:srcRect l="22226" t="0" r="3519" b="0"/>
          <a:stretch/>
        </p:blipFill>
        <p:spPr>
          <a:xfrm>
            <a:off x="6469920" y="617400"/>
            <a:ext cx="2599920" cy="5879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0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Изотонический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(динамический) 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режи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251640" y="2136240"/>
            <a:ext cx="6696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отониче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ж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ключают упражнения в преодолевающем и уступающем режимах. Изотонические упражнения – это все силовые упражнения с применением отягощений, с преодолением веса собственного тела, связанные с возвратно-поступательными движ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FEA63B-35A8-4727-B518-5087325F0599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https://vasatrainer.com/wp-content/uploads/2016/04/erg_swim_coach_0165_rev2.jpg"/>
          <p:cNvPicPr/>
          <p:nvPr/>
        </p:nvPicPr>
        <p:blipFill>
          <a:blip r:embed="rId1"/>
          <a:srcRect l="0" t="9439" r="0" b="22054"/>
          <a:stretch/>
        </p:blipFill>
        <p:spPr>
          <a:xfrm>
            <a:off x="-32760" y="1556640"/>
            <a:ext cx="5043240" cy="4606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Изокинетический 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режи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"/>
          <p:cNvSpPr/>
          <p:nvPr/>
        </p:nvSpPr>
        <p:spPr>
          <a:xfrm>
            <a:off x="5004000" y="1700640"/>
            <a:ext cx="3923640" cy="365580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Положительные че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изокинетического режи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ь проявления максимальных усилий в любой части дви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кая скорость выполнения упраж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гообразие упражнений локального и общего воз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зкий уровень травмат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значительный прирост мышечной 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43474A-E619-4A32-BF4A-112C27E598D9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https://i.pinimg.com/originals/9e/8b/ab/9e8bab8ad504a54ba3d1f4203f84e3b8.jpg"/>
          <p:cNvPicPr/>
          <p:nvPr/>
        </p:nvPicPr>
        <p:blipFill>
          <a:blip r:embed="rId1"/>
          <a:stretch/>
        </p:blipFill>
        <p:spPr>
          <a:xfrm>
            <a:off x="422640" y="682920"/>
            <a:ext cx="4483440" cy="5978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11640" y="120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Режим переменных сопротивлен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1"/>
          <p:cNvSpPr/>
          <p:nvPr/>
        </p:nvSpPr>
        <p:spPr>
          <a:xfrm>
            <a:off x="4428000" y="2540520"/>
            <a:ext cx="4571640" cy="24357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0000"/>
              </a:lnSpc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Режим переменных сопротивлен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ан с использованием тренажеров, конструктивные особенности которых позволяют изменять величину отягощений в разных частях движения, с учетом реальных возможностей вовлеченных в работу мыш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4"/>
          <p:cNvSpPr/>
          <p:nvPr/>
        </p:nvSpPr>
        <p:spPr>
          <a:xfrm>
            <a:off x="672120" y="1772640"/>
            <a:ext cx="7776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овторный мето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выполнение плавательных силовых  упражнения с высоким уровнем интенсивности движений, близким к соревновательному и длительными (до субъективного восстановления) пауз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Интервальный мето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усматривает регламентированное число повторений в режиме максимальной и субмаксимальной интенсивности с ограниченным отдыхо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803160" y="476640"/>
            <a:ext cx="751428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558ed5"/>
                </a:solidFill>
                <a:latin typeface="Times New Roman"/>
              </a:rPr>
              <a:t>Методы, применяемые в проце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558ed5"/>
                </a:solidFill>
                <a:latin typeface="Times New Roman"/>
              </a:rPr>
              <a:t>специальной силовой подготовки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F0CD-6AE3-4371-87C1-577FC8C324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Современные направления в методике специальной силовой подготовки пловц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Таблица 4"/>
          <p:cNvGraphicFramePr/>
          <p:nvPr/>
        </p:nvGraphicFramePr>
        <p:xfrm>
          <a:off x="534960" y="980640"/>
          <a:ext cx="8280720" cy="3918600"/>
        </p:xfrm>
        <a:graphic>
          <a:graphicData uri="http://schemas.openxmlformats.org/drawingml/2006/table">
            <a:tbl>
              <a:tblPr/>
              <a:tblGrid>
                <a:gridCol w="2812680"/>
                <a:gridCol w="2520000"/>
                <a:gridCol w="2947680"/>
              </a:tblGrid>
              <a:tr h="129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Применение средств специальной силовой подготов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в условиях водной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Направл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на реализацию силового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Планирование силовой подготовки с учетом возраста, квалификации, специализации плов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9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ключение в тренировку специальных упражнений, включая плавание с сопротивлениями,  в лопатках, с резиновыми амортизаторами, с дозировкой и интенсивностью, соответствующими возрасту пловц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спользование для контроля специальных показател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 КИ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 К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 КС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Подбор упражнений с учетом траекторий движений руками и ногами в каждом способе плавани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с учетом длины дистанции, на которой специализируется пловец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6" descr="http://evolutionary.narod.ru/trenirovka-myshc/3_files/3-2.jpg"/>
          <p:cNvPicPr/>
          <p:nvPr/>
        </p:nvPicPr>
        <p:blipFill>
          <a:blip r:embed="rId1"/>
          <a:stretch/>
        </p:blipFill>
        <p:spPr>
          <a:xfrm>
            <a:off x="5652360" y="5229360"/>
            <a:ext cx="3168000" cy="1366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s://www.proball.ru/upload/images/34814296/1f5bb361d3fc71c1cf2daa4af185b2c5_1000_1000.jpg"/>
          <p:cNvPicPr/>
          <p:nvPr/>
        </p:nvPicPr>
        <p:blipFill>
          <a:blip r:embed="rId2"/>
          <a:srcRect l="0" t="24923" r="0" b="24356"/>
          <a:stretch/>
        </p:blipFill>
        <p:spPr>
          <a:xfrm>
            <a:off x="683640" y="5163480"/>
            <a:ext cx="2304000" cy="1557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www.atlant-sport.ru/uploads/main_product_149803570953883900.jpg"/>
          <p:cNvPicPr/>
          <p:nvPr/>
        </p:nvPicPr>
        <p:blipFill>
          <a:blip r:embed="rId3"/>
          <a:srcRect l="6179" t="0" r="6534" b="39075"/>
          <a:stretch/>
        </p:blipFill>
        <p:spPr>
          <a:xfrm>
            <a:off x="3274560" y="5229360"/>
            <a:ext cx="2643480" cy="143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4F2F-37C4-40F8-AE66-725DE7E1F4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91488E-7484-4A0B-A09D-769ED97247F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585720" y="353880"/>
            <a:ext cx="798624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На основании анализа и обобщения научно-методической литературы в процессе изучения особенностей силовой подготовки пловцов выявлено, что современная силовая подготовка основывается на рациональном сочетании средств общей и специальной подготовки. Силовая подготовка включает развитие различных видов силовых качеств, предполагая совершенствование максимальной силы, силовой выносливости и взрывной силы пловцов. Для развития силовых качеств используются четыре основных метода: изометрический, изотонический, изокинетический, переменных сопроти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нализ и обобщение данных о средствах и методах специальной силовой подготовки позволили выявить, что специальная силовая подготовка пловцов предполагает применение средств, приближающихся по воздействию к характеру плавательных движений. К средствам специальной силовой подготовки относят: плавание в лопатках, с сопротивлениями, с тормозными устройствами, с резиновым амортизатором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2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BDD4F0-56D4-40B6-944E-AFAB01C58E1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251640" y="692640"/>
            <a:ext cx="8712720" cy="65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В качестве методов силовой подготовки выделяют: метод повторных непредельных усил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метод изокинетических усил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динамических усил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круговой трениров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гровой метод. Особенностью специальной силовой подготовки является применение повторного и интервального метода. При использовании повторного метода пловцы  выполняют упражнения с интенсивностью, близкой к соревновательной и длительным отдыхом. Интервальный метод предусматривает регламентированное число повторений в режиме максимальной и субмаксимальной интенсивности с ограниченным отдых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Важной составляющей современной силовой подготовки является направленность на реализацию силового потенциала в условиях водной среды, что обеспечивается применением средств специальной силовой подготовки в процессе выполнения плавательных упражн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оценки реализации силовых возможностей в условиях водной среды и оценки согласования усилий, развиваемых руками и ногами,  существуют специальные расчетные показатели, включающие коэффициент использования силовых возможностей (КИСВ) и коэффициент координации (К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"/>
          <p:cNvSpPr/>
          <p:nvPr/>
        </p:nvSpPr>
        <p:spPr>
          <a:xfrm>
            <a:off x="710640" y="236880"/>
            <a:ext cx="357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ы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6B4292-19CF-40B2-B2EF-B4C28497B791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3"/>
          <p:cNvSpPr/>
          <p:nvPr/>
        </p:nvSpPr>
        <p:spPr>
          <a:xfrm>
            <a:off x="251640" y="692640"/>
            <a:ext cx="871272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Прогресс современного спортивного плавания предъявляет особые требования к специальной силовой подготовке пловцов, которая должна строиться с учетом возраста, квалификации и конкретной специализации пловца. Упражнения специальной силовой подготовки необходимо подбирать с учетом траекторий движений руками и ногами в каждом способе плавания, а методика выполнения упражнений должна учитывать дистанцию, на которой специализируется плове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"/>
          <p:cNvSpPr/>
          <p:nvPr/>
        </p:nvSpPr>
        <p:spPr>
          <a:xfrm>
            <a:off x="710640" y="236880"/>
            <a:ext cx="357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ы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Num" idx="24"/>
          </p:nvPr>
        </p:nvSpPr>
        <p:spPr>
          <a:xfrm>
            <a:off x="6876360" y="6381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04AC7A-3A9C-48D8-AC07-55E5C79D0407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51640" y="541800"/>
            <a:ext cx="88200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ри развитии специальных силовых способностей пловцов  необходимо формировать у спортсменов возможность реализации силового  потенциала с помощью применения  различных тренировочных сред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честве средств специальной силовой подготовки в воде могут служ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плавание  в максимальном темпе с полной координацией движений, с помощью движений одних ног или одних ру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в максимальном темпе с использованием лопаточ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с различными видами дополнительных отягощений или сопротивл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в парах «тачк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, подтягиваясь за дорож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с резиновым кругом на ног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на ногах с вертикальным положением дос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в больших лопатках в сочетании с лас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539640" y="-162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Практические рекомендации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6"/>
          <p:cNvSpPr/>
          <p:nvPr/>
        </p:nvSpPr>
        <p:spPr>
          <a:xfrm>
            <a:off x="251640" y="5013000"/>
            <a:ext cx="82807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Контролировать реализацию силового потенциала у пловцов рекомендуется на основе таких показателей, как: коэффициент силовой выносливости (КСВ), коэффициент использования силовых возможностей (КИСВ), коэффициент координации (К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64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Актуальность исследо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5520" y="881280"/>
            <a:ext cx="89881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2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овые способности, характеризующие возможность спортсмена к проявлению рабочих усилий для преодоления значительных внешних сопротивлений, определяют и максимальные скоростные способности пловцов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ое значение имеет соответствие между силовой подготовленностью, достигнутой на суше, и степенью ее реализации во время плавания в соревновательных условиях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E:\СибГУФК\Pictures\гребок под водой 470x0_VCUdgQTPTQupNyK8KbwhTg3a4jo8VeV6___jpg____4_900d8bd5.jpg"/>
          <p:cNvPicPr/>
          <p:nvPr/>
        </p:nvPicPr>
        <p:blipFill>
          <a:blip r:embed="rId1"/>
          <a:srcRect l="0" t="14322" r="24572" b="15834"/>
          <a:stretch/>
        </p:blipFill>
        <p:spPr>
          <a:xfrm>
            <a:off x="129960" y="2803320"/>
            <a:ext cx="4064400" cy="23900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9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0" descr="E:\СибГУФК\Pictures\kak-pravilno-plavat-krolem-poleznie-soveti_4.jpg"/>
          <p:cNvPicPr/>
          <p:nvPr/>
        </p:nvPicPr>
        <p:blipFill>
          <a:blip r:embed="rId2"/>
          <a:srcRect l="0" t="27168" r="7720" b="6532"/>
          <a:stretch/>
        </p:blipFill>
        <p:spPr>
          <a:xfrm>
            <a:off x="4330080" y="2781000"/>
            <a:ext cx="4680720" cy="239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9923E3-6E5B-471B-B0FD-8A34945FDB88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2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5F69A9-05BA-4CDE-99C2-E0EA7F0F2385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Заголовок 1"/>
          <p:cNvSpPr/>
          <p:nvPr/>
        </p:nvSpPr>
        <p:spPr>
          <a:xfrm>
            <a:off x="65952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Практические рекоменд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(продолже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441720" y="2421000"/>
            <a:ext cx="84247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Если в тренировочном занятии стоит задача повышения специальных силовых способностей, то рекомендуется включать в программу упражнения «силового плавания» или упражнения с элементами силовой направленности в объеме 70 % от всех тренировочны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 Целенаправленный подбор упражнений специальной силовой подготовки способствует повышению уровня силовых показателей и положительно влияет на реализацию силовых возможностей у пловц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7640" y="476640"/>
            <a:ext cx="887580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02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6400" spc="-1" strike="noStrike">
                <a:solidFill>
                  <a:srgbClr val="558ed5"/>
                </a:solidFill>
                <a:latin typeface="Times New Roman"/>
              </a:rPr>
              <a:t>Объект исследования </a:t>
            </a:r>
            <a:r>
              <a:rPr b="1" lang="ru-RU" sz="5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</a:t>
            </a:r>
            <a:endParaRPr b="0" lang="ru-RU" sz="5600" spc="-1" strike="noStrike">
              <a:solidFill>
                <a:srgbClr val="000000"/>
              </a:solidFill>
              <a:latin typeface="Calibri"/>
            </a:endParaRPr>
          </a:p>
          <a:p>
            <a:pPr marL="302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оцесс развития силовых</a:t>
            </a:r>
            <a:endParaRPr b="0" lang="ru-RU" sz="5600" spc="-1" strike="noStrike">
              <a:solidFill>
                <a:srgbClr val="000000"/>
              </a:solidFill>
              <a:latin typeface="Calibri"/>
            </a:endParaRPr>
          </a:p>
          <a:p>
            <a:pPr marL="302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пособностей пловцов</a:t>
            </a:r>
            <a:endParaRPr b="0" lang="ru-RU" sz="5600" spc="-1" strike="noStrike">
              <a:solidFill>
                <a:srgbClr val="000000"/>
              </a:solidFill>
              <a:latin typeface="Calibri"/>
            </a:endParaRPr>
          </a:p>
          <a:p>
            <a:pPr marL="302400"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ru-RU" sz="5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600" spc="-1" strike="noStrike">
                <a:solidFill>
                  <a:srgbClr val="558ed5"/>
                </a:solidFill>
                <a:latin typeface="Times New Roman"/>
              </a:rPr>
              <a:t>Предмет исследования </a:t>
            </a:r>
            <a:r>
              <a:rPr b="1" lang="ru-RU" sz="5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  </a:t>
            </a:r>
            <a:r>
              <a:rPr b="1" lang="ru-RU" sz="5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методические особенности специальной силовой подготовки в плавании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302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343534-8D06-49C2-BC4B-D68E8058A918}" type="slidenum">
              <a:rPr b="0" lang="ru-RU" sz="2000" spc="-1" strike="noStrike">
                <a:solidFill>
                  <a:srgbClr val="8b8b8b"/>
                </a:solidFill>
                <a:latin typeface="Calibri"/>
              </a:rPr>
              <a:t>3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Гипотеза исследо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640" y="1484640"/>
            <a:ext cx="87847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положение о том, что в результате изучения особенностей силовой подготовки пловцов, обобщения и систематизации данных о средствах и методах специальной силовой подготовки в плавании, будут выявлены современные направления развития специальных силовых способностей пловцов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0CF957-6BA9-49C2-9E9A-2D4EEEB565E9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Цель исследо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108360" y="2052360"/>
            <a:ext cx="91447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на основании анализа и обобщения научно-методической литературы систематизировать данные об особенностях специальной силовой подготовки пловцов и выявить современные направления развития специальных силовых способностей пловцов. 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B26DC0-3B37-43C8-B745-A901B9D6DF2A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908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Задачи исследования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1700640"/>
            <a:ext cx="868644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1. Изучить особенности силовой подготовки пловцов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2. Выявить средства и методы специальной силовой подготовки пловцов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3. Систематизировать данные и выявить современные направления развития специальных силовых способностей пловцов. 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A24A34-7AC5-4377-9A68-ABB21804098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Виды силовых способностей</a:t>
            </a:r>
            <a:br>
              <a:rPr sz="4000"/>
            </a:br>
            <a:r>
              <a:rPr b="0" lang="ru-RU" sz="4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(по данным анализа литературы)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7449D3-C61F-4B68-BCA9-3910E3F62B79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Таблица 4"/>
          <p:cNvGraphicFramePr/>
          <p:nvPr/>
        </p:nvGraphicFramePr>
        <p:xfrm>
          <a:off x="208800" y="1700640"/>
          <a:ext cx="8784720" cy="3657600"/>
        </p:xfrm>
        <a:graphic>
          <a:graphicData uri="http://schemas.openxmlformats.org/drawingml/2006/table">
            <a:tbl>
              <a:tblPr/>
              <a:tblGrid>
                <a:gridCol w="1440000"/>
                <a:gridCol w="2376000"/>
                <a:gridCol w="2592000"/>
                <a:gridCol w="2376000"/>
              </a:tblGrid>
              <a:tr h="159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овы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Максимальн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Абсолютн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Относительн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StarSymbol"/>
                        <a:buChar char="-"/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обственно силовые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  Взрывная с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StarSymbol"/>
                        <a:buChar char="-"/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коростно-силов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StarSymbol"/>
                        <a:buChar char="-"/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ило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вынослив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  Динамическ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  Статическая с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Максимальная с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Взрывн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Сило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вынослив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95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.М.Зацио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А.С.Барабошк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.А.Андр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Ю.В.Верхоша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.В.Бобр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.В.Капл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.Н.Платон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.Ж.Булгак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С.М.Вайцех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Дж. Каунсил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9"/>
          <p:cNvSpPr/>
          <p:nvPr/>
        </p:nvSpPr>
        <p:spPr>
          <a:xfrm>
            <a:off x="6012000" y="1484640"/>
            <a:ext cx="1944360" cy="8632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3708360" y="1484640"/>
            <a:ext cx="1942920" cy="8632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1236600" y="1484640"/>
            <a:ext cx="1944360" cy="8632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6680" y="1692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Классификация средств силовой подготовки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436680" y="1116360"/>
            <a:ext cx="82292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П                      ВСП                ССП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низ 5"/>
          <p:cNvSpPr/>
          <p:nvPr/>
        </p:nvSpPr>
        <p:spPr>
          <a:xfrm rot="3064800">
            <a:off x="2108160" y="849600"/>
            <a:ext cx="336240" cy="61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Стрелка вниз 11"/>
          <p:cNvSpPr/>
          <p:nvPr/>
        </p:nvSpPr>
        <p:spPr>
          <a:xfrm>
            <a:off x="4383000" y="833760"/>
            <a:ext cx="336240" cy="61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Стрелка вниз 12"/>
          <p:cNvSpPr/>
          <p:nvPr/>
        </p:nvSpPr>
        <p:spPr>
          <a:xfrm rot="18870000">
            <a:off x="6529320" y="808200"/>
            <a:ext cx="336240" cy="61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155" name="Таблица 3"/>
          <p:cNvGraphicFramePr/>
          <p:nvPr/>
        </p:nvGraphicFramePr>
        <p:xfrm>
          <a:off x="611640" y="2493000"/>
          <a:ext cx="7848360" cy="37101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154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ая силовая 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помогательная  силовая 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овая 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48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пражнения со штангой, эспандерами, набивными мячами, блочными устройствам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 партнер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пражнения на специальных тренажерах, с учетом техники способов пла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лавание в лопатках,      с сопротивлениям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ягощениями, плавание с растягиванием резинового амортизатор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лавание с тормозными устройств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D59E16-8400-4FAA-A601-B2746A8A5955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1"/>
          <p:cNvSpPr/>
          <p:nvPr/>
        </p:nvSpPr>
        <p:spPr>
          <a:xfrm>
            <a:off x="488880" y="1484640"/>
            <a:ext cx="806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учно-методической литературе по плаванию методы развития силовых качеств авторы связывают с режимами  выполнения силовых упра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1331640" y="3429000"/>
            <a:ext cx="7632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10243e"/>
              </a:buClr>
              <a:buFont typeface="Wingdings" charset="2"/>
              <a:buChar char=""/>
            </a:pP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Изометрический реж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0243e"/>
              </a:buClr>
              <a:buFont typeface="Wingdings" charset="2"/>
              <a:buChar char=""/>
            </a:pP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Изотонически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0243e"/>
              </a:buClr>
              <a:buFont typeface="Wingdings" charset="2"/>
              <a:buChar char=""/>
            </a:pP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Изокинетически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0243e"/>
              </a:buClr>
              <a:buFont typeface="Wingdings" charset="2"/>
              <a:buChar char=""/>
            </a:pP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Режим переменных сопротивл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88880" y="764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58ed5"/>
                </a:solidFill>
                <a:latin typeface="Times New Roman"/>
              </a:rPr>
              <a:t>Методы развития силовых способностей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664920" y="2847960"/>
            <a:ext cx="8280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558ed5"/>
                </a:solidFill>
                <a:latin typeface="Times New Roman"/>
              </a:rPr>
              <a:t>Режимы выполнения силовых упражн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  <Words>1172</Words>
  <Paragraphs>1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6:23:49Z</dcterms:created>
  <dc:creator>Oksana</dc:creator>
  <dc:description/>
  <dc:language>en-US</dc:language>
  <cp:lastModifiedBy>Петрова Людмила Ивановна</cp:lastModifiedBy>
  <dcterms:modified xsi:type="dcterms:W3CDTF">2023-12-05T08:54:48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