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3122F8-E2C7-48BC-AAE5-47F979A2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2A0788-BC8A-4C6D-B89E-128EEEB83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5B902-73EB-42CF-8E35-05992852B1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7D7B5-A036-466B-9636-002431750F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C7507-0CB7-497D-B8B0-29E006704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65B44A-0CE7-49E8-9812-59FD8CDDC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1869B1-8552-45FF-9B51-BC12C11013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2704B8-DA94-4A16-A0F2-2E9E23CEB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3AB15C-8560-422D-8219-E4D6DEF04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A3BF1-3895-44D5-8B9D-E9EF5F13B0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DA3905-FBFC-488F-B1FA-468F54EED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7C9EF3-CC50-4F29-8067-85B1B6CB7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B1EB3F-4E88-4C54-AF52-85BB52D01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72FB-9D64-4899-9F89-466A1C3756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E364-EDC7-4712-9A30-97C0B62E9A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1020-05F6-4D05-8B13-696113CC6B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347E-54A8-435A-8346-D45B6FDC1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7A3B-B49F-4F07-9E2F-F3BDA53C1E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3D39-A9F2-4EC2-A92A-C3C19F555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845A-61DF-4B49-A590-162E5DB79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D2B2-3CCE-4A2A-A0B7-33DBE1599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34BE-27FC-4CC6-BA18-D43E624FC9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91DB-1D7C-45E0-940D-FF5416337B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C626-55C9-4353-BECB-FECE359A2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5FDA-48EF-4DCA-9D07-695AD0323E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2FC9-C38F-4E56-8562-B3FE2A73EA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A469-44EC-4C14-A696-685DBC82DF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33BF-D8F1-4A0B-994F-BC8137368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F033-7EF3-4C49-9518-B0C49B374B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5CF4-1EE0-4190-9EAC-8BA3366B8A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4878-DCD5-4D49-940A-6B101D3094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EF5F-5425-4E56-AAB9-E8468DB14A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0CDF-E15A-4403-AAA1-1CD5826F8E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EA32-23A1-4285-A15B-FCFE79CE1D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2E53-380D-477E-A70D-1EDEB2A462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0248-74A9-4C7B-B896-E5E66A872F7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B561-D094-45E3-AA65-9BBD99E9B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AutoShape 12" hidden="1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755640" y="0"/>
            <a:ext cx="360" cy="6859440"/>
          </a:xfrm>
          <a:prstGeom prst="lin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Rectangle 8"/>
          <p:cNvSpPr/>
          <p:nvPr/>
        </p:nvSpPr>
        <p:spPr>
          <a:xfrm>
            <a:off x="0" y="0"/>
            <a:ext cx="7092720" cy="837720"/>
          </a:xfrm>
          <a:prstGeom prst="rect">
            <a:avLst/>
          </a:prstGeom>
          <a:solidFill>
            <a:srgbClr val="d7192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" name="Picture 10" descr="2020_11_1С-Лекторий_логотип_3"/>
          <p:cNvPicPr/>
          <p:nvPr/>
        </p:nvPicPr>
        <p:blipFill>
          <a:blip r:embed="rId3"/>
          <a:stretch/>
        </p:blipFill>
        <p:spPr>
          <a:xfrm>
            <a:off x="216000" y="264960"/>
            <a:ext cx="1907640" cy="320400"/>
          </a:xfrm>
          <a:prstGeom prst="rect">
            <a:avLst/>
          </a:prstGeom>
          <a:ln w="9525">
            <a:noFill/>
          </a:ln>
        </p:spPr>
      </p:pic>
      <p:sp>
        <p:nvSpPr>
          <p:cNvPr id="11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5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5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Num" idx="1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0BECD9E-83E3-4160-B6EC-8F6B7EEC52E0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98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1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2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03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44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8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49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0" y="311040"/>
            <a:ext cx="460800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16000" y="1506600"/>
            <a:ext cx="8640360" cy="316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344520" indent="-181080">
              <a:lnSpc>
                <a:spcPct val="100000"/>
              </a:lnSpc>
              <a:spcBef>
                <a:spcPts val="360"/>
              </a:spcBef>
              <a:spcAft>
                <a:spcPts val="541"/>
              </a:spcAft>
              <a:buClr>
                <a:srgbClr val="cc33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292929"/>
              </a:solidFill>
              <a:latin typeface="Arial"/>
            </a:endParaRPr>
          </a:p>
          <a:p>
            <a:pPr lvl="2" marL="536400" indent="-190440">
              <a:lnSpc>
                <a:spcPct val="100000"/>
              </a:lnSpc>
              <a:spcBef>
                <a:spcPts val="320"/>
              </a:spcBef>
              <a:spcAft>
                <a:spcPts val="320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3" marL="709560" indent="-171360">
              <a:lnSpc>
                <a:spcPct val="100000"/>
              </a:lnSpc>
              <a:spcBef>
                <a:spcPts val="281"/>
              </a:spcBef>
              <a:spcAft>
                <a:spcPts val="28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4" marL="876240" indent="-162000">
              <a:lnSpc>
                <a:spcPct val="100000"/>
              </a:lnSpc>
              <a:spcBef>
                <a:spcPts val="241"/>
              </a:spcBef>
              <a:buClr>
                <a:srgbClr val="cc0000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ятый уровень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5A609EF-134A-4BBC-8AF1-C35398993887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nfosec@1c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360" cy="6710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d71920"/>
                </a:solidFill>
                <a:latin typeface="Arial"/>
              </a:rPr>
              <a:t>Практика применения 152-ФЗ "О персональных данных" с учетом изменений 2023 года, что важно знать бухгалтеру и руководителю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Создаем документ «Политика по обработке персональных данных» и готовим сайт к проверке.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тветы на вопросы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1640" y="4906080"/>
            <a:ext cx="8640360" cy="15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вукова Наталья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Эксперт по Защит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страл.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15640" y="6238080"/>
            <a:ext cx="864036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320"/>
              </a:spcBef>
              <a:spcAft>
                <a:spcPts val="799"/>
              </a:spcAft>
              <a:tabLst>
                <a:tab algn="l" pos="0"/>
              </a:tabLst>
            </a:pPr>
            <a:r>
              <a:rPr b="1" lang="ru-RU" sz="1600" spc="-1" strike="noStrike">
                <a:solidFill>
                  <a:srgbClr val="d71920"/>
                </a:solidFill>
                <a:latin typeface="Arial"/>
              </a:rPr>
              <a:t>12.09.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215280" y="6130080"/>
            <a:ext cx="288144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8136000" y="6308640"/>
            <a:ext cx="57132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BD260187-CDE7-407C-9205-15C4BD84FA2D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623880" y="1690560"/>
            <a:ext cx="7895880" cy="3476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age 1" descr="preencoded.png"/>
          <p:cNvPicPr/>
          <p:nvPr/>
        </p:nvPicPr>
        <p:blipFill>
          <a:blip r:embed="rId1"/>
          <a:stretch/>
        </p:blipFill>
        <p:spPr>
          <a:xfrm>
            <a:off x="476280" y="1269720"/>
            <a:ext cx="8191080" cy="3219840"/>
          </a:xfrm>
          <a:prstGeom prst="rect">
            <a:avLst/>
          </a:prstGeom>
          <a:ln w="0">
            <a:noFill/>
          </a:ln>
        </p:spPr>
      </p:pic>
      <p:pic>
        <p:nvPicPr>
          <p:cNvPr id="263" name="Image 5" descr="preencoded.png"/>
          <p:cNvPicPr/>
          <p:nvPr/>
        </p:nvPicPr>
        <p:blipFill>
          <a:blip r:embed="rId2"/>
          <a:stretch/>
        </p:blipFill>
        <p:spPr>
          <a:xfrm>
            <a:off x="68112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4" name="Image 6" descr="preencoded.png"/>
          <p:cNvPicPr/>
          <p:nvPr/>
        </p:nvPicPr>
        <p:blipFill>
          <a:blip r:embed="rId3"/>
          <a:stretch/>
        </p:blipFill>
        <p:spPr>
          <a:xfrm>
            <a:off x="681120" y="3402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5" name="Image 7" descr="preencoded.png"/>
          <p:cNvPicPr/>
          <p:nvPr/>
        </p:nvPicPr>
        <p:blipFill>
          <a:blip r:embed="rId4"/>
          <a:stretch/>
        </p:blipFill>
        <p:spPr>
          <a:xfrm>
            <a:off x="437688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6" name="Image 8" descr="preencoded.png"/>
          <p:cNvPicPr/>
          <p:nvPr/>
        </p:nvPicPr>
        <p:blipFill>
          <a:blip r:embed="rId5"/>
          <a:stretch/>
        </p:blipFill>
        <p:spPr>
          <a:xfrm>
            <a:off x="4376880" y="3330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7" name="Image 9" descr="preencoded.png"/>
          <p:cNvPicPr/>
          <p:nvPr/>
        </p:nvPicPr>
        <p:blipFill>
          <a:blip r:embed="rId6"/>
          <a:stretch/>
        </p:blipFill>
        <p:spPr>
          <a:xfrm>
            <a:off x="4284000" y="1047240"/>
            <a:ext cx="454320" cy="444240"/>
          </a:xfrm>
          <a:prstGeom prst="rect">
            <a:avLst/>
          </a:prstGeom>
          <a:ln w="0">
            <a:noFill/>
          </a:ln>
        </p:spPr>
      </p:pic>
      <p:sp>
        <p:nvSpPr>
          <p:cNvPr id="268" name="Text 0"/>
          <p:cNvSpPr/>
          <p:nvPr/>
        </p:nvSpPr>
        <p:spPr>
          <a:xfrm>
            <a:off x="671400" y="1466280"/>
            <a:ext cx="50162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инципы и условия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1"/>
          <p:cNvSpPr/>
          <p:nvPr/>
        </p:nvSpPr>
        <p:spPr>
          <a:xfrm>
            <a:off x="671400" y="1701720"/>
            <a:ext cx="7752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В данном разделе рекомендуется указывать перечень действий, совершаемых оператором с персональными данными субъектов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а также используемые оператором способы обработки персональных данных и сроки обработки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2"/>
          <p:cNvSpPr/>
          <p:nvPr/>
        </p:nvSpPr>
        <p:spPr>
          <a:xfrm>
            <a:off x="671400" y="2375280"/>
            <a:ext cx="7680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лучае необходимости взаимодействия с третьими лицами в рамках достижения целей обработки персональных данных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Bold"/>
              </a:rPr>
              <a:t>рекомендуется указывать условия передачи персональных данных в адрес третьих ли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3"/>
          <p:cNvSpPr/>
          <p:nvPr/>
        </p:nvSpPr>
        <p:spPr>
          <a:xfrm>
            <a:off x="790560" y="2864520"/>
            <a:ext cx="3395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екомендуется указывать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ведения о соблюдении требований конфиденциальност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4"/>
          <p:cNvSpPr/>
          <p:nvPr/>
        </p:nvSpPr>
        <p:spPr>
          <a:xfrm>
            <a:off x="790560" y="3334680"/>
            <a:ext cx="3057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Условия прекращения обработк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Это может быть достижение целей обработки, истечение срока действия, отзыв согласия субъекта персональных данных на обработку, выявление неправомерной обработки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5"/>
          <p:cNvSpPr/>
          <p:nvPr/>
        </p:nvSpPr>
        <p:spPr>
          <a:xfrm>
            <a:off x="4486320" y="2864520"/>
            <a:ext cx="2123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роки хранения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6"/>
          <p:cNvSpPr/>
          <p:nvPr/>
        </p:nvSpPr>
        <p:spPr>
          <a:xfrm>
            <a:off x="4500000" y="3285720"/>
            <a:ext cx="3161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существляется или нет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трансграничная передача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7"/>
          <p:cNvSpPr/>
          <p:nvPr/>
        </p:nvSpPr>
        <p:spPr>
          <a:xfrm>
            <a:off x="4464000" y="1142640"/>
            <a:ext cx="1504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 3" descr="preencoded.png"/>
          <p:cNvPicPr/>
          <p:nvPr/>
        </p:nvPicPr>
        <p:blipFill>
          <a:blip r:embed="rId7"/>
          <a:stretch/>
        </p:blipFill>
        <p:spPr>
          <a:xfrm>
            <a:off x="2036520" y="4862160"/>
            <a:ext cx="5088240" cy="1793160"/>
          </a:xfrm>
          <a:prstGeom prst="rect">
            <a:avLst/>
          </a:prstGeom>
          <a:ln w="0">
            <a:noFill/>
          </a:ln>
        </p:spPr>
      </p:pic>
      <p:sp>
        <p:nvSpPr>
          <p:cNvPr id="277" name="Text 14"/>
          <p:cNvSpPr/>
          <p:nvPr/>
        </p:nvSpPr>
        <p:spPr>
          <a:xfrm>
            <a:off x="2218680" y="4970520"/>
            <a:ext cx="4315680" cy="1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</a:rPr>
              <a:t>Примечани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16"/>
          <p:cNvSpPr/>
          <p:nvPr/>
        </p:nvSpPr>
        <p:spPr>
          <a:xfrm>
            <a:off x="2252520" y="5214960"/>
            <a:ext cx="4542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вы коммерческая компания, не указывайте такое действие как Обезличивание данных – так как для коммерческих компаний нет описанных регламентов, а значит Обезличивание не законн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и в коем случае не пишите, что обрабатываете персональные данные Бессрочно – так как это нарушение ч.1 ст. 13.11 КоАП, наказание в виде штрафа от 60 000 до 100 000 руб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8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8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mage 2" descr="preencoded.png"/>
          <p:cNvPicPr/>
          <p:nvPr/>
        </p:nvPicPr>
        <p:blipFill>
          <a:blip r:embed="rId1"/>
          <a:stretch/>
        </p:blipFill>
        <p:spPr>
          <a:xfrm>
            <a:off x="1367640" y="2449800"/>
            <a:ext cx="2949480" cy="2908440"/>
          </a:xfrm>
          <a:prstGeom prst="rect">
            <a:avLst/>
          </a:prstGeom>
          <a:ln w="0">
            <a:noFill/>
          </a:ln>
        </p:spPr>
      </p:pic>
      <p:pic>
        <p:nvPicPr>
          <p:cNvPr id="282" name="Image 3" descr="preencoded.png"/>
          <p:cNvPicPr/>
          <p:nvPr/>
        </p:nvPicPr>
        <p:blipFill>
          <a:blip r:embed="rId2"/>
          <a:stretch/>
        </p:blipFill>
        <p:spPr>
          <a:xfrm>
            <a:off x="4641480" y="2449800"/>
            <a:ext cx="2666520" cy="2908440"/>
          </a:xfrm>
          <a:prstGeom prst="rect">
            <a:avLst/>
          </a:prstGeom>
          <a:ln w="0">
            <a:noFill/>
          </a:ln>
        </p:spPr>
      </p:pic>
      <p:pic>
        <p:nvPicPr>
          <p:cNvPr id="283" name="Image 10" descr="preencoded.png"/>
          <p:cNvPicPr/>
          <p:nvPr/>
        </p:nvPicPr>
        <p:blipFill>
          <a:blip r:embed="rId3"/>
          <a:stretch/>
        </p:blipFill>
        <p:spPr>
          <a:xfrm>
            <a:off x="2699640" y="5136480"/>
            <a:ext cx="503640" cy="444240"/>
          </a:xfrm>
          <a:prstGeom prst="rect">
            <a:avLst/>
          </a:prstGeom>
          <a:ln w="0">
            <a:noFill/>
          </a:ln>
        </p:spPr>
      </p:pic>
      <p:pic>
        <p:nvPicPr>
          <p:cNvPr id="284" name="Image 11" descr="preencoded.png"/>
          <p:cNvPicPr/>
          <p:nvPr/>
        </p:nvPicPr>
        <p:blipFill>
          <a:blip r:embed="rId4"/>
          <a:stretch/>
        </p:blipFill>
        <p:spPr>
          <a:xfrm>
            <a:off x="5723640" y="5136480"/>
            <a:ext cx="468360" cy="444240"/>
          </a:xfrm>
          <a:prstGeom prst="rect">
            <a:avLst/>
          </a:prstGeom>
          <a:ln w="0">
            <a:noFill/>
          </a:ln>
        </p:spPr>
      </p:pic>
      <p:sp>
        <p:nvSpPr>
          <p:cNvPr id="285" name="Text 8"/>
          <p:cNvSpPr/>
          <p:nvPr/>
        </p:nvSpPr>
        <p:spPr>
          <a:xfrm>
            <a:off x="2879640" y="5270400"/>
            <a:ext cx="215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9"/>
          <p:cNvSpPr/>
          <p:nvPr/>
        </p:nvSpPr>
        <p:spPr>
          <a:xfrm>
            <a:off x="5904000" y="5270400"/>
            <a:ext cx="107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11"/>
          <p:cNvSpPr/>
          <p:nvPr/>
        </p:nvSpPr>
        <p:spPr>
          <a:xfrm>
            <a:off x="1511640" y="2640600"/>
            <a:ext cx="2772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Реализация мер обеспеч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безопасности персональ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12"/>
          <p:cNvSpPr/>
          <p:nvPr/>
        </p:nvSpPr>
        <p:spPr>
          <a:xfrm>
            <a:off x="1475640" y="3429720"/>
            <a:ext cx="2070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Принимаемых в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13"/>
          <p:cNvSpPr/>
          <p:nvPr/>
        </p:nvSpPr>
        <p:spPr>
          <a:xfrm>
            <a:off x="1511640" y="3933720"/>
            <a:ext cx="2526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перечислить какие меры приняты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ы ответственные, разработ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НА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14"/>
          <p:cNvSpPr/>
          <p:nvPr/>
        </p:nvSpPr>
        <p:spPr>
          <a:xfrm>
            <a:off x="4711320" y="2640600"/>
            <a:ext cx="22618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15"/>
          <p:cNvSpPr/>
          <p:nvPr/>
        </p:nvSpPr>
        <p:spPr>
          <a:xfrm>
            <a:off x="4716000" y="3285720"/>
            <a:ext cx="2004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Осуществляемая без использ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16"/>
          <p:cNvSpPr/>
          <p:nvPr/>
        </p:nvSpPr>
        <p:spPr>
          <a:xfrm>
            <a:off x="4716000" y="4185720"/>
            <a:ext cx="23810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где хранятся, как уничтожаются, принци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аботы с материальными носителями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1"/>
          <p:cNvSpPr/>
          <p:nvPr/>
        </p:nvSpPr>
        <p:spPr>
          <a:xfrm>
            <a:off x="467640" y="1197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95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Image 4" descr="preencoded.png"/>
          <p:cNvPicPr/>
          <p:nvPr/>
        </p:nvPicPr>
        <p:blipFill>
          <a:blip r:embed="rId1"/>
          <a:stretch/>
        </p:blipFill>
        <p:spPr>
          <a:xfrm>
            <a:off x="783720" y="2573640"/>
            <a:ext cx="7883640" cy="37965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12" descr="preencoded.png"/>
          <p:cNvPicPr/>
          <p:nvPr/>
        </p:nvPicPr>
        <p:blipFill>
          <a:blip r:embed="rId2"/>
          <a:stretch/>
        </p:blipFill>
        <p:spPr>
          <a:xfrm>
            <a:off x="4392000" y="6148080"/>
            <a:ext cx="428040" cy="444240"/>
          </a:xfrm>
          <a:prstGeom prst="rect">
            <a:avLst/>
          </a:prstGeom>
          <a:ln w="0">
            <a:noFill/>
          </a:ln>
        </p:spPr>
      </p:pic>
      <p:sp>
        <p:nvSpPr>
          <p:cNvPr id="298" name="Text 10"/>
          <p:cNvSpPr/>
          <p:nvPr/>
        </p:nvSpPr>
        <p:spPr>
          <a:xfrm>
            <a:off x="4555440" y="6278400"/>
            <a:ext cx="160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17"/>
          <p:cNvSpPr/>
          <p:nvPr/>
        </p:nvSpPr>
        <p:spPr>
          <a:xfrm>
            <a:off x="1227960" y="2748960"/>
            <a:ext cx="64969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Актуализация, исправление,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удаление и уничтожение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19"/>
          <p:cNvSpPr/>
          <p:nvPr/>
        </p:nvSpPr>
        <p:spPr>
          <a:xfrm>
            <a:off x="1227960" y="3025080"/>
            <a:ext cx="671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оответствии с законом, персональные данные подлежат актуализации оператором в случае подтверждения их неточности. То же применимо и к подтверждению неправомерности обработки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е данные должны быть удалены после достижения целей их обработки или в случае отзыва субъектом согласия на обработку, если договор, стороной которого является субъект, или иное соглашение с оператором не предусматривают других услов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ператор не имеет права осуществлять обработку персональных данных без согласия субъекта на основаниях, предусмотренных законодательств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Также оператор обязан предоставить субъекту информацию о ходе обработки данных по его запросу.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ибо ссылку на статью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20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Федерального закона «О персональных данных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оскомнадзор рекомендует включить в Политику процедуры реагирования на запросы и обращения субъектов по вопросам неточности данных, незаконной обработки, отзыва согласия и доступа к собственным данным. Также полезно предоставить соответствующие образцы запросов и обращен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у вас уже есть документ Политика, то обязательно проверьте сроки реагирования, так как срок изменился и теперь Оператор обязан ответить в течение 10 дней на запрос Субъекта Персональных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1"/>
          <p:cNvSpPr/>
          <p:nvPr/>
        </p:nvSpPr>
        <p:spPr>
          <a:xfrm>
            <a:off x="467640" y="184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0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367640" y="1701720"/>
            <a:ext cx="6732360" cy="457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05" name="Text 1"/>
          <p:cNvSpPr/>
          <p:nvPr/>
        </p:nvSpPr>
        <p:spPr>
          <a:xfrm>
            <a:off x="2591640" y="2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дсказка для создания документа Политика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1"/>
          <p:cNvSpPr/>
          <p:nvPr/>
        </p:nvSpPr>
        <p:spPr>
          <a:xfrm>
            <a:off x="431640" y="1125360"/>
            <a:ext cx="8280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йдите в форму Уведомления на сайте РКН и воспользуйтесь предложенными справочника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0" name="Text 3"/>
          <p:cNvSpPr/>
          <p:nvPr/>
        </p:nvSpPr>
        <p:spPr>
          <a:xfrm>
            <a:off x="863640" y="1053360"/>
            <a:ext cx="40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1: В подвале сай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547640" y="1593720"/>
            <a:ext cx="6662520" cy="4500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4" name="Text 3"/>
          <p:cNvSpPr/>
          <p:nvPr/>
        </p:nvSpPr>
        <p:spPr>
          <a:xfrm>
            <a:off x="575640" y="1053360"/>
            <a:ext cx="54003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2: Под каждой формой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609480" y="1492560"/>
            <a:ext cx="3782160" cy="4642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16" name="Скругленный прямоугольник 7"/>
          <p:cNvSpPr/>
          <p:nvPr/>
        </p:nvSpPr>
        <p:spPr>
          <a:xfrm rot="16200000">
            <a:off x="4960080" y="1787040"/>
            <a:ext cx="3088080" cy="31885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6350">
            <a:noFill/>
          </a:ln>
          <a:effectLst>
            <a:glow rad="228600">
              <a:srgbClr val="ffffff">
                <a:alpha val="40000"/>
              </a:srgbClr>
            </a:glow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120" rIns="51120" tIns="25560" bIns="2556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006520" y="2172240"/>
            <a:ext cx="2913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800" spc="-1" strike="noStrike">
                <a:solidFill>
                  <a:srgbClr val="3c1e78"/>
                </a:solidFill>
                <a:latin typeface="Arial Narrow"/>
              </a:rPr>
              <a:t>* </a:t>
            </a:r>
            <a:r>
              <a:rPr b="0" lang="ru-RU" sz="1400" spc="-1" strike="noStrike">
                <a:solidFill>
                  <a:srgbClr val="2065d1"/>
                </a:solidFill>
                <a:latin typeface="Arial"/>
              </a:rPr>
              <a:t>если Оператор не имеет сайта в сети «Интернет», ему необходимо обеспечить иным образом неограниченный доступ к документу, определяющему политику Оператора в отношении обработки ПДн и сведениям о реализуемых требованиях к защите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19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Image 1" descr="preencoded.png"/>
          <p:cNvPicPr/>
          <p:nvPr/>
        </p:nvPicPr>
        <p:blipFill>
          <a:blip r:embed="rId1"/>
          <a:stretch/>
        </p:blipFill>
        <p:spPr>
          <a:xfrm>
            <a:off x="476280" y="1448280"/>
            <a:ext cx="8191080" cy="806400"/>
          </a:xfrm>
          <a:prstGeom prst="rect">
            <a:avLst/>
          </a:prstGeom>
          <a:ln w="0">
            <a:noFill/>
          </a:ln>
        </p:spPr>
      </p:pic>
      <p:pic>
        <p:nvPicPr>
          <p:cNvPr id="321" name="Image 2" descr="preencoded.png"/>
          <p:cNvPicPr/>
          <p:nvPr/>
        </p:nvPicPr>
        <p:blipFill>
          <a:blip r:embed="rId2"/>
          <a:stretch/>
        </p:blipFill>
        <p:spPr>
          <a:xfrm>
            <a:off x="520920" y="4546080"/>
            <a:ext cx="3357360" cy="1085760"/>
          </a:xfrm>
          <a:prstGeom prst="rect">
            <a:avLst/>
          </a:prstGeom>
          <a:ln w="0">
            <a:noFill/>
          </a:ln>
        </p:spPr>
      </p:pic>
      <p:pic>
        <p:nvPicPr>
          <p:cNvPr id="322" name="Image 3" descr="preencoded.png"/>
          <p:cNvPicPr/>
          <p:nvPr/>
        </p:nvPicPr>
        <p:blipFill>
          <a:blip r:embed="rId3"/>
          <a:stretch/>
        </p:blipFill>
        <p:spPr>
          <a:xfrm>
            <a:off x="3973680" y="4546080"/>
            <a:ext cx="4738320" cy="1085760"/>
          </a:xfrm>
          <a:prstGeom prst="rect">
            <a:avLst/>
          </a:prstGeom>
          <a:ln w="0">
            <a:noFill/>
          </a:ln>
        </p:spPr>
      </p:pic>
      <p:pic>
        <p:nvPicPr>
          <p:cNvPr id="323" name="Image 4" descr="preencoded.png"/>
          <p:cNvPicPr/>
          <p:nvPr/>
        </p:nvPicPr>
        <p:blipFill>
          <a:blip r:embed="rId4"/>
          <a:stretch/>
        </p:blipFill>
        <p:spPr>
          <a:xfrm>
            <a:off x="476280" y="2493720"/>
            <a:ext cx="8191080" cy="9716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5" descr="preencoded.png"/>
          <p:cNvPicPr/>
          <p:nvPr/>
        </p:nvPicPr>
        <p:blipFill>
          <a:blip r:embed="rId5"/>
          <a:stretch/>
        </p:blipFill>
        <p:spPr>
          <a:xfrm>
            <a:off x="539640" y="3681720"/>
            <a:ext cx="8191080" cy="6836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6" descr="preencoded.png"/>
          <p:cNvPicPr/>
          <p:nvPr/>
        </p:nvPicPr>
        <p:blipFill>
          <a:blip r:embed="rId6"/>
          <a:stretch/>
        </p:blipFill>
        <p:spPr>
          <a:xfrm>
            <a:off x="638280" y="172116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6" name="Image 7" descr="preencoded.png"/>
          <p:cNvPicPr/>
          <p:nvPr/>
        </p:nvPicPr>
        <p:blipFill>
          <a:blip r:embed="rId7"/>
          <a:stretch/>
        </p:blipFill>
        <p:spPr>
          <a:xfrm>
            <a:off x="638280" y="289008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8" descr="preencoded.png"/>
          <p:cNvPicPr/>
          <p:nvPr/>
        </p:nvPicPr>
        <p:blipFill>
          <a:blip r:embed="rId8"/>
          <a:stretch/>
        </p:blipFill>
        <p:spPr>
          <a:xfrm>
            <a:off x="663480" y="389772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" descr="preencoded.png"/>
          <p:cNvPicPr/>
          <p:nvPr/>
        </p:nvPicPr>
        <p:blipFill>
          <a:blip r:embed="rId9"/>
          <a:stretch/>
        </p:blipFill>
        <p:spPr>
          <a:xfrm>
            <a:off x="682920" y="495864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9" name="Image 10" descr="preencoded.png"/>
          <p:cNvPicPr/>
          <p:nvPr/>
        </p:nvPicPr>
        <p:blipFill>
          <a:blip r:embed="rId10"/>
          <a:stretch/>
        </p:blipFill>
        <p:spPr>
          <a:xfrm>
            <a:off x="675360" y="17593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0" name="Image 11" descr="preencoded.png"/>
          <p:cNvPicPr/>
          <p:nvPr/>
        </p:nvPicPr>
        <p:blipFill>
          <a:blip r:embed="rId11"/>
          <a:stretch/>
        </p:blipFill>
        <p:spPr>
          <a:xfrm>
            <a:off x="675360" y="292788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1" name="Image 12" descr="preencoded.png"/>
          <p:cNvPicPr/>
          <p:nvPr/>
        </p:nvPicPr>
        <p:blipFill>
          <a:blip r:embed="rId12"/>
          <a:stretch/>
        </p:blipFill>
        <p:spPr>
          <a:xfrm>
            <a:off x="683640" y="39337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2" name="Image 13" descr="preencoded.png"/>
          <p:cNvPicPr/>
          <p:nvPr/>
        </p:nvPicPr>
        <p:blipFill>
          <a:blip r:embed="rId13"/>
          <a:stretch/>
        </p:blipFill>
        <p:spPr>
          <a:xfrm>
            <a:off x="720000" y="499680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3" name="Image 14" descr="preencoded.png"/>
          <p:cNvPicPr/>
          <p:nvPr/>
        </p:nvPicPr>
        <p:blipFill>
          <a:blip r:embed="rId14"/>
          <a:stretch/>
        </p:blipFill>
        <p:spPr>
          <a:xfrm>
            <a:off x="4135680" y="4958640"/>
            <a:ext cx="199800" cy="266400"/>
          </a:xfrm>
          <a:prstGeom prst="rect">
            <a:avLst/>
          </a:prstGeom>
          <a:ln w="0">
            <a:noFill/>
          </a:ln>
        </p:spPr>
      </p:pic>
      <p:sp>
        <p:nvSpPr>
          <p:cNvPr id="334" name="Text 0"/>
          <p:cNvSpPr/>
          <p:nvPr/>
        </p:nvSpPr>
        <p:spPr>
          <a:xfrm>
            <a:off x="2555640" y="189360"/>
            <a:ext cx="4033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сновные оши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1"/>
          <p:cNvSpPr/>
          <p:nvPr/>
        </p:nvSpPr>
        <p:spPr>
          <a:xfrm>
            <a:off x="976320" y="1721160"/>
            <a:ext cx="74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Копируют политику и не меняют название оператора, адрес сайта, адрес электронный почты. Или вообще не указывают название юр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2"/>
          <p:cNvSpPr/>
          <p:nvPr/>
        </p:nvSpPr>
        <p:spPr>
          <a:xfrm>
            <a:off x="976320" y="2527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Цели политики написаны размыто, в один общий абзац и не совпадают с целями указанными в уведомлении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3"/>
          <p:cNvSpPr/>
          <p:nvPr/>
        </p:nvSpPr>
        <p:spPr>
          <a:xfrm>
            <a:off x="1043640" y="3911040"/>
            <a:ext cx="7257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Документ не опубликован и недоступен для ознакомл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4"/>
          <p:cNvSpPr/>
          <p:nvPr/>
        </p:nvSpPr>
        <p:spPr>
          <a:xfrm>
            <a:off x="1020960" y="4844520"/>
            <a:ext cx="2271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литика не содержит нужные раздел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5"/>
          <p:cNvSpPr/>
          <p:nvPr/>
        </p:nvSpPr>
        <p:spPr>
          <a:xfrm>
            <a:off x="4500000" y="4834080"/>
            <a:ext cx="370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документе Политика указаны устаревшие сроки реагирования на запрос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1"/>
          <p:cNvSpPr/>
          <p:nvPr/>
        </p:nvSpPr>
        <p:spPr>
          <a:xfrm>
            <a:off x="251640" y="1053360"/>
            <a:ext cx="6147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Сервис 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«1С: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152DOC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»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age 31" descr="preencoded.png"/>
          <p:cNvPicPr/>
          <p:nvPr/>
        </p:nvPicPr>
        <p:blipFill>
          <a:blip r:embed="rId1"/>
          <a:stretch/>
        </p:blipFill>
        <p:spPr>
          <a:xfrm flipH="1">
            <a:off x="360" y="4713840"/>
            <a:ext cx="2220480" cy="214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44" name="Прямоугольник 23"/>
          <p:cNvSpPr/>
          <p:nvPr/>
        </p:nvSpPr>
        <p:spPr>
          <a:xfrm>
            <a:off x="179640" y="1953720"/>
            <a:ext cx="8028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 фирмы 1С есть сервис 1С:15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C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 помощью которого можно разработать все эти документы. Спрашивайте у вашей обслуживающей 1С организации. У партнеров 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771640" y="3213720"/>
            <a:ext cx="5118480" cy="3279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6" name="Прямоугольник 25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23640" y="945360"/>
            <a:ext cx="6588360" cy="4626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8" name="Прямоугольник 2"/>
          <p:cNvSpPr/>
          <p:nvPr/>
        </p:nvSpPr>
        <p:spPr>
          <a:xfrm>
            <a:off x="395640" y="5698080"/>
            <a:ext cx="8028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Указываете информацию о вашей компании в шагах мастера и на выходе получаете готовые документы с необходимыми формулировками!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 том числе Политика в области обработк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Google Shape;149;p27"/>
          <p:cNvSpPr/>
          <p:nvPr/>
        </p:nvSpPr>
        <p:spPr>
          <a:xfrm>
            <a:off x="761400" y="1482480"/>
            <a:ext cx="4050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</a:tabLst>
            </a:pPr>
            <a:endParaRPr b="1" lang="ru-RU" sz="2000" spc="-1" strike="noStrike">
              <a:solidFill>
                <a:srgbClr val="4a86e8"/>
              </a:solidFill>
              <a:latin typeface="Calibri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552240" y="1273680"/>
            <a:ext cx="7124400" cy="2583000"/>
          </a:xfrm>
          <a:prstGeom prst="roundRect">
            <a:avLst>
              <a:gd name="adj" fmla="val 9139"/>
            </a:avLst>
          </a:prstGeom>
          <a:noFill/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1 сентября 2022 </a:t>
            </a:r>
            <a:r>
              <a:rPr b="0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года были внесены изменения в 152 ФЗ и понятие Оператор персональных данных было расширено, теперь это любое юридическое лицо, ИП, самозанятый или физическое лицо, которое обрабатывает персональные данные с помощью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Исключения: В перечне остается всего три случая, когда оператору не обязательно входить в Единый реестр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работа с ПД без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включение персональных данных в ГИС, созданных для защиты безопасности государства и общественного поряд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обработка в соответствии с законодательством РФ о транспортной безопасности (п. 14 ст. 1 266-ФЗ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уга 15"/>
          <p:cNvSpPr/>
          <p:nvPr/>
        </p:nvSpPr>
        <p:spPr>
          <a:xfrm flipH="1" rot="15208200">
            <a:off x="184320" y="3152160"/>
            <a:ext cx="1760040" cy="1323000"/>
          </a:xfrm>
          <a:prstGeom prst="arc">
            <a:avLst>
              <a:gd name="adj1" fmla="val 13453130"/>
              <a:gd name="adj2" fmla="val 16427581"/>
            </a:avLst>
          </a:prstGeom>
          <a:noFill/>
          <a:ln>
            <a:solidFill>
              <a:srgbClr val="2065d1"/>
            </a:solidFill>
            <a:round/>
            <a:headEnd len="med" type="arrow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5f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503640" y="4077720"/>
            <a:ext cx="7088400" cy="1806480"/>
          </a:xfrm>
          <a:prstGeom prst="roundRect">
            <a:avLst>
              <a:gd name="adj" fmla="val 27514"/>
            </a:avLst>
          </a:prstGeom>
          <a:solidFill>
            <a:schemeClr val="bg1"/>
          </a:solidFill>
          <a:ln w="9525">
            <a:solidFill>
              <a:srgbClr val="2065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татус оператора должна получать каждая организация, независимо от количества собираемых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имеющее наемных сотрудников это оператор перс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без сотрудников, но обрабатывающие персональные данные физических лиц (потенциальные клиенты, посетители сайта, контактные лица контрагентов и проче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амозанятые и физические лица – если собирают и обрабатывают персональные данные с помощью средств авто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900" spc="-1" strike="noStrike">
                <a:solidFill>
                  <a:srgbClr val="5f0000"/>
                </a:solidFill>
                <a:latin typeface="Calibri"/>
                <a:ea typeface="Exo 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то является опера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08" name="Прямоугольник 9"/>
          <p:cNvSpPr/>
          <p:nvPr/>
        </p:nvSpPr>
        <p:spPr>
          <a:xfrm>
            <a:off x="575640" y="6094080"/>
            <a:ext cx="705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: Добрый день! Что нужно для соблюдения закона в организации, в которой не используются ПД (только сотрудников, необходимые для кадровых документов и для сдачи отчетности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431640" y="1377720"/>
            <a:ext cx="8189640" cy="4169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52" name="Прямоугольник 17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359640" y="5986080"/>
            <a:ext cx="802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ример готового документа – распечатываете, утверждаете, подписываете и работа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Профилактический визит – проверяют все Л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683640" y="1690200"/>
            <a:ext cx="770436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ата начала обработки 202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оверка локальных нормативных актов требования законодательства за обработкой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рок проведения – 5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аво отказаться от проведения ПВ (ч. 6 ст. 52 Закона № 248-Ф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 результатам проведения ПВ выдаются </a:t>
            </a:r>
            <a:r>
              <a:rPr b="0" i="1" lang="ru-RU" sz="1400" spc="-1" strike="noStrike" u="sng">
                <a:solidFill>
                  <a:srgbClr val="292929"/>
                </a:solidFill>
                <a:uFillTx/>
                <a:latin typeface="Arial"/>
              </a:rPr>
              <a:t>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lnSpc>
                <a:spcPct val="100000"/>
              </a:lnSpc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2. Проверки сайтов компаний – выборочно проверяют сайты компаний, где есть формы сбора персональных 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4"/>
          <p:cNvSpPr/>
          <p:nvPr/>
        </p:nvSpPr>
        <p:spPr>
          <a:xfrm>
            <a:off x="467640" y="2648520"/>
            <a:ext cx="8453880" cy="2581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8"/>
          <p:cNvSpPr/>
          <p:nvPr/>
        </p:nvSpPr>
        <p:spPr>
          <a:xfrm>
            <a:off x="735840" y="3104280"/>
            <a:ext cx="5513760" cy="20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роверяю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документа Политика в области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правильных ссылок и правильного документа Согласие на обработку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сервисов аналитики Яндекс и </a:t>
            </a:r>
            <a:r>
              <a:rPr b="0" lang="en-US" sz="1300" spc="-1" strike="noStrike">
                <a:solidFill>
                  <a:srgbClr val="282828"/>
                </a:solidFill>
                <a:latin typeface="Inter"/>
                <a:ea typeface="Inter Bold"/>
              </a:rPr>
              <a:t>Goog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куки банн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оданное уведомление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63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нарушения</a:t>
            </a:r>
            <a:endParaRPr b="0" lang="ru-RU" sz="1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786960" y="1566000"/>
            <a:ext cx="7569720" cy="4059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67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68" name="Прямоугольник 7"/>
          <p:cNvSpPr/>
          <p:nvPr/>
        </p:nvSpPr>
        <p:spPr>
          <a:xfrm>
            <a:off x="800280" y="1017360"/>
            <a:ext cx="302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Нет ссылки на документ Соглас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68B6-4985-4A99-9114-009B693870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287640" y="1665720"/>
            <a:ext cx="8538120" cy="4402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0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1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соблюдения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806040" y="1017360"/>
            <a:ext cx="507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Есть предупреждающий баннер о наличии файлов </a:t>
            </a:r>
            <a:r>
              <a:rPr b="0" lang="en-US" sz="1400" spc="-1" strike="noStrike">
                <a:solidFill>
                  <a:srgbClr val="282828"/>
                </a:solidFill>
                <a:latin typeface="Arial"/>
                <a:ea typeface="Inter Bold"/>
              </a:rPr>
              <a:t>coo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B28D-91D5-48B0-A874-C54EE6D70A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арушение на сай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7556400" y="23580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5" name="Прямоугольник 7"/>
          <p:cNvSpPr/>
          <p:nvPr/>
        </p:nvSpPr>
        <p:spPr>
          <a:xfrm>
            <a:off x="755640" y="1665720"/>
            <a:ext cx="72723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сайте размещены фото сотрудников с ФИО, должностью и отзывом о работодат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еобходимо подписать с сотрудником Согласие на распространение его данных: перечислить все данные, которые будете размещать; написать на каком ресурсе будете размещать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орму Согласия можно посмотреть на сайте Р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6B4B-89C1-465F-978B-7577E5E462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6"/>
          <p:cNvSpPr/>
          <p:nvPr/>
        </p:nvSpPr>
        <p:spPr>
          <a:xfrm>
            <a:off x="2286000" y="1023480"/>
            <a:ext cx="457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1439640" y="1485720"/>
            <a:ext cx="621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ужно больше информации по персональным данным, следите за новостями и анонсами мероприятий фирмы 1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3294000" y="5209920"/>
            <a:ext cx="2556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авукова Ната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infosec@1c.ru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ale@152doc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2"/>
          <a:stretch/>
        </p:blipFill>
        <p:spPr>
          <a:xfrm>
            <a:off x="2807640" y="2817720"/>
            <a:ext cx="3276000" cy="144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1"/>
          <p:cNvSpPr/>
          <p:nvPr/>
        </p:nvSpPr>
        <p:spPr>
          <a:xfrm>
            <a:off x="251640" y="2282040"/>
            <a:ext cx="8055000" cy="35859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Назначить Ответственного за работу с персональными данным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- назначается один на всю компанию! Назначается приказом! Контакты указываются в Уведомлении в РКН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документы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определяющие политику оператора в отношении обработки персональных данных - опубликовать ил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ным образом обеспечить неограниченный доступ к документу, определяющему его политику в отношении обработки персональных данных, к сведениям о реализуемых требованиях к защите персональных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локально-нормативны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е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существлять внутренний контроль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 (или) аудит соответствия обработки персональных данных ФЗ «О персональных данных» и локальным актам опера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ровести оценку вреда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который может быть причинен субъектам персональных данных в случае нарушения положений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ФЗ «О персональных данны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119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2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3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251640" y="2427840"/>
            <a:ext cx="8055000" cy="32943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знакомить работников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непосредственно «Осуществляющих обработку персональных данных, с положениями законодательства РФ» о персональных данных, в том числе требованиями к защите персональных данных, документами, определяющими политику оператора в отношении обработки персональных данных, локальными актами по вопросам обработки персональных данных, и (или) </a:t>
            </a:r>
            <a:r>
              <a:rPr b="1" lang="en-US" sz="1200" spc="-1" strike="noStrike">
                <a:solidFill>
                  <a:srgbClr val="2065d1"/>
                </a:solidFill>
                <a:latin typeface="Arial"/>
                <a:ea typeface="Calibri Bold"/>
              </a:rPr>
              <a:t>провести обучение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указанных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ть уведомление в Роскомнадзор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(если подавали до 1 февраля 2023, то нужно подать новое уведомление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) Уведомление подает головная компания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вать уведомления об изменениях в работе с перс данными (Ответственный, Цели, категории ПДн, Субъекты Пдн и пр.)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не позднее 15-го числа месяца, следующего за месяцем, в котором возникли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911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8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9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395640" y="1209960"/>
            <a:ext cx="8496000" cy="48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Акт оценки вреда субъектам 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азах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езопасности материальных носителей ПДн перечень мест хранения матери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действие комплекта ОР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эксплуатацию ИС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комиссии по уничтожению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администратора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ответственного за организацию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предоставлении доступа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создании комиссии по определению уровня защищенност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беспечении безопасности помещений размещения технических средств удаленного досту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 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ценке вреда, который может быть причинен субъектам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границ контролируемой зоны и перечней помещений где размещены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матриц доступа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допущенных к обработке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 доступ которых к персональным данным обрабатываемым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имеющих право доступа в помещения с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обрабатываемых на бумажных носител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работников, которым разрешены действия по внесению изменений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онфигурацию ИСПДн и С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олитики в отношении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7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458280" y="1253520"/>
            <a:ext cx="6683400" cy="337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 правила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2 правила рассмотрения запросов субъектов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3 правила осуществления внутренне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4 план внутреннего контроля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5 план мероприятий по защите ПДн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6 инструкция о порядке взаимодействия с Роскомнадзо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7 инструкция пользовател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8 положение по защите ПДн обрабатываемых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9 инструкция по идентификации и аутентификаци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0 инструкция по управлению доступом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1 инструкция по защите машинных 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2 инструкция по управлению событиями ИБ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3 инструкция по антивирусной защите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4 инструкция по контролю (анализу) защищенности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5 инструкция по защите технически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6 технологический процесс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7 порядок доступа в помещени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8 порядок по управлению изменениями в конфигурации ИСПДн и СЗ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503640" y="5482080"/>
            <a:ext cx="705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Шаблонов в открытом доступе нет, только рекомендации на сайте Роскомнадз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 1" descr="preencoded.png"/>
          <p:cNvPicPr/>
          <p:nvPr/>
        </p:nvPicPr>
        <p:blipFill>
          <a:blip r:embed="rId1"/>
          <a:stretch/>
        </p:blipFill>
        <p:spPr>
          <a:xfrm>
            <a:off x="476280" y="2458080"/>
            <a:ext cx="3483720" cy="3835800"/>
          </a:xfrm>
          <a:prstGeom prst="rect">
            <a:avLst/>
          </a:prstGeom>
          <a:ln w="0">
            <a:noFill/>
          </a:ln>
        </p:spPr>
      </p:pic>
      <p:pic>
        <p:nvPicPr>
          <p:cNvPr id="229" name="Image 2" descr="preencoded.png"/>
          <p:cNvPicPr/>
          <p:nvPr/>
        </p:nvPicPr>
        <p:blipFill>
          <a:blip r:embed="rId2"/>
          <a:stretch/>
        </p:blipFill>
        <p:spPr>
          <a:xfrm>
            <a:off x="4554360" y="2458080"/>
            <a:ext cx="3520080" cy="38358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5" descr="preencoded.png"/>
          <p:cNvPicPr/>
          <p:nvPr/>
        </p:nvPicPr>
        <p:blipFill>
          <a:blip r:embed="rId3"/>
          <a:stretch/>
        </p:blipFill>
        <p:spPr>
          <a:xfrm>
            <a:off x="1295280" y="6072120"/>
            <a:ext cx="432000" cy="444240"/>
          </a:xfrm>
          <a:prstGeom prst="rect">
            <a:avLst/>
          </a:prstGeom>
          <a:ln w="0">
            <a:noFill/>
          </a:ln>
        </p:spPr>
      </p:pic>
      <p:pic>
        <p:nvPicPr>
          <p:cNvPr id="231" name="Image 6" descr="preencoded.png"/>
          <p:cNvPicPr/>
          <p:nvPr/>
        </p:nvPicPr>
        <p:blipFill>
          <a:blip r:embed="rId4"/>
          <a:stretch/>
        </p:blipFill>
        <p:spPr>
          <a:xfrm>
            <a:off x="6804360" y="6072120"/>
            <a:ext cx="446040" cy="444240"/>
          </a:xfrm>
          <a:prstGeom prst="rect">
            <a:avLst/>
          </a:prstGeom>
          <a:ln w="0">
            <a:noFill/>
          </a:ln>
        </p:spPr>
      </p:pic>
      <p:sp>
        <p:nvSpPr>
          <p:cNvPr id="232" name="Text 1"/>
          <p:cNvSpPr/>
          <p:nvPr/>
        </p:nvSpPr>
        <p:spPr>
          <a:xfrm>
            <a:off x="431640" y="130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2"/>
          <p:cNvSpPr/>
          <p:nvPr/>
        </p:nvSpPr>
        <p:spPr>
          <a:xfrm>
            <a:off x="585720" y="2674080"/>
            <a:ext cx="23655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щие полож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3"/>
          <p:cNvSpPr/>
          <p:nvPr/>
        </p:nvSpPr>
        <p:spPr>
          <a:xfrm>
            <a:off x="4690800" y="2674080"/>
            <a:ext cx="303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Цели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9"/>
          <p:cNvSpPr/>
          <p:nvPr/>
        </p:nvSpPr>
        <p:spPr>
          <a:xfrm>
            <a:off x="4762080" y="3169440"/>
            <a:ext cx="300744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е все Цели сбора данных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держивайтесь правила: Цель должна быть сформулирована коротко, четко и понятно. Нельзя объединять все цели сбора данных в одну цель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10"/>
          <p:cNvSpPr/>
          <p:nvPr/>
        </p:nvSpPr>
        <p:spPr>
          <a:xfrm>
            <a:off x="585720" y="2985120"/>
            <a:ext cx="3160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указанном разделе рекомендуется описа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ие Политики, а также включить основные понятия, используемые в ней (обработка персональных данных, оператор, субъект персональных данных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конфиденциальность персональных данных и т.д.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ь основные права и обязанности оператор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и субъекта (ов)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язательно укажите название юридического лица/ИП/Самозанятый/ФизЛицо, которому эта политика принадлежит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11"/>
          <p:cNvSpPr/>
          <p:nvPr/>
        </p:nvSpPr>
        <p:spPr>
          <a:xfrm>
            <a:off x="1450440" y="6206400"/>
            <a:ext cx="1688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12"/>
          <p:cNvSpPr/>
          <p:nvPr/>
        </p:nvSpPr>
        <p:spPr>
          <a:xfrm>
            <a:off x="6985800" y="6206400"/>
            <a:ext cx="142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4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age 4" descr="preencoded.png"/>
          <p:cNvPicPr/>
          <p:nvPr/>
        </p:nvPicPr>
        <p:blipFill>
          <a:blip r:embed="rId1"/>
          <a:stretch/>
        </p:blipFill>
        <p:spPr>
          <a:xfrm>
            <a:off x="4904640" y="2458080"/>
            <a:ext cx="3762720" cy="3835800"/>
          </a:xfrm>
          <a:prstGeom prst="rect">
            <a:avLst/>
          </a:prstGeom>
          <a:ln w="0">
            <a:noFill/>
          </a:ln>
        </p:spPr>
      </p:pic>
      <p:pic>
        <p:nvPicPr>
          <p:cNvPr id="242" name="Image 8" descr="preencoded.png"/>
          <p:cNvPicPr/>
          <p:nvPr/>
        </p:nvPicPr>
        <p:blipFill>
          <a:blip r:embed="rId2"/>
          <a:stretch/>
        </p:blipFill>
        <p:spPr>
          <a:xfrm>
            <a:off x="7416360" y="6072120"/>
            <a:ext cx="427320" cy="444240"/>
          </a:xfrm>
          <a:prstGeom prst="rect">
            <a:avLst/>
          </a:prstGeom>
          <a:ln w="0">
            <a:noFill/>
          </a:ln>
        </p:spPr>
      </p:pic>
      <p:sp>
        <p:nvSpPr>
          <p:cNvPr id="243" name="Text 1"/>
          <p:cNvSpPr/>
          <p:nvPr/>
        </p:nvSpPr>
        <p:spPr>
          <a:xfrm>
            <a:off x="467640" y="11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5"/>
          <p:cNvSpPr/>
          <p:nvPr/>
        </p:nvSpPr>
        <p:spPr>
          <a:xfrm>
            <a:off x="5072040" y="2674080"/>
            <a:ext cx="3247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ъем и категории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атываем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7"/>
          <p:cNvSpPr/>
          <p:nvPr/>
        </p:nvSpPr>
        <p:spPr>
          <a:xfrm>
            <a:off x="5076000" y="3249720"/>
            <a:ext cx="349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еобходимо обеспечить соответствие объема обрабатываемых персональных данных изначально определенным целям обработки. В рамках каждой из категорий субъектов и применительно к конкретным целям рекомендуется перечислить все обрабатываемые оператором персональные данные, а также отдельно описать все случаи обработки специальных категорий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Допускается не указывать категории в Политике, но предоставлять информацию по первому требовани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 к категориям персональных данных относятся: ФИО, паспортные данные, дата рождения и прочее. Более полный список категорий вы можете посмотреть на сайте Роскомнадзора в Форме уведомления в Роскомнадзо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14"/>
          <p:cNvSpPr/>
          <p:nvPr/>
        </p:nvSpPr>
        <p:spPr>
          <a:xfrm>
            <a:off x="7560360" y="6167160"/>
            <a:ext cx="143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 3" descr="preencoded.png"/>
          <p:cNvPicPr/>
          <p:nvPr/>
        </p:nvPicPr>
        <p:blipFill>
          <a:blip r:embed="rId3"/>
          <a:stretch/>
        </p:blipFill>
        <p:spPr>
          <a:xfrm>
            <a:off x="466560" y="2458080"/>
            <a:ext cx="4069440" cy="3835800"/>
          </a:xfrm>
          <a:prstGeom prst="rect">
            <a:avLst/>
          </a:prstGeom>
          <a:ln w="0">
            <a:noFill/>
          </a:ln>
        </p:spPr>
      </p:pic>
      <p:sp>
        <p:nvSpPr>
          <p:cNvPr id="248" name="Text 4"/>
          <p:cNvSpPr/>
          <p:nvPr/>
        </p:nvSpPr>
        <p:spPr>
          <a:xfrm>
            <a:off x="576360" y="2674080"/>
            <a:ext cx="3588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авовые основания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8"/>
          <p:cNvSpPr/>
          <p:nvPr/>
        </p:nvSpPr>
        <p:spPr>
          <a:xfrm>
            <a:off x="575640" y="3249720"/>
            <a:ext cx="352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работка персональных данных требует законного основания, которое определяется согласно совокупности правовых документов и нормативных актов, соблюдение которых является обязательным для оператора при проведении такой обработ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152 ФЗ О защите персональных данных не является правовым основа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Image 8" descr="preencoded.png"/>
          <p:cNvPicPr/>
          <p:nvPr/>
        </p:nvPicPr>
        <p:blipFill>
          <a:blip r:embed="rId4"/>
          <a:stretch/>
        </p:blipFill>
        <p:spPr>
          <a:xfrm>
            <a:off x="919440" y="6078240"/>
            <a:ext cx="447840" cy="444240"/>
          </a:xfrm>
          <a:prstGeom prst="rect">
            <a:avLst/>
          </a:prstGeom>
          <a:ln w="0">
            <a:noFill/>
          </a:ln>
        </p:spPr>
      </p:pic>
      <p:sp>
        <p:nvSpPr>
          <p:cNvPr id="251" name="Text 14"/>
          <p:cNvSpPr/>
          <p:nvPr/>
        </p:nvSpPr>
        <p:spPr>
          <a:xfrm>
            <a:off x="1079640" y="6202080"/>
            <a:ext cx="1436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5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59640" y="909360"/>
            <a:ext cx="6336360" cy="1124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259640" y="2169720"/>
            <a:ext cx="6408360" cy="1993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295640" y="4329720"/>
            <a:ext cx="6372360" cy="2462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57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9_шаблон</Template>
  <TotalTime>714947</TotalTime>
  <Application>LibreOffice/7.4.7.2$Linux_X86_64 LibreOffice_project/40$Build-2</Application>
  <AppVersion>15.0000</AppVersion>
  <Words>1999</Words>
  <Paragraphs>225</Paragraphs>
  <Company>1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sawukova_nv</cp:lastModifiedBy>
  <dcterms:modified xsi:type="dcterms:W3CDTF">2023-09-11T14:49:37Z</dcterms:modified>
  <cp:revision>18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Произвольный</vt:lpwstr>
  </property>
  <property fmtid="{D5CDD505-2E9C-101B-9397-08002B2CF9AE}" pid="4" name="Slides">
    <vt:r8>26</vt:r8>
  </property>
</Properties>
</file>