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ACA32C-4253-4424-BEA3-291B0D948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8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64ADC9-F4C7-44C5-ABC1-575D02F8D9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70EAC6-329E-41BB-A121-DCFF69C01E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1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4AA357-C895-4284-9B69-28617B02FC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1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C29938-3C02-4D41-B2E4-5178FE7FF5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1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F848EA-D80F-4450-9F56-ECFE9BF3D7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13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BC9555-BCC7-46B9-BDD8-1DB9627BFE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1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F8EDFE-5437-4B5D-A7F3-7A2B0E61DC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5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9ECE50-30C6-46B3-A7F5-9D26C028DB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ADEE7F-E17A-4DFF-9C4A-339C9CF968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329E3A-0162-482A-8CD1-F75D85FC75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766416-80CC-498A-A673-FE3A8D15A3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1D7783-3BBF-46A2-BFF1-56F7DADA52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9A05-40B8-4B1C-9771-E3141EF3ED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E55B-6547-4DC3-B276-C24CB58087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A3F5-1751-4D8B-8D0F-1FCD93A18E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1245-DCCA-4EFB-B967-B0B6B7741E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39CB-00E6-4A17-8E6A-E2EB264576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9FA8-664F-4167-9EFC-27C5E9AE90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543C-58E3-433A-9877-F5919E6A6D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3037-9DB9-4F6B-BCB3-E654191A31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F4DF-71F1-406B-8862-12F6D39ACD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95EC-3A02-448E-B06D-FAE8948A53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6C61-6081-4B06-8790-BB6C6C1B06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9E54-B1F5-4B01-B349-B04127B9C1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53CA-2DD8-404F-8492-11CE306BA9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8811-AAD4-4EF5-9712-E6B4800B67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78EDA-E28D-4405-BB71-F55CE5876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DE149-DD85-4B22-B3B4-4158D5427A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D306-1F83-4FFD-B8A9-103DD59EFB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5A31-6A09-4B98-8370-F5EBF34DDF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FF80-B833-406D-BBFB-2EE6819864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FCB8-6AB8-4AE6-B609-41B82ADD8A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1163-83D7-4930-80A8-7FFF6E3FA9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D71C2-C99F-4132-B395-F9748EDC55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6FF8-948B-4483-BC0A-46D511440B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A7B7-A65F-4762-A8B5-7D9908D11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250560" y="0"/>
            <a:ext cx="8713800" cy="6599160"/>
            <a:chOff x="250560" y="0"/>
            <a:chExt cx="8713800" cy="6599160"/>
          </a:xfrm>
        </p:grpSpPr>
        <p:sp>
          <p:nvSpPr>
            <p:cNvPr id="1" name="Line 2"/>
            <p:cNvSpPr/>
            <p:nvPr/>
          </p:nvSpPr>
          <p:spPr>
            <a:xfrm flipV="1">
              <a:off x="468000" y="0"/>
              <a:ext cx="360" cy="6599160"/>
            </a:xfrm>
            <a:prstGeom prst="line">
              <a:avLst/>
            </a:prstGeom>
            <a:ln w="3175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" name="Line 10"/>
            <p:cNvSpPr/>
            <p:nvPr/>
          </p:nvSpPr>
          <p:spPr>
            <a:xfrm flipH="1">
              <a:off x="250560" y="58896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" name="Line 11"/>
            <p:cNvSpPr/>
            <p:nvPr/>
          </p:nvSpPr>
          <p:spPr>
            <a:xfrm flipH="1">
              <a:off x="250560" y="105264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" name="Line 15"/>
          <p:cNvSpPr/>
          <p:nvPr/>
        </p:nvSpPr>
        <p:spPr>
          <a:xfrm>
            <a:off x="468000" y="0"/>
            <a:ext cx="360" cy="6859440"/>
          </a:xfrm>
          <a:prstGeom prst="line">
            <a:avLst/>
          </a:prstGeom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" name="Picture 15" descr="2020_11_1С-Лекторий_логотип_2"/>
          <p:cNvPicPr/>
          <p:nvPr/>
        </p:nvPicPr>
        <p:blipFill>
          <a:blip r:embed="rId2"/>
          <a:stretch/>
        </p:blipFill>
        <p:spPr>
          <a:xfrm>
            <a:off x="323640" y="245880"/>
            <a:ext cx="2125440" cy="348840"/>
          </a:xfrm>
          <a:prstGeom prst="rect">
            <a:avLst/>
          </a:prstGeom>
          <a:ln w="9525">
            <a:noFill/>
          </a:ln>
        </p:spPr>
      </p:pic>
      <p:sp>
        <p:nvSpPr>
          <p:cNvPr id="6" name="Line 19"/>
          <p:cNvSpPr/>
          <p:nvPr/>
        </p:nvSpPr>
        <p:spPr>
          <a:xfrm>
            <a:off x="0" y="838080"/>
            <a:ext cx="7272000" cy="360"/>
          </a:xfrm>
          <a:prstGeom prst="line">
            <a:avLst/>
          </a:prstGeom>
          <a:ln w="9525">
            <a:solidFill>
              <a:srgbClr val="d71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AutoShape 12" hidden="1"/>
          <p:cNvSpPr/>
          <p:nvPr/>
        </p:nvSpPr>
        <p:spPr>
          <a:xfrm>
            <a:off x="8748720" y="6310440"/>
            <a:ext cx="167760" cy="360000"/>
          </a:xfrm>
          <a:prstGeom prst="chevron">
            <a:avLst>
              <a:gd name="adj" fmla="val 62995"/>
            </a:avLst>
          </a:prstGeom>
          <a:solidFill>
            <a:srgbClr val="d7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755640" y="0"/>
            <a:ext cx="360" cy="6859440"/>
          </a:xfrm>
          <a:prstGeom prst="line">
            <a:avLst/>
          </a:prstGeom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Rectangle 8"/>
          <p:cNvSpPr/>
          <p:nvPr/>
        </p:nvSpPr>
        <p:spPr>
          <a:xfrm>
            <a:off x="0" y="0"/>
            <a:ext cx="7092720" cy="837720"/>
          </a:xfrm>
          <a:prstGeom prst="rect">
            <a:avLst/>
          </a:prstGeom>
          <a:solidFill>
            <a:srgbClr val="d7192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" name="Picture 10" descr="2020_11_1С-Лекторий_логотип_3"/>
          <p:cNvPicPr/>
          <p:nvPr/>
        </p:nvPicPr>
        <p:blipFill>
          <a:blip r:embed="rId3"/>
          <a:stretch/>
        </p:blipFill>
        <p:spPr>
          <a:xfrm>
            <a:off x="216000" y="264960"/>
            <a:ext cx="1907640" cy="320400"/>
          </a:xfrm>
          <a:prstGeom prst="rect">
            <a:avLst/>
          </a:prstGeom>
          <a:ln w="9525">
            <a:noFill/>
          </a:ln>
        </p:spPr>
      </p:pic>
      <p:sp>
        <p:nvSpPr>
          <p:cNvPr id="11" name="AutoShape 12"/>
          <p:cNvSpPr/>
          <p:nvPr/>
        </p:nvSpPr>
        <p:spPr>
          <a:xfrm>
            <a:off x="8748720" y="6310440"/>
            <a:ext cx="167760" cy="360000"/>
          </a:xfrm>
          <a:prstGeom prst="chevron">
            <a:avLst>
              <a:gd name="adj" fmla="val 62995"/>
            </a:avLst>
          </a:prstGeom>
          <a:solidFill>
            <a:srgbClr val="d7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ru-RU" sz="1600" spc="-1" strike="noStrike">
              <a:solidFill>
                <a:srgbClr val="29292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ru-RU" sz="1400" spc="-1" strike="noStrike">
              <a:solidFill>
                <a:srgbClr val="29292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ru-RU" sz="1200" spc="-1" strike="noStrike">
              <a:solidFill>
                <a:srgbClr val="29292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4"/>
          <p:cNvGrpSpPr/>
          <p:nvPr/>
        </p:nvGrpSpPr>
        <p:grpSpPr>
          <a:xfrm>
            <a:off x="250560" y="0"/>
            <a:ext cx="8713800" cy="6599160"/>
            <a:chOff x="250560" y="0"/>
            <a:chExt cx="8713800" cy="6599160"/>
          </a:xfrm>
        </p:grpSpPr>
        <p:sp>
          <p:nvSpPr>
            <p:cNvPr id="51" name="Line 2"/>
            <p:cNvSpPr/>
            <p:nvPr/>
          </p:nvSpPr>
          <p:spPr>
            <a:xfrm flipV="1">
              <a:off x="468000" y="0"/>
              <a:ext cx="360" cy="6599160"/>
            </a:xfrm>
            <a:prstGeom prst="line">
              <a:avLst/>
            </a:prstGeom>
            <a:ln w="3175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" name="Line 10"/>
            <p:cNvSpPr/>
            <p:nvPr/>
          </p:nvSpPr>
          <p:spPr>
            <a:xfrm flipH="1">
              <a:off x="250560" y="58896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50560" y="105264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4" name="Line 15"/>
          <p:cNvSpPr/>
          <p:nvPr/>
        </p:nvSpPr>
        <p:spPr>
          <a:xfrm>
            <a:off x="468000" y="0"/>
            <a:ext cx="360" cy="6859440"/>
          </a:xfrm>
          <a:prstGeom prst="line">
            <a:avLst/>
          </a:prstGeom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" name="Picture 15" descr="2020_11_1С-Лекторий_логотип_2"/>
          <p:cNvPicPr/>
          <p:nvPr/>
        </p:nvPicPr>
        <p:blipFill>
          <a:blip r:embed="rId2"/>
          <a:stretch/>
        </p:blipFill>
        <p:spPr>
          <a:xfrm>
            <a:off x="323640" y="245880"/>
            <a:ext cx="2125440" cy="348840"/>
          </a:xfrm>
          <a:prstGeom prst="rect">
            <a:avLst/>
          </a:prstGeom>
          <a:ln w="9525">
            <a:noFill/>
          </a:ln>
        </p:spPr>
      </p:pic>
      <p:sp>
        <p:nvSpPr>
          <p:cNvPr id="56" name="Line 19"/>
          <p:cNvSpPr/>
          <p:nvPr/>
        </p:nvSpPr>
        <p:spPr>
          <a:xfrm>
            <a:off x="0" y="838080"/>
            <a:ext cx="7272000" cy="360"/>
          </a:xfrm>
          <a:prstGeom prst="line">
            <a:avLst/>
          </a:prstGeom>
          <a:ln w="9525">
            <a:solidFill>
              <a:srgbClr val="d71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8748720" y="6310440"/>
            <a:ext cx="167760" cy="360000"/>
          </a:xfrm>
          <a:prstGeom prst="chevron">
            <a:avLst>
              <a:gd name="adj" fmla="val 62995"/>
            </a:avLst>
          </a:prstGeom>
          <a:solidFill>
            <a:srgbClr val="d7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Num" idx="1"/>
          </p:nvPr>
        </p:nvSpPr>
        <p:spPr>
          <a:xfrm>
            <a:off x="8317080" y="6308640"/>
            <a:ext cx="571320" cy="367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d7192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E4CCE7A-D4CB-4372-ADCC-04C2F4D6E0E0}" type="slidenum">
              <a:rPr b="0" lang="ru-RU" sz="1400" spc="-1" strike="noStrike">
                <a:solidFill>
                  <a:srgbClr val="d719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ru-RU" sz="1600" spc="-1" strike="noStrike">
              <a:solidFill>
                <a:srgbClr val="29292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ru-RU" sz="1400" spc="-1" strike="noStrike">
              <a:solidFill>
                <a:srgbClr val="29292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ru-RU" sz="1200" spc="-1" strike="noStrike">
              <a:solidFill>
                <a:srgbClr val="29292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4"/>
          <p:cNvGrpSpPr/>
          <p:nvPr/>
        </p:nvGrpSpPr>
        <p:grpSpPr>
          <a:xfrm>
            <a:off x="250560" y="0"/>
            <a:ext cx="8713800" cy="6599160"/>
            <a:chOff x="250560" y="0"/>
            <a:chExt cx="8713800" cy="6599160"/>
          </a:xfrm>
        </p:grpSpPr>
        <p:sp>
          <p:nvSpPr>
            <p:cNvPr id="98" name="Line 2"/>
            <p:cNvSpPr/>
            <p:nvPr/>
          </p:nvSpPr>
          <p:spPr>
            <a:xfrm flipV="1">
              <a:off x="468000" y="0"/>
              <a:ext cx="360" cy="6599160"/>
            </a:xfrm>
            <a:prstGeom prst="line">
              <a:avLst/>
            </a:prstGeom>
            <a:ln w="3175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 flipH="1">
              <a:off x="250560" y="58896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00" name="Line 11"/>
            <p:cNvSpPr/>
            <p:nvPr/>
          </p:nvSpPr>
          <p:spPr>
            <a:xfrm flipH="1">
              <a:off x="250560" y="105264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1" name="Line 15"/>
          <p:cNvSpPr/>
          <p:nvPr/>
        </p:nvSpPr>
        <p:spPr>
          <a:xfrm>
            <a:off x="468000" y="0"/>
            <a:ext cx="360" cy="6859440"/>
          </a:xfrm>
          <a:prstGeom prst="line">
            <a:avLst/>
          </a:prstGeom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2" name="Picture 15" descr="2020_11_1С-Лекторий_логотип_2"/>
          <p:cNvPicPr/>
          <p:nvPr/>
        </p:nvPicPr>
        <p:blipFill>
          <a:blip r:embed="rId2"/>
          <a:stretch/>
        </p:blipFill>
        <p:spPr>
          <a:xfrm>
            <a:off x="323640" y="245880"/>
            <a:ext cx="2125440" cy="348840"/>
          </a:xfrm>
          <a:prstGeom prst="rect">
            <a:avLst/>
          </a:prstGeom>
          <a:ln w="9525">
            <a:noFill/>
          </a:ln>
        </p:spPr>
      </p:pic>
      <p:sp>
        <p:nvSpPr>
          <p:cNvPr id="103" name="Line 19"/>
          <p:cNvSpPr/>
          <p:nvPr/>
        </p:nvSpPr>
        <p:spPr>
          <a:xfrm>
            <a:off x="0" y="838080"/>
            <a:ext cx="7272000" cy="360"/>
          </a:xfrm>
          <a:prstGeom prst="line">
            <a:avLst/>
          </a:prstGeom>
          <a:ln w="9525">
            <a:solidFill>
              <a:srgbClr val="d71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8748720" y="6310440"/>
            <a:ext cx="167760" cy="360000"/>
          </a:xfrm>
          <a:prstGeom prst="chevron">
            <a:avLst>
              <a:gd name="adj" fmla="val 62995"/>
            </a:avLst>
          </a:prstGeom>
          <a:solidFill>
            <a:srgbClr val="d7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ru-RU" sz="1600" spc="-1" strike="noStrike">
              <a:solidFill>
                <a:srgbClr val="29292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ru-RU" sz="1400" spc="-1" strike="noStrike">
              <a:solidFill>
                <a:srgbClr val="29292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ru-RU" sz="1200" spc="-1" strike="noStrike">
              <a:solidFill>
                <a:srgbClr val="29292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4"/>
          <p:cNvGrpSpPr/>
          <p:nvPr/>
        </p:nvGrpSpPr>
        <p:grpSpPr>
          <a:xfrm>
            <a:off x="250560" y="0"/>
            <a:ext cx="8713800" cy="6599160"/>
            <a:chOff x="250560" y="0"/>
            <a:chExt cx="8713800" cy="6599160"/>
          </a:xfrm>
        </p:grpSpPr>
        <p:sp>
          <p:nvSpPr>
            <p:cNvPr id="144" name="Line 2"/>
            <p:cNvSpPr/>
            <p:nvPr/>
          </p:nvSpPr>
          <p:spPr>
            <a:xfrm flipV="1">
              <a:off x="468000" y="0"/>
              <a:ext cx="360" cy="6599160"/>
            </a:xfrm>
            <a:prstGeom prst="line">
              <a:avLst/>
            </a:prstGeom>
            <a:ln w="3175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5" name="Line 10"/>
            <p:cNvSpPr/>
            <p:nvPr/>
          </p:nvSpPr>
          <p:spPr>
            <a:xfrm flipH="1">
              <a:off x="250560" y="58896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 flipH="1">
              <a:off x="250560" y="105264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Line 15"/>
          <p:cNvSpPr/>
          <p:nvPr/>
        </p:nvSpPr>
        <p:spPr>
          <a:xfrm>
            <a:off x="468000" y="0"/>
            <a:ext cx="360" cy="6859440"/>
          </a:xfrm>
          <a:prstGeom prst="line">
            <a:avLst/>
          </a:prstGeom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48" name="Picture 15" descr="2020_11_1С-Лекторий_логотип_2"/>
          <p:cNvPicPr/>
          <p:nvPr/>
        </p:nvPicPr>
        <p:blipFill>
          <a:blip r:embed="rId2"/>
          <a:stretch/>
        </p:blipFill>
        <p:spPr>
          <a:xfrm>
            <a:off x="323640" y="245880"/>
            <a:ext cx="2125440" cy="348840"/>
          </a:xfrm>
          <a:prstGeom prst="rect">
            <a:avLst/>
          </a:prstGeom>
          <a:ln w="9525">
            <a:noFill/>
          </a:ln>
        </p:spPr>
      </p:pic>
      <p:sp>
        <p:nvSpPr>
          <p:cNvPr id="149" name="Line 19"/>
          <p:cNvSpPr/>
          <p:nvPr/>
        </p:nvSpPr>
        <p:spPr>
          <a:xfrm>
            <a:off x="0" y="838080"/>
            <a:ext cx="7272000" cy="360"/>
          </a:xfrm>
          <a:prstGeom prst="line">
            <a:avLst/>
          </a:prstGeom>
          <a:ln w="9525">
            <a:solidFill>
              <a:srgbClr val="d71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8748720" y="6310440"/>
            <a:ext cx="167760" cy="360000"/>
          </a:xfrm>
          <a:prstGeom prst="chevron">
            <a:avLst>
              <a:gd name="adj" fmla="val 62995"/>
            </a:avLst>
          </a:prstGeom>
          <a:solidFill>
            <a:srgbClr val="d7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0" y="311040"/>
            <a:ext cx="460800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80000"/>
              </a:lnSpc>
              <a:buNone/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Образец заголовка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16000" y="1506600"/>
            <a:ext cx="8640360" cy="316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162000" indent="-1620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Образец текста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1" marL="344520" indent="-181080">
              <a:lnSpc>
                <a:spcPct val="100000"/>
              </a:lnSpc>
              <a:spcBef>
                <a:spcPts val="360"/>
              </a:spcBef>
              <a:spcAft>
                <a:spcPts val="541"/>
              </a:spcAft>
              <a:buClr>
                <a:srgbClr val="cc33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торой уровень</a:t>
            </a:r>
            <a:endParaRPr b="0" lang="ru-RU" sz="1800" spc="-1" strike="noStrike">
              <a:solidFill>
                <a:srgbClr val="292929"/>
              </a:solidFill>
              <a:latin typeface="Arial"/>
            </a:endParaRPr>
          </a:p>
          <a:p>
            <a:pPr lvl="2" marL="536400" indent="-190440">
              <a:lnSpc>
                <a:spcPct val="100000"/>
              </a:lnSpc>
              <a:spcBef>
                <a:spcPts val="320"/>
              </a:spcBef>
              <a:spcAft>
                <a:spcPts val="320"/>
              </a:spcAft>
              <a:buClr>
                <a:srgbClr val="cc0000"/>
              </a:buClr>
              <a:buFont typeface="Symbol" charset="2"/>
              <a:buChar char=""/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Третий уровень</a:t>
            </a:r>
            <a:endParaRPr b="0" lang="ru-RU" sz="1600" spc="-1" strike="noStrike">
              <a:solidFill>
                <a:srgbClr val="292929"/>
              </a:solidFill>
              <a:latin typeface="Arial"/>
            </a:endParaRPr>
          </a:p>
          <a:p>
            <a:pPr lvl="3" marL="709560" indent="-171360">
              <a:lnSpc>
                <a:spcPct val="100000"/>
              </a:lnSpc>
              <a:spcBef>
                <a:spcPts val="281"/>
              </a:spcBef>
              <a:spcAft>
                <a:spcPts val="281"/>
              </a:spcAft>
              <a:buClr>
                <a:srgbClr val="cc0000"/>
              </a:buClr>
              <a:buFont typeface="Symbol" charset="2"/>
              <a:buChar char="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Четвертый уровень</a:t>
            </a:r>
            <a:endParaRPr b="0" lang="ru-RU" sz="1400" spc="-1" strike="noStrike">
              <a:solidFill>
                <a:srgbClr val="292929"/>
              </a:solidFill>
              <a:latin typeface="Arial"/>
            </a:endParaRPr>
          </a:p>
          <a:p>
            <a:pPr lvl="4" marL="876240" indent="-162000">
              <a:lnSpc>
                <a:spcPct val="100000"/>
              </a:lnSpc>
              <a:spcBef>
                <a:spcPts val="241"/>
              </a:spcBef>
              <a:buClr>
                <a:srgbClr val="cc0000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ятый уровень</a:t>
            </a:r>
            <a:endParaRPr b="0" lang="ru-RU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2"/>
          </p:nvPr>
        </p:nvSpPr>
        <p:spPr>
          <a:xfrm>
            <a:off x="8317080" y="6308640"/>
            <a:ext cx="571320" cy="367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d7192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41F191B-AF2A-4BFA-B6A1-ADDF513BE723}" type="slidenum">
              <a:rPr b="0" lang="ru-RU" sz="1400" spc="-1" strike="noStrike">
                <a:solidFill>
                  <a:srgbClr val="d719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image" Target="../media/image1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infosec@1c.ru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2360" y="1197000"/>
            <a:ext cx="8640360" cy="67104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162000" indent="0">
              <a:lnSpc>
                <a:spcPct val="90000"/>
              </a:lnSpc>
              <a:spcBef>
                <a:spcPts val="561"/>
              </a:spcBef>
              <a:spcAft>
                <a:spcPts val="14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d71920"/>
                </a:solidFill>
                <a:latin typeface="Arial"/>
              </a:rPr>
              <a:t>Практика применения 152-ФЗ "О персональных данных" с учетом изменений 2023 года, что важно знать бухгалтеру и руководителю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Создаем документ «Политика по обработке персональных данных» и готовим сайт к проверке.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Ответы на вопросы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561"/>
              </a:spcBef>
              <a:spcAft>
                <a:spcPts val="14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561"/>
              </a:spcBef>
              <a:spcAft>
                <a:spcPts val="1400"/>
              </a:spcAft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51640" y="4906080"/>
            <a:ext cx="8640360" cy="15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62000" indent="-162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вукова Наталья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79"/>
              </a:spcBef>
              <a:spcAft>
                <a:spcPts val="479"/>
              </a:spcAft>
              <a:tabLst>
                <a:tab algn="l" pos="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Эксперт по Защит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79"/>
              </a:spcBef>
              <a:spcAft>
                <a:spcPts val="479"/>
              </a:spcAft>
              <a:tabLst>
                <a:tab algn="l" pos="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Астрал.Безопа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15640" y="6238080"/>
            <a:ext cx="8640360" cy="47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62000" indent="-162000">
              <a:lnSpc>
                <a:spcPct val="100000"/>
              </a:lnSpc>
              <a:spcBef>
                <a:spcPts val="320"/>
              </a:spcBef>
              <a:spcAft>
                <a:spcPts val="799"/>
              </a:spcAft>
              <a:tabLst>
                <a:tab algn="l" pos="0"/>
              </a:tabLst>
            </a:pPr>
            <a:r>
              <a:rPr b="1" lang="ru-RU" sz="1600" spc="-1" strike="noStrike">
                <a:solidFill>
                  <a:srgbClr val="d71920"/>
                </a:solidFill>
                <a:latin typeface="Arial"/>
              </a:rPr>
              <a:t>12.09.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215280" y="6130080"/>
            <a:ext cx="2881440" cy="360"/>
          </a:xfrm>
          <a:prstGeom prst="line">
            <a:avLst/>
          </a:prstGeom>
          <a:ln w="9525">
            <a:solidFill>
              <a:srgbClr val="d71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8136000" y="6308640"/>
            <a:ext cx="571320" cy="36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9ADE15D8-EBAC-492C-BDBE-0C0F24D7EFBC}" type="slidenum">
              <a:rPr b="0" lang="ru-RU" sz="1400" spc="-1" strike="noStrike">
                <a:solidFill>
                  <a:srgbClr val="d719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623880" y="1690560"/>
            <a:ext cx="7895880" cy="3476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61" name="Picture 9" descr=""/>
          <p:cNvPicPr/>
          <p:nvPr/>
        </p:nvPicPr>
        <p:blipFill>
          <a:blip r:embed="rId2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Image 1" descr="preencoded.png"/>
          <p:cNvPicPr/>
          <p:nvPr/>
        </p:nvPicPr>
        <p:blipFill>
          <a:blip r:embed="rId1"/>
          <a:stretch/>
        </p:blipFill>
        <p:spPr>
          <a:xfrm>
            <a:off x="476280" y="1269720"/>
            <a:ext cx="8191080" cy="3219840"/>
          </a:xfrm>
          <a:prstGeom prst="rect">
            <a:avLst/>
          </a:prstGeom>
          <a:ln w="0">
            <a:noFill/>
          </a:ln>
        </p:spPr>
      </p:pic>
      <p:pic>
        <p:nvPicPr>
          <p:cNvPr id="263" name="Image 5" descr="preencoded.png"/>
          <p:cNvPicPr/>
          <p:nvPr/>
        </p:nvPicPr>
        <p:blipFill>
          <a:blip r:embed="rId2"/>
          <a:stretch/>
        </p:blipFill>
        <p:spPr>
          <a:xfrm>
            <a:off x="681120" y="2932200"/>
            <a:ext cx="47160" cy="63000"/>
          </a:xfrm>
          <a:prstGeom prst="rect">
            <a:avLst/>
          </a:prstGeom>
          <a:ln w="0">
            <a:noFill/>
          </a:ln>
        </p:spPr>
      </p:pic>
      <p:pic>
        <p:nvPicPr>
          <p:cNvPr id="264" name="Image 6" descr="preencoded.png"/>
          <p:cNvPicPr/>
          <p:nvPr/>
        </p:nvPicPr>
        <p:blipFill>
          <a:blip r:embed="rId3"/>
          <a:stretch/>
        </p:blipFill>
        <p:spPr>
          <a:xfrm>
            <a:off x="681120" y="3402360"/>
            <a:ext cx="47160" cy="63000"/>
          </a:xfrm>
          <a:prstGeom prst="rect">
            <a:avLst/>
          </a:prstGeom>
          <a:ln w="0">
            <a:noFill/>
          </a:ln>
        </p:spPr>
      </p:pic>
      <p:pic>
        <p:nvPicPr>
          <p:cNvPr id="265" name="Image 7" descr="preencoded.png"/>
          <p:cNvPicPr/>
          <p:nvPr/>
        </p:nvPicPr>
        <p:blipFill>
          <a:blip r:embed="rId4"/>
          <a:stretch/>
        </p:blipFill>
        <p:spPr>
          <a:xfrm>
            <a:off x="4376880" y="2932200"/>
            <a:ext cx="47160" cy="63000"/>
          </a:xfrm>
          <a:prstGeom prst="rect">
            <a:avLst/>
          </a:prstGeom>
          <a:ln w="0">
            <a:noFill/>
          </a:ln>
        </p:spPr>
      </p:pic>
      <p:pic>
        <p:nvPicPr>
          <p:cNvPr id="266" name="Image 8" descr="preencoded.png"/>
          <p:cNvPicPr/>
          <p:nvPr/>
        </p:nvPicPr>
        <p:blipFill>
          <a:blip r:embed="rId5"/>
          <a:stretch/>
        </p:blipFill>
        <p:spPr>
          <a:xfrm>
            <a:off x="4376880" y="3330360"/>
            <a:ext cx="47160" cy="63000"/>
          </a:xfrm>
          <a:prstGeom prst="rect">
            <a:avLst/>
          </a:prstGeom>
          <a:ln w="0">
            <a:noFill/>
          </a:ln>
        </p:spPr>
      </p:pic>
      <p:pic>
        <p:nvPicPr>
          <p:cNvPr id="267" name="Image 9" descr="preencoded.png"/>
          <p:cNvPicPr/>
          <p:nvPr/>
        </p:nvPicPr>
        <p:blipFill>
          <a:blip r:embed="rId6"/>
          <a:stretch/>
        </p:blipFill>
        <p:spPr>
          <a:xfrm>
            <a:off x="4284000" y="1047240"/>
            <a:ext cx="454320" cy="444240"/>
          </a:xfrm>
          <a:prstGeom prst="rect">
            <a:avLst/>
          </a:prstGeom>
          <a:ln w="0">
            <a:noFill/>
          </a:ln>
        </p:spPr>
      </p:pic>
      <p:sp>
        <p:nvSpPr>
          <p:cNvPr id="268" name="Text 0"/>
          <p:cNvSpPr/>
          <p:nvPr/>
        </p:nvSpPr>
        <p:spPr>
          <a:xfrm>
            <a:off x="671400" y="1466280"/>
            <a:ext cx="50162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Принципы и условия обработки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1"/>
          <p:cNvSpPr/>
          <p:nvPr/>
        </p:nvSpPr>
        <p:spPr>
          <a:xfrm>
            <a:off x="671400" y="1701720"/>
            <a:ext cx="77526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0" i="1" lang="en-US" sz="1100" spc="-1" strike="noStrike">
                <a:solidFill>
                  <a:srgbClr val="373737"/>
                </a:solidFill>
                <a:latin typeface="Arial"/>
                <a:ea typeface="Calibri Italic"/>
              </a:rPr>
              <a:t>В данном разделе рекомендуется указывать перечень действий, совершаемых оператором с персональными данными субъектов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i="1" lang="en-US" sz="1100" spc="-1" strike="noStrike">
                <a:solidFill>
                  <a:srgbClr val="373737"/>
                </a:solidFill>
                <a:latin typeface="Arial"/>
                <a:ea typeface="Calibri Italic"/>
              </a:rPr>
              <a:t>а также используемые оператором способы обработки персональных данных и сроки обработки 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2"/>
          <p:cNvSpPr/>
          <p:nvPr/>
        </p:nvSpPr>
        <p:spPr>
          <a:xfrm>
            <a:off x="671400" y="2375280"/>
            <a:ext cx="76806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В случае необходимости взаимодействия с третьими лицами в рамках достижения целей обработки персональных данных 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Bold"/>
              </a:rPr>
              <a:t>рекомендуется указывать условия передачи персональных данных в адрес третьих лиц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3"/>
          <p:cNvSpPr/>
          <p:nvPr/>
        </p:nvSpPr>
        <p:spPr>
          <a:xfrm>
            <a:off x="790560" y="2864520"/>
            <a:ext cx="3395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Рекомендуется указывать </a:t>
            </a:r>
            <a:r>
              <a:rPr b="0" lang="en-US" sz="1100" spc="-1" strike="noStrike">
                <a:solidFill>
                  <a:srgbClr val="003edb"/>
                </a:solidFill>
                <a:latin typeface="Arial"/>
                <a:ea typeface="Calibri Bold"/>
              </a:rPr>
              <a:t>сведения о соблюдении требований конфиденциальности 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4"/>
          <p:cNvSpPr/>
          <p:nvPr/>
        </p:nvSpPr>
        <p:spPr>
          <a:xfrm>
            <a:off x="790560" y="3334680"/>
            <a:ext cx="30571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003edb"/>
                </a:solidFill>
                <a:latin typeface="Arial"/>
                <a:ea typeface="Calibri Bold"/>
              </a:rPr>
              <a:t>Условия прекращения обработки 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Это может быть достижение целей обработки, истечение срока действия, отзыв согласия субъекта персональных данных на обработку, выявление неправомерной обработки данны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5"/>
          <p:cNvSpPr/>
          <p:nvPr/>
        </p:nvSpPr>
        <p:spPr>
          <a:xfrm>
            <a:off x="4486320" y="2864520"/>
            <a:ext cx="2123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003edb"/>
                </a:solidFill>
                <a:latin typeface="Arial"/>
                <a:ea typeface="Calibri Bold"/>
              </a:rPr>
              <a:t>Сроки хранения 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6"/>
          <p:cNvSpPr/>
          <p:nvPr/>
        </p:nvSpPr>
        <p:spPr>
          <a:xfrm>
            <a:off x="4500000" y="3285720"/>
            <a:ext cx="31618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Осуществляется или нет </a:t>
            </a:r>
            <a:r>
              <a:rPr b="0" lang="en-US" sz="1100" spc="-1" strike="noStrike">
                <a:solidFill>
                  <a:srgbClr val="003edb"/>
                </a:solidFill>
                <a:latin typeface="Arial"/>
                <a:ea typeface="Calibri Bold"/>
              </a:rPr>
              <a:t>трансграничная передача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7"/>
          <p:cNvSpPr/>
          <p:nvPr/>
        </p:nvSpPr>
        <p:spPr>
          <a:xfrm>
            <a:off x="4464000" y="1142640"/>
            <a:ext cx="15048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Image 3" descr="preencoded.png"/>
          <p:cNvPicPr/>
          <p:nvPr/>
        </p:nvPicPr>
        <p:blipFill>
          <a:blip r:embed="rId7"/>
          <a:stretch/>
        </p:blipFill>
        <p:spPr>
          <a:xfrm>
            <a:off x="2036520" y="4862160"/>
            <a:ext cx="5088240" cy="1793160"/>
          </a:xfrm>
          <a:prstGeom prst="rect">
            <a:avLst/>
          </a:prstGeom>
          <a:ln w="0">
            <a:noFill/>
          </a:ln>
        </p:spPr>
      </p:pic>
      <p:sp>
        <p:nvSpPr>
          <p:cNvPr id="277" name="Text 14"/>
          <p:cNvSpPr/>
          <p:nvPr/>
        </p:nvSpPr>
        <p:spPr>
          <a:xfrm>
            <a:off x="2218680" y="4970520"/>
            <a:ext cx="4315680" cy="1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</a:rPr>
              <a:t>Примечание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16"/>
          <p:cNvSpPr/>
          <p:nvPr/>
        </p:nvSpPr>
        <p:spPr>
          <a:xfrm>
            <a:off x="2252520" y="5214960"/>
            <a:ext cx="4542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Если вы коммерческая компания, не указывайте такое действие как Обезличивание данных – так как для коммерческих компаний нет описанных регламентов, а значит Обезличивание не законно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Ни в коем случае не пишите, что обрабатываете персональные данные Бессрочно – так как это нарушение ч.1 ст. 13.11 КоАП, наказание в виде штрафа от 60 000 до 100 000 руб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8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80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Image 2" descr="preencoded.png"/>
          <p:cNvPicPr/>
          <p:nvPr/>
        </p:nvPicPr>
        <p:blipFill>
          <a:blip r:embed="rId1"/>
          <a:stretch/>
        </p:blipFill>
        <p:spPr>
          <a:xfrm>
            <a:off x="1367640" y="2449800"/>
            <a:ext cx="2949480" cy="2908440"/>
          </a:xfrm>
          <a:prstGeom prst="rect">
            <a:avLst/>
          </a:prstGeom>
          <a:ln w="0">
            <a:noFill/>
          </a:ln>
        </p:spPr>
      </p:pic>
      <p:pic>
        <p:nvPicPr>
          <p:cNvPr id="282" name="Image 3" descr="preencoded.png"/>
          <p:cNvPicPr/>
          <p:nvPr/>
        </p:nvPicPr>
        <p:blipFill>
          <a:blip r:embed="rId2"/>
          <a:stretch/>
        </p:blipFill>
        <p:spPr>
          <a:xfrm>
            <a:off x="4641480" y="2449800"/>
            <a:ext cx="2666520" cy="2908440"/>
          </a:xfrm>
          <a:prstGeom prst="rect">
            <a:avLst/>
          </a:prstGeom>
          <a:ln w="0">
            <a:noFill/>
          </a:ln>
        </p:spPr>
      </p:pic>
      <p:pic>
        <p:nvPicPr>
          <p:cNvPr id="283" name="Image 10" descr="preencoded.png"/>
          <p:cNvPicPr/>
          <p:nvPr/>
        </p:nvPicPr>
        <p:blipFill>
          <a:blip r:embed="rId3"/>
          <a:stretch/>
        </p:blipFill>
        <p:spPr>
          <a:xfrm>
            <a:off x="2699640" y="5136480"/>
            <a:ext cx="503640" cy="444240"/>
          </a:xfrm>
          <a:prstGeom prst="rect">
            <a:avLst/>
          </a:prstGeom>
          <a:ln w="0">
            <a:noFill/>
          </a:ln>
        </p:spPr>
      </p:pic>
      <p:pic>
        <p:nvPicPr>
          <p:cNvPr id="284" name="Image 11" descr="preencoded.png"/>
          <p:cNvPicPr/>
          <p:nvPr/>
        </p:nvPicPr>
        <p:blipFill>
          <a:blip r:embed="rId4"/>
          <a:stretch/>
        </p:blipFill>
        <p:spPr>
          <a:xfrm>
            <a:off x="5723640" y="5136480"/>
            <a:ext cx="468360" cy="444240"/>
          </a:xfrm>
          <a:prstGeom prst="rect">
            <a:avLst/>
          </a:prstGeom>
          <a:ln w="0">
            <a:noFill/>
          </a:ln>
        </p:spPr>
      </p:pic>
      <p:sp>
        <p:nvSpPr>
          <p:cNvPr id="285" name="Text 8"/>
          <p:cNvSpPr/>
          <p:nvPr/>
        </p:nvSpPr>
        <p:spPr>
          <a:xfrm>
            <a:off x="2879640" y="5270400"/>
            <a:ext cx="2156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9"/>
          <p:cNvSpPr/>
          <p:nvPr/>
        </p:nvSpPr>
        <p:spPr>
          <a:xfrm>
            <a:off x="5904000" y="5270400"/>
            <a:ext cx="1076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11"/>
          <p:cNvSpPr/>
          <p:nvPr/>
        </p:nvSpPr>
        <p:spPr>
          <a:xfrm>
            <a:off x="1511640" y="2640600"/>
            <a:ext cx="27720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Реализация мер обеспечен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безопасности персональны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12"/>
          <p:cNvSpPr/>
          <p:nvPr/>
        </p:nvSpPr>
        <p:spPr>
          <a:xfrm>
            <a:off x="1475640" y="3429720"/>
            <a:ext cx="2070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i="1" lang="en-US" sz="1100" spc="-1" strike="noStrike">
                <a:solidFill>
                  <a:srgbClr val="373737"/>
                </a:solidFill>
                <a:latin typeface="Arial"/>
                <a:ea typeface="Calibri Italic"/>
              </a:rPr>
              <a:t>Принимаемых в орган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13"/>
          <p:cNvSpPr/>
          <p:nvPr/>
        </p:nvSpPr>
        <p:spPr>
          <a:xfrm>
            <a:off x="1511640" y="3933720"/>
            <a:ext cx="2526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(перечислить какие меры приняты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назначены ответственные, разработан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ЛНА и пр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14"/>
          <p:cNvSpPr/>
          <p:nvPr/>
        </p:nvSpPr>
        <p:spPr>
          <a:xfrm>
            <a:off x="4711320" y="2640600"/>
            <a:ext cx="226188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а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15"/>
          <p:cNvSpPr/>
          <p:nvPr/>
        </p:nvSpPr>
        <p:spPr>
          <a:xfrm>
            <a:off x="4716000" y="3285720"/>
            <a:ext cx="2004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1" i="1" lang="en-US" sz="1100" spc="-1" strike="noStrike">
                <a:solidFill>
                  <a:srgbClr val="373737"/>
                </a:solidFill>
                <a:latin typeface="Arial"/>
                <a:ea typeface="Calibri Italic"/>
              </a:rPr>
              <a:t>Осуществляемая без использован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1" i="1" lang="en-US" sz="1100" spc="-1" strike="noStrike">
                <a:solidFill>
                  <a:srgbClr val="373737"/>
                </a:solidFill>
                <a:latin typeface="Arial"/>
                <a:ea typeface="Calibri Italic"/>
              </a:rPr>
              <a:t>средств автомат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16"/>
          <p:cNvSpPr/>
          <p:nvPr/>
        </p:nvSpPr>
        <p:spPr>
          <a:xfrm>
            <a:off x="4716000" y="4185720"/>
            <a:ext cx="23810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1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(где хранятся, как уничтожаются, принцип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1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работы с материальными носителями и пр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1"/>
          <p:cNvSpPr/>
          <p:nvPr/>
        </p:nvSpPr>
        <p:spPr>
          <a:xfrm>
            <a:off x="467640" y="1197720"/>
            <a:ext cx="4928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 Политику рекомендуется включить следующие структурные компонент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9" descr=""/>
          <p:cNvPicPr/>
          <p:nvPr/>
        </p:nvPicPr>
        <p:blipFill>
          <a:blip r:embed="rId5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95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Image 4" descr="preencoded.png"/>
          <p:cNvPicPr/>
          <p:nvPr/>
        </p:nvPicPr>
        <p:blipFill>
          <a:blip r:embed="rId1"/>
          <a:stretch/>
        </p:blipFill>
        <p:spPr>
          <a:xfrm>
            <a:off x="783720" y="2573640"/>
            <a:ext cx="7883640" cy="3796560"/>
          </a:xfrm>
          <a:prstGeom prst="rect">
            <a:avLst/>
          </a:prstGeom>
          <a:ln w="0">
            <a:noFill/>
          </a:ln>
        </p:spPr>
      </p:pic>
      <p:pic>
        <p:nvPicPr>
          <p:cNvPr id="297" name="Image 12" descr="preencoded.png"/>
          <p:cNvPicPr/>
          <p:nvPr/>
        </p:nvPicPr>
        <p:blipFill>
          <a:blip r:embed="rId2"/>
          <a:stretch/>
        </p:blipFill>
        <p:spPr>
          <a:xfrm>
            <a:off x="4392000" y="6148080"/>
            <a:ext cx="428040" cy="444240"/>
          </a:xfrm>
          <a:prstGeom prst="rect">
            <a:avLst/>
          </a:prstGeom>
          <a:ln w="0">
            <a:noFill/>
          </a:ln>
        </p:spPr>
      </p:pic>
      <p:sp>
        <p:nvSpPr>
          <p:cNvPr id="298" name="Text 10"/>
          <p:cNvSpPr/>
          <p:nvPr/>
        </p:nvSpPr>
        <p:spPr>
          <a:xfrm>
            <a:off x="4555440" y="6278400"/>
            <a:ext cx="1602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17"/>
          <p:cNvSpPr/>
          <p:nvPr/>
        </p:nvSpPr>
        <p:spPr>
          <a:xfrm>
            <a:off x="1227960" y="2748960"/>
            <a:ext cx="64969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Актуализация, исправление,</a:t>
            </a: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Bold"/>
              </a:rPr>
              <a:t> </a:t>
            </a: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удаление и уничтожение</a:t>
            </a: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Bold"/>
              </a:rPr>
              <a:t> </a:t>
            </a: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19"/>
          <p:cNvSpPr/>
          <p:nvPr/>
        </p:nvSpPr>
        <p:spPr>
          <a:xfrm>
            <a:off x="1227960" y="3025080"/>
            <a:ext cx="671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В соответствии с законом, персональные данные подлежат актуализации оператором в случае подтверждения их неточности. То же применимо и к подтверждению неправомерности обработки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сональные данные должны быть удалены после достижения целей их обработки или в случае отзыва субъектом согласия на обработку, если договор, стороной которого является субъект, или иное соглашение с оператором не предусматривают других услов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Оператор не имеет права осуществлять обработку персональных данных без согласия субъекта на основаниях, предусмотренных законодательств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Также оператор обязан предоставить субъекту информацию о ходе обработки данных по его запросу. 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Либо ссылку на статью </a:t>
            </a: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20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 Федерального закона «О персональных данных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Роскомнадзор рекомендует включить в Политику процедуры реагирования на запросы и обращения субъектов по вопросам неточности данных, незаконной обработки, отзыва согласия и доступа к собственным данным. Также полезно предоставить соответствующие образцы запросов и обращен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римечание: </a:t>
            </a: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если у вас уже есть документ Политика, то обязательно проверьте сроки реагирования, так как срок изменился и теперь Оператор обязан ответить в течение 10 дней на запрос Субъекта Персональных данны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1"/>
          <p:cNvSpPr/>
          <p:nvPr/>
        </p:nvSpPr>
        <p:spPr>
          <a:xfrm>
            <a:off x="467640" y="1845720"/>
            <a:ext cx="4928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 Политику рекомендуется включить следующие структурные компонент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3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03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1367640" y="1701720"/>
            <a:ext cx="6732360" cy="45727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05" name="Text 1"/>
          <p:cNvSpPr/>
          <p:nvPr/>
        </p:nvSpPr>
        <p:spPr>
          <a:xfrm>
            <a:off x="2591640" y="225360"/>
            <a:ext cx="4928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Подсказка для создания документа Политика</a:t>
            </a: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1"/>
          <p:cNvSpPr/>
          <p:nvPr/>
        </p:nvSpPr>
        <p:spPr>
          <a:xfrm>
            <a:off x="431640" y="1125360"/>
            <a:ext cx="8280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ейдите в форму Уведомления на сайте РКН и воспользуйтесь предложенными справочникам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9" descr=""/>
          <p:cNvPicPr/>
          <p:nvPr/>
        </p:nvPicPr>
        <p:blipFill>
          <a:blip r:embed="rId2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0"/>
          <p:cNvSpPr/>
          <p:nvPr/>
        </p:nvSpPr>
        <p:spPr>
          <a:xfrm>
            <a:off x="2555640" y="189360"/>
            <a:ext cx="7632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</a:rPr>
              <a:t>Где должен быть размещен док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2"/>
          <p:cNvSpPr/>
          <p:nvPr/>
        </p:nvSpPr>
        <p:spPr>
          <a:xfrm>
            <a:off x="609480" y="2172240"/>
            <a:ext cx="794808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endParaRPr b="1" lang="en-US" sz="1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0" name="Text 3"/>
          <p:cNvSpPr/>
          <p:nvPr/>
        </p:nvSpPr>
        <p:spPr>
          <a:xfrm>
            <a:off x="863640" y="1053360"/>
            <a:ext cx="40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ариант 1: В подвале сай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547640" y="1593720"/>
            <a:ext cx="6662520" cy="4500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312" name="Picture 9" descr=""/>
          <p:cNvPicPr/>
          <p:nvPr/>
        </p:nvPicPr>
        <p:blipFill>
          <a:blip r:embed="rId2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2"/>
          <p:cNvSpPr/>
          <p:nvPr/>
        </p:nvSpPr>
        <p:spPr>
          <a:xfrm>
            <a:off x="609480" y="2172240"/>
            <a:ext cx="794808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endParaRPr b="1" lang="en-US" sz="1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4" name="Text 3"/>
          <p:cNvSpPr/>
          <p:nvPr/>
        </p:nvSpPr>
        <p:spPr>
          <a:xfrm>
            <a:off x="575640" y="1053360"/>
            <a:ext cx="54003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ариант 2: Под каждой формой сбора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609480" y="1492560"/>
            <a:ext cx="3782160" cy="46425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16" name="Скругленный прямоугольник 7"/>
          <p:cNvSpPr/>
          <p:nvPr/>
        </p:nvSpPr>
        <p:spPr>
          <a:xfrm rot="16200000">
            <a:off x="4960080" y="1787040"/>
            <a:ext cx="3088080" cy="31885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6350">
            <a:noFill/>
          </a:ln>
          <a:effectLst>
            <a:glow rad="228600">
              <a:srgbClr val="ffffff">
                <a:alpha val="40000"/>
              </a:srgbClr>
            </a:glow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51120" rIns="51120" tIns="25560" bIns="25560" anchor="ctr">
            <a:no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5006520" y="2172240"/>
            <a:ext cx="29138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ru-RU" sz="800" spc="-1" strike="noStrike">
                <a:solidFill>
                  <a:srgbClr val="3c1e78"/>
                </a:solidFill>
                <a:latin typeface="Arial Narrow"/>
              </a:rPr>
              <a:t>* </a:t>
            </a:r>
            <a:r>
              <a:rPr b="0" lang="ru-RU" sz="1400" spc="-1" strike="noStrike">
                <a:solidFill>
                  <a:srgbClr val="2065d1"/>
                </a:solidFill>
                <a:latin typeface="Arial"/>
              </a:rPr>
              <a:t>если Оператор не имеет сайта в сети «Интернет», ему необходимо обеспечить иным образом неограниченный доступ к документу, определяющему политику Оператора в отношении обработки ПДн и сведениям о реализуемых требованиях к защите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"/>
          <p:cNvPicPr/>
          <p:nvPr/>
        </p:nvPicPr>
        <p:blipFill>
          <a:blip r:embed="rId2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19" name="Text 0"/>
          <p:cNvSpPr/>
          <p:nvPr/>
        </p:nvSpPr>
        <p:spPr>
          <a:xfrm>
            <a:off x="2555640" y="189360"/>
            <a:ext cx="7632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</a:rPr>
              <a:t>Где должен быть размещен док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Image 1" descr="preencoded.png"/>
          <p:cNvPicPr/>
          <p:nvPr/>
        </p:nvPicPr>
        <p:blipFill>
          <a:blip r:embed="rId1"/>
          <a:stretch/>
        </p:blipFill>
        <p:spPr>
          <a:xfrm>
            <a:off x="476280" y="1448280"/>
            <a:ext cx="8191080" cy="806400"/>
          </a:xfrm>
          <a:prstGeom prst="rect">
            <a:avLst/>
          </a:prstGeom>
          <a:ln w="0">
            <a:noFill/>
          </a:ln>
        </p:spPr>
      </p:pic>
      <p:pic>
        <p:nvPicPr>
          <p:cNvPr id="321" name="Image 2" descr="preencoded.png"/>
          <p:cNvPicPr/>
          <p:nvPr/>
        </p:nvPicPr>
        <p:blipFill>
          <a:blip r:embed="rId2"/>
          <a:stretch/>
        </p:blipFill>
        <p:spPr>
          <a:xfrm>
            <a:off x="520920" y="4546080"/>
            <a:ext cx="3357360" cy="1085760"/>
          </a:xfrm>
          <a:prstGeom prst="rect">
            <a:avLst/>
          </a:prstGeom>
          <a:ln w="0">
            <a:noFill/>
          </a:ln>
        </p:spPr>
      </p:pic>
      <p:pic>
        <p:nvPicPr>
          <p:cNvPr id="322" name="Image 3" descr="preencoded.png"/>
          <p:cNvPicPr/>
          <p:nvPr/>
        </p:nvPicPr>
        <p:blipFill>
          <a:blip r:embed="rId3"/>
          <a:stretch/>
        </p:blipFill>
        <p:spPr>
          <a:xfrm>
            <a:off x="3973680" y="4546080"/>
            <a:ext cx="4738320" cy="1085760"/>
          </a:xfrm>
          <a:prstGeom prst="rect">
            <a:avLst/>
          </a:prstGeom>
          <a:ln w="0">
            <a:noFill/>
          </a:ln>
        </p:spPr>
      </p:pic>
      <p:pic>
        <p:nvPicPr>
          <p:cNvPr id="323" name="Image 4" descr="preencoded.png"/>
          <p:cNvPicPr/>
          <p:nvPr/>
        </p:nvPicPr>
        <p:blipFill>
          <a:blip r:embed="rId4"/>
          <a:stretch/>
        </p:blipFill>
        <p:spPr>
          <a:xfrm>
            <a:off x="476280" y="2493720"/>
            <a:ext cx="8191080" cy="971640"/>
          </a:xfrm>
          <a:prstGeom prst="rect">
            <a:avLst/>
          </a:prstGeom>
          <a:ln w="0">
            <a:noFill/>
          </a:ln>
        </p:spPr>
      </p:pic>
      <p:pic>
        <p:nvPicPr>
          <p:cNvPr id="324" name="Image 5" descr="preencoded.png"/>
          <p:cNvPicPr/>
          <p:nvPr/>
        </p:nvPicPr>
        <p:blipFill>
          <a:blip r:embed="rId5"/>
          <a:stretch/>
        </p:blipFill>
        <p:spPr>
          <a:xfrm>
            <a:off x="539640" y="3681720"/>
            <a:ext cx="8191080" cy="683640"/>
          </a:xfrm>
          <a:prstGeom prst="rect">
            <a:avLst/>
          </a:prstGeom>
          <a:ln w="0">
            <a:noFill/>
          </a:ln>
        </p:spPr>
      </p:pic>
      <p:pic>
        <p:nvPicPr>
          <p:cNvPr id="325" name="Image 6" descr="preencoded.png"/>
          <p:cNvPicPr/>
          <p:nvPr/>
        </p:nvPicPr>
        <p:blipFill>
          <a:blip r:embed="rId6"/>
          <a:stretch/>
        </p:blipFill>
        <p:spPr>
          <a:xfrm>
            <a:off x="638280" y="1721160"/>
            <a:ext cx="199800" cy="266400"/>
          </a:xfrm>
          <a:prstGeom prst="rect">
            <a:avLst/>
          </a:prstGeom>
          <a:ln w="0">
            <a:noFill/>
          </a:ln>
        </p:spPr>
      </p:pic>
      <p:pic>
        <p:nvPicPr>
          <p:cNvPr id="326" name="Image 7" descr="preencoded.png"/>
          <p:cNvPicPr/>
          <p:nvPr/>
        </p:nvPicPr>
        <p:blipFill>
          <a:blip r:embed="rId7"/>
          <a:stretch/>
        </p:blipFill>
        <p:spPr>
          <a:xfrm>
            <a:off x="638280" y="2890080"/>
            <a:ext cx="199800" cy="266400"/>
          </a:xfrm>
          <a:prstGeom prst="rect">
            <a:avLst/>
          </a:prstGeom>
          <a:ln w="0">
            <a:noFill/>
          </a:ln>
        </p:spPr>
      </p:pic>
      <p:pic>
        <p:nvPicPr>
          <p:cNvPr id="327" name="Image 8" descr="preencoded.png"/>
          <p:cNvPicPr/>
          <p:nvPr/>
        </p:nvPicPr>
        <p:blipFill>
          <a:blip r:embed="rId8"/>
          <a:stretch/>
        </p:blipFill>
        <p:spPr>
          <a:xfrm>
            <a:off x="663480" y="3897720"/>
            <a:ext cx="199800" cy="266400"/>
          </a:xfrm>
          <a:prstGeom prst="rect">
            <a:avLst/>
          </a:prstGeom>
          <a:ln w="0">
            <a:noFill/>
          </a:ln>
        </p:spPr>
      </p:pic>
      <p:pic>
        <p:nvPicPr>
          <p:cNvPr id="328" name="Image 9" descr="preencoded.png"/>
          <p:cNvPicPr/>
          <p:nvPr/>
        </p:nvPicPr>
        <p:blipFill>
          <a:blip r:embed="rId9"/>
          <a:stretch/>
        </p:blipFill>
        <p:spPr>
          <a:xfrm>
            <a:off x="682920" y="4958640"/>
            <a:ext cx="199800" cy="266400"/>
          </a:xfrm>
          <a:prstGeom prst="rect">
            <a:avLst/>
          </a:prstGeom>
          <a:ln w="0">
            <a:noFill/>
          </a:ln>
        </p:spPr>
      </p:pic>
      <p:pic>
        <p:nvPicPr>
          <p:cNvPr id="329" name="Image 10" descr="preencoded.png"/>
          <p:cNvPicPr/>
          <p:nvPr/>
        </p:nvPicPr>
        <p:blipFill>
          <a:blip r:embed="rId10"/>
          <a:stretch/>
        </p:blipFill>
        <p:spPr>
          <a:xfrm>
            <a:off x="675360" y="1759320"/>
            <a:ext cx="123840" cy="172080"/>
          </a:xfrm>
          <a:prstGeom prst="rect">
            <a:avLst/>
          </a:prstGeom>
          <a:ln w="0">
            <a:noFill/>
          </a:ln>
        </p:spPr>
      </p:pic>
      <p:pic>
        <p:nvPicPr>
          <p:cNvPr id="330" name="Image 11" descr="preencoded.png"/>
          <p:cNvPicPr/>
          <p:nvPr/>
        </p:nvPicPr>
        <p:blipFill>
          <a:blip r:embed="rId11"/>
          <a:stretch/>
        </p:blipFill>
        <p:spPr>
          <a:xfrm>
            <a:off x="675360" y="2927880"/>
            <a:ext cx="123840" cy="172080"/>
          </a:xfrm>
          <a:prstGeom prst="rect">
            <a:avLst/>
          </a:prstGeom>
          <a:ln w="0">
            <a:noFill/>
          </a:ln>
        </p:spPr>
      </p:pic>
      <p:pic>
        <p:nvPicPr>
          <p:cNvPr id="331" name="Image 12" descr="preencoded.png"/>
          <p:cNvPicPr/>
          <p:nvPr/>
        </p:nvPicPr>
        <p:blipFill>
          <a:blip r:embed="rId12"/>
          <a:stretch/>
        </p:blipFill>
        <p:spPr>
          <a:xfrm>
            <a:off x="683640" y="3933720"/>
            <a:ext cx="123840" cy="172080"/>
          </a:xfrm>
          <a:prstGeom prst="rect">
            <a:avLst/>
          </a:prstGeom>
          <a:ln w="0">
            <a:noFill/>
          </a:ln>
        </p:spPr>
      </p:pic>
      <p:pic>
        <p:nvPicPr>
          <p:cNvPr id="332" name="Image 13" descr="preencoded.png"/>
          <p:cNvPicPr/>
          <p:nvPr/>
        </p:nvPicPr>
        <p:blipFill>
          <a:blip r:embed="rId13"/>
          <a:stretch/>
        </p:blipFill>
        <p:spPr>
          <a:xfrm>
            <a:off x="720000" y="4996800"/>
            <a:ext cx="123840" cy="172080"/>
          </a:xfrm>
          <a:prstGeom prst="rect">
            <a:avLst/>
          </a:prstGeom>
          <a:ln w="0">
            <a:noFill/>
          </a:ln>
        </p:spPr>
      </p:pic>
      <p:pic>
        <p:nvPicPr>
          <p:cNvPr id="333" name="Image 14" descr="preencoded.png"/>
          <p:cNvPicPr/>
          <p:nvPr/>
        </p:nvPicPr>
        <p:blipFill>
          <a:blip r:embed="rId14"/>
          <a:stretch/>
        </p:blipFill>
        <p:spPr>
          <a:xfrm>
            <a:off x="4135680" y="4958640"/>
            <a:ext cx="199800" cy="266400"/>
          </a:xfrm>
          <a:prstGeom prst="rect">
            <a:avLst/>
          </a:prstGeom>
          <a:ln w="0">
            <a:noFill/>
          </a:ln>
        </p:spPr>
      </p:pic>
      <p:sp>
        <p:nvSpPr>
          <p:cNvPr id="334" name="Text 0"/>
          <p:cNvSpPr/>
          <p:nvPr/>
        </p:nvSpPr>
        <p:spPr>
          <a:xfrm>
            <a:off x="2555640" y="189360"/>
            <a:ext cx="4033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сновные ошиб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1"/>
          <p:cNvSpPr/>
          <p:nvPr/>
        </p:nvSpPr>
        <p:spPr>
          <a:xfrm>
            <a:off x="976320" y="1721160"/>
            <a:ext cx="74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Копируют политику и не меняют название оператора, адрес сайта, адрес электронный почты. Или вообще не указывают название юр лиц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2"/>
          <p:cNvSpPr/>
          <p:nvPr/>
        </p:nvSpPr>
        <p:spPr>
          <a:xfrm>
            <a:off x="976320" y="2527920"/>
            <a:ext cx="716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Цели политики написаны размыто, в один общий абзац и не совпадают с целями указанными в уведомлении в РК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3"/>
          <p:cNvSpPr/>
          <p:nvPr/>
        </p:nvSpPr>
        <p:spPr>
          <a:xfrm>
            <a:off x="1043640" y="3911040"/>
            <a:ext cx="7257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Документ не опубликован и недоступен для ознакомл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4"/>
          <p:cNvSpPr/>
          <p:nvPr/>
        </p:nvSpPr>
        <p:spPr>
          <a:xfrm>
            <a:off x="1020960" y="4844520"/>
            <a:ext cx="2271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Политика не содержит нужные раздел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5"/>
          <p:cNvSpPr/>
          <p:nvPr/>
        </p:nvSpPr>
        <p:spPr>
          <a:xfrm>
            <a:off x="4500000" y="4834080"/>
            <a:ext cx="3704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 документе Политика указаны устаревшие сроки реагирования на запрос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15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1"/>
          <p:cNvSpPr/>
          <p:nvPr/>
        </p:nvSpPr>
        <p:spPr>
          <a:xfrm>
            <a:off x="251640" y="1053360"/>
            <a:ext cx="61477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700" spc="-1" strike="noStrike">
                <a:solidFill>
                  <a:srgbClr val="282828"/>
                </a:solidFill>
                <a:latin typeface="Inter"/>
                <a:ea typeface="Inter Bold"/>
              </a:rPr>
              <a:t>Сервис </a:t>
            </a:r>
            <a:r>
              <a:rPr b="1" lang="ru-RU" sz="3700" spc="-1" strike="noStrike">
                <a:solidFill>
                  <a:srgbClr val="282828"/>
                </a:solidFill>
                <a:latin typeface="Inter"/>
                <a:ea typeface="Inter Bold"/>
              </a:rPr>
              <a:t>«1С:</a:t>
            </a:r>
            <a:r>
              <a:rPr b="1" lang="en-US" sz="3700" spc="-1" strike="noStrike">
                <a:solidFill>
                  <a:srgbClr val="282828"/>
                </a:solidFill>
                <a:latin typeface="Inter"/>
                <a:ea typeface="Inter Bold"/>
              </a:rPr>
              <a:t>152DOC</a:t>
            </a:r>
            <a:r>
              <a:rPr b="1" lang="ru-RU" sz="3700" spc="-1" strike="noStrike">
                <a:solidFill>
                  <a:srgbClr val="282828"/>
                </a:solidFill>
                <a:latin typeface="Inter"/>
                <a:ea typeface="Inter Bold"/>
              </a:rPr>
              <a:t>»</a:t>
            </a:r>
            <a:r>
              <a:rPr b="1" lang="en-US" sz="3700" spc="-1" strike="noStrike">
                <a:solidFill>
                  <a:srgbClr val="282828"/>
                </a:solidFill>
                <a:latin typeface="Inter"/>
                <a:ea typeface="Inter Bold"/>
              </a:rPr>
              <a:t>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Image 31" descr="preencoded.png"/>
          <p:cNvPicPr/>
          <p:nvPr/>
        </p:nvPicPr>
        <p:blipFill>
          <a:blip r:embed="rId1"/>
          <a:stretch/>
        </p:blipFill>
        <p:spPr>
          <a:xfrm flipH="1">
            <a:off x="360" y="4713840"/>
            <a:ext cx="2220480" cy="214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"/>
          <p:cNvPicPr/>
          <p:nvPr/>
        </p:nvPicPr>
        <p:blipFill>
          <a:blip r:embed="rId2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44" name="Прямоугольник 23"/>
          <p:cNvSpPr/>
          <p:nvPr/>
        </p:nvSpPr>
        <p:spPr>
          <a:xfrm>
            <a:off x="179640" y="1953720"/>
            <a:ext cx="8028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У фирмы 1С есть сервис 1С:152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C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с помощью которого можно разработать все эти документы. Спрашивайте у вашей обслуживающей 1С организации. У партнеров 1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3"/>
          <a:stretch/>
        </p:blipFill>
        <p:spPr>
          <a:xfrm>
            <a:off x="2771640" y="3213720"/>
            <a:ext cx="5118480" cy="32792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46" name="Прямоугольник 25"/>
          <p:cNvSpPr/>
          <p:nvPr/>
        </p:nvSpPr>
        <p:spPr>
          <a:xfrm>
            <a:off x="2650320" y="225360"/>
            <a:ext cx="3511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Как подготовить документы Л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223640" y="945360"/>
            <a:ext cx="6588360" cy="46267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48" name="Прямоугольник 2"/>
          <p:cNvSpPr/>
          <p:nvPr/>
        </p:nvSpPr>
        <p:spPr>
          <a:xfrm>
            <a:off x="395640" y="5698080"/>
            <a:ext cx="80283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Указываете информацию о вашей компании в шагах мастера и на выходе получаете готовые документы с необходимыми формулировками!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В том числе Политика в области обработки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3"/>
          <p:cNvSpPr/>
          <p:nvPr/>
        </p:nvSpPr>
        <p:spPr>
          <a:xfrm>
            <a:off x="2650320" y="225360"/>
            <a:ext cx="3511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Как подготовить документы Л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Google Shape;149;p27"/>
          <p:cNvSpPr/>
          <p:nvPr/>
        </p:nvSpPr>
        <p:spPr>
          <a:xfrm>
            <a:off x="761400" y="1482480"/>
            <a:ext cx="4050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3000"/>
              </a:lnSpc>
              <a:tabLst>
                <a:tab algn="l" pos="0"/>
              </a:tabLst>
            </a:pPr>
            <a:endParaRPr b="1" lang="ru-RU" sz="2000" spc="-1" strike="noStrike">
              <a:solidFill>
                <a:srgbClr val="4a86e8"/>
              </a:solidFill>
              <a:latin typeface="Calibri"/>
            </a:endParaRPr>
          </a:p>
        </p:txBody>
      </p:sp>
      <p:sp>
        <p:nvSpPr>
          <p:cNvPr id="203" name="Заголовок 1"/>
          <p:cNvSpPr/>
          <p:nvPr/>
        </p:nvSpPr>
        <p:spPr>
          <a:xfrm>
            <a:off x="552240" y="1273680"/>
            <a:ext cx="7124400" cy="2583000"/>
          </a:xfrm>
          <a:prstGeom prst="roundRect">
            <a:avLst>
              <a:gd name="adj" fmla="val 9139"/>
            </a:avLst>
          </a:prstGeom>
          <a:noFill/>
          <a:ln w="0">
            <a:solidFill>
              <a:srgbClr val="ffffff">
                <a:lumMod val="8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1 сентября 2022 </a:t>
            </a:r>
            <a:r>
              <a:rPr b="0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года были внесены изменения в 152 ФЗ и понятие Оператор персональных данных было расширено, теперь это любое юридическое лицо, ИП, самозанятый или физическое лицо, которое обрабатывает персональные данные с помощью средств автомат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Исключения: В перечне остается всего три случая, когда оператору не обязательно входить в Единый реестр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100000"/>
              </a:lnSpc>
              <a:buClr>
                <a:srgbClr val="003dd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i="1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работа с ПД без средств автомат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100000"/>
              </a:lnSpc>
              <a:buClr>
                <a:srgbClr val="003dd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i="1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включение персональных данных в ГИС, созданных для защиты безопасности государства и общественного порядк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100000"/>
              </a:lnSpc>
              <a:buClr>
                <a:srgbClr val="003dd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i="1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обработка в соответствии с законодательством РФ о транспортной безопасности (п. 14 ст. 1 266-ФЗ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Дуга 15"/>
          <p:cNvSpPr/>
          <p:nvPr/>
        </p:nvSpPr>
        <p:spPr>
          <a:xfrm flipH="1" rot="15208200">
            <a:off x="184320" y="3152160"/>
            <a:ext cx="1760040" cy="1323000"/>
          </a:xfrm>
          <a:prstGeom prst="arc">
            <a:avLst>
              <a:gd name="adj1" fmla="val 13453130"/>
              <a:gd name="adj2" fmla="val 16427581"/>
            </a:avLst>
          </a:prstGeom>
          <a:noFill/>
          <a:ln>
            <a:solidFill>
              <a:srgbClr val="2065d1"/>
            </a:solidFill>
            <a:round/>
            <a:headEnd len="med" type="arrow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5f0000"/>
              </a:solidFill>
              <a:latin typeface="Calibri"/>
            </a:endParaRPr>
          </a:p>
        </p:txBody>
      </p:sp>
      <p:sp>
        <p:nvSpPr>
          <p:cNvPr id="205" name="Заголовок 1"/>
          <p:cNvSpPr/>
          <p:nvPr/>
        </p:nvSpPr>
        <p:spPr>
          <a:xfrm>
            <a:off x="503640" y="4077720"/>
            <a:ext cx="7088400" cy="1806480"/>
          </a:xfrm>
          <a:prstGeom prst="roundRect">
            <a:avLst>
              <a:gd name="adj" fmla="val 27514"/>
            </a:avLst>
          </a:prstGeom>
          <a:solidFill>
            <a:schemeClr val="bg1"/>
          </a:solidFill>
          <a:ln w="9525">
            <a:solidFill>
              <a:srgbClr val="2065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>
              <a:lnSpc>
                <a:spcPct val="9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rgbClr val="5f0000"/>
                </a:solidFill>
                <a:latin typeface="Calibri"/>
                <a:ea typeface="Exo 2"/>
              </a:rPr>
              <a:t>Статус оператора должна получать каждая организация, независимо от количества собираемых данны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1400" spc="-1" strike="noStrike">
                <a:solidFill>
                  <a:srgbClr val="5f0000"/>
                </a:solidFill>
                <a:latin typeface="Calibri"/>
                <a:ea typeface="Exo 2"/>
              </a:rPr>
              <a:t>Любое юр лицо/ИП имеющее наемных сотрудников это оператор перс данны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1400" spc="-1" strike="noStrike">
                <a:solidFill>
                  <a:srgbClr val="5f0000"/>
                </a:solidFill>
                <a:latin typeface="Calibri"/>
                <a:ea typeface="Exo 2"/>
              </a:rPr>
              <a:t>Любое юр лицо/ИП без сотрудников, но обрабатывающие персональные данные физических лиц (потенциальные клиенты, посетители сайта, контактные лица контрагентов и проче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1400" spc="-1" strike="noStrike">
                <a:solidFill>
                  <a:srgbClr val="5f0000"/>
                </a:solidFill>
                <a:latin typeface="Calibri"/>
                <a:ea typeface="Exo 2"/>
              </a:rPr>
              <a:t>Самозанятые и физические лица – если собирают и обрабатывают персональные данные с помощью средств авто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900" spc="-1" strike="noStrike">
                <a:solidFill>
                  <a:srgbClr val="5f0000"/>
                </a:solidFill>
                <a:latin typeface="Calibri"/>
                <a:ea typeface="Exo 2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то является операто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Персональных данны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08" name="Прямоугольник 9"/>
          <p:cNvSpPr/>
          <p:nvPr/>
        </p:nvSpPr>
        <p:spPr>
          <a:xfrm>
            <a:off x="575640" y="6094080"/>
            <a:ext cx="7056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: Добрый день! Что нужно для соблюдения закона в организации, в которой не используются ПД (только сотрудников, необходимые для кадровых документов и для сдачи отчетности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431640" y="1377720"/>
            <a:ext cx="8189640" cy="41698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52" name="Прямоугольник 17"/>
          <p:cNvSpPr/>
          <p:nvPr/>
        </p:nvSpPr>
        <p:spPr>
          <a:xfrm>
            <a:off x="2650320" y="225360"/>
            <a:ext cx="3511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Как подготовить документы Л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359640" y="5986080"/>
            <a:ext cx="802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ример готового документа – распечатываете, утверждаете, подписываете и работае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0"/>
          <p:cNvSpPr/>
          <p:nvPr/>
        </p:nvSpPr>
        <p:spPr>
          <a:xfrm>
            <a:off x="467640" y="909360"/>
            <a:ext cx="81910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1" lang="ru-RU" sz="1500" spc="-1" strike="noStrike">
                <a:solidFill>
                  <a:srgbClr val="282828"/>
                </a:solidFill>
                <a:latin typeface="Inter"/>
                <a:ea typeface="Inter Bold"/>
              </a:rPr>
              <a:t>Профилактический визит – проверяют все ЛН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13"/>
          <p:cNvSpPr/>
          <p:nvPr/>
        </p:nvSpPr>
        <p:spPr>
          <a:xfrm>
            <a:off x="577800" y="4268160"/>
            <a:ext cx="315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1" lang="en-US" sz="1700" spc="-1" strike="noStrike">
              <a:solidFill>
                <a:srgbClr val="008000"/>
              </a:solidFill>
              <a:latin typeface="Inter"/>
            </a:endParaRPr>
          </a:p>
        </p:txBody>
      </p:sp>
      <p:sp>
        <p:nvSpPr>
          <p:cNvPr id="356" name="Прямоугольник 11"/>
          <p:cNvSpPr/>
          <p:nvPr/>
        </p:nvSpPr>
        <p:spPr>
          <a:xfrm>
            <a:off x="2649960" y="225360"/>
            <a:ext cx="3361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Проверки РКН и что проверя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6"/>
          <p:cNvSpPr/>
          <p:nvPr/>
        </p:nvSpPr>
        <p:spPr>
          <a:xfrm>
            <a:off x="683640" y="1690200"/>
            <a:ext cx="770436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200000"/>
              </a:lnSpc>
              <a:buClr>
                <a:srgbClr val="292929"/>
              </a:buClr>
              <a:buFont typeface="Wingdings" charset="2"/>
              <a:buChar char="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дата начала обработки 202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200000"/>
              </a:lnSpc>
              <a:buClr>
                <a:srgbClr val="292929"/>
              </a:buClr>
              <a:buFont typeface="Wingdings" charset="2"/>
              <a:buChar char="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роверка локальных нормативных актов требования законодательства за обработкой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200000"/>
              </a:lnSpc>
              <a:buClr>
                <a:srgbClr val="292929"/>
              </a:buClr>
              <a:buFont typeface="Wingdings" charset="2"/>
              <a:buChar char="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срок проведения – 5 рабочих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200000"/>
              </a:lnSpc>
              <a:buClr>
                <a:srgbClr val="292929"/>
              </a:buClr>
              <a:buFont typeface="Wingdings" charset="2"/>
              <a:buChar char="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раво отказаться от проведения ПВ (ч. 6 ст. 52 Закона № 248-Ф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200000"/>
              </a:lnSpc>
              <a:buClr>
                <a:srgbClr val="292929"/>
              </a:buClr>
              <a:buFont typeface="Wingdings" charset="2"/>
              <a:buChar char="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о результатам проведения ПВ выдаются </a:t>
            </a:r>
            <a:r>
              <a:rPr b="0" i="1" lang="ru-RU" sz="1400" spc="-1" strike="noStrike" u="sng">
                <a:solidFill>
                  <a:srgbClr val="292929"/>
                </a:solidFill>
                <a:uFillTx/>
                <a:latin typeface="Arial"/>
              </a:rPr>
              <a:t>РЕКОМЕНД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0"/>
          <p:cNvSpPr/>
          <p:nvPr/>
        </p:nvSpPr>
        <p:spPr>
          <a:xfrm>
            <a:off x="467640" y="909360"/>
            <a:ext cx="81910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lnSpc>
                <a:spcPct val="100000"/>
              </a:lnSpc>
            </a:pPr>
            <a:r>
              <a:rPr b="1" lang="ru-RU" sz="1500" spc="-1" strike="noStrike">
                <a:solidFill>
                  <a:srgbClr val="282828"/>
                </a:solidFill>
                <a:latin typeface="Inter"/>
                <a:ea typeface="Inter Bold"/>
              </a:rPr>
              <a:t>2. Проверки сайтов компаний – выборочно проверяют сайты компаний, где есть формы сбора персональных да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hape 4"/>
          <p:cNvSpPr/>
          <p:nvPr/>
        </p:nvSpPr>
        <p:spPr>
          <a:xfrm>
            <a:off x="467640" y="2648520"/>
            <a:ext cx="8453880" cy="2581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8"/>
          <p:cNvSpPr/>
          <p:nvPr/>
        </p:nvSpPr>
        <p:spPr>
          <a:xfrm>
            <a:off x="735840" y="3104280"/>
            <a:ext cx="5513760" cy="20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Проверяют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Наличие документа Политика в области обработки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Наличие правильных ссылок и правильного документа Согласие на обработку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Наличие сервисов аналитики Яндекс и </a:t>
            </a:r>
            <a:r>
              <a:rPr b="0" lang="en-US" sz="1300" spc="-1" strike="noStrike">
                <a:solidFill>
                  <a:srgbClr val="282828"/>
                </a:solidFill>
                <a:latin typeface="Inter"/>
                <a:ea typeface="Inter Bold"/>
              </a:rPr>
              <a:t>Goog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Наличие куки банне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Поданное уведомление в РК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13"/>
          <p:cNvSpPr/>
          <p:nvPr/>
        </p:nvSpPr>
        <p:spPr>
          <a:xfrm>
            <a:off x="577800" y="4268160"/>
            <a:ext cx="315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1" lang="en-US" sz="1700" spc="-1" strike="noStrike">
              <a:solidFill>
                <a:srgbClr val="008000"/>
              </a:solidFill>
              <a:latin typeface="Inter"/>
            </a:endParaRPr>
          </a:p>
        </p:txBody>
      </p:sp>
      <p:sp>
        <p:nvSpPr>
          <p:cNvPr id="363" name="Прямоугольник 11"/>
          <p:cNvSpPr/>
          <p:nvPr/>
        </p:nvSpPr>
        <p:spPr>
          <a:xfrm>
            <a:off x="2649960" y="225360"/>
            <a:ext cx="3361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Проверки РКН и что проверя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73640" y="306360"/>
            <a:ext cx="3996000" cy="196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Пример нарушения</a:t>
            </a:r>
            <a:endParaRPr b="0" lang="ru-RU" sz="1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66" name="Рисунок 4" descr=""/>
          <p:cNvPicPr/>
          <p:nvPr/>
        </p:nvPicPr>
        <p:blipFill>
          <a:blip r:embed="rId1"/>
          <a:stretch/>
        </p:blipFill>
        <p:spPr>
          <a:xfrm>
            <a:off x="786960" y="1566000"/>
            <a:ext cx="7569720" cy="40597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367" name="Picture 9" descr=""/>
          <p:cNvPicPr/>
          <p:nvPr/>
        </p:nvPicPr>
        <p:blipFill>
          <a:blip r:embed="rId2"/>
          <a:stretch/>
        </p:blipFill>
        <p:spPr>
          <a:xfrm>
            <a:off x="7556400" y="18252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68" name="Прямоугольник 7"/>
          <p:cNvSpPr/>
          <p:nvPr/>
        </p:nvSpPr>
        <p:spPr>
          <a:xfrm>
            <a:off x="800280" y="1017360"/>
            <a:ext cx="3023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282828"/>
                </a:solidFill>
                <a:latin typeface="Arial"/>
                <a:ea typeface="Inter Bold"/>
              </a:rPr>
              <a:t>Нет ссылки на документ Соглас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FDF17-1F8E-4EDE-9807-1BA0EBD229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4" descr=""/>
          <p:cNvPicPr/>
          <p:nvPr/>
        </p:nvPicPr>
        <p:blipFill>
          <a:blip r:embed="rId1"/>
          <a:stretch/>
        </p:blipFill>
        <p:spPr>
          <a:xfrm>
            <a:off x="287640" y="1665720"/>
            <a:ext cx="8538120" cy="4402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370" name="Picture 9" descr=""/>
          <p:cNvPicPr/>
          <p:nvPr/>
        </p:nvPicPr>
        <p:blipFill>
          <a:blip r:embed="rId2"/>
          <a:stretch/>
        </p:blipFill>
        <p:spPr>
          <a:xfrm>
            <a:off x="7556400" y="18252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71" name="Заголовок 1"/>
          <p:cNvSpPr/>
          <p:nvPr/>
        </p:nvSpPr>
        <p:spPr>
          <a:xfrm>
            <a:off x="2573640" y="306360"/>
            <a:ext cx="39960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Пример соблюдения треб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806040" y="1017360"/>
            <a:ext cx="5076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282828"/>
                </a:solidFill>
                <a:latin typeface="Arial"/>
                <a:ea typeface="Inter Bold"/>
              </a:rPr>
              <a:t>Есть предупреждающий баннер о наличии файлов </a:t>
            </a:r>
            <a:r>
              <a:rPr b="0" lang="en-US" sz="1400" spc="-1" strike="noStrike">
                <a:solidFill>
                  <a:srgbClr val="282828"/>
                </a:solidFill>
                <a:latin typeface="Arial"/>
                <a:ea typeface="Inter Bold"/>
              </a:rPr>
              <a:t>coo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6B25-9890-4A64-A71A-B4160DA491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Заголовок 1"/>
          <p:cNvSpPr/>
          <p:nvPr/>
        </p:nvSpPr>
        <p:spPr>
          <a:xfrm>
            <a:off x="2573640" y="306360"/>
            <a:ext cx="39960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Нарушение на сай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7556400" y="23580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75" name="Прямоугольник 7"/>
          <p:cNvSpPr/>
          <p:nvPr/>
        </p:nvSpPr>
        <p:spPr>
          <a:xfrm>
            <a:off x="755640" y="1665720"/>
            <a:ext cx="727236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 сайте размещены фото сотрудников с ФИО, должностью и отзывом о работодат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еобходимо подписать с сотрудником Согласие на распространение его данных: перечислить все данные, которые будете размещать; написать на каком ресурсе будете размещать дан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Форму Согласия можно посмотреть на сайте РК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D597-BE86-4234-8F0A-604A7D25DE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6"/>
          <p:cNvSpPr/>
          <p:nvPr/>
        </p:nvSpPr>
        <p:spPr>
          <a:xfrm>
            <a:off x="2286000" y="1023480"/>
            <a:ext cx="457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1439640" y="1485720"/>
            <a:ext cx="621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Нужно больше информации по персональным данным, следите за новостями и анонсами мероприятий фирмы 1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3294000" y="5209920"/>
            <a:ext cx="2556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Савукова Ната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infosec@1c.ru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sale@152doc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2"/>
          <a:stretch/>
        </p:blipFill>
        <p:spPr>
          <a:xfrm>
            <a:off x="2807640" y="2817720"/>
            <a:ext cx="3276000" cy="1442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Заголовок 1"/>
          <p:cNvSpPr/>
          <p:nvPr/>
        </p:nvSpPr>
        <p:spPr>
          <a:xfrm>
            <a:off x="251640" y="2282040"/>
            <a:ext cx="8055000" cy="3585960"/>
          </a:xfrm>
          <a:prstGeom prst="roundRect">
            <a:avLst>
              <a:gd name="adj" fmla="val 10284"/>
            </a:avLst>
          </a:prstGeom>
          <a:noFill/>
          <a:ln w="0">
            <a:solidFill>
              <a:srgbClr val="ffffff">
                <a:lumMod val="9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360000" rIns="180000" tIns="180000" bIns="180000" anchor="ctr">
            <a:spAutoFit/>
          </a:bodyPr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Назначить Ответственного за работу с персональными данными </a:t>
            </a:r>
            <a:r>
              <a:rPr b="0" lang="ru-RU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- назначается один на всю компанию! Назначается приказом! Контакты указываются в Уведомлении в РКН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Издать документы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, определяющие политику оператора в отношении обработки персональных данных - опубликовать или </a:t>
            </a:r>
            <a:r>
              <a:rPr b="0" lang="ru-RU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 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иным образом обеспечить неограниченный доступ к документу, определяющему его политику в отношении обработки персональных данных, к сведениям о реализуемых требованиях к защите персональных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Издать локально-нормативны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е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 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Осуществлять внутренний контроль 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и (или) аудит соответствия обработки персональных данных ФЗ «О персональных данных» и локальным актам опера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Провести оценку вреда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, который может быть причинен субъектам персональных данных в случае нарушения положений </a:t>
            </a:r>
            <a:r>
              <a:rPr b="0" lang="ru-RU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 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ФЗ «О персональных данны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Google Shape;158;p27"/>
          <p:cNvSpPr/>
          <p:nvPr/>
        </p:nvSpPr>
        <p:spPr>
          <a:xfrm>
            <a:off x="467640" y="873360"/>
            <a:ext cx="78472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75"/>
              </a:lnSpc>
            </a:pPr>
            <a:r>
              <a:rPr b="1" lang="en-US" sz="2400" spc="-1" strike="noStrike">
                <a:solidFill>
                  <a:srgbClr val="373737"/>
                </a:solidFill>
                <a:latin typeface="Arial"/>
                <a:ea typeface="Calibri Bold"/>
              </a:rPr>
              <a:t>Оператор обязан</a:t>
            </a:r>
            <a:r>
              <a:rPr b="1" lang="ru-RU" sz="2400" spc="-1" strike="noStrike">
                <a:solidFill>
                  <a:srgbClr val="373737"/>
                </a:solidFill>
                <a:latin typeface="Arial"/>
                <a:ea typeface="Calibri Bold"/>
              </a:rPr>
              <a:t> (пп 1119, 152 ФЗ)</a:t>
            </a:r>
            <a:r>
              <a:rPr b="1" lang="en-US" sz="2400" spc="-1" strike="noStrike">
                <a:solidFill>
                  <a:srgbClr val="373737"/>
                </a:solidFill>
                <a:latin typeface="Arial"/>
                <a:ea typeface="Calibri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2"/>
          <p:cNvSpPr/>
          <p:nvPr/>
        </p:nvSpPr>
        <p:spPr>
          <a:xfrm>
            <a:off x="848880" y="4306320"/>
            <a:ext cx="15601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1" lang="en-US" sz="1200" spc="-1" strike="noStrike">
              <a:solidFill>
                <a:srgbClr val="373737"/>
              </a:solidFill>
              <a:latin typeface="Calibri"/>
              <a:ea typeface="Calibri Regular"/>
            </a:endParaRPr>
          </a:p>
        </p:txBody>
      </p:sp>
      <p:sp>
        <p:nvSpPr>
          <p:cNvPr id="212" name="Text 5"/>
          <p:cNvSpPr/>
          <p:nvPr/>
        </p:nvSpPr>
        <p:spPr>
          <a:xfrm>
            <a:off x="1228680" y="9184320"/>
            <a:ext cx="5057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3" name="Text 0"/>
          <p:cNvSpPr/>
          <p:nvPr/>
        </p:nvSpPr>
        <p:spPr>
          <a:xfrm>
            <a:off x="2627640" y="225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Памятка оператора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Заголовок 1"/>
          <p:cNvSpPr/>
          <p:nvPr/>
        </p:nvSpPr>
        <p:spPr>
          <a:xfrm>
            <a:off x="251640" y="2427840"/>
            <a:ext cx="8055000" cy="3294360"/>
          </a:xfrm>
          <a:prstGeom prst="roundRect">
            <a:avLst>
              <a:gd name="adj" fmla="val 10284"/>
            </a:avLst>
          </a:prstGeom>
          <a:noFill/>
          <a:ln w="0">
            <a:solidFill>
              <a:srgbClr val="ffffff">
                <a:lumMod val="9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360000" rIns="180000" tIns="180000" bIns="180000" anchor="ctr">
            <a:spAutoFit/>
          </a:bodyPr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 startAt="6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Ознакомить работников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, непосредственно «Осуществляющих обработку персональных данных, с положениями законодательства РФ» о персональных данных, в том числе требованиями к защите персональных данных, документами, определяющими политику оператора в отношении обработки персональных данных, локальными актами по вопросам обработки персональных данных, и (или) </a:t>
            </a:r>
            <a:r>
              <a:rPr b="1" lang="en-US" sz="1200" spc="-1" strike="noStrike">
                <a:solidFill>
                  <a:srgbClr val="2065d1"/>
                </a:solidFill>
                <a:latin typeface="Arial"/>
                <a:ea typeface="Calibri Bold"/>
              </a:rPr>
              <a:t>провести обучение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 указанных рабо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 startAt="6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Подать уведомление в Роскомнадзор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Calibri Bold"/>
              </a:rPr>
              <a:t> (если подавали до 1 февраля 2023, то нужно подать новое уведомление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 Bold"/>
              </a:rPr>
              <a:t>) Уведомление подает головная компания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Calibri Bold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 startAt="6"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Подавать уведомления об изменениях в работе с перс данными (Ответственный, Цели, категории ПДн, Субъекты Пдн и пр.)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 Bold"/>
              </a:rPr>
              <a:t>не позднее 15-го числа месяца, следующего за месяцем, в котором возникли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Google Shape;158;p27"/>
          <p:cNvSpPr/>
          <p:nvPr/>
        </p:nvSpPr>
        <p:spPr>
          <a:xfrm>
            <a:off x="467640" y="873360"/>
            <a:ext cx="78472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75"/>
              </a:lnSpc>
            </a:pPr>
            <a:r>
              <a:rPr b="1" lang="en-US" sz="2400" spc="-1" strike="noStrike">
                <a:solidFill>
                  <a:srgbClr val="373737"/>
                </a:solidFill>
                <a:latin typeface="Arial"/>
                <a:ea typeface="Calibri Bold"/>
              </a:rPr>
              <a:t>Оператор обязан</a:t>
            </a:r>
            <a:r>
              <a:rPr b="1" lang="ru-RU" sz="2400" spc="-1" strike="noStrike">
                <a:solidFill>
                  <a:srgbClr val="373737"/>
                </a:solidFill>
                <a:latin typeface="Arial"/>
                <a:ea typeface="Calibri Bold"/>
              </a:rPr>
              <a:t> (пп 1911, 152 ФЗ)</a:t>
            </a:r>
            <a:r>
              <a:rPr b="1" lang="en-US" sz="2400" spc="-1" strike="noStrike">
                <a:solidFill>
                  <a:srgbClr val="373737"/>
                </a:solidFill>
                <a:latin typeface="Arial"/>
                <a:ea typeface="Calibri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2"/>
          <p:cNvSpPr/>
          <p:nvPr/>
        </p:nvSpPr>
        <p:spPr>
          <a:xfrm>
            <a:off x="848880" y="4306320"/>
            <a:ext cx="15601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1" lang="en-US" sz="1200" spc="-1" strike="noStrike">
              <a:solidFill>
                <a:srgbClr val="373737"/>
              </a:solidFill>
              <a:latin typeface="Calibri"/>
              <a:ea typeface="Calibri Regular"/>
            </a:endParaRPr>
          </a:p>
        </p:txBody>
      </p:sp>
      <p:sp>
        <p:nvSpPr>
          <p:cNvPr id="218" name="Text 5"/>
          <p:cNvSpPr/>
          <p:nvPr/>
        </p:nvSpPr>
        <p:spPr>
          <a:xfrm>
            <a:off x="1228680" y="9184320"/>
            <a:ext cx="5057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9" name="Text 0"/>
          <p:cNvSpPr/>
          <p:nvPr/>
        </p:nvSpPr>
        <p:spPr>
          <a:xfrm>
            <a:off x="2627640" y="225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Памятка оператора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395640" y="1209960"/>
            <a:ext cx="8496000" cy="48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Акт оценки вреда субъектам ПДн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базах данны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безопасности материальных носителей ПДн перечень мест хранения матери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носителей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вводе в действие комплекта ОР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вводе в эксплуатацию ИСПДн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комиссии по уничтожению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назначении администратора безопас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назначении ответственного за организацию обработки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предоставлении доступа к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создании комиссии по определению уровня защищенности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обеспечении безопасности помещений размещения технических средств удаленного досту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к ИСПДн других опера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оценке вреда, который может быть причинен субъектам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границ контролируемой зоны и перечней помещений где размещены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матриц доступа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лиц, допущенных к обработке в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лиц доступ которых к персональным данным обрабатываемым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ИСПДн других опера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лиц, имеющих право доступа в помещения с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ПДн в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ПДн обрабатываемых на бумажных носител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работников, которым разрешены действия по внесению изменений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конфигурацию ИСПДн и С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олитики в отношении обработки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7"/>
          <p:cNvSpPr/>
          <p:nvPr/>
        </p:nvSpPr>
        <p:spPr>
          <a:xfrm>
            <a:off x="2681640" y="225360"/>
            <a:ext cx="39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Список ЛНА, которые проверяет РК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25" name="Rectangle 1"/>
          <p:cNvSpPr/>
          <p:nvPr/>
        </p:nvSpPr>
        <p:spPr>
          <a:xfrm>
            <a:off x="458280" y="1253520"/>
            <a:ext cx="6683400" cy="337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 правила обработки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2 правила рассмотрения запросов субъектов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3 правила осуществления внутреннего 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4 план внутреннего контроля обработки и защиты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5 план мероприятий по защите ПДн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6 инструкция о порядке взаимодействия с Роскомнадзо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7 инструкция пользователя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8 положение по защите ПДн обрабатываемых в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9 инструкция по идентификации и аутентификации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0 инструкция по управлению доступом к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1 инструкция по защите машинных носителей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2 инструкция по управлению событиями ИБ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3 инструкция по антивирусной защите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4 инструкция по контролю (анализу) защищенности ПДн в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5 инструкция по защите технических сред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6 технологический процесс обработки и защиты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7 порядок доступа в помещения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8 порядок по управлению изменениями в конфигурации ИСПДн и СЗ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2681640" y="225360"/>
            <a:ext cx="39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Список ЛНА, которые проверяет РК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4"/>
          <p:cNvSpPr/>
          <p:nvPr/>
        </p:nvSpPr>
        <p:spPr>
          <a:xfrm>
            <a:off x="503640" y="5482080"/>
            <a:ext cx="7056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Шаблонов в открытом доступе нет, только рекомендации на сайте Роскомнадз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Image 1" descr="preencoded.png"/>
          <p:cNvPicPr/>
          <p:nvPr/>
        </p:nvPicPr>
        <p:blipFill>
          <a:blip r:embed="rId1"/>
          <a:stretch/>
        </p:blipFill>
        <p:spPr>
          <a:xfrm>
            <a:off x="476280" y="2458080"/>
            <a:ext cx="3483720" cy="3835800"/>
          </a:xfrm>
          <a:prstGeom prst="rect">
            <a:avLst/>
          </a:prstGeom>
          <a:ln w="0">
            <a:noFill/>
          </a:ln>
        </p:spPr>
      </p:pic>
      <p:pic>
        <p:nvPicPr>
          <p:cNvPr id="229" name="Image 2" descr="preencoded.png"/>
          <p:cNvPicPr/>
          <p:nvPr/>
        </p:nvPicPr>
        <p:blipFill>
          <a:blip r:embed="rId2"/>
          <a:stretch/>
        </p:blipFill>
        <p:spPr>
          <a:xfrm>
            <a:off x="4554360" y="2458080"/>
            <a:ext cx="3520080" cy="3835800"/>
          </a:xfrm>
          <a:prstGeom prst="rect">
            <a:avLst/>
          </a:prstGeom>
          <a:ln w="0">
            <a:noFill/>
          </a:ln>
        </p:spPr>
      </p:pic>
      <p:pic>
        <p:nvPicPr>
          <p:cNvPr id="230" name="Image 5" descr="preencoded.png"/>
          <p:cNvPicPr/>
          <p:nvPr/>
        </p:nvPicPr>
        <p:blipFill>
          <a:blip r:embed="rId3"/>
          <a:stretch/>
        </p:blipFill>
        <p:spPr>
          <a:xfrm>
            <a:off x="1295280" y="6072120"/>
            <a:ext cx="432000" cy="444240"/>
          </a:xfrm>
          <a:prstGeom prst="rect">
            <a:avLst/>
          </a:prstGeom>
          <a:ln w="0">
            <a:noFill/>
          </a:ln>
        </p:spPr>
      </p:pic>
      <p:pic>
        <p:nvPicPr>
          <p:cNvPr id="231" name="Image 6" descr="preencoded.png"/>
          <p:cNvPicPr/>
          <p:nvPr/>
        </p:nvPicPr>
        <p:blipFill>
          <a:blip r:embed="rId4"/>
          <a:stretch/>
        </p:blipFill>
        <p:spPr>
          <a:xfrm>
            <a:off x="6804360" y="6072120"/>
            <a:ext cx="446040" cy="444240"/>
          </a:xfrm>
          <a:prstGeom prst="rect">
            <a:avLst/>
          </a:prstGeom>
          <a:ln w="0">
            <a:noFill/>
          </a:ln>
        </p:spPr>
      </p:pic>
      <p:sp>
        <p:nvSpPr>
          <p:cNvPr id="232" name="Text 1"/>
          <p:cNvSpPr/>
          <p:nvPr/>
        </p:nvSpPr>
        <p:spPr>
          <a:xfrm>
            <a:off x="431640" y="1305720"/>
            <a:ext cx="4928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 Политику рекомендуется включить следующие структурные компонент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2"/>
          <p:cNvSpPr/>
          <p:nvPr/>
        </p:nvSpPr>
        <p:spPr>
          <a:xfrm>
            <a:off x="585720" y="2674080"/>
            <a:ext cx="23655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Общие полож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3"/>
          <p:cNvSpPr/>
          <p:nvPr/>
        </p:nvSpPr>
        <p:spPr>
          <a:xfrm>
            <a:off x="4690800" y="2674080"/>
            <a:ext cx="3035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Цели сбора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9"/>
          <p:cNvSpPr/>
          <p:nvPr/>
        </p:nvSpPr>
        <p:spPr>
          <a:xfrm>
            <a:off x="4762080" y="3169440"/>
            <a:ext cx="300744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ечислите все Цели сбора данных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ридерживайтесь правила: Цель должна быть сформулирована коротко, четко и понятно. Нельзя объединять все цели сбора данных в одну цель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10"/>
          <p:cNvSpPr/>
          <p:nvPr/>
        </p:nvSpPr>
        <p:spPr>
          <a:xfrm>
            <a:off x="585720" y="2985120"/>
            <a:ext cx="3160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В указанном разделе рекомендуется описат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назначение Политики, а также включить основные понятия, используемые в ней (обработка персональных данных, оператор, субъект персональных данных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конфиденциальность персональных данных и т.д.)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ечислить основные права и обязанности оператор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и субъекта (ов) 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Обязательно укажите название юридического лица/ИП/Самозанятый/ФизЛицо, которому эта политика принадлежит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11"/>
          <p:cNvSpPr/>
          <p:nvPr/>
        </p:nvSpPr>
        <p:spPr>
          <a:xfrm>
            <a:off x="1450440" y="6206400"/>
            <a:ext cx="1688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12"/>
          <p:cNvSpPr/>
          <p:nvPr/>
        </p:nvSpPr>
        <p:spPr>
          <a:xfrm>
            <a:off x="6985800" y="6206400"/>
            <a:ext cx="1422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"/>
          <p:cNvPicPr/>
          <p:nvPr/>
        </p:nvPicPr>
        <p:blipFill>
          <a:blip r:embed="rId5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40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mage 4" descr="preencoded.png"/>
          <p:cNvPicPr/>
          <p:nvPr/>
        </p:nvPicPr>
        <p:blipFill>
          <a:blip r:embed="rId1"/>
          <a:stretch/>
        </p:blipFill>
        <p:spPr>
          <a:xfrm>
            <a:off x="4904640" y="2458080"/>
            <a:ext cx="3762720" cy="3835800"/>
          </a:xfrm>
          <a:prstGeom prst="rect">
            <a:avLst/>
          </a:prstGeom>
          <a:ln w="0">
            <a:noFill/>
          </a:ln>
        </p:spPr>
      </p:pic>
      <p:pic>
        <p:nvPicPr>
          <p:cNvPr id="242" name="Image 8" descr="preencoded.png"/>
          <p:cNvPicPr/>
          <p:nvPr/>
        </p:nvPicPr>
        <p:blipFill>
          <a:blip r:embed="rId2"/>
          <a:stretch/>
        </p:blipFill>
        <p:spPr>
          <a:xfrm>
            <a:off x="7416360" y="6072120"/>
            <a:ext cx="427320" cy="444240"/>
          </a:xfrm>
          <a:prstGeom prst="rect">
            <a:avLst/>
          </a:prstGeom>
          <a:ln w="0">
            <a:noFill/>
          </a:ln>
        </p:spPr>
      </p:pic>
      <p:sp>
        <p:nvSpPr>
          <p:cNvPr id="243" name="Text 1"/>
          <p:cNvSpPr/>
          <p:nvPr/>
        </p:nvSpPr>
        <p:spPr>
          <a:xfrm>
            <a:off x="467640" y="1125360"/>
            <a:ext cx="4928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 Политику рекомендуется включить следующие структурные компонент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5"/>
          <p:cNvSpPr/>
          <p:nvPr/>
        </p:nvSpPr>
        <p:spPr>
          <a:xfrm>
            <a:off x="5072040" y="2674080"/>
            <a:ext cx="3247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Объем и категории</a:t>
            </a: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Bold"/>
              </a:rPr>
              <a:t> </a:t>
            </a: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атываемы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7"/>
          <p:cNvSpPr/>
          <p:nvPr/>
        </p:nvSpPr>
        <p:spPr>
          <a:xfrm>
            <a:off x="5076000" y="3249720"/>
            <a:ext cx="3499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Необходимо обеспечить соответствие объема обрабатываемых персональных данных изначально определенным целям обработки. В рамках каждой из категорий субъектов и применительно к конкретным целям рекомендуется перечислить все обрабатываемые оператором персональные данные, а также отдельно описать все случаи обработки специальных категорий 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Допускается не указывать категории в Политике, но предоставлять информацию по первому требовани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римечание:  к категориям персональных данных относятся: ФИО, паспортные данные, дата рождения и прочее. Более полный список категорий вы можете посмотреть на сайте Роскомнадзора в Форме уведомления в Роскомнадзо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14"/>
          <p:cNvSpPr/>
          <p:nvPr/>
        </p:nvSpPr>
        <p:spPr>
          <a:xfrm>
            <a:off x="7560360" y="6167160"/>
            <a:ext cx="1436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Image 3" descr="preencoded.png"/>
          <p:cNvPicPr/>
          <p:nvPr/>
        </p:nvPicPr>
        <p:blipFill>
          <a:blip r:embed="rId3"/>
          <a:stretch/>
        </p:blipFill>
        <p:spPr>
          <a:xfrm>
            <a:off x="466560" y="2458080"/>
            <a:ext cx="4069440" cy="3835800"/>
          </a:xfrm>
          <a:prstGeom prst="rect">
            <a:avLst/>
          </a:prstGeom>
          <a:ln w="0">
            <a:noFill/>
          </a:ln>
        </p:spPr>
      </p:pic>
      <p:sp>
        <p:nvSpPr>
          <p:cNvPr id="248" name="Text 4"/>
          <p:cNvSpPr/>
          <p:nvPr/>
        </p:nvSpPr>
        <p:spPr>
          <a:xfrm>
            <a:off x="576360" y="2674080"/>
            <a:ext cx="35888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Правовые основания</a:t>
            </a: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Bold"/>
              </a:rPr>
              <a:t> </a:t>
            </a: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и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8"/>
          <p:cNvSpPr/>
          <p:nvPr/>
        </p:nvSpPr>
        <p:spPr>
          <a:xfrm>
            <a:off x="575640" y="3249720"/>
            <a:ext cx="3520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Обработка персональных данных требует законного основания, которое определяется согласно совокупности правовых документов и нормативных актов, соблюдение которых является обязательным для оператора при проведении такой обработк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римечание: 152 ФЗ О защите персональных данных не является правовым основани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Image 8" descr="preencoded.png"/>
          <p:cNvPicPr/>
          <p:nvPr/>
        </p:nvPicPr>
        <p:blipFill>
          <a:blip r:embed="rId4"/>
          <a:stretch/>
        </p:blipFill>
        <p:spPr>
          <a:xfrm>
            <a:off x="919440" y="6078240"/>
            <a:ext cx="447840" cy="444240"/>
          </a:xfrm>
          <a:prstGeom prst="rect">
            <a:avLst/>
          </a:prstGeom>
          <a:ln w="0">
            <a:noFill/>
          </a:ln>
        </p:spPr>
      </p:pic>
      <p:sp>
        <p:nvSpPr>
          <p:cNvPr id="251" name="Text 14"/>
          <p:cNvSpPr/>
          <p:nvPr/>
        </p:nvSpPr>
        <p:spPr>
          <a:xfrm>
            <a:off x="1079640" y="6202080"/>
            <a:ext cx="1436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5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53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259640" y="909360"/>
            <a:ext cx="6336360" cy="1124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1259640" y="2169720"/>
            <a:ext cx="6408360" cy="1993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1295640" y="4329720"/>
            <a:ext cx="6372360" cy="24624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57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"/>
          <p:cNvPicPr/>
          <p:nvPr/>
        </p:nvPicPr>
        <p:blipFill>
          <a:blip r:embed="rId4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914_шаблон">
  <a:themeElements>
    <a:clrScheme name="914_шаблон 1">
      <a:dk1>
        <a:srgbClr val="5f0000"/>
      </a:dk1>
      <a:lt1>
        <a:srgbClr val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914_шаблон">
  <a:themeElements>
    <a:clrScheme name="914_шаблон 1">
      <a:dk1>
        <a:srgbClr val="5f0000"/>
      </a:dk1>
      <a:lt1>
        <a:srgbClr val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914_шаблон">
  <a:themeElements>
    <a:clrScheme name="914_шаблон 1">
      <a:dk1>
        <a:srgbClr val="5f0000"/>
      </a:dk1>
      <a:lt1>
        <a:srgbClr val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914_шаблон">
  <a:themeElements>
    <a:clrScheme name="914_шаблон 1">
      <a:dk1>
        <a:srgbClr val="5f0000"/>
      </a:dk1>
      <a:lt1>
        <a:srgbClr val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0909_шаблон</Template>
  <TotalTime>714947</TotalTime>
  <Application>LibreOffice/7.4.7.2$Linux_X86_64 LibreOffice_project/40$Build-2</Application>
  <AppVersion>15.0000</AppVersion>
  <Words>1999</Words>
  <Paragraphs>225</Paragraphs>
  <Company>1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0</dc:creator>
  <dc:description/>
  <dc:language>en-US</dc:language>
  <cp:lastModifiedBy>sawukova_nv</cp:lastModifiedBy>
  <dcterms:modified xsi:type="dcterms:W3CDTF">2023-09-11T14:49:37Z</dcterms:modified>
  <cp:revision>18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Произвольный</vt:lpwstr>
  </property>
  <property fmtid="{D5CDD505-2E9C-101B-9397-08002B2CF9AE}" pid="4" name="Slides">
    <vt:r8>26</vt:r8>
  </property>
</Properties>
</file>