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D2F-0CFD-4FFE-AE43-DFABBB32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9E7-A6FE-42BE-BC46-9604D36F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BC9-07CD-4790-A5A1-38A39EEC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D26-7412-4350-B787-EA92DF7E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68D7-EFBD-42AE-92CD-5F0524B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E034-58AC-49B7-82B5-E86A8CC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D40C-D9DC-47A7-9D73-785065B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2E98-4CCF-4CBF-8B78-B82DAF1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3F8-8224-4D51-B98E-C5E56165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735-C839-411D-8BF7-BD38CDC4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04D4-C05A-4675-AF7C-FE5949A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C2D-640B-4872-947F-004FB251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DA45-7821-48AE-ABC1-45DA4CB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0AF-D3A7-4BC6-B72B-FC510C3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D70-9CC5-4649-98EB-4E6257A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DC84-33AB-453C-9644-5DB62E8F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C64-2A72-4818-9024-CAD41C07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09E-9A7F-4E2B-860F-97694DDF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106-BFC6-48C8-92C8-6D1392C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A92-3345-4CCB-8D91-1372F45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0FF-39EC-4812-BA1E-107CE05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F66-8E23-4F25-83BF-A5F8211E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F37-678A-4B3A-A842-BD0BDCC3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AAD-2DC0-40B7-BF0C-C627A7C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8C44-116C-457C-8381-424475D839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7DFD-7636-4EF3-B353-4F94771016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оретико-практические основы развития физических качест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5229360"/>
            <a:ext cx="34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ыполнил: Радис Юмаг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ы воспитания сил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етод максимальных усили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предусматривает выполнение заданий, связанных с необходимостью преодоления максимального сопротивления (например, поднимание штанги предельного веса). Этот метод обеспечивает развитие способности к концентрации нервно-мышечных усилий, дает больший прирост силы, чем метод непредельных усилий. В работе с начинающими и детьми его применять не рекомендуется, но если возникла необходимость в его применении, то следует обеспечить строгий контроль за выполнением упражне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Метод непредельных усил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етод непредельных усил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усматривает использование непредельных отягощений с предельным числом повторений (до отказа). В зависимости от величины отягощения, недостигающего максимальной величины, и направленности в развитии силовых способностей используется строго нормированное количество повторений от 5—6 до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Метод динамических усили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Метод динамических усилий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Суть метода состоит в создании максимального силового напряжения посредством работы с непредельным отягощением с максимальной скоростью. Упражнение при этом выполняется с полной амплитудой. Применяют данный метод при развитии быстрой силы, т.е. способности к проявлению большой силы в условиях быстрых движ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8462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Ударный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» 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метод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дарный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усматривает выполнение специальных упражнений с мгновенным преодолением ударно воздействующего отягощения, которые направлены на увеличение мощности усилий. связанных с наиболее полной мобилизацией реактивных свойств мышц (например, спрыгивание с возвышения высотой 45— 75 см с последующим мгновенным выпрыгиванием вверх или прыжком в длину). После предварительного быстрого растягивания наблюдается более мощное сокращение мышц. Величина их сопроти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задается масс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бственного тела и высотой па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Метод статических (изометрических) усил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Метод статических (изометрических) усилий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В зависимости от задач, решаемых при воспитании силовых способностей, метод предполагает применение различных по величине изометрических напряжений. В том случае, когда стоит задача развить максимальну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сил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мышц, применяют изометрические напряжения 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80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% от максимума продолжительностью 4—б с и в 100% — 1—2 с. Если же стоит задача развития общей силы, используют изометрические напряжения в 60—80% от максимума продолжительностью 10—12 с в каждом повторении. Обычно на тренировке выполняется 3—4 упражнения по 5—6 повторений каждого, отдых между упражнениями 2 ми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Статодинам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татодинамический метод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ся последовательным сочетанием в упражнении двух режимов работы мышц — изометрического и динамического. Для воспитания силовых способностей применяют 2—6-секундные изометрические упражнения с усилием в 80—90% от максимума с поезедующей динамической работой взрывного характера со значительным снижением отягощения (2—3 повторения в подходе, 2—3 серии, отдых 2—4 мин между сериями). Применение этого метода целесообразно, если необходимо воспитывать специальные силовые способности именно при вариативном режиме работы мышц в соревновательных упражн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 круговой трениров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вает комплексное воздействие на различные мышечные группы. Упражнения проводятся по станциям и подбираются таким образом, чтобы каждая последующая серия включала в работу новую группу мышц. Число упражнений, воздействующих на разные группы мышц, пр&lt; юлжптельность их выполнения на станциях зависят от задач, реш 1емых в тренировочном процессе, возраста, пола и подготовленности занимающихся. Комплекс упражнений с использованием непредельных отягощений повторяют 1—3 раза по кругу. Отдых между каждым повторением комплекса должен состаштять не менее 2—3 мин. в это время выпо шяются упражнения на расслабл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9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Методики воспитания силовых способност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зависимости от темпа выполнения и числа повторений упражнения, величины отягощения, а также от режима работы мышц и количества подходов с воздействием на одну и ту же группу мышц решают задачи по воспитанию различных видов силовых спосо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нтрольные упражнения (тесты)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для определения уровня развития силовых способност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практике физического воспитания количественно-силовые возможности оцениваются двумя способам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с помощью измерительных устройств динамографов, те изометрических силоизмерительных устройст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805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с помощью специальных контрольных упражнений, тестов на сил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67640" y="3213000"/>
          <a:ext cx="9064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3213000"/>
                    <a:ext cx="9064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35640" y="4076640"/>
          <a:ext cx="14288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076640"/>
                    <a:ext cx="1428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67640" y="4941720"/>
          <a:ext cx="952560" cy="119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7640" y="4941720"/>
                    <a:ext cx="9525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35640" y="5300640"/>
          <a:ext cx="14857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5300640"/>
                    <a:ext cx="14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64000" y="2133720"/>
          <a:ext cx="213372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2133720"/>
                    <a:ext cx="2133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нятие о физических качеств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ими качествами принято называть врожденные (генетически унаследованные) морфофункцнональные качества, благодаря которым возможна физическая (материально выраженная) активность человека, получающая свое полное проявление в целесообразной двиг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основным физическим качествам относят мышечную силу, быстроту, выносливость, гибкость и ловк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ила — 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62440" y="2060640"/>
            <a:ext cx="2998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248360" cy="371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иловые способности — это комплекс различных проявлений человека в определенной двигательной деятельности, в основе которых лежит понятие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ила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».</a:t>
            </a:r>
            <a:br>
              <a:rPr sz="4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ассификация силовых способносте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890720"/>
            <a:ext cx="7682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Скоростно-силовые способности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характеризуются непредельными напряжениями мыши, проявляемыми с необходимой, часто максимальной мощностью в упражнениях, выполняемых со значительной скоростью, но не достигающей, как правило, предельной величины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2760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иловая выносливость — это способность противостоять утомлению, вызываемому относительно продолжительными мышечными напряжениями значительной величины.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8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иловая ловкость проявляется там, где есть сменный характер режима работы мышц, меняющиеся и непредвиденные ситуации деятельности (регби, борьба, хоккей с мячом и др.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61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пражнения с весом внешних предметов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штанги с набором дисков разного веса, разборные гантели, гири, набивные мячи, вес партнера и т.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отягощенные весом собственного те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мышечное напряжение создается за счет веса собственного тела (подтягивание в висе, отжимания в упоре, удержание равновесия в упоре, в вис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собственный вес отягощается весом внешних предметов (например, специальные пояса, манжет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собственный вес уменьшается за счет использования дополнительной опор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рные упражнения, в которых собственный вес увеличивается за счет инерции свободно падающего тела (например, прыжки с возвышения 25—70 см и более с мгновенным последующим выпрыгиванием вверх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пражнения с использованием тренажерных устройств общего тип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например, силовая скамья, силовая с анция, комплек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ниверсал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835560"/>
            <a:ext cx="767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редства воспитания сил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55:16Z</dcterms:created>
  <dc:creator>user</dc:creator>
  <dc:description/>
  <dc:language>en-US</dc:language>
  <cp:lastModifiedBy>user</cp:lastModifiedBy>
  <dcterms:modified xsi:type="dcterms:W3CDTF">2013-01-21T18:17:38Z</dcterms:modified>
  <cp:revision>12</cp:revision>
  <dc:subject/>
  <dc:title>Теоретико-практические основы развития физических качеств</dc:title>
</cp:coreProperties>
</file>