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9.jpeg" ContentType="image/jpeg"/>
  <Override PartName="/ppt/media/image15.png" ContentType="image/png"/>
  <Override PartName="/ppt/media/image5.jpeg" ContentType="image/jpeg"/>
  <Override PartName="/ppt/media/image14.png" ContentType="image/png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13.png" ContentType="image/png"/>
  <Override PartName="/ppt/media/image7.jpeg" ContentType="image/jpeg"/>
  <Override PartName="/ppt/media/image11.png" ContentType="image/png"/>
  <Override PartName="/ppt/media/image10.jpeg" ContentType="image/jpeg"/>
  <Override PartName="/ppt/media/image8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D2909-2E75-4574-B612-9FBD9F01F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67548-1DE3-4F18-8E08-51587B222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A90DC-132E-46C1-B179-6C5F2EE27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FF5F3-1259-4B1A-9655-2CF1BE06C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D84EB-C7CB-426B-8FD0-B14455921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6FDB5-781D-4109-9900-E0BE45D11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01C60-1F00-438B-81A1-95A968643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A6EAB-D071-4001-921D-012AB77A6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CCDC4-3D64-4601-B8C5-7EE2E48AE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5BAB8-1582-4C8F-8CCE-854731DB8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917C9-7687-45A2-A391-83E804535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890F1-C532-4092-9B93-A53BDFFAB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67568-3F3E-4961-B285-7E9469860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CBE22-A822-45BE-B14B-FD8F78C32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AE16F-9BA6-475E-8AF9-6EBBBEFE2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A1D21-0476-419C-AF2A-72E817C08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C7399-9D2B-472A-B6F7-7CFEBD94B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20A75-E599-46DA-A6A2-DE55E9716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B3C02-F841-4FD4-87C4-6EB2ED077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D6F4E-BDD1-4E0F-8D96-5354068C8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1D4A8-6151-428F-B4B9-D23A51955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0C19C-4697-4B03-A8E8-5DCB51985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36CB3-CD73-429F-B35E-6E6FAE7D6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9A93A-7EE4-446B-AC14-7D9629304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E872A-254F-45DB-8AE9-693830C703E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6A1DB-FE8B-4A60-9C60-EC0B74D3367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5.png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Теоретико-практические основы развития физических качеств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"/>
          <p:cNvSpPr/>
          <p:nvPr/>
        </p:nvSpPr>
        <p:spPr>
          <a:xfrm>
            <a:off x="4932360" y="5229360"/>
            <a:ext cx="347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Выполнил: Радис Юмагуж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9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Методы воспитания силы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ahoma"/>
              </a:rPr>
              <a:t>Метод максимальных усилий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предусматривает выполнение заданий, связанных с необходимостью преодоления максимального сопротивления (например, поднимание штанги предельного веса). Этот метод обеспечивает развитие способности к концентрации нервно-мышечных усилий, дает больший прирост силы, чем метод непредельных усилий. В работе с начинающими и детьми его применять не рекомендуется, но если возникла необходимость в его применении, то следует обеспечить строгий контроль за выполнением упражнений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5076720" y="1989000"/>
            <a:ext cx="388800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99"/>
                </a:solidFill>
                <a:latin typeface="Tahoma"/>
              </a:rPr>
              <a:t>Метод непредельных усилий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ahoma"/>
              </a:rPr>
              <a:t>Метод непредельных усилий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предусматривает использование непредельных отягощений с предельным числом повторений (до отказа). В зависимости от величины отягощения, недостигающего максимальной величины, и направленности в развитии силовых способностей используется строго нормированное количество повторений от 5—6 до 10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99"/>
                </a:solidFill>
                <a:latin typeface="Tahoma"/>
              </a:rPr>
              <a:t>Метод динамических усилий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ahoma"/>
              </a:rPr>
              <a:t>Метод динамических усилий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Суть метода состоит в создании максимального силового напряжения посредством работы с непредельным отягощением с максимальной скоростью. Упражнение при этом выполняется с полной амплитудой. Применяют данный метод при развитии быстрой силы, т.е. способности к проявлению большой силы в условиях быстрых движений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5148360" y="1989000"/>
            <a:ext cx="3846240" cy="465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99"/>
                </a:solidFill>
                <a:latin typeface="Tahoma"/>
              </a:rPr>
              <a:t>«</a:t>
            </a:r>
            <a:r>
              <a:rPr b="1" i="1" lang="ru-RU" sz="4000" spc="-1" strike="noStrike">
                <a:solidFill>
                  <a:srgbClr val="333399"/>
                </a:solidFill>
                <a:latin typeface="Tahoma"/>
              </a:rPr>
              <a:t>Ударный</a:t>
            </a:r>
            <a:r>
              <a:rPr b="1" i="1" lang="en-US" sz="4000" spc="-1" strike="noStrike">
                <a:solidFill>
                  <a:srgbClr val="333399"/>
                </a:solidFill>
                <a:latin typeface="Tahoma"/>
              </a:rPr>
              <a:t>» </a:t>
            </a:r>
            <a:r>
              <a:rPr b="1" i="1" lang="ru-RU" sz="4000" spc="-1" strike="noStrike">
                <a:solidFill>
                  <a:srgbClr val="333399"/>
                </a:solidFill>
                <a:latin typeface="Tahoma"/>
              </a:rPr>
              <a:t>метод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«</a:t>
            </a:r>
            <a:r>
              <a:rPr b="1" i="1" lang="ru-RU" sz="2000" spc="-1" strike="noStrike">
                <a:solidFill>
                  <a:srgbClr val="000000"/>
                </a:solidFill>
                <a:latin typeface="Tahoma"/>
              </a:rPr>
              <a:t>Ударный</a:t>
            </a: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» </a:t>
            </a:r>
            <a:r>
              <a:rPr b="1" i="1" lang="ru-RU" sz="2000" spc="-1" strike="noStrike">
                <a:solidFill>
                  <a:srgbClr val="000000"/>
                </a:solidFill>
                <a:latin typeface="Tahoma"/>
              </a:rPr>
              <a:t>метод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предусматривает выполнение специальных упражнений с мгновенным преодолением ударно воздействующего отягощения, которые направлены на увеличение мощности усилий. связанных с наиболее полной мобилизацией реактивных свойств мышц (например, спрыгивание с возвышения высотой 45— 75 см с последующим мгновенным выпрыгиванием вверх или прыжком в длину). После предварительного быстрого растягивания наблюдается более мощное сокращение мышц. Величина их сопротивления</a:t>
            </a:r>
            <a:r>
              <a:rPr b="1" i="1" lang="ru-RU" sz="2000" spc="-1" strike="noStrike">
                <a:solidFill>
                  <a:srgbClr val="000000"/>
                </a:solidFill>
                <a:latin typeface="Tahoma"/>
              </a:rPr>
              <a:t> задается массой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собственного тела и высотой палени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99"/>
                </a:solidFill>
                <a:latin typeface="Tahoma"/>
              </a:rPr>
              <a:t>Метод статических (изометрических) усилий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Метод статических (изометрических) усилий.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В зависимости от задач, решаемых при воспитании силовых способностей, метод предполагает применение различных по величине изометрических напряжений. В том случае, когда стоит задача развить максимальную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силу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мышц, применяют изометрические напряжения в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80—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90% от максимума продолжительностью 4—б с и в 100% — 1—2 с. Если же стоит задача развития общей силы, используют изометрические напряжения в 60—80% от максимума продолжительностью 10—12 с в каждом повторении. Обычно на тренировке выполняется 3—4 упражнения по 5—6 повторений каждого, отдых между упражнениями 2 мин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99"/>
                </a:solidFill>
                <a:latin typeface="Tahoma"/>
              </a:rPr>
              <a:t>Статодинамический метод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ahoma"/>
              </a:rPr>
              <a:t>Статодинамический метод.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Характеризуется последовательным сочетанием в упражнении двух режимов работы мышц — изометрического и динамического. Для воспитания силовых способностей применяют 2—6-секундные изометрические упражнения с усилием в 80—90% от максимума с поезедующей динамической работой взрывного характера со значительным снижением отягощения (2—3 повторения в подходе, 2—3 серии, отдых 2—4 мин между сериями). Применение этого метода целесообразно, если необходимо воспитывать специальные силовые способности именно при вариативном режиме работы мышц в соревновательных упражнениях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Метод круговой тренировки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Обеспечивает комплексное воздействие на различные мышечные группы. Упражнения проводятся по станциям и подбираются таким образом, чтобы каждая последующая серия включала в работу новую группу мышц. Число упражнений, воздействующих на разные группы мышц, пр&lt; юлжптельность их выполнения на станциях зависят от задач, реш 1емых в тренировочном процессе, возраста, пола и подготовленности занимающихся. Комплекс упражнений с использованием непредельных отягощений повторяют 1—3 раза по кругу. Отдых между каждым повторением комплекса должен состаштять не менее 2—3 мин. в это время выпо шяются упражнения на расслабление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5148360" y="2060640"/>
            <a:ext cx="399564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Методики воспитания силовых способностей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just">
              <a:spcBef>
                <a:spcPts val="799"/>
              </a:spcBef>
              <a:spcAft>
                <a:spcPts val="9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В зависимости от темпа выполнения и числа повторений упражнения, величины отягощения, а также от режима работы мышц и количества подходов с воздействием на одну и ту же группу мышц решают задачи по воспитанию различных видов силовых способностей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Контрольные упражнения (тесты)</a:t>
            </a:r>
            <a:br>
              <a:rPr sz="2800"/>
            </a:b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для определения уровня развития силовых способностей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В практике физического воспитания количественно-силовые возможности оцениваются двумя способами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) с помощью измерительных устройств динамографов, те изометрических силоизмерительных устройств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5148360" y="2133720"/>
            <a:ext cx="380520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) с помощью специальных контрольных упражнений, тестов на силу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7667640" y="3213000"/>
          <a:ext cx="906480" cy="1339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67640" y="3213000"/>
                    <a:ext cx="906480" cy="133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6" name=""/>
          <p:cNvGraphicFramePr/>
          <p:nvPr/>
        </p:nvGraphicFramePr>
        <p:xfrm>
          <a:off x="5435640" y="4076640"/>
          <a:ext cx="1428840" cy="952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35640" y="4076640"/>
                    <a:ext cx="1428840" cy="95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8" name=""/>
          <p:cNvGraphicFramePr/>
          <p:nvPr/>
        </p:nvGraphicFramePr>
        <p:xfrm>
          <a:off x="7667640" y="4941720"/>
          <a:ext cx="952560" cy="1190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67640" y="4941720"/>
                    <a:ext cx="952560" cy="119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0" name=""/>
          <p:cNvGraphicFramePr/>
          <p:nvPr/>
        </p:nvGraphicFramePr>
        <p:xfrm>
          <a:off x="5435640" y="5300640"/>
          <a:ext cx="1485720" cy="838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435640" y="5300640"/>
                    <a:ext cx="148572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2" name=""/>
          <p:cNvGraphicFramePr/>
          <p:nvPr/>
        </p:nvGraphicFramePr>
        <p:xfrm>
          <a:off x="5364000" y="2133720"/>
          <a:ext cx="2133720" cy="12952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364000" y="2133720"/>
                    <a:ext cx="213372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Понятие о физических качествах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Физическими качествами принято называть врожденные (генетически унаследованные) морфофункцнональные качества, благодаря которым возможна физическая (материально выраженная) активность человека, получающая свое полное проявление в целесообразной двигательной деятельности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 algn="just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К основным физическим качествам относят мышечную силу, быстроту, выносливость, гибкость и ловкость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ipe dir="d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898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898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898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Спасибо за внимание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Сила — это способность человека преодолевать внешнее сопротивление или противостоять ему за счет мышечных усилий (напряжений).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962440" y="2060640"/>
            <a:ext cx="299880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411280" y="2276640"/>
            <a:ext cx="4248360" cy="371124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Силовые способности — это комплекс различных проявлений человека в определенной двигательной деятельности, в основе которых лежит понятие 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«</a:t>
            </a: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сила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».</a:t>
            </a:r>
            <a:br>
              <a:rPr sz="4000"/>
            </a:b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Классификация силовых способностей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826920" y="1890720"/>
            <a:ext cx="7682040" cy="49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Tahoma"/>
              </a:rPr>
              <a:t>Скоростно-силовые способности</a:t>
            </a: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 характеризуются непредельными напряжениями мыши, проявляемыми с необходимой, часто максимальной мощностью в упражнениях, выполняемых со значительной скоростью, но не достигающей, как правило, предельной величины.</a:t>
            </a: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843280" y="2565360"/>
            <a:ext cx="276048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Силовая выносливость — это способность противостоять утомлению, вызываемому относительно продолжительными мышечными напряжениями значительной величины. 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332000" y="1773360"/>
            <a:ext cx="6840360" cy="45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Силовая ловкость проявляется там, где есть сменный характер режима работы мышц, меняющиеся и непредвиденные ситуации деятельности (регби, борьба, хоккей с мячом и др.).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763640" y="2060640"/>
            <a:ext cx="5761080" cy="43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i="1" lang="ru-RU" sz="1600" spc="-1" strike="noStrike">
                <a:solidFill>
                  <a:srgbClr val="000000"/>
                </a:solidFill>
                <a:latin typeface="Tahoma"/>
              </a:rPr>
              <a:t>Упражнения с весом внешних предметов: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 штанги с набором дисков разного веса, разборные гантели, гири, набивные мячи, вес партнера и т.д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Упражнения, отягощенные весом собственного тела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упражнения, в которых мышечное напряжение создается за счет веса собственного тела (подтягивание в висе, отжимания в упоре, удержание равновесия в упоре, в висе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упражнения, в которых собственный вес отягощается весом внешних предметов (например, специальные пояса, манжеты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упражнения, в которых собственный вес уменьшается за счет использования дополнительной опоры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ударные упражнения, в которых собственный вес увеличивается за счет инерции свободно падающего тела (например, прыжки с возвышения 25—70 см и более с мгновенным последующим выпрыгиванием вверх)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ahoma"/>
              </a:rPr>
              <a:t>Упражнения с использованием тренажерных устройств общего типа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 (например, силовая скамья, силовая с анция, комплекс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«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Универсал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» 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и др.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"/>
          <p:cNvSpPr/>
          <p:nvPr/>
        </p:nvSpPr>
        <p:spPr>
          <a:xfrm>
            <a:off x="1057680" y="835560"/>
            <a:ext cx="7671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Средства воспитания силы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13T11:55:16Z</dcterms:created>
  <dc:creator>user</dc:creator>
  <dc:description/>
  <dc:language>en-US</dc:language>
  <cp:lastModifiedBy>user</cp:lastModifiedBy>
  <dcterms:modified xsi:type="dcterms:W3CDTF">2013-01-21T18:17:38Z</dcterms:modified>
  <cp:revision>12</cp:revision>
  <dc:subject/>
  <dc:title>Теоретико-практические основы развития физических качеств</dc:title>
</cp:coreProperties>
</file>