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1BD-B65A-41AD-996D-A9F2B55F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043-4C3A-44C2-B00A-40A04E0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C0C-1CFE-487A-8579-61502761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C63-C80C-4DDC-BA0C-80F7BA25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FF9-0E87-4D1B-AF69-112F161C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E3B9-33C5-472B-8099-66310C4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085-CB08-4515-9019-E82C9E52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67CA-D4CC-411B-A34F-7557AB8F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B6C9-331D-4719-A106-CB1172C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3AB8-EC7C-4895-97DE-BB66BC4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0E01-63D4-4366-AD4E-61E18E69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C83-14ED-4ECE-9521-7C7C9622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817C-14F4-417E-8CEC-2F1BCF21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8049-888B-4118-99EE-BA34D7F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C60E-D688-4DBF-8B29-C015EBFC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DF34-83C6-4616-AE57-53F0D277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8584-5285-48CE-81AE-3EB45E89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5AB-69EF-4AB0-B307-DA6F6CB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B1E-8C91-4938-A24E-075C955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7D5-71B8-4461-B245-5BD5BCC9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1D2-FDFB-408C-BCE2-B9A3B92C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579-5B33-4701-B160-CF65310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932-BFDE-43FC-A280-8DFEBB9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FFB-9A4B-46FC-9162-3E4E5FC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B6FA-FC28-4348-BD24-7BBC19DE03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C9B3-CE88-4AD1-9594-E800B108F1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оретико-практические основы развития физических качест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5229360"/>
            <a:ext cx="34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ыполнил: Радис Юмаг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ы воспитания сил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етод максимальных усили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предусматривает выполнение заданий, связанных с необходимостью преодоления максимального сопротивления (например, поднимание штанги предельного веса). Этот метод обеспечивает развитие способности к концентрации нервно-мышечных усилий, дает больший прирост силы, чем метод непредельных усилий. В работе с начинающими и детьми его применять не рекомендуется, но если возникла необходимость в его применении, то следует обеспечить строгий контроль за выполнением упражне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Метод непредельных усил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етод непредельных усил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усматривает использование непредельных отягощений с предельным числом повторений (до отказа). В зависимости от величины отягощения, недостигающего максимальной величины, и направленности в развитии силовых способностей используется строго нормированное количество повторений от 5—6 до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Метод динамических усили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Метод динамических усилий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Суть метода состоит в создании максимального силового напряжения посредством работы с непредельным отягощением с максимальной скоростью. Упражнение при этом выполняется с полной амплитудой. Применяют данный метод при развитии быстрой силы, т.е. способности к проявлению большой силы в условиях быстрых движ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8462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Ударный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» 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метод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дарный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усматривает выполнение специальных упражнений с мгновенным преодолением ударно воздействующего отягощения, которые направлены на увеличение мощности усилий. связанных с наиболее полной мобилизацией реактивных свойств мышц (например, спрыгивание с возвышения высотой 45— 75 см с последующим мгновенным выпрыгиванием вверх или прыжком в длину). После предварительного быстрого растягивания наблюдается более мощное сокращение мышц. Величина их сопроти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задается масс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бственного тела и высотой па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Метод статических (изометрических) усил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Метод статических (изометрических) усилий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В зависимости от задач, решаемых при воспитании силовых способностей, метод предполагает применение различных по величине изометрических напряжений. В том случае, когда стоит задача развить максимальну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сил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мышц, применяют изометрические напряжения 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80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% от максимума продолжительностью 4—б с и в 100% — 1—2 с. Если же стоит задача развития общей силы, используют изометрические напряжения в 60—80% от максимума продолжительностью 10—12 с в каждом повторении. Обычно на тренировке выполняется 3—4 упражнения по 5—6 повторений каждого, отдых между упражнениями 2 ми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Статодинам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татодинамический метод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ся последовательным сочетанием в упражнении двух режимов работы мышц — изометрического и динамического. Для воспитания силовых способностей применяют 2—6-секундные изометрические упражнения с усилием в 80—90% от максимума с поезедующей динамической работой взрывного характера со значительным снижением отягощения (2—3 повторения в подходе, 2—3 серии, отдых 2—4 мин между сериями). Применение этого метода целесообразно, если необходимо воспитывать специальные силовые способности именно при вариативном режиме работы мышц в соревновательных упражн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 круговой трениров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вает комплексное воздействие на различные мышечные группы. Упражнения проводятся по станциям и подбираются таким образом, чтобы каждая последующая серия включала в работу новую группу мышц. Число упражнений, воздействующих на разные группы мышц, пр&lt; юлжптельность их выполнения на станциях зависят от задач, реш 1емых в тренировочном процессе, возраста, пола и подготовленности занимающихся. Комплекс упражнений с использованием непредельных отягощений повторяют 1—3 раза по кругу. Отдых между каждым повторением комплекса должен состаштять не менее 2—3 мин. в это время выпо шяются упражнения на расслабл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9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Методики воспитания силовых способност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зависимости от темпа выполнения и числа повторений упражнения, величины отягощения, а также от режима работы мышц и количества подходов с воздействием на одну и ту же группу мышц решают задачи по воспитанию различных видов силовых спосо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нтрольные упражнения (тесты)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для определения уровня развития силовых способност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практике физического воспитания количественно-силовые возможности оцениваются двумя способам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с помощью измерительных устройств динамографов, те изометрических силоизмерительных устройст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805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с помощью специальных контрольных упражнений, тестов на сил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67640" y="3213000"/>
          <a:ext cx="9064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3213000"/>
                    <a:ext cx="9064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35640" y="4076640"/>
          <a:ext cx="14288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076640"/>
                    <a:ext cx="1428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67640" y="4941720"/>
          <a:ext cx="952560" cy="119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7640" y="4941720"/>
                    <a:ext cx="9525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35640" y="5300640"/>
          <a:ext cx="14857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5300640"/>
                    <a:ext cx="14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64000" y="2133720"/>
          <a:ext cx="213372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2133720"/>
                    <a:ext cx="2133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нятие о физических качеств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ими качествами принято называть врожденные (генетически унаследованные) морфофункцнональные качества, благодаря которым возможна физическая (материально выраженная) активность человека, получающая свое полное проявление в целесообразной двиг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основным физическим качествам относят мышечную силу, быстроту, выносливость, гибкость и ловк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ила — 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62440" y="2060640"/>
            <a:ext cx="2998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248360" cy="371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иловые способности — это комплекс различных проявлений человека в определенной двигательной деятельности, в основе которых лежит понятие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ила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».</a:t>
            </a:r>
            <a:br>
              <a:rPr sz="4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ассификация силовых способносте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890720"/>
            <a:ext cx="7682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Скоростно-силовые способности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характеризуются непредельными напряжениями мыши, проявляемыми с необходимой, часто максимальной мощностью в упражнениях, выполняемых со значительной скоростью, но не достигающей, как правило, предельной величины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2760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иловая выносливость — это способность противостоять утомлению, вызываемому относительно продолжительными мышечными напряжениями значительной величины.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8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иловая ловкость проявляется там, где есть сменный характер режима работы мышц, меняющиеся и непредвиденные ситуации деятельности (регби, борьба, хоккей с мячом и др.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61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пражнения с весом внешних предметов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штанги с набором дисков разного веса, разборные гантели, гири, набивные мячи, вес партнера и т.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отягощенные весом собственного те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мышечное напряжение создается за счет веса собственного тела (подтягивание в висе, отжимания в упоре, удержание равновесия в упоре, в вис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собственный вес отягощается весом внешних предметов (например, специальные пояса, манжет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собственный вес уменьшается за счет использования дополнительной опор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рные упражнения, в которых собственный вес увеличивается за счет инерции свободно падающего тела (например, прыжки с возвышения 25—70 см и более с мгновенным последующим выпрыгиванием вверх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пражнения с использованием тренажерных устройств общего тип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например, силовая скамья, силовая с анция, комплек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ниверсал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835560"/>
            <a:ext cx="767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редства воспитания сил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55:16Z</dcterms:created>
  <dc:creator>user</dc:creator>
  <dc:description/>
  <dc:language>en-US</dc:language>
  <cp:lastModifiedBy>user</cp:lastModifiedBy>
  <dcterms:modified xsi:type="dcterms:W3CDTF">2013-01-21T18:17:38Z</dcterms:modified>
  <cp:revision>12</cp:revision>
  <dc:subject/>
  <dc:title>Теоретико-практические основы развития физических качеств</dc:title>
</cp:coreProperties>
</file>