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8A5-F3C1-4F13-84D2-1E692871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EE2-4CC8-4B00-949C-94A9AE6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F16-D5FD-42A0-81F7-B245C9FD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3BD-0199-49C2-81BA-D269D2CE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3446-7AB0-4FCC-B096-A929EAEF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7EC4-FF94-46FF-9F1C-0DA43DE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A62-4EDC-47A8-9D2B-1B4AD03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ED8D-87AD-4B23-BFC0-A1AEF18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8D0E-C601-43BF-B3E4-8B4EDE6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A832-9B79-4B9F-950B-96B5D4BC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7733-FECA-4A95-84A2-58AD402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5AD-4A71-4C59-A485-3169F373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AD13-16EE-4085-9634-60DB935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7791-F2F8-4CE7-8D6A-ED5E47B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2E0-1879-4431-91EB-FCBB08DD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282-B396-456E-B47D-1BA21E73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A42D-EAD9-4010-8103-5C52C856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C38-5029-4266-BC77-47C18AF5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96E-86B9-4BAD-8232-B88C6A41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C62-B0FE-42F1-8E0A-EAC746B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064-0E5A-4F17-A28C-DD52EFD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6BD-F9EF-4AF8-8E9F-C24B0DE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164-2C01-4520-AE0A-0DEEDD4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3E9-ACAF-400D-8E5E-248C62F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D716F3-65B9-4FA5-AF25-BBF9814D7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240A8F-B22A-4121-8666-35D8FCCB9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cordelia.typepad.com/.a/6a00d8345269c569e20120a7f3c2a9970b-800wi"/>
          <p:cNvPicPr/>
          <p:nvPr/>
        </p:nvPicPr>
        <p:blipFill>
          <a:blip r:embed="rId1"/>
          <a:stretch/>
        </p:blipFill>
        <p:spPr>
          <a:xfrm>
            <a:off x="609480" y="685800"/>
            <a:ext cx="777204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240" cy="837720"/>
          </a:xfrm>
          <a:prstGeom prst="rect">
            <a:avLst/>
          </a:prstGeom>
          <a:noFill/>
          <a:ln w="9360">
            <a:noFill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So Much For The The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5.1251725215.jpg"/>
          <p:cNvPicPr/>
          <p:nvPr/>
        </p:nvPicPr>
        <p:blipFill>
          <a:blip r:embed="rId1"/>
          <a:stretch/>
        </p:blipFill>
        <p:spPr>
          <a:xfrm>
            <a:off x="1447920" y="914400"/>
            <a:ext cx="5943240" cy="5714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2.bp.blogspot.com/-BweS7RYTBfQ/TV7CHJrGsbI/AAAAAAAAADs/rvO_n6DmY2E/s1600/3.PNG"/>
          <p:cNvPicPr/>
          <p:nvPr/>
        </p:nvPicPr>
        <p:blipFill>
          <a:blip r:embed="rId1"/>
          <a:stretch/>
        </p:blipFill>
        <p:spPr>
          <a:xfrm>
            <a:off x="304920" y="685800"/>
            <a:ext cx="8152920" cy="59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Verdana"/>
                <a:ea typeface="Verdana"/>
              </a:rPr>
              <a:t>THE FUTURE TEN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And Other Ways Of Expressing Future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ttp://4.bp.blogspot.com/_nzfX52nf35Q/TOwbq4CYGqI/AAAAAAAAAG8/x1RG-zxznaQ/s1600/Future%2BTenses%2BOverview%2BEnglish%2BGrammar.png"/>
          <p:cNvPicPr/>
          <p:nvPr/>
        </p:nvPicPr>
        <p:blipFill>
          <a:blip r:embed="rId1"/>
          <a:stretch/>
        </p:blipFill>
        <p:spPr>
          <a:xfrm>
            <a:off x="1447920" y="3429000"/>
            <a:ext cx="6171840" cy="3200040"/>
          </a:xfrm>
          <a:prstGeom prst="rect">
            <a:avLst/>
          </a:prstGeom>
          <a:ln w="0">
            <a:solidFill>
              <a:srgbClr val="00206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0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FUTUR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27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ill/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Won’t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+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V</a:t>
            </a:r>
            <a:r>
              <a:rPr b="1" lang="ru-RU" sz="36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will play… / I’ll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He will not read…/He won’t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ill they watch?- Yes, they will/No, they w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the day after tomorro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next week/ month / year, toni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2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i2174.gif"/>
          <p:cNvPicPr/>
          <p:nvPr/>
        </p:nvPicPr>
        <p:blipFill>
          <a:blip r:embed="rId1"/>
          <a:stretch/>
        </p:blipFill>
        <p:spPr>
          <a:xfrm>
            <a:off x="228600" y="3657600"/>
            <a:ext cx="2361960" cy="28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размышлениях, воображении со словами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think,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70c0"/>
                </a:solidFill>
                <a:latin typeface="Verdana"/>
                <a:ea typeface="Verdana"/>
              </a:rPr>
              <a:t>believe, expect, imagine, I’m sure, I hope, I’m afraid, probably, perhaps, may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ayb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ll visit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randma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 think the wea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i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O</a:t>
            </a: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бещания, угр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 you don’t come on tim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g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without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re at 5 sharp, I prom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Моментальн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hung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mak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you a sandw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Penc.gif"/>
          <p:cNvPicPr/>
          <p:nvPr/>
        </p:nvPicPr>
        <p:blipFill>
          <a:blip r:embed="rId1"/>
          <a:stretch/>
        </p:blipFill>
        <p:spPr>
          <a:xfrm rot="2479800">
            <a:off x="7151760" y="4371840"/>
            <a:ext cx="1527120" cy="19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30556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Verdana"/>
                <a:ea typeface="Verdana"/>
              </a:rPr>
              <a:t>to be (am/is/are) going t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going to read…/He’s going to read…/We’re going to rea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/m not going to do…/She isn’t going to do…/They aren’t going to 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going to stay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omorrow, next Sunda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, in a day, in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i2174.gif"/>
          <p:cNvPicPr/>
          <p:nvPr/>
        </p:nvPicPr>
        <p:blipFill>
          <a:blip r:embed="rId1"/>
          <a:stretch/>
        </p:blipFill>
        <p:spPr>
          <a:xfrm>
            <a:off x="0" y="3962520"/>
            <a:ext cx="2361960" cy="26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04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381520" cy="525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ланы, наме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avel in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e’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isit Grandma next week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рогнозы на будущее, основанные на фа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 sky is da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t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’m in a traffic j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m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e late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я, в совершении которых мы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почти </a:t>
            </a:r>
            <a:r>
              <a:rPr b="1" i="1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уве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friends and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lay football after school, if we don’t have too much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he’s going to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ell her car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Penc.gif"/>
          <p:cNvPicPr/>
          <p:nvPr/>
        </p:nvPicPr>
        <p:blipFill>
          <a:blip r:embed="rId1"/>
          <a:stretch/>
        </p:blipFill>
        <p:spPr>
          <a:xfrm rot="2090400">
            <a:off x="7353720" y="4605480"/>
            <a:ext cx="1308600" cy="20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523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  <a:ea typeface="Verdana"/>
              </a:rPr>
              <a:t>Present Continuous/Presen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2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Be (am/is/are) + 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’m driving/He’s driv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aren’t go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Are you meeting…?- Yes, I am./No, I’m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V/V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I go…/He goes…/They g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We don’t play…/She doesn’t pl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Do you visit…? – Yes, I do./No, I do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i2174.gif"/>
          <p:cNvPicPr/>
          <p:nvPr/>
        </p:nvPicPr>
        <p:blipFill>
          <a:blip r:embed="rId1"/>
          <a:stretch/>
        </p:blipFill>
        <p:spPr>
          <a:xfrm>
            <a:off x="152280" y="3505320"/>
            <a:ext cx="1523520" cy="175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US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457840" cy="498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Continuous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которые точно произойдут в результате договор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g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 St. Petersburg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are you doing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on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Present Simple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используется для выражения действий, происходящих согласно программе, распис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My train to Mosc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leave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7.15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he sh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starts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 at 6pm. Don’t be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Penc.gif"/>
          <p:cNvPicPr/>
          <p:nvPr/>
        </p:nvPicPr>
        <p:blipFill>
          <a:blip r:embed="rId1"/>
          <a:stretch/>
        </p:blipFill>
        <p:spPr>
          <a:xfrm rot="555000">
            <a:off x="7673040" y="4874400"/>
            <a:ext cx="1056600" cy="16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Verdana"/>
                <a:ea typeface="Verdana"/>
              </a:rPr>
              <a:t>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4578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После слов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,while,before,after, a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oon as, 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, when</a:t>
            </a:r>
            <a:r>
              <a:rPr b="0" lang="en-US" sz="24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Verdana"/>
                <a:ea typeface="Verdana"/>
              </a:rPr>
              <a:t>в придаточном предлож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формы будущего времени не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 </a:t>
            </a:r>
            <a:r>
              <a:rPr b="0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использую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late agai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b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y ang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’ll have don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homework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by the ti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arents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com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won’t lea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until t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ey  f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inish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 thei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Penc.gif"/>
          <p:cNvPicPr/>
          <p:nvPr/>
        </p:nvPicPr>
        <p:blipFill>
          <a:blip r:embed="rId1"/>
          <a:stretch/>
        </p:blipFill>
        <p:spPr>
          <a:xfrm rot="2601600">
            <a:off x="7008840" y="4480920"/>
            <a:ext cx="1472760" cy="21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iseño predeterminado">
  <a:themeElements>
    <a:clrScheme name="Diseño predeterminado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185</Template>
  <TotalTime>1517</TotalTime>
  <Application>LibreOffice/7.4.7.2$Linux_X86_64 LibreOffice_project/40$Build-2</Application>
  <AppVersion>15.0000</AppVersion>
  <Words>563</Words>
  <Paragraphs>6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1:25:08Z</dcterms:created>
  <dc:creator>1</dc:creator>
  <dc:description/>
  <dc:language>en-US</dc:language>
  <cp:lastModifiedBy>Пользователь</cp:lastModifiedBy>
  <dcterms:modified xsi:type="dcterms:W3CDTF">2023-12-12T17:39:52Z</dcterms:modified>
  <cp:revision>162</cp:revision>
  <dc:subject/>
  <dc:title>THE FUTURE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