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DFF-0272-4886-844E-26BC26F7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FAB-B45C-4A2E-A623-CB3D1079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42E-4DF9-46FA-BD44-1DF191AA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70D-B68B-4689-9358-2D7D9AA5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B797-5DE4-4BD8-A268-7B0044E5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4A12-CB63-4130-A7F3-6DB5D3B9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CEB2-77A2-4400-A3DC-DDA37AD0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931D-6979-4908-AEE4-6B0C482F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F399-F552-448F-A9C9-106DD54F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2D13-667F-4C00-B5DB-311478ED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0F2F-73AB-473E-93B4-FA0E8D18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8A8-E19F-40AB-9133-7D24837E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1A07-F1AA-4890-AD84-4D0EB264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0F55-3C9D-4653-9440-7451AF62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F2E0-0AFA-4069-BBB8-DA0AE40D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A34A-23FE-4375-89EA-C2496A34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FA75-926D-4B38-B147-335D11C3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090-DBB5-4B87-971E-4EDAE8D2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3D8-5BED-451F-8C2B-4F823F44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CED-C4C4-4DED-9026-A9869789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6E6-FE8C-421C-807F-18A54F4D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F53-EF31-437D-A69B-20930C92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27F-0D16-4A59-BCBC-ECF233BD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7F9-2650-4874-A80B-69F109F0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B0E37E-E2E0-41E2-ACC1-783F99A35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1BF244-9476-4726-8DDF-6C2BC8871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cordelia.typepad.com/.a/6a00d8345269c569e20120a7f3c2a9970b-800wi"/>
          <p:cNvPicPr/>
          <p:nvPr/>
        </p:nvPicPr>
        <p:blipFill>
          <a:blip r:embed="rId1"/>
          <a:stretch/>
        </p:blipFill>
        <p:spPr>
          <a:xfrm>
            <a:off x="609480" y="685800"/>
            <a:ext cx="777204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837720"/>
          </a:xfrm>
          <a:prstGeom prst="rect">
            <a:avLst/>
          </a:prstGeom>
          <a:noFill/>
          <a:ln w="9360">
            <a:noFill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  <a:ea typeface="Verdana"/>
              </a:rPr>
              <a:t>So Much For The Theo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5.1251725215.jpg"/>
          <p:cNvPicPr/>
          <p:nvPr/>
        </p:nvPicPr>
        <p:blipFill>
          <a:blip r:embed="rId1"/>
          <a:stretch/>
        </p:blipFill>
        <p:spPr>
          <a:xfrm>
            <a:off x="1447920" y="914400"/>
            <a:ext cx="5943240" cy="571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2.bp.blogspot.com/-BweS7RYTBfQ/TV7CHJrGsbI/AAAAAAAAADs/rvO_n6DmY2E/s1600/3.PNG"/>
          <p:cNvPicPr/>
          <p:nvPr/>
        </p:nvPicPr>
        <p:blipFill>
          <a:blip r:embed="rId1"/>
          <a:stretch/>
        </p:blipFill>
        <p:spPr>
          <a:xfrm>
            <a:off x="304920" y="685800"/>
            <a:ext cx="8152920" cy="59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Verdana"/>
                <a:ea typeface="Verdana"/>
              </a:rPr>
              <a:t>THE FUTURE TEN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And Other Ways Of Expressing Future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4.bp.blogspot.com/_nzfX52nf35Q/TOwbq4CYGqI/AAAAAAAAAG8/x1RG-zxznaQ/s1600/Future%2BTenses%2BOverview%2BEnglish%2BGrammar.png"/>
          <p:cNvPicPr/>
          <p:nvPr/>
        </p:nvPicPr>
        <p:blipFill>
          <a:blip r:embed="rId1"/>
          <a:stretch/>
        </p:blipFill>
        <p:spPr>
          <a:xfrm>
            <a:off x="1447920" y="3429000"/>
            <a:ext cx="6171840" cy="3200040"/>
          </a:xfrm>
          <a:prstGeom prst="rect">
            <a:avLst/>
          </a:prstGeom>
          <a:ln w="0">
            <a:solidFill>
              <a:srgbClr val="00206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  <a:ea typeface="Verdana"/>
              </a:rPr>
              <a:t>FUTUR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76276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Will/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Won’t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+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V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 will play… / I’ll pl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He will not read…/He won’t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Will they watch?- Yes, they will/No, they w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omorrow, the day after tomorro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next week/ month / year, toni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oon, in a day, in 2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i2174.gif"/>
          <p:cNvPicPr/>
          <p:nvPr/>
        </p:nvPicPr>
        <p:blipFill>
          <a:blip r:embed="rId1"/>
          <a:stretch/>
        </p:blipFill>
        <p:spPr>
          <a:xfrm>
            <a:off x="228600" y="3657600"/>
            <a:ext cx="2361960" cy="28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33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Прогнозы на будущее, основанные на размышлениях, воображении со словами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i="1" lang="en-US" sz="2400" spc="-1" strike="noStrike">
                <a:solidFill>
                  <a:srgbClr val="0070c0"/>
                </a:solidFill>
                <a:latin typeface="Verdana"/>
                <a:ea typeface="Verdana"/>
              </a:rPr>
              <a:t>think,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Verdana"/>
              </a:rPr>
              <a:t> </a:t>
            </a:r>
            <a:r>
              <a:rPr b="1" i="1" lang="en-US" sz="2400" spc="-1" strike="noStrike">
                <a:solidFill>
                  <a:srgbClr val="0070c0"/>
                </a:solidFill>
                <a:latin typeface="Verdana"/>
                <a:ea typeface="Verdana"/>
              </a:rPr>
              <a:t>believe, expect, imagine, I’m sure, I hope, I’m afraid, probably, perhaps, may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ayb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we’ll visi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Grandma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 think the wea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wi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  <a:ea typeface="Verdana"/>
              </a:rPr>
              <a:t>O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бещания, угр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f you don’t come on tim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g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without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re at 5 sharp, I prom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Моментальн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’m hung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mak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you a sandw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9" descr="Penc.gif"/>
          <p:cNvPicPr/>
          <p:nvPr/>
        </p:nvPicPr>
        <p:blipFill>
          <a:blip r:embed="rId1"/>
          <a:stretch/>
        </p:blipFill>
        <p:spPr>
          <a:xfrm rot="2479800">
            <a:off x="7151760" y="4371840"/>
            <a:ext cx="1527120" cy="19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  <a:ea typeface="Verdana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30556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to be (am/is/are) going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’m going to read…/He’s going to read…/We’re going to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/m not going to do…/She isn’t going to do…/They aren’t going to 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Are you going to stay…?- Yes, I am./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omorrow, next Sunda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oon, in a day, in a we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i2174.gif"/>
          <p:cNvPicPr/>
          <p:nvPr/>
        </p:nvPicPr>
        <p:blipFill>
          <a:blip r:embed="rId1"/>
          <a:stretch/>
        </p:blipFill>
        <p:spPr>
          <a:xfrm>
            <a:off x="0" y="3962520"/>
            <a:ext cx="2361960" cy="26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38152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Планы, на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m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ravel in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We’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isit Grandma next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Прогнозы на будущее, основанные на ф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 sky is da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t’s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’m in a traffic j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m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e late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Действия, в совершении которых мы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почти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увер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y friends and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a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lay football after school, if we don’t have too much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he’s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ll her car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Penc.gif"/>
          <p:cNvPicPr/>
          <p:nvPr/>
        </p:nvPicPr>
        <p:blipFill>
          <a:blip r:embed="rId1"/>
          <a:stretch/>
        </p:blipFill>
        <p:spPr>
          <a:xfrm rot="2090400">
            <a:off x="7353720" y="4605480"/>
            <a:ext cx="1308600" cy="209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  <a:ea typeface="Verdana"/>
              </a:rPr>
              <a:t>Present Continuous/Present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487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Be (am/is/are) + 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’m driving/He’s driv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We aren’t go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Are you meeting…?- Yes, I am./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V/V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 go…/He goes…/They g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We don’t play…/She doesn’t pl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Do you visit…? – Yes, I do./No, I d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i2174.gif"/>
          <p:cNvPicPr/>
          <p:nvPr/>
        </p:nvPicPr>
        <p:blipFill>
          <a:blip r:embed="rId1"/>
          <a:stretch/>
        </p:blipFill>
        <p:spPr>
          <a:xfrm>
            <a:off x="152280" y="3505320"/>
            <a:ext cx="1523520" cy="175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457840" cy="4982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Present Continuous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используется для выражения действий, которые точно произойдут в результате договор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i="1" lang="en-US" sz="28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W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are go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o St. Petersburg tomo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Wha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are you do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on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Present Simple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используется для выражения действий, происходящих согласно программе, распис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My train to Mosc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leave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at 7.15 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he sh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tart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at 6pm. Don’t be l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Penc.gif"/>
          <p:cNvPicPr/>
          <p:nvPr/>
        </p:nvPicPr>
        <p:blipFill>
          <a:blip r:embed="rId1"/>
          <a:stretch/>
        </p:blipFill>
        <p:spPr>
          <a:xfrm rot="555000">
            <a:off x="7673040" y="4874400"/>
            <a:ext cx="1056600" cy="16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  <a:ea typeface="Verdana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457840" cy="490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После слов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f,while,before,after, a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oon as, 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y the time, when</a:t>
            </a:r>
            <a:r>
              <a:rPr b="0" lang="en-US" sz="24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в придаточном предло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формы будущего времени не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использую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late agai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y ang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have don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y homework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y the tim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arents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com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won’t leav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until 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ey  f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nish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thei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Penc.gif"/>
          <p:cNvPicPr/>
          <p:nvPr/>
        </p:nvPicPr>
        <p:blipFill>
          <a:blip r:embed="rId1"/>
          <a:stretch/>
        </p:blipFill>
        <p:spPr>
          <a:xfrm rot="2601600">
            <a:off x="7008840" y="4480920"/>
            <a:ext cx="1472760" cy="21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1185</Template>
  <TotalTime>1517</TotalTime>
  <Application>LibreOffice/7.4.7.2$Linux_X86_64 LibreOffice_project/40$Build-2</Application>
  <AppVersion>15.0000</AppVersion>
  <Words>563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1:25:08Z</dcterms:created>
  <dc:creator>1</dc:creator>
  <dc:description/>
  <dc:language>en-US</dc:language>
  <cp:lastModifiedBy>Пользователь</cp:lastModifiedBy>
  <dcterms:modified xsi:type="dcterms:W3CDTF">2023-12-12T17:39:52Z</dcterms:modified>
  <cp:revision>162</cp:revision>
  <dc:subject/>
  <dc:title>THE FUTURE TEN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