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D5C-192E-4D95-9140-537EA7B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69C-EB78-4351-852B-A03E05B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6BC-50EF-4D01-900D-A71F2BC6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45D-994C-4389-B561-E2A28463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CF4-71D9-4969-8CAF-2D1797C4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C1B-A1C9-4C0B-B161-07E38F22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FC6C-6D91-4F8B-B221-1122EF5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2D9-2C53-4DD6-9E6E-2D7639E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F3D9-551F-457D-BCDB-2206FAF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D62-8382-4967-862A-FED377F6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B41-F1FB-4D66-9B9C-2C60DFF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DAD-F603-4E46-AF81-0BABED0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355B-8678-434A-AB56-8C1878C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C51-E2FF-42FA-BF8D-C3AC99C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4B2E-4576-4855-85F3-C69AE4B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937A-F204-4F5E-BE22-46EA132B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AEFC-DB5B-41AE-A087-F3E23596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0367-719E-4233-8A56-50A82DE5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866C-6C71-4E0C-ACAF-136E9AA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C880-E948-45AA-884B-405E684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4A30-7F6F-47F6-90F6-E21D923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2E12-7B1B-4D03-BFA0-AD859DB4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86D-8E30-4E51-B59C-D71B3ED8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89C2-58D4-4596-91DB-73246DC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60ED-D5F8-4F46-B9ED-E3E616E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E909-C495-49D6-B6A7-2DFCE59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87AE-4015-48F4-9DA8-13779EA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8D7A-B037-403F-9BEF-4D56B37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C30B-5E94-40E0-B3B3-439E85B7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A3C5-A5EA-4697-92CF-4AD7501F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748F-17B3-4562-BD16-A17355B8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39DC-01B7-4874-9080-C740974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1178-80B1-4FC8-B947-811B3C6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1CA-3AED-475A-994B-4D706E1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E7F0-056E-4426-967A-478FD59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84C0-B600-48D9-8BCC-500C8250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6D78-2B45-4F5D-A587-070B7E0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8278-AAD2-46D0-9820-02FAB26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F049-EF5F-44EA-976E-5856A0B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EA14-C89B-49D7-86B8-FFDEC5EC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9396-0A00-47F7-BB08-51BC5B2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43B3-F467-4D01-A6F8-0871A104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72E4-CCF4-4E45-BB97-BDA325DD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C1E9-CBEF-4CB2-81F8-6ACD457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270-9E26-4310-BEE7-00BAF9DE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0D35-8A09-497B-80F1-5EE4E89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F44C-F52E-4795-BE37-203BB49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31A7-717E-43F7-A6F9-DAA6413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492E-4FBC-4D04-8ACA-A3204A8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1394-538F-4E7A-BD1B-9B87CD43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CCDF-CF86-47E9-9E94-556EADC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D879-B394-4664-AFF9-AFF48DF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7279-E832-4CE8-8307-EEF934E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1375-3ECD-4106-AA1E-F66D001D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48C1-0BC5-4FBE-BC81-D4198CB1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33A-7B15-4837-8F5A-0907D57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D9186-8908-486A-B685-C8D26CC1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6C3E-C590-4292-A2D1-E67CE9E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F618-3BF1-4083-9EAD-8DBCA21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65C9-B0FA-4F09-BB5E-A8A4B7F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ED8A-F5D2-48D1-A6F2-45061C93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8B13-1329-4184-83F7-68A621C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2E35-170A-4E6F-A163-7DFB8EB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2DAE8-95C9-41FC-B9C0-4F6D026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2A92-BDDD-48C8-847B-2DA3D35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7FDF-3C1A-432C-9B32-D623E0C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0F2-4736-4504-9D5F-AE17601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7FC4-8933-45F3-8F5D-E175E3E0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054C-FA47-404F-88CD-A1F1AEE0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5F2F-76D0-400C-B409-E1A452B6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4E6B-0EDE-4319-8926-5EEF28BA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C546-4669-48F8-BC34-F503FCD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348D-5FA5-4A20-B52B-2A609319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17A9-E445-4787-9A3F-D1D9183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77BD-E4CF-4A59-BF98-1E01C9FA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3A58-2BB8-48C1-95DC-5321174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D545-CEA0-40FD-BC75-EF13132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A3D-07A4-49E2-AD2E-3A11E54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E36A-FA54-4C3F-B0EC-86E0C8E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1818-6A1E-497E-A785-00C9242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3D87A-0763-44B1-8561-63C609FA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50920-E7FD-463D-9DF2-B08474FF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BF053-2F4F-4F0B-B916-D5D85C95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131-431A-433F-A9EB-4C41799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4C55D-8F18-4DA0-961E-52CA554BD5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E8235-F3C7-4C1A-80A5-2780A56D90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FA18B-3D3A-4792-B629-E1B6643612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6E677-3ECA-48FB-93C4-EACF74BF07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3C545-8365-437E-B1C3-F37AF9FB7C84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761F9-8115-4B98-B283-2C8407CF83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0439F-8160-4059-8EF9-9DB976F680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jOmbErBNbk" TargetMode="External"/><Relationship Id="rId2" Type="http://schemas.openxmlformats.org/officeDocument/2006/relationships/hyperlink" Target="https://www.youtube.com/watch?v=bUizZObR3nc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ма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ние половые связи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 их последствия»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2916360" y="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2" descr=""/>
          <p:cNvPicPr/>
          <p:nvPr/>
        </p:nvPicPr>
        <p:blipFill>
          <a:blip r:embed="rId1"/>
          <a:srcRect l="6281" t="26378" r="70478" b="32283"/>
          <a:stretch/>
        </p:blipFill>
        <p:spPr>
          <a:xfrm>
            <a:off x="3132000" y="3662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Основные причины, способствующие заражению инфекциям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4920" y="1844280"/>
            <a:ext cx="828036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оловая распущенность и вседозволенность, вступление в интимные связи со случайными незнакомыми людьми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половые акты с женщинами легкого поведения, имеющими, как правило, контакты не только с нашими соотечественниками, но и с иностранными гражданами, в том числе из стран, где эти инфекции имеют широкое распространени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любые половые контакты без использования презервативов с партнерами, относящимися к группам с высоким риском инфицирования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филактика заболевани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бщение с постоянным сексуальным партнер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использование презервативов при половых контактах со случайными партнера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истематическое обследование людей, относящихся к группам риска: наркоманов, алкоголиков, проституток, бомжей и др.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обязательное обследование работников детских и медицинских учреждений, пищевых объектов, доноров крови, стационарных больных, беременных женщин и других категорий населен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облюдение правил личной гигиены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широкое санитарно-гигиеническое просвещение и нравственное воспитание населени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395280" y="1450080"/>
            <a:ext cx="8569440" cy="423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Какое из утверждений является вер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мало чем отличается от предыдущих пери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повы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Какую одну из самых частых причину раннего вступления в половую жизнь девушек-подростков называет психолог Ди Снайд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не чувствовать себя одинокой и быть популя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семью 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й расширить свой кругозор, получить новы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Прямоугольник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6570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468360" y="608400"/>
            <a:ext cx="813600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Какая причина с точки зрения психологов является достаточно обоснованной для вступления в половые отнош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удовлетворить естественные потре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На что отрицательно влияют ранние половые связ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и репродуктивно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Велика ли вероятность того, что ребёнок рожденный матерью, которой меньше 16 лет будет иметь нормальное умственное развит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 первую очередь зависит от от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рмальным будет только один из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 это относится только к периоду от 13 до 1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468360" y="321840"/>
            <a:ext cx="828036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В каком году в РФ было зафиксировано 97,9 тыс. случаев заболеваний сифилисом и 101,8 тыс. случаев заболеваний гоноре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2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5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Сколько процентов заражений венерическими заболеваниями происходят половым путё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Как увеличилось количество, вступивших в половые связи школьниц за последние пять л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6,4% до 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30% до 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0% до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250920" y="308520"/>
            <a:ext cx="856908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Верно ли утверждение: «Работники телефонов доверия для подростков отмечают, что по вопросам секса к ним обращаются дети 10 лет и даже 8-9 лет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Частично 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 Важно ли чтобы партнёры уважали друг друга при вступлении в половую связ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и любовь ни уважение не имеют особо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важной является только 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ажнейший фактор наряду с любов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468360" y="1916280"/>
            <a:ext cx="835164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мотреть видеоурок по теме «Ранние половые связи и их последств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s://www.youtube.com/watch?v=NjOmbErBNb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Что происходит, когда вы проходите через период полового созре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ea typeface="Calibri"/>
                <a:hlinkClick r:id="rId2"/>
              </a:rPr>
              <a:t>https://www.youtube.com/watch?v=bUizZObR3n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Ранний секс. По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рочитать §10.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смотреть презент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полнить тест письменно в тетра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править выполненную работу на проверку учителю Котовой Т.А.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ой «tatandkotova@mail.ru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отправке в теме указ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милию, имя, класс,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Прямоугольник 4" descr=""/>
          <p:cNvPicPr/>
          <p:nvPr/>
        </p:nvPicPr>
        <p:blipFill>
          <a:blip r:embed="rId3"/>
          <a:stretch/>
        </p:blipFill>
        <p:spPr>
          <a:xfrm>
            <a:off x="1517760" y="549360"/>
            <a:ext cx="6364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Причины ранних половых отношени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000" y="1052280"/>
            <a:ext cx="815652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чувствовать себя менее одиноким или стать популярно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продемонстрировать свою независимость от родителе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удержать любов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тому что «все это делают»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04040"/>
                </a:solidFill>
                <a:latin typeface="Calibri Light"/>
              </a:rPr>
              <a:t>Последств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ранняя беременность, которая чаще всего заканчивается абортом со всеми его негативными последствия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— браки, заключенные между юношами и девушками, не достигшими половой зрелости, нередко бывают бесплодными, дети, рождающиеся у таких родителей, — слабы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воспалительные заболевания половых путей и опасность заражения болезнями, передающимися половым путе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гинекологические заболевания как следствие аборта, беременности и родов в подростковом возрасте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трудноразрешимые социальные и морально-этические проблемы, связанные с ранним материнств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Инфекции, передаваемые половым путем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Инфекции, передаваемые половым путем (ИППП), - это группа инфекционных заболеваний, возбудители которых передаются преимущественно половым путе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2649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 инфекциям, передающимся половым путем, относятся 22 заболевания. Их условно разделяют на две группы: классические венерические болезни; другие инфекции, передающиеся половым путем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Классические венерические болезн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844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филис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читается самой страшной венерической болезнью. Возбудитель – бледная трепонема, имеющая вид тонкой спиралеобразной нити. Заражение происходит при тесном контакте с больным. Наиболее частый путь заражения – половой контакт, но возможен и бытовой, когда заражение происходит при поцелуе, пользовании предметами домашнего обихода, курении одной сигареты с больным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Гонорея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– заболевание, вызываемое гонококком. Передается половым путем. Во время контакта гонококк попадает на слизистую оболочку половых органов и мочеиспускательного канала и вызывает местное воспаление. Возможно и бытовое заражение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Другие инфекции, передающиеся половым путем. 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нитальный герпес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Чесотка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Трихомониа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Микоплазмо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ИЧ-инфекция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патит В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епсис новорожденных и т.д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Если появились явные признаки описанных выше болезней или возникает опасение по поводу ИППП, не раздумывайте и обращайтесь к врачу. Если после обследования выявлено венерическое заболевание, необходимо привлечь к лечению и вашего полового партнер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Запомните: сознательное заражение другого лица венерической болезнью является уголовно наказуемым. Оно наказывается значительным штрафом либо исправительными работами на срок от 1 до 2 лет, либо арестом на срок от 3 до 6 месяцев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4:14Z</dcterms:created>
  <dc:creator>Евгения</dc:creator>
  <dc:description/>
  <dc:language>en-US</dc:language>
  <cp:lastModifiedBy>home</cp:lastModifiedBy>
  <dcterms:modified xsi:type="dcterms:W3CDTF">2020-04-13T05:26:52Z</dcterms:modified>
  <cp:revision>21</cp:revision>
  <dc:subject/>
  <dc:title>Ранние половые связи и их последствия</dc:title>
</cp:coreProperties>
</file>