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1C6-B306-4E9B-BCCB-8B1E6C41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1E7-96A4-47B4-9F3B-07EB174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6CD-9B07-4BAA-8348-2655572E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7AE-7380-4AD5-AB3D-52AABE0E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44B7-9BE1-4DC0-9D67-ED234088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F172-5E10-4F1C-AF2A-30D98CA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E66-9D22-476E-940E-34FE66B9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3505-06E3-430B-B8CD-B087A557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65A-652D-4FA1-A9E0-5EEF243F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1C1-A1D3-4F01-8F1F-522A6378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3C3-A0AA-4F30-B3E0-B44B2FB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A8B-390F-4CE7-8FE8-7AE632A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440-0495-4F8A-BD15-E209D82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89A-2290-421A-BF28-71A84C9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BBC8-AC3A-4DFE-B33C-AF331C6D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94E8-6B8C-4625-8180-93C227BF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545A-F34E-4A99-95F8-FA6A0E9A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1BB5-40DF-47E6-A8BC-1BC47488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4F65-4808-44CC-90A9-52C8B2C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8887-E285-4763-8A01-F77F74E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D2B4-3EAA-4994-B909-4949637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8AF4-C650-4B89-AC6D-097DEFC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525-71D2-44E1-B83E-4CC1B467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B3E1-3837-4B1B-87B3-8F0FD01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141E-7C09-4E3C-ABEA-D1DD6FE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62A0-556C-4418-9ADB-0010D98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8A25-1267-44FA-AB9B-C55CAB3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1021-48A6-4AF0-8866-DECB339E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A85C-6C88-4569-A86C-B5618104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4E90-C24A-456E-AC12-2E31319D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0CBD-19B4-4214-9C76-2D775B18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7A1F-3396-4CCB-90FD-7D437735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3287-EDDC-464D-AE35-4D022CD9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013-D6F9-4103-8067-40C2F8C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EA79-076F-44A8-93F6-3937EA4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3C84-047E-4587-942E-76D18D9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29BB-751B-4DD8-B127-0EBD54DE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9690-5743-4520-A1CE-B4672CC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BA0C-A976-4D32-B530-5837692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A454-1FAB-4C01-9465-D06A383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D811-D675-4092-8D73-CBBFA4FD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7FFE-26D5-46E2-9D26-4A47902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5681-F5DF-4F5B-BF15-62A032B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4474-AAB5-45D8-9072-45C25BFB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512-CADC-4D25-804E-2CF41E4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66C8-C5AA-4A2F-970B-435EABB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ABF7-137A-4F5E-B70E-08B4600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96D8-2E0E-49F1-ACD5-9D222468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B146-4D84-4142-A197-C835A75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CC00-83E1-4A9C-90CE-AF189A7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5A4D-CB65-493F-B420-7BD0AA1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95AA-8FA4-4EBC-95C2-CDE26FC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6780-C8B5-4796-92F5-321F496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99AD-771E-4E6C-A334-E0D3E241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ED6D-25C9-469B-BEE1-B080DA8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F9E-D011-4D86-821C-32C4F10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6E2A-8EA4-4CA3-A2FB-E52B0D2B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E285-A552-4D0B-B621-7A28F9BA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52700-6636-4DC3-AA93-26F1A84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6E7B-9755-4665-A65F-7BAF2E5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9C19-5B89-4B2D-B158-74B6CE30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B9DC-DCE5-4610-9AAA-20A2A8E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DA40-5ABE-491A-AFE8-A501EEBA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BF32-8DC3-493E-8EED-DDAF1A3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A0D5-D70F-409F-902F-9E38282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7BAC-045D-41B5-93AD-1579ADD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971-5CA6-4AF5-B275-ACE2197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BF91-87EE-4F0E-908D-3E92C58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11AC-8931-4554-9AEB-21DF9E1B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ABD88-9131-4963-A0D6-A33E784C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961C-3DF7-45BF-9CDA-0D19B148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394F-B8E9-4FC1-850A-5A0A89A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0E24-4270-4855-8147-19E321E5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718E3-3229-4370-84F4-572489C1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CC16-ACC0-40B1-99AC-52D5FB43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0748-B261-4F59-88FC-31761990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2FE6-2ACD-42C4-B230-0F70619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6D8-789C-4650-8B77-F34C60C3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5A36F-EF0E-4679-B1DB-F36E67C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B069-F9BF-4680-9F07-CD6DA46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3825-8CDF-4570-87DC-AA35C246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771B-3D3E-4917-A6A5-11F39191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36AD-698C-434F-9016-096A96CF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B85-1CA5-4955-8FE1-E4D1811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7D2A4-D616-4452-87D6-692F50B3B3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6775D-2CE4-476D-BA1F-85F2DD1463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CC3A2-30A2-4DE3-B2D6-3E44D1AE74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D072D-00F0-4649-82A8-69D3F97DCC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C15A1-13F0-4D48-A7A7-2ABBF77357B2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90A0D-F23C-4E4F-A968-3A08E3B4FC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67D98-23DB-46D6-8FD6-920D9BBED9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jOmbErBNbk" TargetMode="External"/><Relationship Id="rId2" Type="http://schemas.openxmlformats.org/officeDocument/2006/relationships/hyperlink" Target="https://www.youtube.com/watch?v=bUizZObR3nc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ма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ние половые связи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 их последствия»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2916360" y="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2" descr=""/>
          <p:cNvPicPr/>
          <p:nvPr/>
        </p:nvPicPr>
        <p:blipFill>
          <a:blip r:embed="rId1"/>
          <a:srcRect l="6281" t="26378" r="70478" b="32283"/>
          <a:stretch/>
        </p:blipFill>
        <p:spPr>
          <a:xfrm>
            <a:off x="3132000" y="3662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Основные причины, способствующие заражению инфекциям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4920" y="1844280"/>
            <a:ext cx="828036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оловая распущенность и вседозволенность, вступление в интимные связи со случайными незнакомыми людьми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половые акты с женщинами легкого поведения, имеющими, как правило, контакты не только с нашими соотечественниками, но и с иностранными гражданами, в том числе из стран, где эти инфекции имеют широкое распространени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любые половые контакты без использования презервативов с партнерами, относящимися к группам с высоким риском инфицирования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филактика заболевани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бщение с постоянным сексуальным партнер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использование презервативов при половых контактах со случайными партнера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истематическое обследование людей, относящихся к группам риска: наркоманов, алкоголиков, проституток, бомжей и др.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обязательное обследование работников детских и медицинских учреждений, пищевых объектов, доноров крови, стационарных больных, беременных женщин и других категорий населен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облюдение правил личной гигиены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широкое санитарно-гигиеническое просвещение и нравственное воспитание населени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395280" y="1450080"/>
            <a:ext cx="8569440" cy="423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Какое из утверждений является вер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мало чем отличается от предыдущих пери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повы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Какую одну из самых частых причину раннего вступления в половую жизнь девушек-подростков называет психолог Ди Снайд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не чувствовать себя одинокой и быть популя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семью 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й расширить свой кругозор, получить новы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Прямоугольник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6570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468360" y="608400"/>
            <a:ext cx="813600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Какая причина с точки зрения психологов является достаточно обоснованной для вступления в половые отнош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удовлетворить естественные потре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На что отрицательно влияют ранние половые связ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и репродуктивно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Велика ли вероятность того, что ребёнок рожденный матерью, которой меньше 16 лет будет иметь нормальное умственное развит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 первую очередь зависит от от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рмальным будет только один из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 это относится только к периоду от 13 до 1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468360" y="321840"/>
            <a:ext cx="828036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В каком году в РФ было зафиксировано 97,9 тыс. случаев заболеваний сифилисом и 101,8 тыс. случаев заболеваний гоноре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2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5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Сколько процентов заражений венерическими заболеваниями происходят половым путё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Как увеличилось количество, вступивших в половые связи школьниц за последние пять л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6,4% до 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30% до 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0% до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250920" y="308520"/>
            <a:ext cx="856908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Верно ли утверждение: «Работники телефонов доверия для подростков отмечают, что по вопросам секса к ним обращаются дети 10 лет и даже 8-9 лет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Частично 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 Важно ли чтобы партнёры уважали друг друга при вступлении в половую связ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и любовь ни уважение не имеют особо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важной является только 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ажнейший фактор наряду с любов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468360" y="1916280"/>
            <a:ext cx="835164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мотреть видеоурок по теме «Ранние половые связи и их последств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s://www.youtube.com/watch?v=NjOmbErBNb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Что происходит, когда вы проходите через период полового созре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ea typeface="Calibri"/>
                <a:hlinkClick r:id="rId2"/>
              </a:rPr>
              <a:t>https://www.youtube.com/watch?v=bUizZObR3n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Ранний секс. По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рочитать §10.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смотреть презент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полнить тест письменно в тетра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править выполненную работу на проверку учителю Котовой Т.А.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ой «tatandkotova@mail.ru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отправке в теме указ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милию, имя, класс,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Прямоугольник 4" descr=""/>
          <p:cNvPicPr/>
          <p:nvPr/>
        </p:nvPicPr>
        <p:blipFill>
          <a:blip r:embed="rId3"/>
          <a:stretch/>
        </p:blipFill>
        <p:spPr>
          <a:xfrm>
            <a:off x="1517760" y="549360"/>
            <a:ext cx="6364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Причины ранних половых отношени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000" y="1052280"/>
            <a:ext cx="815652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чувствовать себя менее одиноким или стать популярно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продемонстрировать свою независимость от родителе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удержать любов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тому что «все это делают»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04040"/>
                </a:solidFill>
                <a:latin typeface="Calibri Light"/>
              </a:rPr>
              <a:t>Последств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ранняя беременность, которая чаще всего заканчивается абортом со всеми его негативными последствия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— браки, заключенные между юношами и девушками, не достигшими половой зрелости, нередко бывают бесплодными, дети, рождающиеся у таких родителей, — слабы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воспалительные заболевания половых путей и опасность заражения болезнями, передающимися половым путе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гинекологические заболевания как следствие аборта, беременности и родов в подростковом возрасте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трудноразрешимые социальные и морально-этические проблемы, связанные с ранним материнств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Инфекции, передаваемые половым путем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Инфекции, передаваемые половым путем (ИППП), - это группа инфекционных заболеваний, возбудители которых передаются преимущественно половым путе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2649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 инфекциям, передающимся половым путем, относятся 22 заболевания. Их условно разделяют на две группы: классические венерические болезни; другие инфекции, передающиеся половым путем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Классические венерические болезн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844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филис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читается самой страшной венерической болезнью. Возбудитель – бледная трепонема, имеющая вид тонкой спиралеобразной нити. Заражение происходит при тесном контакте с больным. Наиболее частый путь заражения – половой контакт, но возможен и бытовой, когда заражение происходит при поцелуе, пользовании предметами домашнего обихода, курении одной сигареты с больным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Гонорея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– заболевание, вызываемое гонококком. Передается половым путем. Во время контакта гонококк попадает на слизистую оболочку половых органов и мочеиспускательного канала и вызывает местное воспаление. Возможно и бытовое заражение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Другие инфекции, передающиеся половым путем. 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нитальный герпес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Чесотка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Трихомониа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Микоплазмо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ИЧ-инфекция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патит В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епсис новорожденных и т.д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Если появились явные признаки описанных выше болезней или возникает опасение по поводу ИППП, не раздумывайте и обращайтесь к врачу. Если после обследования выявлено венерическое заболевание, необходимо привлечь к лечению и вашего полового партнер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Запомните: сознательное заражение другого лица венерической болезнью является уголовно наказуемым. Оно наказывается значительным штрафом либо исправительными работами на срок от 1 до 2 лет, либо арестом на срок от 3 до 6 месяцев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4:14Z</dcterms:created>
  <dc:creator>Евгения</dc:creator>
  <dc:description/>
  <dc:language>en-US</dc:language>
  <cp:lastModifiedBy>home</cp:lastModifiedBy>
  <dcterms:modified xsi:type="dcterms:W3CDTF">2020-04-13T05:26:52Z</dcterms:modified>
  <cp:revision>21</cp:revision>
  <dc:subject/>
  <dc:title>Ранние половые связи и их последствия</dc:title>
</cp:coreProperties>
</file>