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831-A594-4BC9-875A-2D3E9EE9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C10-E867-4D27-9A14-F0B702F6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C49-8E6A-43FB-9782-3AF3EF16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5AA-3598-4FA3-87FB-DF7DC69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4EBA-7984-47B9-820B-EC98FC0E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ECCE-DE3B-4169-874F-02ABE48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1C75-CBDA-463B-8D2F-FD0DC235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1C2-C8B1-4415-B6D5-6439CCDA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B94-ED75-4F2B-B724-E88F4F6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ED9C-FCFC-4EF7-9C2F-6DCDD0F3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7384-80F7-411D-87B2-411468C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3DA-8E57-4E8A-8EA9-0494CAD5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638-2473-4AB4-9252-3E92357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66A-6ED6-4C05-9B40-AD201B6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1341-40C8-4A2F-B2C9-6C23161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87B3-6D45-4BCF-8A09-872DA8E1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638-A707-43BB-A91C-3146C3B2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7D05-43D3-4473-A401-766BC648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108C-74D0-4AE2-9A66-EEB43A3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12B4-E84C-4CFD-A5C8-A636AC2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67DE-2A88-4009-9E64-92C11F1E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ABE1-CF97-45FD-894E-4B96710E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A3B-B6F9-4566-816E-4C17EFA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1247-10B1-4153-89CF-41DEB63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3BFE-EDED-4DF3-AB73-A544C78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DB6D-023B-4D8B-85F4-640C238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7427-F3BE-4DC2-9A87-319EA69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32E7-25C0-47C2-8842-729BDEF0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55DA-61DF-4734-A310-58C47E4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9F9A-E01E-4AAC-91BC-54CCF040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8F0B-2AED-4298-AA5D-2C2D0EAF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B960-5A08-4803-944A-67D717D4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488F-54F2-48CA-BC86-07A810FA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C8D-1842-4B65-A779-C67095B1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0C34-5BD8-4EF4-91AB-8BDE7FF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8E2A-91E5-4F91-995A-0327A70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7BAE7-1535-4FB3-9579-4A0BAF5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A53D-E2A4-4011-95BA-9546C82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D04F-5ADB-4EA8-91B8-B0364B8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5C2B-122C-406D-B88E-0E7444A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8A11-3C4A-4ED3-B628-CA48716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64E0-B360-493A-8593-9C99E860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1F3F-3D55-4CC0-BEF9-6E718B6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1E0AC-C10E-4759-956C-D56F7B07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DBD-A9C9-4FDA-9CED-F13C631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578B-BC4B-4EC6-AA3F-8A9CA009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9940-28C1-481D-A8D6-91C1765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7B64E-53B2-4005-8933-967C8B04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5619-EDBF-46DB-83B2-9D6FD0B5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03CB-2E40-4339-A5E7-149D331E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4D7C-20C4-491D-AD62-6D4E327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9DCD-E27D-46F0-8105-E45697D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3498-E6DE-4904-80A3-E2F13F1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D093-F0A4-420C-97D7-F3152C4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F092-F958-4125-A702-98289B58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636-61DF-478E-B3D5-F20A448B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E3C9-3EA1-413B-84ED-E0749A04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CD40-13E2-4140-8F79-93C87408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E3A9-2E7D-4AAF-A1DB-3C8A5C64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E2C13-1DE9-4105-9CE6-C59A9882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5AD9C-8A30-4195-BA65-BD8FBFC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47C93-7C11-49DA-91CB-503591E3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2979-FC9F-4D0B-9BDE-5E017A1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485A-762E-4E08-A8E6-C7F5BC1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8B45C-73CC-4F19-A06F-608518C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A8DD-3D93-42D3-8E2B-C5CEBF3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059-5FC7-48E5-A701-485DA19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B714-13BC-4871-BE76-D2F57982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CC32-ECBA-4430-80DA-0CBF74DB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5804-8C1F-43AE-A2C0-853AF8C9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E2BC8-A577-4C18-B9BB-B9712B8E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AC62-BE11-4671-9F06-FD9BA16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8962C-C20F-4F27-A3AA-B0F7326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E997-4265-473A-A41A-5F7B76BC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10FA-2167-4714-AEA0-B1902B41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2B996-F7F8-4C13-8059-437A0B40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1C1CB-76A3-42A6-8FC4-558452A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46B-3441-4A4F-85B4-BC50969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8763-1B40-472C-96A6-D0CCA77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92C16-B2BD-4467-98BD-CF0B4CFD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1C09-2815-475A-902F-1065982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99510-AA86-4E7D-9C2E-D74BD2E8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A7C00-62FD-4F83-8416-004456E3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517-8A9A-427D-8A3E-FBBDC20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3B136-414B-4B01-A324-3E8AFADED1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7199A-F63F-4FB8-A228-3D32AA3CC4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FC8EC-9F8B-4556-8254-90E62A32DD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39C8F-3EAE-4573-BBA2-856059CC1F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537E4-D797-45AD-90BA-74E1CF8550F1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BDCD8-EB0A-46BE-80DE-99380A6EFE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4B1DF-9AC5-42E7-9F3D-6FC417FABB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jOmbErBNbk" TargetMode="External"/><Relationship Id="rId2" Type="http://schemas.openxmlformats.org/officeDocument/2006/relationships/hyperlink" Target="https://www.youtube.com/watch?v=bUizZObR3nc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ма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ние половые связи </a:t>
            </a:r>
            <a:br>
              <a:rPr sz="6000"/>
            </a:br>
            <a:r>
              <a:rPr b="1" lang="ru-RU" sz="6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 их последствия»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2916360" y="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Рисунок 2" descr=""/>
          <p:cNvPicPr/>
          <p:nvPr/>
        </p:nvPicPr>
        <p:blipFill>
          <a:blip r:embed="rId1"/>
          <a:srcRect l="6281" t="26378" r="70478" b="32283"/>
          <a:stretch/>
        </p:blipFill>
        <p:spPr>
          <a:xfrm>
            <a:off x="3132000" y="3662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Основные причины, способствующие заражению инфекциям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4920" y="1844280"/>
            <a:ext cx="828036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—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оловая распущенность и вседозволенность, вступление в интимные связи со случайными незнакомыми людьми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половые акты с женщинами легкого поведения, имеющими, как правило, контакты не только с нашими соотечественниками, но и с иностранными гражданами, в том числе из стран, где эти инфекции имеют широкое распространени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     — любые половые контакты без использования презервативов с партнерами, относящимися к группам с высоким риском инфицирования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 Light"/>
              </a:rPr>
              <a:t>Профилактика заболеваний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  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бщение с постоянным сексуальным партнер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использование презервативов при половых контактах со случайными партнера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истематическое обследование людей, относящихся к группам риска: наркоманов, алкоголиков, проституток, бомжей и др.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обязательное обследование работников детских и медицинских учреждений, пищевых объектов, доноров крови, стационарных больных, беременных женщин и других категорий населения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соблюдение правил личной гигиены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 — широкое санитарно-гигиеническое просвещение и нравственное воспитание населени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395280" y="1450080"/>
            <a:ext cx="8569440" cy="423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Какое из утверждений является вер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мало чем отличается от предыдущих пери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повы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огласно исследованиям, в последние годы среднестатистический возраст вступления в первый половой контакт сниж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Какую одну из самых частых причину раннего вступления в половую жизнь девушек-подростков называет психолог Ди Снайд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не чувствовать себя одинокой и быть популя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семью 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й расширить свой кругозор, получить новый опы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Прямоугольник 4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6570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468360" y="608400"/>
            <a:ext cx="813600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Какая причина с точки зрения психологов является достаточно обоснованной для вступления в половые отнош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удовлетворить естественные потре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Желание завести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На что отрицательно влияют ранние половые связ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а общее и репродуктивное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Велика ли вероятность того, что ребёнок рожденный матерью, которой меньше 16 лет будет иметь нормальное умственное развит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 первую очередь зависит от от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рмальным будет только один из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о это относится только к периоду от 13 до 16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468360" y="321840"/>
            <a:ext cx="8280360" cy="54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В каком году в РФ было зафиксировано 97,9 тыс. случаев заболеваний сифилисом и 101,8 тыс. случаев заболеваний гонорее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2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 2005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Сколько процентов заражений венерическими заболеваниями происходят половым путё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Как увеличилось количество, вступивших в половые связи школьниц за последние пять л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6,4% до 3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30% до 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с 10% до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250920" y="308520"/>
            <a:ext cx="856908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Верно ли утверждение: «Работники телефонов доверия для подростков отмечают, что по вопросам секса к ним обращаются дети 10 лет и даже 8-9 лет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Частично вер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 Важно ли чтобы партнёры уважали друг друга при вступлении в половую связ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ни любовь ни уважение не имеют особо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Нет, важной является только любов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454645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54645"/>
                </a:solidFill>
                <a:latin typeface="Times New Roman"/>
                <a:ea typeface="Times New Roman"/>
              </a:rPr>
              <a:t>Да, это важнейший фактор наряду с любов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468360" y="1916280"/>
            <a:ext cx="835164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мотреть видеоурок по теме «Ранние половые связи и их последств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s://www.youtube.com/watch?v=NjOmbErBNbk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Что происходит, когда вы проходите через период полового созре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1800" spc="-1" strike="noStrike" u="sng">
                <a:solidFill>
                  <a:srgbClr val="2998e3"/>
                </a:solidFill>
                <a:uFillTx/>
                <a:latin typeface="Calibri"/>
                <a:ea typeface="Calibri"/>
                <a:hlinkClick r:id="rId2"/>
              </a:rPr>
              <a:t>https://www.youtube.com/watch?v=bUizZObR3n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Ранний секс. Послед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рочитать §10.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смотреть презент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ыполнить тест письменно в тетра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править выполненную работу на проверку учителю Котовой Т.А.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бщением «В контакте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ой «tatandkotova@mail.ru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отправке в теме указа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милию, имя, класс, 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Прямоугольник 4" descr=""/>
          <p:cNvPicPr/>
          <p:nvPr/>
        </p:nvPicPr>
        <p:blipFill>
          <a:blip r:embed="rId3"/>
          <a:stretch/>
        </p:blipFill>
        <p:spPr>
          <a:xfrm>
            <a:off x="1517760" y="549360"/>
            <a:ext cx="6364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78920" y="-36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Причины ранних половых отношений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000" y="1052280"/>
            <a:ext cx="815652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чувствовать себя менее одиноким или стать популярно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продемонстрировать свою независимость от родителей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Чтобы удержать любовь;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Потому что «все это делают»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04040"/>
                </a:solidFill>
                <a:latin typeface="Calibri Light"/>
              </a:rPr>
              <a:t>Последствия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  — 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ранняя беременность, которая чаще всего заканчивается абортом со всеми его негативными последствия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— браки, заключенные между юношами и девушками, не достигшими половой зрелости, нередко бывают бесплодными, дети, рождающиеся у таких родителей, — слабыми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воспалительные заболевания половых путей и опасность заражения болезнями, передающимися половым путе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— гинекологические заболевания как следствие аборта, беременности и родов в подростковом возрасте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трудноразрешимые социальные и морально-этические проблемы, связанные с ранним материнством;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  — ранняя половая жизнь опасна тем, что приводит к нарушению гормональной регуляции репродуктивной системы, которая в этом возрасте только налаживается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Calibri Light"/>
              </a:rPr>
              <a:t>Инфекции, передаваемые половым путем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Инфекции, передаваемые половым путем (ИППП), - это группа инфекционных заболеваний, возбудители которых передаются преимущественно половым путе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2649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К инфекциям, передающимся половым путем, относятся 22 заболевания. Их условно разделяют на две группы: классические венерические болезни; другие инфекции, передающиеся половым путем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Классические венерические болезн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844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Сифилис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считается самой страшной венерической болезнью. Возбудитель – бледная трепонема, имеющая вид тонкой спиралеобразной нити. Заражение происходит при тесном контакте с больным. Наиболее частый путь заражения – половой контакт, но возможен и бытовой, когда заражение происходит при поцелуе, пользовании предметами домашнего обихода, курении одной сигареты с больным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Гонорея </a:t>
            </a: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– заболевание, вызываемое гонококком. Передается половым путем. Во время контакта гонококк попадает на слизистую оболочку половых органов и мочеиспускательного канала и вызывает местное воспаление. Возможно и бытовое заражение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 Light"/>
              </a:rPr>
              <a:t>Другие инфекции, передающиеся половым путем. </a:t>
            </a:r>
            <a:br>
              <a:rPr sz="3600"/>
            </a:b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нитальный герпес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Чесотка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Трихомониа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Микоплазмоз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ИЧ-инфекция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Гепатит В,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Сепсис новорожденных и т.д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Если появились явные признаки описанных выше болезней или возникает опасение по поводу ИППП, не раздумывайте и обращайтесь к врачу. Если после обследования выявлено венерическое заболевание, необходимо привлечь к лечению и вашего полового партнер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Запомните: сознательное заражение другого лица венерической болезнью является уголовно наказуемым. Оно наказывается значительным штрафом либо исправительными работами на срок от 1 до 2 лет, либо арестом на срок от 3 до 6 месяцев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7:04:14Z</dcterms:created>
  <dc:creator>Евгения</dc:creator>
  <dc:description/>
  <dc:language>en-US</dc:language>
  <cp:lastModifiedBy>home</cp:lastModifiedBy>
  <dcterms:modified xsi:type="dcterms:W3CDTF">2020-04-13T05:26:52Z</dcterms:modified>
  <cp:revision>21</cp:revision>
  <dc:subject/>
  <dc:title>Ранние половые связи и их последствия</dc:title>
</cp:coreProperties>
</file>