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8A7-D7FE-4C0A-8A2C-5B0FE78D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655-25C1-422D-95A3-99EEC9FA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08B-412C-482C-8134-742D28C9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977-DA9F-4503-AFDE-01231777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D6F6-96F6-4F91-841B-399F8ABC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BCB-1AFB-4A1D-8986-2849450A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EC2-D3AA-41C3-8599-BDD1FBFF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E8FC-0DA3-4952-9B7F-801DD778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6C8-995A-4425-81F2-8E3D793D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4C4-4DCD-4CC2-8903-F76D494B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372-73EC-4168-9028-40A0288A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44B3-0FFE-4CAB-915C-301398E5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9476-4AA4-4A9E-9157-4F2A0BA383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6765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e5ffff"/>
                </a:solidFill>
                <a:latin typeface="Tahoma"/>
              </a:rPr>
              <a:t>КӘСІПОРЫННЫҢ АЙНАЛЫМ КАПИТАЛЫ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76360" y="3962160"/>
            <a:ext cx="5562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Palatino Linotype"/>
              </a:rPr>
              <a:t>«Кәсіпорын экономикасы» пән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Palatino Linotype"/>
              </a:rPr>
              <a:t>экономика ғылымдарының магистрі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Palatino Linotype"/>
              </a:rPr>
              <a:t>аға оқытушы Тлеубергенова М.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Айналым құралдарының бір айналымының ұзақтығын былайша есептеледі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0" y="35053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ұндағ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 – айналымның ұзақтығы, күндер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– айналым құралдарының қалдығы, теңг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 – тауарлық өнім көлемі,теңг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 – қарастырылатын кезеңдегі күндер са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514600" y="2133720"/>
            <a:ext cx="3886200" cy="990360"/>
          </a:xfrm>
          <a:prstGeom prst="rect">
            <a:avLst/>
          </a:prstGeom>
          <a:solidFill>
            <a:srgbClr val="0099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=С:(Т/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Кезеңдегі айналымдар саны немесе айналым құралдарының айналымдылық коэффициенті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286000" y="2057400"/>
            <a:ext cx="4191120" cy="99072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Т/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3656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йналымдағы құралдардың жүктелім коэффициенті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286000" y="5105520"/>
            <a:ext cx="4191120" cy="99036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Tahoma"/>
              </a:rPr>
              <a:t>з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=С/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685800" y="457200"/>
            <a:ext cx="7315200" cy="685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йналым құралдарын пайдаланудың сыртқы факторл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461960" y="1793880"/>
            <a:ext cx="7162920" cy="658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алпы экономикалық ситуац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оугольник 7"/>
          <p:cNvSpPr/>
          <p:nvPr/>
        </p:nvSpPr>
        <p:spPr>
          <a:xfrm>
            <a:off x="1461960" y="2773440"/>
            <a:ext cx="7162920" cy="658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алық заңнамасының ерекшеліктер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1484280" y="3751200"/>
            <a:ext cx="7162920" cy="658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сие алу шарттары және олардың проценттік ставкалар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1495440" y="4772160"/>
            <a:ext cx="7162920" cy="658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қсатты қаржыландыру мүмкіндігі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1495440" y="5791320"/>
            <a:ext cx="7162920" cy="65880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юджеттен қаржыландырылатын бағдарламаларға қатыс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4. 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Айналым қорларын пайдалануды бағалау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йналым қорларын пайдалануды жан-жақты жақсарту - өндіру көлемін арттыруға мүмкіндік беред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риалдық ресурстардың жалпы шығыны – бұл есепті кезеңде барлық өндірістік бағдарламаны орындауға материалдық ресурстардың жекелеген түрлерін немесе барлығын тұтын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5"/>
          <p:cNvSpPr/>
          <p:nvPr/>
        </p:nvSpPr>
        <p:spPr>
          <a:xfrm>
            <a:off x="152280" y="4876920"/>
            <a:ext cx="8763120" cy="1828800"/>
          </a:xfrm>
          <a:custGeom>
            <a:avLst/>
            <a:gdLst>
              <a:gd name="textAreaLeft" fmla="*/ 1263600 w 8763120"/>
              <a:gd name="textAreaRight" fmla="*/ 7499520 w 8763120"/>
              <a:gd name="textAreaTop" fmla="*/ 349560 h 1828800"/>
              <a:gd name="textAreaBottom" fmla="*/ 175392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7468"/>
                </a:moveTo>
                <a:arcTo wR="21600" hR="13577" stAng="7954061" swAng="-681986"/>
                <a:lnTo>
                  <a:pt x="3115" y="20712"/>
                </a:lnTo>
                <a:arcTo wR="21600" hR="13577" stAng="7272075" swAng="-3744149"/>
                <a:lnTo>
                  <a:pt x="18485" y="18399"/>
                </a:lnTo>
                <a:arcTo wR="21600" hR="13577" stAng="3527925" swAng="-681986"/>
                <a:lnTo>
                  <a:pt x="18900" y="9562"/>
                </a:lnTo>
                <a:lnTo>
                  <a:pt x="21600" y="0"/>
                </a:lnTo>
                <a:lnTo>
                  <a:pt x="21600" y="0"/>
                </a:lnTo>
                <a:arcTo wR="21600" hR="13577" stAng="2845939" swAng="1313633"/>
                <a:lnTo>
                  <a:pt x="15785" y="3765"/>
                </a:lnTo>
                <a:arcTo wR="21600" hR="13577" stAng="4159572" swAng="2480855"/>
                <a:lnTo>
                  <a:pt x="5815" y="1452"/>
                </a:lnTo>
                <a:arcTo wR="21600" hR="13577" stAng="6640428" swAng="1313633"/>
                <a:lnTo>
                  <a:pt x="2700" y="9562"/>
                </a:lnTo>
                <a:close/>
              </a:path>
              <a:path fill="none" w="21600" h="21600">
                <a:moveTo>
                  <a:pt x="5815" y="3765"/>
                </a:moveTo>
                <a:arcTo wR="21600" hR="13577" stAng="6640428" swAng="631647"/>
                <a:lnTo>
                  <a:pt x="5815" y="1452"/>
                </a:lnTo>
              </a:path>
              <a:path fill="none" w="21600" h="21600">
                <a:moveTo>
                  <a:pt x="15785" y="3765"/>
                </a:moveTo>
                <a:arcTo wR="21600" hR="13577" stAng="4159572" swAng="-631647"/>
                <a:lnTo>
                  <a:pt x="15785" y="1452"/>
                </a:lnTo>
              </a:path>
              <a:path fill="none" w="21600" h="21600">
                <a:moveTo>
                  <a:pt x="3115" y="18399"/>
                </a:moveTo>
                <a:lnTo>
                  <a:pt x="3115" y="3244"/>
                </a:lnTo>
              </a:path>
              <a:path fill="none" w="21600" h="21600">
                <a:moveTo>
                  <a:pt x="18485" y="18399"/>
                </a:moveTo>
                <a:lnTo>
                  <a:pt x="18485" y="3244"/>
                </a:lnTo>
              </a:path>
            </a:pathLst>
          </a:cu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525780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5ffff"/>
                </a:solidFill>
                <a:latin typeface="Tahoma"/>
              </a:rPr>
              <a:t>Өнімнің материал сиымдылығының көрсеткіштері жоғарыда көрсетілген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52280" y="380880"/>
            <a:ext cx="4496040" cy="4191120"/>
          </a:xfrm>
          <a:prstGeom prst="verticalScroll">
            <a:avLst>
              <a:gd name="adj" fmla="val 12500"/>
            </a:avLst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Өндірілген өнімнің физикалы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ірлігіне шаққандағ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материалдық ресурстардың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үлестік шығыныме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(үлестік материа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сиымдылығы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ahoma"/>
              </a:rPr>
              <a:t>M=m=Q/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4419720" y="380880"/>
            <a:ext cx="4495680" cy="4191120"/>
          </a:xfrm>
          <a:prstGeom prst="verticalScroll">
            <a:avLst>
              <a:gd name="adj" fmla="val 12500"/>
            </a:avLst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Өндірілген өнімнің физикалы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ірлігіне кететін бірнеш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материалдық ресурстардың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ұндық өлшемдег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шығынымен (тенге/т, м2, м3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Tahoma"/>
              </a:rPr>
              <a:t>M=Q x P/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3560"/>
            <a:ext cx="8040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5.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Айналым құралдарын басқару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Oval 18"/>
          <p:cNvSpPr/>
          <p:nvPr/>
        </p:nvSpPr>
        <p:spPr>
          <a:xfrm>
            <a:off x="2741760" y="1182600"/>
            <a:ext cx="3733560" cy="167652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Айналым құралдары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басқару міндеттер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Овал 1"/>
          <p:cNvSpPr/>
          <p:nvPr/>
        </p:nvSpPr>
        <p:spPr>
          <a:xfrm>
            <a:off x="93600" y="2247840"/>
            <a:ext cx="3581640" cy="266724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әсіпорынның үздіксіз және ырғақты жұмысы мақсатында айналым активтерін аванстау үшін минимальды жеткілікті құралдарды есепте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Овал 6"/>
          <p:cNvSpPr/>
          <p:nvPr/>
        </p:nvSpPr>
        <p:spPr>
          <a:xfrm>
            <a:off x="2828880" y="4057560"/>
            <a:ext cx="3581280" cy="266724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питал айналымының әрбір сатысында айналым құралдарының айналымдылығын жеделдет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Овал 7"/>
          <p:cNvSpPr/>
          <p:nvPr/>
        </p:nvSpPr>
        <p:spPr>
          <a:xfrm>
            <a:off x="5562720" y="2247840"/>
            <a:ext cx="3581280" cy="2667240"/>
          </a:xfrm>
          <a:prstGeom prst="ellipse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рзан бағалы және тез тозатын заттарды амортизациялау, тауарлық-материалдық құндылықтарды есептен шығару әдістерін таңдау жолымен салық салуды оңтайландыру үшін кәсіпорынның есеп саясатын жүргіз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5120" y="1519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5ffff"/>
                </a:solidFill>
                <a:latin typeface="Tahoma"/>
              </a:rPr>
              <a:t>Блиц тес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6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987480"/>
            <a:ext cx="856440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Пайдаланылған әдебиеттер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120" y="15238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Курманалина А.А., Тлеубергенова М.А. Кәсіпорын экономикасы: дәрістер курсы. – Алматы: Эверо, 20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Үмбиталиев А.Д. Кәсіпорын экономикасы: Оқулық. Екінші басылым/А.Д. Үмбиталиев, Ғ.Е.Керімбек, К.Б.Сатымбекова/Алматы: TechSmith, 20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Горелов А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әсіпорын экономикасы: Оқу-әдістемелік курс/ - Алматы: Отан, 2015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Оразалин К.Ж. Кәсіпорын экономикасы: Оқу құралы / К. Ж. Оразалин. - Алматы: LEM, 2014. - 296 бе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kk-KZ" sz="2400" spc="-1" strike="noStrike">
                <a:solidFill>
                  <a:srgbClr val="ffffff"/>
                </a:solidFill>
                <a:latin typeface="Tahoma"/>
              </a:rPr>
              <a:t>Куатова Д.Я. Экономика предприятия: практический курс – Алматы, 201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5ffff"/>
                </a:solidFill>
                <a:latin typeface="Tahoma"/>
              </a:rPr>
              <a:t>Дәріс жоспары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4520" y="1066680"/>
            <a:ext cx="84945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йналым</a:t>
            </a: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 капиталы: оның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құрамы </a:t>
            </a: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мен құрылымы,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жіктелу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йналым құралдарын</a:t>
            </a: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а деген қажеттілікті анықтау әдістері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Өндірістегі айналым құралдарын пайдаланудың көрсеткіштер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ahoma"/>
              </a:rPr>
              <a:t>Айналым қорларын пайдалануды бағала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йналым құралдарын басқа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Georgia"/>
              </a:rPr>
              <a:t>1. </a:t>
            </a:r>
            <a:r>
              <a:rPr b="1" lang="ru-RU" sz="2800" spc="-1" strike="noStrike">
                <a:solidFill>
                  <a:srgbClr val="e5ffff"/>
                </a:solidFill>
                <a:latin typeface="Georgia"/>
              </a:rPr>
              <a:t>Айналым</a:t>
            </a:r>
            <a:r>
              <a:rPr b="1" lang="kk-KZ" sz="2800" spc="-1" strike="noStrike">
                <a:solidFill>
                  <a:srgbClr val="e5ffff"/>
                </a:solidFill>
                <a:latin typeface="Georgia"/>
              </a:rPr>
              <a:t> капиталы: оның </a:t>
            </a:r>
            <a:r>
              <a:rPr b="1" lang="ru-RU" sz="2800" spc="-1" strike="noStrike">
                <a:solidFill>
                  <a:srgbClr val="e5ffff"/>
                </a:solidFill>
                <a:latin typeface="Georgia"/>
              </a:rPr>
              <a:t> құрамы </a:t>
            </a:r>
            <a:r>
              <a:rPr b="1" lang="kk-KZ" sz="2800" spc="-1" strike="noStrike">
                <a:solidFill>
                  <a:srgbClr val="e5ffff"/>
                </a:solidFill>
                <a:latin typeface="Georgia"/>
              </a:rPr>
              <a:t>мен құрылымы, </a:t>
            </a:r>
            <a:r>
              <a:rPr b="1" lang="ru-RU" sz="2800" spc="-1" strike="noStrike">
                <a:solidFill>
                  <a:srgbClr val="e5ffff"/>
                </a:solidFill>
                <a:latin typeface="Georgia"/>
              </a:rPr>
              <a:t> жіктелуі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йналым капитал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өндірістік айналым қорлары мен айналыс қорларын құруды және олардың үздіксіз айналымдылығын қамтамасыз ететін алдын-ала бөлінген ақшалай қаражаттардың жиынтығ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kk-KZ" sz="2800" spc="-1" strike="noStrike">
                <a:solidFill>
                  <a:srgbClr val="ffffff"/>
                </a:solidFill>
                <a:latin typeface="Tahoma"/>
              </a:rPr>
              <a:t>Айналым құралдарының құрамы</a:t>
            </a: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– бұл айналым құралдарын құрайтын элементтердің жиынтығ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2286000" y="228600"/>
            <a:ext cx="46483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5ffff"/>
                </a:solidFill>
                <a:latin typeface="Tahoma"/>
              </a:rPr>
              <a:t>Кәсіпорынның айналым құралд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181480" y="1295280"/>
            <a:ext cx="3733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5ffff"/>
                </a:solidFill>
                <a:latin typeface="Tahoma"/>
              </a:rPr>
              <a:t>Айналыс қорл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52280" y="1295280"/>
            <a:ext cx="411480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5ffff"/>
                </a:solidFill>
                <a:latin typeface="Tahoma"/>
              </a:rPr>
              <a:t>Айналмалы өндірістік қорл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52280" y="2209680"/>
            <a:ext cx="4114800" cy="2743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e5ffff"/>
                </a:solidFill>
                <a:latin typeface="Tahoma"/>
              </a:rPr>
              <a:t>Өндірістік запастар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kk-KZ" sz="1600" spc="-1" strike="noStrike">
                <a:solidFill>
                  <a:srgbClr val="e5ffff"/>
                </a:solidFill>
                <a:latin typeface="Tahoma"/>
              </a:rPr>
              <a:t>Шикіза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e5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kk-KZ" sz="1600" spc="-1" strike="noStrike">
                <a:solidFill>
                  <a:srgbClr val="e5ffff"/>
                </a:solidFill>
                <a:latin typeface="Tahoma"/>
              </a:rPr>
              <a:t>Негізгі және көмекші материалд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ын, жанар-жағарма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атып алынған жартылай фабрикатт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н комплектіленетін бұйымд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ыдыс және ыдыс материалда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ғымдағы жөндеуге арналған қосалқ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өлшекте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рзан бағалы және тез тозаты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ұйымдар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152280" y="5105520"/>
            <a:ext cx="411480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яқталмаған өндіріс және өздер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йындайтын жартылай фабрикатта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152280" y="5943600"/>
            <a:ext cx="411480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5ffff"/>
                </a:solidFill>
                <a:latin typeface="Tahoma"/>
              </a:rPr>
              <a:t>Болашақ кезеңнің шығынд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5181480" y="2209680"/>
            <a:ext cx="3733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Қоймалардағы дайын өні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5181480" y="3200400"/>
            <a:ext cx="3733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олдағы тауарлар (тиелген өні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Rectangle 20"/>
          <p:cNvSpPr/>
          <p:nvPr/>
        </p:nvSpPr>
        <p:spPr>
          <a:xfrm>
            <a:off x="5181480" y="4191120"/>
            <a:ext cx="3733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қшалай қаражатт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5181480" y="5105520"/>
            <a:ext cx="37339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Дебиторлық қарыз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23"/>
          <p:cNvSpPr/>
          <p:nvPr/>
        </p:nvSpPr>
        <p:spPr>
          <a:xfrm>
            <a:off x="6934320" y="5335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7543800" y="5335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Line 25"/>
          <p:cNvSpPr/>
          <p:nvPr/>
        </p:nvSpPr>
        <p:spPr>
          <a:xfrm flipH="1">
            <a:off x="1599840" y="533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Line 26"/>
          <p:cNvSpPr/>
          <p:nvPr/>
        </p:nvSpPr>
        <p:spPr>
          <a:xfrm>
            <a:off x="1600200" y="5335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27"/>
          <p:cNvSpPr/>
          <p:nvPr/>
        </p:nvSpPr>
        <p:spPr>
          <a:xfrm>
            <a:off x="4267080" y="16002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28"/>
          <p:cNvSpPr/>
          <p:nvPr/>
        </p:nvSpPr>
        <p:spPr>
          <a:xfrm>
            <a:off x="4648320" y="1600200"/>
            <a:ext cx="0" cy="464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29"/>
          <p:cNvSpPr/>
          <p:nvPr/>
        </p:nvSpPr>
        <p:spPr>
          <a:xfrm flipH="1">
            <a:off x="4266720" y="624852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30"/>
          <p:cNvSpPr/>
          <p:nvPr/>
        </p:nvSpPr>
        <p:spPr>
          <a:xfrm flipH="1">
            <a:off x="4266720" y="5410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31"/>
          <p:cNvSpPr/>
          <p:nvPr/>
        </p:nvSpPr>
        <p:spPr>
          <a:xfrm flipH="1">
            <a:off x="4266720" y="35812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32"/>
          <p:cNvSpPr/>
          <p:nvPr/>
        </p:nvSpPr>
        <p:spPr>
          <a:xfrm flipH="1">
            <a:off x="480060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4800600" y="1600200"/>
            <a:ext cx="0" cy="3809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34"/>
          <p:cNvSpPr/>
          <p:nvPr/>
        </p:nvSpPr>
        <p:spPr>
          <a:xfrm>
            <a:off x="4800600" y="5410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35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4800600" y="3581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Line 37"/>
          <p:cNvSpPr/>
          <p:nvPr/>
        </p:nvSpPr>
        <p:spPr>
          <a:xfrm>
            <a:off x="4800600" y="2590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Айналым құралдарының жекелеген элементтері немесе олардың құрамды бөліктері арасындағы арақатынас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айналым құралдарының құрылымы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деп аталады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2438280" y="1295280"/>
            <a:ext cx="4648320" cy="6858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Айналым құралдарының жіктелу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685800" y="2133720"/>
            <a:ext cx="304812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оспарлау дәрежес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ойынш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AutoShape 7"/>
          <p:cNvSpPr/>
          <p:nvPr/>
        </p:nvSpPr>
        <p:spPr>
          <a:xfrm>
            <a:off x="5334120" y="2133720"/>
            <a:ext cx="304776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алыптастыру көздер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ойынш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8"/>
          <p:cNvSpPr/>
          <p:nvPr/>
        </p:nvSpPr>
        <p:spPr>
          <a:xfrm rot="15477600">
            <a:off x="1523880" y="4495680"/>
            <a:ext cx="3276720" cy="990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Нормаланбайтын айнал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ұралд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AutoShape 9"/>
          <p:cNvSpPr/>
          <p:nvPr/>
        </p:nvSpPr>
        <p:spPr>
          <a:xfrm rot="16812600">
            <a:off x="-514080" y="4496760"/>
            <a:ext cx="3276360" cy="990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Нормаланатын айнал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құралд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AutoShape 10"/>
          <p:cNvSpPr/>
          <p:nvPr/>
        </p:nvSpPr>
        <p:spPr>
          <a:xfrm rot="16726200">
            <a:off x="3886200" y="4495680"/>
            <a:ext cx="3429000" cy="9903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еке менші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AutoShape 11"/>
          <p:cNvSpPr/>
          <p:nvPr/>
        </p:nvSpPr>
        <p:spPr>
          <a:xfrm rot="15670200">
            <a:off x="6553080" y="4495320"/>
            <a:ext cx="3429000" cy="990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Тартылған қаражатт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AutoShape 12"/>
          <p:cNvSpPr/>
          <p:nvPr/>
        </p:nvSpPr>
        <p:spPr>
          <a:xfrm rot="16200000">
            <a:off x="5219640" y="4533840"/>
            <a:ext cx="3353040" cy="9907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алға алынған қаражатт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AutoShape 13"/>
          <p:cNvSpPr/>
          <p:nvPr/>
        </p:nvSpPr>
        <p:spPr>
          <a:xfrm rot="5180400">
            <a:off x="7010280" y="1600200"/>
            <a:ext cx="609480" cy="304560"/>
          </a:xfrm>
          <a:custGeom>
            <a:avLst/>
            <a:gdLst>
              <a:gd name="textAreaLeft" fmla="*/ 350640 w 609480"/>
              <a:gd name="textAreaRight" fmla="*/ 514440 w 609480"/>
              <a:gd name="textAreaTop" fmla="*/ 41040 h 304560"/>
              <a:gd name="textAreaBottom" fmla="*/ 13032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AutoShape 15"/>
          <p:cNvSpPr/>
          <p:nvPr/>
        </p:nvSpPr>
        <p:spPr>
          <a:xfrm flipH="1" rot="16692000">
            <a:off x="1904400" y="1599840"/>
            <a:ext cx="609480" cy="305280"/>
          </a:xfrm>
          <a:custGeom>
            <a:avLst/>
            <a:gdLst>
              <a:gd name="textAreaLeft" fmla="*/ 350640 w 609480"/>
              <a:gd name="textAreaRight" fmla="*/ 514440 w 609480"/>
              <a:gd name="textAreaTop" fmla="*/ 41040 h 305280"/>
              <a:gd name="textAreaBottom" fmla="*/ 130680 h 305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2. </a:t>
            </a: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Айналым құралдарына деген қажеттілікті анықтау әдістері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әсіпорынның жеке меншік айналым құралдарына деген қажеттілігін анықтау нормалау процесінде, яғни айналым құралдарының нормативтерін анықтау кезінде іске асырыла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80880" y="2286000"/>
            <a:ext cx="5410440" cy="457200"/>
          </a:xfrm>
          <a:prstGeom prst="rect">
            <a:avLst/>
          </a:prstGeom>
          <a:solidFill>
            <a:srgbClr val="0099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йналым құралдарын нормалаудың әдістері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295280" y="2895480"/>
            <a:ext cx="7696440" cy="1371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ікелей есеп әдісі кәсіпорынның ұйымдық-техникалық даму деңгейіндегі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уарлық-материалдық құндылықтарды тасымалдаудағы, кәсіпорынд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расындағы есеп айырысу тәжірибесіндегі барлық өзгерістерді есепке ал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ырып айналым құралдарының әрбір элементі бойынша запастардың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егізделген есептелуін қарастырад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295280" y="4495680"/>
            <a:ext cx="7696440" cy="10670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араптамалық әдіс жоспарланатын кезеңде алдыңғы кезеңме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алыстырғанда кәсіпорын жұмысында айтарлықтай өзгерістер қарастырылма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қолданылад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295280" y="5791320"/>
            <a:ext cx="7696440" cy="838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эффициенттік әдісте жаңа норматив өндіріс, жабдықтау, өнімді сату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ептеулер жағдайын ескере отырып алдыңғы кезеңдегі баз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рмативтеріне өзгерістер енгізу жолымен анықталад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533520" y="2743200"/>
            <a:ext cx="0" cy="3429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33520" y="61722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533520" y="49528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533520" y="350532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йналым құралдарын жоспарлаудың, реттеудің, бақылаудың ыңғайлылығы үшін өндірістік запастар келесідей бөлінеді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AutoShape 6"/>
          <p:cNvSpPr/>
          <p:nvPr/>
        </p:nvSpPr>
        <p:spPr>
          <a:xfrm rot="20724000">
            <a:off x="0" y="1523520"/>
            <a:ext cx="3735360" cy="2286000"/>
          </a:xfrm>
          <a:custGeom>
            <a:avLst/>
            <a:gdLst>
              <a:gd name="textAreaLeft" fmla="*/ 699480 w 3735360"/>
              <a:gd name="textAreaRight" fmla="*/ 3035880 w 3735360"/>
              <a:gd name="textAreaTop" fmla="*/ 428040 h 2286000"/>
              <a:gd name="textAreaBottom" fmla="*/ 18579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424" y="12622"/>
                </a:lnTo>
                <a:lnTo>
                  <a:pt x="786" y="14846"/>
                </a:lnTo>
                <a:lnTo>
                  <a:pt x="2790" y="16002"/>
                </a:lnTo>
                <a:lnTo>
                  <a:pt x="3163" y="18437"/>
                </a:lnTo>
                <a:lnTo>
                  <a:pt x="5459" y="18718"/>
                </a:lnTo>
                <a:lnTo>
                  <a:pt x="6580" y="20741"/>
                </a:lnTo>
                <a:lnTo>
                  <a:pt x="8814" y="20142"/>
                </a:lnTo>
                <a:lnTo>
                  <a:pt x="10800" y="21600"/>
                </a:lnTo>
                <a:lnTo>
                  <a:pt x="12622" y="20176"/>
                </a:lnTo>
                <a:lnTo>
                  <a:pt x="14846" y="20814"/>
                </a:lnTo>
                <a:lnTo>
                  <a:pt x="16002" y="18810"/>
                </a:lnTo>
                <a:lnTo>
                  <a:pt x="18437" y="18437"/>
                </a:lnTo>
                <a:lnTo>
                  <a:pt x="18718" y="16141"/>
                </a:lnTo>
                <a:lnTo>
                  <a:pt x="20741" y="15020"/>
                </a:lnTo>
                <a:lnTo>
                  <a:pt x="20142" y="12786"/>
                </a:lnTo>
                <a:lnTo>
                  <a:pt x="21600" y="10800"/>
                </a:lnTo>
                <a:lnTo>
                  <a:pt x="20176" y="8978"/>
                </a:lnTo>
                <a:lnTo>
                  <a:pt x="20814" y="6754"/>
                </a:lnTo>
                <a:lnTo>
                  <a:pt x="18810" y="5598"/>
                </a:lnTo>
                <a:lnTo>
                  <a:pt x="18437" y="3163"/>
                </a:lnTo>
                <a:lnTo>
                  <a:pt x="16141" y="2882"/>
                </a:lnTo>
                <a:lnTo>
                  <a:pt x="15020" y="859"/>
                </a:lnTo>
                <a:lnTo>
                  <a:pt x="12786" y="1458"/>
                </a:lnTo>
                <a:lnTo>
                  <a:pt x="10800" y="0"/>
                </a:lnTo>
                <a:lnTo>
                  <a:pt x="8978" y="1424"/>
                </a:lnTo>
                <a:lnTo>
                  <a:pt x="6754" y="786"/>
                </a:lnTo>
                <a:lnTo>
                  <a:pt x="5598" y="2790"/>
                </a:lnTo>
                <a:lnTo>
                  <a:pt x="3163" y="3163"/>
                </a:lnTo>
                <a:lnTo>
                  <a:pt x="2882" y="5459"/>
                </a:lnTo>
                <a:lnTo>
                  <a:pt x="859" y="6580"/>
                </a:lnTo>
                <a:lnTo>
                  <a:pt x="1458" y="8814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ғымдағы запа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кі кезекті жеткізу арасындағ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әсіпорынның үздіксіз жұмысы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қамтамасыз ету үшін қажетті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пастың негізгі түрі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7"/>
          <p:cNvSpPr/>
          <p:nvPr/>
        </p:nvSpPr>
        <p:spPr>
          <a:xfrm rot="20589600">
            <a:off x="3047760" y="2590560"/>
            <a:ext cx="2895480" cy="2209680"/>
          </a:xfrm>
          <a:custGeom>
            <a:avLst/>
            <a:gdLst>
              <a:gd name="textAreaLeft" fmla="*/ 556200 w 2895480"/>
              <a:gd name="textAreaRight" fmla="*/ 2339280 w 2895480"/>
              <a:gd name="textAreaTop" fmla="*/ 424440 h 2209680"/>
              <a:gd name="textAreaBottom" fmla="*/ 17852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433" y="11620"/>
                </a:lnTo>
                <a:lnTo>
                  <a:pt x="198" y="12861"/>
                </a:lnTo>
                <a:lnTo>
                  <a:pt x="1761" y="13392"/>
                </a:lnTo>
                <a:lnTo>
                  <a:pt x="786" y="14846"/>
                </a:lnTo>
                <a:lnTo>
                  <a:pt x="2498" y="15214"/>
                </a:lnTo>
                <a:lnTo>
                  <a:pt x="1742" y="16682"/>
                </a:lnTo>
                <a:lnTo>
                  <a:pt x="3492" y="16717"/>
                </a:lnTo>
                <a:lnTo>
                  <a:pt x="3163" y="18437"/>
                </a:lnTo>
                <a:lnTo>
                  <a:pt x="4756" y="18003"/>
                </a:lnTo>
                <a:lnTo>
                  <a:pt x="4761" y="19754"/>
                </a:lnTo>
                <a:lnTo>
                  <a:pt x="6241" y="19024"/>
                </a:lnTo>
                <a:lnTo>
                  <a:pt x="6580" y="20741"/>
                </a:lnTo>
                <a:lnTo>
                  <a:pt x="8051" y="19792"/>
                </a:lnTo>
                <a:lnTo>
                  <a:pt x="8555" y="21364"/>
                </a:lnTo>
                <a:lnTo>
                  <a:pt x="9817" y="20151"/>
                </a:lnTo>
                <a:lnTo>
                  <a:pt x="10800" y="21600"/>
                </a:lnTo>
                <a:lnTo>
                  <a:pt x="11620" y="20167"/>
                </a:lnTo>
                <a:lnTo>
                  <a:pt x="12861" y="21402"/>
                </a:lnTo>
                <a:lnTo>
                  <a:pt x="13392" y="19839"/>
                </a:lnTo>
                <a:lnTo>
                  <a:pt x="14846" y="20814"/>
                </a:lnTo>
                <a:lnTo>
                  <a:pt x="15214" y="19102"/>
                </a:lnTo>
                <a:lnTo>
                  <a:pt x="16682" y="19858"/>
                </a:lnTo>
                <a:lnTo>
                  <a:pt x="16717" y="18108"/>
                </a:lnTo>
                <a:lnTo>
                  <a:pt x="18437" y="18437"/>
                </a:lnTo>
                <a:lnTo>
                  <a:pt x="18003" y="16844"/>
                </a:lnTo>
                <a:lnTo>
                  <a:pt x="19754" y="16839"/>
                </a:lnTo>
                <a:lnTo>
                  <a:pt x="19024" y="15359"/>
                </a:lnTo>
                <a:lnTo>
                  <a:pt x="20741" y="15020"/>
                </a:lnTo>
                <a:lnTo>
                  <a:pt x="19792" y="13549"/>
                </a:lnTo>
                <a:lnTo>
                  <a:pt x="21364" y="13045"/>
                </a:lnTo>
                <a:lnTo>
                  <a:pt x="20151" y="11783"/>
                </a:lnTo>
                <a:lnTo>
                  <a:pt x="21600" y="10800"/>
                </a:lnTo>
                <a:lnTo>
                  <a:pt x="20167" y="9980"/>
                </a:lnTo>
                <a:lnTo>
                  <a:pt x="21402" y="8739"/>
                </a:lnTo>
                <a:lnTo>
                  <a:pt x="19839" y="8208"/>
                </a:lnTo>
                <a:lnTo>
                  <a:pt x="20814" y="6754"/>
                </a:lnTo>
                <a:lnTo>
                  <a:pt x="19102" y="6386"/>
                </a:lnTo>
                <a:lnTo>
                  <a:pt x="19858" y="4918"/>
                </a:lnTo>
                <a:lnTo>
                  <a:pt x="18108" y="4883"/>
                </a:lnTo>
                <a:lnTo>
                  <a:pt x="18437" y="3163"/>
                </a:lnTo>
                <a:lnTo>
                  <a:pt x="16844" y="3597"/>
                </a:lnTo>
                <a:lnTo>
                  <a:pt x="16839" y="1846"/>
                </a:lnTo>
                <a:lnTo>
                  <a:pt x="15359" y="2576"/>
                </a:lnTo>
                <a:lnTo>
                  <a:pt x="15020" y="859"/>
                </a:lnTo>
                <a:lnTo>
                  <a:pt x="13549" y="1808"/>
                </a:lnTo>
                <a:lnTo>
                  <a:pt x="13045" y="236"/>
                </a:lnTo>
                <a:lnTo>
                  <a:pt x="11783" y="1449"/>
                </a:lnTo>
                <a:lnTo>
                  <a:pt x="10800" y="0"/>
                </a:lnTo>
                <a:lnTo>
                  <a:pt x="9980" y="1433"/>
                </a:lnTo>
                <a:lnTo>
                  <a:pt x="8739" y="198"/>
                </a:lnTo>
                <a:lnTo>
                  <a:pt x="8208" y="1761"/>
                </a:lnTo>
                <a:lnTo>
                  <a:pt x="6754" y="786"/>
                </a:lnTo>
                <a:lnTo>
                  <a:pt x="6386" y="2498"/>
                </a:lnTo>
                <a:lnTo>
                  <a:pt x="4918" y="1742"/>
                </a:lnTo>
                <a:lnTo>
                  <a:pt x="4883" y="3492"/>
                </a:lnTo>
                <a:lnTo>
                  <a:pt x="3163" y="3163"/>
                </a:lnTo>
                <a:lnTo>
                  <a:pt x="3597" y="4756"/>
                </a:lnTo>
                <a:lnTo>
                  <a:pt x="1846" y="4761"/>
                </a:lnTo>
                <a:lnTo>
                  <a:pt x="2576" y="6241"/>
                </a:lnTo>
                <a:lnTo>
                  <a:pt x="859" y="6580"/>
                </a:lnTo>
                <a:lnTo>
                  <a:pt x="1808" y="8051"/>
                </a:lnTo>
                <a:lnTo>
                  <a:pt x="236" y="8555"/>
                </a:lnTo>
                <a:lnTo>
                  <a:pt x="1449" y="9817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ақтандыру запас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өлемі бойынш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екінші запас түрі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9"/>
          <p:cNvSpPr/>
          <p:nvPr/>
        </p:nvSpPr>
        <p:spPr>
          <a:xfrm rot="20798400">
            <a:off x="4495680" y="4267080"/>
            <a:ext cx="4648320" cy="2210040"/>
          </a:xfrm>
          <a:custGeom>
            <a:avLst/>
            <a:gdLst>
              <a:gd name="textAreaLeft" fmla="*/ 867960 w 4648320"/>
              <a:gd name="textAreaRight" fmla="*/ 3780360 w 4648320"/>
              <a:gd name="textAreaTop" fmla="*/ 412560 h 2210040"/>
              <a:gd name="textAreaBottom" fmla="*/ 179748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266" y="11634"/>
                </a:lnTo>
                <a:lnTo>
                  <a:pt x="198" y="12861"/>
                </a:lnTo>
                <a:lnTo>
                  <a:pt x="1601" y="13438"/>
                </a:lnTo>
                <a:lnTo>
                  <a:pt x="786" y="14846"/>
                </a:lnTo>
                <a:lnTo>
                  <a:pt x="2350" y="15293"/>
                </a:lnTo>
                <a:lnTo>
                  <a:pt x="1742" y="16682"/>
                </a:lnTo>
                <a:lnTo>
                  <a:pt x="3363" y="16823"/>
                </a:lnTo>
                <a:lnTo>
                  <a:pt x="3163" y="18437"/>
                </a:lnTo>
                <a:lnTo>
                  <a:pt x="4649" y="18131"/>
                </a:lnTo>
                <a:lnTo>
                  <a:pt x="4761" y="19754"/>
                </a:lnTo>
                <a:lnTo>
                  <a:pt x="6160" y="19170"/>
                </a:lnTo>
                <a:lnTo>
                  <a:pt x="6580" y="20741"/>
                </a:lnTo>
                <a:lnTo>
                  <a:pt x="8002" y="19952"/>
                </a:lnTo>
                <a:lnTo>
                  <a:pt x="8555" y="21364"/>
                </a:lnTo>
                <a:lnTo>
                  <a:pt x="9800" y="20318"/>
                </a:lnTo>
                <a:lnTo>
                  <a:pt x="10800" y="21600"/>
                </a:lnTo>
                <a:lnTo>
                  <a:pt x="11634" y="20334"/>
                </a:lnTo>
                <a:lnTo>
                  <a:pt x="12861" y="21402"/>
                </a:lnTo>
                <a:lnTo>
                  <a:pt x="13438" y="19999"/>
                </a:lnTo>
                <a:lnTo>
                  <a:pt x="14846" y="20814"/>
                </a:lnTo>
                <a:lnTo>
                  <a:pt x="15293" y="19250"/>
                </a:lnTo>
                <a:lnTo>
                  <a:pt x="16682" y="19858"/>
                </a:lnTo>
                <a:lnTo>
                  <a:pt x="16823" y="18237"/>
                </a:lnTo>
                <a:lnTo>
                  <a:pt x="18437" y="18437"/>
                </a:lnTo>
                <a:lnTo>
                  <a:pt x="18131" y="16951"/>
                </a:lnTo>
                <a:lnTo>
                  <a:pt x="19754" y="16839"/>
                </a:lnTo>
                <a:lnTo>
                  <a:pt x="19170" y="15440"/>
                </a:lnTo>
                <a:lnTo>
                  <a:pt x="20741" y="15020"/>
                </a:lnTo>
                <a:lnTo>
                  <a:pt x="19952" y="13598"/>
                </a:lnTo>
                <a:lnTo>
                  <a:pt x="21364" y="13045"/>
                </a:lnTo>
                <a:lnTo>
                  <a:pt x="20318" y="11800"/>
                </a:lnTo>
                <a:lnTo>
                  <a:pt x="21600" y="10800"/>
                </a:lnTo>
                <a:lnTo>
                  <a:pt x="20334" y="9966"/>
                </a:lnTo>
                <a:lnTo>
                  <a:pt x="21402" y="8739"/>
                </a:lnTo>
                <a:lnTo>
                  <a:pt x="19999" y="8162"/>
                </a:lnTo>
                <a:lnTo>
                  <a:pt x="20814" y="6754"/>
                </a:lnTo>
                <a:lnTo>
                  <a:pt x="19250" y="6307"/>
                </a:lnTo>
                <a:lnTo>
                  <a:pt x="19858" y="4918"/>
                </a:lnTo>
                <a:lnTo>
                  <a:pt x="18237" y="4777"/>
                </a:lnTo>
                <a:lnTo>
                  <a:pt x="18437" y="3163"/>
                </a:lnTo>
                <a:lnTo>
                  <a:pt x="16951" y="3469"/>
                </a:lnTo>
                <a:lnTo>
                  <a:pt x="16839" y="1846"/>
                </a:lnTo>
                <a:lnTo>
                  <a:pt x="15440" y="2430"/>
                </a:lnTo>
                <a:lnTo>
                  <a:pt x="15020" y="859"/>
                </a:lnTo>
                <a:lnTo>
                  <a:pt x="13598" y="1648"/>
                </a:lnTo>
                <a:lnTo>
                  <a:pt x="13045" y="236"/>
                </a:lnTo>
                <a:lnTo>
                  <a:pt x="11800" y="1282"/>
                </a:lnTo>
                <a:lnTo>
                  <a:pt x="10800" y="0"/>
                </a:lnTo>
                <a:lnTo>
                  <a:pt x="9966" y="1266"/>
                </a:lnTo>
                <a:lnTo>
                  <a:pt x="8739" y="198"/>
                </a:lnTo>
                <a:lnTo>
                  <a:pt x="8162" y="1601"/>
                </a:lnTo>
                <a:lnTo>
                  <a:pt x="6754" y="786"/>
                </a:lnTo>
                <a:lnTo>
                  <a:pt x="6307" y="2350"/>
                </a:lnTo>
                <a:lnTo>
                  <a:pt x="4918" y="1742"/>
                </a:lnTo>
                <a:lnTo>
                  <a:pt x="4777" y="3363"/>
                </a:lnTo>
                <a:lnTo>
                  <a:pt x="3163" y="3163"/>
                </a:lnTo>
                <a:lnTo>
                  <a:pt x="3469" y="4649"/>
                </a:lnTo>
                <a:lnTo>
                  <a:pt x="1846" y="4761"/>
                </a:lnTo>
                <a:lnTo>
                  <a:pt x="2430" y="6160"/>
                </a:lnTo>
                <a:lnTo>
                  <a:pt x="859" y="6580"/>
                </a:lnTo>
                <a:lnTo>
                  <a:pt x="1648" y="8002"/>
                </a:lnTo>
                <a:lnTo>
                  <a:pt x="236" y="8555"/>
                </a:lnTo>
                <a:lnTo>
                  <a:pt x="1282" y="98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ранспорттық запа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еткізушілерден айтарлықтай қашықтық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рналасқан кәсіпорындардағы жү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йналым мерзімдері құжат айналы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рзімдерімен салыстырған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ртқан жағдайда жасалад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AutoShape 10"/>
          <p:cNvSpPr/>
          <p:nvPr/>
        </p:nvSpPr>
        <p:spPr>
          <a:xfrm rot="20233800">
            <a:off x="5811480" y="1484280"/>
            <a:ext cx="3324240" cy="2438280"/>
          </a:xfrm>
          <a:custGeom>
            <a:avLst/>
            <a:gdLst>
              <a:gd name="textAreaLeft" fmla="*/ 560160 w 3324240"/>
              <a:gd name="textAreaRight" fmla="*/ 2764080 w 3324240"/>
              <a:gd name="textAreaTop" fmla="*/ 410760 h 2438280"/>
              <a:gd name="textAreaBottom" fmla="*/ 20275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0" y="12034"/>
                </a:lnTo>
                <a:lnTo>
                  <a:pt x="368" y="13595"/>
                </a:lnTo>
                <a:lnTo>
                  <a:pt x="1412" y="14593"/>
                </a:lnTo>
                <a:lnTo>
                  <a:pt x="1447" y="16200"/>
                </a:lnTo>
                <a:lnTo>
                  <a:pt x="2714" y="16893"/>
                </a:lnTo>
                <a:lnTo>
                  <a:pt x="3163" y="18437"/>
                </a:lnTo>
                <a:lnTo>
                  <a:pt x="4566" y="18779"/>
                </a:lnTo>
                <a:lnTo>
                  <a:pt x="5400" y="20153"/>
                </a:lnTo>
                <a:lnTo>
                  <a:pt x="6844" y="20120"/>
                </a:lnTo>
                <a:lnTo>
                  <a:pt x="8005" y="21232"/>
                </a:lnTo>
                <a:lnTo>
                  <a:pt x="9391" y="20826"/>
                </a:lnTo>
                <a:lnTo>
                  <a:pt x="10800" y="21600"/>
                </a:lnTo>
                <a:lnTo>
                  <a:pt x="12034" y="20850"/>
                </a:lnTo>
                <a:lnTo>
                  <a:pt x="13595" y="21232"/>
                </a:lnTo>
                <a:lnTo>
                  <a:pt x="14593" y="20188"/>
                </a:lnTo>
                <a:lnTo>
                  <a:pt x="16200" y="20153"/>
                </a:lnTo>
                <a:lnTo>
                  <a:pt x="16893" y="18886"/>
                </a:lnTo>
                <a:lnTo>
                  <a:pt x="18437" y="18437"/>
                </a:lnTo>
                <a:lnTo>
                  <a:pt x="18779" y="17034"/>
                </a:lnTo>
                <a:lnTo>
                  <a:pt x="20153" y="16200"/>
                </a:lnTo>
                <a:lnTo>
                  <a:pt x="20120" y="14756"/>
                </a:lnTo>
                <a:lnTo>
                  <a:pt x="21232" y="13595"/>
                </a:lnTo>
                <a:lnTo>
                  <a:pt x="20826" y="12209"/>
                </a:lnTo>
                <a:lnTo>
                  <a:pt x="21600" y="10800"/>
                </a:lnTo>
                <a:lnTo>
                  <a:pt x="20850" y="9566"/>
                </a:lnTo>
                <a:lnTo>
                  <a:pt x="21232" y="8005"/>
                </a:lnTo>
                <a:lnTo>
                  <a:pt x="20188" y="7007"/>
                </a:lnTo>
                <a:lnTo>
                  <a:pt x="20153" y="5400"/>
                </a:lnTo>
                <a:lnTo>
                  <a:pt x="18886" y="4707"/>
                </a:lnTo>
                <a:lnTo>
                  <a:pt x="18437" y="3163"/>
                </a:lnTo>
                <a:lnTo>
                  <a:pt x="17034" y="2821"/>
                </a:lnTo>
                <a:lnTo>
                  <a:pt x="16200" y="1447"/>
                </a:lnTo>
                <a:lnTo>
                  <a:pt x="14756" y="1480"/>
                </a:lnTo>
                <a:lnTo>
                  <a:pt x="13595" y="368"/>
                </a:lnTo>
                <a:lnTo>
                  <a:pt x="12209" y="774"/>
                </a:lnTo>
                <a:lnTo>
                  <a:pt x="10800" y="0"/>
                </a:lnTo>
                <a:lnTo>
                  <a:pt x="9566" y="750"/>
                </a:lnTo>
                <a:lnTo>
                  <a:pt x="8005" y="368"/>
                </a:lnTo>
                <a:lnTo>
                  <a:pt x="7007" y="1412"/>
                </a:lnTo>
                <a:lnTo>
                  <a:pt x="5400" y="1447"/>
                </a:lnTo>
                <a:lnTo>
                  <a:pt x="4707" y="2714"/>
                </a:lnTo>
                <a:lnTo>
                  <a:pt x="3163" y="3163"/>
                </a:lnTo>
                <a:lnTo>
                  <a:pt x="2821" y="4566"/>
                </a:lnTo>
                <a:lnTo>
                  <a:pt x="1447" y="5400"/>
                </a:lnTo>
                <a:lnTo>
                  <a:pt x="1480" y="6844"/>
                </a:lnTo>
                <a:lnTo>
                  <a:pt x="368" y="8005"/>
                </a:lnTo>
                <a:lnTo>
                  <a:pt x="774" y="9391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Технологиялық запа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ерілген шикізат түрі белгілі бі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ұтынушылық қасиет беру үші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лдын-ала өңдеуге мұқтаж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ған жағдайда жасалад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AutoShape 11"/>
          <p:cNvSpPr/>
          <p:nvPr/>
        </p:nvSpPr>
        <p:spPr>
          <a:xfrm rot="20811000">
            <a:off x="228600" y="4419360"/>
            <a:ext cx="3733920" cy="2286000"/>
          </a:xfrm>
          <a:custGeom>
            <a:avLst/>
            <a:gdLst>
              <a:gd name="textAreaLeft" fmla="*/ 717840 w 3733920"/>
              <a:gd name="textAreaRight" fmla="*/ 3016080 w 3733920"/>
              <a:gd name="textAreaTop" fmla="*/ 439200 h 2286000"/>
              <a:gd name="textAreaBottom" fmla="*/ 18468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435" y="11619"/>
                </a:lnTo>
                <a:lnTo>
                  <a:pt x="198" y="12861"/>
                </a:lnTo>
                <a:lnTo>
                  <a:pt x="1763" y="13391"/>
                </a:lnTo>
                <a:lnTo>
                  <a:pt x="786" y="14846"/>
                </a:lnTo>
                <a:lnTo>
                  <a:pt x="2499" y="15214"/>
                </a:lnTo>
                <a:lnTo>
                  <a:pt x="1742" y="16682"/>
                </a:lnTo>
                <a:lnTo>
                  <a:pt x="3494" y="16716"/>
                </a:lnTo>
                <a:lnTo>
                  <a:pt x="3163" y="18437"/>
                </a:lnTo>
                <a:lnTo>
                  <a:pt x="4757" y="18002"/>
                </a:lnTo>
                <a:lnTo>
                  <a:pt x="4761" y="19754"/>
                </a:lnTo>
                <a:lnTo>
                  <a:pt x="6242" y="19022"/>
                </a:lnTo>
                <a:lnTo>
                  <a:pt x="6580" y="20741"/>
                </a:lnTo>
                <a:lnTo>
                  <a:pt x="8051" y="19790"/>
                </a:lnTo>
                <a:lnTo>
                  <a:pt x="8555" y="21364"/>
                </a:lnTo>
                <a:lnTo>
                  <a:pt x="9817" y="20150"/>
                </a:lnTo>
                <a:lnTo>
                  <a:pt x="10800" y="21600"/>
                </a:lnTo>
                <a:lnTo>
                  <a:pt x="11619" y="20165"/>
                </a:lnTo>
                <a:lnTo>
                  <a:pt x="12861" y="21402"/>
                </a:lnTo>
                <a:lnTo>
                  <a:pt x="13391" y="19837"/>
                </a:lnTo>
                <a:lnTo>
                  <a:pt x="14846" y="20814"/>
                </a:lnTo>
                <a:lnTo>
                  <a:pt x="15214" y="19101"/>
                </a:lnTo>
                <a:lnTo>
                  <a:pt x="16682" y="19858"/>
                </a:lnTo>
                <a:lnTo>
                  <a:pt x="16716" y="18106"/>
                </a:lnTo>
                <a:lnTo>
                  <a:pt x="18437" y="18437"/>
                </a:lnTo>
                <a:lnTo>
                  <a:pt x="18002" y="16843"/>
                </a:lnTo>
                <a:lnTo>
                  <a:pt x="19754" y="16839"/>
                </a:lnTo>
                <a:lnTo>
                  <a:pt x="19022" y="15358"/>
                </a:lnTo>
                <a:lnTo>
                  <a:pt x="20741" y="15020"/>
                </a:lnTo>
                <a:lnTo>
                  <a:pt x="19790" y="13549"/>
                </a:lnTo>
                <a:lnTo>
                  <a:pt x="21364" y="13045"/>
                </a:lnTo>
                <a:lnTo>
                  <a:pt x="20150" y="11783"/>
                </a:lnTo>
                <a:lnTo>
                  <a:pt x="21600" y="10800"/>
                </a:lnTo>
                <a:lnTo>
                  <a:pt x="20165" y="9981"/>
                </a:lnTo>
                <a:lnTo>
                  <a:pt x="21402" y="8739"/>
                </a:lnTo>
                <a:lnTo>
                  <a:pt x="19837" y="8209"/>
                </a:lnTo>
                <a:lnTo>
                  <a:pt x="20814" y="6754"/>
                </a:lnTo>
                <a:lnTo>
                  <a:pt x="19101" y="6386"/>
                </a:lnTo>
                <a:lnTo>
                  <a:pt x="19858" y="4918"/>
                </a:lnTo>
                <a:lnTo>
                  <a:pt x="18106" y="4884"/>
                </a:lnTo>
                <a:lnTo>
                  <a:pt x="18437" y="3163"/>
                </a:lnTo>
                <a:lnTo>
                  <a:pt x="16843" y="3598"/>
                </a:lnTo>
                <a:lnTo>
                  <a:pt x="16839" y="1846"/>
                </a:lnTo>
                <a:lnTo>
                  <a:pt x="15358" y="2578"/>
                </a:lnTo>
                <a:lnTo>
                  <a:pt x="15020" y="859"/>
                </a:lnTo>
                <a:lnTo>
                  <a:pt x="13549" y="1810"/>
                </a:lnTo>
                <a:lnTo>
                  <a:pt x="13045" y="236"/>
                </a:lnTo>
                <a:lnTo>
                  <a:pt x="11783" y="1450"/>
                </a:lnTo>
                <a:lnTo>
                  <a:pt x="10800" y="0"/>
                </a:lnTo>
                <a:lnTo>
                  <a:pt x="9981" y="1435"/>
                </a:lnTo>
                <a:lnTo>
                  <a:pt x="8739" y="198"/>
                </a:lnTo>
                <a:lnTo>
                  <a:pt x="8209" y="1763"/>
                </a:lnTo>
                <a:lnTo>
                  <a:pt x="6754" y="786"/>
                </a:lnTo>
                <a:lnTo>
                  <a:pt x="6386" y="2499"/>
                </a:lnTo>
                <a:lnTo>
                  <a:pt x="4918" y="1742"/>
                </a:lnTo>
                <a:lnTo>
                  <a:pt x="4884" y="3494"/>
                </a:lnTo>
                <a:lnTo>
                  <a:pt x="3163" y="3163"/>
                </a:lnTo>
                <a:lnTo>
                  <a:pt x="3598" y="4757"/>
                </a:lnTo>
                <a:lnTo>
                  <a:pt x="1846" y="4761"/>
                </a:lnTo>
                <a:lnTo>
                  <a:pt x="2578" y="6242"/>
                </a:lnTo>
                <a:lnTo>
                  <a:pt x="859" y="6580"/>
                </a:lnTo>
                <a:lnTo>
                  <a:pt x="1810" y="8051"/>
                </a:lnTo>
                <a:lnTo>
                  <a:pt x="236" y="8555"/>
                </a:lnTo>
                <a:lnTo>
                  <a:pt x="1450" y="9817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айындық запас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өндірістік запастарды қабылдау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үсіру,сұрыптау және қоймала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қажеттілігімен байланыст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3.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Өндірістегі айналым құралдарын пайдалану көрсеткіштері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12193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йналым құралдарының айналымдылығы -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айналым құралдарын сатып алу кезінен бастап, дайын өнімнің шығуына және сатуына дейінгі қаражаттардың толық шеңбер айналымының ұзақтығ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16"/>
          <p:cNvSpPr/>
          <p:nvPr/>
        </p:nvSpPr>
        <p:spPr>
          <a:xfrm>
            <a:off x="3352680" y="2057400"/>
            <a:ext cx="236232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қшалай қаражатт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val 17"/>
          <p:cNvSpPr/>
          <p:nvPr/>
        </p:nvSpPr>
        <p:spPr>
          <a:xfrm>
            <a:off x="914400" y="3886200"/>
            <a:ext cx="236232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Дайын өні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Oval 18"/>
          <p:cNvSpPr/>
          <p:nvPr/>
        </p:nvSpPr>
        <p:spPr>
          <a:xfrm>
            <a:off x="3429000" y="5715000"/>
            <a:ext cx="236232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яқталмаған өндірі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19"/>
          <p:cNvSpPr/>
          <p:nvPr/>
        </p:nvSpPr>
        <p:spPr>
          <a:xfrm>
            <a:off x="5638680" y="3886200"/>
            <a:ext cx="236232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Еңбек затта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20"/>
          <p:cNvSpPr/>
          <p:nvPr/>
        </p:nvSpPr>
        <p:spPr>
          <a:xfrm>
            <a:off x="228600" y="35053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21"/>
          <p:cNvSpPr/>
          <p:nvPr/>
        </p:nvSpPr>
        <p:spPr>
          <a:xfrm>
            <a:off x="228600" y="53341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23"/>
          <p:cNvSpPr/>
          <p:nvPr/>
        </p:nvSpPr>
        <p:spPr>
          <a:xfrm rot="5591400">
            <a:off x="5981400" y="2323800"/>
            <a:ext cx="1219320" cy="1447920"/>
          </a:xfrm>
          <a:custGeom>
            <a:avLst/>
            <a:gdLst>
              <a:gd name="textAreaLeft" fmla="*/ 701640 w 1219320"/>
              <a:gd name="textAreaRight" fmla="*/ 1101960 w 1219320"/>
              <a:gd name="textAreaTop" fmla="*/ 251280 h 1447920"/>
              <a:gd name="textAreaBottom" fmla="*/ 56376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167" y="0"/>
                </a:lnTo>
                <a:lnTo>
                  <a:pt x="16167" y="3748"/>
                </a:lnTo>
                <a:lnTo>
                  <a:pt x="12427" y="3748"/>
                </a:lnTo>
                <a:cubicBezTo>
                  <a:pt x="5564" y="3748"/>
                  <a:pt x="0" y="7513"/>
                  <a:pt x="0" y="12158"/>
                </a:cubicBezTo>
                <a:lnTo>
                  <a:pt x="0" y="21600"/>
                </a:lnTo>
                <a:lnTo>
                  <a:pt x="4765" y="21600"/>
                </a:lnTo>
                <a:lnTo>
                  <a:pt x="4765" y="12158"/>
                </a:lnTo>
                <a:cubicBezTo>
                  <a:pt x="4765" y="10088"/>
                  <a:pt x="8195" y="8410"/>
                  <a:pt x="12427" y="8410"/>
                </a:cubicBezTo>
                <a:lnTo>
                  <a:pt x="16167" y="8410"/>
                </a:lnTo>
                <a:lnTo>
                  <a:pt x="1616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24"/>
          <p:cNvSpPr/>
          <p:nvPr/>
        </p:nvSpPr>
        <p:spPr>
          <a:xfrm flipH="1" flipV="1" rot="10800000">
            <a:off x="1905120" y="2132640"/>
            <a:ext cx="1295280" cy="1600200"/>
          </a:xfrm>
          <a:custGeom>
            <a:avLst/>
            <a:gdLst>
              <a:gd name="textAreaLeft" fmla="*/ 745200 w 1295280"/>
              <a:gd name="textAreaRight" fmla="*/ 1165680 w 1295280"/>
              <a:gd name="textAreaTop" fmla="*/ 294840 h 1600200"/>
              <a:gd name="textAreaBottom" fmla="*/ 60516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326" y="0"/>
                </a:lnTo>
                <a:lnTo>
                  <a:pt x="15326" y="3985"/>
                </a:lnTo>
                <a:lnTo>
                  <a:pt x="12427" y="3985"/>
                </a:lnTo>
                <a:cubicBezTo>
                  <a:pt x="5564" y="3985"/>
                  <a:pt x="0" y="7644"/>
                  <a:pt x="0" y="12158"/>
                </a:cubicBezTo>
                <a:lnTo>
                  <a:pt x="0" y="21600"/>
                </a:lnTo>
                <a:lnTo>
                  <a:pt x="4281" y="21600"/>
                </a:lnTo>
                <a:lnTo>
                  <a:pt x="4281" y="12158"/>
                </a:lnTo>
                <a:cubicBezTo>
                  <a:pt x="4281" y="9957"/>
                  <a:pt x="7928" y="8173"/>
                  <a:pt x="12427" y="8173"/>
                </a:cubicBezTo>
                <a:lnTo>
                  <a:pt x="15326" y="8173"/>
                </a:lnTo>
                <a:lnTo>
                  <a:pt x="153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25"/>
          <p:cNvSpPr/>
          <p:nvPr/>
        </p:nvSpPr>
        <p:spPr>
          <a:xfrm rot="10800000">
            <a:off x="5866920" y="5105520"/>
            <a:ext cx="1143000" cy="1295280"/>
          </a:xfrm>
          <a:custGeom>
            <a:avLst/>
            <a:gdLst>
              <a:gd name="textAreaLeft" fmla="*/ 657720 w 1143000"/>
              <a:gd name="textAreaRight" fmla="*/ 1040400 w 1143000"/>
              <a:gd name="textAreaTop" fmla="*/ 210960 h 1295280"/>
              <a:gd name="textAreaBottom" fmla="*/ 5180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980" y="0"/>
                </a:lnTo>
                <a:lnTo>
                  <a:pt x="16980" y="3520"/>
                </a:lnTo>
                <a:lnTo>
                  <a:pt x="12427" y="3520"/>
                </a:lnTo>
                <a:cubicBezTo>
                  <a:pt x="5564" y="3520"/>
                  <a:pt x="0" y="7387"/>
                  <a:pt x="0" y="12158"/>
                </a:cubicBezTo>
                <a:lnTo>
                  <a:pt x="0" y="21600"/>
                </a:lnTo>
                <a:lnTo>
                  <a:pt x="5231" y="21600"/>
                </a:lnTo>
                <a:lnTo>
                  <a:pt x="5231" y="12158"/>
                </a:lnTo>
                <a:cubicBezTo>
                  <a:pt x="5231" y="10214"/>
                  <a:pt x="8453" y="8638"/>
                  <a:pt x="12427" y="8638"/>
                </a:cubicBezTo>
                <a:lnTo>
                  <a:pt x="16980" y="8638"/>
                </a:lnTo>
                <a:lnTo>
                  <a:pt x="1698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26"/>
          <p:cNvSpPr/>
          <p:nvPr/>
        </p:nvSpPr>
        <p:spPr>
          <a:xfrm rot="16200000">
            <a:off x="1753200" y="4952160"/>
            <a:ext cx="1370160" cy="1371600"/>
          </a:xfrm>
          <a:custGeom>
            <a:avLst/>
            <a:gdLst>
              <a:gd name="textAreaLeft" fmla="*/ 788400 w 1370160"/>
              <a:gd name="textAreaRight" fmla="*/ 1257120 w 1370160"/>
              <a:gd name="textAreaTop" fmla="*/ 237960 h 1371600"/>
              <a:gd name="textAreaBottom" fmla="*/ 5338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944" y="0"/>
                </a:lnTo>
                <a:lnTo>
                  <a:pt x="16944" y="3749"/>
                </a:lnTo>
                <a:lnTo>
                  <a:pt x="12427" y="3749"/>
                </a:lnTo>
                <a:cubicBezTo>
                  <a:pt x="5564" y="3749"/>
                  <a:pt x="0" y="7514"/>
                  <a:pt x="0" y="12158"/>
                </a:cubicBezTo>
                <a:lnTo>
                  <a:pt x="0" y="21600"/>
                </a:lnTo>
                <a:lnTo>
                  <a:pt x="4763" y="21600"/>
                </a:lnTo>
                <a:lnTo>
                  <a:pt x="4763" y="12158"/>
                </a:lnTo>
                <a:cubicBezTo>
                  <a:pt x="4763" y="10087"/>
                  <a:pt x="8194" y="8409"/>
                  <a:pt x="12427" y="8409"/>
                </a:cubicBezTo>
                <a:lnTo>
                  <a:pt x="16944" y="8409"/>
                </a:lnTo>
                <a:lnTo>
                  <a:pt x="16944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0" y="6247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Өндіру сатыс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28"/>
          <p:cNvSpPr/>
          <p:nvPr/>
        </p:nvSpPr>
        <p:spPr>
          <a:xfrm>
            <a:off x="-34920" y="487620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ауарлық са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29"/>
          <p:cNvSpPr/>
          <p:nvPr/>
        </p:nvSpPr>
        <p:spPr>
          <a:xfrm>
            <a:off x="-58320" y="297108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қшалай са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5ffff"/>
                </a:solidFill>
                <a:latin typeface="Tahoma"/>
              </a:rPr>
              <a:t>Айналым құралдарының айналымдылығының көрсеткіштері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228600" y="3429000"/>
            <a:ext cx="2819520" cy="281952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Бір айналымның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ұзақтығы (кү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3200400" y="3048120"/>
            <a:ext cx="2819520" cy="289548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елгілі кезеңдег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йналымдардың са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айналымдылық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эффициенті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12"/>
          <p:cNvSpPr/>
          <p:nvPr/>
        </p:nvSpPr>
        <p:spPr>
          <a:xfrm>
            <a:off x="6172200" y="3352680"/>
            <a:ext cx="2819520" cy="2895840"/>
          </a:xfrm>
          <a:prstGeom prst="ca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Жүктелі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ahoma"/>
              </a:rPr>
              <a:t>коэффициенті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14"/>
          <p:cNvSpPr/>
          <p:nvPr/>
        </p:nvSpPr>
        <p:spPr>
          <a:xfrm rot="1418400">
            <a:off x="1752120" y="1447560"/>
            <a:ext cx="457200" cy="1904760"/>
          </a:xfrm>
          <a:prstGeom prst="downArrow">
            <a:avLst>
              <a:gd name="adj1" fmla="val 50000"/>
              <a:gd name="adj2" fmla="val 10415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4343400" y="1295280"/>
            <a:ext cx="457200" cy="1600200"/>
          </a:xfrm>
          <a:prstGeom prst="downArrow">
            <a:avLst>
              <a:gd name="adj1" fmla="val 50000"/>
              <a:gd name="adj2" fmla="val 87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17"/>
          <p:cNvSpPr/>
          <p:nvPr/>
        </p:nvSpPr>
        <p:spPr>
          <a:xfrm rot="20644800">
            <a:off x="7075440" y="1371240"/>
            <a:ext cx="457200" cy="1825560"/>
          </a:xfrm>
          <a:prstGeom prst="downArrow">
            <a:avLst>
              <a:gd name="adj1" fmla="val 50000"/>
              <a:gd name="adj2" fmla="val 9982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2:01:35Z</dcterms:created>
  <dc:creator>Менің жанұям</dc:creator>
  <dc:description/>
  <dc:language>en-US</dc:language>
  <cp:lastModifiedBy>Admin</cp:lastModifiedBy>
  <dcterms:modified xsi:type="dcterms:W3CDTF">2020-09-17T11:25:44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