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5A5F52-68F4-4D65-84E6-4D2251F59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</a:tabLst>
            </a:pPr>
            <a:fld id="{A6103CCF-FF86-47AB-AFAF-E23F6B07C4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2600" cy="4008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0AD-A6C7-44AC-8B90-D8B94375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126723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244800" y="3623040"/>
            <a:ext cx="126723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F887-4564-4CA7-B59C-08C27E26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24480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4888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CC99-5DC1-4155-B451-F4337ECE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39920" y="-24480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24640" y="-24480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244800" y="362304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39920" y="362304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24640" y="362304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2F6E-1464-4819-BD2D-081EF3BD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F999-5C8E-48EF-B968-33A7BDDD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-244800" y="-244800"/>
            <a:ext cx="1267236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A683-C5EF-4C28-8D9E-16184409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1267236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B978-F52C-4295-A39C-1237F338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6BD4-0118-4941-AE7C-7CED5483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239D-F1A8-4472-AC70-432630E6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116160" y="2795040"/>
            <a:ext cx="59504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B14F-3E9D-45EF-AA21-B3E373A7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-24480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7550-5749-4C5E-B443-784F7ED4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244800" y="-244800"/>
            <a:ext cx="1267236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C9B8-8E60-4D96-8D09-E29CB0DA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4888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84AA-0143-455F-BCE1-D9FC1425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-244800" y="3623040"/>
            <a:ext cx="126723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F503-9048-463A-8DBD-D3ED2FD7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126723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-244800" y="3623040"/>
            <a:ext cx="126723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5D12-DDA9-4682-A11F-A86DBB36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-24480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4888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ED50-3091-471E-BDB3-B4D30A80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39920" y="-24480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24640" y="-24480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-244800" y="362304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039920" y="362304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324640" y="362304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3227-2E28-43D4-9FBE-523C95BC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244800" y="-244800"/>
            <a:ext cx="1267236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1267236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1267236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BBD-66FC-45E0-A745-A673479A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116160" y="2795040"/>
            <a:ext cx="59504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-24480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4888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-244800" y="3623040"/>
            <a:ext cx="126723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126723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-244800" y="3623040"/>
            <a:ext cx="126723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-24480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4888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39920" y="-24480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24640" y="-24480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-244800" y="362304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039920" y="362304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324640" y="362304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B60-1E3B-4F46-871C-FDBFCD7B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7CD3-239B-4D02-BF1C-9D8ADBC8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16160" y="2795040"/>
            <a:ext cx="59504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09F-6468-419B-B241-97DFF01F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24480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3714-1E6E-415A-A2CB-A4065B00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4888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73F-5B18-4D3B-9B40-122754AC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244800" y="3623040"/>
            <a:ext cx="126723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ECC4-D537-4A1A-B864-E3488F67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609480"/>
            <a:ext cx="8463240" cy="1320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/>
                </a:solidFill>
                <a:latin typeface="PermianSerifTypeface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11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chemeClr val="accent1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600" spc="-1" strike="noStrike">
                <a:solidFill>
                  <a:schemeClr val="accent1"/>
                </a:solidFill>
                <a:latin typeface="PermianSansTypeface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903840" y="631188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75840" y="6311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chemeClr val="accent1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5D476D7-5EA8-4EB7-B0FC-A0D431150E06}" type="slidenum">
              <a:rPr b="0" lang="ru-RU" sz="1600" spc="-1" strike="noStrike">
                <a:solidFill>
                  <a:schemeClr val="accent1"/>
                </a:solidFill>
                <a:latin typeface="PermianSansTypefac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PermianSansTypeface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mianSansTypeface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PermianSansTypefac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mianSansTypeface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PermianSansTypefac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mianSansTypeface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PermianSansTypefac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mianSansTypefac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PermianSansTypefac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mianSansTypefac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PermianSansTypefac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mianSansTypefac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0" y="365040"/>
            <a:ext cx="12191760" cy="13251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mianSansTypefac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PermianSerifTypeface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51840"/>
            <a:ext cx="10515240" cy="427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PermianSansTypeface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PermianSansTypeface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PermianSansTypeface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PermianSansTypeface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PermianSansTypeface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PermianSansTypeface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PermianSansTypeface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PermianSansTypeface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11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chemeClr val="accent1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600" spc="-1" strike="noStrike">
                <a:solidFill>
                  <a:schemeClr val="accent1"/>
                </a:solidFill>
                <a:latin typeface="PermianSansTypeface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903840" y="631188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75840" y="6311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chemeClr val="accent1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E41BA9B-32C0-4244-A4B8-97CFD6AC708B}" type="slidenum">
              <a:rPr b="0" lang="ru-RU" sz="1600" spc="-1" strike="noStrike">
                <a:solidFill>
                  <a:schemeClr val="accent1"/>
                </a:solidFill>
                <a:latin typeface="PermianSansTypefac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-244800" y="-244800"/>
            <a:ext cx="12672360" cy="74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PermianSansTypeface"/>
              </a:rPr>
              <a:t>Click to edit the outline text format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PermianSansTypeface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PermianSansTypeface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PermianSansTypefac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PermianSansTypeface"/>
              </a:rPr>
              <a:t>Fifth Outline Level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PermianSansTypeface"/>
              </a:rPr>
              <a:t>Sixth Outline Level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PermianSansTypeface"/>
              </a:rPr>
              <a:t>Seventh Outline Level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solidFill>
            <a:schemeClr val="accent1"/>
          </a:solidFill>
          <a:ln w="19080">
            <a:solidFill>
              <a:srgbClr val="ffffff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PermianSerifTypeface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c62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914400" algn="ctr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algn="ctr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algn="ctr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algn="ctr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82840" y="2904840"/>
            <a:ext cx="7464240" cy="2263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51000"/>
          </a:bodyPr>
          <a:p>
            <a:pPr indent="0" algn="ctr">
              <a:lnSpc>
                <a:spcPct val="10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</a:tabLst>
            </a:pPr>
            <a:br>
              <a:rPr sz="2000"/>
            </a:b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Колледж профессионального образования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3100" spc="-1" strike="noStrike">
                <a:solidFill>
                  <a:srgbClr val="ffffff"/>
                </a:solidFill>
                <a:latin typeface="Times New Roman"/>
              </a:rPr>
              <a:t>Бизнес - План</a:t>
            </a:r>
            <a:br>
              <a:rPr sz="3100"/>
            </a:br>
            <a:r>
              <a:rPr b="1" lang="ru-RU" sz="3100" spc="-1" strike="noStrike">
                <a:solidFill>
                  <a:srgbClr val="ffffff"/>
                </a:solidFill>
                <a:latin typeface="Times New Roman"/>
              </a:rPr>
              <a:t>  Кофейня «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CofeeRepublic</a:t>
            </a:r>
            <a:r>
              <a:rPr b="1" lang="ru-RU" sz="3100" spc="-1" strike="noStrike">
                <a:solidFill>
                  <a:srgbClr val="ffffff"/>
                </a:solidFill>
                <a:latin typeface="Times New Roman"/>
              </a:rPr>
              <a:t>»</a:t>
            </a:r>
            <a:br>
              <a:rPr sz="3100"/>
            </a:br>
            <a:br>
              <a:rPr sz="3100"/>
            </a:br>
            <a:br>
              <a:rPr sz="4000"/>
            </a:br>
            <a:br>
              <a:rPr sz="2800"/>
            </a:b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660240" y="414360"/>
            <a:ext cx="4974840" cy="1233000"/>
          </a:xfrm>
          <a:prstGeom prst="rect">
            <a:avLst/>
          </a:prstGeom>
          <a:ln w="9525">
            <a:noFill/>
          </a:ln>
        </p:spPr>
      </p:pic>
      <p:sp>
        <p:nvSpPr>
          <p:cNvPr id="130" name="Line 5"/>
          <p:cNvSpPr/>
          <p:nvPr/>
        </p:nvSpPr>
        <p:spPr>
          <a:xfrm>
            <a:off x="2419920" y="2088000"/>
            <a:ext cx="7351920" cy="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ldNum" idx="10"/>
          </p:nvPr>
        </p:nvSpPr>
        <p:spPr>
          <a:xfrm>
            <a:off x="8475840" y="6311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chemeClr val="accent1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660B90D-99D2-4D81-914C-F2B5B22B60F7}" type="slidenum">
              <a:rPr b="0" lang="ru-RU" sz="1600" spc="-1" strike="noStrike">
                <a:solidFill>
                  <a:schemeClr val="accent1"/>
                </a:solidFill>
                <a:latin typeface="PermianSansTypeface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149400" y="4863240"/>
            <a:ext cx="7352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у выполн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удент 2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уппы ПСО 1,2 - 2022 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ециальности 40.02.01 Право и организация социального 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ттахов Михаил Раис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21280" y="409680"/>
            <a:ext cx="9032400" cy="1280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Финансовый план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ldNum" idx="19"/>
          </p:nvPr>
        </p:nvSpPr>
        <p:spPr>
          <a:xfrm>
            <a:off x="11728800" y="6436080"/>
            <a:ext cx="210600" cy="2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d0cece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08C313B-38FB-4D3E-B274-D98BDE242E9D}" type="slidenum">
              <a:rPr b="0" lang="ru-RU" sz="1600" spc="-1" strike="noStrike">
                <a:solidFill>
                  <a:srgbClr val="d0cece"/>
                </a:solidFill>
                <a:latin typeface="PermianSansTypefac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sp>
        <p:nvSpPr>
          <p:cNvPr id="177" name="Прямоугольник 2"/>
          <p:cNvSpPr/>
          <p:nvPr/>
        </p:nvSpPr>
        <p:spPr>
          <a:xfrm>
            <a:off x="399960" y="1775880"/>
            <a:ext cx="609552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огнозировать поступления и расходы нужно до запуска. Для их расчета, в финансовой модели кофейни на 14 посадочных мест приняты следующие условия: Кофейня находится в арендуемом помещении среднего ценового сегмента; Средняя одновременная загрузка зала составляет 8 человек в час; Режим работы: 12 часов, ежедневно. При планируемой загрузке, кофейня примет 96 человек в день; Средний чек 490 руб. с гостя; Присутствует сезонность: в холодный период повышенный спрос (с корректировкой на праздничные и выходные дни); Средняя наценка составляет 300%. В финансовом плане кофейни отражены такие раздел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7"/>
          <p:cNvSpPr/>
          <p:nvPr/>
        </p:nvSpPr>
        <p:spPr>
          <a:xfrm>
            <a:off x="399960" y="4022640"/>
            <a:ext cx="60955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. Начальные вложени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Здесь учтены вложения перед запуском: начиная от стоимости регистрации ИП или ООО до резерва на непредвиденные расходы.Наибольшую долю в структуре инвестиций занимают вложения на покупку оборудования (51%), на 2-ом месте – ремонт помеще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8"/>
          <p:cNvSpPr/>
          <p:nvPr/>
        </p:nvSpPr>
        <p:spPr>
          <a:xfrm>
            <a:off x="399960" y="4836240"/>
            <a:ext cx="609552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2. Ежемесячные постоянные и переменные затр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амой крупной долей в структуре ежемесячных затрат будет заработная плата персонала и закупка продуктов. Помимо этих пунктов, нужно оплачивать аренду, коммунальные услуги, услуги подрядных организаций (вывоз ТБО), услуги маркетолога и дизайнера, если таких специалистов нет в штате, и другие сопутствующие расходы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9"/>
          <p:cNvSpPr/>
          <p:nvPr/>
        </p:nvSpPr>
        <p:spPr>
          <a:xfrm>
            <a:off x="399960" y="5774760"/>
            <a:ext cx="60955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3. Непредвиденные затр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Эта статья затрат является своеобразной подушкой безопасности. Как правило, на внезапные расходы закладывают от 10 до 20% от суммы инвестиций: на ремонт кофемашины, на оплату штрафов, на оплату сырья (при повышении на него цен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0"/>
          <p:cNvSpPr/>
          <p:nvPr/>
        </p:nvSpPr>
        <p:spPr>
          <a:xfrm>
            <a:off x="6283440" y="1775880"/>
            <a:ext cx="609552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4. Прогнозная выручка и прибы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Запланируйте уровень прибыли и рассчитайте какое количество посетителей нужно обслужить, чтобы достигнуть данного уровня. По итогам отчетного периода вы сможете сравнить фактические показатели с плановыми и проанализировать насколько они выполнены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1"/>
          <p:cNvSpPr/>
          <p:nvPr/>
        </p:nvSpPr>
        <p:spPr>
          <a:xfrm>
            <a:off x="6283440" y="2714400"/>
            <a:ext cx="609552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5. Срок окупаемости кофейн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корость, с которой окупится кофейня, зависит от уровня вложений, количества посетителей, среднего чека и наценки на позиции в меню. Выделите в своем ассортименте самые рентабельные позиции и разработайте с ними различные предложения (например, «десерт дня»). Таким способом вы обратите внимание гостей на конкретные позиции в меню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06160" y="365040"/>
            <a:ext cx="724752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Юридический план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20"/>
          </p:nvPr>
        </p:nvSpPr>
        <p:spPr>
          <a:xfrm>
            <a:off x="11606400" y="6311880"/>
            <a:ext cx="465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e7e6e6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CD3F9B6-4CAA-4F3C-8B97-0E53AC146E91}" type="slidenum">
              <a:rPr b="0" lang="ru-RU" sz="1600" spc="-1" strike="noStrike">
                <a:solidFill>
                  <a:srgbClr val="e7e6e6"/>
                </a:solidFill>
                <a:latin typeface="PermianSansTypefac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838080" y="1851840"/>
            <a:ext cx="10515240" cy="427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Для открытия кофейни "CofeeRepublic" выбрали ИП, из этого выходит что нужно регистрировать все моменты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Регистрация ИП и разрешительные документы. 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Зарегистрироваться в налоговой службе предприниматель вправе в виде ООО или ИП. Поскольку в примерном плане открытия мы рассматриваем формат кофейни без продажи алкоголя, для старта подойдет ИП. Данная организационно-правовая форма позволяет нанимать сотрудников, заключать контракты на поставку сырья. Документы, необходимые для регистрации — копия паспорта, заполненное заявление по установленной форме, квитанция об оплате пошлины (800 рублей)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Срок рассмотрения — 5 рабочих дней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После выдачи свидетельства о постановке на учет, планируется подготовить пакет документов на получение разрешений СЭС, пожарной инспекции и лицензии. Среди них: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Договор аренды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Паспорта на систему вентиляции и кондиционеры. 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Документы о проведении дезинфекции и дезинфекции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Устав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Свидетельство о государственной регистрации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Контракты на поставку сырья оптом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Соглашение о вывозе отходов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Санитарные книжки сотрудников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79600" y="365040"/>
            <a:ext cx="807408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PermianSerifTypeface"/>
              </a:rPr>
              <a:t>Оценка рисков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7280" y="1864080"/>
            <a:ext cx="10081440" cy="427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000000"/>
                </a:solidFill>
                <a:latin typeface="PermianSansTypeface"/>
              </a:rPr>
              <a:t>Выбранная сфера бизнеса относится к хорошо освоенной области предпринимательства. Поэтому степень риска, связанную с неудачей, мы относим к среднему уровню.</a:t>
            </a:r>
            <a:endParaRPr b="0" lang="ru-RU" sz="1400" spc="-1" strike="noStrike">
              <a:solidFill>
                <a:srgbClr val="000000"/>
              </a:solidFill>
              <a:latin typeface="PermianSansTypeface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000000"/>
                </a:solidFill>
                <a:latin typeface="PermianSansTypeface"/>
              </a:rPr>
              <a:t>Виды риска, которым подвержена наша деятельность и мероприятия по их устранению:</a:t>
            </a:r>
            <a:endParaRPr b="0" lang="ru-RU" sz="14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ermianSansTypeface"/>
              </a:rPr>
              <a:t>1. Сбой в поставке оборудования - на этот случай организация имеет по одному дополнительному поставщику, с которым предварительно уже были заключены договора на экстренную поставку при таком роде случаях. Для этого еще помимо текущего запаса фирма будет иметь страховой запас материалов, который обеспечивает бесперебойную работу производства в случае задержки очередной партии оборудования и косметический средств.</a:t>
            </a:r>
            <a:endParaRPr b="0" lang="ru-RU" sz="14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ermianSansTypeface"/>
              </a:rPr>
              <a:t>2. Нарушения в работе оборудования - при небольшой поломке неполадка сразу же устраняется, а в случае невозможности наладки организация использует резерв денежных средств, созданный специально для приобретения оборудования в таких случаях.</a:t>
            </a:r>
            <a:endParaRPr b="0" lang="ru-RU" sz="14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ermianSansTypeface"/>
              </a:rPr>
              <a:t>3. Неудовлетворительное качество оборудования - при этом «товар» возвращается обратно поставщику, предъявляется претензия и заключается договор об экстренной поставке товара соответствующего качества.</a:t>
            </a:r>
            <a:endParaRPr b="0" lang="ru-RU" sz="14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ermianSansTypeface"/>
              </a:rPr>
              <a:t>4. Появление дополнительных конкурентов, в этом случае мы усилим рекламу нашей продукции, заострив внимание потребителей на качестве нашего товара и сервисе обслуживания.</a:t>
            </a:r>
            <a:endParaRPr b="0" lang="ru-RU" sz="14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ermianSansTypeface"/>
              </a:rPr>
              <a:t>5. Пожар, хищение - на этот случай застрахуем нашу фирму в страховой фирме.</a:t>
            </a:r>
            <a:endParaRPr b="0" lang="ru-RU" sz="14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ermianSansTypeface"/>
              </a:rPr>
              <a:t>6. Изменение спроса - усилим маркетинговые исследования, будем искать новую долю рынка.</a:t>
            </a:r>
            <a:endParaRPr b="0" lang="ru-RU" sz="14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21"/>
          </p:nvPr>
        </p:nvSpPr>
        <p:spPr>
          <a:xfrm>
            <a:off x="11219400" y="6311880"/>
            <a:ext cx="7470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e7e6e6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5835A21-E99B-4A3B-9DAE-43615F5D4935}" type="slidenum">
              <a:rPr b="0" lang="ru-RU" sz="1600" spc="-1" strike="noStrike">
                <a:solidFill>
                  <a:srgbClr val="e7e6e6"/>
                </a:solidFill>
                <a:latin typeface="PermianSansTypefac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67520" y="365040"/>
            <a:ext cx="878616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тратегия финансирования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6400" y="1690560"/>
            <a:ext cx="6423840" cy="3422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ermianSansTypeface"/>
              </a:rPr>
              <a:t>Кофейня "CofeeRepublic" располагает помещением площадью 91 кв. м. Договор аренды, заключаемый на 5 лет, включает в себя расходы по коммунальным платежам. Таким образом, затраты на аренду в год составят: 300000 руб. *12 = 36000000 рублей, расходы на дизайн интерьера (включая мебель на 14 посадочных места и барную стойку) составил 150000 руб. Поставщиками кофе и других ингредиентов для приготовления кофейных напитков будут являться те компании, с которыми работает головная компания «CofeeRepublic» на протяжении многих лет. Основным видом деятельности "CofeeRepublic" является реализация кофейных напитков. </a:t>
            </a:r>
            <a:endParaRPr b="0" lang="ru-RU" sz="14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22"/>
          </p:nvPr>
        </p:nvSpPr>
        <p:spPr>
          <a:xfrm>
            <a:off x="11219040" y="6311880"/>
            <a:ext cx="483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e7e6e6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28B3FED-F3D4-4F21-8077-91D45E187ADB}" type="slidenum">
              <a:rPr b="0" lang="ru-RU" sz="1600" spc="-1" strike="noStrike">
                <a:solidFill>
                  <a:srgbClr val="e7e6e6"/>
                </a:solidFill>
                <a:latin typeface="PermianSansTypefac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sp>
        <p:nvSpPr>
          <p:cNvPr id="195" name="Прямоугольник 6"/>
          <p:cNvSpPr/>
          <p:nvPr/>
        </p:nvSpPr>
        <p:spPr>
          <a:xfrm>
            <a:off x="399960" y="4033440"/>
            <a:ext cx="609552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реализации кофейных напитков состоит из следующихдейств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ем заказ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готовление напит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ча зак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приготовления чашечки кофе составляет 1-3 мину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2840" y="57600"/>
            <a:ext cx="11737440" cy="1325160"/>
          </a:xfrm>
          <a:prstGeom prst="rect">
            <a:avLst/>
          </a:prstGeom>
          <a:solidFill>
            <a:schemeClr val="accent1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PermianSerifTypeface"/>
              </a:rPr>
              <a:t>Благодарю за внимание !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Num" idx="23"/>
          </p:nvPr>
        </p:nvSpPr>
        <p:spPr>
          <a:xfrm>
            <a:off x="11728800" y="6311880"/>
            <a:ext cx="4626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e7e6e6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5686782-B2BA-454B-AE44-9627BC177AE1}" type="slidenum">
              <a:rPr b="0" lang="ru-RU" sz="1600" spc="-1" strike="noStrike">
                <a:solidFill>
                  <a:srgbClr val="e7e6e6"/>
                </a:solidFill>
                <a:latin typeface="PermianSansTypefac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Рисунок 3" descr=""/>
          <p:cNvPicPr/>
          <p:nvPr/>
        </p:nvPicPr>
        <p:blipFill>
          <a:blip r:embed="rId1"/>
          <a:stretch/>
        </p:blipFill>
        <p:spPr>
          <a:xfrm>
            <a:off x="628560" y="1383120"/>
            <a:ext cx="1236240" cy="1236240"/>
          </a:xfrm>
          <a:prstGeom prst="rect">
            <a:avLst/>
          </a:prstGeom>
          <a:ln w="9525">
            <a:noFill/>
          </a:ln>
        </p:spPr>
      </p:pic>
      <p:pic>
        <p:nvPicPr>
          <p:cNvPr id="199" name="Рисунок 1" descr=""/>
          <p:cNvPicPr/>
          <p:nvPr/>
        </p:nvPicPr>
        <p:blipFill>
          <a:blip r:embed="rId2"/>
          <a:stretch/>
        </p:blipFill>
        <p:spPr>
          <a:xfrm>
            <a:off x="-4320" y="2073600"/>
            <a:ext cx="12191760" cy="42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85760" y="409680"/>
            <a:ext cx="891504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езюме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9240" y="2006280"/>
            <a:ext cx="11591280" cy="4543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Юридический адре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Г. Пермь, Дзержинский р-н, ул. 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уководитель проек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Фаттахов Михаил Раисович 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стоящий проект представляет собой план создания комплекса определенных кофеен.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и проект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казание услуг населению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Численность организации: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6 человек</a:t>
            </a:r>
            <a:endParaRPr b="0" lang="ru-RU" sz="19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Сотрудники организации:</a:t>
            </a:r>
            <a:endParaRPr b="0" lang="ru-RU" sz="19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Администратор (1 человек)</a:t>
            </a:r>
            <a:endParaRPr b="0" lang="ru-RU" sz="19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Раннер (1 человек)</a:t>
            </a:r>
            <a:endParaRPr b="0" lang="ru-RU" sz="19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Бариста (2 человека)</a:t>
            </a:r>
            <a:endParaRPr b="0" lang="ru-RU" sz="19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борщик (1 человек)</a:t>
            </a:r>
            <a:endParaRPr b="0" lang="ru-RU" sz="19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ассир (1 человек)</a:t>
            </a:r>
            <a:endParaRPr b="0" lang="ru-RU" sz="1900" spc="-1" strike="noStrike">
              <a:solidFill>
                <a:srgbClr val="000000"/>
              </a:solidFill>
              <a:latin typeface="PermianSansTypeface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</p:txBody>
      </p:sp>
      <p:pic>
        <p:nvPicPr>
          <p:cNvPr id="135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sp>
        <p:nvSpPr>
          <p:cNvPr id="136" name="PlaceHolder 3"/>
          <p:cNvSpPr>
            <a:spLocks noGrp="1"/>
          </p:cNvSpPr>
          <p:nvPr>
            <p:ph type="sldNum" idx="11"/>
          </p:nvPr>
        </p:nvSpPr>
        <p:spPr>
          <a:xfrm>
            <a:off x="11874600" y="6544800"/>
            <a:ext cx="243000" cy="22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just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just">
              <a:lnSpc>
                <a:spcPct val="100000"/>
              </a:lnSpc>
              <a:buNone/>
            </a:pPr>
            <a:fld id="{57234D9D-5F68-4B43-8E82-B7D0134CE027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Рисунок 1" descr=""/>
          <p:cNvPicPr/>
          <p:nvPr/>
        </p:nvPicPr>
        <p:blipFill>
          <a:blip r:embed="rId2"/>
          <a:stretch/>
        </p:blipFill>
        <p:spPr>
          <a:xfrm>
            <a:off x="6177240" y="3249360"/>
            <a:ext cx="47235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0440" y="680040"/>
            <a:ext cx="8663040" cy="1171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0000"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рганизационный план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12"/>
          </p:nvPr>
        </p:nvSpPr>
        <p:spPr>
          <a:xfrm>
            <a:off x="11069640" y="6311880"/>
            <a:ext cx="1490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e7e6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56030F5-53DF-4D40-9881-3285BE5949FD}" type="slidenum">
              <a:rPr b="0" lang="ru-RU" sz="1600" spc="-1" strike="noStrike">
                <a:solidFill>
                  <a:srgbClr val="e7e6e6"/>
                </a:solidFill>
                <a:latin typeface="Times New Roman"/>
              </a:rPr>
              <a:t>3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pic>
        <p:nvPicPr>
          <p:cNvPr id="141" name="Рисунок 2" descr=""/>
          <p:cNvPicPr/>
          <p:nvPr/>
        </p:nvPicPr>
        <p:blipFill>
          <a:blip r:embed="rId2"/>
          <a:stretch/>
        </p:blipFill>
        <p:spPr>
          <a:xfrm>
            <a:off x="2329920" y="2289600"/>
            <a:ext cx="7619760" cy="37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9560" y="365040"/>
            <a:ext cx="891504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писание продукта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9960" y="2127600"/>
            <a:ext cx="4006800" cy="437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ru-RU" sz="3000" spc="-1" strike="noStrike">
              <a:solidFill>
                <a:srgbClr val="000000"/>
              </a:solidFill>
              <a:latin typeface="PermianSansTypeface"/>
            </a:endParaRPr>
          </a:p>
        </p:txBody>
      </p:sp>
      <p:pic>
        <p:nvPicPr>
          <p:cNvPr id="144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sp>
        <p:nvSpPr>
          <p:cNvPr id="145" name="PlaceHolder 3"/>
          <p:cNvSpPr>
            <a:spLocks noGrp="1"/>
          </p:cNvSpPr>
          <p:nvPr>
            <p:ph type="sldNum" idx="13"/>
          </p:nvPr>
        </p:nvSpPr>
        <p:spPr>
          <a:xfrm>
            <a:off x="11892960" y="6521040"/>
            <a:ext cx="298440" cy="2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794BF7D-4588-48CF-9EEF-D62D48C28955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Объект 3"/>
          <p:cNvGraphicFramePr/>
          <p:nvPr/>
        </p:nvGraphicFramePr>
        <p:xfrm>
          <a:off x="15716880" y="9270720"/>
          <a:ext cx="2169000" cy="24080760"/>
        </p:xfrm>
        <a:graphic>
          <a:graphicData uri="http://schemas.openxmlformats.org/drawingml/2006/table">
            <a:tbl>
              <a:tblPr/>
              <a:tblGrid>
                <a:gridCol w="1084680"/>
                <a:gridCol w="1084680"/>
              </a:tblGrid>
              <a:tr h="60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ократический режим 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тический режим, основанный на признании народа в качестве источника власти, его права участвовать в управлении делами общества и государства и наделении граждан достаточно широким кругом прав и свобод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идемократический режим 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тический режим, для которого характерно отсутствие гарантий политических свобод, принципов разделения властей и верховенства права, неприятие демократических принципов управления, политического плюрализм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амках данного политического режима принято выделять авторитарные и тоталитарные режим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47" name="Прямоугольник 1"/>
          <p:cNvSpPr/>
          <p:nvPr/>
        </p:nvSpPr>
        <p:spPr>
          <a:xfrm>
            <a:off x="814680" y="2127600"/>
            <a:ext cx="943344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4"/>
          <p:cNvSpPr/>
          <p:nvPr/>
        </p:nvSpPr>
        <p:spPr>
          <a:xfrm>
            <a:off x="399960" y="2127600"/>
            <a:ext cx="114926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ой вид деятельности моего плана – посещение кофейни, повышает эстетический комфорт клиента и способствует улучшению морального состояния человека. Поэтому этот вид бизнеса в первую очередь будет удоволетворять человеческие хотелки. Кроме того, можно сказать, что это особый вид организации отдыха и куль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"/>
          <p:cNvSpPr/>
          <p:nvPr/>
        </p:nvSpPr>
        <p:spPr>
          <a:xfrm>
            <a:off x="399960" y="4174200"/>
            <a:ext cx="60955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кофейного комплекса имеет важную особенность: в нем не обойтись без дополнительных услуг, таких, к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фе и авторские напи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серты/выпе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ячие/холодные блю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7" descr=""/>
          <p:cNvPicPr/>
          <p:nvPr/>
        </p:nvPicPr>
        <p:blipFill>
          <a:blip r:embed="rId2"/>
          <a:stretch/>
        </p:blipFill>
        <p:spPr>
          <a:xfrm>
            <a:off x="7099920" y="3948840"/>
            <a:ext cx="3677400" cy="24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17920" y="409680"/>
            <a:ext cx="891504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WOT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нализ организации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sp>
        <p:nvSpPr>
          <p:cNvPr id="153" name="PlaceHolder 2"/>
          <p:cNvSpPr>
            <a:spLocks noGrp="1"/>
          </p:cNvSpPr>
          <p:nvPr>
            <p:ph type="sldNum" idx="14"/>
          </p:nvPr>
        </p:nvSpPr>
        <p:spPr>
          <a:xfrm>
            <a:off x="11883960" y="6528960"/>
            <a:ext cx="2062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E366191-A9D6-4B78-B437-A1F625958813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Рисунок 1" descr=""/>
          <p:cNvPicPr/>
          <p:nvPr/>
        </p:nvPicPr>
        <p:blipFill>
          <a:blip r:embed="rId2"/>
          <a:stretch/>
        </p:blipFill>
        <p:spPr>
          <a:xfrm>
            <a:off x="3460680" y="1735200"/>
            <a:ext cx="4971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19440" y="409680"/>
            <a:ext cx="891504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аркетинговый план</a:t>
            </a:r>
            <a:br>
              <a:rPr sz="40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8680" y="1804320"/>
            <a:ext cx="11205720" cy="4947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ркетин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это комплексная система организации производства и сбыта продукции, ориентированная на удовлетворение спроса конкретных потребителей и получение прибыли на основе исследования и прогнозирования рынка, разработки стратегии и тактики поведения на рынке с помощью маркетинговых программ.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фейня «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feeRepubli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удет ориентироваться на средний ценовой уровень. Потенциальными потребителями будут являться люди со средним и высоким доходом. Планируется, что кофейню будут посещать молодежь и семьи с детьми, чтобы отдохнуть и хорошо провести время за чашечкой кофе. Большинство клиентов кофейни будут проживать в центральном районе. Всего в городе Пермь насчитывается ~217 кофеен, большинство рапологаются центральном районе.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</p:txBody>
      </p:sp>
      <p:pic>
        <p:nvPicPr>
          <p:cNvPr id="157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sp>
        <p:nvSpPr>
          <p:cNvPr id="158" name="PlaceHolder 3"/>
          <p:cNvSpPr>
            <a:spLocks noGrp="1"/>
          </p:cNvSpPr>
          <p:nvPr>
            <p:ph type="sldNum" idx="15"/>
          </p:nvPr>
        </p:nvSpPr>
        <p:spPr>
          <a:xfrm>
            <a:off x="11828520" y="6528960"/>
            <a:ext cx="270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98BC609-8196-4D53-BAF5-B93BC23BE9B8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14440" y="562680"/>
            <a:ext cx="10515240" cy="1083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онкуренция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sp>
        <p:nvSpPr>
          <p:cNvPr id="161" name="PlaceHolder 2"/>
          <p:cNvSpPr>
            <a:spLocks noGrp="1"/>
          </p:cNvSpPr>
          <p:nvPr>
            <p:ph type="sldNum" idx="16"/>
          </p:nvPr>
        </p:nvSpPr>
        <p:spPr>
          <a:xfrm>
            <a:off x="11842920" y="6528960"/>
            <a:ext cx="2894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8600F97-4681-4D46-B0F1-F4742C8252B4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2"/>
          <p:cNvSpPr/>
          <p:nvPr/>
        </p:nvSpPr>
        <p:spPr>
          <a:xfrm>
            <a:off x="806040" y="1779840"/>
            <a:ext cx="60955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конкурентам относятся фейни находящиеся поблизости, сильные и слабые стороны конкурентов. В кофейнях, которые находятся поблизости, не будет предлагаться весь спектр услуг, которые будут у нас, это большой зал с достаточно большим количеством мест, вкусное кофе. Не во всех кофейнях есть хорошая аудиосистема и быстрый вай-фай. Поблизости нет общепитов, поэтому у нас можно приносить с собой еду, можно отдыхать не только со своей компанией но и с радостью заводить новые знакомства. Кофейня «CofeeRepublic» будет пользоваться спросом, как у гостей города, так и у местных жителей. Цены будут средними, уровень комфорта будет выше среднего. Рядом есть круглосуточный супермаркет.В настоящее время конкуренция в сфере оказания подобного рода услуг достаточно высока, но свою нишу занять всё - таки можно, если разработать грамотный бизн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3" descr=""/>
          <p:cNvPicPr/>
          <p:nvPr/>
        </p:nvPicPr>
        <p:blipFill>
          <a:blip r:embed="rId2"/>
          <a:stretch/>
        </p:blipFill>
        <p:spPr>
          <a:xfrm>
            <a:off x="6901920" y="2764080"/>
            <a:ext cx="490536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41360" y="297720"/>
            <a:ext cx="3050640" cy="1280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ерсонал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ldNum" idx="17"/>
          </p:nvPr>
        </p:nvSpPr>
        <p:spPr>
          <a:xfrm>
            <a:off x="11482560" y="6399720"/>
            <a:ext cx="3682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e7e6e6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3BDE8FF-0C4D-4366-9574-EB5F1A6E6435}" type="slidenum">
              <a:rPr b="0" lang="ru-RU" sz="1600" spc="-1" strike="noStrike">
                <a:solidFill>
                  <a:srgbClr val="e7e6e6"/>
                </a:solidFill>
                <a:latin typeface="PermianSansTypefac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67" name="Таблица 6"/>
          <p:cNvGraphicFramePr/>
          <p:nvPr/>
        </p:nvGraphicFramePr>
        <p:xfrm>
          <a:off x="5897880" y="2761560"/>
          <a:ext cx="5108760" cy="2671560"/>
        </p:xfrm>
        <a:graphic>
          <a:graphicData uri="http://schemas.openxmlformats.org/drawingml/2006/table">
            <a:tbl>
              <a:tblPr/>
              <a:tblGrid>
                <a:gridCol w="3129120"/>
                <a:gridCol w="1979640"/>
              </a:tblGrid>
              <a:tr h="558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PermianSansTypeface"/>
                        </a:rPr>
                        <a:t>Администрато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PermianSansTypeface"/>
                        </a:rPr>
                        <a:t>1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  <a:tr h="558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PermianSansTypeface"/>
                        </a:rPr>
                        <a:t>Ранн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PermianSansTypeface"/>
                        </a:rPr>
                        <a:t>1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  <a:tr h="498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PermianSansTypeface"/>
                        </a:rPr>
                        <a:t>Бари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ermianSansTypeface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PermianSansTypeface"/>
                        </a:rPr>
                        <a:t>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  <a:tr h="498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PermianSansTypeface"/>
                        </a:rPr>
                        <a:t>Убор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PermianSansTypeface"/>
                        </a:rPr>
                        <a:t>1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  <a:tr h="558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PermianSansTypeface"/>
                        </a:rPr>
                        <a:t>Касс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PermianSansTypeface"/>
                        </a:rPr>
                        <a:t>1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pic>
        <p:nvPicPr>
          <p:cNvPr id="168" name="Рисунок 2" descr=""/>
          <p:cNvPicPr/>
          <p:nvPr/>
        </p:nvPicPr>
        <p:blipFill>
          <a:blip r:embed="rId2"/>
          <a:stretch/>
        </p:blipFill>
        <p:spPr>
          <a:xfrm>
            <a:off x="582480" y="2761560"/>
            <a:ext cx="475344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48240" y="380160"/>
            <a:ext cx="1051524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еклама</a:t>
            </a:r>
            <a:br>
              <a:rPr sz="40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3" descr=""/>
          <p:cNvPicPr/>
          <p:nvPr/>
        </p:nvPicPr>
        <p:blipFill>
          <a:blip r:embed="rId1"/>
          <a:stretch/>
        </p:blipFill>
        <p:spPr>
          <a:xfrm>
            <a:off x="480600" y="409680"/>
            <a:ext cx="1236240" cy="1236240"/>
          </a:xfrm>
          <a:prstGeom prst="rect">
            <a:avLst/>
          </a:prstGeom>
          <a:ln w="9525">
            <a:noFill/>
          </a:ln>
        </p:spPr>
      </p:pic>
      <p:sp>
        <p:nvSpPr>
          <p:cNvPr id="171" name="PlaceHolder 2"/>
          <p:cNvSpPr>
            <a:spLocks noGrp="1"/>
          </p:cNvSpPr>
          <p:nvPr>
            <p:ph type="sldNum" idx="18"/>
          </p:nvPr>
        </p:nvSpPr>
        <p:spPr>
          <a:xfrm>
            <a:off x="11856960" y="6519600"/>
            <a:ext cx="33444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4E437C1-84FE-4F07-9504-2A0F3FEFE8CB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0" y="1646280"/>
            <a:ext cx="82645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Aft>
                <a:spcPts val="1426"/>
              </a:spcAf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здания эффективной рекламы для кофейни, рекомендуется учесть следующие подходы: 1. Целевая аудитория: Определите, какую целевую аудиторию вы хотите привлечь. Учтите их предпочтения, интересы и потребности в кофейне. Например, это могут быть люди, ценящие кофе высокого качества, любители атмосферы кофейного места для работы или собраний с друзьями. 2. Уникальное предложение: Опишите преимущества вашей кофейни, которые выделяют ее на фоне конкурентов. Это могут быть особый вид кофе, свежие и качественные ингредиенты, уютная атмосфера или дружелюбный персонал. Укажите, что отличает ваше заведение от других. 3. Визуальный имидж: Создайте привлекательные и качественные визуальные материалы для рекламы. Это могут быть фотографии вкусного кофе и десертов, красивый дизайн интерьера или стильные элементы брендинга. Сделайте все, чтобы привлечь внимание и создать желание посетить вашу кофейню. 4. Онлайн-присутствие: Создайте привлекательный и информативный веб-сайт кофейни с подробной информацией о вашем меню, расписании работы, специальных предложениях и контактных данных. Также создайте аккаунты в социальных сетях и публикуйте регулярные обновления и снимки, чтобы привлечь и вовлечь своих клиентов. 5. Лояльность клиентов и акции: Разработайте программу лояльности для постоянных клиентов, предлагайте бонусы, скидки или акции. Это поможет удержать ваших клиентов и привлечь новых. 6. Клиентский сервис: Обратите особое внимание на высокий уровень обслуживания и дружелюбное отношение к вашим клиентам. Хороший сервис и положительный опыт могут способствовать множественным рекомендациям и повторным посещениям. 7. Партнерства и сотрудничество: Рассмотрите возможность установить партнерство с другими местными предприятиями или организациями, чтобы обмениваться рекламными материалами или проводить совместные акции. Это может помочь расширить вашу аудиторию и привлечь новых клиентов. 8. Обратная связь: Предоставьте возможность клиентам оставлять отзывы и обратную связь о вашем заведении. Слушайте и учитывайте их мнения, чтобы постоянно улучшать качество предлагаемых услуг. Сочетание этих подходов поможет создать эффективную рекламу для вашей кофейни и привлечь больше клиен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" descr=""/>
          <p:cNvPicPr/>
          <p:nvPr/>
        </p:nvPicPr>
        <p:blipFill>
          <a:blip r:embed="rId2"/>
          <a:stretch/>
        </p:blipFill>
        <p:spPr>
          <a:xfrm>
            <a:off x="8828280" y="1899000"/>
            <a:ext cx="2465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Другая 37">
      <a:dk1>
        <a:srgbClr val="000000"/>
      </a:dk1>
      <a:lt1>
        <a:srgbClr val="ffffff"/>
      </a:lt1>
      <a:dk2>
        <a:srgbClr val="595959"/>
      </a:dk2>
      <a:lt2>
        <a:srgbClr val="e7e6e6"/>
      </a:lt2>
      <a:accent1>
        <a:srgbClr val="c62e3e"/>
      </a:accent1>
      <a:accent2>
        <a:srgbClr val="ffc000"/>
      </a:accent2>
      <a:accent3>
        <a:srgbClr val="a5a5a5"/>
      </a:accent3>
      <a:accent4>
        <a:srgbClr val="7030a0"/>
      </a:accent4>
      <a:accent5>
        <a:srgbClr val="4dfe9d"/>
      </a:accent5>
      <a:accent6>
        <a:srgbClr val="046dd5"/>
      </a:accent6>
      <a:hlink>
        <a:srgbClr val="2992fa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Другая 37">
      <a:dk1>
        <a:srgbClr val="000000"/>
      </a:dk1>
      <a:lt1>
        <a:srgbClr val="ffffff"/>
      </a:lt1>
      <a:dk2>
        <a:srgbClr val="595959"/>
      </a:dk2>
      <a:lt2>
        <a:srgbClr val="e7e6e6"/>
      </a:lt2>
      <a:accent1>
        <a:srgbClr val="c62e3e"/>
      </a:accent1>
      <a:accent2>
        <a:srgbClr val="ffc000"/>
      </a:accent2>
      <a:accent3>
        <a:srgbClr val="a5a5a5"/>
      </a:accent3>
      <a:accent4>
        <a:srgbClr val="7030a0"/>
      </a:accent4>
      <a:accent5>
        <a:srgbClr val="4dfe9d"/>
      </a:accent5>
      <a:accent6>
        <a:srgbClr val="046dd5"/>
      </a:accent6>
      <a:hlink>
        <a:srgbClr val="2992fa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Другая 37">
      <a:dk1>
        <a:srgbClr val="000000"/>
      </a:dk1>
      <a:lt1>
        <a:srgbClr val="ffffff"/>
      </a:lt1>
      <a:dk2>
        <a:srgbClr val="595959"/>
      </a:dk2>
      <a:lt2>
        <a:srgbClr val="e7e6e6"/>
      </a:lt2>
      <a:accent1>
        <a:srgbClr val="c62e3e"/>
      </a:accent1>
      <a:accent2>
        <a:srgbClr val="ffc000"/>
      </a:accent2>
      <a:accent3>
        <a:srgbClr val="a5a5a5"/>
      </a:accent3>
      <a:accent4>
        <a:srgbClr val="7030a0"/>
      </a:accent4>
      <a:accent5>
        <a:srgbClr val="4dfe9d"/>
      </a:accent5>
      <a:accent6>
        <a:srgbClr val="046dd5"/>
      </a:accent6>
      <a:hlink>
        <a:srgbClr val="2992fa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95959"/>
      </a:dk2>
      <a:lt2>
        <a:srgbClr val="e7e6e6"/>
      </a:lt2>
      <a:accent1>
        <a:srgbClr val="c62e3e"/>
      </a:accent1>
      <a:accent2>
        <a:srgbClr val="ffc000"/>
      </a:accent2>
      <a:accent3>
        <a:srgbClr val="a5a5a5"/>
      </a:accent3>
      <a:accent4>
        <a:srgbClr val="7030a0"/>
      </a:accent4>
      <a:accent5>
        <a:srgbClr val="4dfe9d"/>
      </a:accent5>
      <a:accent6>
        <a:srgbClr val="046dd5"/>
      </a:accent6>
      <a:hlink>
        <a:srgbClr val="2992fa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  <Words>1706</Words>
  <Paragraphs>120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7T17:29:28Z</dcterms:created>
  <dc:creator>Полина Масленникова</dc:creator>
  <dc:description/>
  <dc:language>en-US</dc:language>
  <cp:lastModifiedBy>Student</cp:lastModifiedBy>
  <dcterms:modified xsi:type="dcterms:W3CDTF">2023-12-12T07:12:43Z</dcterms:modified>
  <cp:revision>18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Широкоэкранный</vt:lpwstr>
  </property>
  <property fmtid="{D5CDD505-2E9C-101B-9397-08002B2CF9AE}" pid="4" name="Slides">
    <vt:r8>14</vt:r8>
  </property>
</Properties>
</file>