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FCA4D7-E8BE-45FA-9151-FC7CCA6C4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</a:tabLst>
            </a:pPr>
            <a:fld id="{967839BC-E4B1-43AA-863B-BDBD4C482E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260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7A3-1578-4A9F-9FA5-4E796FE0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EF4-C280-42C0-AAD2-5ECBCCFA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E30-591D-4D85-959B-DCB0ABBA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992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2464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24480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992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2464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A29-708D-40DF-A3AB-68C40535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9C62-8B3B-4B39-980A-93CDC8CE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AEE0-B7C6-4E8D-BE99-DEBB1A5A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84C1-00DE-4847-AA6F-BE53C74F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0044-E97C-4802-9B3F-AF1FDF63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FFBF-C8D9-4E4B-8E2D-0B2D14DA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16160" y="2795040"/>
            <a:ext cx="59504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4BB2-169C-4B26-92DA-09D4172F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8894-B5B2-4C06-B91E-2EF6BB06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2C1-D1FA-4E33-B8BD-7AD92618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8199-99D3-45CE-ABBE-D20DF14B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C127-DEE1-48EE-9B42-CB11FA48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7239-10EA-49BA-9637-FBC516EE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D385-F4DA-4F10-86FC-82B77301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3992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2464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-24480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3992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32464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3AEA-BFFF-4594-A3DC-870F78B3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9E5-DFF6-4E6E-86BE-8206BB40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116160" y="2795040"/>
            <a:ext cx="59504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3992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2464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-24480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03992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32464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A3F-2706-403E-BFE2-04531464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B34-435A-44BD-8789-87900EA6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16160" y="2795040"/>
            <a:ext cx="59504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C6B-8B0E-4EC8-8DA7-33BE20E4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AF0-0435-4FAD-B4C2-296308FA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C9B-E6E7-4214-A8BC-2730E592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6DB-4431-4352-8500-00838D70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609480"/>
            <a:ext cx="8463240" cy="1320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/>
                </a:solidFill>
                <a:latin typeface="PermianSerifTypeface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903840" y="631188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7584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A285EB1-8ECF-4CD1-ABA9-237E5DD05BBD}" type="slidenum"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PermianSansTypeface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0" y="365040"/>
            <a:ext cx="12191760" cy="13251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mianSansType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PermianSerifTypeface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51840"/>
            <a:ext cx="10515240" cy="427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PermianSansTypeface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PermianSansTypeface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PermianSansTypeface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903840" y="631188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7584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C07209A-9345-425D-B9E0-2A2E40AFAB1C}" type="slidenum"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solidFill>
            <a:schemeClr val="accent1"/>
          </a:solidFill>
          <a:ln w="19080">
            <a:solidFill>
              <a:srgbClr val="ffffff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PermianSerifTypeface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c62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914400" algn="ctr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82840" y="2904840"/>
            <a:ext cx="7464240" cy="2263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51000"/>
          </a:bodyPr>
          <a:p>
            <a:pPr indent="0" algn="ctr">
              <a:lnSpc>
                <a:spcPct val="10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</a:tabLst>
            </a:pPr>
            <a:br>
              <a:rPr sz="2000"/>
            </a:b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Колледж профессионального образования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Бизнес - План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  Кофейня «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CofeeRepublic</a:t>
            </a: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»</a:t>
            </a:r>
            <a:br>
              <a:rPr sz="3100"/>
            </a:br>
            <a:br>
              <a:rPr sz="3100"/>
            </a:br>
            <a:br>
              <a:rPr sz="4000"/>
            </a:br>
            <a:br>
              <a:rPr sz="28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60240" y="414360"/>
            <a:ext cx="4974840" cy="1233000"/>
          </a:xfrm>
          <a:prstGeom prst="rect">
            <a:avLst/>
          </a:prstGeom>
          <a:ln w="9525">
            <a:noFill/>
          </a:ln>
        </p:spPr>
      </p:pic>
      <p:sp>
        <p:nvSpPr>
          <p:cNvPr id="130" name="Line 5"/>
          <p:cNvSpPr/>
          <p:nvPr/>
        </p:nvSpPr>
        <p:spPr>
          <a:xfrm>
            <a:off x="2419920" y="2088000"/>
            <a:ext cx="7351920" cy="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Num" idx="10"/>
          </p:nvPr>
        </p:nvSpPr>
        <p:spPr>
          <a:xfrm>
            <a:off x="847584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B8498D9-54A6-462A-BB07-B181B95F57CD}" type="slidenum"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49400" y="4863240"/>
            <a:ext cx="7352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дент 2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ы ПСО 1,2 - 2022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циальности 40.02.01 Право и организация социального 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ттахов Михаил Раис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21280" y="409680"/>
            <a:ext cx="9032400" cy="128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Финансовый план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Num" idx="19"/>
          </p:nvPr>
        </p:nvSpPr>
        <p:spPr>
          <a:xfrm>
            <a:off x="11728800" y="6436080"/>
            <a:ext cx="210600" cy="2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d0cece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094AE3E-4794-499F-9229-02CC44F8A2B5}" type="slidenum">
              <a:rPr b="0" lang="ru-RU" sz="1600" spc="-1" strike="noStrike">
                <a:solidFill>
                  <a:srgbClr val="d0cece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399960" y="1775880"/>
            <a:ext cx="609552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огнозировать поступления и расходы нужно до запуска. Для их расчета, в финансовой модели кофейни на 14 посадочных мест приняты следующие условия: Кофейня находится в арендуемом помещении среднего ценового сегмента; Средняя одновременная загрузка зала составляет 8 человек в час; Режим работы: 12 часов, ежедневно. При планируемой загрузке, кофейня примет 96 человек в день; Средний чек 490 руб. с гостя; Присутствует сезонность: в холодный период повышенный спрос (с корректировкой на праздничные и выходные дни); Средняя наценка составляет 300%. В финансовом плане кофейни отражены такие разде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399960" y="4022640"/>
            <a:ext cx="60955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 Начальные вложе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десь учтены вложения перед запуском: начиная от стоимости регистрации ИП или ООО до резерва на непредвиденные расходы.Наибольшую долю в структуре инвестиций занимают вложения на покупку оборудования (51%), на 2-ом месте – ремонт помещ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8"/>
          <p:cNvSpPr/>
          <p:nvPr/>
        </p:nvSpPr>
        <p:spPr>
          <a:xfrm>
            <a:off x="399960" y="4836240"/>
            <a:ext cx="60955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Ежемесячные постоянные и переменные затр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амой крупной долей в структуре ежемесячных затрат будет заработная плата персонала и закупка продуктов. Помимо этих пунктов, нужно оплачивать аренду, коммунальные услуги, услуги подрядных организаций (вывоз ТБО), услуги маркетолога и дизайнера, если таких специалистов нет в штате, и другие сопутствующие расход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399960" y="5774760"/>
            <a:ext cx="60955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Непредвиденные затр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Эта статья затрат является своеобразной подушкой безопасности. Как правило, на внезапные расходы закладывают от 10 до 20% от суммы инвестиций: на ремонт кофемашины, на оплату штрафов, на оплату сырья (при повышении на него цен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6283440" y="1775880"/>
            <a:ext cx="60955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рогнозная выручка и прибы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апланируйте уровень прибыли и рассчитайте какое количество посетителей нужно обслужить, чтобы достигнуть данного уровня. По итогам отчетного периода вы сможете сравнить фактические показатели с плановыми и проанализировать насколько они выполнен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1"/>
          <p:cNvSpPr/>
          <p:nvPr/>
        </p:nvSpPr>
        <p:spPr>
          <a:xfrm>
            <a:off x="6283440" y="2714400"/>
            <a:ext cx="60955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5. Срок окупаемости кофейн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орость, с которой окупится кофейня, зависит от уровня вложений, количества посетителей, среднего чека и наценки на позиции в меню. Выделите в своем ассортименте самые рентабельные позиции и разработайте с ними различные предложения (например, «десерт дня»). Таким способом вы обратите внимание гостей на конкретные позиции в меню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06160" y="365040"/>
            <a:ext cx="724752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Юридический план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20"/>
          </p:nvPr>
        </p:nvSpPr>
        <p:spPr>
          <a:xfrm>
            <a:off x="11606400" y="6311880"/>
            <a:ext cx="465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F0E1214-D9FF-43CE-8ED6-3FA83AA04DB6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838080" y="1851840"/>
            <a:ext cx="10515240" cy="427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Для открытия кофейни "CofeeRepublic" выбрали ИП, из этого выходит что нужно регистрировать все моменты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Регистрация ИП и разрешительные документы. 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Зарегистрироваться в налоговой службе предприниматель вправе в виде ООО или ИП. Поскольку в примерном плане открытия мы рассматриваем формат кофейни без продажи алкоголя, для старта подойдет ИП. Данная организационно-правовая форма позволяет нанимать сотрудников, заключать контракты на поставку сырья. Документы, необходимые для регистрации — копия паспорта, заполненное заявление по установленной форме, квитанция об оплате пошлины (800 рублей)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Срок рассмотрения — 5 рабочих дней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После выдачи свидетельства о постановке на учет, планируется подготовить пакет документов на получение разрешений СЭС, пожарной инспекции и лицензии. Среди них: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Договор аренды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Паспорта на систему вентиляции и кондиционеры. 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Документы о проведении дезинфекции и дезинфекции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Устав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Свидетельство о государственной регистрации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Контракты на поставку сырья оптом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Соглашение о вывозе отходов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Санитарные книжки сотрудников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79600" y="365040"/>
            <a:ext cx="807408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PermianSerifTypeface"/>
              </a:rPr>
              <a:t>Оценка рисков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7280" y="1864080"/>
            <a:ext cx="10081440" cy="427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Выбранная сфера бизнеса относится к хорошо освоенной области предпринимательства. Поэтому степень риска, связанную с неудачей, мы относим к среднему уровню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Виды риска, которым подвержена наша деятельность и мероприятия по их устранению: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1. Сбой в поставке оборудования - на этот случай организация имеет по одному дополнительному поставщику, с которым предварительно уже были заключены договора на экстренную поставку при таком роде случаях. Для этого еще помимо текущего запаса фирма будет иметь страховой запас материалов, который обеспечивает бесперебойную работу производства в случае задержки очередной партии оборудования и косметический средств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2. Нарушения в работе оборудования - при небольшой поломке неполадка сразу же устраняется, а в случае невозможности наладки организация использует резерв денежных средств, созданный специально для приобретения оборудования в таких случаях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3. Неудовлетворительное качество оборудования - при этом «товар» возвращается обратно поставщику, предъявляется претензия и заключается договор об экстренной поставке товара соответствующего качества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4. Появление дополнительных конкурентов, в этом случае мы усилим рекламу нашей продукции, заострив внимание потребителей на качестве нашего товара и сервисе обслуживания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5. Пожар, хищение - на этот случай застрахуем нашу фирму в страховой фирме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6. Изменение спроса - усилим маркетинговые исследования, будем искать новую долю рынка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1"/>
          </p:nvPr>
        </p:nvSpPr>
        <p:spPr>
          <a:xfrm>
            <a:off x="11219400" y="6311880"/>
            <a:ext cx="7470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29C8908-0A8E-4FEC-B07F-EA38546212C6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67520" y="365040"/>
            <a:ext cx="878616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тратегия финансирован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6400" y="1690560"/>
            <a:ext cx="6423840" cy="342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Кофейня "CofeeRepublic" располагает помещением площадью 91 кв. м. Договор аренды, заключаемый на 5 лет, включает в себя расходы по коммунальным платежам. Таким образом, затраты на аренду в год составят: 300000 руб. *12 = 36000000 рублей, расходы на дизайн интерьера (включая мебель на 14 посадочных места и барную стойку) составил 150000 руб. Поставщиками кофе и других ингредиентов для приготовления кофейных напитков будут являться те компании, с которыми работает головная компания «CofeeRepublic» на протяжении многих лет. Основным видом деятельности "CofeeRepublic" является реализация кофейных напитков. 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22"/>
          </p:nvPr>
        </p:nvSpPr>
        <p:spPr>
          <a:xfrm>
            <a:off x="11219040" y="6311880"/>
            <a:ext cx="483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F8BCB21-61C3-471F-AE8A-E31D42DEF9DE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95" name="Прямоугольник 6"/>
          <p:cNvSpPr/>
          <p:nvPr/>
        </p:nvSpPr>
        <p:spPr>
          <a:xfrm>
            <a:off x="399960" y="4033440"/>
            <a:ext cx="60955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реализации кофейных напитков состоит из следующихдейств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ем зака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отовление напит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ча зак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приготовления чашечки кофе составляет 1-3 мину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2840" y="57600"/>
            <a:ext cx="11737440" cy="132516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PermianSerifTypeface"/>
              </a:rPr>
              <a:t>Благодарю за внимание 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23"/>
          </p:nvPr>
        </p:nvSpPr>
        <p:spPr>
          <a:xfrm>
            <a:off x="11728800" y="6311880"/>
            <a:ext cx="4626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0C556CE-BDF3-4A9E-8DBD-2CF0016CAEA1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Рисунок 3" descr=""/>
          <p:cNvPicPr/>
          <p:nvPr/>
        </p:nvPicPr>
        <p:blipFill>
          <a:blip r:embed="rId1"/>
          <a:stretch/>
        </p:blipFill>
        <p:spPr>
          <a:xfrm>
            <a:off x="628560" y="1383120"/>
            <a:ext cx="1236240" cy="1236240"/>
          </a:xfrm>
          <a:prstGeom prst="rect">
            <a:avLst/>
          </a:prstGeom>
          <a:ln w="9525">
            <a:noFill/>
          </a:ln>
        </p:spPr>
      </p:pic>
      <p:pic>
        <p:nvPicPr>
          <p:cNvPr id="199" name="Рисунок 1" descr=""/>
          <p:cNvPicPr/>
          <p:nvPr/>
        </p:nvPicPr>
        <p:blipFill>
          <a:blip r:embed="rId2"/>
          <a:stretch/>
        </p:blipFill>
        <p:spPr>
          <a:xfrm>
            <a:off x="-4320" y="2073600"/>
            <a:ext cx="12191760" cy="42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5760" y="409680"/>
            <a:ext cx="89150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езюм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9240" y="2006280"/>
            <a:ext cx="11591280" cy="454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ридический адре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Г. Пермь, Дзержинский р-н, ул. 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ководитель про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Фаттахов Михаил Раисович 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тоящий проект представляет собой план создания комплекса определенных кофеен.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и проект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казание услуг населению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Численность организации: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6 человек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Сотрудники организации: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дминистратор (1 человек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аннер (1 человек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ариста (2 человека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борщик (1 человек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ассир (1 человек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</p:txBody>
      </p:sp>
      <p:pic>
        <p:nvPicPr>
          <p:cNvPr id="135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36" name="PlaceHolder 3"/>
          <p:cNvSpPr>
            <a:spLocks noGrp="1"/>
          </p:cNvSpPr>
          <p:nvPr>
            <p:ph type="sldNum" idx="11"/>
          </p:nvPr>
        </p:nvSpPr>
        <p:spPr>
          <a:xfrm>
            <a:off x="11874600" y="6544800"/>
            <a:ext cx="243000" cy="22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just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just">
              <a:lnSpc>
                <a:spcPct val="100000"/>
              </a:lnSpc>
              <a:buNone/>
            </a:pPr>
            <a:fld id="{4FEDF273-64D4-434E-BE63-DA15F9BDD621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Рисунок 1" descr=""/>
          <p:cNvPicPr/>
          <p:nvPr/>
        </p:nvPicPr>
        <p:blipFill>
          <a:blip r:embed="rId2"/>
          <a:stretch/>
        </p:blipFill>
        <p:spPr>
          <a:xfrm>
            <a:off x="6177240" y="3249360"/>
            <a:ext cx="4723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0440" y="680040"/>
            <a:ext cx="8663040" cy="11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рганизационный план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12"/>
          </p:nvPr>
        </p:nvSpPr>
        <p:spPr>
          <a:xfrm>
            <a:off x="11069640" y="6311880"/>
            <a:ext cx="149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A33D3B3-AC0F-45FC-BCF1-A3E3D8D3B281}" type="slidenum">
              <a:rPr b="0" lang="ru-RU" sz="1600" spc="-1" strike="noStrike">
                <a:solidFill>
                  <a:srgbClr val="e7e6e6"/>
                </a:solidFill>
                <a:latin typeface="Times New Roman"/>
              </a:rPr>
              <a:t>3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pic>
        <p:nvPicPr>
          <p:cNvPr id="141" name="Рисунок 2" descr=""/>
          <p:cNvPicPr/>
          <p:nvPr/>
        </p:nvPicPr>
        <p:blipFill>
          <a:blip r:embed="rId2"/>
          <a:stretch/>
        </p:blipFill>
        <p:spPr>
          <a:xfrm>
            <a:off x="2329920" y="2289600"/>
            <a:ext cx="7619760" cy="37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9560" y="365040"/>
            <a:ext cx="89150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писание продукт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9960" y="2127600"/>
            <a:ext cx="4006800" cy="43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ru-RU" sz="3000" spc="-1" strike="noStrike">
              <a:solidFill>
                <a:srgbClr val="000000"/>
              </a:solidFill>
              <a:latin typeface="PermianSansTypeface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45" name="PlaceHolder 3"/>
          <p:cNvSpPr>
            <a:spLocks noGrp="1"/>
          </p:cNvSpPr>
          <p:nvPr>
            <p:ph type="sldNum" idx="13"/>
          </p:nvPr>
        </p:nvSpPr>
        <p:spPr>
          <a:xfrm>
            <a:off x="11892960" y="6521040"/>
            <a:ext cx="29844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3D88720-C2F3-4292-A136-42CB68CA8EDA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Объект 3"/>
          <p:cNvGraphicFramePr/>
          <p:nvPr/>
        </p:nvGraphicFramePr>
        <p:xfrm>
          <a:off x="15716880" y="9270720"/>
          <a:ext cx="2169000" cy="24080760"/>
        </p:xfrm>
        <a:graphic>
          <a:graphicData uri="http://schemas.openxmlformats.org/drawingml/2006/table">
            <a:tbl>
              <a:tblPr/>
              <a:tblGrid>
                <a:gridCol w="1084680"/>
                <a:gridCol w="1084680"/>
              </a:tblGrid>
              <a:tr h="60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кратический режим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ческий режим, основанный на признании народа в качестве источника власти, его права участвовать в управлении делами общества и государства и наделении граждан достаточно широким кругом прав и свобод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демократический режим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ческий режим, для которого характерно отсутствие гарантий политических свобод, принципов разделения властей и верховенства права, неприятие демократических принципов управления, политического плюрализ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мках данного политического режима принято выделять авторитарные и тоталитарные режи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47" name="Прямоугольник 1"/>
          <p:cNvSpPr/>
          <p:nvPr/>
        </p:nvSpPr>
        <p:spPr>
          <a:xfrm>
            <a:off x="814680" y="2127600"/>
            <a:ext cx="943344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399960" y="2127600"/>
            <a:ext cx="11492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ой вид деятельности моего плана – посещение кофейни, повышает эстетический комфорт клиента и способствует улучшению морального состояния человека. Поэтому этот вид бизнеса в первую очередь будет удоволетворять человеческие хотелки. Кроме того, можно сказать, что это особый вид организации отдыха и куль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399960" y="4174200"/>
            <a:ext cx="6095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кофейного комплекса имеет важную особенность: в нем не обойтись без дополнительных услуг, таких, к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фе и авторские напи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ерты/выпе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ячие/холодные блю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7" descr=""/>
          <p:cNvPicPr/>
          <p:nvPr/>
        </p:nvPicPr>
        <p:blipFill>
          <a:blip r:embed="rId2"/>
          <a:stretch/>
        </p:blipFill>
        <p:spPr>
          <a:xfrm>
            <a:off x="7099920" y="3948840"/>
            <a:ext cx="3677400" cy="24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17920" y="409680"/>
            <a:ext cx="89150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WOT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нализ организации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sldNum" idx="14"/>
          </p:nvPr>
        </p:nvSpPr>
        <p:spPr>
          <a:xfrm>
            <a:off x="11883960" y="6528960"/>
            <a:ext cx="2062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CEB346F-4E04-4C27-BC8F-76064B22EB81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Рисунок 1" descr=""/>
          <p:cNvPicPr/>
          <p:nvPr/>
        </p:nvPicPr>
        <p:blipFill>
          <a:blip r:embed="rId2"/>
          <a:stretch/>
        </p:blipFill>
        <p:spPr>
          <a:xfrm>
            <a:off x="3460680" y="1735200"/>
            <a:ext cx="4971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19440" y="409680"/>
            <a:ext cx="89150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ркетинговый план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8680" y="1804320"/>
            <a:ext cx="11205720" cy="49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кетин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это комплексная система организации производства и сбыта продукции, ориентированная на удовлетворение спроса конкретных потребителей и получение прибыли на основе исследования и прогнозирования рынка, разработки стратегии и тактики поведения на рынке с помощью маркетинговых программ.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фейня 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feeRepubli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дет ориентироваться на средний ценовой уровень. Потенциальными потребителями будут являться люди со средним и высоким доходом. Планируется, что кофейню будут посещать молодежь и семьи с детьми, чтобы отдохнуть и хорошо провести время за чашечкой кофе. Большинство клиентов кофейни будут проживать в центральном районе. Всего в городе Пермь насчитывается ~217 кофеен, большинство рапологаются центральном районе.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</p:txBody>
      </p:sp>
      <p:pic>
        <p:nvPicPr>
          <p:cNvPr id="157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11828520" y="6528960"/>
            <a:ext cx="270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D91B19D-F17D-4FA9-880D-877BC8F47B04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14440" y="562680"/>
            <a:ext cx="10515240" cy="108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sldNum" idx="16"/>
          </p:nvPr>
        </p:nvSpPr>
        <p:spPr>
          <a:xfrm>
            <a:off x="11842920" y="6528960"/>
            <a:ext cx="2894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F65BA89-37D8-4B94-9D70-CA12F61A17F4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806040" y="1779840"/>
            <a:ext cx="60955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нкурентам относятся фейни находящиеся поблизости, сильные и слабые стороны конкурентов. В кофейнях, которые находятся поблизости, не будет предлагаться весь спектр услуг, которые будут у нас, это большой зал с достаточно большим количеством мест, вкусное кофе. Не во всех кофейнях есть хорошая аудиосистема и быстрый вай-фай. Поблизости нет общепитов, поэтому у нас можно приносить с собой еду, можно отдыхать не только со своей компанией но и с радостью заводить новые знакомства. Кофейня «CofeeRepublic» будет пользоваться спросом, как у гостей города, так и у местных жителей. Цены будут средними, уровень комфорта будет выше среднего. Рядом есть круглосуточный супермаркет.В настоящее время конкуренция в сфере оказания подобного рода услуг достаточно высока, но свою нишу занять всё - таки можно, если разработать грамотный бизн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3" descr=""/>
          <p:cNvPicPr/>
          <p:nvPr/>
        </p:nvPicPr>
        <p:blipFill>
          <a:blip r:embed="rId2"/>
          <a:stretch/>
        </p:blipFill>
        <p:spPr>
          <a:xfrm>
            <a:off x="6901920" y="2764080"/>
            <a:ext cx="490536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41360" y="297720"/>
            <a:ext cx="3050640" cy="128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ерсонал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Num" idx="17"/>
          </p:nvPr>
        </p:nvSpPr>
        <p:spPr>
          <a:xfrm>
            <a:off x="11482560" y="6399720"/>
            <a:ext cx="3682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02A92D6-492D-47BC-9BE7-C002F7CC99CE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67" name="Таблица 6"/>
          <p:cNvGraphicFramePr/>
          <p:nvPr/>
        </p:nvGraphicFramePr>
        <p:xfrm>
          <a:off x="5897880" y="2761560"/>
          <a:ext cx="5108760" cy="2671560"/>
        </p:xfrm>
        <a:graphic>
          <a:graphicData uri="http://schemas.openxmlformats.org/drawingml/2006/table">
            <a:tbl>
              <a:tblPr/>
              <a:tblGrid>
                <a:gridCol w="3129120"/>
                <a:gridCol w="1979640"/>
              </a:tblGrid>
              <a:tr h="558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Администра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558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Ранн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498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Бари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498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Убор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558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Касс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pic>
        <p:nvPicPr>
          <p:cNvPr id="168" name="Рисунок 2" descr=""/>
          <p:cNvPicPr/>
          <p:nvPr/>
        </p:nvPicPr>
        <p:blipFill>
          <a:blip r:embed="rId2"/>
          <a:stretch/>
        </p:blipFill>
        <p:spPr>
          <a:xfrm>
            <a:off x="582480" y="2761560"/>
            <a:ext cx="475344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48240" y="38016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еклама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48060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sldNum" idx="18"/>
          </p:nvPr>
        </p:nvSpPr>
        <p:spPr>
          <a:xfrm>
            <a:off x="11856960" y="6519600"/>
            <a:ext cx="3344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F343DDB-9CCD-4E61-B571-6C4D6414CC97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0" y="1646280"/>
            <a:ext cx="826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1426"/>
              </a:spcAf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здания эффективной рекламы для кофейни, рекомендуется учесть следующие подходы: 1. Целевая аудитория: Определите, какую целевую аудиторию вы хотите привлечь. Учтите их предпочтения, интересы и потребности в кофейне. Например, это могут быть люди, ценящие кофе высокого качества, любители атмосферы кофейного места для работы или собраний с друзьями. 2. Уникальное предложение: Опишите преимущества вашей кофейни, которые выделяют ее на фоне конкурентов. Это могут быть особый вид кофе, свежие и качественные ингредиенты, уютная атмосфера или дружелюбный персонал. Укажите, что отличает ваше заведение от других. 3. Визуальный имидж: Создайте привлекательные и качественные визуальные материалы для рекламы. Это могут быть фотографии вкусного кофе и десертов, красивый дизайн интерьера или стильные элементы брендинга. Сделайте все, чтобы привлечь внимание и создать желание посетить вашу кофейню. 4. Онлайн-присутствие: Создайте привлекательный и информативный веб-сайт кофейни с подробной информацией о вашем меню, расписании работы, специальных предложениях и контактных данных. Также создайте аккаунты в социальных сетях и публикуйте регулярные обновления и снимки, чтобы привлечь и вовлечь своих клиентов. 5. Лояльность клиентов и акции: Разработайте программу лояльности для постоянных клиентов, предлагайте бонусы, скидки или акции. Это поможет удержать ваших клиентов и привлечь новых. 6. Клиентский сервис: Обратите особое внимание на высокий уровень обслуживания и дружелюбное отношение к вашим клиентам. Хороший сервис и положительный опыт могут способствовать множественным рекомендациям и повторным посещениям. 7. Партнерства и сотрудничество: Рассмотрите возможность установить партнерство с другими местными предприятиями или организациями, чтобы обмениваться рекламными материалами или проводить совместные акции. Это может помочь расширить вашу аудиторию и привлечь новых клиентов. 8. Обратная связь: Предоставьте возможность клиентам оставлять отзывы и обратную связь о вашем заведении. Слушайте и учитывайте их мнения, чтобы постоянно улучшать качество предлагаемых услуг. Сочетание этих подходов поможет создать эффективную рекламу для вашей кофейни и привлечь больше кли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" descr=""/>
          <p:cNvPicPr/>
          <p:nvPr/>
        </p:nvPicPr>
        <p:blipFill>
          <a:blip r:embed="rId2"/>
          <a:stretch/>
        </p:blipFill>
        <p:spPr>
          <a:xfrm>
            <a:off x="8828280" y="1899000"/>
            <a:ext cx="2465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Другая 37">
      <a:dk1>
        <a:srgbClr val="000000"/>
      </a:dk1>
      <a:lt1>
        <a:srgbClr val="ffffff"/>
      </a:lt1>
      <a:dk2>
        <a:srgbClr val="595959"/>
      </a:dk2>
      <a:lt2>
        <a:srgbClr val="e7e6e6"/>
      </a:lt2>
      <a:accent1>
        <a:srgbClr val="c62e3e"/>
      </a:accent1>
      <a:accent2>
        <a:srgbClr val="ffc000"/>
      </a:accent2>
      <a:accent3>
        <a:srgbClr val="a5a5a5"/>
      </a:accent3>
      <a:accent4>
        <a:srgbClr val="7030a0"/>
      </a:accent4>
      <a:accent5>
        <a:srgbClr val="4dfe9d"/>
      </a:accent5>
      <a:accent6>
        <a:srgbClr val="046dd5"/>
      </a:accent6>
      <a:hlink>
        <a:srgbClr val="2992fa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37">
      <a:dk1>
        <a:srgbClr val="000000"/>
      </a:dk1>
      <a:lt1>
        <a:srgbClr val="ffffff"/>
      </a:lt1>
      <a:dk2>
        <a:srgbClr val="595959"/>
      </a:dk2>
      <a:lt2>
        <a:srgbClr val="e7e6e6"/>
      </a:lt2>
      <a:accent1>
        <a:srgbClr val="c62e3e"/>
      </a:accent1>
      <a:accent2>
        <a:srgbClr val="ffc000"/>
      </a:accent2>
      <a:accent3>
        <a:srgbClr val="a5a5a5"/>
      </a:accent3>
      <a:accent4>
        <a:srgbClr val="7030a0"/>
      </a:accent4>
      <a:accent5>
        <a:srgbClr val="4dfe9d"/>
      </a:accent5>
      <a:accent6>
        <a:srgbClr val="046dd5"/>
      </a:accent6>
      <a:hlink>
        <a:srgbClr val="2992fa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Другая 37">
      <a:dk1>
        <a:srgbClr val="000000"/>
      </a:dk1>
      <a:lt1>
        <a:srgbClr val="ffffff"/>
      </a:lt1>
      <a:dk2>
        <a:srgbClr val="595959"/>
      </a:dk2>
      <a:lt2>
        <a:srgbClr val="e7e6e6"/>
      </a:lt2>
      <a:accent1>
        <a:srgbClr val="c62e3e"/>
      </a:accent1>
      <a:accent2>
        <a:srgbClr val="ffc000"/>
      </a:accent2>
      <a:accent3>
        <a:srgbClr val="a5a5a5"/>
      </a:accent3>
      <a:accent4>
        <a:srgbClr val="7030a0"/>
      </a:accent4>
      <a:accent5>
        <a:srgbClr val="4dfe9d"/>
      </a:accent5>
      <a:accent6>
        <a:srgbClr val="046dd5"/>
      </a:accent6>
      <a:hlink>
        <a:srgbClr val="2992fa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95959"/>
      </a:dk2>
      <a:lt2>
        <a:srgbClr val="e7e6e6"/>
      </a:lt2>
      <a:accent1>
        <a:srgbClr val="c62e3e"/>
      </a:accent1>
      <a:accent2>
        <a:srgbClr val="ffc000"/>
      </a:accent2>
      <a:accent3>
        <a:srgbClr val="a5a5a5"/>
      </a:accent3>
      <a:accent4>
        <a:srgbClr val="7030a0"/>
      </a:accent4>
      <a:accent5>
        <a:srgbClr val="4dfe9d"/>
      </a:accent5>
      <a:accent6>
        <a:srgbClr val="046dd5"/>
      </a:accent6>
      <a:hlink>
        <a:srgbClr val="2992fa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  <Words>1706</Words>
  <Paragraphs>120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7T17:29:28Z</dcterms:created>
  <dc:creator>Полина Масленникова</dc:creator>
  <dc:description/>
  <dc:language>en-US</dc:language>
  <cp:lastModifiedBy>Student</cp:lastModifiedBy>
  <dcterms:modified xsi:type="dcterms:W3CDTF">2023-12-12T07:12:43Z</dcterms:modified>
  <cp:revision>18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Широкоэкранный</vt:lpwstr>
  </property>
  <property fmtid="{D5CDD505-2E9C-101B-9397-08002B2CF9AE}" pid="4" name="Slides">
    <vt:r8>14</vt:r8>
  </property>
</Properties>
</file>