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hdphoto6.wdp" ContentType="image/vnd.ms-photo"/>
  <Override PartName="/ppt/media/image9.jpeg" ContentType="image/jpeg"/>
  <Override PartName="/ppt/media/image8.jpeg" ContentType="image/jpeg"/>
  <Override PartName="/ppt/media/image1.jpeg" ContentType="image/jpeg"/>
  <Override PartName="/ppt/media/hdphoto1.wdp" ContentType="image/vnd.ms-photo"/>
  <Override PartName="/ppt/media/image6.jpeg" ContentType="image/jpeg"/>
  <Override PartName="/ppt/media/image2.jpeg" ContentType="image/jpeg"/>
  <Override PartName="/ppt/media/hdphoto2.wdp" ContentType="image/vnd.ms-photo"/>
  <Override PartName="/ppt/media/image3.jpeg" ContentType="image/jpeg"/>
  <Override PartName="/ppt/media/image5.jpeg" ContentType="image/jpeg"/>
  <Override PartName="/ppt/media/image7.jpeg" ContentType="image/jpeg"/>
  <Override PartName="/ppt/media/hdphoto3.wdp" ContentType="image/vnd.ms-photo"/>
  <Override PartName="/ppt/media/image4.jpeg" ContentType="image/jpeg"/>
  <Override PartName="/ppt/media/hdphoto5.wdp" ContentType="image/vnd.ms-photo"/>
  <Override PartName="/ppt/media/hdphoto4.wdp" ContentType="image/vnd.ms-photo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2E7-E8C0-4E12-8FAF-F2323A57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12D-C564-4A4C-8161-E552233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17F-77EA-4DA6-B1D7-FEE1238F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5EA-A0A3-48A4-90FC-58BA1B3D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8507-AC61-4C02-9449-537CE6E6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DEF-226F-41AD-BEB1-CC659CF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00E2-E0BE-47BF-B20C-E3E3843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6E14-BEB6-49B5-BE56-B5A1FDB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44D-8DFF-4ED1-9CE0-CDC5FBA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62D-9E26-4CEE-9BB0-A91D520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279E-A89A-42EC-A1D1-12E50AF5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079-2B22-48CD-A730-1E2FB4E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6E48-3CAD-4A3C-B360-18C964D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0CC-F901-4131-A5D7-3DAE9C4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0ED-6A84-4F49-89C4-DDF03251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09DB-7A47-4016-8B50-D6708EB7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DD57-0187-44FF-9C1C-0AE2E2B3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F0FA-FB41-4246-BDE7-7D74F519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BE9B-0344-4BE6-8E36-9F070E1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01A1-FA36-4EB7-BE8F-6E82D99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3722-6C1D-48BF-872D-2BDDBC68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3624-9317-4A50-86E9-7FBD4A0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1A6-0BB1-46D2-A492-385F3BA8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06BC-EA3E-42DE-8F1F-09B258F6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D9F1-3318-4424-8307-D8B3E4F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7334-71A3-4EE3-AE93-94CF6FF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80AA-4BCC-4683-845E-80FFFC6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DFEB-3479-43A3-A719-5D4C6C0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1AC0-E367-4704-8D19-69217867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A44F-AE0E-4B0A-BCFB-C8AA2A91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6DD-8448-49F0-909E-3973D6B4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C53-D7BD-4605-96BF-2758807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281-D088-4C32-9176-748B890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BA7-A4D7-4386-AAC9-AD9C1C9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39D-F09B-4C8F-891C-9CAAFE1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1D8-883C-4C08-9434-60A57FE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B13ED2-EEA5-4454-A4FC-81667030A91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Straight Connector 7"/>
          <p:cNvCxnSpPr/>
          <p:nvPr/>
        </p:nvCxnSpPr>
        <p:spPr>
          <a:xfrm>
            <a:off x="685800" y="3398400"/>
            <a:ext cx="7848720" cy="1800"/>
          </a:xfrm>
          <a:prstGeom prst="straightConnector1">
            <a:avLst/>
          </a:prstGeom>
          <a:ln w="19050">
            <a:solidFill>
              <a:srgbClr val="d2533c"/>
            </a:solidFill>
            <a:round/>
          </a:ln>
        </p:spPr>
      </p:cxn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64832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762E217-2B67-4C51-A756-BFE66911519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A6E5A5-A244-4754-8127-7F668F5AE06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microsoft.com/office/2007/relationships/hdphoto" Target="../media/hdphoto6.wdp"/><Relationship Id="rId3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microsoft.com/office/2007/relationships/hdphoto" Target="../media/hdphoto4.wdp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microsoft.com/office/2007/relationships/hdphoto" Target="../media/hdphoto5.wdp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птоэлектронные устройств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одготовил и оформил студент ИВЧТ-3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Казин Данил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реподаватель дисципл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ФИЗИКА РАЗУМОВСКИЙ\Без названия (3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9720" y="0"/>
            <a:ext cx="915552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3682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ре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 - это устройства, которые изменяют свое сопротивление под воздействием света. Они используются в различных приложениях, включая датчики света и экспономет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:\ФИЗИКА РАЗУМОВСКИЙ\images.jpg"/>
          <p:cNvPicPr/>
          <p:nvPr/>
        </p:nvPicPr>
        <p:blipFill>
          <a:blip r:embed="rId1"/>
          <a:srcRect l="1865" t="1865" r="1949" b="2402"/>
          <a:stretch/>
        </p:blipFill>
        <p:spPr>
          <a:xfrm>
            <a:off x="5066280" y="1482840"/>
            <a:ext cx="3624120" cy="360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D:\ФИЗИКА РАЗУМОВСКИЙ\7345.970.jpg"/>
          <p:cNvPicPr/>
          <p:nvPr/>
        </p:nvPicPr>
        <p:blipFill>
          <a:blip r:embed="rId2"/>
          <a:stretch/>
        </p:blipFill>
        <p:spPr>
          <a:xfrm>
            <a:off x="-7560" y="836640"/>
            <a:ext cx="5301000" cy="5301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5066280" y="4941000"/>
            <a:ext cx="1811880" cy="28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160" y="443520"/>
            <a:ext cx="4182480" cy="8247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тран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5085360"/>
            <a:ext cx="8233200" cy="13953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 - это транзисторы, которые усиливают электрический ток, вызванный светом. Они используются в различных приложениях, включая датчики света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879960" y="1412640"/>
            <a:ext cx="188388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6" name="Параллелограмм 6"/>
          <p:cNvSpPr/>
          <p:nvPr/>
        </p:nvSpPr>
        <p:spPr>
          <a:xfrm>
            <a:off x="6004080" y="2853000"/>
            <a:ext cx="1375560" cy="933840"/>
          </a:xfrm>
          <a:prstGeom prst="parallelogram">
            <a:avLst>
              <a:gd name="adj" fmla="val 50021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7380360" y="2349000"/>
            <a:ext cx="138384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используются во многих различных областях, включая: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Электроника: Оптоэлектронные устройства используются в различных электронных устройствах, включая компьютеры, телевизоры и мобильные телефоны. Они используются для освещения, индикаторов, связи и других функций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вязь: Оптоэлектронные устройства используются в оптической связи, которая обеспечивает передачу данных на большие расстояния с высокой скоростью. Они используются в волоконно-оптических кабелях, которые используются в телекоммуникациях, компьютерных сетях и других приложениях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едицина: Оптоэлектронные устройства используются в медицине для диагностики, лечения и исследований. Они используются в таких приложениях, как оптическая томография, лазерная хирургия и фотодинамическая терапия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оизводство: Оптоэлектронные устройства используются в производстве для контроля качества, автоматизации и других целей. Они используются в таких приложениях, как контроль зрения, робототехника и 3D-печать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ередачи информации на большие расстояния. Например, волоконно-оптические кабели, которые используются в телекоммуникациях, передают данные с помощью оптического излуч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реобразования энергии. Например, солнечные панели преобразуют энергию света в электрическую энергию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диагностики и лечения заболеваний. Например, лазерная хирургия используется для удаления опухолей, а фотодинамическая терапия используется для лечения рака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Светодиоды используются в автомобильных фарах, задних фонарях и стоп-сигнал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Лазерные диски используются для хранения данны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луоресцентные лампы используются в офисах и дом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отодиоды используются в цифровых фотоаппаратах для определения экспозиции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Заключ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продолжают развиваться и находить новые применения. По мере того, как новые технологии становятся доступными, оптоэлектронные устройства станут еще более важными компонентами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ФИЗИКА РАЗУМОВСКИЙ\harakteristika_optoelektronnyh_priborov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20000"/>
                    </a14:imgEffect>
                  </a14:imgLayer>
                </a14:imgProps>
              </a:ext>
            </a:extLst>
          </a:blip>
          <a:srcRect l="3957" t="0" r="4711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362800" cy="686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00" strike="noStrike">
                <a:solidFill>
                  <a:srgbClr val="d2533c"/>
                </a:solidFill>
                <a:latin typeface="Arial"/>
              </a:rPr>
              <a:t>Что такое оптоэлектронные устройства?</a:t>
            </a:r>
            <a:endParaRPr b="0" lang="ru-RU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87920" indent="-18792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оэлектронные устройства - это устройства, которые используют свет для передачи информации или энергии. Они состоят из двух основных компонентов: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го устройства и приемного устройства.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е устройство преобразует электрическую энергию в свет, а приемное устройство преобразует свет в электрическую энергию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ФИЗИКА РАЗУМОВСКИЙ\Без названия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7999" t="0" r="3697" b="0"/>
          <a:stretch/>
        </p:blipFill>
        <p:spPr>
          <a:xfrm>
            <a:off x="0" y="-33480"/>
            <a:ext cx="9143640" cy="6891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058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сновные разновидности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61280" indent="-1612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па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ни также часто называются оптронами. Изделие состоит из пары приборов, один из них играет роль передатчика, а другой – приёмника. Оптронные системы преобразуют электрическую энергию в свет, передают его на расстояние, а затем снова преобразуют собранный световой пучок в электрический сигнал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рел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дна из частей оптронной пары, являющаяся только лишь преобразователем. Работа схожа с обычным электромеханическим реле, но сигналы, предопределяющие действие, передаются посредством направленного светового луча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ир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бычные тиристоры, управляемые при помощи сигнала, подаваемого излучателем. Их работа полностью идентична обычному тиристору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ранз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Их также называют оптическими вычислительными элементами. Решение принимается на базе полученной интенсивности и длительности излучения. Изделия такого рода часто используются в компьютерных запчастях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1600" y="0"/>
            <a:ext cx="9165240" cy="6873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770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Излучающи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учающие устройства преобразуют электрическую энергию в свет. К наиболее распространенным типам излучающи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оизлучающие 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ФИЗИКА РАЗУМОВСКИЙ\Без названия (1).jpg"/>
          <p:cNvPicPr/>
          <p:nvPr/>
        </p:nvPicPr>
        <p:blipFill>
          <a:blip r:embed="rId1"/>
          <a:srcRect l="0" t="0" r="1405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35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Светоизлучающие диоды (</a:t>
            </a:r>
            <a:r>
              <a:rPr b="0" lang="en-US" sz="4000" spc="-100" strike="noStrike">
                <a:solidFill>
                  <a:srgbClr val="d2533c"/>
                </a:solidFill>
                <a:latin typeface="Arial"/>
              </a:rPr>
              <a:t>LED)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7858800" cy="107964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LED излучают свет, когда через них протекает электрический ток. Они используются в различных приложениях, включая освещение, индикаторы и лазе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360"/>
            <a:ext cx="9144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188208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Лазе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24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 - это устройства, которые излучают мощный, сфокусированный пучок света. Они используются в различных приложениях, включая оптические диски, хирургию и 3D-печать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ФИЗИКА РАЗУМОВСКИЙ\220px-Natriumdampfhochdrucklampe-chtaube050404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27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Газовые разрядные ламп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, такие как флуоресцентные лампы и неоновые лампы, излучают свет, когда через них протекает электрический ток. Они используются в различных приложениях, включая освещение и рекламу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194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емны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емные устройства преобразуют свет в электрическую энергию. К наиболее распространенным типам приемны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2746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диод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 - это полупроводниковые устройства, которые преобразуют свет в электрический ток. Они используются в различных приложениях, включая датчики света, измерители освещенности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77</TotalTime>
  <Application>LibreOffice/7.4.7.2$Linux_X86_64 LibreOffice_project/40$Build-2</Application>
  <AppVersion>15.0000</AppVersion>
  <Words>697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06T02:43:40Z</dcterms:created>
  <dc:creator>Пользователь Windows</dc:creator>
  <dc:description/>
  <dc:language>en-US</dc:language>
  <cp:lastModifiedBy>Пользователь Windows</cp:lastModifiedBy>
  <dcterms:modified xsi:type="dcterms:W3CDTF">2023-12-06T05:09:42Z</dcterms:modified>
  <cp:revision>7</cp:revision>
  <dc:subject/>
  <dc:title>Оптоэлектронные устро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