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hdphoto6.wdp" ContentType="image/vnd.ms-photo"/>
  <Override PartName="/ppt/media/image9.jpeg" ContentType="image/jpeg"/>
  <Override PartName="/ppt/media/image8.jpeg" ContentType="image/jpeg"/>
  <Override PartName="/ppt/media/image1.jpeg" ContentType="image/jpeg"/>
  <Override PartName="/ppt/media/hdphoto1.wdp" ContentType="image/vnd.ms-photo"/>
  <Override PartName="/ppt/media/image6.jpeg" ContentType="image/jpeg"/>
  <Override PartName="/ppt/media/image2.jpeg" ContentType="image/jpeg"/>
  <Override PartName="/ppt/media/hdphoto2.wdp" ContentType="image/vnd.ms-photo"/>
  <Override PartName="/ppt/media/image3.jpeg" ContentType="image/jpeg"/>
  <Override PartName="/ppt/media/image5.jpeg" ContentType="image/jpeg"/>
  <Override PartName="/ppt/media/image7.jpeg" ContentType="image/jpeg"/>
  <Override PartName="/ppt/media/hdphoto3.wdp" ContentType="image/vnd.ms-photo"/>
  <Override PartName="/ppt/media/image4.jpeg" ContentType="image/jpeg"/>
  <Override PartName="/ppt/media/hdphoto5.wdp" ContentType="image/vnd.ms-photo"/>
  <Override PartName="/ppt/media/hdphoto4.wdp" ContentType="image/vnd.ms-photo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313-0850-42F8-AD07-B1046236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011-FF5B-489E-94DE-300F368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4C3-ECF7-464D-94FC-4C136733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B5D-3F6C-4BF3-8A31-A41EBCD0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CFB2-2308-4EF3-8185-01887660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FB7B-AC07-4387-B46C-42EC9327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909-E00D-4DAF-A0FD-A150C7B9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2787-4242-4835-81B5-8B5FB96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7393-297D-47E9-A167-C774E8D3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A2CD-8768-4D16-9394-BD185A29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D57-B7E4-4AC4-AC0D-24BF0083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609-1D27-4209-A7BA-4B1AEF25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B901-E6B7-412A-B791-F0350B2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4F6E-CFC3-4B05-88EE-F1CB5BD6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3400-018D-4557-BA6C-E6FBD89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C19-0858-45B2-8882-ACC5AD4A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609-2407-4947-A0D8-8DB58C5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ECF6-459D-4A41-AE22-CAF08667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CEE7-6FA7-49B6-81E8-6FB9623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4BFB-6E0C-4628-9A28-9315ABA2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41B2-2C3C-4CE2-8EC2-BEA1F8A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5D02-E717-4931-BF1F-CCC180EF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42B-7461-458C-BBC0-276A63BD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56D4-AF1C-4A25-9647-0378205F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E8BF-1E82-44EF-908B-2F63FB41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4B0F-E902-4074-980B-5F4D52C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779F-28C9-4058-BE4E-C24BE2C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65F2-5C66-4465-A3A6-DE427645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FD75-D451-4576-8458-3FAF9FBB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093D-A441-488D-B20F-5C14E821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0E2-E26D-4D86-82B1-4A1E936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537-B6B6-43E3-947E-1512203B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172-4D4A-4D79-A36B-D49D32B9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201-5BE3-4376-8178-43D6136E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E59-7238-4070-8CD8-DACCBECB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EEF-989E-4CE2-B5AE-75C318FF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360" cy="192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00" strike="noStrike" cap="all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C84954D-1A41-45E3-906B-72A6C6426D5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Straight Connector 7"/>
          <p:cNvCxnSpPr/>
          <p:nvPr/>
        </p:nvCxnSpPr>
        <p:spPr>
          <a:xfrm>
            <a:off x="685800" y="3398400"/>
            <a:ext cx="7848720" cy="1800"/>
          </a:xfrm>
          <a:prstGeom prst="straightConnector1">
            <a:avLst/>
          </a:prstGeom>
          <a:ln w="19050">
            <a:solidFill>
              <a:srgbClr val="d2533c"/>
            </a:solidFill>
            <a:round/>
          </a:ln>
        </p:spPr>
      </p:cxn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ru-RU" sz="1600" spc="-1" strike="noStrike">
              <a:solidFill>
                <a:srgbClr val="292934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ru-RU" sz="1400" spc="-1" strike="noStrike">
              <a:solidFill>
                <a:srgbClr val="292934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64832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1675FDC-C179-4056-9896-6D6BDB284C6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бразец текста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Второй уровень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93a299"/>
              </a:buClr>
              <a:buSzPct val="90000"/>
              <a:buFont typeface="Arial"/>
              <a:buChar char="•"/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Третий уровень</a:t>
            </a:r>
            <a:endParaRPr b="0" lang="ru-RU" sz="1800" spc="-1" strike="noStrike">
              <a:solidFill>
                <a:srgbClr val="292934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Четвертый уровень</a:t>
            </a:r>
            <a:endParaRPr b="0" lang="ru-RU" sz="1600" spc="-1" strike="noStrike">
              <a:solidFill>
                <a:srgbClr val="292934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93a299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Пятый уровень</a:t>
            </a:r>
            <a:endParaRPr b="0" lang="ru-RU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FD49B8-5967-4BC4-8D2B-122454B6CA6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microsoft.com/office/2007/relationships/hdphoto" Target="../media/hdphoto6.wdp"/><Relationship Id="rId3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microsoft.com/office/2007/relationships/hdphoto" Target="../media/hdphoto2.wdp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microsoft.com/office/2007/relationships/hdphoto" Target="../media/hdphoto3.wdp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microsoft.com/office/2007/relationships/hdphoto" Target="../media/hdphoto4.wdp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microsoft.com/office/2007/relationships/hdphoto" Target="../media/hdphoto5.wdp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360" cy="192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00" strike="noStrike" cap="all">
                <a:solidFill>
                  <a:srgbClr val="d2533c"/>
                </a:solidFill>
                <a:latin typeface="Arial"/>
              </a:rPr>
              <a:t>Оптоэлектронные устройства</a:t>
            </a:r>
            <a:endParaRPr b="0" lang="ru-RU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Подготовил и оформил студент ИВЧТ-3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Казин Данил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7576e"/>
                </a:solidFill>
                <a:latin typeface="Arial"/>
              </a:rPr>
              <a:t>Преподаватель дисципл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D:\ФИЗИКА РАЗУМОВСКИЙ\Без названия (3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9720" y="0"/>
            <a:ext cx="915552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3682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резисто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резисторы - это устройства, которые изменяют свое сопротивление под воздействием света. Они используются в различных приложениях, включая датчики света и экспонометры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D:\ФИЗИКА РАЗУМОВСКИЙ\images.jpg"/>
          <p:cNvPicPr/>
          <p:nvPr/>
        </p:nvPicPr>
        <p:blipFill>
          <a:blip r:embed="rId1"/>
          <a:srcRect l="1865" t="1865" r="1949" b="2402"/>
          <a:stretch/>
        </p:blipFill>
        <p:spPr>
          <a:xfrm>
            <a:off x="5066280" y="1482840"/>
            <a:ext cx="3624120" cy="360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D:\ФИЗИКА РАЗУМОВСКИЙ\7345.970.jpg"/>
          <p:cNvPicPr/>
          <p:nvPr/>
        </p:nvPicPr>
        <p:blipFill>
          <a:blip r:embed="rId2"/>
          <a:stretch/>
        </p:blipFill>
        <p:spPr>
          <a:xfrm>
            <a:off x="-7560" y="836640"/>
            <a:ext cx="5301000" cy="5301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"/>
          <p:cNvSpPr/>
          <p:nvPr/>
        </p:nvSpPr>
        <p:spPr>
          <a:xfrm>
            <a:off x="5066280" y="4941000"/>
            <a:ext cx="1811880" cy="287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160" y="443520"/>
            <a:ext cx="4182480" cy="82476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транзисто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5085360"/>
            <a:ext cx="8233200" cy="139536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транзисторы - это транзисторы, которые усиливают электрический ток, вызванный светом. Они используются в различных приложениях, включая датчики света и системы автоматического управл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6879960" y="1412640"/>
            <a:ext cx="188388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6" name="Параллелограмм 6"/>
          <p:cNvSpPr/>
          <p:nvPr/>
        </p:nvSpPr>
        <p:spPr>
          <a:xfrm>
            <a:off x="6004080" y="2853000"/>
            <a:ext cx="1375560" cy="933840"/>
          </a:xfrm>
          <a:prstGeom prst="parallelogram">
            <a:avLst>
              <a:gd name="adj" fmla="val 50021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7" name="Прямоугольник 7"/>
          <p:cNvSpPr/>
          <p:nvPr/>
        </p:nvSpPr>
        <p:spPr>
          <a:xfrm>
            <a:off x="7380360" y="2349000"/>
            <a:ext cx="1383840" cy="503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мен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тоэлектронные устройства используются во многих различных областях, включая: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Электроника: Оптоэлектронные устройства используются в различных электронных устройствах, включая компьютеры, телевизоры и мобильные телефоны. Они используются для освещения, индикаторов, связи и других функций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Связь: Оптоэлектронные устройства используются в оптической связи, которая обеспечивает передачу данных на большие расстояния с высокой скоростью. Они используются в волоконно-оптических кабелях, которые используются в телекоммуникациях, компьютерных сетях и других приложениях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Медицина: Оптоэлектронные устройства используются в медицине для диагностики, лечения и исследований. Они используются в таких приложениях, как оптическая томография, лазерная хирургия и фотодинамическая терапия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  <a:p>
            <a:pPr marL="152280" indent="-1522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Производство: Оптоэлектронные устройства используются в производстве для контроля качества, автоматизации и других целей. Они используются в таких приложениях, как контроль зрения, робототехника и 3D-печать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мен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передачи информации на большие расстояния. Например, волоконно-оптические кабели, которые используются в телекоммуникациях, передают данные с помощью оптического излуч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преобразования энергии. Например, солнечные панели преобразуют энергию света в электрическую энергию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Оптоэлектронные устройства могут использоваться для диагностики и лечения заболеваний. Например, лазерная хирургия используется для удаления опухолей, а фотодинамическая терапия используется для лечения рака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Светодиоды используются в автомобильных фарах, задних фонарях и стоп-сигнала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Лазерные диски используются для хранения данны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Флуоресцентные лампы используются в офисах и домах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292934"/>
                </a:solidFill>
                <a:latin typeface="Arial"/>
              </a:rPr>
              <a:t>Фотодиоды используются в цифровых фотоаппаратах для определения экспозиции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Заключение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400" spc="-1" strike="noStrike">
                <a:solidFill>
                  <a:srgbClr val="292934"/>
                </a:solidFill>
                <a:latin typeface="Arial"/>
              </a:rPr>
              <a:t>Оптоэлектронные устройства продолжают развиваться и находить новые применения. По мере того, как новые технологии становятся доступными, оптоэлектронные устройства станут еще более важными компонентами.</a:t>
            </a:r>
            <a:endParaRPr b="0" lang="ru-RU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ФИЗИКА РАЗУМОВСКИЙ\harakteristika_optoelektronnyh_priborov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ntrast="-20000"/>
                    </a14:imgEffect>
                  </a14:imgLayer>
                </a14:imgProps>
              </a:ext>
            </a:extLst>
          </a:blip>
          <a:srcRect l="3957" t="0" r="4711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362800" cy="686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00" strike="noStrike">
                <a:solidFill>
                  <a:srgbClr val="d2533c"/>
                </a:solidFill>
                <a:latin typeface="Arial"/>
              </a:rPr>
              <a:t>Что такое оптоэлектронные устройства?</a:t>
            </a:r>
            <a:endParaRPr b="0" lang="ru-RU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87920" indent="-18792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тоэлектронные устройства - это устройства, которые используют свет для передачи информации или энергии. Они состоят из двух основных компонентов: 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87920" indent="-18792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лучающего устройства и приемного устройства. 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87920" indent="-18792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лучающее устройство преобразует электрическую энергию в свет, а приемное устройство преобразует свет в электрическую энергию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ФИЗИКА РАЗУМОВСКИЙ\Без названия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7999" t="0" r="3697" b="0"/>
          <a:stretch/>
        </p:blipFill>
        <p:spPr>
          <a:xfrm>
            <a:off x="0" y="-33480"/>
            <a:ext cx="9143640" cy="6891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6058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Основные разновидности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61280" indent="-161280">
              <a:lnSpc>
                <a:spcPct val="10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па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Они также часто называются оптронами. Изделие состоит из пары приборов, один из них играет роль передатчика, а другой – приёмника. Оптронные системы преобразуют электрическую энергию в свет, передают его на расстояние, а затем снова преобразуют собранный световой пучок в электрический сигнал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рел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то одна из частей оптронной пары, являющаяся только лишь преобразователем. Работа схожа с обычным электромеханическим реле, но сигналы, предопределяющие действие, передаются посредством направленного светового луча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тирис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Это обычные тиристоры, управляемые при помощи сигнала, подаваемого излучателем. Их работа полностью идентична обычному тиристору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  <a:p>
            <a:pPr marL="161280" indent="-161280">
              <a:lnSpc>
                <a:spcPct val="120000"/>
              </a:lnSpc>
              <a:spcBef>
                <a:spcPts val="561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отранзис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Их также называют оптическими вычислительными элементами. Решение принимается на базе полученной интенсивности и длительности излучения. Изделия такого рода часто используются в компьютерных запчастях.</a:t>
            </a:r>
            <a:endParaRPr b="0" lang="ru-RU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:\ФИЗИКА РАЗУМОВСКИЙ\300px-Light_Amplification_by_Stimulated_Emission_of_Radiation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1600" y="0"/>
            <a:ext cx="9165240" cy="6873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770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Излучающие устройств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лучающие устройства преобразуют электрическую энергию в свет. К наиболее распространенным типам излучающих устройств относятся: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оизлучающие диод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зе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овые разрядные ламп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:\ФИЗИКА РАЗУМОВСКИЙ\Без названия (1).jpg"/>
          <p:cNvPicPr/>
          <p:nvPr/>
        </p:nvPicPr>
        <p:blipFill>
          <a:blip r:embed="rId1"/>
          <a:srcRect l="0" t="0" r="1405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7354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Светоизлучающие диоды (</a:t>
            </a:r>
            <a:r>
              <a:rPr b="0" lang="en-US" sz="4000" spc="-100" strike="noStrike">
                <a:solidFill>
                  <a:srgbClr val="d2533c"/>
                </a:solidFill>
                <a:latin typeface="Arial"/>
              </a:rPr>
              <a:t>LED)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7858800" cy="107964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LED излучают свет, когда через них протекает электрический ток. Они используются в различных приложениях, включая освещение, индикаторы и лазеры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ФИЗИКА РАЗУМОВСКИЙ\300px-Light_Amplification_by_Stimulated_Emission_of_Radiation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-360"/>
            <a:ext cx="91443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188208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Лазер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24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зеры - это устройства, которые излучают мощный, сфокусированный пучок света. Они используются в различных приложениях, включая оптические диски, хирургию и 3D-печать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:\ФИЗИКА РАЗУМОВСКИЙ\220px-Natriumdampfhochdrucklampe-chtaube050404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627480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Газовые разрядные ламп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зовые разрядные лампы, такие как флуоресцентные лампы и неоновые лампы, излучают свет, когда через них протекает электрический ток. Они используются в различных приложениях, включая освещение и рекламу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ФИЗИКА РАЗУМОВСКИЙ\Без названия (2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17730" t="0" r="20857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194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Приемные устройства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емные устройства преобразуют свет в электрическую энергию. К наиболее распространенным типам приемных устройств относятся: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диод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резисто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транзисторы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ФИЗИКА РАЗУМОВСКИЙ\Без названия (2)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/>
                    </a14:imgEffect>
                  </a14:imgLayer>
                </a14:imgProps>
              </a:ext>
            </a:extLst>
          </a:blip>
          <a:srcRect l="17730" t="0" r="20857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2746440" cy="758880"/>
          </a:xfrm>
          <a:prstGeom prst="rect">
            <a:avLst/>
          </a:prstGeom>
          <a:solidFill>
            <a:srgbClr val="292934"/>
          </a:solidFill>
          <a:ln w="0">
            <a:noFill/>
          </a:ln>
        </p:spPr>
        <p:txBody>
          <a:bodyPr anchor="ctr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2533c"/>
                </a:solidFill>
                <a:latin typeface="Arial"/>
              </a:rPr>
              <a:t>Фотодиоды</a:t>
            </a:r>
            <a:endParaRPr b="0" lang="ru-RU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диоды - это полупроводниковые устройства, которые преобразуют свет в электрический ток. Они используются в различных приложениях, включая датчики света, измерители освещенности и системы автоматического управления.</a:t>
            </a:r>
            <a:endParaRPr b="0" lang="ru-RU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Ясность">
  <a:themeElements>
    <a:clrScheme name="Ясность">
      <a:dk1>
        <a:srgbClr val="292934"/>
      </a:dk1>
      <a:lt1>
        <a:srgbClr val="ffffff"/>
      </a:lt1>
      <a:dk2>
        <a:srgbClr val="d2533c"/>
      </a:dk2>
      <a:lt2>
        <a:srgbClr val="f3f2dc"/>
      </a:lt2>
      <a:accent1>
        <a:srgbClr val="93a299"/>
      </a:accent1>
      <a:accent2>
        <a:srgbClr val="ad8f67"/>
      </a:accent2>
      <a:accent3>
        <a:srgbClr val="726056"/>
      </a:accent3>
      <a:accent4>
        <a:srgbClr val="4c5a6a"/>
      </a:accent4>
      <a:accent5>
        <a:srgbClr val="808da0"/>
      </a:accent5>
      <a:accent6>
        <a:srgbClr val="79463d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77</TotalTime>
  <Application>LibreOffice/7.4.7.2$Linux_X86_64 LibreOffice_project/40$Build-2</Application>
  <AppVersion>15.0000</AppVersion>
  <Words>697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06T02:43:40Z</dcterms:created>
  <dc:creator>Пользователь Windows</dc:creator>
  <dc:description/>
  <dc:language>en-US</dc:language>
  <cp:lastModifiedBy>Пользователь Windows</cp:lastModifiedBy>
  <dcterms:modified xsi:type="dcterms:W3CDTF">2023-12-06T05:09:42Z</dcterms:modified>
  <cp:revision>7</cp:revision>
  <dc:subject/>
  <dc:title>Оптоэлектронные устро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