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hdphoto6.wdp" ContentType="image/vnd.ms-photo"/>
  <Override PartName="/ppt/media/image9.jpeg" ContentType="image/jpeg"/>
  <Override PartName="/ppt/media/image8.jpeg" ContentType="image/jpeg"/>
  <Override PartName="/ppt/media/image1.jpeg" ContentType="image/jpeg"/>
  <Override PartName="/ppt/media/hdphoto1.wdp" ContentType="image/vnd.ms-photo"/>
  <Override PartName="/ppt/media/image6.jpeg" ContentType="image/jpeg"/>
  <Override PartName="/ppt/media/image2.jpeg" ContentType="image/jpeg"/>
  <Override PartName="/ppt/media/hdphoto2.wdp" ContentType="image/vnd.ms-photo"/>
  <Override PartName="/ppt/media/image3.jpeg" ContentType="image/jpeg"/>
  <Override PartName="/ppt/media/image5.jpeg" ContentType="image/jpeg"/>
  <Override PartName="/ppt/media/image7.jpeg" ContentType="image/jpeg"/>
  <Override PartName="/ppt/media/hdphoto3.wdp" ContentType="image/vnd.ms-photo"/>
  <Override PartName="/ppt/media/image4.jpeg" ContentType="image/jpeg"/>
  <Override PartName="/ppt/media/hdphoto5.wdp" ContentType="image/vnd.ms-photo"/>
  <Override PartName="/ppt/media/hdphoto4.wdp" ContentType="image/vnd.ms-photo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978D-CF2E-46BD-A12A-69B780BE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82C-9F54-4DF5-BF0C-2B7DD6AC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9CB-E7AF-4919-A425-B188F6B0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4EF-81B1-4886-8129-DD422829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FEE2-BC29-4E48-BBCD-8551AE3B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D5B0-D17C-4A82-BD7F-646764D7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A074-C1AD-4FC3-ACD3-9F257B44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9124-5672-457E-B2AD-DF25971C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3FB9-7771-4A49-AB75-6B1B968A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92B5-5E17-4ACC-8E69-3CC90AE4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151E-75AC-42D4-A3BC-FECD62C4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03B-A1EE-42F6-B257-C6E26526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769B-1995-481B-A4E5-D9E2C370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B8A4-7983-4C88-A233-1B5335B7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712F-EBB9-44B3-AF6F-1C03CE11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9EFE-2734-47BD-A1DC-BDEB10F3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14ED-60FB-43F2-AF7F-753D7D98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7785F-14BE-448B-8726-EE576A3B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60660-C5D3-4BB1-A920-18F958F1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BF033-E647-4379-B4D1-097DEE51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DDD2F-F83D-4D84-AC47-D5545283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2E5E5-DC4C-4D91-9A48-5B68F018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52F9-6644-4569-A41F-A975E3D1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CEA6B-68BA-4A7F-865A-6D0CD265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6D738-E308-4D63-B17B-4241CA3A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C42B4-DEA2-4E6A-A32B-9EEA29DA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DA767-00D6-4BAF-B1E3-5CC443F0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186E9-6377-462E-94A4-AFAE08E5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D7FC1-4C0B-4ADB-9BCE-69E6DCAE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78A20-7447-4C11-813B-1F8AE670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AF4-2F3F-497E-9CE2-FAB0CFC1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7DF-3641-416E-9883-54B8B61F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F175-E37D-4849-8E27-B4F82F65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C5F-DAFF-43F6-8789-973F44C8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A71F-60A2-42F3-B5B0-CC1BA08D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743-6D70-4EF0-B6C6-90FD6A80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848360" cy="192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00" strike="noStrike" cap="all">
                <a:solidFill>
                  <a:srgbClr val="d2533c"/>
                </a:solidFill>
                <a:latin typeface="Arial"/>
              </a:rPr>
              <a:t>Образец заголовка</a:t>
            </a:r>
            <a:endParaRPr b="0" lang="ru-RU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42A7685-4250-4D0E-90FF-D69D299E7DB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" name="Straight Connector 7"/>
          <p:cNvCxnSpPr/>
          <p:nvPr/>
        </p:nvCxnSpPr>
        <p:spPr>
          <a:xfrm>
            <a:off x="685800" y="3398400"/>
            <a:ext cx="7848720" cy="1800"/>
          </a:xfrm>
          <a:prstGeom prst="straightConnector1">
            <a:avLst/>
          </a:prstGeom>
          <a:ln w="19050">
            <a:solidFill>
              <a:srgbClr val="d2533c"/>
            </a:solidFill>
            <a:round/>
          </a:ln>
        </p:spPr>
      </p:cxn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ru-RU" sz="1600" spc="-1" strike="noStrike">
              <a:solidFill>
                <a:srgbClr val="292934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ru-RU" sz="1400" spc="-1" strike="noStrike">
              <a:solidFill>
                <a:srgbClr val="292934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Образец заголовка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lvl="2" marL="73152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90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lvl="3" marL="1005840" indent="-182880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  <a:p>
            <a:pPr lvl="4" marL="1188720" indent="-137160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64832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lvl="2" marL="73152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90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lvl="3" marL="1005840" indent="-182880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  <a:p>
            <a:pPr lvl="4" marL="1188720" indent="-137160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4515B0A-87A1-40B5-934B-8359AC46F14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Образец заголовка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Второй уровень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lvl="2" marL="731520" indent="-182880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SzPct val="90000"/>
              <a:buFont typeface="Arial"/>
              <a:buChar char="•"/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Третий уровень</a:t>
            </a: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  <a:p>
            <a:pPr lvl="3" marL="1005840" indent="-182880">
              <a:lnSpc>
                <a:spcPct val="100000"/>
              </a:lnSpc>
              <a:spcBef>
                <a:spcPts val="320"/>
              </a:spcBef>
              <a:buClr>
                <a:srgbClr val="93a299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292934"/>
                </a:solidFill>
                <a:latin typeface="Arial"/>
              </a:rPr>
              <a:t>Четвертый уровень</a:t>
            </a:r>
            <a:endParaRPr b="0" lang="ru-RU" sz="1600" spc="-1" strike="noStrike">
              <a:solidFill>
                <a:srgbClr val="292934"/>
              </a:solidFill>
              <a:latin typeface="Arial"/>
            </a:endParaRPr>
          </a:p>
          <a:p>
            <a:pPr lvl="4" marL="1188720" indent="-137160">
              <a:lnSpc>
                <a:spcPct val="100000"/>
              </a:lnSpc>
              <a:spcBef>
                <a:spcPts val="281"/>
              </a:spcBef>
              <a:buClr>
                <a:srgbClr val="93a299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292934"/>
                </a:solidFill>
                <a:latin typeface="Arial"/>
              </a:rPr>
              <a:t>Пятый уровень</a:t>
            </a:r>
            <a:endParaRPr b="0" lang="ru-RU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7D75EF8-E2F1-4E1A-A0AD-FD381270DD4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microsoft.com/office/2007/relationships/hdphoto" Target="../media/hdphoto6.wdp"/><Relationship Id="rId3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microsoft.com/office/2007/relationships/hdphoto" Target="../media/hdphoto1.wdp"/><Relationship Id="rId3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microsoft.com/office/2007/relationships/hdphoto" Target="../media/hdphoto2.wdp"/><Relationship Id="rId3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microsoft.com/office/2007/relationships/hdphoto" Target="../media/hdphoto3.wdp"/><Relationship Id="rId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microsoft.com/office/2007/relationships/hdphoto" Target="../media/hdphoto4.wdp"/><Relationship Id="rId3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microsoft.com/office/2007/relationships/hdphoto" Target="../media/hdphoto5.wdp"/><Relationship Id="rId3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848360" cy="192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00" strike="noStrike" cap="all">
                <a:solidFill>
                  <a:srgbClr val="d2533c"/>
                </a:solidFill>
                <a:latin typeface="Arial"/>
              </a:rPr>
              <a:t>Оптоэлектронные устройства</a:t>
            </a:r>
            <a:endParaRPr b="0" lang="ru-RU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57576e"/>
                </a:solidFill>
                <a:latin typeface="Arial"/>
              </a:rPr>
              <a:t>Подготовил и оформил студент ИВЧТ-3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57576e"/>
                </a:solidFill>
                <a:latin typeface="Arial"/>
              </a:rPr>
              <a:t>Казин Данил Серг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57576e"/>
                </a:solidFill>
                <a:latin typeface="Arial"/>
              </a:rPr>
              <a:t>Преподаватель дисципли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D:\ФИЗИКА РАЗУМОВСКИЙ\Без названия (3)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9720" y="0"/>
            <a:ext cx="9155520" cy="6857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368244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Фоторезисторы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резисторы - это устройства, которые изменяют свое сопротивление под воздействием света. Они используются в различных приложениях, включая датчики света и экспонометры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D:\ФИЗИКА РАЗУМОВСКИЙ\images.jpg"/>
          <p:cNvPicPr/>
          <p:nvPr/>
        </p:nvPicPr>
        <p:blipFill>
          <a:blip r:embed="rId1"/>
          <a:srcRect l="1865" t="1865" r="1949" b="2402"/>
          <a:stretch/>
        </p:blipFill>
        <p:spPr>
          <a:xfrm>
            <a:off x="5066280" y="1482840"/>
            <a:ext cx="3624120" cy="3607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D:\ФИЗИКА РАЗУМОВСКИЙ\7345.970.jpg"/>
          <p:cNvPicPr/>
          <p:nvPr/>
        </p:nvPicPr>
        <p:blipFill>
          <a:blip r:embed="rId2"/>
          <a:stretch/>
        </p:blipFill>
        <p:spPr>
          <a:xfrm>
            <a:off x="-7560" y="836640"/>
            <a:ext cx="5301000" cy="53010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5"/>
          <p:cNvSpPr/>
          <p:nvPr/>
        </p:nvSpPr>
        <p:spPr>
          <a:xfrm>
            <a:off x="5066280" y="4941000"/>
            <a:ext cx="1811880" cy="287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1160" y="443520"/>
            <a:ext cx="4182480" cy="82476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Фототранзисторы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5085360"/>
            <a:ext cx="8233200" cy="139536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транзисторы - это транзисторы, которые усиливают электрический ток, вызванный светом. Они используются в различных приложениях, включая датчики света и системы автоматического управления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6879960" y="1412640"/>
            <a:ext cx="1883880" cy="28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66" name="Параллелограмм 6"/>
          <p:cNvSpPr/>
          <p:nvPr/>
        </p:nvSpPr>
        <p:spPr>
          <a:xfrm>
            <a:off x="6004080" y="2853000"/>
            <a:ext cx="1375560" cy="933840"/>
          </a:xfrm>
          <a:prstGeom prst="parallelogram">
            <a:avLst>
              <a:gd name="adj" fmla="val 50021"/>
            </a:avLst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67" name="Прямоугольник 7"/>
          <p:cNvSpPr/>
          <p:nvPr/>
        </p:nvSpPr>
        <p:spPr>
          <a:xfrm>
            <a:off x="7380360" y="2349000"/>
            <a:ext cx="1383840" cy="50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Применение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152280" indent="-1522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Оптоэлектронные устройства используются во многих различных областях, включая: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marL="152280" indent="-1522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Электроника: Оптоэлектронные устройства используются в различных электронных устройствах, включая компьютеры, телевизоры и мобильные телефоны. Они используются для освещения, индикаторов, связи и других функций.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marL="152280" indent="-1522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Связь: Оптоэлектронные устройства используются в оптической связи, которая обеспечивает передачу данных на большие расстояния с высокой скоростью. Они используются в волоконно-оптических кабелях, которые используются в телекоммуникациях, компьютерных сетях и других приложениях.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marL="152280" indent="-1522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Медицина: Оптоэлектронные устройства используются в медицине для диагностики, лечения и исследований. Они используются в таких приложениях, как оптическая томография, лазерная хирургия и фотодинамическая терапия.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marL="152280" indent="-1522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Производство: Оптоэлектронные устройства используются в производстве для контроля качества, автоматизации и других целей. Они используются в таких приложениях, как контроль зрения, робототехника и 3D-печать.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Применение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Оптоэлектронные устройства могут использоваться для передачи информации на большие расстояния. Например, волоконно-оптические кабели, которые используются в телекоммуникациях, передают данные с помощью оптического излучения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Оптоэлектронные устройства могут использоваться для преобразования энергии. Например, солнечные панели преобразуют энергию света в электрическую энергию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Оптоэлектронные устройства могут использоваться для диагностики и лечения заболеваний. Например, лазерная хирургия используется для удаления опухолей, а фотодинамическая терапия используется для лечения рака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Светодиоды используются в автомобильных фарах, задних фонарях и стоп-сигналах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Лазерные диски используются для хранения данных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Флуоресцентные лампы используются в офисах и домах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Фотодиоды используются в цифровых фотоаппаратах для определения экспозиции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Заключение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Оптоэлектронные устройства продолжают развиваться и находить новые применения. По мере того, как новые технологии становятся доступными, оптоэлектронные устройства станут еще более важными компонентами.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ФИЗИКА РАЗУМОВСКИЙ\harakteristika_optoelektronnyh_priborov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ntrast="-20000"/>
                    </a14:imgEffect>
                  </a14:imgLayer>
                </a14:imgProps>
              </a:ext>
            </a:extLst>
          </a:blip>
          <a:srcRect l="3957" t="0" r="4711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362800" cy="686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00" strike="noStrike">
                <a:solidFill>
                  <a:srgbClr val="d2533c"/>
                </a:solidFill>
                <a:latin typeface="Arial"/>
              </a:rPr>
              <a:t>Что такое оптоэлектронные устройства?</a:t>
            </a:r>
            <a:endParaRPr b="0" lang="ru-RU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87920" indent="-187920">
              <a:lnSpc>
                <a:spcPct val="10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тоэлектронные устройства - это устройства, которые используют свет для передачи информации или энергии. Они состоят из двух основных компонентов: 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  <a:p>
            <a:pPr marL="187920" indent="-187920">
              <a:lnSpc>
                <a:spcPct val="12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лучающего устройства и приемного устройства. 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  <a:p>
            <a:pPr marL="187920" indent="-187920">
              <a:lnSpc>
                <a:spcPct val="12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лучающее устройство преобразует электрическую энергию в свет, а приемное устройство преобразует свет в электрическую энергию.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D:\ФИЗИКА РАЗУМОВСКИЙ\Без названия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rcRect l="7999" t="0" r="3697" b="0"/>
          <a:stretch/>
        </p:blipFill>
        <p:spPr>
          <a:xfrm>
            <a:off x="0" y="-33480"/>
            <a:ext cx="9143640" cy="6891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605880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Основные разновидности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48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61280" indent="-161280">
              <a:lnSpc>
                <a:spcPct val="10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опа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Они также часто называются оптронами. Изделие состоит из пары приборов, один из них играет роль передатчика, а другой – приёмника. Оптронные системы преобразуют электрическую энергию в свет, передают его на расстояние, а затем снова преобразуют собранный световой пучок в электрический сигнал.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орел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Это одна из частей оптронной пары, являющаяся только лишь преобразователем. Работа схожа с обычным электромеханическим реле, но сигналы, предопределяющие действие, передаются посредством направленного светового луча.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отиристо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Это обычные тиристоры, управляемые при помощи сигнала, подаваемого излучателем. Их работа полностью идентична обычному тиристору.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отранзисто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Их также называют оптическими вычислительными элементами. Решение принимается на базе полученной интенсивности и длительности излучения. Изделия такого рода часто используются в компьютерных запчастях.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D:\ФИЗИКА РАЗУМОВСКИЙ\300px-Light_Amplification_by_Stimulated_Emission_of_Radiation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21600" y="0"/>
            <a:ext cx="9165240" cy="68738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577080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Излучающие устройства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лучающие устройства преобразуют электрическую энергию в свет. К наиболее распространенным типам излучающих устройств относятся: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етоизлучающие диоды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зеры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зовые разрядные лампы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:\ФИЗИКА РАЗУМОВСКИЙ\Без названия (1).jpg"/>
          <p:cNvPicPr/>
          <p:nvPr/>
        </p:nvPicPr>
        <p:blipFill>
          <a:blip r:embed="rId1"/>
          <a:srcRect l="0" t="0" r="1405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735480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rmAutofit fontScale="99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Светоизлучающие диоды (</a:t>
            </a:r>
            <a:r>
              <a:rPr b="0" lang="en-US" sz="4000" spc="-100" strike="noStrike">
                <a:solidFill>
                  <a:srgbClr val="d2533c"/>
                </a:solidFill>
                <a:latin typeface="Arial"/>
              </a:rPr>
              <a:t>LED)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5373360"/>
            <a:ext cx="7858800" cy="107964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LED излучают свет, когда через них протекает электрический ток. Они используются в различных приложениях, включая освещение, индикаторы и лазеры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:\ФИЗИКА РАЗУМОВСКИЙ\300px-Light_Amplification_by_Stimulated_Emission_of_Radiation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-360"/>
            <a:ext cx="914436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188208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Лазеры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24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зеры - это устройства, которые излучают мощный, сфокусированный пучок света. Они используются в различных приложениях, включая оптические диски, хирургию и 3D-печать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D:\ФИЗИКА РАЗУМОВСКИЙ\220px-Natriumdampfhochdrucklampe-chtaube050404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627480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Газовые разрядные лампы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зовые разрядные лампы, такие как флуоресцентные лампы и неоновые лампы, излучают свет, когда через них протекает электрический ток. Они используются в различных приложениях, включая освещение и рекламу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D:\ФИЗИКА РАЗУМОВСКИЙ\Без названия (2)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rcRect l="17730" t="0" r="20857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519444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Приемные устройства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емные устройства преобразуют свет в электрическую энергию. К наиболее распространенным типам приемных устройств относятся: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диоды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резисторы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транзисторы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:\ФИЗИКА РАЗУМОВСКИЙ\Без названия (2)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rcRect l="17730" t="0" r="20857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274644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rmAutofit fontScale="99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Фотодиоды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диоды - это полупроводниковые устройства, которые преобразуют свет в электрический ток. Они используются в различных приложениях, включая датчики света, измерители освещенности и системы автоматического управления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Ясность">
  <a:themeElements>
    <a:clrScheme name="Ясность">
      <a:dk1>
        <a:srgbClr val="292934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Ясность">
  <a:themeElements>
    <a:clrScheme name="Ясность">
      <a:dk1>
        <a:srgbClr val="292934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Ясность">
  <a:themeElements>
    <a:clrScheme name="Ясность">
      <a:dk1>
        <a:srgbClr val="292934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larity</Template>
  <TotalTime>77</TotalTime>
  <Application>LibreOffice/7.4.7.2$Linux_X86_64 LibreOffice_project/40$Build-2</Application>
  <AppVersion>15.0000</AppVersion>
  <Words>697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2-06T02:43:40Z</dcterms:created>
  <dc:creator>Пользователь Windows</dc:creator>
  <dc:description/>
  <dc:language>en-US</dc:language>
  <cp:lastModifiedBy>Пользователь Windows</cp:lastModifiedBy>
  <dcterms:modified xsi:type="dcterms:W3CDTF">2023-12-06T05:09:42Z</dcterms:modified>
  <cp:revision>7</cp:revision>
  <dc:subject/>
  <dc:title>Оптоэлектронные устрой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