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4630400" cy="8229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4E29-2B07-43EB-BC3F-800CCC63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7640" y="614592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8F0E-B3B9-44DF-A3C8-05A25C94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7640" y="61459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1000" y="61459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4B69-3CC8-4824-A087-ED65ACF0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5880" y="24595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4120" y="24595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7640" y="61459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5880" y="61459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4120" y="614592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659B-9E20-4EA6-957F-FE6E6C09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7640" y="2459520"/>
            <a:ext cx="679752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2F2D-5CAE-4EF5-A0E6-106DAAE9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679752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B4A1-5F86-4D73-9EAE-B8E7F1BD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614B-9F48-45AF-983A-318CB7A9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ECBC-8E61-4C58-B17D-B54879E4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7640" y="427680"/>
            <a:ext cx="6797520" cy="793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CD00-18BD-4BB1-99B7-3675D471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7640" y="61459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FD48-A862-4C9A-BFB4-9B0958A0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1000" y="61459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76B7-72FB-4B36-BB89-1196B795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764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1000" y="245952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7640" y="614592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4B24-C6B7-4BC6-846B-955CBBE9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7640" y="427680"/>
            <a:ext cx="679752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7640" y="2459520"/>
            <a:ext cx="6797520" cy="70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14400"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371600"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828800"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45000"/>
            <a:ext cx="173700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68240" y="9945000"/>
            <a:ext cx="2416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38520" y="9945000"/>
            <a:ext cx="173700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3AE61D-70AC-4587-8E1A-8688FA5AA2F0}" type="slidenum">
              <a:rPr b="0" lang="en-US" sz="14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1"/>
          <p:cNvSpPr/>
          <p:nvPr/>
        </p:nvSpPr>
        <p:spPr>
          <a:xfrm>
            <a:off x="0" y="0"/>
            <a:ext cx="14630040" cy="822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3"/>
          <p:cNvSpPr/>
          <p:nvPr/>
        </p:nvSpPr>
        <p:spPr>
          <a:xfrm>
            <a:off x="927000" y="2706120"/>
            <a:ext cx="259164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6401"/>
              </a:lnSpc>
            </a:pPr>
            <a:r>
              <a:rPr b="0" lang="en-US" sz="5250" spc="-1" strike="noStrike">
                <a:solidFill>
                  <a:srgbClr val="ebccbb"/>
                </a:solidFill>
                <a:latin typeface="FLANFA+Calibri"/>
              </a:rPr>
              <a:t>кофейня</a:t>
            </a:r>
            <a:endParaRPr b="0" lang="en-US" sz="52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4"/>
          <p:cNvSpPr/>
          <p:nvPr/>
        </p:nvSpPr>
        <p:spPr>
          <a:xfrm>
            <a:off x="924840" y="3910680"/>
            <a:ext cx="7318080" cy="27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Бизнес</a:t>
            </a:r>
            <a:r>
              <a:rPr b="0" lang="en-US" sz="1750" spc="-1" strike="noStrike">
                <a:solidFill>
                  <a:srgbClr val="c9c2c0"/>
                </a:solidFill>
                <a:latin typeface="VTHELM+Calibri"/>
              </a:rPr>
              <a:t>-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план</a:t>
            </a:r>
            <a:r>
              <a:rPr b="0" lang="en-US" sz="1750" spc="-26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кофейни предп</a:t>
            </a:r>
            <a:r>
              <a:rPr b="0" lang="en-US" sz="1750" spc="-644" strike="noStrike">
                <a:solidFill>
                  <a:srgbClr val="c9c2c0"/>
                </a:solidFill>
                <a:latin typeface="FLANFA+Calibri"/>
              </a:rPr>
              <a:t>о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лагает создание уютно</a:t>
            </a:r>
            <a:r>
              <a:rPr b="0" lang="en-US" sz="1750" spc="-551" strike="noStrike">
                <a:solidFill>
                  <a:srgbClr val="c9c2c0"/>
                </a:solidFill>
                <a:latin typeface="FLANFA+Calibri"/>
              </a:rPr>
              <a:t>г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о заведения,</a:t>
            </a:r>
            <a:r>
              <a:rPr b="0" lang="en-US" sz="1750" spc="-605" strike="noStrike">
                <a:solidFill>
                  <a:srgbClr val="c9c2c0"/>
                </a:solidFill>
                <a:latin typeface="FLANFA+Calibri"/>
              </a:rPr>
              <a:t>г</a:t>
            </a:r>
            <a:r>
              <a:rPr b="0" lang="en-US" sz="1750" spc="-18" strike="noStrike">
                <a:solidFill>
                  <a:srgbClr val="c9c2c0"/>
                </a:solidFill>
                <a:latin typeface="FLANFA+Calibri"/>
              </a:rPr>
              <a:t>де</a:t>
            </a:r>
            <a:r>
              <a:rPr b="0" lang="en-US" sz="1750" spc="18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л</a:t>
            </a:r>
            <a:r>
              <a:rPr b="0" lang="en-US" sz="1750" spc="-922" strike="noStrike">
                <a:solidFill>
                  <a:srgbClr val="c9c2c0"/>
                </a:solidFill>
                <a:latin typeface="FLANFA+Calibri"/>
              </a:rPr>
              <a:t>ю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ди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смогут насладиться</a:t>
            </a:r>
            <a:r>
              <a:rPr b="0" lang="en-US" sz="1750" spc="-15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атмосферой</a:t>
            </a:r>
            <a:r>
              <a:rPr b="0" lang="en-US" sz="1750" spc="-35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комфорта и</a:t>
            </a:r>
            <a:r>
              <a:rPr b="0" lang="en-US" sz="1750" spc="12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о</a:t>
            </a:r>
            <a:r>
              <a:rPr b="0" lang="en-US" sz="1750" spc="-678" strike="noStrike">
                <a:solidFill>
                  <a:srgbClr val="c9c2c0"/>
                </a:solidFill>
                <a:latin typeface="FLANFA+Calibri"/>
              </a:rPr>
              <a:t>т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дохнуть в приятной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40"/>
              </a:lnSpc>
              <a:spcBef>
                <a:spcPts val="666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обстанов</a:t>
            </a:r>
            <a:r>
              <a:rPr b="0" lang="en-US" sz="1750" spc="-460" strike="noStrike">
                <a:solidFill>
                  <a:srgbClr val="c9c2c0"/>
                </a:solidFill>
                <a:latin typeface="FLANFA+Calibri"/>
              </a:rPr>
              <a:t>к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е.</a:t>
            </a:r>
            <a:r>
              <a:rPr b="0" lang="en-US" sz="1750" spc="-24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Э</a:t>
            </a:r>
            <a:r>
              <a:rPr b="0" lang="en-US" sz="1750" spc="-369" strike="noStrike">
                <a:solidFill>
                  <a:srgbClr val="c9c2c0"/>
                </a:solidFill>
                <a:latin typeface="FLANFA+Calibri"/>
              </a:rPr>
              <a:t>т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о</a:t>
            </a:r>
            <a:r>
              <a:rPr b="0" lang="en-US" sz="1750" spc="9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место,</a:t>
            </a:r>
            <a:r>
              <a:rPr b="0" lang="en-US" sz="1750" spc="-605" strike="noStrike">
                <a:solidFill>
                  <a:srgbClr val="c9c2c0"/>
                </a:solidFill>
                <a:latin typeface="FLANFA+Calibri"/>
              </a:rPr>
              <a:t>г</a:t>
            </a:r>
            <a:r>
              <a:rPr b="0" lang="en-US" sz="1750" spc="-18" strike="noStrike">
                <a:solidFill>
                  <a:srgbClr val="c9c2c0"/>
                </a:solidFill>
                <a:latin typeface="FLANFA+Calibri"/>
              </a:rPr>
              <a:t>де</a:t>
            </a:r>
            <a:r>
              <a:rPr b="0" lang="en-US" sz="1750" spc="18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каждый</a:t>
            </a:r>
            <a:r>
              <a:rPr b="0" lang="en-US" sz="1750" spc="-21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посетитель</a:t>
            </a:r>
            <a:r>
              <a:rPr b="0" lang="en-US" sz="1750" spc="-26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сможет</a:t>
            </a:r>
            <a:r>
              <a:rPr b="0" lang="en-US" sz="1750" spc="-12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насладиться</a:t>
            </a:r>
            <a:r>
              <a:rPr b="0" lang="en-US" sz="1750" spc="-41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чашкой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ароматно</a:t>
            </a:r>
            <a:r>
              <a:rPr b="0" lang="en-US" sz="1750" spc="-551" strike="noStrike">
                <a:solidFill>
                  <a:srgbClr val="c9c2c0"/>
                </a:solidFill>
                <a:latin typeface="FLANFA+Calibri"/>
              </a:rPr>
              <a:t>г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о кофе и</a:t>
            </a:r>
            <a:r>
              <a:rPr b="0" lang="en-US" sz="1750" spc="12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приятной беседой, создавая</a:t>
            </a:r>
            <a:r>
              <a:rPr b="0" lang="en-US" sz="1750" spc="-24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при</a:t>
            </a:r>
            <a:r>
              <a:rPr b="0" lang="en-US" sz="1750" spc="12" strike="noStrike">
                <a:solidFill>
                  <a:srgbClr val="c9c2c0"/>
                </a:solidFill>
                <a:latin typeface="FLANFA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этом уникальные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впеча</a:t>
            </a:r>
            <a:r>
              <a:rPr b="0" lang="en-US" sz="1750" spc="-678" strike="noStrike">
                <a:solidFill>
                  <a:srgbClr val="c9c2c0"/>
                </a:solidFill>
                <a:latin typeface="FLANFA+Calibri"/>
              </a:rPr>
              <a:t>т</a:t>
            </a:r>
            <a:r>
              <a:rPr b="0" lang="en-US" sz="1750" spc="-1" strike="noStrike">
                <a:solidFill>
                  <a:srgbClr val="c9c2c0"/>
                </a:solidFill>
                <a:latin typeface="FLANFA+Calibri"/>
              </a:rPr>
              <a:t>ления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1"/>
          <p:cNvSpPr/>
          <p:nvPr/>
        </p:nvSpPr>
        <p:spPr>
          <a:xfrm>
            <a:off x="0" y="0"/>
            <a:ext cx="14630040" cy="822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ject 3"/>
          <p:cNvSpPr/>
          <p:nvPr/>
        </p:nvSpPr>
        <p:spPr>
          <a:xfrm>
            <a:off x="924840" y="1039320"/>
            <a:ext cx="7136640" cy="20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349"/>
              </a:lnSpc>
            </a:pPr>
            <a:r>
              <a:rPr b="0" lang="en-US" sz="4400" spc="-15" strike="noStrike">
                <a:solidFill>
                  <a:srgbClr val="ebccbb"/>
                </a:solidFill>
                <a:latin typeface="HKHCDH+Calibri"/>
              </a:rPr>
              <a:t>Какие</a:t>
            </a:r>
            <a:r>
              <a:rPr b="0" lang="en-US" sz="4400" spc="-26" strike="noStrike">
                <a:solidFill>
                  <a:srgbClr val="ebccbb"/>
                </a:solidFill>
                <a:latin typeface="HKHCDH+Calibri"/>
              </a:rPr>
              <a:t> </a:t>
            </a:r>
            <a:r>
              <a:rPr b="0" lang="en-US" sz="4400" spc="-1" strike="noStrike">
                <a:solidFill>
                  <a:srgbClr val="ebccbb"/>
                </a:solidFill>
                <a:latin typeface="HKHCDH+Calibri"/>
              </a:rPr>
              <a:t>п</a:t>
            </a:r>
            <a:r>
              <a:rPr b="0" lang="en-US" sz="4400" spc="-1931" strike="noStrike">
                <a:solidFill>
                  <a:srgbClr val="ebccbb"/>
                </a:solidFill>
                <a:latin typeface="HKHCDH+Calibri"/>
              </a:rPr>
              <a:t>о</a:t>
            </a:r>
            <a:r>
              <a:rPr b="0" lang="en-US" sz="4400" spc="-12" strike="noStrike">
                <a:solidFill>
                  <a:srgbClr val="ebccbb"/>
                </a:solidFill>
                <a:latin typeface="HKHCDH+Calibri"/>
              </a:rPr>
              <a:t>требности</a:t>
            </a:r>
            <a:r>
              <a:rPr b="0" lang="en-US" sz="4400" spc="-1356" strike="noStrike">
                <a:solidFill>
                  <a:srgbClr val="ebccbb"/>
                </a:solidFill>
                <a:latin typeface="HKHCDH+Calibri"/>
              </a:rPr>
              <a:t>б</a:t>
            </a:r>
            <a:r>
              <a:rPr b="0" lang="en-US" sz="4400" spc="-1" strike="noStrike">
                <a:solidFill>
                  <a:srgbClr val="ebccbb"/>
                </a:solidFill>
                <a:latin typeface="HKHCDH+Calibri"/>
              </a:rPr>
              <a:t>у</a:t>
            </a:r>
            <a:r>
              <a:rPr b="0" lang="en-US" sz="4400" spc="-1549" strike="noStrike">
                <a:solidFill>
                  <a:srgbClr val="ebccbb"/>
                </a:solidFill>
                <a:latin typeface="HKHCDH+Calibri"/>
              </a:rPr>
              <a:t>д</a:t>
            </a:r>
            <a:r>
              <a:rPr b="0" lang="en-US" sz="4400" spc="-29" strike="noStrike">
                <a:solidFill>
                  <a:srgbClr val="ebccbb"/>
                </a:solidFill>
                <a:latin typeface="HKHCDH+Calibri"/>
              </a:rPr>
              <a:t>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160">
              <a:lnSpc>
                <a:spcPts val="5346"/>
              </a:lnSpc>
              <a:spcBef>
                <a:spcPts val="346"/>
              </a:spcBef>
            </a:pPr>
            <a:r>
              <a:rPr b="0" lang="en-US" sz="4400" spc="-12" strike="noStrike">
                <a:solidFill>
                  <a:srgbClr val="ebccbb"/>
                </a:solidFill>
                <a:latin typeface="HKHCDH+Calibri"/>
              </a:rPr>
              <a:t>удовлетворять</a:t>
            </a:r>
            <a:r>
              <a:rPr b="0" lang="en-US" sz="4400" spc="-1" strike="noStrike">
                <a:solidFill>
                  <a:srgbClr val="ebccbb"/>
                </a:solidFill>
                <a:latin typeface="HKHCDH+Calibri"/>
              </a:rPr>
              <a:t> </a:t>
            </a:r>
            <a:r>
              <a:rPr b="0" lang="en-US" sz="4400" spc="-12" strike="noStrike">
                <a:solidFill>
                  <a:srgbClr val="ebccbb"/>
                </a:solidFill>
                <a:latin typeface="HKHCDH+Calibri"/>
              </a:rPr>
              <a:t>предприят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ject 4"/>
          <p:cNvSpPr/>
          <p:nvPr/>
        </p:nvSpPr>
        <p:spPr>
          <a:xfrm>
            <a:off x="999360" y="3673440"/>
            <a:ext cx="3211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209"/>
              </a:lnSpc>
            </a:pPr>
            <a:r>
              <a:rPr b="0" lang="en-US" sz="2650" spc="-1" strike="noStrike">
                <a:solidFill>
                  <a:srgbClr val="ebccbb"/>
                </a:solidFill>
                <a:latin typeface="SGBAIE+Calibri"/>
              </a:rPr>
              <a:t>1</a:t>
            </a:r>
            <a:endParaRPr b="0" lang="en-US" sz="2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ject 5"/>
          <p:cNvSpPr/>
          <p:nvPr/>
        </p:nvSpPr>
        <p:spPr>
          <a:xfrm>
            <a:off x="5763960" y="3673440"/>
            <a:ext cx="3211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209"/>
              </a:lnSpc>
            </a:pPr>
            <a:r>
              <a:rPr b="0" lang="en-US" sz="2650" spc="-1" strike="noStrike">
                <a:solidFill>
                  <a:srgbClr val="ebccbb"/>
                </a:solidFill>
                <a:latin typeface="SGBAIE+Calibri"/>
              </a:rPr>
              <a:t>2</a:t>
            </a:r>
            <a:endParaRPr b="0" lang="en-US" sz="2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ject 6"/>
          <p:cNvSpPr/>
          <p:nvPr/>
        </p:nvSpPr>
        <p:spPr>
          <a:xfrm>
            <a:off x="1646640" y="3704760"/>
            <a:ext cx="20764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21" strike="noStrike">
                <a:solidFill>
                  <a:srgbClr val="ebccbb"/>
                </a:solidFill>
                <a:latin typeface="HKHCDH+Calibri"/>
              </a:rPr>
              <a:t>Атмосфера</a:t>
            </a:r>
            <a:r>
              <a:rPr b="0" lang="en-US" sz="2200" spc="12" strike="noStrike">
                <a:solidFill>
                  <a:srgbClr val="ebccbb"/>
                </a:solidFill>
                <a:latin typeface="HKHCDH+Calibri"/>
              </a:rPr>
              <a:t> </a:t>
            </a:r>
            <a:r>
              <a:rPr b="0" lang="en-US" sz="2200" spc="-15" strike="noStrike">
                <a:solidFill>
                  <a:srgbClr val="ebccbb"/>
                </a:solidFill>
                <a:latin typeface="HKHCDH+Calibri"/>
              </a:rPr>
              <a:t>ую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ject 7"/>
          <p:cNvSpPr/>
          <p:nvPr/>
        </p:nvSpPr>
        <p:spPr>
          <a:xfrm>
            <a:off x="6411600" y="3704760"/>
            <a:ext cx="24793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" strike="noStrike">
                <a:solidFill>
                  <a:srgbClr val="ebccbb"/>
                </a:solidFill>
                <a:latin typeface="HKHCDH+Calibri"/>
              </a:rPr>
              <a:t>Качественный</a:t>
            </a:r>
            <a:r>
              <a:rPr b="0" lang="en-US" sz="2200" spc="-914" strike="noStrike">
                <a:solidFill>
                  <a:srgbClr val="ebccbb"/>
                </a:solidFill>
                <a:latin typeface="HKHCDH+Calibri"/>
              </a:rPr>
              <a:t>к</a:t>
            </a:r>
            <a:r>
              <a:rPr b="0" lang="en-US" sz="2200" spc="-1" strike="noStrike">
                <a:solidFill>
                  <a:srgbClr val="ebccbb"/>
                </a:solidFill>
                <a:latin typeface="HKHCDH+Calibri"/>
              </a:rPr>
              <a:t>оф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bject 8"/>
          <p:cNvSpPr/>
          <p:nvPr/>
        </p:nvSpPr>
        <p:spPr>
          <a:xfrm>
            <a:off x="1646640" y="4247280"/>
            <a:ext cx="3494880" cy="18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Создание места</a:t>
            </a:r>
            <a:r>
              <a:rPr b="0" lang="en-US" sz="1750" spc="-15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для</a:t>
            </a:r>
            <a:r>
              <a:rPr b="0" lang="en-US" sz="1750" spc="-15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поклонников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кофе,</a:t>
            </a:r>
            <a:r>
              <a:rPr b="0" lang="en-US" sz="1750" spc="-605" strike="noStrike">
                <a:solidFill>
                  <a:srgbClr val="c9c2c0"/>
                </a:solidFill>
                <a:latin typeface="HKHCDH+Calibri"/>
              </a:rPr>
              <a:t>г</a:t>
            </a:r>
            <a:r>
              <a:rPr b="0" lang="en-US" sz="1750" spc="-18" strike="noStrike">
                <a:solidFill>
                  <a:srgbClr val="c9c2c0"/>
                </a:solidFill>
                <a:latin typeface="HKHCDH+Calibri"/>
              </a:rPr>
              <a:t>де</a:t>
            </a:r>
            <a:r>
              <a:rPr b="0" lang="en-US" sz="1750" spc="18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они</a:t>
            </a:r>
            <a:r>
              <a:rPr b="0" lang="en-US" sz="1750" spc="12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могут расслабиться</a:t>
            </a:r>
            <a:r>
              <a:rPr b="0" lang="en-US" sz="1750" spc="-15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и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40"/>
              </a:lnSpc>
              <a:spcBef>
                <a:spcPts val="666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провести</a:t>
            </a:r>
            <a:r>
              <a:rPr b="0" lang="en-US" sz="1750" spc="-15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время в приятной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обстановке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bject 9"/>
          <p:cNvSpPr/>
          <p:nvPr/>
        </p:nvSpPr>
        <p:spPr>
          <a:xfrm>
            <a:off x="6411600" y="4247280"/>
            <a:ext cx="375696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Предоставление</a:t>
            </a:r>
            <a:r>
              <a:rPr b="0" lang="en-US" sz="1750" spc="-18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высококачественных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сортов кофе, при</a:t>
            </a:r>
            <a:r>
              <a:rPr b="0" lang="en-US" sz="1750" spc="-522" strike="noStrike">
                <a:solidFill>
                  <a:srgbClr val="c9c2c0"/>
                </a:solidFill>
                <a:latin typeface="HKHCDH+Calibri"/>
              </a:rPr>
              <a:t>г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отовленных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bject 10"/>
          <p:cNvSpPr/>
          <p:nvPr/>
        </p:nvSpPr>
        <p:spPr>
          <a:xfrm>
            <a:off x="6411600" y="4958640"/>
            <a:ext cx="316440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40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квалифицированными</a:t>
            </a:r>
            <a:r>
              <a:rPr b="0" lang="en-US" sz="1750" spc="-12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бариста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bject 11"/>
          <p:cNvSpPr/>
          <p:nvPr/>
        </p:nvSpPr>
        <p:spPr>
          <a:xfrm>
            <a:off x="999360" y="6025680"/>
            <a:ext cx="309132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209"/>
              </a:lnSpc>
            </a:pPr>
            <a:r>
              <a:rPr b="0" lang="en-US" sz="2650" spc="-1" strike="noStrike">
                <a:solidFill>
                  <a:srgbClr val="ebccbb"/>
                </a:solidFill>
                <a:latin typeface="SGBAIE+Calibri"/>
              </a:rPr>
              <a:t>3</a:t>
            </a:r>
            <a:r>
              <a:rPr b="0" lang="en-US" sz="2650" spc="3091" strike="noStrike">
                <a:solidFill>
                  <a:srgbClr val="ebccbb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ebccbb"/>
                </a:solidFill>
                <a:latin typeface="HKHCDH+Calibri"/>
              </a:rPr>
              <a:t>Встречи</a:t>
            </a:r>
            <a:r>
              <a:rPr b="0" lang="en-US" sz="2200" spc="9" strike="noStrike">
                <a:solidFill>
                  <a:srgbClr val="ebccbb"/>
                </a:solidFill>
                <a:latin typeface="HKHCDH+Calibri"/>
              </a:rPr>
              <a:t> </a:t>
            </a:r>
            <a:r>
              <a:rPr b="0" lang="en-US" sz="2200" spc="-1" strike="noStrike">
                <a:solidFill>
                  <a:srgbClr val="ebccbb"/>
                </a:solidFill>
                <a:latin typeface="HKHCDH+Calibri"/>
              </a:rPr>
              <a:t>и </a:t>
            </a:r>
            <a:r>
              <a:rPr b="0" lang="en-US" sz="2200" spc="-15" strike="noStrike">
                <a:solidFill>
                  <a:srgbClr val="ebccbb"/>
                </a:solidFill>
                <a:latin typeface="HKHCDH+Calibri"/>
              </a:rPr>
              <a:t>общ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bject 12"/>
          <p:cNvSpPr/>
          <p:nvPr/>
        </p:nvSpPr>
        <p:spPr>
          <a:xfrm>
            <a:off x="1646640" y="6621120"/>
            <a:ext cx="85129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40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Создание пространства</a:t>
            </a:r>
            <a:r>
              <a:rPr b="0" lang="en-US" sz="1750" spc="-21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для встреч</a:t>
            </a:r>
            <a:r>
              <a:rPr b="0" lang="en-US" sz="1750" spc="-15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с друзьями, к</a:t>
            </a:r>
            <a:r>
              <a:rPr b="0" lang="en-US" sz="1750" spc="-644" strike="noStrike">
                <a:solidFill>
                  <a:srgbClr val="c9c2c0"/>
                </a:solidFill>
                <a:latin typeface="HKHCDH+Calibri"/>
              </a:rPr>
              <a:t>о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ллегами</a:t>
            </a:r>
            <a:r>
              <a:rPr b="0" lang="en-US" sz="1750" spc="-29" strike="noStrike">
                <a:solidFill>
                  <a:srgbClr val="c9c2c0"/>
                </a:solidFill>
                <a:latin typeface="HKHCDH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или для проведения деловых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HKHCDH+Calibri"/>
              </a:rPr>
              <a:t>встреч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object 1"/>
          <p:cNvSpPr/>
          <p:nvPr/>
        </p:nvSpPr>
        <p:spPr>
          <a:xfrm>
            <a:off x="0" y="0"/>
            <a:ext cx="14630040" cy="822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bject 3"/>
          <p:cNvSpPr/>
          <p:nvPr/>
        </p:nvSpPr>
        <p:spPr>
          <a:xfrm>
            <a:off x="2129760" y="2261520"/>
            <a:ext cx="611928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346"/>
              </a:lnSpc>
            </a:pPr>
            <a:r>
              <a:rPr b="0" lang="en-US" sz="4400" spc="-1" strike="noStrike">
                <a:solidFill>
                  <a:srgbClr val="ebccbb"/>
                </a:solidFill>
                <a:latin typeface="DCLOVJ+Calibri"/>
              </a:rPr>
              <a:t>О</a:t>
            </a:r>
            <a:r>
              <a:rPr b="0" lang="en-US" sz="4400" spc="-1705" strike="noStrike">
                <a:solidFill>
                  <a:srgbClr val="ebccbb"/>
                </a:solidFill>
                <a:latin typeface="DCLOVJ+Calibri"/>
              </a:rPr>
              <a:t>т</a:t>
            </a:r>
            <a:r>
              <a:rPr b="0" lang="en-US" sz="4400" spc="-15" strike="noStrike">
                <a:solidFill>
                  <a:srgbClr val="ebccbb"/>
                </a:solidFill>
                <a:latin typeface="DCLOVJ+Calibri"/>
              </a:rPr>
              <a:t>личия</a:t>
            </a:r>
            <a:r>
              <a:rPr b="0" lang="en-US" sz="4400" spc="-1739" strike="noStrike">
                <a:solidFill>
                  <a:srgbClr val="ebccbb"/>
                </a:solidFill>
                <a:latin typeface="DCLOVJ+Calibri"/>
              </a:rPr>
              <a:t>о</a:t>
            </a:r>
            <a:r>
              <a:rPr b="0" lang="en-US" sz="4400" spc="-1" strike="noStrike">
                <a:solidFill>
                  <a:srgbClr val="ebccbb"/>
                </a:solidFill>
                <a:latin typeface="DCLOVJ+Calibri"/>
              </a:rPr>
              <a:t>т</a:t>
            </a:r>
            <a:r>
              <a:rPr b="0" lang="en-US" sz="4400" spc="-2042" strike="noStrike">
                <a:solidFill>
                  <a:srgbClr val="ebccbb"/>
                </a:solidFill>
                <a:latin typeface="DCLOVJ+Calibri"/>
              </a:rPr>
              <a:t>к</a:t>
            </a:r>
            <a:r>
              <a:rPr b="0" lang="en-US" sz="4400" spc="-15" strike="noStrike">
                <a:solidFill>
                  <a:srgbClr val="ebccbb"/>
                </a:solidFill>
                <a:latin typeface="DCLOVJ+Calibri"/>
              </a:rPr>
              <a:t>онкурен</a:t>
            </a:r>
            <a:r>
              <a:rPr b="0" lang="en-US" sz="4400" spc="-1705" strike="noStrike">
                <a:solidFill>
                  <a:srgbClr val="ebccbb"/>
                </a:solidFill>
                <a:latin typeface="DCLOVJ+Calibri"/>
              </a:rPr>
              <a:t>т</a:t>
            </a:r>
            <a:r>
              <a:rPr b="0" lang="en-US" sz="4400" spc="-12" strike="noStrike">
                <a:solidFill>
                  <a:srgbClr val="ebccbb"/>
                </a:solidFill>
                <a:latin typeface="DCLOVJ+Calibri"/>
              </a:rPr>
              <a:t>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ject 4"/>
          <p:cNvSpPr/>
          <p:nvPr/>
        </p:nvSpPr>
        <p:spPr>
          <a:xfrm>
            <a:off x="2129760" y="3510720"/>
            <a:ext cx="2233800" cy="10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2" strike="noStrike">
                <a:solidFill>
                  <a:srgbClr val="ebccbb"/>
                </a:solidFill>
                <a:latin typeface="DCLOVJ+Calibri"/>
              </a:rPr>
              <a:t>Индивидуаль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67"/>
              </a:lnSpc>
              <a:spcBef>
                <a:spcPts val="34"/>
              </a:spcBef>
            </a:pPr>
            <a:r>
              <a:rPr b="0" lang="en-US" sz="2200" spc="-1" strike="noStrike">
                <a:solidFill>
                  <a:srgbClr val="ebccbb"/>
                </a:solidFill>
                <a:latin typeface="DCLOVJ+Calibri"/>
              </a:rPr>
              <a:t>дизай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ject 5"/>
          <p:cNvSpPr/>
          <p:nvPr/>
        </p:nvSpPr>
        <p:spPr>
          <a:xfrm>
            <a:off x="5835960" y="3510720"/>
            <a:ext cx="25570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" strike="noStrike">
                <a:solidFill>
                  <a:srgbClr val="ebccbb"/>
                </a:solidFill>
                <a:latin typeface="DCLOVJ+Calibri"/>
              </a:rPr>
              <a:t>Разнообразие</a:t>
            </a:r>
            <a:r>
              <a:rPr b="0" lang="en-US" sz="2200" spc="21" strike="noStrike">
                <a:solidFill>
                  <a:srgbClr val="ebccbb"/>
                </a:solidFill>
                <a:latin typeface="DCLOVJ+Calibri"/>
              </a:rPr>
              <a:t> </a:t>
            </a:r>
            <a:r>
              <a:rPr b="0" lang="en-US" sz="2200" spc="-1" strike="noStrike">
                <a:solidFill>
                  <a:srgbClr val="ebccbb"/>
                </a:solidFill>
                <a:latin typeface="DCLOVJ+Calibri"/>
              </a:rPr>
              <a:t>мен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bject 6"/>
          <p:cNvSpPr/>
          <p:nvPr/>
        </p:nvSpPr>
        <p:spPr>
          <a:xfrm>
            <a:off x="9542160" y="3510720"/>
            <a:ext cx="2538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" strike="noStrike">
                <a:solidFill>
                  <a:srgbClr val="ebccbb"/>
                </a:solidFill>
                <a:latin typeface="DCLOVJ+Calibri"/>
              </a:rPr>
              <a:t>К</a:t>
            </a:r>
            <a:r>
              <a:rPr b="0" lang="en-US" sz="2200" spc="-996" strike="noStrike">
                <a:solidFill>
                  <a:srgbClr val="ebccbb"/>
                </a:solidFill>
                <a:latin typeface="DCLOVJ+Calibri"/>
              </a:rPr>
              <a:t>у</a:t>
            </a:r>
            <a:r>
              <a:rPr b="0" lang="en-US" sz="2200" spc="-1" strike="noStrike">
                <a:solidFill>
                  <a:srgbClr val="ebccbb"/>
                </a:solidFill>
                <a:latin typeface="DCLOVJ+Calibri"/>
              </a:rPr>
              <a:t>л</a:t>
            </a:r>
            <a:r>
              <a:rPr b="0" lang="en-US" sz="2200" spc="-1033" strike="noStrike">
                <a:solidFill>
                  <a:srgbClr val="ebccbb"/>
                </a:solidFill>
                <a:latin typeface="DCLOVJ+Calibri"/>
              </a:rPr>
              <a:t>ь</a:t>
            </a:r>
            <a:r>
              <a:rPr b="0" lang="en-US" sz="2200" spc="-1" strike="noStrike">
                <a:solidFill>
                  <a:srgbClr val="ebccbb"/>
                </a:solidFill>
                <a:latin typeface="DCLOVJ+Calibri"/>
              </a:rPr>
              <a:t>турное</a:t>
            </a:r>
            <a:r>
              <a:rPr b="0" lang="en-US" sz="2200" spc="24" strike="noStrike">
                <a:solidFill>
                  <a:srgbClr val="ebccbb"/>
                </a:solidFill>
                <a:latin typeface="DCLOVJ+Calibri"/>
              </a:rPr>
              <a:t> </a:t>
            </a:r>
            <a:r>
              <a:rPr b="0" lang="en-US" sz="2200" spc="-1" strike="noStrike">
                <a:solidFill>
                  <a:srgbClr val="ebccbb"/>
                </a:solidFill>
                <a:latin typeface="DCLOVJ+Calibri"/>
              </a:rPr>
              <a:t>событ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bject 7"/>
          <p:cNvSpPr/>
          <p:nvPr/>
        </p:nvSpPr>
        <p:spPr>
          <a:xfrm>
            <a:off x="5835960" y="4141080"/>
            <a:ext cx="29318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40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Широкий</a:t>
            </a:r>
            <a:r>
              <a:rPr b="0" lang="en-US" sz="1750" spc="12" strike="noStrike">
                <a:solidFill>
                  <a:srgbClr val="c9c2c0"/>
                </a:solidFill>
                <a:latin typeface="DCLOV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выбор</a:t>
            </a:r>
            <a:r>
              <a:rPr b="0" lang="en-US" sz="1750" spc="-429" strike="noStrike">
                <a:solidFill>
                  <a:srgbClr val="c9c2c0"/>
                </a:solidFill>
                <a:latin typeface="DCLOVJ+Calibri"/>
              </a:rPr>
              <a:t>к</a:t>
            </a: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офейных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напитков, десертов и закусок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69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для</a:t>
            </a:r>
            <a:r>
              <a:rPr b="0" lang="en-US" sz="1750" spc="-15" strike="noStrike">
                <a:solidFill>
                  <a:srgbClr val="c9c2c0"/>
                </a:solidFill>
                <a:latin typeface="DCLOV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наших посетителей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ject 8"/>
          <p:cNvSpPr/>
          <p:nvPr/>
        </p:nvSpPr>
        <p:spPr>
          <a:xfrm>
            <a:off x="9542160" y="4141080"/>
            <a:ext cx="2582640" cy="18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40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Проведение к</a:t>
            </a:r>
            <a:r>
              <a:rPr b="0" lang="en-US" sz="1750" spc="-792" strike="noStrike">
                <a:solidFill>
                  <a:srgbClr val="c9c2c0"/>
                </a:solidFill>
                <a:latin typeface="DCLOVJ+Calibri"/>
              </a:rPr>
              <a:t>у</a:t>
            </a: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л</a:t>
            </a:r>
            <a:r>
              <a:rPr b="0" lang="en-US" sz="1750" spc="-823" strike="noStrike">
                <a:solidFill>
                  <a:srgbClr val="c9c2c0"/>
                </a:solidFill>
                <a:latin typeface="DCLOVJ+Calibri"/>
              </a:rPr>
              <a:t>ь</a:t>
            </a: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турных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мероприятий, выставок и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69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мастер</a:t>
            </a:r>
            <a:r>
              <a:rPr b="0" lang="en-US" sz="1750" spc="-1" strike="noStrike">
                <a:solidFill>
                  <a:srgbClr val="c9c2c0"/>
                </a:solidFill>
                <a:latin typeface="LAQNCJ+Calibri"/>
              </a:rPr>
              <a:t>-</a:t>
            </a: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классов для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посетителей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bject 9"/>
          <p:cNvSpPr/>
          <p:nvPr/>
        </p:nvSpPr>
        <p:spPr>
          <a:xfrm>
            <a:off x="2129760" y="4488840"/>
            <a:ext cx="24721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Уникальный экстерьер</a:t>
            </a:r>
            <a:r>
              <a:rPr b="0" lang="en-US" sz="1750" spc="-18" strike="noStrike">
                <a:solidFill>
                  <a:srgbClr val="c9c2c0"/>
                </a:solidFill>
                <a:latin typeface="DCLOV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и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интерьер кофейни,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69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п</a:t>
            </a:r>
            <a:r>
              <a:rPr b="0" lang="en-US" sz="1750" spc="-829" strike="noStrike">
                <a:solidFill>
                  <a:srgbClr val="c9c2c0"/>
                </a:solidFill>
                <a:latin typeface="DCLOVJ+Calibri"/>
              </a:rPr>
              <a:t>о</a:t>
            </a: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дчеркивающий</a:t>
            </a:r>
            <a:r>
              <a:rPr b="0" lang="en-US" sz="1750" spc="18" strike="noStrike">
                <a:solidFill>
                  <a:srgbClr val="c9c2c0"/>
                </a:solidFill>
                <a:latin typeface="DCLOV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ее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уни</a:t>
            </a:r>
            <a:r>
              <a:rPr b="0" lang="en-US" sz="1750" spc="-429" strike="noStrike">
                <a:solidFill>
                  <a:srgbClr val="c9c2c0"/>
                </a:solidFill>
                <a:latin typeface="DCLOVJ+Calibri"/>
              </a:rPr>
              <a:t>к</a:t>
            </a:r>
            <a:r>
              <a:rPr b="0" lang="en-US" sz="1750" spc="-1" strike="noStrike">
                <a:solidFill>
                  <a:srgbClr val="c9c2c0"/>
                </a:solidFill>
                <a:latin typeface="DCLOVJ+Calibri"/>
              </a:rPr>
              <a:t>альность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object 1"/>
          <p:cNvSpPr/>
          <p:nvPr/>
        </p:nvSpPr>
        <p:spPr>
          <a:xfrm>
            <a:off x="0" y="0"/>
            <a:ext cx="14630040" cy="822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ject 3"/>
          <p:cNvSpPr/>
          <p:nvPr/>
        </p:nvSpPr>
        <p:spPr>
          <a:xfrm>
            <a:off x="2552040" y="3154320"/>
            <a:ext cx="456048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910"/>
              </a:lnSpc>
            </a:pPr>
            <a:r>
              <a:rPr b="0" lang="en-US" sz="4000" spc="12" strike="noStrike">
                <a:solidFill>
                  <a:srgbClr val="ebccbb"/>
                </a:solidFill>
                <a:latin typeface="WTUAJH+Calibri"/>
              </a:rPr>
              <a:t>Основные</a:t>
            </a:r>
            <a:r>
              <a:rPr b="0" lang="en-US" sz="4000" spc="-1" strike="noStrike">
                <a:solidFill>
                  <a:srgbClr val="ebccbb"/>
                </a:solidFill>
                <a:latin typeface="WTUAJH+Calibri"/>
              </a:rPr>
              <a:t> </a:t>
            </a:r>
            <a:r>
              <a:rPr b="0" lang="en-US" sz="4000" spc="12" strike="noStrike">
                <a:solidFill>
                  <a:srgbClr val="ebccbb"/>
                </a:solidFill>
                <a:latin typeface="WTUAJH+Calibri"/>
              </a:rPr>
              <a:t>объект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bject 4"/>
          <p:cNvSpPr/>
          <p:nvPr/>
        </p:nvSpPr>
        <p:spPr>
          <a:xfrm>
            <a:off x="2612880" y="4302000"/>
            <a:ext cx="3074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45"/>
              </a:lnSpc>
            </a:pPr>
            <a:r>
              <a:rPr b="0" lang="en-US" sz="2400" spc="-1" strike="noStrike">
                <a:solidFill>
                  <a:srgbClr val="ebccbb"/>
                </a:solidFill>
                <a:latin typeface="EJPVJS+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bject 5"/>
          <p:cNvSpPr/>
          <p:nvPr/>
        </p:nvSpPr>
        <p:spPr>
          <a:xfrm>
            <a:off x="5918040" y="4285080"/>
            <a:ext cx="3074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45"/>
              </a:lnSpc>
            </a:pPr>
            <a:r>
              <a:rPr b="0" lang="en-US" sz="2400" spc="-1" strike="noStrike">
                <a:solidFill>
                  <a:srgbClr val="ebccbb"/>
                </a:solidFill>
                <a:latin typeface="EJPVJS+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bject 6"/>
          <p:cNvSpPr/>
          <p:nvPr/>
        </p:nvSpPr>
        <p:spPr>
          <a:xfrm>
            <a:off x="9222480" y="4302000"/>
            <a:ext cx="3074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45"/>
              </a:lnSpc>
            </a:pPr>
            <a:r>
              <a:rPr b="0" lang="en-US" sz="2400" spc="-1" strike="noStrike">
                <a:solidFill>
                  <a:srgbClr val="ebccbb"/>
                </a:solidFill>
                <a:latin typeface="EJPVJS+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bject 7"/>
          <p:cNvSpPr/>
          <p:nvPr/>
        </p:nvSpPr>
        <p:spPr>
          <a:xfrm>
            <a:off x="3216600" y="4332960"/>
            <a:ext cx="170136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460"/>
              </a:lnSpc>
            </a:pPr>
            <a:r>
              <a:rPr b="0" lang="en-US" sz="2000" spc="-1" strike="noStrike">
                <a:solidFill>
                  <a:srgbClr val="ebccbb"/>
                </a:solidFill>
                <a:latin typeface="WTUAJH+Calibri"/>
              </a:rPr>
              <a:t>Качест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60"/>
              </a:lnSpc>
              <a:spcBef>
                <a:spcPts val="48"/>
              </a:spcBef>
            </a:pPr>
            <a:r>
              <a:rPr b="0" lang="en-US" sz="2000" spc="-1" strike="noStrike">
                <a:solidFill>
                  <a:srgbClr val="ebccbb"/>
                </a:solidFill>
                <a:latin typeface="WTUAJH+Calibri"/>
              </a:rPr>
              <a:t>пр</a:t>
            </a:r>
            <a:r>
              <a:rPr b="0" lang="en-US" sz="2000" spc="-1055" strike="noStrike">
                <a:solidFill>
                  <a:srgbClr val="ebccbb"/>
                </a:solidFill>
                <a:latin typeface="WTUAJH+Calibri"/>
              </a:rPr>
              <a:t>о</a:t>
            </a:r>
            <a:r>
              <a:rPr b="0" lang="en-US" sz="2000" spc="-1" strike="noStrike">
                <a:solidFill>
                  <a:srgbClr val="ebccbb"/>
                </a:solidFill>
                <a:latin typeface="WTUAJH+Calibri"/>
              </a:rPr>
              <a:t>ду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bject 8"/>
          <p:cNvSpPr/>
          <p:nvPr/>
        </p:nvSpPr>
        <p:spPr>
          <a:xfrm>
            <a:off x="6521040" y="4332960"/>
            <a:ext cx="163368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460"/>
              </a:lnSpc>
            </a:pPr>
            <a:r>
              <a:rPr b="0" lang="en-US" sz="2000" spc="-1" strike="noStrike">
                <a:solidFill>
                  <a:srgbClr val="ebccbb"/>
                </a:solidFill>
                <a:latin typeface="WTUAJH+Calibri"/>
              </a:rPr>
              <a:t>Приве</a:t>
            </a:r>
            <a:r>
              <a:rPr b="0" lang="en-US" sz="2000" spc="-775" strike="noStrike">
                <a:solidFill>
                  <a:srgbClr val="ebccbb"/>
                </a:solidFill>
                <a:latin typeface="WTUAJH+Calibri"/>
              </a:rPr>
              <a:t>т</a:t>
            </a:r>
            <a:r>
              <a:rPr b="0" lang="en-US" sz="2000" spc="-1" strike="noStrike">
                <a:solidFill>
                  <a:srgbClr val="ebccbb"/>
                </a:solidFill>
                <a:latin typeface="WTUAJH+Calibri"/>
              </a:rPr>
              <a:t>ли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60"/>
              </a:lnSpc>
              <a:spcBef>
                <a:spcPts val="48"/>
              </a:spcBef>
            </a:pPr>
            <a:r>
              <a:rPr b="0" lang="en-US" sz="2000" spc="-1" strike="noStrike">
                <a:solidFill>
                  <a:srgbClr val="ebccbb"/>
                </a:solidFill>
                <a:latin typeface="WTUAJH+Calibri"/>
              </a:rPr>
              <a:t>перс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bject 9"/>
          <p:cNvSpPr/>
          <p:nvPr/>
        </p:nvSpPr>
        <p:spPr>
          <a:xfrm>
            <a:off x="9826200" y="4332960"/>
            <a:ext cx="162144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460"/>
              </a:lnSpc>
            </a:pPr>
            <a:r>
              <a:rPr b="0" lang="en-US" sz="2000" spc="-1" strike="noStrike">
                <a:solidFill>
                  <a:srgbClr val="ebccbb"/>
                </a:solidFill>
                <a:latin typeface="WTUAJH+Calibri"/>
              </a:rPr>
              <a:t>Уют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60"/>
              </a:lnSpc>
              <a:spcBef>
                <a:spcPts val="48"/>
              </a:spcBef>
            </a:pPr>
            <a:r>
              <a:rPr b="0" lang="en-US" sz="2000" spc="-1" strike="noStrike">
                <a:solidFill>
                  <a:srgbClr val="ebccbb"/>
                </a:solidFill>
                <a:latin typeface="WTUAJH+Calibri"/>
              </a:rPr>
              <a:t>простр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bject 10"/>
          <p:cNvSpPr/>
          <p:nvPr/>
        </p:nvSpPr>
        <p:spPr>
          <a:xfrm>
            <a:off x="3216600" y="5154480"/>
            <a:ext cx="226872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62"/>
              </a:lnSpc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Использование</a:t>
            </a:r>
            <a:r>
              <a:rPr b="0" lang="en-US" sz="1600" spc="9" strike="noStrike">
                <a:solidFill>
                  <a:srgbClr val="c9c2c0"/>
                </a:solidFill>
                <a:latin typeface="WTUAJH+Calibri"/>
              </a:rPr>
              <a:t> 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толь</a:t>
            </a:r>
            <a:r>
              <a:rPr b="0" lang="en-US" sz="1600" spc="-488" strike="noStrike">
                <a:solidFill>
                  <a:srgbClr val="c9c2c0"/>
                </a:solidFill>
                <a:latin typeface="WTUAJH+Calibri"/>
              </a:rPr>
              <a:t>к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2"/>
              </a:lnSpc>
              <a:spcBef>
                <a:spcPts val="629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свежеобжаренных</a:t>
            </a:r>
            <a:r>
              <a:rPr b="0" lang="en-US" sz="1600" spc="49" strike="noStrike">
                <a:solidFill>
                  <a:srgbClr val="c9c2c0"/>
                </a:solidFill>
                <a:latin typeface="WTUAJH+Calibri"/>
              </a:rPr>
              <a:t> 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2"/>
              </a:lnSpc>
              <a:spcBef>
                <a:spcPts val="641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качественных</a:t>
            </a:r>
            <a:r>
              <a:rPr b="0" lang="en-US" sz="1600" spc="-409" strike="noStrike">
                <a:solidFill>
                  <a:srgbClr val="c9c2c0"/>
                </a:solidFill>
                <a:latin typeface="WTUAJH+Calibri"/>
              </a:rPr>
              <a:t>к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офей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4"/>
              </a:lnSpc>
              <a:spcBef>
                <a:spcPts val="638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зерен</a:t>
            </a:r>
            <a:r>
              <a:rPr b="0" lang="en-US" sz="1600" spc="-12" strike="noStrike">
                <a:solidFill>
                  <a:srgbClr val="c9c2c0"/>
                </a:solidFill>
                <a:latin typeface="WTUAJH+Calibri"/>
              </a:rPr>
              <a:t> 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от</a:t>
            </a:r>
            <a:r>
              <a:rPr b="0" lang="en-US" sz="1600" spc="12" strike="noStrike">
                <a:solidFill>
                  <a:srgbClr val="c9c2c0"/>
                </a:solidFill>
                <a:latin typeface="WTUAJH+Calibri"/>
              </a:rPr>
              <a:t> 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провере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2"/>
              </a:lnSpc>
              <a:spcBef>
                <a:spcPts val="629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поставщи</a:t>
            </a:r>
            <a:r>
              <a:rPr b="0" lang="en-US" sz="1600" spc="-409" strike="noStrike">
                <a:solidFill>
                  <a:srgbClr val="c9c2c0"/>
                </a:solidFill>
                <a:latin typeface="WTUAJH+Calibri"/>
              </a:rPr>
              <a:t>к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bject 11"/>
          <p:cNvSpPr/>
          <p:nvPr/>
        </p:nvSpPr>
        <p:spPr>
          <a:xfrm>
            <a:off x="6521040" y="5154480"/>
            <a:ext cx="1877760" cy="20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62"/>
              </a:lnSpc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Наем</a:t>
            </a:r>
            <a:r>
              <a:rPr b="0" lang="en-US" sz="1600" spc="15" strike="noStrike">
                <a:solidFill>
                  <a:srgbClr val="c9c2c0"/>
                </a:solidFill>
                <a:latin typeface="WTUAJH+Calibri"/>
              </a:rPr>
              <a:t> 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опытных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2"/>
              </a:lnSpc>
              <a:spcBef>
                <a:spcPts val="629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профессиона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2"/>
              </a:lnSpc>
              <a:spcBef>
                <a:spcPts val="641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бариста,</a:t>
            </a:r>
            <a:r>
              <a:rPr b="0" lang="en-US" sz="1600" spc="35" strike="noStrike">
                <a:solidFill>
                  <a:srgbClr val="c9c2c0"/>
                </a:solidFill>
                <a:latin typeface="WTUAJH+Calibri"/>
              </a:rPr>
              <a:t> 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способ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4"/>
              </a:lnSpc>
              <a:spcBef>
                <a:spcPts val="638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создать</a:t>
            </a:r>
            <a:r>
              <a:rPr b="0" lang="en-US" sz="1600" spc="-15" strike="noStrike">
                <a:solidFill>
                  <a:srgbClr val="c9c2c0"/>
                </a:solidFill>
                <a:latin typeface="WTUAJH+Calibri"/>
              </a:rPr>
              <a:t> 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приятн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2"/>
              </a:lnSpc>
              <a:spcBef>
                <a:spcPts val="629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атмосферу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bject 12"/>
          <p:cNvSpPr/>
          <p:nvPr/>
        </p:nvSpPr>
        <p:spPr>
          <a:xfrm>
            <a:off x="9826200" y="5154480"/>
            <a:ext cx="2279160" cy="20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62"/>
              </a:lnSpc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Создание</a:t>
            </a:r>
            <a:r>
              <a:rPr b="0" lang="en-US" sz="1600" spc="-409" strike="noStrike">
                <a:solidFill>
                  <a:srgbClr val="c9c2c0"/>
                </a:solidFill>
                <a:latin typeface="WTUAJH+Calibri"/>
              </a:rPr>
              <a:t>к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омфортной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2"/>
              </a:lnSpc>
              <a:spcBef>
                <a:spcPts val="629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уютной обстановки</a:t>
            </a:r>
            <a:r>
              <a:rPr b="0" lang="en-US" sz="1600" spc="21" strike="noStrike">
                <a:solidFill>
                  <a:srgbClr val="c9c2c0"/>
                </a:solidFill>
                <a:latin typeface="WTUAJH+Calibri"/>
              </a:rPr>
              <a:t> 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д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2"/>
              </a:lnSpc>
              <a:spcBef>
                <a:spcPts val="641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посетителей, чтоб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4"/>
              </a:lnSpc>
              <a:spcBef>
                <a:spcPts val="638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провести время</a:t>
            </a:r>
            <a:r>
              <a:rPr b="0" lang="en-US" sz="1600" spc="18" strike="noStrike">
                <a:solidFill>
                  <a:srgbClr val="c9c2c0"/>
                </a:solidFill>
                <a:latin typeface="WTUAJH+Calibri"/>
              </a:rPr>
              <a:t> </a:t>
            </a: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2"/>
              </a:lnSpc>
              <a:spcBef>
                <a:spcPts val="629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польз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bject 13"/>
          <p:cNvSpPr/>
          <p:nvPr/>
        </p:nvSpPr>
        <p:spPr>
          <a:xfrm>
            <a:off x="6521040" y="6805440"/>
            <a:ext cx="14472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62"/>
              </a:lnSpc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удовлетвор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62"/>
              </a:lnSpc>
              <a:spcBef>
                <a:spcPts val="641"/>
              </a:spcBef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потре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bject 14"/>
          <p:cNvSpPr/>
          <p:nvPr/>
        </p:nvSpPr>
        <p:spPr>
          <a:xfrm>
            <a:off x="6521040" y="7465320"/>
            <a:ext cx="1292040" cy="4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62"/>
              </a:lnSpc>
            </a:pPr>
            <a:r>
              <a:rPr b="0" lang="en-US" sz="1600" spc="-1" strike="noStrike">
                <a:solidFill>
                  <a:srgbClr val="c9c2c0"/>
                </a:solidFill>
                <a:latin typeface="WTUAJH+Calibri"/>
              </a:rPr>
              <a:t>посет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bject 1"/>
          <p:cNvSpPr/>
          <p:nvPr/>
        </p:nvSpPr>
        <p:spPr>
          <a:xfrm>
            <a:off x="0" y="0"/>
            <a:ext cx="14630040" cy="822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ject 3"/>
          <p:cNvSpPr/>
          <p:nvPr/>
        </p:nvSpPr>
        <p:spPr>
          <a:xfrm>
            <a:off x="3630240" y="2464920"/>
            <a:ext cx="6671160" cy="14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824"/>
              </a:lnSpc>
            </a:pPr>
            <a:r>
              <a:rPr b="0" lang="en-US" sz="3150" spc="-55" strike="noStrike">
                <a:solidFill>
                  <a:srgbClr val="ebccbb"/>
                </a:solidFill>
                <a:latin typeface="FCQQLU+Calibri"/>
              </a:rPr>
              <a:t>Ко</a:t>
            </a:r>
            <a:r>
              <a:rPr b="0" lang="en-US" sz="3150" spc="-1087" strike="noStrike">
                <a:solidFill>
                  <a:srgbClr val="ebccbb"/>
                </a:solidFill>
                <a:latin typeface="FCQQLU+Calibri"/>
              </a:rPr>
              <a:t>г</a:t>
            </a:r>
            <a:r>
              <a:rPr b="0" lang="en-US" sz="3150" spc="-1" strike="noStrike">
                <a:solidFill>
                  <a:srgbClr val="ebccbb"/>
                </a:solidFill>
                <a:latin typeface="FCQQLU+Calibri"/>
              </a:rPr>
              <a:t>о</a:t>
            </a:r>
            <a:r>
              <a:rPr b="0" lang="en-US" sz="3150" spc="-15" strike="noStrike">
                <a:solidFill>
                  <a:srgbClr val="ebccbb"/>
                </a:solidFill>
                <a:latin typeface="FCQQLU+Calibri"/>
              </a:rPr>
              <a:t> можно</a:t>
            </a:r>
            <a:r>
              <a:rPr b="0" lang="en-US" sz="3150" spc="-18" strike="noStrike">
                <a:solidFill>
                  <a:srgbClr val="ebccbb"/>
                </a:solidFill>
                <a:latin typeface="FCQQLU+Calibri"/>
              </a:rPr>
              <a:t> </a:t>
            </a:r>
            <a:r>
              <a:rPr b="0" lang="en-US" sz="3150" spc="-1" strike="noStrike">
                <a:solidFill>
                  <a:srgbClr val="ebccbb"/>
                </a:solidFill>
                <a:latin typeface="FCQQLU+Calibri"/>
              </a:rPr>
              <a:t>при</a:t>
            </a:r>
            <a:r>
              <a:rPr b="0" lang="en-US" sz="3150" spc="-894" strike="noStrike">
                <a:solidFill>
                  <a:srgbClr val="ebccbb"/>
                </a:solidFill>
                <a:latin typeface="FCQQLU+Calibri"/>
              </a:rPr>
              <a:t>в</a:t>
            </a:r>
            <a:r>
              <a:rPr b="0" lang="en-US" sz="3150" spc="-1" strike="noStrike">
                <a:solidFill>
                  <a:srgbClr val="ebccbb"/>
                </a:solidFill>
                <a:latin typeface="FCQQLU+Calibri"/>
              </a:rPr>
              <a:t>лечь </a:t>
            </a:r>
            <a:r>
              <a:rPr b="0" lang="en-US" sz="3150" spc="-12" strike="noStrike">
                <a:solidFill>
                  <a:srgbClr val="ebccbb"/>
                </a:solidFill>
                <a:latin typeface="FCQQLU+Calibri"/>
              </a:rPr>
              <a:t>для</a:t>
            </a:r>
            <a:r>
              <a:rPr b="0" lang="en-US" sz="3150" spc="-1" strike="noStrike">
                <a:solidFill>
                  <a:srgbClr val="ebccbb"/>
                </a:solidFill>
                <a:latin typeface="FCQQLU+Calibri"/>
              </a:rPr>
              <a:t> </a:t>
            </a:r>
            <a:r>
              <a:rPr b="0" lang="en-US" sz="3150" spc="-12" strike="noStrike">
                <a:solidFill>
                  <a:srgbClr val="ebccbb"/>
                </a:solidFill>
                <a:latin typeface="FCQQLU+Calibri"/>
              </a:rPr>
              <a:t>реализации</a:t>
            </a:r>
            <a:endParaRPr b="0" lang="en-US" sz="31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24"/>
              </a:lnSpc>
              <a:spcBef>
                <a:spcPts val="77"/>
              </a:spcBef>
            </a:pPr>
            <a:r>
              <a:rPr b="0" lang="en-US" sz="3150" spc="-1" strike="noStrike">
                <a:solidFill>
                  <a:srgbClr val="ebccbb"/>
                </a:solidFill>
                <a:latin typeface="FCQQLU+Calibri"/>
              </a:rPr>
              <a:t>проекта?</a:t>
            </a:r>
            <a:endParaRPr b="0" lang="en-US" sz="31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bject 4"/>
          <p:cNvSpPr/>
          <p:nvPr/>
        </p:nvSpPr>
        <p:spPr>
          <a:xfrm>
            <a:off x="3716280" y="3849480"/>
            <a:ext cx="273600" cy="31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99"/>
              </a:lnSpc>
            </a:pPr>
            <a:r>
              <a:rPr b="0" lang="en-US" sz="1900" spc="-1" strike="noStrike">
                <a:solidFill>
                  <a:srgbClr val="ebccbb"/>
                </a:solidFill>
                <a:latin typeface="FSWIDB+Calibri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02"/>
              </a:lnSpc>
              <a:spcBef>
                <a:spcPts val="8966"/>
              </a:spcBef>
            </a:pPr>
            <a:r>
              <a:rPr b="0" lang="en-US" sz="1900" spc="-1" strike="noStrike">
                <a:solidFill>
                  <a:srgbClr val="ebccbb"/>
                </a:solidFill>
                <a:latin typeface="FSWIDB+Calibri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spcBef>
                <a:spcPts val="8921"/>
              </a:spcBef>
            </a:pPr>
            <a:r>
              <a:rPr b="0" lang="en-US" sz="1900" spc="-1" strike="noStrike">
                <a:solidFill>
                  <a:srgbClr val="ebccbb"/>
                </a:solidFill>
                <a:latin typeface="FSWIDB+Calibri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bject 5"/>
          <p:cNvSpPr/>
          <p:nvPr/>
        </p:nvSpPr>
        <p:spPr>
          <a:xfrm>
            <a:off x="4743360" y="3864960"/>
            <a:ext cx="1641600" cy="4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05"/>
              </a:lnSpc>
            </a:pPr>
            <a:r>
              <a:rPr b="0" lang="en-US" sz="1550" spc="-1" strike="noStrike">
                <a:solidFill>
                  <a:srgbClr val="ebccbb"/>
                </a:solidFill>
                <a:latin typeface="FCQQLU+Calibri"/>
              </a:rPr>
              <a:t>Опытные</a:t>
            </a:r>
            <a:r>
              <a:rPr b="0" lang="en-US" sz="1550" spc="-15" strike="noStrike">
                <a:solidFill>
                  <a:srgbClr val="ebccbb"/>
                </a:solidFill>
                <a:latin typeface="FCQQLU+Calibri"/>
              </a:rPr>
              <a:t> </a:t>
            </a:r>
            <a:r>
              <a:rPr b="0" lang="en-US" sz="1550" spc="-1" strike="noStrike">
                <a:solidFill>
                  <a:srgbClr val="ebccbb"/>
                </a:solidFill>
                <a:latin typeface="FCQQLU+Calibri"/>
              </a:rPr>
              <a:t>бариста</a:t>
            </a:r>
            <a:endParaRPr b="0" lang="en-US" sz="15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ject 6"/>
          <p:cNvSpPr/>
          <p:nvPr/>
        </p:nvSpPr>
        <p:spPr>
          <a:xfrm>
            <a:off x="4743360" y="4246560"/>
            <a:ext cx="42962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522"/>
              </a:lnSpc>
            </a:pP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Найм специалистов</a:t>
            </a:r>
            <a:r>
              <a:rPr b="0" lang="en-US" sz="1250" spc="18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с опытом</a:t>
            </a:r>
            <a:r>
              <a:rPr b="0" lang="en-US" sz="1250" spc="29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работы</a:t>
            </a:r>
            <a:r>
              <a:rPr b="0" lang="en-US" sz="1250" spc="21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в кофейной</a:t>
            </a:r>
            <a:r>
              <a:rPr b="0" lang="en-US" sz="1250" spc="29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индустрии.</a:t>
            </a:r>
            <a:endParaRPr b="0" lang="en-US" sz="12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bject 7"/>
          <p:cNvSpPr/>
          <p:nvPr/>
        </p:nvSpPr>
        <p:spPr>
          <a:xfrm>
            <a:off x="4743360" y="5296320"/>
            <a:ext cx="1910880" cy="4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05"/>
              </a:lnSpc>
            </a:pPr>
            <a:r>
              <a:rPr b="0" lang="en-US" sz="1550" spc="-1" strike="noStrike">
                <a:solidFill>
                  <a:srgbClr val="ebccbb"/>
                </a:solidFill>
                <a:latin typeface="FCQQLU+Calibri"/>
              </a:rPr>
              <a:t>Дизайнер</a:t>
            </a:r>
            <a:r>
              <a:rPr b="0" lang="en-US" sz="1550" spc="29" strike="noStrike">
                <a:solidFill>
                  <a:srgbClr val="ebccbb"/>
                </a:solidFill>
                <a:latin typeface="FCQQLU+Calibri"/>
              </a:rPr>
              <a:t> </a:t>
            </a:r>
            <a:r>
              <a:rPr b="0" lang="en-US" sz="1550" spc="-1" strike="noStrike">
                <a:solidFill>
                  <a:srgbClr val="ebccbb"/>
                </a:solidFill>
                <a:latin typeface="FCQQLU+Calibri"/>
              </a:rPr>
              <a:t>интерьера</a:t>
            </a:r>
            <a:endParaRPr b="0" lang="en-US" sz="15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bject 8"/>
          <p:cNvSpPr/>
          <p:nvPr/>
        </p:nvSpPr>
        <p:spPr>
          <a:xfrm>
            <a:off x="4743360" y="5677920"/>
            <a:ext cx="5784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522"/>
              </a:lnSpc>
            </a:pP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Сотр</a:t>
            </a:r>
            <a:r>
              <a:rPr b="0" lang="en-US" sz="1250" spc="-568" strike="noStrike">
                <a:solidFill>
                  <a:srgbClr val="c9c2c0"/>
                </a:solidFill>
                <a:latin typeface="FCQQLU+Calibri"/>
              </a:rPr>
              <a:t>у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дничество</a:t>
            </a:r>
            <a:r>
              <a:rPr b="0" lang="en-US" sz="1250" spc="41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с профессионалом</a:t>
            </a:r>
            <a:r>
              <a:rPr b="0" lang="en-US" sz="1250" spc="35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для создания</a:t>
            </a:r>
            <a:r>
              <a:rPr b="0" lang="en-US" sz="1250" spc="9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уни</a:t>
            </a:r>
            <a:r>
              <a:rPr b="0" lang="en-US" sz="1250" spc="-344" strike="noStrike">
                <a:solidFill>
                  <a:srgbClr val="c9c2c0"/>
                </a:solidFill>
                <a:latin typeface="FCQQLU+Calibri"/>
              </a:rPr>
              <a:t>к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ального</a:t>
            </a:r>
            <a:r>
              <a:rPr b="0" lang="en-US" sz="1250" spc="29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интерьера</a:t>
            </a:r>
            <a:r>
              <a:rPr b="0" lang="en-US" sz="1250" spc="15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кофейни.</a:t>
            </a:r>
            <a:endParaRPr b="0" lang="en-US" sz="12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bject 9"/>
          <p:cNvSpPr/>
          <p:nvPr/>
        </p:nvSpPr>
        <p:spPr>
          <a:xfrm>
            <a:off x="4743360" y="6727680"/>
            <a:ext cx="11660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05"/>
              </a:lnSpc>
            </a:pPr>
            <a:r>
              <a:rPr b="0" lang="en-US" sz="1550" spc="-1" strike="noStrike">
                <a:solidFill>
                  <a:srgbClr val="ebccbb"/>
                </a:solidFill>
                <a:latin typeface="FCQQLU+Calibri"/>
              </a:rPr>
              <a:t>Мар</a:t>
            </a:r>
            <a:r>
              <a:rPr b="0" lang="en-US" sz="1550" spc="-483" strike="noStrike">
                <a:solidFill>
                  <a:srgbClr val="ebccbb"/>
                </a:solidFill>
                <a:latin typeface="FCQQLU+Calibri"/>
              </a:rPr>
              <a:t>к</a:t>
            </a:r>
            <a:r>
              <a:rPr b="0" lang="en-US" sz="1550" spc="-1" strike="noStrike">
                <a:solidFill>
                  <a:srgbClr val="ebccbb"/>
                </a:solidFill>
                <a:latin typeface="FCQQLU+Calibri"/>
              </a:rPr>
              <a:t>етолог</a:t>
            </a:r>
            <a:endParaRPr b="0" lang="en-US" sz="15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bject 10"/>
          <p:cNvSpPr/>
          <p:nvPr/>
        </p:nvSpPr>
        <p:spPr>
          <a:xfrm>
            <a:off x="4743360" y="7109280"/>
            <a:ext cx="5925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522"/>
              </a:lnSpc>
            </a:pP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Привлечение</a:t>
            </a:r>
            <a:r>
              <a:rPr b="0" lang="en-US" sz="1250" spc="15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специалиста</a:t>
            </a:r>
            <a:r>
              <a:rPr b="0" lang="en-US" sz="1250" spc="15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для</a:t>
            </a:r>
            <a:r>
              <a:rPr b="0" lang="en-US" sz="1250" spc="9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разработки</a:t>
            </a:r>
            <a:r>
              <a:rPr b="0" lang="en-US" sz="1250" spc="12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маркетинговой</a:t>
            </a:r>
            <a:r>
              <a:rPr b="0" lang="en-US" sz="1250" spc="38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стратегии</a:t>
            </a:r>
            <a:r>
              <a:rPr b="0" lang="en-US" sz="1250" spc="24" strike="noStrike">
                <a:solidFill>
                  <a:srgbClr val="c9c2c0"/>
                </a:solidFill>
                <a:latin typeface="FCQQLU+Calibri"/>
              </a:rPr>
              <a:t> 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и пр</a:t>
            </a:r>
            <a:r>
              <a:rPr b="0" lang="en-US" sz="1250" spc="-423" strike="noStrike">
                <a:solidFill>
                  <a:srgbClr val="c9c2c0"/>
                </a:solidFill>
                <a:latin typeface="FCQQLU+Calibri"/>
              </a:rPr>
              <a:t>о</a:t>
            </a:r>
            <a:r>
              <a:rPr b="0" lang="en-US" sz="1250" spc="-1" strike="noStrike">
                <a:solidFill>
                  <a:srgbClr val="c9c2c0"/>
                </a:solidFill>
                <a:latin typeface="FCQQLU+Calibri"/>
              </a:rPr>
              <a:t>движения.</a:t>
            </a:r>
            <a:endParaRPr b="0" lang="en-US" sz="12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bject 1"/>
          <p:cNvSpPr/>
          <p:nvPr/>
        </p:nvSpPr>
        <p:spPr>
          <a:xfrm>
            <a:off x="0" y="0"/>
            <a:ext cx="14630040" cy="822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bject 3"/>
          <p:cNvSpPr/>
          <p:nvPr/>
        </p:nvSpPr>
        <p:spPr>
          <a:xfrm>
            <a:off x="2129760" y="2261520"/>
            <a:ext cx="496476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346"/>
              </a:lnSpc>
            </a:pPr>
            <a:r>
              <a:rPr b="0" lang="en-US" sz="4400" spc="-12" strike="noStrike">
                <a:solidFill>
                  <a:srgbClr val="ebccbb"/>
                </a:solidFill>
                <a:latin typeface="BDAOUU+Calibri"/>
              </a:rPr>
              <a:t>Анализ</a:t>
            </a:r>
            <a:r>
              <a:rPr b="0" lang="en-US" sz="4400" spc="-2042" strike="noStrike">
                <a:solidFill>
                  <a:srgbClr val="ebccbb"/>
                </a:solidFill>
                <a:latin typeface="BDAOUU+Calibri"/>
              </a:rPr>
              <a:t>к</a:t>
            </a:r>
            <a:r>
              <a:rPr b="0" lang="en-US" sz="4400" spc="-15" strike="noStrike">
                <a:solidFill>
                  <a:srgbClr val="ebccbb"/>
                </a:solidFill>
                <a:latin typeface="BDAOUU+Calibri"/>
              </a:rPr>
              <a:t>онкурен</a:t>
            </a:r>
            <a:r>
              <a:rPr b="0" lang="en-US" sz="4400" spc="-1705" strike="noStrike">
                <a:solidFill>
                  <a:srgbClr val="ebccbb"/>
                </a:solidFill>
                <a:latin typeface="BDAOUU+Calibri"/>
              </a:rPr>
              <a:t>т</a:t>
            </a:r>
            <a:r>
              <a:rPr b="0" lang="en-US" sz="4400" spc="-12" strike="noStrike">
                <a:solidFill>
                  <a:srgbClr val="ebccbb"/>
                </a:solidFill>
                <a:latin typeface="BDAOUU+Calibri"/>
              </a:rPr>
              <a:t>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ject 4"/>
          <p:cNvSpPr/>
          <p:nvPr/>
        </p:nvSpPr>
        <p:spPr>
          <a:xfrm>
            <a:off x="2129760" y="3510720"/>
            <a:ext cx="22420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" strike="noStrike">
                <a:solidFill>
                  <a:srgbClr val="ebccbb"/>
                </a:solidFill>
                <a:latin typeface="BDAOUU+Calibri"/>
              </a:rPr>
              <a:t>Мес</a:t>
            </a:r>
            <a:r>
              <a:rPr b="0" lang="en-US" sz="2200" spc="-627" strike="noStrike">
                <a:solidFill>
                  <a:srgbClr val="ebccbb"/>
                </a:solidFill>
                <a:latin typeface="BDAOUU+Calibri"/>
              </a:rPr>
              <a:t>т</a:t>
            </a:r>
            <a:r>
              <a:rPr b="0" lang="en-US" sz="2200" spc="-1" strike="noStrike">
                <a:solidFill>
                  <a:srgbClr val="ebccbb"/>
                </a:solidFill>
                <a:latin typeface="BDAOUU+Calibri"/>
              </a:rPr>
              <a:t>оп</a:t>
            </a:r>
            <a:r>
              <a:rPr b="0" lang="en-US" sz="2200" spc="-727" strike="noStrike">
                <a:solidFill>
                  <a:srgbClr val="ebccbb"/>
                </a:solidFill>
                <a:latin typeface="BDAOUU+Calibri"/>
              </a:rPr>
              <a:t>о</a:t>
            </a:r>
            <a:r>
              <a:rPr b="0" lang="en-US" sz="2200" spc="-18" strike="noStrike">
                <a:solidFill>
                  <a:srgbClr val="ebccbb"/>
                </a:solidFill>
                <a:latin typeface="BDAOUU+Calibri"/>
              </a:rPr>
              <a:t>лож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ject 5"/>
          <p:cNvSpPr/>
          <p:nvPr/>
        </p:nvSpPr>
        <p:spPr>
          <a:xfrm>
            <a:off x="5835960" y="3510720"/>
            <a:ext cx="20379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2" strike="noStrike">
                <a:solidFill>
                  <a:srgbClr val="ebccbb"/>
                </a:solidFill>
                <a:latin typeface="BDAOUU+Calibri"/>
              </a:rPr>
              <a:t>Мар</a:t>
            </a:r>
            <a:r>
              <a:rPr b="0" lang="en-US" sz="2200" spc="-627" strike="noStrike">
                <a:solidFill>
                  <a:srgbClr val="ebccbb"/>
                </a:solidFill>
                <a:latin typeface="BDAOUU+Calibri"/>
              </a:rPr>
              <a:t>к</a:t>
            </a:r>
            <a:r>
              <a:rPr b="0" lang="en-US" sz="2200" spc="-15" strike="noStrike">
                <a:solidFill>
                  <a:srgbClr val="ebccbb"/>
                </a:solidFill>
                <a:latin typeface="BDAOUU+Calibri"/>
              </a:rPr>
              <a:t>етин</a:t>
            </a:r>
            <a:r>
              <a:rPr b="0" lang="en-US" sz="2200" spc="-625" strike="noStrike">
                <a:solidFill>
                  <a:srgbClr val="ebccbb"/>
                </a:solidFill>
                <a:latin typeface="BDAOUU+Calibri"/>
              </a:rPr>
              <a:t>г</a:t>
            </a:r>
            <a:r>
              <a:rPr b="0" lang="en-US" sz="2200" spc="-1" strike="noStrike">
                <a:solidFill>
                  <a:srgbClr val="ebccbb"/>
                </a:solidFill>
                <a:latin typeface="BDAOUU+Calibri"/>
              </a:rPr>
              <a:t>ов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ject 6"/>
          <p:cNvSpPr/>
          <p:nvPr/>
        </p:nvSpPr>
        <p:spPr>
          <a:xfrm>
            <a:off x="9542160" y="3510720"/>
            <a:ext cx="23011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" strike="noStrike">
                <a:solidFill>
                  <a:srgbClr val="ebccbb"/>
                </a:solidFill>
                <a:latin typeface="BDAOUU+Calibri"/>
              </a:rPr>
              <a:t>Ценообраз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ject 7"/>
          <p:cNvSpPr/>
          <p:nvPr/>
        </p:nvSpPr>
        <p:spPr>
          <a:xfrm>
            <a:off x="5835960" y="3853440"/>
            <a:ext cx="14727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" strike="noStrike">
                <a:solidFill>
                  <a:srgbClr val="ebccbb"/>
                </a:solidFill>
                <a:latin typeface="BDAOUU+Calibri"/>
              </a:rPr>
              <a:t>актив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ject 8"/>
          <p:cNvSpPr/>
          <p:nvPr/>
        </p:nvSpPr>
        <p:spPr>
          <a:xfrm>
            <a:off x="2129760" y="4141080"/>
            <a:ext cx="287676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40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Оценка местоп</a:t>
            </a:r>
            <a:r>
              <a:rPr b="0" lang="en-US" sz="1750" spc="-676" strike="noStrike">
                <a:solidFill>
                  <a:srgbClr val="c9c2c0"/>
                </a:solidFill>
                <a:latin typeface="BDAOUU+Calibri"/>
              </a:rPr>
              <a:t>о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ложения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конкурирующих кофеен</a:t>
            </a:r>
            <a:r>
              <a:rPr b="0" lang="en-US" sz="1750" spc="-12" strike="noStrike">
                <a:solidFill>
                  <a:srgbClr val="c9c2c0"/>
                </a:solidFill>
                <a:latin typeface="BDAOUU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и</a:t>
            </a:r>
            <a:r>
              <a:rPr b="0" lang="en-US" sz="1750" spc="12" strike="noStrike">
                <a:solidFill>
                  <a:srgbClr val="c9c2c0"/>
                </a:solidFill>
                <a:latin typeface="BDAOUU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их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69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привлекат</a:t>
            </a:r>
            <a:r>
              <a:rPr b="0" lang="en-US" sz="1750" spc="-673" strike="noStrike">
                <a:solidFill>
                  <a:srgbClr val="c9c2c0"/>
                </a:solidFill>
                <a:latin typeface="BDAOUU+Calibri"/>
              </a:rPr>
              <a:t>е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льности</a:t>
            </a:r>
            <a:r>
              <a:rPr b="0" lang="en-US" sz="1750" spc="-35" strike="noStrike">
                <a:solidFill>
                  <a:srgbClr val="c9c2c0"/>
                </a:solidFill>
                <a:latin typeface="BDAOUU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для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целевой а</a:t>
            </a:r>
            <a:r>
              <a:rPr b="0" lang="en-US" sz="1750" spc="-792" strike="noStrike">
                <a:solidFill>
                  <a:srgbClr val="c9c2c0"/>
                </a:solidFill>
                <a:latin typeface="BDAOUU+Calibri"/>
              </a:rPr>
              <a:t>у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дитории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ject 9"/>
          <p:cNvSpPr/>
          <p:nvPr/>
        </p:nvSpPr>
        <p:spPr>
          <a:xfrm>
            <a:off x="9542160" y="4141080"/>
            <a:ext cx="288036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40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Сравнение цен</a:t>
            </a:r>
            <a:r>
              <a:rPr b="0" lang="en-US" sz="1750" spc="18" strike="noStrike">
                <a:solidFill>
                  <a:srgbClr val="c9c2c0"/>
                </a:solidFill>
                <a:latin typeface="BDAOUU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на кофейные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напитки и доп</a:t>
            </a:r>
            <a:r>
              <a:rPr b="0" lang="en-US" sz="1750" spc="-491" strike="noStrike">
                <a:solidFill>
                  <a:srgbClr val="c9c2c0"/>
                </a:solidFill>
                <a:latin typeface="BDAOUU+Calibri"/>
              </a:rPr>
              <a:t>о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лнительные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69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услуги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bject 10"/>
          <p:cNvSpPr/>
          <p:nvPr/>
        </p:nvSpPr>
        <p:spPr>
          <a:xfrm>
            <a:off x="5835960" y="4488840"/>
            <a:ext cx="2725560" cy="18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Изучение мероприятий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конкурентов для</a:t>
            </a:r>
            <a:r>
              <a:rPr b="0" lang="en-US" sz="1750" spc="-15" strike="noStrike">
                <a:solidFill>
                  <a:srgbClr val="c9c2c0"/>
                </a:solidFill>
                <a:latin typeface="BDAOUU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анализа</a:t>
            </a:r>
            <a:r>
              <a:rPr b="0" lang="en-US" sz="1750" spc="-12" strike="noStrike">
                <a:solidFill>
                  <a:srgbClr val="c9c2c0"/>
                </a:solidFill>
                <a:latin typeface="BDAOUU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и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69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разработки уни</a:t>
            </a:r>
            <a:r>
              <a:rPr b="0" lang="en-US" sz="1750" spc="-429" strike="noStrike">
                <a:solidFill>
                  <a:srgbClr val="c9c2c0"/>
                </a:solidFill>
                <a:latin typeface="BDAOUU+Calibri"/>
              </a:rPr>
              <a:t>к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альной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маркетин</a:t>
            </a:r>
            <a:r>
              <a:rPr b="0" lang="en-US" sz="1750" spc="-551" strike="noStrike">
                <a:solidFill>
                  <a:srgbClr val="c9c2c0"/>
                </a:solidFill>
                <a:latin typeface="BDAOUU+Calibri"/>
              </a:rPr>
              <a:t>г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овой</a:t>
            </a:r>
            <a:r>
              <a:rPr b="0" lang="en-US" sz="1750" spc="12" strike="noStrike">
                <a:solidFill>
                  <a:srgbClr val="c9c2c0"/>
                </a:solidFill>
                <a:latin typeface="BDAOUU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BDAOUU+Calibri"/>
              </a:rPr>
              <a:t>стратегии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bject 1"/>
          <p:cNvSpPr/>
          <p:nvPr/>
        </p:nvSpPr>
        <p:spPr>
          <a:xfrm>
            <a:off x="0" y="0"/>
            <a:ext cx="14630040" cy="822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ject 3"/>
          <p:cNvSpPr/>
          <p:nvPr/>
        </p:nvSpPr>
        <p:spPr>
          <a:xfrm>
            <a:off x="4582800" y="1734120"/>
            <a:ext cx="404712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346"/>
              </a:lnSpc>
            </a:pPr>
            <a:r>
              <a:rPr b="0" lang="en-US" sz="4400" spc="-12" strike="noStrike">
                <a:solidFill>
                  <a:srgbClr val="ebccbb"/>
                </a:solidFill>
                <a:latin typeface="VHQGMJ+Calibri"/>
              </a:rPr>
              <a:t>Се</a:t>
            </a:r>
            <a:r>
              <a:rPr b="0" lang="en-US" sz="4400" spc="-1350" strike="noStrike">
                <a:solidFill>
                  <a:srgbClr val="ebccbb"/>
                </a:solidFill>
                <a:latin typeface="VHQGMJ+Calibri"/>
              </a:rPr>
              <a:t>г</a:t>
            </a:r>
            <a:r>
              <a:rPr b="0" lang="en-US" sz="4400" spc="-12" strike="noStrike">
                <a:solidFill>
                  <a:srgbClr val="ebccbb"/>
                </a:solidFill>
                <a:latin typeface="VHQGMJ+Calibri"/>
              </a:rPr>
              <a:t>менты</a:t>
            </a:r>
            <a:r>
              <a:rPr b="0" lang="en-US" sz="4400" spc="-52" strike="noStrike">
                <a:solidFill>
                  <a:srgbClr val="ebccbb"/>
                </a:solidFill>
                <a:latin typeface="VHQGMJ+Calibri"/>
              </a:rPr>
              <a:t> </a:t>
            </a:r>
            <a:r>
              <a:rPr b="0" lang="en-US" sz="4400" spc="-15" strike="noStrike">
                <a:solidFill>
                  <a:srgbClr val="ebccbb"/>
                </a:solidFill>
                <a:latin typeface="VHQGMJ+Calibri"/>
              </a:rPr>
              <a:t>рын</a:t>
            </a:r>
            <a:r>
              <a:rPr b="0" lang="en-US" sz="4400" spc="-2042" strike="noStrike">
                <a:solidFill>
                  <a:srgbClr val="ebccbb"/>
                </a:solidFill>
                <a:latin typeface="VHQGMJ+Calibri"/>
              </a:rPr>
              <a:t>к</a:t>
            </a:r>
            <a:r>
              <a:rPr b="0" lang="en-US" sz="4400" spc="-1" strike="noStrike">
                <a:solidFill>
                  <a:srgbClr val="ebccbb"/>
                </a:solidFill>
                <a:latin typeface="VHQGMJ+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ject 4"/>
          <p:cNvSpPr/>
          <p:nvPr/>
        </p:nvSpPr>
        <p:spPr>
          <a:xfrm>
            <a:off x="4657320" y="2957040"/>
            <a:ext cx="341352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209"/>
              </a:lnSpc>
            </a:pPr>
            <a:r>
              <a:rPr b="0" lang="en-US" sz="2650" spc="-1" strike="noStrike">
                <a:solidFill>
                  <a:srgbClr val="ebccbb"/>
                </a:solidFill>
                <a:latin typeface="AJFOAG+Calibri"/>
              </a:rPr>
              <a:t>1</a:t>
            </a:r>
            <a:r>
              <a:rPr b="0" lang="en-US" sz="2650" spc="3091" strike="noStrike">
                <a:solidFill>
                  <a:srgbClr val="ebccbb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ebccbb"/>
                </a:solidFill>
                <a:latin typeface="VHQGMJ+Calibri"/>
              </a:rPr>
              <a:t>М</a:t>
            </a:r>
            <a:r>
              <a:rPr b="0" lang="en-US" sz="2200" spc="-678" strike="noStrike">
                <a:solidFill>
                  <a:srgbClr val="ebccbb"/>
                </a:solidFill>
                <a:latin typeface="VHQGMJ+Calibri"/>
              </a:rPr>
              <a:t>о</a:t>
            </a:r>
            <a:r>
              <a:rPr b="0" lang="en-US" sz="2200" spc="-1" strike="noStrike">
                <a:solidFill>
                  <a:srgbClr val="ebccbb"/>
                </a:solidFill>
                <a:latin typeface="VHQGMJ+Calibri"/>
              </a:rPr>
              <a:t>л</a:t>
            </a:r>
            <a:r>
              <a:rPr b="0" lang="en-US" sz="2200" spc="-1160" strike="noStrike">
                <a:solidFill>
                  <a:srgbClr val="ebccbb"/>
                </a:solidFill>
                <a:latin typeface="VHQGMJ+Calibri"/>
              </a:rPr>
              <a:t>о</a:t>
            </a:r>
            <a:r>
              <a:rPr b="0" lang="en-US" sz="2200" spc="-1" strike="noStrike">
                <a:solidFill>
                  <a:srgbClr val="ebccbb"/>
                </a:solidFill>
                <a:latin typeface="VHQGMJ+Calibri"/>
              </a:rPr>
              <a:t>д</a:t>
            </a:r>
            <a:r>
              <a:rPr b="0" lang="en-US" sz="2200" spc="-676" strike="noStrike">
                <a:solidFill>
                  <a:srgbClr val="ebccbb"/>
                </a:solidFill>
                <a:latin typeface="VHQGMJ+Calibri"/>
              </a:rPr>
              <a:t>е</a:t>
            </a:r>
            <a:r>
              <a:rPr b="0" lang="en-US" sz="2200" spc="-12" strike="noStrike">
                <a:solidFill>
                  <a:srgbClr val="ebccbb"/>
                </a:solidFill>
                <a:latin typeface="VHQGMJ+Calibri"/>
              </a:rPr>
              <a:t>жь</a:t>
            </a:r>
            <a:r>
              <a:rPr b="0" lang="en-US" sz="2200" spc="-1" strike="noStrike">
                <a:solidFill>
                  <a:srgbClr val="ebccbb"/>
                </a:solidFill>
                <a:latin typeface="VHQGMJ+Calibri"/>
              </a:rPr>
              <a:t> и</a:t>
            </a:r>
            <a:r>
              <a:rPr b="0" lang="en-US" sz="2200" spc="-12" strike="noStrike">
                <a:solidFill>
                  <a:srgbClr val="ebccbb"/>
                </a:solidFill>
                <a:latin typeface="VHQGMJ+Calibri"/>
              </a:rPr>
              <a:t> </a:t>
            </a:r>
            <a:r>
              <a:rPr b="0" lang="en-US" sz="2200" spc="-1" strike="noStrike">
                <a:solidFill>
                  <a:srgbClr val="ebccbb"/>
                </a:solidFill>
                <a:latin typeface="VHQGMJ+Calibri"/>
              </a:rPr>
              <a:t>ст</a:t>
            </a:r>
            <a:r>
              <a:rPr b="0" lang="en-US" sz="2200" spc="-996" strike="noStrike">
                <a:solidFill>
                  <a:srgbClr val="ebccbb"/>
                </a:solidFill>
                <a:latin typeface="VHQGMJ+Calibri"/>
              </a:rPr>
              <a:t>у</a:t>
            </a:r>
            <a:r>
              <a:rPr b="0" lang="en-US" sz="2200" spc="-15" strike="noStrike">
                <a:solidFill>
                  <a:srgbClr val="ebccbb"/>
                </a:solidFill>
                <a:latin typeface="VHQGMJ+Calibri"/>
              </a:rPr>
              <a:t>ден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ject 5"/>
          <p:cNvSpPr/>
          <p:nvPr/>
        </p:nvSpPr>
        <p:spPr>
          <a:xfrm>
            <a:off x="10069560" y="3010680"/>
            <a:ext cx="24642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" strike="noStrike">
                <a:solidFill>
                  <a:srgbClr val="ebccbb"/>
                </a:solidFill>
                <a:latin typeface="VHQGMJ+Calibri"/>
              </a:rPr>
              <a:t>Бизнес</a:t>
            </a:r>
            <a:r>
              <a:rPr b="0" lang="en-US" sz="2200" spc="-1" strike="noStrike">
                <a:solidFill>
                  <a:srgbClr val="ebccbb"/>
                </a:solidFill>
                <a:latin typeface="AJFOAG+Calibri"/>
              </a:rPr>
              <a:t>-</a:t>
            </a:r>
            <a:r>
              <a:rPr b="0" lang="en-US" sz="2200" spc="-12" strike="noStrike">
                <a:solidFill>
                  <a:srgbClr val="ebccbb"/>
                </a:solidFill>
                <a:latin typeface="VHQGMJ+Calibri"/>
              </a:rPr>
              <a:t>сообще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ject 6"/>
          <p:cNvSpPr/>
          <p:nvPr/>
        </p:nvSpPr>
        <p:spPr>
          <a:xfrm>
            <a:off x="9421920" y="2978640"/>
            <a:ext cx="3211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209"/>
              </a:lnSpc>
            </a:pPr>
            <a:r>
              <a:rPr b="0" lang="en-US" sz="2650" spc="-1" strike="noStrike">
                <a:solidFill>
                  <a:srgbClr val="ebccbb"/>
                </a:solidFill>
                <a:latin typeface="AJFOAG+Calibri"/>
              </a:rPr>
              <a:t>2</a:t>
            </a:r>
            <a:endParaRPr b="0" lang="en-US" sz="2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ject 7"/>
          <p:cNvSpPr/>
          <p:nvPr/>
        </p:nvSpPr>
        <p:spPr>
          <a:xfrm>
            <a:off x="5304960" y="3552120"/>
            <a:ext cx="309420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40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Разработка</a:t>
            </a:r>
            <a:r>
              <a:rPr b="0" lang="en-US" sz="1750" spc="-21" strike="noStrike">
                <a:solidFill>
                  <a:srgbClr val="c9c2c0"/>
                </a:solidFill>
                <a:latin typeface="VHQGM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пр</a:t>
            </a:r>
            <a:r>
              <a:rPr b="0" lang="en-US" sz="1750" spc="-831" strike="noStrike">
                <a:solidFill>
                  <a:srgbClr val="c9c2c0"/>
                </a:solidFill>
                <a:latin typeface="VHQGMJ+Calibri"/>
              </a:rPr>
              <a:t>о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дуктов и акций,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ject 8"/>
          <p:cNvSpPr/>
          <p:nvPr/>
        </p:nvSpPr>
        <p:spPr>
          <a:xfrm>
            <a:off x="10069560" y="3552120"/>
            <a:ext cx="357264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40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Предложение</a:t>
            </a:r>
            <a:r>
              <a:rPr b="0" lang="en-US" sz="1750" spc="-18" strike="noStrike">
                <a:solidFill>
                  <a:srgbClr val="c9c2c0"/>
                </a:solidFill>
                <a:latin typeface="VHQGM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услуг</a:t>
            </a:r>
            <a:r>
              <a:rPr b="0" lang="en-US" sz="1750" spc="-21" strike="noStrike">
                <a:solidFill>
                  <a:srgbClr val="c9c2c0"/>
                </a:solidFill>
                <a:latin typeface="VHQGM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и мероприятий,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привлекающих деловых</a:t>
            </a:r>
            <a:r>
              <a:rPr b="0" lang="en-US" sz="1750" spc="-12" strike="noStrike">
                <a:solidFill>
                  <a:srgbClr val="c9c2c0"/>
                </a:solidFill>
                <a:latin typeface="VHQGM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л</a:t>
            </a:r>
            <a:r>
              <a:rPr b="0" lang="en-US" sz="1750" spc="-922" strike="noStrike">
                <a:solidFill>
                  <a:srgbClr val="c9c2c0"/>
                </a:solidFill>
                <a:latin typeface="VHQGMJ+Calibri"/>
              </a:rPr>
              <a:t>ю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дей на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69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обеденный</a:t>
            </a:r>
            <a:r>
              <a:rPr b="0" lang="en-US" sz="1750" spc="12" strike="noStrike">
                <a:solidFill>
                  <a:srgbClr val="c9c2c0"/>
                </a:solidFill>
                <a:latin typeface="VHQGM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перерыв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ject 9"/>
          <p:cNvSpPr/>
          <p:nvPr/>
        </p:nvSpPr>
        <p:spPr>
          <a:xfrm>
            <a:off x="5304960" y="3907800"/>
            <a:ext cx="365220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привлекающих м</a:t>
            </a:r>
            <a:r>
              <a:rPr b="0" lang="en-US" sz="1750" spc="-585" strike="noStrike">
                <a:solidFill>
                  <a:srgbClr val="c9c2c0"/>
                </a:solidFill>
                <a:latin typeface="VHQGMJ+Calibri"/>
              </a:rPr>
              <a:t>о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л</a:t>
            </a:r>
            <a:r>
              <a:rPr b="0" lang="en-US" sz="1750" spc="-829" strike="noStrike">
                <a:solidFill>
                  <a:srgbClr val="c9c2c0"/>
                </a:solidFill>
                <a:latin typeface="VHQGMJ+Calibri"/>
              </a:rPr>
              <a:t>о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дую а</a:t>
            </a:r>
            <a:r>
              <a:rPr b="0" lang="en-US" sz="1750" spc="-792" strike="noStrike">
                <a:solidFill>
                  <a:srgbClr val="c9c2c0"/>
                </a:solidFill>
                <a:latin typeface="VHQGMJ+Calibri"/>
              </a:rPr>
              <a:t>у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диторию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ject 10"/>
          <p:cNvSpPr/>
          <p:nvPr/>
        </p:nvSpPr>
        <p:spPr>
          <a:xfrm>
            <a:off x="4657320" y="5353200"/>
            <a:ext cx="3211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209"/>
              </a:lnSpc>
            </a:pPr>
            <a:r>
              <a:rPr b="0" lang="en-US" sz="2650" spc="-1" strike="noStrike">
                <a:solidFill>
                  <a:srgbClr val="ebccbb"/>
                </a:solidFill>
                <a:latin typeface="AJFOAG+Calibri"/>
              </a:rPr>
              <a:t>3</a:t>
            </a:r>
            <a:endParaRPr b="0" lang="en-US" sz="26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bject 11"/>
          <p:cNvSpPr/>
          <p:nvPr/>
        </p:nvSpPr>
        <p:spPr>
          <a:xfrm>
            <a:off x="5304960" y="5384880"/>
            <a:ext cx="27111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32" strike="noStrike">
                <a:solidFill>
                  <a:srgbClr val="ebccbb"/>
                </a:solidFill>
                <a:latin typeface="VHQGMJ+Calibri"/>
              </a:rPr>
              <a:t>Туристы</a:t>
            </a:r>
            <a:r>
              <a:rPr b="0" lang="en-US" sz="2200" spc="46" strike="noStrike">
                <a:solidFill>
                  <a:srgbClr val="ebccbb"/>
                </a:solidFill>
                <a:latin typeface="VHQGMJ+Calibri"/>
              </a:rPr>
              <a:t> </a:t>
            </a:r>
            <a:r>
              <a:rPr b="0" lang="en-US" sz="2200" spc="-1" strike="noStrike">
                <a:solidFill>
                  <a:srgbClr val="ebccbb"/>
                </a:solidFill>
                <a:latin typeface="VHQGMJ+Calibri"/>
              </a:rPr>
              <a:t>и посети</a:t>
            </a:r>
            <a:r>
              <a:rPr b="0" lang="en-US" sz="2200" spc="-676" strike="noStrike">
                <a:solidFill>
                  <a:srgbClr val="ebccbb"/>
                </a:solidFill>
                <a:latin typeface="VHQGMJ+Calibri"/>
              </a:rPr>
              <a:t>т</a:t>
            </a:r>
            <a:r>
              <a:rPr b="0" lang="en-US" sz="2200" spc="-24" strike="noStrike">
                <a:solidFill>
                  <a:srgbClr val="ebccbb"/>
                </a:solidFill>
                <a:latin typeface="VHQGMJ+Calibri"/>
              </a:rPr>
              <a:t>е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ject 12"/>
          <p:cNvSpPr/>
          <p:nvPr/>
        </p:nvSpPr>
        <p:spPr>
          <a:xfrm>
            <a:off x="5304960" y="5927040"/>
            <a:ext cx="814176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Создание атмосферы</a:t>
            </a:r>
            <a:r>
              <a:rPr b="0" lang="en-US" sz="1750" spc="-24" strike="noStrike">
                <a:solidFill>
                  <a:srgbClr val="c9c2c0"/>
                </a:solidFill>
                <a:latin typeface="VHQGM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доброжелательности,</a:t>
            </a:r>
            <a:r>
              <a:rPr b="0" lang="en-US" sz="1750" spc="-29" strike="noStrike">
                <a:solidFill>
                  <a:srgbClr val="c9c2c0"/>
                </a:solidFill>
                <a:latin typeface="VHQGM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чтобы</a:t>
            </a:r>
            <a:r>
              <a:rPr b="0" lang="en-US" sz="1750" spc="15" strike="noStrike">
                <a:solidFill>
                  <a:srgbClr val="c9c2c0"/>
                </a:solidFill>
                <a:latin typeface="VHQGM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привлечь туристов</a:t>
            </a:r>
            <a:r>
              <a:rPr b="0" lang="en-US" sz="1750" spc="-21" strike="noStrike">
                <a:solidFill>
                  <a:srgbClr val="c9c2c0"/>
                </a:solidFill>
                <a:latin typeface="VHQGMJ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и посетителей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VHQGMJ+Calibri"/>
              </a:rPr>
              <a:t>района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object 1"/>
          <p:cNvSpPr/>
          <p:nvPr/>
        </p:nvSpPr>
        <p:spPr>
          <a:xfrm>
            <a:off x="0" y="0"/>
            <a:ext cx="14630040" cy="822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bject 3"/>
          <p:cNvSpPr/>
          <p:nvPr/>
        </p:nvSpPr>
        <p:spPr>
          <a:xfrm>
            <a:off x="924840" y="975600"/>
            <a:ext cx="758772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346"/>
              </a:lnSpc>
            </a:pPr>
            <a:r>
              <a:rPr b="0" lang="en-US" sz="4400" spc="-15" strike="noStrike">
                <a:solidFill>
                  <a:srgbClr val="ebccbb"/>
                </a:solidFill>
                <a:latin typeface="JINCTR+Calibri"/>
              </a:rPr>
              <a:t>Способы</a:t>
            </a:r>
            <a:r>
              <a:rPr b="0" lang="en-US" sz="4400" spc="-1" strike="noStrike">
                <a:solidFill>
                  <a:srgbClr val="ebccbb"/>
                </a:solidFill>
                <a:latin typeface="JINCTR+Calibri"/>
              </a:rPr>
              <a:t> пр</a:t>
            </a:r>
            <a:r>
              <a:rPr b="0" lang="en-US" sz="4400" spc="-2320" strike="noStrike">
                <a:solidFill>
                  <a:srgbClr val="ebccbb"/>
                </a:solidFill>
                <a:latin typeface="JINCTR+Calibri"/>
              </a:rPr>
              <a:t>о</a:t>
            </a:r>
            <a:r>
              <a:rPr b="0" lang="en-US" sz="4400" spc="-12" strike="noStrike">
                <a:solidFill>
                  <a:srgbClr val="ebccbb"/>
                </a:solidFill>
                <a:latin typeface="JINCTR+Calibri"/>
              </a:rPr>
              <a:t>дви</a:t>
            </a:r>
            <a:r>
              <a:rPr b="0" lang="en-US" sz="4400" spc="-2320" strike="noStrike">
                <a:solidFill>
                  <a:srgbClr val="ebccbb"/>
                </a:solidFill>
                <a:latin typeface="JINCTR+Calibri"/>
              </a:rPr>
              <a:t>ж</a:t>
            </a:r>
            <a:r>
              <a:rPr b="0" lang="en-US" sz="4400" spc="-1" strike="noStrike">
                <a:solidFill>
                  <a:srgbClr val="ebccbb"/>
                </a:solidFill>
                <a:latin typeface="JINCTR+Calibri"/>
              </a:rPr>
              <a:t>ение</a:t>
            </a:r>
            <a:r>
              <a:rPr b="0" lang="en-US" sz="4400" spc="-1705" strike="noStrike">
                <a:solidFill>
                  <a:srgbClr val="ebccbb"/>
                </a:solidFill>
                <a:latin typeface="JINCTR+Calibri"/>
              </a:rPr>
              <a:t>т</a:t>
            </a:r>
            <a:r>
              <a:rPr b="0" lang="en-US" sz="4400" spc="-12" strike="noStrike">
                <a:solidFill>
                  <a:srgbClr val="ebccbb"/>
                </a:solidFill>
                <a:latin typeface="JINCTR+Calibri"/>
              </a:rPr>
              <a:t>овар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bject 4"/>
          <p:cNvSpPr/>
          <p:nvPr/>
        </p:nvSpPr>
        <p:spPr>
          <a:xfrm>
            <a:off x="2369160" y="2224440"/>
            <a:ext cx="2772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" strike="noStrike">
                <a:solidFill>
                  <a:srgbClr val="ebccbb"/>
                </a:solidFill>
                <a:latin typeface="JINCTR+Calibri"/>
              </a:rPr>
              <a:t>Мероприятия</a:t>
            </a:r>
            <a:r>
              <a:rPr b="0" lang="en-US" sz="2200" spc="29" strike="noStrike">
                <a:solidFill>
                  <a:srgbClr val="ebccbb"/>
                </a:solidFill>
                <a:latin typeface="JINCTR+Calibri"/>
              </a:rPr>
              <a:t> </a:t>
            </a:r>
            <a:r>
              <a:rPr b="0" lang="en-US" sz="2200" spc="-1" strike="noStrike">
                <a:solidFill>
                  <a:srgbClr val="ebccbb"/>
                </a:solidFill>
                <a:latin typeface="JINCTR+Calibri"/>
              </a:rPr>
              <a:t>и</a:t>
            </a:r>
            <a:r>
              <a:rPr b="0" lang="en-US" sz="2200" spc="-12" strike="noStrike">
                <a:solidFill>
                  <a:srgbClr val="ebccbb"/>
                </a:solidFill>
                <a:latin typeface="JINCTR+Calibri"/>
              </a:rPr>
              <a:t> </a:t>
            </a:r>
            <a:r>
              <a:rPr b="0" lang="en-US" sz="2200" spc="-1" strike="noStrike">
                <a:solidFill>
                  <a:srgbClr val="ebccbb"/>
                </a:solidFill>
                <a:latin typeface="JINCTR+Calibri"/>
              </a:rPr>
              <a:t>ак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bject 5"/>
          <p:cNvSpPr/>
          <p:nvPr/>
        </p:nvSpPr>
        <p:spPr>
          <a:xfrm>
            <a:off x="2369160" y="2765880"/>
            <a:ext cx="697176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Организация</a:t>
            </a:r>
            <a:r>
              <a:rPr b="0" lang="en-US" sz="1750" spc="-15" strike="noStrike">
                <a:solidFill>
                  <a:srgbClr val="c9c2c0"/>
                </a:solidFill>
                <a:latin typeface="JINCTR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тематических</a:t>
            </a:r>
            <a:r>
              <a:rPr b="0" lang="en-US" sz="1750" spc="-12" strike="noStrike">
                <a:solidFill>
                  <a:srgbClr val="c9c2c0"/>
                </a:solidFill>
                <a:latin typeface="JINCTR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вечеров, дегустаций и</a:t>
            </a:r>
            <a:r>
              <a:rPr b="0" lang="en-US" sz="1750" spc="12" strike="noStrike">
                <a:solidFill>
                  <a:srgbClr val="c9c2c0"/>
                </a:solidFill>
                <a:latin typeface="JINCTR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скидочных акций для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40"/>
              </a:lnSpc>
              <a:spcBef>
                <a:spcPts val="655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привлечения посетителей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bject 6"/>
          <p:cNvSpPr/>
          <p:nvPr/>
        </p:nvSpPr>
        <p:spPr>
          <a:xfrm>
            <a:off x="2369160" y="4001400"/>
            <a:ext cx="27835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2" strike="noStrike">
                <a:solidFill>
                  <a:srgbClr val="ebccbb"/>
                </a:solidFill>
                <a:latin typeface="JINCTR+Calibri"/>
              </a:rPr>
              <a:t>Онлайн</a:t>
            </a:r>
            <a:r>
              <a:rPr b="0" lang="en-US" sz="2200" spc="-1" strike="noStrike">
                <a:solidFill>
                  <a:srgbClr val="ebccbb"/>
                </a:solidFill>
                <a:latin typeface="LFBIPP+Calibri"/>
              </a:rPr>
              <a:t>-</a:t>
            </a:r>
            <a:r>
              <a:rPr b="0" lang="en-US" sz="2200" spc="-1" strike="noStrike">
                <a:solidFill>
                  <a:srgbClr val="ebccbb"/>
                </a:solidFill>
                <a:latin typeface="JINCTR+Calibri"/>
              </a:rPr>
              <a:t>пр</a:t>
            </a:r>
            <a:r>
              <a:rPr b="0" lang="en-US" sz="2200" spc="-1160" strike="noStrike">
                <a:solidFill>
                  <a:srgbClr val="ebccbb"/>
                </a:solidFill>
                <a:latin typeface="JINCTR+Calibri"/>
              </a:rPr>
              <a:t>о</a:t>
            </a:r>
            <a:r>
              <a:rPr b="0" lang="en-US" sz="2200" spc="-1" strike="noStrike">
                <a:solidFill>
                  <a:srgbClr val="ebccbb"/>
                </a:solidFill>
                <a:latin typeface="JINCTR+Calibri"/>
              </a:rPr>
              <a:t>дви</a:t>
            </a:r>
            <a:r>
              <a:rPr b="0" lang="en-US" sz="2200" spc="-823" strike="noStrike">
                <a:solidFill>
                  <a:srgbClr val="ebccbb"/>
                </a:solidFill>
                <a:latin typeface="JINCTR+Calibri"/>
              </a:rPr>
              <a:t>ж</a:t>
            </a:r>
            <a:r>
              <a:rPr b="0" lang="en-US" sz="2200" spc="-1" strike="noStrike">
                <a:solidFill>
                  <a:srgbClr val="ebccbb"/>
                </a:solidFill>
                <a:latin typeface="JINCTR+Calibri"/>
              </a:rPr>
              <a:t>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bject 7"/>
          <p:cNvSpPr/>
          <p:nvPr/>
        </p:nvSpPr>
        <p:spPr>
          <a:xfrm>
            <a:off x="2369160" y="4543920"/>
            <a:ext cx="70736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Активное исп</a:t>
            </a:r>
            <a:r>
              <a:rPr b="0" lang="en-US" sz="1750" spc="-644" strike="noStrike">
                <a:solidFill>
                  <a:srgbClr val="c9c2c0"/>
                </a:solidFill>
                <a:latin typeface="JINCTR+Calibri"/>
              </a:rPr>
              <a:t>о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льзование</a:t>
            </a:r>
            <a:r>
              <a:rPr b="0" lang="en-US" sz="1750" spc="-21" strike="noStrike">
                <a:solidFill>
                  <a:srgbClr val="c9c2c0"/>
                </a:solidFill>
                <a:latin typeface="JINCTR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социальных</a:t>
            </a:r>
            <a:r>
              <a:rPr b="0" lang="en-US" sz="1750" spc="-15" strike="noStrike">
                <a:solidFill>
                  <a:srgbClr val="c9c2c0"/>
                </a:solidFill>
                <a:latin typeface="JINCTR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медиа</a:t>
            </a:r>
            <a:r>
              <a:rPr b="0" lang="en-US" sz="1750" spc="15" strike="noStrike">
                <a:solidFill>
                  <a:srgbClr val="c9c2c0"/>
                </a:solidFill>
                <a:latin typeface="JINCTR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и рекламных площадок для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привлечения внимания к кофейне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bject 8"/>
          <p:cNvSpPr/>
          <p:nvPr/>
        </p:nvSpPr>
        <p:spPr>
          <a:xfrm>
            <a:off x="2369160" y="5779800"/>
            <a:ext cx="16462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67"/>
              </a:lnSpc>
            </a:pPr>
            <a:r>
              <a:rPr b="0" lang="en-US" sz="2200" spc="-1" strike="noStrike">
                <a:solidFill>
                  <a:srgbClr val="ebccbb"/>
                </a:solidFill>
                <a:latin typeface="JINCTR+Calibri"/>
              </a:rPr>
              <a:t>Партнер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bject 9"/>
          <p:cNvSpPr/>
          <p:nvPr/>
        </p:nvSpPr>
        <p:spPr>
          <a:xfrm>
            <a:off x="2369160" y="6321960"/>
            <a:ext cx="759096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Сотр</a:t>
            </a:r>
            <a:r>
              <a:rPr b="0" lang="en-US" sz="1750" spc="-792" strike="noStrike">
                <a:solidFill>
                  <a:srgbClr val="c9c2c0"/>
                </a:solidFill>
                <a:latin typeface="JINCTR+Calibri"/>
              </a:rPr>
              <a:t>у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дничество с местными</a:t>
            </a:r>
            <a:r>
              <a:rPr b="0" lang="en-US" sz="1750" spc="-15" strike="noStrike">
                <a:solidFill>
                  <a:srgbClr val="c9c2c0"/>
                </a:solidFill>
                <a:latin typeface="JINCTR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заведениями и организациями для</a:t>
            </a:r>
            <a:r>
              <a:rPr b="0" lang="en-US" sz="1750" spc="-12" strike="noStrike">
                <a:solidFill>
                  <a:srgbClr val="c9c2c0"/>
                </a:solidFill>
                <a:latin typeface="JINCTR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пр</a:t>
            </a:r>
            <a:r>
              <a:rPr b="0" lang="en-US" sz="1750" spc="-769" strike="noStrike">
                <a:solidFill>
                  <a:srgbClr val="c9c2c0"/>
                </a:solidFill>
                <a:latin typeface="JINCTR+Calibri"/>
              </a:rPr>
              <a:t>о</a:t>
            </a: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движения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JINCTR+Calibri"/>
              </a:rPr>
              <a:t>товара.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object 1"/>
          <p:cNvSpPr/>
          <p:nvPr/>
        </p:nvSpPr>
        <p:spPr>
          <a:xfrm>
            <a:off x="0" y="0"/>
            <a:ext cx="14630040" cy="8229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ject 3"/>
          <p:cNvSpPr/>
          <p:nvPr/>
        </p:nvSpPr>
        <p:spPr>
          <a:xfrm>
            <a:off x="2129760" y="1601280"/>
            <a:ext cx="369396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346"/>
              </a:lnSpc>
            </a:pPr>
            <a:r>
              <a:rPr b="0" lang="en-US" sz="4400" spc="-1" strike="noStrike">
                <a:solidFill>
                  <a:srgbClr val="ebccbb"/>
                </a:solidFill>
                <a:latin typeface="UIJDBE+Calibri"/>
              </a:rPr>
              <a:t>S</a:t>
            </a:r>
            <a:r>
              <a:rPr b="0" lang="en-US" sz="4400" spc="-2127" strike="noStrike">
                <a:solidFill>
                  <a:srgbClr val="ebccbb"/>
                </a:solidFill>
                <a:latin typeface="UIJDBE+Calibri"/>
              </a:rPr>
              <a:t>W</a:t>
            </a:r>
            <a:r>
              <a:rPr b="0" lang="en-US" sz="4400" spc="-128" strike="noStrike">
                <a:solidFill>
                  <a:srgbClr val="ebccbb"/>
                </a:solidFill>
                <a:latin typeface="UIJDBE+Calibri"/>
              </a:rPr>
              <a:t>OT</a:t>
            </a:r>
            <a:r>
              <a:rPr b="0" lang="en-US" sz="4400" spc="94" strike="noStrike">
                <a:solidFill>
                  <a:srgbClr val="ebccbb"/>
                </a:solidFill>
                <a:latin typeface="UIJDBE+Calibri"/>
              </a:rPr>
              <a:t> </a:t>
            </a:r>
            <a:r>
              <a:rPr b="0" lang="en-US" sz="4400" spc="-1" strike="noStrike">
                <a:solidFill>
                  <a:srgbClr val="ebccbb"/>
                </a:solidFill>
                <a:latin typeface="CMWBEO+Calibri"/>
              </a:rPr>
              <a:t>–</a:t>
            </a:r>
            <a:r>
              <a:rPr b="0" lang="en-US" sz="4400" spc="-18" strike="noStrike">
                <a:solidFill>
                  <a:srgbClr val="ebccbb"/>
                </a:solidFill>
                <a:latin typeface="CMWBEO+Calibri"/>
              </a:rPr>
              <a:t> </a:t>
            </a:r>
            <a:r>
              <a:rPr b="0" lang="en-US" sz="4400" spc="-12" strike="noStrike">
                <a:solidFill>
                  <a:srgbClr val="ebccbb"/>
                </a:solidFill>
                <a:latin typeface="CMWBEO+Calibri"/>
              </a:rPr>
              <a:t>анали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22120">
              <a:lnSpc>
                <a:spcPts val="2137"/>
              </a:lnSpc>
              <a:spcBef>
                <a:spcPts val="5255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Сильные стороны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 marL="222120">
              <a:lnSpc>
                <a:spcPts val="2140"/>
              </a:lnSpc>
              <a:spcBef>
                <a:spcPts val="5672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Слабые</a:t>
            </a:r>
            <a:r>
              <a:rPr b="0" lang="en-US" sz="1750" spc="-15" strike="noStrike">
                <a:solidFill>
                  <a:srgbClr val="c9c2c0"/>
                </a:solidFill>
                <a:latin typeface="CMWBEO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стороны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bject 4"/>
          <p:cNvSpPr/>
          <p:nvPr/>
        </p:nvSpPr>
        <p:spPr>
          <a:xfrm>
            <a:off x="7633440" y="2941200"/>
            <a:ext cx="435384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Высокое качество кофе,</a:t>
            </a:r>
            <a:r>
              <a:rPr b="0" lang="en-US" sz="1750" spc="-922" strike="noStrike">
                <a:solidFill>
                  <a:srgbClr val="c9c2c0"/>
                </a:solidFill>
                <a:latin typeface="CMWBEO+Calibri"/>
              </a:rPr>
              <a:t>У</a:t>
            </a: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никальный</a:t>
            </a:r>
            <a:r>
              <a:rPr b="0" lang="en-US" sz="1750" spc="-21" strike="noStrike">
                <a:solidFill>
                  <a:srgbClr val="c9c2c0"/>
                </a:solidFill>
                <a:latin typeface="CMWBEO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дизайн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ject 5"/>
          <p:cNvSpPr/>
          <p:nvPr/>
        </p:nvSpPr>
        <p:spPr>
          <a:xfrm>
            <a:off x="7633440" y="3933360"/>
            <a:ext cx="331236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40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Недостаток</a:t>
            </a:r>
            <a:r>
              <a:rPr b="0" lang="en-US" sz="1750" spc="-29" strike="noStrike">
                <a:solidFill>
                  <a:srgbClr val="c9c2c0"/>
                </a:solidFill>
                <a:latin typeface="CMWBEO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бренд</a:t>
            </a:r>
            <a:r>
              <a:rPr b="0" lang="en-US" sz="1750" spc="-1" strike="noStrike">
                <a:solidFill>
                  <a:srgbClr val="c9c2c0"/>
                </a:solidFill>
                <a:latin typeface="UIJDBE+Calibri"/>
              </a:rPr>
              <a:t>-</a:t>
            </a: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идентичности,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ject 6"/>
          <p:cNvSpPr/>
          <p:nvPr/>
        </p:nvSpPr>
        <p:spPr>
          <a:xfrm>
            <a:off x="7633440" y="4289040"/>
            <a:ext cx="287064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Незначительная</a:t>
            </a:r>
            <a:r>
              <a:rPr b="0" lang="en-US" sz="1750" spc="-35" strike="noStrike">
                <a:solidFill>
                  <a:srgbClr val="c9c2c0"/>
                </a:solidFill>
                <a:latin typeface="CMWBEO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известность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ject 7"/>
          <p:cNvSpPr/>
          <p:nvPr/>
        </p:nvSpPr>
        <p:spPr>
          <a:xfrm>
            <a:off x="2351880" y="4926600"/>
            <a:ext cx="144252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Возможности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bject 8"/>
          <p:cNvSpPr/>
          <p:nvPr/>
        </p:nvSpPr>
        <p:spPr>
          <a:xfrm>
            <a:off x="7633440" y="4926600"/>
            <a:ext cx="396288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Расширение ассортимента,</a:t>
            </a:r>
            <a:r>
              <a:rPr b="0" lang="en-US" sz="1750" spc="-18" strike="noStrike">
                <a:solidFill>
                  <a:srgbClr val="c9c2c0"/>
                </a:solidFill>
                <a:latin typeface="CMWBEO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Проведение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40"/>
              </a:lnSpc>
              <a:spcBef>
                <a:spcPts val="655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маркетин</a:t>
            </a:r>
            <a:r>
              <a:rPr b="0" lang="en-US" sz="1750" spc="-522" strike="noStrike">
                <a:solidFill>
                  <a:srgbClr val="c9c2c0"/>
                </a:solidFill>
                <a:latin typeface="CMWBEO+Calibri"/>
              </a:rPr>
              <a:t>г</a:t>
            </a: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овых мероприятий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ject 9"/>
          <p:cNvSpPr/>
          <p:nvPr/>
        </p:nvSpPr>
        <p:spPr>
          <a:xfrm>
            <a:off x="2351880" y="5919120"/>
            <a:ext cx="82296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2" strike="noStrike">
                <a:solidFill>
                  <a:srgbClr val="c9c2c0"/>
                </a:solidFill>
                <a:latin typeface="CMWBEO+Calibri"/>
              </a:rPr>
              <a:t>Угрозы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ject 10"/>
          <p:cNvSpPr/>
          <p:nvPr/>
        </p:nvSpPr>
        <p:spPr>
          <a:xfrm>
            <a:off x="7633440" y="5919120"/>
            <a:ext cx="340884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137"/>
              </a:lnSpc>
            </a:pP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Сильная</a:t>
            </a:r>
            <a:r>
              <a:rPr b="0" lang="en-US" sz="1750" spc="-12" strike="noStrike">
                <a:solidFill>
                  <a:srgbClr val="c9c2c0"/>
                </a:solidFill>
                <a:latin typeface="CMWBEO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конкуренция, Изменение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137"/>
              </a:lnSpc>
              <a:spcBef>
                <a:spcPts val="658"/>
              </a:spcBef>
            </a:pP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потребительских</a:t>
            </a:r>
            <a:r>
              <a:rPr b="0" lang="en-US" sz="1750" spc="-29" strike="noStrike">
                <a:solidFill>
                  <a:srgbClr val="c9c2c0"/>
                </a:solidFill>
                <a:latin typeface="CMWBEO+Calibri"/>
              </a:rPr>
              <a:t> </a:t>
            </a:r>
            <a:r>
              <a:rPr b="0" lang="en-US" sz="1750" spc="-1" strike="noStrike">
                <a:solidFill>
                  <a:srgbClr val="c9c2c0"/>
                </a:solidFill>
                <a:latin typeface="CMWBEO+Calibri"/>
              </a:rPr>
              <a:t>предпочтений</a:t>
            </a:r>
            <a:endParaRPr b="0" lang="en-US" sz="17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heme Office">
  <a:themeElements>
    <a:clrScheme name="Standard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c2pdf</dc:creator>
  <dc:description/>
  <dc:language>en-US</dc:language>
  <cp:lastModifiedBy>doc2pdf</cp:lastModifiedBy>
  <dcterms:modified xsi:type="dcterms:W3CDTF">2023-12-20T11:34:59Z</dcterms:modified>
  <cp:revision>1</cp:revision>
  <dc:subject/>
  <dc:title>Pre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</Properties>
</file>