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30.wmf" ContentType="image/x-wmf"/>
  <Override PartName="/ppt/media/image57.jpeg" ContentType="image/jpeg"/>
  <Override PartName="/ppt/media/image56.jpeg" ContentType="image/jpeg"/>
  <Override PartName="/ppt/media/image55.jpeg" ContentType="image/jpeg"/>
  <Override PartName="/ppt/media/image51.jpeg" ContentType="image/jpeg"/>
  <Override PartName="/ppt/media/image50.wmf" ContentType="image/x-wmf"/>
  <Override PartName="/ppt/media/image28.png" ContentType="image/png"/>
  <Override PartName="/ppt/media/image49.jpeg" ContentType="image/jpeg"/>
  <Override PartName="/ppt/media/image47.jpeg" ContentType="image/jpeg"/>
  <Override PartName="/ppt/media/image48.jpeg" ContentType="image/jpeg"/>
  <Override PartName="/ppt/media/image35.wmf" ContentType="image/x-wmf"/>
  <Override PartName="/ppt/media/image46.wmf" ContentType="image/x-wmf"/>
  <Override PartName="/ppt/media/image69.jpeg" ContentType="image/jpeg"/>
  <Override PartName="/ppt/media/image45.jpeg" ContentType="image/jpeg"/>
  <Override PartName="/ppt/media/image44.wmf" ContentType="image/x-wmf"/>
  <Override PartName="/ppt/media/image53.jpeg" ContentType="image/jpeg"/>
  <Override PartName="/ppt/media/image43.wmf" ContentType="image/x-wmf"/>
  <Override PartName="/ppt/media/image86.png" ContentType="image/png"/>
  <Override PartName="/ppt/media/image40.jpeg" ContentType="image/jpeg"/>
  <Override PartName="/ppt/media/image13.wmf" ContentType="image/x-wmf"/>
  <Override PartName="/ppt/media/image1.wmf" ContentType="image/x-wmf"/>
  <Override PartName="/ppt/media/image36.jpeg" ContentType="image/jpeg"/>
  <Override PartName="/ppt/media/image34.jpeg" ContentType="image/jpeg"/>
  <Override PartName="/ppt/media/image32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14.jpeg" ContentType="image/jpeg"/>
  <Override PartName="/ppt/media/image60.jpeg" ContentType="image/jpeg"/>
  <Override PartName="/ppt/media/image77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67.wmf" ContentType="image/x-wmf"/>
  <Override PartName="/ppt/media/image15.jpeg" ContentType="image/jpeg"/>
  <Override PartName="/ppt/media/image80.png" ContentType="image/png"/>
  <Override PartName="/ppt/media/image8.jpeg" ContentType="image/jpeg"/>
  <Override PartName="/ppt/media/image78.jpeg" ContentType="image/jpeg"/>
  <Override PartName="/ppt/media/image65.jpeg" ContentType="image/jpeg"/>
  <Override PartName="/ppt/media/image71.wmf" ContentType="image/x-wmf"/>
  <Override PartName="/ppt/media/image68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61.wmf" ContentType="image/x-wmf"/>
  <Override PartName="/ppt/media/image66.jpeg" ContentType="image/jpeg"/>
  <Override PartName="/ppt/media/image9.jpeg" ContentType="image/jpeg"/>
  <Override PartName="/ppt/media/image64.wmf" ContentType="image/x-wmf"/>
  <Override PartName="/ppt/media/image63.jpeg" ContentType="image/jpeg"/>
  <Override PartName="/ppt/media/image6.jpeg" ContentType="image/jpeg"/>
  <Override PartName="/ppt/media/image54.png" ContentType="image/png"/>
  <Override PartName="/ppt/media/image76.jpeg" ContentType="image/jpeg"/>
  <Override PartName="/ppt/media/image81.png" ContentType="image/png"/>
  <Override PartName="/ppt/media/image7.jpeg" ContentType="image/jpeg"/>
  <Override PartName="/ppt/media/image38.jpeg" ContentType="image/jpeg"/>
  <Override PartName="/ppt/media/image85.png" ContentType="image/png"/>
  <Override PartName="/ppt/media/image23.jpeg" ContentType="image/jpeg"/>
  <Override PartName="/ppt/media/image24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jpeg" ContentType="image/jpeg"/>
  <Override PartName="/ppt/media/image87.jpeg" ContentType="image/jpeg"/>
  <Override PartName="/ppt/media/image12.jpeg" ContentType="image/jpeg"/>
  <Override PartName="/ppt/media/image29.jpeg" ContentType="image/jpeg"/>
  <Override PartName="/ppt/media/image33.wmf" ContentType="image/x-wmf"/>
  <Override PartName="/ppt/media/image52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2.png" ContentType="image/png"/>
  <Override PartName="/ppt/media/image84.png" ContentType="image/png"/>
  <Override PartName="/ppt/media/image41.wmf" ContentType="image/x-wmf"/>
  <Override PartName="/ppt/media/image79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EFF7E-577B-415A-B7F0-DEB4EE4921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8A7D49-8CA9-4EC0-BF3A-FD5CAEAAD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7492-5960-47C9-A13B-F2E43E1DD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C277-A961-4B5E-BC3D-587EBFF14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011B-E947-46E0-A036-0261B75E8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5C22-2615-4CBB-A1D8-3259D4748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A0AF-1D17-44EF-82A2-9312422F21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4BF0-5FBF-4B08-AAF6-6A3746D7C6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43D4-857A-4DD2-B08F-02AB132F45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3CD0-BEA1-4E39-BDFD-7BB1E8FA7C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52BF-C904-4854-8891-1318F0BF38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F720-09B9-4FF0-A1B5-9FBDCE7D36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9BC3-119F-444D-8B11-105E032441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3A03-76E4-414F-BF0B-258B34A44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ABDF-64EF-4AC8-946B-26E74EC3A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8669-C0D0-4AE7-8918-610D540492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2391-9B3F-4C31-AD34-E3B396E823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C9C9-6F97-40B3-BAAB-6FD775235F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9646-AA7E-49A8-A869-86103BE11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8E99-6689-4211-84C4-2EED5B799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80CC-6CA2-422F-B0FF-6CF39647E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648E-38E6-4686-BD65-127C241AF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FB6F-D597-4426-816A-C1531021A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8B22-3289-4997-8EB3-D94E6007F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33B1-815A-49F8-9E5F-E716CF0A4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C7DF-6AE3-49A1-BD7D-22D0BA587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7C4FD3-B7EB-4BA0-8866-352377BA35E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9040" cy="199800"/>
            <a:chOff x="228600" y="2889360"/>
            <a:chExt cx="8609040" cy="19980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8480" cy="1998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8480" cy="1998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8480" cy="1998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BA9B5E-5B43-43A7-8049-19774D52DE5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052640"/>
            <a:ext cx="8496000" cy="432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ffcc"/>
                </a:solidFill>
                <a:latin typeface="Garamond"/>
              </a:rPr>
              <a:t>Гигиена лечебно-профилактических учреждений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i="1" lang="ru-RU" sz="3400" spc="-1" strike="noStrike">
                <a:solidFill>
                  <a:srgbClr val="ffffcc"/>
                </a:solidFill>
                <a:latin typeface="Garamond"/>
              </a:rPr>
              <a:t>лектор </a:t>
            </a:r>
            <a:br>
              <a:rPr sz="3400"/>
            </a:br>
            <a:r>
              <a:rPr b="1" i="1" lang="ru-RU" sz="3400" spc="-1" strike="noStrike">
                <a:solidFill>
                  <a:srgbClr val="ffffcc"/>
                </a:solidFill>
                <a:latin typeface="Garamond"/>
              </a:rPr>
              <a:t>ст. преподаватель  Н.В. ГОЛК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60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Verdana"/>
              </a:rPr>
              <a:t>ЛЕКЦИЯ НА ТЕМ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Централизованная система застрой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413000"/>
            <a:ext cx="48355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арактеризуется тем, что лечебное заведение находится в одном многоэтажном здании, при этом эта система имеет ряд преимущест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дешевляется строитель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блегчается работа санитарно-технических служ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окращаются пути передвижения больных и медицинского персонала к различным диагностическим и физиотерапевтическим кабинетам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167280" cy="33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20640"/>
            <a:ext cx="822960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о и есть ряд недостатков - шум от разного вида транспорта (лифты, каталки и др.), большой контакт между больными, меньше больные пользуются  больничным садом и тому подоб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68784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80363"/>
                </a:solidFill>
                <a:latin typeface="Garamond"/>
              </a:rPr>
              <a:t>Смешанная система застройки лечебно-профилактических учрежде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едусматривает объединение в одном главном корпусе больницы  соматических отделений,  лечебно-диагностических кабинетов, лабораторий, централизованного приемного покоя и т.п. Вместе с тем, в отдельных зданиях размещаются поликлиника, инфекционное и родильное отделение, секционная и хозяйственные службы. Эта система совмещает положительные  стороны децентрализованной и централизованной сис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666600"/>
                </a:solidFill>
                <a:latin typeface="Garamond"/>
              </a:rPr>
              <a:t>Централизованно-блоч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413000"/>
            <a:ext cx="353844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чаще применяют централизованно-блочную систему застройки, при которой больница состоит из нескольких корпусов (терапевтического, хирургического и др.), объединенных в одно целое наземными или подземными переходами. В этом случае лучше используются позитивные стороны централизованной системы строительств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2708280"/>
            <a:ext cx="431496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2967120" cy="1985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71640" y="3789360"/>
            <a:ext cx="78483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 помощью  подземных, наземных или поверхностных переходов  на каталках перевозят больных, передвижную лечебно -диагностическую аппаратуру и разнообразные грузы, что позволяет более эффективно применять возможности лечебного за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03280" y="333360"/>
            <a:ext cx="6202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2a489e"/>
                </a:solidFill>
                <a:latin typeface="Garamond"/>
              </a:rPr>
              <a:t>Земельный   участ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олжен находиться с наветренной стороны и на значительном расстоянии от источников шума и объектов загрязнения воздуха. Необходимо, чтобы уровень шума  на его территории в дневное время не  превышал 45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Б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в ночное - 35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Б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лощадь земельного участка для больниц общего типа,  в зависимости от общего количества коек, должна составлять о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80 до 300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м</a:t>
            </a:r>
            <a:r>
              <a:rPr b="1" i="1" lang="uk-UA" sz="1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для детских больниц - о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135 до 250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м</a:t>
            </a:r>
            <a:r>
              <a:rPr b="1" i="1" lang="uk-UA" sz="1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в расчете на 1 койку. Для больниц, которые расположены в пригородной зоне, площадь земельного участка увеличивается, по сравнению с указанными, на 15-20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039680" y="1595520"/>
          <a:ext cx="8033040" cy="399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595520"/>
                    <a:ext cx="80330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11280" y="1930680"/>
            <a:ext cx="82087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 земельном участке выделяют ряд функциональных зо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лечебных корпусов для неинфекционных бо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инфекционного отде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родильного отдел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поликлин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радиологического и патолого-анатомического корпу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адово-парковую и хозяйственную зоны.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часток должен иметь отдельные въезды в лечебные корпуса,  хозяйственную зону и патолого-анатомическое отделение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090960" cy="2311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450960" cy="2600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932360" y="3892680"/>
            <a:ext cx="3338640" cy="2384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76720" y="765000"/>
            <a:ext cx="316728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 rot="10800000">
            <a:off x="900000" y="405360"/>
            <a:ext cx="7710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  <a:ea typeface="Courier New"/>
              </a:rPr>
              <a:t>В</a:t>
            </a:r>
            <a:r>
              <a:rPr b="1" i="1" lang="ru-RU" sz="3600" spc="-1" strike="noStrike">
                <a:solidFill>
                  <a:srgbClr val="666600"/>
                </a:solidFill>
                <a:latin typeface="Verdana"/>
                <a:ea typeface="Courier New"/>
              </a:rPr>
              <a:t> с</a:t>
            </a:r>
            <a:r>
              <a:rPr b="1" i="1" lang="ru-RU" sz="3600" spc="-1" strike="noStrike">
                <a:solidFill>
                  <a:srgbClr val="666600"/>
                </a:solidFill>
                <a:latin typeface="Arial"/>
                <a:ea typeface="Courier New"/>
              </a:rPr>
              <a:t>остав больниц общего типа </a:t>
            </a:r>
            <a:r>
              <a:rPr b="1" i="1" lang="uk-UA" sz="3600" spc="-1" strike="noStrike">
                <a:solidFill>
                  <a:srgbClr val="666600"/>
                </a:solidFill>
                <a:latin typeface="Verdana"/>
                <a:ea typeface="Courier New"/>
              </a:rPr>
              <a:t>входят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2789640" y="164628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 приемное отдел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260280"/>
            <a:ext cx="8497800" cy="2189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32080">
              <a:lnSpc>
                <a:spcPct val="90000"/>
              </a:lnSpc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тационар с терапевтическим и хирургическим, акушерско-гинекологическим, детским, инфекционным, реанимационным, радиологическим отделениями, отделением   переливания крови с банком крови и кровезаменителей,  и т. п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114720" cy="3411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808000" cy="2152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356000" y="4365720"/>
            <a:ext cx="4175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468360" y="1052640"/>
          <a:ext cx="8680320" cy="49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052640"/>
                    <a:ext cx="868032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43280" y="620640"/>
            <a:ext cx="404352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) поликлиника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2828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3645000"/>
            <a:ext cx="438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дание поликлиники располагают изолированно на расстоянии 30—50 м от лечебных корпусов. Необходимо, чтобы вход в поликлинику был  отдельн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3068640"/>
            <a:ext cx="4608360" cy="352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атологоанатомическое отделение с морго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6)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спомогательные службы -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пищеблок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прачечная с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езкамеро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центральный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ерилизационы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отдел, мастерские по  ремонту медицинской техники и аппаратуры, гараж, овощехранилищ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171960" cy="2295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524400" cy="2266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49560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765000"/>
            <a:ext cx="8064360" cy="1281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7) </a:t>
            </a:r>
            <a:r>
              <a:rPr b="1" lang="uk-UA" sz="2600" spc="-1" strike="noStrike">
                <a:solidFill>
                  <a:srgbClr val="000000"/>
                </a:solidFill>
                <a:latin typeface="Verdana"/>
              </a:rPr>
              <a:t>административно-хозяйственная часть -  канцелярия, медицинский архив, библиотека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525760" cy="1896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43280" y="4775040"/>
            <a:ext cx="2881440" cy="19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258920" y="907920"/>
          <a:ext cx="6265800" cy="26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907920"/>
                    <a:ext cx="62658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26920" y="619200"/>
            <a:ext cx="745524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лощадь застройки больницы должна составлять 12-15 %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она зеленых насаждений - не менее  60 % (из расчета 25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на одну койку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стальная территория - пешеходные и проезжие дороги. Ширина защитной зеленой полосы по  периметру участка - 15-30 м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168720" cy="2341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148360" y="3933720"/>
            <a:ext cx="3313080" cy="24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1557360"/>
          <a:ext cx="9126360" cy="50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2636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11280" y="3483000"/>
            <a:ext cx="806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лосы зеленых насаждений должны быть расположенные между функциональными зонами больницы и составлять около 15 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анитарный разрыв между лечебными корпусами и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пищеблоком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патологоанатомическим корпусом и защитной полосой зеленых насаждений - не меньше чем 30 м. Патологоанатомический отдел с моргом  размещают в изолированном месте, которого не видно из окон больниц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600360" cy="27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1452600"/>
          <a:ext cx="900108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52600"/>
                    <a:ext cx="900108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5280" y="799200"/>
            <a:ext cx="8352000" cy="102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ед главным входом в больницу необходимо предусмотреть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благоустроенны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площадки для посетителей из расчета 0,2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, но не менее 5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а также для автотранспорта сотрудников и посетителей – не ближе 100 м от палатных корпу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2952720" cy="2703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5280" y="3266640"/>
            <a:ext cx="547200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 подветренной стороны и ниже по рельефу местности, на расстоянии 30-40 м от больничных зданий, располагают хозяйственный двор с центральной котельной, прачечной, 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дезинфекционной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камерой, гаражами, складскими  помещениями, овощехранилищем. Хозяйственный двор изолируют от других зон полосой зеленых насаждений шириной 8—10 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42920" y="1413000"/>
            <a:ext cx="6418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1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Характеристика основных </a:t>
            </a:r>
            <a:r>
              <a:rPr b="1" i="1" lang="uk-UA" sz="4400" spc="-1" strike="noStrike">
                <a:solidFill>
                  <a:srgbClr val="ff3300"/>
                </a:solidFill>
                <a:latin typeface="Verdana"/>
              </a:rPr>
              <a:t>отделений больниц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 algn="ctr">
              <a:spcBef>
                <a:spcPts val="11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333360"/>
            <a:ext cx="446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ликлиника  состоит из вестибюля-раздевалки, ожидальни и врачебных кабинетов. Для ожидания используются коридоры шириной не менее 3,2 м, которые хорошо освещаются и проветриваю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инимальные размеры врачебного кабинета составляют 12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а специализированных кабинетов – 15-18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. Окна не должны выходить на шумную улицу и северные румб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867280" y="476280"/>
            <a:ext cx="2940120" cy="3068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09564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1920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современных многопрофильных больницах количество хирургических кроватей составляет от 25 до 45 % коечного фонда больницы. Хирургическое отделение состоит из палат и операционного блока (комплекса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944360" y="404640"/>
            <a:ext cx="58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Хирургическое отде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3357720"/>
            <a:ext cx="3753000" cy="2495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4360" y="4121280"/>
            <a:ext cx="3311280" cy="24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404640"/>
            <a:ext cx="8229600" cy="61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перационный бло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олжна быть из расчета один стол на 25-30 коек и, как правило, состоит из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стерилизационной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(6-12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едоперационной (10-2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перационной (25-35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аркозной (20-3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гипсовочной (2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струментальной (1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ругих подсобных помеще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54200" y="333360"/>
          <a:ext cx="6995880" cy="40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333360"/>
                    <a:ext cx="69958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00720" y="3627360"/>
            <a:ext cx="374148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1595520"/>
          <a:ext cx="907272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95520"/>
                    <a:ext cx="90727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900000" y="786600"/>
            <a:ext cx="73454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я хирургического комплекса отводят отдельное крыло наземного или подземного этажа или  размещают его в специальной пристройке, которая соединена непосредственно со стационаром  или с помощью закрытого перехода. Этот вариант наиболее оптимален, потому что обеспечивает полную изоляцию от стационар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671640" cy="2452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88000" y="3357720"/>
            <a:ext cx="39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перационный комплекс должен иметь выгодное сообщение с хирургическими отделениями,  анестезиолого-реанимационным, рентгенодиагностикой и стерилизацион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1557360"/>
          <a:ext cx="91440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68360" y="321120"/>
            <a:ext cx="770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омещени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перационного блока группируется в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три зоны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стерильную, особо чистую и чистую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i="1" lang="ru-RU" sz="2400" spc="-1" strike="noStrike">
                <a:solidFill>
                  <a:srgbClr val="180363"/>
                </a:solidFill>
                <a:latin typeface="Verdana"/>
              </a:rPr>
              <a:t>первой зон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ставят наивысшие требования асептики. Это операционные,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терилизационны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инструментар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о </a:t>
            </a:r>
            <a:r>
              <a:rPr b="1" i="1" lang="ru-RU" sz="2400" spc="-1" strike="noStrike">
                <a:solidFill>
                  <a:srgbClr val="180363"/>
                </a:solidFill>
                <a:latin typeface="Verdana"/>
              </a:rPr>
              <a:t>второй зон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принадлежат помещения, которые непосредственно связаны с операционной: предоперационная, наркозны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i="1" lang="ru-RU" sz="2400" spc="-1" strike="noStrike">
                <a:solidFill>
                  <a:srgbClr val="180363"/>
                </a:solidFill>
                <a:latin typeface="Verdana"/>
              </a:rPr>
              <a:t>третьей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- помещения для хранения крови и переносной аппаратуры, протокольные, для хирурга и медицинских сестер, лаборатория срочных анализов, чистая зона санитарного пропускника. Площадь операционной должна составлять   не менее 45 - 50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, высота - 3,5 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50920" y="1752480"/>
          <a:ext cx="914400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68360" y="482400"/>
            <a:ext cx="839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Стены операционно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должны быть гладкими и блестящими, легко мыться и поддаваться орошению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езинфицирующим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растворами. Все виды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проводк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нагревательные приборы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монтируются в стенах.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Стены и потолок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рекомендуется красить светлой матовой масляно- восковой краской, которая устраняет световые отблески и не утомляет глаза хирурга. 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Пол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укладывают плиткой с небольшим наклоном к трапу. В операционной желательно иметь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двое двере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: одни - для ввоза больного перед операцией, а вторые, в боковой стене, - для вывоза прооперированног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88000" y="3933720"/>
            <a:ext cx="3809880" cy="2657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414972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Окна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операционной ориентируют на северные румбы. Световой коэффициент должен составлять  1:3 -1: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95280" y="1523880"/>
          <a:ext cx="914400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238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39640" y="4085640"/>
            <a:ext cx="829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сточником </a:t>
            </a:r>
            <a:r>
              <a:rPr b="1" i="1" lang="ru-RU" sz="1800" spc="-1" strike="noStrike">
                <a:solidFill>
                  <a:srgbClr val="180363"/>
                </a:solidFill>
                <a:latin typeface="Verdana"/>
              </a:rPr>
              <a:t>общего освещени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могут быть лампы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накаливани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и люминесцентные лампы белого цвета. Мощность ламп должна быть не меньше  20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лк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(лучше - 300-50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лк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 для о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беспечени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 работы  операционной сестры (манипуляции с иглами, материалом для швов, инструментами) и анестезиолога, который наблюдает за состоянием больного по цвету кожи и слизистых оболочек, а также за реакцией зрачков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372360" y="1197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924360" y="47628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447920"/>
          <a:ext cx="91440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68360" y="1040400"/>
            <a:ext cx="8299440" cy="1739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ужно, чтобы </a:t>
            </a:r>
            <a:r>
              <a:rPr b="1" i="1" lang="ru-RU" sz="1800" spc="-1" strike="noStrike">
                <a:solidFill>
                  <a:srgbClr val="180363"/>
                </a:solidFill>
                <a:latin typeface="Verdana"/>
              </a:rPr>
              <a:t>микроклима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отвечал  требованиям комфорта. Температура воздуха летом в операционной должна  быть +20-22 °С (зимой -19 -20 °С) при влажности 50-55 %, скорость движения воздуха не должна превышать 0,1 м/с. Отопление операционной лучше устраивать водяное радиационное с расположением  отопительных панелей на потолке или  по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775320"/>
            <a:ext cx="8150040" cy="228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се оборудование, которое поступает в операционную, нужно предварительно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продезинфицирова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а инструменты и материалы для перевязок -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простерилизова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. Очень перспективным является метод газовой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дезинфекции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например окисью этилена, однако он длится  несколько часов.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сле операции помещения старательно убирают, тщательным образом проветривают, пол и панели моют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дезинфицирующи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раствором и горячей вод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9640" y="1026000"/>
            <a:ext cx="79930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кушерское отделение включает в свою структуру родильное и послеродовое физиологические и 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обсервационны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отделения, отделения патологии беременных, а также отделения для новорожденных. Палатные секции здесь проектируются согласно требованиям к соматическим отделениям для взросл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67440" y="3068640"/>
            <a:ext cx="2614680" cy="3241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456000" cy="26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33526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нфекционное отделени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размещают в отдельном здании.  Оно должно иметь два входа: один - для больных, второй - для персонала, доставки пищи и чистого белья. Для индивидуальной госпитализации больных применяют однокоечные палаты с шлюзом, полубоксы и боксы. Полубокс состоит из палаты, шлюза и санитарного узла.  Существенным недостатком полубокса является то, что больные попадают у него через палатный коридор. При этом возможно обсеменение воздуха коридора патогенной микрофлорой, которая  может проникать в других пала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24188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6189" t="5059" r="6928" b="7467"/>
          <a:stretch/>
        </p:blipFill>
        <p:spPr>
          <a:xfrm>
            <a:off x="3708360" y="2462040"/>
            <a:ext cx="5184720" cy="4395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5280" y="549360"/>
            <a:ext cx="8424720" cy="1252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лностью гарантирует от внутрибольничного заражения   инфекциями,   которые   передаются   воздушно-капельным путем, лишь индивидуальный полный бокс. Он состоит из уличного тамбура, санитарного узла, собственно палаты и  шлюз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V="1" rot="10800000">
            <a:off x="466200" y="314280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лощадь бокса  на 1 койку - 22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на 2 - 27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. Палаты должны иметь площадь 7,5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5640" y="344520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детском отделении палатные секции для детей до одного года рассчитаны на 24 койки, а для детей возраста свыше одного года - на 30 коек. Они должны иметь определенные размеры : для 1-коечных палат - (9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),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2-коечную-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(7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) и 4- коечных палат (4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а 1 койку. Кроме того, секция должна еще иметь: пост дежурной медицинской сестры, столовую, помещения для матерей, игровые комнаты, помещения для дневного пребывания детей, умывальные, уборные и процедурны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879640" cy="248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1626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476280"/>
            <a:ext cx="8820000" cy="2562840"/>
          </a:xfrm>
          <a:prstGeom prst="rect">
            <a:avLst/>
          </a:prstGeom>
          <a:solidFill>
            <a:srgbClr val="cc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собенную группу больничных учреждений составляют радиологические отд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зличают шесть типов отделе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рентгенодиагностическ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станционной лучевой терап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учевой терапии закрытыми радиоактивными веществам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учевой терапии открытыми радиоактивными веществам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агностическое  с использованием закрытых радиоактивных вещест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мешанные отде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7591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95272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476280"/>
            <a:ext cx="4897440" cy="6311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цесс создания оптимальных гигиенических условий в лечебно-профилактических учреждениях в значительной степени также определяется особенностями планирования и застройки земельного участка, упорядочением и внутренней планировкой зданий, их благоустройством,  санитарно - гигиеническим состоянием во время эксплуат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1640" y="3354840"/>
            <a:ext cx="762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амыми распространенными радиологическими учреждениями являются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рентгенодиагностическ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кабинеты или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рентгенодиагностическ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отделения. Работа в них должна обеспечивать радиационную безопасность обслуживающему персоналу и людям, которые  находятся в смежных помещениях. Среднесуточная доза облучения для врачей-рентгенологов должна составлять 3,5 бэр  в год, а для лаборантов - 3 (при ПДД-5 бэр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66544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55640" y="427356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диологические отделения других типов размещают в изолированной пристройке  или   отдельном здании. Их планирование предусматривает четыре  группы помещений: для диагностики открытыми источниками ионизирующих излучений, лучевой терапии открытыми и закрытыми изотопами, дистанционной лучевой терап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5280" y="622440"/>
            <a:ext cx="3600360" cy="2243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317196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666600"/>
                </a:solidFill>
                <a:latin typeface="Verdana"/>
              </a:rPr>
              <a:t>Палатная  секция и ее характеристика</a:t>
            </a:r>
            <a:r>
              <a:rPr b="1" i="1" lang="uk-UA" sz="4000" spc="-1" strike="noStrike">
                <a:solidFill>
                  <a:srgbClr val="666600"/>
                </a:solidFill>
                <a:latin typeface="Symbol"/>
                <a:ea typeface="Symbol"/>
              </a:rPr>
              <a:t>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24000" y="1065960"/>
            <a:ext cx="8496000" cy="146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латная сек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 основная структурная единица  лечебного отделения, главным заданием которой является сохранение гигиенического комфорта и удобства обслуживания больных. Она  рассчитана на 30 коек, в частности  1-коечных (площадью 9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2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4-х коечных (площадью 7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на одну койку) палат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rcRect l="4923" t="10601" r="2504" b="10133"/>
          <a:stretch/>
        </p:blipFill>
        <p:spPr>
          <a:xfrm>
            <a:off x="468360" y="3500280"/>
            <a:ext cx="8375760" cy="30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373716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4005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палате должны быть не больше 4 коек. В таких палатах наиболее удобно располагать койки  параллельно к светоносной стене. Это улучшает обзор больных, проведения разных медицинских манипуляций, изменение постельного белья, уход за пациентами, создает одинаковые параметры воздушной среды и инсоля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306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84360" y="3220200"/>
            <a:ext cx="81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 палатах расстояние между кроватями должно быть не меньше, чем 0,8-1,0 м. Койки ставят на расстоянии не ближе, чем 0,9-1,0 м от внешней стены. Кроме кроватей, в палате должны быть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прикроватны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тумбочки, стулья, стол, вешалка. Необходимо, чтобы в палатной секции для взрослых были еще и такие помещения:  пост дежурной медицинской сестры (4-6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кабинет врача (1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процедурная (13-18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клизменна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(8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столовая (18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место дневного пребывания больных (15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санитарный узе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500720" y="333360"/>
            <a:ext cx="393372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0" y="2781360"/>
          <a:ext cx="91076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9107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11280" y="442512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единяет все помещения коридор. Коридор может быть с односторонней  (боковой),  двусторонней (центральный) и  частично двусторонней застройкой. Гигиенические преимущества имеет светлый, хорошо вентилируемый, с боковой застройкой коридор. Ширина коридора должна быть не меньше, чем 2,4 м, что обеспечивает свободное разворачивание кроватей или носил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059280" y="260280"/>
            <a:ext cx="3095280" cy="2376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012000" y="981000"/>
            <a:ext cx="2847960" cy="2368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273672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304920" y="1452600"/>
          <a:ext cx="880272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52600"/>
                    <a:ext cx="88027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755640" y="1361880"/>
            <a:ext cx="78804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1-го класса предназначены для реанимации и интенсивного лечения: их доля достигает 20 % относительно всех коек. Это наиболее стоимостные и оснащенные койки и нуждаются в соответствующем штатном обеспечен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2-го класса - для обновительного лечения. Ориентировочно их доля составляет 45 % всего  коечного фон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3-го класса - для длительного лечения  больных с хронической патологией. Составляют 20 %  всего коечного фон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4-го класса - для медико-социального назначения. Их менее всего - 15 %. койки  2-го и 3-го классов  составляют  две трети всего коечного фонда (65 %). Они могут быть организованы в виде дневных стационаров или стационаров на до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0" y="1700280"/>
            <a:ext cx="43210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ст дежурной медсестры размещают около процедурной и палат на одну кровать, предназначенных для тяжелобольн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 поста должно быть видно коридор, вход к палатам и вспомогательные пом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сстояние от поста к палатам, которые обслуживаются, не должна превышать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15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75444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87280" y="3500280"/>
            <a:ext cx="676944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ст  оборудуют столом, двумя шкафами (для историй болезней, медикаментов и материала для перевязок), стерилизатором, холодильником, умывальником, телефоном, сигнализацией для вызова из палаты медперсонала и двусторонней разговорной (или видеоразговорной) связи сестры и боль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314172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людение гигиенических требований в больнице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дают возможность создать наилучшие  условия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кружающей среды для больных;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пособствуют внедрению лечебно-охранительного режим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предотвращают возникновение внутрибольничных инфек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облегчают лечебную работу медицинскому персонал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пособствуют быстрейшему выздоровлению больных и обеспечению оптимальных   условий для деятельности медицинских работников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3526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55620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Характеризуя особенности санитарно-гигиенического режима и условия внешней среды в палатах и других помещениях лечебно-профилактических учреждений, необходимо отметить, что наилучшими видами отопления является централизованное водяное и лучевое. Температура воздуха в палатах общего профиля должна составлять 20 С, а в реанимационных, ожоговых, послеродовых палатах и палатах для детей - 22 С, в кабинетах врачей и манипуляционных - 20 С. Относительная влажность воздуха - в пределах  35-60 %, скорость движения воздуха - в пределах   0,2-0,3 м/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3311640" cy="20350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950080" y="3573360"/>
            <a:ext cx="235404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724280" y="592560"/>
            <a:ext cx="40388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нтенсивность естественного освещения в палате зависит о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лощади и формы световых разрез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риентации дома относительно сторон горизонт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стояния небосклон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сстояния от других домов и зеленых насаждени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886200" cy="2919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57200" y="3913920"/>
            <a:ext cx="40384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птимальной ориентацией для умеренных широт считают южную и юго-восточную. Величина естественного освещения зависит также от глубины помещения, которая должна быть не больше 5 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6920" y="311580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анитарный узел должен быть оснащенный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умивальнико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ванной, уборной и вспомогательным помещением. Нужны три вида уборной: мужской с писсуаром, женский с восходящим душем и для медицинского персонала. Чтобы запахи из санитарного узла не проникали в палатный коридор, его обеспечивают вытяжной вентиляцией, а не вентилируют через форточки или открытые окна. Помещения санитарного узла должны иметь естественное освещение, полы укладывают плиткой, панели  высотой не менее 1,8 м красят масляной краской, а еще лучше  облицовывают плитко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3090960" cy="23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95280" y="907920"/>
            <a:ext cx="792180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дним из важнейших звеньев больничного обеспечения есть вентиляция. В небольших больницах используют преимущественно такие средства естественной  вентиляции, как форточки, фрамуги, приточные и  вытяжные каналы , а также кондиционировани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995640" y="3500280"/>
            <a:ext cx="331308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Garamond"/>
              </a:rPr>
              <a:t>Лечебно-охранительный режим стационара включает такие элемент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еспечение режима щажения психики больног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трогое соблюдение правил внутреннего распорядка дн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еспечение режи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циональной физической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(двигательной) активности.</a:t>
            </a:r>
            <a:br>
              <a:rPr sz="20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733560" cy="31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любое клинически распознаное заболевание микробной этиологии связанное с пребыванием, лечением, обследованием или обращением человека за медицинской помощью в лечебно-профилактическое учреждени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372960"/>
            <a:ext cx="7983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cccc66"/>
                </a:solidFill>
                <a:latin typeface="Verdana"/>
              </a:rPr>
              <a:t>Внутрибольничная (нозокомиальная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cccc66"/>
                </a:solidFill>
                <a:latin typeface="Verdana"/>
              </a:rPr>
              <a:t> </a:t>
            </a:r>
            <a:r>
              <a:rPr b="1" lang="uk-UA" sz="3200" spc="-1" strike="noStrike">
                <a:solidFill>
                  <a:srgbClr val="cccc66"/>
                </a:solidFill>
                <a:latin typeface="Verdana"/>
              </a:rPr>
              <a:t>госпитальная)  инфекция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по данным ВОЗ - 6 - 7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Германии 3,6 – 6,3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Испании 3,9 – 9,9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о Франции 6,7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Норвегии 6,3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США 5,7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Garamond"/>
              </a:rPr>
              <a:t>ВНУТРИБОЛЬНИЧНЫЕ ИНФЕКЦИИ  РЕГИСТРИРУЮТСЯ </a:t>
            </a:r>
            <a:br>
              <a:rPr sz="3200"/>
            </a:br>
            <a:r>
              <a:rPr b="1" lang="uk-UA" sz="3200" spc="-1" strike="noStrike">
                <a:solidFill>
                  <a:srgbClr val="a50021"/>
                </a:solidFill>
                <a:latin typeface="Garamond"/>
              </a:rPr>
              <a:t>в среднем от  количества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cccc66"/>
                </a:solidFill>
                <a:latin typeface="Garamond"/>
              </a:rPr>
              <a:t>Возбудители внутрибольничных (нозокомиальных, госпитальных)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Стафилококки, стрептококки, синегнойная палочка, протей, клебсиела, кишечная палочка, сальмонелла, энтеробактер, энтерококки и другие условно-патогенные микроорганиз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А также вирусы гриппа, аденовирусы, ротавирусы, энтеровирусы, возбудители вирусных гепатитов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a50021"/>
                </a:solidFill>
                <a:latin typeface="Garamond"/>
              </a:rPr>
              <a:t>ЧАСТОТА   ГОСПИТАЛИЗМА   В ЗАВИСИМОСТИ  ОТ ЛОКАЛИЗАЦИИ</a:t>
            </a:r>
            <a:r>
              <a:rPr b="1" i="1" lang="uk-UA" sz="4000" spc="-1" strike="noStrike">
                <a:solidFill>
                  <a:srgbClr val="a50021"/>
                </a:solidFill>
                <a:latin typeface="Garamond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Verdana"/>
              </a:rPr>
              <a:t>Инфицирование ран – 30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Verdana"/>
              </a:rPr>
              <a:t>Инфицирование мочевыделительных путей – 22 -40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Verdana"/>
              </a:rPr>
              <a:t>Пневмонии – 13- 18 % (в Украине 35-38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Другие – 12 – 3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cccc66"/>
                </a:solidFill>
                <a:latin typeface="Garamond"/>
              </a:rPr>
              <a:t>Источники внутрибольничных (нозокомиальных, госпитальных) ифек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больные инфекционными заболеваниями и носителями патогенных и условно-патогенных микроорганизм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медицинский персонал (врачи, медицинские сестры, санитарк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носители и болеющие стертими формами инфекц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матери (носители або больные в акушерских стационарах и отделениях для детей раннего возраст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333360"/>
            <a:ext cx="8135640" cy="5215320"/>
          </a:xfrm>
          <a:prstGeom prst="rect">
            <a:avLst/>
          </a:prstGeom>
          <a:solidFill>
            <a:srgbClr val="ffffc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ля успешного лечения и быстрого выздоровления больных необходимы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благоприятное освещени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оптимальная температур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достаточное пространств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хорошо и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солированна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и вентилируемая палат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удобная кровать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спокойные условия окруж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здоровый  отдых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рациональное и диетическое питани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хорошее санитарно-гигиеническое обслуживани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достаточное озеленение территории для прогулок на свежем воздух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полный соматический и психологический комфорт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ути инфицирования больн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ы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воздушно-капельный, или воздушно-пылев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контактно-бытовой (через предметы ухода, белье, медицинские инструменты, аппаратуру, руки медицинского персонал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парантеральный (при введении лекарственных препаратов, растворов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алиментарный (через продукты, воду 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ff5050"/>
                </a:solidFill>
                <a:latin typeface="Garamond"/>
              </a:rPr>
              <a:t>Пути распространения в</a:t>
            </a:r>
            <a:r>
              <a:rPr b="0" lang="uk-UA" sz="3600" spc="-1" strike="noStrike">
                <a:solidFill>
                  <a:srgbClr val="ff5050"/>
                </a:solidFill>
                <a:latin typeface="Garamond"/>
              </a:rPr>
              <a:t>нутрибольничных инфекц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2421000"/>
            <a:ext cx="4608720" cy="863640"/>
          </a:xfrm>
          <a:prstGeom prst="ellipse">
            <a:avLst/>
          </a:prstGeom>
          <a:solidFill>
            <a:srgbClr val="66ff33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Times New Roman"/>
              </a:rPr>
              <a:t>БОЛЬН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4508640"/>
            <a:ext cx="2592720" cy="1871640"/>
          </a:xfrm>
          <a:prstGeom prst="ellipse">
            <a:avLst/>
          </a:pr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едмет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атериал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животные и д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4581360"/>
            <a:ext cx="2448000" cy="1489320"/>
          </a:xfrm>
          <a:prstGeom prst="ellipse">
            <a:avLst/>
          </a:pr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ерсонал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етител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о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914560" y="3284640"/>
            <a:ext cx="180360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3284640"/>
            <a:ext cx="201636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851280" y="5443200"/>
            <a:ext cx="1728720" cy="74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06560" y="5661000"/>
            <a:ext cx="1803240" cy="73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930560" y="3211200"/>
            <a:ext cx="1803240" cy="1298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627280" y="3211200"/>
            <a:ext cx="1873440" cy="1298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5280" y="1341360"/>
            <a:ext cx="4897440" cy="503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пецифическая профилак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1341360"/>
            <a:ext cx="3048120" cy="792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фическая профилак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50720"/>
            <a:ext cx="8153280" cy="46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рофилактика </a:t>
            </a:r>
            <a:r>
              <a:rPr b="1" lang="uk-UA" sz="2400" spc="-1" strike="noStrike">
                <a:solidFill>
                  <a:srgbClr val="a50021"/>
                </a:solidFill>
                <a:latin typeface="Times New Roman"/>
              </a:rPr>
              <a:t>внутрибольничных ифек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978200" y="981000"/>
            <a:ext cx="2234880" cy="3891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907920"/>
            <a:ext cx="935280" cy="343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362320"/>
            <a:ext cx="2743200" cy="1143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итектурно-планировочны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286000"/>
            <a:ext cx="2185920" cy="1295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о-технически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809880"/>
            <a:ext cx="2627280" cy="1635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о-противоэпидеми-чески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3733920"/>
            <a:ext cx="2952720" cy="1639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зинфекционно-стерилизационны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841120" y="1773360"/>
            <a:ext cx="147960" cy="2665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4267080"/>
            <a:ext cx="3049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65080" y="4267080"/>
            <a:ext cx="3841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29000"/>
            <a:ext cx="1657440" cy="576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999900"/>
                </a:solidFill>
                <a:latin typeface="Times New Roman"/>
              </a:rPr>
              <a:t>Планов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441840" y="2349360"/>
            <a:ext cx="291960" cy="142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7740720" y="3357720"/>
            <a:ext cx="1403280" cy="576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999900"/>
                </a:solidFill>
                <a:latin typeface="Times New Roman"/>
              </a:rPr>
              <a:t>Экстренн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8028000" y="2205000"/>
            <a:ext cx="36036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2987640" y="2637000"/>
            <a:ext cx="360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698920" y="2637000"/>
            <a:ext cx="2188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6084720" y="2349360"/>
            <a:ext cx="2590920" cy="574920"/>
          </a:xfrm>
          <a:prstGeom prst="rect">
            <a:avLst/>
          </a:prstGeom>
          <a:solidFill>
            <a:srgbClr val="ff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МУНИЗ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2205000"/>
            <a:ext cx="7308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586200" y="2924280"/>
            <a:ext cx="50796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7740720" y="2924280"/>
            <a:ext cx="79200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19320" y="609480"/>
            <a:ext cx="6858000" cy="533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Архитектурно-планировочные </a:t>
            </a:r>
            <a:r>
              <a:rPr b="1" lang="uk-UA" sz="2800" spc="-1" strike="noStrike" u="sng">
                <a:solidFill>
                  <a:srgbClr val="a50021"/>
                </a:solidFill>
                <a:uFillTx/>
                <a:latin typeface="Arial"/>
              </a:rPr>
              <a:t>меропри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716280"/>
            <a:ext cx="3886200" cy="1312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золяция секций, палат, операционных блоков и других помещ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1844640"/>
            <a:ext cx="3200400" cy="1203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блюдение потоков  больных и персон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981080"/>
            <a:ext cx="3809880" cy="1143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циональное размещение отделений по этаж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788000" y="3933720"/>
            <a:ext cx="2971800" cy="838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нирование тери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2590920"/>
            <a:ext cx="685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4495680"/>
            <a:ext cx="990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1143000"/>
            <a:ext cx="1800" cy="3429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11280" y="765000"/>
            <a:ext cx="7086600" cy="1295640"/>
          </a:xfrm>
          <a:prstGeom prst="rect">
            <a:avLst/>
          </a:pr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 u="sng">
                <a:solidFill>
                  <a:srgbClr val="666600"/>
                </a:solidFill>
                <a:uFillTx/>
                <a:latin typeface="Arial"/>
              </a:rPr>
              <a:t>Санитарно-технические меро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352680"/>
            <a:ext cx="6858000" cy="198144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ентиляция: (приточная, витяжная, смешанная, кондиционирование, ламинарные установки и т. п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1905120"/>
            <a:ext cx="1440" cy="1371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38080" y="533520"/>
            <a:ext cx="7479000" cy="1382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е меропри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2971800"/>
            <a:ext cx="2446560" cy="19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ыявление носителей среди персонала и б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971800"/>
            <a:ext cx="2362320" cy="19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троль за санитарным состоянием и режимом стациона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2895480"/>
            <a:ext cx="2492280" cy="2057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нитарно-просветительня робота среди персонала и б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715000"/>
            <a:ext cx="7848720" cy="914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троль за бактериальным обсеменением внутрибольничной сред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445760" y="1905120"/>
            <a:ext cx="2822760" cy="99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1905120"/>
            <a:ext cx="1440" cy="10666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1981080"/>
            <a:ext cx="2514600" cy="99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4952880"/>
            <a:ext cx="1800" cy="83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533520"/>
            <a:ext cx="7631280" cy="1671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Arial"/>
              </a:rPr>
              <a:t>Дезинфекционно-стерилизационные меропри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4800600" y="5300640"/>
            <a:ext cx="322740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cccc66"/>
                </a:solidFill>
                <a:latin typeface="Times New Roman"/>
              </a:rPr>
              <a:t>Использование физических средст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5373720"/>
            <a:ext cx="3505320" cy="1150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cccc66"/>
                </a:solidFill>
                <a:latin typeface="Arial"/>
              </a:rPr>
              <a:t>Использование химических средст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2819520"/>
            <a:ext cx="5038920" cy="1401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Механическая обрабо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5883120" y="4294080"/>
            <a:ext cx="24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1981080"/>
            <a:ext cx="1800" cy="99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042920" y="4363920"/>
            <a:ext cx="2590920" cy="765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4788000" y="4437000"/>
            <a:ext cx="1904760" cy="7621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2a489e"/>
                </a:solidFill>
                <a:latin typeface="Garamond"/>
              </a:rPr>
              <a:t>Возбудители </a:t>
            </a:r>
            <a:r>
              <a:rPr b="1" i="1" lang="uk-UA" sz="3200" spc="-1" strike="noStrike">
                <a:solidFill>
                  <a:srgbClr val="2a489e"/>
                </a:solidFill>
                <a:latin typeface="Garamond"/>
              </a:rPr>
              <a:t>в</a:t>
            </a:r>
            <a:r>
              <a:rPr b="1" i="1" lang="uk-UA" sz="2800" spc="-1" strike="noStrike">
                <a:solidFill>
                  <a:srgbClr val="2a489e"/>
                </a:solidFill>
                <a:latin typeface="Garamond"/>
              </a:rPr>
              <a:t>нутрибольничных (нозокомиальных, госпитальных) инфек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628640"/>
            <a:ext cx="5194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177840" indent="27792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347760"/>
                <a:tab algn="l" pos="1262160"/>
                <a:tab algn="l" pos="2176560"/>
                <a:tab algn="l" pos="3090960"/>
                <a:tab algn="l" pos="4005360"/>
                <a:tab algn="l" pos="4919760"/>
                <a:tab algn="l" pos="5834160"/>
                <a:tab algn="l" pos="6748560"/>
                <a:tab algn="l" pos="7662960"/>
                <a:tab algn="l" pos="8577360"/>
                <a:tab algn="l" pos="949176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афилококки, стрептококки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синегнойна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палочка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тей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клебсиел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кишечная палочка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сальмонелл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энтеробакте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энтерококки и другие условно патогенные микроорганиз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77840" indent="27792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347760"/>
                <a:tab algn="l" pos="1262160"/>
                <a:tab algn="l" pos="2176560"/>
                <a:tab algn="l" pos="3090960"/>
                <a:tab algn="l" pos="4005360"/>
                <a:tab algn="l" pos="4919760"/>
                <a:tab algn="l" pos="5834160"/>
                <a:tab algn="l" pos="6748560"/>
                <a:tab algn="l" pos="7662960"/>
                <a:tab algn="l" pos="8577360"/>
                <a:tab algn="l" pos="94917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А также вирусы гриппа, аденовирусы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ротавирус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энтеровирусы, возбудители вирусных гепатитов и друг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2338200" cy="2338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227640" y="1627200"/>
            <a:ext cx="2409840" cy="2089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300720" y="37893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8360" y="260280"/>
            <a:ext cx="8218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Распространение определенного возбудителя</a:t>
            </a: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в развитии ВБИ может быть связано с профилем лечебного заведения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2709720"/>
            <a:ext cx="4319640" cy="32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 урологических отделениях - кишечная палочка, энтерококки и тому подобно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тационарах общего хирургического профиля - грамотрицательные бактерии, в частности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синегнойны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3024360" cy="2663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940360" y="55897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Garamond"/>
              </a:rPr>
              <a:t>Источники инфекции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1052640"/>
            <a:ext cx="7859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сет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ппарату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елье и т.д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708360" y="1916280"/>
            <a:ext cx="1735200" cy="2603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631960" cy="1979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5867280" y="3438360"/>
            <a:ext cx="2808360" cy="1762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755640" y="5589720"/>
            <a:ext cx="7993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Больные могут быть инфицированы патогенными факторами как из внешней среды, так и своими собственными в случае ослабленного иммуните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2448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Garamond"/>
              </a:rPr>
              <a:t>  </a:t>
            </a:r>
            <a:r>
              <a:rPr b="0" lang="ru-RU" sz="4400" spc="-1" strike="noStrike">
                <a:solidFill>
                  <a:srgbClr val="993366"/>
                </a:solidFill>
                <a:latin typeface="Garamond"/>
              </a:rPr>
              <a:t>Системы застройки больниц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настоящее время существуют такие систем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централизованная или павильо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ова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ованно-блоч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ша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ути инфицирования больны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воздушно-капельный, или воздушно-пылев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контактно-бытовой (через предметы досмотра, белье, медицинские инструменты, аппаратуру, руки медицинского персонал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парентеральным (при введении лекарственных препаратов, растворов и тому подобное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алиментарным (продукты, воду и тому подобно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" y="274680"/>
            <a:ext cx="81471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Кроме контроля за соблюдением санитарно-гигиенических требований относительно помещений, личной гигиены необходимо проводить следующие мероприят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852640"/>
            <a:ext cx="4546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воевременное выявление и санация носителей патогенного стафилококка: один раз в квартал обязательное обследование сотрудников на носительство патогенного стафилококка у медработников хирургических отделений и роддома, а при возникновении инфекции – по мере необходимости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003640" y="290844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ьные вопро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ы застройки современных больни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ы радиологических отделений боль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просьба отсыла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onila.Golka@gmail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404640"/>
            <a:ext cx="4495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Verdana"/>
              </a:rPr>
              <a:t>БЛАГОДАР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Verdana"/>
              </a:rPr>
              <a:t>З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Verdana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500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Garamond"/>
              </a:rPr>
              <a:t>Децентрализованная, или павильонная, система застройки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Больничное заведение состоит из ряда отдельных, сравнительно небольших, малоэтажных корпусов (павильонов), в которых размещаются разные по профилю лечебные отделен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3240360" cy="22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4292640"/>
            <a:ext cx="822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Её преимуществом   является хорошая изоляция отделений больницы между собой, что, в свою очередь, облегчает внедрение лечебно -охранительного режима и предотвращает возникновение внутрибольничных инфек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3280" y="836640"/>
            <a:ext cx="3706920" cy="295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3:31:39Z</dcterms:created>
  <dc:creator>home</dc:creator>
  <dc:description/>
  <dc:language>en-US</dc:language>
  <cp:lastModifiedBy>Owner</cp:lastModifiedBy>
  <dcterms:modified xsi:type="dcterms:W3CDTF">2015-11-24T04:53:23Z</dcterms:modified>
  <cp:revision>187</cp:revision>
  <dc:subject/>
  <dc:title>Гигиена лечебно-профилактических учреждений лектор ст</dc:title>
</cp:coreProperties>
</file>