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2E9-1131-48EF-B8E4-6AFD243C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4F7-F340-4254-99BE-CFCD6C35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ADF-0C01-4EEA-B0E4-2BA6B977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6B0-22CD-4BD3-A601-E58C080F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2410-23C8-4039-917A-CC72C632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C4DD-471A-4FD7-A3FC-902D3810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030B-748F-4CA6-86F9-9BF9A234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406A-4E99-48DF-A77D-FF08EE16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4C69-8AC0-465B-99BE-22115E15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59E-A53F-4061-8EE9-6F2293C7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6DF6-9AC4-4386-932F-02160FD5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6B9-8FA3-4585-85C8-21EC09B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748F-58F0-4482-B5E7-0233E940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F07A-1A93-46BA-AB92-47D287C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FB3-6ED6-4149-8CB1-449924D1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7B70-F391-4F35-AE12-EDD23504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BDDD-F590-463D-8C16-CB635CDE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B49-B3C4-44DE-AA14-6EFD2489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843-A1E7-4C68-BE80-11FF753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F97-D48A-4452-B358-EC4513F4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B0F-A938-40B6-8B96-02BFFAF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BEC-E49B-4F28-8992-2014F98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9C7-2CEF-4474-AD02-AA86877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914-6A40-4257-B42F-F223EAC4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d3f3"/>
            </a:gs>
            <a:gs pos="100000">
              <a:srgbClr val="b6e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BA9177-CB77-46D7-A1F8-68DA379EAA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d3f3"/>
            </a:gs>
            <a:gs pos="100000">
              <a:srgbClr val="b6e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E88A9C-0B94-49A2-8B2A-B94DDF06D3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Rumjanzew-sadunaiski.jpg?uselang=r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iki.uspi.ru/images/7/70/Lesgaft_743063462_tonnel.gif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41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кция 4. Физическая культура в России с древнейших времён до Великой Октябрьской социалистической революции 1917 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7120" y="2714760"/>
            <a:ext cx="8357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из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1. Древняя Русь и физическое воспит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1.1. Развитие научно-педагогической мысли и медицины во времена Киевской Р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1.2. Физическая культура и спорт в России с XVIII до второй половины XI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2. Создание и развитие в России системы физического образования и современного спорта во второй половине XIX – начале XX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1. Физическая культура и спорт в России с XVIII века до начала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2. Школьное физическое воспитание и военно-физическая подготовка в Русской армии во второй половине XIX - начале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2.3. Развитие научно-теоретических основ физического воспитания во второй половине XIX – начале XX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640" y="476640"/>
            <a:ext cx="822924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3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огатых семьях культивирова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ехтование, верховая езда, танц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ётр I велел издать для дворянских детей популярную книгу о воспитании «Юности честно созерцать...», в которой речь шла и о физической культур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323640" y="2781000"/>
            <a:ext cx="597636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55 г. при участии М.В.  Ломоносова был создан Московский университет и две гимназии при нём (одна для дворянских детей, другая для выходцев из простых (бедных) семей - разночинцев). В гимназия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университете преподавали танцы и фехт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Михаил Васильевич Ломоносов"/>
          <p:cNvPicPr/>
          <p:nvPr/>
        </p:nvPicPr>
        <p:blipFill>
          <a:blip r:embed="rId1"/>
          <a:stretch/>
        </p:blipFill>
        <p:spPr>
          <a:xfrm>
            <a:off x="6084000" y="2853000"/>
            <a:ext cx="252324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67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лучили распространение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дворянские дуэл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на шпагах и рапирах. В 1796 г. в России выходит книга Балтазара Фишера «Искусство фехтовать», пособие Н. Соколова «Начертание правил фехтовального искусства» (1843), книга И. Сивербрака «Руководство к изучению правил фехтования на рапирах и эспандерах» (1852). Значительно продвинулась методика обучения фехтованию. В конце XVIII – начале XIX в. большую популярность у дворян приобрела стрельба из пистолета, для точности стрельбы необходимы были регулярные тренировки (в т.ч. для участия в дуэлях). По указу Петра I создаётся Невская флотилия, развиваетс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гребное и парусное дело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в 1864 г. был открыт Императорский Санкт-Петербургский парусный яхт-клуб, а в 1847 г. состоялись первых в России парусные гонки). С начала XIX в. в России появляютс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частные школы плавания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1827, Петербург). Распространены в быту охота, игра в мяч, шашки, шахматы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0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оенно-физическая подготовка русской армии стала носить системный характер и была весьма полезна для боевой подготовки войс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собенно штыковой бой). Армия комплектуется на основе воинской повинности. В 1716 году вводится «Устав воинский», требующий сознательного отношения к выполнению воинского долга и хорошей ФП (воспитывается в солдатах и офицерах выносливость, быстрота, смелость, решительность). Широко практикуются занятия войск в летних лагерях, учения (отрабатываются приёмы стрельбы, штыковой бой, длительные марши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5640" y="5229360"/>
            <a:ext cx="388800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ётр Алекса́ндрович Румя́нцев-Задуна́й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5112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3880" indent="-263880">
              <a:lnSpc>
                <a:spcPct val="12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ельную прогрессивную роль в умелой подготовке войск играют фельдмаршал П.А. Румянцев (1725-1796) и генералиссимус А.В. Суворов (1730-1800). Их военно-педагогическая система, включающая ФП солдат и офицеров, актуальна и сегодня, готовя войска к решительным действиям в бо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Rumjanzew-sadunaisk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12280" y="1556640"/>
            <a:ext cx="2696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Александр Суворов"/>
          <p:cNvPicPr/>
          <p:nvPr/>
        </p:nvPicPr>
        <p:blipFill>
          <a:blip r:embed="rId1"/>
          <a:stretch/>
        </p:blipFill>
        <p:spPr>
          <a:xfrm>
            <a:off x="6300360" y="2853000"/>
            <a:ext cx="2371320" cy="2666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40060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А.В. Суворов отвергает прусскую систему подготовки войс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(муштру)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вводит индивидуальную подготовку солдат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зарядку (утром бег, стрельба, различные повороты, упражнения с ружьём), пишет свои знаменитые труды «Полковое учение» и «Наука побеждать» (1796) (главное в бою – глазомер, быстрота, натиск, решительные действия, понимани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авленных задач). А.В. Суворов вводит в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рмии тактику рассыпного боя на основ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орошей индивидуальной подготовки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инов. Его войска громят неприятеля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итальянском и швейцарском походах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1799) и других сражениях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965200" y="5589360"/>
            <a:ext cx="31784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андр Васильевич Сувор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329320" cy="54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ладывается и система обуч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спитания русских моряков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ми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. Ф. Уша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743-1813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 на кораблях физическую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ровку моряков, близкую 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евым условиям (бег по корабельны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астям, гребля и плавание, парусно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о), громит турецкий флот на Чёрном мор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38 г. в войсках утверждается руководство «Военная гимнастика и фехтование на штыках и саблях», в 1850 г. принимаются «Правила для обучения войск гимнастике», т.е. развивается теоретическая мысль о ФК и 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Адмирал Ушаков Федор Федорович"/>
          <p:cNvPicPr/>
          <p:nvPr/>
        </p:nvPicPr>
        <p:blipFill>
          <a:blip r:embed="rId1"/>
          <a:stretch/>
        </p:blipFill>
        <p:spPr>
          <a:xfrm>
            <a:off x="6561360" y="757080"/>
            <a:ext cx="18986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50068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азвитию педагогической мысли в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XVlll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XlX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в. в России способствует развитие культуры, медицины, образования, что влияет и на физическое воспитание. Влияние на теорию и практику физического воспитания оказывают: И. Белецкий (1704-1795) – основатель воспитательных домов в России, культивирующий закаливание, личную гимнастику, ЗОЖ и игры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с учётом возрастных особенностей ребёнка: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Н.И. Новиков (1744-1818) продвигает в образовании подвижные игры (особенно с мячом), борьбу, ходьбу, умеренный бег, режим питания и отдыха, активные физические упражнения, русские народные танцы как элемент связи физической культуры и эстетики воспитанием; А.И. Радищев (1749-1802) популяризирует умственное, нравственное и физическое воспитание; В.Г. Белинский (1811-1848) проявляет внимание к народным играм, забавам, также их популяризации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54880" indent="-254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целом, подъём русской науки и культуры, реформы Петра I, система военно-физической подготовки войск А. Суворова и т.д. способствовали развитию ФК и С в тот исторический период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marL="268200"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4.2. Создание и развитие в России системы физического образования и современного спорта во второй половине XIX - начале XX века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.2.1. Физическая культура и спорт в России с XVIII века до начала XX века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1640" y="2133000"/>
            <a:ext cx="8434800" cy="416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114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постничество в России к этому времени себя изживае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то показало поражение нашей страны в Крымской войне 1853-1856 гг. при Николае I). В 1861 г. оно отменяется. На </a:t>
            </a:r>
            <a:r>
              <a:rPr b="0" lang="ru-RU" sz="2400" spc="-21" strike="noStrike">
                <a:solidFill>
                  <a:srgbClr val="000000"/>
                </a:solidFill>
                <a:latin typeface="Calibri"/>
              </a:rPr>
              <a:t>смену крепостной Росси приходит Россия капиталистическая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яется рабочий класс, развиваются наука, образование, в т.ч. ФК и С. Идёт борьба с засильем в стране иностранных методик физического воспитания со стороны части демократически-патриотически настроенной русской интеллигенции, которая выступает за введение ФК в программу образовательных шко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3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86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торой половине XIX в. В России развивается спортивно- гимнастическое движение, создаются кружки и клубы. Среди первых - Петербургский речной яхт-клуб (1860), Московский яхт-клуб (1867). Первая гребная гонка состоялась на Неве в июле 1860 г. (деятельность клубов поддерживают русские промышленники). В 1898 г. парусные и гребные клубы объединились во Всероссийский союз гребных и парусных обществ и клуб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8640" indent="-278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68 г. в Петербурге создаётся теннисный и крикетный клуб, затем (в конце XIX в.)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ннисные клуб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крываются в Москве, Киеве, Одессе, Ростове-на-Дону, Воронеже, Саратове, Нижнем Новгороде, Таганроге и др. город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434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960" indent="-264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бирают популярность шахматы. В 1853 г.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Петербурге открыт первый шахматный клуб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его посещали Л. Толстой, И. Тургенев и др.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звестные писатели). В 1899 г. в Москве был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оведён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I Всероссийский шахматный турнир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участвовали 28 человек). Победителем стал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еликий русский шахматист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М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 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Чигорин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нователь отечественной шахматной школы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1885 г. в Петербурге доктор В. Краевский открывает кружок русского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тяжелоатлетического спорт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развивается гиревой спорт. В 1886 г. русский борец-профессионал И. Лебедев основал тяжелоатлетическое общество «Геркулес». Создаются атлетические кружки в Москве, Риге, Тифлисе, Твери, Киеве, Одессе. В 1897 г. в Петербурге прошёл  I  Всероссийский чемпионат по борьбе и поднятию тяжестей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" descr="D:\User\Documents\Глотов 2011\Спорт\chigorin.jpg"/>
          <p:cNvPicPr/>
          <p:nvPr/>
        </p:nvPicPr>
        <p:blipFill>
          <a:blip r:embed="rId1"/>
          <a:stretch/>
        </p:blipFill>
        <p:spPr>
          <a:xfrm>
            <a:off x="6444360" y="548640"/>
            <a:ext cx="206892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240" cy="83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4.1. Древняя Русь и физическое воспита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908640"/>
            <a:ext cx="8643600" cy="552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254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е славяне жили на широких просторах Приднепровья, занимались земледелием, скотоводством, ремеслом, охотой и ... защитой своих территорий, что требовало значительной физической подготовки (бег, верховая езда, стрельба из лука, плавание, метание копья и др.). Они были храбрыми выносливыми воинам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254520" indent="-2545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рубеже XVIII и XIX веков складывается одно из первых государств восточных славян – Киевская Русь, которая ведёт борьбу за своё выживание и процветание против половцев, печенегов, татар, германцев, с XIII века – монголо-татар. Это требует связи ФП с военным делом, стимулирует развитие таких направлений подготовки, как: кулачный бой,  прыжки через костёр и т.д. ФКиС тесно связаны в это время и с религиозными праздниками, перешедшими в «наследство» от язычества: Купалы, Ярилы-воина, животворящих сил природы. В военно-физической подготовке важную роль играют «потехи» русских богатырей: поединки двух борцов, единоборство с быком и др. После смерти князя Ярослава Мудрого (1054) единая держава Киевская Русь значительно ослабла («Повесть временных лет» – XI-XII вв.), наступили времена феодальной раздробленност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572320" cy="62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В стране создаются различного рода спортивные клубы, сыгравшие затем заметную роль в история развития ФК и С России и мира. Это: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Петербургский кружок любителей спорта П. Москвина (1889). Здесь развивали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лёгкую атлетику, футбол, плавание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и др. В 1897 г. проводится первое в России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официальное соревнование по лёгкой атлетике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. Кружки создаются в Москве, Харькове, Киеве, Риге, Курске и др. городах;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с 1898 г. в стране проходят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регулярные футбольные матчи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, а с 1901 г. стартовала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Петербургская футбольная лига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(команды создаются во многих городах России); 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в 1895 г. создаётся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Московский клуб лыжебежцев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 (соревнуются на Ходынском поле – дистанции 1 и 3 версты);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  <a:p>
            <a:pPr marL="259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5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) в 1896 г. в Петербурге было создано </a:t>
            </a:r>
            <a:r>
              <a:rPr b="0" lang="ru-RU" sz="5800" spc="-1" strike="noStrike" u="sng">
                <a:solidFill>
                  <a:srgbClr val="000000"/>
                </a:solidFill>
                <a:uFillTx/>
                <a:latin typeface="Calibri"/>
              </a:rPr>
              <a:t>общество велосипедистов-любителей</a:t>
            </a:r>
            <a:r>
              <a:rPr b="0" lang="ru-RU" sz="5800" spc="-1" strike="noStrike">
                <a:solidFill>
                  <a:srgbClr val="000000"/>
                </a:solidFill>
                <a:latin typeface="Calibri"/>
              </a:rPr>
              <a:t>. велоклубы стали работать в Москве, Туле, Саратове, Риге, Киеве, Харькове, Одессе, Симферополе и других городах;</a:t>
            </a:r>
            <a:endParaRPr b="0" lang="ru-RU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832932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развиваются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конькобежный спорт и фигурное катание,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первый клуб открывается в Петербурге в 1864 г., с 1881 г. проходят регулярные соревнования, в т.ч. с международным участием;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) в офицерской среде популярностью пользуется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фехтование на рапирах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, в 1851 г. в Петербурге открывается Императорский фехтовальный зал, и в 1857 г. Офицерский императорский фехтовальный зал, первый чемпионат России проходит в 1960 г.; 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) получает поддержку развитие </a:t>
            </a:r>
            <a:r>
              <a:rPr b="0" lang="ru-RU" sz="3400" spc="-1" strike="noStrike" u="sng">
                <a:solidFill>
                  <a:srgbClr val="000000"/>
                </a:solidFill>
                <a:uFillTx/>
                <a:latin typeface="Calibri"/>
              </a:rPr>
              <a:t>гимнастик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как вида спорта в России, в 1863 г. в Петербурге учреждается первое гимнастическое общество «Пальма», в 1868 г. создаётся Московское гимнастическое общество, а в 1883 г. – Русское гимнастическое общество (среди учредителей были писатели А.П. Чехов и В. Гиляровский), первые соревнования по гимнастике прошли в декабре 1885 г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.2.2. Школьное физическое воспитание 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и военно-физическая подготовка в Русской армии во второй половине XIX – начале XX века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400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след за отменой крепостного права (1861) в России была осуществлена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школьная реформа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 несколько улучшающая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преподавание физической культуры. Были изданы «</a:t>
            </a:r>
            <a:r>
              <a:rPr b="0" lang="ru-RU" sz="3300" spc="-21" strike="noStrike" u="sng">
                <a:solidFill>
                  <a:srgbClr val="000000"/>
                </a:solidFill>
                <a:uFillTx/>
                <a:latin typeface="Calibri"/>
              </a:rPr>
              <a:t>Положения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о начальных народных училищах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1864), «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Устав для средней школ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ноябрь 1864), однако гимнастика не входила в число обязательных предметов. Передовые педагоги требовали включения гимнастики в школьную программу, и в 1889 г. Министерство народного просвещения утвердило «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Инструкцию и программу преподавания гимнастики в мужских учебных заведениях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» (в ней определялись задачи физического воспитания, методы обучения, давался перечень физических упражнений, подвижные игры рекомендовались во внеучебное время на свежем воздухе).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К преподаванию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, ввиду отсутствия необходимого количества педагогов,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привлекались офицеры и унтер-офицер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329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07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поражения в Крымской войне вытекали военные реформы 1860-70-х гг., изменившие систему боевой и физической подготовки войск. В 1859 г. вводятся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а для обучения гимнастики в войск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, которые предписывают использование таких физических упражнений как бег, прыжки в высоту, длину, с шестом, упражнения на равновесие на бревне, лазание по лестнице, шесту, канату, упражнения на коне и брусьях. Затем были утверждены правила для обучения употреблению в бою штыка». Таким образо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мнастика и штыковой бой стали основными дисциплинами обучения в арм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1640" y="500040"/>
            <a:ext cx="843480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1874 г. в России вводится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сеобщая воинская повинность, срок службы сокращается с 25 до 6 ле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усиливается внимание к допризывной молодёжи, их ФП и боевой и физической подготовке солдат и офицеров. Укрепляется материальная база ФК и С в войсках и военных учебных заведениях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ссово строятся гимнастические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лощадки и полосы препятствий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отовятся преподаватели гимнастики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т.ч. по инициативе профессора </a:t>
            </a:r>
            <a:br>
              <a:rPr sz="2700"/>
            </a:b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П.Ф. Лесгафт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работал с 1877 по 1882 г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2-й Петербургской гимназии, возглавлял учебно-гимнастические кружки).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Файл:Lesgaft 743063462 tonnel.gi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360" y="2565000"/>
            <a:ext cx="1920960" cy="25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24000" y="4437000"/>
            <a:ext cx="32504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ексей Дмитриевич Бут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5122440" cy="52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73600" indent="-273600">
              <a:lnSpc>
                <a:spcPct val="11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о-гимнастические курсы были открыты в военных округах и гарнизонах Москвы, Севастополя, Варшавы, Киева, Тифлиса и других городов. Значительный вклад в развитие теор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К и С вносят П.Ф. Лесгафт, А Д. Бутовский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И. Драгомир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Способность, как можно дольше удерживать достигнутую максимальную скорость, называется скоростной выносливостью"/>
          <p:cNvPicPr/>
          <p:nvPr/>
        </p:nvPicPr>
        <p:blipFill>
          <a:blip r:embed="rId1"/>
          <a:stretch/>
        </p:blipFill>
        <p:spPr>
          <a:xfrm>
            <a:off x="6228360" y="1628640"/>
            <a:ext cx="2192760" cy="2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722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62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.Ф. Лесгаф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2-1909) в 1877 г. разработал программу физического воспитания для военных гимназий и кадетских корпусов, подготовки офицеров царской армии и будучи инспектором ФП в 12 военных учебных заведениях следил за её внедрением в жизнь. П. Лесгафт отстаивал идею специализации подготовки солдат и офицеров с помощью ФК и С. Он делил физические упражнения на общие, подготовительные и специальные применительно к военному делу, считал ФП важным средством боевой подготов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62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ным специалистов в области теории и практики ФП в армии был гене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.Д. Бутовск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8-1917). Он являлся разработчиком многих документов и программ ФК и С, руководил курсами подготовки офицеров-воспитателей, сам преподавал теорию и методику физического воспитания. Все упражнения он делил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щеразвивающие и приклад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снабдив их методическими указаниями по использованию в войск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3293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487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ным военным теоретиком, одним из создателей военной педагогики являлся генерал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.И. Драгоми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1830-1905), который рассматривал ФП как важнейшее средство воспитания у солдат и офицеров необходимы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рально-волевых и боевых каче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М. Драгомиров настаивал на специализации воинов – пехотинцев, кавалеристов и артиллеристов. К гимнастике он относил бег, ходьбу, прыжки, лазание, преодол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й, штыковой бой. В методик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и к штыковому бою М. Драгомир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первые ввёл подвижные чучела, полос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ятствий, гимнастику, вольтажеровку дл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валерис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48760" indent="-2487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ло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К и С в войсках требовали дальнейшего существенно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Михаил Иванович Драгомиров"/>
          <p:cNvPicPr/>
          <p:nvPr/>
        </p:nvPicPr>
        <p:blipFill>
          <a:blip r:embed="rId1"/>
          <a:stretch/>
        </p:blipFill>
        <p:spPr>
          <a:xfrm>
            <a:off x="6948360" y="3141000"/>
            <a:ext cx="1685520" cy="24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2.3. Развитие научно-теоретических основ физического воспита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 второй половине XIX – начале XX 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40060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этот период истории нашей страны активно развивается педагогическая мысль, в т.ч. научно-теоретические основы ФКиС. Значительный вклад в их разработку внесли Е.А. Покровский, Е.М.  Дементьев и П.Ф. Лесгафт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Е.А. Покровский (1834-1895)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будучи детским врачом редактировал журнал «Вестник воспитания», много внимания уделял физическому воспитанию детей (выходит книга «Физическое воспитание детей у разных народов, преимущественно России», 1864). Отдавал предпочтение народным играм, которые укрепляют здоровье ребёнка и воспитывают у него самостоятельность. Е. Покровский рекомендовал занятия греблей, плаванием, лыжным спортом. К гимнастике для детей относился скептически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2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Е.М. Дементьев (1850-191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был санитарным врачом, активным пропагандистом внедрения в практику физического воспитания детей народных игр и естественных упражнений (критиковал немецкую и шведскую гимнастику). Опубликовал ряд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иг: «Гимнастика или игра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зическое воспита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ношества в отношении к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й системе школь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ния» и сборник игр, что способствовало развитию 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и футбола, тенниса, хокке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ДЕМЕНТЬЕВ, Евстафий Михайлович"/>
          <p:cNvPicPr/>
          <p:nvPr/>
        </p:nvPicPr>
        <p:blipFill>
          <a:blip r:embed="rId1"/>
          <a:stretch/>
        </p:blipFill>
        <p:spPr>
          <a:xfrm>
            <a:off x="6300360" y="2781000"/>
            <a:ext cx="2462400" cy="29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14200" y="428760"/>
            <a:ext cx="8472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Даже в наиболее трудный этап жизни русского периода – време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голо-татарского ига – развивались народные формы физического воспитания: верховая езда, стрельба из лука, метание копья, плавание, борьба, охота и «игрища». Народ ценил и развивал самобытные игры: «верёвочка», «ладошки», бег в мешках, метание мяча и др. Они помогали воспитывать у людей (воинов) стойкость и мужество, высокие моральные и физические качества, что, конечно, помогало в битвах со шведами (1240), немецкими рыцарями на Чудском озере (1242), в битве с войсками Мамая на Куликовом поле (1380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84722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4660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41" strike="noStrike">
                <a:solidFill>
                  <a:srgbClr val="000000"/>
                </a:solidFill>
                <a:latin typeface="Calibri"/>
              </a:rPr>
              <a:t>Наряду с указанными выше заслугами </a:t>
            </a:r>
            <a:r>
              <a:rPr b="0" lang="ru-RU" sz="3200" spc="-41" strike="noStrike" u="sng">
                <a:solidFill>
                  <a:srgbClr val="000000"/>
                </a:solidFill>
                <a:uFillTx/>
                <a:latin typeface="Calibri"/>
              </a:rPr>
              <a:t>П.Ф. Лесгафта</a:t>
            </a:r>
            <a:r>
              <a:rPr b="0" lang="ru-RU" sz="3200" spc="-41" strike="noStrike">
                <a:solidFill>
                  <a:srgbClr val="000000"/>
                </a:solidFill>
                <a:latin typeface="Calibri"/>
              </a:rPr>
              <a:t> в деле развит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енно-физической подготовки и культуры, следует отметить, что он, будучи доктором медицины и доктором хирургии, много занимался разработко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нов теории развития человеческого </a:t>
            </a:r>
            <a:r>
              <a:rPr b="0" lang="ru-RU" sz="3200" spc="-21" strike="noStrike" u="sng">
                <a:solidFill>
                  <a:srgbClr val="000000"/>
                </a:solidFill>
                <a:uFillTx/>
                <a:latin typeface="Calibri"/>
              </a:rPr>
              <a:t>организма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. П. Лесгафтом написаны такие работы, как: «Отношение анатомии к физическому воспитанию и главная задача физическог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ния в школе» (1876), «Руководство по физическому воспитанию детей школьного возраста» (1-я часть вышла в 1888 г, 2-я – в 1901 г.)», «Семейное воспитание», «Основы теоретической анатомии» и др. Им была созда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вторская система физическ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. Лесгафт обращал внимание на то, что задачи обучения должны быть связаны с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возрастными особенностями детей, постоянным совершенствованием человеческого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В 1893 г. по его инициативе было создано </a:t>
            </a:r>
            <a:r>
              <a:rPr b="0" lang="ru-RU" sz="3200" spc="-21" strike="noStrike" u="sng">
                <a:solidFill>
                  <a:srgbClr val="000000"/>
                </a:solidFill>
                <a:uFillTx/>
                <a:latin typeface="Calibri"/>
              </a:rPr>
              <a:t>Петербургское обществ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одействия физическому развитию учащейся молодеж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в 1896 г. при нём были открыты курсы для подготовки руководительниц физических упражнений и игр. В 1905 г. данные курсы были преобразованы в Высшую вольную школу. П. Лесгафт справедливо считается одним из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основоположников отечественной науки о физическом воспитан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4722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628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Рубеж XIX и XX веков оказался для России довольно сложным как во внутренних делах, так и международных (революция 1905-1907 гг., Русско-японская война, I Мировая война). Рост революционных настроений и действий рабочего класса, протесты в деревне, студенческие выступления. Создавались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боевые рабочие дружин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(Москва, Петербург, Иваново, Шуя, Варшава, Лоздь, Одесса, Харьков, Орёл и др. города), которые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активно занимались ФП и оказывали сопротивление царской власт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628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Царское правительство активно противодействовало революционерам в различных формах, как военными средствами, так и путём создания различных обществ, кружков («Общество чтения», «Общество трезвости», «Общество новой религии», гимназические кружки, студенческие клубы при вузах). Студенчество в это время увлекается гимнастикой (конь, перекладина, параллельные брусья), сокольской гимнастикой (общество «Сокол»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00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54880" indent="0">
              <a:lnSpc>
                <a:spcPct val="115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портивные кружки и клубы стали создаваться на крупных промышленных предприятиях (Иваново-Вознесенск, Орехово-Зуево, Кинешма, Шуя и др.). В 1912 г. на Путиловском заводе (Петербург) был создан спортивный кружок любителей спорта, клуб любителей спорта был создан в 1909 г. при фабрике В. Морозова в Орехово-Зуево и на других предприятиях. Фабриканты вкладывали средства в развитие ФК и С, в т.ч. для рабочих. Создавались и «дикие» (не регистрируемые в полиции) кружки рабочих, студентов в Москве, Петербурге, Туле, Ростове, Харькове. Большевики В.И. Ленина использовали спортивную молодёжь для охраны проводимых мероприятий, митингов, шествий, баррикад и др. Власть усилила контроль за спортивными организациями (19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‑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914), была учреждена «Канцелярия главнонаблюдающего за физическим развитием народонаселения Российской Империи» (в июле 1913 г. её возглавил генерал-майор В. Воейков, ему стали подчиняться все спортивные организации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5236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еподавание ФК в школах оставалось на низком уровне, на что обращала внимание властей прогрессивная общественность (не хватало в школе учителей физической культуры, спортивных залов, единых программ обучения). После поражения в войне с Японией на слабый уровень ФП молодёжи стало обращать внимание и военное ведомство. Создаются полувоенные спортивные организации (скауты, кружки сокольской гимнастики). Из скаутов затем готовили офицеров. В своих отрядах они проходили политическую, физическую и военную подготовку. Основными средствами </a:t>
            </a:r>
            <a:r>
              <a:rPr b="0" lang="ru-RU" sz="3100" spc="-100" strike="noStrike">
                <a:solidFill>
                  <a:srgbClr val="000000"/>
                </a:solidFill>
                <a:latin typeface="Calibri"/>
              </a:rPr>
              <a:t>ФП скаутов являлась сокольская гимнастика, лёгкая атлетика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подвижные и спортивные игры, военизированные походы. Руководили ими офицеры, для работы привлекались скаут-мастера из Англии (в России получила распространение книга английского тренера Баден-Пауля «Юные разведчики»), Сокольские кружки были объединены в Союз русского сокольства», в 1914 г. прошёл I съезд «соколов»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422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держке властей было создано и работал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щество содействия Физическому развитию учащейся молодёж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ое способствовало распространению гимнастических игр, спорта среди молодёжи. В 1913-14 гг. состоял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I Всероссийский съезд по вопросам народно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 котором было решено считать основным средством физического воспитания игры, прогулки, гимнастику, экскурсии. Усилилась деятельность студенческих спортивных кружков. Действуе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Петербургский комитет для оказания содействия молодым людям в достижении нравственного и физического развит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 1907 г. были приняты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а о студент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), создаётся Московская студенческая лиг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422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1900 по 1914 г. в России развивались отдельные виды спорта. Культивировались футбол, лыжный и конькобежный спорт, лёгкая атлетика, тяжёлая атлетика, борьба, плавание и другие виды. Большой популярностью пользовался футбол, с 1901 г. действует Петербургская футбольная лига, а с 1911 г.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сероссийский футбольный сою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бъединял 52 команды из 6 городов). Союз был принят в Международную футбольную федерацию. В 1912‑13 гг. состоялись различ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енства России по футбол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362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13 году в г. Киеве состоялись первые Русские олимпийские игры, в которых участвовало около 600 человек, в т.ч. женщины (участвовали только в лёгкой атлетике и фехтовании).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Иностранц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ревнованиях не участвовал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14 году проходили вторые игры (г. Рига), в них участвовало около 1000 человек, представители 24 городов Росс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7400" indent="-2574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грамму Русских олимпийских игр входили: лёгкая атлетика, гимнастика, фехтование, футбол, теннис, тяжёлая атлетика, плавание, гребля, парусный спорт, современное пятиборье, стрельба, конный спорт, велосипедный спор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83293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58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Быстрыми темпами развивался лыжный спорт. Только в Москве в 1910 г. насчитывалось 10 клубов лыжников. Позднее был создан Всероссийский союз лыжебежцев, проводилось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много соревнований, в т.ч. в 1910 г. первое первенство России.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явился такой вид спорта как прыжки на лыжах с трамплина. </a:t>
            </a:r>
            <a:r>
              <a:rPr b="0" lang="ru-RU" sz="3300" spc="-21" strike="noStrike">
                <a:solidFill>
                  <a:srgbClr val="000000"/>
                </a:solidFill>
                <a:latin typeface="Calibri"/>
              </a:rPr>
              <a:t>Успешно развиваются конькобежный спорт. Фигурное катание.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опулярностью в Росси пользовалась борьба. Мировую известность получили борцы И. Поддубный. И. Шемякин. И. Зайкин и др. Распространение получило поднятие тяжестей, в 1913 г. был создан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Всероссийский союз атлетов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58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1908 г. близ Петербурга была открыта школа плавания, положившая начало развитию в России спортивного плавания, а в 1912 г. в Москве создаётся «Общество любителей плавания», плавательные клубы «Сходня» и «Санитас». Развиваются бокс, гребной и парусный спорт, водное поло, современное пятиборье, автомобильный, авиационный и другие виды спорта. Теннис по-прежнему остаётся уделом состоятельных людей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294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800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21" strike="noStrike">
                <a:solidFill>
                  <a:srgbClr val="000000"/>
                </a:solidFill>
                <a:latin typeface="Calibri"/>
              </a:rPr>
              <a:t>Русские спортсмены стали принимать участие в международных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ревнованиях,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впервые 8 человек участвовали в играх IV Олимпиады в Лондон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борцы А. Петров, Н. Орлов, П. Дёмин, В. Замотан, фигурист Н. Панин-Коломейкин и др.). В 1912 г. создан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оссийский олимпийский комит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подготовка к играм в Стокгольме в 1912 г., которые оказались провальными для </a:t>
            </a:r>
            <a:r>
              <a:rPr b="0" lang="ru-RU" sz="3000" spc="-41" strike="noStrike">
                <a:solidFill>
                  <a:srgbClr val="000000"/>
                </a:solidFill>
                <a:latin typeface="Calibri"/>
              </a:rPr>
              <a:t>России – 15-16 место, поделённое с командой Австрии). 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732360" y="591120"/>
            <a:ext cx="2143800" cy="5717520"/>
          </a:xfrm>
          <a:prstGeom prst="rect">
            <a:avLst/>
          </a:prstGeom>
          <a:ln w="9525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712836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вым русским олимпийским чемпионом стал победивший в фигурном катании н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лимпийских играх в Лондоне (1908) Николай Панин-Коломейкин. В протоколах Игр говорилось: «Панин (Россия) был далеко впереди своих соперников, как в трудности своих фигур, так и в красоте и лёгкости их выполнения. Он вырезал на льду серии наиболее совершенных рисунков с почти мистической точностью»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. Панин-Коломейкин всю жизнь отдел физической культуре и спорту, готовил кадры преподавателей, работая в т.ч. в Советской России. Он 12-кратный чемпион России по стрельбе из пистолета, 5-кратный чемпион России по фигурному катанию, автор первого в мире учебника по фигурному катанию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1640" y="548640"/>
            <a:ext cx="8434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894 году Россия была в числе стран-основательниц Международного олимпийского комитета (МОК). В его состав вошёл русский генерал Алексей Дмитриевич Бутовский, который всю жизнь посвятил физическому воспитанию юношей, работая в учебных заведениях имперской России. Идею Олимпийских игр А.Д. Бутовский называл «спасительной для отвечающей насущной потребности духовного и нравственного возрождения молодого поколения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таве Олимпийского комитета, утверждённом Министерством внутренних дел Российской Империи 17 мая 1912 года, говорилось: «С целью объединения всех российских спортсменов и гимнастических учреждений для подготовки к участию в Олимпийских играх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1640" y="476640"/>
            <a:ext cx="4896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63520" indent="0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це XIV века вокруг Московского княжества образуется </a:t>
            </a:r>
            <a:r>
              <a:rPr b="0" lang="ru-RU" sz="3200" spc="-21" strike="noStrike">
                <a:solidFill>
                  <a:srgbClr val="000000"/>
                </a:solidFill>
                <a:latin typeface="Calibri"/>
              </a:rPr>
              <a:t>Русское централизованное государство, что позитивно сказалось на развитии культуры, в т.ч. физической. Широкое распростран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или кулачные бои (в т.ч. на покрытых льдом реках и озёрах, по правилам: «лежачего не бьют», «биться лицом к лицу»), лыжи («лыжная рать») и др. Так, русский полководец М. Скопин-Шуйский сформировал в 1608-1610 гг. отряд лыжников, успешно сражавшийся против польских интервен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148000" y="620640"/>
            <a:ext cx="3676320" cy="4762080"/>
          </a:xfrm>
          <a:prstGeom prst="rect">
            <a:avLst/>
          </a:prstGeom>
          <a:ln w="9525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076000" y="5373360"/>
            <a:ext cx="3826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яз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́л Васи́льевич Скопи́н-Шу́й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240" cy="52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I Мировой войной 1914 г. в России было более 120 спортивных, охотничьих и рыболовных клубов и обществ, спортивные общества и клубы (около 800) объединяли 45-50 тысяч человек. По уровню развития спорт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оссия отставала от Германии. США. Англии. Франции и Шве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годы I Мировой войны власти занима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дготовкой резерв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армии, объявив «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билизацию спор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. Этим пыталось заниматься и Временное правительство после Февральской буржуазно-демократической революции 1917 г. Затем грянула Октябрьская революция, в России установилась Советская вла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. подробно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к Е.Д. Популярная история спорта / Е.Д. Гик, Е.Ю. Гупало. – М.: Академия, 2007. – 448 с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щапов Б.Р. История физической культуры и спорта: учебник для студ. учрежд. высш. проф. образования. 10-е изд., стер. – М. Академия, 201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ьникова Н.Ю. История физической культуры и спорта: учебник / Н.Ю. Мельникова, А.В. Трескин. – М.: Советский спорт, 2013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ССР. Энциклопедический справочник /Под ред. А.М.Прохорова. – М.: Советская энциклопедия, 1979. С. 276-279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5840" y="428760"/>
            <a:ext cx="8400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ысоким развитием ФП отличались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казаки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Запорожья, Дона, Урала, Кубани. О них говорили: стреляет без промаха. Казаки охраняли передовые рубежи России от набегов многочисленных врагов, вели хозяйство, готовили детей к пограничной службе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азвивалась физическая культура и у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народов Средней Азии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стрельба из лука, конные спортивные игры, метание копья, борьба) и Закавказья. Здесь были в почёте бег, прыжки, переноска камня, национальная борьба, верховая езда, что способствовало формированию устойчивых морально-волевых и физических качеств воинов, подростков, детей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«Тормозом» развития ФК и С в то время выступала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церковь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(религия), объявившая народные гуляния и забавы, игры греховным делом (Свод церковных законов «Стоглав» (1551), Домострой (1580) поощряли телесные наказания). Ислам запрещал женщинам не только заниматься физическими упражнениями, но и посещать спортивные мероприятия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1640" y="428760"/>
            <a:ext cx="84348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Киевской Руси у каждого князя имелась своя дружина (конное войско), которое дополнялось пешими войсками, сформированными из мирного населения. Князья были заинтересованы в профессиональной подготовке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дружинников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включая ФП) и военно-физической подготовке ополчения. Были распространены кулачные бои, борьба, игры, стрельба из лука, охота, верховая езда). Проводились спортивные соревнования в верховой езде под руководством князя Изъяслава Мстиславовича (Киев, 1150), военные игры и турниры князя Владимира Мономаха (XI в.). В XV веке на Руси создаётся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поместное войско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а с середины XVI в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Иван Грозны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создаёт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Calibri"/>
              </a:rPr>
              <a:t>постоянные войска – стрелецкие полки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, которые содержит не дворянство (в обмен на землю и крепостных – поместья), а централизованная власть. Стрельцы были достаточно хорошо подготовлены, в т.ч. и физически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это же время стал появляться и широко распространяться интерес к таким занятиям («забавам») как качели, игры с мячом, катание на санях, коньках.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User\Documents\Глотов 2011\Спорт\Avicenna-miniatur.jpg"/>
          <p:cNvPicPr/>
          <p:nvPr/>
        </p:nvPicPr>
        <p:blipFill>
          <a:blip r:embed="rId1"/>
          <a:stretch/>
        </p:blipFill>
        <p:spPr>
          <a:xfrm>
            <a:off x="7452360" y="980640"/>
            <a:ext cx="1547280" cy="15444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2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1.1. Развитие научно-педагогической мысли и медицины во времена Киевской Рус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640" y="1196640"/>
            <a:ext cx="84006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о оно осуществлялось в то время в Средней Ази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днее вошедшей в состав Российской Импери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IX-XII вв. в Средней Азии ФК и С ста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 леч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знаменитые сочинения Авице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бн Сины – 980-1037) – «Исцеления»», «Канон врачеб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ки» рассказывают о лечении природными средствами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ом образе жизни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игинальным педагогическим сочинением на Руси стала книга монаха Епифания Славинецкого (XVII в.) «Гражданство обычаев детских», где говорилось о ФП. К «пригодным» играм Епифаний относил игры в мяч, бег, прыжки, а к «непригодным» – в кости, карты и т.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5056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лом, в это время активно формирова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родная физическая культу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К господствующего клас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оспитывались ловкость, смелость, сила, выносливость. В формах ФК и 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обладали военно-физическая подгото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явили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ые теоретические работы по ФП. медицине. ЗО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Реферат петру 1"/>
          <p:cNvPicPr/>
          <p:nvPr/>
        </p:nvPicPr>
        <p:blipFill>
          <a:blip r:embed="rId1"/>
          <a:stretch/>
        </p:blipFill>
        <p:spPr>
          <a:xfrm>
            <a:off x="7122960" y="1772640"/>
            <a:ext cx="1683360" cy="208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1.2. Физическая культура и спорт в Росс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XVIII до второй половины XIX 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1412640"/>
            <a:ext cx="840060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й период характеризуется многими переменами в жизни нашей страны. Большое значение имели, например, экономические, политически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ы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формы Петра 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его военные преобразования и победы. Были созда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ые условия и для развития науки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ьтуры (основана Академия наук, проводились многие экспедиции, исследования, выходила газета «Ведомости», действовал русский театр и т.д.)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первые в отдельных учебных заведениях с качестве самостоятельного предмета было введено физическое 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Значительно укрепилась армия, был создан военно-морской фло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8400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75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быту русского и других народов, входивших в состав Российской Империи, популярностью пользовались физические упражнения, «игры» и развлечения, которые постоянно совершенствовались. Это кулачные бои по правилам (Указ Екатерины I «О кулачных боях»), катание на санях, лыжах, коньках, игры в мяч, бабки и городки, русская забава «свайка». Кулачные бои стали проводиться под присмотром (с разрешения) полиции (бойцы записывали свои фамилии в полицейской канцелярии)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  <a:p>
            <a:pPr marL="275400" indent="-2754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Сибири и на Урале большой популярностью пользовались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alibri"/>
              </a:rPr>
              <a:t>лыжи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– как в хозяйственной деятельности, так и в военном деле. В 1774 г. Емельян Пугачёв использовал при осаде Оренбурга лыжные отряды, отличавшиеся особой маневренностью, сам он был хорошим стрелком и наездником.</a:t>
            </a:r>
            <a:endParaRPr b="0" lang="ru-RU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  <Words>948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6:01:10Z</dcterms:created>
  <dc:creator>Pevtsova</dc:creator>
  <dc:description/>
  <dc:language>en-US</dc:language>
  <cp:lastModifiedBy>Сотрудник</cp:lastModifiedBy>
  <dcterms:modified xsi:type="dcterms:W3CDTF">2015-06-03T13:07:22Z</dcterms:modified>
  <cp:revision>87</cp:revision>
  <dc:subject/>
  <dc:title>Лекция 4. Физическая культура в России с древнейших времен до второй половины XIX 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1</vt:r8>
  </property>
</Properties>
</file>