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E2B-F462-4E53-B7C5-AE89B3F8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F70-58D4-4B6F-A05E-B9A5E20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98F-BC80-4810-A909-FBFCB45D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E2F-5498-45D0-B0A0-09143E34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5D27-19FD-491C-A92C-4760D5AD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CE1-F64C-4A4A-99A0-5FC2CA1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DF28-520F-4A21-B927-468B72B1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DC62-972C-42F8-89DC-4B0FF0F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AE73-2D1C-4241-AD6F-5F141BB3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739A-A205-4F53-8605-3E4CD218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659-7A9F-4F1A-9C0E-4223D19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03E-A454-4B1F-90B1-F3E04EEF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18E-1909-41A1-A8CE-6EADD57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7188-0BEB-44F8-8F20-D1D086B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62E-F6A6-4BFB-B720-1F1A7ADB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1BCC-2981-4C33-BFA0-538B4AB4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967-3543-4B3D-8311-0CD35862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9262-3F4D-4795-93BD-2C072855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28F1-E1B1-4976-8A54-441B0C24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4BE2-3FA5-4176-9138-2442D0C2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BA67-E378-4EA9-B76C-0C7C96F1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F4BC-A248-40BC-970F-D95F086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24B-BFF3-4D70-A27D-5DD92F21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E55F-B223-4169-9089-DF6DD7CC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22EA-DCBB-430A-A1FB-E2DA2CEF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9B43-0525-4413-89A1-D4CF6B2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ADBC-FBF7-4AE7-9C5C-189125A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F15A-5597-47D2-85AA-8D70E5CB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0F48-51CA-4D49-A03C-02846934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4E74-DF0C-4F6A-849F-367486B8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F66-985A-46FB-B541-5ABD89CA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9CE-3F7D-49D8-9D1A-20FAEEB3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024-1B13-48EE-96B4-B7DEE558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E48-1085-45C3-BA3C-F7D9C7C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849-9E9E-4952-9EEE-39199D4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09E-2CA2-4405-81E8-F10E30F8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4E3BAC-D65A-41D8-854A-529A75E532DB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EA63CC7-DD34-4F9F-A205-5D95088EC2E5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96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a0c1d5">
                  <a:alpha val="7058"/>
                </a:srgbClr>
              </a:gs>
              <a:gs pos="100000">
                <a:srgbClr val="a0c1d5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904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7FB309B-8048-47D0-B51C-E3AFEFFE3E3F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8118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1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dfe3e5"/>
                </a:solidFill>
                <a:latin typeface="Century Gothic"/>
              </a:rPr>
              <a:t>Внедрение фитнес-аэробики в общеобразовательную программу по физической культуре как инновационное направление повышении качества образования в МАОУ «Земская гимназия»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23880" y="419940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chemeClr val="accent1"/>
                </a:solidFill>
                <a:latin typeface="Century Gothic"/>
              </a:rPr>
              <a:t>Учитель физической культуры, перв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chemeClr val="accent1"/>
                </a:solidFill>
                <a:latin typeface="Century Gothic"/>
              </a:rPr>
              <a:t>Ковалюк О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200" spc="-1" strike="noStrike">
                <a:solidFill>
                  <a:srgbClr val="dfe3e5"/>
                </a:solidFill>
                <a:latin typeface="Century Gothic"/>
              </a:rPr>
              <a:t>Что такое детский фитнес?</a:t>
            </a: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Helvetica Neue"/>
              </a:rPr>
              <a:t>Детский фитнес – это спортивные комплексные занятия, которые включают в себя аэробику, йогу, восточные единоборства, хореографию, плаванье, упражнения на осанку, а также элементы гимнастики.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06000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rgbClr val="dfe3e5"/>
                </a:solidFill>
                <a:latin typeface="Century Gothic"/>
              </a:rPr>
              <a:t>Спортивная аэробика</a:t>
            </a:r>
            <a:br>
              <a:rPr sz="1600"/>
            </a:br>
            <a:r>
              <a:rPr b="0" lang="ru-RU" sz="1600" spc="-1" strike="noStrike">
                <a:solidFill>
                  <a:srgbClr val="dfe3e5"/>
                </a:solidFill>
                <a:latin typeface="Century Gothic"/>
              </a:rPr>
              <a:t>Аэробика представляет собою комплексную гимнастику, которая состоит из различных аэробных упражнений, выполняемых зачастую под музыкальное сопровождение. Спортивная аэробика — одна из наиболее эффективных методик повышения двигательной активности. Занятия ею могут способствовать повышению функциональных возможностей нервной, дыхательной и сердечно-сосудистой систем, а также развитию координации, гибкости и пластики движений. Кроме того, детская аэробика формирует правильные жизненные установки, приучая с самого детства ребенка к ведению здорового образа жизни. А приобщение детей к групповым занятиям позволяет им в дальнейшем не бояться принимать участие в соревнованиях и спортивных играх. 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tretch/>
        </p:blipFill>
        <p:spPr>
          <a:xfrm>
            <a:off x="0" y="2356560"/>
            <a:ext cx="5870880" cy="46335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6030000" y="2356560"/>
            <a:ext cx="6161400" cy="46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712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Times New Roman"/>
                <a:ea typeface="Calibri"/>
              </a:rPr>
              <a:t>В чем его отличие от обычных занятий физкультурой и спортивных школ? </a:t>
            </a:r>
            <a:br>
              <a:rPr sz="3600"/>
            </a:b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01400"/>
            <a:ext cx="10515240" cy="53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Формат занятий — игровой и увлекательны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Программы — индивидуальные, исходя из психофизического состояния ребенка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Развитие всех групп мышц происходит равномерно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Отсутствует система личностных соревнований и оценок. Дети посещают занятия с удовольствием — расстраиваться от проигрыша не придется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Обязательная физкультура и спортивные занятия в секциях привлекают ребенка меньше, чем игровые мероприятия под музыку в комфортных психологических условиях и с учетом адаптированных нагрузок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Малая травматичность. То есть, безопасность заняти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1cade4"/>
              </a:buClr>
              <a:buSzPct val="80000"/>
              <a:buFont typeface="Symbol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Calibri"/>
              </a:rPr>
              <a:t>Разнообразие занятий.</a:t>
            </a: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dfe3e5"/>
                </a:solidFill>
                <a:latin typeface="Century Gothic"/>
              </a:rPr>
              <a:t>Цель</a:t>
            </a:r>
            <a:r>
              <a:rPr b="0" lang="ru-RU" sz="3200" spc="-1" strike="noStrike">
                <a:solidFill>
                  <a:srgbClr val="dfe3e5"/>
                </a:solidFill>
                <a:latin typeface="Century Gothic"/>
              </a:rPr>
              <a:t>: развитие и коррекция физических качеств у учащихся и формирование навыков здорового образа жизни.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витие основных физических качеств: силы, выносливости, быстроты, гибкости, координационных способностей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ышение работоспособности и двигательной активност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оспитание правильной осанк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витие музыкальности, чувства ритм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ормализации массы тел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лучшение психического состояния, снятие стрессов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вышение интереса к занятиям физкультурой, развитие потребности в систематических занятиях спортом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360" y="198720"/>
            <a:ext cx="117039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9600" spc="-1" strike="noStrike">
                <a:solidFill>
                  <a:srgbClr val="dfe3e5"/>
                </a:solidFill>
                <a:latin typeface="Century Gothic"/>
              </a:rPr>
              <a:t>Легкая атлетика…</a:t>
            </a:r>
            <a:endParaRPr b="0" lang="ru-RU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22320" y="1690560"/>
            <a:ext cx="5744160" cy="51670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6154200" y="1690560"/>
            <a:ext cx="601524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dfe3e5"/>
              </a:solidFill>
              <a:latin typeface="Century Gothic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5520" cy="68576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60955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86080" y="103680"/>
            <a:ext cx="94042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fe3e5"/>
                </a:solidFill>
                <a:latin typeface="Century Gothic"/>
              </a:rPr>
              <a:t>Спасибо за внимание!</a:t>
            </a:r>
            <a:br>
              <a:rPr sz="4200"/>
            </a:br>
            <a:endParaRPr b="0" lang="ru-RU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792360" y="875520"/>
            <a:ext cx="9984960" cy="58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Ион">
  <a:themeElements>
    <a:clrScheme name="Синий II">
      <a:dk1>
        <a:srgbClr val="000000"/>
      </a:dk1>
      <a:lt1>
        <a:srgbClr val="ffffff"/>
      </a:lt1>
      <a:dk2>
        <a:srgbClr val="335b74"/>
      </a:dk2>
      <a:lt2>
        <a:srgbClr val="dfe3e5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  <Words>222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8T18:50:43Z</dcterms:created>
  <dc:creator>user</dc:creator>
  <dc:description/>
  <dc:language>en-US</dc:language>
  <cp:lastModifiedBy>user</cp:lastModifiedBy>
  <dcterms:modified xsi:type="dcterms:W3CDTF">2017-12-18T20:33:44Z</dcterms:modified>
  <cp:revision>7</cp:revision>
  <dc:subject/>
  <dc:title>Внедрение фитнес-аэробики в общеобразовательную программу по физической культуре как инновационное направление повышении качества образования в МАОУ «Земская гимнази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