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EEA-0661-42D9-8A5E-24E3E862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9E5-5901-4832-B068-AE158BB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EA3-5EB1-4DFD-8E90-852F5F77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133-DE34-4F2D-BC4D-D0ACF3C4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CF2C-F10A-4304-9789-B4B9A32D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DFAB-E3D9-4D82-A709-EE5F62BC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FD6D-C8AB-437B-8C05-E471006A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6E2-0254-4962-B844-ABF4CFF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C682-EF3C-4017-A375-472625C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8EB5-79CC-4B65-BA9B-AFE8A06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855-F945-46BE-9B8B-E9097C8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47E-C422-4128-B722-192001E7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0520-01ED-446B-BA7E-4FDD7D2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521F-7D17-4FDA-A46C-A7420C6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64A2-5AB1-49E0-B34C-85E1C95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9F0-447F-4624-B76A-D8FAA044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E2CC-0B49-4F04-8385-4C90849B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DB85-A1BB-485F-925A-964DE9EF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1BBC-C87C-40FC-99D0-C6437AC9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FDBD-24BC-44DD-AB3D-2E437E7B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9B63-FA5B-4DC2-A640-DF7821A3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5D8D-931E-47C9-BE2C-A98FFB06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B97-A0C9-4781-B222-2EBDCB02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7C0B-D593-45F1-941D-96B47167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CB25-AE38-43BD-B1ED-E47A3AF1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31E5-AC00-463D-B6C2-3E2CB85D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8C35-C31B-4450-9BB2-C5C3646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5FD9-5601-43A2-B8D1-1B812DF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031E-9DE4-4D97-B29C-CF2CF284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FE0F-E45A-40D3-9676-FAFF66F6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CC3-F1DE-402A-81EA-40E739BB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F7F-16D7-4B1B-B38D-F35A1D5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5E4-1588-4B95-9B3D-220F16CF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BB0-3818-4282-B05D-1778D21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420-951C-4088-837F-AC742668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978-A2AC-43BD-8047-A0E78C8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62BA03-378E-4BE2-8FC3-40889B30BD1F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D4C061-B8D8-417B-89FD-5E766677790C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96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03B609-7968-4F7C-A7E3-30FA6B030ED0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8118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dfe3e5"/>
                </a:solidFill>
                <a:latin typeface="Century Gothic"/>
              </a:rPr>
              <a:t>Внедрение фитнес-аэробики в общеобразовательную программу по физической культуре как инновационное направление повышении качества образования в МАОУ «Земская гимназия»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23880" y="419940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chemeClr val="accent1"/>
                </a:solidFill>
                <a:latin typeface="Century Gothic"/>
              </a:rPr>
              <a:t>Учитель физической культуры, перв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chemeClr val="accent1"/>
                </a:solidFill>
                <a:latin typeface="Century Gothic"/>
              </a:rPr>
              <a:t>Ковалюк О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dfe3e5"/>
                </a:solidFill>
                <a:latin typeface="Century Gothic"/>
              </a:rPr>
              <a:t>Что такое детский фитнес?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Helvetica Neue"/>
              </a:rPr>
              <a:t>Детский фитнес – это спортивные комплексные занятия, которые включают в себя аэробику, йогу, восточные единоборства, хореографию, плаванье, упражнения на осанку, а также элементы гимнастики.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0600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dfe3e5"/>
                </a:solidFill>
                <a:latin typeface="Century Gothic"/>
              </a:rPr>
              <a:t>Спортивная аэробика</a:t>
            </a:r>
            <a:br>
              <a:rPr sz="1600"/>
            </a:br>
            <a:r>
              <a:rPr b="0" lang="ru-RU" sz="1600" spc="-1" strike="noStrike">
                <a:solidFill>
                  <a:srgbClr val="dfe3e5"/>
                </a:solidFill>
                <a:latin typeface="Century Gothic"/>
              </a:rPr>
              <a:t>Аэробика представляет собою комплексную гимнастику, которая состоит из различных аэробных упражнений, выполняемых зачастую под музыкальное сопровождение. Спортивная аэробика — одна из наиболее эффективных методик повышения двигательной активности. Занятия ею могут способствовать повышению функциональных возможностей нервной, дыхательной и сердечно-сосудистой систем, а также развитию координации, гибкости и пластики движений. Кроме того, детская аэробика формирует правильные жизненные установки, приучая с самого детства ребенка к ведению здорового образа жизни. А приобщение детей к групповым занятиям позволяет им в дальнейшем не бояться принимать участие в соревнованиях и спортивных играх. 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tretch/>
        </p:blipFill>
        <p:spPr>
          <a:xfrm>
            <a:off x="0" y="2356560"/>
            <a:ext cx="5870880" cy="46335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6030000" y="2356560"/>
            <a:ext cx="6161400" cy="46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712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Times New Roman"/>
                <a:ea typeface="Calibri"/>
              </a:rPr>
              <a:t>В чем его отличие от обычных занятий физкультурой и спортивных школ? </a:t>
            </a:r>
            <a:br>
              <a:rPr sz="3600"/>
            </a:b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01400"/>
            <a:ext cx="10515240" cy="53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Формат занятий — игровой и увлекательны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Программы — индивидуальные, исходя из психофизического состояния ребенка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Развитие всех групп мышц происходит равномерно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Отсутствует система личностных соревнований и оценок. Дети посещают занятия с удовольствием — расстраиваться от проигрыша не придется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Обязательная физкультура и спортивные занятия в секциях привлекают ребенка меньше, чем игровые мероприятия под музыку в комфортных психологических условиях и с учетом адаптированных нагрузок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Малая травматичность. То есть, безопасность заняти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Разнообразие заняти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dfe3e5"/>
                </a:solidFill>
                <a:latin typeface="Century Gothic"/>
              </a:rPr>
              <a:t>Цель</a:t>
            </a:r>
            <a:r>
              <a:rPr b="0" lang="ru-RU" sz="3200" spc="-1" strike="noStrike">
                <a:solidFill>
                  <a:srgbClr val="dfe3e5"/>
                </a:solidFill>
                <a:latin typeface="Century Gothic"/>
              </a:rPr>
              <a:t>: развитие и коррекция физических качеств у учащихся и формирование навыков здорового образа жизни.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витие основных физических качеств: силы, выносливости, быстроты, гибкости, координационных способностей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ышение работоспособности и двигательной активност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спитание правильной осанк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витие музыкальности, чувства ритм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ормализации массы тел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лучшение психического состояния, снятие стрессов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ышение интереса к занятиям физкультурой, развитие потребности в систематических занятиях спортом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360" y="198720"/>
            <a:ext cx="117039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>
                <a:solidFill>
                  <a:srgbClr val="dfe3e5"/>
                </a:solidFill>
                <a:latin typeface="Century Gothic"/>
              </a:rPr>
              <a:t>Легкая атлетика…</a:t>
            </a:r>
            <a:endParaRPr b="0" lang="ru-RU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22320" y="1690560"/>
            <a:ext cx="5744160" cy="5167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6154200" y="1690560"/>
            <a:ext cx="601524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dfe3e5"/>
              </a:solidFill>
              <a:latin typeface="Century Gothic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5520" cy="68576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6095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86080" y="103680"/>
            <a:ext cx="94042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Спасибо за внимание!</a:t>
            </a:r>
            <a:br>
              <a:rPr sz="4200"/>
            </a:b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792360" y="875520"/>
            <a:ext cx="9984960" cy="58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  <Words>222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8T18:50:43Z</dcterms:created>
  <dc:creator>user</dc:creator>
  <dc:description/>
  <dc:language>en-US</dc:language>
  <cp:lastModifiedBy>user</cp:lastModifiedBy>
  <dcterms:modified xsi:type="dcterms:W3CDTF">2017-12-18T20:33:44Z</dcterms:modified>
  <cp:revision>7</cp:revision>
  <dc:subject/>
  <dc:title>Внедрение фитнес-аэробики в общеобразовательную программу по физической культуре как инновационное направление повышении качества образования в МАОУ «Земская гимназ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