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D20-0A6E-4594-B39D-CB4C10F9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8E6-E0D1-4D3A-BCA1-6C1E1BF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B38-7908-4246-BB26-11E1DAF4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F10-031B-4E98-ACC4-E9A35EA2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46A-EE2F-4125-88EA-24FBAA97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3AFA-71EB-4E6C-92E3-7604AB8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F4ED-5BA7-411E-B092-BFB60E32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AB7F-F489-471B-9712-B15CB24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215-8843-4DA1-9CD1-50391A04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2715-77D0-41B2-967F-9D35A856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AB0-C29C-454E-8E90-27E7B33B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1EF-006B-465E-B957-F867DA1C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E35-A086-4F2F-B4A8-7FE4DC1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DF38-8551-477E-B347-D0C3F7F0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9371-3C8E-457C-9C92-D8ECAA91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4D9-933F-4BB6-9B29-952A6D85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CF9-3EBE-44DA-9EF6-09C6083E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5A7E-FEC2-4F62-85A2-8AC069B6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D85B-233A-48E7-B0C9-CA509A3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DDEC-006C-4D08-A5ED-C5FD6725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73E3-D8C5-4FA6-9DC4-4D71BC3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6EB2-45B0-4378-9012-6D8DB37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F7D-DA22-451E-9D60-50D5EBC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C5B0-8A5B-4CCF-8934-86C021E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14A3-CAD1-4D83-8CC4-4AC53C6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CA72-2CDD-440B-A4FC-0E33E67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2EBD-B320-4034-9551-70AF936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F448-0AB5-4BC3-80AD-872F81B2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F3C1-52B5-42FC-9B23-82D71ED3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AE67-4623-48AE-A1D0-3A972886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B19-9D9E-45B9-A02F-D41C6FC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348-9EBE-4CF6-B4B5-286F21E9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089-0A6F-427E-AB44-38AD0B4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09F-579C-46AB-B993-4EF85CD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8DE-F448-4A71-B9E9-1F2586D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B39-18BF-4B26-9B8E-84A0621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F66720-AF88-45C0-94D7-EF4D976B222F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E95BA07-8D0C-49FA-BA98-EC03A63F7F98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96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1FB6DC-9977-461D-877F-DA62F1D3E98A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8118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dfe3e5"/>
                </a:solidFill>
                <a:latin typeface="Century Gothic"/>
              </a:rPr>
              <a:t>Внедрение фитнес-аэробики в общеобразовательную программу по физической культуре как инновационное направление повышении качества образования в МАОУ «Земская гимназия»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23880" y="419940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chemeClr val="accent1"/>
                </a:solidFill>
                <a:latin typeface="Century Gothic"/>
              </a:rPr>
              <a:t>Учитель физической культуры, перв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chemeClr val="accent1"/>
                </a:solidFill>
                <a:latin typeface="Century Gothic"/>
              </a:rPr>
              <a:t>Ковалюк О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dfe3e5"/>
                </a:solidFill>
                <a:latin typeface="Century Gothic"/>
              </a:rPr>
              <a:t>Что такое детский фитнес?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Helvetica Neue"/>
              </a:rPr>
              <a:t>Детский фитнес – это спортивные комплексные занятия, которые включают в себя аэробику, йогу, восточные единоборства, хореографию, плаванье, упражнения на осанку, а также элементы гимнастики.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0600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dfe3e5"/>
                </a:solidFill>
                <a:latin typeface="Century Gothic"/>
              </a:rPr>
              <a:t>Спортивная аэробика</a:t>
            </a:r>
            <a:br>
              <a:rPr sz="1600"/>
            </a:br>
            <a:r>
              <a:rPr b="0" lang="ru-RU" sz="1600" spc="-1" strike="noStrike">
                <a:solidFill>
                  <a:srgbClr val="dfe3e5"/>
                </a:solidFill>
                <a:latin typeface="Century Gothic"/>
              </a:rPr>
              <a:t>Аэробика представляет собою комплексную гимнастику, которая состоит из различных аэробных упражнений, выполняемых зачастую под музыкальное сопровождение. Спортивная аэробика — одна из наиболее эффективных методик повышения двигательной активности. Занятия ею могут способствовать повышению функциональных возможностей нервной, дыхательной и сердечно-сосудистой систем, а также развитию координации, гибкости и пластики движений. Кроме того, детская аэробика формирует правильные жизненные установки, приучая с самого детства ребенка к ведению здорового образа жизни. А приобщение детей к групповым занятиям позволяет им в дальнейшем не бояться принимать участие в соревнованиях и спортивных играх. 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tretch/>
        </p:blipFill>
        <p:spPr>
          <a:xfrm>
            <a:off x="0" y="2356560"/>
            <a:ext cx="5870880" cy="46335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6030000" y="2356560"/>
            <a:ext cx="6161400" cy="46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712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Times New Roman"/>
                <a:ea typeface="Calibri"/>
              </a:rPr>
              <a:t>В чем его отличие от обычных занятий физкультурой и спортивных школ? </a:t>
            </a:r>
            <a:br>
              <a:rPr sz="3600"/>
            </a:b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01400"/>
            <a:ext cx="10515240" cy="53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Формат занятий — игровой и увлекательны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Программы — индивидуальные, исходя из психофизического состояния ребенка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Развитие всех групп мышц происходит равномерно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Отсутствует система личностных соревнований и оценок. Дети посещают занятия с удовольствием — расстраиваться от проигрыша не придется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Обязательная физкультура и спортивные занятия в секциях привлекают ребенка меньше, чем игровые мероприятия под музыку в комфортных психологических условиях и с учетом адаптированных нагрузок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Малая травматичность. То есть, безопасность заняти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Разнообразие заняти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dfe3e5"/>
                </a:solidFill>
                <a:latin typeface="Century Gothic"/>
              </a:rPr>
              <a:t>Цель</a:t>
            </a:r>
            <a:r>
              <a:rPr b="0" lang="ru-RU" sz="3200" spc="-1" strike="noStrike">
                <a:solidFill>
                  <a:srgbClr val="dfe3e5"/>
                </a:solidFill>
                <a:latin typeface="Century Gothic"/>
              </a:rPr>
              <a:t>: развитие и коррекция физических качеств у учащихся и формирование навыков здорового образа жизни.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витие основных физических качеств: силы, выносливости, быстроты, гибкости, координационных способностей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ышение работоспособности и двигательной активност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спитание правильной осанк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витие музыкальности, чувства ритм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ормализации массы тел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лучшение психического состояния, снятие стрессов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ышение интереса к занятиям физкультурой, развитие потребности в систематических занятиях спортом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360" y="198720"/>
            <a:ext cx="117039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>
                <a:solidFill>
                  <a:srgbClr val="dfe3e5"/>
                </a:solidFill>
                <a:latin typeface="Century Gothic"/>
              </a:rPr>
              <a:t>Легкая атлетика…</a:t>
            </a:r>
            <a:endParaRPr b="0" lang="ru-RU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22320" y="1690560"/>
            <a:ext cx="5744160" cy="5167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6154200" y="1690560"/>
            <a:ext cx="601524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dfe3e5"/>
              </a:solidFill>
              <a:latin typeface="Century Gothic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5520" cy="68576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6095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86080" y="103680"/>
            <a:ext cx="94042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Спасибо за внимание!</a:t>
            </a:r>
            <a:br>
              <a:rPr sz="4200"/>
            </a:b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792360" y="875520"/>
            <a:ext cx="9984960" cy="58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  <Words>222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8T18:50:43Z</dcterms:created>
  <dc:creator>user</dc:creator>
  <dc:description/>
  <dc:language>en-US</dc:language>
  <cp:lastModifiedBy>user</cp:lastModifiedBy>
  <dcterms:modified xsi:type="dcterms:W3CDTF">2017-12-18T20:33:44Z</dcterms:modified>
  <cp:revision>7</cp:revision>
  <dc:subject/>
  <dc:title>Внедрение фитнес-аэробики в общеобразовательную программу по физической культуре как инновационное направление повышении качества образования в МАОУ «Земская гимназ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