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4BB-DD48-432E-AC38-6490FD3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2DD-D497-473A-B3A4-F83E58F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B1FB6-CCC1-49B3-A21C-A4DA74F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D6E8F-6B19-42A9-98BC-EA116E6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14A8F-2431-4B28-A863-74BE11C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4DF9-66D0-4453-B5D8-1BAE712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BD349-5ECA-44F9-966D-BFDC4B1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BAF0A-9569-4DB3-9D54-A20AD2B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80539-2A2C-438D-9FF8-B1D46F3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0C46D-E75B-4CD1-8ED0-05CF819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B83D5-F914-4E13-A907-22D0A2F4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D1D-AC52-4C0C-ACF3-12AAF45C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D25-E73A-4702-BA1A-93ADAE0D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58F2-4B00-4489-8C69-1564E7AD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217-7AF6-4187-8C79-ED2DCE9A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5C55-6D63-459C-8D02-1C45052B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B9B-4A59-45DE-A107-8A61608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5A0-239A-4DE9-9520-20FAC0CD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6B20-8E78-4455-8A6C-D239142D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F201-F2D5-47F5-A0CB-FF268C35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7A1-38C2-443D-8AFD-6A60C0D2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D255-F9D2-43D9-868A-E23A0DE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8F6F-5AE7-494D-85F8-0181D9D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C89-7BAD-4807-B862-39A4998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7ADA-56E5-4D33-A60B-DDB581E6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20DC-82E3-463D-B0E0-30672BE6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6DEB-3FFA-4BD3-8512-8ACEB59F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449B-6C48-4B45-AD16-8A1C68C3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3345-54E8-4F75-9FE5-B7AA0F87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50DA-068C-4F7C-9880-5D100B68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6E84-6DF2-41D0-8F04-5B2008A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198-E3FA-4651-9FFD-5BF8BCF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F494-BB66-4660-B845-227DB4A6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ED83-2417-4C1D-A101-6DB26F4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2512-4943-4DBF-B8DB-5044730D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0FA3-57B9-4B9A-855A-C783281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002F-056B-4A0A-9A2C-2AA621FC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6AB2-E6ED-45C3-9257-5A273B5A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4168-92FB-41C7-8F04-9A9853E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2AD2-BC62-43AB-8211-B5190BFE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D8B1-028F-40BB-A8F8-CA612C23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9A76-2E71-4682-80F2-498B2937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078-1D67-4C82-B46D-DA8EEB77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931B-D0EA-406E-8B2C-345D33B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3EE1-5B7A-4E47-A5CB-AA5AFA6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15A2-086B-4F76-B6D4-9192C70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6EA5-E446-4678-8A4D-A841AB3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B1CA-A418-4AE7-BA8D-E236036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13D5-0F1A-44E2-B3CA-0A9E0AA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1ECA-93C7-450D-AABE-18040DA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DC75-D9A5-4E82-B43F-CD2BF541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DD33-A726-4723-81F0-5E3FB582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0D8B-D288-49C3-844B-A9859BC6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5FB-960D-4161-9E50-C0B44648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3D3EA-7220-4028-B1A0-21416F93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D845-1FC5-4AF5-AEBF-78364A7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6E71-2EC2-4868-A7DE-1331591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262B-6936-4615-A3E9-1ABC99D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265FB-CD3A-4378-A564-2FC2D63F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3ADE5-DB86-4B50-8C85-54EC42A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0D0B-D530-445C-84F7-544E843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602A-59ED-4ADF-B418-BF49E2C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E0EE-A7C5-4E34-86C0-EFAF8E19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63EF-3FFC-4279-9880-27FA2183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417-8E34-41EE-91F9-458C0D88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020C0-2AFD-4FD4-9DCD-B9C2C6A4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48DC-FFDB-4F24-8D69-C7C8493D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3E50-5C06-494A-9F35-003E71A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A927-3A6E-406F-93BB-26D1758D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5FC4-A972-4513-9ED8-D7788EF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11EA-4BE5-459C-9AFD-33EEE35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EB15-7390-446D-AC0A-E062C97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0E5F-A53F-42B9-88D0-DEB3BE2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3455-373A-47D3-B708-F21195F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E61D-CC4F-44EB-A3B5-59767DB7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D08-08DB-4048-B393-CD85DA9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A89E-B4E0-4A3A-9AB6-373A9DD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E99A-2D89-4793-BD42-4352137B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0AFE1-ED6D-435C-B885-4609B59A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9A38-A46B-4344-954C-8CF090BC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C71FA-F457-4009-B284-D86BFC2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4680-BC31-44E7-83A9-EDE16FC4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1369-CC70-4598-B56F-4F7D7CA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C9EB-558C-482C-8F96-9DBE8B8A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8ECA-393B-48C0-AD17-A658354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D42C-3D57-4598-AE5A-1AC94D8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934-CD26-4426-B917-C511151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5BA9-BB6C-4856-A902-A926E34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75C6-B9A6-4065-98B2-D598BA2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3AB2B-082E-454D-A70C-E121E7F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EB3E5-A174-4C09-A874-11B83D9E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3044-5510-4DF5-93D6-A4B2095F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28A1-A3C4-4EAA-83C2-C0F64D78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C76B-D86E-418F-9D35-99BFDA4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D7038-DAD4-4E1D-8938-2A694515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5F2E-317D-4317-98DB-B450A23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99C3B-5A0A-4C45-B222-FE447503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669-9226-4A0D-A972-B752074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69486-7C89-4A01-A853-6B43C39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DF9B-B38A-48AC-A414-133D948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BADCE-5D62-45A7-94B7-F09CCB5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79CEF-2F94-4158-9EFC-77910A0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FD70-3B8A-427C-AE08-984054C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25CF-6B3B-44D7-83DC-25CEA2C0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9B40-6545-4667-A407-45E9D664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B23AD-AEA3-40A0-9843-3FEC4A76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C59B2-085A-4911-994A-D8B96C5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B4403-D349-4702-9F99-56D5F9D2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98E-9815-434E-A3CE-66CA5B678C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0C2-81DD-4BA4-BFB6-383BA521CC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177-15C4-44DC-AF34-07C41B650E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D6C8-BC93-4144-A428-DAB3EDDD43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1FF6-463C-476E-8CE4-E0B1B6CD81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6460-0ADD-4934-B4E1-0354362700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8F2-B4DA-4C6D-A0AD-C28C15618B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6D4-0CCB-44C5-98C7-00FF1D1606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1FD-03E6-4E16-AF26-59215AB8D6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28720" y="1822320"/>
            <a:ext cx="7772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608040" y="1268280"/>
            <a:ext cx="212724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2005200" cy="1757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4"/>
          <a:stretch/>
        </p:blipFill>
        <p:spPr>
          <a:xfrm>
            <a:off x="6278400" y="1268280"/>
            <a:ext cx="2016360" cy="1757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5"/>
          <a:stretch/>
        </p:blipFill>
        <p:spPr>
          <a:xfrm>
            <a:off x="608040" y="3801960"/>
            <a:ext cx="2127240" cy="1714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6"/>
          <a:stretch/>
        </p:blipFill>
        <p:spPr>
          <a:xfrm>
            <a:off x="3492360" y="3797280"/>
            <a:ext cx="2005200" cy="1719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6278400" y="3801960"/>
            <a:ext cx="2016360" cy="1714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5"/>
          <p:cNvSpPr/>
          <p:nvPr/>
        </p:nvSpPr>
        <p:spPr>
          <a:xfrm>
            <a:off x="12600" y="3017880"/>
            <a:ext cx="33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3395520" y="302724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6175080" y="3059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7240" y="544500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3059280" y="5445000"/>
            <a:ext cx="30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10"/>
          <p:cNvSpPr/>
          <p:nvPr/>
        </p:nvSpPr>
        <p:spPr>
          <a:xfrm>
            <a:off x="6146280" y="5537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44" name="Группа 5" descr=""/>
          <p:cNvPicPr/>
          <p:nvPr/>
        </p:nvPicPr>
        <p:blipFill>
          <a:blip r:embed="rId2"/>
          <a:stretch/>
        </p:blipFill>
        <p:spPr>
          <a:xfrm>
            <a:off x="2305080" y="1859040"/>
            <a:ext cx="6796080" cy="295092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9" descr=""/>
          <p:cNvPicPr/>
          <p:nvPr/>
        </p:nvPicPr>
        <p:blipFill>
          <a:blip r:embed="rId3"/>
          <a:stretch/>
        </p:blipFill>
        <p:spPr>
          <a:xfrm>
            <a:off x="133200" y="2322360"/>
            <a:ext cx="22813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19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47" name="Группа 3" descr=""/>
          <p:cNvPicPr/>
          <p:nvPr/>
        </p:nvPicPr>
        <p:blipFill>
          <a:blip r:embed="rId2"/>
          <a:stretch/>
        </p:blipFill>
        <p:spPr>
          <a:xfrm>
            <a:off x="2382840" y="2176560"/>
            <a:ext cx="6669000" cy="2603520"/>
          </a:xfrm>
          <a:prstGeom prst="rect">
            <a:avLst/>
          </a:prstGeom>
          <a:ln w="0">
            <a:noFill/>
          </a:ln>
        </p:spPr>
      </p:pic>
      <p:pic>
        <p:nvPicPr>
          <p:cNvPr id="448" name="Группа 4" descr=""/>
          <p:cNvPicPr/>
          <p:nvPr/>
        </p:nvPicPr>
        <p:blipFill>
          <a:blip r:embed="rId3"/>
          <a:stretch/>
        </p:blipFill>
        <p:spPr>
          <a:xfrm>
            <a:off x="195120" y="2305080"/>
            <a:ext cx="2286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24000" y="1157400"/>
            <a:ext cx="5184720" cy="4503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3"/>
          <p:cNvSpPr/>
          <p:nvPr/>
        </p:nvSpPr>
        <p:spPr>
          <a:xfrm>
            <a:off x="755640" y="58006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2908440" cy="2878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2676600" cy="2990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tretch/>
        </p:blipFill>
        <p:spPr>
          <a:xfrm>
            <a:off x="2635200" y="2060640"/>
            <a:ext cx="3102120" cy="29908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3"/>
          <p:cNvSpPr/>
          <p:nvPr/>
        </p:nvSpPr>
        <p:spPr>
          <a:xfrm>
            <a:off x="179280" y="4116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401920" y="504828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71360" y="-73080"/>
            <a:ext cx="8839440" cy="1347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4920" y="1553760"/>
            <a:ext cx="895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ждевременное излитие околоплодных вод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лабость родовой деятельности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падение пуповины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ипокс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зможно спазмирование не полностью раскрытого зева вокруг шейки плода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прокидывание ручек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чрезмерном разгибании головки - кровоизлияния в мозжечок, субдуральные гематомы, травмы шейного отдела спинного мозга и разрывы мозжечкового намё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8851680" cy="1347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71280" y="1125360"/>
            <a:ext cx="900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Схема 7" descr=""/>
          <p:cNvPicPr/>
          <p:nvPr/>
        </p:nvPicPr>
        <p:blipFill>
          <a:blip r:embed="rId2"/>
          <a:stretch/>
        </p:blipFill>
        <p:spPr>
          <a:xfrm>
            <a:off x="73080" y="1054080"/>
            <a:ext cx="8974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743040" y="0"/>
            <a:ext cx="7619760" cy="1347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азовое предлежание - предлежание, при котором над входом в малый таз находятся ягодицы или ножки плода.</a:t>
            </a:r>
            <a:r>
              <a:rPr b="0" lang="ru-RU" sz="2000" spc="-1" strike="noStrike" baseline="30000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Схема 5" descr=""/>
          <p:cNvPicPr/>
          <p:nvPr/>
        </p:nvPicPr>
        <p:blipFill>
          <a:blip r:embed="rId2"/>
          <a:stretch/>
        </p:blipFill>
        <p:spPr>
          <a:xfrm>
            <a:off x="396720" y="2378160"/>
            <a:ext cx="8442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2979720" cy="387684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260280"/>
            <a:ext cx="833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чистоягодич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ножки согнуты в тазобедренных суставах и разогнуты в коленных суставах и прижимают ручки к туловищу пл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85480" y="-284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смешан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ягодичное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едлежат ягодицы и стопы плода, ножки согнуты в тазобедренных и коленных суставах - плод "сидит по-турецки"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3494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8480" y="4594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ожны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олное (предлежат обе ножки) или неполное (предлежит одна ножк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2847960" cy="3782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5508720" y="504720"/>
            <a:ext cx="271764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34800" y="201600"/>
            <a:ext cx="7639200" cy="121284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3" descr=""/>
          <p:cNvPicPr/>
          <p:nvPr/>
        </p:nvPicPr>
        <p:blipFill>
          <a:blip r:embed="rId2"/>
          <a:stretch/>
        </p:blipFill>
        <p:spPr>
          <a:xfrm>
            <a:off x="122400" y="1341360"/>
            <a:ext cx="8875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емы Леопольд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ускультация сердцебиения плода выше пуп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лагалищное исследовани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 после 35-36 не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4108320" y="4110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412920" y="1989000"/>
            <a:ext cx="1714320" cy="175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"/>
          <p:cNvPicPr/>
          <p:nvPr/>
        </p:nvPicPr>
        <p:blipFill>
          <a:blip r:embed="rId3"/>
          <a:stretch/>
        </p:blipFill>
        <p:spPr>
          <a:xfrm>
            <a:off x="2496960" y="1989000"/>
            <a:ext cx="1714680" cy="1752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"/>
          <p:cNvPicPr/>
          <p:nvPr/>
        </p:nvPicPr>
        <p:blipFill>
          <a:blip r:embed="rId4"/>
          <a:stretch/>
        </p:blipFill>
        <p:spPr>
          <a:xfrm>
            <a:off x="4764240" y="2036880"/>
            <a:ext cx="1714320" cy="1752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"/>
          <p:cNvPicPr/>
          <p:nvPr/>
        </p:nvPicPr>
        <p:blipFill>
          <a:blip r:embed="rId5"/>
          <a:stretch/>
        </p:blipFill>
        <p:spPr>
          <a:xfrm>
            <a:off x="6873840" y="1989000"/>
            <a:ext cx="1714680" cy="175284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1140840" y="377352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3185640" y="37418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5414400" y="3794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Прямоугольник 12"/>
          <p:cNvSpPr/>
          <p:nvPr/>
        </p:nvSpPr>
        <p:spPr>
          <a:xfrm>
            <a:off x="7532640" y="37418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163080" cy="1347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тационаре (38-39 нед. беременности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акушерского анамнеза и экстрагенитальной патолог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состоян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предполагаемой массы п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готовности организма женщины к родам ( признаки зрелости шейки матки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463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50920" y="1483920"/>
            <a:ext cx="8740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Определение тазового предлежании при посещении в 35-36 нед методом пальпации живота по Леополь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Аускультация с/б плода выше пупка слева или с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Направление на обязательные консультации к гинекологу в 36 нед и в 40 нед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 При подозрении на тазовое предлежании- произвести УЗИ пло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5. При установлении диагноза тазового предлежания приготовить беременную для дородовой госпитализации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6.Сдать дополнительные анализы, необходимые при возможном кесаревом сечени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крови с тромбоцитам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моч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протромбин, фибриноген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билирубин, АЛАТ, АСА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глюкозу и мочеви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7. Написать направление на плановую госпитализацию  акушерское отделение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2:18:07Z</dcterms:created>
  <dc:creator>Home</dc:creator>
  <dc:description/>
  <dc:language>en-US</dc:language>
  <cp:lastModifiedBy>Veronica</cp:lastModifiedBy>
  <dcterms:modified xsi:type="dcterms:W3CDTF">2023-01-31T18:33:30Z</dcterms:modified>
  <cp:revision>130</cp:revision>
  <dc:subject/>
  <dc:title>Тазовое предлежание плода - причины, особенности течения беременности, особенности родоразрешения.</dc:title>
</cp:coreProperties>
</file>