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147-F12C-47F3-A7AA-A8FCCEEF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0B1-A9E0-4F83-A08B-56AD3CE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A8ECF-2D69-4B01-BC56-8B89D0C9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BEC3A-46F8-416E-B63A-F869ECC7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E8595-3F39-4812-B84F-026D8F8B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4D584-4F3A-4432-94A3-BE597A33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BBDAD-B3CE-428A-9F30-280F427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8908E-8187-4E07-A42F-9C17FBD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6A3C7-1DA2-4AAA-A2B8-E65FD131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97C0-D98F-4ABE-AAFD-8F40D91D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B80D-7CC4-4301-9B62-C6704F9C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FFC-AC44-4E2C-8488-A122DDC6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D24-A826-49F8-B713-2D5D3A9C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8A6-6129-4750-A341-D5C6445B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0DB-5FD0-496C-9E24-CC5A1F8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D45B-2B97-43E4-8D55-73164C6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AE72-B1D2-4F1A-AE4C-041E85AA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80C1-EFF8-4132-A73A-856C630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7491-0EDB-4224-98DC-FF539EF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4129-52D7-4F0C-97D2-8402B27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D5D-D60A-4226-9C13-09B38FB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C72-DD68-43AF-B281-9DCB643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033D-39E7-4CAA-84FF-0ED8F4B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FD3C-58CE-4A3C-9468-0B98C1F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0F2-7FD5-4303-AA34-2C7B8FCC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DA6-F292-497A-B229-022DF48C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7354-71F3-4AB8-8DF7-967B0A4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9725-AE8B-4B27-AE5C-685EA039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BE02-FA05-4DAE-836D-7DF28FE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5A5C-26D1-49E3-9918-3A5D5F9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58F9-1A71-4AAB-8544-F6D95C8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FEC-D2C5-4F0B-98A2-D2206887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2B5E-7619-4219-A4AA-1332B5B5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A86E-613F-434B-ACA4-FF3C9C6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82AB-5E7F-42E8-B416-D3FA3F92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F3F7-FA9E-4EFA-AC71-E5BAC0C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09E1-893B-488D-90DC-FC78BC7C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FAB17-82CF-4BC7-B4CD-8E7523C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FBED-275A-4DA4-82FB-2862925A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D59A-8737-49DB-9B64-068E9A6E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0CDE-3D31-4A36-A23C-9AA054B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7EA6-DC9A-4144-BA2C-13B6AA0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637-6FA7-4599-8891-97D925FF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5E9C-DD90-4363-9191-F604032F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5031-8F1F-4AC9-A80D-CC4CF18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BC3B9-79DA-414F-9012-2C843CF8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489C-0267-4EC9-9C24-AB7B602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0E3C-B491-438B-90E4-786C8E7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3F7DE-C818-4A9A-ACAE-4709195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17F7-7134-40A8-9B86-601C41D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9F35-24A7-4F0B-84E5-700F53F7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B2BA-CF75-4849-A100-C7587620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76BC-5DBE-4830-BAF7-309E5818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D67-64BD-430C-A4BA-54B890A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2D04-7DFD-4B1A-AF17-5B76F320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A9962-431A-4AE0-BCDA-0A235FA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63FB-A9D4-4DEE-BE91-282DEF3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5ED5-04E4-40E8-88A6-0089F65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163D-AED2-48FF-9209-423AB64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9929-B084-43F0-BE62-126BEF2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B942-5D5C-479B-AEAD-FA87BDB7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A4FD1-DCA9-4D28-8051-6F81E53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7A45-94C8-4BAC-80FD-0E318003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365A-5602-48EC-9861-B87B1C8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3F3-0447-45DA-8B18-8986311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7253-C5EA-4390-9E1E-08E6802D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E480-B845-4367-A591-11C50A68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A8BF6-C8EC-45CB-B29E-E408A7C7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7DCB-3252-4807-B765-2661AD9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FF2FC-E2C9-4053-9A6F-AAEF17C8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C9AB-C28D-4A92-A3B7-ACD2463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5C34-F4B1-43FC-A6AA-027CBB9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BE3D-A777-4AC3-94BC-54FA9EB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4548-36C0-4483-9309-02846AA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59C3-DBA5-4DFE-B717-39188A8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660-4D67-4DE5-A167-8FBCF48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5620-8E71-45DE-A4BA-58030118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3FEC8-7F67-48AC-AB9E-DB432495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73A04-E87F-44FD-BE17-7767E1CB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E1F9-C5D3-455B-8049-1A43DEDE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2F03E-ECE4-43FE-A6DD-5F6CA90B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9300-4E58-4E0B-A855-4123E0F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3F40-C468-494C-A4DA-76B6F5BD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390D-F0EE-45FA-8BB6-7B048C3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BF7D-298C-4AC2-BBEC-C0986EC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C8D3-A245-4545-8705-27026FC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DC0-3BF2-4DF2-ABC1-1ED27DE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D887-EC57-46FE-8DB8-872493D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16F7-9D2A-4545-B1BD-C40523C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3D50-2593-4516-B336-9044172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F26CB-53D2-4933-BF05-16B07F0A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DDFF-3784-4F45-BF15-2BAB159E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63616-66E0-4124-B148-C7CC9A7A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EE738-DB22-42FD-9F32-A7414B46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E0096-9E69-42AA-94E2-CD59173D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0A2B-8EED-4EE4-A8FF-D65CDC3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38295-078E-4896-93B4-C835B33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768-C8E6-4B97-824A-30DA167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956A1-71F6-4DB5-81B8-01DD1DA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99973-583A-45F4-86D4-42019CC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4C3D4-8B0D-44CE-BF02-8031B6B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33376-D294-413F-988E-DD76414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785B-74C3-49B3-AB2E-FFF174A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CCCD4-2EF8-460B-8D63-42F161C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02C8-86A3-4C9C-8826-8AF32697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521AD-7673-4919-9960-50FBF0D1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B47C-AC7A-408B-90B6-C6F478D3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02A4-97B6-40AD-A839-C83025F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2DE-B7BF-49C4-A07A-FBB3DA1E23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BD64-29E5-4DEC-96E1-63E83F4BF4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6E93-E8A1-4B0E-921F-5D2B5A95D3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A5A-7FF1-49C8-9C5E-714622ADBC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B74-8F7F-46C0-BD13-67D216709F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7B1-A70A-4086-BB6D-26B4454FD2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A40-A743-43A1-AAC6-905553EE8B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5680-465C-485A-880C-0A61527553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9BA-C1F7-45AF-9B9B-26F971BBEE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28720" y="1822320"/>
            <a:ext cx="7772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608040" y="1268280"/>
            <a:ext cx="212724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2005200" cy="17575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4"/>
          <a:stretch/>
        </p:blipFill>
        <p:spPr>
          <a:xfrm>
            <a:off x="6278400" y="1268280"/>
            <a:ext cx="2016360" cy="1757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5"/>
          <a:stretch/>
        </p:blipFill>
        <p:spPr>
          <a:xfrm>
            <a:off x="608040" y="3801960"/>
            <a:ext cx="2127240" cy="1714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6"/>
          <a:stretch/>
        </p:blipFill>
        <p:spPr>
          <a:xfrm>
            <a:off x="3492360" y="3797280"/>
            <a:ext cx="2005200" cy="1719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8" descr=""/>
          <p:cNvPicPr/>
          <p:nvPr/>
        </p:nvPicPr>
        <p:blipFill>
          <a:blip r:embed="rId7"/>
          <a:stretch/>
        </p:blipFill>
        <p:spPr>
          <a:xfrm>
            <a:off x="6278400" y="3801960"/>
            <a:ext cx="2016360" cy="1714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5"/>
          <p:cNvSpPr/>
          <p:nvPr/>
        </p:nvSpPr>
        <p:spPr>
          <a:xfrm>
            <a:off x="12600" y="3017880"/>
            <a:ext cx="33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6"/>
          <p:cNvSpPr/>
          <p:nvPr/>
        </p:nvSpPr>
        <p:spPr>
          <a:xfrm>
            <a:off x="3395520" y="3027240"/>
            <a:ext cx="21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6175080" y="305928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7240" y="544500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оугольник 9"/>
          <p:cNvSpPr/>
          <p:nvPr/>
        </p:nvSpPr>
        <p:spPr>
          <a:xfrm>
            <a:off x="3059280" y="5445000"/>
            <a:ext cx="30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Прямоугольник 10"/>
          <p:cNvSpPr/>
          <p:nvPr/>
        </p:nvSpPr>
        <p:spPr>
          <a:xfrm>
            <a:off x="6146280" y="5537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44" name="Группа 5" descr=""/>
          <p:cNvPicPr/>
          <p:nvPr/>
        </p:nvPicPr>
        <p:blipFill>
          <a:blip r:embed="rId2"/>
          <a:stretch/>
        </p:blipFill>
        <p:spPr>
          <a:xfrm>
            <a:off x="2305080" y="1859040"/>
            <a:ext cx="6796080" cy="295092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9" descr=""/>
          <p:cNvPicPr/>
          <p:nvPr/>
        </p:nvPicPr>
        <p:blipFill>
          <a:blip r:embed="rId3"/>
          <a:stretch/>
        </p:blipFill>
        <p:spPr>
          <a:xfrm>
            <a:off x="133200" y="2322360"/>
            <a:ext cx="228132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19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47" name="Группа 3" descr=""/>
          <p:cNvPicPr/>
          <p:nvPr/>
        </p:nvPicPr>
        <p:blipFill>
          <a:blip r:embed="rId2"/>
          <a:stretch/>
        </p:blipFill>
        <p:spPr>
          <a:xfrm>
            <a:off x="2382840" y="2176560"/>
            <a:ext cx="6669000" cy="2603520"/>
          </a:xfrm>
          <a:prstGeom prst="rect">
            <a:avLst/>
          </a:prstGeom>
          <a:ln w="0">
            <a:noFill/>
          </a:ln>
        </p:spPr>
      </p:pic>
      <p:pic>
        <p:nvPicPr>
          <p:cNvPr id="448" name="Группа 4" descr=""/>
          <p:cNvPicPr/>
          <p:nvPr/>
        </p:nvPicPr>
        <p:blipFill>
          <a:blip r:embed="rId3"/>
          <a:stretch/>
        </p:blipFill>
        <p:spPr>
          <a:xfrm>
            <a:off x="195120" y="2305080"/>
            <a:ext cx="2286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39080" cy="1347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24000" y="1157400"/>
            <a:ext cx="5184720" cy="4503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3"/>
          <p:cNvSpPr/>
          <p:nvPr/>
        </p:nvSpPr>
        <p:spPr>
          <a:xfrm>
            <a:off x="755640" y="58006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839440" cy="1347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2908440" cy="28782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2676600" cy="2990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4"/>
          <a:stretch/>
        </p:blipFill>
        <p:spPr>
          <a:xfrm>
            <a:off x="2635200" y="2060640"/>
            <a:ext cx="3102120" cy="29908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3"/>
          <p:cNvSpPr/>
          <p:nvPr/>
        </p:nvSpPr>
        <p:spPr>
          <a:xfrm>
            <a:off x="179280" y="4116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401920" y="504828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171360" y="-73080"/>
            <a:ext cx="8839440" cy="1347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4920" y="1553760"/>
            <a:ext cx="895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ждевременное излитие околоплодных вод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лабость родовой деятельности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падение пуповины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Гипокс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озможно спазмирование не полностью раскрытого зева вокруг шейки плода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прокидывание ручек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чрезмерном разгибании головки - кровоизлияния в мозжечок, субдуральные гематомы, травмы шейного отдела спинного мозга и разрывы мозжечкового намёт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8851680" cy="1347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71280" y="1125360"/>
            <a:ext cx="900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Схема 7" descr=""/>
          <p:cNvPicPr/>
          <p:nvPr/>
        </p:nvPicPr>
        <p:blipFill>
          <a:blip r:embed="rId2"/>
          <a:stretch/>
        </p:blipFill>
        <p:spPr>
          <a:xfrm>
            <a:off x="73080" y="1054080"/>
            <a:ext cx="8974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743040" y="0"/>
            <a:ext cx="7619760" cy="1347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азовое предлежание - предлежание, при котором над входом в малый таз находятся ягодицы или ножки плода.</a:t>
            </a:r>
            <a:r>
              <a:rPr b="0" lang="ru-RU" sz="2000" spc="-1" strike="noStrike" baseline="30000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2" name="Схема 5" descr=""/>
          <p:cNvPicPr/>
          <p:nvPr/>
        </p:nvPicPr>
        <p:blipFill>
          <a:blip r:embed="rId2"/>
          <a:stretch/>
        </p:blipFill>
        <p:spPr>
          <a:xfrm>
            <a:off x="396720" y="2378160"/>
            <a:ext cx="8442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2979720" cy="3876840"/>
          </a:xfrm>
          <a:prstGeom prst="rect">
            <a:avLst/>
          </a:prstGeom>
          <a:ln w="0">
            <a:noFill/>
          </a:ln>
        </p:spPr>
      </p:pic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50920" y="260280"/>
            <a:ext cx="833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чистоягодич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ножки согнуты в тазобедренных суставах и разогнуты в коленных суставах и прижимают ручки к туловищу пл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85480" y="-284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смешанно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ягодичное предлежание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едлежат ягодицы и стопы плода, ножки согнуты в тазобедренных и коленных суставах - плод "сидит по-турецки"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3494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8480" y="4594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ножные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предлежани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олное (предлежат обе ножки) или неполное (предлежит одна ножк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2847960" cy="3782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5508720" y="504720"/>
            <a:ext cx="271764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34800" y="201600"/>
            <a:ext cx="7639200" cy="121284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3" descr=""/>
          <p:cNvPicPr/>
          <p:nvPr/>
        </p:nvPicPr>
        <p:blipFill>
          <a:blip r:embed="rId2"/>
          <a:stretch/>
        </p:blipFill>
        <p:spPr>
          <a:xfrm>
            <a:off x="122400" y="1341360"/>
            <a:ext cx="8875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емы Леопольд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Аускультация сердцебиения плода выше пупк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лагалищное исследовани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 после 35-36 не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4108320" y="41101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Нор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2"/>
          <a:stretch/>
        </p:blipFill>
        <p:spPr>
          <a:xfrm>
            <a:off x="412920" y="1989000"/>
            <a:ext cx="1714320" cy="1752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"/>
          <p:cNvPicPr/>
          <p:nvPr/>
        </p:nvPicPr>
        <p:blipFill>
          <a:blip r:embed="rId3"/>
          <a:stretch/>
        </p:blipFill>
        <p:spPr>
          <a:xfrm>
            <a:off x="2496960" y="1989000"/>
            <a:ext cx="1714680" cy="1752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"/>
          <p:cNvPicPr/>
          <p:nvPr/>
        </p:nvPicPr>
        <p:blipFill>
          <a:blip r:embed="rId4"/>
          <a:stretch/>
        </p:blipFill>
        <p:spPr>
          <a:xfrm>
            <a:off x="4764240" y="2036880"/>
            <a:ext cx="1714320" cy="1752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"/>
          <p:cNvPicPr/>
          <p:nvPr/>
        </p:nvPicPr>
        <p:blipFill>
          <a:blip r:embed="rId5"/>
          <a:stretch/>
        </p:blipFill>
        <p:spPr>
          <a:xfrm>
            <a:off x="6873840" y="1989000"/>
            <a:ext cx="1714680" cy="175284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1140840" y="377352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3185640" y="37418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11"/>
          <p:cNvSpPr/>
          <p:nvPr/>
        </p:nvSpPr>
        <p:spPr>
          <a:xfrm>
            <a:off x="5414400" y="3794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Прямоугольник 12"/>
          <p:cNvSpPr/>
          <p:nvPr/>
        </p:nvSpPr>
        <p:spPr>
          <a:xfrm>
            <a:off x="7532640" y="37418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163080" cy="1347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стационаре (38-39 нед. беременности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акушерского анамнеза и экстрагенитальной патолог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З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состояния плод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предполагаемой массы п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ценка готовности организма женщины к родам ( признаки зрелости шейки матки)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4637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250920" y="1483920"/>
            <a:ext cx="8740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Определение тазового предлежании при посещении в 35-36 нед методом пальпации живота по Леополь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Аускультация с/б плода выше пупка слева или справ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Направление на обязательные консультации к гинекологу в 36 нед и в 40 нед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 При подозрении на тазовое предлежании- произвести УЗИ плода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5. При установлении диагноза тазового предлежания приготовить беременную для дородовой госпитализации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6.Сдать дополнительные анализы, необходимые при возможном кесаревом сечении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крови с тромбоцитам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Общий анализ моч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протромбин, фибриноген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билирубин, АЛАТ, АСА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Анализ крови на глюкозу и мочевин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7. Написать направление на плановую госпитализацию  акушерское отделение в 38-39 нед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9T12:18:07Z</dcterms:created>
  <dc:creator>Home</dc:creator>
  <dc:description/>
  <dc:language>en-US</dc:language>
  <cp:lastModifiedBy>Veronica</cp:lastModifiedBy>
  <dcterms:modified xsi:type="dcterms:W3CDTF">2023-01-31T18:33:30Z</dcterms:modified>
  <cp:revision>130</cp:revision>
  <dc:subject/>
  <dc:title>Тазовое предлежание плода - причины, особенности течения беременности, особенности родоразрешения.</dc:title>
</cp:coreProperties>
</file>