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C5F-921F-42C5-89B7-7D1A2759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AFF-7A27-48CE-A512-BD3EC3B4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1B031-BDB1-4583-BC83-47A6010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90BA4-4578-4DF7-87D3-345A8F9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78881-F779-4C12-880C-A374CFC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AEF1F-B9DB-4D5C-BCC1-EF85AFD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FE2CA-7C84-437F-A476-36CC422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70505-83A8-4F0B-910C-543B8AFE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819E-9602-4D09-B610-95D135B7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6AEC9-8BEB-4956-A139-9650859E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22B09-C732-4B48-AA9B-C11D88DB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89E-D1EA-4025-901A-B719DC45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4B2-3047-494D-8207-8E9DBBBF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6827-4BC9-4D60-BEB5-A063330E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093-8EC6-4A70-930C-0506F55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26F0-D387-4A88-B357-6985DC4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6E2-E196-4FFF-93B8-22F70F7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1DB-2356-4250-B520-B62DB3A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178-F378-4DC3-93C7-DE1A7DD0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02C7-89FC-425E-844D-C9601A1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6CC-AC23-4E13-A65B-BC05977D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B4C5-06E3-4175-8CB9-A926AFB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771-B007-4B8B-841B-17AF351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A6C2-F9D3-46E2-8F62-838A4C1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D9CB-A1E6-4D3B-8730-A74B622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AC4-E1FF-4BA4-A759-18D00034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87C0-C3CA-49BA-9D8B-CFFA76E1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2DA5-5980-443A-9C10-536E2EE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46FF-41E2-4FF5-8A94-4454611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4DA2-CD3A-41E4-81D1-94F9874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17A4-109C-4E0A-BF85-2CE1A185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823-E3B1-43D4-A22F-0D6F56D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A880-CB0B-476F-AD0C-E6729B4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1991-F478-4DD4-A8BB-EBF6912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7F02-1652-4594-BDCA-06A9229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A11B-931C-4A3E-83EF-4847812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703C-F2FF-45FF-81DB-B45B73BB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353A-0F80-4119-BD6F-305D52FB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A636-5706-4968-A7D6-49702089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B5EC-537D-460F-B731-E4C653ED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6098-D9A5-4193-A9AB-6863CE60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F960-5D0B-48A7-ACDE-EA8B972A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CB1-E95F-41AC-AA55-ADC750B5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6540-84BA-4132-8CB2-B24EFFE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7F93-0CEC-4A45-BCFF-43EF9969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0F58-CC5C-400F-878B-BBB3AA45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5253-BB92-4EEA-8003-6DF4153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A25E-4869-484E-A447-FCB6015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21A0-456D-4048-848B-776AA7E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9BC0-7D06-4D7A-8540-0E455B83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92B4-7DC6-4AEF-898E-8736D4F8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9097-9E5F-41E1-AE86-B8DF2B58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4105-49FB-45C5-82BD-028C9393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799-3A2C-4170-BFB1-5F9965C0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9316-47E2-4E56-8C50-7A72DEE5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B1BC-83D7-42AE-9602-ABD7ACB6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830F-0C2C-4F82-8996-EF9AC0F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C45C-4BBF-4599-A119-540D02A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B147-19BA-410D-946E-82FD16C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6DEF-6C9A-41D3-86FA-D7F6C0D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F597-35DD-4B17-B8BC-8FA94F1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83FD-E7D7-4B5B-946F-589B577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A058-CD71-4D67-A235-695B109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28C5-000F-42B8-8C60-8ADE39E0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1E6-704E-48D0-AC5D-B544CE0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8850-48D2-4C03-A508-41CF57E1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DF69-A243-4EFE-B59D-4AEB1A00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E009F-1722-4D4A-AE7F-9CC6C1D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FA7C-AC70-4393-9FD2-C3B5647D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97D94-2ECE-41B9-AA62-67330528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6C51-5A0C-43EB-95B2-CE5BF42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AC10-7249-4738-94E2-E30EB17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3DE8-A807-49C8-9779-7F02024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2062-A858-41A0-9E84-28A5005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1280-04F2-4004-AC46-BE0CF0D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5B6-F3B4-4671-91DB-F95FF29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FEE2-3E7B-43A0-B2F5-16E3F65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D2920-4097-4717-B074-CC200B80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0186-1203-4254-9F7F-305E6323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D383-F8DA-4183-AFD3-5F861705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9CE8-DB51-4CEA-8589-1CC3517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2C20-567A-4F26-8074-F3584819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8E14-4B63-4A99-86F4-B3F7DAF1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F12C2-56C7-422C-8ADF-35889DC9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DF9B8-AB30-4394-8CA2-01A4165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DF08-2E39-478C-8283-8940AFF5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73E-35FF-4B18-A815-42CE589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8C4B-18AD-4223-96C6-98DF2DC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4A9D-1F08-4A1F-8813-1D4A417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2A8D1-8E8B-4ACC-8B60-4E9AF476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0763-1F35-4EAB-A329-BD04919A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268E2-005C-403A-8DC2-C828EA55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4FE5-EADB-4A90-A577-6660D214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125F-DBAA-4190-AA6C-41DD012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0D97-ECAA-451A-BFFF-59F48D6D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1DAC-FBEA-44DB-A9EF-7003995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7861-A67E-4269-A9DC-372FD37A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E9E-95FF-4F6C-93DE-CD7B3B3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A661-C009-490D-82CD-68167D8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0673-C833-4174-BA76-DF8194A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74E7-2BFE-486F-985F-A278948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6D7F-5757-448D-B541-DF03273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C671-5C44-48F8-BA07-1C745A32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B4F2C-EE61-44F9-8EA8-8D70814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F78F-8613-4B7F-9557-0910D801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74BC8-DF3D-44A0-A100-1950AA8D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D8C39-9772-4062-A9E6-445B6D0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2A25-8F87-4C8A-B6F3-638719C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352-DCA7-46EC-A62F-5330937D50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B5B-80C8-47D0-A483-D925718EF5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8E5-2E44-40F3-B59E-39409D4323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C027-188F-4D4B-BD52-784E0DDB71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B804-8E10-4134-AC67-7D4B6C435A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766-9713-4A7C-A6B0-8C498B8B4B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A14A-D76F-452A-907B-430D448C44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4DB-44E4-49A9-BF3D-14EA0FD5EE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23E-B343-4E34-941C-29036F749E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28720" y="1822320"/>
            <a:ext cx="7772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608040" y="1268280"/>
            <a:ext cx="212724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2005200" cy="1757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4"/>
          <a:stretch/>
        </p:blipFill>
        <p:spPr>
          <a:xfrm>
            <a:off x="6278400" y="1268280"/>
            <a:ext cx="2016360" cy="1757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5"/>
          <a:stretch/>
        </p:blipFill>
        <p:spPr>
          <a:xfrm>
            <a:off x="608040" y="3801960"/>
            <a:ext cx="2127240" cy="1714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6"/>
          <a:stretch/>
        </p:blipFill>
        <p:spPr>
          <a:xfrm>
            <a:off x="3492360" y="3797280"/>
            <a:ext cx="2005200" cy="1719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6278400" y="3801960"/>
            <a:ext cx="2016360" cy="1714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5"/>
          <p:cNvSpPr/>
          <p:nvPr/>
        </p:nvSpPr>
        <p:spPr>
          <a:xfrm>
            <a:off x="12600" y="3017880"/>
            <a:ext cx="33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3395520" y="302724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6175080" y="3059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7240" y="544500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3059280" y="5445000"/>
            <a:ext cx="30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10"/>
          <p:cNvSpPr/>
          <p:nvPr/>
        </p:nvSpPr>
        <p:spPr>
          <a:xfrm>
            <a:off x="6146280" y="5537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44" name="Группа 5" descr=""/>
          <p:cNvPicPr/>
          <p:nvPr/>
        </p:nvPicPr>
        <p:blipFill>
          <a:blip r:embed="rId2"/>
          <a:stretch/>
        </p:blipFill>
        <p:spPr>
          <a:xfrm>
            <a:off x="2305080" y="1859040"/>
            <a:ext cx="6796080" cy="295092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9" descr=""/>
          <p:cNvPicPr/>
          <p:nvPr/>
        </p:nvPicPr>
        <p:blipFill>
          <a:blip r:embed="rId3"/>
          <a:stretch/>
        </p:blipFill>
        <p:spPr>
          <a:xfrm>
            <a:off x="133200" y="2322360"/>
            <a:ext cx="22813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19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47" name="Группа 3" descr=""/>
          <p:cNvPicPr/>
          <p:nvPr/>
        </p:nvPicPr>
        <p:blipFill>
          <a:blip r:embed="rId2"/>
          <a:stretch/>
        </p:blipFill>
        <p:spPr>
          <a:xfrm>
            <a:off x="2382840" y="2176560"/>
            <a:ext cx="6669000" cy="2603520"/>
          </a:xfrm>
          <a:prstGeom prst="rect">
            <a:avLst/>
          </a:prstGeom>
          <a:ln w="0">
            <a:noFill/>
          </a:ln>
        </p:spPr>
      </p:pic>
      <p:pic>
        <p:nvPicPr>
          <p:cNvPr id="448" name="Группа 4" descr=""/>
          <p:cNvPicPr/>
          <p:nvPr/>
        </p:nvPicPr>
        <p:blipFill>
          <a:blip r:embed="rId3"/>
          <a:stretch/>
        </p:blipFill>
        <p:spPr>
          <a:xfrm>
            <a:off x="195120" y="2305080"/>
            <a:ext cx="2286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24000" y="1157400"/>
            <a:ext cx="5184720" cy="4503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3"/>
          <p:cNvSpPr/>
          <p:nvPr/>
        </p:nvSpPr>
        <p:spPr>
          <a:xfrm>
            <a:off x="755640" y="58006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2908440" cy="2878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2676600" cy="2990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tretch/>
        </p:blipFill>
        <p:spPr>
          <a:xfrm>
            <a:off x="2635200" y="2060640"/>
            <a:ext cx="3102120" cy="29908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3"/>
          <p:cNvSpPr/>
          <p:nvPr/>
        </p:nvSpPr>
        <p:spPr>
          <a:xfrm>
            <a:off x="179280" y="4116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401920" y="504828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71360" y="-73080"/>
            <a:ext cx="8839440" cy="1347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4920" y="1553760"/>
            <a:ext cx="895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ждевременное излитие околоплодных вод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лабость родовой деятельности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падение пуповины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ипокс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зможно спазмирование не полностью раскрытого зева вокруг шейки плода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прокидывание ручек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чрезмерном разгибании головки - кровоизлияния в мозжечок, субдуральные гематомы, травмы шейного отдела спинного мозга и разрывы мозжечкового намё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8851680" cy="1347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71280" y="1125360"/>
            <a:ext cx="900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Схема 7" descr=""/>
          <p:cNvPicPr/>
          <p:nvPr/>
        </p:nvPicPr>
        <p:blipFill>
          <a:blip r:embed="rId2"/>
          <a:stretch/>
        </p:blipFill>
        <p:spPr>
          <a:xfrm>
            <a:off x="73080" y="1054080"/>
            <a:ext cx="8974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743040" y="0"/>
            <a:ext cx="7619760" cy="1347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азовое предлежание - предлежание, при котором над входом в малый таз находятся ягодицы или ножки плода.</a:t>
            </a:r>
            <a:r>
              <a:rPr b="0" lang="ru-RU" sz="2000" spc="-1" strike="noStrike" baseline="30000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Схема 5" descr=""/>
          <p:cNvPicPr/>
          <p:nvPr/>
        </p:nvPicPr>
        <p:blipFill>
          <a:blip r:embed="rId2"/>
          <a:stretch/>
        </p:blipFill>
        <p:spPr>
          <a:xfrm>
            <a:off x="396720" y="2378160"/>
            <a:ext cx="8442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2979720" cy="387684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260280"/>
            <a:ext cx="833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чистоягодич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ножки согнуты в тазобедренных суставах и разогнуты в коленных суставах и прижимают ручки к туловищу пл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85480" y="-284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смешан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ягодичное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едлежат ягодицы и стопы плода, ножки согнуты в тазобедренных и коленных суставах - плод "сидит по-турецки"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3494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8480" y="4594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ожны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олное (предлежат обе ножки) или неполное (предлежит одна ножк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2847960" cy="3782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5508720" y="504720"/>
            <a:ext cx="271764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34800" y="201600"/>
            <a:ext cx="7639200" cy="121284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3" descr=""/>
          <p:cNvPicPr/>
          <p:nvPr/>
        </p:nvPicPr>
        <p:blipFill>
          <a:blip r:embed="rId2"/>
          <a:stretch/>
        </p:blipFill>
        <p:spPr>
          <a:xfrm>
            <a:off x="122400" y="1341360"/>
            <a:ext cx="8875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емы Леопольд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ускультация сердцебиения плода выше пуп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лагалищное исследовани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 после 35-36 не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4108320" y="4110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412920" y="1989000"/>
            <a:ext cx="1714320" cy="175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"/>
          <p:cNvPicPr/>
          <p:nvPr/>
        </p:nvPicPr>
        <p:blipFill>
          <a:blip r:embed="rId3"/>
          <a:stretch/>
        </p:blipFill>
        <p:spPr>
          <a:xfrm>
            <a:off x="2496960" y="1989000"/>
            <a:ext cx="1714680" cy="1752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"/>
          <p:cNvPicPr/>
          <p:nvPr/>
        </p:nvPicPr>
        <p:blipFill>
          <a:blip r:embed="rId4"/>
          <a:stretch/>
        </p:blipFill>
        <p:spPr>
          <a:xfrm>
            <a:off x="4764240" y="2036880"/>
            <a:ext cx="1714320" cy="1752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"/>
          <p:cNvPicPr/>
          <p:nvPr/>
        </p:nvPicPr>
        <p:blipFill>
          <a:blip r:embed="rId5"/>
          <a:stretch/>
        </p:blipFill>
        <p:spPr>
          <a:xfrm>
            <a:off x="6873840" y="1989000"/>
            <a:ext cx="1714680" cy="175284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1140840" y="377352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3185640" y="37418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5414400" y="3794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Прямоугольник 12"/>
          <p:cNvSpPr/>
          <p:nvPr/>
        </p:nvSpPr>
        <p:spPr>
          <a:xfrm>
            <a:off x="7532640" y="37418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163080" cy="1347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тационаре (38-39 нед. беременности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акушерского анамнеза и экстрагенитальной патолог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состоян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предполагаемой массы п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готовности организма женщины к родам ( признаки зрелости шейки матки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463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50920" y="1483920"/>
            <a:ext cx="8740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Определение тазового предлежании при посещении в 35-36 нед методом пальпации живота по Леополь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Аускультация с/б плода выше пупка слева или с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Направление на обязательные консультации к гинекологу в 36 нед и в 40 нед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 При подозрении на тазовое предлежании- произвести УЗИ пло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5. При установлении диагноза тазового предлежания приготовить беременную для дородовой госпитализации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6.Сдать дополнительные анализы, необходимые при возможном кесаревом сечени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крови с тромбоцитам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моч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протромбин, фибриноген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билирубин, АЛАТ, АСА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глюкозу и мочеви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7. Написать направление на плановую госпитализацию  акушерское отделение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2:18:07Z</dcterms:created>
  <dc:creator>Home</dc:creator>
  <dc:description/>
  <dc:language>en-US</dc:language>
  <cp:lastModifiedBy>Veronica</cp:lastModifiedBy>
  <dcterms:modified xsi:type="dcterms:W3CDTF">2023-01-31T18:33:30Z</dcterms:modified>
  <cp:revision>130</cp:revision>
  <dc:subject/>
  <dc:title>Тазовое предлежание плода - причины, особенности течения беременности, особенности родоразрешения.</dc:title>
</cp:coreProperties>
</file>