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60624-A3ED-4F87-89EF-0C6834BB8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A0A9-BFAB-4159-A760-0D9A8C2942DA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D5FD-39D0-48FA-BA46-DC3D6FDF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76BE-E855-41EC-8DD9-E543AD67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BF175F-A9A6-408D-A8D8-01F3CFA3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7E018-8D79-4940-92F1-F5F1F36D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7FCF8-E35F-4F85-89CB-A6D9C92C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9D648-4482-42BD-A144-78761AA7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DADB71-5A78-4126-B456-8659F543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7CC31-AFB9-47AF-80FF-8BE55F24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5355AB-462D-465A-9044-65EBFC6F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3BBA98-7AC9-45CA-AF87-D2EA9CD87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AA7CE-C9AF-4A77-B2CC-30A2D0BCA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D80A05-323E-4337-AB75-1E128669D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FD60-386A-4F26-BB03-A6D6C3A51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F27098-729F-4266-A1E9-04D6F93C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D70F0-7B72-438A-AA98-C8A75A71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6B8AB-ACDF-4684-93B5-0D27598C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5235F-F3FA-4D96-A5FF-54EF535A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8029-0888-4EA5-9495-2A46A272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23EEF-E566-43C2-A6BE-B6FC25FB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2C4A9E-47F9-4E1A-BDEB-CAC5F46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DF2E6-E319-40B9-ACBA-6FFC5FB0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E0ACEA-04D3-415F-A2B9-66307AA3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12B09-9B3C-4323-8317-D155FC4E4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B07C-76BC-46BA-B0D2-2329E3A9A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9ED33-BAD8-4BE3-8C52-EE7446B96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E8555-55B0-4166-8C6A-0B136582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8C2E21-C107-402D-A4C3-03F6F8C9A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7AF8F9-B699-4B7D-B158-8FD7DE60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04DE54-B2CA-4589-999F-322CA71F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464F2E-1EBE-44FD-A166-D8057663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CDE3B-24B9-4897-B989-A4DA3F7B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C4F41-B161-474C-910B-E2CB8AA7D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CE89E9-558E-45EE-BF4E-FC82D0A0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F99C8-F5E6-4E32-ABCA-7E49B3AE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AAC7-4B90-40D4-8632-1D5322427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18769D-BB92-44AA-B586-DA9D90F4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80436-C6D4-4E46-946D-BE05A21C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04CF5-BCA9-4D76-B6D5-B63CCB78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8C1F79-90ED-4AAB-9830-FC6FFB403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8600D-9DFB-4178-A000-2D1C17AF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D15AB-FA97-4E9C-8DE3-C37688F4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35C539-76F2-4B9F-94F2-2F6E23F8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338D02-7878-4EC3-BA34-FFE0DBB9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7A9AC-1825-4980-9E1A-2B1AFE996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34E55-41FA-415B-A145-E09ED927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41D2-8865-4156-9365-6AF2FC8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DADBA-365B-42A5-8CBA-B626731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E93708-9BCA-49A0-B736-B779F495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C92970-CD23-4CBD-BD89-105FFEF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F2F77-E330-41FE-9F68-9ECA27D53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5C410-BB41-4358-93D3-9CE90F27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8667E7-E84B-48C9-96E5-D63984374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C0713-43E9-423A-8868-32282F75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C56ECF-6D9A-4993-A2B7-DE4E1A54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8206CF-D6C9-470C-BB77-6665FEC7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21FCA7-8AD6-4A26-ACF0-537A11CB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39C6-EEFD-433D-ADD7-6989955DF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475E4A-17D4-4287-B4DE-33394CF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2247C8-EA1D-4A31-80D6-3759C2D0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CF732-8DBC-4DB7-8EBE-301D7EFD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FE3E5-58E6-4BAB-808A-8C066FD7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D4E966-36E9-4552-AFC5-0E0CDD55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FCD9B-3959-4D9D-B2F7-E29671093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03CA2F-5D05-4A2D-942D-E121989E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7D39-8223-4132-A3D4-808D6301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C6F9-8074-446B-BFA7-AD3B0565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3764-CC88-4F68-BA3E-F03042FC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F1EC3-A6FD-402F-B085-54C7350F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2CB-E907-4778-BF12-34B918E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CFAC-B3E3-4BF0-A945-EAE9EC8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D35-F499-4476-92EE-29200CD6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07D2-3BB9-4063-904E-910710D3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F7F3-5DA8-4E8A-A265-44A94708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1D0-D1A4-410A-A1FC-17A486DF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108B5-5D5E-4384-9E17-568D4E26E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3E8E6-B5A1-403C-833A-ABF4CAD65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5C768-A7EC-4EF0-BB04-29F736A58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E14A2-169F-447A-B3A5-7B6A1643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CB2E5-A9CD-4A61-B69C-517EA106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170A-FCE1-4FB3-992A-DDDEDF17E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67C3E-8BD8-4A0B-BFCA-47B3A35CE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EED6FF-B3E8-4E8E-9DE9-81802221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235C3-A0F0-48DD-B11D-D6C525FD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17CE9-FDFA-400F-9335-9C3A36AE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2A146-D6A5-47F0-B784-5D4D3703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86D90-AB87-4996-A813-8F2638C2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B5C93-9277-4B0C-A0E8-09B122021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A517-CE6A-4641-8C6A-9EDA5C1E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C1813-2BD9-4E79-B51B-B58604BA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C273B-5B34-47D8-BBC9-267E896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3533-42EC-414E-A97B-19D83C0C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D19AB-5C50-4DD7-96C0-9E6DBC003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8DF9E-733F-476E-A70E-03CBD46B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1E7A7-54F4-4358-81AA-5CFC6E80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9EDAA-391E-40B2-BC29-F85FF8DD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71CF5-F7A5-4B65-AAF1-10829254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74EB2-27D3-4D90-BD23-E619A78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BB994-0FAE-4778-9884-310A7E23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21A2E-258F-4F26-B7A1-930082FC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CC36C-7364-44A5-B42A-0C7994C6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DB4EB-43F9-4811-96F4-5A2AD32DD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D7B8-F51A-4E9A-890D-662C04EA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25D95-71EF-41C0-9C4E-5290EB43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8B125-17C4-47FE-A65C-B612FC77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2A06C-A9E6-403E-9236-4F80FCDA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D13E3-2E06-41EE-9B79-700B2BCC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94C41-ADEE-41DD-B085-8F34972C6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D20C-5D6E-4246-90BF-7987B7A4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1E512-6412-4FCD-BFC6-850039A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AE39F-F069-4659-97CD-A91A9BE2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C096D-904A-4140-BE09-40171775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0F8A5-BCB8-473B-875C-E710CB250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67B-BFBE-4E9B-8193-224F9B6A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8D43F-B1B8-44F1-B0BB-8493446B5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9DF8C-B646-4E41-B04B-8F4BF02A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887A52-B307-4DB0-AA92-D66FE61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A837-AE23-4A3C-88D1-79EA55F7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94F47-C780-477F-9F27-D7B7971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A5D30-A53E-4E59-83CD-2D0657D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55F98-2989-4E90-8CDA-4F859C7F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CD8AA7-FC91-4B96-B96D-A3BDC6AD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8F422-DE93-4740-8D55-8D9AC582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C689A-220C-4562-A83C-2FDF226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5E2-2B04-4CB3-A12A-61EB3F58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3F72A-17A0-4DE9-95DD-41888026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311A8-9777-49F5-B4D6-27D5F248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AC06-73D0-4493-9A85-67E3998DB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A0DC6-EEC5-40F1-9D1F-141C2A0A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44B85-3D80-49F2-9DA0-6F09699BA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ACA81-9051-4BCF-8C9A-B2E661E9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56BB6-3E61-49E8-81FF-68A157E0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350D1-465F-4C30-926B-0AFFA2B3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6D78E5-A8FB-45CF-A987-747C012C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743773-942C-4512-B355-8444FAF2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987C-9D1B-4AC7-9443-C016343A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6D606-FFE8-4D8B-88F8-369C53A6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D0CB3-EA4F-4390-8ADC-9B19FE2EC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9F8C7-3F93-475F-B204-CC35F758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63CDA-2851-4555-9FF8-1CC338B4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176E6-733B-48BB-8AA9-87335FA3B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B880E-24EC-42E4-96B2-EA79F1372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E9593-0D94-417B-9952-8390C911A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C1681-F00E-4249-B3CF-469FCD0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67ADC-4312-411D-803F-F0F6FEEE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25DB2-878E-4A6F-B33E-1E4D285B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3564-C7E8-4102-91A7-BA60B06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BB789-EF3D-483E-BEAC-3D39DA34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BE1C42-76D1-40D2-BEF9-468A3254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2D86D-571D-431D-99F2-88ABD94A2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0B325-1A81-410A-9E51-CAED0CE8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64ED5B-BCA3-4F0F-B900-820D94BB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F66AA-350F-4591-8352-D59F0D5D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FDEC3-A5A7-4625-BBBF-FC79B0F7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496FF-DC13-4D22-BE27-47778AFFB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AF8B7-0937-4D44-AC5A-93B7439C3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2F405-A802-4EE2-A2CC-F44272F8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4129-88FB-41D0-9BFF-6D9FE89F64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D03-AAA5-49AE-8030-F83798B5B2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1A83B-CD63-4603-82C9-AEDB7C31B3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12CF-01EC-4C1D-8408-1457B85722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9D1C-63F3-4D9C-A698-AF7C7667F8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FEBC-1C37-4383-A958-B73E4EE971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E37F9-0069-4E6C-96D1-2447DEF1A5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C6C5F-49CE-413C-9A4E-4968B271DB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8783-B3BE-4364-8873-9F6FA93950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935B-2912-480D-86AA-5A579FE2AE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5D7-932D-4949-9FCA-EA357D61DC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788E-1DAB-4AE7-8190-BA22155C32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BFD2-24FF-494E-A95E-B2B80DA96B8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2-1280957691388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oaotambovmash.tamb.ru/Gif/ip4m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scuer.ucoz.ru/pant/protivogaz_gp-7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rufox.ru/files/big2/54360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protivogas.ru/gallery/big/gp7_6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gasklad.ru/data/photoes/205385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g-fotki.yandex.ru/get/4524/59579427.2/0_8a05f_5f4a0e6a_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tivogas.ru/gal/big/20/978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bready.ru/image/cache/data/protivogazu/1-600x6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24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мет ОБ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488360" cy="129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 «Средства индивидуальной защиты органов дыхания. Изготовление ватно- марлевой повяз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6300720" y="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отовление ватно марлевая повяз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332000" y="3832200"/>
            <a:ext cx="662472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ватно-марлевой повязки требуется отрез марли примерно 100 сантиметров в длину и 50 сантиметров в ширин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кладываем марлю на столе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середину кладем ровный слой ваты размером 20 х 20 см, толщиной 1-2с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обеих сторон марлю загибаем по всей длине, накладывая на ват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авшиеся по длине марли концы разрезаем на 25-30 см с каждой стороны для завязывания. Так получились завязки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Picture 19" descr="57192"/>
          <p:cNvPicPr/>
          <p:nvPr/>
        </p:nvPicPr>
        <p:blipFill>
          <a:blip r:embed="rId1"/>
          <a:stretch/>
        </p:blipFill>
        <p:spPr>
          <a:xfrm>
            <a:off x="2987640" y="692280"/>
            <a:ext cx="38880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1280" cy="3225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учить классификацию индивидуальных средств защиты органов дыхания и правила их приме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 членов своей семьи со СИЗ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1" name="Picture 7" descr="photo_240x316"/>
          <p:cNvPicPr/>
          <p:nvPr/>
        </p:nvPicPr>
        <p:blipFill>
          <a:blip r:embed="rId1"/>
          <a:stretch/>
        </p:blipFill>
        <p:spPr>
          <a:xfrm>
            <a:off x="1446120" y="216000"/>
            <a:ext cx="3225960" cy="4248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3"/>
          <p:cNvSpPr/>
          <p:nvPr/>
        </p:nvSpPr>
        <p:spPr>
          <a:xfrm>
            <a:off x="900000" y="4581360"/>
            <a:ext cx="43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.Д. Зелин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3" name="Picture 10" descr=""/>
          <p:cNvPicPr/>
          <p:nvPr/>
        </p:nvPicPr>
        <p:blipFill>
          <a:blip r:embed="rId2"/>
          <a:stretch/>
        </p:blipFill>
        <p:spPr>
          <a:xfrm>
            <a:off x="4995720" y="836640"/>
            <a:ext cx="3976920" cy="2592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3"/>
          <p:cNvSpPr/>
          <p:nvPr/>
        </p:nvSpPr>
        <p:spPr>
          <a:xfrm>
            <a:off x="4932360" y="3745080"/>
            <a:ext cx="431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газ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инского - Кумманта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льтрующие и изолирующие противог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755640" y="4797360"/>
            <a:ext cx="381636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Й ГРАЖДАНСКИЙ ПРОТИВОГАЗ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4716360" y="4797360"/>
            <a:ext cx="3961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УЮЩИЙ ГРАЖДАНСКИЙ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AutoShape 14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9" name="Picture 11" descr="Картинка 27 из 146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2943360" cy="3384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Картинка 14 из 131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341360"/>
            <a:ext cx="2477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части фильтрующего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1547640" y="6381720"/>
            <a:ext cx="56167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ГП -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13" descr="Картинка 22 из 79">
            <a:hlinkClick r:id="rId1"/>
          </p:cNvPr>
          <p:cNvPicPr/>
          <p:nvPr/>
        </p:nvPicPr>
        <p:blipFill>
          <a:blip r:embed="rId2"/>
          <a:srcRect l="0" t="0" r="0" b="3779"/>
          <a:stretch/>
        </p:blipFill>
        <p:spPr>
          <a:xfrm>
            <a:off x="1116000" y="1125360"/>
            <a:ext cx="70930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,ГП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5003640" y="5805360"/>
            <a:ext cx="30956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5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Box 17"/>
          <p:cNvSpPr/>
          <p:nvPr/>
        </p:nvSpPr>
        <p:spPr>
          <a:xfrm>
            <a:off x="755640" y="5805360"/>
            <a:ext cx="3348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 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AutoShape 1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AutoShape 2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1" name="Picture 25" descr="Картинка 1 из 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73360"/>
            <a:ext cx="4592520" cy="3444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7" descr="Картинка 1 из 17">
            <a:hlinkClick r:id="rId3"/>
          </p:cNvPr>
          <p:cNvPicPr/>
          <p:nvPr/>
        </p:nvPicPr>
        <p:blipFill>
          <a:blip r:embed="rId4"/>
          <a:srcRect l="0" t="0" r="0" b="9671"/>
          <a:stretch/>
        </p:blipFill>
        <p:spPr>
          <a:xfrm>
            <a:off x="824040" y="1773360"/>
            <a:ext cx="320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В, ГП-7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250920" y="5373720"/>
            <a:ext cx="439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Picture 8" descr="Картинка 2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268280"/>
            <a:ext cx="3314520" cy="38102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7"/>
          <p:cNvSpPr/>
          <p:nvPr/>
        </p:nvSpPr>
        <p:spPr>
          <a:xfrm>
            <a:off x="5148360" y="5373720"/>
            <a:ext cx="3670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7" name="Picture 11" descr="Картинка 2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4143600" cy="381024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ff82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351320" y="1171440"/>
          <a:ext cx="3486240" cy="25005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</a:tblGrid>
              <a:tr h="823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92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2 до 95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5.5 до 99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9 до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4335480" y="4179960"/>
          <a:ext cx="3673440" cy="253692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</a:tblGrid>
              <a:tr h="85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3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3.5 до 65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6.0 до 68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8.5 до 70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7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3" name="Picture 2" descr="http://www.protivogas.ru/gallery/small/obmer.jpg"/>
          <p:cNvPicPr/>
          <p:nvPr/>
        </p:nvPicPr>
        <p:blipFill>
          <a:blip r:embed="rId1"/>
          <a:stretch/>
        </p:blipFill>
        <p:spPr>
          <a:xfrm>
            <a:off x="6524640" y="2060640"/>
            <a:ext cx="2619360" cy="1728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http://www.protivogas.ru/gallery/small/obmer1.jpg"/>
          <p:cNvPicPr/>
          <p:nvPr/>
        </p:nvPicPr>
        <p:blipFill>
          <a:blip r:embed="rId2"/>
          <a:stretch/>
        </p:blipFill>
        <p:spPr>
          <a:xfrm>
            <a:off x="7834320" y="4906800"/>
            <a:ext cx="1204920" cy="19418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6"/>
          <p:cNvSpPr/>
          <p:nvPr/>
        </p:nvSpPr>
        <p:spPr>
          <a:xfrm>
            <a:off x="33480" y="907920"/>
            <a:ext cx="425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ый способ по данным двух измерений головы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ое - по замкнутой линии, проходящей через макушку, подбородок и щек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е - по линии, соединяющей отверстия ушей и проходящей через надбровные дуги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Результаты обоих измерений складываются, и по нижеприведенной таблице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пределяется размер шлема-маски противогаза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33480" y="4724280"/>
            <a:ext cx="410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й способ для определения размера шлема-мас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достаточно мерной лентой измерить голову только по замкнутой лини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оходящей через макушку, подбородок и щеки, и определить ее размер по таблице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AutoShape 9">
            <a:hlinkClick r:id="" action="ppaction://hlinkshowjump?jump=previousslide"/>
          </p:cNvPr>
          <p:cNvSpPr/>
          <p:nvPr/>
        </p:nvSpPr>
        <p:spPr>
          <a:xfrm>
            <a:off x="0" y="392580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10">
            <a:hlinkClick r:id="" action="ppaction://hlinkshowjump?jump=nextslide"/>
          </p:cNvPr>
          <p:cNvSpPr/>
          <p:nvPr/>
        </p:nvSpPr>
        <p:spPr>
          <a:xfrm>
            <a:off x="33480" y="631656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7669" y="3794"/>
                </a:moveTo>
                <a:lnTo>
                  <a:pt x="21682" y="10800"/>
                </a:lnTo>
                <a:lnTo>
                  <a:pt x="766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92120" y="4508640"/>
          <a:ext cx="8229600" cy="173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окружности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газ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6 до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Rectangle 1"/>
          <p:cNvSpPr/>
          <p:nvPr/>
        </p:nvSpPr>
        <p:spPr>
          <a:xfrm>
            <a:off x="403920" y="106884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ротивогазов с регулируемыми резинками сзади (ПМК, ГП-7)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евая часть бывает трех ростов (1, 2, 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одбора роста противогазов ПМК и ГП-7 нужн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уровне лба измерить сантиметром горизонтальную окружность голов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 же как измеряют голову для покупки шап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мер противогаза выясняем по таблице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">
            <a:hlinkClick r:id="" action="ppaction://hlinkshowjump?jump=previousslide"/>
          </p:cNvPr>
          <p:cNvSpPr/>
          <p:nvPr/>
        </p:nvSpPr>
        <p:spPr>
          <a:xfrm>
            <a:off x="87480" y="3773520"/>
            <a:ext cx="684000" cy="549360"/>
          </a:xfrm>
          <a:custGeom>
            <a:avLst/>
            <a:gdLst>
              <a:gd name="textAreaLeft" fmla="*/ 35280 w 684000"/>
              <a:gd name="textAreaRight" fmla="*/ 648720 w 684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890" h="21600">
                <a:moveTo>
                  <a:pt x="0" y="0"/>
                </a:moveTo>
                <a:lnTo>
                  <a:pt x="26890" y="0"/>
                </a:lnTo>
                <a:lnTo>
                  <a:pt x="26890" y="21600"/>
                </a:lnTo>
                <a:lnTo>
                  <a:pt x="0" y="21600"/>
                </a:lnTo>
                <a:close/>
              </a:path>
              <a:path fill="lightenLess" w="26890" h="21600">
                <a:moveTo>
                  <a:pt x="0" y="0"/>
                </a:moveTo>
                <a:lnTo>
                  <a:pt x="26890" y="0"/>
                </a:lnTo>
                <a:lnTo>
                  <a:pt x="25490" y="1400"/>
                </a:lnTo>
                <a:lnTo>
                  <a:pt x="1400" y="1400"/>
                </a:lnTo>
                <a:close/>
              </a:path>
              <a:path fill="darken" w="26890" h="21600">
                <a:moveTo>
                  <a:pt x="26890" y="0"/>
                </a:moveTo>
                <a:lnTo>
                  <a:pt x="26890" y="21600"/>
                </a:lnTo>
                <a:lnTo>
                  <a:pt x="25490" y="20200"/>
                </a:lnTo>
                <a:lnTo>
                  <a:pt x="25490" y="1400"/>
                </a:lnTo>
                <a:close/>
              </a:path>
              <a:path fill="darkenLess" w="26890" h="21600">
                <a:moveTo>
                  <a:pt x="26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0" y="20200"/>
                </a:lnTo>
                <a:close/>
              </a:path>
              <a:path fill="lighten" w="26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90" h="21600">
                <a:moveTo>
                  <a:pt x="6439" y="10800"/>
                </a:moveTo>
                <a:lnTo>
                  <a:pt x="20452" y="3794"/>
                </a:lnTo>
                <a:lnTo>
                  <a:pt x="2045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16">
            <a:hlinkClick r:id="" action="ppaction://hlinkshowjump?jump=nextslide"/>
          </p:cNvPr>
          <p:cNvSpPr/>
          <p:nvPr/>
        </p:nvSpPr>
        <p:spPr>
          <a:xfrm>
            <a:off x="117360" y="627552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спи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826920" y="5013360"/>
            <a:ext cx="3816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у которых  полумаска и фильтрующий элемент  одновременно служат и лицевой частью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Picture 11" descr="Картинка 2 из 1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0792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8" descr="Картинка 11 из 1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981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4859280" y="5084640"/>
            <a:ext cx="3600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очищающие вдыхаемый воздух в фильтрующих патронах, присоединяемых к полумаске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 назначению респираторы подразделяются на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324000" y="4149720"/>
            <a:ext cx="305892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ЫЛЕВЫЕ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ок 200, ШБ-1 Р-2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3635280" y="4149720"/>
            <a:ext cx="24494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ОВЫЕ РПГ-6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6443640" y="4149720"/>
            <a:ext cx="2305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- ПЫЛЕЗАЩИТНЫЕ РУ- 60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AutoShape 15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AutoShape 16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7" name="Picture 19" descr="Картинка 1 из 562"/>
          <p:cNvPicPr/>
          <p:nvPr/>
        </p:nvPicPr>
        <p:blipFill>
          <a:blip r:embed="rId1"/>
          <a:stretch/>
        </p:blipFill>
        <p:spPr>
          <a:xfrm>
            <a:off x="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1" descr="Картинка 20 из 518"/>
          <p:cNvPicPr/>
          <p:nvPr/>
        </p:nvPicPr>
        <p:blipFill>
          <a:blip r:embed="rId2"/>
          <a:stretch/>
        </p:blipFill>
        <p:spPr>
          <a:xfrm>
            <a:off x="327672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5" descr="Картинка 13 из 18"/>
          <p:cNvPicPr/>
          <p:nvPr/>
        </p:nvPicPr>
        <p:blipFill>
          <a:blip r:embed="rId3"/>
          <a:stretch/>
        </p:blipFill>
        <p:spPr>
          <a:xfrm>
            <a:off x="6516720" y="90792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3:45:04Z</dcterms:created>
  <dc:creator>Vasia</dc:creator>
  <dc:description/>
  <dc:language>en-US</dc:language>
  <cp:lastModifiedBy>Владелец</cp:lastModifiedBy>
  <dcterms:modified xsi:type="dcterms:W3CDTF">2014-01-09T08:52:25Z</dcterms:modified>
  <cp:revision>104</cp:revision>
  <dc:subject/>
  <dc:title>СОВРЕМЕННЫЕ  ОБЫЧНЫЕ   СРЕДСТВА  ПОРАЖЕНИЯ</dc:title>
</cp:coreProperties>
</file>