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134D-C4AF-4BC4-8E8A-9510056F8A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0AA1-9DB4-47BE-9CD0-C222694DB05E}" type="slidenum">
              <a:rPr b="1" lang="ru-RU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B22B-4BA0-4D70-8E66-03E1C4BCF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8963-6E0D-4C71-9969-B87A5C88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0B73A0-3549-4C0E-B19D-ADEA7B699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E29595-0DD7-4DC0-ADD7-D062FB9B8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0DD4B6-9221-4E9C-AB7E-8E6D06EF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68B143-FCC6-477F-9A80-99A5F3A2F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A197C7-09C1-440E-AB32-87E8AADF1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CE8B61-E733-46F0-B229-76171B8B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05A0EB-E9BA-43F5-89C8-03356029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F7ECEA-8928-47BA-9787-DB0F46C92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674700-A370-4959-9E53-30B301C77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167AEB-2D95-4641-B5B3-49793CD3B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0093-C045-4246-8339-482DFD2A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D596C1-0F14-489E-BDC6-B208EDFE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EDD024-7EBB-4D07-91BE-0FC55593F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50E57-7594-492E-BD8A-E8BAFD99E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1E3B55-2F42-4594-A357-214F5AFE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77E2BB-CFD2-41E6-BCC1-E463F4BE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96E88-6C68-438A-B16A-F80DB6F72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605779-BBE5-49AA-8163-CEF0F138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AF3362-3EDB-4425-BADF-37DD07096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5ED56-618C-4862-9EB5-7CBE53A3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84E76-ED12-4FF4-97A6-1FDBA4047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21AC-B66A-4BBD-A6DE-97509D6EAF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AF98D1-9F3D-4DE7-9C50-E9D482A9E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CF9BC-33B7-4959-B047-455EE5600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3172E-1911-4086-9ADA-BC7E0859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9B6147-DD5B-4161-873B-F1E2F1D0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FF168D-88E6-4872-AF6E-A1E5702E7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84A4E-CD0F-4D1D-ADED-F755780A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6DD816-FC87-42AE-A7A0-54AB24787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64804C-E059-4764-BFB3-B74F6A926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C5146C-A2BE-4F61-B908-FD040419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3BF79-4343-41F5-A153-AFA8EE99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C8718-E3D2-4B25-8CDC-180E89790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4AC51F-6801-45D9-BCE1-D18568D6D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AEFE5-1C32-4EF4-B0D1-94DB19978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D57FC-1663-460E-BDCA-0EA679A12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D6AD99-194B-48F8-A165-3BAFA41AF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C36289-AE74-4DC6-8393-566ABAC5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4754F5-99B8-45DC-918D-26786F181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117D9E-D013-496A-8C4D-5E9BF2B1A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5C6EF-D7B5-4D33-BDA8-41962C23B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B319AF-5941-49B1-9FFF-A47FA599A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9A916-96F0-4897-BA6E-091E66126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4E19-812F-405A-B7F1-22647462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E2AE0D-7A5A-4205-9C07-4008AE4E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72006D-662B-4DE9-B63F-395F38C7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EA22A3-B192-45CE-A589-ED5A6102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48369B-9F5E-43E3-90F2-AAB024D43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3A4724-D69A-43C2-9DF2-90699A42B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B835FF-3E4B-4C0C-B58B-BC035AB6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7010E1-AC1A-4B88-96F8-A8901E403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031BD3-B798-4250-BEF2-73DF259F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35CD9C-BFED-4C58-8A82-A1CCF656D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145475-6B4C-45A0-A7EB-41708CAD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3A178-625B-42CA-B368-12F5B0293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6E8ECD-243D-490C-97F9-24C43E3DC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21D00B-46DF-4D1A-977F-6906AD70F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84D708-2FDA-4424-8BEA-B86A782A9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0C639F-0402-462C-B6C8-32EF7D486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BB4CEB-88F3-443F-AF77-EE705998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26F6DB-56FF-4AEC-87BD-A7155E810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18539F-7340-47F1-B4D4-CCDAB04A5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A7A8F-F289-4A70-8276-9B94A5EC4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F6D2-7DE7-448C-9EA0-D12C3F52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C932F-372D-41C0-B644-A3C89E044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65C23-FF13-4D23-B6FE-833CFBEC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6AAE-3F5A-48C9-A5FF-6FE1D812E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2F0A-9401-4313-9122-96F17036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0E0CA-4CC2-4856-84BD-B0F1673D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9FB9-D198-42A2-8766-D18EB7E17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62155-2873-412F-A408-10092FE7B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B2B4-D932-49EF-952D-203332695F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4DD2B-40FE-4AD9-BD51-A5B0B2F8F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2DFEAF-C198-40F9-885F-80B76AB0C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9F40D-2549-400E-8728-11DD3A855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064041-A538-47C0-9502-C98AB5151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EB392-4937-4D26-A666-C19DD4D5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65E6-F4BB-48AC-A3AF-E6E1BD9B6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405A6-FFC1-4872-92B5-55A421709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B0161-DDC2-4C88-9BDA-77AC55B7F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8127E-8D79-4BCF-9CC0-C5A9FFB1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5B820-89BA-4D0D-B1C2-4B56D680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98FC8-2FCC-47FF-BAB9-CF147AB9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41FC98-12CC-493C-BA27-A4FEEE23D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634C2-859E-4C32-ACD2-CC1FD421B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2B870-A5B4-4C0C-97D5-621C6DE84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00071-3670-4000-A270-A0B083D1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C8EB1-3490-43BC-B54D-05A69F35F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BF71-BD15-4545-9391-D3E4C77D6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E57970-FA03-46B1-B669-05F204FA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89C57B-2AF7-4568-A115-B9A1A3072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B42FF7-5F65-42F8-BED0-2850E5FB0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1DE1B-B7FF-4B56-BC22-A9087B3A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4AE91-B3C7-455C-9CE3-709E33FC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A2CD64-8C83-430A-ACD7-04678A4DE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29550-4BF1-4048-9E8A-E5667FB6B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34ED2-8563-464C-9A2E-EBC009D63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69A80-22FB-4DFC-A6C1-DC2C8CE31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278B5-A2D8-4CCC-8AC5-47DC1BAA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181C-266B-49F0-9D6B-7FB204A68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426BA-2B81-4DA3-B498-68D2E185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E6CBC-6937-4445-9B7E-F0AF9CF6D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626FF-837F-4B3F-BB7E-3942FB949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7170C9-5AB5-4C2F-A8F0-C33647BCC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090FB9-49BB-4E9F-A95A-3059CE5B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6D043-12D6-41A4-AFAE-33E60EA94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31A84-1980-4011-900A-12E794B31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71828-8CD9-46AF-8F24-A7B4CA35A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F547A6-C2E4-4CA1-AB1E-EA66F1840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A4E13-40E1-4C47-B7FA-140DD18BB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5A50-1E07-4431-AD19-26C47170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153E6-8E0E-457C-98E4-363BF439E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A39006-AABC-48EA-8CBF-11268E2DB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90DF7-E939-4ECD-975A-2B3FCC46A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6CA815-D874-4E72-BF90-74504604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EEC55C-E296-4DE9-A6C6-0461876A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A35A18-2191-425B-9628-949D15023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8C2F85-8171-4BB7-B493-A18A2F381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CA1412-01C5-42BE-8F77-65F1BFC8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B20E0-4D1D-44F7-88F3-78903BF1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301A2-FA1B-4E0F-ACE8-791702D4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7945-1D3C-48AB-AB43-66343BB9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1046CB-9AFC-412F-8F6B-FA6E8591C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65BAE3-F61C-4794-A3B5-21F084F13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6CA3B6-3132-49FC-A740-6A62475C1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B83B2E-7DF7-48F9-83FD-FFF69F0C3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78CB69-5227-4251-A152-C504B2CA5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ACCB6-BD71-44AE-A4BE-CBCB6817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E6C5E-6DC2-4B67-927D-64315F03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64414-9DEC-4AC6-B385-9FBF1426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1E7DF-3912-4377-A611-9AF7C05E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35E79D-01A6-41E5-80BA-F2B9D520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9025-F2EB-4165-988D-DD4758D8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6B55B-CBDA-4D15-BEF2-BC8E7EFA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76A82-8567-4C76-83DE-82D767BA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0CA4B-5809-439E-A3FC-AE1BEF450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55B99D-649F-4A49-A2A6-95707A6C6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DB6A4-FBF9-4F91-9BC5-26FF9BC40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E4D36B-28D2-486C-9983-B8E430EA5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E964AB-0596-4250-A67B-8927D9B4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6BB740-748E-4E9D-85E9-9322C7C09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D7697-6491-4477-BA10-1E2C41ACD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D9E2F3-359C-488D-8CB6-F8169F273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BA7A-3A26-41EA-B5EC-E5D00F990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7D6591-1A54-4D16-8C6B-B718ADF4A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0E307C-C8B0-4FA2-9EC5-8A8391972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3091B-F90A-434C-B0C5-A41416E8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120834-8214-4737-AC1A-C56CF45A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018E5-7462-4AAF-AC45-2193D9B35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45F61F-EA3B-4EA6-9A61-2FAC98C0E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98F4B-D783-411F-8868-FE4DD916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C8B87B-2B34-4A4A-9472-B84BCEF5B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AA7547-912A-493C-873A-0B3F11AAD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13C598-FDE3-4132-9DA4-031A5325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28B96-B71A-4308-BBF6-990AAFCE67C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 type="dt" idx="28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 type="ftr" idx="29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 type="sldNum" idx="30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090F-7E1D-4087-9F38-49F1B46785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29C7-68F4-4858-857F-7A5F8439184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2EB84-EB29-4ABA-906B-CA9CA5BF728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3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3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3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BE38-2EA7-4BF7-B659-07AB138E8D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3BDF7-0FB0-4A24-8303-505EAF1E822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29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0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1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2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3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4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5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6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7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38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39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0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2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3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4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5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6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7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8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49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06C2-1A7F-46C6-BADE-88C29C5C7DF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0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1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2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1472-B172-40DF-8918-D5F1846E98A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4A85-6B32-41CC-9454-94E1DCE3A10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6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7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8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E0EDD-EB7E-4028-A0D1-05E49812D14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A631F-2471-4F37-938D-CE64798E9F6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 type="dt" idx="22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 type="ftr" idx="23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 type="sldNum" idx="24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E29D2-749C-4C49-B288-1F6F5EEAE2F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00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E2AC3-66D1-4545-8BF5-9A38E6C6F13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yaplakal.com/uploads/post-2-12809576913889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oaotambovmash.tamb.ru/Gif/ip4m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rescuer.ucoz.ru/pant/protivogaz_gp-7.jpg" TargetMode="Externa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g.rufox.ru/files/big2/543609.jpg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protivogas.ru/gallery/big/gp7_6.jpg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egasklad.ru/data/photoes/205385.gif" TargetMode="External"/><Relationship Id="rId2" Type="http://schemas.openxmlformats.org/officeDocument/2006/relationships/image" Target="../media/image6.png"/><Relationship Id="rId3" Type="http://schemas.openxmlformats.org/officeDocument/2006/relationships/hyperlink" Target="http://img-fotki.yandex.ru/get/4524/59579427.2/0_8a05f_5f4a0e6a_L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protivogas.ru/gal/big/20/9784.jpg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bready.ru/image/cache/data/protivogazu/1-600x600.jpg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2458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дмет ОБЖ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subTitle"/>
          </p:nvPr>
        </p:nvSpPr>
        <p:spPr>
          <a:xfrm>
            <a:off x="899640" y="2707920"/>
            <a:ext cx="7488360" cy="129708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ема: «Средства индивидуальной защиты органов дыхания. Изготовление ватно- марлевой повязки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1" name="Rectangle 8"/>
          <p:cNvSpPr/>
          <p:nvPr/>
        </p:nvSpPr>
        <p:spPr>
          <a:xfrm>
            <a:off x="6300720" y="0"/>
            <a:ext cx="324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AutoShape 13">
            <a:hlinkClick r:id="" action="ppaction://hlinkshowjump?jump=previousslide"/>
          </p:cNvPr>
          <p:cNvSpPr/>
          <p:nvPr/>
        </p:nvSpPr>
        <p:spPr>
          <a:xfrm>
            <a:off x="0" y="472428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AutoShape 10">
            <a:hlinkClick r:id="" action="ppaction://hlinkshowjump?jump=nextslide"/>
          </p:cNvPr>
          <p:cNvSpPr/>
          <p:nvPr/>
        </p:nvSpPr>
        <p:spPr>
          <a:xfrm>
            <a:off x="0" y="5300640"/>
            <a:ext cx="684360" cy="503280"/>
          </a:xfrm>
          <a:custGeom>
            <a:avLst/>
            <a:gdLst>
              <a:gd name="textAreaLeft" fmla="*/ 32400 w 684360"/>
              <a:gd name="textAreaRight" fmla="*/ 651960 w 684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7" y="3794"/>
                </a:moveTo>
                <a:lnTo>
                  <a:pt x="21690" y="10800"/>
                </a:lnTo>
                <a:lnTo>
                  <a:pt x="7677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Arial"/>
              </a:rPr>
              <a:t>Изготовление ватно марлевая повязк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Box 4"/>
          <p:cNvSpPr/>
          <p:nvPr/>
        </p:nvSpPr>
        <p:spPr>
          <a:xfrm>
            <a:off x="1332000" y="3832200"/>
            <a:ext cx="6624720" cy="3385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Для изготовления ватно-марлевой повязки требуется отрез марли примерно 100 сантиметров в длину и 50 сантиметров в ширину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Раскладываем марлю на столе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На середину кладем ровный слой ваты размером 20 х 20 см, толщиной 1-2см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С обеих сторон марлю загибаем по всей длине, накладывая на вату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ставшиеся по длине марли концы разрезаем на 25-30 см с каждой стороны для завязывания. Так получились завязки. </a:t>
            </a:r>
            <a:endParaRPr b="1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2" name="AutoShape 13">
            <a:hlinkClick r:id="" action="ppaction://hlinkshowjump?jump=previousslide"/>
          </p:cNvPr>
          <p:cNvSpPr/>
          <p:nvPr/>
        </p:nvSpPr>
        <p:spPr>
          <a:xfrm>
            <a:off x="0" y="472428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AutoShape 14">
            <a:hlinkClick r:id="" action="ppaction://hlinkshowjump?jump=nextslide"/>
          </p:cNvPr>
          <p:cNvSpPr/>
          <p:nvPr/>
        </p:nvSpPr>
        <p:spPr>
          <a:xfrm>
            <a:off x="0" y="5300640"/>
            <a:ext cx="684360" cy="503280"/>
          </a:xfrm>
          <a:custGeom>
            <a:avLst/>
            <a:gdLst>
              <a:gd name="textAreaLeft" fmla="*/ 32400 w 684360"/>
              <a:gd name="textAreaRight" fmla="*/ 651960 w 684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7" y="3794"/>
                </a:moveTo>
                <a:lnTo>
                  <a:pt x="21690" y="10800"/>
                </a:lnTo>
                <a:lnTo>
                  <a:pt x="7677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74" name="Picture 19" descr="57192"/>
          <p:cNvPicPr/>
          <p:nvPr/>
        </p:nvPicPr>
        <p:blipFill>
          <a:blip r:embed="rId1"/>
          <a:stretch/>
        </p:blipFill>
        <p:spPr>
          <a:xfrm>
            <a:off x="2987640" y="692280"/>
            <a:ext cx="388800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Домашнее задание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991280" cy="3225600"/>
          </a:xfrm>
          <a:prstGeom prst="rect">
            <a:avLst/>
          </a:prstGeom>
          <a:solidFill>
            <a:srgbClr val="ffef66"/>
          </a:solidFill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Выучить классификацию индивидуальных средств защиты органов дыхания и правила их применени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ознакомить членов своей семьи со СИЗО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7" name="AutoShape 16">
            <a:hlinkClick r:id="" action="ppaction://hlinkshowjump?jump=previousslide"/>
          </p:cNvPr>
          <p:cNvSpPr/>
          <p:nvPr/>
        </p:nvSpPr>
        <p:spPr>
          <a:xfrm>
            <a:off x="0" y="472428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AutoShape 17">
            <a:hlinkClick r:id="" action="ppaction://hlinkshowjump?jump=nextslide"/>
          </p:cNvPr>
          <p:cNvSpPr/>
          <p:nvPr/>
        </p:nvSpPr>
        <p:spPr>
          <a:xfrm>
            <a:off x="0" y="5300640"/>
            <a:ext cx="684360" cy="503280"/>
          </a:xfrm>
          <a:custGeom>
            <a:avLst/>
            <a:gdLst>
              <a:gd name="textAreaLeft" fmla="*/ 32400 w 684360"/>
              <a:gd name="textAreaRight" fmla="*/ 651960 w 684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7" y="3794"/>
                </a:moveTo>
                <a:lnTo>
                  <a:pt x="21690" y="10800"/>
                </a:lnTo>
                <a:lnTo>
                  <a:pt x="7677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AutoShape 16">
            <a:hlinkClick r:id="" action="ppaction://hlinkshowjump?jump=previousslide"/>
          </p:cNvPr>
          <p:cNvSpPr/>
          <p:nvPr/>
        </p:nvSpPr>
        <p:spPr>
          <a:xfrm>
            <a:off x="0" y="472428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0" name="AutoShape 17">
            <a:hlinkClick r:id="" action="ppaction://hlinkshowjump?jump=nextslide"/>
          </p:cNvPr>
          <p:cNvSpPr/>
          <p:nvPr/>
        </p:nvSpPr>
        <p:spPr>
          <a:xfrm>
            <a:off x="0" y="5300640"/>
            <a:ext cx="684360" cy="503280"/>
          </a:xfrm>
          <a:custGeom>
            <a:avLst/>
            <a:gdLst>
              <a:gd name="textAreaLeft" fmla="*/ 32400 w 684360"/>
              <a:gd name="textAreaRight" fmla="*/ 651960 w 684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7" y="3794"/>
                </a:moveTo>
                <a:lnTo>
                  <a:pt x="21690" y="10800"/>
                </a:lnTo>
                <a:lnTo>
                  <a:pt x="7677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1" name="Picture 7" descr="photo_240x316"/>
          <p:cNvPicPr/>
          <p:nvPr/>
        </p:nvPicPr>
        <p:blipFill>
          <a:blip r:embed="rId1"/>
          <a:stretch/>
        </p:blipFill>
        <p:spPr>
          <a:xfrm>
            <a:off x="1446120" y="216000"/>
            <a:ext cx="3225960" cy="4248000"/>
          </a:xfrm>
          <a:prstGeom prst="rect">
            <a:avLst/>
          </a:prstGeom>
          <a:ln w="0">
            <a:noFill/>
          </a:ln>
        </p:spPr>
      </p:pic>
      <p:sp>
        <p:nvSpPr>
          <p:cNvPr id="682" name="Rectangle 13"/>
          <p:cNvSpPr/>
          <p:nvPr/>
        </p:nvSpPr>
        <p:spPr>
          <a:xfrm>
            <a:off x="900000" y="4581360"/>
            <a:ext cx="43196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Н.Д. Зелинский</a:t>
            </a:r>
            <a:br>
              <a:rPr sz="3600"/>
            </a:b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83" name="Picture 10" descr=""/>
          <p:cNvPicPr/>
          <p:nvPr/>
        </p:nvPicPr>
        <p:blipFill>
          <a:blip r:embed="rId2"/>
          <a:stretch/>
        </p:blipFill>
        <p:spPr>
          <a:xfrm>
            <a:off x="4995720" y="836640"/>
            <a:ext cx="3976920" cy="2592360"/>
          </a:xfrm>
          <a:prstGeom prst="rect">
            <a:avLst/>
          </a:prstGeom>
          <a:ln w="0">
            <a:noFill/>
          </a:ln>
        </p:spPr>
      </p:pic>
      <p:sp>
        <p:nvSpPr>
          <p:cNvPr id="684" name="Rectangle 13"/>
          <p:cNvSpPr/>
          <p:nvPr/>
        </p:nvSpPr>
        <p:spPr>
          <a:xfrm>
            <a:off x="4932360" y="3745080"/>
            <a:ext cx="431964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тивогаз 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елинского - Кумманта</a:t>
            </a:r>
            <a:br>
              <a:rPr sz="2000"/>
            </a:b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11600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ильтрующие и изолирующие противогаз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Box 4"/>
          <p:cNvSpPr/>
          <p:nvPr/>
        </p:nvSpPr>
        <p:spPr>
          <a:xfrm>
            <a:off x="755640" y="4797360"/>
            <a:ext cx="3816360" cy="45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ЬТРУЮЩИЙ ГРАЖДАНСКИЙ ПРОТИВОГАЗ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TextBox 7"/>
          <p:cNvSpPr/>
          <p:nvPr/>
        </p:nvSpPr>
        <p:spPr>
          <a:xfrm>
            <a:off x="4716360" y="4797360"/>
            <a:ext cx="3961080" cy="45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ИРУЮЩИЙ ГРАЖДАНСКИЙ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ГАЗ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AutoShape 14">
            <a:hlinkClick r:id="" action="ppaction://hlinkshowjump?jump=previousslide"/>
          </p:cNvPr>
          <p:cNvSpPr/>
          <p:nvPr/>
        </p:nvSpPr>
        <p:spPr>
          <a:xfrm>
            <a:off x="0" y="472428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AutoShape 17">
            <a:hlinkClick r:id="" action="ppaction://hlinkshowjump?jump=nextslide"/>
          </p:cNvPr>
          <p:cNvSpPr/>
          <p:nvPr/>
        </p:nvSpPr>
        <p:spPr>
          <a:xfrm>
            <a:off x="0" y="5300640"/>
            <a:ext cx="684360" cy="503280"/>
          </a:xfrm>
          <a:custGeom>
            <a:avLst/>
            <a:gdLst>
              <a:gd name="textAreaLeft" fmla="*/ 32400 w 684360"/>
              <a:gd name="textAreaRight" fmla="*/ 651960 w 684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7" y="3794"/>
                </a:moveTo>
                <a:lnTo>
                  <a:pt x="21690" y="10800"/>
                </a:lnTo>
                <a:lnTo>
                  <a:pt x="7677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19" name="Picture 11" descr="Картинка 27 из 1466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1341360"/>
            <a:ext cx="2943360" cy="338472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13" descr="Картинка 14 из 13107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651640" y="1341360"/>
            <a:ext cx="247788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Основные части фильтрующего противог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8"/>
          <p:cNvSpPr/>
          <p:nvPr/>
        </p:nvSpPr>
        <p:spPr>
          <a:xfrm>
            <a:off x="1547640" y="6381720"/>
            <a:ext cx="561672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ГАЗ ГП -7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AutoShape 13">
            <a:hlinkClick r:id="" action="ppaction://hlinkshowjump?jump=previousslide"/>
          </p:cNvPr>
          <p:cNvSpPr/>
          <p:nvPr/>
        </p:nvSpPr>
        <p:spPr>
          <a:xfrm>
            <a:off x="0" y="472428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AutoShape 14">
            <a:hlinkClick r:id="" action="ppaction://hlinkshowjump?jump=nextslide"/>
          </p:cNvPr>
          <p:cNvSpPr/>
          <p:nvPr/>
        </p:nvSpPr>
        <p:spPr>
          <a:xfrm>
            <a:off x="0" y="5300640"/>
            <a:ext cx="684360" cy="503280"/>
          </a:xfrm>
          <a:custGeom>
            <a:avLst/>
            <a:gdLst>
              <a:gd name="textAreaLeft" fmla="*/ 32400 w 684360"/>
              <a:gd name="textAreaRight" fmla="*/ 651960 w 684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7" y="3794"/>
                </a:moveTo>
                <a:lnTo>
                  <a:pt x="21690" y="10800"/>
                </a:lnTo>
                <a:lnTo>
                  <a:pt x="7677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25" name="Picture 13" descr="Картинка 22 из 79">
            <a:hlinkClick r:id="rId1"/>
          </p:cNvPr>
          <p:cNvPicPr/>
          <p:nvPr/>
        </p:nvPicPr>
        <p:blipFill>
          <a:blip r:embed="rId2"/>
          <a:srcRect l="0" t="0" r="0" b="3779"/>
          <a:stretch/>
        </p:blipFill>
        <p:spPr>
          <a:xfrm>
            <a:off x="1116000" y="1125360"/>
            <a:ext cx="709308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ражданские противогаз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П-7,ГП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12"/>
          <p:cNvSpPr/>
          <p:nvPr/>
        </p:nvSpPr>
        <p:spPr>
          <a:xfrm>
            <a:off x="5003640" y="5805360"/>
            <a:ext cx="309564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ИЙ ПРОТИВОГАЗ ГП-5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TextBox 17"/>
          <p:cNvSpPr/>
          <p:nvPr/>
        </p:nvSpPr>
        <p:spPr>
          <a:xfrm>
            <a:off x="755640" y="5805360"/>
            <a:ext cx="3348000" cy="45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ИЙ ПРОТИВОГАЗ ГП-7                                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AutoShape 19">
            <a:hlinkClick r:id="" action="ppaction://hlinkshowjump?jump=previousslide"/>
          </p:cNvPr>
          <p:cNvSpPr/>
          <p:nvPr/>
        </p:nvSpPr>
        <p:spPr>
          <a:xfrm>
            <a:off x="0" y="472428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AutoShape 20">
            <a:hlinkClick r:id="" action="ppaction://hlinkshowjump?jump=nextslide"/>
          </p:cNvPr>
          <p:cNvSpPr/>
          <p:nvPr/>
        </p:nvSpPr>
        <p:spPr>
          <a:xfrm>
            <a:off x="0" y="5300640"/>
            <a:ext cx="684360" cy="503280"/>
          </a:xfrm>
          <a:custGeom>
            <a:avLst/>
            <a:gdLst>
              <a:gd name="textAreaLeft" fmla="*/ 32400 w 684360"/>
              <a:gd name="textAreaRight" fmla="*/ 651960 w 684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7" y="3794"/>
                </a:moveTo>
                <a:lnTo>
                  <a:pt x="21690" y="10800"/>
                </a:lnTo>
                <a:lnTo>
                  <a:pt x="7677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1" name="Picture 25" descr="Картинка 1 из 92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773360"/>
            <a:ext cx="4592520" cy="3444840"/>
          </a:xfrm>
          <a:prstGeom prst="rect">
            <a:avLst/>
          </a:prstGeom>
          <a:ln w="0">
            <a:noFill/>
          </a:ln>
        </p:spPr>
      </p:pic>
      <p:pic>
        <p:nvPicPr>
          <p:cNvPr id="632" name="Picture 27" descr="Картинка 1 из 17">
            <a:hlinkClick r:id="rId3"/>
          </p:cNvPr>
          <p:cNvPicPr/>
          <p:nvPr/>
        </p:nvPicPr>
        <p:blipFill>
          <a:blip r:embed="rId4"/>
          <a:srcRect l="0" t="0" r="0" b="9671"/>
          <a:stretch/>
        </p:blipFill>
        <p:spPr>
          <a:xfrm>
            <a:off x="824040" y="1773360"/>
            <a:ext cx="320976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ражданские противогазы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П-7В, ГП-7В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Box 7"/>
          <p:cNvSpPr/>
          <p:nvPr/>
        </p:nvSpPr>
        <p:spPr>
          <a:xfrm>
            <a:off x="250920" y="5373720"/>
            <a:ext cx="439092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ИЙ ПРОТИВОГАЗ ГП-7В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5" name="Picture 8" descr="Картинка 2 из 3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268280"/>
            <a:ext cx="3314520" cy="3810240"/>
          </a:xfrm>
          <a:prstGeom prst="rect">
            <a:avLst/>
          </a:prstGeom>
          <a:ln w="0">
            <a:noFill/>
          </a:ln>
        </p:spPr>
      </p:pic>
      <p:sp>
        <p:nvSpPr>
          <p:cNvPr id="636" name="TextBox 7"/>
          <p:cNvSpPr/>
          <p:nvPr/>
        </p:nvSpPr>
        <p:spPr>
          <a:xfrm>
            <a:off x="5148360" y="5373720"/>
            <a:ext cx="367020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ЖДАНСКИЙ ПРОТИВОГАЗ ГП-7ВМ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37" name="Picture 11" descr="Картинка 2 из 16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16360" y="1268280"/>
            <a:ext cx="4143600" cy="3810240"/>
          </a:xfrm>
          <a:prstGeom prst="rect">
            <a:avLst/>
          </a:prstGeom>
          <a:ln w="0">
            <a:noFill/>
          </a:ln>
        </p:spPr>
      </p:pic>
      <p:sp>
        <p:nvSpPr>
          <p:cNvPr id="638" name="AutoShape 10">
            <a:hlinkClick r:id="" action="ppaction://hlinkshowjump?jump=nextslide"/>
          </p:cNvPr>
          <p:cNvSpPr/>
          <p:nvPr/>
        </p:nvSpPr>
        <p:spPr>
          <a:xfrm>
            <a:off x="0" y="5300640"/>
            <a:ext cx="684360" cy="503280"/>
          </a:xfrm>
          <a:custGeom>
            <a:avLst/>
            <a:gdLst>
              <a:gd name="textAreaLeft" fmla="*/ 32400 w 684360"/>
              <a:gd name="textAreaRight" fmla="*/ 651960 w 684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7" y="3794"/>
                </a:moveTo>
                <a:lnTo>
                  <a:pt x="21690" y="10800"/>
                </a:lnTo>
                <a:lnTo>
                  <a:pt x="7677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AutoShape 9">
            <a:hlinkClick r:id="" action="ppaction://hlinkshowjump?jump=previousslide"/>
          </p:cNvPr>
          <p:cNvSpPr/>
          <p:nvPr/>
        </p:nvSpPr>
        <p:spPr>
          <a:xfrm>
            <a:off x="0" y="472428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2ff82"/>
            </a:gs>
            <a:gs pos="100000">
              <a:srgbClr val="66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еделение размера противог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1" name=""/>
          <p:cNvGraphicFramePr/>
          <p:nvPr/>
        </p:nvGraphicFramePr>
        <p:xfrm>
          <a:off x="4351320" y="1171440"/>
          <a:ext cx="3486240" cy="2500560"/>
        </p:xfrm>
        <a:graphic>
          <a:graphicData uri="http://schemas.openxmlformats.org/drawingml/2006/table">
            <a:tbl>
              <a:tblPr/>
              <a:tblGrid>
                <a:gridCol w="1743120"/>
                <a:gridCol w="1743120"/>
              </a:tblGrid>
              <a:tr h="823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 измерении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нтиметров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лем-маски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92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92 до 95.5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95.5 до 99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99 до 102.5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олее 102.5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4335480" y="4179960"/>
          <a:ext cx="3673440" cy="2536920"/>
        </p:xfrm>
        <a:graphic>
          <a:graphicData uri="http://schemas.openxmlformats.org/drawingml/2006/table">
            <a:tbl>
              <a:tblPr/>
              <a:tblGrid>
                <a:gridCol w="1836720"/>
                <a:gridCol w="1836720"/>
              </a:tblGrid>
              <a:tr h="85068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мма измерении, 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нтиметров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</a:t>
                      </a:r>
                      <a:br>
                        <a:rPr sz="1600"/>
                      </a:b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шлем-маски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63.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63.5 до 65.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48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66.0 до 68.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68.5 до 70.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9840"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71.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43" name="Picture 2" descr="http://www.protivogas.ru/gallery/small/obmer.jpg"/>
          <p:cNvPicPr/>
          <p:nvPr/>
        </p:nvPicPr>
        <p:blipFill>
          <a:blip r:embed="rId1"/>
          <a:stretch/>
        </p:blipFill>
        <p:spPr>
          <a:xfrm>
            <a:off x="6524640" y="2060640"/>
            <a:ext cx="2619360" cy="17287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3" descr="http://www.protivogas.ru/gallery/small/obmer1.jpg"/>
          <p:cNvPicPr/>
          <p:nvPr/>
        </p:nvPicPr>
        <p:blipFill>
          <a:blip r:embed="rId2"/>
          <a:stretch/>
        </p:blipFill>
        <p:spPr>
          <a:xfrm>
            <a:off x="7834320" y="4906800"/>
            <a:ext cx="1204920" cy="1941840"/>
          </a:xfrm>
          <a:prstGeom prst="rect">
            <a:avLst/>
          </a:prstGeom>
          <a:ln w="0">
            <a:noFill/>
          </a:ln>
        </p:spPr>
      </p:pic>
      <p:sp>
        <p:nvSpPr>
          <p:cNvPr id="645" name="Прямоугольник 6"/>
          <p:cNvSpPr/>
          <p:nvPr/>
        </p:nvSpPr>
        <p:spPr>
          <a:xfrm>
            <a:off x="33480" y="907920"/>
            <a:ext cx="425124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Первый способ по данным двух измерений головы: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первое - по замкнутой линии, проходящей через макушку, подбородок и щеки,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второе - по линии, соединяющей отверстия ушей и проходящей через надбровные дуги.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Результаты обоих измерений складываются, и по нижеприведенной таблице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определяется размер шлема-маски противогаза.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Прямоугольник 7"/>
          <p:cNvSpPr/>
          <p:nvPr/>
        </p:nvSpPr>
        <p:spPr>
          <a:xfrm>
            <a:off x="33480" y="4724280"/>
            <a:ext cx="4106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Второй способ для определения размера шлема-маски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достаточно мерной лентой измерить голову только по замкнутой линии, </a:t>
            </a:r>
            <a:br>
              <a:rPr sz="2200"/>
            </a:b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проходящей через макушку, подбородок и щеки, и определить ее размер по таблице:</a:t>
            </a:r>
            <a:endParaRPr b="1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AutoShape 9">
            <a:hlinkClick r:id="" action="ppaction://hlinkshowjump?jump=previousslide"/>
          </p:cNvPr>
          <p:cNvSpPr/>
          <p:nvPr/>
        </p:nvSpPr>
        <p:spPr>
          <a:xfrm>
            <a:off x="0" y="392580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AutoShape 10">
            <a:hlinkClick r:id="" action="ppaction://hlinkshowjump?jump=nextslide"/>
          </p:cNvPr>
          <p:cNvSpPr/>
          <p:nvPr/>
        </p:nvSpPr>
        <p:spPr>
          <a:xfrm>
            <a:off x="33480" y="6316560"/>
            <a:ext cx="684000" cy="503280"/>
          </a:xfrm>
          <a:custGeom>
            <a:avLst/>
            <a:gdLst>
              <a:gd name="textAreaLeft" fmla="*/ 32400 w 684000"/>
              <a:gd name="textAreaRight" fmla="*/ 651600 w 6840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351" h="21600">
                <a:moveTo>
                  <a:pt x="0" y="0"/>
                </a:moveTo>
                <a:lnTo>
                  <a:pt x="29351" y="0"/>
                </a:lnTo>
                <a:lnTo>
                  <a:pt x="29351" y="21600"/>
                </a:lnTo>
                <a:lnTo>
                  <a:pt x="0" y="21600"/>
                </a:lnTo>
                <a:close/>
              </a:path>
              <a:path fill="lightenLess" w="29351" h="21600">
                <a:moveTo>
                  <a:pt x="0" y="0"/>
                </a:moveTo>
                <a:lnTo>
                  <a:pt x="29351" y="0"/>
                </a:lnTo>
                <a:lnTo>
                  <a:pt x="27951" y="1400"/>
                </a:lnTo>
                <a:lnTo>
                  <a:pt x="1400" y="1400"/>
                </a:lnTo>
                <a:close/>
              </a:path>
              <a:path fill="darken" w="29351" h="21600">
                <a:moveTo>
                  <a:pt x="29351" y="0"/>
                </a:moveTo>
                <a:lnTo>
                  <a:pt x="29351" y="21600"/>
                </a:lnTo>
                <a:lnTo>
                  <a:pt x="27951" y="20200"/>
                </a:lnTo>
                <a:lnTo>
                  <a:pt x="27951" y="1400"/>
                </a:lnTo>
                <a:close/>
              </a:path>
              <a:path fill="darkenLess" w="29351" h="21600">
                <a:moveTo>
                  <a:pt x="293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51" y="20200"/>
                </a:lnTo>
                <a:close/>
              </a:path>
              <a:path fill="lighten" w="293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51" h="21600">
                <a:moveTo>
                  <a:pt x="7669" y="3794"/>
                </a:moveTo>
                <a:lnTo>
                  <a:pt x="21682" y="10800"/>
                </a:lnTo>
                <a:lnTo>
                  <a:pt x="7669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пределение размера противогаз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492120" y="4508640"/>
          <a:ext cx="8229600" cy="1738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044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лина окружности, 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антиметров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азмер</a:t>
                      </a:r>
                      <a:br>
                        <a:rPr sz="1800"/>
                      </a:b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тивогаза 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о 56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т 56 до 6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61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выше 60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 w="5760">
                      <a:solidFill>
                        <a:srgbClr val="333399"/>
                      </a:solidFill>
                    </a:lnL>
                    <a:lnR>
                      <a:noFill/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333399"/>
                      </a:solidFill>
                    </a:lnR>
                    <a:lnT w="5760">
                      <a:solidFill>
                        <a:srgbClr val="333399"/>
                      </a:solidFill>
                    </a:lnT>
                    <a:lnB w="5760">
                      <a:solidFill>
                        <a:srgbClr val="333399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651" name="Rectangle 1"/>
          <p:cNvSpPr/>
          <p:nvPr/>
        </p:nvSpPr>
        <p:spPr>
          <a:xfrm>
            <a:off x="403920" y="1068840"/>
            <a:ext cx="8405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ля противогазов с регулируемыми резинками сзади (ПМК, ГП-7):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Лицевая часть бывает трех ростов (1, 2, 3)</a:t>
            </a: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Для подбора роста противогазов ПМК и ГП-7 нужно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на уровне лба измерить сантиметром горизонтальную окружность головы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так же как измеряют голову для покупки шапки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змер противогаза выясняем по таблице: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AutoShape 9">
            <a:hlinkClick r:id="" action="ppaction://hlinkshowjump?jump=previousslide"/>
          </p:cNvPr>
          <p:cNvSpPr/>
          <p:nvPr/>
        </p:nvSpPr>
        <p:spPr>
          <a:xfrm>
            <a:off x="87480" y="3773520"/>
            <a:ext cx="684000" cy="549360"/>
          </a:xfrm>
          <a:custGeom>
            <a:avLst/>
            <a:gdLst>
              <a:gd name="textAreaLeft" fmla="*/ 35280 w 684000"/>
              <a:gd name="textAreaRight" fmla="*/ 648720 w 684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890" h="21600">
                <a:moveTo>
                  <a:pt x="0" y="0"/>
                </a:moveTo>
                <a:lnTo>
                  <a:pt x="26890" y="0"/>
                </a:lnTo>
                <a:lnTo>
                  <a:pt x="26890" y="21600"/>
                </a:lnTo>
                <a:lnTo>
                  <a:pt x="0" y="21600"/>
                </a:lnTo>
                <a:close/>
              </a:path>
              <a:path fill="lightenLess" w="26890" h="21600">
                <a:moveTo>
                  <a:pt x="0" y="0"/>
                </a:moveTo>
                <a:lnTo>
                  <a:pt x="26890" y="0"/>
                </a:lnTo>
                <a:lnTo>
                  <a:pt x="25490" y="1400"/>
                </a:lnTo>
                <a:lnTo>
                  <a:pt x="1400" y="1400"/>
                </a:lnTo>
                <a:close/>
              </a:path>
              <a:path fill="darken" w="26890" h="21600">
                <a:moveTo>
                  <a:pt x="26890" y="0"/>
                </a:moveTo>
                <a:lnTo>
                  <a:pt x="26890" y="21600"/>
                </a:lnTo>
                <a:lnTo>
                  <a:pt x="25490" y="20200"/>
                </a:lnTo>
                <a:lnTo>
                  <a:pt x="25490" y="1400"/>
                </a:lnTo>
                <a:close/>
              </a:path>
              <a:path fill="darkenLess" w="26890" h="21600">
                <a:moveTo>
                  <a:pt x="268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490" y="20200"/>
                </a:lnTo>
                <a:close/>
              </a:path>
              <a:path fill="lighten" w="268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890" h="21600">
                <a:moveTo>
                  <a:pt x="6439" y="10800"/>
                </a:moveTo>
                <a:lnTo>
                  <a:pt x="20452" y="3794"/>
                </a:lnTo>
                <a:lnTo>
                  <a:pt x="20452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AutoShape 16">
            <a:hlinkClick r:id="" action="ppaction://hlinkshowjump?jump=nextslide"/>
          </p:cNvPr>
          <p:cNvSpPr/>
          <p:nvPr/>
        </p:nvSpPr>
        <p:spPr>
          <a:xfrm>
            <a:off x="117360" y="6275520"/>
            <a:ext cx="684360" cy="503280"/>
          </a:xfrm>
          <a:custGeom>
            <a:avLst/>
            <a:gdLst>
              <a:gd name="textAreaLeft" fmla="*/ 32400 w 684360"/>
              <a:gd name="textAreaRight" fmla="*/ 651960 w 684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7" y="3794"/>
                </a:moveTo>
                <a:lnTo>
                  <a:pt x="21690" y="10800"/>
                </a:lnTo>
                <a:lnTo>
                  <a:pt x="7677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спирато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Box 6"/>
          <p:cNvSpPr/>
          <p:nvPr/>
        </p:nvSpPr>
        <p:spPr>
          <a:xfrm>
            <a:off x="826920" y="5013360"/>
            <a:ext cx="3816360" cy="64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ы, у которых  полумаска и фильтрующий элемент  одновременно служат и лицевой частью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AutoShape 9">
            <a:hlinkClick r:id="" action="ppaction://hlinkshowjump?jump=previousslide"/>
          </p:cNvPr>
          <p:cNvSpPr/>
          <p:nvPr/>
        </p:nvSpPr>
        <p:spPr>
          <a:xfrm>
            <a:off x="0" y="472428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AutoShape 10">
            <a:hlinkClick r:id="" action="ppaction://hlinkshowjump?jump=nextslide"/>
          </p:cNvPr>
          <p:cNvSpPr/>
          <p:nvPr/>
        </p:nvSpPr>
        <p:spPr>
          <a:xfrm>
            <a:off x="0" y="5300640"/>
            <a:ext cx="684360" cy="503280"/>
          </a:xfrm>
          <a:custGeom>
            <a:avLst/>
            <a:gdLst>
              <a:gd name="textAreaLeft" fmla="*/ 32400 w 684360"/>
              <a:gd name="textAreaRight" fmla="*/ 651960 w 684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7" y="3794"/>
                </a:moveTo>
                <a:lnTo>
                  <a:pt x="21690" y="10800"/>
                </a:lnTo>
                <a:lnTo>
                  <a:pt x="7677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8" name="Picture 11" descr="Картинка 2 из 114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907920"/>
            <a:ext cx="2886120" cy="381024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18" descr="Картинка 11 из 108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72000" y="981000"/>
            <a:ext cx="3809880" cy="3810240"/>
          </a:xfrm>
          <a:prstGeom prst="rect">
            <a:avLst/>
          </a:prstGeom>
          <a:ln w="0">
            <a:noFill/>
          </a:ln>
        </p:spPr>
      </p:pic>
      <p:sp>
        <p:nvSpPr>
          <p:cNvPr id="660" name="TextBox 6"/>
          <p:cNvSpPr/>
          <p:nvPr/>
        </p:nvSpPr>
        <p:spPr>
          <a:xfrm>
            <a:off x="4859280" y="5084640"/>
            <a:ext cx="3600360" cy="64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спираторы, очищающие вдыхаемый воздух в фильтрующих патронах, присоединяемых к полумаске 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Times New Roman"/>
              </a:rPr>
              <a:t>По назначению респираторы подразделяются на :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TextBox 9"/>
          <p:cNvSpPr/>
          <p:nvPr/>
        </p:nvSpPr>
        <p:spPr>
          <a:xfrm>
            <a:off x="324000" y="4149720"/>
            <a:ext cx="3058920" cy="45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ПЫЛЕВЫЕ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песток 200, ШБ-1 Р-2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3" name="TextBox 11"/>
          <p:cNvSpPr/>
          <p:nvPr/>
        </p:nvSpPr>
        <p:spPr>
          <a:xfrm>
            <a:off x="3635280" y="4149720"/>
            <a:ext cx="2449440" cy="276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ОГАЗОВЫЕ РПГ-67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TextBox 13"/>
          <p:cNvSpPr/>
          <p:nvPr/>
        </p:nvSpPr>
        <p:spPr>
          <a:xfrm>
            <a:off x="6443640" y="4149720"/>
            <a:ext cx="2305080" cy="459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ЗО- ПЫЛЕЗАЩИТНЫЕ РУ- 60М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5" name="AutoShape 15">
            <a:hlinkClick r:id="" action="ppaction://hlinkshowjump?jump=previousslide"/>
          </p:cNvPr>
          <p:cNvSpPr/>
          <p:nvPr/>
        </p:nvSpPr>
        <p:spPr>
          <a:xfrm>
            <a:off x="0" y="472428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6" name="AutoShape 16">
            <a:hlinkClick r:id="" action="ppaction://hlinkshowjump?jump=nextslide"/>
          </p:cNvPr>
          <p:cNvSpPr/>
          <p:nvPr/>
        </p:nvSpPr>
        <p:spPr>
          <a:xfrm>
            <a:off x="0" y="5300640"/>
            <a:ext cx="684360" cy="503280"/>
          </a:xfrm>
          <a:custGeom>
            <a:avLst/>
            <a:gdLst>
              <a:gd name="textAreaLeft" fmla="*/ 32400 w 684360"/>
              <a:gd name="textAreaRight" fmla="*/ 651960 w 68436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9366" h="21600">
                <a:moveTo>
                  <a:pt x="0" y="0"/>
                </a:moveTo>
                <a:lnTo>
                  <a:pt x="29366" y="0"/>
                </a:lnTo>
                <a:lnTo>
                  <a:pt x="29366" y="21600"/>
                </a:lnTo>
                <a:lnTo>
                  <a:pt x="0" y="21600"/>
                </a:lnTo>
                <a:close/>
              </a:path>
              <a:path fill="lightenLess" w="29366" h="21600">
                <a:moveTo>
                  <a:pt x="0" y="0"/>
                </a:moveTo>
                <a:lnTo>
                  <a:pt x="29366" y="0"/>
                </a:lnTo>
                <a:lnTo>
                  <a:pt x="27966" y="1400"/>
                </a:lnTo>
                <a:lnTo>
                  <a:pt x="1400" y="1400"/>
                </a:lnTo>
                <a:close/>
              </a:path>
              <a:path fill="darken" w="29366" h="21600">
                <a:moveTo>
                  <a:pt x="29366" y="0"/>
                </a:moveTo>
                <a:lnTo>
                  <a:pt x="29366" y="21600"/>
                </a:lnTo>
                <a:lnTo>
                  <a:pt x="27966" y="20200"/>
                </a:lnTo>
                <a:lnTo>
                  <a:pt x="27966" y="1400"/>
                </a:lnTo>
                <a:close/>
              </a:path>
              <a:path fill="darkenLess" w="29366" h="21600">
                <a:moveTo>
                  <a:pt x="29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66" y="20200"/>
                </a:lnTo>
                <a:close/>
              </a:path>
              <a:path fill="lighten" w="29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66" h="21600">
                <a:moveTo>
                  <a:pt x="7677" y="3794"/>
                </a:moveTo>
                <a:lnTo>
                  <a:pt x="21690" y="10800"/>
                </a:lnTo>
                <a:lnTo>
                  <a:pt x="7677" y="17806"/>
                </a:lnTo>
                <a:close/>
              </a:path>
            </a:pathLst>
          </a:cu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67" name="Picture 19" descr="Картинка 1 из 562"/>
          <p:cNvPicPr/>
          <p:nvPr/>
        </p:nvPicPr>
        <p:blipFill>
          <a:blip r:embed="rId1"/>
          <a:stretch/>
        </p:blipFill>
        <p:spPr>
          <a:xfrm>
            <a:off x="0" y="98100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668" name="Picture 21" descr="Картинка 20 из 518"/>
          <p:cNvPicPr/>
          <p:nvPr/>
        </p:nvPicPr>
        <p:blipFill>
          <a:blip r:embed="rId2"/>
          <a:stretch/>
        </p:blipFill>
        <p:spPr>
          <a:xfrm>
            <a:off x="3276720" y="981000"/>
            <a:ext cx="2879640" cy="2879640"/>
          </a:xfrm>
          <a:prstGeom prst="rect">
            <a:avLst/>
          </a:prstGeom>
          <a:ln w="0">
            <a:noFill/>
          </a:ln>
        </p:spPr>
      </p:pic>
      <p:pic>
        <p:nvPicPr>
          <p:cNvPr id="669" name="Picture 25" descr="Картинка 13 из 18"/>
          <p:cNvPicPr/>
          <p:nvPr/>
        </p:nvPicPr>
        <p:blipFill>
          <a:blip r:embed="rId3"/>
          <a:stretch/>
        </p:blipFill>
        <p:spPr>
          <a:xfrm>
            <a:off x="6516720" y="907920"/>
            <a:ext cx="208908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7T03:45:04Z</dcterms:created>
  <dc:creator>Vasia</dc:creator>
  <dc:description/>
  <dc:language>en-US</dc:language>
  <cp:lastModifiedBy>Владелец</cp:lastModifiedBy>
  <dcterms:modified xsi:type="dcterms:W3CDTF">2014-01-09T08:52:25Z</dcterms:modified>
  <cp:revision>104</cp:revision>
  <dc:subject/>
  <dc:title>СОВРЕМЕННЫЕ  ОБЫЧНЫЕ   СРЕДСТВА  ПОРАЖЕНИЯ</dc:title>
</cp:coreProperties>
</file>