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D41-381E-44E0-8F14-F3EE6BDBE5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B164-1181-485A-98FC-6EAE46436DF8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6B9-8E73-47B3-A289-8A7BA9AC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B04-91E8-427F-B321-0BF6BB5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EEF6-3033-4BB6-ACB1-A7194D5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526FA-7DC3-4892-8CB7-0BB4C646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82A5-2857-448D-B160-2ED6311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F9F66-BFEE-4972-97AC-014ADF30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0329D-A990-44E3-B389-12D35090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CF3D-98E9-4EC9-B1D3-0C25930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B063D-4506-4D51-BA6B-58A0247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CA926-D41B-4EC4-95B7-65E562E8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A288D-1F0F-41AF-901D-3406A0DC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84571-C019-44CD-9BE6-481CD93E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E12-107D-4940-8C4D-18455B2B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49C5-BB72-4748-BA38-DA967200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2E63D-7FD1-496C-A25E-5A91144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5E2D-B3DF-48E6-8826-FF8F95B4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5E454-69CD-4570-9FC7-C963F6B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C54E3-7D19-4D91-A49D-CC7D85A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8BB92-0635-4303-BBB5-79F78D4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3FCD7-C539-499B-97C2-2AEBA4E9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6D8F1-9884-4040-B68C-0EA9C38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8CB11-78DB-4364-87C4-73EB0CA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D58C-2BF9-4819-BBF4-80F73DB8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2BA-F97B-4161-8CE0-4A81A7E5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EE75A-77CC-4B62-B1FF-36731626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CAFFE-AF3A-4F1E-92D3-0FF78E13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9EF46-0460-48AC-8821-BCEC8622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BF3FA-85A8-4614-9574-27ED493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A9B8-99E0-4028-AD33-0C7B81D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D5C3-48D1-4412-8FFA-536C8C9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9072-4BB5-438A-A572-39CE1EC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BA70-43DC-4831-A7E6-691C14A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5E28-5CE7-4C24-ACAE-B7BAF0A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073D1-45D8-41FE-9D0D-0371AB1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0EBB-70A6-4506-9476-8FC26E40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1384-6830-4BE7-A6AF-90E81DEA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5890A-E922-4DCC-AA42-82FFE997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3890C-C370-430C-8797-4A6D4A5B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97F68-D686-485D-8200-588612E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7F1E0-513A-4462-9F3A-0BE3DBC2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016FF-D351-4079-84D0-1CA0373F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6875A-6E7A-44EE-9F39-8A21406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7F747-1218-441A-AA74-3BC1182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94488-B321-4237-BF3A-9E9B95CD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AC836-F1CE-4623-8662-C0E62A5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46BD-5A93-457F-86B1-1D01B1BD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974FB-B42E-4023-AE66-B2064C3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30FFA-909A-40CD-9465-D65EE72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01D07-7DE5-43B2-BA20-290D619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5E443-CE43-427C-AB7F-AF4E7C7B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71011-BAD6-4E1F-AAEA-D87DCB75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D2493-C2DD-4E39-A352-CCD1545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9D7F3-C6BD-46E0-A4C9-89F747E3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44B8C-3C2E-4E3C-9923-FF72D5E1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F56BF-69EB-4003-8D78-00B681F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480DF-AD0C-40BF-BE0F-BE6571B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A2B-5222-4631-8D11-6DCF809D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3149A-8286-4E6A-93C6-CAD4B85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B7E4C-2E0D-4420-8E0B-5BF8A67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84E6F-C200-44A9-A687-2FD367E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7CA93-860B-4628-BCDA-D0A3E74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2B24-EE91-4A8C-88F7-070ED4EE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7F23C-75E5-4F29-B17F-4E89DF12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B359D-EFB6-4FFA-A2EF-B706911E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088-F157-4D6C-A418-A2DC1E72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DC91-0E8B-4597-8D89-DEF2E826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4CB-1576-48EB-9218-80054DD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9088-4961-4908-A7FA-B8599229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1EF-8AAC-4F4C-8CBC-44541CA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E42-7FFB-4224-AFD2-A311C95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587-112B-48FC-9431-8EA7C0D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4CE3-447C-42FB-B8B2-02D763B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D143-E1AC-4DC2-9F59-0E96266A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AD61-F0FD-4D8C-8ED0-11567EF7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1D46-9187-43A7-BF49-C653C2CE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91C2-463A-4877-8819-92A213B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71E1-74E4-425D-BDF3-15C9106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E69A-781B-4FFC-9571-68DD1A7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6252-3800-4F76-BE12-A527DF97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179-01AC-4A5B-A49D-7C44A9C8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86FF-0C82-477B-9F93-6B96796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81DF-9215-456C-9ED5-F4DCECF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5780-413D-4276-BE91-8CAA428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7B3D-1B8E-45E6-9A4E-6085706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05BE-1730-4499-AA15-5B26EB10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CA3A-CAA2-4907-9402-495E2E86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AD56-598B-4FDC-91C7-E49829F9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821C-D113-457E-9325-9FB5DD5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B1F8-FCDA-4F87-9BB0-099FC150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62A8-D837-4741-8D26-2E4D3A7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FE1-C88A-4616-958A-7DC6BFC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3D3F-5702-44EF-A973-F066D18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9A76-D917-462C-9E9E-E3D6AB9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CA7B-A383-410A-A652-E5581BF3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79CD-B6AC-4910-9A09-6E3BC0A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8FF9-B74B-4D2E-91E2-8B85F4E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7B2C-88E7-40DA-8507-07A0D28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D51A-7734-4363-AD46-9203F23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976E-DCD7-4D3E-AB0B-FA6C16D2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1C58-103A-463A-8BA9-1CCDACD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36E6-1395-4CB8-8C0A-90DD1DB1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2E1-61B2-4BAD-9F99-94C9446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2E2D-17CC-4F94-A91D-6515516C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627D-1EAD-4FBB-B664-E3E656E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E494-558A-4F17-B233-40A53EDA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94CB0-1343-4646-A25E-56A9882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184D-3774-4E69-882B-A203362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D8C1-D5DF-404B-8CC1-AFF29AD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82E71-9200-4940-AAD5-DEC80A5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D1FE-E946-494F-BCFF-9C091FC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3879-66CF-4CA5-9CD9-9CB9BA73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5345-BB9A-4637-8CBE-243CAE0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F2B-F44E-4198-B5A5-6A9D314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5FD92-A575-4C3E-A1E8-270106F3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C96E-59D4-4EA6-9A74-B822B4E3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7AFC-9571-4390-B0F1-04A8F45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5FF5-DAD1-474E-953E-6BCFAA32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271D-D339-4147-961D-EFF4084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32D7-D1D1-4641-8C76-9C4A4A10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0A0B-12A4-439F-9AF3-C76CAFB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881B-C3DC-4FD8-820F-251B2C2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82A2-D536-499A-ADAA-A7C3E75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7110-C880-41CD-8977-2B8699E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1D9-7B5A-4172-A5E6-0A8B233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CB767-E024-48B5-9EC4-4ADBD4A1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7EA0-5DBC-443B-8684-E859357B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9069-D378-4CC3-BCF6-1BAA1766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FC2BB-9EDE-40AD-8BF2-DFC665B7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0EFBB-5BF7-4152-888B-3F7D2346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8351-3D9A-4CDE-BD4B-B918FBB7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CB07-A289-4953-BCCF-71D14F3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A4DC-D297-440D-B12E-33AE015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47F26-7ACB-4445-9C7E-23A570C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41D5-929C-4700-847B-52B1837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9C2-49F5-44E1-8999-EB513B5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2884-4AB6-4E8A-BA10-67C954E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00C4-614C-4995-9590-D9E4F81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9B2E-3755-47CB-A815-4B09BF7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7846-7D7A-46E8-B285-70415184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D866-CD2C-42A2-BA9D-19BEEFDD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724E-6705-4987-B278-CE560D7F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B76F-315F-45BB-9EB1-AC91AA4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1F7E-EBB5-40EA-BC57-CD3AF0F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8E8C-479C-4956-BD73-F7D50D9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245E-B7E7-4A0E-8098-A3821F4A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067-CEE0-4CE0-A23E-783FABA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AB6B-7AF2-4AA8-A5B6-24D1A82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EB921-DEDD-4041-BE4B-8F5269F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EF84-ED9F-4468-BB56-E891D4B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C3BC-18EC-4780-B029-EB0FA57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DD3D4-7270-4D68-A3CC-056F61F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D89A-BCB9-4DAB-B45C-8B2FAB10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8857-D9D3-43A6-90D9-AE6919A2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0335-A1CC-4B6F-AEB8-B3608245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64A80-314B-4F7E-8714-7CF952A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1E4C7-0F64-4EB7-9FDE-4E11865F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CFC-52BD-4652-A859-98ED7B37F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4D2-630A-47EA-BF20-0CCAF14A12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2BA-FFA8-4A7B-874B-9F81CC61E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747-9DB2-4460-8D68-AA3D105B61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E9A-D891-4487-8788-14866F266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A15F-EDC4-46F6-A56D-13424A3A7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9400-8C98-4A73-8EF7-A8945ADFA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9819-4D2D-4734-A112-D69041E764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AA7-AC02-4E7C-A936-6E94F96C5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DAF-2DF9-4E8B-A265-8F7F5CF9FE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5856-8DB4-40B4-A2F3-2F8E3F639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2680-0F4A-4529-A892-AA245696F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CB6-DD0B-46E9-93DC-BEFC7AE7A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2-1280957691388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oaotambovmash.tamb.ru/Gif/ip4m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scuer.ucoz.ru/pant/protivogaz_gp-7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rufox.ru/files/big2/54360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protivogas.ru/gallery/big/gp7_6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gasklad.ru/data/photoes/205385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g-fotki.yandex.ru/get/4524/59579427.2/0_8a05f_5f4a0e6a_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tivogas.ru/gal/big/20/978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bready.ru/image/cache/data/protivogazu/1-600x6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24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мет ОБ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488360" cy="129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 «Средства индивидуальной защиты органов дыхания. Изготовление ватно- марлевой повяз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6300720" y="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отовление ватно марлевая повяз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332000" y="3832200"/>
            <a:ext cx="662472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ватно-марлевой повязки требуется отрез марли примерно 100 сантиметров в длину и 50 сантиметров в ширин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кладываем марлю на столе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середину кладем ровный слой ваты размером 20 х 20 см, толщиной 1-2с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обеих сторон марлю загибаем по всей длине, накладывая на ват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авшиеся по длине марли концы разрезаем на 25-30 см с каждой стороны для завязывания. Так получились завязки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Picture 19" descr="57192"/>
          <p:cNvPicPr/>
          <p:nvPr/>
        </p:nvPicPr>
        <p:blipFill>
          <a:blip r:embed="rId1"/>
          <a:stretch/>
        </p:blipFill>
        <p:spPr>
          <a:xfrm>
            <a:off x="2987640" y="692280"/>
            <a:ext cx="38880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1280" cy="3225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учить классификацию индивидуальных средств защиты органов дыхания и правила их приме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 членов своей семьи со СИЗ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1" name="Picture 7" descr="photo_240x316"/>
          <p:cNvPicPr/>
          <p:nvPr/>
        </p:nvPicPr>
        <p:blipFill>
          <a:blip r:embed="rId1"/>
          <a:stretch/>
        </p:blipFill>
        <p:spPr>
          <a:xfrm>
            <a:off x="1446120" y="216000"/>
            <a:ext cx="3225960" cy="4248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3"/>
          <p:cNvSpPr/>
          <p:nvPr/>
        </p:nvSpPr>
        <p:spPr>
          <a:xfrm>
            <a:off x="900000" y="4581360"/>
            <a:ext cx="43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.Д. Зелин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3" name="Picture 10" descr=""/>
          <p:cNvPicPr/>
          <p:nvPr/>
        </p:nvPicPr>
        <p:blipFill>
          <a:blip r:embed="rId2"/>
          <a:stretch/>
        </p:blipFill>
        <p:spPr>
          <a:xfrm>
            <a:off x="4995720" y="836640"/>
            <a:ext cx="3976920" cy="2592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3"/>
          <p:cNvSpPr/>
          <p:nvPr/>
        </p:nvSpPr>
        <p:spPr>
          <a:xfrm>
            <a:off x="4932360" y="3745080"/>
            <a:ext cx="431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газ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инского - Кумманта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льтрующие и изолирующие противог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755640" y="4797360"/>
            <a:ext cx="381636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Й ГРАЖДАНСКИЙ ПРОТИВОГАЗ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4716360" y="4797360"/>
            <a:ext cx="3961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УЮЩИЙ ГРАЖДАНСКИЙ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AutoShape 14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9" name="Picture 11" descr="Картинка 27 из 146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2943360" cy="3384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Картинка 14 из 131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341360"/>
            <a:ext cx="2477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части фильтрующего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1547640" y="6381720"/>
            <a:ext cx="56167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ГП -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13" descr="Картинка 22 из 79">
            <a:hlinkClick r:id="rId1"/>
          </p:cNvPr>
          <p:cNvPicPr/>
          <p:nvPr/>
        </p:nvPicPr>
        <p:blipFill>
          <a:blip r:embed="rId2"/>
          <a:srcRect l="0" t="0" r="0" b="3779"/>
          <a:stretch/>
        </p:blipFill>
        <p:spPr>
          <a:xfrm>
            <a:off x="1116000" y="1125360"/>
            <a:ext cx="70930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,ГП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5003640" y="5805360"/>
            <a:ext cx="30956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5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Box 17"/>
          <p:cNvSpPr/>
          <p:nvPr/>
        </p:nvSpPr>
        <p:spPr>
          <a:xfrm>
            <a:off x="755640" y="5805360"/>
            <a:ext cx="3348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 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AutoShape 1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AutoShape 2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1" name="Picture 25" descr="Картинка 1 из 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73360"/>
            <a:ext cx="4592520" cy="3444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7" descr="Картинка 1 из 17">
            <a:hlinkClick r:id="rId3"/>
          </p:cNvPr>
          <p:cNvPicPr/>
          <p:nvPr/>
        </p:nvPicPr>
        <p:blipFill>
          <a:blip r:embed="rId4"/>
          <a:srcRect l="0" t="0" r="0" b="9671"/>
          <a:stretch/>
        </p:blipFill>
        <p:spPr>
          <a:xfrm>
            <a:off x="824040" y="1773360"/>
            <a:ext cx="320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В, ГП-7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250920" y="5373720"/>
            <a:ext cx="439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Picture 8" descr="Картинка 2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268280"/>
            <a:ext cx="3314520" cy="38102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7"/>
          <p:cNvSpPr/>
          <p:nvPr/>
        </p:nvSpPr>
        <p:spPr>
          <a:xfrm>
            <a:off x="5148360" y="5373720"/>
            <a:ext cx="3670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7" name="Picture 11" descr="Картинка 2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4143600" cy="381024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ff82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351320" y="1171440"/>
          <a:ext cx="3486240" cy="25005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</a:tblGrid>
              <a:tr h="823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92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2 до 95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5.5 до 99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9 до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4335480" y="4179960"/>
          <a:ext cx="3673440" cy="253692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</a:tblGrid>
              <a:tr h="85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3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3.5 до 65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6.0 до 68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8.5 до 70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7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3" name="Picture 2" descr="http://www.protivogas.ru/gallery/small/obmer.jpg"/>
          <p:cNvPicPr/>
          <p:nvPr/>
        </p:nvPicPr>
        <p:blipFill>
          <a:blip r:embed="rId1"/>
          <a:stretch/>
        </p:blipFill>
        <p:spPr>
          <a:xfrm>
            <a:off x="6524640" y="2060640"/>
            <a:ext cx="2619360" cy="1728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http://www.protivogas.ru/gallery/small/obmer1.jpg"/>
          <p:cNvPicPr/>
          <p:nvPr/>
        </p:nvPicPr>
        <p:blipFill>
          <a:blip r:embed="rId2"/>
          <a:stretch/>
        </p:blipFill>
        <p:spPr>
          <a:xfrm>
            <a:off x="7834320" y="4906800"/>
            <a:ext cx="1204920" cy="19418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6"/>
          <p:cNvSpPr/>
          <p:nvPr/>
        </p:nvSpPr>
        <p:spPr>
          <a:xfrm>
            <a:off x="33480" y="907920"/>
            <a:ext cx="425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ый способ по данным двух измерений головы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ое - по замкнутой линии, проходящей через макушку, подбородок и щек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е - по линии, соединяющей отверстия ушей и проходящей через надбровные дуги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Результаты обоих измерений складываются, и по нижеприведенной таблице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пределяется размер шлема-маски противогаза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33480" y="4724280"/>
            <a:ext cx="410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й способ для определения размера шлема-мас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достаточно мерной лентой измерить голову только по замкнутой лини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оходящей через макушку, подбородок и щеки, и определить ее размер по таблице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AutoShape 9">
            <a:hlinkClick r:id="" action="ppaction://hlinkshowjump?jump=previousslide"/>
          </p:cNvPr>
          <p:cNvSpPr/>
          <p:nvPr/>
        </p:nvSpPr>
        <p:spPr>
          <a:xfrm>
            <a:off x="0" y="392580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10">
            <a:hlinkClick r:id="" action="ppaction://hlinkshowjump?jump=nextslide"/>
          </p:cNvPr>
          <p:cNvSpPr/>
          <p:nvPr/>
        </p:nvSpPr>
        <p:spPr>
          <a:xfrm>
            <a:off x="33480" y="631656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7669" y="3794"/>
                </a:moveTo>
                <a:lnTo>
                  <a:pt x="21682" y="10800"/>
                </a:lnTo>
                <a:lnTo>
                  <a:pt x="766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92120" y="4508640"/>
          <a:ext cx="8229600" cy="173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окружности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газ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6 до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Rectangle 1"/>
          <p:cNvSpPr/>
          <p:nvPr/>
        </p:nvSpPr>
        <p:spPr>
          <a:xfrm>
            <a:off x="403920" y="106884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ротивогазов с регулируемыми резинками сзади (ПМК, ГП-7)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евая часть бывает трех ростов (1, 2, 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одбора роста противогазов ПМК и ГП-7 нужн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уровне лба измерить сантиметром горизонтальную окружность голов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 же как измеряют голову для покупки шап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мер противогаза выясняем по таблице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">
            <a:hlinkClick r:id="" action="ppaction://hlinkshowjump?jump=previousslide"/>
          </p:cNvPr>
          <p:cNvSpPr/>
          <p:nvPr/>
        </p:nvSpPr>
        <p:spPr>
          <a:xfrm>
            <a:off x="87480" y="3773520"/>
            <a:ext cx="684000" cy="549360"/>
          </a:xfrm>
          <a:custGeom>
            <a:avLst/>
            <a:gdLst>
              <a:gd name="textAreaLeft" fmla="*/ 35280 w 684000"/>
              <a:gd name="textAreaRight" fmla="*/ 648720 w 684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890" h="21600">
                <a:moveTo>
                  <a:pt x="0" y="0"/>
                </a:moveTo>
                <a:lnTo>
                  <a:pt x="26890" y="0"/>
                </a:lnTo>
                <a:lnTo>
                  <a:pt x="26890" y="21600"/>
                </a:lnTo>
                <a:lnTo>
                  <a:pt x="0" y="21600"/>
                </a:lnTo>
                <a:close/>
              </a:path>
              <a:path fill="lightenLess" w="26890" h="21600">
                <a:moveTo>
                  <a:pt x="0" y="0"/>
                </a:moveTo>
                <a:lnTo>
                  <a:pt x="26890" y="0"/>
                </a:lnTo>
                <a:lnTo>
                  <a:pt x="25490" y="1400"/>
                </a:lnTo>
                <a:lnTo>
                  <a:pt x="1400" y="1400"/>
                </a:lnTo>
                <a:close/>
              </a:path>
              <a:path fill="darken" w="26890" h="21600">
                <a:moveTo>
                  <a:pt x="26890" y="0"/>
                </a:moveTo>
                <a:lnTo>
                  <a:pt x="26890" y="21600"/>
                </a:lnTo>
                <a:lnTo>
                  <a:pt x="25490" y="20200"/>
                </a:lnTo>
                <a:lnTo>
                  <a:pt x="25490" y="1400"/>
                </a:lnTo>
                <a:close/>
              </a:path>
              <a:path fill="darkenLess" w="26890" h="21600">
                <a:moveTo>
                  <a:pt x="26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0" y="20200"/>
                </a:lnTo>
                <a:close/>
              </a:path>
              <a:path fill="lighten" w="26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90" h="21600">
                <a:moveTo>
                  <a:pt x="6439" y="10800"/>
                </a:moveTo>
                <a:lnTo>
                  <a:pt x="20452" y="3794"/>
                </a:lnTo>
                <a:lnTo>
                  <a:pt x="2045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16">
            <a:hlinkClick r:id="" action="ppaction://hlinkshowjump?jump=nextslide"/>
          </p:cNvPr>
          <p:cNvSpPr/>
          <p:nvPr/>
        </p:nvSpPr>
        <p:spPr>
          <a:xfrm>
            <a:off x="117360" y="627552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спи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826920" y="5013360"/>
            <a:ext cx="3816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у которых  полумаска и фильтрующий элемент  одновременно служат и лицевой частью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Picture 11" descr="Картинка 2 из 1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0792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8" descr="Картинка 11 из 1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981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4859280" y="5084640"/>
            <a:ext cx="3600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очищающие вдыхаемый воздух в фильтрующих патронах, присоединяемых к полумаске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 назначению респираторы подразделяются на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324000" y="4149720"/>
            <a:ext cx="305892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ЫЛЕВЫЕ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ок 200, ШБ-1 Р-2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3635280" y="4149720"/>
            <a:ext cx="24494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ОВЫЕ РПГ-6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6443640" y="4149720"/>
            <a:ext cx="2305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- ПЫЛЕЗАЩИТНЫЕ РУ- 60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AutoShape 15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AutoShape 16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7" name="Picture 19" descr="Картинка 1 из 562"/>
          <p:cNvPicPr/>
          <p:nvPr/>
        </p:nvPicPr>
        <p:blipFill>
          <a:blip r:embed="rId1"/>
          <a:stretch/>
        </p:blipFill>
        <p:spPr>
          <a:xfrm>
            <a:off x="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1" descr="Картинка 20 из 518"/>
          <p:cNvPicPr/>
          <p:nvPr/>
        </p:nvPicPr>
        <p:blipFill>
          <a:blip r:embed="rId2"/>
          <a:stretch/>
        </p:blipFill>
        <p:spPr>
          <a:xfrm>
            <a:off x="327672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5" descr="Картинка 13 из 18"/>
          <p:cNvPicPr/>
          <p:nvPr/>
        </p:nvPicPr>
        <p:blipFill>
          <a:blip r:embed="rId3"/>
          <a:stretch/>
        </p:blipFill>
        <p:spPr>
          <a:xfrm>
            <a:off x="6516720" y="90792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3:45:04Z</dcterms:created>
  <dc:creator>Vasia</dc:creator>
  <dc:description/>
  <dc:language>en-US</dc:language>
  <cp:lastModifiedBy>Владелец</cp:lastModifiedBy>
  <dcterms:modified xsi:type="dcterms:W3CDTF">2014-01-09T08:52:25Z</dcterms:modified>
  <cp:revision>104</cp:revision>
  <dc:subject/>
  <dc:title>СОВРЕМЕННЫЕ  ОБЫЧНЫЕ   СРЕДСТВА  ПОРАЖЕНИЯ</dc:title>
</cp:coreProperties>
</file>