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media/image22.gif" ContentType="image/gif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33B-71C8-4498-8BC6-83E5578D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BBE-0042-4A99-BDB7-4BF9AC44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9A4-C1A9-4E81-B556-0FD0F3A6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3FD-9EC6-4B57-B5A9-4960517A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ED6E-11D2-4D4E-B187-015451E4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EDC-A09A-454F-B18D-739CD3F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5DDF-A540-4428-86D7-62A7161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D7F-0DD6-4D51-B41A-AA767CED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F40E-EC53-4284-B997-90A251E1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AC0-5F29-464D-92CB-D3CB039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689E-349F-4FA0-999D-1DCFE1E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83B-7A7F-49C1-B86F-ECB72E6A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E22D-E4A2-4D7F-8C39-25B6B62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EAE0-F606-4E19-8731-B573C22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E32-4851-407B-9998-6F4AB73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3E79-01F2-4486-A200-D7710CB1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075D-E731-4B5C-96B3-9BCD9EA1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541-AB72-4DD1-868B-E81E876B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A5D-F7DB-4738-A7D6-8E88A13F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E8B-1046-4117-8679-1B9EF4A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6EE-D3C8-419F-A67C-11E525CD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54B-B9D0-4498-A4E5-6DBA8B24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E03-DFBD-48A8-B466-5DBD076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F48-3AAA-42F3-A892-724E737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917004-3CC6-4561-8668-271A8DD7F63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BA882F-82E1-4039-AB2A-1583C3524DE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gif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877400" y="476640"/>
            <a:ext cx="561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ОШ №3 г.Козьмодемьянска им.С.Н.Сивк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5436000" y="5195880"/>
            <a:ext cx="3718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л: Баранова Л.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иностран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126680" y="6381360"/>
            <a:ext cx="242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зьмодемьянск, 20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691640" y="11232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My home. My 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работа\открытый урок 5а\bedroom.jpg"/>
          <p:cNvPicPr/>
          <p:nvPr/>
        </p:nvPicPr>
        <p:blipFill>
          <a:blip r:embed="rId1"/>
          <a:stretch/>
        </p:blipFill>
        <p:spPr>
          <a:xfrm>
            <a:off x="2786040" y="2643120"/>
            <a:ext cx="2093400" cy="185688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3" descr="D:\работа\открытый урок 5а\dining room.jpg"/>
          <p:cNvPicPr/>
          <p:nvPr/>
        </p:nvPicPr>
        <p:blipFill>
          <a:blip r:embed="rId2"/>
          <a:stretch/>
        </p:blipFill>
        <p:spPr>
          <a:xfrm>
            <a:off x="3357720" y="285840"/>
            <a:ext cx="2538000" cy="195228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5" descr="D:\работа\открытый урок 5а\living room.jpg"/>
          <p:cNvPicPr/>
          <p:nvPr/>
        </p:nvPicPr>
        <p:blipFill>
          <a:blip r:embed="rId3"/>
          <a:stretch/>
        </p:blipFill>
        <p:spPr>
          <a:xfrm>
            <a:off x="285840" y="2571840"/>
            <a:ext cx="2118960" cy="187596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6" descr="D:\работа\открытый урок 5а\kitchen.jpg"/>
          <p:cNvPicPr/>
          <p:nvPr/>
        </p:nvPicPr>
        <p:blipFill>
          <a:blip r:embed="rId4"/>
          <a:stretch/>
        </p:blipFill>
        <p:spPr>
          <a:xfrm>
            <a:off x="6234120" y="304920"/>
            <a:ext cx="2437920" cy="182844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9" descr="D:\работа\открытый урок 5а\garden.jpg"/>
          <p:cNvPicPr/>
          <p:nvPr/>
        </p:nvPicPr>
        <p:blipFill>
          <a:blip r:embed="rId5"/>
          <a:stretch/>
        </p:blipFill>
        <p:spPr>
          <a:xfrm>
            <a:off x="5079240" y="4786200"/>
            <a:ext cx="2285640" cy="185688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0" descr="D:\работа\открытый урок 5а\GARAZAS.jpg"/>
          <p:cNvPicPr/>
          <p:nvPr/>
        </p:nvPicPr>
        <p:blipFill>
          <a:blip r:embed="rId6"/>
          <a:stretch/>
        </p:blipFill>
        <p:spPr>
          <a:xfrm>
            <a:off x="1641240" y="4786200"/>
            <a:ext cx="2356920" cy="17870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1" descr="D:\работа\открытый урок 5а\u3_hall1.jpg"/>
          <p:cNvPicPr/>
          <p:nvPr/>
        </p:nvPicPr>
        <p:blipFill>
          <a:blip r:embed="rId7"/>
          <a:stretch/>
        </p:blipFill>
        <p:spPr>
          <a:xfrm>
            <a:off x="542520" y="353880"/>
            <a:ext cx="2414160" cy="181584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12" descr="D:\работа\открытый урок 5а\117776080001622300.jpg"/>
          <p:cNvPicPr/>
          <p:nvPr/>
        </p:nvPicPr>
        <p:blipFill>
          <a:blip r:embed="rId8"/>
          <a:stretch/>
        </p:blipFill>
        <p:spPr>
          <a:xfrm>
            <a:off x="5460120" y="2605320"/>
            <a:ext cx="1904760" cy="1999800"/>
          </a:xfrm>
          <a:prstGeom prst="rect">
            <a:avLst/>
          </a:prstGeom>
          <a:ln w="9525">
            <a:noFill/>
          </a:ln>
        </p:spPr>
      </p:pic>
      <p:sp>
        <p:nvSpPr>
          <p:cNvPr id="94" name="WordArt 14"/>
          <p:cNvSpPr txBox="1"/>
          <p:nvPr/>
        </p:nvSpPr>
        <p:spPr>
          <a:xfrm>
            <a:off x="214200" y="142920"/>
            <a:ext cx="785520" cy="32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1</a:t>
            </a:r>
            <a:endParaRPr b="0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3143160" y="142920"/>
            <a:ext cx="85248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6"/>
          <p:cNvSpPr txBox="1"/>
          <p:nvPr/>
        </p:nvSpPr>
        <p:spPr>
          <a:xfrm>
            <a:off x="6143760" y="142920"/>
            <a:ext cx="94824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811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142920" y="2357280"/>
            <a:ext cx="1202040" cy="495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2786040" y="2462400"/>
            <a:ext cx="1002240" cy="511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0"/>
          <p:cNvSpPr txBox="1"/>
          <p:nvPr/>
        </p:nvSpPr>
        <p:spPr>
          <a:xfrm>
            <a:off x="5250600" y="2439720"/>
            <a:ext cx="761040" cy="556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1"/>
          <p:cNvSpPr txBox="1"/>
          <p:nvPr/>
        </p:nvSpPr>
        <p:spPr>
          <a:xfrm>
            <a:off x="1187640" y="4699800"/>
            <a:ext cx="1044360" cy="621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7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2"/>
          <p:cNvSpPr txBox="1"/>
          <p:nvPr/>
        </p:nvSpPr>
        <p:spPr>
          <a:xfrm>
            <a:off x="4824360" y="4679280"/>
            <a:ext cx="852480" cy="667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8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2026800" y="142920"/>
            <a:ext cx="5060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48c3af"/>
                </a:solidFill>
                <a:latin typeface="Arial"/>
              </a:rPr>
              <a:t>Say  in Engl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D:\работа\открытый урок 5а\ванна.jpg"/>
          <p:cNvPicPr/>
          <p:nvPr/>
        </p:nvPicPr>
        <p:blipFill>
          <a:blip r:embed="rId1"/>
          <a:stretch/>
        </p:blipFill>
        <p:spPr>
          <a:xfrm>
            <a:off x="2143080" y="1143000"/>
            <a:ext cx="1861920" cy="145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работа\открытый урок 5а\диван.jpg"/>
          <p:cNvPicPr/>
          <p:nvPr/>
        </p:nvPicPr>
        <p:blipFill>
          <a:blip r:embed="rId2"/>
          <a:stretch/>
        </p:blipFill>
        <p:spPr>
          <a:xfrm>
            <a:off x="4429080" y="928800"/>
            <a:ext cx="2025360" cy="179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:\работа\открытый урок 5а\книжный шкаф.jpg"/>
          <p:cNvPicPr/>
          <p:nvPr/>
        </p:nvPicPr>
        <p:blipFill>
          <a:blip r:embed="rId3"/>
          <a:stretch/>
        </p:blipFill>
        <p:spPr>
          <a:xfrm>
            <a:off x="4643280" y="2857320"/>
            <a:ext cx="1371960" cy="1785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работа\открытый урок 5а\плита.jpg"/>
          <p:cNvPicPr/>
          <p:nvPr/>
        </p:nvPicPr>
        <p:blipFill>
          <a:blip r:embed="rId4"/>
          <a:stretch/>
        </p:blipFill>
        <p:spPr>
          <a:xfrm>
            <a:off x="571320" y="4143240"/>
            <a:ext cx="1280880" cy="2476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работа\открытый урок 5а\кресло.jpg"/>
          <p:cNvPicPr/>
          <p:nvPr/>
        </p:nvPicPr>
        <p:blipFill>
          <a:blip r:embed="rId5"/>
          <a:stretch/>
        </p:blipFill>
        <p:spPr>
          <a:xfrm>
            <a:off x="2571840" y="2857320"/>
            <a:ext cx="1575720" cy="161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Documents and Settings\Щлюшка\Мои документы\Мои рисунки\SG_pion-b_b.jpg"/>
          <p:cNvPicPr/>
          <p:nvPr/>
        </p:nvPicPr>
        <p:blipFill>
          <a:blip r:embed="rId6"/>
          <a:stretch/>
        </p:blipFill>
        <p:spPr>
          <a:xfrm>
            <a:off x="0" y="2857320"/>
            <a:ext cx="2250000" cy="1499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:\Documents and Settings\Щлюшка\Мои документы\Мои рисунки\2209383_502374.gif"/>
          <p:cNvPicPr/>
          <p:nvPr/>
        </p:nvPicPr>
        <p:blipFill>
          <a:blip r:embed="rId7"/>
          <a:stretch/>
        </p:blipFill>
        <p:spPr>
          <a:xfrm>
            <a:off x="428760" y="1071720"/>
            <a:ext cx="1231920" cy="164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Щлюшка\Мои документы\Мои рисунки\E013N_50.jpg"/>
          <p:cNvPicPr/>
          <p:nvPr/>
        </p:nvPicPr>
        <p:blipFill>
          <a:blip r:embed="rId8"/>
          <a:stretch/>
        </p:blipFill>
        <p:spPr>
          <a:xfrm rot="16200000">
            <a:off x="6959160" y="2745000"/>
            <a:ext cx="1380600" cy="186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C:\Documents and Settings\Щлюшка\Мои документы\Мои рисунки\12827.jpg"/>
          <p:cNvPicPr/>
          <p:nvPr/>
        </p:nvPicPr>
        <p:blipFill>
          <a:blip r:embed="rId9"/>
          <a:stretch/>
        </p:blipFill>
        <p:spPr>
          <a:xfrm>
            <a:off x="6500880" y="1000080"/>
            <a:ext cx="2325240" cy="1796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D:\работа\открытый урок 5а\стул.jpg"/>
          <p:cNvPicPr/>
          <p:nvPr/>
        </p:nvPicPr>
        <p:blipFill>
          <a:blip r:embed="rId10"/>
          <a:stretch/>
        </p:blipFill>
        <p:spPr>
          <a:xfrm>
            <a:off x="7048440" y="485784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D:\работа\открытый урок 5а\холодильник.jpg"/>
          <p:cNvPicPr/>
          <p:nvPr/>
        </p:nvPicPr>
        <p:blipFill>
          <a:blip r:embed="rId11"/>
          <a:stretch/>
        </p:blipFill>
        <p:spPr>
          <a:xfrm>
            <a:off x="6215040" y="4500720"/>
            <a:ext cx="1200240" cy="188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C:\Documents and Settings\Щлюшка\Мои документы\Мои рисунки\frtable.gif"/>
          <p:cNvPicPr/>
          <p:nvPr/>
        </p:nvPicPr>
        <p:blipFill>
          <a:blip r:embed="rId12"/>
          <a:stretch/>
        </p:blipFill>
        <p:spPr>
          <a:xfrm>
            <a:off x="4357800" y="4929120"/>
            <a:ext cx="1743480" cy="1399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C:\Documents and Settings\Щлюшка\Мои документы\Мои рисунки\0_90b84_23dda190_orig.png"/>
          <p:cNvPicPr/>
          <p:nvPr/>
        </p:nvPicPr>
        <p:blipFill>
          <a:blip r:embed="rId13"/>
          <a:stretch/>
        </p:blipFill>
        <p:spPr>
          <a:xfrm>
            <a:off x="2286000" y="4500720"/>
            <a:ext cx="1571400" cy="19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7"/>
          <p:cNvSpPr/>
          <p:nvPr/>
        </p:nvSpPr>
        <p:spPr>
          <a:xfrm>
            <a:off x="611640" y="764640"/>
            <a:ext cx="773568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w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ll, wardrobe, window, washba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tʃ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ir, armchair, picture,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t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ble, carpet, computer,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ð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is, there are, this,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]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th, bathroom, three, 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:\работа\открытый урок 5а\111.jpg"/>
          <p:cNvPicPr/>
          <p:nvPr/>
        </p:nvPicPr>
        <p:blipFill>
          <a:blip r:embed="rId1"/>
          <a:stretch/>
        </p:blipFill>
        <p:spPr>
          <a:xfrm>
            <a:off x="714240" y="714240"/>
            <a:ext cx="1785600" cy="21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:\работа\открытый урок 5а\222.jpg"/>
          <p:cNvPicPr/>
          <p:nvPr/>
        </p:nvPicPr>
        <p:blipFill>
          <a:blip r:embed="rId2"/>
          <a:stretch/>
        </p:blipFill>
        <p:spPr>
          <a:xfrm>
            <a:off x="3286080" y="785880"/>
            <a:ext cx="1785600" cy="207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:\работа\открытый урок 5а\333.jpg"/>
          <p:cNvPicPr/>
          <p:nvPr/>
        </p:nvPicPr>
        <p:blipFill>
          <a:blip r:embed="rId3"/>
          <a:stretch/>
        </p:blipFill>
        <p:spPr>
          <a:xfrm>
            <a:off x="5857920" y="714240"/>
            <a:ext cx="192852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работа\открытый урок 5а\444.jpg"/>
          <p:cNvPicPr/>
          <p:nvPr/>
        </p:nvPicPr>
        <p:blipFill>
          <a:blip r:embed="rId4"/>
          <a:stretch/>
        </p:blipFill>
        <p:spPr>
          <a:xfrm>
            <a:off x="428760" y="3714840"/>
            <a:ext cx="1571400" cy="17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:\работа\открытый урок 5а\555.JPG"/>
          <p:cNvPicPr/>
          <p:nvPr/>
        </p:nvPicPr>
        <p:blipFill>
          <a:blip r:embed="rId5"/>
          <a:stretch/>
        </p:blipFill>
        <p:spPr>
          <a:xfrm>
            <a:off x="2571840" y="3643200"/>
            <a:ext cx="1499760" cy="207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:\работа\открытый урок 5а\777.jpg"/>
          <p:cNvPicPr/>
          <p:nvPr/>
        </p:nvPicPr>
        <p:blipFill>
          <a:blip r:embed="rId6"/>
          <a:stretch/>
        </p:blipFill>
        <p:spPr>
          <a:xfrm>
            <a:off x="7072200" y="3571920"/>
            <a:ext cx="1499760" cy="183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D:\работа\открытый урок 5а\888.jpg"/>
          <p:cNvPicPr/>
          <p:nvPr/>
        </p:nvPicPr>
        <p:blipFill>
          <a:blip r:embed="rId7"/>
          <a:stretch/>
        </p:blipFill>
        <p:spPr>
          <a:xfrm>
            <a:off x="4929120" y="3714840"/>
            <a:ext cx="1571400" cy="18568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0"/>
          <p:cNvSpPr/>
          <p:nvPr/>
        </p:nvSpPr>
        <p:spPr>
          <a:xfrm>
            <a:off x="-714240" y="2500200"/>
            <a:ext cx="4155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48c3a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48c3af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3012840" y="2500200"/>
            <a:ext cx="25524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In fron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5937480" y="2500200"/>
            <a:ext cx="1648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ab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36000" y="5286240"/>
            <a:ext cx="8434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48c3af"/>
                </a:solidFill>
                <a:latin typeface="Arial"/>
              </a:rPr>
              <a:t>under       next to        in          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8"/>
          <p:cNvSpPr/>
          <p:nvPr/>
        </p:nvSpPr>
        <p:spPr>
          <a:xfrm>
            <a:off x="33840" y="0"/>
            <a:ext cx="7118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Prepositions of p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8800" cy="48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correct preposition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, at, 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8290800" cy="547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husband was born … German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og is sleeping … the grass … our garden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re are two funny posters … the wall … my bedroom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t this toy … the shelf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room was … the third floor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 left his bicycle … the road 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re is a big hole … my pock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some noise … the street?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y favorite restaurant is … King street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think I know this girl … the picture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 huge fly was creeping … the picture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prefer to spend my weekends … home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ook at those black clouds … the sky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should turn left … the traffic lights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phie is … the dentist’s now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m usually has breakfast … school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971640" y="188640"/>
            <a:ext cx="7056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4">
                    <a:lumMod val="20000"/>
                    <a:lumOff val="80000"/>
                  </a:schemeClr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room is it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olor of furniture in the room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has room got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424720" cy="64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ill in the preposition and translate the sentences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7640" y="908640"/>
            <a:ext cx="82807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ock hangs on the wall, … the table. (above/under/o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has played Hamlet … the stage many times. (on/in/next to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nk is … the post-office and the beauty salon. (behind/at/betwee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has rolled … the bed. (on/under/above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and Jane were sitting in the café … each other. (between/behind/in front of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ym is … my college. (next to/on/between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fice address is … the top of the page. (in/at/above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  <Words>322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3:03:38Z</dcterms:created>
  <dc:creator>Олюшка</dc:creator>
  <dc:description/>
  <dc:language>en-US</dc:language>
  <cp:lastModifiedBy>Пользователь Windows</cp:lastModifiedBy>
  <dcterms:modified xsi:type="dcterms:W3CDTF">2023-11-09T17:08:07Z</dcterms:modified>
  <cp:revision>1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43707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  <property fmtid="{D5CDD505-2E9C-101B-9397-08002B2CF9AE}" pid="5" name="PresentationFormat">
    <vt:lpwstr>Экран (4:3)</vt:lpwstr>
  </property>
  <property fmtid="{D5CDD505-2E9C-101B-9397-08002B2CF9AE}" pid="6" name="Slides">
    <vt:r8>9</vt:r8>
  </property>
</Properties>
</file>